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F81-29D9-4080-B6ED-78F8C868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35E7-0906-4D6C-8637-48CCDBE0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D23-DD56-4413-A753-9F4670BF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A7A4-0BCF-46CC-A508-502176C7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4B8-69AA-44D1-A13E-EF3842CD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935-2717-4093-B125-25ABF045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9A5-B856-46EC-8571-4FE031EF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1D7-FA49-41D4-BD3A-C8FD1125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895-CFC3-44B7-B835-42365943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D36A-76DE-462A-B665-5797BA78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2D6-020D-433A-95D3-D1FA0B90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4CC-031D-4531-B151-91D3DC0A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01C7-6075-46D6-8A2E-8E26C5BF5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2"/>
          <p:cNvPicPr/>
          <p:nvPr/>
        </p:nvPicPr>
        <p:blipFill>
          <a:blip r:embed="rId1"/>
          <a:srcRect l="0" t="5577" r="0" b="0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371600" y="24382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dule 7  Festiv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28600" y="3581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1 We have a big family din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441600" y="14479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外研版三年级英语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248520" y="5562720"/>
            <a:ext cx="198108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39640" y="1628640"/>
            <a:ext cx="8136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、与春节有关的单词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eets , peanuts , Spring Fest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、谈论“春节”的句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Spring Festival , we have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ppy New Year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340000" y="40464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81280" y="6018120"/>
            <a:ext cx="198144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3"/>
          <p:cNvSpPr/>
          <p:nvPr/>
        </p:nvSpPr>
        <p:spPr>
          <a:xfrm>
            <a:off x="2411280" y="47628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Arial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611280" y="170028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１、听录音，朗读课文，并试着背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２、收集其他节日的图画或者照片，并了解其风俗习惯。例如：中秋节人们吃什么和做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下节课前向同学们介绍自己收集了解到的节日知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1981080" y="25146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Good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447920" y="236232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Let’s sing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162920" y="601812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ShockwaveFlash1"/>
          <p:cNvGraphicFramePr/>
          <p:nvPr/>
        </p:nvGraphicFramePr>
        <p:xfrm>
          <a:off x="1676520" y="1143000"/>
          <a:ext cx="67071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143000"/>
                    <a:ext cx="6707160" cy="4952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13"/>
          <p:cNvPicPr/>
          <p:nvPr/>
        </p:nvPicPr>
        <p:blipFill>
          <a:blip r:embed="rId1"/>
          <a:srcRect l="0" t="0" r="2437" b="72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1600560" y="2819520"/>
            <a:ext cx="610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’s it abou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_200809060950342yoBa"/>
          <p:cNvPicPr/>
          <p:nvPr/>
        </p:nvPicPr>
        <p:blipFill>
          <a:blip r:embed="rId1"/>
          <a:srcRect l="0" t="0" r="0" b="16981"/>
          <a:stretch/>
        </p:blipFill>
        <p:spPr>
          <a:xfrm>
            <a:off x="0" y="0"/>
            <a:ext cx="4648320" cy="335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旋转 2004111184759381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228600" y="5105520"/>
            <a:ext cx="38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ring Festi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1"/>
          <p:cNvPicPr/>
          <p:nvPr/>
        </p:nvPicPr>
        <p:blipFill>
          <a:blip r:embed="rId1"/>
          <a:srcRect l="0" t="0" r="0" b="7716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975680" y="701640"/>
            <a:ext cx="54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the book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764360" y="1752480"/>
            <a:ext cx="55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Spring Festiv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458000" y="2819520"/>
            <a:ext cx="742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we say at Sping Festiv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924120" y="4038480"/>
            <a:ext cx="76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we have at Sping Festi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657600" y="601812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Spring Festival,we have …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4"/>
          <p:cNvPicPr/>
          <p:nvPr/>
        </p:nvPicPr>
        <p:blipFill>
          <a:blip r:embed="rId1"/>
          <a:srcRect l="0" t="0" r="4649" b="4677"/>
          <a:stretch/>
        </p:blipFill>
        <p:spPr>
          <a:xfrm>
            <a:off x="0" y="1143000"/>
            <a:ext cx="3124080" cy="2590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W020090504620055675921"/>
          <p:cNvPicPr/>
          <p:nvPr/>
        </p:nvPicPr>
        <p:blipFill>
          <a:blip r:embed="rId2"/>
          <a:stretch/>
        </p:blipFill>
        <p:spPr>
          <a:xfrm>
            <a:off x="3276720" y="990720"/>
            <a:ext cx="278280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33bb34137b09dcebc2fd78a3"/>
          <p:cNvPicPr/>
          <p:nvPr/>
        </p:nvPicPr>
        <p:blipFill>
          <a:blip r:embed="rId3"/>
          <a:stretch/>
        </p:blipFill>
        <p:spPr>
          <a:xfrm>
            <a:off x="6248520" y="10666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1a4de4b69eaa415214c98dd51eba33cd"/>
          <p:cNvPicPr/>
          <p:nvPr/>
        </p:nvPicPr>
        <p:blipFill>
          <a:blip r:embed="rId4"/>
          <a:stretch/>
        </p:blipFill>
        <p:spPr>
          <a:xfrm>
            <a:off x="0" y="4611600"/>
            <a:ext cx="2362320" cy="2246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复件 p_20092250D9kxA0pUi"/>
          <p:cNvPicPr/>
          <p:nvPr/>
        </p:nvPicPr>
        <p:blipFill>
          <a:blip r:embed="rId5"/>
          <a:srcRect l="0" t="0" r="0" b="15626"/>
          <a:stretch/>
        </p:blipFill>
        <p:spPr>
          <a:xfrm>
            <a:off x="4876920" y="4572000"/>
            <a:ext cx="2163600" cy="2057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20081229_45883f9b06bbfd91925aN10fhilkXgIu"/>
          <p:cNvPicPr/>
          <p:nvPr/>
        </p:nvPicPr>
        <p:blipFill>
          <a:blip r:embed="rId6"/>
          <a:srcRect l="0" t="0" r="0" b="11112"/>
          <a:stretch/>
        </p:blipFill>
        <p:spPr>
          <a:xfrm>
            <a:off x="7162920" y="4419720"/>
            <a:ext cx="1981080" cy="2438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252f959c4224b2e72b07f81_m"/>
          <p:cNvPicPr/>
          <p:nvPr/>
        </p:nvPicPr>
        <p:blipFill>
          <a:blip r:embed="rId7"/>
          <a:srcRect l="0" t="9807" r="0" b="8460"/>
          <a:stretch/>
        </p:blipFill>
        <p:spPr>
          <a:xfrm>
            <a:off x="2438280" y="4648320"/>
            <a:ext cx="2286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273760" y="1981080"/>
            <a:ext cx="686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t Spring Festival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e …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611280" y="5013360"/>
            <a:ext cx="79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At Spring Festival , we have a big family din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11280" y="3429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At Spring Festival , we have sweets and peanu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611280" y="2276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At Spring Festival , we have fi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574560" y="692280"/>
            <a:ext cx="856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Spring Festival , we say Happ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dz</cp:lastModifiedBy>
  <dcterms:modified xsi:type="dcterms:W3CDTF">2012-05-14T07:14:44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