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87E-2CB0-458E-8C76-694FA2DA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3BF-1F53-47C4-B6A2-F4FA85DC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71A-CDE6-4CE2-9EA6-3DFF87E1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C36-B994-4E9E-B02F-FB11B9D1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7CA-72A5-4E96-B337-43001F2D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D46-48DC-4EE5-8F05-61C0AE97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889-3061-4A01-99EF-7537680A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666-F7C9-463F-857F-84B34041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D83-A62C-4F61-93FE-F408E28C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B34-5673-46C6-BA22-5C1B16BA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7B3-6924-47DC-9DB2-2DFC747E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484-A9B0-4691-AD70-1714CEB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FD11-A299-4854-A140-970CF28F4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964" r="18740" b="83892"/>
          <a:stretch/>
        </p:blipFill>
        <p:spPr>
          <a:xfrm>
            <a:off x="36360" y="117360"/>
            <a:ext cx="9107640" cy="66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21640" t="49137" r="47865" b="39198"/>
          <a:stretch/>
        </p:blipFill>
        <p:spPr>
          <a:xfrm>
            <a:off x="36360" y="-27000"/>
            <a:ext cx="9117000" cy="684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03640" y="0"/>
            <a:ext cx="3816360" cy="6769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3816360" cy="6769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4076" t="47463" r="16346" b="32759"/>
          <a:stretch/>
        </p:blipFill>
        <p:spPr>
          <a:xfrm>
            <a:off x="179280" y="117360"/>
            <a:ext cx="88567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1065" t="48221" r="43516" b="41769"/>
          <a:stretch/>
        </p:blipFill>
        <p:spPr>
          <a:xfrm>
            <a:off x="36360" y="0"/>
            <a:ext cx="907416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37888" t="53039" r="37717" b="36338"/>
          <a:stretch/>
        </p:blipFill>
        <p:spPr>
          <a:xfrm>
            <a:off x="36360" y="44280"/>
            <a:ext cx="900144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5419" t="50465" r="64516" b="34990"/>
          <a:stretch/>
        </p:blipFill>
        <p:spPr>
          <a:xfrm>
            <a:off x="109440" y="44280"/>
            <a:ext cx="900108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59240" t="47177" r="18286" b="41550"/>
          <a:stretch/>
        </p:blipFill>
        <p:spPr>
          <a:xfrm>
            <a:off x="179280" y="117360"/>
            <a:ext cx="8929800" cy="669636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109440" y="0"/>
            <a:ext cx="8712360" cy="2133720"/>
            <a:chOff x="109440" y="0"/>
            <a:chExt cx="8712360" cy="2133720"/>
          </a:xfrm>
        </p:grpSpPr>
        <p:pic>
          <p:nvPicPr>
            <p:cNvPr id="90" name="" descr=""/>
            <p:cNvPicPr/>
            <p:nvPr/>
          </p:nvPicPr>
          <p:blipFill>
            <a:blip r:embed="rId2"/>
            <a:srcRect l="23998" t="0" r="13475" b="0"/>
            <a:stretch/>
          </p:blipFill>
          <p:spPr>
            <a:xfrm>
              <a:off x="109440" y="0"/>
              <a:ext cx="871236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076000" y="620640"/>
              <a:ext cx="3096000" cy="10083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棒 371"/>
            <p:cNvSpPr/>
            <p:nvPr/>
          </p:nvSpPr>
          <p:spPr>
            <a:xfrm>
              <a:off x="5004360" y="1485720"/>
              <a:ext cx="3096000" cy="75600"/>
            </a:xfrm>
            <a:prstGeom prst="roundRect">
              <a:avLst>
                <a:gd name="adj" fmla="val 50000"/>
              </a:avLst>
            </a:prstGeom>
            <a:solidFill>
              <a:srgbClr val="fea0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8893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61065" t="59053" r="17281" b="32759"/>
          <a:stretch/>
        </p:blipFill>
        <p:spPr>
          <a:xfrm>
            <a:off x="34920" y="117360"/>
            <a:ext cx="9001080" cy="6885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4920" y="-171360"/>
            <a:ext cx="8712360" cy="2133360"/>
            <a:chOff x="34920" y="-171360"/>
            <a:chExt cx="8712360" cy="21333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rcRect l="23998" t="0" r="13475" b="0"/>
            <a:stretch/>
          </p:blipFill>
          <p:spPr>
            <a:xfrm>
              <a:off x="34920" y="-171360"/>
              <a:ext cx="87123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001480" y="449280"/>
              <a:ext cx="3096000" cy="10083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棒 371"/>
            <p:cNvSpPr/>
            <p:nvPr/>
          </p:nvSpPr>
          <p:spPr>
            <a:xfrm>
              <a:off x="4929840" y="1314000"/>
              <a:ext cx="3096000" cy="75600"/>
            </a:xfrm>
            <a:prstGeom prst="roundRect">
              <a:avLst>
                <a:gd name="adj" fmla="val 50000"/>
              </a:avLst>
            </a:prstGeom>
            <a:solidFill>
              <a:srgbClr val="fea0bb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4920" y="5518080"/>
            <a:ext cx="88581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936" t="15964" r="18740" b="52335"/>
          <a:stretch/>
        </p:blipFill>
        <p:spPr>
          <a:xfrm>
            <a:off x="108000" y="117360"/>
            <a:ext cx="8858160" cy="66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1000" t="20839" r="64437" b="66058"/>
          <a:stretch/>
        </p:blipFill>
        <p:spPr>
          <a:xfrm>
            <a:off x="36360" y="44280"/>
            <a:ext cx="907416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41654" t="22294" r="23543" b="65943"/>
          <a:stretch/>
        </p:blipFill>
        <p:spPr>
          <a:xfrm>
            <a:off x="109440" y="117360"/>
            <a:ext cx="8928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5498" t="68022" r="17286" b="13538"/>
          <a:stretch/>
        </p:blipFill>
        <p:spPr>
          <a:xfrm>
            <a:off x="36360" y="47520"/>
            <a:ext cx="9072720" cy="66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8189" t="38881" r="51223" b="54720"/>
          <a:stretch/>
        </p:blipFill>
        <p:spPr>
          <a:xfrm>
            <a:off x="108000" y="262080"/>
            <a:ext cx="9036000" cy="6076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2360" y="190440"/>
            <a:ext cx="3240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47601" t="37429" r="18231" b="59495"/>
          <a:stretch/>
        </p:blipFill>
        <p:spPr>
          <a:xfrm>
            <a:off x="-108000" y="1844640"/>
            <a:ext cx="9431280" cy="4610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1080" y="117360"/>
            <a:ext cx="87138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22839" t="27011" r="46086" b="62513"/>
          <a:stretch/>
        </p:blipFill>
        <p:spPr>
          <a:xfrm>
            <a:off x="36360" y="44280"/>
            <a:ext cx="878544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936" t="15964" r="18740" b="52335"/>
          <a:stretch/>
        </p:blipFill>
        <p:spPr>
          <a:xfrm>
            <a:off x="108000" y="117360"/>
            <a:ext cx="8858160" cy="66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2149" t="24555" r="0" b="55003"/>
          <a:stretch/>
        </p:blipFill>
        <p:spPr>
          <a:xfrm>
            <a:off x="34920" y="44280"/>
            <a:ext cx="9074160" cy="6813720"/>
          </a:xfrm>
          <a:prstGeom prst="rect">
            <a:avLst/>
          </a:prstGeom>
          <a:ln w="0">
            <a:noFill/>
          </a:ln>
        </p:spPr>
      </p:pic>
      <p:sp>
        <p:nvSpPr>
          <p:cNvPr id="128" name="花边圆形2 225"/>
          <p:cNvSpPr/>
          <p:nvPr/>
        </p:nvSpPr>
        <p:spPr>
          <a:xfrm rot="60000">
            <a:off x="107640" y="2349000"/>
            <a:ext cx="1152360" cy="107964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花边圆形2 225"/>
          <p:cNvSpPr/>
          <p:nvPr/>
        </p:nvSpPr>
        <p:spPr>
          <a:xfrm rot="60000">
            <a:off x="6876720" y="5086080"/>
            <a:ext cx="1150920" cy="107928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花边圆形2 225"/>
          <p:cNvSpPr/>
          <p:nvPr/>
        </p:nvSpPr>
        <p:spPr>
          <a:xfrm rot="60000">
            <a:off x="6948000" y="2349000"/>
            <a:ext cx="1152720" cy="107964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花边圆形2 225"/>
          <p:cNvSpPr/>
          <p:nvPr/>
        </p:nvSpPr>
        <p:spPr>
          <a:xfrm rot="60000">
            <a:off x="394920" y="5086080"/>
            <a:ext cx="1152360" cy="107928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1385" t="46058" r="7179" b="15094"/>
          <a:stretch/>
        </p:blipFill>
        <p:spPr>
          <a:xfrm>
            <a:off x="36360" y="46080"/>
            <a:ext cx="9001440" cy="69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23289" t="49670" r="57943" b="15094"/>
          <a:stretch/>
        </p:blipFill>
        <p:spPr>
          <a:xfrm>
            <a:off x="109440" y="46080"/>
            <a:ext cx="900108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48629" t="50276" r="34298" b="17524"/>
          <a:stretch/>
        </p:blipFill>
        <p:spPr>
          <a:xfrm>
            <a:off x="34920" y="44280"/>
            <a:ext cx="910908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75391" t="49875" r="10287" b="17332"/>
          <a:stretch/>
        </p:blipFill>
        <p:spPr>
          <a:xfrm>
            <a:off x="109440" y="44280"/>
            <a:ext cx="900108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5498" t="68022" r="17286" b="13538"/>
          <a:stretch/>
        </p:blipFill>
        <p:spPr>
          <a:xfrm>
            <a:off x="36360" y="47520"/>
            <a:ext cx="9072720" cy="66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6058" t="73457" r="69514" b="15239"/>
          <a:stretch/>
        </p:blipFill>
        <p:spPr>
          <a:xfrm>
            <a:off x="38160" y="117360"/>
            <a:ext cx="900108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thanks!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77920" y="0"/>
            <a:ext cx="498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77920" y="0"/>
            <a:ext cx="498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29625" t="73059" r="55952" b="15411"/>
          <a:stretch/>
        </p:blipFill>
        <p:spPr>
          <a:xfrm>
            <a:off x="0" y="44280"/>
            <a:ext cx="910908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46258" t="72884" r="38870" b="15613"/>
          <a:stretch/>
        </p:blipFill>
        <p:spPr>
          <a:xfrm>
            <a:off x="36360" y="44280"/>
            <a:ext cx="90727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65248" t="72938" r="18810" b="15839"/>
          <a:stretch/>
        </p:blipFill>
        <p:spPr>
          <a:xfrm>
            <a:off x="36360" y="44280"/>
            <a:ext cx="907272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7281" t="72908" r="17286" b="15438"/>
          <a:stretch/>
        </p:blipFill>
        <p:spPr>
          <a:xfrm>
            <a:off x="0" y="44280"/>
            <a:ext cx="9109080" cy="669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360" y="5229360"/>
            <a:ext cx="9001440" cy="14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7059" t="28389" r="28592" b="57594"/>
          <a:stretch/>
        </p:blipFill>
        <p:spPr>
          <a:xfrm>
            <a:off x="108000" y="117360"/>
            <a:ext cx="89298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1640" t="46981" r="47865" b="39198"/>
          <a:stretch/>
        </p:blipFill>
        <p:spPr>
          <a:xfrm>
            <a:off x="38160" y="-27000"/>
            <a:ext cx="911700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00:41:04Z</dcterms:created>
  <dc:creator>Administrator</dc:creator>
  <dc:description/>
  <dc:language>en-US</dc:language>
  <cp:lastModifiedBy/>
  <dcterms:modified xsi:type="dcterms:W3CDTF">2015-03-09T01:29:5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