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hammer.wav" ContentType="audio/x-wav"/>
  <Override PartName="/ppt/media/click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explod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BE2F-33F9-46F9-8E5F-4687413D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D551-7A07-44EC-BBF2-A576151F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ADDE-949A-46FF-A128-2AB55F65E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280" y="4073760"/>
            <a:ext cx="82090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737D-8885-49BB-B01A-0AE5E79BA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280" y="407376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5520" y="407376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9F2A-D5DB-435E-9F2D-4EB32C3FE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62828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0480" y="162828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280" y="407376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07376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0480" y="407376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4833-B15E-441A-98E6-91F0F139D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333360"/>
            <a:ext cx="6624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280" y="407376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2235-4242-42B1-9A87-AC04BF8AA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5520" y="407376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280" y="4073760"/>
            <a:ext cx="82090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280" y="4073760"/>
            <a:ext cx="82090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07376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5520" y="407376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4880" y="162828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0480" y="162828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280" y="407376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4880" y="407376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90480" y="4073760"/>
            <a:ext cx="26431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1417-9100-4628-8652-62E6DBCF3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FF86-B00F-4EC9-B8EE-16ED9D677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F01D-FD09-43E9-AA23-D12C5250A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333360"/>
            <a:ext cx="6624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A376-33E5-472D-B2D6-9C5E773AF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280" y="407376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C56E-2975-4228-9A37-B6CA8A675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5520" y="407376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BB7E-89A9-4D3F-A0D7-79ADB60B2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5520" y="1628280"/>
            <a:ext cx="400572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280" y="4073760"/>
            <a:ext cx="82090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BB00-6D1B-4A4A-A5E3-7D2BE83BE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624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8469-1A15-4D1E-A724-7AEA040DC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164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624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explode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79280" y="692280"/>
            <a:ext cx="946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come from USA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28600" y="1293480"/>
            <a:ext cx="8610480" cy="344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拿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ia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印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nce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法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merica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美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澳大利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581280" y="274320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354840" y="1905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038480" y="137160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257800" y="41148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4419720" y="327672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6114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28600" y="1293480"/>
            <a:ext cx="8610480" cy="3445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ccff99"/>
              </a:gs>
              <a:gs pos="100000">
                <a:srgbClr val="bbe0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拿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ia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印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nce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法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merica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美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澳大利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733920" y="259092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726440" y="3276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124080" y="190512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257800" y="41148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191120" y="129528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11280" y="1700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tional camp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84360" y="35002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ation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国际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55640" y="5084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      营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651640" y="17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际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557360"/>
          <a:ext cx="8229600" cy="4716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egoe Print"/>
                          <a:ea typeface="楷体_GB2312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egoe Print"/>
                          <a:ea typeface="楷体_GB2312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Print"/>
                          <a:ea typeface="楷体_GB2312"/>
                        </a:rPr>
                        <a:t>Ming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Print"/>
                          <a:ea typeface="楷体_GB2312"/>
                        </a:rPr>
                        <a:t>Le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Print"/>
                          <a:ea typeface="楷体_GB2312"/>
                        </a:rPr>
                        <a:t>A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Print"/>
                          <a:ea typeface="楷体_GB2312"/>
                        </a:rPr>
                        <a:t>E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Print"/>
                          <a:ea typeface="楷体_GB2312"/>
                        </a:rPr>
                        <a:t>Ra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Print"/>
                          <a:ea typeface="楷体_GB2312"/>
                        </a:rPr>
                        <a:t>Ami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55"/>
          <p:cNvSpPr/>
          <p:nvPr/>
        </p:nvSpPr>
        <p:spPr>
          <a:xfrm>
            <a:off x="4643280" y="3789360"/>
            <a:ext cx="19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4714920" y="3021120"/>
            <a:ext cx="15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4956120" y="2925720"/>
            <a:ext cx="105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8"/>
          <p:cNvSpPr/>
          <p:nvPr/>
        </p:nvSpPr>
        <p:spPr>
          <a:xfrm>
            <a:off x="4643280" y="2276640"/>
            <a:ext cx="15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9"/>
          <p:cNvSpPr/>
          <p:nvPr/>
        </p:nvSpPr>
        <p:spPr>
          <a:xfrm>
            <a:off x="4643280" y="3054240"/>
            <a:ext cx="22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4643280" y="44942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1"/>
          <p:cNvSpPr/>
          <p:nvPr/>
        </p:nvSpPr>
        <p:spPr>
          <a:xfrm>
            <a:off x="4684680" y="5070600"/>
            <a:ext cx="18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2"/>
          <p:cNvSpPr/>
          <p:nvPr/>
        </p:nvSpPr>
        <p:spPr>
          <a:xfrm>
            <a:off x="4716360" y="571968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3"/>
          <p:cNvSpPr/>
          <p:nvPr/>
        </p:nvSpPr>
        <p:spPr>
          <a:xfrm>
            <a:off x="5940360" y="55180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假如你参加一个国际夏令营，面对不同国家的小朋友，你该如何介绍自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: Hello! My name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I come fr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    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Where are you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: Hi! I’m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    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I come fr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ice to meet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: Nice to meet you to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755640" y="1484280"/>
            <a:ext cx="727236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work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rire the words and sentences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遍今天学习的单词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遍黑板上的句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332000" y="5229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Dotum"/>
                <a:ea typeface="Dotum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5668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me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003640" y="566100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美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5952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2195640" y="501336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2011041309225370140"/>
          <p:cNvPicPr/>
          <p:nvPr/>
        </p:nvPicPr>
        <p:blipFill>
          <a:blip r:embed="rId1"/>
          <a:stretch/>
        </p:blipFill>
        <p:spPr>
          <a:xfrm>
            <a:off x="6732720" y="3645000"/>
            <a:ext cx="2411280" cy="1366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6012000" y="537372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1187280" y="53020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904000" y="57340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加拿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000920" y="4572000"/>
            <a:ext cx="1685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1835280" y="530208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ndi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724360" y="573408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印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8104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218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332000" y="5302080"/>
            <a:ext cx="43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20101215172440-419955547"/>
          <p:cNvPicPr/>
          <p:nvPr/>
        </p:nvPicPr>
        <p:blipFill>
          <a:blip r:embed="rId2"/>
          <a:stretch/>
        </p:blipFill>
        <p:spPr>
          <a:xfrm>
            <a:off x="6443640" y="3643200"/>
            <a:ext cx="2700360" cy="1516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6156360" y="566100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法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826920" y="5302080"/>
            <a:ext cx="57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0105814343811183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01300000633474129281647032748"/>
          <p:cNvPicPr/>
          <p:nvPr/>
        </p:nvPicPr>
        <p:blipFill>
          <a:blip r:embed="rId2"/>
          <a:stretch/>
        </p:blipFill>
        <p:spPr>
          <a:xfrm>
            <a:off x="5973840" y="4143240"/>
            <a:ext cx="3170160" cy="1386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5940360" y="573408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澳大利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29040"/>
            <a:ext cx="66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460e3d85c47431cd26963002501a71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304920" y="2209680"/>
            <a:ext cx="8229600" cy="2819520"/>
          </a:xfrm>
          <a:prstGeom prst="cloudCallout">
            <a:avLst>
              <a:gd name="adj1" fmla="val 52527"/>
              <a:gd name="adj2" fmla="val -74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快速读单词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出现数字几，就读几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2286000" y="380988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214200" y="1355400"/>
            <a:ext cx="8610840" cy="3445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ccff99"/>
              </a:gs>
              <a:gs pos="100000">
                <a:srgbClr val="ff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拿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ia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印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nce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法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merica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美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澳大利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419720" y="129528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354840" y="1905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114800" y="32004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257800" y="41148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505320" y="251460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51:29Z</dcterms:created>
  <dc:creator/>
  <dc:description/>
  <dc:language>en-US</dc:language>
  <cp:lastModifiedBy>Administrator</cp:lastModifiedBy>
  <dcterms:modified xsi:type="dcterms:W3CDTF">2016-03-29T00:58:59Z</dcterms:modified>
  <cp:revision>25</cp:revision>
  <dc:subject/>
  <dc:title>幻灯片 1</dc:title>
</cp:coreProperties>
</file>