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chimes.wav" ContentType="audio/x-wav"/>
  <Override PartName="/ppt/media/image16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F94-C01D-46BB-A932-8D342D3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A93-27E3-4F32-8375-928EBCAE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7A5-3EB0-4FC0-85E2-E446708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758-2EC0-462D-897B-9EA32831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AB8-E905-440B-8D73-A2E95D46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4CEB-937C-40E3-AE81-3CBC72C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E6AB-D0AC-4E23-B0A3-57C6FAF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E15-2317-405F-9E63-50A36BA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F40C-1F2B-48D5-92CF-828F749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1563-3B6A-4820-B7D0-04C7E9A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FB65-A21B-4A75-9B17-E783C9D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9C8-895D-4A78-B281-877ACD7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56E-7957-4E57-B72C-7C8CECFF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6B6C-2C62-4EE7-9D27-3B3F3F5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41D-D525-468F-92DF-C6C651E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604D-2937-4782-ADC3-31AF3E90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E82-6E7A-450B-A3B9-5F586985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2C1E-7541-4512-A1A6-ECB87B06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D85E-DAAE-4AA1-B82B-CDB6657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6389-C1BA-4673-8AE7-EBC6029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7179-A380-4343-80DE-4D2E74D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ED76-A169-439B-BAAB-A8E2DFD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140-8321-47F9-BFC8-591A3B9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59CD-070E-4CDB-95B8-34514E3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F788-35FF-4D60-9B27-6DEAAA3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417E-129B-48EA-BCF4-F41AA98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D06E-22BF-4E05-9377-193CBD1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DE11-655D-418C-8F22-1DD85A86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1E13-C516-409C-8130-C01E8FB1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029C-AF1C-443A-9A6D-C7BCD9F5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9BE9-AC51-4065-A673-36795FFF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712D-2C04-4245-90A2-9915F1A8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A1849-1C85-4532-8F40-C928DEAE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481-319E-4C12-8A20-B95536C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673C-B9BA-4260-8C6A-C141341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1CC6-FA8B-4089-942A-B19B91A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59A6-934A-4BA5-89F1-4EC6590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F8E3-F617-480E-9079-8A98B4E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787E-1C88-4908-AEEA-5E12009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23B6-0FBD-4A2E-8F3D-6F38991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5018-C8CF-4C5E-A2B4-F8F9EC7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AE5A-3B1F-44D0-B574-C4902A8C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D5E4-8D55-4179-B151-BA873B5A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1F1-D47B-4ADC-BBB8-25E04BD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752-3C5A-4C74-AA7F-97ACE8CB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CF4-B3C8-4E37-B89E-E51AEA3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38D-2E44-415E-A332-E66DDB3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7F4-0E9B-452A-B169-AFCAC8B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7C7-5B62-4786-98A6-67B9BF2FED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69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70" name="未知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>
                  <a:gd name="textAreaLeft" fmla="*/ 0 w 8772480"/>
                  <a:gd name="textAreaRight" fmla="*/ 8772840 w 8772480"/>
                  <a:gd name="textAreaTop" fmla="*/ 0 h 6076800"/>
                  <a:gd name="textAreaBottom" fmla="*/ 6077160 h 6076800"/>
                </a:gdLst>
                <a:ahLst/>
                <a:rect l="textAreaLeft" t="textAreaTop" r="textAreaRight" b="textAreaBottom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1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72" name="未知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>
                    <a:gd name="textAreaLeft" fmla="*/ 0 w 920880"/>
                    <a:gd name="textAreaRight" fmla="*/ 921240 w 920880"/>
                    <a:gd name="textAreaTop" fmla="*/ 0 h 846000"/>
                    <a:gd name="textAreaBottom" fmla="*/ 846360 h 846000"/>
                  </a:gdLst>
                  <a:ahLst/>
                  <a:rect l="textAreaLeft" t="textAreaTop" r="textAreaRight" b="textAreaBottom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>
                    <a:gd name="textAreaLeft" fmla="*/ 0 w 984240"/>
                    <a:gd name="textAreaRight" fmla="*/ 984600 w 984240"/>
                    <a:gd name="textAreaTop" fmla="*/ 0 h 750960"/>
                    <a:gd name="textAreaBottom" fmla="*/ 751320 h 750960"/>
                  </a:gdLst>
                  <a:ahLst/>
                  <a:rect l="textAreaLeft" t="textAreaTop" r="textAreaRight" b="textAreaBottom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5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6" name="Rectangle 10"/>
              <p:cNvSpPr/>
              <p:nvPr/>
            </p:nvSpPr>
            <p:spPr>
              <a:xfrm>
                <a:off x="373716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7" name="Rectangle 11"/>
              <p:cNvSpPr/>
              <p:nvPr/>
            </p:nvSpPr>
            <p:spPr>
              <a:xfrm>
                <a:off x="4942080" y="485640"/>
                <a:ext cx="36828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>
                  <a:gd name="textAreaLeft" fmla="*/ 0 w 2155680"/>
                  <a:gd name="textAreaRight" fmla="*/ 2156040 w 215568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>
                  <a:gd name="textAreaLeft" fmla="*/ 0 w 850680"/>
                  <a:gd name="textAreaRight" fmla="*/ 851040 w 85068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3487680" y="911160"/>
                <a:ext cx="2105280" cy="63720"/>
              </a:xfrm>
              <a:custGeom>
                <a:avLst/>
                <a:gdLst>
                  <a:gd name="textAreaLeft" fmla="*/ 0 w 2105280"/>
                  <a:gd name="textAreaRight" fmla="*/ 2105640 w 2105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>
                  <a:gd name="textAreaLeft" fmla="*/ 0 w 2063880"/>
                  <a:gd name="textAreaRight" fmla="*/ 2064240 w 20638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未知"/>
          <p:cNvSpPr/>
          <p:nvPr/>
        </p:nvSpPr>
        <p:spPr>
          <a:xfrm>
            <a:off x="3654360" y="2257560"/>
            <a:ext cx="2048040" cy="9036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31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54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F91C-A2FE-48F0-A7DE-090416E50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199" name="未知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>
                <a:gd name="textAreaLeft" fmla="*/ 0 w 8781840"/>
                <a:gd name="textAreaRight" fmla="*/ 8782200 w 8781840"/>
                <a:gd name="textAreaTop" fmla="*/ 0 h 6100920"/>
                <a:gd name="textAreaBottom" fmla="*/ 6101280 h 6100920"/>
              </a:gdLst>
              <a:ahLst/>
              <a:rect l="textAreaLeft" t="textAreaTop" r="textAreaRight" b="textAreaBottom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00" name="Group 4"/>
            <p:cNvGrpSpPr/>
            <p:nvPr/>
          </p:nvGrpSpPr>
          <p:grpSpPr>
            <a:xfrm>
              <a:off x="3300120" y="0"/>
              <a:ext cx="2603160" cy="988920"/>
              <a:chOff x="3300120" y="0"/>
              <a:chExt cx="2603160" cy="988920"/>
            </a:xfrm>
          </p:grpSpPr>
          <p:sp>
            <p:nvSpPr>
              <p:cNvPr id="201" name="Rectangle 5"/>
              <p:cNvSpPr/>
              <p:nvPr/>
            </p:nvSpPr>
            <p:spPr>
              <a:xfrm>
                <a:off x="3300120" y="546120"/>
                <a:ext cx="260316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2" name="Rectangle 6"/>
              <p:cNvSpPr/>
              <p:nvPr/>
            </p:nvSpPr>
            <p:spPr>
              <a:xfrm>
                <a:off x="3782520" y="493560"/>
                <a:ext cx="36792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3" name="Rectangle 7"/>
              <p:cNvSpPr/>
              <p:nvPr/>
            </p:nvSpPr>
            <p:spPr>
              <a:xfrm>
                <a:off x="4974480" y="507960"/>
                <a:ext cx="36792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4274640" y="0"/>
                <a:ext cx="60120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4303080" y="20520"/>
                <a:ext cx="54576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4344480" y="15840"/>
                <a:ext cx="442440" cy="13032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4345920" y="68400"/>
                <a:ext cx="45828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4377600" y="95400"/>
                <a:ext cx="39168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3509280" y="423720"/>
                <a:ext cx="2155320" cy="565200"/>
              </a:xfrm>
              <a:custGeom>
                <a:avLst/>
                <a:gdLst>
                  <a:gd name="textAreaLeft" fmla="*/ 0 w 2155320"/>
                  <a:gd name="textAreaRight" fmla="*/ 2155680 w 215532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3558600" y="488880"/>
                <a:ext cx="850320" cy="292320"/>
              </a:xfrm>
              <a:custGeom>
                <a:avLst/>
                <a:gdLst>
                  <a:gd name="textAreaLeft" fmla="*/ 0 w 850320"/>
                  <a:gd name="textAreaRight" fmla="*/ 850680 w 85032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3533040" y="911160"/>
                <a:ext cx="2104920" cy="63720"/>
              </a:xfrm>
              <a:custGeom>
                <a:avLst/>
                <a:gdLst>
                  <a:gd name="textAreaLeft" fmla="*/ 0 w 2104920"/>
                  <a:gd name="textAreaRight" fmla="*/ 2105280 w 21049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3556800" y="487440"/>
                <a:ext cx="2063520" cy="355680"/>
              </a:xfrm>
              <a:custGeom>
                <a:avLst/>
                <a:gdLst>
                  <a:gd name="textAreaLeft" fmla="*/ 0 w 2063520"/>
                  <a:gd name="textAreaRight" fmla="*/ 2063880 w 20635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698360" y="492120"/>
                <a:ext cx="887040" cy="2919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未知"/>
          <p:cNvSpPr/>
          <p:nvPr/>
        </p:nvSpPr>
        <p:spPr>
          <a:xfrm>
            <a:off x="272880" y="797040"/>
            <a:ext cx="806760" cy="717480"/>
          </a:xfrm>
          <a:custGeom>
            <a:avLst/>
            <a:gdLst>
              <a:gd name="textAreaLeft" fmla="*/ 0 w 806760"/>
              <a:gd name="textAreaRight" fmla="*/ 807120 w 80676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55600" y="654120"/>
            <a:ext cx="984240" cy="766800"/>
          </a:xfrm>
          <a:custGeom>
            <a:avLst/>
            <a:gdLst>
              <a:gd name="textAreaLeft" fmla="*/ 0 w 984240"/>
              <a:gd name="textAreaRight" fmla="*/ 984600 w 984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" Target="slide1.xml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2010213194940402"/>
          <p:cNvPicPr/>
          <p:nvPr/>
        </p:nvPicPr>
        <p:blipFill>
          <a:blip r:embed="rId1"/>
          <a:stretch/>
        </p:blipFill>
        <p:spPr>
          <a:xfrm>
            <a:off x="946800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315200" cy="19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I COME FORM USA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WordArt 4"/>
          <p:cNvSpPr txBox="1"/>
          <p:nvPr/>
        </p:nvSpPr>
        <p:spPr>
          <a:xfrm>
            <a:off x="914400" y="426708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WELCOME  TO  OUR  CLAS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9252000" y="117360"/>
            <a:ext cx="29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080415033078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209520" y="-360"/>
            <a:ext cx="935352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1.The words about country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2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3.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Where is he/she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4. Where do you live?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00aa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00aa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00aa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3" dur="1" fill="hold"/>
                                  <p:tgtEl>
                                    <p:spTgt spid="2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00aa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13780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抄写四会单词各五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录音，跟读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art1.2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1332000" y="1125360"/>
            <a:ext cx="2376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Lead-i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Hi !Everyone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I 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am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from 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China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are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you from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65" name="Picture 4" descr="YGQ00031"/>
          <p:cNvPicPr/>
          <p:nvPr/>
        </p:nvPicPr>
        <p:blipFill>
          <a:blip r:embed="rId2"/>
          <a:stretch/>
        </p:blipFill>
        <p:spPr>
          <a:xfrm>
            <a:off x="6086520" y="2276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2747933409512"/>
          <p:cNvPicPr/>
          <p:nvPr/>
        </p:nvPicPr>
        <p:blipFill>
          <a:blip r:embed="rId1"/>
          <a:stretch/>
        </p:blipFill>
        <p:spPr>
          <a:xfrm>
            <a:off x="12420720" y="4149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3"/>
          <p:cNvSpPr txBox="1"/>
          <p:nvPr/>
        </p:nvSpPr>
        <p:spPr>
          <a:xfrm>
            <a:off x="609480" y="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here are you from?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33160" y="1603440"/>
            <a:ext cx="401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--I’m from ...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9" name="Picture 5" descr="YGQ00031"/>
          <p:cNvPicPr/>
          <p:nvPr/>
        </p:nvPicPr>
        <p:blipFill>
          <a:blip r:embed="rId2"/>
          <a:stretch/>
        </p:blipFill>
        <p:spPr>
          <a:xfrm>
            <a:off x="6661080" y="2565360"/>
            <a:ext cx="221004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MGQ00025"/>
          <p:cNvPicPr/>
          <p:nvPr/>
        </p:nvPicPr>
        <p:blipFill>
          <a:blip r:embed="rId3"/>
          <a:stretch/>
        </p:blipFill>
        <p:spPr>
          <a:xfrm>
            <a:off x="539640" y="2637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jp"/>
          <p:cNvPicPr/>
          <p:nvPr/>
        </p:nvPicPr>
        <p:blipFill>
          <a:blip r:embed="rId4"/>
          <a:stretch/>
        </p:blipFill>
        <p:spPr>
          <a:xfrm>
            <a:off x="682560" y="4292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055129114"/>
          <p:cNvPicPr/>
          <p:nvPr/>
        </p:nvPicPr>
        <p:blipFill>
          <a:blip r:embed="rId5"/>
          <a:stretch/>
        </p:blipFill>
        <p:spPr>
          <a:xfrm>
            <a:off x="6443640" y="4292640"/>
            <a:ext cx="2376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0066"/>
                </a:solidFill>
                <a:latin typeface="Tahoma"/>
              </a:rPr>
              <a:t>Country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485720"/>
            <a:ext cx="4248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China    Japa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389"/>
                </a:solidFill>
                <a:latin typeface="Tahoma"/>
              </a:rPr>
              <a:t>America/US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389"/>
                </a:solidFill>
                <a:latin typeface="Tahoma"/>
              </a:rPr>
              <a:t>France 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Korea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389"/>
                </a:solidFill>
                <a:latin typeface="Tahoma"/>
              </a:rPr>
              <a:t>England/U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389"/>
                </a:solidFill>
                <a:latin typeface="Tahoma"/>
              </a:rPr>
              <a:t>Australia  Canada</a:t>
            </a:r>
            <a:r>
              <a:rPr b="1" i="1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00aac"/>
                </a:solidFill>
                <a:latin typeface="Tahoma"/>
              </a:rPr>
              <a:t>Spain Russia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00aac"/>
                </a:solidFill>
                <a:latin typeface="Tahoma"/>
              </a:rPr>
              <a:t>Brazil Germany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5" name="Picture 4" descr="bike"/>
          <p:cNvPicPr/>
          <p:nvPr/>
        </p:nvPicPr>
        <p:blipFill>
          <a:blip r:embed="rId8"/>
          <a:stretch/>
        </p:blipFill>
        <p:spPr>
          <a:xfrm>
            <a:off x="609480" y="5638680"/>
            <a:ext cx="835200" cy="560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bike"/>
          <p:cNvPicPr/>
          <p:nvPr/>
        </p:nvPicPr>
        <p:blipFill>
          <a:blip r:embed="rId9"/>
          <a:stretch/>
        </p:blipFill>
        <p:spPr>
          <a:xfrm>
            <a:off x="7238880" y="5638680"/>
            <a:ext cx="8352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Where am I from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I'm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 from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 China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I live 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in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China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Ilive 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in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Danjiangkou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20090320101359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66"/>
                </a:solidFill>
                <a:latin typeface="Tahoma"/>
              </a:rPr>
              <a:t>Answer some ques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268280"/>
            <a:ext cx="8381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                              </a:t>
            </a: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Where is he from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                              </a:t>
            </a: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He is from China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                              </a:t>
            </a: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What does he speak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                              </a:t>
            </a: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He speaks Chinese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206040"/>
                </a:solidFill>
                <a:latin typeface="Tahoma"/>
              </a:rPr>
              <a:t>                                                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82" name="Picture 5" descr="170348_1234176_886"/>
          <p:cNvPicPr/>
          <p:nvPr/>
        </p:nvPicPr>
        <p:blipFill>
          <a:blip r:embed="rId2"/>
          <a:stretch/>
        </p:blipFill>
        <p:spPr>
          <a:xfrm>
            <a:off x="468360" y="1125360"/>
            <a:ext cx="3505320" cy="5239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4357440" y="436572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6040"/>
                </a:solidFill>
                <a:latin typeface="Times New Roman"/>
              </a:rPr>
              <a:t>He lives in Chin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2747933405025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660066"/>
                </a:solidFill>
                <a:uFillTx/>
                <a:latin typeface="Tahoma"/>
              </a:rPr>
              <a:t>Where are you from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71440" y="837720"/>
            <a:ext cx="5638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is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she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from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She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 is from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Japa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Where does she liv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She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 lives in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Japa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do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they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come from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They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 come from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the US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do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they liv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They</a:t>
            </a:r>
            <a:r>
              <a:rPr b="0" lang="zh-CN" sz="3200" spc="-1" strike="noStrike">
                <a:solidFill>
                  <a:srgbClr val="bb1c0b"/>
                </a:solidFill>
                <a:latin typeface="Tahoma"/>
              </a:rPr>
              <a:t> live in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US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87" name="Picture 5" descr="9_1_148249_34_262_20080522122227"/>
          <p:cNvPicPr/>
          <p:nvPr/>
        </p:nvPicPr>
        <p:blipFill>
          <a:blip r:embed="rId10"/>
          <a:stretch/>
        </p:blipFill>
        <p:spPr>
          <a:xfrm>
            <a:off x="250920" y="371628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3998914994128829388"/>
          <p:cNvPicPr/>
          <p:nvPr/>
        </p:nvPicPr>
        <p:blipFill>
          <a:blip r:embed="rId11"/>
          <a:stretch/>
        </p:blipFill>
        <p:spPr>
          <a:xfrm>
            <a:off x="395280" y="765000"/>
            <a:ext cx="1728720" cy="2592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7255080" y="292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2747933406836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660066"/>
                </a:solidFill>
                <a:latin typeface="Tahoma"/>
              </a:rPr>
              <a:t>Words and Expres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be from/come from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来自于。。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他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她来自哪里？他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她来自加拿大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Where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 is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he/she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 from?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He/She is from Canad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does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he/she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come from?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He/She comes from Canad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你是哪儿的人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?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我来自中国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are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you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from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? I am from Chin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Where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do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you </a:t>
            </a:r>
            <a:r>
              <a:rPr b="0" lang="zh-CN" sz="2800" spc="-1" strike="noStrike">
                <a:solidFill>
                  <a:srgbClr val="bb1c0b"/>
                </a:solidFill>
                <a:latin typeface="Tahoma"/>
              </a:rPr>
              <a:t>come from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? I come from Chin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93" name="Picture 5" descr="face_bert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43800" y="5715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Learn the wo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Dill part 1, 2, 3.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Listening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             </a:t>
            </a:r>
            <a:r>
              <a:rPr b="0" lang="zh-CN" sz="3600" spc="-1" strike="noStrike">
                <a:solidFill>
                  <a:srgbClr val="bb1c0b"/>
                </a:solidFill>
                <a:latin typeface="Tahoma"/>
              </a:rPr>
              <a:t>Exercises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291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4:56:51Z</dcterms:created>
  <dc:creator/>
  <dc:description/>
  <cp:keywords/>
  <dc:language>en-US</dc:language>
  <cp:lastModifiedBy/>
  <cp:lastPrinted>1899-12-30T00:00:00Z</cp:lastPrinted>
  <dcterms:modified xsi:type="dcterms:W3CDTF">2016-02-15T01:40:36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