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EF4-6589-41C3-9796-8DE53C46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D72-E8BB-4B1A-92E5-65146753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514-9AD7-4507-8247-A9E3D3B6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326-7890-426F-8F49-8A450BF1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638-F186-4513-B6B4-691DAC9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781-2E21-44FF-AF9F-55F195E6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AFF-62CC-4E9B-9A9D-F5574CF7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531-B3C4-4DA3-83E8-F4881929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A87-7CB5-4F9F-9CF4-6B1A97C2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4FE-66CC-4902-82AC-D6EF130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756-955B-4E49-953D-08EFFB5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FE5-1477-4E48-A339-94D3847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9E94-D9DB-4BED-8975-6E3B2D7399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4000" y="2276640"/>
            <a:ext cx="10937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How’s the weather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u=3802343676,1527234996&amp;fm=51&amp;gp=0"/>
          <p:cNvPicPr/>
          <p:nvPr/>
        </p:nvPicPr>
        <p:blipFill>
          <a:blip r:embed="rId1"/>
          <a:stretch/>
        </p:blipFill>
        <p:spPr>
          <a:xfrm>
            <a:off x="6478560" y="476280"/>
            <a:ext cx="2665440" cy="1566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04003.jpg"/>
          <p:cNvPicPr/>
          <p:nvPr/>
        </p:nvPicPr>
        <p:blipFill>
          <a:blip r:embed="rId2"/>
          <a:stretch/>
        </p:blipFill>
        <p:spPr>
          <a:xfrm>
            <a:off x="0" y="3284640"/>
            <a:ext cx="4284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cc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557360"/>
          <a:ext cx="7632720" cy="5111640"/>
        </p:xfrm>
        <a:graphic>
          <a:graphicData uri="http://schemas.openxmlformats.org/drawingml/2006/table">
            <a:tbl>
              <a:tblPr/>
              <a:tblGrid>
                <a:gridCol w="3817800"/>
                <a:gridCol w="381492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of the w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’s the weather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91"/>
          <p:cNvSpPr/>
          <p:nvPr/>
        </p:nvSpPr>
        <p:spPr>
          <a:xfrm>
            <a:off x="520920" y="996840"/>
            <a:ext cx="255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Arial"/>
              </a:rPr>
              <a:t>Do a survey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619280" y="2276640"/>
            <a:ext cx="5761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e you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152280"/>
            <a:ext cx="8964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cc00"/>
                </a:solidFill>
                <a:latin typeface="Arial"/>
              </a:rPr>
              <a:t>Teaching aims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教学目标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1. Master the new wor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  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掌握新词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2. Be able to understand and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act out the weather correctly.</a:t>
            </a:r>
            <a:r>
              <a:rPr b="0" lang="en-US" sz="5000" spc="-1" strike="noStrike">
                <a:solidFill>
                  <a:srgbClr val="3333cc"/>
                </a:solidFill>
                <a:latin typeface="Arial"/>
              </a:rPr>
              <a:t>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Arial"/>
              </a:rPr>
              <a:t>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能理解并表演关于天气对话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2" descr="020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928800" y="3068640"/>
            <a:ext cx="75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’s the weather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928800" y="1916280"/>
            <a:ext cx="3071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sunn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04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71640" y="5661000"/>
            <a:ext cx="557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rain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837360" y="4724280"/>
            <a:ext cx="71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’s the weather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395280" y="46530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’s the weather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68360" y="5445000"/>
            <a:ext cx="36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oud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u=2341945405,2389587179&amp;fm=52&amp;gp=0"/>
          <p:cNvPicPr/>
          <p:nvPr/>
        </p:nvPicPr>
        <p:blipFill>
          <a:blip r:embed="rId1"/>
          <a:stretch/>
        </p:blipFill>
        <p:spPr>
          <a:xfrm>
            <a:off x="0" y="-243000"/>
            <a:ext cx="92170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05003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071720" y="4786200"/>
            <a:ext cx="75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’s the weather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042920" y="5661000"/>
            <a:ext cx="67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wind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684360" y="4653000"/>
            <a:ext cx="782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’s the weather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26920" y="5445000"/>
            <a:ext cx="47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snow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=836295379,70107289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8920" y="620280"/>
            <a:ext cx="307188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oud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now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" descr="04003.jpg"/>
          <p:cNvPicPr/>
          <p:nvPr/>
        </p:nvPicPr>
        <p:blipFill>
          <a:blip r:embed="rId1"/>
          <a:stretch/>
        </p:blipFill>
        <p:spPr>
          <a:xfrm>
            <a:off x="1547640" y="1844640"/>
            <a:ext cx="1656000" cy="100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u=2341945405,2389587179&amp;fm=52&amp;gp=0"/>
          <p:cNvPicPr/>
          <p:nvPr/>
        </p:nvPicPr>
        <p:blipFill>
          <a:blip r:embed="rId2"/>
          <a:stretch/>
        </p:blipFill>
        <p:spPr>
          <a:xfrm>
            <a:off x="1619280" y="4221000"/>
            <a:ext cx="1368360" cy="90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u=3802343676,1527234996&amp;fm=51&amp;gp=0"/>
          <p:cNvPicPr/>
          <p:nvPr/>
        </p:nvPicPr>
        <p:blipFill>
          <a:blip r:embed="rId3"/>
          <a:stretch/>
        </p:blipFill>
        <p:spPr>
          <a:xfrm>
            <a:off x="1692360" y="907920"/>
            <a:ext cx="1512720" cy="7923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" descr="05003副本.jpg"/>
          <p:cNvPicPr/>
          <p:nvPr/>
        </p:nvPicPr>
        <p:blipFill>
          <a:blip r:embed="rId4"/>
          <a:stretch/>
        </p:blipFill>
        <p:spPr>
          <a:xfrm>
            <a:off x="1332000" y="2924280"/>
            <a:ext cx="2050920" cy="110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u=836295379,701072896&amp;fm=52&amp;gp=0"/>
          <p:cNvPicPr/>
          <p:nvPr/>
        </p:nvPicPr>
        <p:blipFill>
          <a:blip r:embed="rId5"/>
          <a:stretch/>
        </p:blipFill>
        <p:spPr>
          <a:xfrm>
            <a:off x="1692360" y="5300640"/>
            <a:ext cx="1224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8920" y="620280"/>
            <a:ext cx="307188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oud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now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" descr="04003.jpg"/>
          <p:cNvPicPr/>
          <p:nvPr/>
        </p:nvPicPr>
        <p:blipFill>
          <a:blip r:embed="rId1"/>
          <a:stretch/>
        </p:blipFill>
        <p:spPr>
          <a:xfrm>
            <a:off x="2987640" y="1773360"/>
            <a:ext cx="1655640" cy="1004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u=2341945405,2389587179&amp;fm=52&amp;gp=0"/>
          <p:cNvPicPr/>
          <p:nvPr/>
        </p:nvPicPr>
        <p:blipFill>
          <a:blip r:embed="rId2"/>
          <a:stretch/>
        </p:blipFill>
        <p:spPr>
          <a:xfrm>
            <a:off x="3276720" y="400536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u=3802343676,1527234996&amp;fm=51&amp;gp=0"/>
          <p:cNvPicPr/>
          <p:nvPr/>
        </p:nvPicPr>
        <p:blipFill>
          <a:blip r:embed="rId3"/>
          <a:stretch/>
        </p:blipFill>
        <p:spPr>
          <a:xfrm>
            <a:off x="2987640" y="765000"/>
            <a:ext cx="151308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" descr="05003副本.jpg"/>
          <p:cNvPicPr/>
          <p:nvPr/>
        </p:nvPicPr>
        <p:blipFill>
          <a:blip r:embed="rId4"/>
          <a:stretch/>
        </p:blipFill>
        <p:spPr>
          <a:xfrm>
            <a:off x="2771640" y="2852640"/>
            <a:ext cx="205128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u=836295379,701072896&amp;fm=52&amp;gp=0"/>
          <p:cNvPicPr/>
          <p:nvPr/>
        </p:nvPicPr>
        <p:blipFill>
          <a:blip r:embed="rId5"/>
          <a:stretch/>
        </p:blipFill>
        <p:spPr>
          <a:xfrm>
            <a:off x="3348000" y="5013360"/>
            <a:ext cx="1224000" cy="836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900000" y="62064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971640" y="1700280"/>
            <a:ext cx="178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042920" y="278136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900000" y="393372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900000" y="501336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3:11:42Z</dcterms:created>
  <dc:creator/>
  <dc:description/>
  <cp:keywords/>
  <dc:language>en-US</dc:language>
  <cp:lastModifiedBy/>
  <cp:lastPrinted>1899-12-30T00:00:00Z</cp:lastPrinted>
  <dcterms:modified xsi:type="dcterms:W3CDTF">2013-01-22T02:15:19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