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gif" ContentType="image/gif"/>
  <Override PartName="/ppt/media/image16.jpeg" ContentType="image/jpeg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25.jpeg" ContentType="image/jpeg"/>
  <Override PartName="/ppt/media/image17.gif" ContentType="image/gif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png" ContentType="image/png"/>
  <Override PartName="/ppt/media/image18.gif" ContentType="image/gif"/>
  <Override PartName="/ppt/media/image15.jpeg" ContentType="image/jpeg"/>
  <Override PartName="/ppt/media/image14.jpeg" ContentType="image/jpeg"/>
  <Override PartName="/ppt/media/image1.wmf" ContentType="image/x-wmf"/>
  <Override PartName="/ppt/media/image7.jpeg" ContentType="image/jpeg"/>
  <Override PartName="/ppt/media/image4.gif" ContentType="image/gif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6DE-513D-4EF4-83F3-A15E3EB0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639-0829-40A1-8276-2677ABD7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9B3-C56C-4A9F-B718-FA75B32E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CC8-E3DD-483E-BDB0-BA804FE2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C89-40CA-412F-B4D6-707C3153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855-3215-44CC-8842-D3713C37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DC1-335F-4BA7-AE0E-815F234D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C00-89DE-414E-B3EE-029E7B9A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E6B-4914-4465-931E-800F974B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399-37E1-44AF-A6D9-44453AF3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CFE-F14C-4850-8814-C8268287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58B-F955-424C-ADDE-6F9819DE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3B54-C992-4FFB-A2E4-548BCE5C7F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7.jpeg"/><Relationship Id="rId7" Type="http://schemas.openxmlformats.org/officeDocument/2006/relationships/image" Target="../media/image19.jpeg"/><Relationship Id="rId8" Type="http://schemas.openxmlformats.org/officeDocument/2006/relationships/image" Target="../media/image11.jpeg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news.china.com/zh_cn/photo/life/1295/20001117/29064.html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.baidu.com/i?ct=503316480&amp;z=672608701&amp;tn=baiduimagedetail&amp;word=&#38684;&#33457;&amp;in=32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Picture 3" descr="918415-24"/>
          <p:cNvPicPr/>
          <p:nvPr/>
        </p:nvPicPr>
        <p:blipFill>
          <a:blip r:embed="rId3"/>
          <a:stretch/>
        </p:blipFill>
        <p:spPr>
          <a:xfrm>
            <a:off x="6659640" y="105264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WordArt 4"/>
          <p:cNvSpPr txBox="1"/>
          <p:nvPr/>
        </p:nvSpPr>
        <p:spPr>
          <a:xfrm>
            <a:off x="1547640" y="907920"/>
            <a:ext cx="4724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How s  the weather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7086600" y="457200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04.YESTERDAY ONCE MORE.mp3" descr=""/>
          <p:cNvPicPr/>
          <p:nvPr/>
        </p:nvPicPr>
        <p:blipFill>
          <a:blip r:embed="rId4"/>
          <a:stretch/>
        </p:blipFill>
        <p:spPr>
          <a:xfrm>
            <a:off x="2124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818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043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pic030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un6[1]"/>
          <p:cNvPicPr/>
          <p:nvPr/>
        </p:nvPicPr>
        <p:blipFill>
          <a:blip r:embed="rId3"/>
          <a:stretch/>
        </p:blipFill>
        <p:spPr>
          <a:xfrm>
            <a:off x="0" y="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A2_007"/>
          <p:cNvPicPr/>
          <p:nvPr/>
        </p:nvPicPr>
        <p:blipFill>
          <a:blip r:embed="rId4"/>
          <a:stretch/>
        </p:blipFill>
        <p:spPr>
          <a:xfrm>
            <a:off x="4038480" y="4876920"/>
            <a:ext cx="1152720" cy="1050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A2_006"/>
          <p:cNvPicPr/>
          <p:nvPr/>
        </p:nvPicPr>
        <p:blipFill>
          <a:blip r:embed="rId5"/>
          <a:stretch/>
        </p:blipFill>
        <p:spPr>
          <a:xfrm>
            <a:off x="1752480" y="4876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2362320" y="11430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Make a weather report for some cities tomorrow. 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</a:rPr>
              <a:t>天气预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47920" y="2514600"/>
          <a:ext cx="6476760" cy="1981080"/>
        </p:xfrm>
        <a:graphic>
          <a:graphicData uri="http://schemas.openxmlformats.org/drawingml/2006/table">
            <a:tbl>
              <a:tblPr/>
              <a:tblGrid>
                <a:gridCol w="1676160"/>
                <a:gridCol w="1663920"/>
                <a:gridCol w="1689120"/>
                <a:gridCol w="1447560"/>
              </a:tblGrid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Picture 21" descr="2-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403280" y="249228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2"/>
          <p:cNvSpPr/>
          <p:nvPr/>
        </p:nvSpPr>
        <p:spPr>
          <a:xfrm>
            <a:off x="1476360" y="38606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~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1828800" y="4648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南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4" descr="IMAGE026"/>
          <p:cNvPicPr/>
          <p:nvPr/>
        </p:nvPicPr>
        <p:blipFill>
          <a:blip r:embed="rId7"/>
          <a:stretch/>
        </p:blipFill>
        <p:spPr>
          <a:xfrm>
            <a:off x="3132000" y="249228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5"/>
          <p:cNvSpPr/>
          <p:nvPr/>
        </p:nvSpPr>
        <p:spPr>
          <a:xfrm>
            <a:off x="3276720" y="40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3505320" y="4648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兰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7" descr="IMAGE022"/>
          <p:cNvPicPr/>
          <p:nvPr/>
        </p:nvPicPr>
        <p:blipFill>
          <a:blip r:embed="rId8"/>
          <a:stretch/>
        </p:blipFill>
        <p:spPr>
          <a:xfrm>
            <a:off x="4876920" y="2514600"/>
            <a:ext cx="1600200" cy="14479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8"/>
          <p:cNvSpPr/>
          <p:nvPr/>
        </p:nvSpPr>
        <p:spPr>
          <a:xfrm>
            <a:off x="5003640" y="3933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~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5181480" y="4586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苏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0" descr="太阳"/>
          <p:cNvPicPr/>
          <p:nvPr/>
        </p:nvPicPr>
        <p:blipFill>
          <a:blip r:embed="rId9"/>
          <a:stretch/>
        </p:blipFill>
        <p:spPr>
          <a:xfrm>
            <a:off x="6477120" y="2514600"/>
            <a:ext cx="1447560" cy="13716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1"/>
          <p:cNvSpPr/>
          <p:nvPr/>
        </p:nvSpPr>
        <p:spPr>
          <a:xfrm>
            <a:off x="6443640" y="386064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~ 15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6553080" y="45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湘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320364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4 ~ 2 °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u=3942586886,2346346913&amp;gp=2"/>
          <p:cNvPicPr/>
          <p:nvPr/>
        </p:nvPicPr>
        <p:blipFill>
          <a:blip r:embed="rId1"/>
          <a:stretch/>
        </p:blipFill>
        <p:spPr>
          <a:xfrm>
            <a:off x="4716360" y="3213000"/>
            <a:ext cx="3024360" cy="30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Object 6"/>
          <p:cNvGraphicFramePr/>
          <p:nvPr/>
        </p:nvGraphicFramePr>
        <p:xfrm>
          <a:off x="4427640" y="0"/>
          <a:ext cx="3889440" cy="313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0"/>
                    <a:ext cx="38894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Picture 7" descr="flood1"/>
          <p:cNvPicPr/>
          <p:nvPr/>
        </p:nvPicPr>
        <p:blipFill>
          <a:blip r:embed="rId4"/>
          <a:stretch/>
        </p:blipFill>
        <p:spPr>
          <a:xfrm>
            <a:off x="0" y="18900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8"/>
          <p:cNvSpPr/>
          <p:nvPr/>
        </p:nvSpPr>
        <p:spPr>
          <a:xfrm>
            <a:off x="5292720" y="508464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sandst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148360" y="1700280"/>
            <a:ext cx="208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typho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619280" y="1844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fl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1" descr="Img227155420"/>
          <p:cNvPicPr/>
          <p:nvPr/>
        </p:nvPicPr>
        <p:blipFill>
          <a:blip r:embed="rId5"/>
          <a:stretch/>
        </p:blipFill>
        <p:spPr>
          <a:xfrm>
            <a:off x="0" y="314172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2"/>
          <p:cNvSpPr/>
          <p:nvPr/>
        </p:nvSpPr>
        <p:spPr>
          <a:xfrm>
            <a:off x="1187280" y="508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earthqu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5435640" y="5589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ff00ff"/>
                </a:solidFill>
                <a:latin typeface="Calibri"/>
              </a:rPr>
              <a:t>沙尘暴</a:t>
            </a:r>
            <a:r>
              <a:rPr b="0" lang="en-US" sz="1800" spc="-1" strike="noStrike">
                <a:solidFill>
                  <a:srgbClr val="ff00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790560" y="765000"/>
            <a:ext cx="83534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of North and South China will have a cold wet day .It will be ______sometimes. There will be a strong ______to the north of the Huai River .The day after tomorrow will be________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___________it will be fine . The temperature will stay above zero  in the daytime ,but at night it will fall below zero again. In the ____________,there will be ______in the night .The snow will be very heavy in some pla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ijing will be ______.The temperature  will be 2 to 9 .Tianjin will be ______and high temperatu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68360" y="2602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Calibri"/>
              </a:rPr>
              <a:t>Listen and fill in bl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116000" y="1052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ou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227640" y="1125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012000" y="27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987640" y="3716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ai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76364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ou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2340000" y="2781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rthw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124000" y="206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rthe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6804000" y="1484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un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187280" y="162864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0" y="549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Look at the pictures and make up a short story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0" y="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7" descr="无标题-扫描-01"/>
          <p:cNvPicPr/>
          <p:nvPr/>
        </p:nvPicPr>
        <p:blipFill>
          <a:blip r:embed="rId1"/>
          <a:stretch/>
        </p:blipFill>
        <p:spPr>
          <a:xfrm>
            <a:off x="971640" y="981000"/>
            <a:ext cx="7920000" cy="51897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197964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924360" y="263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2843280" y="29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0" y="1700280"/>
            <a:ext cx="2089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ot co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0~19°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 class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t 5: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 umbr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3" descr="shuy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2268360" y="1557360"/>
            <a:ext cx="554544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Impact"/>
                <a:ea typeface="幼圆"/>
              </a:rPr>
              <a:t>THANK YOU 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Impact"/>
                <a:ea typeface="幼圆"/>
              </a:rPr>
              <a:t>  </a:t>
            </a:r>
            <a:r>
              <a:rPr b="0" lang="en-US" sz="8000" spc="-1" strike="noStrike">
                <a:solidFill>
                  <a:srgbClr val="ff0000"/>
                </a:solidFill>
                <a:latin typeface="Impact"/>
                <a:ea typeface="幼圆"/>
              </a:rPr>
              <a:t>GOODBYE 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539640" y="333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ll us what is nature disaster and what is bad weath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755640" y="907920"/>
            <a:ext cx="76327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The Taiwan earthquake killed thousands of peop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The school football team lost the game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A young man fell from the tree and hurt his le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A big storm killed 20 peop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Lightning started a big fire in a hou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It rains heavily .Everywhere is rain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.The weather today is very cold and the wind blows strong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971640" y="4941720"/>
            <a:ext cx="52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atural disaster/ Bad weath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148360" y="4941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, 4,5,6,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116000" y="551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th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627280" y="558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1692360" y="2055960"/>
            <a:ext cx="5616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上海：晴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度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北京：多云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度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广州：雨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度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长春：风，零下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度到零上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710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nghai: sunny, from 18 degree to 10 degre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ijing: cloudy, from 12 degree to 7 degree Guangzhou: Rain, from 21 degree to 16 degree Changchun: Windy, from 6 degree to 4 below z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d   or    War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411280" y="2205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392720" y="220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sun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259000" y="2890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clo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392720" y="2890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clou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335320" y="38815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240080" y="388152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win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335320" y="4734000"/>
            <a:ext cx="99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240080" y="4734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rain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38280" y="4419720"/>
            <a:ext cx="1524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038480" y="4419720"/>
            <a:ext cx="1752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514600" y="51814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038480" y="513540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038480" y="35812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2438280" y="6095880"/>
            <a:ext cx="15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038480" y="609588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563920" y="15955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4545000" y="1595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j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5715000" y="444960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7315200" y="51814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5715000" y="609588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7620120" y="60958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654200" y="2133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s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63528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sno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654200" y="2743200"/>
            <a:ext cx="1371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st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483000" y="281952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storm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763640" y="342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f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483000" y="344484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fog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577880" y="43434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fr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559320" y="434340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omic Sans MS"/>
              </a:rPr>
              <a:t>frost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571760" y="1332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.                  adj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温度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950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度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零上：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bove ze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零下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low ze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temperature is —— to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temperature will be——tomorr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5410080" y="76320"/>
            <a:ext cx="335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419640" y="0"/>
            <a:ext cx="5943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The_____ is shining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weather today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’s a good day for school tr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267080" y="342900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276720" y="17002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438280" y="450864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4572000" y="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7020000" y="620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6"/>
          <p:cNvSpPr/>
          <p:nvPr/>
        </p:nvSpPr>
        <p:spPr>
          <a:xfrm>
            <a:off x="2367000" y="3187800"/>
            <a:ext cx="4562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4643280" y="1628640"/>
            <a:ext cx="152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5580000" y="2205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4356000" y="40766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6516720" y="5013360"/>
            <a:ext cx="144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6516720" y="58532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2" descr="sun6[1]"/>
          <p:cNvPicPr/>
          <p:nvPr/>
        </p:nvPicPr>
        <p:blipFill>
          <a:blip r:embed="rId1"/>
          <a:stretch/>
        </p:blipFill>
        <p:spPr>
          <a:xfrm>
            <a:off x="0" y="0"/>
            <a:ext cx="2411280" cy="2093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3" descr="29064_5760_fog-london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16280"/>
            <a:ext cx="2514600" cy="1846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4"/>
          <p:cNvSpPr/>
          <p:nvPr/>
        </p:nvSpPr>
        <p:spPr>
          <a:xfrm>
            <a:off x="3419640" y="2276640"/>
            <a:ext cx="525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  The ______ is very heavy tod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day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_______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268360" y="189000"/>
            <a:ext cx="7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6"/>
          <p:cNvSpPr/>
          <p:nvPr/>
        </p:nvSpPr>
        <p:spPr>
          <a:xfrm>
            <a:off x="2124000" y="692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7"/>
          <p:cNvSpPr/>
          <p:nvPr/>
        </p:nvSpPr>
        <p:spPr>
          <a:xfrm>
            <a:off x="4572000" y="213372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38"/>
          <p:cNvSpPr/>
          <p:nvPr/>
        </p:nvSpPr>
        <p:spPr>
          <a:xfrm>
            <a:off x="5003640" y="256536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og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2556000" y="2205000"/>
            <a:ext cx="100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2484360" y="2781360"/>
            <a:ext cx="122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og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1" descr="下雨"/>
          <p:cNvPicPr/>
          <p:nvPr/>
        </p:nvPicPr>
        <p:blipFill>
          <a:blip r:embed="rId4"/>
          <a:stretch/>
        </p:blipFill>
        <p:spPr>
          <a:xfrm>
            <a:off x="0" y="3716280"/>
            <a:ext cx="3059280" cy="229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3"/>
          <p:cNvSpPr/>
          <p:nvPr/>
        </p:nvSpPr>
        <p:spPr>
          <a:xfrm>
            <a:off x="3059280" y="407664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4"/>
          <p:cNvSpPr/>
          <p:nvPr/>
        </p:nvSpPr>
        <p:spPr>
          <a:xfrm>
            <a:off x="2987640" y="4653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ai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5"/>
          <p:cNvSpPr/>
          <p:nvPr/>
        </p:nvSpPr>
        <p:spPr>
          <a:xfrm>
            <a:off x="4067280" y="4221000"/>
            <a:ext cx="44654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It’s a________ da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______ is very heav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6"/>
          <p:cNvSpPr/>
          <p:nvPr/>
        </p:nvSpPr>
        <p:spPr>
          <a:xfrm>
            <a:off x="5508720" y="4221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ai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7"/>
          <p:cNvSpPr/>
          <p:nvPr/>
        </p:nvSpPr>
        <p:spPr>
          <a:xfrm>
            <a:off x="5076720" y="4724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3132000" y="620640"/>
            <a:ext cx="9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132000" y="119700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284720" y="76500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219640" y="765000"/>
            <a:ext cx="10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651640" y="1052640"/>
            <a:ext cx="122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2-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24000" y="2492280"/>
            <a:ext cx="2555640" cy="22082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1"/>
          <p:cNvSpPr/>
          <p:nvPr/>
        </p:nvSpPr>
        <p:spPr>
          <a:xfrm>
            <a:off x="4140360" y="2421000"/>
            <a:ext cx="424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059280" y="2492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2987640" y="292428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now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4" descr="u=3714734827,2206356789&amp;gp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292640"/>
            <a:ext cx="2846520" cy="1735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2987640" y="436572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059280" y="4724280"/>
            <a:ext cx="115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os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814920" y="4292640"/>
            <a:ext cx="532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. It’ll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________on Thursd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r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re ______on the flow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4937760" y="2565360"/>
            <a:ext cx="334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It’ll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______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r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re _______on the grou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9" descr="u=3958004428,1030873082&amp;gp=1"/>
          <p:cNvPicPr/>
          <p:nvPr/>
        </p:nvPicPr>
        <p:blipFill>
          <a:blip r:embed="rId4"/>
          <a:stretch/>
        </p:blipFill>
        <p:spPr>
          <a:xfrm>
            <a:off x="0" y="0"/>
            <a:ext cx="3097080" cy="2610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0"/>
          <p:cNvSpPr/>
          <p:nvPr/>
        </p:nvSpPr>
        <p:spPr>
          <a:xfrm>
            <a:off x="4427640" y="476280"/>
            <a:ext cx="4392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It’ll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_______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ere ar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many________in the sk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3132000" y="549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3132000" y="98100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ou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5364000" y="4292640"/>
            <a:ext cx="15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ros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5148360" y="4653000"/>
            <a:ext cx="115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r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5867280" y="292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580000" y="24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now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5651640" y="404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ou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804000" y="765000"/>
            <a:ext cx="11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ou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8"/>
          <p:cNvSpPr/>
          <p:nvPr/>
        </p:nvSpPr>
        <p:spPr>
          <a:xfrm>
            <a:off x="3059280" y="836640"/>
            <a:ext cx="25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556000" y="2565360"/>
            <a:ext cx="251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3132000" y="3213000"/>
            <a:ext cx="194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7380360" y="907920"/>
            <a:ext cx="244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2987640" y="148428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2627280" y="3141720"/>
            <a:ext cx="12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7451640" y="1484280"/>
            <a:ext cx="144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3059280" y="3933720"/>
            <a:ext cx="15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2484360" y="47628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under and light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Object 19"/>
          <p:cNvGraphicFramePr/>
          <p:nvPr/>
        </p:nvGraphicFramePr>
        <p:xfrm>
          <a:off x="0" y="0"/>
          <a:ext cx="24480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4480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Picture 20" descr="IMAGE022"/>
          <p:cNvPicPr/>
          <p:nvPr/>
        </p:nvPicPr>
        <p:blipFill>
          <a:blip r:embed="rId3"/>
          <a:stretch/>
        </p:blipFill>
        <p:spPr>
          <a:xfrm>
            <a:off x="0" y="1916280"/>
            <a:ext cx="2521080" cy="2323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1"/>
          <p:cNvSpPr/>
          <p:nvPr/>
        </p:nvSpPr>
        <p:spPr>
          <a:xfrm>
            <a:off x="2638800" y="237024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2556000" y="2924280"/>
            <a:ext cx="151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n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3924360" y="2421000"/>
            <a:ext cx="446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.The _______ blows h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’ll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_______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292720" y="242100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580000" y="292428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wi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3132000" y="458136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2987640" y="4941720"/>
            <a:ext cx="15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4067280" y="4581360"/>
            <a:ext cx="38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4788000" y="458136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4643280" y="5157720"/>
            <a:ext cx="10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4788000" y="549360"/>
            <a:ext cx="41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7.Thunder and  lightning is very sc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Object 34"/>
          <p:cNvGraphicFramePr/>
          <p:nvPr/>
        </p:nvGraphicFramePr>
        <p:xfrm>
          <a:off x="0" y="4149720"/>
          <a:ext cx="2592360" cy="253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Object 3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149720"/>
                    <a:ext cx="259236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35"/>
          <p:cNvSpPr/>
          <p:nvPr/>
        </p:nvSpPr>
        <p:spPr>
          <a:xfrm>
            <a:off x="2556000" y="4724280"/>
            <a:ext cx="172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ainst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2556000" y="5157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4067280" y="486900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.____________ is also sc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4356000" y="4869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ainst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太阳"/>
          <p:cNvPicPr/>
          <p:nvPr/>
        </p:nvPicPr>
        <p:blipFill>
          <a:blip r:embed="rId1"/>
          <a:stretch/>
        </p:blipFill>
        <p:spPr>
          <a:xfrm>
            <a:off x="0" y="0"/>
            <a:ext cx="1584360" cy="1500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1979640" y="3357720"/>
            <a:ext cx="532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hurs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2 ~ 4 °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050920" y="54936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ues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7 ~ 9°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3059280" y="612720"/>
            <a:ext cx="608472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The weather today i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it’ll be…on Wednesday .The                            temperature  will be around 5°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Thurs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It’ll be …The temperature will be around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: 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weather won’t be too bad. What about  Friday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It’ll be …on Friday .The temperature will be only 1°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IMAGE022"/>
          <p:cNvPicPr/>
          <p:nvPr/>
        </p:nvPicPr>
        <p:blipFill>
          <a:blip r:embed="rId2"/>
          <a:stretch/>
        </p:blipFill>
        <p:spPr>
          <a:xfrm>
            <a:off x="0" y="2708280"/>
            <a:ext cx="2016000" cy="1822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冬天2"/>
          <p:cNvPicPr/>
          <p:nvPr/>
        </p:nvPicPr>
        <p:blipFill>
          <a:blip r:embed="rId3"/>
          <a:stretch/>
        </p:blipFill>
        <p:spPr>
          <a:xfrm>
            <a:off x="0" y="4365720"/>
            <a:ext cx="2305080" cy="1684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u=3958004428,1030873082&amp;gp=1"/>
          <p:cNvPicPr/>
          <p:nvPr/>
        </p:nvPicPr>
        <p:blipFill>
          <a:blip r:embed="rId4"/>
          <a:stretch/>
        </p:blipFill>
        <p:spPr>
          <a:xfrm>
            <a:off x="324000" y="1484280"/>
            <a:ext cx="1523880" cy="12844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0"/>
          <p:cNvSpPr/>
          <p:nvPr/>
        </p:nvSpPr>
        <p:spPr>
          <a:xfrm>
            <a:off x="1908000" y="198900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Wednesday  5~7°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340000" y="458136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0~2 °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3276720" y="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504d"/>
                </a:solidFill>
                <a:latin typeface="Calibri"/>
              </a:rPr>
              <a:t>weather report</a:t>
            </a:r>
            <a:r>
              <a:rPr b="1" i="1" lang="en-US" sz="2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0T09:28:31Z</dcterms:created>
  <dc:creator/>
  <dc:description/>
  <dc:language>en-US</dc:language>
  <cp:lastModifiedBy/>
  <dcterms:modified xsi:type="dcterms:W3CDTF">2016-01-10T09:29:25Z</dcterms:modified>
  <cp:revision>1</cp:revision>
  <dc:subject/>
  <dc:title/>
</cp:coreProperties>
</file>