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8.png" ContentType="image/png"/>
  <Override PartName="/ppt/media/image17.gif" ContentType="image/gif"/>
  <Override PartName="/ppt/media/image3.png" ContentType="image/png"/>
  <Override PartName="/ppt/media/image14.png" ContentType="image/png"/>
  <Override PartName="/ppt/media/image16.png" ContentType="image/png"/>
  <Override PartName="/ppt/media/image13.gif" ContentType="image/gif"/>
  <Override PartName="/ppt/media/image10.png" ContentType="image/png"/>
  <Override PartName="/ppt/media/30461_1077_670.wav" ContentType="audio/x-wav"/>
  <Override PartName="/ppt/media/image7.png" ContentType="image/png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A00F-D041-464E-A339-DA30A665E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60A2-FEB4-4F5D-87DC-4AF3745B7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7F50-3A4B-4FA5-9FDD-87EC7691C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3CD9-FD33-45F4-8C66-B3F9D5C90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00BA-B5A4-41B2-A464-CA0DA83B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75B-D4C0-4947-A702-EAA1A61C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80B6-C6D8-4FCF-83C4-C1CC9F90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E795-DD47-4FAD-A67F-CD2D8CEB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F863-9902-477F-AC0D-F64CC215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8A8F-3E03-4A0C-96AC-E81D5D9FF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782-30ED-4755-87BF-E6617501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8E2-D54D-4238-81AD-36D86417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877-4E86-4A64-90C7-F5266DF9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061-5F3E-49DD-ADE0-5CF93047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823-D165-4779-8D4A-9DDD0AE9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F37-364E-43F6-B792-C86D8ED3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071-53C9-43C2-B5C9-6EC884F1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A41-D10D-4006-A9D0-11D5F490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EDB-EAE0-470A-AB74-C0CA5C45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390-DAC7-458D-BB19-3B2761BD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FCC-29D3-435B-B404-4CE24A01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9ED-8BED-472B-9BDA-AEC9D2B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BA0A-7CEC-4243-98BA-661FBCF0E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audio" Target="../media/30461_1077_670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piercing.org.cn/Book.asp?cat_id=1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转花"/>
          <p:cNvPicPr/>
          <p:nvPr/>
        </p:nvPicPr>
        <p:blipFill>
          <a:blip r:embed="rId2"/>
          <a:stretch/>
        </p:blipFill>
        <p:spPr>
          <a:xfrm>
            <a:off x="6156360" y="5445000"/>
            <a:ext cx="79200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6279840" y="558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84360" y="1341360"/>
            <a:ext cx="104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黑体"/>
              </a:rPr>
              <a:t>Let’s play  a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403280" y="620640"/>
            <a:ext cx="5184720" cy="91692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新魏"/>
              </a:rPr>
              <a:t>呈现活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图标4"/>
          <p:cNvPicPr/>
          <p:nvPr/>
        </p:nvPicPr>
        <p:blipFill>
          <a:blip r:embed="rId2"/>
          <a:stretch/>
        </p:blipFill>
        <p:spPr>
          <a:xfrm>
            <a:off x="1042920" y="549360"/>
            <a:ext cx="1117800" cy="1069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2"/>
          <p:cNvSpPr/>
          <p:nvPr/>
        </p:nvSpPr>
        <p:spPr>
          <a:xfrm>
            <a:off x="324000" y="1341360"/>
            <a:ext cx="85690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学生提供可理解性语言输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汇呈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：动作、实物、图片、声音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句型呈现：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创设邀请他人参加某项体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活动的情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x1pIuxx1VYmtQtN0XzG83IKme9d6CJIbwlsWIV3ldqTyEur3Zm-bVOTuid8J2BuccwyxQgRU_k0Kb4_j4c0TW6AcfZygOhZMXKA4-NilPioUt3lMPiwgc2Vj6ZHvSrKoFEb"/>
          <p:cNvPicPr/>
          <p:nvPr/>
        </p:nvPicPr>
        <p:blipFill>
          <a:blip r:embed="rId3"/>
          <a:stretch/>
        </p:blipFill>
        <p:spPr>
          <a:xfrm>
            <a:off x="7308720" y="836640"/>
            <a:ext cx="13622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cyworld061"/>
          <p:cNvPicPr/>
          <p:nvPr/>
        </p:nvPicPr>
        <p:blipFill>
          <a:blip r:embed="rId4"/>
          <a:stretch/>
        </p:blipFill>
        <p:spPr>
          <a:xfrm>
            <a:off x="755640" y="4221000"/>
            <a:ext cx="12524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30461_1077_67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36_8_8"/>
          <p:cNvPicPr/>
          <p:nvPr/>
        </p:nvPicPr>
        <p:blipFill>
          <a:blip r:embed="rId1"/>
          <a:stretch/>
        </p:blipFill>
        <p:spPr>
          <a:xfrm>
            <a:off x="7920000" y="5516640"/>
            <a:ext cx="1224000" cy="1101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932360" y="404640"/>
            <a:ext cx="388764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模仿性操练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小学生英语学习的基本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4859280" y="2708280"/>
            <a:ext cx="3600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做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说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读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20071711184733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453852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13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95280" y="404640"/>
            <a:ext cx="80643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巩固性操练：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设计趣味性活动，促进学 生识记和内化语言知识，掌握语言技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nt:  Let’s play footb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play football;                                           OK? 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go swimm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go swimm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755640" y="1844640"/>
            <a:ext cx="8064360" cy="338580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50000">
                <a:srgbClr val="ffffff"/>
              </a:gs>
              <a:gs pos="100000">
                <a:srgbClr val="a0f3fe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学生用英语去做事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现教学的最终目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 自由表达自己喜欢的体育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互相邀请去参加某项体育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195640" y="404640"/>
            <a:ext cx="4321080" cy="76428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拓展性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图标4"/>
          <p:cNvPicPr/>
          <p:nvPr/>
        </p:nvPicPr>
        <p:blipFill>
          <a:blip r:embed="rId2"/>
          <a:stretch/>
        </p:blipFill>
        <p:spPr>
          <a:xfrm>
            <a:off x="1403280" y="0"/>
            <a:ext cx="1546200" cy="14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755640" y="1844640"/>
            <a:ext cx="8064360" cy="442152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50000">
                <a:srgbClr val="ffffff"/>
              </a:gs>
              <a:gs pos="100000">
                <a:srgbClr val="a0f3fe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听、说、读 关于体育运动的词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用英语说出自己喜爱的体育运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运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邀请他人参 加某项体育活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爱体育运动的美好情感得到培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体验英语学习的快乐和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195640" y="404640"/>
            <a:ext cx="4321080" cy="76428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学习目标预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图标4"/>
          <p:cNvPicPr/>
          <p:nvPr/>
        </p:nvPicPr>
        <p:blipFill>
          <a:blip r:embed="rId2"/>
          <a:stretch/>
        </p:blipFill>
        <p:spPr>
          <a:xfrm>
            <a:off x="1403280" y="0"/>
            <a:ext cx="1546200" cy="14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R6061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12" name="Oval 5"/>
          <p:cNvSpPr/>
          <p:nvPr/>
        </p:nvSpPr>
        <p:spPr>
          <a:xfrm>
            <a:off x="3995640" y="5445000"/>
            <a:ext cx="792360" cy="8636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2556000" y="5516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2700360" y="5516640"/>
            <a:ext cx="712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2842920" y="5516640"/>
            <a:ext cx="730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3635280" y="5733720"/>
            <a:ext cx="360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3850920" y="5805360"/>
            <a:ext cx="144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4788000" y="5805360"/>
            <a:ext cx="431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788000" y="580536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0003"/>
          <p:cNvPicPr/>
          <p:nvPr/>
        </p:nvPicPr>
        <p:blipFill>
          <a:blip r:embed="rId2"/>
          <a:stretch/>
        </p:blipFill>
        <p:spPr>
          <a:xfrm>
            <a:off x="7308720" y="4670280"/>
            <a:ext cx="1600200" cy="2187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6"/>
          <p:cNvSpPr/>
          <p:nvPr/>
        </p:nvSpPr>
        <p:spPr>
          <a:xfrm>
            <a:off x="3090960" y="839880"/>
            <a:ext cx="30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cc"/>
                </a:solidFill>
                <a:latin typeface="Arial"/>
                <a:ea typeface="华文新魏"/>
              </a:rPr>
              <a:t>板书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2987640" y="1989000"/>
            <a:ext cx="511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lay foo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lay baske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lay ping-p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 swi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1547640" y="2852640"/>
            <a:ext cx="13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 flipV="1">
            <a:off x="2771640" y="256536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V="1">
            <a:off x="2771640" y="314136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2771640" y="328464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2771640" y="3284640"/>
            <a:ext cx="1008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12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谢谢"/>
          <p:cNvPicPr/>
          <p:nvPr/>
        </p:nvPicPr>
        <p:blipFill>
          <a:blip r:embed="rId2"/>
          <a:stretch/>
        </p:blipFill>
        <p:spPr>
          <a:xfrm>
            <a:off x="971640" y="1844640"/>
            <a:ext cx="2520720" cy="2106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484360" y="1773360"/>
            <a:ext cx="6050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英语说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et’s play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说课设计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黄静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谢谢大家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1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4" dur="1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" dur="1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" dur="1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2" dur="1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12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2268360" y="620640"/>
            <a:ext cx="3962520" cy="64260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课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图标3"/>
          <p:cNvPicPr/>
          <p:nvPr/>
        </p:nvPicPr>
        <p:blipFill>
          <a:blip r:embed="rId2"/>
          <a:stretch/>
        </p:blipFill>
        <p:spPr>
          <a:xfrm>
            <a:off x="1546200" y="260280"/>
            <a:ext cx="1513080" cy="1332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332000" y="1844640"/>
            <a:ext cx="5472000" cy="70344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说教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332000" y="2637000"/>
            <a:ext cx="5472000" cy="70344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说教法和学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258920" y="3357720"/>
            <a:ext cx="5618160" cy="70344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说教学程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258920" y="4149720"/>
            <a:ext cx="5618160" cy="70344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说板书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按纽5"/>
          <p:cNvPicPr/>
          <p:nvPr/>
        </p:nvPicPr>
        <p:blipFill>
          <a:blip r:embed="rId3"/>
          <a:stretch/>
        </p:blipFill>
        <p:spPr>
          <a:xfrm>
            <a:off x="1042920" y="1916280"/>
            <a:ext cx="679680" cy="65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按纽1"/>
          <p:cNvPicPr/>
          <p:nvPr/>
        </p:nvPicPr>
        <p:blipFill>
          <a:blip r:embed="rId4"/>
          <a:stretch/>
        </p:blipFill>
        <p:spPr>
          <a:xfrm>
            <a:off x="971640" y="263700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按纽2"/>
          <p:cNvPicPr/>
          <p:nvPr/>
        </p:nvPicPr>
        <p:blipFill>
          <a:blip r:embed="rId5"/>
          <a:stretch/>
        </p:blipFill>
        <p:spPr>
          <a:xfrm>
            <a:off x="971640" y="3357720"/>
            <a:ext cx="679320" cy="669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按纽3"/>
          <p:cNvPicPr/>
          <p:nvPr/>
        </p:nvPicPr>
        <p:blipFill>
          <a:blip r:embed="rId6"/>
          <a:stretch/>
        </p:blipFill>
        <p:spPr>
          <a:xfrm>
            <a:off x="971640" y="4149720"/>
            <a:ext cx="689040" cy="698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"/>
          <p:cNvSpPr/>
          <p:nvPr/>
        </p:nvSpPr>
        <p:spPr>
          <a:xfrm>
            <a:off x="1403280" y="5013360"/>
            <a:ext cx="5618160" cy="70344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说学习目标预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1996920" y="781200"/>
            <a:ext cx="4015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二、学情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539640" y="1700280"/>
            <a:ext cx="813600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教学对象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学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年级的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年龄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泼好动，好奇心强，            喜欢表现，善于模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象思维强，很少羞涩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转花"/>
          <p:cNvPicPr/>
          <p:nvPr/>
        </p:nvPicPr>
        <p:blipFill>
          <a:blip r:embed="rId2"/>
          <a:stretch/>
        </p:blipFill>
        <p:spPr>
          <a:xfrm>
            <a:off x="6156360" y="5445000"/>
            <a:ext cx="792000" cy="743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6279840" y="558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58920" y="476280"/>
            <a:ext cx="87850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三、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语言知识目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★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能听、说、读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/football\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g-pong\swimm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★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并熟练运用句型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语言技能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能用英语来讨论体育项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邀请别人参 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情感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学生热爱体育运动的美好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转花"/>
          <p:cNvPicPr/>
          <p:nvPr/>
        </p:nvPicPr>
        <p:blipFill>
          <a:blip r:embed="rId2"/>
          <a:stretch/>
        </p:blipFill>
        <p:spPr>
          <a:xfrm>
            <a:off x="6156360" y="5445000"/>
            <a:ext cx="792000" cy="743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6279840" y="558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15800" y="446040"/>
            <a:ext cx="872820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四、教学重点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难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点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生能认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 football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ketball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ng-pon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 swimming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词组。掌握句型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难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流利地表达自己喜欢的体育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2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1547640" y="1628640"/>
            <a:ext cx="6409080" cy="442008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50000">
                <a:srgbClr val="ffffff"/>
              </a:gs>
              <a:gs pos="100000">
                <a:srgbClr val="a0f3fe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直观教学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情境教学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任务型教学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优质评价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学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★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与活动，亲身体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★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合作，加强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826920" y="692280"/>
            <a:ext cx="6337440" cy="76428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50000">
                <a:srgbClr val="ffffff"/>
              </a:gs>
              <a:gs pos="100000">
                <a:srgbClr val="a0f3fe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说教法和学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图标3"/>
          <p:cNvPicPr/>
          <p:nvPr/>
        </p:nvPicPr>
        <p:blipFill>
          <a:blip r:embed="rId2"/>
          <a:stretch/>
        </p:blipFill>
        <p:spPr>
          <a:xfrm>
            <a:off x="250920" y="404640"/>
            <a:ext cx="1673280" cy="14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13"/>
          <p:cNvPicPr/>
          <p:nvPr/>
        </p:nvPicPr>
        <p:blipFill>
          <a:blip r:embed="rId1"/>
          <a:stretch/>
        </p:blipFill>
        <p:spPr>
          <a:xfrm>
            <a:off x="0" y="-16020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2843280" y="1628640"/>
            <a:ext cx="3960720" cy="448164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热身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新课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呈现新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模仿性操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巩固性操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拓展性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122560" y="620640"/>
            <a:ext cx="5329080" cy="91692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50000">
                <a:srgbClr val="ffffff"/>
              </a:gs>
              <a:gs pos="100000">
                <a:srgbClr val="a0f3fe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说 教 学 程 序</a:t>
            </a:r>
            <a:r>
              <a:rPr b="1" i="1" lang="zh-CN" sz="2400" spc="-1" strike="noStrike">
                <a:solidFill>
                  <a:srgbClr val="ff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图标4"/>
          <p:cNvPicPr/>
          <p:nvPr/>
        </p:nvPicPr>
        <p:blipFill>
          <a:blip r:embed="rId2"/>
          <a:stretch/>
        </p:blipFill>
        <p:spPr>
          <a:xfrm>
            <a:off x="1079640" y="220680"/>
            <a:ext cx="154620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3"/>
          <p:cNvPicPr/>
          <p:nvPr/>
        </p:nvPicPr>
        <p:blipFill>
          <a:blip r:embed="rId1"/>
          <a:stretch/>
        </p:blipFill>
        <p:spPr>
          <a:xfrm>
            <a:off x="0" y="-16020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042920" y="1773360"/>
            <a:ext cx="7416720" cy="201420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激活原有知识结构，激发兴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歌曲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ap your ha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每日对话 ，拉近师生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122560" y="620640"/>
            <a:ext cx="4178160" cy="76428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50000">
                <a:srgbClr val="ffffff"/>
              </a:gs>
              <a:gs pos="100000">
                <a:srgbClr val="a0f3fe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热身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图标4"/>
          <p:cNvPicPr/>
          <p:nvPr/>
        </p:nvPicPr>
        <p:blipFill>
          <a:blip r:embed="rId2"/>
          <a:stretch/>
        </p:blipFill>
        <p:spPr>
          <a:xfrm>
            <a:off x="1079640" y="220680"/>
            <a:ext cx="1546200" cy="14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3"/>
          <p:cNvPicPr/>
          <p:nvPr/>
        </p:nvPicPr>
        <p:blipFill>
          <a:blip r:embed="rId1"/>
          <a:stretch/>
        </p:blipFill>
        <p:spPr>
          <a:xfrm>
            <a:off x="0" y="-16020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042920" y="1773360"/>
            <a:ext cx="7058160" cy="146556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情境导入，激发兴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播放奥运会一些体育项目的视频件，营造浓郁的学习氛围，并提出问题：你们知道奥运会都有哪些体育项目呀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22560" y="620640"/>
            <a:ext cx="4178160" cy="764280"/>
          </a:xfrm>
          <a:prstGeom prst="rect">
            <a:avLst/>
          </a:prstGeom>
          <a:gradFill rotWithShape="0">
            <a:gsLst>
              <a:gs pos="0">
                <a:srgbClr val="a0f3fe"/>
              </a:gs>
              <a:gs pos="50000">
                <a:srgbClr val="ffffff"/>
              </a:gs>
              <a:gs pos="100000">
                <a:srgbClr val="a0f3fe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新课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图标4"/>
          <p:cNvPicPr/>
          <p:nvPr/>
        </p:nvPicPr>
        <p:blipFill>
          <a:blip r:embed="rId2"/>
          <a:stretch/>
        </p:blipFill>
        <p:spPr>
          <a:xfrm>
            <a:off x="1079640" y="220680"/>
            <a:ext cx="1546200" cy="14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02:33:21Z</dcterms:created>
  <dc:creator/>
  <dc:description/>
  <dc:language>en-US</dc:language>
  <cp:lastModifiedBy/>
  <dcterms:modified xsi:type="dcterms:W3CDTF">2016-01-09T14:48:38Z</dcterms:modified>
  <cp:revision>29</cp:revision>
  <dc:subject/>
  <dc:title/>
</cp:coreProperties>
</file>