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png" ContentType="image/png"/>
  <Override PartName="/ppt/media/image12.jpeg" ContentType="image/jpeg"/>
  <Override PartName="/ppt/media/image3.gif" ContentType="image/gif"/>
  <Override PartName="/ppt/media/image4.gif" ContentType="image/gif"/>
  <Override PartName="/ppt/media/image11.jpeg" ContentType="image/jpeg"/>
  <Override PartName="/ppt/media/image14.jpeg" ContentType="image/jpeg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2.gif" ContentType="image/gi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EF80-F42D-475D-A401-D720B11B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A5BD-AF9C-4527-B829-F33DE0BD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E784-C4E6-4B7F-A323-309A877A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A1EC-10D9-4B42-8E2C-3B573299A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9C4B-1006-440D-9A7B-613CD530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9F1E-77D8-4349-9D22-C61A0B59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0258-40C1-49F4-A745-8D06EFBB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A7E5-8224-4EAD-B9AF-A42A224BE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EE68-BA55-4A5D-AC56-44A1A555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BACC-9092-434E-A9D0-4BC077697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1294-C718-4153-B4A5-7351A794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341B-98E1-4064-A76F-1C55B31E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973A-7E07-4E9F-BB3B-43E52DC1F1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hi.baidu.com/duoduopp/album/item/ddc50dfa65bca38659ee90d8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hinagif.com/animal/panda/04.asp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gif.dabaoku.com/dongwu/014/index4.htm" TargetMode="External"/><Relationship Id="rId4" Type="http://schemas.openxmlformats.org/officeDocument/2006/relationships/image" Target="../media/image3.gif"/><Relationship Id="rId5" Type="http://schemas.openxmlformats.org/officeDocument/2006/relationships/hyperlink" Target="http://gif.dabaoku.com/dongwu/031/index6.htm" TargetMode="External"/><Relationship Id="rId6" Type="http://schemas.openxmlformats.org/officeDocument/2006/relationships/image" Target="../media/image4.gif"/><Relationship Id="rId7" Type="http://schemas.openxmlformats.org/officeDocument/2006/relationships/hyperlink" Target="http://www.dabaoku.com/gif/dongwu/028/index2.htm" TargetMode="External"/><Relationship Id="rId8" Type="http://schemas.openxmlformats.org/officeDocument/2006/relationships/image" Target="../media/image5.gif"/><Relationship Id="rId9" Type="http://schemas.openxmlformats.org/officeDocument/2006/relationships/hyperlink" Target="http://www.chinagif.com/animal/pig/05.asp" TargetMode="External"/><Relationship Id="rId10" Type="http://schemas.openxmlformats.org/officeDocument/2006/relationships/image" Target="../media/image6.gi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jy.cc/Photo/gif/whty/" TargetMode="Externa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ipic.com/show/3/73/db7e48092a7a3161.html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99space.com/content_41734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u888.cn/tiyumingxing/wangliqin/wlqd61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ddc50dfa65bca38659ee90d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8"/>
          <p:cNvSpPr/>
          <p:nvPr/>
        </p:nvSpPr>
        <p:spPr>
          <a:xfrm>
            <a:off x="0" y="2997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Let’s play a game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ab0d4c1395d89b8c5af1f7c95e20b6ac"/>
          <p:cNvPicPr/>
          <p:nvPr/>
        </p:nvPicPr>
        <p:blipFill>
          <a:blip r:embed="rId1"/>
          <a:stretch/>
        </p:blipFill>
        <p:spPr>
          <a:xfrm>
            <a:off x="3203640" y="476280"/>
            <a:ext cx="2265120" cy="2665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2340000" y="3789360"/>
            <a:ext cx="38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6633"/>
                </a:solidFill>
                <a:latin typeface="Calibri"/>
              </a:rPr>
              <a:t>Let’s g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ddc50dfa65bca38659ee90d8"/>
          <p:cNvPicPr/>
          <p:nvPr/>
        </p:nvPicPr>
        <p:blipFill>
          <a:blip r:embed="rId1"/>
          <a:stretch/>
        </p:blipFill>
        <p:spPr>
          <a:xfrm>
            <a:off x="0" y="0"/>
            <a:ext cx="9144000" cy="6892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8"/>
          <p:cNvSpPr/>
          <p:nvPr/>
        </p:nvSpPr>
        <p:spPr>
          <a:xfrm>
            <a:off x="0" y="2997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Let’s play a game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0" y="1557360"/>
            <a:ext cx="28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I like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003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0"/>
            <a:ext cx="3959280" cy="3959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050bx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1052640"/>
            <a:ext cx="2808360" cy="2550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094dp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19640" y="0"/>
            <a:ext cx="3233520" cy="3960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2" descr="017aq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340000" y="620640"/>
            <a:ext cx="4751280" cy="3260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004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492360" y="981000"/>
            <a:ext cx="316728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5" descr="200703300945406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92360" y="620640"/>
            <a:ext cx="2376720" cy="23767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9"/>
          <p:cNvSpPr/>
          <p:nvPr/>
        </p:nvSpPr>
        <p:spPr>
          <a:xfrm>
            <a:off x="2340000" y="357336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660066"/>
                </a:solidFill>
                <a:latin typeface="Calibri"/>
              </a:rPr>
              <a:t>football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20081191038340_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189000"/>
            <a:ext cx="4348080" cy="3663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250920" y="450864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0066"/>
                </a:solidFill>
                <a:latin typeface="Calibri"/>
              </a:rPr>
              <a:t>Let’s play football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6"/>
          <p:cNvSpPr/>
          <p:nvPr/>
        </p:nvSpPr>
        <p:spPr>
          <a:xfrm>
            <a:off x="250920" y="450864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504d"/>
                </a:solidFill>
                <a:latin typeface="Calibri"/>
              </a:rPr>
              <a:t>Let’s play basketball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428840" y="857160"/>
            <a:ext cx="4581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1600sport_20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997360"/>
            <a:ext cx="4869000" cy="36511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6"/>
          <p:cNvSpPr/>
          <p:nvPr/>
        </p:nvSpPr>
        <p:spPr>
          <a:xfrm>
            <a:off x="3276720" y="549360"/>
            <a:ext cx="5867280" cy="2193840"/>
          </a:xfrm>
          <a:prstGeom prst="wedgeEllipseCallout">
            <a:avLst>
              <a:gd name="adj1" fmla="val -32685"/>
              <a:gd name="adj2" fmla="val 106365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alibri"/>
              </a:rPr>
              <a:t>ping-po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wlqd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0"/>
            <a:ext cx="3336840" cy="3645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250920" y="4508640"/>
            <a:ext cx="842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8000"/>
                </a:solidFill>
                <a:latin typeface="Calibri"/>
              </a:rPr>
              <a:t>Let’s play ping-pong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md_1174871309750"/>
          <p:cNvPicPr/>
          <p:nvPr/>
        </p:nvPicPr>
        <p:blipFill>
          <a:blip r:embed="rId1"/>
          <a:stretch/>
        </p:blipFill>
        <p:spPr>
          <a:xfrm>
            <a:off x="1187280" y="0"/>
            <a:ext cx="3673800" cy="367344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6"/>
          <p:cNvSpPr/>
          <p:nvPr/>
        </p:nvSpPr>
        <p:spPr>
          <a:xfrm>
            <a:off x="1332000" y="3429000"/>
            <a:ext cx="6443640" cy="2158920"/>
          </a:xfrm>
          <a:prstGeom prst="cloudCallout">
            <a:avLst>
              <a:gd name="adj1" fmla="val -17111"/>
              <a:gd name="adj2" fmla="val -10522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Calibri"/>
              </a:rPr>
              <a:t>swimm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68341yy2_021"/>
          <p:cNvPicPr/>
          <p:nvPr/>
        </p:nvPicPr>
        <p:blipFill>
          <a:blip r:embed="rId1"/>
          <a:stretch/>
        </p:blipFill>
        <p:spPr>
          <a:xfrm>
            <a:off x="1835280" y="0"/>
            <a:ext cx="4895640" cy="34718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692360" y="407664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9933"/>
                </a:solidFill>
                <a:latin typeface="Calibri"/>
              </a:rPr>
              <a:t>Let’s swimming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9T14:44:29Z</dcterms:created>
  <dc:creator/>
  <dc:description/>
  <dc:language>en-US</dc:language>
  <cp:lastModifiedBy/>
  <dcterms:modified xsi:type="dcterms:W3CDTF">2016-03-24T06:08:26Z</dcterms:modified>
  <cp:revision>2</cp:revision>
  <dc:subject/>
  <dc:title/>
</cp:coreProperties>
</file>