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reeze.wav" ContentType="audio/x-wav"/>
  <Override PartName="/ppt/media/image1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669-70B5-4376-B788-17A3E6C9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B18-4CA0-427E-9F07-833A730A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31F-895F-4E65-8F4C-FD7BAEBA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D34-AA92-4B8E-92D3-A55818A5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F79-1ECA-4E31-80BB-42001B08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B33-E8E4-450A-A175-F222A025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8C5-2196-44E1-99D5-CB05C16D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C4D-49AD-49FD-9969-99FE4F3A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651-AA8B-4AAE-B1C9-9AA12909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AE6-DB45-4C46-AEB3-F64BC608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2C0-15BE-430A-BCBD-5296CDF6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CAF-DBC7-4950-A922-87F4B327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CB4-0BA5-4A2B-8B32-E881633A1D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2084760" y="500040"/>
            <a:ext cx="41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Let’s play a gam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286000" y="2071800"/>
            <a:ext cx="5786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llo. Zhoulin!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好，周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 are you?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好吗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’m fine. Thanks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很好，谢谢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5789520" y="3993480"/>
            <a:ext cx="3185640" cy="2863440"/>
            <a:chOff x="5789520" y="3993480"/>
            <a:chExt cx="3185640" cy="2863440"/>
          </a:xfrm>
        </p:grpSpPr>
        <p:sp>
          <p:nvSpPr>
            <p:cNvPr id="44" name="AutoShape 6"/>
            <p:cNvSpPr/>
            <p:nvPr/>
          </p:nvSpPr>
          <p:spPr>
            <a:xfrm flipV="1" rot="19944600">
              <a:off x="6045120" y="4980600"/>
              <a:ext cx="2786040" cy="1305000"/>
            </a:xfrm>
            <a:prstGeom prst="pi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5" name="Group 7"/>
            <p:cNvGrpSpPr/>
            <p:nvPr/>
          </p:nvGrpSpPr>
          <p:grpSpPr>
            <a:xfrm>
              <a:off x="5789520" y="4556880"/>
              <a:ext cx="1934280" cy="2195640"/>
              <a:chOff x="5789520" y="4556880"/>
              <a:chExt cx="1934280" cy="2195640"/>
            </a:xfrm>
          </p:grpSpPr>
          <p:sp>
            <p:nvSpPr>
              <p:cNvPr id="46" name="Freeform 8"/>
              <p:cNvSpPr/>
              <p:nvPr/>
            </p:nvSpPr>
            <p:spPr>
              <a:xfrm rot="19944600">
                <a:off x="6099480" y="4750200"/>
                <a:ext cx="123912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f9f9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 rot="19944600">
                <a:off x="6369120" y="6032520"/>
                <a:ext cx="1329120" cy="437040"/>
              </a:xfrm>
              <a:prstGeom prst="pi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" name="Freeform 10"/>
              <p:cNvSpPr/>
              <p:nvPr/>
            </p:nvSpPr>
            <p:spPr>
              <a:xfrm rot="19944600">
                <a:off x="6209280" y="5379120"/>
                <a:ext cx="121320" cy="140724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4b4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11"/>
            <p:cNvGrpSpPr/>
            <p:nvPr/>
          </p:nvGrpSpPr>
          <p:grpSpPr>
            <a:xfrm>
              <a:off x="6870960" y="3993480"/>
              <a:ext cx="1996200" cy="2162160"/>
              <a:chOff x="6870960" y="3993480"/>
              <a:chExt cx="1996200" cy="2162160"/>
            </a:xfrm>
          </p:grpSpPr>
          <p:sp>
            <p:nvSpPr>
              <p:cNvPr id="50" name="Freeform 12"/>
              <p:cNvSpPr/>
              <p:nvPr/>
            </p:nvSpPr>
            <p:spPr>
              <a:xfrm flipH="1" rot="19944600">
                <a:off x="7180920" y="4186440"/>
                <a:ext cx="1238040" cy="1643400"/>
              </a:xfrm>
              <a:prstGeom prst="pie">
                <a:avLst/>
              </a:prstGeom>
              <a:gradFill rotWithShape="0">
                <a:gsLst>
                  <a:gs pos="0">
                    <a:srgbClr val="9f9f9f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" name="Freeform 13"/>
              <p:cNvSpPr/>
              <p:nvPr/>
            </p:nvSpPr>
            <p:spPr>
              <a:xfrm flipH="1" rot="19944600">
                <a:off x="7512840" y="5436000"/>
                <a:ext cx="1328040" cy="4366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 flipH="1" rot="19944600">
                <a:off x="8414640" y="4227480"/>
                <a:ext cx="121320" cy="140760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5"/>
          <p:cNvGrpSpPr/>
          <p:nvPr/>
        </p:nvGrpSpPr>
        <p:grpSpPr>
          <a:xfrm>
            <a:off x="5214600" y="3459960"/>
            <a:ext cx="3032640" cy="2491200"/>
            <a:chOff x="5214600" y="3459960"/>
            <a:chExt cx="3032640" cy="2491200"/>
          </a:xfrm>
        </p:grpSpPr>
        <p:sp>
          <p:nvSpPr>
            <p:cNvPr id="54" name="AutoShape 6"/>
            <p:cNvSpPr/>
            <p:nvPr/>
          </p:nvSpPr>
          <p:spPr>
            <a:xfrm flipV="1" rot="924600">
              <a:off x="5337720" y="4299480"/>
              <a:ext cx="2786040" cy="1304640"/>
            </a:xfrm>
            <a:prstGeom prst="pi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5315400" y="3459960"/>
              <a:ext cx="1747080" cy="2054520"/>
              <a:chOff x="5315400" y="3459960"/>
              <a:chExt cx="1747080" cy="2054520"/>
            </a:xfrm>
          </p:grpSpPr>
          <p:sp>
            <p:nvSpPr>
              <p:cNvPr id="56" name="Freeform 8"/>
              <p:cNvSpPr/>
              <p:nvPr/>
            </p:nvSpPr>
            <p:spPr>
              <a:xfrm rot="924600">
                <a:off x="5627160" y="3594960"/>
                <a:ext cx="123912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f9f9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 rot="924600">
                <a:off x="5349240" y="4908960"/>
                <a:ext cx="1329120" cy="436680"/>
              </a:xfrm>
              <a:prstGeom prst="pi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 rot="924600">
                <a:off x="5509080" y="3780000"/>
                <a:ext cx="121320" cy="140688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4b4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1"/>
            <p:cNvGrpSpPr/>
            <p:nvPr/>
          </p:nvGrpSpPr>
          <p:grpSpPr>
            <a:xfrm>
              <a:off x="6559200" y="3785040"/>
              <a:ext cx="1677240" cy="2073240"/>
              <a:chOff x="6559200" y="3785040"/>
              <a:chExt cx="1677240" cy="2073240"/>
            </a:xfrm>
          </p:grpSpPr>
          <p:sp>
            <p:nvSpPr>
              <p:cNvPr id="60" name="Freeform 12"/>
              <p:cNvSpPr/>
              <p:nvPr/>
            </p:nvSpPr>
            <p:spPr>
              <a:xfrm flipH="1" rot="924600">
                <a:off x="6802200" y="3920040"/>
                <a:ext cx="1238040" cy="1643040"/>
              </a:xfrm>
              <a:prstGeom prst="pie">
                <a:avLst/>
              </a:prstGeom>
              <a:gradFill rotWithShape="0">
                <a:gsLst>
                  <a:gs pos="0">
                    <a:srgbClr val="9f9f9f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 flipH="1" rot="924600">
                <a:off x="6593040" y="5252760"/>
                <a:ext cx="1328040" cy="4366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" name="Freeform 14"/>
              <p:cNvSpPr/>
              <p:nvPr/>
            </p:nvSpPr>
            <p:spPr>
              <a:xfrm flipH="1" rot="924600">
                <a:off x="7907400" y="4442040"/>
                <a:ext cx="121320" cy="140724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5"/>
          <p:cNvSpPr/>
          <p:nvPr/>
        </p:nvSpPr>
        <p:spPr>
          <a:xfrm>
            <a:off x="1500120" y="1428840"/>
            <a:ext cx="5786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 are you?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好吗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’m fine. Thanks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很好，谢谢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789520" y="3993480"/>
            <a:ext cx="3185640" cy="2863440"/>
            <a:chOff x="5789520" y="3993480"/>
            <a:chExt cx="3185640" cy="2863440"/>
          </a:xfrm>
        </p:grpSpPr>
        <p:sp>
          <p:nvSpPr>
            <p:cNvPr id="65" name="AutoShape 6"/>
            <p:cNvSpPr/>
            <p:nvPr/>
          </p:nvSpPr>
          <p:spPr>
            <a:xfrm flipV="1" rot="19944600">
              <a:off x="6045120" y="4980600"/>
              <a:ext cx="2786040" cy="1305000"/>
            </a:xfrm>
            <a:prstGeom prst="pi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66" name="Group 7"/>
            <p:cNvGrpSpPr/>
            <p:nvPr/>
          </p:nvGrpSpPr>
          <p:grpSpPr>
            <a:xfrm>
              <a:off x="5789520" y="4556880"/>
              <a:ext cx="1934280" cy="2195640"/>
              <a:chOff x="5789520" y="4556880"/>
              <a:chExt cx="1934280" cy="2195640"/>
            </a:xfrm>
          </p:grpSpPr>
          <p:sp>
            <p:nvSpPr>
              <p:cNvPr id="67" name="Freeform 8"/>
              <p:cNvSpPr/>
              <p:nvPr/>
            </p:nvSpPr>
            <p:spPr>
              <a:xfrm rot="19944600">
                <a:off x="6099480" y="4750200"/>
                <a:ext cx="123912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f9f9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rot="19944600">
                <a:off x="6369120" y="6032520"/>
                <a:ext cx="1329120" cy="437040"/>
              </a:xfrm>
              <a:prstGeom prst="pi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rot="19944600">
                <a:off x="6209280" y="5379120"/>
                <a:ext cx="121320" cy="140724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4b4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11"/>
            <p:cNvGrpSpPr/>
            <p:nvPr/>
          </p:nvGrpSpPr>
          <p:grpSpPr>
            <a:xfrm>
              <a:off x="6870960" y="3993480"/>
              <a:ext cx="1996200" cy="2162160"/>
              <a:chOff x="6870960" y="3993480"/>
              <a:chExt cx="1996200" cy="2162160"/>
            </a:xfrm>
          </p:grpSpPr>
          <p:sp>
            <p:nvSpPr>
              <p:cNvPr id="71" name="Freeform 12"/>
              <p:cNvSpPr/>
              <p:nvPr/>
            </p:nvSpPr>
            <p:spPr>
              <a:xfrm flipH="1" rot="19944600">
                <a:off x="7180920" y="4186440"/>
                <a:ext cx="1238040" cy="1643400"/>
              </a:xfrm>
              <a:prstGeom prst="pie">
                <a:avLst/>
              </a:prstGeom>
              <a:gradFill rotWithShape="0">
                <a:gsLst>
                  <a:gs pos="0">
                    <a:srgbClr val="9f9f9f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19944600">
                <a:off x="7512840" y="5436000"/>
                <a:ext cx="1328040" cy="4366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19944600">
                <a:off x="8414640" y="4227480"/>
                <a:ext cx="121320" cy="140760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Group 5"/>
          <p:cNvGrpSpPr/>
          <p:nvPr/>
        </p:nvGrpSpPr>
        <p:grpSpPr>
          <a:xfrm>
            <a:off x="5214600" y="3459960"/>
            <a:ext cx="3032280" cy="2491200"/>
            <a:chOff x="5214600" y="3459960"/>
            <a:chExt cx="3032280" cy="2491200"/>
          </a:xfrm>
        </p:grpSpPr>
        <p:sp>
          <p:nvSpPr>
            <p:cNvPr id="75" name="AutoShape 6"/>
            <p:cNvSpPr/>
            <p:nvPr/>
          </p:nvSpPr>
          <p:spPr>
            <a:xfrm flipV="1" rot="924600">
              <a:off x="5337720" y="4300200"/>
              <a:ext cx="2786040" cy="1303920"/>
            </a:xfrm>
            <a:prstGeom prst="pi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6" name="Group 7"/>
            <p:cNvGrpSpPr/>
            <p:nvPr/>
          </p:nvGrpSpPr>
          <p:grpSpPr>
            <a:xfrm>
              <a:off x="5316120" y="3459960"/>
              <a:ext cx="1746360" cy="2052000"/>
              <a:chOff x="5316120" y="3459960"/>
              <a:chExt cx="1746360" cy="2052000"/>
            </a:xfrm>
          </p:grpSpPr>
          <p:sp>
            <p:nvSpPr>
              <p:cNvPr id="77" name="Freeform 8"/>
              <p:cNvSpPr/>
              <p:nvPr/>
            </p:nvSpPr>
            <p:spPr>
              <a:xfrm rot="924600">
                <a:off x="5627520" y="3594960"/>
                <a:ext cx="1239120" cy="1640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f9f9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8" name="Freeform 9"/>
              <p:cNvSpPr/>
              <p:nvPr/>
            </p:nvSpPr>
            <p:spPr>
              <a:xfrm rot="924600">
                <a:off x="5349960" y="4906800"/>
                <a:ext cx="1329120" cy="436320"/>
              </a:xfrm>
              <a:prstGeom prst="pi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9" name="Freeform 10"/>
              <p:cNvSpPr/>
              <p:nvPr/>
            </p:nvSpPr>
            <p:spPr>
              <a:xfrm rot="924600">
                <a:off x="5509440" y="3779640"/>
                <a:ext cx="121320" cy="140508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4b4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11"/>
            <p:cNvGrpSpPr/>
            <p:nvPr/>
          </p:nvGrpSpPr>
          <p:grpSpPr>
            <a:xfrm>
              <a:off x="6559920" y="3785040"/>
              <a:ext cx="1676520" cy="2070720"/>
              <a:chOff x="6559920" y="3785040"/>
              <a:chExt cx="1676520" cy="2070720"/>
            </a:xfrm>
          </p:grpSpPr>
          <p:sp>
            <p:nvSpPr>
              <p:cNvPr id="81" name="Freeform 12"/>
              <p:cNvSpPr/>
              <p:nvPr/>
            </p:nvSpPr>
            <p:spPr>
              <a:xfrm flipH="1" rot="924600">
                <a:off x="6802560" y="3920040"/>
                <a:ext cx="1238040" cy="1640520"/>
              </a:xfrm>
              <a:prstGeom prst="pie">
                <a:avLst/>
              </a:prstGeom>
              <a:gradFill rotWithShape="0">
                <a:gsLst>
                  <a:gs pos="0">
                    <a:srgbClr val="9f9f9f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" name="Freeform 13"/>
              <p:cNvSpPr/>
              <p:nvPr/>
            </p:nvSpPr>
            <p:spPr>
              <a:xfrm flipH="1" rot="924600">
                <a:off x="6593760" y="5250960"/>
                <a:ext cx="1328040" cy="435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3" name="Freeform 14"/>
              <p:cNvSpPr/>
              <p:nvPr/>
            </p:nvSpPr>
            <p:spPr>
              <a:xfrm flipH="1" rot="924600">
                <a:off x="7907760" y="4442040"/>
                <a:ext cx="121320" cy="1405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矩形 26"/>
          <p:cNvSpPr/>
          <p:nvPr/>
        </p:nvSpPr>
        <p:spPr>
          <a:xfrm>
            <a:off x="5994360" y="4214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重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矩形 27"/>
          <p:cNvSpPr/>
          <p:nvPr/>
        </p:nvSpPr>
        <p:spPr>
          <a:xfrm>
            <a:off x="7208640" y="450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点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1500120" y="857160"/>
            <a:ext cx="61437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uch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触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s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鼻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uth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眼睛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a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耳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ok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od morning.clas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学们，早上好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5789520" y="3993480"/>
            <a:ext cx="3185640" cy="2863440"/>
            <a:chOff x="5789520" y="3993480"/>
            <a:chExt cx="3185640" cy="2863440"/>
          </a:xfrm>
        </p:grpSpPr>
        <p:sp>
          <p:nvSpPr>
            <p:cNvPr id="88" name="AutoShape 6"/>
            <p:cNvSpPr/>
            <p:nvPr/>
          </p:nvSpPr>
          <p:spPr>
            <a:xfrm flipV="1" rot="19944600">
              <a:off x="6045120" y="4980600"/>
              <a:ext cx="2786040" cy="1305000"/>
            </a:xfrm>
            <a:prstGeom prst="pi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89" name="Group 7"/>
            <p:cNvGrpSpPr/>
            <p:nvPr/>
          </p:nvGrpSpPr>
          <p:grpSpPr>
            <a:xfrm>
              <a:off x="5789520" y="4556880"/>
              <a:ext cx="1934280" cy="2195640"/>
              <a:chOff x="5789520" y="4556880"/>
              <a:chExt cx="1934280" cy="2195640"/>
            </a:xfrm>
          </p:grpSpPr>
          <p:sp>
            <p:nvSpPr>
              <p:cNvPr id="90" name="Freeform 8"/>
              <p:cNvSpPr/>
              <p:nvPr/>
            </p:nvSpPr>
            <p:spPr>
              <a:xfrm rot="19944600">
                <a:off x="6099480" y="4750200"/>
                <a:ext cx="123912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f9f9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rot="19944600">
                <a:off x="6369120" y="6032520"/>
                <a:ext cx="1329120" cy="437040"/>
              </a:xfrm>
              <a:prstGeom prst="pi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rot="19944600">
                <a:off x="6209280" y="5379120"/>
                <a:ext cx="121320" cy="140724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4b4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11"/>
            <p:cNvGrpSpPr/>
            <p:nvPr/>
          </p:nvGrpSpPr>
          <p:grpSpPr>
            <a:xfrm>
              <a:off x="6870960" y="3993480"/>
              <a:ext cx="1996200" cy="2162160"/>
              <a:chOff x="6870960" y="3993480"/>
              <a:chExt cx="1996200" cy="2162160"/>
            </a:xfrm>
          </p:grpSpPr>
          <p:sp>
            <p:nvSpPr>
              <p:cNvPr id="94" name="Freeform 12"/>
              <p:cNvSpPr/>
              <p:nvPr/>
            </p:nvSpPr>
            <p:spPr>
              <a:xfrm flipH="1" rot="19944600">
                <a:off x="7180920" y="4186440"/>
                <a:ext cx="1238040" cy="1643400"/>
              </a:xfrm>
              <a:prstGeom prst="pie">
                <a:avLst/>
              </a:prstGeom>
              <a:gradFill rotWithShape="0">
                <a:gsLst>
                  <a:gs pos="0">
                    <a:srgbClr val="9f9f9f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19944600">
                <a:off x="7512840" y="5436000"/>
                <a:ext cx="1328040" cy="4366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19944600">
                <a:off x="8414640" y="4227480"/>
                <a:ext cx="121320" cy="140760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5"/>
          <p:cNvGrpSpPr/>
          <p:nvPr/>
        </p:nvGrpSpPr>
        <p:grpSpPr>
          <a:xfrm>
            <a:off x="5214600" y="3459960"/>
            <a:ext cx="3032280" cy="2491200"/>
            <a:chOff x="5214600" y="3459960"/>
            <a:chExt cx="3032280" cy="2491200"/>
          </a:xfrm>
        </p:grpSpPr>
        <p:sp>
          <p:nvSpPr>
            <p:cNvPr id="98" name="AutoShape 6"/>
            <p:cNvSpPr/>
            <p:nvPr/>
          </p:nvSpPr>
          <p:spPr>
            <a:xfrm flipV="1" rot="924600">
              <a:off x="5337720" y="4300200"/>
              <a:ext cx="2786040" cy="1303920"/>
            </a:xfrm>
            <a:prstGeom prst="pi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9" name="Group 7"/>
            <p:cNvGrpSpPr/>
            <p:nvPr/>
          </p:nvGrpSpPr>
          <p:grpSpPr>
            <a:xfrm>
              <a:off x="5316120" y="3459960"/>
              <a:ext cx="1746360" cy="2052000"/>
              <a:chOff x="5316120" y="3459960"/>
              <a:chExt cx="1746360" cy="2052000"/>
            </a:xfrm>
          </p:grpSpPr>
          <p:sp>
            <p:nvSpPr>
              <p:cNvPr id="100" name="Freeform 8"/>
              <p:cNvSpPr/>
              <p:nvPr/>
            </p:nvSpPr>
            <p:spPr>
              <a:xfrm rot="924600">
                <a:off x="5627520" y="3594960"/>
                <a:ext cx="1239120" cy="1640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f9f9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1" name="Freeform 9"/>
              <p:cNvSpPr/>
              <p:nvPr/>
            </p:nvSpPr>
            <p:spPr>
              <a:xfrm rot="924600">
                <a:off x="5349960" y="4906800"/>
                <a:ext cx="1329120" cy="436320"/>
              </a:xfrm>
              <a:prstGeom prst="pi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2" name="Freeform 10"/>
              <p:cNvSpPr/>
              <p:nvPr/>
            </p:nvSpPr>
            <p:spPr>
              <a:xfrm rot="924600">
                <a:off x="5509440" y="3779640"/>
                <a:ext cx="121320" cy="140508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4b4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11"/>
            <p:cNvGrpSpPr/>
            <p:nvPr/>
          </p:nvGrpSpPr>
          <p:grpSpPr>
            <a:xfrm>
              <a:off x="6559920" y="3785040"/>
              <a:ext cx="1676520" cy="2070720"/>
              <a:chOff x="6559920" y="3785040"/>
              <a:chExt cx="1676520" cy="2070720"/>
            </a:xfrm>
          </p:grpSpPr>
          <p:sp>
            <p:nvSpPr>
              <p:cNvPr id="104" name="Freeform 12"/>
              <p:cNvSpPr/>
              <p:nvPr/>
            </p:nvSpPr>
            <p:spPr>
              <a:xfrm flipH="1" rot="924600">
                <a:off x="6802560" y="3920040"/>
                <a:ext cx="1238040" cy="1640520"/>
              </a:xfrm>
              <a:prstGeom prst="pie">
                <a:avLst/>
              </a:prstGeom>
              <a:gradFill rotWithShape="0">
                <a:gsLst>
                  <a:gs pos="0">
                    <a:srgbClr val="9f9f9f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5" name="Freeform 13"/>
              <p:cNvSpPr/>
              <p:nvPr/>
            </p:nvSpPr>
            <p:spPr>
              <a:xfrm flipH="1" rot="924600">
                <a:off x="6593760" y="5250960"/>
                <a:ext cx="1328040" cy="435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6" name="Freeform 14"/>
              <p:cNvSpPr/>
              <p:nvPr/>
            </p:nvSpPr>
            <p:spPr>
              <a:xfrm flipH="1" rot="924600">
                <a:off x="7907760" y="4442040"/>
                <a:ext cx="121320" cy="1405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9292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矩形 26"/>
          <p:cNvSpPr/>
          <p:nvPr/>
        </p:nvSpPr>
        <p:spPr>
          <a:xfrm>
            <a:off x="5994360" y="4214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重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矩形 27"/>
          <p:cNvSpPr/>
          <p:nvPr/>
        </p:nvSpPr>
        <p:spPr>
          <a:xfrm>
            <a:off x="7208640" y="450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点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img10.3lian.com/d0214/file/2010/11/2dcccee7913adef5bbe9b26ca041d5b6.jpg"/>
          <p:cNvPicPr/>
          <p:nvPr/>
        </p:nvPicPr>
        <p:blipFill>
          <a:blip r:embed="rId1"/>
          <a:stretch/>
        </p:blipFill>
        <p:spPr>
          <a:xfrm>
            <a:off x="3143160" y="285840"/>
            <a:ext cx="5643720" cy="5786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/>
          <p:cNvSpPr/>
          <p:nvPr/>
        </p:nvSpPr>
        <p:spPr>
          <a:xfrm>
            <a:off x="285840" y="785880"/>
            <a:ext cx="2808360" cy="1643040"/>
          </a:xfrm>
          <a:prstGeom prst="wedgeRoundRectCallout">
            <a:avLst>
              <a:gd name="adj1" fmla="val 87194"/>
              <a:gd name="adj2" fmla="val 105467"/>
              <a:gd name="adj3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ar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耳朵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http://img10.3lian.com/d0214/file/2010/11/2dcccee7913adef5bbe9b26ca041d5b6.jpg"/>
          <p:cNvPicPr/>
          <p:nvPr/>
        </p:nvPicPr>
        <p:blipFill>
          <a:blip r:embed="rId1"/>
          <a:stretch/>
        </p:blipFill>
        <p:spPr>
          <a:xfrm>
            <a:off x="3143160" y="285840"/>
            <a:ext cx="5643720" cy="5786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285840" y="785880"/>
            <a:ext cx="2808360" cy="1643040"/>
          </a:xfrm>
          <a:prstGeom prst="wedgeRoundRectCallout">
            <a:avLst>
              <a:gd name="adj1" fmla="val 153222"/>
              <a:gd name="adj2" fmla="val 122472"/>
              <a:gd name="adj3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se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鼻子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ttp://img10.3lian.com/d0214/file/2010/11/2dcccee7913adef5bbe9b26ca041d5b6.jpg"/>
          <p:cNvPicPr/>
          <p:nvPr/>
        </p:nvPicPr>
        <p:blipFill>
          <a:blip r:embed="rId1"/>
          <a:stretch/>
        </p:blipFill>
        <p:spPr>
          <a:xfrm>
            <a:off x="3143160" y="285840"/>
            <a:ext cx="5643720" cy="57862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285840" y="785880"/>
            <a:ext cx="2808360" cy="1643040"/>
          </a:xfrm>
          <a:prstGeom prst="wedgeRoundRectCallout">
            <a:avLst>
              <a:gd name="adj1" fmla="val 118398"/>
              <a:gd name="adj2" fmla="val 92328"/>
              <a:gd name="adj3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ye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眼睛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ttp://img10.3lian.com/d0214/file/2010/11/2dcccee7913adef5bbe9b26ca041d5b6.jpg"/>
          <p:cNvPicPr/>
          <p:nvPr/>
        </p:nvPicPr>
        <p:blipFill>
          <a:blip r:embed="rId1"/>
          <a:stretch/>
        </p:blipFill>
        <p:spPr>
          <a:xfrm>
            <a:off x="3143160" y="285840"/>
            <a:ext cx="5643720" cy="57862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/>
          <p:cNvSpPr/>
          <p:nvPr/>
        </p:nvSpPr>
        <p:spPr>
          <a:xfrm>
            <a:off x="285840" y="785880"/>
            <a:ext cx="2808360" cy="1643040"/>
          </a:xfrm>
          <a:prstGeom prst="wedgeRoundRectCallout">
            <a:avLst>
              <a:gd name="adj1" fmla="val 142819"/>
              <a:gd name="adj2" fmla="val 156481"/>
              <a:gd name="adj3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outh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嘴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http://img10.3lian.com/d0214/file/2010/11/2dcccee7913adef5bbe9b26ca041d5b6.jpg"/>
          <p:cNvPicPr/>
          <p:nvPr/>
        </p:nvPicPr>
        <p:blipFill>
          <a:blip r:embed="rId1"/>
          <a:stretch/>
        </p:blipFill>
        <p:spPr>
          <a:xfrm>
            <a:off x="2286000" y="928800"/>
            <a:ext cx="4500720" cy="51433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8"/>
          <p:cNvSpPr/>
          <p:nvPr/>
        </p:nvSpPr>
        <p:spPr>
          <a:xfrm>
            <a:off x="285840" y="285840"/>
            <a:ext cx="1857240" cy="1714320"/>
          </a:xfrm>
          <a:prstGeom prst="wedgeRoundRectCallout">
            <a:avLst>
              <a:gd name="adj1" fmla="val 104518"/>
              <a:gd name="adj2" fmla="val 150587"/>
              <a:gd name="adj3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ar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耳朵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858000" y="4429080"/>
            <a:ext cx="1951200" cy="1643040"/>
          </a:xfrm>
          <a:prstGeom prst="wedgeRoundRectCallout">
            <a:avLst>
              <a:gd name="adj1" fmla="val -163634"/>
              <a:gd name="adj2" fmla="val -83902"/>
              <a:gd name="adj3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se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鼻子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858000" y="285840"/>
            <a:ext cx="2000160" cy="1643040"/>
          </a:xfrm>
          <a:prstGeom prst="wedgeRoundRectCallout">
            <a:avLst>
              <a:gd name="adj1" fmla="val -137379"/>
              <a:gd name="adj2" fmla="val 130976"/>
              <a:gd name="adj3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ye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眼睛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143080" y="5214960"/>
            <a:ext cx="2214720" cy="1643040"/>
          </a:xfrm>
          <a:prstGeom prst="wedgeRoundRectCallout">
            <a:avLst>
              <a:gd name="adj1" fmla="val 56800"/>
              <a:gd name="adj2" fmla="val -99361"/>
              <a:gd name="adj3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outh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嘴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矩形 10"/>
          <p:cNvSpPr/>
          <p:nvPr/>
        </p:nvSpPr>
        <p:spPr>
          <a:xfrm>
            <a:off x="2357280" y="28584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et’s play a game !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8:19:35Z</dcterms:created>
  <dc:creator/>
  <dc:description/>
  <cp:keywords/>
  <dc:language>en-US</dc:language>
  <cp:lastModifiedBy/>
  <cp:lastPrinted>1899-12-30T00:00:00Z</cp:lastPrinted>
  <dcterms:modified xsi:type="dcterms:W3CDTF">2016-03-24T06:08:45Z</dcterms:modified>
  <cp:revision>2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226</vt:lpwstr>
  </property>
</Properties>
</file>