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chimes.wav" ContentType="audio/x-wav"/>
  <Override PartName="/ppt/media/image16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6842-F1D9-4272-8404-3CCE799C7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7D26-3417-4A4A-9A92-153CDAD2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69F9-51AB-445B-90B9-3D5E4085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715F-7986-4DD3-A45A-56CB6DDD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0D03-E366-4370-8841-ED83B8EC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6324-BBA4-4A16-B813-600C3537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8B42-1389-424D-A61C-90409160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164F-9689-43F5-8F07-031CF31C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1677-16E5-482F-A58D-11894CB8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578A-5FBF-4AA5-A09C-BA902426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FD55-5626-4E14-8944-06F2B333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3CBB-599C-4030-AD2A-923C441E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BFE6-DA94-40FF-816F-3205EDBBB7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6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Kuang212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6261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2333520" y="2421000"/>
            <a:ext cx="43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40a"/>
                </a:solidFill>
                <a:latin typeface="Calibri"/>
              </a:rPr>
              <a:t>Let’s play a gam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2124000" y="4868640"/>
            <a:ext cx="44640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alibri"/>
              </a:rPr>
              <a:t>Hot, hot. I’m ho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23640" y="4652640"/>
            <a:ext cx="5110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alibri"/>
              </a:rPr>
              <a:t>Let’s go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USNPG4PO`$T]XS5N()N)7MW"/>
          <p:cNvPicPr/>
          <p:nvPr/>
        </p:nvPicPr>
        <p:blipFill>
          <a:blip r:embed="rId1"/>
          <a:stretch/>
        </p:blipFill>
        <p:spPr>
          <a:xfrm>
            <a:off x="1476360" y="765000"/>
            <a:ext cx="60498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57006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292720" y="3645000"/>
            <a:ext cx="439272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alibri"/>
              </a:rPr>
              <a:t>play football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2"/>
          <p:cNvPicPr/>
          <p:nvPr/>
        </p:nvPicPr>
        <p:blipFill>
          <a:blip r:embed="rId1"/>
          <a:stretch/>
        </p:blipFill>
        <p:spPr>
          <a:xfrm>
            <a:off x="34920" y="44280"/>
            <a:ext cx="5765760" cy="66549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859280" y="3645000"/>
            <a:ext cx="439272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alibri"/>
              </a:rPr>
              <a:t>play basketball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58626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87640" y="3645000"/>
            <a:ext cx="439236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alibri"/>
              </a:rPr>
              <a:t>play </a:t>
            </a:r>
            <a:br>
              <a:rPr sz="7200"/>
            </a:br>
            <a:r>
              <a:rPr b="0" lang="en-US" sz="7200" spc="-1" strike="noStrike">
                <a:solidFill>
                  <a:srgbClr val="ff3300"/>
                </a:solidFill>
                <a:latin typeface="Calibri"/>
              </a:rPr>
              <a:t>ping-pong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未标4 拷贝"/>
          <p:cNvPicPr/>
          <p:nvPr/>
        </p:nvPicPr>
        <p:blipFill>
          <a:blip r:embed="rId1"/>
          <a:stretch/>
        </p:blipFill>
        <p:spPr>
          <a:xfrm>
            <a:off x="0" y="0"/>
            <a:ext cx="5765760" cy="66549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16360" y="3645000"/>
            <a:ext cx="439272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alibri"/>
              </a:rPr>
              <a:t>go swimming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62b30cd1d7079d359b5027ef"/>
          <p:cNvPicPr/>
          <p:nvPr/>
        </p:nvPicPr>
        <p:blipFill>
          <a:blip r:embed="rId1"/>
          <a:stretch/>
        </p:blipFill>
        <p:spPr>
          <a:xfrm>
            <a:off x="611280" y="2049480"/>
            <a:ext cx="2016000" cy="1884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0000" y="2133360"/>
            <a:ext cx="259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USNPG4PO`$T]XS5N()N)7MW"/>
          <p:cNvPicPr/>
          <p:nvPr/>
        </p:nvPicPr>
        <p:blipFill>
          <a:blip r:embed="rId2"/>
          <a:stretch/>
        </p:blipFill>
        <p:spPr>
          <a:xfrm>
            <a:off x="0" y="0"/>
            <a:ext cx="3382920" cy="2052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633223528442993750"/>
          <p:cNvPicPr/>
          <p:nvPr/>
        </p:nvPicPr>
        <p:blipFill>
          <a:blip r:embed="rId3"/>
          <a:stretch/>
        </p:blipFill>
        <p:spPr>
          <a:xfrm>
            <a:off x="755640" y="3770280"/>
            <a:ext cx="1655640" cy="1243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V%_BEKX2]91M0)5775CYXUA"/>
          <p:cNvPicPr/>
          <p:nvPr/>
        </p:nvPicPr>
        <p:blipFill>
          <a:blip r:embed="rId4"/>
          <a:stretch/>
        </p:blipFill>
        <p:spPr>
          <a:xfrm>
            <a:off x="826920" y="5241960"/>
            <a:ext cx="1800360" cy="12175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3276720" y="476280"/>
            <a:ext cx="590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What do they pl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4140360" y="2133720"/>
            <a:ext cx="230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5292720" y="2133720"/>
            <a:ext cx="338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footba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2700360" y="3726000"/>
            <a:ext cx="259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Th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4140360" y="3726000"/>
            <a:ext cx="230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5651640" y="3726000"/>
            <a:ext cx="338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basketba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627280" y="5238720"/>
            <a:ext cx="259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Th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4067280" y="5238720"/>
            <a:ext cx="230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5578560" y="5238720"/>
            <a:ext cx="338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swimm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Kuang212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6261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2307240" y="1990800"/>
            <a:ext cx="438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Franklin Gothic Medium"/>
                <a:ea typeface="隶书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11157"/>
          <p:cNvPicPr/>
          <p:nvPr/>
        </p:nvPicPr>
        <p:blipFill>
          <a:blip r:embed="rId1"/>
          <a:srcRect l="10348" t="13238" r="12988" b="10096"/>
          <a:stretch/>
        </p:blipFill>
        <p:spPr>
          <a:xfrm>
            <a:off x="0" y="0"/>
            <a:ext cx="9217080" cy="69134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 rot="20719800">
            <a:off x="2183760" y="2633400"/>
            <a:ext cx="56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招聘会用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t’s….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邀请游客进入运动场的英语小导游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 rot="20570400">
            <a:off x="3692880" y="139356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alibri"/>
                <a:ea typeface="黑体"/>
              </a:rPr>
              <a:t>招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679109e9a261d832b80e2d9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13" name="爱情飞蛾.mp3" descr=""/>
          <p:cNvPicPr/>
          <p:nvPr/>
        </p:nvPicPr>
        <p:blipFill>
          <a:blip r:embed="rId2"/>
          <a:stretch/>
        </p:blipFill>
        <p:spPr>
          <a:xfrm>
            <a:off x="954072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319520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62b30cd1d7079d359b5027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6"/>
          <p:cNvSpPr txBox="1"/>
          <p:nvPr/>
        </p:nvSpPr>
        <p:spPr>
          <a:xfrm>
            <a:off x="4572000" y="4508640"/>
            <a:ext cx="3816360" cy="19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football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6332235284429937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WordArt 5"/>
          <p:cNvSpPr txBox="1"/>
          <p:nvPr/>
        </p:nvSpPr>
        <p:spPr>
          <a:xfrm>
            <a:off x="5724360" y="5300640"/>
            <a:ext cx="341964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basketball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1172776933578176727203639208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WordArt 5"/>
          <p:cNvSpPr txBox="1"/>
          <p:nvPr/>
        </p:nvSpPr>
        <p:spPr>
          <a:xfrm>
            <a:off x="395280" y="4581360"/>
            <a:ext cx="3816360" cy="227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ping po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3" descr="chuangyibiankuang2_0432"/>
          <p:cNvPicPr/>
          <p:nvPr/>
        </p:nvPicPr>
        <p:blipFill>
          <a:blip r:embed="rId1"/>
          <a:stretch/>
        </p:blipFill>
        <p:spPr>
          <a:xfrm>
            <a:off x="-304920" y="-1447920"/>
            <a:ext cx="9753840" cy="9753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106 拷贝"/>
          <p:cNvPicPr/>
          <p:nvPr/>
        </p:nvPicPr>
        <p:blipFill>
          <a:blip r:embed="rId2"/>
          <a:stretch/>
        </p:blipFill>
        <p:spPr>
          <a:xfrm>
            <a:off x="2270160" y="907920"/>
            <a:ext cx="4317840" cy="43182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2987640" y="4699080"/>
            <a:ext cx="311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b10f0"/>
                </a:solidFill>
                <a:latin typeface="Calibri"/>
              </a:rPr>
              <a:t>play  </a:t>
            </a:r>
            <a:r>
              <a:rPr b="1" lang="en-US" sz="4400" spc="-1" strike="noStrike">
                <a:solidFill>
                  <a:srgbClr val="1b10f0"/>
                </a:solidFill>
                <a:latin typeface="Calibri"/>
              </a:rPr>
              <a:t>foo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1" descr="chuangyibiankuang2_0432"/>
          <p:cNvPicPr/>
          <p:nvPr/>
        </p:nvPicPr>
        <p:blipFill>
          <a:blip r:embed="rId1"/>
          <a:stretch/>
        </p:blipFill>
        <p:spPr>
          <a:xfrm>
            <a:off x="-304920" y="-1447920"/>
            <a:ext cx="9753840" cy="9753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112"/>
          <p:cNvPicPr/>
          <p:nvPr/>
        </p:nvPicPr>
        <p:blipFill>
          <a:blip r:embed="rId2"/>
          <a:stretch/>
        </p:blipFill>
        <p:spPr>
          <a:xfrm>
            <a:off x="1692360" y="692280"/>
            <a:ext cx="5038560" cy="50385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2411280" y="4292640"/>
            <a:ext cx="42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b10f0"/>
                </a:solidFill>
                <a:latin typeface="Calibri"/>
              </a:rPr>
              <a:t>play basketb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9" descr="chuangyibiankuang2_0432"/>
          <p:cNvPicPr/>
          <p:nvPr/>
        </p:nvPicPr>
        <p:blipFill>
          <a:blip r:embed="rId1"/>
          <a:stretch/>
        </p:blipFill>
        <p:spPr>
          <a:xfrm>
            <a:off x="-304920" y="-1447920"/>
            <a:ext cx="9753840" cy="9753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136"/>
          <p:cNvPicPr/>
          <p:nvPr/>
        </p:nvPicPr>
        <p:blipFill>
          <a:blip r:embed="rId2"/>
          <a:stretch/>
        </p:blipFill>
        <p:spPr>
          <a:xfrm>
            <a:off x="1979640" y="406440"/>
            <a:ext cx="5038560" cy="50385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3026520" y="4221000"/>
            <a:ext cx="33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b10f0"/>
                </a:solidFill>
                <a:latin typeface="Calibri"/>
              </a:rPr>
              <a:t>play ping-p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乒乓球.mp3" descr=""/>
          <p:cNvPicPr/>
          <p:nvPr/>
        </p:nvPicPr>
        <p:blipFill>
          <a:blip r:embed="rId3"/>
          <a:stretch/>
        </p:blipFill>
        <p:spPr>
          <a:xfrm>
            <a:off x="9612360" y="7821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714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9" descr="chuangyibiankuang2_0432"/>
          <p:cNvPicPr/>
          <p:nvPr/>
        </p:nvPicPr>
        <p:blipFill>
          <a:blip r:embed="rId1"/>
          <a:stretch/>
        </p:blipFill>
        <p:spPr>
          <a:xfrm>
            <a:off x="-304920" y="-1447920"/>
            <a:ext cx="9753840" cy="9753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117"/>
          <p:cNvPicPr/>
          <p:nvPr/>
        </p:nvPicPr>
        <p:blipFill>
          <a:blip r:embed="rId2"/>
          <a:stretch/>
        </p:blipFill>
        <p:spPr>
          <a:xfrm>
            <a:off x="2124000" y="333360"/>
            <a:ext cx="5038920" cy="50389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2802600" y="4603680"/>
            <a:ext cx="32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b10f0"/>
                </a:solidFill>
                <a:latin typeface="Calibri"/>
              </a:rPr>
              <a:t>go swi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zq1_030[1]"/>
          <p:cNvPicPr/>
          <p:nvPr/>
        </p:nvPicPr>
        <p:blipFill>
          <a:blip r:embed="rId1"/>
          <a:stretch/>
        </p:blipFill>
        <p:spPr>
          <a:xfrm>
            <a:off x="6372360" y="1773360"/>
            <a:ext cx="2160360" cy="1619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aoSc33_1353_200525155854371[1]"/>
          <p:cNvPicPr/>
          <p:nvPr/>
        </p:nvPicPr>
        <p:blipFill>
          <a:blip r:embed="rId2"/>
          <a:stretch/>
        </p:blipFill>
        <p:spPr>
          <a:xfrm>
            <a:off x="6372360" y="3465360"/>
            <a:ext cx="2158920" cy="16192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818280" y="692280"/>
            <a:ext cx="245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b10f0"/>
                </a:solidFill>
                <a:latin typeface="Calibri"/>
              </a:rPr>
              <a:t>1.  footb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725760" y="2133720"/>
            <a:ext cx="286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b10f0"/>
                </a:solidFill>
                <a:latin typeface="Calibri"/>
              </a:rPr>
              <a:t>2. basketb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675000" y="3860640"/>
            <a:ext cx="281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b10f0"/>
                </a:solidFill>
                <a:latin typeface="Calibri"/>
              </a:rPr>
              <a:t>3. ping-p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655920" y="5300640"/>
            <a:ext cx="28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b10f0"/>
                </a:solidFill>
                <a:latin typeface="Calibri"/>
              </a:rPr>
              <a:t>4. swim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3419640" y="981000"/>
            <a:ext cx="2881080" cy="1656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 flipV="1">
            <a:off x="3780000" y="836640"/>
            <a:ext cx="2520720" cy="172872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3708360" y="4292640"/>
            <a:ext cx="2664000" cy="2016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 flipV="1">
            <a:off x="3635280" y="4292640"/>
            <a:ext cx="2737080" cy="144144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4" descr=""/>
          <p:cNvPicPr/>
          <p:nvPr/>
        </p:nvPicPr>
        <p:blipFill>
          <a:blip r:embed="rId3"/>
          <a:stretch/>
        </p:blipFill>
        <p:spPr>
          <a:xfrm>
            <a:off x="6429240" y="142920"/>
            <a:ext cx="1992600" cy="1428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"/>
          <p:cNvPicPr/>
          <p:nvPr/>
        </p:nvPicPr>
        <p:blipFill>
          <a:blip r:embed="rId4"/>
          <a:stretch/>
        </p:blipFill>
        <p:spPr>
          <a:xfrm>
            <a:off x="6500880" y="5357880"/>
            <a:ext cx="2071800" cy="1379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9T14:39:05Z</dcterms:created>
  <dc:creator/>
  <dc:description/>
  <dc:language>en-US</dc:language>
  <cp:lastModifiedBy>Administrator</cp:lastModifiedBy>
  <dcterms:modified xsi:type="dcterms:W3CDTF">2016-03-29T01:01:33Z</dcterms:modified>
  <cp:revision>2</cp:revision>
  <dc:subject/>
  <dc:title>幻灯片 1</dc:title>
</cp:coreProperties>
</file>