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874F-7716-4818-AE10-2CD7CF08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4D98-1457-4C9E-8AF8-8E7FE4E9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F85E7-23B1-416C-ACAC-1C31CF68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A70A1-15CC-429F-8952-74000766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5640D-A520-4B6B-9F13-7056B67A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00F18-5228-4A20-989F-9FF639BE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3F14C-0EEE-46E7-9003-F359D335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CAB39-366C-474B-AABC-FE0B2B7E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FA69B-F28A-457F-BC8F-DDFF2951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93248-9E4C-4C04-A6AB-A64C5438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54FF9-A81E-4AD6-A98D-F2BEF09F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52C5B-2FD6-43AA-B861-F2DED70D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2D24-BE30-47E8-860D-A8F59125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91772-D1C8-4468-B357-E354BACB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21F7F-8C20-47D4-B6A5-4A9C5B69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D423A-612E-4858-946C-CA183D46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4B59B-CC46-4C50-AB14-EA34CACF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5161A-E5CD-475D-999D-09CD9937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612D1-17E8-4935-9644-CB88ABEC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D7D47-0A97-40AA-A36D-A5A34EEC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FB528-8440-4C91-A577-EA6D4905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3A9EB-C15D-404F-9B05-05C438C9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BD77D-D592-4D95-9C39-B0201E26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0C72-23A9-430F-93EC-DB0C04AD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3A269-3B31-42D0-AE7F-6182093A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6F209-B80E-4A98-8BE9-677753B3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71F61-4F1F-475A-A2D1-21B31E51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B91A8-CD1A-41A6-BF4A-77735038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5A3F0-67B5-4612-9C41-316E2C2E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9BD10-1AE7-4C3C-9BFC-550FCA1C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D3F76-BC1A-4E2A-BEB6-544FB092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17B2B-4B58-459F-A5E3-6404B7DB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BDDA4-6828-441E-A133-61B5846E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69FC8-FB3F-4EB2-B197-EE81334A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6736-C757-4969-88E4-C112DFD5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59184-24D3-4040-A60F-BB4B4F70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DB6B2-4CE0-4A57-A98A-BE508B7B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587A9-FA83-4486-A1B9-2F882FBB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DF1E4-7ADC-4079-9C42-EAEE0D2D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466EE-3A13-4B83-A581-F0FA1CF5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BE5A1-2CA1-4ECF-85CD-D0FD347F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C3536-40D1-4BEC-B646-E74DC10F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8B5C1-AAE0-45C3-BA80-0BBA4F0C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F9AEF-915E-4926-83D4-22CAF343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7E9A3-C7AE-4F33-8FCB-CCE8C7BE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5957-656B-4915-864D-2402596E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CF386-0DA9-43BE-B2D6-7964545E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1004B-F7D2-405E-87DF-0159D616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9BD4D-046A-49EF-9F58-265C5AD5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93D24-571D-491F-8DEE-E1CEF0FF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6542A-59E4-440F-9502-512BF235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D4D8-F081-448E-B7EF-88032749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8C67-E9BE-4D47-ADD2-63545B5A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F6CC-1CA4-4D32-9C88-0DFC8812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50AC-2EAA-4393-AF00-BA533449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5867-F10B-404C-8F65-8B40622E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E04E-DEAB-4239-971E-2EFB1167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8935-B674-4C2E-9E43-61100924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057C-5827-416A-9399-A459060B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A93B-D208-401D-B0C7-ABFC87E6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815F-23FF-4436-9023-933268C4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A069-D160-4C83-9901-CAB145B3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0FCE0-8E8E-4E15-ADF5-453D053F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E52A8-2CC6-40CB-B553-949BD01F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353A4-6775-4C5D-8E96-EFEA3428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EEDD6-3D28-4953-A26D-E0B397A4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AD2AA-6114-4436-BA7B-48A26E22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92F2-F36E-4637-B54D-BE1B18D4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E0E63-4B89-4C0D-8CBF-48713E8F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8F6D0-3C99-4715-AB8E-ED721104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0A7B6-3499-4274-8F58-67919F17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99BEB-454C-4515-8F36-E285D108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3A438-C13B-47BF-ADDE-2A423E55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D2231-DB72-4135-813A-6A127579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38BE4-117F-4A4F-8A98-02054FC50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87648-D1E6-4116-AEEC-8BFC446B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EA100-E0C1-4D62-A8CE-BC77E900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A769C-BB81-4952-9B93-F7C66F1F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709B-8147-4780-BCFA-6D022389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39B09-30AA-4D70-B2ED-B6936323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95614-E8B5-4AEA-9E9B-42A8F924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D06C7-B4D8-493F-B1DF-82DBEBBC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08D08-8340-45F1-B0F8-C0E62E3C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478F8-FEB5-4ED0-B663-ED76BB7D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D40F9-ED33-479E-AE4C-2A756E1A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80224-1D38-45C6-BA88-473A5845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70249-F938-4123-8C6C-C3C250E5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3E990-430E-40BA-9BDD-763326F5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2C3C0-4C2B-4FC1-9461-806314E1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1B15-6CCA-4D59-8C09-C50B9996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E5C63-77F6-47DC-8F84-141E8C44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48791-DBF5-4A8C-BEFE-56A01BAC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BB431-0278-4F5F-AFEF-AD31AB69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ABA09-679B-4863-81AB-99DAAD70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0B794-CFD5-432C-A323-35EF40F6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C28B9-6DAA-42E0-814F-B3B90A59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EC976-FA13-49A1-B3D1-621857EC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5D1A6-DAE3-4390-94FE-A5E7F1D9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63C32-28E9-4754-AC05-CE598D45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7DA09-AB03-4598-ABDB-7D43937E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BE91-AB33-49DB-9067-84D480CF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65D4E-076E-4CF2-902F-082F4DCB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F5A60-164E-4025-93CC-5E613925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CBDEE-F416-4081-B34B-22038590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9607F-A161-4A71-8575-C475CC4E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235A6-81E8-40EF-AFB3-2028E227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638FC-06DE-4F29-A220-9CD19EFB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F8055-8CC8-44AE-8B4C-6AE44EC7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34B1D-7442-432A-886B-0A749D01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2CDCB-03B2-441F-B69B-CA3DD09A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5E042-8D6A-48E3-865E-55D7094A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E97F-B876-488F-A628-B4A1CE29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B304D-3258-43E0-B8AE-65423E14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829ED-B593-4BFE-915C-091D747B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550E6-D04C-4C05-8328-9041F582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1799E-1825-48A3-879C-7C160B48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3FC93-2712-4C35-929D-27901B75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ED47A-1F96-4EFF-A04A-88DC7CF4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C60A0-40DA-4729-8C46-8887864B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35231-98D9-45BB-9404-7C0BCCCF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BE611-D94D-4CFC-9D66-BEB60897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19457-81D9-4FE6-984D-21CFE667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4656-A29D-45B9-9679-9411A906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461B8-6AB1-41EB-A9AC-1F9AF799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02C67-C44D-4AC9-ACE8-539F4F0C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3FBA0-2773-4EF6-AE3F-FB3271F2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558DB-FBC1-4749-B319-A3390FDC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FAA5F-44F7-46AC-AE31-CE21B68B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FB9C3-0ADD-41A7-8C1E-AC630B3B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03202-48B3-4505-91A9-A174FCEA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D5FE7-CA24-4307-9614-DEF35F43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8F64D-D2C3-4146-A61E-0854682B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B4328-5E42-484E-BD50-F5E8FA3C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501F-AE55-4A4D-9083-C632F4CD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27812-427E-4A3E-8FD0-6D6CB5C1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E1E81-A117-4604-95A1-0789423D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BE23A-E7A1-4954-9E96-AF903B54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D012A-14F6-462E-B1FB-6BFC1A0A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90005-86C5-48D7-B1D3-4EA2E265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04E8F-C157-411E-99A4-16F484C8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6D1EE-F9C1-4F0F-BFEA-FEE61700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59A11-EE7F-4D4D-9FF7-7C1A5100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D7083-9A49-4AB8-BB9D-FB7A6BC3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56149-37D7-489E-B8B3-1F586424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DD7D-A413-4EB8-8D3C-72A768758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F5C8-5FC7-43AE-AC76-048D161AE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3BD6-96FE-4E2D-8C70-8CF93DA02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D363-271F-4094-A785-74B837863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54C7-3A9C-497C-8C67-27D23D363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30B4-D077-4F87-AE7D-771309A18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770D-4FA2-4000-8D9A-45A90E5D8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8961-9784-4154-82C1-A5708C4C3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86AB-A1BA-407C-863A-6D740C3A5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A7EC-C02B-4BE4-96EA-BB7D2012A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FACA-F816-4660-8743-B3CA6E6E2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4E1C-CF4C-430F-AA8D-D496A73F4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image" Target="../media/image7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image" Target="../media/image7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4"/>
          <p:cNvSpPr/>
          <p:nvPr/>
        </p:nvSpPr>
        <p:spPr>
          <a:xfrm>
            <a:off x="324000" y="1700280"/>
            <a:ext cx="860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          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Comic Sans MS"/>
              </a:rPr>
              <a:t>What day is today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336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" descr="u=3329996318,161776500&amp;gp=30[1]"/>
          <p:cNvPicPr/>
          <p:nvPr/>
        </p:nvPicPr>
        <p:blipFill>
          <a:blip r:embed="rId1"/>
          <a:stretch/>
        </p:blipFill>
        <p:spPr>
          <a:xfrm>
            <a:off x="0" y="404640"/>
            <a:ext cx="2843280" cy="19162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u=812697184,2048108320&amp;gp=18[1]"/>
          <p:cNvPicPr/>
          <p:nvPr/>
        </p:nvPicPr>
        <p:blipFill>
          <a:blip r:embed="rId2"/>
          <a:stretch/>
        </p:blipFill>
        <p:spPr>
          <a:xfrm>
            <a:off x="6516720" y="2708280"/>
            <a:ext cx="2333520" cy="18446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u=620132717,2769196071&amp;gp=34[1]"/>
          <p:cNvPicPr/>
          <p:nvPr/>
        </p:nvPicPr>
        <p:blipFill>
          <a:blip r:embed="rId3"/>
          <a:stretch/>
        </p:blipFill>
        <p:spPr>
          <a:xfrm>
            <a:off x="6372360" y="0"/>
            <a:ext cx="2771640" cy="20890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6" descr="景色11"/>
          <p:cNvPicPr/>
          <p:nvPr/>
        </p:nvPicPr>
        <p:blipFill>
          <a:blip r:embed="rId4"/>
          <a:stretch/>
        </p:blipFill>
        <p:spPr>
          <a:xfrm>
            <a:off x="6443640" y="4581360"/>
            <a:ext cx="2700360" cy="176076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7"/>
          <p:cNvSpPr/>
          <p:nvPr/>
        </p:nvSpPr>
        <p:spPr>
          <a:xfrm>
            <a:off x="4214160" y="206064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ngsuhChe"/>
              </a:rPr>
              <a:t>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3851280" y="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ngsuhChe"/>
              </a:rPr>
              <a:t>Tues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9"/>
          <p:cNvSpPr/>
          <p:nvPr/>
        </p:nvSpPr>
        <p:spPr>
          <a:xfrm>
            <a:off x="3852000" y="3213000"/>
            <a:ext cx="16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ngsuhChe"/>
              </a:rPr>
              <a:t>Mon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3635280" y="4221000"/>
            <a:ext cx="23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ngsuhChe"/>
              </a:rPr>
              <a:t>Thurs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1"/>
          <p:cNvSpPr/>
          <p:nvPr/>
        </p:nvSpPr>
        <p:spPr>
          <a:xfrm>
            <a:off x="4624560" y="3867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3708360" y="5373720"/>
            <a:ext cx="24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ngsuhChe"/>
              </a:rPr>
              <a:t>Wednes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3" descr="u=4289477718,824682415&amp;gp=16[1]"/>
          <p:cNvPicPr/>
          <p:nvPr/>
        </p:nvPicPr>
        <p:blipFill>
          <a:blip r:embed="rId5"/>
          <a:stretch/>
        </p:blipFill>
        <p:spPr>
          <a:xfrm>
            <a:off x="0" y="2349360"/>
            <a:ext cx="2916360" cy="18003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4" descr="u=1474071155,2740802592&amp;gp=24[1]"/>
          <p:cNvPicPr/>
          <p:nvPr/>
        </p:nvPicPr>
        <p:blipFill>
          <a:blip r:embed="rId6"/>
          <a:stretch/>
        </p:blipFill>
        <p:spPr>
          <a:xfrm>
            <a:off x="0" y="4149720"/>
            <a:ext cx="2925720" cy="234144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15"/>
          <p:cNvSpPr/>
          <p:nvPr/>
        </p:nvSpPr>
        <p:spPr>
          <a:xfrm>
            <a:off x="3203640" y="4005360"/>
            <a:ext cx="3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6"/>
          <p:cNvSpPr/>
          <p:nvPr/>
        </p:nvSpPr>
        <p:spPr>
          <a:xfrm>
            <a:off x="7338600" y="5516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GungsuhChe"/>
              </a:rPr>
              <a:t>星期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7"/>
          <p:cNvSpPr/>
          <p:nvPr/>
        </p:nvSpPr>
        <p:spPr>
          <a:xfrm>
            <a:off x="4500720" y="1628640"/>
            <a:ext cx="50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336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3" descr="u=3329996318,161776500&amp;gp=30[1]"/>
          <p:cNvPicPr/>
          <p:nvPr/>
        </p:nvPicPr>
        <p:blipFill>
          <a:blip r:embed="rId1"/>
          <a:stretch/>
        </p:blipFill>
        <p:spPr>
          <a:xfrm>
            <a:off x="0" y="404640"/>
            <a:ext cx="2843280" cy="19162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4" descr="u=812697184,2048108320&amp;gp=18[1]"/>
          <p:cNvPicPr/>
          <p:nvPr/>
        </p:nvPicPr>
        <p:blipFill>
          <a:blip r:embed="rId2"/>
          <a:stretch/>
        </p:blipFill>
        <p:spPr>
          <a:xfrm>
            <a:off x="6516720" y="2708280"/>
            <a:ext cx="2333520" cy="18446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5" descr="u=620132717,2769196071&amp;gp=34[1]"/>
          <p:cNvPicPr/>
          <p:nvPr/>
        </p:nvPicPr>
        <p:blipFill>
          <a:blip r:embed="rId3"/>
          <a:stretch/>
        </p:blipFill>
        <p:spPr>
          <a:xfrm>
            <a:off x="6372360" y="0"/>
            <a:ext cx="2771640" cy="20890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6" descr="景色11"/>
          <p:cNvPicPr/>
          <p:nvPr/>
        </p:nvPicPr>
        <p:blipFill>
          <a:blip r:embed="rId4"/>
          <a:stretch/>
        </p:blipFill>
        <p:spPr>
          <a:xfrm>
            <a:off x="6443640" y="4581360"/>
            <a:ext cx="2700360" cy="176076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7"/>
          <p:cNvSpPr/>
          <p:nvPr/>
        </p:nvSpPr>
        <p:spPr>
          <a:xfrm>
            <a:off x="4214160" y="206064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ngsuhChe"/>
              </a:rPr>
              <a:t>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3851280" y="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ngsuhChe"/>
              </a:rPr>
              <a:t>Tues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3852000" y="3213000"/>
            <a:ext cx="16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ngsuhChe"/>
              </a:rPr>
              <a:t>Mon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0"/>
          <p:cNvSpPr/>
          <p:nvPr/>
        </p:nvSpPr>
        <p:spPr>
          <a:xfrm>
            <a:off x="3635280" y="4221000"/>
            <a:ext cx="23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ngsuhChe"/>
              </a:rPr>
              <a:t>Thurs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1"/>
          <p:cNvSpPr/>
          <p:nvPr/>
        </p:nvSpPr>
        <p:spPr>
          <a:xfrm>
            <a:off x="4624560" y="3867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2"/>
          <p:cNvSpPr/>
          <p:nvPr/>
        </p:nvSpPr>
        <p:spPr>
          <a:xfrm>
            <a:off x="3708360" y="5373720"/>
            <a:ext cx="24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ungsuhChe"/>
              </a:rPr>
              <a:t>Wednes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13" descr="u=4289477718,824682415&amp;gp=16[1]"/>
          <p:cNvPicPr/>
          <p:nvPr/>
        </p:nvPicPr>
        <p:blipFill>
          <a:blip r:embed="rId5"/>
          <a:stretch/>
        </p:blipFill>
        <p:spPr>
          <a:xfrm>
            <a:off x="0" y="2349360"/>
            <a:ext cx="2916360" cy="18003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4" descr="u=1474071155,2740802592&amp;gp=24[1]"/>
          <p:cNvPicPr/>
          <p:nvPr/>
        </p:nvPicPr>
        <p:blipFill>
          <a:blip r:embed="rId6"/>
          <a:stretch/>
        </p:blipFill>
        <p:spPr>
          <a:xfrm>
            <a:off x="0" y="4149720"/>
            <a:ext cx="2925720" cy="234144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5"/>
          <p:cNvSpPr/>
          <p:nvPr/>
        </p:nvSpPr>
        <p:spPr>
          <a:xfrm>
            <a:off x="3203640" y="4005360"/>
            <a:ext cx="3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6"/>
          <p:cNvSpPr/>
          <p:nvPr/>
        </p:nvSpPr>
        <p:spPr>
          <a:xfrm>
            <a:off x="7338600" y="5516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GungsuhChe"/>
              </a:rPr>
              <a:t>星期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7"/>
          <p:cNvSpPr/>
          <p:nvPr/>
        </p:nvSpPr>
        <p:spPr>
          <a:xfrm>
            <a:off x="4500720" y="1628640"/>
            <a:ext cx="50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8"/>
          <p:cNvSpPr/>
          <p:nvPr/>
        </p:nvSpPr>
        <p:spPr>
          <a:xfrm flipH="1">
            <a:off x="3059280" y="1557360"/>
            <a:ext cx="1079280" cy="151128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9"/>
          <p:cNvSpPr/>
          <p:nvPr/>
        </p:nvSpPr>
        <p:spPr>
          <a:xfrm flipH="1" flipV="1">
            <a:off x="2842920" y="1125000"/>
            <a:ext cx="1368360" cy="129564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20"/>
          <p:cNvSpPr/>
          <p:nvPr/>
        </p:nvSpPr>
        <p:spPr>
          <a:xfrm flipH="1">
            <a:off x="2842920" y="3645000"/>
            <a:ext cx="1081080" cy="158436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21"/>
          <p:cNvSpPr/>
          <p:nvPr/>
        </p:nvSpPr>
        <p:spPr>
          <a:xfrm>
            <a:off x="5508720" y="4653000"/>
            <a:ext cx="1008000" cy="79200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2"/>
          <p:cNvSpPr/>
          <p:nvPr/>
        </p:nvSpPr>
        <p:spPr>
          <a:xfrm flipV="1">
            <a:off x="5580000" y="3573360"/>
            <a:ext cx="936720" cy="194328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3"/>
          <p:cNvSpPr/>
          <p:nvPr/>
        </p:nvSpPr>
        <p:spPr>
          <a:xfrm>
            <a:off x="5435640" y="404640"/>
            <a:ext cx="936720" cy="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4"/>
          <p:cNvSpPr/>
          <p:nvPr/>
        </p:nvSpPr>
        <p:spPr>
          <a:xfrm>
            <a:off x="1278360" y="692280"/>
            <a:ext cx="7209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 day  is  tod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t’s  Thursd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oday  is Thursd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e have an English cla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n Thursd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457200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BatangChe"/>
              </a:rPr>
              <a:t>play       with   a  yo-y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atangChe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4" descr="u=1536214547,3144249521&amp;gp=30[1]"/>
          <p:cNvPicPr/>
          <p:nvPr/>
        </p:nvPicPr>
        <p:blipFill>
          <a:blip r:embed="rId2"/>
          <a:stretch/>
        </p:blipFill>
        <p:spPr>
          <a:xfrm>
            <a:off x="324000" y="2060640"/>
            <a:ext cx="4033800" cy="385128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13"/>
          <p:cNvSpPr/>
          <p:nvPr/>
        </p:nvSpPr>
        <p:spPr>
          <a:xfrm>
            <a:off x="4572000" y="141300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4"/>
          <p:cNvSpPr/>
          <p:nvPr/>
        </p:nvSpPr>
        <p:spPr>
          <a:xfrm>
            <a:off x="5508720" y="1700280"/>
            <a:ext cx="934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5"/>
          <p:cNvSpPr/>
          <p:nvPr/>
        </p:nvSpPr>
        <p:spPr>
          <a:xfrm>
            <a:off x="2700360" y="907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6"/>
          <p:cNvSpPr/>
          <p:nvPr/>
        </p:nvSpPr>
        <p:spPr>
          <a:xfrm>
            <a:off x="611280" y="54936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ngsuhChe"/>
              </a:rPr>
              <a:t>Li Dong </a:t>
            </a:r>
            <a:r>
              <a:rPr b="0" lang="en-US" sz="4000" spc="-1" strike="noStrike">
                <a:solidFill>
                  <a:srgbClr val="db51cb"/>
                </a:solidFill>
                <a:latin typeface="Arial"/>
                <a:ea typeface="GungsuhChe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ngsuhChe"/>
              </a:rPr>
              <a:t> play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  <a:ea typeface="GungsuhChe"/>
              </a:rPr>
              <a:t>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ngsuhChe"/>
              </a:rPr>
              <a:t> with a  yo-y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ngsuhCh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7"/>
          <p:cNvSpPr/>
          <p:nvPr/>
        </p:nvSpPr>
        <p:spPr>
          <a:xfrm>
            <a:off x="396720" y="5153040"/>
            <a:ext cx="210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  <a:ea typeface="GungsuhChe"/>
              </a:rPr>
              <a:t>Li D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8"/>
          <p:cNvSpPr/>
          <p:nvPr/>
        </p:nvSpPr>
        <p:spPr>
          <a:xfrm>
            <a:off x="5435640" y="1916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GungsuhChe"/>
                <a:ea typeface="GungsuhChe"/>
              </a:rPr>
              <a:t>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ngsuhCh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 Shan</a:t>
            </a:r>
            <a:r>
              <a:rPr b="0" lang="en-US" sz="4400" spc="-1" strike="noStrike">
                <a:solidFill>
                  <a:srgbClr val="db51cb"/>
                </a:solidFill>
                <a:latin typeface="Arial"/>
              </a:rPr>
              <a:t> is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mp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rop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4041720" cy="452592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916000" y="1773360"/>
            <a:ext cx="604836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mp        rop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0"/>
          <p:cNvSpPr/>
          <p:nvPr/>
        </p:nvSpPr>
        <p:spPr>
          <a:xfrm>
            <a:off x="5869440" y="1773360"/>
            <a:ext cx="85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  <a:ea typeface="GungsuhChe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11" descr="u=4289477718,824682415&amp;gp=16[1]"/>
          <p:cNvPicPr/>
          <p:nvPr/>
        </p:nvPicPr>
        <p:blipFill>
          <a:blip r:embed="rId2"/>
          <a:stretch/>
        </p:blipFill>
        <p:spPr>
          <a:xfrm>
            <a:off x="0" y="1989000"/>
            <a:ext cx="3571920" cy="403236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12"/>
          <p:cNvSpPr/>
          <p:nvPr/>
        </p:nvSpPr>
        <p:spPr>
          <a:xfrm>
            <a:off x="8794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3"/>
          <p:cNvSpPr/>
          <p:nvPr/>
        </p:nvSpPr>
        <p:spPr>
          <a:xfrm>
            <a:off x="2520" y="1844640"/>
            <a:ext cx="190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ungsuhChe"/>
              </a:rPr>
              <a:t>Li Sh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oys </a:t>
            </a:r>
            <a:r>
              <a:rPr b="0" lang="en-US" sz="4400" spc="-1" strike="noStrike">
                <a:solidFill>
                  <a:srgbClr val="db51cb"/>
                </a:solidFill>
                <a:latin typeface="Arial"/>
              </a:rPr>
              <a:t>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lay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ing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211640" y="1844280"/>
            <a:ext cx="51134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y      basketbal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7" descr="u=3490683711,1007586511&amp;gp=30[1]"/>
          <p:cNvPicPr/>
          <p:nvPr/>
        </p:nvPicPr>
        <p:blipFill>
          <a:blip r:embed="rId1"/>
          <a:stretch/>
        </p:blipFill>
        <p:spPr>
          <a:xfrm>
            <a:off x="179280" y="1844640"/>
            <a:ext cx="4249800" cy="453708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8"/>
          <p:cNvSpPr/>
          <p:nvPr/>
        </p:nvSpPr>
        <p:spPr>
          <a:xfrm>
            <a:off x="5508720" y="1916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GungsuhChe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9"/>
          <p:cNvSpPr/>
          <p:nvPr/>
        </p:nvSpPr>
        <p:spPr>
          <a:xfrm>
            <a:off x="1981800" y="5589720"/>
            <a:ext cx="22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  <a:ea typeface="GungsuhChe"/>
              </a:rPr>
              <a:t>The bo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4" descr="4"/>
          <p:cNvPicPr/>
          <p:nvPr/>
        </p:nvPicPr>
        <p:blipFill>
          <a:blip r:embed="rId1"/>
          <a:stretch/>
        </p:blipFill>
        <p:spPr>
          <a:xfrm>
            <a:off x="1187280" y="0"/>
            <a:ext cx="6481800" cy="63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4" descr="4"/>
          <p:cNvPicPr/>
          <p:nvPr/>
        </p:nvPicPr>
        <p:blipFill>
          <a:blip r:embed="rId1"/>
          <a:stretch/>
        </p:blipFill>
        <p:spPr>
          <a:xfrm>
            <a:off x="1187280" y="189000"/>
            <a:ext cx="6481800" cy="6342120"/>
          </a:xfrm>
          <a:prstGeom prst="rect">
            <a:avLst/>
          </a:prstGeom>
          <a:ln w="0">
            <a:noFill/>
          </a:ln>
        </p:spPr>
      </p:pic>
      <p:sp>
        <p:nvSpPr>
          <p:cNvPr id="600" name="Line 6"/>
          <p:cNvSpPr/>
          <p:nvPr/>
        </p:nvSpPr>
        <p:spPr>
          <a:xfrm>
            <a:off x="3780000" y="1484280"/>
            <a:ext cx="1512720" cy="115272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7"/>
          <p:cNvSpPr/>
          <p:nvPr/>
        </p:nvSpPr>
        <p:spPr>
          <a:xfrm>
            <a:off x="3995640" y="3213000"/>
            <a:ext cx="1008000" cy="79236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9"/>
          <p:cNvSpPr/>
          <p:nvPr/>
        </p:nvSpPr>
        <p:spPr>
          <a:xfrm>
            <a:off x="3924360" y="5805360"/>
            <a:ext cx="936720" cy="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0"/>
          <p:cNvSpPr/>
          <p:nvPr/>
        </p:nvSpPr>
        <p:spPr>
          <a:xfrm flipV="1">
            <a:off x="4140360" y="1125000"/>
            <a:ext cx="1368360" cy="287820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4"/>
          <p:cNvSpPr/>
          <p:nvPr/>
        </p:nvSpPr>
        <p:spPr>
          <a:xfrm>
            <a:off x="395280" y="2924280"/>
            <a:ext cx="8569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am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doing </a:t>
            </a: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my homework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is </a:t>
            </a: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washing the fa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girl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ar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playing volleybal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1128600" y="260280"/>
            <a:ext cx="237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现在进行时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611280" y="1484280"/>
            <a:ext cx="80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主语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4400" spc="-1" strike="noStrike">
                <a:solidFill>
                  <a:srgbClr val="009999"/>
                </a:solidFill>
                <a:latin typeface="Comic Sans MS"/>
              </a:rPr>
              <a:t>be</a:t>
            </a:r>
            <a:r>
              <a:rPr b="0" lang="zh-CN" sz="4400" spc="-1" strike="noStrike">
                <a:solidFill>
                  <a:srgbClr val="009999"/>
                </a:solidFill>
                <a:latin typeface="Comic Sans MS"/>
              </a:rPr>
              <a:t>动词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zh-CN" sz="4400" spc="-1" strike="noStrike">
                <a:solidFill>
                  <a:srgbClr val="99cc00"/>
                </a:solidFill>
                <a:latin typeface="Comic Sans MS"/>
              </a:rPr>
              <a:t>动词的现在分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7[1]"/>
          <p:cNvPicPr/>
          <p:nvPr/>
        </p:nvPicPr>
        <p:blipFill>
          <a:blip r:embed="rId1"/>
          <a:stretch/>
        </p:blipFill>
        <p:spPr>
          <a:xfrm>
            <a:off x="0" y="1484280"/>
            <a:ext cx="2089080" cy="25653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u=784246804,3195369775&amp;gp=10[1]"/>
          <p:cNvPicPr/>
          <p:nvPr/>
        </p:nvPicPr>
        <p:blipFill>
          <a:blip r:embed="rId2"/>
          <a:stretch/>
        </p:blipFill>
        <p:spPr>
          <a:xfrm>
            <a:off x="4427640" y="1484280"/>
            <a:ext cx="2376360" cy="256536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" descr="u=854262702,1672272341&amp;gp=48[1]"/>
          <p:cNvPicPr/>
          <p:nvPr/>
        </p:nvPicPr>
        <p:blipFill>
          <a:blip r:embed="rId3"/>
          <a:stretch/>
        </p:blipFill>
        <p:spPr>
          <a:xfrm>
            <a:off x="2124000" y="1484280"/>
            <a:ext cx="2305080" cy="256536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5" descr="u=1906894096,3383044329&amp;gp=40[1]"/>
          <p:cNvPicPr/>
          <p:nvPr/>
        </p:nvPicPr>
        <p:blipFill>
          <a:blip r:embed="rId4"/>
          <a:stretch/>
        </p:blipFill>
        <p:spPr>
          <a:xfrm>
            <a:off x="0" y="4076640"/>
            <a:ext cx="2158920" cy="216072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6" descr="u=2946094301,4050864068&amp;gp=10[1]"/>
          <p:cNvPicPr/>
          <p:nvPr/>
        </p:nvPicPr>
        <p:blipFill>
          <a:blip r:embed="rId5"/>
          <a:stretch/>
        </p:blipFill>
        <p:spPr>
          <a:xfrm>
            <a:off x="2195640" y="407664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7" descr="u=3076211692,1896572438&amp;gp=32[1]"/>
          <p:cNvPicPr/>
          <p:nvPr/>
        </p:nvPicPr>
        <p:blipFill>
          <a:blip r:embed="rId6"/>
          <a:stretch/>
        </p:blipFill>
        <p:spPr>
          <a:xfrm>
            <a:off x="4356000" y="4076640"/>
            <a:ext cx="2448000" cy="2151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8" descr="20065199169[1]"/>
          <p:cNvPicPr/>
          <p:nvPr/>
        </p:nvPicPr>
        <p:blipFill>
          <a:blip r:embed="rId7"/>
          <a:stretch/>
        </p:blipFill>
        <p:spPr>
          <a:xfrm>
            <a:off x="6732720" y="1557360"/>
            <a:ext cx="2411280" cy="24922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9" descr="u=1536214547,3144249521&amp;gp=30[1]"/>
          <p:cNvPicPr/>
          <p:nvPr/>
        </p:nvPicPr>
        <p:blipFill>
          <a:blip r:embed="rId8"/>
          <a:stretch/>
        </p:blipFill>
        <p:spPr>
          <a:xfrm>
            <a:off x="6877080" y="4221000"/>
            <a:ext cx="1855800" cy="220536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10"/>
          <p:cNvSpPr/>
          <p:nvPr/>
        </p:nvSpPr>
        <p:spPr>
          <a:xfrm>
            <a:off x="3132000" y="26028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3"/>
          <p:cNvSpPr/>
          <p:nvPr/>
        </p:nvSpPr>
        <p:spPr>
          <a:xfrm>
            <a:off x="1979640" y="155520"/>
            <a:ext cx="576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GungsuhChe"/>
              </a:rPr>
              <a:t>看图说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　</a:t>
            </a:r>
            <a:r>
              <a:rPr b="1" lang="zh-CN" sz="4400" spc="-1" strike="noStrike">
                <a:solidFill>
                  <a:srgbClr val="db51cb"/>
                </a:solidFill>
                <a:latin typeface="Arial"/>
              </a:rPr>
              <a:t>复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动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971640" y="2349360"/>
            <a:ext cx="710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I 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am .You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a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950760" y="444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684360" y="3357720"/>
            <a:ext cx="84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ｉ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s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跟着他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(He)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她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(She)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它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(It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684360" y="4437000"/>
            <a:ext cx="738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单数名词用 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i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We, They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复名要用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are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"/>
          <p:cNvSpPr/>
          <p:nvPr/>
        </p:nvSpPr>
        <p:spPr>
          <a:xfrm>
            <a:off x="3132720" y="1125360"/>
            <a:ext cx="310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Arial"/>
                <a:ea typeface="GungsuhChe"/>
              </a:rPr>
              <a:t>am   is</a:t>
            </a:r>
            <a:r>
              <a:rPr b="0" lang="en-US" sz="4400" spc="-1" strike="noStrike">
                <a:solidFill>
                  <a:srgbClr val="f6f636"/>
                </a:solidFill>
                <a:latin typeface="Arial"/>
                <a:ea typeface="GungsuhChe"/>
              </a:rPr>
              <a:t>   </a:t>
            </a:r>
            <a:r>
              <a:rPr b="0" lang="en-US" sz="4400" spc="-1" strike="noStrike">
                <a:solidFill>
                  <a:srgbClr val="cc3399"/>
                </a:solidFill>
                <a:latin typeface="Arial"/>
                <a:ea typeface="GungsuhChe"/>
              </a:rPr>
              <a:t>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8864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Li Shan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play playing) footb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0" y="234900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They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is am are )jumping rop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0" y="32846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ngsuhChe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ngsuhChe"/>
              </a:rPr>
              <a:t>3.She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GungsuhChe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ngsuhChe"/>
              </a:rPr>
              <a:t> (is am are )playing ping-p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250920" y="422100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ngsuhChe"/>
              </a:rPr>
              <a:t>4.Let</a:t>
            </a:r>
            <a:r>
              <a:rPr b="0" lang="en-US" sz="3600" spc="-1" strike="noStrike">
                <a:solidFill>
                  <a:srgbClr val="000000"/>
                </a:solidFill>
                <a:latin typeface="GungsuhChe"/>
                <a:ea typeface="GungsuhChe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ngsuhChe"/>
              </a:rPr>
              <a:t>s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GungsuhChe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ngsuhChe"/>
              </a:rPr>
              <a:t>(going  go) and join th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6"/>
          <p:cNvSpPr/>
          <p:nvPr/>
        </p:nvSpPr>
        <p:spPr>
          <a:xfrm>
            <a:off x="325080" y="5229360"/>
            <a:ext cx="79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ngsuhChe"/>
              </a:rPr>
              <a:t>5.We play games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GungsuhChe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GungsuhChe"/>
              </a:rPr>
              <a:t>(in on )Tues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7"/>
          <p:cNvSpPr/>
          <p:nvPr/>
        </p:nvSpPr>
        <p:spPr>
          <a:xfrm>
            <a:off x="179280" y="5091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8"/>
          <p:cNvSpPr/>
          <p:nvPr/>
        </p:nvSpPr>
        <p:spPr>
          <a:xfrm>
            <a:off x="611280" y="4941720"/>
            <a:ext cx="755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9"/>
          <p:cNvSpPr/>
          <p:nvPr/>
        </p:nvSpPr>
        <p:spPr>
          <a:xfrm>
            <a:off x="455400" y="476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99"/>
                </a:solidFill>
                <a:latin typeface="Arial"/>
                <a:ea typeface="GungsuhChe"/>
              </a:rPr>
              <a:t>练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0"/>
          <p:cNvSpPr/>
          <p:nvPr/>
        </p:nvSpPr>
        <p:spPr>
          <a:xfrm>
            <a:off x="5796000" y="1916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1"/>
          <p:cNvSpPr/>
          <p:nvPr/>
        </p:nvSpPr>
        <p:spPr>
          <a:xfrm>
            <a:off x="4572000" y="249228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2"/>
          <p:cNvSpPr/>
          <p:nvPr/>
        </p:nvSpPr>
        <p:spPr>
          <a:xfrm>
            <a:off x="3020760" y="35002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3"/>
          <p:cNvSpPr/>
          <p:nvPr/>
        </p:nvSpPr>
        <p:spPr>
          <a:xfrm>
            <a:off x="4880880" y="44704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4"/>
          <p:cNvSpPr/>
          <p:nvPr/>
        </p:nvSpPr>
        <p:spPr>
          <a:xfrm>
            <a:off x="5852160" y="532296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539280" y="2421000"/>
            <a:ext cx="769644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Finish off practice (l)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Make a survey about what your friends are doing .Write five sentence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Preview the dialogue of this lesson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WordArt 4" descr=""/>
          <p:cNvPicPr/>
          <p:nvPr/>
        </p:nvPicPr>
        <p:blipFill>
          <a:blip r:embed="rId1"/>
          <a:stretch/>
        </p:blipFill>
        <p:spPr>
          <a:xfrm>
            <a:off x="1030320" y="523800"/>
            <a:ext cx="6986520" cy="17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4" descr="8992162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977080"/>
          </a:xfrm>
          <a:prstGeom prst="rect">
            <a:avLst/>
          </a:prstGeom>
          <a:ln w="0">
            <a:noFill/>
          </a:ln>
        </p:spPr>
      </p:pic>
      <p:pic>
        <p:nvPicPr>
          <p:cNvPr id="634" name="WordArt 5" descr=""/>
          <p:cNvPicPr/>
          <p:nvPr/>
        </p:nvPicPr>
        <p:blipFill>
          <a:blip r:embed="rId2"/>
          <a:stretch/>
        </p:blipFill>
        <p:spPr>
          <a:xfrm>
            <a:off x="2981160" y="1011240"/>
            <a:ext cx="3108600" cy="2000160"/>
          </a:xfrm>
          <a:prstGeom prst="rect">
            <a:avLst/>
          </a:prstGeom>
          <a:ln w="0">
            <a:noFill/>
          </a:ln>
        </p:spPr>
      </p:pic>
      <p:pic>
        <p:nvPicPr>
          <p:cNvPr id="635" name="WordArt 6" descr=""/>
          <p:cNvPicPr/>
          <p:nvPr/>
        </p:nvPicPr>
        <p:blipFill>
          <a:blip r:embed="rId3"/>
          <a:stretch/>
        </p:blipFill>
        <p:spPr>
          <a:xfrm>
            <a:off x="2262240" y="3121200"/>
            <a:ext cx="4979880" cy="207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3360" y="54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Monda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351160" y="3633480"/>
            <a:ext cx="423216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4" descr="u=1474071155,2740802592&amp;gp=24[1]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5"/>
          <p:cNvSpPr/>
          <p:nvPr/>
        </p:nvSpPr>
        <p:spPr>
          <a:xfrm>
            <a:off x="755640" y="0"/>
            <a:ext cx="153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GungsuhChe"/>
              </a:rPr>
              <a:t>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2463840" y="98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3780000" y="4076640"/>
            <a:ext cx="4752720" cy="670680"/>
          </a:xfrm>
          <a:prstGeom prst="rect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69696"/>
                </a:solidFill>
                <a:uFillTx/>
                <a:latin typeface="Impact"/>
                <a:ea typeface="方正超粗黑繁体"/>
              </a:rPr>
              <a:t>2009 -- 04 -- 06</a:t>
            </a:r>
            <a:r>
              <a:rPr b="0" lang="en-US" sz="3600" spc="-1" strike="noStrike" u="sng">
                <a:solidFill>
                  <a:srgbClr val="969696"/>
                </a:solidFill>
                <a:uFillTx/>
                <a:latin typeface="Impact"/>
                <a:ea typeface="方正超粗黑繁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u=620132717,2769196071&amp;gp=34[1]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3"/>
          <p:cNvSpPr/>
          <p:nvPr/>
        </p:nvSpPr>
        <p:spPr>
          <a:xfrm>
            <a:off x="6424560" y="1562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613480" y="1557360"/>
            <a:ext cx="353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GungsuhChe"/>
              </a:rPr>
              <a:t>Tues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55640" y="-69840"/>
            <a:ext cx="184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4427640" y="1484280"/>
            <a:ext cx="122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DotumChe"/>
              </a:rPr>
              <a:t>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0"/>
          <p:cNvSpPr/>
          <p:nvPr/>
        </p:nvSpPr>
        <p:spPr>
          <a:xfrm>
            <a:off x="6709320" y="43657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GungsuhChe"/>
              </a:rPr>
              <a:t>星期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1"/>
          <p:cNvSpPr/>
          <p:nvPr/>
        </p:nvSpPr>
        <p:spPr>
          <a:xfrm>
            <a:off x="5837760" y="4365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GungsuhChe"/>
              </a:rPr>
              <a:t>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4041720" cy="452592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64472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u=812697184,2048108320&amp;gp=18[1]"/>
          <p:cNvPicPr/>
          <p:nvPr/>
        </p:nvPicPr>
        <p:blipFill>
          <a:blip r:embed="rId2"/>
          <a:stretch/>
        </p:blipFill>
        <p:spPr>
          <a:xfrm>
            <a:off x="0" y="1844640"/>
            <a:ext cx="9144000" cy="482292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5"/>
          <p:cNvSpPr/>
          <p:nvPr/>
        </p:nvSpPr>
        <p:spPr>
          <a:xfrm>
            <a:off x="1166760" y="84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2195640" y="5445000"/>
            <a:ext cx="3960720" cy="670680"/>
          </a:xfrm>
          <a:prstGeom prst="rect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69696"/>
                </a:solidFill>
                <a:uFillTx/>
                <a:latin typeface="Impact"/>
                <a:ea typeface="方正超粗黑繁体"/>
              </a:rPr>
              <a:t>2009 -- 04 -- 08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Impact"/>
                <a:ea typeface="方正超粗黑繁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1"/>
          <p:cNvSpPr/>
          <p:nvPr/>
        </p:nvSpPr>
        <p:spPr>
          <a:xfrm>
            <a:off x="1403280" y="1268280"/>
            <a:ext cx="854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ednesda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2"/>
          <p:cNvSpPr/>
          <p:nvPr/>
        </p:nvSpPr>
        <p:spPr>
          <a:xfrm>
            <a:off x="468360" y="836640"/>
            <a:ext cx="153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99"/>
                </a:solidFill>
                <a:latin typeface="Arial"/>
                <a:ea typeface="GungsuhChe"/>
              </a:rPr>
              <a:t>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景色11"/>
          <p:cNvPicPr/>
          <p:nvPr/>
        </p:nvPicPr>
        <p:blipFill>
          <a:blip r:embed="rId1"/>
          <a:stretch/>
        </p:blipFill>
        <p:spPr>
          <a:xfrm>
            <a:off x="0" y="0"/>
            <a:ext cx="9144000" cy="657684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5"/>
          <p:cNvSpPr/>
          <p:nvPr/>
        </p:nvSpPr>
        <p:spPr>
          <a:xfrm>
            <a:off x="2843280" y="189000"/>
            <a:ext cx="560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GungsuhChe"/>
              </a:rPr>
              <a:t>Thursday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6"/>
          <p:cNvSpPr/>
          <p:nvPr/>
        </p:nvSpPr>
        <p:spPr>
          <a:xfrm>
            <a:off x="685440" y="0"/>
            <a:ext cx="153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b51cb"/>
                </a:solidFill>
                <a:latin typeface="Arial"/>
                <a:ea typeface="GungsuhChe"/>
              </a:rPr>
              <a:t>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4081320" y="400536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GungsuhChe"/>
              </a:rPr>
              <a:t>星期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8"/>
          <p:cNvSpPr/>
          <p:nvPr/>
        </p:nvSpPr>
        <p:spPr>
          <a:xfrm>
            <a:off x="1692360" y="4005360"/>
            <a:ext cx="136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db51cb"/>
                </a:solidFill>
                <a:latin typeface="Comic Sans MS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587640" y="1915920"/>
            <a:ext cx="180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ungsuhChe"/>
                <a:ea typeface="GungsuhChe"/>
              </a:rPr>
              <a:t>run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바탕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바탕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7200" y="3478320"/>
            <a:ext cx="1041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4" descr="u=3329996318,161776500&amp;gp=30[1]"/>
          <p:cNvPicPr/>
          <p:nvPr/>
        </p:nvPicPr>
        <p:blipFill>
          <a:blip r:embed="rId1"/>
          <a:stretch/>
        </p:blipFill>
        <p:spPr>
          <a:xfrm>
            <a:off x="0" y="0"/>
            <a:ext cx="6265800" cy="449100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6"/>
          <p:cNvSpPr/>
          <p:nvPr/>
        </p:nvSpPr>
        <p:spPr>
          <a:xfrm>
            <a:off x="6987960" y="31813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GungsuhChe"/>
              </a:rPr>
              <a:t>跑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jump  rop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u=4289477718,824682415&amp;gp=16[1]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472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3399"/>
                </a:solidFill>
                <a:latin typeface="Arial"/>
              </a:rPr>
              <a:t>jo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8"/>
          <p:cNvPicPr/>
          <p:nvPr/>
        </p:nvPicPr>
        <p:blipFill>
          <a:blip r:embed="rId1"/>
          <a:stretch/>
        </p:blipFill>
        <p:spPr>
          <a:xfrm>
            <a:off x="1042920" y="1916280"/>
            <a:ext cx="69138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3-12-10T02:21:43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09000000000001024120</vt:lpwstr>
  </property>
  <property fmtid="{D5CDD505-2E9C-101B-9397-08002B2CF9AE}" pid="3" name="Version">
    <vt:r8>1</vt:r8>
  </property>
</Properties>
</file>