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LPHRG01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33A-6422-4C50-BB7A-A41F0FE4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CE8-3C87-43C5-A585-D2200EA5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34A-F036-4C2E-8C01-DD1DA3F6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545-594F-42D4-9738-B0C88730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FA1-2C14-4972-B7EF-16678FC6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093-2D72-45C3-BD2C-146D1AB6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A23C-17B6-453D-94AE-3C55247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596B-007C-4A1B-AF34-E920DAC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EF15-C11C-4233-807F-BEA87A8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2EA-C95B-45C7-B48C-DBAD559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17BD-515A-4FE2-A079-3B261A2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33E-A324-4922-8FBF-21133A4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F90-B0FB-4369-BCBA-138B6CA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8D3D-5DAC-422A-AF5B-35B8A7D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C24-09B5-47B7-A7EE-6328B30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D1B-CA6A-4BE9-AFA4-82948F55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D8E-8E2A-43D2-9911-F45DFF46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1D7-72D8-4EDC-8A8F-2AADFD2A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031-ACF9-45CA-B7D7-B1970CF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AC-ACFD-4880-9609-516EFDE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3EE-B3C6-4D2D-9159-35AD65AB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161-54A2-4AB8-A6E7-F56BDE8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4E2-450E-485F-B94F-5DD4993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2D3-2D00-45EE-AC0C-CEE8744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2049-0B41-4A88-BE13-404CDE19E6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1E1-0A47-4755-AA5C-CDA3EE43FE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LPHRG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PHRG0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ELPHRG01.wav"/><Relationship Id="rId6" Type="http://schemas.openxmlformats.org/officeDocument/2006/relationships/audio" Target="../media/ELPHRG01.wav"/><Relationship Id="rId7" Type="http://schemas.openxmlformats.org/officeDocument/2006/relationships/audio" Target="../media/ELPHRG01.wav"/><Relationship Id="rId8" Type="http://schemas.openxmlformats.org/officeDocument/2006/relationships/audio" Target="../media/ELPHRG01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0" y="1700280"/>
            <a:ext cx="56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ungsuhChe"/>
                <a:ea typeface="GungsuhChe"/>
              </a:rPr>
              <a:t>What day is today?</a:t>
            </a:r>
            <a:endParaRPr b="0" lang="en-US" sz="4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389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ay is tod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Mon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Tues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Wednes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Thurs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Fri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Sun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336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57360" y="3471840"/>
            <a:ext cx="39578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u=1474071155,2740802592&amp;gp=24[1]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28360" y="26028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46384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u=620132717,2769196071&amp;gp=34[1]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42456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613480" y="1557360"/>
            <a:ext cx="353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GungsuhChe"/>
              </a:rPr>
              <a:t>Tuesday</a:t>
            </a:r>
            <a:endParaRPr b="0" lang="en-US" sz="6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755640" y="-698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427640" y="148428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200"/>
                </a:solidFill>
                <a:latin typeface="Arial"/>
                <a:ea typeface="DotumChe"/>
              </a:rPr>
              <a:t>on</a:t>
            </a:r>
            <a:endParaRPr b="0" lang="en-US" sz="6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4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6709320" y="4365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GungsuhChe"/>
              </a:rPr>
              <a:t>星期二</a:t>
            </a:r>
            <a:endParaRPr b="0" lang="en-US" sz="4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837760" y="4365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GungsuhChe"/>
              </a:rPr>
              <a:t>在</a:t>
            </a:r>
            <a:endParaRPr b="0" lang="en-US" sz="4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80000" cy="3657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01880" y="1828800"/>
            <a:ext cx="3779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u=812697184,2048108320&amp;gp=18[1]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16676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95280" y="-171360"/>
            <a:ext cx="153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843280" y="189000"/>
            <a:ext cx="56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Thursday</a:t>
            </a: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 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5440" y="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196440" y="378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2d050"/>
                </a:solidFill>
                <a:latin typeface="Arial"/>
                <a:ea typeface="GungsuhChe"/>
              </a:rPr>
              <a:t>在</a:t>
            </a:r>
            <a:r>
              <a:rPr b="0" lang="zh-CN" sz="9600" spc="-1" strike="noStrike">
                <a:solidFill>
                  <a:srgbClr val="660066"/>
                </a:solidFill>
                <a:latin typeface="Arial"/>
                <a:ea typeface="GungsuhChe"/>
              </a:rPr>
              <a:t>星期四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843280" y="189000"/>
            <a:ext cx="56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Friday</a:t>
            </a: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 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440" y="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196440" y="378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2d050"/>
                </a:solidFill>
                <a:latin typeface="Arial"/>
                <a:ea typeface="GungsuhChe"/>
              </a:rPr>
              <a:t>在</a:t>
            </a:r>
            <a:r>
              <a:rPr b="0" lang="zh-CN" sz="9600" spc="-1" strike="noStrike">
                <a:solidFill>
                  <a:srgbClr val="660066"/>
                </a:solidFill>
                <a:latin typeface="Arial"/>
                <a:ea typeface="GungsuhChe"/>
              </a:rPr>
              <a:t>星期五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843280" y="189000"/>
            <a:ext cx="56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Saturday</a:t>
            </a: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 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85440" y="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196440" y="378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2d050"/>
                </a:solidFill>
                <a:latin typeface="Arial"/>
                <a:ea typeface="GungsuhChe"/>
              </a:rPr>
              <a:t>在</a:t>
            </a:r>
            <a:r>
              <a:rPr b="0" lang="zh-CN" sz="9600" spc="-1" strike="noStrike">
                <a:solidFill>
                  <a:srgbClr val="660066"/>
                </a:solidFill>
                <a:latin typeface="Arial"/>
                <a:ea typeface="GungsuhChe"/>
              </a:rPr>
              <a:t>星期六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843280" y="189000"/>
            <a:ext cx="56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Sunday</a:t>
            </a: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 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85440" y="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Arial"/>
                <a:ea typeface="GungsuhChe"/>
              </a:rPr>
              <a:t>on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196440" y="378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2d050"/>
                </a:solidFill>
                <a:latin typeface="Arial"/>
                <a:ea typeface="GungsuhChe"/>
              </a:rPr>
              <a:t>在</a:t>
            </a:r>
            <a:r>
              <a:rPr b="0" lang="zh-CN" sz="9600" spc="-1" strike="noStrike">
                <a:solidFill>
                  <a:srgbClr val="660066"/>
                </a:solidFill>
                <a:latin typeface="Arial"/>
                <a:ea typeface="GungsuhChe"/>
              </a:rPr>
              <a:t>星期日</a:t>
            </a:r>
            <a:endParaRPr b="0" lang="en-US" sz="96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6:34:30Z</dcterms:created>
  <dc:creator/>
  <dc:description/>
  <dc:language>en-US</dc:language>
  <cp:lastModifiedBy/>
  <dcterms:modified xsi:type="dcterms:W3CDTF">2016-03-24T06:13:16Z</dcterms:modified>
  <cp:revision>99</cp:revision>
  <dc:subject/>
  <dc:title/>
</cp:coreProperties>
</file>