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7CA4-BD04-4A72-A50D-2E465104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164-8F65-467A-8121-69CED34A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0A2-056D-4AB3-929E-73BAC2BF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DA6-7209-42B5-8570-24D02489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F2B-B7E7-4F6C-A521-7378F360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168-8700-4624-873C-35813CBC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A46-0635-4A96-88E9-5AA60A6F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BBE-F788-449D-B147-2059C538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9FA-48A7-4279-A77E-B9D19E03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C10-430D-4CB9-89D7-7EC44A4A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952-BDF6-4039-ADD3-C7695B9D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2D6-ACA0-4BB5-B023-B784AE86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9B34-463A-49D2-9761-3C0BB7D8B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295280"/>
            <a:ext cx="76201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Unit 1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Welcome back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Section 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240" y="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5800" y="6091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祈使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66680" y="1752120"/>
            <a:ext cx="73152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the window, pleas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请关上窗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29689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7617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祈使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21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Open the window, pleas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请关上窗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4572000" y="3240000"/>
            <a:ext cx="28526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-7632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66600" y="6854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祈使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752480"/>
            <a:ext cx="73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Sit down, 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请坐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4495680" y="2819520"/>
            <a:ext cx="22860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祈使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8960" y="1902960"/>
            <a:ext cx="701028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Open your book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, pleas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请打开你们的书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rcRect l="5108" t="16949" r="0" b="20085"/>
          <a:stretch/>
        </p:blipFill>
        <p:spPr>
          <a:xfrm>
            <a:off x="5867280" y="4648320"/>
            <a:ext cx="282888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3"/>
          <a:srcRect l="5108" t="16949" r="0" b="20085"/>
          <a:stretch/>
        </p:blipFill>
        <p:spPr>
          <a:xfrm>
            <a:off x="3309840" y="4519440"/>
            <a:ext cx="28288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3348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祈使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2285640"/>
            <a:ext cx="7696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Touch your nose,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pleas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请摸你的鼻子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" descr=""/>
          <p:cNvPicPr/>
          <p:nvPr/>
        </p:nvPicPr>
        <p:blipFill>
          <a:blip r:embed="rId2"/>
          <a:srcRect l="0" t="6162" r="0" b="3501"/>
          <a:stretch/>
        </p:blipFill>
        <p:spPr>
          <a:xfrm>
            <a:off x="5257800" y="3432240"/>
            <a:ext cx="27432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693432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宋体"/>
              </a:rPr>
              <a:t>唱歌</a:t>
            </a:r>
            <a:br>
              <a:rPr sz="7200"/>
            </a:b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宋体"/>
              </a:rPr>
              <a:t>Ｓｉｎ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19760" cy="32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ello! Hello! Good to see you!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ello! Hello! Good to see you, too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．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ood to see you. Good to see you, too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4343400" y="3683160"/>
            <a:ext cx="38098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348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9140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62120" y="2285640"/>
            <a:ext cx="7696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熟读课文，掌握重点词汇及短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够听懂别人的命令，并给别人下一一些命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加强对祈使句的理解和运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矩形 4" descr=""/>
          <p:cNvPicPr/>
          <p:nvPr/>
        </p:nvPicPr>
        <p:blipFill>
          <a:blip r:embed="rId2"/>
          <a:stretch/>
        </p:blipFill>
        <p:spPr>
          <a:xfrm>
            <a:off x="1000080" y="2968560"/>
            <a:ext cx="715644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宋体"/>
              </a:rPr>
              <a:t>Match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连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62120" y="12952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宋体"/>
              </a:rPr>
              <a:t>s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宋体"/>
              </a:rPr>
              <a:t>tou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5354640" y="1295280"/>
            <a:ext cx="225900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5570640" y="3581280"/>
            <a:ext cx="1828800" cy="2214720"/>
          </a:xfrm>
          <a:prstGeom prst="rect">
            <a:avLst/>
          </a:prstGeom>
          <a:ln w="0">
            <a:noFill/>
          </a:ln>
        </p:spPr>
      </p:pic>
      <p:sp>
        <p:nvSpPr>
          <p:cNvPr id="49" name="直接连接符 6"/>
          <p:cNvSpPr/>
          <p:nvPr/>
        </p:nvSpPr>
        <p:spPr>
          <a:xfrm flipV="1">
            <a:off x="3809880" y="2361960"/>
            <a:ext cx="176076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9"/>
          <p:cNvSpPr/>
          <p:nvPr/>
        </p:nvSpPr>
        <p:spPr>
          <a:xfrm>
            <a:off x="2362320" y="1905120"/>
            <a:ext cx="299232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762120" y="1258560"/>
            <a:ext cx="7619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宋体"/>
              </a:rPr>
              <a:t>d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宋体"/>
              </a:rPr>
              <a:t>u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9"/>
          <p:cNvSpPr/>
          <p:nvPr/>
        </p:nvSpPr>
        <p:spPr>
          <a:xfrm>
            <a:off x="3352680" y="2362320"/>
            <a:ext cx="2217960" cy="18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5943600" y="3252960"/>
            <a:ext cx="2146320" cy="2028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rcRect l="0" t="0" r="0" b="34645"/>
          <a:stretch/>
        </p:blipFill>
        <p:spPr>
          <a:xfrm>
            <a:off x="5943600" y="1258920"/>
            <a:ext cx="2057400" cy="1546200"/>
          </a:xfrm>
          <a:prstGeom prst="rect">
            <a:avLst/>
          </a:prstGeom>
          <a:ln w="0">
            <a:noFill/>
          </a:ln>
        </p:spPr>
      </p:pic>
      <p:sp>
        <p:nvSpPr>
          <p:cNvPr id="56" name="直接连接符 8"/>
          <p:cNvSpPr/>
          <p:nvPr/>
        </p:nvSpPr>
        <p:spPr>
          <a:xfrm flipV="1">
            <a:off x="2514600" y="2362320"/>
            <a:ext cx="34290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762120" y="12952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宋体"/>
              </a:rPr>
              <a:t>boo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宋体"/>
              </a:rPr>
              <a:t>no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6"/>
          <p:cNvSpPr/>
          <p:nvPr/>
        </p:nvSpPr>
        <p:spPr>
          <a:xfrm flipV="1">
            <a:off x="3809880" y="2361960"/>
            <a:ext cx="176076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9"/>
          <p:cNvSpPr/>
          <p:nvPr/>
        </p:nvSpPr>
        <p:spPr>
          <a:xfrm>
            <a:off x="3276720" y="2300400"/>
            <a:ext cx="2077920" cy="19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5372280" y="3657600"/>
            <a:ext cx="1819080" cy="1922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5791320" y="1260360"/>
            <a:ext cx="20095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762120" y="1052640"/>
            <a:ext cx="761976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宋体"/>
              </a:rPr>
              <a:t>wind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宋体"/>
              </a:rPr>
              <a:t>do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6"/>
          <p:cNvSpPr/>
          <p:nvPr/>
        </p:nvSpPr>
        <p:spPr>
          <a:xfrm flipV="1">
            <a:off x="3809880" y="2361960"/>
            <a:ext cx="176076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"/>
          <p:cNvSpPr/>
          <p:nvPr/>
        </p:nvSpPr>
        <p:spPr>
          <a:xfrm>
            <a:off x="4191120" y="2362320"/>
            <a:ext cx="116352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6049800" y="1052640"/>
            <a:ext cx="1874880" cy="2041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6049800" y="3733920"/>
            <a:ext cx="187488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0280" y="6854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祈使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66680" y="205704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Be quite, 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请安静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4419720" y="30481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2920" y="7617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祈使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040" y="1828440"/>
            <a:ext cx="7467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the door, pleas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请关上门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4724280" y="2992320"/>
            <a:ext cx="25909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7617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祈使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1760" y="2057400"/>
            <a:ext cx="7467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Open the door, pleas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请关上门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25416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0:23:29Z</dcterms:created>
  <dc:creator/>
  <dc:description/>
  <dc:language>en-US</dc:language>
  <cp:lastModifiedBy/>
  <dcterms:modified xsi:type="dcterms:W3CDTF">2015-07-24T06:11:59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