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.jpeg" ContentType="image/jpeg"/>
  <Override PartName="/ppt/media/image23.jpeg" ContentType="image/jpeg"/>
  <Override PartName="/ppt/media/image26.jpeg" ContentType="image/jpeg"/>
  <Override PartName="/ppt/media/image25.jpeg" ContentType="image/jpeg"/>
  <Override PartName="/ppt/media/image24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630F-C106-4642-A733-B36E2DC6C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7A50-199C-4CA0-8CC0-DAF35132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5EC6-DD20-489F-9C94-72B3E1D2C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46E2-D970-40D9-B2EC-BB860EC50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2C47-549D-4360-81A7-8985A3CC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2FEA-AE19-4A32-8AC9-CC14FB3A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EB6C-156E-4C31-A6C8-2F524B5E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C70D-E592-49F3-86DE-2F7666AB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0FFF-7C7D-4788-9DD4-5B757AC9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64F3-FF1E-4A1D-B34F-85BEF0AA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9421-ED71-414D-B5DD-7B21DC2E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DF45-8F72-42C7-AEC6-C6D13E2E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9800-235A-404C-BB6F-87009CA7B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25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360" y="1981080"/>
            <a:ext cx="739116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宋体"/>
              </a:rPr>
              <a:t>Unit 8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宋体"/>
              </a:rPr>
              <a:t>Do you have a pet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宋体"/>
              </a:rPr>
              <a:t>Section 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533160" y="1600200"/>
            <a:ext cx="80010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--Do you have a pe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Times New Roman"/>
                <a:ea typeface="宋体"/>
              </a:rPr>
              <a:t>--Yes, I have a snak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1" descr=""/>
          <p:cNvPicPr/>
          <p:nvPr/>
        </p:nvPicPr>
        <p:blipFill>
          <a:blip r:embed="rId2"/>
          <a:stretch/>
        </p:blipFill>
        <p:spPr>
          <a:xfrm>
            <a:off x="1828800" y="3421080"/>
            <a:ext cx="1779480" cy="2247840"/>
          </a:xfrm>
          <a:prstGeom prst="rect">
            <a:avLst/>
          </a:prstGeom>
          <a:ln w="0">
            <a:noFill/>
          </a:ln>
        </p:spPr>
      </p:pic>
      <p:pic>
        <p:nvPicPr>
          <p:cNvPr id="82" name="图片 1" descr=""/>
          <p:cNvPicPr/>
          <p:nvPr/>
        </p:nvPicPr>
        <p:blipFill>
          <a:blip r:embed="rId3"/>
          <a:stretch/>
        </p:blipFill>
        <p:spPr>
          <a:xfrm>
            <a:off x="6477120" y="3238560"/>
            <a:ext cx="1371600" cy="2663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4"/>
          <a:stretch/>
        </p:blipFill>
        <p:spPr>
          <a:xfrm>
            <a:off x="3882960" y="3670200"/>
            <a:ext cx="199404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533160" y="1600200"/>
            <a:ext cx="80010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--Do you have a pe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Times New Roman"/>
                <a:ea typeface="宋体"/>
              </a:rPr>
              <a:t>--Yes, I have a bir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1" descr=""/>
          <p:cNvPicPr/>
          <p:nvPr/>
        </p:nvPicPr>
        <p:blipFill>
          <a:blip r:embed="rId2"/>
          <a:stretch/>
        </p:blipFill>
        <p:spPr>
          <a:xfrm>
            <a:off x="6477120" y="3238560"/>
            <a:ext cx="1371600" cy="2663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1676520" y="3362400"/>
            <a:ext cx="1920600" cy="259056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" descr=""/>
          <p:cNvPicPr/>
          <p:nvPr/>
        </p:nvPicPr>
        <p:blipFill>
          <a:blip r:embed="rId4"/>
          <a:stretch/>
        </p:blipFill>
        <p:spPr>
          <a:xfrm>
            <a:off x="4040280" y="3875040"/>
            <a:ext cx="19936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533160" y="1600200"/>
            <a:ext cx="80010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--Do you have a pe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Times New Roman"/>
                <a:ea typeface="宋体"/>
              </a:rPr>
              <a:t>--Yes, I have a do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1" descr=""/>
          <p:cNvPicPr/>
          <p:nvPr/>
        </p:nvPicPr>
        <p:blipFill>
          <a:blip r:embed="rId2"/>
          <a:stretch/>
        </p:blipFill>
        <p:spPr>
          <a:xfrm>
            <a:off x="1828800" y="3421080"/>
            <a:ext cx="1779480" cy="2247840"/>
          </a:xfrm>
          <a:prstGeom prst="rect">
            <a:avLst/>
          </a:prstGeom>
          <a:ln w="0">
            <a:noFill/>
          </a:ln>
        </p:spPr>
      </p:pic>
      <p:pic>
        <p:nvPicPr>
          <p:cNvPr id="92" name="图片 2" descr=""/>
          <p:cNvPicPr/>
          <p:nvPr/>
        </p:nvPicPr>
        <p:blipFill>
          <a:blip r:embed="rId3"/>
          <a:srcRect l="0" t="0" r="0" b="12261"/>
          <a:stretch/>
        </p:blipFill>
        <p:spPr>
          <a:xfrm>
            <a:off x="3622680" y="3605040"/>
            <a:ext cx="2389320" cy="2097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4"/>
          <a:stretch/>
        </p:blipFill>
        <p:spPr>
          <a:xfrm>
            <a:off x="6465960" y="3670200"/>
            <a:ext cx="136188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533160" y="1600200"/>
            <a:ext cx="80010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--Do you have a pe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Times New Roman"/>
                <a:ea typeface="宋体"/>
              </a:rPr>
              <a:t>--Yes, I have a turt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1" descr=""/>
          <p:cNvPicPr/>
          <p:nvPr/>
        </p:nvPicPr>
        <p:blipFill>
          <a:blip r:embed="rId2"/>
          <a:stretch/>
        </p:blipFill>
        <p:spPr>
          <a:xfrm>
            <a:off x="6477120" y="3238560"/>
            <a:ext cx="1371600" cy="2663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3"/>
          <a:stretch/>
        </p:blipFill>
        <p:spPr>
          <a:xfrm>
            <a:off x="3809880" y="4010040"/>
            <a:ext cx="2000520" cy="1122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4"/>
          <a:stretch/>
        </p:blipFill>
        <p:spPr>
          <a:xfrm>
            <a:off x="1676520" y="3344760"/>
            <a:ext cx="176184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--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colour is it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Times New Roman"/>
                <a:ea typeface="宋体"/>
              </a:rPr>
              <a:t>--It’s yellow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2" descr=""/>
          <p:cNvPicPr/>
          <p:nvPr/>
        </p:nvPicPr>
        <p:blipFill>
          <a:blip r:embed="rId2"/>
          <a:stretch/>
        </p:blipFill>
        <p:spPr>
          <a:xfrm>
            <a:off x="5791320" y="3395520"/>
            <a:ext cx="1493640" cy="244980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4" descr=""/>
          <p:cNvPicPr/>
          <p:nvPr/>
        </p:nvPicPr>
        <p:blipFill>
          <a:blip r:embed="rId3"/>
          <a:stretch/>
        </p:blipFill>
        <p:spPr>
          <a:xfrm>
            <a:off x="1366920" y="3341520"/>
            <a:ext cx="1762200" cy="244800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" descr=""/>
          <p:cNvPicPr/>
          <p:nvPr/>
        </p:nvPicPr>
        <p:blipFill>
          <a:blip r:embed="rId4"/>
          <a:stretch/>
        </p:blipFill>
        <p:spPr>
          <a:xfrm>
            <a:off x="3432240" y="3276720"/>
            <a:ext cx="213048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--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colour is it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Times New Roman"/>
                <a:ea typeface="宋体"/>
              </a:rPr>
              <a:t>--It’s blu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图片 2" descr=""/>
          <p:cNvPicPr/>
          <p:nvPr/>
        </p:nvPicPr>
        <p:blipFill>
          <a:blip r:embed="rId2"/>
          <a:stretch/>
        </p:blipFill>
        <p:spPr>
          <a:xfrm>
            <a:off x="5791320" y="3395520"/>
            <a:ext cx="1493640" cy="244980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4" descr=""/>
          <p:cNvPicPr/>
          <p:nvPr/>
        </p:nvPicPr>
        <p:blipFill>
          <a:blip r:embed="rId3"/>
          <a:stretch/>
        </p:blipFill>
        <p:spPr>
          <a:xfrm>
            <a:off x="1366920" y="3341520"/>
            <a:ext cx="1762200" cy="244800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5" descr=""/>
          <p:cNvPicPr/>
          <p:nvPr/>
        </p:nvPicPr>
        <p:blipFill>
          <a:blip r:embed="rId4"/>
          <a:stretch/>
        </p:blipFill>
        <p:spPr>
          <a:xfrm>
            <a:off x="3429000" y="3618000"/>
            <a:ext cx="200664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609480" y="1600200"/>
            <a:ext cx="7925040" cy="42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--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How many dogs are there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Times New Roman"/>
                <a:ea typeface="宋体"/>
              </a:rPr>
              <a:t>--There are two dog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图片 2" descr=""/>
          <p:cNvPicPr/>
          <p:nvPr/>
        </p:nvPicPr>
        <p:blipFill>
          <a:blip r:embed="rId2"/>
          <a:stretch/>
        </p:blipFill>
        <p:spPr>
          <a:xfrm>
            <a:off x="6858000" y="3395520"/>
            <a:ext cx="1494000" cy="244980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4" descr=""/>
          <p:cNvPicPr/>
          <p:nvPr/>
        </p:nvPicPr>
        <p:blipFill>
          <a:blip r:embed="rId3"/>
          <a:stretch/>
        </p:blipFill>
        <p:spPr>
          <a:xfrm>
            <a:off x="1366920" y="3341520"/>
            <a:ext cx="1762200" cy="244800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6" descr=""/>
          <p:cNvPicPr/>
          <p:nvPr/>
        </p:nvPicPr>
        <p:blipFill>
          <a:blip r:embed="rId4"/>
          <a:stretch/>
        </p:blipFill>
        <p:spPr>
          <a:xfrm>
            <a:off x="3276720" y="3952800"/>
            <a:ext cx="1822320" cy="129240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9" descr=""/>
          <p:cNvPicPr/>
          <p:nvPr/>
        </p:nvPicPr>
        <p:blipFill>
          <a:blip r:embed="rId5"/>
          <a:stretch/>
        </p:blipFill>
        <p:spPr>
          <a:xfrm>
            <a:off x="4876920" y="3952800"/>
            <a:ext cx="172872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609480" y="1600200"/>
            <a:ext cx="7925040" cy="42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--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How many birds are there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Times New Roman"/>
                <a:ea typeface="宋体"/>
              </a:rPr>
              <a:t>--There are three bird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2" descr=""/>
          <p:cNvPicPr/>
          <p:nvPr/>
        </p:nvPicPr>
        <p:blipFill>
          <a:blip r:embed="rId2"/>
          <a:stretch/>
        </p:blipFill>
        <p:spPr>
          <a:xfrm>
            <a:off x="6858000" y="3395520"/>
            <a:ext cx="1494000" cy="244980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4" descr=""/>
          <p:cNvPicPr/>
          <p:nvPr/>
        </p:nvPicPr>
        <p:blipFill>
          <a:blip r:embed="rId3"/>
          <a:stretch/>
        </p:blipFill>
        <p:spPr>
          <a:xfrm>
            <a:off x="1366920" y="3341520"/>
            <a:ext cx="1762200" cy="244800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1" descr=""/>
          <p:cNvPicPr/>
          <p:nvPr/>
        </p:nvPicPr>
        <p:blipFill>
          <a:blip r:embed="rId4"/>
          <a:srcRect l="48308" t="6139" r="21388" b="43497"/>
          <a:stretch/>
        </p:blipFill>
        <p:spPr>
          <a:xfrm>
            <a:off x="3129120" y="3943440"/>
            <a:ext cx="1582560" cy="1245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5"/>
          <a:stretch/>
        </p:blipFill>
        <p:spPr>
          <a:xfrm>
            <a:off x="4419720" y="3432240"/>
            <a:ext cx="1584360" cy="124920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10" descr=""/>
          <p:cNvPicPr/>
          <p:nvPr/>
        </p:nvPicPr>
        <p:blipFill>
          <a:blip r:embed="rId6"/>
          <a:srcRect l="48308" t="6139" r="21388" b="43497"/>
          <a:stretch/>
        </p:blipFill>
        <p:spPr>
          <a:xfrm>
            <a:off x="4927680" y="4525920"/>
            <a:ext cx="158256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609480" y="1600200"/>
            <a:ext cx="7925040" cy="42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--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How many turtle is there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Times New Roman"/>
                <a:ea typeface="宋体"/>
              </a:rPr>
              <a:t>--There is one turt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2" descr=""/>
          <p:cNvPicPr/>
          <p:nvPr/>
        </p:nvPicPr>
        <p:blipFill>
          <a:blip r:embed="rId2"/>
          <a:stretch/>
        </p:blipFill>
        <p:spPr>
          <a:xfrm>
            <a:off x="6858000" y="3395520"/>
            <a:ext cx="1494000" cy="24498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4" descr=""/>
          <p:cNvPicPr/>
          <p:nvPr/>
        </p:nvPicPr>
        <p:blipFill>
          <a:blip r:embed="rId3"/>
          <a:stretch/>
        </p:blipFill>
        <p:spPr>
          <a:xfrm>
            <a:off x="1366920" y="3341520"/>
            <a:ext cx="1762200" cy="244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4"/>
          <a:stretch/>
        </p:blipFill>
        <p:spPr>
          <a:xfrm>
            <a:off x="3733920" y="3630600"/>
            <a:ext cx="236196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057400" y="137124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宋体"/>
              </a:rPr>
              <a:t>Homewor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62120" y="2819520"/>
            <a:ext cx="7315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将重点词汇每个抄写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遍，重点句型每个抄写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写一篇小短文描述自己养的动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360" y="1676160"/>
            <a:ext cx="739116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宋体"/>
              </a:rPr>
              <a:t>连线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宋体"/>
              </a:rPr>
              <a:t>Matc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152280" y="-76320"/>
            <a:ext cx="9524880" cy="6934320"/>
          </a:xfrm>
          <a:prstGeom prst="rect">
            <a:avLst/>
          </a:prstGeom>
          <a:ln w="0">
            <a:noFill/>
          </a:ln>
        </p:spPr>
      </p:pic>
      <p:pic>
        <p:nvPicPr>
          <p:cNvPr id="132" name="矩形 3" descr=""/>
          <p:cNvPicPr/>
          <p:nvPr/>
        </p:nvPicPr>
        <p:blipFill>
          <a:blip r:embed="rId2"/>
          <a:stretch/>
        </p:blipFill>
        <p:spPr>
          <a:xfrm>
            <a:off x="237960" y="2487600"/>
            <a:ext cx="87663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990360" y="1295280"/>
            <a:ext cx="7391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宋体"/>
              </a:rPr>
              <a:t>animal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宋体"/>
              </a:rPr>
              <a:t>colou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 8"/>
          <p:cNvSpPr/>
          <p:nvPr/>
        </p:nvSpPr>
        <p:spPr>
          <a:xfrm>
            <a:off x="3962520" y="2286000"/>
            <a:ext cx="121896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直接连接符 10"/>
          <p:cNvSpPr/>
          <p:nvPr/>
        </p:nvSpPr>
        <p:spPr>
          <a:xfrm flipV="1">
            <a:off x="3773520" y="2458800"/>
            <a:ext cx="1523880" cy="211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5410080" y="1622520"/>
            <a:ext cx="2514600" cy="1665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"/>
          <p:cNvPicPr/>
          <p:nvPr/>
        </p:nvPicPr>
        <p:blipFill>
          <a:blip r:embed="rId3"/>
          <a:stretch/>
        </p:blipFill>
        <p:spPr>
          <a:xfrm>
            <a:off x="5334120" y="3809880"/>
            <a:ext cx="259056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990360" y="1295280"/>
            <a:ext cx="7391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宋体"/>
              </a:rPr>
              <a:t>snak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宋体"/>
              </a:rPr>
              <a:t>bir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接连接符 8"/>
          <p:cNvSpPr/>
          <p:nvPr/>
        </p:nvSpPr>
        <p:spPr>
          <a:xfrm>
            <a:off x="3581280" y="2286000"/>
            <a:ext cx="213372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10"/>
          <p:cNvSpPr/>
          <p:nvPr/>
        </p:nvSpPr>
        <p:spPr>
          <a:xfrm flipV="1">
            <a:off x="3048120" y="2666520"/>
            <a:ext cx="2666880" cy="178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2"/>
          <a:stretch/>
        </p:blipFill>
        <p:spPr>
          <a:xfrm>
            <a:off x="5791320" y="1631880"/>
            <a:ext cx="1995480" cy="1568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3"/>
          <a:stretch/>
        </p:blipFill>
        <p:spPr>
          <a:xfrm>
            <a:off x="5791320" y="3576600"/>
            <a:ext cx="199548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990360" y="1295280"/>
            <a:ext cx="7391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宋体"/>
              </a:rPr>
              <a:t>turtl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宋体"/>
              </a:rPr>
              <a:t>do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8"/>
          <p:cNvSpPr/>
          <p:nvPr/>
        </p:nvSpPr>
        <p:spPr>
          <a:xfrm>
            <a:off x="3352680" y="2209680"/>
            <a:ext cx="188748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10"/>
          <p:cNvSpPr/>
          <p:nvPr/>
        </p:nvSpPr>
        <p:spPr>
          <a:xfrm flipV="1">
            <a:off x="2895480" y="2459160"/>
            <a:ext cx="1981440" cy="196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2"/>
          <a:stretch/>
        </p:blipFill>
        <p:spPr>
          <a:xfrm>
            <a:off x="5029200" y="1440000"/>
            <a:ext cx="2475000" cy="2000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"/>
          <p:cNvPicPr/>
          <p:nvPr/>
        </p:nvPicPr>
        <p:blipFill>
          <a:blip r:embed="rId3"/>
          <a:stretch/>
        </p:blipFill>
        <p:spPr>
          <a:xfrm>
            <a:off x="5506920" y="3922560"/>
            <a:ext cx="1997280" cy="11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990360" y="1295280"/>
            <a:ext cx="7391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宋体"/>
              </a:rPr>
              <a:t>pet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宋体"/>
              </a:rPr>
              <a:t>fis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接连接符 8"/>
          <p:cNvSpPr/>
          <p:nvPr/>
        </p:nvSpPr>
        <p:spPr>
          <a:xfrm>
            <a:off x="2895480" y="2209680"/>
            <a:ext cx="234468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10"/>
          <p:cNvSpPr/>
          <p:nvPr/>
        </p:nvSpPr>
        <p:spPr>
          <a:xfrm flipV="1">
            <a:off x="2895480" y="2459160"/>
            <a:ext cx="1981440" cy="196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5221440" y="1554120"/>
            <a:ext cx="2627280" cy="1722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rcRect l="-2503" t="50002" r="2510" b="-3630"/>
          <a:stretch/>
        </p:blipFill>
        <p:spPr>
          <a:xfrm>
            <a:off x="5294160" y="3276720"/>
            <a:ext cx="2819520" cy="24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0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360" y="1676160"/>
            <a:ext cx="7391160" cy="33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宋体"/>
              </a:rPr>
              <a:t>对话练习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Times New Roman"/>
                <a:ea typeface="宋体"/>
              </a:rPr>
              <a:t>Dialogue Practic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--Do you have a pe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Times New Roman"/>
                <a:ea typeface="宋体"/>
              </a:rPr>
              <a:t>--Yes, I d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1" descr=""/>
          <p:cNvPicPr/>
          <p:nvPr/>
        </p:nvPicPr>
        <p:blipFill>
          <a:blip r:embed="rId2"/>
          <a:stretch/>
        </p:blipFill>
        <p:spPr>
          <a:xfrm>
            <a:off x="1828800" y="3421080"/>
            <a:ext cx="1779480" cy="2247840"/>
          </a:xfrm>
          <a:prstGeom prst="rect">
            <a:avLst/>
          </a:prstGeom>
          <a:ln w="0">
            <a:noFill/>
          </a:ln>
        </p:spPr>
      </p:pic>
      <p:pic>
        <p:nvPicPr>
          <p:cNvPr id="74" name="图片 1" descr=""/>
          <p:cNvPicPr/>
          <p:nvPr/>
        </p:nvPicPr>
        <p:blipFill>
          <a:blip r:embed="rId3"/>
          <a:stretch/>
        </p:blipFill>
        <p:spPr>
          <a:xfrm>
            <a:off x="5334120" y="3213000"/>
            <a:ext cx="13716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--Do you have an animal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Times New Roman"/>
                <a:ea typeface="宋体"/>
              </a:rPr>
              <a:t>--Yes, I d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2" descr=""/>
          <p:cNvPicPr/>
          <p:nvPr/>
        </p:nvPicPr>
        <p:blipFill>
          <a:blip r:embed="rId2"/>
          <a:stretch/>
        </p:blipFill>
        <p:spPr>
          <a:xfrm>
            <a:off x="5562720" y="3395520"/>
            <a:ext cx="1493640" cy="2449800"/>
          </a:xfrm>
          <a:prstGeom prst="rect">
            <a:avLst/>
          </a:prstGeom>
          <a:ln w="0">
            <a:noFill/>
          </a:ln>
        </p:spPr>
      </p:pic>
      <p:pic>
        <p:nvPicPr>
          <p:cNvPr id="78" name="图片 4" descr=""/>
          <p:cNvPicPr/>
          <p:nvPr/>
        </p:nvPicPr>
        <p:blipFill>
          <a:blip r:embed="rId3"/>
          <a:stretch/>
        </p:blipFill>
        <p:spPr>
          <a:xfrm>
            <a:off x="1447920" y="3395520"/>
            <a:ext cx="176184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7T00:31:36Z</dcterms:created>
  <dc:creator/>
  <dc:description/>
  <dc:language>en-US</dc:language>
  <cp:lastModifiedBy/>
  <dcterms:modified xsi:type="dcterms:W3CDTF">2015-07-24T07:02:33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