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chimes.wav" ContentType="audio/x-wav"/>
  <Override PartName="/ppt/media/image13.png" ContentType="image/png"/>
  <Override PartName="/ppt/media/image12.jpeg" ContentType="image/jpeg"/>
  <Override PartName="/ppt/media/image6.png" ContentType="image/png"/>
  <Override PartName="/ppt/media/image7.jpeg" ContentType="image/jpeg"/>
  <Override PartName="/ppt/media/image1.jpeg" ContentType="image/jpeg"/>
  <Override PartName="/ppt/media/arro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AA3-222E-42DC-A27E-98E755BA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0E5-CD08-411B-907F-ED99F89B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19C-E8AC-4183-AB7D-845E11B7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915-5599-44EF-B3D0-3E500BB9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BB4-7EB1-4A53-B465-677056E6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1A5-88FE-4187-9FA4-7D121D05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3E8-E55A-47F3-8928-43E3C467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C6A-AA44-493E-894D-CA1AB066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E42-842B-41C7-A2F6-165B01C9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858-3467-42DA-B0E6-56F41655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938-50A7-40D5-9F19-890AFB67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451-AF4A-4B85-B3B3-DF96F54B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FC8E-8170-4364-9F6A-A0C1301D11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01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86280" y="1600200"/>
            <a:ext cx="786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Unit 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Do you have a pe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62120" y="41148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你有一只宠物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乌龟"/>
          <p:cNvPicPr/>
          <p:nvPr/>
        </p:nvPicPr>
        <p:blipFill>
          <a:blip r:embed="rId1"/>
          <a:srcRect l="0" t="0" r="0" b="5553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372320" y="99072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tur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7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523880" y="9144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Do you have a  /an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Yes. I do. I have a </a:t>
            </a:r>
            <a:r>
              <a:rPr b="0" i="1" lang="zh-CN" sz="4000" spc="-1" strike="noStrike">
                <a:solidFill>
                  <a:srgbClr val="ff0066"/>
                </a:solidFill>
                <a:latin typeface="Arial"/>
              </a:rPr>
              <a:t>动物名字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What  colour  is 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i="1" lang="zh-CN" sz="4000" spc="-1" strike="noStrike">
                <a:solidFill>
                  <a:srgbClr val="ff0066"/>
                </a:solidFill>
                <a:latin typeface="Arial"/>
              </a:rPr>
              <a:t>颜色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555720" y="324648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o you have a 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584160" y="46483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o you have a 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431880" y="16002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o you have a 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857760" y="198108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es,I d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60280" y="23320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 have a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465360" y="271296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e will sing for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946320" y="3627360"/>
            <a:ext cx="13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es,I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95840" y="40086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 have a tur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790440" y="43894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e is only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09960" y="342900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我们今天所学的句子造句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并写在练习本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058480" y="1317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66"/>
                </a:solidFill>
                <a:latin typeface="Arial"/>
              </a:rPr>
              <a:t>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u=2723681521,955088114&amp;fm=52&amp;gp=0[1]"/>
          <p:cNvPicPr/>
          <p:nvPr/>
        </p:nvPicPr>
        <p:blipFill>
          <a:blip r:embed="rId1"/>
          <a:srcRect l="0" t="0" r="0" b="8887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2362320" y="1676520"/>
            <a:ext cx="335268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od bye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动物"/>
          <p:cNvPicPr/>
          <p:nvPr/>
        </p:nvPicPr>
        <p:blipFill>
          <a:blip r:embed="rId1"/>
          <a:srcRect l="0" t="0" r="0" b="6169"/>
          <a:stretch/>
        </p:blipFill>
        <p:spPr>
          <a:xfrm>
            <a:off x="992160" y="334800"/>
            <a:ext cx="7240680" cy="3475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987640" y="4500720"/>
            <a:ext cx="317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1800" y="5999040"/>
            <a:ext cx="232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小鸟"/>
          <p:cNvPicPr/>
          <p:nvPr/>
        </p:nvPicPr>
        <p:blipFill>
          <a:blip r:embed="rId1"/>
          <a:stretch/>
        </p:blipFill>
        <p:spPr>
          <a:xfrm>
            <a:off x="2484360" y="693720"/>
            <a:ext cx="3959280" cy="2808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947040" y="411012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65400" y="5705640"/>
            <a:ext cx="144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she"/>
          <p:cNvPicPr/>
          <p:nvPr/>
        </p:nvPicPr>
        <p:blipFill>
          <a:blip r:embed="rId1"/>
          <a:srcRect l="0" t="26458" r="0" b="0"/>
          <a:stretch/>
        </p:blipFill>
        <p:spPr>
          <a:xfrm>
            <a:off x="2484360" y="1295280"/>
            <a:ext cx="4103640" cy="2476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136680" y="4673520"/>
            <a:ext cx="28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841920" y="609768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颜色"/>
          <p:cNvPicPr/>
          <p:nvPr/>
        </p:nvPicPr>
        <p:blipFill>
          <a:blip r:embed="rId1"/>
          <a:stretch/>
        </p:blipFill>
        <p:spPr>
          <a:xfrm>
            <a:off x="2905200" y="404640"/>
            <a:ext cx="3333600" cy="3333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048120" y="4191120"/>
            <a:ext cx="294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375000" y="5530680"/>
            <a:ext cx="241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颜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rcRect l="0" t="0" r="0" b="4257"/>
          <a:stretch/>
        </p:blipFill>
        <p:spPr>
          <a:xfrm>
            <a:off x="-227160" y="0"/>
            <a:ext cx="100634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373040" y="92160"/>
            <a:ext cx="44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’s miss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"/>
          <p:cNvSpPr/>
          <p:nvPr/>
        </p:nvSpPr>
        <p:spPr>
          <a:xfrm>
            <a:off x="2514600" y="609480"/>
            <a:ext cx="2232000" cy="221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4"/>
          <p:cNvSpPr/>
          <p:nvPr/>
        </p:nvSpPr>
        <p:spPr>
          <a:xfrm>
            <a:off x="4648320" y="685800"/>
            <a:ext cx="21715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8"/>
          <p:cNvSpPr/>
          <p:nvPr/>
        </p:nvSpPr>
        <p:spPr>
          <a:xfrm>
            <a:off x="5867280" y="2362320"/>
            <a:ext cx="2160720" cy="223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6"/>
          <p:cNvSpPr/>
          <p:nvPr/>
        </p:nvSpPr>
        <p:spPr>
          <a:xfrm>
            <a:off x="1447920" y="2362320"/>
            <a:ext cx="2590560" cy="22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5"/>
          <p:cNvSpPr/>
          <p:nvPr/>
        </p:nvSpPr>
        <p:spPr>
          <a:xfrm>
            <a:off x="4419720" y="4191120"/>
            <a:ext cx="2533680" cy="238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7"/>
          <p:cNvSpPr/>
          <p:nvPr/>
        </p:nvSpPr>
        <p:spPr>
          <a:xfrm>
            <a:off x="2133720" y="4343400"/>
            <a:ext cx="2361960" cy="22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3447 C 0.10972 -0.05413 0.20712 0.04649 0.22257 0.18922 C 0.23941 0.3324 0.16615 0.46564 0.06302 0.486 C -0.04166 0.50751 -0.13923 0.40851 -0.15434 0.26532 C -0.17066 0.12005 -0.09913 -0.0125 0.00556 -0.03447 Z"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-0.02452 C -0.09566 0.000459999999999999 -0.19705 -0.09346 -0.21545 -0.23479 C -0.2349 -0.37521 -0.16354 -0.5103 -0.05834 -0.53528 C 0.04791 -0.56003 0.14913 -0.46611 0.16788 -0.32501 C 0.18646 -0.18413 0.1151 -0.04951 0.01059 -0.02452 Z">
                                      <p:cBhvr>
                                        <p:cTn id="7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0023 C -0.03351 0.14088 -0.10799 0.27065 -0.21372 0.28939 C -0.31962 0.30789 -0.41667 0.20865 -0.4309 0.06801 C -0.44479 -0.07309 -0.37049 -0.20263 -0.26476 -0.22137 C -0.15903 -0.24011 -0.06181 -0.1411 -0.04757 -0.00023 Z">
                                      <p:cBhvr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044 C -0.00468 -0.14527 0.06459 -0.28337 0.17049 -0.31043 C 0.27639 -0.33958 0.37934 -0.24705 0.39966 -0.10595 C 0.42153 0.03516 0.35278 0.17233 0.2467 0.20032 C 0.14098 0.22831 0.03733 0.13694 0.01632 -0.0044 Z">
                                      <p:cBhvr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9 -0.0111 C 0.0526 0.06223 0.08177 0.22091 0.02691 0.34259 C -0.0283 0.46473 -0.1474 0.50359 -0.23889 0.43026 C -0.33038 0.35693 -0.35972 0.19778 -0.30469 0.07657 C -0.24965 -0.04487 -0.13038 -0.08443 -0.03889 -0.0111 Z">
                                      <p:cBhvr>
                                        <p:cTn id="9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7 -0.0465 C -0.08194 0.06893 -0.20278 0.09623 -0.28976 0.01411 C -0.37674 -0.06824 -0.39705 -0.2297 -0.33524 -0.34536 C -0.27326 -0.46125 -0.15243 -0.48832 -0.06545 -0.40597 C 0.02118 -0.32362 0.0408 -0.16378 -0.01997 -0.0465 Z">
                                      <p:cBhvr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455480" y="1054080"/>
            <a:ext cx="56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Do you have a /an .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841400" y="2205000"/>
            <a:ext cx="27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528560" y="3357720"/>
            <a:ext cx="515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Yes, I do .  I hav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019960" y="4497480"/>
            <a:ext cx="24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是的，我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狗"/>
          <p:cNvPicPr/>
          <p:nvPr/>
        </p:nvPicPr>
        <p:blipFill>
          <a:blip r:embed="rId1"/>
          <a:srcRect l="0" t="0" r="0" b="4879"/>
          <a:stretch/>
        </p:blipFill>
        <p:spPr>
          <a:xfrm>
            <a:off x="0" y="0"/>
            <a:ext cx="4267080" cy="29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猫"/>
          <p:cNvPicPr/>
          <p:nvPr/>
        </p:nvPicPr>
        <p:blipFill>
          <a:blip r:embed="rId2"/>
          <a:srcRect l="0" t="0" r="0" b="7317"/>
          <a:stretch/>
        </p:blipFill>
        <p:spPr>
          <a:xfrm>
            <a:off x="4343400" y="0"/>
            <a:ext cx="4800600" cy="289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小鱼"/>
          <p:cNvPicPr/>
          <p:nvPr/>
        </p:nvPicPr>
        <p:blipFill>
          <a:blip r:embed="rId3"/>
          <a:srcRect l="0" t="0" r="0" b="9303"/>
          <a:stretch/>
        </p:blipFill>
        <p:spPr>
          <a:xfrm>
            <a:off x="1295280" y="3581280"/>
            <a:ext cx="650268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678320" y="121932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d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574160" y="304920"/>
            <a:ext cx="139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c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852880" y="3479760"/>
            <a:ext cx="153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蛇"/>
          <p:cNvPicPr/>
          <p:nvPr/>
        </p:nvPicPr>
        <p:blipFill>
          <a:blip r:embed="rId1"/>
          <a:stretch/>
        </p:blipFill>
        <p:spPr>
          <a:xfrm>
            <a:off x="7632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50280" y="2743200"/>
            <a:ext cx="23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66"/>
                </a:solidFill>
                <a:latin typeface="Arial"/>
              </a:rPr>
              <a:t>sn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08:30:25Z</dcterms:created>
  <dc:creator>lenovo</dc:creator>
  <dc:description/>
  <cp:keywords/>
  <dc:language>en-US</dc:language>
  <cp:lastModifiedBy>dreamsummit</cp:lastModifiedBy>
  <dcterms:modified xsi:type="dcterms:W3CDTF">2015-07-10T03:07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  <property fmtid="{D5CDD505-2E9C-101B-9397-08002B2CF9AE}" pid="3" name="Version">
    <vt:r8>1</vt:r8>
  </property>
</Properties>
</file>