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14.gif" ContentType="image/gif"/>
  <Override PartName="/ppt/media/image17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75C-86B5-4398-9832-9CE87A7C80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6CAA-24A2-4EEA-8F54-075016EFD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A7A3-2E79-48E7-AAD9-512FFA241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EDC2-AE7D-4E48-8437-91832FFA9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AB58-70A6-46EA-830B-CDB2C5167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8C5E-6F47-40CA-906C-A54CBEAB0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F5A-DD8D-4E9D-9B62-A88A3B8F9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FE0E-BCC6-449C-A1D8-0366F51CB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A7D6-CEFA-4A4D-A45D-8E578952D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FE8C-49A4-42F4-A74B-AB595EF50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79A8-4BAB-4E08-B426-0BEC4E481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6BB1-7371-44E0-BA15-B7F0B5AEC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EF99-CB3E-4B2D-B81E-B11B5A7C2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834E-7FA3-4157-9D41-9E47A67A0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8CE9-1C23-4B5F-AF7F-D6E5863DB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9B69-B23E-4999-91E8-0B2EB1D4B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C17D-568B-4CD3-A066-01F191A03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96AB-6EFA-4F1E-9A04-60A922830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1CC-E796-4F32-8C37-E1535BC4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87F-4FDD-4833-AC41-DF012DD2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D52-061E-47DA-866F-3837290B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05C-2719-42C9-936F-58D0016C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5D8-0B1F-4226-A3C9-A26F4C37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62F-8A5B-49E5-988E-ACE7D5D3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1C3-188B-4CB0-A47C-4E39859A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E80-79A0-49A4-BCA3-669BDDB6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FDB-0972-481C-8BE2-4C1986F5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07F-22C3-4C05-A844-2261F9BA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3B7-159C-4FCE-8A52-8142F308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37D-50E5-45BB-9DFE-696C5BD3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D0DD-C7DD-4DC0-8AAF-7AE62BA0DD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092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北师大版一年级数学下册第一单元课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771640" y="3284640"/>
            <a:ext cx="38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alibri"/>
                <a:ea typeface="黑体"/>
              </a:rPr>
              <a:t>数豆子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3"/>
          <p:cNvPicPr/>
          <p:nvPr/>
        </p:nvPicPr>
        <p:blipFill>
          <a:blip r:embed="rId1"/>
          <a:stretch/>
        </p:blipFill>
        <p:spPr>
          <a:xfrm>
            <a:off x="2484360" y="333360"/>
            <a:ext cx="532944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小恐龙"/>
          <p:cNvPicPr/>
          <p:nvPr/>
        </p:nvPicPr>
        <p:blipFill>
          <a:blip r:embed="rId2"/>
          <a:stretch/>
        </p:blipFill>
        <p:spPr>
          <a:xfrm>
            <a:off x="395280" y="1268280"/>
            <a:ext cx="1841400" cy="248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图片28"/>
          <p:cNvPicPr/>
          <p:nvPr/>
        </p:nvPicPr>
        <p:blipFill>
          <a:blip r:embed="rId3"/>
          <a:stretch/>
        </p:blipFill>
        <p:spPr>
          <a:xfrm>
            <a:off x="7020000" y="3933720"/>
            <a:ext cx="149364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395280" y="3716280"/>
            <a:ext cx="3384720" cy="1368360"/>
          </a:xfrm>
          <a:prstGeom prst="cloudCallout">
            <a:avLst>
              <a:gd name="adj1" fmla="val -2532"/>
              <a:gd name="adj2" fmla="val -146518"/>
            </a:avLst>
          </a:prstGeom>
          <a:solidFill>
            <a:srgbClr val="99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估计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203640" y="4724280"/>
            <a:ext cx="3384360" cy="1368720"/>
          </a:xfrm>
          <a:prstGeom prst="cloudCallout">
            <a:avLst>
              <a:gd name="adj1" fmla="val 65476"/>
              <a:gd name="adj2" fmla="val -7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估计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268360" y="1052640"/>
            <a:ext cx="4824720" cy="4105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在计数器上怎么表示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484360" y="1989000"/>
            <a:ext cx="360036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78000" y="5362560"/>
            <a:ext cx="87012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377600" y="5326200"/>
            <a:ext cx="867960" cy="916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8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300720" y="1052640"/>
            <a:ext cx="2203560" cy="4248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右边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在个位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表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个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79280" y="1268280"/>
            <a:ext cx="2160720" cy="39592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左边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在十位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表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个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2914560" y="2149200"/>
            <a:ext cx="2438280" cy="3353040"/>
            <a:chOff x="2914560" y="2149200"/>
            <a:chExt cx="2438280" cy="3353040"/>
          </a:xfrm>
        </p:grpSpPr>
        <p:sp>
          <p:nvSpPr>
            <p:cNvPr id="88" name="Rectangle 8"/>
            <p:cNvSpPr/>
            <p:nvPr/>
          </p:nvSpPr>
          <p:spPr>
            <a:xfrm>
              <a:off x="2914560" y="4968720"/>
              <a:ext cx="121896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十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9"/>
            <p:cNvSpPr/>
            <p:nvPr/>
          </p:nvSpPr>
          <p:spPr>
            <a:xfrm flipV="1">
              <a:off x="3524040" y="2149200"/>
              <a:ext cx="0" cy="281916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4133520" y="4968720"/>
              <a:ext cx="1219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个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 flipV="1">
              <a:off x="4743360" y="2149200"/>
              <a:ext cx="0" cy="281916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Oval 12"/>
          <p:cNvSpPr/>
          <p:nvPr/>
        </p:nvSpPr>
        <p:spPr>
          <a:xfrm>
            <a:off x="4438800" y="4664160"/>
            <a:ext cx="60948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4438800" y="435924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4438800" y="405432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3219480" y="4664160"/>
            <a:ext cx="60948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3219480" y="435924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4438800" y="3749760"/>
            <a:ext cx="60948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4438800" y="344484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4438800" y="313992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4438800" y="2835360"/>
            <a:ext cx="60948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4438800" y="253044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2326320" y="404640"/>
            <a:ext cx="32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ea typeface="黑体"/>
              </a:rPr>
              <a:t>28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  <a:ea typeface="黑体"/>
              </a:rPr>
              <a:t>在计数器上的表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23"/>
          <p:cNvSpPr/>
          <p:nvPr/>
        </p:nvSpPr>
        <p:spPr>
          <a:xfrm>
            <a:off x="5003640" y="2492280"/>
            <a:ext cx="1297080" cy="2376720"/>
          </a:xfrm>
          <a:custGeom>
            <a:avLst/>
            <a:gdLst>
              <a:gd name="textAreaLeft" fmla="*/ 0 w 1297080"/>
              <a:gd name="textAreaRight" fmla="*/ 468360 w 129708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24"/>
          <p:cNvSpPr/>
          <p:nvPr/>
        </p:nvSpPr>
        <p:spPr>
          <a:xfrm>
            <a:off x="2195640" y="4365720"/>
            <a:ext cx="1008000" cy="50328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5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6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9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7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8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8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2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326320" y="404640"/>
            <a:ext cx="32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ea typeface="黑体"/>
              </a:rPr>
              <a:t>30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  <a:ea typeface="黑体"/>
              </a:rPr>
              <a:t>在计数器上的表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484360" y="1989000"/>
            <a:ext cx="360036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078000" y="5362560"/>
            <a:ext cx="87012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3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377600" y="5326200"/>
            <a:ext cx="867960" cy="916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0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300720" y="1052640"/>
            <a:ext cx="2203560" cy="4248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右边没有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在个位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表示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79280" y="1268280"/>
            <a:ext cx="2160720" cy="39592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左边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在十位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表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个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2914560" y="2149200"/>
            <a:ext cx="2438280" cy="3353040"/>
            <a:chOff x="2914560" y="2149200"/>
            <a:chExt cx="2438280" cy="3353040"/>
          </a:xfrm>
        </p:grpSpPr>
        <p:sp>
          <p:nvSpPr>
            <p:cNvPr id="112" name="Rectangle 9"/>
            <p:cNvSpPr/>
            <p:nvPr/>
          </p:nvSpPr>
          <p:spPr>
            <a:xfrm>
              <a:off x="2914560" y="4968720"/>
              <a:ext cx="121896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十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 flipV="1">
              <a:off x="3524040" y="2149200"/>
              <a:ext cx="0" cy="281916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4133520" y="4968720"/>
              <a:ext cx="1219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个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V="1">
              <a:off x="4743360" y="2149200"/>
              <a:ext cx="0" cy="281916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AutoShape 13"/>
          <p:cNvSpPr/>
          <p:nvPr/>
        </p:nvSpPr>
        <p:spPr>
          <a:xfrm>
            <a:off x="2195640" y="4076640"/>
            <a:ext cx="1008000" cy="79236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3203640" y="467028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3203640" y="4365720"/>
            <a:ext cx="60948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3203640" y="406080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4859280" y="3429000"/>
            <a:ext cx="1441440" cy="216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0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2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0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352680" y="761760"/>
            <a:ext cx="2438280" cy="3353040"/>
            <a:chOff x="3352680" y="761760"/>
            <a:chExt cx="2438280" cy="3353040"/>
          </a:xfrm>
        </p:grpSpPr>
        <p:sp>
          <p:nvSpPr>
            <p:cNvPr id="122" name="Rectangle 3"/>
            <p:cNvSpPr/>
            <p:nvPr/>
          </p:nvSpPr>
          <p:spPr>
            <a:xfrm>
              <a:off x="3352680" y="3581280"/>
              <a:ext cx="1218960" cy="533520"/>
            </a:xfrm>
            <a:prstGeom prst="rect">
              <a:avLst/>
            </a:prstGeom>
            <a:solidFill>
              <a:srgbClr val="c5f0ff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eeece1"/>
                  </a:solidFill>
                  <a:latin typeface="隶书"/>
                  <a:ea typeface="隶书"/>
                </a:rPr>
                <a:t>十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4"/>
            <p:cNvSpPr/>
            <p:nvPr/>
          </p:nvSpPr>
          <p:spPr>
            <a:xfrm flipV="1">
              <a:off x="3962160" y="761760"/>
              <a:ext cx="0" cy="281916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4571640" y="3581280"/>
              <a:ext cx="121932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eeece1"/>
                  </a:solidFill>
                  <a:latin typeface="隶书"/>
                  <a:ea typeface="隶书"/>
                </a:rPr>
                <a:t>个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6"/>
            <p:cNvSpPr/>
            <p:nvPr/>
          </p:nvSpPr>
          <p:spPr>
            <a:xfrm flipV="1">
              <a:off x="5181480" y="761760"/>
              <a:ext cx="0" cy="281916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Oval 7"/>
          <p:cNvSpPr/>
          <p:nvPr/>
        </p:nvSpPr>
        <p:spPr>
          <a:xfrm>
            <a:off x="4876920" y="3276720"/>
            <a:ext cx="60948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1680" y="434340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4876920" y="297180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3657600" y="3276720"/>
            <a:ext cx="60948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550680" y="434340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657600" y="2971800"/>
            <a:ext cx="60948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402800" y="5715000"/>
            <a:ext cx="18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仿宋_GB2312"/>
                <a:ea typeface="仿宋_GB2312"/>
              </a:rPr>
              <a:t>这两个</a:t>
            </a:r>
            <a:r>
              <a:rPr b="1" lang="zh-CN" sz="2800" spc="-1" strike="noStrike">
                <a:solidFill>
                  <a:srgbClr val="ccff99"/>
                </a:solidFill>
                <a:latin typeface="Times New Roman"/>
                <a:ea typeface="仿宋_GB2312"/>
              </a:rPr>
              <a:t>“</a:t>
            </a:r>
            <a:r>
              <a:rPr b="1" lang="en-US" sz="2800" spc="-1" strike="noStrike">
                <a:solidFill>
                  <a:srgbClr val="ccff99"/>
                </a:solidFill>
                <a:latin typeface="仿宋_GB2312"/>
                <a:ea typeface="仿宋_GB2312"/>
              </a:rPr>
              <a:t>2</a:t>
            </a:r>
            <a:r>
              <a:rPr b="1" lang="en-US" sz="2800" spc="-1" strike="noStrike">
                <a:solidFill>
                  <a:srgbClr val="ccff99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ccff99"/>
                </a:solidFill>
                <a:latin typeface="仿宋_GB2312"/>
                <a:ea typeface="仿宋_GB2312"/>
              </a:rPr>
              <a:t>的意义一样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4" descr="5"/>
          <p:cNvPicPr/>
          <p:nvPr/>
        </p:nvPicPr>
        <p:blipFill>
          <a:blip r:embed="rId1"/>
          <a:stretch/>
        </p:blipFill>
        <p:spPr>
          <a:xfrm>
            <a:off x="1830240" y="5257800"/>
            <a:ext cx="129384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Line 15"/>
          <p:cNvSpPr/>
          <p:nvPr/>
        </p:nvSpPr>
        <p:spPr>
          <a:xfrm>
            <a:off x="5562720" y="4800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3047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ff"/>
                </a:solidFill>
                <a:latin typeface="Times New Roman"/>
                <a:ea typeface="仿宋_GB2312"/>
              </a:rPr>
              <a:t>表示两个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7"/>
          <p:cNvSpPr/>
          <p:nvPr/>
        </p:nvSpPr>
        <p:spPr>
          <a:xfrm flipH="1">
            <a:off x="2362320" y="4800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903960" y="4572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仿宋_GB2312"/>
              </a:rPr>
              <a:t>表示两个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57200" y="2133720"/>
            <a:ext cx="2209320" cy="3276000"/>
            <a:chOff x="457200" y="2133720"/>
            <a:chExt cx="2209320" cy="3276000"/>
          </a:xfrm>
        </p:grpSpPr>
        <p:sp>
          <p:nvSpPr>
            <p:cNvPr id="139" name="Rectangle 3"/>
            <p:cNvSpPr/>
            <p:nvPr/>
          </p:nvSpPr>
          <p:spPr>
            <a:xfrm>
              <a:off x="457200" y="4888440"/>
              <a:ext cx="1104480" cy="521280"/>
            </a:xfrm>
            <a:prstGeom prst="rect">
              <a:avLst/>
            </a:prstGeom>
            <a:solidFill>
              <a:srgbClr val="c5f0ff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ece1"/>
                  </a:solidFill>
                  <a:latin typeface="隶书"/>
                  <a:ea typeface="隶书"/>
                </a:rPr>
                <a:t>十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 flipV="1">
              <a:off x="1009440" y="2133720"/>
              <a:ext cx="0" cy="275472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1561680" y="4888440"/>
              <a:ext cx="1104840" cy="52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ece1"/>
                  </a:solidFill>
                  <a:latin typeface="隶书"/>
                  <a:ea typeface="隶书"/>
                </a:rPr>
                <a:t>个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 flipV="1">
              <a:off x="2114280" y="2133720"/>
              <a:ext cx="0" cy="275472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Oval 7"/>
          <p:cNvSpPr/>
          <p:nvPr/>
        </p:nvSpPr>
        <p:spPr>
          <a:xfrm>
            <a:off x="1866960" y="457200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1866960" y="426708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866960" y="3962520"/>
            <a:ext cx="45720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1866960" y="365760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66960" y="335268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1866960" y="3048120"/>
            <a:ext cx="45720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75400" y="852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  <a:ea typeface="仿宋_GB2312"/>
              </a:rPr>
              <a:t>写出计数器上表示的数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762120" y="457200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762120" y="426708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3200400" y="2133720"/>
            <a:ext cx="2209320" cy="3276000"/>
            <a:chOff x="3200400" y="2133720"/>
            <a:chExt cx="2209320" cy="3276000"/>
          </a:xfrm>
        </p:grpSpPr>
        <p:sp>
          <p:nvSpPr>
            <p:cNvPr id="153" name="Rectangle 19"/>
            <p:cNvSpPr/>
            <p:nvPr/>
          </p:nvSpPr>
          <p:spPr>
            <a:xfrm>
              <a:off x="3200400" y="4888440"/>
              <a:ext cx="1104480" cy="521280"/>
            </a:xfrm>
            <a:prstGeom prst="rect">
              <a:avLst/>
            </a:prstGeom>
            <a:solidFill>
              <a:srgbClr val="c5f0ff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ece1"/>
                  </a:solidFill>
                  <a:latin typeface="隶书"/>
                  <a:ea typeface="隶书"/>
                </a:rPr>
                <a:t>十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 flipV="1">
              <a:off x="3752640" y="2133720"/>
              <a:ext cx="0" cy="275472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21"/>
            <p:cNvSpPr/>
            <p:nvPr/>
          </p:nvSpPr>
          <p:spPr>
            <a:xfrm>
              <a:off x="4304880" y="4888440"/>
              <a:ext cx="1104840" cy="52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ece1"/>
                  </a:solidFill>
                  <a:latin typeface="隶书"/>
                  <a:ea typeface="隶书"/>
                </a:rPr>
                <a:t>个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 flipV="1">
              <a:off x="4857480" y="2133720"/>
              <a:ext cx="0" cy="2754720"/>
            </a:xfrm>
            <a:prstGeom prst="line">
              <a:avLst/>
            </a:prstGeom>
            <a:ln w="1015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Oval 23"/>
          <p:cNvSpPr/>
          <p:nvPr/>
        </p:nvSpPr>
        <p:spPr>
          <a:xfrm>
            <a:off x="4610160" y="457200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610160" y="426708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610160" y="3962520"/>
            <a:ext cx="45720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610160" y="365760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4610160" y="335268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4610160" y="3048120"/>
            <a:ext cx="45720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31"/>
          <p:cNvSpPr/>
          <p:nvPr/>
        </p:nvSpPr>
        <p:spPr>
          <a:xfrm>
            <a:off x="3505320" y="457200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32"/>
          <p:cNvSpPr/>
          <p:nvPr/>
        </p:nvSpPr>
        <p:spPr>
          <a:xfrm>
            <a:off x="3505320" y="426708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6858000" y="4889520"/>
            <a:ext cx="952560" cy="520560"/>
          </a:xfrm>
          <a:prstGeom prst="rect">
            <a:avLst/>
          </a:prstGeom>
          <a:solidFill>
            <a:srgbClr val="c5f0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隶书"/>
                <a:ea typeface="隶书"/>
              </a:rPr>
              <a:t>十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34"/>
          <p:cNvSpPr/>
          <p:nvPr/>
        </p:nvSpPr>
        <p:spPr>
          <a:xfrm flipV="1">
            <a:off x="7410600" y="2133360"/>
            <a:ext cx="1440" cy="2755800"/>
          </a:xfrm>
          <a:prstGeom prst="line">
            <a:avLst/>
          </a:prstGeom>
          <a:ln w="1015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7810560" y="4889520"/>
            <a:ext cx="95256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隶书"/>
                <a:ea typeface="隶书"/>
              </a:rPr>
              <a:t>个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36"/>
          <p:cNvSpPr/>
          <p:nvPr/>
        </p:nvSpPr>
        <p:spPr>
          <a:xfrm flipV="1">
            <a:off x="8362800" y="2133360"/>
            <a:ext cx="1800" cy="2755800"/>
          </a:xfrm>
          <a:prstGeom prst="line">
            <a:avLst/>
          </a:prstGeom>
          <a:ln w="1015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9"/>
          <p:cNvSpPr/>
          <p:nvPr/>
        </p:nvSpPr>
        <p:spPr>
          <a:xfrm>
            <a:off x="5905440" y="4889520"/>
            <a:ext cx="95256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隶书"/>
                <a:ea typeface="隶书"/>
              </a:rPr>
              <a:t>百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40"/>
          <p:cNvSpPr/>
          <p:nvPr/>
        </p:nvSpPr>
        <p:spPr>
          <a:xfrm flipV="1">
            <a:off x="6458040" y="2133360"/>
            <a:ext cx="1440" cy="2755800"/>
          </a:xfrm>
          <a:prstGeom prst="line">
            <a:avLst/>
          </a:prstGeom>
          <a:ln w="1015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42"/>
          <p:cNvSpPr/>
          <p:nvPr/>
        </p:nvSpPr>
        <p:spPr>
          <a:xfrm>
            <a:off x="6229440" y="4572000"/>
            <a:ext cx="4572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3" descr="bul1b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686800" y="6477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图片8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 flipV="1">
            <a:off x="4427640" y="6206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4"/>
          <p:cNvSpPr/>
          <p:nvPr/>
        </p:nvSpPr>
        <p:spPr>
          <a:xfrm flipV="1" rot="19694400">
            <a:off x="2987640" y="105192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5"/>
          <p:cNvSpPr/>
          <p:nvPr/>
        </p:nvSpPr>
        <p:spPr>
          <a:xfrm flipV="1" rot="18542400">
            <a:off x="2053080" y="191448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6"/>
          <p:cNvSpPr/>
          <p:nvPr/>
        </p:nvSpPr>
        <p:spPr>
          <a:xfrm flipV="1" rot="17506200">
            <a:off x="1474920" y="306864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7"/>
          <p:cNvSpPr/>
          <p:nvPr/>
        </p:nvSpPr>
        <p:spPr>
          <a:xfrm flipV="1" rot="16534800">
            <a:off x="125964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1" name="AutoShape 10"/>
          <p:cNvSpPr/>
          <p:nvPr/>
        </p:nvSpPr>
        <p:spPr>
          <a:xfrm flipH="1" flipV="1" rot="1905600">
            <a:off x="5868000" y="10519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11"/>
          <p:cNvSpPr/>
          <p:nvPr/>
        </p:nvSpPr>
        <p:spPr>
          <a:xfrm flipH="1" flipV="1" rot="3057600">
            <a:off x="6803280" y="191736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12"/>
          <p:cNvSpPr/>
          <p:nvPr/>
        </p:nvSpPr>
        <p:spPr>
          <a:xfrm flipH="1" flipV="1" rot="4093800">
            <a:off x="7381080" y="3068280"/>
            <a:ext cx="1447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13"/>
          <p:cNvSpPr/>
          <p:nvPr/>
        </p:nvSpPr>
        <p:spPr>
          <a:xfrm flipH="1" flipV="1" rot="5065200">
            <a:off x="759600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1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2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3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6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7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1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8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9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2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3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7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3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4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5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197080" y="5159520"/>
          <a:ext cx="3454560" cy="642960"/>
        </p:xfrm>
        <a:graphic>
          <a:graphicData uri="http://schemas.openxmlformats.org/drawingml/2006/table">
            <a:tbl>
              <a:tblPr/>
              <a:tblGrid>
                <a:gridCol w="1728720"/>
                <a:gridCol w="17258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86" name="Line 10"/>
          <p:cNvSpPr/>
          <p:nvPr/>
        </p:nvSpPr>
        <p:spPr>
          <a:xfrm>
            <a:off x="3059280" y="270828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4788000" y="270828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2843280" y="4869000"/>
            <a:ext cx="431640" cy="288720"/>
          </a:xfrm>
          <a:prstGeom prst="ellipse">
            <a:avLst/>
          </a:prstGeom>
          <a:solidFill>
            <a:srgbClr val="e36d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2843280" y="4581360"/>
            <a:ext cx="431640" cy="287640"/>
          </a:xfrm>
          <a:prstGeom prst="ellipse">
            <a:avLst/>
          </a:prstGeom>
          <a:solidFill>
            <a:srgbClr val="e36d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2843280" y="3716280"/>
            <a:ext cx="431640" cy="289080"/>
          </a:xfrm>
          <a:prstGeom prst="ellipse">
            <a:avLst/>
          </a:prstGeom>
          <a:solidFill>
            <a:srgbClr val="e36d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2843280" y="4292640"/>
            <a:ext cx="431640" cy="287280"/>
          </a:xfrm>
          <a:prstGeom prst="ellipse">
            <a:avLst/>
          </a:prstGeom>
          <a:solidFill>
            <a:srgbClr val="e36d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16"/>
          <p:cNvSpPr/>
          <p:nvPr/>
        </p:nvSpPr>
        <p:spPr>
          <a:xfrm>
            <a:off x="2843280" y="4005360"/>
            <a:ext cx="431640" cy="288720"/>
          </a:xfrm>
          <a:prstGeom prst="ellipse">
            <a:avLst/>
          </a:prstGeom>
          <a:solidFill>
            <a:srgbClr val="e36d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17"/>
          <p:cNvSpPr/>
          <p:nvPr/>
        </p:nvSpPr>
        <p:spPr>
          <a:xfrm>
            <a:off x="2843280" y="3429000"/>
            <a:ext cx="431640" cy="287280"/>
          </a:xfrm>
          <a:prstGeom prst="ellipse">
            <a:avLst/>
          </a:prstGeom>
          <a:solidFill>
            <a:srgbClr val="e36d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4572000" y="4869000"/>
            <a:ext cx="431640" cy="288720"/>
          </a:xfrm>
          <a:prstGeom prst="ellipse">
            <a:avLst/>
          </a:prstGeom>
          <a:solidFill>
            <a:srgbClr val="e36d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4572000" y="4581360"/>
            <a:ext cx="433440" cy="287640"/>
          </a:xfrm>
          <a:prstGeom prst="ellipse">
            <a:avLst/>
          </a:prstGeom>
          <a:solidFill>
            <a:srgbClr val="e36d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2941920" y="58053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          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3348000" y="333360"/>
            <a:ext cx="4356000" cy="2265480"/>
          </a:xfrm>
          <a:prstGeom prst="wedgeEllipseCallout">
            <a:avLst>
              <a:gd name="adj1" fmla="val -42055"/>
              <a:gd name="adj2" fmla="val 71092"/>
            </a:avLst>
          </a:prstGeom>
          <a:solidFill>
            <a:srgbClr val="9ff5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左边的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在十位上，表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个十；右边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在个位上，表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个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游戏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Calibri"/>
              </a:rPr>
              <a:t>　</a:t>
            </a:r>
            <a:r>
              <a:rPr b="1" lang="zh-CN" sz="3200" spc="-1" strike="noStrike">
                <a:solidFill>
                  <a:srgbClr val="808000"/>
                </a:solidFill>
                <a:latin typeface="Calibri"/>
              </a:rPr>
              <a:t>　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一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拨数游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Calibri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个拨数，两个同时读并写出这个数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全班交流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教师注意抓住对特别的数的处理，例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等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认识百位。可以介绍一下三位数和两位数。</a:t>
            </a:r>
            <a:r>
              <a:rPr b="0" lang="zh-CN" sz="3200" spc="-1" strike="noStrike">
                <a:solidFill>
                  <a:srgbClr val="99cc00"/>
                </a:solidFill>
                <a:latin typeface="Calibri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ff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游戏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Calibri"/>
              </a:rPr>
              <a:t>　</a:t>
            </a:r>
            <a:r>
              <a:rPr b="1" lang="en-US" sz="3200" spc="-1" strike="noStrike">
                <a:solidFill>
                  <a:srgbClr val="d60093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d60093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d60093"/>
                </a:solidFill>
                <a:latin typeface="Calibri"/>
              </a:rPr>
              <a:t>猜数游戏 </a:t>
            </a:r>
            <a:br>
              <a:rPr sz="3200"/>
            </a:br>
            <a:r>
              <a:rPr b="1" lang="zh-CN" sz="3200" spc="-1" strike="noStrike">
                <a:solidFill>
                  <a:srgbClr val="d60093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全班一起做猜数游戏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你的纸上悄悄写一个两位数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指名猜一名学生写的数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其他学生猜，该生做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教师试猜一个数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用区间套的方法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通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豆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实践活动，初步培养同学们的估算意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豆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操作活动中体会物体与数量的对应关系，体验数的实际意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会写百以内的数，进一步体会数位、基数、序数的意义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844640" y="981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alibri"/>
                <a:ea typeface="黑体"/>
              </a:rPr>
              <a:t>写出计数器上表示的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" descr="1"/>
          <p:cNvPicPr/>
          <p:nvPr/>
        </p:nvPicPr>
        <p:blipFill>
          <a:blip r:embed="rId1"/>
          <a:stretch/>
        </p:blipFill>
        <p:spPr>
          <a:xfrm>
            <a:off x="395280" y="2492280"/>
            <a:ext cx="8379000" cy="23986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1482480" y="412128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d1d"/>
                </a:solidFill>
                <a:latin typeface="Calibri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346200" y="414828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d1d"/>
                </a:solidFill>
                <a:latin typeface="Calibri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277960" y="4121280"/>
            <a:ext cx="9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d1d"/>
                </a:solidFill>
                <a:latin typeface="Calibri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2"/>
          <p:cNvPicPr/>
          <p:nvPr/>
        </p:nvPicPr>
        <p:blipFill>
          <a:blip r:embed="rId1"/>
          <a:stretch/>
        </p:blipFill>
        <p:spPr>
          <a:xfrm>
            <a:off x="395280" y="476280"/>
            <a:ext cx="8496360" cy="302400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3"/>
          <p:cNvGrpSpPr/>
          <p:nvPr/>
        </p:nvGrpSpPr>
        <p:grpSpPr>
          <a:xfrm>
            <a:off x="5148360" y="3213000"/>
            <a:ext cx="3166920" cy="3438000"/>
            <a:chOff x="5148360" y="3213000"/>
            <a:chExt cx="3166920" cy="3438000"/>
          </a:xfrm>
        </p:grpSpPr>
        <p:grpSp>
          <p:nvGrpSpPr>
            <p:cNvPr id="209" name="Group 4"/>
            <p:cNvGrpSpPr/>
            <p:nvPr/>
          </p:nvGrpSpPr>
          <p:grpSpPr>
            <a:xfrm>
              <a:off x="5148360" y="3213000"/>
              <a:ext cx="3166920" cy="3384360"/>
              <a:chOff x="5148360" y="3213000"/>
              <a:chExt cx="3166920" cy="3384360"/>
            </a:xfrm>
          </p:grpSpPr>
          <p:sp>
            <p:nvSpPr>
              <p:cNvPr id="210" name="Rectangle 5"/>
              <p:cNvSpPr/>
              <p:nvPr/>
            </p:nvSpPr>
            <p:spPr>
              <a:xfrm>
                <a:off x="5148360" y="3213000"/>
                <a:ext cx="3166920" cy="3384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5526360" y="3328560"/>
                <a:ext cx="2144520" cy="2423880"/>
                <a:chOff x="5526360" y="3328560"/>
                <a:chExt cx="2144520" cy="2423880"/>
              </a:xfrm>
            </p:grpSpPr>
            <p:sp>
              <p:nvSpPr>
                <p:cNvPr id="212" name="Rectangle 7"/>
                <p:cNvSpPr/>
                <p:nvPr/>
              </p:nvSpPr>
              <p:spPr>
                <a:xfrm>
                  <a:off x="5526360" y="5366880"/>
                  <a:ext cx="1072080" cy="385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隶书"/>
                      <a:ea typeface="隶书"/>
                    </a:rPr>
                    <a:t>十位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Line 8"/>
                <p:cNvSpPr/>
                <p:nvPr/>
              </p:nvSpPr>
              <p:spPr>
                <a:xfrm flipV="1">
                  <a:off x="6062400" y="3328560"/>
                  <a:ext cx="0" cy="2037960"/>
                </a:xfrm>
                <a:prstGeom prst="line">
                  <a:avLst/>
                </a:prstGeom>
                <a:ln w="10152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Rectangle 9"/>
                <p:cNvSpPr/>
                <p:nvPr/>
              </p:nvSpPr>
              <p:spPr>
                <a:xfrm>
                  <a:off x="6598440" y="5366880"/>
                  <a:ext cx="1072440" cy="385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3300"/>
                      </a:solidFill>
                      <a:latin typeface="隶书"/>
                      <a:ea typeface="隶书"/>
                    </a:rPr>
                    <a:t>个位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Line 10"/>
                <p:cNvSpPr/>
                <p:nvPr/>
              </p:nvSpPr>
              <p:spPr>
                <a:xfrm flipV="1">
                  <a:off x="7134840" y="3328560"/>
                  <a:ext cx="0" cy="2037960"/>
                </a:xfrm>
                <a:prstGeom prst="line">
                  <a:avLst/>
                </a:prstGeom>
                <a:ln w="10152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6" name="Oval 11"/>
              <p:cNvSpPr/>
              <p:nvPr/>
            </p:nvSpPr>
            <p:spPr>
              <a:xfrm>
                <a:off x="6867720" y="5148000"/>
                <a:ext cx="536400" cy="219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Oval 12"/>
              <p:cNvSpPr/>
              <p:nvPr/>
            </p:nvSpPr>
            <p:spPr>
              <a:xfrm>
                <a:off x="6867720" y="4927320"/>
                <a:ext cx="536400" cy="2206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Oval 13"/>
              <p:cNvSpPr/>
              <p:nvPr/>
            </p:nvSpPr>
            <p:spPr>
              <a:xfrm>
                <a:off x="6867720" y="4706640"/>
                <a:ext cx="536400" cy="2206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Oval 14"/>
              <p:cNvSpPr/>
              <p:nvPr/>
            </p:nvSpPr>
            <p:spPr>
              <a:xfrm>
                <a:off x="5794560" y="5148000"/>
                <a:ext cx="536400" cy="219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Oval 15"/>
              <p:cNvSpPr/>
              <p:nvPr/>
            </p:nvSpPr>
            <p:spPr>
              <a:xfrm>
                <a:off x="5794560" y="4927320"/>
                <a:ext cx="536400" cy="2206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6867720" y="4485960"/>
                <a:ext cx="536400" cy="2206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Oval 17"/>
              <p:cNvSpPr/>
              <p:nvPr/>
            </p:nvSpPr>
            <p:spPr>
              <a:xfrm>
                <a:off x="6867720" y="4265280"/>
                <a:ext cx="536400" cy="2206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Oval 18"/>
              <p:cNvSpPr/>
              <p:nvPr/>
            </p:nvSpPr>
            <p:spPr>
              <a:xfrm>
                <a:off x="6867720" y="4044600"/>
                <a:ext cx="536400" cy="2206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4" name="Text Box 19"/>
            <p:cNvSpPr/>
            <p:nvPr/>
          </p:nvSpPr>
          <p:spPr>
            <a:xfrm>
              <a:off x="5724720" y="5734080"/>
              <a:ext cx="765000" cy="916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00ff"/>
                  </a:solidFill>
                  <a:latin typeface="Times New Roman"/>
                </a:rPr>
                <a:t>2 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 Box 20"/>
            <p:cNvSpPr/>
            <p:nvPr/>
          </p:nvSpPr>
          <p:spPr>
            <a:xfrm>
              <a:off x="6660720" y="5734080"/>
              <a:ext cx="867960" cy="916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 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AutoShape 21"/>
          <p:cNvSpPr/>
          <p:nvPr/>
        </p:nvSpPr>
        <p:spPr>
          <a:xfrm>
            <a:off x="1116000" y="5084640"/>
            <a:ext cx="367200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8" y="3117"/>
                </a:moveTo>
                <a:lnTo>
                  <a:pt x="-934" y="3117"/>
                </a:lnTo>
                <a:lnTo>
                  <a:pt x="-934" y="-10216"/>
                </a:lnTo>
                <a:lnTo>
                  <a:pt x="24056" y="-23634"/>
                </a:lnTo>
              </a:path>
            </a:pathLst>
          </a:custGeom>
          <a:solidFill>
            <a:srgbClr val="4f81bd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计数器上的摆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3" descr="3"/>
          <p:cNvPicPr/>
          <p:nvPr/>
        </p:nvPicPr>
        <p:blipFill>
          <a:blip r:embed="rId1"/>
          <a:stretch/>
        </p:blipFill>
        <p:spPr>
          <a:xfrm>
            <a:off x="324000" y="1989000"/>
            <a:ext cx="8496000" cy="3240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600560" y="4221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640240" y="4221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706920" y="423396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5356440" y="4221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397920" y="4221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7485120" y="423396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57360" y="549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alibri"/>
                <a:ea typeface="黑体"/>
              </a:rPr>
              <a:t>写出计数器上表示的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4"/>
          <p:cNvPicPr/>
          <p:nvPr/>
        </p:nvPicPr>
        <p:blipFill>
          <a:blip r:embed="rId1"/>
          <a:stretch/>
        </p:blipFill>
        <p:spPr>
          <a:xfrm>
            <a:off x="324000" y="2276640"/>
            <a:ext cx="8496000" cy="2663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1355760" y="422100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429000" y="422100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5473800" y="422100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7548840" y="422100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d1d"/>
                </a:solidFill>
                <a:latin typeface="Calibri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557360" y="549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alibri"/>
                <a:ea typeface="黑体"/>
              </a:rPr>
              <a:t>写出计数器上表示的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5"/>
          <p:cNvPicPr/>
          <p:nvPr/>
        </p:nvPicPr>
        <p:blipFill>
          <a:blip r:embed="rId1"/>
          <a:stretch/>
        </p:blipFill>
        <p:spPr>
          <a:xfrm>
            <a:off x="395280" y="1700280"/>
            <a:ext cx="8496360" cy="33130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4305960" y="26859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d1d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240880" y="2705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d1d"/>
                </a:solidFill>
                <a:latin typeface="Calibri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4232880" y="37861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d1d"/>
                </a:solidFill>
                <a:latin typeface="Calibri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226480" y="38289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d1d"/>
                </a:solidFill>
                <a:latin typeface="Calibri"/>
              </a:rPr>
              <a:t>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说一说收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通过今天的学习，你又有哪些收获？你还想研究什么数学问题？交流一下吧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活动要求及规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cc0099"/>
                </a:solidFill>
                <a:latin typeface="Calibri"/>
              </a:rPr>
              <a:t>要求：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玩的时候，同学之间要会合作，互相谦让。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玩豆子的时候要注意，别让豆子掉到地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cc0099"/>
                </a:solidFill>
                <a:latin typeface="Calibri"/>
              </a:rPr>
              <a:t>规则：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同桌两人玩豆子。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其中一人抓一把豆子，猜一猜有多少粒。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两人数一数有多少粒豆子。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　　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看谁猜得最接近。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　　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活动结束时，我就站在这儿，你就马上        停止了。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3"/>
          <p:cNvPicPr/>
          <p:nvPr/>
        </p:nvPicPr>
        <p:blipFill>
          <a:blip r:embed="rId1"/>
          <a:stretch/>
        </p:blipFill>
        <p:spPr>
          <a:xfrm>
            <a:off x="611280" y="260280"/>
            <a:ext cx="7561080" cy="58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684360" y="404640"/>
            <a:ext cx="7488000" cy="606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"/>
          <p:cNvPicPr/>
          <p:nvPr/>
        </p:nvPicPr>
        <p:blipFill>
          <a:blip r:embed="rId1"/>
          <a:stretch/>
        </p:blipFill>
        <p:spPr>
          <a:xfrm>
            <a:off x="6477120" y="1581120"/>
            <a:ext cx="2422440" cy="3600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685800" y="2209680"/>
            <a:ext cx="5410080" cy="1752840"/>
          </a:xfrm>
          <a:prstGeom prst="cloudCallout">
            <a:avLst>
              <a:gd name="adj1" fmla="val 47124"/>
              <a:gd name="adj2" fmla="val -2898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抓一把豆子，估计一下有多少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"/>
          <p:cNvPicPr/>
          <p:nvPr/>
        </p:nvPicPr>
        <p:blipFill>
          <a:blip r:embed="rId1"/>
          <a:stretch/>
        </p:blipFill>
        <p:spPr>
          <a:xfrm>
            <a:off x="685800" y="1600200"/>
            <a:ext cx="371016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"/>
          <p:cNvPicPr/>
          <p:nvPr/>
        </p:nvPicPr>
        <p:blipFill>
          <a:blip r:embed="rId2"/>
          <a:stretch/>
        </p:blipFill>
        <p:spPr>
          <a:xfrm>
            <a:off x="5715000" y="1676520"/>
            <a:ext cx="2909880" cy="4038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4"/>
          <p:cNvSpPr/>
          <p:nvPr/>
        </p:nvSpPr>
        <p:spPr>
          <a:xfrm>
            <a:off x="3492360" y="1052640"/>
            <a:ext cx="3888000" cy="685800"/>
          </a:xfrm>
          <a:prstGeom prst="wedgeRoundRectCallout">
            <a:avLst>
              <a:gd name="adj1" fmla="val 29500"/>
              <a:gd name="adj2" fmla="val 55324"/>
              <a:gd name="adj3" fmla="val 16667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估计有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粒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2781360" y="762120"/>
            <a:ext cx="3581280" cy="990360"/>
          </a:xfrm>
          <a:prstGeom prst="wedgeRoundRectCallout">
            <a:avLst>
              <a:gd name="adj1" fmla="val 39805"/>
              <a:gd name="adj2" fmla="val 66828"/>
              <a:gd name="adj3" fmla="val 16667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和你估计的差不多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2-1"/>
          <p:cNvPicPr/>
          <p:nvPr/>
        </p:nvPicPr>
        <p:blipFill>
          <a:blip r:embed="rId1"/>
          <a:stretch/>
        </p:blipFill>
        <p:spPr>
          <a:xfrm>
            <a:off x="228600" y="1447920"/>
            <a:ext cx="3268800" cy="453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1-1"/>
          <p:cNvPicPr/>
          <p:nvPr/>
        </p:nvPicPr>
        <p:blipFill>
          <a:blip r:embed="rId2"/>
          <a:stretch/>
        </p:blipFill>
        <p:spPr>
          <a:xfrm>
            <a:off x="5105520" y="1803240"/>
            <a:ext cx="40338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=696823976,1672178298&amp;fm=3&amp;gp=31[1]"/>
          <p:cNvPicPr/>
          <p:nvPr/>
        </p:nvPicPr>
        <p:blipFill>
          <a:blip r:embed="rId1"/>
          <a:stretch/>
        </p:blipFill>
        <p:spPr>
          <a:xfrm>
            <a:off x="539640" y="3860640"/>
            <a:ext cx="230364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u=1886108136,4241093106&amp;fm=0&amp;gp=18[1]"/>
          <p:cNvPicPr/>
          <p:nvPr/>
        </p:nvPicPr>
        <p:blipFill>
          <a:blip r:embed="rId2"/>
          <a:stretch/>
        </p:blipFill>
        <p:spPr>
          <a:xfrm>
            <a:off x="1979640" y="260280"/>
            <a:ext cx="2362320" cy="24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u=585079644,1254137919&amp;fm=0&amp;gp=34[1]"/>
          <p:cNvPicPr/>
          <p:nvPr/>
        </p:nvPicPr>
        <p:blipFill>
          <a:blip r:embed="rId3"/>
          <a:stretch/>
        </p:blipFill>
        <p:spPr>
          <a:xfrm>
            <a:off x="6012000" y="2781360"/>
            <a:ext cx="2303280" cy="28083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"/>
          <p:cNvSpPr/>
          <p:nvPr/>
        </p:nvSpPr>
        <p:spPr>
          <a:xfrm>
            <a:off x="3276720" y="4581360"/>
            <a:ext cx="2232000" cy="792360"/>
          </a:xfrm>
          <a:prstGeom prst="wedgeRoundRectCallout">
            <a:avLst>
              <a:gd name="adj1" fmla="val -78662"/>
              <a:gd name="adj2" fmla="val -61023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348000" y="4724280"/>
            <a:ext cx="22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估计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粒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4356000" y="260280"/>
            <a:ext cx="2448000" cy="11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643280" y="549360"/>
            <a:ext cx="23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估计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635280" y="2421000"/>
            <a:ext cx="2951280" cy="863640"/>
          </a:xfrm>
          <a:prstGeom prst="flowChartMagneticTap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估计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6T22:45:41Z</dcterms:created>
  <dc:creator>User</dc:creator>
  <dc:description/>
  <dc:language>en-US</dc:language>
  <cp:lastModifiedBy>User</cp:lastModifiedBy>
  <dcterms:modified xsi:type="dcterms:W3CDTF">2017-07-26T22:45:54Z</dcterms:modified>
  <cp:revision>1</cp:revision>
  <dc:subject/>
  <dc:title>幻灯片 1</dc:title>
</cp:coreProperties>
</file>