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13.jpeg" ContentType="image/jpeg"/>
  <Override PartName="/ppt/media/image4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E19-A310-41B6-992A-4D780CDA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C3C-07D4-4352-B5E4-95BE1998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D2F-692F-45BE-A143-4DB5751B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B83-5410-414C-BA3C-D014791B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AFC-945C-4BCD-8838-B9754501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1DD-4C80-4A14-AADD-53F52448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D38-BAAC-4489-AF2A-99B557EB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71B-3938-40B1-9D4E-CD2AA4E7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D7A-9B83-4768-AFC2-EC1BDDE8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F68-8557-436C-943F-ABAF81CA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3BC-1D08-4046-B351-0AB4DCDA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030-C611-4AE8-A633-3FBE7CB0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B06D-1FAB-4464-BB02-04A9537C67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图片1"/>
          <p:cNvPicPr/>
          <p:nvPr/>
        </p:nvPicPr>
        <p:blipFill>
          <a:blip r:embed="rId2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979720" y="198900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Unit 11   I can cli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477520" y="2924280"/>
            <a:ext cx="624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Lesson 1 I can clim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013800" y="38088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rimary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1" descr="151036wfghzwtegtilzpha"/>
          <p:cNvPicPr/>
          <p:nvPr/>
        </p:nvPicPr>
        <p:blipFill>
          <a:blip r:embed="rId1"/>
          <a:srcRect l="0" t="11610" r="0" b="0"/>
          <a:stretch/>
        </p:blipFill>
        <p:spPr>
          <a:xfrm>
            <a:off x="0" y="1989000"/>
            <a:ext cx="5508720" cy="4869000"/>
          </a:xfrm>
          <a:prstGeom prst="rect">
            <a:avLst/>
          </a:prstGeom>
          <a:ln w="0">
            <a:noFill/>
          </a:ln>
        </p:spPr>
      </p:pic>
      <p:sp>
        <p:nvSpPr>
          <p:cNvPr id="99" name="WordArt 40"/>
          <p:cNvSpPr txBox="1"/>
          <p:nvPr/>
        </p:nvSpPr>
        <p:spPr>
          <a:xfrm>
            <a:off x="3708360" y="-387360"/>
            <a:ext cx="5040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Super mon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 flipH="1">
            <a:off x="395280" y="1557360"/>
            <a:ext cx="8169120" cy="4603680"/>
          </a:xfrm>
          <a:prstGeom prst="roundRect">
            <a:avLst>
              <a:gd name="adj" fmla="val 6968"/>
            </a:avLst>
          </a:prstGeom>
          <a:solidFill>
            <a:srgbClr val="336600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11"/>
          <p:cNvSpPr txBox="1"/>
          <p:nvPr/>
        </p:nvSpPr>
        <p:spPr>
          <a:xfrm>
            <a:off x="4211640" y="-171360"/>
            <a:ext cx="453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Super mon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02" name="Picture 15" descr="2419558_205405097902_2"/>
          <p:cNvPicPr/>
          <p:nvPr/>
        </p:nvPicPr>
        <p:blipFill>
          <a:blip r:embed="rId1"/>
          <a:stretch/>
        </p:blipFill>
        <p:spPr>
          <a:xfrm>
            <a:off x="539640" y="2205000"/>
            <a:ext cx="4807080" cy="3606840"/>
          </a:xfrm>
          <a:prstGeom prst="rect">
            <a:avLst/>
          </a:prstGeom>
          <a:ln w="0">
            <a:noFill/>
          </a:ln>
        </p:spPr>
      </p:pic>
      <p:sp>
        <p:nvSpPr>
          <p:cNvPr id="103" name="WordArt 16"/>
          <p:cNvSpPr txBox="1"/>
          <p:nvPr/>
        </p:nvSpPr>
        <p:spPr>
          <a:xfrm>
            <a:off x="5508720" y="4221000"/>
            <a:ext cx="30844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swim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WordArt 17"/>
          <p:cNvSpPr txBox="1"/>
          <p:nvPr/>
        </p:nvSpPr>
        <p:spPr>
          <a:xfrm>
            <a:off x="5651640" y="2708280"/>
            <a:ext cx="244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He ca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63760" y="1459080"/>
            <a:ext cx="7940160" cy="4236480"/>
          </a:xfrm>
          <a:prstGeom prst="rect">
            <a:avLst/>
          </a:prstGeom>
          <a:solidFill>
            <a:srgbClr val="339933"/>
          </a:solidFill>
          <a:ln w="19080">
            <a:solidFill>
              <a:srgbClr val="dcdcdc"/>
            </a:solidFill>
            <a:bevel/>
          </a:ln>
          <a:effectLst>
            <a:outerShdw dist="36147" dir="2700000" blurRad="0" rotWithShape="0">
              <a:srgbClr val="dcdcdc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35280" y="2133720"/>
            <a:ext cx="259236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alibri"/>
              </a:rPr>
              <a:t>He can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6" descr="hzdcp_005"/>
          <p:cNvPicPr/>
          <p:nvPr/>
        </p:nvPicPr>
        <p:blipFill>
          <a:blip r:embed="rId1"/>
          <a:stretch/>
        </p:blipFill>
        <p:spPr>
          <a:xfrm>
            <a:off x="684360" y="2133720"/>
            <a:ext cx="4824360" cy="34812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7"/>
          <p:cNvSpPr txBox="1"/>
          <p:nvPr/>
        </p:nvSpPr>
        <p:spPr>
          <a:xfrm>
            <a:off x="5364000" y="3789360"/>
            <a:ext cx="3156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jum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63760" y="1459080"/>
            <a:ext cx="7940160" cy="4236480"/>
          </a:xfrm>
          <a:prstGeom prst="rect">
            <a:avLst/>
          </a:prstGeom>
          <a:solidFill>
            <a:srgbClr val="339933"/>
          </a:solidFill>
          <a:ln w="19080">
            <a:solidFill>
              <a:srgbClr val="dcdcdc"/>
            </a:solidFill>
            <a:bevel/>
          </a:ln>
          <a:effectLst>
            <a:outerShdw dist="36147" dir="2700000" blurRad="0" rotWithShape="0">
              <a:srgbClr val="dcdcdc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c1f9"/>
                </a:solidFill>
                <a:latin typeface="Calibri"/>
              </a:rPr>
              <a:t>    </a:t>
            </a:r>
            <a:r>
              <a:rPr b="1" lang="en-US" sz="5400" spc="-1" strike="noStrike">
                <a:solidFill>
                  <a:srgbClr val="83c1f9"/>
                </a:solidFill>
                <a:latin typeface="Calibri"/>
              </a:rPr>
              <a:t>He ca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611280" y="3716280"/>
            <a:ext cx="31575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walk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6" descr="images"/>
          <p:cNvPicPr/>
          <p:nvPr/>
        </p:nvPicPr>
        <p:blipFill>
          <a:blip r:embed="rId1"/>
          <a:stretch/>
        </p:blipFill>
        <p:spPr>
          <a:xfrm>
            <a:off x="3995640" y="2349360"/>
            <a:ext cx="45370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35880" y="1424880"/>
            <a:ext cx="8156160" cy="4584240"/>
          </a:xfrm>
          <a:prstGeom prst="rect">
            <a:avLst/>
          </a:prstGeom>
          <a:solidFill>
            <a:srgbClr val="339933"/>
          </a:solidFill>
          <a:ln w="19080">
            <a:solidFill>
              <a:srgbClr val="dcdcdc"/>
            </a:solidFill>
            <a:bevel/>
          </a:ln>
          <a:effectLst>
            <a:outerShdw dist="36147" dir="2700000" blurRad="0" rotWithShape="0">
              <a:srgbClr val="dcdcdc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c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5364000" y="4076640"/>
            <a:ext cx="30848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ru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4" name="Picture 6" descr="3318871450396816960"/>
          <p:cNvPicPr/>
          <p:nvPr/>
        </p:nvPicPr>
        <p:blipFill>
          <a:blip r:embed="rId1"/>
          <a:stretch/>
        </p:blipFill>
        <p:spPr>
          <a:xfrm>
            <a:off x="324000" y="1484280"/>
            <a:ext cx="4968720" cy="42894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45240" y="1146960"/>
            <a:ext cx="8453520" cy="4852800"/>
          </a:xfrm>
          <a:prstGeom prst="rect">
            <a:avLst/>
          </a:prstGeom>
          <a:solidFill>
            <a:srgbClr val="339933"/>
          </a:solidFill>
          <a:ln w="19080">
            <a:solidFill>
              <a:srgbClr val="dcdcdc"/>
            </a:solidFill>
            <a:bevel/>
          </a:ln>
          <a:effectLst>
            <a:outerShdw dist="36147" dir="2700000" blurRad="0" rotWithShape="0">
              <a:srgbClr val="dcdcdc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WordArt 3"/>
          <p:cNvSpPr txBox="1"/>
          <p:nvPr/>
        </p:nvSpPr>
        <p:spPr>
          <a:xfrm>
            <a:off x="5364000" y="2781360"/>
            <a:ext cx="3456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dan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8" name="Picture 6" descr="p2009910121848"/>
          <p:cNvPicPr/>
          <p:nvPr/>
        </p:nvPicPr>
        <p:blipFill>
          <a:blip r:embed="rId3"/>
          <a:srcRect l="0" t="0" r="0" b="6098"/>
          <a:stretch/>
        </p:blipFill>
        <p:spPr>
          <a:xfrm>
            <a:off x="250920" y="1341360"/>
            <a:ext cx="4897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11640" y="3573360"/>
            <a:ext cx="4392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= I can not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1616362_145128011537_2"/>
          <p:cNvPicPr/>
          <p:nvPr/>
        </p:nvPicPr>
        <p:blipFill>
          <a:blip r:embed="rId1"/>
          <a:stretch/>
        </p:blipFill>
        <p:spPr>
          <a:xfrm>
            <a:off x="324000" y="1268280"/>
            <a:ext cx="3695400" cy="47628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4356000" y="1700280"/>
            <a:ext cx="330372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I can't..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211640" y="4941720"/>
            <a:ext cx="4392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alibri"/>
                <a:ea typeface="黑体"/>
              </a:rPr>
              <a:t>我不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188078-120619220i9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627280" y="1412640"/>
            <a:ext cx="4657680" cy="182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alibri"/>
              </a:rPr>
              <a:t>See yo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4356000" y="333360"/>
            <a:ext cx="280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Let's s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rcRect l="0" t="0" r="0" b="5034"/>
          <a:stretch/>
        </p:blipFill>
        <p:spPr>
          <a:xfrm>
            <a:off x="828720" y="1270080"/>
            <a:ext cx="78343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2"/>
          <p:cNvSpPr/>
          <p:nvPr/>
        </p:nvSpPr>
        <p:spPr>
          <a:xfrm>
            <a:off x="4140360" y="1125360"/>
            <a:ext cx="4679640" cy="2121120"/>
          </a:xfrm>
          <a:prstGeom prst="wedgeRoundRectCallout">
            <a:avLst>
              <a:gd name="adj1" fmla="val -48509"/>
              <a:gd name="adj2" fmla="val 848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55640" y="1341360"/>
            <a:ext cx="41958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1" lang="en-US" sz="5400" spc="-1" strike="noStrike">
                <a:solidFill>
                  <a:srgbClr val="ff0066"/>
                </a:solidFill>
                <a:latin typeface="Calibri"/>
              </a:rPr>
              <a:t>walk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572000" y="2349360"/>
            <a:ext cx="36925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  <a:ea typeface="黑体"/>
              </a:rPr>
              <a:t>Can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4211640" y="4508640"/>
            <a:ext cx="4197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alibri"/>
                <a:ea typeface="黑体"/>
              </a:rPr>
              <a:t>Yes, I ca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4427640" y="5373720"/>
            <a:ext cx="4197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alibri"/>
                <a:ea typeface="黑体"/>
              </a:rPr>
              <a:t>No, I can’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6516720" y="3500280"/>
            <a:ext cx="720720" cy="863640"/>
          </a:xfrm>
          <a:prstGeom prst="downArrow">
            <a:avLst>
              <a:gd name="adj1" fmla="val 50000"/>
              <a:gd name="adj2" fmla="val 29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rcRect l="14041" t="6369" r="14484" b="4409"/>
          <a:stretch/>
        </p:blipFill>
        <p:spPr>
          <a:xfrm>
            <a:off x="611280" y="1844640"/>
            <a:ext cx="34779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0" t="0" r="0" b="6355"/>
          <a:stretch/>
        </p:blipFill>
        <p:spPr>
          <a:xfrm>
            <a:off x="4211640" y="3357720"/>
            <a:ext cx="4392720" cy="25700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"/>
          <p:cNvSpPr/>
          <p:nvPr/>
        </p:nvSpPr>
        <p:spPr>
          <a:xfrm>
            <a:off x="324000" y="1125360"/>
            <a:ext cx="4679640" cy="2121120"/>
          </a:xfrm>
          <a:prstGeom prst="wedgeRoundRectCallout">
            <a:avLst>
              <a:gd name="adj1" fmla="val 36939"/>
              <a:gd name="adj2" fmla="val 913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557360"/>
            <a:ext cx="41958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1" lang="en-US" sz="5400" spc="-1" strike="noStrike">
                <a:solidFill>
                  <a:srgbClr val="ff0066"/>
                </a:solidFill>
                <a:latin typeface="Calibri"/>
              </a:rPr>
              <a:t>run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79280" y="2421000"/>
            <a:ext cx="3692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  <a:ea typeface="黑体"/>
              </a:rPr>
              <a:t>Can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24000" y="4653000"/>
            <a:ext cx="360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alibri"/>
                <a:ea typeface="黑体"/>
              </a:rPr>
              <a:t>Yes, I ca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5516640"/>
            <a:ext cx="4197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alibri"/>
                <a:ea typeface="黑体"/>
              </a:rPr>
              <a:t>No, I can’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1979640" y="3573360"/>
            <a:ext cx="720720" cy="863640"/>
          </a:xfrm>
          <a:prstGeom prst="downArrow">
            <a:avLst>
              <a:gd name="adj1" fmla="val 50000"/>
              <a:gd name="adj2" fmla="val 29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47099" t="0" r="0" b="0"/>
          <a:stretch/>
        </p:blipFill>
        <p:spPr>
          <a:xfrm>
            <a:off x="0" y="1773360"/>
            <a:ext cx="4836960" cy="38764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2"/>
          <p:cNvSpPr/>
          <p:nvPr/>
        </p:nvSpPr>
        <p:spPr>
          <a:xfrm>
            <a:off x="4140360" y="1125360"/>
            <a:ext cx="4679640" cy="2121120"/>
          </a:xfrm>
          <a:prstGeom prst="wedgeRoundRectCallout">
            <a:avLst>
              <a:gd name="adj1" fmla="val -48509"/>
              <a:gd name="adj2" fmla="val 848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55640" y="1341360"/>
            <a:ext cx="41958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1" lang="en-US" sz="5400" spc="-1" strike="noStrike">
                <a:solidFill>
                  <a:srgbClr val="ff0066"/>
                </a:solidFill>
                <a:latin typeface="Calibri"/>
              </a:rPr>
              <a:t>jump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924360" y="2276640"/>
            <a:ext cx="3692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  <a:ea typeface="黑体"/>
              </a:rPr>
              <a:t>Can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211640" y="4508640"/>
            <a:ext cx="4197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alibri"/>
                <a:ea typeface="黑体"/>
              </a:rPr>
              <a:t>Yes, I ca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427640" y="5373720"/>
            <a:ext cx="4197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alibri"/>
                <a:ea typeface="黑体"/>
              </a:rPr>
              <a:t>No, I can’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6516720" y="3500280"/>
            <a:ext cx="720720" cy="863640"/>
          </a:xfrm>
          <a:prstGeom prst="downArrow">
            <a:avLst>
              <a:gd name="adj1" fmla="val 50000"/>
              <a:gd name="adj2" fmla="val 29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324000" y="1125360"/>
            <a:ext cx="4679640" cy="2303640"/>
          </a:xfrm>
          <a:prstGeom prst="wedgeRoundRectCallout">
            <a:avLst>
              <a:gd name="adj1" fmla="val 36939"/>
              <a:gd name="adj2" fmla="val 8011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41958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1" lang="en-US" sz="5400" spc="-1" strike="noStrike">
                <a:solidFill>
                  <a:srgbClr val="ff0066"/>
                </a:solidFill>
                <a:latin typeface="Calibri"/>
              </a:rPr>
              <a:t>swim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08000" y="2492280"/>
            <a:ext cx="3527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  <a:ea typeface="黑体"/>
              </a:rPr>
              <a:t>Can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24000" y="4653000"/>
            <a:ext cx="360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alibri"/>
                <a:ea typeface="黑体"/>
              </a:rPr>
              <a:t>Yes, I ca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5516640"/>
            <a:ext cx="4197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alibri"/>
                <a:ea typeface="黑体"/>
              </a:rPr>
              <a:t>No, I can’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1979640" y="3573360"/>
            <a:ext cx="720720" cy="863640"/>
          </a:xfrm>
          <a:prstGeom prst="downArrow">
            <a:avLst>
              <a:gd name="adj1" fmla="val 50000"/>
              <a:gd name="adj2" fmla="val 29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5364000" y="2781360"/>
            <a:ext cx="307044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4140360" y="1125360"/>
            <a:ext cx="4679640" cy="2121120"/>
          </a:xfrm>
          <a:prstGeom prst="wedgeRoundRectCallout">
            <a:avLst>
              <a:gd name="adj1" fmla="val -48509"/>
              <a:gd name="adj2" fmla="val 848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55640" y="1341360"/>
            <a:ext cx="41958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1" lang="en-US" sz="5400" spc="-1" strike="noStrike">
                <a:solidFill>
                  <a:srgbClr val="ff0066"/>
                </a:solidFill>
                <a:latin typeface="Calibri"/>
              </a:rPr>
              <a:t>dance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995640" y="2421000"/>
            <a:ext cx="3692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  <a:ea typeface="黑体"/>
              </a:rPr>
              <a:t>Can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211640" y="4508640"/>
            <a:ext cx="4197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alibri"/>
                <a:ea typeface="黑体"/>
              </a:rPr>
              <a:t>Yes, I ca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427640" y="5373720"/>
            <a:ext cx="4197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alibri"/>
                <a:ea typeface="黑体"/>
              </a:rPr>
              <a:t>No, I can’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6516720" y="3500280"/>
            <a:ext cx="720720" cy="863640"/>
          </a:xfrm>
          <a:prstGeom prst="downArrow">
            <a:avLst>
              <a:gd name="adj1" fmla="val 50000"/>
              <a:gd name="adj2" fmla="val 29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9" descr="d:\program files\360se6\User Data\temp\2007613103415420_2.jpg"/>
          <p:cNvPicPr/>
          <p:nvPr/>
        </p:nvPicPr>
        <p:blipFill>
          <a:blip r:embed="rId1"/>
          <a:srcRect l="0" t="4350" r="0" b="0"/>
          <a:stretch/>
        </p:blipFill>
        <p:spPr>
          <a:xfrm>
            <a:off x="0" y="1557360"/>
            <a:ext cx="4024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8" descr="UVK93DLEJ[WYLV0@}VUZ(2U"/>
          <p:cNvPicPr/>
          <p:nvPr/>
        </p:nvPicPr>
        <p:blipFill>
          <a:blip r:embed="rId1"/>
          <a:stretch/>
        </p:blipFill>
        <p:spPr>
          <a:xfrm>
            <a:off x="6732720" y="1773360"/>
            <a:ext cx="2411280" cy="424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4356000" y="6080040"/>
            <a:ext cx="1656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anc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50920" y="5805360"/>
            <a:ext cx="1655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340000" y="5877000"/>
            <a:ext cx="1368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7343640" y="5661000"/>
            <a:ext cx="1800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3" descr="2616591383519224005"/>
          <p:cNvPicPr/>
          <p:nvPr/>
        </p:nvPicPr>
        <p:blipFill>
          <a:blip r:embed="rId2"/>
          <a:stretch/>
        </p:blipFill>
        <p:spPr>
          <a:xfrm>
            <a:off x="0" y="2565360"/>
            <a:ext cx="2292480" cy="3457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1" descr="]9P15RCAC[Q3P[1P}O~`YMQ"/>
          <p:cNvPicPr/>
          <p:nvPr/>
        </p:nvPicPr>
        <p:blipFill>
          <a:blip r:embed="rId3"/>
          <a:stretch/>
        </p:blipFill>
        <p:spPr>
          <a:xfrm>
            <a:off x="1979640" y="2565360"/>
            <a:ext cx="1847880" cy="351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5" descr="8257726_121058455108_2"/>
          <p:cNvPicPr/>
          <p:nvPr/>
        </p:nvPicPr>
        <p:blipFill>
          <a:blip r:embed="rId4"/>
          <a:srcRect l="0" t="0" r="0" b="6087"/>
          <a:stretch/>
        </p:blipFill>
        <p:spPr>
          <a:xfrm>
            <a:off x="5076720" y="189000"/>
            <a:ext cx="3095640" cy="1944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7" descr="35639_171831047_2"/>
          <p:cNvPicPr/>
          <p:nvPr/>
        </p:nvPicPr>
        <p:blipFill>
          <a:blip r:embed="rId5"/>
          <a:srcRect l="0" t="5397" r="0" b="0"/>
          <a:stretch/>
        </p:blipFill>
        <p:spPr>
          <a:xfrm>
            <a:off x="3995640" y="3232080"/>
            <a:ext cx="2592360" cy="2860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6084720" y="2060640"/>
            <a:ext cx="1656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wim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8"/>
          <p:cNvSpPr txBox="1"/>
          <p:nvPr/>
        </p:nvSpPr>
        <p:spPr>
          <a:xfrm>
            <a:off x="395280" y="907920"/>
            <a:ext cx="4311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I can..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Can you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476360" y="1123920"/>
            <a:ext cx="6189840" cy="4638600"/>
          </a:xfrm>
          <a:prstGeom prst="rect">
            <a:avLst/>
          </a:prstGeom>
          <a:ln w="0">
            <a:noFill/>
          </a:ln>
        </p:spPr>
      </p:pic>
      <p:sp>
        <p:nvSpPr>
          <p:cNvPr id="97" name="WordArt 4"/>
          <p:cNvSpPr txBox="1"/>
          <p:nvPr/>
        </p:nvSpPr>
        <p:spPr>
          <a:xfrm>
            <a:off x="4140360" y="189000"/>
            <a:ext cx="3600360" cy="13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Let's chant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4:36:38Z</dcterms:created>
  <dc:creator/>
  <dc:description/>
  <cp:keywords/>
  <dc:language>en-US</dc:language>
  <cp:lastModifiedBy/>
  <dcterms:modified xsi:type="dcterms:W3CDTF">2015-05-05T08:09:30Z</dcterms:modified>
  <cp:revision>3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