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0F4-38F7-4A7D-BEA8-189A8F26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D95-697D-4154-A30F-19F4CBD4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7F1-67CA-48D0-8980-6323C6A0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153-E554-405F-AE04-06C8E1F8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93D-4C01-496E-9949-875292B6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BF0-9485-497D-B5BD-86CBFB7E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3E2-13F4-4F68-A695-80B0A46C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7CF-794F-444D-8AF0-F145C16B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17D-4C98-468F-9EAA-9019A268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ACB-0D65-466F-B837-7BA0C8E7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BF1-FECA-471C-AE67-3D9D887D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BEC-47A1-4395-9FA5-03E7A50C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89D8-F5C0-49E8-A1B1-2BCD1F021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520" y="2214720"/>
            <a:ext cx="3786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440" y="3499920"/>
            <a:ext cx="30718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ig 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857760" y="785880"/>
            <a:ext cx="46670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_____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thematic_1320909311"/>
          <p:cNvPicPr/>
          <p:nvPr/>
        </p:nvPicPr>
        <p:blipFill>
          <a:blip r:embed="rId1"/>
          <a:stretch/>
        </p:blipFill>
        <p:spPr>
          <a:xfrm>
            <a:off x="826920" y="620640"/>
            <a:ext cx="51120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___ 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5-09102Q20440-8-lp"/>
          <p:cNvPicPr/>
          <p:nvPr/>
        </p:nvPicPr>
        <p:blipFill>
          <a:blip r:embed="rId1"/>
          <a:stretch/>
        </p:blipFill>
        <p:spPr>
          <a:xfrm>
            <a:off x="3786120" y="1500120"/>
            <a:ext cx="34988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1600200"/>
            <a:ext cx="925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a_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_(big/small/…)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___(dog/girl/man/baby/…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u=165673468,169368335&amp;fm=52&amp;gp=0"/>
          <p:cNvPicPr/>
          <p:nvPr/>
        </p:nvPicPr>
        <p:blipFill>
          <a:blip r:embed="rId1"/>
          <a:stretch/>
        </p:blipFill>
        <p:spPr>
          <a:xfrm>
            <a:off x="468360" y="333360"/>
            <a:ext cx="2136600" cy="244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t’s a __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t’s not a ___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0d968f231ae56809ad34dea3"/>
          <p:cNvPicPr/>
          <p:nvPr/>
        </p:nvPicPr>
        <p:blipFill>
          <a:blip r:embed="rId1"/>
          <a:stretch/>
        </p:blipFill>
        <p:spPr>
          <a:xfrm>
            <a:off x="395280" y="404640"/>
            <a:ext cx="3614760" cy="403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4286160" y="1285920"/>
            <a:ext cx="4343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ff"/>
                </a:solidFill>
                <a:latin typeface="Arial"/>
              </a:rPr>
              <a:t>It’s a ____ bab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ff"/>
                </a:solidFill>
                <a:latin typeface="Arial"/>
              </a:rPr>
              <a:t>It’s a ____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572080" y="214200"/>
            <a:ext cx="3571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It’s a ___bi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It’s not a __ bi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20061072_71212"/>
          <p:cNvPicPr/>
          <p:nvPr/>
        </p:nvPicPr>
        <p:blipFill>
          <a:blip r:embed="rId1"/>
          <a:stretch/>
        </p:blipFill>
        <p:spPr>
          <a:xfrm>
            <a:off x="4643280" y="333360"/>
            <a:ext cx="4184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                              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_____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857160" y="214200"/>
            <a:ext cx="41148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_____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01300000660677127644187583035"/>
          <p:cNvPicPr/>
          <p:nvPr/>
        </p:nvPicPr>
        <p:blipFill>
          <a:blip r:embed="rId1"/>
          <a:stretch/>
        </p:blipFill>
        <p:spPr>
          <a:xfrm>
            <a:off x="3635280" y="549360"/>
            <a:ext cx="491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It’s a ___ watermel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it’s not a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JN071601_6"/>
          <p:cNvPicPr/>
          <p:nvPr/>
        </p:nvPicPr>
        <p:blipFill>
          <a:blip r:embed="rId1"/>
          <a:stretch/>
        </p:blipFill>
        <p:spPr>
          <a:xfrm>
            <a:off x="2987640" y="404640"/>
            <a:ext cx="5148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               </a:t>
            </a: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It’s a ___ watermel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                  </a:t>
            </a: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it’s not a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tesf"/>
          <p:cNvPicPr/>
          <p:nvPr/>
        </p:nvPicPr>
        <p:blipFill>
          <a:blip r:embed="rId1"/>
          <a:stretch/>
        </p:blipFill>
        <p:spPr>
          <a:xfrm>
            <a:off x="250920" y="189000"/>
            <a:ext cx="38163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3:54:17Z</dcterms:created>
  <dc:creator/>
  <dc:description/>
  <dc:language>en-US</dc:language>
  <cp:lastModifiedBy>dreamsummit</cp:lastModifiedBy>
  <dcterms:modified xsi:type="dcterms:W3CDTF">2015-02-12T13:00:11Z</dcterms:modified>
  <cp:revision>6</cp:revision>
  <dc:subject/>
  <dc:title>Unit 8</dc:title>
</cp:coreProperties>
</file>