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778-8390-41B7-83B3-CFF334CA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B3B-4CFA-4285-8315-C67C930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A497D-C0AE-461E-82C8-63C7829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9797F-D142-489C-967B-F633F261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7150-F2EE-4764-9B60-0D00103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77B18-39E7-4176-97C8-6D1DA10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99C0D-D6E2-4805-9065-335833D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78F61-E417-4A38-8549-993C5F3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DCC23-340E-4165-8CCA-EAA2190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C407C-7DC4-4C42-8BB5-468D7EA3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4834-2EC6-4836-A12A-97E2F6FA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B1180-333C-4F66-B1BB-368067A8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357-3E81-41C8-83F4-54F98D4B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B73AD-3C96-4B7C-844A-E1952D0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2ABB-C9D7-477A-A4D0-6542B30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65DCA-FB2B-4EDD-8CF4-10A3DB7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69B19-647D-46B8-9AD4-A3549F0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3F356-6AC9-4EE5-9668-D53BAEB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7897C-B7AD-4E13-96FC-1265889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B0F2-4538-4247-B2C6-65BB6F8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08A0B-2233-4E1B-86E5-68F7699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4AE97-BC9B-45FA-8AD8-04C24A1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0A3DE-238F-4EED-B53C-BD6C9008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371-3498-4955-9966-4E661D67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88962-E3DC-4E94-9411-ABA361BB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D6DCC-D0AA-401A-A4B6-3A410315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75B3C-2F25-47B6-AC01-A9251C29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5775-5B02-41F3-BC4B-988F1A26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4152-DCE0-4EE2-BABE-2DEF281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48358-2F54-4FB9-8136-174E93D5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D868-CF38-41D9-AD0D-A44FD097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34BF7-2766-43BE-A0D3-32C66E65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6DF1-0A36-4451-B5F7-AA284998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FA8B-4F1C-4D5A-B236-EDFB67A6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F52-6B08-4BC3-9EDA-09B2BEAC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CD168-F249-4CF7-A0A0-CCF2E86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B59EE-C804-474E-A477-EC8AF67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3C5E8-4855-427F-AD7B-7041C1A7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0F5-DF90-4E5D-B5FB-4E9F702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D5EE-C73A-44A1-81EA-6077CB2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BA4-9394-4E2B-A46F-17C6131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809-818D-41B7-950C-5D03AC3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AC9-D410-4215-AF26-7D0D0ED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F61-51C2-479B-90AE-DEFE8DE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481-8B7D-4077-9EB4-85356EC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CCA-6BB2-4515-8396-7B5D551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732-9829-4A5C-B5F4-1B70289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3285-72C9-4479-B88F-31137083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7D1-FBE5-4852-839B-8C39B9A2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8DC-9E4D-4907-B542-6B01532F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7224-12BA-475D-8E5D-0595ADD5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CA26-30EE-48AA-95CC-C7B4E06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8A77-2389-45DB-AD6B-F21E2CE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24E1-8C41-4A86-8950-804DA7BF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FE27-581D-448A-8D0D-18F0EAA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95B-E12F-4000-A1E5-7819EB7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A070-02E4-44F5-8752-A5400D0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BAF4-39A1-43F8-8579-B861480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9552-4E5A-4451-8B39-9C2C9DC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83DA-47D6-4603-AE64-372D7BE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9E61-A644-4467-8B95-A82BF4F6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32C2-9EE8-4B1D-B60A-B72B3F32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F22E-3949-43D5-BA3E-8BF6BCC6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4F6D-3AB1-4539-AB1B-B650682A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A599-1505-4EE2-BD9B-A188C4D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B1A1-11F7-4D85-977F-5468D2E1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691-4FE7-4715-8B87-83D88D9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9997-D1FA-4E88-B63F-CFC4340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E64D-364B-4E31-9338-D2B6E75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7B73-3412-4E76-8C4D-BF5B2C7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7A8E-04D9-4FE7-8501-C1658CB5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F42D-C471-40BD-968F-B114B5D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0999-E7A9-497F-802F-9308F1F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13A0-E710-4944-A03F-F58C466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87C4-148C-4868-837D-E9EB783B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A3DE-C50C-4C25-9CD9-789D7F39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CD74-DD8C-4309-A260-3B2630F3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6A7-89E7-4CFA-B501-F981779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F363-2310-4D39-9638-3566AA67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E701-2933-4075-B0CD-4495073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476E-378C-4962-BBA5-8B036A5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8BBE-D232-4DA5-BDD3-99BAC94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62B9-3687-471C-8D4C-C922491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7CDF-192F-40FE-B859-B91DF16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1A6EF-5B20-47B6-BC8F-BE0A5577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7E318-45AA-4EE4-B5B4-0AD3AE5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47F0-15D2-45A5-856F-3779C676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FC24-446B-48D5-80A0-FAC0D3E7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7E5-136A-4CD7-807E-8F7DF32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8B1BC-A980-487C-AD42-AE377186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20BD-09E2-4970-92C3-624E9A26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2F63-44F2-46DD-A23B-C1A5CFEF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D58D-0D60-4B2C-9234-1C1BBF5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F3CF-82DE-4BBD-B381-97C0643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0024-E91A-4D41-9841-372C10F7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788A-AED1-40B1-B73B-2900E92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9509-E7E2-4F47-AE03-731A773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37E3-748A-4527-B49A-28F0D94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A90B-6993-4ED0-BC1B-7E74885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D30-B072-4A42-A7B7-D7C0E97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A0CB-95CC-4523-B392-BAF86B6D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CF9A-A62D-44E6-985F-60E38E71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43C3-594D-49E5-B5C5-6026C82A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BB3DD-C6C2-4868-92EB-50DC81EF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FEB3-372F-4ED3-94A0-CDAE8ED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2ACA-2ACB-4B9C-A008-831A7CFD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3183-3F44-475F-BBA5-24DE1EFB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2EBD-1A77-488F-80B0-8AE9A62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0BC1-73BA-438C-989F-BCE807CD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180D-E303-4CB8-92DF-A7309FF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EC6-095E-4F4E-894E-BC4EC88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D695-C87F-4CD0-817F-BB02E19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78E2-BC8F-4C1F-A9E7-3F08020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17A1-EF87-4414-B11B-2D54A86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7F47-3A40-445D-A891-BD617951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6D84-EC56-41D0-B764-18F10B56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F401-A783-47B7-94C1-DD728A0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D19D-3728-4F25-B9BD-DF913F9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CEC2-87CC-4B91-9D72-C5A4C68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9ED6-BE50-4C1C-8513-F29CF5C6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DCA1-5949-491C-8918-E912BAE4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747-89E5-4076-A554-DE37E46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CBD67-731C-49F3-8E6D-998557B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BD327-B744-41DF-AF71-2111DB4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367BB-5219-4D82-995D-A0AF835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4C23-BA13-4A81-ADE8-C18EE42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71FDB-B5BF-4145-9F17-E5BF10D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B223-0EDC-4629-901F-29CEE53D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89D4E-C14B-4D03-86CD-73487885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7EA7E-EADD-40C8-87F4-97174AD1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95498-9F38-49F9-9DCA-4D0CACB6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E47B-AB55-4711-873B-9AC1873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E283-11FC-4387-B115-9442946BD4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E1600-A845-4177-A96A-793211B7E6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0E527-3188-456C-89F6-3D6076A217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FD40B-751C-445A-9393-79B786631F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ACC0B-8B16-4166-AC52-95407EF8E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8AB6E-527B-4784-90E8-151C0C64E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30726-EB81-45DB-A7C6-F54B4962A5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B2C71-F261-4716-9F57-F49E90AC03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24DEF-19D7-4172-97F4-7C57B4A654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80C31-FE8F-4790-A705-758C2D8028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EA55E-E05D-4DD2-BC74-A697A97FF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6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9"/>
          <p:cNvSpPr/>
          <p:nvPr/>
        </p:nvSpPr>
        <p:spPr>
          <a:xfrm>
            <a:off x="0" y="0"/>
            <a:ext cx="92552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5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3"/>
          <p:cNvSpPr/>
          <p:nvPr/>
        </p:nvSpPr>
        <p:spPr>
          <a:xfrm>
            <a:off x="3618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Shopping in the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8720" y="355212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46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6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文本框 22" descr=""/>
          <p:cNvPicPr/>
          <p:nvPr/>
        </p:nvPicPr>
        <p:blipFill>
          <a:blip r:embed="rId9"/>
          <a:stretch/>
        </p:blipFill>
        <p:spPr>
          <a:xfrm>
            <a:off x="2448000" y="4468680"/>
            <a:ext cx="713736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文本框 8" descr=""/>
          <p:cNvPicPr/>
          <p:nvPr/>
        </p:nvPicPr>
        <p:blipFill>
          <a:blip r:embed="rId1"/>
          <a:stretch/>
        </p:blipFill>
        <p:spPr>
          <a:xfrm>
            <a:off x="1603440" y="316080"/>
            <a:ext cx="6524640" cy="649080"/>
          </a:xfrm>
          <a:prstGeom prst="rect">
            <a:avLst/>
          </a:prstGeom>
          <a:ln w="0">
            <a:noFill/>
          </a:ln>
        </p:spPr>
      </p:pic>
      <p:sp>
        <p:nvSpPr>
          <p:cNvPr id="540" name="矩形 17"/>
          <p:cNvSpPr/>
          <p:nvPr/>
        </p:nvSpPr>
        <p:spPr>
          <a:xfrm>
            <a:off x="5753160" y="2057400"/>
            <a:ext cx="2949480" cy="219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1" descr=""/>
          <p:cNvPicPr/>
          <p:nvPr/>
        </p:nvPicPr>
        <p:blipFill>
          <a:blip r:embed="rId2"/>
          <a:stretch/>
        </p:blipFill>
        <p:spPr>
          <a:xfrm>
            <a:off x="6248520" y="4249800"/>
            <a:ext cx="2116080" cy="666720"/>
          </a:xfrm>
          <a:prstGeom prst="rect">
            <a:avLst/>
          </a:prstGeom>
          <a:ln w="0">
            <a:noFill/>
          </a:ln>
        </p:spPr>
      </p:pic>
      <p:sp>
        <p:nvSpPr>
          <p:cNvPr id="542" name="矩形 2"/>
          <p:cNvSpPr/>
          <p:nvPr/>
        </p:nvSpPr>
        <p:spPr>
          <a:xfrm>
            <a:off x="539640" y="1527120"/>
            <a:ext cx="50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a new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to the clothes 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please! I don’t want to buy a new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ll, what do you want to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ce crea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4" descr=""/>
          <p:cNvPicPr/>
          <p:nvPr/>
        </p:nvPicPr>
        <p:blipFill>
          <a:blip r:embed="rId3"/>
          <a:stretch/>
        </p:blipFill>
        <p:spPr>
          <a:xfrm>
            <a:off x="5911920" y="2220840"/>
            <a:ext cx="26337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45" name="文本框 17"/>
          <p:cNvSpPr/>
          <p:nvPr/>
        </p:nvSpPr>
        <p:spPr>
          <a:xfrm>
            <a:off x="2970360" y="137160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want to buy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想买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18"/>
          <p:cNvSpPr/>
          <p:nvPr/>
        </p:nvSpPr>
        <p:spPr>
          <a:xfrm>
            <a:off x="727200" y="14907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9"/>
          <p:cNvSpPr/>
          <p:nvPr/>
        </p:nvSpPr>
        <p:spPr>
          <a:xfrm>
            <a:off x="1065240" y="14605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9" descr="book.gif"/>
          <p:cNvPicPr/>
          <p:nvPr/>
        </p:nvPicPr>
        <p:blipFill>
          <a:blip r:embed="rId2"/>
          <a:stretch/>
        </p:blipFill>
        <p:spPr>
          <a:xfrm>
            <a:off x="23760" y="13921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551" name="矩形 1"/>
          <p:cNvSpPr/>
          <p:nvPr/>
        </p:nvSpPr>
        <p:spPr>
          <a:xfrm>
            <a:off x="1974960" y="2104920"/>
            <a:ext cx="660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动词原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动词原形＋ 其他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，用来询问想要买什么东西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接动词时，要用动词不定式的形式，即要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"/>
          <p:cNvSpPr/>
          <p:nvPr/>
        </p:nvSpPr>
        <p:spPr>
          <a:xfrm>
            <a:off x="1011240" y="3795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"/>
          <p:cNvSpPr/>
          <p:nvPr/>
        </p:nvSpPr>
        <p:spPr>
          <a:xfrm>
            <a:off x="1022400" y="30812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"/>
          <p:cNvSpPr/>
          <p:nvPr/>
        </p:nvSpPr>
        <p:spPr>
          <a:xfrm>
            <a:off x="444600" y="235116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1974960" y="1112760"/>
            <a:ext cx="6935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sing a so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唱首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wants to go shop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想去购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想要”，它可以表示想要某物，其基本句型：人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nt(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要某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ly wants a teddy bea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莉莉想要一个泰迪熊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a new comput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一台新电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"/>
          <p:cNvSpPr/>
          <p:nvPr/>
        </p:nvSpPr>
        <p:spPr>
          <a:xfrm>
            <a:off x="901800" y="137304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18" descr=""/>
          <p:cNvPicPr/>
          <p:nvPr/>
        </p:nvPicPr>
        <p:blipFill>
          <a:blip r:embed="rId2"/>
          <a:stretch/>
        </p:blipFill>
        <p:spPr>
          <a:xfrm>
            <a:off x="700200" y="358920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561" name="矩形 16"/>
          <p:cNvSpPr/>
          <p:nvPr/>
        </p:nvSpPr>
        <p:spPr>
          <a:xfrm>
            <a:off x="1122120" y="3438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1"/>
          <p:cNvGrpSpPr/>
          <p:nvPr/>
        </p:nvGrpSpPr>
        <p:grpSpPr>
          <a:xfrm>
            <a:off x="274680" y="1014480"/>
            <a:ext cx="1539720" cy="1114200"/>
            <a:chOff x="274680" y="1014480"/>
            <a:chExt cx="1539720" cy="1114200"/>
          </a:xfrm>
        </p:grpSpPr>
        <p:pic>
          <p:nvPicPr>
            <p:cNvPr id="566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274680" y="1014480"/>
              <a:ext cx="15397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文本框 2"/>
            <p:cNvSpPr/>
            <p:nvPr/>
          </p:nvSpPr>
          <p:spPr>
            <a:xfrm>
              <a:off x="698400" y="119412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Box 17"/>
          <p:cNvSpPr/>
          <p:nvPr/>
        </p:nvSpPr>
        <p:spPr>
          <a:xfrm>
            <a:off x="1677960" y="1787400"/>
            <a:ext cx="685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当主语是第三人称单数时，助动词要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does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Jack want to buy?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杰克想要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He wants to buy a new shirt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他想要买一件新衬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959120" y="3570120"/>
            <a:ext cx="586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ants ________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o g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6"/>
          <p:cNvGrpSpPr/>
          <p:nvPr/>
        </p:nvGrpSpPr>
        <p:grpSpPr>
          <a:xfrm>
            <a:off x="738360" y="3660840"/>
            <a:ext cx="968040" cy="399960"/>
            <a:chOff x="738360" y="3660840"/>
            <a:chExt cx="968040" cy="399960"/>
          </a:xfrm>
        </p:grpSpPr>
        <p:sp>
          <p:nvSpPr>
            <p:cNvPr id="571" name="TextBox 3"/>
            <p:cNvSpPr/>
            <p:nvPr/>
          </p:nvSpPr>
          <p:spPr>
            <a:xfrm>
              <a:off x="934920" y="366084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738360" y="3693240"/>
              <a:ext cx="252000" cy="36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TextBox 23"/>
          <p:cNvSpPr/>
          <p:nvPr/>
        </p:nvSpPr>
        <p:spPr>
          <a:xfrm>
            <a:off x="3532320" y="36576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876240" y="4641840"/>
            <a:ext cx="769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0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6"/>
          <p:cNvSpPr/>
          <p:nvPr/>
        </p:nvSpPr>
        <p:spPr>
          <a:xfrm>
            <a:off x="1751040" y="4626000"/>
            <a:ext cx="6818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的是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ant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的用法。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ant to do sth.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是固定结构，意为“想去做某事”。故选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17"/>
          <p:cNvSpPr/>
          <p:nvPr/>
        </p:nvSpPr>
        <p:spPr>
          <a:xfrm>
            <a:off x="2682000" y="1062000"/>
            <a:ext cx="367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want to buy a new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想买新连衣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圆角矩形 18"/>
          <p:cNvSpPr/>
          <p:nvPr/>
        </p:nvSpPr>
        <p:spPr>
          <a:xfrm>
            <a:off x="831960" y="113364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9"/>
          <p:cNvSpPr/>
          <p:nvPr/>
        </p:nvSpPr>
        <p:spPr>
          <a:xfrm>
            <a:off x="1249200" y="113976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1873080" y="2197080"/>
            <a:ext cx="70581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含有实义动词的否定句。含有实义动词的句子变否定句时，要借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es’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放在实义动词之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bananas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香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 bananas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喜欢香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alks to school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她每天步行去上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doesn't walk to school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她并非每天步行去上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9" descr="book.gif"/>
          <p:cNvPicPr/>
          <p:nvPr/>
        </p:nvPicPr>
        <p:blipFill>
          <a:blip r:embed="rId2"/>
          <a:stretch/>
        </p:blipFill>
        <p:spPr>
          <a:xfrm>
            <a:off x="90360" y="1006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584" name="矩形 2"/>
          <p:cNvSpPr/>
          <p:nvPr/>
        </p:nvSpPr>
        <p:spPr>
          <a:xfrm>
            <a:off x="1187640" y="3184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2"/>
          <p:cNvSpPr/>
          <p:nvPr/>
        </p:nvSpPr>
        <p:spPr>
          <a:xfrm>
            <a:off x="1179720" y="2281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8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1"/>
          <p:cNvGrpSpPr/>
          <p:nvPr/>
        </p:nvGrpSpPr>
        <p:grpSpPr>
          <a:xfrm>
            <a:off x="417600" y="1014480"/>
            <a:ext cx="1539720" cy="1114200"/>
            <a:chOff x="417600" y="1014480"/>
            <a:chExt cx="1539720" cy="1114200"/>
          </a:xfrm>
        </p:grpSpPr>
        <p:pic>
          <p:nvPicPr>
            <p:cNvPr id="590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417600" y="1014480"/>
              <a:ext cx="15397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文本框 2"/>
            <p:cNvSpPr/>
            <p:nvPr/>
          </p:nvSpPr>
          <p:spPr>
            <a:xfrm>
              <a:off x="795240" y="10994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17"/>
          <p:cNvSpPr/>
          <p:nvPr/>
        </p:nvSpPr>
        <p:spPr>
          <a:xfrm>
            <a:off x="1709640" y="181944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主语是第三人称单数时，实义动词前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esn’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，后面的动词要用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1959120" y="2987640"/>
            <a:ext cx="753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________ buy a scar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doesn’t 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don’t want      C. doesn’t wa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26"/>
          <p:cNvGrpSpPr/>
          <p:nvPr/>
        </p:nvGrpSpPr>
        <p:grpSpPr>
          <a:xfrm>
            <a:off x="738360" y="3092400"/>
            <a:ext cx="1244520" cy="459720"/>
            <a:chOff x="738360" y="3092400"/>
            <a:chExt cx="1244520" cy="459720"/>
          </a:xfrm>
        </p:grpSpPr>
        <p:sp>
          <p:nvSpPr>
            <p:cNvPr id="595" name="TextBox 3"/>
            <p:cNvSpPr/>
            <p:nvPr/>
          </p:nvSpPr>
          <p:spPr>
            <a:xfrm>
              <a:off x="991080" y="30924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738360" y="31251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Box 23"/>
          <p:cNvSpPr/>
          <p:nvPr/>
        </p:nvSpPr>
        <p:spPr>
          <a:xfrm>
            <a:off x="2979720" y="308916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876240" y="4184640"/>
            <a:ext cx="76932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6"/>
          <p:cNvSpPr/>
          <p:nvPr/>
        </p:nvSpPr>
        <p:spPr>
          <a:xfrm>
            <a:off x="1751040" y="416880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当主语是第三人称单数时，否定句用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esn’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动词原形”，故排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；又因为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nt 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动词原形”是固定搭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5" descr="C:\Users\Administrator\Desktop\QQ截图20170617123538.png"/>
          <p:cNvPicPr/>
          <p:nvPr/>
        </p:nvPicPr>
        <p:blipFill>
          <a:blip r:embed="rId1"/>
          <a:stretch/>
        </p:blipFill>
        <p:spPr>
          <a:xfrm>
            <a:off x="206280" y="2397240"/>
            <a:ext cx="4444920" cy="3071520"/>
          </a:xfrm>
          <a:prstGeom prst="rect">
            <a:avLst/>
          </a:prstGeom>
          <a:ln w="0">
            <a:noFill/>
          </a:ln>
        </p:spPr>
      </p:pic>
      <p:pic>
        <p:nvPicPr>
          <p:cNvPr id="601" name="文本框 8" descr=""/>
          <p:cNvPicPr/>
          <p:nvPr/>
        </p:nvPicPr>
        <p:blipFill>
          <a:blip r:embed="rId2"/>
          <a:stretch/>
        </p:blipFill>
        <p:spPr>
          <a:xfrm>
            <a:off x="2959200" y="184320"/>
            <a:ext cx="3228840" cy="64764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8"/>
          <p:cNvSpPr/>
          <p:nvPr/>
        </p:nvSpPr>
        <p:spPr>
          <a:xfrm>
            <a:off x="2898720" y="2901960"/>
            <a:ext cx="145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nt to buy  a ski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0"/>
          <p:cNvSpPr/>
          <p:nvPr/>
        </p:nvSpPr>
        <p:spPr>
          <a:xfrm>
            <a:off x="366840" y="2500200"/>
            <a:ext cx="229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’s go shopping. I want to bu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now Wh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What do 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1" descr=""/>
          <p:cNvPicPr/>
          <p:nvPr/>
        </p:nvPicPr>
        <p:blipFill>
          <a:blip r:embed="rId3"/>
          <a:stretch/>
        </p:blipFill>
        <p:spPr>
          <a:xfrm>
            <a:off x="3193920" y="5821200"/>
            <a:ext cx="2116440" cy="6670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1"/>
          <p:cNvSpPr/>
          <p:nvPr/>
        </p:nvSpPr>
        <p:spPr>
          <a:xfrm>
            <a:off x="712800" y="11984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 work. Talk and wr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4" descr=""/>
          <p:cNvPicPr/>
          <p:nvPr/>
        </p:nvPicPr>
        <p:blipFill>
          <a:blip r:embed="rId4"/>
          <a:stretch/>
        </p:blipFill>
        <p:spPr>
          <a:xfrm>
            <a:off x="4572000" y="1446120"/>
            <a:ext cx="468324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536400" y="1298520"/>
            <a:ext cx="814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口、动脑能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冠军争霸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提前准备几张图片，让同学们两两一组。用上本课所学的句型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…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对话。做得最好的一组参加年级的竞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示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some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1492200" y="2030400"/>
            <a:ext cx="1022400" cy="8985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1" descr=""/>
          <p:cNvPicPr/>
          <p:nvPr/>
        </p:nvPicPr>
        <p:blipFill>
          <a:blip r:embed="rId3"/>
          <a:stretch/>
        </p:blipFill>
        <p:spPr>
          <a:xfrm>
            <a:off x="2792520" y="1992240"/>
            <a:ext cx="1109520" cy="9003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2" descr=""/>
          <p:cNvPicPr/>
          <p:nvPr/>
        </p:nvPicPr>
        <p:blipFill>
          <a:blip r:embed="rId4"/>
          <a:stretch/>
        </p:blipFill>
        <p:spPr>
          <a:xfrm>
            <a:off x="4245120" y="1992240"/>
            <a:ext cx="658800" cy="900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3" descr=""/>
          <p:cNvPicPr/>
          <p:nvPr/>
        </p:nvPicPr>
        <p:blipFill>
          <a:blip r:embed="rId5"/>
          <a:stretch/>
        </p:blipFill>
        <p:spPr>
          <a:xfrm>
            <a:off x="5322960" y="1992240"/>
            <a:ext cx="885600" cy="900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4" descr=""/>
          <p:cNvPicPr/>
          <p:nvPr/>
        </p:nvPicPr>
        <p:blipFill>
          <a:blip r:embed="rId6"/>
          <a:stretch/>
        </p:blipFill>
        <p:spPr>
          <a:xfrm>
            <a:off x="6600960" y="1944720"/>
            <a:ext cx="9172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"/>
          <p:cNvSpPr/>
          <p:nvPr/>
        </p:nvSpPr>
        <p:spPr>
          <a:xfrm>
            <a:off x="863640" y="826920"/>
            <a:ext cx="7737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Let’s go ________ toget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h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ho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792520" y="1687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812880" y="283068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6"/>
          <p:cNvSpPr/>
          <p:nvPr/>
        </p:nvSpPr>
        <p:spPr>
          <a:xfrm>
            <a:off x="1687680" y="2814480"/>
            <a:ext cx="63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o shoppin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固定短语，意为“去购物”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20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Box 1"/>
          <p:cNvSpPr/>
          <p:nvPr/>
        </p:nvSpPr>
        <p:spPr>
          <a:xfrm>
            <a:off x="863640" y="3790800"/>
            <a:ext cx="7737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 want to buy a coat. Let’s go to th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ea sh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ook sh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clothes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"/>
          <p:cNvSpPr/>
          <p:nvPr/>
        </p:nvSpPr>
        <p:spPr>
          <a:xfrm>
            <a:off x="6122880" y="3990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812880" y="511812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0"/>
          <p:cNvSpPr/>
          <p:nvPr/>
        </p:nvSpPr>
        <p:spPr>
          <a:xfrm>
            <a:off x="1687680" y="5102280"/>
            <a:ext cx="63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一句的意思是“我想买一件外套。”所以要去的地方应该是服装店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"/>
          <p:cNvSpPr/>
          <p:nvPr/>
        </p:nvSpPr>
        <p:spPr>
          <a:xfrm>
            <a:off x="988920" y="1646280"/>
            <a:ext cx="7737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 want to go to the ________ to buy a doll for my 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book sh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oy sh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clothes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4248000" y="1846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938160" y="3036960"/>
            <a:ext cx="75754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6"/>
          <p:cNvSpPr/>
          <p:nvPr/>
        </p:nvSpPr>
        <p:spPr>
          <a:xfrm>
            <a:off x="1812960" y="3021120"/>
            <a:ext cx="65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句话意为“我想去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买一个布娃娃送给我的妹妹。”所以应该要去的是玩具店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32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"/>
          <p:cNvPicPr/>
          <p:nvPr/>
        </p:nvPicPr>
        <p:blipFill>
          <a:blip r:embed="rId2"/>
          <a:stretch/>
        </p:blipFill>
        <p:spPr>
          <a:xfrm>
            <a:off x="4646520" y="1893960"/>
            <a:ext cx="4172040" cy="2819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3" descr=""/>
          <p:cNvPicPr/>
          <p:nvPr/>
        </p:nvPicPr>
        <p:blipFill>
          <a:blip r:embed="rId3"/>
          <a:stretch/>
        </p:blipFill>
        <p:spPr>
          <a:xfrm>
            <a:off x="431640" y="1878120"/>
            <a:ext cx="425628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35" name="TextBox 1"/>
          <p:cNvSpPr/>
          <p:nvPr/>
        </p:nvSpPr>
        <p:spPr>
          <a:xfrm>
            <a:off x="988920" y="1646280"/>
            <a:ext cx="7737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 like bananas, but I ________ like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n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no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"/>
          <p:cNvSpPr/>
          <p:nvPr/>
        </p:nvSpPr>
        <p:spPr>
          <a:xfrm>
            <a:off x="4564080" y="183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"/>
          <p:cNvSpPr/>
          <p:nvPr/>
        </p:nvSpPr>
        <p:spPr>
          <a:xfrm>
            <a:off x="938160" y="3052800"/>
            <a:ext cx="71532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1812960" y="303696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的是含有实义动词的句子变否定句时，要在实义动词前加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esn’t,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子主语是第一人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所以要加的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40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43" name="TextBox 1"/>
          <p:cNvSpPr/>
          <p:nvPr/>
        </p:nvSpPr>
        <p:spPr>
          <a:xfrm>
            <a:off x="654120" y="1320840"/>
            <a:ext cx="549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给下列各句选择相应的答语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1. Where are you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2. What do you want to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3. Let’s go to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4. What do you wan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45" name="矩形 15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Box 2"/>
          <p:cNvSpPr/>
          <p:nvPr/>
        </p:nvSpPr>
        <p:spPr>
          <a:xfrm>
            <a:off x="1006560" y="36720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1001880" y="295416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"/>
          <p:cNvSpPr/>
          <p:nvPr/>
        </p:nvSpPr>
        <p:spPr>
          <a:xfrm>
            <a:off x="5634000" y="2327400"/>
            <a:ext cx="343080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 want to buy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o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 want to read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"/>
          <p:cNvSpPr/>
          <p:nvPr/>
        </p:nvSpPr>
        <p:spPr>
          <a:xfrm>
            <a:off x="1014480" y="2170080"/>
            <a:ext cx="3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"/>
          <p:cNvSpPr/>
          <p:nvPr/>
        </p:nvSpPr>
        <p:spPr>
          <a:xfrm>
            <a:off x="1017720" y="440676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3"/>
          <p:cNvSpPr/>
          <p:nvPr/>
        </p:nvSpPr>
        <p:spPr>
          <a:xfrm>
            <a:off x="1009800" y="1339920"/>
            <a:ext cx="7130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3"/>
          <p:cNvSpPr/>
          <p:nvPr/>
        </p:nvSpPr>
        <p:spPr>
          <a:xfrm>
            <a:off x="1009800" y="2665440"/>
            <a:ext cx="79358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,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shopping, Da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want to buy a new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5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6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2" descr="C:\Users\Administrator\Desktop\QQ截图20170617110417.png"/>
          <p:cNvPicPr/>
          <p:nvPr/>
        </p:nvPicPr>
        <p:blipFill>
          <a:blip r:embed="rId1"/>
          <a:stretch/>
        </p:blipFill>
        <p:spPr>
          <a:xfrm>
            <a:off x="415800" y="1085760"/>
            <a:ext cx="5623200" cy="47721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8" descr=""/>
          <p:cNvPicPr/>
          <p:nvPr/>
        </p:nvPicPr>
        <p:blipFill>
          <a:blip r:embed="rId2"/>
          <a:stretch/>
        </p:blipFill>
        <p:spPr>
          <a:xfrm>
            <a:off x="2876400" y="244440"/>
            <a:ext cx="3349800" cy="7142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"/>
          <p:cNvSpPr/>
          <p:nvPr/>
        </p:nvSpPr>
        <p:spPr>
          <a:xfrm>
            <a:off x="593640" y="43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5"/>
          <p:cNvSpPr/>
          <p:nvPr/>
        </p:nvSpPr>
        <p:spPr>
          <a:xfrm>
            <a:off x="3129120" y="317196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shopping, Da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7699320" y="521352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y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7500960" y="3833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thes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7610400" y="25131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7510320" y="1246320"/>
            <a:ext cx="15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4" descr=""/>
          <p:cNvPicPr/>
          <p:nvPr/>
        </p:nvPicPr>
        <p:blipFill>
          <a:blip r:embed="rId3"/>
          <a:stretch/>
        </p:blipFill>
        <p:spPr>
          <a:xfrm>
            <a:off x="1071720" y="4003560"/>
            <a:ext cx="123840" cy="104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1" descr=""/>
          <p:cNvPicPr/>
          <p:nvPr/>
        </p:nvPicPr>
        <p:blipFill>
          <a:blip r:embed="rId4"/>
          <a:stretch/>
        </p:blipFill>
        <p:spPr>
          <a:xfrm>
            <a:off x="3594240" y="5857920"/>
            <a:ext cx="2116080" cy="666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7" descr=""/>
          <p:cNvPicPr/>
          <p:nvPr/>
        </p:nvPicPr>
        <p:blipFill>
          <a:blip r:embed="rId5"/>
          <a:stretch/>
        </p:blipFill>
        <p:spPr>
          <a:xfrm>
            <a:off x="5896080" y="2276640"/>
            <a:ext cx="1419120" cy="10191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8" descr=""/>
          <p:cNvPicPr/>
          <p:nvPr/>
        </p:nvPicPr>
        <p:blipFill>
          <a:blip r:embed="rId6"/>
          <a:stretch/>
        </p:blipFill>
        <p:spPr>
          <a:xfrm>
            <a:off x="6094440" y="3656160"/>
            <a:ext cx="1314360" cy="971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9" descr=""/>
          <p:cNvPicPr/>
          <p:nvPr/>
        </p:nvPicPr>
        <p:blipFill>
          <a:blip r:embed="rId7"/>
          <a:stretch/>
        </p:blipFill>
        <p:spPr>
          <a:xfrm>
            <a:off x="6126120" y="4941720"/>
            <a:ext cx="1305000" cy="943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0" descr=""/>
          <p:cNvPicPr/>
          <p:nvPr/>
        </p:nvPicPr>
        <p:blipFill>
          <a:blip r:embed="rId8"/>
          <a:stretch/>
        </p:blipFill>
        <p:spPr>
          <a:xfrm>
            <a:off x="5970600" y="1085760"/>
            <a:ext cx="123840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7"/>
          <p:cNvSpPr/>
          <p:nvPr/>
        </p:nvSpPr>
        <p:spPr>
          <a:xfrm>
            <a:off x="2452680" y="1442880"/>
            <a:ext cx="65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et’s go shopping, Danny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咱们去购物吧，丹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圆角矩形 18"/>
          <p:cNvSpPr/>
          <p:nvPr/>
        </p:nvSpPr>
        <p:spPr>
          <a:xfrm>
            <a:off x="631800" y="15652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9"/>
          <p:cNvSpPr/>
          <p:nvPr/>
        </p:nvSpPr>
        <p:spPr>
          <a:xfrm>
            <a:off x="974880" y="1535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9" descr="book.gif"/>
          <p:cNvPicPr/>
          <p:nvPr/>
        </p:nvPicPr>
        <p:blipFill>
          <a:blip r:embed="rId2"/>
          <a:stretch/>
        </p:blipFill>
        <p:spPr>
          <a:xfrm>
            <a:off x="-66600" y="1457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1"/>
          <p:cNvSpPr/>
          <p:nvPr/>
        </p:nvSpPr>
        <p:spPr>
          <a:xfrm>
            <a:off x="1800360" y="2970360"/>
            <a:ext cx="725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向对方提出建议的常用句型，表达的意思是“咱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吧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to school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咱们乘坐公共汽车去上学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1004400" y="4172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"/>
          <p:cNvSpPr/>
          <p:nvPr/>
        </p:nvSpPr>
        <p:spPr>
          <a:xfrm>
            <a:off x="1007640" y="3063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662040" y="222876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et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18" descr=""/>
          <p:cNvPicPr/>
          <p:nvPr/>
        </p:nvPicPr>
        <p:blipFill>
          <a:blip r:embed="rId2"/>
          <a:stretch/>
        </p:blipFill>
        <p:spPr>
          <a:xfrm>
            <a:off x="763560" y="12398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503" name="矩形 16"/>
          <p:cNvSpPr/>
          <p:nvPr/>
        </p:nvSpPr>
        <p:spPr>
          <a:xfrm>
            <a:off x="1185480" y="1089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"/>
          <p:cNvSpPr/>
          <p:nvPr/>
        </p:nvSpPr>
        <p:spPr>
          <a:xfrm>
            <a:off x="1884240" y="108756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30360" y="1776240"/>
          <a:ext cx="7977240" cy="3338640"/>
        </p:xfrm>
        <a:graphic>
          <a:graphicData uri="http://schemas.openxmlformats.org/drawingml/2006/table">
            <a:tbl>
              <a:tblPr/>
              <a:tblGrid>
                <a:gridCol w="1276200"/>
                <a:gridCol w="2460600"/>
                <a:gridCol w="4240440"/>
              </a:tblGrid>
              <a:tr h="169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’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’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示说话人和听话人一起去做某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’s buy a book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咱们一起去买本书吧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[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示对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话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也要一起去买本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 u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示说话人不和听话人一起去做某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et us read it again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让我们再读一次吧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[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示大家一起读，但是对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话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包含在内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1959120" y="1805040"/>
            <a:ext cx="75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________ to the tea 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g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26"/>
          <p:cNvGrpSpPr/>
          <p:nvPr/>
        </p:nvGrpSpPr>
        <p:grpSpPr>
          <a:xfrm>
            <a:off x="738360" y="1909800"/>
            <a:ext cx="1244520" cy="459720"/>
            <a:chOff x="738360" y="1909800"/>
            <a:chExt cx="1244520" cy="459720"/>
          </a:xfrm>
        </p:grpSpPr>
        <p:sp>
          <p:nvSpPr>
            <p:cNvPr id="511" name="TextBox 3"/>
            <p:cNvSpPr/>
            <p:nvPr/>
          </p:nvSpPr>
          <p:spPr>
            <a:xfrm>
              <a:off x="991080" y="19098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8360" y="19425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TextBox 23"/>
          <p:cNvSpPr/>
          <p:nvPr/>
        </p:nvSpPr>
        <p:spPr>
          <a:xfrm>
            <a:off x="3130560" y="189720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876240" y="3002040"/>
            <a:ext cx="769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5"/>
          <p:cNvSpPr/>
          <p:nvPr/>
        </p:nvSpPr>
        <p:spPr>
          <a:xfrm>
            <a:off x="1751040" y="2986200"/>
            <a:ext cx="68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et’s do sth.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咱们一起做某事吧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型的用法表达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et’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面的动词要用原形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1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"/>
          <p:cNvSpPr/>
          <p:nvPr/>
        </p:nvSpPr>
        <p:spPr>
          <a:xfrm>
            <a:off x="2521080" y="2095560"/>
            <a:ext cx="61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usually goes to school by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通常骑自行车去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swimm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游泳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shopp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购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2146320" y="1320840"/>
            <a:ext cx="53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ɡ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出发，离去；行走；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"/>
          <p:cNvSpPr/>
          <p:nvPr/>
        </p:nvSpPr>
        <p:spPr>
          <a:xfrm>
            <a:off x="272880" y="320184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人称单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"/>
          <p:cNvSpPr/>
          <p:nvPr/>
        </p:nvSpPr>
        <p:spPr>
          <a:xfrm>
            <a:off x="1476360" y="209376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"/>
          <p:cNvSpPr/>
          <p:nvPr/>
        </p:nvSpPr>
        <p:spPr>
          <a:xfrm>
            <a:off x="1503360" y="377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"/>
          <p:cNvPicPr/>
          <p:nvPr/>
        </p:nvPicPr>
        <p:blipFill>
          <a:blip r:embed="rId2"/>
          <a:stretch/>
        </p:blipFill>
        <p:spPr>
          <a:xfrm>
            <a:off x="1290600" y="1335240"/>
            <a:ext cx="88596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2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"/>
          <p:cNvSpPr/>
          <p:nvPr/>
        </p:nvSpPr>
        <p:spPr>
          <a:xfrm>
            <a:off x="2521080" y="2300400"/>
            <a:ext cx="61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is the clothes sho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服装店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ea sho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茶叶店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sho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y sho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玩具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2146320" y="1320840"/>
            <a:ext cx="53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ʃɒ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商店；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购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"/>
          <p:cNvSpPr/>
          <p:nvPr/>
        </p:nvSpPr>
        <p:spPr>
          <a:xfrm>
            <a:off x="1476360" y="231444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1503360" y="342432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1184400" y="1366920"/>
            <a:ext cx="100944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18" descr=""/>
          <p:cNvPicPr/>
          <p:nvPr/>
        </p:nvPicPr>
        <p:blipFill>
          <a:blip r:embed="rId2"/>
          <a:stretch/>
        </p:blipFill>
        <p:spPr>
          <a:xfrm>
            <a:off x="542880" y="187020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537" name="矩形 16"/>
          <p:cNvSpPr/>
          <p:nvPr/>
        </p:nvSpPr>
        <p:spPr>
          <a:xfrm>
            <a:off x="964800" y="1719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1647720" y="1736640"/>
            <a:ext cx="726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sh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名词时，意为“商店，店铺”，美式英语中多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to the book 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咱们一起去书店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sh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动词时，意为“购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 often shops on Fr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丹尼经常在星期五购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2T01:16:44Z</dcterms:modified>
  <cp:revision>6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