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D4470-563E-407A-96B9-F37295BCDE09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6439B-C51C-4E22-8AFD-43C9CB208C87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8DD53-219C-4AFA-90F4-9945B277F2BE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2F6DC-FF32-4422-95CD-5BF1366CC0FC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DB110-40AD-424A-9D2D-02A2314A52EF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9BDAC-38C6-41FA-AE6D-645E1300D160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ED8CA-10DB-4A5F-BC8E-7DA5944DF12D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2422A-9091-4A0D-A7FF-8349A95DEEC5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052F0-FDDB-4B25-BB09-9489F05A9FF6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17B92-3967-4CCB-8D31-F0F1042C5DA7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F37AE-94B1-4752-9729-E8667CBA9EB5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46A-F43B-49D6-9863-C3955A8B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8C8-2243-4B8A-8901-70FF0BA0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67E-E91E-493B-932A-6F54F0E5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73C-885A-4BC2-8719-16FDB5DD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D77-D1B1-4CC0-B2C4-65FA13B2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764-9D17-4212-995F-3587F34A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456-62FD-4E2C-95AF-97E9D65D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9ED-3687-4056-8495-C5765D31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B47-295C-40E8-A0DF-A732504F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627-7A87-4C2F-8438-6CB0D93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616-CACA-4A7F-84EF-FCAE6A3C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093-411B-4EB3-B38E-101E140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23334-A34C-45CE-A851-2B703E1D22DD}" type="slidenum">
              <a:rPr b="0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5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9"/>
          <p:cNvSpPr/>
          <p:nvPr/>
        </p:nvSpPr>
        <p:spPr>
          <a:xfrm>
            <a:off x="-47520" y="17640"/>
            <a:ext cx="922788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2" name="AutoShape 508" descr=""/>
            <p:cNvPicPr/>
            <p:nvPr/>
          </p:nvPicPr>
          <p:blipFill>
            <a:blip r:embed="rId3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863640" y="1430280"/>
            <a:ext cx="73580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The Clothes We 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四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grpSp>
        <p:nvGrpSpPr>
          <p:cNvPr id="60" name="AutoShape 508"/>
          <p:cNvGrpSpPr/>
          <p:nvPr/>
        </p:nvGrpSpPr>
        <p:grpSpPr>
          <a:xfrm>
            <a:off x="457200" y="1023840"/>
            <a:ext cx="8236080" cy="2243160"/>
            <a:chOff x="457200" y="1023840"/>
            <a:chExt cx="8236080" cy="2243160"/>
          </a:xfrm>
        </p:grpSpPr>
        <p:pic>
          <p:nvPicPr>
            <p:cNvPr id="61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102384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4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5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8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71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4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7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80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文本框 22" descr=""/>
          <p:cNvPicPr/>
          <p:nvPr/>
        </p:nvPicPr>
        <p:blipFill>
          <a:blip r:embed="rId15"/>
          <a:stretch/>
        </p:blipFill>
        <p:spPr>
          <a:xfrm>
            <a:off x="2651040" y="4340160"/>
            <a:ext cx="5608800" cy="13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文本框 8" descr=""/>
          <p:cNvPicPr/>
          <p:nvPr/>
        </p:nvPicPr>
        <p:blipFill>
          <a:blip r:embed="rId1"/>
          <a:stretch/>
        </p:blipFill>
        <p:spPr>
          <a:xfrm>
            <a:off x="2816280" y="189000"/>
            <a:ext cx="4157640" cy="82872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183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13" descr=""/>
          <p:cNvPicPr/>
          <p:nvPr/>
        </p:nvPicPr>
        <p:blipFill>
          <a:blip r:embed="rId4"/>
          <a:stretch/>
        </p:blipFill>
        <p:spPr>
          <a:xfrm>
            <a:off x="698400" y="1282680"/>
            <a:ext cx="7989840" cy="4838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5"/>
          <a:stretch/>
        </p:blipFill>
        <p:spPr>
          <a:xfrm>
            <a:off x="2104920" y="1552680"/>
            <a:ext cx="451512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18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Box 1"/>
          <p:cNvSpPr/>
          <p:nvPr/>
        </p:nvSpPr>
        <p:spPr>
          <a:xfrm>
            <a:off x="714240" y="1571760"/>
            <a:ext cx="674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ss Zhang: Is this your cap, Da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No, it’s Kim’s c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ss Zhang: Danny, are these your glo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No, Miss Zhang.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ss Zhang: Yes, Danny. I s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文本框 8" descr=""/>
          <p:cNvPicPr/>
          <p:nvPr/>
        </p:nvPicPr>
        <p:blipFill>
          <a:blip r:embed="rId3"/>
          <a:stretch/>
        </p:blipFill>
        <p:spPr>
          <a:xfrm>
            <a:off x="2255760" y="128520"/>
            <a:ext cx="5205600" cy="773280"/>
          </a:xfrm>
          <a:prstGeom prst="rect">
            <a:avLst/>
          </a:prstGeom>
          <a:ln w="0">
            <a:noFill/>
          </a:ln>
        </p:spPr>
      </p:pic>
      <p:sp>
        <p:nvSpPr>
          <p:cNvPr id="192" name="矩形 9"/>
          <p:cNvSpPr/>
          <p:nvPr/>
        </p:nvSpPr>
        <p:spPr>
          <a:xfrm>
            <a:off x="6634080" y="2911320"/>
            <a:ext cx="1878120" cy="136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john\Desktop\QQ截图20170601224413.png"/>
          <p:cNvPicPr/>
          <p:nvPr/>
        </p:nvPicPr>
        <p:blipFill>
          <a:blip r:embed="rId4"/>
          <a:stretch/>
        </p:blipFill>
        <p:spPr>
          <a:xfrm>
            <a:off x="6730920" y="3005280"/>
            <a:ext cx="167652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17"/>
          <p:cNvSpPr/>
          <p:nvPr/>
        </p:nvSpPr>
        <p:spPr>
          <a:xfrm>
            <a:off x="2792520" y="1425600"/>
            <a:ext cx="349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s this your cap, Dan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你的帽子吗，丹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18"/>
          <p:cNvSpPr/>
          <p:nvPr/>
        </p:nvSpPr>
        <p:spPr>
          <a:xfrm>
            <a:off x="811080" y="17002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2"/>
          <p:cNvGrpSpPr/>
          <p:nvPr/>
        </p:nvGrpSpPr>
        <p:grpSpPr>
          <a:xfrm>
            <a:off x="264960" y="1592280"/>
            <a:ext cx="2338560" cy="666720"/>
            <a:chOff x="264960" y="1592280"/>
            <a:chExt cx="2338560" cy="666720"/>
          </a:xfrm>
        </p:grpSpPr>
        <p:sp>
          <p:nvSpPr>
            <p:cNvPr id="200" name="文本框 19"/>
            <p:cNvSpPr/>
            <p:nvPr/>
          </p:nvSpPr>
          <p:spPr>
            <a:xfrm>
              <a:off x="1158840" y="1670040"/>
              <a:ext cx="14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264960" y="1592280"/>
              <a:ext cx="92124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TextBox 5"/>
          <p:cNvSpPr/>
          <p:nvPr/>
        </p:nvSpPr>
        <p:spPr>
          <a:xfrm>
            <a:off x="1187280" y="31892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2154240" y="2968560"/>
            <a:ext cx="62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一般疑问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am, is, are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放在句首，并大写其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，句末用问号。用来询问物品是不是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人的。回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2" descr=""/>
          <p:cNvPicPr/>
          <p:nvPr/>
        </p:nvPicPr>
        <p:blipFill>
          <a:blip r:embed="rId3"/>
          <a:stretch/>
        </p:blipFill>
        <p:spPr>
          <a:xfrm>
            <a:off x="6208560" y="1592280"/>
            <a:ext cx="11430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0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1001880" y="4537080"/>
            <a:ext cx="11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1054080" y="240048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答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9"/>
          <p:cNvSpPr/>
          <p:nvPr/>
        </p:nvSpPr>
        <p:spPr>
          <a:xfrm>
            <a:off x="2111400" y="4289400"/>
            <a:ext cx="584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se your books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是你的书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2030400" y="229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. /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7"/>
          <p:cNvSpPr/>
          <p:nvPr/>
        </p:nvSpPr>
        <p:spPr>
          <a:xfrm>
            <a:off x="1044720" y="1587600"/>
            <a:ext cx="54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结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＋指示代词＋其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022400" y="3071880"/>
            <a:ext cx="9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7"/>
          <p:cNvSpPr/>
          <p:nvPr/>
        </p:nvSpPr>
        <p:spPr>
          <a:xfrm>
            <a:off x="2128680" y="2841480"/>
            <a:ext cx="563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this your ruler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你的尺子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1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28"/>
          <p:cNvGrpSpPr/>
          <p:nvPr/>
        </p:nvGrpSpPr>
        <p:grpSpPr>
          <a:xfrm>
            <a:off x="595440" y="2014560"/>
            <a:ext cx="1244520" cy="459720"/>
            <a:chOff x="595440" y="2014560"/>
            <a:chExt cx="1244520" cy="459720"/>
          </a:xfrm>
        </p:grpSpPr>
        <p:sp>
          <p:nvSpPr>
            <p:cNvPr id="219" name="TextBox 3"/>
            <p:cNvSpPr/>
            <p:nvPr/>
          </p:nvSpPr>
          <p:spPr>
            <a:xfrm>
              <a:off x="848160" y="20145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595440" y="205704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矩形 31"/>
          <p:cNvSpPr/>
          <p:nvPr/>
        </p:nvSpPr>
        <p:spPr>
          <a:xfrm>
            <a:off x="1714680" y="1795320"/>
            <a:ext cx="640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my sweater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改成一般疑问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________ your swe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2197080" y="277812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           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781280" y="3551400"/>
            <a:ext cx="663408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4"/>
          <p:cNvSpPr/>
          <p:nvPr/>
        </p:nvSpPr>
        <p:spPr>
          <a:xfrm>
            <a:off x="2689200" y="3551400"/>
            <a:ext cx="57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动词引导的一般疑问句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m, is, ar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放在句首，并大写其首字母，句末用问号。故填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Is thi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7"/>
          <p:cNvSpPr/>
          <p:nvPr/>
        </p:nvSpPr>
        <p:spPr>
          <a:xfrm>
            <a:off x="2851200" y="1701720"/>
            <a:ext cx="50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名词所有格，意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18"/>
          <p:cNvSpPr/>
          <p:nvPr/>
        </p:nvSpPr>
        <p:spPr>
          <a:xfrm>
            <a:off x="1015920" y="1827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9"/>
          <p:cNvSpPr/>
          <p:nvPr/>
        </p:nvSpPr>
        <p:spPr>
          <a:xfrm>
            <a:off x="1274760" y="17938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9" descr="book.gif"/>
          <p:cNvPicPr/>
          <p:nvPr/>
        </p:nvPicPr>
        <p:blipFill>
          <a:blip r:embed="rId2"/>
          <a:stretch/>
        </p:blipFill>
        <p:spPr>
          <a:xfrm>
            <a:off x="214200" y="171288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8"/>
          <p:cNvSpPr/>
          <p:nvPr/>
        </p:nvSpPr>
        <p:spPr>
          <a:xfrm>
            <a:off x="2403360" y="2405160"/>
            <a:ext cx="45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Tom’s cap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是汤姆的帽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1301760" y="266076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1341360" y="342900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2398680" y="3187800"/>
            <a:ext cx="596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词所有格表示所属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im’s ca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p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属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i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此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的帽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"/>
          <p:cNvSpPr/>
          <p:nvPr/>
        </p:nvSpPr>
        <p:spPr>
          <a:xfrm>
            <a:off x="966960" y="1273320"/>
            <a:ext cx="32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格的变化情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01600" y="1986120"/>
          <a:ext cx="6896160" cy="4063680"/>
        </p:xfrm>
        <a:graphic>
          <a:graphicData uri="http://schemas.openxmlformats.org/drawingml/2006/table">
            <a:tbl>
              <a:tblPr/>
              <a:tblGrid>
                <a:gridCol w="1776600"/>
                <a:gridCol w="1884240"/>
                <a:gridCol w="3235320"/>
              </a:tblGrid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常用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短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单数名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词的词尾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ather’s c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爸爸的小汽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尾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复数名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名词的词尾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eachers’ Day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教师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几个人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同拥有某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在最后一个人名后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ily and Lucy’s mother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莉莉和露西的妈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17"/>
          <p:cNvSpPr/>
          <p:nvPr/>
        </p:nvSpPr>
        <p:spPr>
          <a:xfrm>
            <a:off x="2698920" y="1735200"/>
            <a:ext cx="5516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iss /mɪ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姐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于未婚女子姓氏或姓名前，以示礼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2166840" y="3108240"/>
            <a:ext cx="6226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lo, I’m Miss Zhang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好，我是张老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2"/>
          <p:cNvGrpSpPr/>
          <p:nvPr/>
        </p:nvGrpSpPr>
        <p:grpSpPr>
          <a:xfrm>
            <a:off x="42840" y="1838160"/>
            <a:ext cx="2606760" cy="667080"/>
            <a:chOff x="42840" y="1838160"/>
            <a:chExt cx="2606760" cy="667080"/>
          </a:xfrm>
        </p:grpSpPr>
        <p:sp>
          <p:nvSpPr>
            <p:cNvPr id="247" name="圆角矩形 18"/>
            <p:cNvSpPr/>
            <p:nvPr/>
          </p:nvSpPr>
          <p:spPr>
            <a:xfrm>
              <a:off x="787320" y="1909440"/>
              <a:ext cx="177804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ecadc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1130400" y="189504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2840" y="1838160"/>
              <a:ext cx="1087560" cy="6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矩形 3"/>
          <p:cNvSpPr/>
          <p:nvPr/>
        </p:nvSpPr>
        <p:spPr>
          <a:xfrm>
            <a:off x="1116000" y="325116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2492280" y="3838680"/>
            <a:ext cx="49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先生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s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婚况不明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女士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s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婚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>
            <a:off x="1139760" y="407844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1773360" y="4294080"/>
            <a:ext cx="18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s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思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2419200" y="1824120"/>
            <a:ext cx="548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s., Miss, Mr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者的用法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迷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未婚女士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已婚夫人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婚况不明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"/>
          <p:cNvGrpSpPr/>
          <p:nvPr/>
        </p:nvGrpSpPr>
        <p:grpSpPr>
          <a:xfrm>
            <a:off x="522360" y="2050920"/>
            <a:ext cx="1896840" cy="459720"/>
            <a:chOff x="522360" y="2050920"/>
            <a:chExt cx="1896840" cy="459720"/>
          </a:xfrm>
        </p:grpSpPr>
        <p:sp>
          <p:nvSpPr>
            <p:cNvPr id="259" name="TextBox 10"/>
            <p:cNvSpPr/>
            <p:nvPr/>
          </p:nvSpPr>
          <p:spPr>
            <a:xfrm>
              <a:off x="802440" y="2050920"/>
              <a:ext cx="16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522360" y="208656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图片 18" descr=""/>
          <p:cNvPicPr/>
          <p:nvPr/>
        </p:nvPicPr>
        <p:blipFill>
          <a:blip r:embed="rId3"/>
          <a:stretch/>
        </p:blipFill>
        <p:spPr>
          <a:xfrm>
            <a:off x="546120" y="443880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262" name="矩形 16"/>
          <p:cNvSpPr/>
          <p:nvPr/>
        </p:nvSpPr>
        <p:spPr>
          <a:xfrm>
            <a:off x="968040" y="42879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6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TextBox 1"/>
          <p:cNvSpPr/>
          <p:nvPr/>
        </p:nvSpPr>
        <p:spPr>
          <a:xfrm>
            <a:off x="830160" y="843120"/>
            <a:ext cx="44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roup work. Ask and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文本框 8" descr=""/>
          <p:cNvPicPr/>
          <p:nvPr/>
        </p:nvPicPr>
        <p:blipFill>
          <a:blip r:embed="rId3"/>
          <a:stretch/>
        </p:blipFill>
        <p:spPr>
          <a:xfrm>
            <a:off x="2998800" y="122400"/>
            <a:ext cx="3487680" cy="77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6" descr="C:\Users\john\Desktop\3.png"/>
          <p:cNvPicPr/>
          <p:nvPr/>
        </p:nvPicPr>
        <p:blipFill>
          <a:blip r:embed="rId4"/>
          <a:stretch/>
        </p:blipFill>
        <p:spPr>
          <a:xfrm>
            <a:off x="932040" y="4000680"/>
            <a:ext cx="4221000" cy="2371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7" descr="C:\Users\john\Desktop\1.png"/>
          <p:cNvPicPr/>
          <p:nvPr/>
        </p:nvPicPr>
        <p:blipFill>
          <a:blip r:embed="rId5"/>
          <a:stretch/>
        </p:blipFill>
        <p:spPr>
          <a:xfrm>
            <a:off x="1011240" y="1468440"/>
            <a:ext cx="4141800" cy="2536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8" descr="C:\Users\john\Desktop\2.png"/>
          <p:cNvPicPr/>
          <p:nvPr/>
        </p:nvPicPr>
        <p:blipFill>
          <a:blip r:embed="rId6"/>
          <a:stretch/>
        </p:blipFill>
        <p:spPr>
          <a:xfrm>
            <a:off x="4921200" y="1511280"/>
            <a:ext cx="417024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873080" y="46656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she wearing?  And what colour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2"/>
          <a:stretch/>
        </p:blipFill>
        <p:spPr>
          <a:xfrm>
            <a:off x="1824120" y="1515960"/>
            <a:ext cx="3171600" cy="2762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3"/>
          <a:stretch/>
        </p:blipFill>
        <p:spPr>
          <a:xfrm>
            <a:off x="5578560" y="1515960"/>
            <a:ext cx="1920960" cy="27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72" name="TextBox 1"/>
          <p:cNvSpPr/>
          <p:nvPr/>
        </p:nvSpPr>
        <p:spPr>
          <a:xfrm>
            <a:off x="790560" y="1292400"/>
            <a:ext cx="78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I have an apple ________ a pea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but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274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1"/>
          <p:cNvSpPr/>
          <p:nvPr/>
        </p:nvSpPr>
        <p:spPr>
          <a:xfrm>
            <a:off x="3856680" y="2284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012680" y="3625920"/>
            <a:ext cx="7585200" cy="22885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6"/>
          <p:cNvSpPr/>
          <p:nvPr/>
        </p:nvSpPr>
        <p:spPr>
          <a:xfrm>
            <a:off x="1920960" y="3625920"/>
            <a:ext cx="66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句意为“我有一个苹果和一个梨。”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nd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和；与”，表示并列关系，连接并列的单词、 短语、句子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意为“但是”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意为“或者”。均不符合题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790560" y="1989000"/>
            <a:ext cx="78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s that sweater new ________ o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r                 C.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282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Box 1"/>
          <p:cNvSpPr/>
          <p:nvPr/>
        </p:nvSpPr>
        <p:spPr>
          <a:xfrm>
            <a:off x="4264920" y="2206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012680" y="3693960"/>
            <a:ext cx="7585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6"/>
          <p:cNvSpPr/>
          <p:nvPr/>
        </p:nvSpPr>
        <p:spPr>
          <a:xfrm>
            <a:off x="1920960" y="3693960"/>
            <a:ext cx="66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那件毛衣是新的还是旧的”。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r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选择关系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"/>
          <p:cNvSpPr/>
          <p:nvPr/>
        </p:nvSpPr>
        <p:spPr>
          <a:xfrm>
            <a:off x="1109520" y="1254240"/>
            <a:ext cx="78962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Are these ________ 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Dann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Danny’s       C. boys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We call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称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him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________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Miss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Mr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M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5057640" y="4076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291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Box 1"/>
          <p:cNvSpPr/>
          <p:nvPr/>
        </p:nvSpPr>
        <p:spPr>
          <a:xfrm>
            <a:off x="3202920" y="144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31800" y="2678040"/>
            <a:ext cx="6793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6"/>
          <p:cNvSpPr/>
          <p:nvPr/>
        </p:nvSpPr>
        <p:spPr>
          <a:xfrm>
            <a:off x="2467080" y="269064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名词所有格表示所属关系。单数名词的词尾加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’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1633680" y="5172120"/>
            <a:ext cx="669132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8"/>
          <p:cNvSpPr/>
          <p:nvPr/>
        </p:nvSpPr>
        <p:spPr>
          <a:xfrm>
            <a:off x="2521080" y="5186520"/>
            <a:ext cx="56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Mr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先生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im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指男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1425600" y="1446120"/>
            <a:ext cx="71229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补全对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this ________ (1)coat, Miss 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! It’s Kim’s ________ (2). My coat is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(3) it n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. It’s ________ (4), but I lik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4168800" y="2995560"/>
            <a:ext cx="8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3160800" y="2316240"/>
            <a:ext cx="9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21300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"/>
          <p:cNvSpPr/>
          <p:nvPr/>
        </p:nvSpPr>
        <p:spPr>
          <a:xfrm>
            <a:off x="2451240" y="36370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305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3"/>
          <p:cNvSpPr/>
          <p:nvPr/>
        </p:nvSpPr>
        <p:spPr>
          <a:xfrm>
            <a:off x="3397320" y="429408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2103480" y="5619600"/>
            <a:ext cx="12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1119240" y="129240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1176480" y="3086280"/>
            <a:ext cx="62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at  scarf  glove  cap  Mi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this your cap, Dan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-730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1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17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矩形 12" descr=""/>
          <p:cNvPicPr/>
          <p:nvPr/>
        </p:nvPicPr>
        <p:blipFill>
          <a:blip r:embed="rId4"/>
          <a:stretch/>
        </p:blipFill>
        <p:spPr>
          <a:xfrm>
            <a:off x="1925640" y="1328760"/>
            <a:ext cx="5292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文本框 25" descr=""/>
          <p:cNvPicPr/>
          <p:nvPr/>
        </p:nvPicPr>
        <p:blipFill>
          <a:blip r:embed="rId1"/>
          <a:stretch/>
        </p:blipFill>
        <p:spPr>
          <a:xfrm>
            <a:off x="2243160" y="249120"/>
            <a:ext cx="5303880" cy="646200"/>
          </a:xfrm>
          <a:prstGeom prst="rect">
            <a:avLst/>
          </a:prstGeom>
          <a:ln w="0">
            <a:noFill/>
          </a:ln>
        </p:spPr>
      </p:pic>
      <p:grpSp>
        <p:nvGrpSpPr>
          <p:cNvPr id="89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9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14" descr=""/>
          <p:cNvPicPr/>
          <p:nvPr/>
        </p:nvPicPr>
        <p:blipFill>
          <a:blip r:embed="rId4"/>
          <a:stretch/>
        </p:blipFill>
        <p:spPr>
          <a:xfrm>
            <a:off x="8139240" y="140508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8402760" y="1757520"/>
            <a:ext cx="527040" cy="36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"/>
          <p:cNvPicPr/>
          <p:nvPr/>
        </p:nvPicPr>
        <p:blipFill>
          <a:blip r:embed="rId6"/>
          <a:stretch/>
        </p:blipFill>
        <p:spPr>
          <a:xfrm>
            <a:off x="7918560" y="1405080"/>
            <a:ext cx="527040" cy="361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652320" y="4703760"/>
            <a:ext cx="43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is wearing a coat. It’s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"/>
          <p:cNvPicPr/>
          <p:nvPr/>
        </p:nvPicPr>
        <p:blipFill>
          <a:blip r:embed="rId7"/>
          <a:stretch/>
        </p:blipFill>
        <p:spPr>
          <a:xfrm>
            <a:off x="1019160" y="1262160"/>
            <a:ext cx="2819520" cy="3324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"/>
          <p:cNvPicPr/>
          <p:nvPr/>
        </p:nvPicPr>
        <p:blipFill>
          <a:blip r:embed="rId8"/>
          <a:stretch/>
        </p:blipFill>
        <p:spPr>
          <a:xfrm>
            <a:off x="4156200" y="1173240"/>
            <a:ext cx="1733400" cy="168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"/>
          <p:cNvPicPr/>
          <p:nvPr/>
        </p:nvPicPr>
        <p:blipFill>
          <a:blip r:embed="rId9"/>
          <a:stretch/>
        </p:blipFill>
        <p:spPr>
          <a:xfrm>
            <a:off x="6178680" y="1214280"/>
            <a:ext cx="1761840" cy="163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"/>
          <p:cNvPicPr/>
          <p:nvPr/>
        </p:nvPicPr>
        <p:blipFill>
          <a:blip r:embed="rId10"/>
          <a:stretch/>
        </p:blipFill>
        <p:spPr>
          <a:xfrm>
            <a:off x="4189320" y="2933640"/>
            <a:ext cx="1685880" cy="163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"/>
          <p:cNvPicPr/>
          <p:nvPr/>
        </p:nvPicPr>
        <p:blipFill>
          <a:blip r:embed="rId11"/>
          <a:stretch/>
        </p:blipFill>
        <p:spPr>
          <a:xfrm>
            <a:off x="6216480" y="2943360"/>
            <a:ext cx="1657440" cy="1628640"/>
          </a:xfrm>
          <a:prstGeom prst="rect">
            <a:avLst/>
          </a:prstGeom>
          <a:ln w="0">
            <a:noFill/>
          </a:ln>
        </p:spPr>
      </p:pic>
      <p:pic>
        <p:nvPicPr>
          <p:cNvPr id="101" name="矩形 1" descr=""/>
          <p:cNvPicPr/>
          <p:nvPr/>
        </p:nvPicPr>
        <p:blipFill>
          <a:blip r:embed="rId12"/>
          <a:stretch/>
        </p:blipFill>
        <p:spPr>
          <a:xfrm>
            <a:off x="4645080" y="2328840"/>
            <a:ext cx="774720" cy="463680"/>
          </a:xfrm>
          <a:prstGeom prst="rect">
            <a:avLst/>
          </a:prstGeom>
          <a:ln w="0">
            <a:noFill/>
          </a:ln>
        </p:spPr>
      </p:pic>
      <p:pic>
        <p:nvPicPr>
          <p:cNvPr id="102" name="矩形 2" descr=""/>
          <p:cNvPicPr/>
          <p:nvPr/>
        </p:nvPicPr>
        <p:blipFill>
          <a:blip r:embed="rId13"/>
          <a:stretch/>
        </p:blipFill>
        <p:spPr>
          <a:xfrm>
            <a:off x="6656400" y="2341440"/>
            <a:ext cx="787320" cy="462240"/>
          </a:xfrm>
          <a:prstGeom prst="rect">
            <a:avLst/>
          </a:prstGeom>
          <a:ln w="0">
            <a:noFill/>
          </a:ln>
        </p:spPr>
      </p:pic>
      <p:pic>
        <p:nvPicPr>
          <p:cNvPr id="103" name="矩形 3" descr=""/>
          <p:cNvPicPr/>
          <p:nvPr/>
        </p:nvPicPr>
        <p:blipFill>
          <a:blip r:embed="rId14"/>
          <a:stretch/>
        </p:blipFill>
        <p:spPr>
          <a:xfrm>
            <a:off x="4468680" y="4071960"/>
            <a:ext cx="114624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4" descr=""/>
          <p:cNvPicPr/>
          <p:nvPr/>
        </p:nvPicPr>
        <p:blipFill>
          <a:blip r:embed="rId15"/>
          <a:stretch/>
        </p:blipFill>
        <p:spPr>
          <a:xfrm>
            <a:off x="6724800" y="3962520"/>
            <a:ext cx="687240" cy="64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17"/>
          <p:cNvSpPr/>
          <p:nvPr/>
        </p:nvSpPr>
        <p:spPr>
          <a:xfrm>
            <a:off x="2646360" y="1482840"/>
            <a:ext cx="26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衣物类的单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1"/>
          <p:cNvGrpSpPr/>
          <p:nvPr/>
        </p:nvGrpSpPr>
        <p:grpSpPr>
          <a:xfrm>
            <a:off x="3240" y="1517760"/>
            <a:ext cx="2549520" cy="666720"/>
            <a:chOff x="3240" y="1517760"/>
            <a:chExt cx="2549520" cy="666720"/>
          </a:xfrm>
        </p:grpSpPr>
        <p:sp>
          <p:nvSpPr>
            <p:cNvPr id="110" name="圆角矩形 18"/>
            <p:cNvSpPr/>
            <p:nvPr/>
          </p:nvSpPr>
          <p:spPr>
            <a:xfrm>
              <a:off x="774720" y="15955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ecadc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19"/>
            <p:cNvSpPr/>
            <p:nvPr/>
          </p:nvSpPr>
          <p:spPr>
            <a:xfrm>
              <a:off x="1055880" y="155088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240" y="15177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Box 5"/>
          <p:cNvSpPr/>
          <p:nvPr/>
        </p:nvSpPr>
        <p:spPr>
          <a:xfrm>
            <a:off x="1300320" y="3035160"/>
            <a:ext cx="9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322280" y="4524480"/>
            <a:ext cx="14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1359000" y="521172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2306520" y="2803680"/>
            <a:ext cx="405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wearing a white c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穿着一件白色的外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2933640" y="443232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2397240" y="4960800"/>
            <a:ext cx="41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black co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件黑色的外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" descr=""/>
          <p:cNvPicPr/>
          <p:nvPr/>
        </p:nvPicPr>
        <p:blipFill>
          <a:blip r:embed="rId3"/>
          <a:stretch/>
        </p:blipFill>
        <p:spPr>
          <a:xfrm>
            <a:off x="5318280" y="147492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7"/>
          <p:cNvSpPr/>
          <p:nvPr/>
        </p:nvSpPr>
        <p:spPr>
          <a:xfrm>
            <a:off x="2243160" y="2279520"/>
            <a:ext cx="40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kəʊ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衣，外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4" descr=""/>
          <p:cNvPicPr/>
          <p:nvPr/>
        </p:nvPicPr>
        <p:blipFill>
          <a:blip r:embed="rId4"/>
          <a:stretch/>
        </p:blipFill>
        <p:spPr>
          <a:xfrm>
            <a:off x="1287360" y="2276640"/>
            <a:ext cx="962280" cy="704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"/>
          <p:cNvPicPr/>
          <p:nvPr/>
        </p:nvPicPr>
        <p:blipFill>
          <a:blip r:embed="rId5"/>
          <a:stretch/>
        </p:blipFill>
        <p:spPr>
          <a:xfrm>
            <a:off x="6365880" y="2130480"/>
            <a:ext cx="2233440" cy="31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2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990720" y="2668680"/>
            <a:ext cx="9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954000" y="4273560"/>
            <a:ext cx="9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963720" y="5048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1922400" y="2441520"/>
            <a:ext cx="405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has an orange scar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有一条橙色的围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1965240" y="4154400"/>
            <a:ext cx="34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组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发音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ɑː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2611440" y="493884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ca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7"/>
          <p:cNvSpPr/>
          <p:nvPr/>
        </p:nvSpPr>
        <p:spPr>
          <a:xfrm>
            <a:off x="1967040" y="173340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skɑːf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围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8" descr=""/>
          <p:cNvPicPr/>
          <p:nvPr/>
        </p:nvPicPr>
        <p:blipFill>
          <a:blip r:embed="rId2"/>
          <a:stretch/>
        </p:blipFill>
        <p:spPr>
          <a:xfrm>
            <a:off x="1011240" y="173340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"/>
          <p:cNvPicPr/>
          <p:nvPr/>
        </p:nvPicPr>
        <p:blipFill>
          <a:blip r:embed="rId3"/>
          <a:stretch/>
        </p:blipFill>
        <p:spPr>
          <a:xfrm>
            <a:off x="5707080" y="1916280"/>
            <a:ext cx="3019320" cy="32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957240" y="2160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960480" y="347652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1001880" y="412596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1998720" y="1996920"/>
            <a:ext cx="4059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wearing yellow gl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戴着黄色的手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1973160" y="33847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发音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ʌ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2313000" y="402588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v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喜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7"/>
          <p:cNvSpPr/>
          <p:nvPr/>
        </p:nvSpPr>
        <p:spPr>
          <a:xfrm>
            <a:off x="2111400" y="139716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ɡlʌv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指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手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1001880" y="47941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2595600" y="470232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love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常以复数形式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"/>
          <p:cNvSpPr/>
          <p:nvPr/>
        </p:nvSpPr>
        <p:spPr>
          <a:xfrm>
            <a:off x="1346760" y="5483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"/>
          <p:cNvSpPr/>
          <p:nvPr/>
        </p:nvSpPr>
        <p:spPr>
          <a:xfrm>
            <a:off x="2906640" y="5389560"/>
            <a:ext cx="41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ve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喜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love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手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"/>
          <p:cNvPicPr/>
          <p:nvPr/>
        </p:nvPicPr>
        <p:blipFill>
          <a:blip r:embed="rId2"/>
          <a:stretch/>
        </p:blipFill>
        <p:spPr>
          <a:xfrm>
            <a:off x="1015920" y="1406520"/>
            <a:ext cx="110484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"/>
          <p:cNvPicPr/>
          <p:nvPr/>
        </p:nvPicPr>
        <p:blipFill>
          <a:blip r:embed="rId3"/>
          <a:stretch/>
        </p:blipFill>
        <p:spPr>
          <a:xfrm>
            <a:off x="6121440" y="1919160"/>
            <a:ext cx="247788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5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1101600" y="28256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1077840" y="44020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2090880" y="2597040"/>
            <a:ext cx="405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wearing a red c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戴着一顶红色的帽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2381400" y="43099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7"/>
          <p:cNvSpPr/>
          <p:nvPr/>
        </p:nvSpPr>
        <p:spPr>
          <a:xfrm>
            <a:off x="2087640" y="1832040"/>
            <a:ext cx="29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kæp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帽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1076400" y="52308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2587680" y="51260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9" descr=""/>
          <p:cNvPicPr/>
          <p:nvPr/>
        </p:nvPicPr>
        <p:blipFill>
          <a:blip r:embed="rId2"/>
          <a:stretch/>
        </p:blipFill>
        <p:spPr>
          <a:xfrm>
            <a:off x="1293840" y="1832040"/>
            <a:ext cx="752400" cy="704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"/>
          <p:cNvPicPr/>
          <p:nvPr/>
        </p:nvPicPr>
        <p:blipFill>
          <a:blip r:embed="rId3"/>
          <a:stretch/>
        </p:blipFill>
        <p:spPr>
          <a:xfrm>
            <a:off x="5452920" y="2597040"/>
            <a:ext cx="308772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498320" y="157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对比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3554280" y="1477800"/>
            <a:ext cx="23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9400" y="2365200"/>
          <a:ext cx="7207200" cy="3397320"/>
        </p:xfrm>
        <a:graphic>
          <a:graphicData uri="http://schemas.openxmlformats.org/drawingml/2006/table">
            <a:tbl>
              <a:tblPr/>
              <a:tblGrid>
                <a:gridCol w="3632040"/>
                <a:gridCol w="3575160"/>
              </a:tblGrid>
              <a:tr h="1162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hat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只有一部分边缘，表示职业的帽子，典型代表是鸭舌帽、高尔夫球帽、运动帽、护士帽、军帽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圆形或者有檐的帽子，其大小通常比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a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。如：女生常戴的圆形的礼帽，男生的牛仔帽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2592360" y="2530440"/>
            <a:ext cx="959040" cy="581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3"/>
          <a:stretch/>
        </p:blipFill>
        <p:spPr>
          <a:xfrm>
            <a:off x="6329520" y="2575080"/>
            <a:ext cx="97128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7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26"/>
          <p:cNvGrpSpPr/>
          <p:nvPr/>
        </p:nvGrpSpPr>
        <p:grpSpPr>
          <a:xfrm>
            <a:off x="993600" y="2185920"/>
            <a:ext cx="1244880" cy="459720"/>
            <a:chOff x="993600" y="2185920"/>
            <a:chExt cx="1244880" cy="459720"/>
          </a:xfrm>
        </p:grpSpPr>
        <p:sp>
          <p:nvSpPr>
            <p:cNvPr id="175" name="TextBox 3"/>
            <p:cNvSpPr/>
            <p:nvPr/>
          </p:nvSpPr>
          <p:spPr>
            <a:xfrm>
              <a:off x="1246680" y="218592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993600" y="222840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矩形 29"/>
          <p:cNvSpPr/>
          <p:nvPr/>
        </p:nvSpPr>
        <p:spPr>
          <a:xfrm>
            <a:off x="2200320" y="1957320"/>
            <a:ext cx="468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it a nurse________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护士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ca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4251240" y="222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874880" y="3600360"/>
            <a:ext cx="589104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3"/>
          <p:cNvSpPr/>
          <p:nvPr/>
        </p:nvSpPr>
        <p:spPr>
          <a:xfrm>
            <a:off x="2819520" y="3600360"/>
            <a:ext cx="47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ap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只有一部分边缘，表示职业的帽子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cp:keywords/>
  <dc:language>en-US</dc:language>
  <cp:lastModifiedBy>chicken君</cp:lastModifiedBy>
  <dcterms:modified xsi:type="dcterms:W3CDTF">2017-12-08T09:51:20Z</dcterms:modified>
  <cp:revision>76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