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audio1.wav" ContentType="audio/x-wav"/>
  <Override PartName="/ppt/media/image13.jpeg" ContentType="image/jpeg"/>
  <Override PartName="/ppt/media/image4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A1B0D-FE97-4412-A7BE-FC497BC4F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A6FA16-AC1E-4C2B-A9B0-C9FE72FD0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C45309-30E6-431A-A19B-DEDB1A1040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22AC0D-983C-451E-A0D6-0CF4C7C89A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D59DBD-F0EA-42C8-8BD9-43E03C9A05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16A1B0-A4AE-432F-98E2-8E49C5A595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3D7548-0CC1-479A-B3E2-C9347A731B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4EE6FD-FBD4-4D5B-8F1D-D0A2068934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F38F0A-A418-456E-898D-A8B273950A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D40B68-90F3-42C9-9C30-AADF4A06DB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97C78D-9E98-40C5-AFD4-23D3C9F3AB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2027DC-22A7-48E3-8802-9243FEB1D2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1C3B96-F86C-4B42-A04C-DAF78756BD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EACEB1-13CA-409E-8733-144E0B4EA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0F65D2-1328-41B4-95BF-B819EA8BF4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238FD4-22FD-4F71-B603-29B736620D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2D6-5884-434E-AD10-A28E220D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0FB-90B9-48EE-9634-F767DFEA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8C6-7533-4CD5-A6BE-F39CFE23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886-9275-4962-9F83-AF55F7B2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BB8-4DF9-4B92-9CBD-9AAC3366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557-06F8-4021-BD9C-42E3B501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413-E004-4CDB-81BE-AAC2C8BE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618-14B0-4741-A520-E3FF5A77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7BE-B8FF-4484-BE20-878A3D35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258-0F28-47EB-BFFE-B6072B1E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570-DD82-43B0-9110-2A666E8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03B-5450-464F-BBD6-AA60DAEC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389136-E1CC-45C8-BC3D-194CC49CDE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圆角矩形 13"/>
          <p:cNvSpPr/>
          <p:nvPr/>
        </p:nvSpPr>
        <p:spPr>
          <a:xfrm>
            <a:off x="552600" y="116640"/>
            <a:ext cx="6264000" cy="1655280"/>
          </a:xfrm>
          <a:prstGeom prst="roundRect">
            <a:avLst>
              <a:gd name="adj" fmla="val 16667"/>
            </a:avLst>
          </a:prstGeom>
          <a:solidFill>
            <a:srgbClr val="ef85c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8" name="标题 1"/>
          <p:cNvSpPr/>
          <p:nvPr/>
        </p:nvSpPr>
        <p:spPr>
          <a:xfrm>
            <a:off x="683640" y="276480"/>
            <a:ext cx="64879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Browallia New"/>
                <a:ea typeface="宋体"/>
              </a:rPr>
              <a:t>UNIT ONE WHY ARE YOU SO HAP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标题 1"/>
          <p:cNvSpPr/>
          <p:nvPr/>
        </p:nvSpPr>
        <p:spPr>
          <a:xfrm>
            <a:off x="1835280" y="2060640"/>
            <a:ext cx="709272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ef85c9"/>
                </a:solidFill>
                <a:latin typeface="Broadway"/>
                <a:ea typeface="宋体"/>
              </a:rPr>
              <a:t>Lesson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 rot="305400">
            <a:off x="5317200" y="3267000"/>
            <a:ext cx="2998440" cy="2864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2"/>
          <p:cNvSpPr/>
          <p:nvPr/>
        </p:nvSpPr>
        <p:spPr>
          <a:xfrm>
            <a:off x="1718640" y="47725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is he so t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1691640" y="5288760"/>
            <a:ext cx="6363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he ran too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age76.360doc.com/DownloadImg/2014/07/1508/43424999_1.jpg"/>
          <p:cNvPicPr/>
          <p:nvPr/>
        </p:nvPicPr>
        <p:blipFill>
          <a:blip r:embed="rId3"/>
          <a:stretch/>
        </p:blipFill>
        <p:spPr>
          <a:xfrm>
            <a:off x="1691640" y="939600"/>
            <a:ext cx="536220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"/>
          <p:cNvSpPr/>
          <p:nvPr/>
        </p:nvSpPr>
        <p:spPr>
          <a:xfrm>
            <a:off x="1718640" y="47725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is she so s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"/>
          <p:cNvSpPr/>
          <p:nvPr/>
        </p:nvSpPr>
        <p:spPr>
          <a:xfrm>
            <a:off x="1691640" y="5288760"/>
            <a:ext cx="6912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she did not pass the ex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cdn.duitang.com/uploads/item/201407/29/20140729092637_BEaLi.jpeg"/>
          <p:cNvPicPr/>
          <p:nvPr/>
        </p:nvPicPr>
        <p:blipFill>
          <a:blip r:embed="rId3"/>
          <a:stretch/>
        </p:blipFill>
        <p:spPr>
          <a:xfrm>
            <a:off x="1979640" y="1085760"/>
            <a:ext cx="458100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2"/>
          <p:cNvSpPr/>
          <p:nvPr/>
        </p:nvSpPr>
        <p:spPr>
          <a:xfrm>
            <a:off x="1718640" y="47725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are you so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"/>
          <p:cNvSpPr/>
          <p:nvPr/>
        </p:nvSpPr>
        <p:spPr>
          <a:xfrm>
            <a:off x="1691640" y="5288760"/>
            <a:ext cx="6363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I have new book. I like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s11.sinaimg.cn/large/001wEukRzy6N3G53uZ47a"/>
          <p:cNvPicPr/>
          <p:nvPr/>
        </p:nvPicPr>
        <p:blipFill>
          <a:blip r:embed="rId3"/>
          <a:stretch/>
        </p:blipFill>
        <p:spPr>
          <a:xfrm>
            <a:off x="1979640" y="1135440"/>
            <a:ext cx="4352400" cy="32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2"/>
          <p:cNvSpPr/>
          <p:nvPr/>
        </p:nvSpPr>
        <p:spPr>
          <a:xfrm>
            <a:off x="1718640" y="47725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 have a ball. I am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"/>
          <p:cNvSpPr/>
          <p:nvPr/>
        </p:nvSpPr>
        <p:spPr>
          <a:xfrm>
            <a:off x="1691640" y="5288760"/>
            <a:ext cx="6363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So do I. I also like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pic.58pic.com/58pic/15/56/31/31R58PICH65_1024.png"/>
          <p:cNvPicPr/>
          <p:nvPr/>
        </p:nvPicPr>
        <p:blipFill>
          <a:blip r:embed="rId3"/>
          <a:stretch/>
        </p:blipFill>
        <p:spPr>
          <a:xfrm>
            <a:off x="2411640" y="1312560"/>
            <a:ext cx="342864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"/>
          <p:cNvSpPr/>
          <p:nvPr/>
        </p:nvSpPr>
        <p:spPr>
          <a:xfrm>
            <a:off x="1718640" y="47725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 get 100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8"/>
          <p:cNvSpPr/>
          <p:nvPr/>
        </p:nvSpPr>
        <p:spPr>
          <a:xfrm>
            <a:off x="1691640" y="5288760"/>
            <a:ext cx="6363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So do I. I am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imgsrc.baidu.com/forum/pic/item/d058ccbf6c81800a7ea7f84db13533fa828b4736.jpg"/>
          <p:cNvPicPr/>
          <p:nvPr/>
        </p:nvPicPr>
        <p:blipFill>
          <a:blip r:embed="rId3"/>
          <a:srcRect l="0" t="0" r="14802" b="0"/>
          <a:stretch/>
        </p:blipFill>
        <p:spPr>
          <a:xfrm>
            <a:off x="1691640" y="1091880"/>
            <a:ext cx="527508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课件制作\Unit1\素材库\kuang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1427040" y="1125360"/>
            <a:ext cx="667332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GCFrutiger"/>
                <a:ea typeface="宋体"/>
              </a:rPr>
              <a:t>1. Ask about your parents’ feelings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GCFrutiger"/>
                <a:ea typeface="宋体"/>
              </a:rPr>
              <a:t>2. Copy the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GCFrutiger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CFrutiger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GCFrutiger"/>
                <a:ea typeface="宋体"/>
              </a:rPr>
              <a:t>How are you?   We’re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CFrutiger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GCFrutiger"/>
                <a:ea typeface="宋体"/>
              </a:rPr>
              <a:t>Why are you so happ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CFrutiger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GCFrutiger"/>
                <a:ea typeface="宋体"/>
              </a:rPr>
              <a:t>Because I get the gif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GCFrutiger"/>
                <a:ea typeface="宋体"/>
              </a:rPr>
              <a:t>3. Complete </a:t>
            </a:r>
            <a:r>
              <a:rPr b="1" i="1" lang="en-US" sz="2000" spc="-1" strike="noStrike">
                <a:solidFill>
                  <a:srgbClr val="3333ff"/>
                </a:solidFill>
                <a:latin typeface="GCFrutiger"/>
                <a:ea typeface="宋体"/>
              </a:rPr>
              <a:t>Workbook</a:t>
            </a:r>
            <a:r>
              <a:rPr b="1" lang="en-US" sz="2000" spc="-1" strike="noStrike">
                <a:solidFill>
                  <a:srgbClr val="3333ff"/>
                </a:solidFill>
                <a:latin typeface="GCFrutiger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1827360" y="2133720"/>
            <a:ext cx="4535280" cy="720360"/>
          </a:xfrm>
          <a:prstGeom prst="ellipse">
            <a:avLst/>
          </a:prstGeom>
          <a:noFill/>
          <a:ln w="5715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50920" y="363600"/>
            <a:ext cx="31111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rgbClr val="ff3399"/>
                </a:solidFill>
                <a:latin typeface="NewTiffany"/>
                <a:ea typeface="宋体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Group 229"/>
          <p:cNvGraphicFramePr/>
          <p:nvPr/>
        </p:nvGraphicFramePr>
        <p:xfrm>
          <a:off x="1609560" y="1684440"/>
          <a:ext cx="5924160" cy="1663200"/>
        </p:xfrm>
        <a:graphic>
          <a:graphicData uri="http://schemas.openxmlformats.org/drawingml/2006/table">
            <a:tbl>
              <a:tblPr/>
              <a:tblGrid>
                <a:gridCol w="1666080"/>
                <a:gridCol w="1262880"/>
                <a:gridCol w="2994840"/>
              </a:tblGrid>
              <a:tr h="629280"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7200"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y fa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76720"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y m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3"/>
          <p:cNvSpPr txBox="1"/>
          <p:nvPr/>
        </p:nvSpPr>
        <p:spPr>
          <a:xfrm>
            <a:off x="1905120" y="2135160"/>
            <a:ext cx="5414760" cy="2356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宋体"/>
              </a:rPr>
              <a:t>Good-bye!</a:t>
            </a:r>
            <a:endParaRPr b="0" lang="en-US" sz="9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17"/>
          <p:cNvSpPr txBox="1"/>
          <p:nvPr/>
        </p:nvSpPr>
        <p:spPr>
          <a:xfrm rot="21435600">
            <a:off x="325080" y="102600"/>
            <a:ext cx="3579480" cy="87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ln w="0">
                  <a:noFill/>
                </a:ln>
                <a:solidFill>
                  <a:srgbClr val="000000"/>
                </a:solidFill>
                <a:latin typeface="Arial Unicode MS"/>
                <a:ea typeface="Arial Unicode MS"/>
              </a:rPr>
              <a:t>Look and learn</a:t>
            </a:r>
            <a:endParaRPr b="0" lang="en-US" sz="4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2690280" y="4503960"/>
            <a:ext cx="394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  <a:ea typeface="宋体"/>
              </a:rPr>
              <a:t>He is happ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taopic.com/uploads/allimg/110803/72-110P310515337.jpg"/>
          <p:cNvPicPr/>
          <p:nvPr/>
        </p:nvPicPr>
        <p:blipFill>
          <a:blip r:embed="rId3"/>
          <a:stretch/>
        </p:blipFill>
        <p:spPr>
          <a:xfrm>
            <a:off x="2682000" y="1838520"/>
            <a:ext cx="3779640" cy="25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sp>
        <p:nvSpPr>
          <p:cNvPr id="57" name="WordArt 17"/>
          <p:cNvSpPr txBox="1"/>
          <p:nvPr/>
        </p:nvSpPr>
        <p:spPr>
          <a:xfrm rot="21435600">
            <a:off x="325080" y="102600"/>
            <a:ext cx="3579480" cy="87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ln w="0">
                  <a:noFill/>
                </a:ln>
                <a:solidFill>
                  <a:srgbClr val="000000"/>
                </a:solidFill>
                <a:latin typeface="Arial Unicode MS"/>
                <a:ea typeface="Arial Unicode MS"/>
              </a:rPr>
              <a:t>Look and learn</a:t>
            </a:r>
            <a:endParaRPr b="0" lang="en-US" sz="4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132000" y="4725000"/>
            <a:ext cx="2716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宋体"/>
              </a:rPr>
              <a:t>She is s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qqpk.cn/Article/UploadFiles/201501/20150111152028859.jpg"/>
          <p:cNvPicPr/>
          <p:nvPr/>
        </p:nvPicPr>
        <p:blipFill>
          <a:blip r:embed="rId3"/>
          <a:stretch/>
        </p:blipFill>
        <p:spPr>
          <a:xfrm>
            <a:off x="2339640" y="1500840"/>
            <a:ext cx="45716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sp>
        <p:nvSpPr>
          <p:cNvPr id="62" name="WordArt 17"/>
          <p:cNvSpPr txBox="1"/>
          <p:nvPr/>
        </p:nvSpPr>
        <p:spPr>
          <a:xfrm rot="21435600">
            <a:off x="325080" y="102600"/>
            <a:ext cx="3579480" cy="87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ln w="0">
                  <a:noFill/>
                </a:ln>
                <a:solidFill>
                  <a:srgbClr val="000000"/>
                </a:solidFill>
                <a:latin typeface="Arial Unicode MS"/>
                <a:ea typeface="Arial Unicode MS"/>
              </a:rPr>
              <a:t>Look and learn</a:t>
            </a:r>
            <a:endParaRPr b="0" lang="en-US" sz="4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3069000" y="4526640"/>
            <a:ext cx="3229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  <a:ea typeface="宋体"/>
              </a:rPr>
              <a:t>I am tir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" descr=""/>
          <p:cNvPicPr/>
          <p:nvPr/>
        </p:nvPicPr>
        <p:blipFill>
          <a:blip r:embed="rId3"/>
          <a:stretch/>
        </p:blipFill>
        <p:spPr>
          <a:xfrm>
            <a:off x="2577960" y="1376280"/>
            <a:ext cx="4211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sp>
        <p:nvSpPr>
          <p:cNvPr id="67" name="WordArt 17"/>
          <p:cNvSpPr txBox="1"/>
          <p:nvPr/>
        </p:nvSpPr>
        <p:spPr>
          <a:xfrm rot="21435600">
            <a:off x="325080" y="102600"/>
            <a:ext cx="3579480" cy="87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ln w="0">
                  <a:noFill/>
                </a:ln>
                <a:solidFill>
                  <a:srgbClr val="000000"/>
                </a:solidFill>
                <a:latin typeface="Arial Unicode MS"/>
                <a:ea typeface="Arial Unicode MS"/>
              </a:rPr>
              <a:t>Look and learn</a:t>
            </a:r>
            <a:endParaRPr b="0" lang="en-US" sz="4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496600" y="4797000"/>
            <a:ext cx="4149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宋体"/>
              </a:rPr>
              <a:t>My mum is a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hiphotos.baidu.com/%B7%AB%BC%D2%D0%A1%C4%CE/pic/item/51ab82080fda1fd00b7b82a9.jpg"/>
          <p:cNvPicPr/>
          <p:nvPr/>
        </p:nvPicPr>
        <p:blipFill>
          <a:blip r:embed="rId3"/>
          <a:srcRect l="0" t="0" r="0" b="13265"/>
          <a:stretch/>
        </p:blipFill>
        <p:spPr>
          <a:xfrm>
            <a:off x="1619640" y="1653480"/>
            <a:ext cx="5810040" cy="28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2"/>
          <p:cNvSpPr/>
          <p:nvPr/>
        </p:nvSpPr>
        <p:spPr>
          <a:xfrm>
            <a:off x="1718640" y="47725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 have a lots of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1691640" y="5288760"/>
            <a:ext cx="5832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 lik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s10.sinaimg.cn/middle/622ba874h99a222c480e9&amp;690"/>
          <p:cNvPicPr/>
          <p:nvPr/>
        </p:nvPicPr>
        <p:blipFill>
          <a:blip r:embed="rId3"/>
          <a:stretch/>
        </p:blipFill>
        <p:spPr>
          <a:xfrm>
            <a:off x="1702080" y="1054440"/>
            <a:ext cx="514332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2"/>
          <p:cNvSpPr/>
          <p:nvPr/>
        </p:nvSpPr>
        <p:spPr>
          <a:xfrm>
            <a:off x="1718640" y="47725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 get a gift. I am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8"/>
          <p:cNvSpPr/>
          <p:nvPr/>
        </p:nvSpPr>
        <p:spPr>
          <a:xfrm>
            <a:off x="1691640" y="5288760"/>
            <a:ext cx="5832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So do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img.taopic.com/uploads/allimg/130104/235100-1301040R13367.jpg"/>
          <p:cNvPicPr/>
          <p:nvPr/>
        </p:nvPicPr>
        <p:blipFill>
          <a:blip r:embed="rId3"/>
          <a:stretch/>
        </p:blipFill>
        <p:spPr>
          <a:xfrm>
            <a:off x="1547640" y="1197360"/>
            <a:ext cx="507636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"/>
          <p:cNvSpPr/>
          <p:nvPr/>
        </p:nvSpPr>
        <p:spPr>
          <a:xfrm>
            <a:off x="1718640" y="47725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are you so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1691640" y="5288760"/>
            <a:ext cx="5832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we are back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f1.diyitui.com/ee/55/a8/46/6b/9c/43/50/35/8e/85/fb/ab/6b/f9/87.jpg"/>
          <p:cNvPicPr/>
          <p:nvPr/>
        </p:nvPicPr>
        <p:blipFill>
          <a:blip r:embed="rId3"/>
          <a:stretch/>
        </p:blipFill>
        <p:spPr>
          <a:xfrm>
            <a:off x="1547640" y="1486440"/>
            <a:ext cx="5686200" cy="27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Administrator\Desktop\01_Top ba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6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"/>
          <p:cNvPicPr/>
          <p:nvPr/>
        </p:nvPicPr>
        <p:blipFill>
          <a:blip r:embed="rId2"/>
          <a:srcRect l="0" t="0" r="0" b="50017"/>
          <a:stretch/>
        </p:blipFill>
        <p:spPr>
          <a:xfrm>
            <a:off x="0" y="6165720"/>
            <a:ext cx="9143640" cy="68544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2"/>
          <p:cNvSpPr/>
          <p:nvPr/>
        </p:nvSpPr>
        <p:spPr>
          <a:xfrm>
            <a:off x="1718640" y="47725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is your mother so ang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"/>
          <p:cNvSpPr/>
          <p:nvPr/>
        </p:nvSpPr>
        <p:spPr>
          <a:xfrm>
            <a:off x="1691640" y="5288760"/>
            <a:ext cx="6363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my  room is mes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upload.timedg.com/2015/0826/1440550743416.jpg"/>
          <p:cNvPicPr/>
          <p:nvPr/>
        </p:nvPicPr>
        <p:blipFill>
          <a:blip r:embed="rId3"/>
          <a:stretch/>
        </p:blipFill>
        <p:spPr>
          <a:xfrm>
            <a:off x="1835640" y="1478520"/>
            <a:ext cx="4571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27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1:35:26Z</dcterms:created>
  <dc:creator/>
  <dc:description/>
  <dc:language>en-US</dc:language>
  <cp:lastModifiedBy/>
  <dcterms:modified xsi:type="dcterms:W3CDTF">2016-11-13T12:39:0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全屏显示(4:3)</vt:lpwstr>
  </property>
  <property fmtid="{D5CDD505-2E9C-101B-9397-08002B2CF9AE}" pid="4" name="Slides">
    <vt:r8>16</vt:r8>
  </property>
</Properties>
</file>