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5C1-6C1B-4D48-B735-7EFF62D8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6F9-13C9-4834-BC11-B1E731E8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F63-A377-4AB5-8094-CACAEF11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D9D-5B8E-4A6F-9FE9-A724FBAF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F7D2-21F8-489E-A953-D6AE853B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AA32-0E63-4E2E-8A79-7DA8E517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6C73-3A6D-486F-847E-DE2C9AFB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17E1-1447-454F-9301-B2278481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BEE2-C21D-426B-A52A-97497415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918B-BF33-4D55-9151-20C62D2C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1E5C-B97E-4FE7-A43B-3DC11954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989-5E63-47C8-AAB5-9238F2B0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A4E8-0556-4214-95BE-CC377973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7B76-A181-4401-8C19-061E8F8B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63C2-18F7-4536-A6E1-0A7BB8CD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B43C-7BD0-42B3-A530-2F2206D5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88FE-5893-4D2E-9E79-A3CB322F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82C8-A7EA-4549-90E0-4A7C344D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7EE-5570-453A-A657-1DE6D4F7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7A5-2418-4E65-BB3A-9598AF2F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563-7C11-4955-BA12-D745CBBA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6F9-D1EF-4152-ACAB-3160B31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A03-74FC-4865-8E8F-506D08A6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542-8051-4F9C-A117-3522B7BC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4097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576E-BDA9-4246-9A1F-10B74848BC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任意多边形 4103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任意多边形 4104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组合 4105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任意多边形 4106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任意多边形 4107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任意多边形 4108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任意多边形 4109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任意多边形 4110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任意多边形 4111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任意多边形 4112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任意多边形 4113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任意多边形 4114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组合 4115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组合 4116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任意多边形 4117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任意多边形 4118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任意多边形 4119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任意多边形 4120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任意多边形 4121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任意多边形 4122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组合 4123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任意多边形 4124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任意多边形 4125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任意多边形 4126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任意多边形 4127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任意多边形 4128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任意多边形 4129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任意多边形 4130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任意多边形 4131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组合 4132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任意多边形 4133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任意多边形 4134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组合 4135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组合 4136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任意多边形 4137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组合 4138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任意多边形 4139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任意多边形 4140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任意多边形 4141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任意多边形 4142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任意多边形 4143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任意多边形 4144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任意多边形 4145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任意多边形 4146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直接连接符 4147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任意多边形 5121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5127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任意多边形 5128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5129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任意多边形 5130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组合 5131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任意多边形 5132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任意多边形 5133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5134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5135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5136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组合 5137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99" name="任意多边形 5138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5139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5140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5141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03" name="任意多边形 5142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任意多边形 5143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任意多边形 5144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任意多边形 5145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任意多边形 5146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任意多边形 5147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5148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80A9-648F-48EB-AEBE-5FDA84A25DB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47640" y="3429000"/>
            <a:ext cx="6400800" cy="140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hopping for foo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92000" y="2637000"/>
            <a:ext cx="6032520" cy="10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esson 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68709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butt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图片 15363" descr="黄油"/>
          <p:cNvPicPr/>
          <p:nvPr/>
        </p:nvPicPr>
        <p:blipFill>
          <a:blip r:embed="rId1"/>
          <a:stretch/>
        </p:blipFill>
        <p:spPr>
          <a:xfrm>
            <a:off x="2050920" y="1773360"/>
            <a:ext cx="583416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otato chip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图片 16387" descr="薯片"/>
          <p:cNvPicPr/>
          <p:nvPr/>
        </p:nvPicPr>
        <p:blipFill>
          <a:blip r:embed="rId1"/>
          <a:stretch/>
        </p:blipFill>
        <p:spPr>
          <a:xfrm>
            <a:off x="1908000" y="1773360"/>
            <a:ext cx="547236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图片 17412" descr="candy"/>
          <p:cNvPicPr/>
          <p:nvPr/>
        </p:nvPicPr>
        <p:blipFill>
          <a:blip r:embed="rId1"/>
          <a:stretch/>
        </p:blipFill>
        <p:spPr>
          <a:xfrm>
            <a:off x="1835280" y="1989000"/>
            <a:ext cx="56480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Key point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et’s get some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an I have some more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ialogu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: Wow! I like this supermarke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: Let’s get some 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: Good idea! Can I have some 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: Of course./That’s enough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99164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Let’s go shopping together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图片 21507" descr="DSCN1728"/>
          <p:cNvPicPr/>
          <p:nvPr/>
        </p:nvPicPr>
        <p:blipFill>
          <a:blip r:embed="rId1"/>
          <a:stretch/>
        </p:blipFill>
        <p:spPr>
          <a:xfrm>
            <a:off x="0" y="1701720"/>
            <a:ext cx="853272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764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izz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图片 23556" descr="pizza"/>
          <p:cNvPicPr/>
          <p:nvPr/>
        </p:nvPicPr>
        <p:blipFill>
          <a:blip r:embed="rId1"/>
          <a:stretch/>
        </p:blipFill>
        <p:spPr>
          <a:xfrm>
            <a:off x="1763640" y="1844640"/>
            <a:ext cx="61930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ak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图片 24580" descr="Cake"/>
          <p:cNvPicPr/>
          <p:nvPr/>
        </p:nvPicPr>
        <p:blipFill>
          <a:blip r:embed="rId1"/>
          <a:stretch/>
        </p:blipFill>
        <p:spPr>
          <a:xfrm>
            <a:off x="2050920" y="2060640"/>
            <a:ext cx="576108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this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图片 6148" descr="DSCN1728"/>
          <p:cNvPicPr/>
          <p:nvPr/>
        </p:nvPicPr>
        <p:blipFill>
          <a:blip r:embed="rId1"/>
          <a:stretch/>
        </p:blipFill>
        <p:spPr>
          <a:xfrm>
            <a:off x="250920" y="1484280"/>
            <a:ext cx="82818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Does Mr.Li like this   supermarke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What does Miss Cheng want  to bu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orang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图片 10243" descr="oranges"/>
          <p:cNvPicPr/>
          <p:nvPr/>
        </p:nvPicPr>
        <p:blipFill>
          <a:blip r:embed="rId1"/>
          <a:stretch/>
        </p:blipFill>
        <p:spPr>
          <a:xfrm>
            <a:off x="1547640" y="1844640"/>
            <a:ext cx="59356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62960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ear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图片 11267" descr="梨"/>
          <p:cNvPicPr/>
          <p:nvPr/>
        </p:nvPicPr>
        <p:blipFill>
          <a:blip r:embed="rId1"/>
          <a:stretch/>
        </p:blipFill>
        <p:spPr>
          <a:xfrm>
            <a:off x="1042920" y="1916280"/>
            <a:ext cx="6769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ea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ch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图片 12291" descr="桃子"/>
          <p:cNvPicPr/>
          <p:nvPr/>
        </p:nvPicPr>
        <p:blipFill>
          <a:blip r:embed="rId1"/>
          <a:stretch/>
        </p:blipFill>
        <p:spPr>
          <a:xfrm>
            <a:off x="1476360" y="1916280"/>
            <a:ext cx="5904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grap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图片 13315" descr="葡萄"/>
          <p:cNvPicPr/>
          <p:nvPr/>
        </p:nvPicPr>
        <p:blipFill>
          <a:blip r:embed="rId1"/>
          <a:stretch/>
        </p:blipFill>
        <p:spPr>
          <a:xfrm>
            <a:off x="1547640" y="1773360"/>
            <a:ext cx="633744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. Does Mr.Li get enough fruit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Can Mr.li get some more cand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9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tofu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图片 14339" descr="豆腐"/>
          <p:cNvPicPr/>
          <p:nvPr/>
        </p:nvPicPr>
        <p:blipFill>
          <a:blip r:embed="rId1"/>
          <a:stretch/>
        </p:blipFill>
        <p:spPr>
          <a:xfrm>
            <a:off x="2268360" y="1773360"/>
            <a:ext cx="53992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9:43:02Z</dcterms:created>
  <dc:creator>dell</dc:creator>
  <dc:description/>
  <dc:language>en-US</dc:language>
  <cp:lastModifiedBy>Administrator</cp:lastModifiedBy>
  <dcterms:modified xsi:type="dcterms:W3CDTF">2016-12-06T07:46:27Z</dcterms:modified>
  <cp:revision>4</cp:revision>
  <dc:subject/>
  <dc:title>Shopping for foo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