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23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BC1-60F7-4CD6-B283-B265333D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7C8-D16C-4136-9697-1DBCA62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B8A-2D56-448D-A826-7CE87962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3B2-162A-449D-93E1-FF347CDD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86B-E34C-4D2C-858E-12E75199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E6E-0914-4708-A5CB-96DC071E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60A-15BE-437D-B082-BE49142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8AD-5134-4DB8-AAE7-471236D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3E9-C26A-45FD-87C6-9BD3BBD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681-67E2-46AF-B6B6-E760DAB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5AB-E9CA-4B0E-A735-100241B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850-7829-4EC1-8BF2-24709A2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102A-4B3D-47EE-903D-02B947DE1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662881_165954003387_2"/>
          <p:cNvPicPr/>
          <p:nvPr/>
        </p:nvPicPr>
        <p:blipFill>
          <a:blip r:embed="rId2"/>
          <a:stretch/>
        </p:blipFill>
        <p:spPr>
          <a:xfrm>
            <a:off x="1255680" y="1712880"/>
            <a:ext cx="5986440" cy="4664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295280" y="1371600"/>
            <a:ext cx="605016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5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Module 3 My class</a:t>
            </a:r>
            <a:endParaRPr b="1" lang="en-US" sz="5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257800" y="4952520"/>
            <a:ext cx="36576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ath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aths"/>
          <p:cNvPicPr/>
          <p:nvPr/>
        </p:nvPicPr>
        <p:blipFill>
          <a:blip r:embed="rId1"/>
          <a:stretch/>
        </p:blipFill>
        <p:spPr>
          <a:xfrm>
            <a:off x="4419720" y="1295280"/>
            <a:ext cx="4991040" cy="335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227160" y="3505320"/>
            <a:ext cx="3130560" cy="33242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 flipH="1" flipV="1">
            <a:off x="761760" y="456480"/>
            <a:ext cx="4572000" cy="2133720"/>
          </a:xfrm>
          <a:prstGeom prst="wedgeEllipseCallout">
            <a:avLst>
              <a:gd name="adj1" fmla="val 42865"/>
              <a:gd name="adj2" fmla="val -1001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y favorite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m</a:t>
            </a: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ath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57800" y="4952520"/>
            <a:ext cx="36576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ath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us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aths"/>
          <p:cNvPicPr/>
          <p:nvPr/>
        </p:nvPicPr>
        <p:blipFill>
          <a:blip r:embed="rId1"/>
          <a:stretch/>
        </p:blipFill>
        <p:spPr>
          <a:xfrm>
            <a:off x="4419720" y="1295280"/>
            <a:ext cx="4991040" cy="335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-227160" y="3505320"/>
            <a:ext cx="3130560" cy="3324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 flipH="1" flipV="1">
            <a:off x="1294200" y="838080"/>
            <a:ext cx="4038840" cy="1905120"/>
          </a:xfrm>
          <a:prstGeom prst="wedgeEllipseCallout">
            <a:avLst>
              <a:gd name="adj1" fmla="val 54842"/>
              <a:gd name="adj2" fmla="val -95495"/>
            </a:avLst>
          </a:prstGeom>
          <a:solidFill>
            <a:srgbClr val="cc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like to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number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851"/>
          <p:cNvPicPr/>
          <p:nvPr/>
        </p:nvPicPr>
        <p:blipFill>
          <a:blip r:embed="rId1"/>
          <a:stretch/>
        </p:blipFill>
        <p:spPr>
          <a:xfrm>
            <a:off x="76320" y="685800"/>
            <a:ext cx="4281480" cy="301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57200" y="4724280"/>
            <a:ext cx="50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a</a:t>
            </a: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draw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743200" cy="3114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 flipH="1" flipV="1">
            <a:off x="4190400" y="456480"/>
            <a:ext cx="4647960" cy="2057400"/>
          </a:xfrm>
          <a:prstGeom prst="wedgeEllipseCallout">
            <a:avLst>
              <a:gd name="adj1" fmla="val -27370"/>
              <a:gd name="adj2" fmla="val -91157"/>
            </a:avLst>
          </a:prstGeom>
          <a:solidFill>
            <a:srgbClr val="99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My favorite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rt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51"/>
          <p:cNvPicPr/>
          <p:nvPr/>
        </p:nvPicPr>
        <p:blipFill>
          <a:blip r:embed="rId1"/>
          <a:stretch/>
        </p:blipFill>
        <p:spPr>
          <a:xfrm>
            <a:off x="76320" y="685800"/>
            <a:ext cx="4281480" cy="30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457200" y="4724280"/>
            <a:ext cx="50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a</a:t>
            </a: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draw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743200" cy="31147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 flipH="1" flipV="1">
            <a:off x="4191120" y="762120"/>
            <a:ext cx="4572000" cy="1752480"/>
          </a:xfrm>
          <a:prstGeom prst="wedgeEllipseCallout">
            <a:avLst>
              <a:gd name="adj1" fmla="val -27370"/>
              <a:gd name="adj2" fmla="val -9115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 lik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Comic Sans MS"/>
              </a:rPr>
              <a:t>draw picture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487692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play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port"/>
          <p:cNvPicPr/>
          <p:nvPr/>
        </p:nvPicPr>
        <p:blipFill>
          <a:blip r:embed="rId1"/>
          <a:stretch/>
        </p:blipFill>
        <p:spPr>
          <a:xfrm>
            <a:off x="-303120" y="228600"/>
            <a:ext cx="761832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4572000" y="2362320"/>
            <a:ext cx="4572000" cy="1218960"/>
          </a:xfrm>
          <a:prstGeom prst="wedgeRectCallout">
            <a:avLst>
              <a:gd name="adj1" fmla="val -64925"/>
              <a:gd name="adj2" fmla="val -11916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 like PE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 like to play spo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4723920"/>
            <a:ext cx="541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understand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Redocn_2012060111294588"/>
          <p:cNvPicPr/>
          <p:nvPr/>
        </p:nvPicPr>
        <p:blipFill>
          <a:blip r:embed="rId1"/>
          <a:stretch/>
        </p:blipFill>
        <p:spPr>
          <a:xfrm>
            <a:off x="457200" y="380880"/>
            <a:ext cx="4006800" cy="39769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>
            <a:off x="4800600" y="2133720"/>
            <a:ext cx="4267080" cy="1904760"/>
          </a:xfrm>
          <a:prstGeom prst="wedgeRectCallout">
            <a:avLst>
              <a:gd name="adj1" fmla="val -70532"/>
              <a:gd name="adj2" fmla="val -796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y favorit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cienc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I like to </a:t>
            </a: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the world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457200" y="1066680"/>
            <a:ext cx="8220240" cy="96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Unit 8 I like English best.</a:t>
            </a:r>
            <a:endParaRPr b="1" lang="en-US" sz="5400" spc="1" strike="noStrike">
              <a:ln w="9360">
                <a:solidFill>
                  <a:srgbClr val="cccc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pic>
        <p:nvPicPr>
          <p:cNvPr id="44" name="Picture 3" descr="9124-110326114Z147"/>
          <p:cNvPicPr/>
          <p:nvPr/>
        </p:nvPicPr>
        <p:blipFill>
          <a:blip r:embed="rId2"/>
          <a:stretch/>
        </p:blipFill>
        <p:spPr>
          <a:xfrm>
            <a:off x="457200" y="12193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09480" y="1371600"/>
            <a:ext cx="8290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Comic Sans MS"/>
              </a:rPr>
              <a:t>Let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’</a:t>
            </a:r>
            <a:r>
              <a:rPr b="1" lang="zh-CN" sz="4400" spc="-1" strike="noStrike">
                <a:solidFill>
                  <a:srgbClr val="ff00ff"/>
                </a:solidFill>
                <a:latin typeface="Comic Sans MS"/>
              </a:rPr>
              <a:t>s ch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Music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music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I like mus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Art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art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I like 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PE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PE,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I like PE b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 flipV="1">
            <a:off x="2209680" y="1371240"/>
            <a:ext cx="6324840" cy="2666880"/>
          </a:xfrm>
          <a:prstGeom prst="cloudCallout">
            <a:avLst>
              <a:gd name="adj1" fmla="val -57777"/>
              <a:gd name="adj2" fmla="val -6612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How many subjects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subject"/>
          <p:cNvPicPr/>
          <p:nvPr/>
        </p:nvPicPr>
        <p:blipFill>
          <a:blip r:embed="rId2"/>
          <a:stretch/>
        </p:blipFill>
        <p:spPr>
          <a:xfrm>
            <a:off x="4038480" y="441972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hinese"/>
          <p:cNvPicPr/>
          <p:nvPr/>
        </p:nvPicPr>
        <p:blipFill>
          <a:blip r:embed="rId2"/>
          <a:stretch/>
        </p:blipFill>
        <p:spPr>
          <a:xfrm>
            <a:off x="533520" y="457200"/>
            <a:ext cx="3498840" cy="2774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331280" y="2819520"/>
            <a:ext cx="20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hin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aths"/>
          <p:cNvPicPr/>
          <p:nvPr/>
        </p:nvPicPr>
        <p:blipFill>
          <a:blip r:embed="rId3"/>
          <a:stretch/>
        </p:blipFill>
        <p:spPr>
          <a:xfrm>
            <a:off x="3352680" y="457200"/>
            <a:ext cx="343224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244400" y="2895480"/>
            <a:ext cx="168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a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947680" y="4800600"/>
            <a:ext cx="19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49200" y="223920"/>
            <a:ext cx="52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235104-1305100P91252"/>
          <p:cNvPicPr/>
          <p:nvPr/>
        </p:nvPicPr>
        <p:blipFill>
          <a:blip r:embed="rId4"/>
          <a:stretch/>
        </p:blipFill>
        <p:spPr>
          <a:xfrm>
            <a:off x="915840" y="4114800"/>
            <a:ext cx="2438640" cy="244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BS00580_"/>
          <p:cNvPicPr/>
          <p:nvPr/>
        </p:nvPicPr>
        <p:blipFill>
          <a:blip r:embed="rId5"/>
          <a:stretch/>
        </p:blipFill>
        <p:spPr>
          <a:xfrm>
            <a:off x="6172200" y="3048120"/>
            <a:ext cx="2075040" cy="1412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206040" y="5181480"/>
            <a:ext cx="25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omp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{CUC~}FTPW64}6HSP4VS(}7"/>
          <p:cNvPicPr/>
          <p:nvPr/>
        </p:nvPicPr>
        <p:blipFill>
          <a:blip r:embed="rId2"/>
          <a:stretch/>
        </p:blipFill>
        <p:spPr>
          <a:xfrm>
            <a:off x="914400" y="762120"/>
            <a:ext cx="3173400" cy="2341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373760" y="289548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131880" y="2819520"/>
            <a:ext cx="158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t"/>
          <p:cNvPicPr/>
          <p:nvPr/>
        </p:nvPicPr>
        <p:blipFill>
          <a:blip r:embed="rId3"/>
          <a:stretch/>
        </p:blipFill>
        <p:spPr>
          <a:xfrm>
            <a:off x="762120" y="3657600"/>
            <a:ext cx="304776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828800" y="5486400"/>
            <a:ext cx="15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"/>
          <p:cNvPicPr/>
          <p:nvPr/>
        </p:nvPicPr>
        <p:blipFill>
          <a:blip r:embed="rId4"/>
          <a:stretch/>
        </p:blipFill>
        <p:spPr>
          <a:xfrm>
            <a:off x="5334120" y="3505320"/>
            <a:ext cx="3193920" cy="1884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705720" y="5562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49200" y="223920"/>
            <a:ext cx="52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5"/>
          <a:stretch/>
        </p:blipFill>
        <p:spPr>
          <a:xfrm>
            <a:off x="5105520" y="762120"/>
            <a:ext cx="1825560" cy="174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qq.yn66.com/uploads/allimg/120123/01161jc5-26.gif"/>
          <p:cNvPicPr/>
          <p:nvPr/>
        </p:nvPicPr>
        <p:blipFill>
          <a:blip r:embed="rId6"/>
          <a:stretch/>
        </p:blipFill>
        <p:spPr>
          <a:xfrm>
            <a:off x="7086600" y="457200"/>
            <a:ext cx="18194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 flipV="1">
            <a:off x="2209680" y="1371240"/>
            <a:ext cx="6324840" cy="2666880"/>
          </a:xfrm>
          <a:prstGeom prst="cloudCallout">
            <a:avLst>
              <a:gd name="adj1" fmla="val -57777"/>
              <a:gd name="adj2" fmla="val -6612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's your favorite su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subject"/>
          <p:cNvPicPr/>
          <p:nvPr/>
        </p:nvPicPr>
        <p:blipFill>
          <a:blip r:embed="rId2"/>
          <a:stretch/>
        </p:blipFill>
        <p:spPr>
          <a:xfrm>
            <a:off x="4191120" y="44956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85800" y="380880"/>
            <a:ext cx="8077320" cy="3048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My </a:t>
            </a:r>
            <a:r>
              <a:rPr b="1" lang="zh-CN" sz="4000" spc="-1" strike="noStrike">
                <a:solidFill>
                  <a:srgbClr val="ff00ff"/>
                </a:solidFill>
                <a:latin typeface="Comic Sans MS"/>
              </a:rPr>
              <a:t>favorite subject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i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zh-CN" sz="4000" spc="-1" strike="noStrike">
                <a:solidFill>
                  <a:srgbClr val="ff00ff"/>
                </a:solidFill>
                <a:latin typeface="Comic Sans MS"/>
              </a:rPr>
              <a:t>like ... best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zh-CN" sz="4000" spc="-1" strike="noStrike">
                <a:solidFill>
                  <a:srgbClr val="ff00ff"/>
                </a:solidFill>
                <a:latin typeface="Comic Sans MS"/>
              </a:rPr>
              <a:t>like to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edocn_2012060111504179"/>
          <p:cNvPicPr/>
          <p:nvPr/>
        </p:nvPicPr>
        <p:blipFill>
          <a:blip r:embed="rId1"/>
          <a:stretch/>
        </p:blipFill>
        <p:spPr>
          <a:xfrm>
            <a:off x="838080" y="762120"/>
            <a:ext cx="3962520" cy="4130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105160"/>
            <a:ext cx="51818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Comic Sans MS"/>
              </a:rPr>
              <a:t>read English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952880" y="2666880"/>
            <a:ext cx="4114800" cy="1752840"/>
          </a:xfrm>
          <a:prstGeom prst="wedgeRectCallout">
            <a:avLst>
              <a:gd name="adj1" fmla="val -69833"/>
              <a:gd name="adj2" fmla="val -9316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like </a:t>
            </a:r>
            <a:r>
              <a:rPr b="0" lang="zh-CN" sz="3600" spc="-1" strike="noStrike">
                <a:solidFill>
                  <a:srgbClr val="ffff00"/>
                </a:solidFill>
                <a:latin typeface="Comic Sans MS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I like to </a:t>
            </a:r>
            <a:r>
              <a:rPr b="0" lang="zh-CN" sz="3600" spc="-1" strike="noStrike">
                <a:solidFill>
                  <a:srgbClr val="ffff00"/>
                </a:solidFill>
                <a:latin typeface="Comic Sans MS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Comic Sans MS"/>
              </a:rPr>
              <a:t>English books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04:37:10Z</dcterms:created>
  <dc:creator/>
  <dc:description/>
  <cp:keywords/>
  <dc:language>en-US</dc:language>
  <cp:lastModifiedBy/>
  <dcterms:modified xsi:type="dcterms:W3CDTF">2014-07-24T03:22:20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  <property fmtid="{D5CDD505-2E9C-101B-9397-08002B2CF9AE}" pid="3" name="Version">
    <vt:r8>1</vt:r8>
  </property>
</Properties>
</file>