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06E-3DF3-4EDF-9C58-DC4BADD9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66B-D553-4708-84BD-1E5C4C0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912-DDC1-4914-8CD8-BA56B9B8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004-F3DA-4DD9-A40D-9936E702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F19-BB37-40D1-BDAF-1252E5E3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6B9-ED08-499A-92A9-26B0E09E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28A-8181-467E-9C81-8D9574B1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69C-726B-4F01-A95B-71C3326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C18-05E3-4E21-95A6-1119F2E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37C-CE35-4291-8D4C-1AA2E1E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8AE-CD05-466A-8078-718E281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0F0-B0F8-4B61-AE02-546217A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2C1-1A34-46E4-92EE-BCEE2A202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6880" y="1270080"/>
            <a:ext cx="69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Lesson 15 Where Do You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20820000">
            <a:off x="755640" y="765000"/>
            <a:ext cx="5905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Goodbye</a:t>
            </a: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！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10880" y="112536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ere  do you live ,Stev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21440" y="2349360"/>
            <a:ext cx="57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ve in a house beside the pa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3286080"/>
            <a:ext cx="3093840" cy="296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0880" y="112536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ann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080" y="23493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tev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3097440" cy="296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64080" y="260280"/>
            <a:ext cx="451224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ere  do you liv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圆 61"/>
          <p:cNvSpPr/>
          <p:nvPr/>
        </p:nvSpPr>
        <p:spPr>
          <a:xfrm>
            <a:off x="1836720" y="260280"/>
            <a:ext cx="64764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9240" y="62064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addres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2880" y="1341360"/>
            <a:ext cx="54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y address is 135 Ninth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54936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an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6160" y="14130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t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240000" cy="2490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71880" y="2565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道名称首字母大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8560" y="3718080"/>
            <a:ext cx="45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's your addres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0200" y="4797360"/>
            <a:ext cx="61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y address is 942 Ninth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280" y="37180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eve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479736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an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35640" y="7650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 that near the cinem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0400" y="18446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.It's near the Mr. Dount Restau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640" y="292572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like that restauran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3080" y="407664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e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520" y="836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t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0160" y="1917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n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4600" y="2925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teve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0160" y="4149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n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640" y="260280"/>
            <a:ext cx="28720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et's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0280"/>
            <a:ext cx="647640" cy="57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960" y="1052640"/>
            <a:ext cx="69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ad and find . Then draw and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5480" y="2205000"/>
            <a:ext cx="68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y house is near the 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far from the schoo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n you find my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2360" y="11736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 live _______ a house beside the park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on            B. at           C.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Where ________ you l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o            B. is            C.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______ is your addres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here         B. What        C.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My address is 135 ________ Str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inth             B. ninth            C. 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s your house _________ the cinem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n                B. on              C.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6680" y="62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4160" y="170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416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344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5840" y="49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1125360"/>
            <a:ext cx="77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提示完成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 you _________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居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Mar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ve in a __________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房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ear the supermarke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ve in an apartmen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公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our apartment near the 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超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's ______  _________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远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e supermarke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near the ________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2360" y="386064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英汉互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 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公园旁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的地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5 Ninth Street 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near  the  restaurant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1880" y="14684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4880" y="18446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8520" y="220500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nd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880" y="285264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280" y="32860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ar    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0920" y="370836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720" y="43657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5240" y="44370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eside  the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6520" y="501336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37920" y="5086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第九大街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135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77840" y="5518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饭店附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4720" y="549360"/>
            <a:ext cx="770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s   near  the  My  house  super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rom  the  It’s  far  scho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find  my  Can  you  hous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  house  beside  We  live  in  the  pa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does  he  Where  l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that  I  like  restaura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s  address  What  yo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80680" y="127008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y house is near the super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9800" y="1989000"/>
            <a:ext cx="41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t's far  from th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53760" y="27097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an you find my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9240" y="34290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e live in a house beside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4520" y="4221000"/>
            <a:ext cx="37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ere does he liv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9080" y="487044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that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0520" y="569916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 is your ad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0:14:35Z</dcterms:created>
  <dc:creator/>
  <dc:description/>
  <cp:keywords/>
  <dc:language>en-US</dc:language>
  <cp:lastModifiedBy>User</cp:lastModifiedBy>
  <dcterms:modified xsi:type="dcterms:W3CDTF">2001-12-31T18:37:3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