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gif" ContentType="image/gif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4E9-E066-450C-BB08-E756B3FF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764-DE0D-49CE-B40A-2DBEA835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FFD-852F-41A6-A59F-9FEEE9DC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533-A752-4AEB-B5B6-3BB23B70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4E5-2762-49C8-929B-558F7C81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279-16D9-403B-9236-C832A850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718-5C39-4E02-8B0D-31656577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8CB-95AE-4683-A6EA-70E33CB7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13A-9B85-42B0-B37B-B30EEE3E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821-EC85-4523-B878-BE2EF0CF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1A9-2CEC-4693-BE84-5527B7A5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B36-B006-48A4-8BBA-CA7B10B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5C2E-D0B2-4F2F-8456-6545474BB3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52040" y="549360"/>
            <a:ext cx="58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esson 21 My Favourit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012011410362616"/>
          <p:cNvPicPr/>
          <p:nvPr/>
        </p:nvPicPr>
        <p:blipFill>
          <a:blip r:embed="rId2"/>
          <a:stretch/>
        </p:blipFill>
        <p:spPr>
          <a:xfrm>
            <a:off x="755640" y="836640"/>
            <a:ext cx="4896000" cy="4897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 rot="1740000">
            <a:off x="4700160" y="2997000"/>
            <a:ext cx="35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Goodbye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6445080" y="189000"/>
            <a:ext cx="2651400" cy="2493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108000" y="3860640"/>
            <a:ext cx="32400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399960" y="260280"/>
            <a:ext cx="547956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's your favourite fo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圆 26"/>
          <p:cNvSpPr/>
          <p:nvPr/>
        </p:nvSpPr>
        <p:spPr>
          <a:xfrm>
            <a:off x="468360" y="260280"/>
            <a:ext cx="503280" cy="5047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56600" y="148608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oo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ann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t's twelve o'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unch tim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566160" y="378936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reat ! I'm  hung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645080" y="2708280"/>
            <a:ext cx="4147920" cy="4148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835200" y="1557360"/>
            <a:ext cx="79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's your  favourite food for lunch ,Jenn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55600" y="3645000"/>
            <a:ext cx="53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amburgers are my favourit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41800" y="5086440"/>
            <a:ext cx="39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like hamburgers,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2087280" cy="127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52360" y="117360"/>
            <a:ext cx="142236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2017800" cy="128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7165800" y="260280"/>
            <a:ext cx="1366920" cy="165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324000" y="2781360"/>
            <a:ext cx="1441440" cy="2062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6"/>
          <a:stretch/>
        </p:blipFill>
        <p:spPr>
          <a:xfrm>
            <a:off x="3203640" y="2349360"/>
            <a:ext cx="2158920" cy="214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7"/>
          <a:stretch/>
        </p:blipFill>
        <p:spPr>
          <a:xfrm>
            <a:off x="6516720" y="2421000"/>
            <a:ext cx="1996920" cy="19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8"/>
          <a:stretch/>
        </p:blipFill>
        <p:spPr>
          <a:xfrm>
            <a:off x="252360" y="5373720"/>
            <a:ext cx="2303640" cy="1396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9"/>
          <a:stretch/>
        </p:blipFill>
        <p:spPr>
          <a:xfrm>
            <a:off x="4213080" y="5013360"/>
            <a:ext cx="2136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12720" y="2852640"/>
            <a:ext cx="71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at's your favourite food for lunch ,Dan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56920" y="4437000"/>
            <a:ext cx="79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 like mil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mburger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t dog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odl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ou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rui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vegetabl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ick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umpling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424680" y="1917720"/>
            <a:ext cx="49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's your favourite fo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423960" y="28526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y favourite food is noodl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98560" y="260280"/>
            <a:ext cx="23875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et's do 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圆 26"/>
          <p:cNvSpPr/>
          <p:nvPr/>
        </p:nvSpPr>
        <p:spPr>
          <a:xfrm>
            <a:off x="900000" y="26028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351240" y="549360"/>
            <a:ext cx="50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 Look and say . Then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494880" y="3789360"/>
            <a:ext cx="44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y favourite food is 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13800" y="476280"/>
            <a:ext cx="52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 Write and draw your meal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rcRect l="0" t="0" r="0" b="12273"/>
          <a:stretch/>
        </p:blipFill>
        <p:spPr>
          <a:xfrm>
            <a:off x="7164360" y="909720"/>
            <a:ext cx="183996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7308720" y="2997360"/>
            <a:ext cx="1774800" cy="151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rcRect l="0" t="12814" r="0" b="12814"/>
          <a:stretch/>
        </p:blipFill>
        <p:spPr>
          <a:xfrm>
            <a:off x="7308720" y="4726080"/>
            <a:ext cx="1803600" cy="1987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83240" y="1125360"/>
            <a:ext cx="696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have_________ at 7:00 in the mornin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like_______ and 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06920" y="2852640"/>
            <a:ext cx="496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have _____ at 12:30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like ______ and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55960" y="4726080"/>
            <a:ext cx="629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have ______at 6:30 in the evenin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like ________ and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262520" y="112536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262520" y="14860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276360" y="148608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331640" y="29257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118520" y="342900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ood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3492000" y="3429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405440" y="4726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1334160" y="515772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3709080" y="51577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24000" y="692280"/>
            <a:ext cx="838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Practice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练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_________ is your favourite food ?  I like hot do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. Wh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         B. What         C. 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What's your favourite food _________ lunch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. in             B. for           C.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 ) 3. 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m _________ . I want to eat nood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. thirsty        B. tired         C.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) 4.I have lunch _______ 12:30 in the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. at             B. in            C. 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22880" y="190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09560" y="3024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829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56360" y="51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620640"/>
            <a:ext cx="7921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Ⅱ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连词成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1. favourite  What’s  lunch  your  food  for 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（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2. are  Hamburgers  favourite  my  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3. rice  like  I  chicken  for  and  lunch 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4. has  in  breakfast  the  She  at 7:00  morning 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5. time  lunch  It  for  is 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6. like  I  hamburgers  too 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7. noodles  food  is  My  favourite  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</a:rPr>
              <a:t>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73840" y="1341360"/>
            <a:ext cx="65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's your favourite food for lunc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15960" y="2133720"/>
            <a:ext cx="53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amburgers are my favourit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41080" y="292572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like rice  and chicken for lunch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43960" y="3718080"/>
            <a:ext cx="73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he has breakfast at 7:00 in the miornin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756360" y="451008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t is time for lunch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41800" y="5302080"/>
            <a:ext cx="37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like hamburger ,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17400" y="602136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y favourite food is noodl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11:42:42Z</dcterms:created>
  <dc:creator/>
  <dc:description/>
  <cp:keywords/>
  <dc:language>en-US</dc:language>
  <cp:lastModifiedBy>曹惜惜</cp:lastModifiedBy>
  <dcterms:modified xsi:type="dcterms:W3CDTF">2017-11-13T14:11:23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