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1.png" ContentType="image/png"/>
  <Override PartName="/ppt/media/chimes.wav" ContentType="audio/x-wav"/>
  <Override PartName="/ppt/media/image17.png" ContentType="image/png"/>
  <Override PartName="/ppt/media/image4.jpeg" ContentType="image/jpeg"/>
  <Override PartName="/ppt/media/image16.gif" ContentType="image/gif"/>
  <Override PartName="/ppt/media/image15.jpeg" ContentType="image/jpeg"/>
  <Override PartName="/ppt/media/image7.jpeg" ContentType="image/jpeg"/>
  <Override PartName="/ppt/media/image18.png" ContentType="image/png"/>
  <Override PartName="/ppt/media/image14.png" ContentType="image/png"/>
  <Override PartName="/ppt/media/image1.gif" ContentType="image/gif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comments/comment1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xkb1.com" initials="x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<Relationship Id="rId22" Type="http://schemas.openxmlformats.org/officeDocument/2006/relationships/commentAuthors" Target="commentAuthors.xml"/>
</Relationships>
</file>

<file path=ppt/comments/comment16.xml><?xml version="1.0" encoding="utf-8"?>
<p:cmLst xmlns:p="http://schemas.openxmlformats.org/presentationml/2006/main">
  <p:cm authorId="0" dt="2016-03-03T14:38:27.308000000" idx="1">
    <p:pos x="3107" y="2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0894-7E05-4AA9-8120-90DE65D3D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F246-D0C7-43FD-A3A9-929CC324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EA83-53C3-4021-8844-B0D6A3F5A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95D0-3E9B-463F-AFF9-148BCEF4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BA91-3BF3-4CBF-BAB4-1F1F4DF4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ED4A-1812-4A7D-93E8-F231F0FD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8FCD-A804-484D-A8DF-734BD625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F933-4839-40D2-87D1-8EFD1245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178D-436E-4CC1-BE62-2BA9B61C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3CE9-E681-4F0A-B898-1129DA21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1F7F-6701-41CA-AD84-B4DB77EC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3A38-DE47-41BE-BD1E-4A106A54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6424-1A69-4DAA-AFA4-21E2118831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4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gif"/><Relationship Id="rId5" Type="http://schemas.openxmlformats.org/officeDocument/2006/relationships/image" Target="../media/image17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333360"/>
            <a:ext cx="54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冀教版四年级下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000" y="1989000"/>
            <a:ext cx="6767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sson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The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图片 3" descr="位置1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189000"/>
            <a:ext cx="4537080" cy="4005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16000" y="3716280"/>
            <a:ext cx="7345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schoolbag is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o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the des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book is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the schoolba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rayons are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unde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the des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116000" y="1484280"/>
            <a:ext cx="633564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.Is Jenny between the desk and the ch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.Is Danny beside Ki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58920" y="2708280"/>
            <a:ext cx="59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 Danny is between the desk and the c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32000" y="3933720"/>
            <a:ext cx="547200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 Jenny is beside K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4360" y="333360"/>
            <a:ext cx="280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Questions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835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700360" y="522936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sch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616572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56000" y="5715000"/>
            <a:ext cx="5256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school is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betwee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the shop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an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the libr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11280" y="549360"/>
            <a:ext cx="3529080" cy="15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Pair Work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340000" y="4869000"/>
            <a:ext cx="3960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bo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595008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8000" y="544500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y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es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t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476360" y="620640"/>
            <a:ext cx="580068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57360" y="549360"/>
            <a:ext cx="1701720" cy="1942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924360" y="692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68360" y="3068640"/>
            <a:ext cx="2952720" cy="2660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050920" y="4508640"/>
            <a:ext cx="648000" cy="1081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619280" y="2997360"/>
            <a:ext cx="873000" cy="873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51280" y="249228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boo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51280" y="450864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95640" y="4292640"/>
            <a:ext cx="482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Wher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i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the do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24360" y="14842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t i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b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51280" y="3284640"/>
            <a:ext cx="446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oks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de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95640" y="5013360"/>
            <a:ext cx="4392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dog is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unde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the de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内容占位符 3" descr="位置2.png"/>
          <p:cNvPicPr/>
          <p:nvPr/>
        </p:nvPicPr>
        <p:blipFill>
          <a:blip r:embed="rId2"/>
          <a:stretch/>
        </p:blipFill>
        <p:spPr>
          <a:xfrm>
            <a:off x="3132000" y="260280"/>
            <a:ext cx="5761080" cy="2735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26920" y="2852640"/>
            <a:ext cx="720108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hoolbag is ________ the de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ok is _________ the pencil b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rayons are ______ the pencil b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ncil is _________ the pen and the ru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air is ______ the de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2708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3500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4292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19640" y="501336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3640" y="6237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e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50920" y="189000"/>
            <a:ext cx="27432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Let's do it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2421000"/>
            <a:ext cx="82090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e crayons_____ under the de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m       B. are       C.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Danny is between the desk____ the  c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or         B. and       C.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35280" y="2133720"/>
            <a:ext cx="505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00720" y="3789360"/>
            <a:ext cx="3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333360"/>
            <a:ext cx="460836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Let's Practic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16000" y="1484280"/>
            <a:ext cx="6696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画出自己卧室的摆设，并用方位词进行介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68360" y="2205000"/>
            <a:ext cx="4175280" cy="17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Thank you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333360"/>
            <a:ext cx="54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Let’s ch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68280"/>
            <a:ext cx="88930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pen , pen , ruler , ruler, pen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ncil, pencil, crayon, crayon, pencil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pencil box, pencil box , pen , pen  , pencil box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t01b85f4bca896c12ab"/>
          <p:cNvPicPr/>
          <p:nvPr/>
        </p:nvPicPr>
        <p:blipFill>
          <a:blip r:embed="rId1"/>
          <a:stretch/>
        </p:blipFill>
        <p:spPr>
          <a:xfrm>
            <a:off x="7353360" y="4762440"/>
            <a:ext cx="17906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3" descr="classroom.jpg"/>
          <p:cNvPicPr/>
          <p:nvPr/>
        </p:nvPicPr>
        <p:blipFill>
          <a:blip r:embed="rId1"/>
          <a:stretch/>
        </p:blipFill>
        <p:spPr>
          <a:xfrm>
            <a:off x="17640" y="765000"/>
            <a:ext cx="9126360" cy="6093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68360" y="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an you s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458200" cy="5041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050920" y="5805360"/>
            <a:ext cx="496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lack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050920" y="260280"/>
            <a:ext cx="4762800" cy="4762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95640" y="5445000"/>
            <a:ext cx="331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e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708360" y="6165720"/>
            <a:ext cx="266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510000" y="0"/>
            <a:ext cx="329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908000" y="189000"/>
            <a:ext cx="5220000" cy="5081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419640" y="5589720"/>
            <a:ext cx="3673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choolb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图片 3" descr="between.png"/>
          <p:cNvPicPr/>
          <p:nvPr/>
        </p:nvPicPr>
        <p:blipFill>
          <a:blip r:embed="rId2"/>
          <a:stretch/>
        </p:blipFill>
        <p:spPr>
          <a:xfrm>
            <a:off x="468360" y="0"/>
            <a:ext cx="7991280" cy="5446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476360" y="544500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nny is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etwee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the desk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ha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图片 3" descr="beside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4941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050920" y="5084640"/>
            <a:ext cx="4826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Jenny is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beside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Ki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Kim is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beside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Jen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01:44:59Z</dcterms:created>
  <dc:creator/>
  <dc:description/>
  <cp:keywords/>
  <dc:language>en-US</dc:language>
  <cp:lastModifiedBy>User</cp:lastModifiedBy>
  <dcterms:modified xsi:type="dcterms:W3CDTF">2001-12-31T18:28:20Z</dcterms:modified>
  <cp:revision>33</cp:revision>
  <dc:subject/>
  <dc:title>幻灯片 1</dc:title>
</cp:coreProperties>
</file>