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3.png" ContentType="image/png"/>
  <Override PartName="/ppt/media/image2.jpeg" ContentType="image/jpeg"/>
  <Override PartName="/ppt/media/image11.jpeg" ContentType="image/jpeg"/>
  <Override PartName="/ppt/media/image19.png" ContentType="image/pn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chimes.wav" ContentType="audio/x-wav"/>
  <Override PartName="/ppt/media/wind.wav" ContentType="audio/x-wav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5999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DFA-E357-4EDE-811D-1D3065EA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B3B-5C83-44C3-98A2-22D9AF5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935-F2FF-4394-8383-D29A5595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7CE-8055-48EF-95C7-69E7C73D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10F2-0912-4930-B67A-230F0004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F1D7-B8C2-4C01-9CD4-6BA603FC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CB5-819B-4848-BE6F-74B8AEB3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0563-398A-4DBA-B3A1-45702D8A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9235-2DD2-4A42-A1C2-681DDE2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C4A5-3922-42B4-A7FD-0B3E1A13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5CD1-F85D-44BE-9257-56E3E0B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099-50B5-4FD8-A849-DB43EA36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931-578E-402B-80A3-96400168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29DD-D9BC-4C3E-86AD-AD81A8D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2A8A-7A69-4181-9F51-F324033D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11FC-9F85-4F0E-A019-EC05042B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AD84-57AC-42D1-98FE-3AAA9821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6747-9441-4C4D-9D7C-E7F51A81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3D05D-96F2-49C8-9119-94465EC6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284D-79D8-4411-9CCB-E7200F53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32A6-B5BC-443E-B35D-D768CEB8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C59A-E606-42CD-B42C-65BA59B2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483-3DD0-4980-B23C-C380F834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0153-498F-48B1-800B-A4139D8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7B37-56BF-457B-AE3C-C16AEB1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579D-D2AE-4B0F-9B1B-72F2BA5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CE17-9390-4706-9DCF-E7EFEA6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EAD7-4EB1-4AC0-A901-A18C5C9B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8038-831F-440D-8F6C-0F48A53F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7F4E-7375-4A74-9994-BDB19988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057-34F3-407B-ACD7-BD8837C7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440-1C85-4306-9DC2-2E916E87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7C7-C83D-4355-ADBA-55E04B33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DBE-BA42-468A-94D5-43E4380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492-EE74-4EEA-B37E-4DDF4164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E31-14FA-4A6B-A8F2-2D16C57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360" y="274320"/>
            <a:ext cx="1133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360" y="1600200"/>
            <a:ext cx="1133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98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2988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FF9-6F12-4341-9971-880AA51A14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60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0" y="0"/>
            <a:ext cx="12600000" cy="68580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EA5-B92F-44B4-B356-79B57FA6AD2E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600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305240" y="6244920"/>
            <a:ext cx="398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902988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0608-6A0E-4684-9BD7-8C8A7A3DEBF0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857600" y="4870440"/>
            <a:ext cx="80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Lesson 12  Mr. Moon'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WordArt 2" descr=""/>
          <p:cNvPicPr/>
          <p:nvPr/>
        </p:nvPicPr>
        <p:blipFill>
          <a:blip r:embed="rId2"/>
          <a:stretch/>
        </p:blipFill>
        <p:spPr>
          <a:xfrm>
            <a:off x="3267000" y="1195560"/>
            <a:ext cx="5407200" cy="3601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  <p:sndAc>
      <p:stSnd>
        <p:snd r:embed="rId3" name="wind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877080" y="44280"/>
            <a:ext cx="5616720" cy="3095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6839280" y="335772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ich month is the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r my birthday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45640" y="47628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y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8640" y="177336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r. Moon doesn't  have  a 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70160" y="2349360"/>
            <a:ext cx="403200" cy="643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月亮先生没有生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488720" y="4365720"/>
            <a:ext cx="3746880" cy="643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我的生日在哪个月份最好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8840" y="4076640"/>
            <a:ext cx="40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st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od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高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译为“最好的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23600" y="314172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esn't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第三人称单数否定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2409840" cy="245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108000" y="2637000"/>
            <a:ext cx="2428920" cy="2428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3095280" y="260280"/>
            <a:ext cx="62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anuary says," I am the first 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608920" y="2709720"/>
            <a:ext cx="98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bruary says ,"The Spring Festival often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February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789080" y="98100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月说：“我是第一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390200" y="3718080"/>
            <a:ext cx="33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月说：“春节通常在二月到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857320" y="162864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am the best mont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26820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是最好的月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4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240000" cy="3097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724920" y="1628640"/>
            <a:ext cx="585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rch says,"The weather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rm and suny in March 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379880" y="4294080"/>
            <a:ext cx="11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ril says ,"There is rain,and trees are green in April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93320" y="33336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 ! We are the be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620240" y="89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不！我们是最好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410440" y="2781360"/>
            <a:ext cx="34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三月说：“三月的天气温暖又晴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799720" y="494172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四月说：“四月有雨，树变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3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68360" y="117360"/>
            <a:ext cx="4032360" cy="2781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7524720" y="2349360"/>
            <a:ext cx="4680000" cy="244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644200" y="2997360"/>
            <a:ext cx="8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631320" y="3645000"/>
            <a:ext cx="34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w about me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841080" y="476280"/>
            <a:ext cx="55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y says ,"The flower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autiful in May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929320" y="544500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une says ,"Children's Day is fun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926120" y="148608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月说：“五月的花美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043160" y="422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366080" y="609300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月说：“儿童节很开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211560" y="4797360"/>
            <a:ext cx="47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表示询问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796000" y="1701720"/>
            <a:ext cx="3095640" cy="266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8893080" y="1197000"/>
            <a:ext cx="3598920" cy="3168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507960" y="333360"/>
            <a:ext cx="92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uly and August say ,"We are hot and sunn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there's a long holiday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27800" y="24922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oliday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假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476760" y="4726080"/>
            <a:ext cx="35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are the bes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203560" y="909720"/>
            <a:ext cx="243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月和八月说：“我们很热，很晴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且有一个长假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095960" y="5467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是最好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4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468000" y="189000"/>
            <a:ext cx="3098520" cy="3671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2085120" y="404640"/>
            <a:ext cx="13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913040" y="1270080"/>
            <a:ext cx="735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eptember and Octo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ay ,"It's nice and c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n September and Octomber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030560" y="40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一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75280" y="350208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月和十月说：“在九月和十月天气很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凉爽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53b39e548b958"/>
          <p:cNvPicPr/>
          <p:nvPr/>
        </p:nvPicPr>
        <p:blipFill>
          <a:blip r:embed="rId2"/>
          <a:stretch/>
        </p:blipFill>
        <p:spPr>
          <a:xfrm>
            <a:off x="4284720" y="4653000"/>
            <a:ext cx="2611440" cy="17240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74140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677440" y="117360"/>
            <a:ext cx="2733480" cy="3411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4387680" y="1052640"/>
            <a:ext cx="35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are the bes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4080" y="3286080"/>
            <a:ext cx="1096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vember and December say ,"We are  the  eleven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twelfth month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are cold months .You can play in the snow .It's fun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870560" y="443700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一月和十二月说：“我们是第十一和第十二个月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42560" y="5877000"/>
            <a:ext cx="7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是寒冷的月份。你可以在雪里玩。非常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3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5616720" cy="3095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661080" y="47628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mm...  I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44440" y="3429000"/>
            <a:ext cx="1057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r. Moon says ," My birthday can be in every month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n every month ,I will be big and round 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326680" y="407664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亮先生说：“我的生日可以在每一个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70760" y="5445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将在每一个月又大又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488720" y="1197000"/>
            <a:ext cx="18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·····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知道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0:03:58Z</dcterms:created>
  <dc:creator>BMT6</dc:creator>
  <dc:description/>
  <dc:language>en-US</dc:language>
  <cp:lastModifiedBy>BMT-6</cp:lastModifiedBy>
  <dcterms:modified xsi:type="dcterms:W3CDTF">2018-01-03T05:43:1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