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AF8-ACA6-4B5F-99B3-2C20A0EC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AFB-4C43-4E44-A4EA-7DF7EBA8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E5B-693E-4A0F-BF2F-7E8CC820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DD2-99D5-4BAF-AB00-7A0DDD9C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EA5-47E3-4B3E-9226-89FF3CB7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4CC-945B-4D20-AE4C-45F97C30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4F1-AD67-4276-B218-7B3CD0E3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105-992A-4AD4-8738-B4D4BB8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56F-F079-4864-9ABD-EE231409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D86-EA60-48C4-B36F-EDB4C590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0DA-FD4D-4C1C-B6C4-9E8ECA0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4C0-E40C-4A17-B913-FC310C6A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C9EA-8774-4B42-9FEC-DAF6DC1801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836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苏教牛津版）四年级英语下册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3645000"/>
            <a:ext cx="676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unit 4 Buying fruit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2881440" cy="24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0" t="0" r="0" b="9374"/>
          <a:stretch/>
        </p:blipFill>
        <p:spPr>
          <a:xfrm rot="20085600">
            <a:off x="1476360" y="1773360"/>
            <a:ext cx="1944720" cy="132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350028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a banana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3528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six banana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rcRect l="0" t="1674" r="0" b="0"/>
          <a:stretch/>
        </p:blipFill>
        <p:spPr>
          <a:xfrm>
            <a:off x="4788000" y="2133720"/>
            <a:ext cx="287964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03280" y="1484280"/>
            <a:ext cx="1944720" cy="1814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350028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an oran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98920" y="4653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two orange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4284720" y="1989000"/>
            <a:ext cx="3023640" cy="2663640"/>
            <a:chOff x="4284720" y="1989000"/>
            <a:chExt cx="3023640" cy="266364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4284720" y="2882520"/>
              <a:ext cx="1628640" cy="16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982040" y="1989000"/>
              <a:ext cx="1628640" cy="16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5679360" y="2963520"/>
              <a:ext cx="1629000" cy="168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1873440" cy="1854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314172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a peach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65300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three peach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148360" y="2205000"/>
            <a:ext cx="2376000" cy="2449080"/>
            <a:chOff x="5148360" y="2205000"/>
            <a:chExt cx="2376000" cy="24490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rcRect l="27849" t="0" r="27118" b="3126"/>
            <a:stretch/>
          </p:blipFill>
          <p:spPr>
            <a:xfrm>
              <a:off x="5148360" y="2205000"/>
              <a:ext cx="1421280" cy="24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rcRect l="27849" t="0" r="27118" b="3126"/>
            <a:stretch/>
          </p:blipFill>
          <p:spPr>
            <a:xfrm>
              <a:off x="6103080" y="2205000"/>
              <a:ext cx="1421280" cy="244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4"/>
          <a:srcRect l="27849" t="0" r="27118" b="3126"/>
          <a:stretch/>
        </p:blipFill>
        <p:spPr>
          <a:xfrm>
            <a:off x="1332000" y="907920"/>
            <a:ext cx="1727280" cy="2276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11280" y="328464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a pineap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3280" y="4653000"/>
            <a:ext cx="59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two pineapple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211640" y="2060640"/>
            <a:ext cx="3457080" cy="2158560"/>
            <a:chOff x="4211640" y="2060640"/>
            <a:chExt cx="3457080" cy="215856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211640" y="2060640"/>
              <a:ext cx="151776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261760" y="2143440"/>
              <a:ext cx="1438560" cy="15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4737600" y="2732760"/>
              <a:ext cx="1394280" cy="148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6163560" y="2228760"/>
              <a:ext cx="1505160" cy="16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6"/>
            <a:stretch/>
          </p:blipFill>
          <p:spPr>
            <a:xfrm>
              <a:off x="5828040" y="2732760"/>
              <a:ext cx="1624680" cy="148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1116000" y="1197000"/>
            <a:ext cx="1944720" cy="186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3500280"/>
            <a:ext cx="46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an app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4653000"/>
            <a:ext cx="46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five apple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3600360" cy="2592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32000" y="4653000"/>
            <a:ext cx="532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some grape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rcRect l="38009" t="49976" r="39994" b="19475"/>
          <a:stretch/>
        </p:blipFill>
        <p:spPr>
          <a:xfrm>
            <a:off x="1187280" y="1125360"/>
            <a:ext cx="1513080" cy="1727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3213000"/>
            <a:ext cx="46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Arial"/>
              </a:rPr>
              <a:t>a grap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69228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抄抄，读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907920"/>
            <a:ext cx="7848360" cy="52113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ppl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苹果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orang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橘子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pear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梨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banana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香蕉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grap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葡萄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pineappl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菠萝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peac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子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watermelon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西瓜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thes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those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32000" y="1916280"/>
            <a:ext cx="525600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e you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6480360" cy="4537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6880" y="5013360"/>
            <a:ext cx="465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peach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6697800" cy="4608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910880" y="5111640"/>
            <a:ext cx="527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pineapp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87280" y="476280"/>
            <a:ext cx="6840720" cy="486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20720" y="5424480"/>
            <a:ext cx="619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watermele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404640"/>
            <a:ext cx="7056720" cy="459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34160" y="5021280"/>
            <a:ext cx="27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pear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7201080" cy="4897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89800" y="5157720"/>
            <a:ext cx="32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pp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7093080" cy="482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1440" y="5229360"/>
            <a:ext cx="390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orang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344000" cy="4861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413440" y="5157720"/>
            <a:ext cx="415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banana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7056720" cy="475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989440" y="5157720"/>
            <a:ext cx="33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grap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9:51:44Z</dcterms:created>
  <dc:creator>999宝藏网</dc:creator>
  <dc:description/>
  <dc:language>en-US</dc:language>
  <cp:lastModifiedBy>ydz</cp:lastModifiedBy>
  <dcterms:modified xsi:type="dcterms:W3CDTF">2012-04-25T07:52:03Z</dcterms:modified>
  <cp:revision>7</cp:revision>
  <dc:subject/>
  <dc:title>幻灯片 1</dc:title>
</cp:coreProperties>
</file>