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897-28C9-4BC2-AD1E-4E153D726F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F62D-CFC5-47A5-B3EE-0FF91E0351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BD5-C3C5-49CF-8C03-5124D7A05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558-DF6F-4982-B7D4-CED556A629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446-E279-43B1-9BDE-DF08FE4901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F45F-1279-4982-881F-EF6452AA1F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D0FB-6387-4709-93AA-7D759B1470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EC9F-4ABE-42EB-8E61-7599C6DF81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C1DF-8DD2-4279-BAD6-68EA30A095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DD4B-2286-4E60-BBB5-CE4C70D298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B583-5966-4EC6-8667-6458376318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9DB2-81C6-4651-9A5F-7AB2E1958E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8A8-6297-47CB-BBDB-4D9ABD8EFF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9032-B5AF-486E-825E-DB936BEFAA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581-7FD3-445A-AEE1-0BE8A78F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C48-8A26-4414-B4EC-F0DD2AA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147-E698-4D36-A70B-370D2721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7A1-5C9D-4F36-B28D-9D0C9F4F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CF8-2D1B-4B59-A6D9-36E8BAB4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2E3-827C-497F-A088-F448AF4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CB4-E4CE-4C82-8256-9471BC5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80E-D776-485F-8D89-C5F0EE07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AF3-F1AB-48AF-973F-A4E36C9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12F-1299-47E7-B676-0A3D56F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714-6117-402E-8717-B62393D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849-AE56-4B33-A90B-206822B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6A4A-509A-43AD-BFD0-95EE150548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"/>
          <p:cNvPicPr/>
          <p:nvPr/>
        </p:nvPicPr>
        <p:blipFill>
          <a:blip r:embed="rId1"/>
          <a:srcRect l="0" t="0" r="0" b="20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14300001018588128918287297477"/>
          <p:cNvPicPr/>
          <p:nvPr/>
        </p:nvPicPr>
        <p:blipFill>
          <a:blip r:embed="rId2"/>
          <a:srcRect l="50" t="5647" r="2735" b="111"/>
          <a:stretch/>
        </p:blipFill>
        <p:spPr>
          <a:xfrm>
            <a:off x="0" y="3139920"/>
            <a:ext cx="5184720" cy="3770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044720" y="260280"/>
            <a:ext cx="72007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5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Our Clothe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0100413013915231"/>
          <p:cNvPicPr/>
          <p:nvPr/>
        </p:nvPicPr>
        <p:blipFill>
          <a:blip r:embed="rId3"/>
          <a:srcRect l="0" t="9897" r="0" b="11969"/>
          <a:stretch/>
        </p:blipFill>
        <p:spPr>
          <a:xfrm>
            <a:off x="5591160" y="3141720"/>
            <a:ext cx="35733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671" t="9834" r="20669" b="17320"/>
          <a:stretch/>
        </p:blipFill>
        <p:spPr>
          <a:xfrm>
            <a:off x="755640" y="620640"/>
            <a:ext cx="7632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26920" y="380700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Are these your shoe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09880" y="2708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rcRect l="32297" t="48029" r="55541" b="25393"/>
          <a:stretch/>
        </p:blipFill>
        <p:spPr>
          <a:xfrm>
            <a:off x="611280" y="4869000"/>
            <a:ext cx="158256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 rot="16200000">
            <a:off x="1800000" y="4616280"/>
            <a:ext cx="57600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 rot="16200000">
            <a:off x="7416720" y="3823920"/>
            <a:ext cx="57636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396200" y="278136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rcRect l="54991" t="48029" r="35055" b="25393"/>
          <a:stretch/>
        </p:blipFill>
        <p:spPr>
          <a:xfrm>
            <a:off x="7020000" y="465300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rcRect l="24734" t="6640" r="65858" b="60855"/>
          <a:stretch/>
        </p:blipFill>
        <p:spPr>
          <a:xfrm>
            <a:off x="7164360" y="4481640"/>
            <a:ext cx="122400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KDTX-82141350-1"/>
          <p:cNvPicPr/>
          <p:nvPr/>
        </p:nvPicPr>
        <p:blipFill>
          <a:blip r:embed="rId4"/>
          <a:srcRect l="11682" t="24472" r="10834" b="24942"/>
          <a:stretch/>
        </p:blipFill>
        <p:spPr>
          <a:xfrm>
            <a:off x="2411280" y="333360"/>
            <a:ext cx="41054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66599" t="51956" r="23995" b="34262"/>
          <a:stretch/>
        </p:blipFill>
        <p:spPr>
          <a:xfrm>
            <a:off x="6732720" y="5078520"/>
            <a:ext cx="2160360" cy="177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6920" y="3807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Are these your shoes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409880" y="2708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rcRect l="32297" t="48029" r="55541" b="25393"/>
          <a:stretch/>
        </p:blipFill>
        <p:spPr>
          <a:xfrm>
            <a:off x="611280" y="4869000"/>
            <a:ext cx="158256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 rot="16200000">
            <a:off x="1800000" y="4616280"/>
            <a:ext cx="57600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 rot="16200000">
            <a:off x="7416720" y="3823920"/>
            <a:ext cx="57636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396200" y="278136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rcRect l="52210" t="29345" r="36727" b="28341"/>
          <a:stretch/>
        </p:blipFill>
        <p:spPr>
          <a:xfrm>
            <a:off x="6659640" y="4292640"/>
            <a:ext cx="1468440" cy="256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2efea39ad5194f9a6c506255d779_800_800"/>
          <p:cNvPicPr/>
          <p:nvPr/>
        </p:nvPicPr>
        <p:blipFill>
          <a:blip r:embed="rId4"/>
          <a:srcRect l="2835" t="1874" r="1814" b="2750"/>
          <a:stretch/>
        </p:blipFill>
        <p:spPr>
          <a:xfrm>
            <a:off x="2771640" y="115920"/>
            <a:ext cx="3571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58181" t="41384" r="33542" b="39888"/>
          <a:stretch/>
        </p:blipFill>
        <p:spPr>
          <a:xfrm>
            <a:off x="684360" y="3213000"/>
            <a:ext cx="2147760" cy="2732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rcRect l="67928" t="41384" r="20038" b="39888"/>
          <a:stretch/>
        </p:blipFill>
        <p:spPr>
          <a:xfrm>
            <a:off x="5508720" y="3573360"/>
            <a:ext cx="3122640" cy="2732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971640" y="233352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 th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ese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omic Sans MS"/>
                <a:ea typeface="BatangChe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Yes,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55640" y="749160"/>
            <a:ext cx="93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—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BatangChe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Tony's sock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—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No,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916360" y="4724280"/>
            <a:ext cx="2408040" cy="362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66920" y="7128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Are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492360" y="11253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they aren't</a:t>
            </a:r>
            <a:r>
              <a:rPr b="0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67280" y="206388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socks</a:t>
            </a:r>
            <a:r>
              <a:rPr b="0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708360" y="263700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they are</a:t>
            </a:r>
            <a:r>
              <a:rPr b="0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2012030316490753.jpg"/>
          <p:cNvPicPr/>
          <p:nvPr/>
        </p:nvPicPr>
        <p:blipFill>
          <a:blip r:embed="rId1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Tshirt"/>
          <p:cNvPicPr/>
          <p:nvPr/>
        </p:nvPicPr>
        <p:blipFill>
          <a:blip r:embed="rId2"/>
          <a:stretch/>
        </p:blipFill>
        <p:spPr>
          <a:xfrm>
            <a:off x="2411280" y="620640"/>
            <a:ext cx="3908520" cy="2930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340000" y="364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BatangChe"/>
              </a:rPr>
              <a:t>a T-shirt</a:t>
            </a:r>
            <a:r>
              <a:rPr b="0" lang="en-US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一件</a:t>
            </a:r>
            <a:r>
              <a:rPr b="0" lang="en-US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T</a:t>
            </a: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恤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669" t="9637" r="21219" b="17512"/>
          <a:stretch/>
        </p:blipFill>
        <p:spPr>
          <a:xfrm>
            <a:off x="900000" y="692280"/>
            <a:ext cx="7561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6920" y="3807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Is this your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-shirt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409880" y="2708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rcRect l="32297" t="48029" r="55541" b="25393"/>
          <a:stretch/>
        </p:blipFill>
        <p:spPr>
          <a:xfrm>
            <a:off x="611280" y="4869000"/>
            <a:ext cx="1582560" cy="19447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 rot="16200000">
            <a:off x="1800000" y="4616280"/>
            <a:ext cx="57600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 rot="16200000">
            <a:off x="7416720" y="3823920"/>
            <a:ext cx="57636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396200" y="278136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2"/>
          <a:srcRect l="54991" t="48029" r="35055" b="25393"/>
          <a:stretch/>
        </p:blipFill>
        <p:spPr>
          <a:xfrm>
            <a:off x="7020000" y="465300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rcRect l="24734" t="6640" r="65858" b="60855"/>
          <a:stretch/>
        </p:blipFill>
        <p:spPr>
          <a:xfrm>
            <a:off x="7164360" y="4481640"/>
            <a:ext cx="122400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GB18401%20"/>
          <p:cNvPicPr/>
          <p:nvPr/>
        </p:nvPicPr>
        <p:blipFill>
          <a:blip r:embed="rId4"/>
          <a:srcRect l="5888" t="2518" r="3154" b="3296"/>
          <a:stretch/>
        </p:blipFill>
        <p:spPr>
          <a:xfrm>
            <a:off x="2627280" y="189000"/>
            <a:ext cx="3600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2012030316490753.jpg"/>
          <p:cNvPicPr/>
          <p:nvPr/>
        </p:nvPicPr>
        <p:blipFill>
          <a:blip r:embed="rId1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ress"/>
          <p:cNvPicPr/>
          <p:nvPr/>
        </p:nvPicPr>
        <p:blipFill>
          <a:blip r:embed="rId2"/>
          <a:srcRect l="31107" t="0" r="31103" b="3387"/>
          <a:stretch/>
        </p:blipFill>
        <p:spPr>
          <a:xfrm>
            <a:off x="0" y="0"/>
            <a:ext cx="2879640" cy="5521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419640" y="2709720"/>
            <a:ext cx="48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BatangChe"/>
              </a:rPr>
              <a:t>a dress</a:t>
            </a:r>
            <a:r>
              <a:rPr b="0" lang="en-US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一条连衣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dress"/>
          <p:cNvPicPr/>
          <p:nvPr/>
        </p:nvPicPr>
        <p:blipFill>
          <a:blip r:embed="rId1"/>
          <a:srcRect l="31107" t="0" r="31103" b="3387"/>
          <a:stretch/>
        </p:blipFill>
        <p:spPr>
          <a:xfrm>
            <a:off x="3276720" y="0"/>
            <a:ext cx="2879640" cy="552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rcRect l="32297" t="48029" r="55541" b="25393"/>
          <a:stretch/>
        </p:blipFill>
        <p:spPr>
          <a:xfrm>
            <a:off x="539640" y="4581360"/>
            <a:ext cx="1582920" cy="194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43280" y="5580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Is this your dress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 rot="2907000">
            <a:off x="2123640" y="5157720"/>
            <a:ext cx="57636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rcRect l="74356" t="18512" r="14860" b="33273"/>
          <a:stretch/>
        </p:blipFill>
        <p:spPr>
          <a:xfrm>
            <a:off x="7740720" y="0"/>
            <a:ext cx="140328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2843280" y="560700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Is this Mom’s dress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66599" t="51956" r="23995" b="34262"/>
          <a:stretch/>
        </p:blipFill>
        <p:spPr>
          <a:xfrm>
            <a:off x="6732720" y="5078520"/>
            <a:ext cx="2160360" cy="1779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826920" y="380700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BatangChe"/>
              </a:rPr>
              <a:t>Is this your dress?</a:t>
            </a:r>
            <a:r>
              <a:rPr b="0" lang="en-US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-297000" y="-220680"/>
            <a:ext cx="974592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409880" y="27082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rcRect l="32297" t="48029" r="55541" b="25393"/>
          <a:stretch/>
        </p:blipFill>
        <p:spPr>
          <a:xfrm>
            <a:off x="611280" y="4869000"/>
            <a:ext cx="158256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 rot="16200000">
            <a:off x="1800000" y="4616280"/>
            <a:ext cx="57600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 rot="16200000">
            <a:off x="7416720" y="3823920"/>
            <a:ext cx="576360" cy="36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7396200" y="278136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rcRect l="52210" t="29345" r="36727" b="28341"/>
          <a:stretch/>
        </p:blipFill>
        <p:spPr>
          <a:xfrm>
            <a:off x="6659640" y="4292640"/>
            <a:ext cx="146844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3492360" y="549360"/>
            <a:ext cx="2781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2012030316490753.jpg"/>
          <p:cNvPicPr/>
          <p:nvPr/>
        </p:nvPicPr>
        <p:blipFill>
          <a:blip r:embed="rId1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132000" y="3740040"/>
            <a:ext cx="33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BatangChe"/>
              </a:rPr>
              <a:t>a cap</a:t>
            </a:r>
            <a:r>
              <a:rPr b="0" lang="en-US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一顶帽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cap"/>
          <p:cNvPicPr/>
          <p:nvPr/>
        </p:nvPicPr>
        <p:blipFill>
          <a:blip r:embed="rId2"/>
          <a:srcRect l="17958" t="18420" r="17770" b="19833"/>
          <a:stretch/>
        </p:blipFill>
        <p:spPr>
          <a:xfrm>
            <a:off x="2268360" y="260280"/>
            <a:ext cx="460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2012030316490753.jpg"/>
          <p:cNvPicPr/>
          <p:nvPr/>
        </p:nvPicPr>
        <p:blipFill>
          <a:blip r:embed="rId1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hoes"/>
          <p:cNvPicPr/>
          <p:nvPr/>
        </p:nvPicPr>
        <p:blipFill>
          <a:blip r:embed="rId2"/>
          <a:srcRect l="14191" t="26430" r="14947" b="28168"/>
          <a:stretch/>
        </p:blipFill>
        <p:spPr>
          <a:xfrm>
            <a:off x="2627280" y="1268280"/>
            <a:ext cx="3816360" cy="1833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203640" y="3357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BatangChe"/>
              </a:rPr>
              <a:t>shoes</a:t>
            </a:r>
            <a:r>
              <a:rPr b="0" lang="en-US" sz="60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鞋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23:53Z</dcterms:created>
  <dc:creator/>
  <dc:description/>
  <dc:language>en-US</dc:language>
  <cp:lastModifiedBy/>
  <dcterms:modified xsi:type="dcterms:W3CDTF">2016-12-28T01:27:03Z</dcterms:modified>
  <cp:revision>1</cp:revision>
  <dc:subject/>
  <dc:title/>
</cp:coreProperties>
</file>