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27.gif" ContentType="image/gif"/>
  <Override PartName="/ppt/media/image4.gif" ContentType="image/gif"/>
  <Override PartName="/ppt/media/image8.png" ContentType="image/png"/>
  <Override PartName="/ppt/media/image13.png" ContentType="image/png"/>
  <Override PartName="/ppt/media/image7.gif" ContentType="image/gif"/>
  <Override PartName="/ppt/media/image9.png" ContentType="image/png"/>
  <Override PartName="/ppt/media/image6.gif" ContentType="image/gif"/>
  <Override PartName="/ppt/media/image2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arrow.wav" ContentType="audio/x-wav"/>
  <Override PartName="/ppt/media/image22.png" ContentType="image/png"/>
  <Override PartName="/ppt/media/image12.png" ContentType="image/png"/>
  <Override PartName="/ppt/media/image23.jpeg" ContentType="image/jpeg"/>
  <Override PartName="/ppt/media/image1.gif" ContentType="image/gif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AD7-8133-4427-BBAD-C58AD4547E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D112-8954-452A-B575-9C479CC78C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108E-5493-4E60-A1C7-4A2BBE0BF2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655-FC95-4F63-9502-9DE5491289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61B4-E35B-41E1-B22D-1B3D45A0DD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5684-430F-4A7E-A3A3-590BBB6447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741-1FFD-4C64-A5D7-730ED89C03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0ED7-646C-4243-BBF5-FD279F5282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07D1-7CF2-4655-9869-0B1B2D0BB2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B2E-B7E3-4EB0-BCBD-66C8B51E2D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72F-B8E8-4F36-B69A-51D1CF65FB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26C-E430-457B-AE5C-0844BAC6B8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2F59-0BE1-4C5B-83D5-57A07383BC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58AF-0FA3-41E6-8EF5-60ABDE1D29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52D-49DE-4404-868A-8FE6B9A4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EF0-D893-4282-9AC3-D591A06C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2FD-64BA-4024-8484-94400702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F7E-1D34-4F44-BB8F-2C099B25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CA9-3C57-4F4F-98E5-3756EBA2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5FB-4028-454A-A88E-72BF6A26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53E-B308-428C-BA4A-86B1786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DE-6066-4F61-AC92-13E2CF0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D4F-63BD-436C-9C06-BE2D4F3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326-E0CD-4B98-9217-950325A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EFA-BA97-4F03-9373-2C92E61B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C11-1511-4367-8291-9BA93BF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A4EF-F3F4-406C-B44A-6B984A512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9.png"/><Relationship Id="rId15" Type="http://schemas.openxmlformats.org/officeDocument/2006/relationships/audio" Target="../media/arrow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audio" Target="../media/arrow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1989000"/>
            <a:ext cx="583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Unit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Our 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10090786_200611222210305"/>
          <p:cNvPicPr/>
          <p:nvPr/>
        </p:nvPicPr>
        <p:blipFill>
          <a:blip r:embed="rId2"/>
          <a:stretch/>
        </p:blipFill>
        <p:spPr>
          <a:xfrm>
            <a:off x="3708360" y="4654440"/>
            <a:ext cx="66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908000" y="4653000"/>
            <a:ext cx="59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this Da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 shir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ctivity"/>
          <p:cNvPicPr/>
          <p:nvPr/>
        </p:nvPicPr>
        <p:blipFill>
          <a:blip r:embed="rId1"/>
          <a:srcRect l="66065" t="3387" r="22606" b="76478"/>
          <a:stretch/>
        </p:blipFill>
        <p:spPr>
          <a:xfrm>
            <a:off x="2987640" y="260280"/>
            <a:ext cx="318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 coat"/>
          <p:cNvPicPr/>
          <p:nvPr/>
        </p:nvPicPr>
        <p:blipFill>
          <a:blip r:embed="rId8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a dress"/>
          <p:cNvPicPr/>
          <p:nvPr/>
        </p:nvPicPr>
        <p:blipFill>
          <a:blip r:embed="rId9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a shirt"/>
          <p:cNvPicPr/>
          <p:nvPr/>
        </p:nvPicPr>
        <p:blipFill>
          <a:blip r:embed="rId10"/>
          <a:srcRect l="22610" t="12189" r="21643" b="12189"/>
          <a:stretch/>
        </p:blipFill>
        <p:spPr>
          <a:xfrm>
            <a:off x="3203640" y="4653000"/>
            <a:ext cx="849240" cy="86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 T-shirt"/>
          <p:cNvPicPr/>
          <p:nvPr/>
        </p:nvPicPr>
        <p:blipFill>
          <a:blip r:embed="rId11"/>
          <a:srcRect l="19782" t="854" r="19759" b="0"/>
          <a:stretch/>
        </p:blipFill>
        <p:spPr>
          <a:xfrm rot="20412000">
            <a:off x="5148360" y="3357360"/>
            <a:ext cx="91908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a sweater"/>
          <p:cNvPicPr/>
          <p:nvPr/>
        </p:nvPicPr>
        <p:blipFill>
          <a:blip r:embed="rId12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Motion origin="layout" path="M 1.11111E-006 -4.07407E-006 C 0.07292 -0.01019 0.14583 -0.02037 0.15295 -0.10208 C 0.16007 -0.1838 0.10139 -0.33704 0.04271 -0.49028 E">
                                      <p:cBhvr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492560" y="571680"/>
            <a:ext cx="488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T-shirt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华文中宋"/>
              </a:rPr>
              <a:t>T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中宋"/>
              </a:rPr>
              <a:t>恤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 T-shirt"/>
          <p:cNvPicPr/>
          <p:nvPr/>
        </p:nvPicPr>
        <p:blipFill>
          <a:blip r:embed="rId2"/>
          <a:stretch/>
        </p:blipFill>
        <p:spPr>
          <a:xfrm>
            <a:off x="1143000" y="1579680"/>
            <a:ext cx="6041880" cy="453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835280" y="5013360"/>
            <a:ext cx="59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is your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-shir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Target"/>
          <p:cNvPicPr/>
          <p:nvPr/>
        </p:nvPicPr>
        <p:blipFill>
          <a:blip r:embed="rId1"/>
          <a:srcRect l="50939" t="33614" r="35834" b="45160"/>
          <a:stretch/>
        </p:blipFill>
        <p:spPr>
          <a:xfrm>
            <a:off x="2556000" y="333360"/>
            <a:ext cx="370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1"/>
          <p:cNvSpPr/>
          <p:nvPr/>
        </p:nvSpPr>
        <p:spPr>
          <a:xfrm>
            <a:off x="5284440" y="1634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咒语就是把这些物品的英文名拼读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w12"/>
          <p:cNvPicPr/>
          <p:nvPr/>
        </p:nvPicPr>
        <p:blipFill>
          <a:blip r:embed="rId7"/>
          <a:srcRect l="8217" t="13715" r="15478" b="19182"/>
          <a:stretch/>
        </p:blipFill>
        <p:spPr>
          <a:xfrm>
            <a:off x="611280" y="5445000"/>
            <a:ext cx="863640" cy="7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pants1"/>
          <p:cNvPicPr/>
          <p:nvPr/>
        </p:nvPicPr>
        <p:blipFill>
          <a:blip r:embed="rId8"/>
          <a:stretch/>
        </p:blipFill>
        <p:spPr>
          <a:xfrm rot="3995400">
            <a:off x="4395600" y="5189400"/>
            <a:ext cx="1258920" cy="148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w13"/>
          <p:cNvPicPr/>
          <p:nvPr/>
        </p:nvPicPr>
        <p:blipFill>
          <a:blip r:embed="rId9"/>
          <a:stretch/>
        </p:blipFill>
        <p:spPr>
          <a:xfrm>
            <a:off x="3924360" y="3357720"/>
            <a:ext cx="1006560" cy="100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skirt1"/>
          <p:cNvPicPr/>
          <p:nvPr/>
        </p:nvPicPr>
        <p:blipFill>
          <a:blip r:embed="rId10"/>
          <a:stretch/>
        </p:blipFill>
        <p:spPr>
          <a:xfrm>
            <a:off x="6732720" y="5734080"/>
            <a:ext cx="97452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jacket1"/>
          <p:cNvPicPr/>
          <p:nvPr/>
        </p:nvPicPr>
        <p:blipFill>
          <a:blip r:embed="rId11"/>
          <a:stretch/>
        </p:blipFill>
        <p:spPr>
          <a:xfrm>
            <a:off x="7596360" y="4581360"/>
            <a:ext cx="950760" cy="105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a cap"/>
          <p:cNvPicPr/>
          <p:nvPr/>
        </p:nvPicPr>
        <p:blipFill>
          <a:blip r:embed="rId12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a coat"/>
          <p:cNvPicPr/>
          <p:nvPr/>
        </p:nvPicPr>
        <p:blipFill>
          <a:blip r:embed="rId13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a dress"/>
          <p:cNvPicPr/>
          <p:nvPr/>
        </p:nvPicPr>
        <p:blipFill>
          <a:blip r:embed="rId14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a shirt"/>
          <p:cNvPicPr/>
          <p:nvPr/>
        </p:nvPicPr>
        <p:blipFill>
          <a:blip r:embed="rId15"/>
          <a:srcRect l="22610" t="12189" r="21643" b="12189"/>
          <a:stretch/>
        </p:blipFill>
        <p:spPr>
          <a:xfrm>
            <a:off x="3203640" y="4653000"/>
            <a:ext cx="849240" cy="86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a T-shirt"/>
          <p:cNvPicPr/>
          <p:nvPr/>
        </p:nvPicPr>
        <p:blipFill>
          <a:blip r:embed="rId16"/>
          <a:srcRect l="19782" t="854" r="19759" b="0"/>
          <a:stretch/>
        </p:blipFill>
        <p:spPr>
          <a:xfrm rot="20412000">
            <a:off x="5148360" y="3357360"/>
            <a:ext cx="919080" cy="113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a sweater"/>
          <p:cNvPicPr/>
          <p:nvPr/>
        </p:nvPicPr>
        <p:blipFill>
          <a:blip r:embed="rId17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shoes"/>
          <p:cNvPicPr/>
          <p:nvPr/>
        </p:nvPicPr>
        <p:blipFill>
          <a:blip r:embed="rId18"/>
          <a:srcRect l="17884" t="31115" r="16923" b="29833"/>
          <a:stretch/>
        </p:blipFill>
        <p:spPr>
          <a:xfrm>
            <a:off x="539640" y="4653000"/>
            <a:ext cx="129564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Motion origin="layout" path="M -2.5E-006 5.43353E-006 C 0.0125 -0.01664 0.00816 -0.00901 0.01441 -0.02126 C 0.02014 -0.04392 0.01355 -0.02404 0.054 -0.02959 C 0.0573 -0.03005 0.06042 -0.03259 0.06355 -0.03398 C 0.06511 -0.03467 0.06823 -0.03606 0.06823 -0.03606 C 0.07605 -0.04577 0.08768 -0.05109 0.09375 -0.06357 C 0.09584 -0.06774 0.1 -0.07629 0.1 -0.07629 C 0.10191 -0.10357 0.11007 -0.14935 0.09046 -0.16716 C 0.0849 -0.18542 0.07379 -0.19791 0.06355 -0.21155 C 0.05348 -0.22496 0.06181 -0.22011 0.05087 -0.22427 C 0.04792 -0.22681 0.0441 -0.22751 0.04132 -0.23051 C 0.03993 -0.23213 0.03993 -0.2356 0.0382 -0.23675 C 0.03612 -0.23814 0.01667 -0.24092 0.01598 -0.24115 C 0.00747 -0.24277 -0.00121 -0.24461 -0.00954 -0.24739 C -0.04062 -0.24531 -0.02951 -0.24531 -0.04288 -0.24531 E">
                                      <p:cBhvr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Motion origin="layout" path="M -2.22222E-006 1.15607E-006 C -0.0085 -0.01133 -0.0151 -0.00786 -0.02534 -0.0148 C -0.03993 -0.02474 -0.03333 -0.02197 -0.04444 -0.02543 C -0.05208 -0.03306 -0.05885 -0.04046 -0.06823 -0.04439 C -0.07916 -0.05549 -0.09132 -0.06752 -0.10469 -0.07191 C -0.11857 -0.08971 -0.10017 -0.06821 -0.1158 -0.08023 C -0.11771 -0.08185 -0.11875 -0.08486 -0.12066 -0.08671 C -0.1335 -0.09896 -0.121 -0.08347 -0.13177 -0.09503 C -0.1375 -0.10127 -0.14184 -0.1052 -0.14913 -0.10775 C -0.15451 -0.1133 -0.15868 -0.11769 -0.1651 -0.12046 C -0.1717 -0.12948 -0.17969 -0.13642 -0.18889 -0.13942 C -0.19305 -0.14543 -0.19844 -0.14682 -0.20312 -0.15214 C -0.20833 -0.15815 -0.2092 -0.16393 -0.2158 -0.16694 C -0.21788 -0.16902 -0.21996 -0.17133 -0.22222 -0.17341 C -0.22587 -0.17688 -0.23333 -0.18382 -0.23333 -0.18358 C -0.23854 -0.19468 -0.25 -0.20786 -0.25868 -0.21341 C -0.25972 -0.2148 -0.26059 -0.21665 -0.2618 -0.2178 C -0.26337 -0.21942 -0.26528 -0.22012 -0.26666 -0.22197 C -0.27882 -0.23769 -0.26024 -0.21919 -0.27448 -0.2326 C -0.27552 -0.23468 -0.27621 -0.23723 -0.27778 -0.23885 C -0.28177 -0.24301 -0.29045 -0.24948 -0.29045 -0.24925 C -0.30573 -0.27653 -0.32656 -0.29757 -0.34444 -0.32139 C -0.35746 -0.33873 -0.36649 -0.36046 -0.37934 -0.3785 C -0.38246 -0.39491 -0.37812 -0.37919 -0.38732 -0.3933 C -0.40173 -0.41526 -0.38229 -0.39376 -0.39844 -0.41017 C -0.40173 -0.43168 -0.39687 -0.41226 -0.40469 -0.42497 C -0.40746 -0.42937 -0.40868 -0.43515 -0.41111 -0.43977 C -0.4151 -0.45595 -0.42552 -0.47584 -0.43489 -0.48832 E">
                                      <p:cBhvr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3.75723E-006 C -0.00121 -0.03723 -0.00347 -0.07422 -0.0111 -0.11029 C -0.01232 -0.12671 -0.01371 -0.13781 -0.01909 -0.15214 C -0.02065 -0.16255 -0.02152 -0.17665 -0.02708 -0.18405 C -0.02968 -0.19469 -0.03437 -0.20393 -0.03819 -0.21365 C -0.0401 -0.22636 -0.04513 -0.24093 -0.05086 -0.25156 C -0.05381 -0.26359 -0.05763 -0.27006 -0.06197 -0.28116 C -0.06354 -0.29434 -0.06926 -0.31168 -0.07621 -0.32139 C -0.07985 -0.33665 -0.08593 -0.34798 -0.09201 -0.36162 C -0.09739 -0.37388 -0.1019 -0.38798 -0.10798 -0.39954 C -0.10919 -0.40209 -0.11128 -0.4037 -0.11267 -0.40602 C -0.11492 -0.40995 -0.11701 -0.41434 -0.11909 -0.4185 C -0.12239 -0.42498 -0.12517 -0.43214 -0.12708 -0.43977 C -0.1276 -0.44185 -0.12777 -0.44417 -0.12864 -0.44602 C -0.13194 -0.45388 -0.13593 -0.46197 -0.13975 -0.46937 C -0.14183 -0.47769 -0.14548 -0.48116 -0.1493 -0.48833 C -0.15277 -0.49503 -0.15485 -0.50313 -0.15867 -0.5096 C -0.16197 -0.51515 -0.16735 -0.51815 -0.16979 -0.5244 C -0.17673 -0.54197 -0.18715 -0.55584 -0.19687 -0.57087 C -0.20312 -0.58035 -0.20919 -0.58937 -0.21597 -0.59839 C -0.21909 -0.60255 -0.22135 -0.6081 -0.22534 -0.61087 C -0.22968 -0.61388 -0.23263 -0.6155 -0.23645 -0.61943 C -0.24166 -0.62474 -0.246 -0.62937 -0.25242 -0.63214 C -0.26128 -0.64393 -0.27343 -0.64717 -0.28419 -0.65526 C -0.30347 -0.6696 -0.28055 -0.65411 -0.29374 -0.66798 C -0.29687 -0.67122 -0.30121 -0.67099 -0.30485 -0.67237 C -0.31319 -0.67561 -0.31805 -0.67862 -0.32708 -0.67862 E">
                                      <p:cBhvr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Motion origin="layout" path="M -6.11111E-006 2.60116E-006 C -0.00851 -0.0037 -0.0106 -0.01179 -0.01598 -0.01919 C -0.02501 -0.03145 -0.02692 -0.03075 -0.03508 -0.04647 C -0.03907 -0.06289 -0.03369 -0.04254 -0.03976 -0.05919 C -0.0441 -0.07098 -0.0415 -0.07653 -0.04931 -0.08671 C -0.05365 -0.11029 -0.04688 -0.07746 -0.05556 -0.10567 C -0.0573 -0.11121 -0.05747 -0.11723 -0.05886 -0.12278 C -0.06042 -0.14173 -0.06476 -0.15884 -0.06667 -0.17757 C -0.07032 -0.26081 -0.08351 -0.35214 -0.06511 -0.43121 C -0.06164 -0.44601 -0.06094 -0.45503 -0.054 -0.46728 C -0.04844 -0.48948 -0.03525 -0.51653 -0.01754 -0.52439 C -0.00956 -0.53202 -0.00122 -0.5385 0.00781 -0.54335 C 0.01093 -0.54752 0.01336 -0.55353 0.01735 -0.55607 C 0.02152 -0.55884 0.03003 -0.56439 0.03003 -0.56439 C 0.03298 -0.57665 0.02916 -0.56647 0.03645 -0.57295 C 0.03836 -0.57457 0.03958 -0.57711 0.04114 -0.57919 C 0.0394 -0.58613 0.03628 -0.59746 0.03159 -0.60046 E">
                                      <p:cBhvr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928880" y="135720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Lucida Sans Unicode"/>
              </a:rPr>
              <a:t>sho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中宋"/>
              </a:rPr>
              <a:t>鞋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735360" y="135720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hoes"/>
          <p:cNvPicPr/>
          <p:nvPr/>
        </p:nvPicPr>
        <p:blipFill>
          <a:blip r:embed="rId2"/>
          <a:srcRect l="17876" t="31114" r="16916" b="29834"/>
          <a:stretch/>
        </p:blipFill>
        <p:spPr>
          <a:xfrm>
            <a:off x="1208160" y="3086280"/>
            <a:ext cx="5472000" cy="2454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1332000" y="5013360"/>
            <a:ext cx="69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se Mom'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o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ctivity"/>
          <p:cNvPicPr/>
          <p:nvPr/>
        </p:nvPicPr>
        <p:blipFill>
          <a:blip r:embed="rId1"/>
          <a:srcRect l="50939" t="13474" r="41503" b="66391"/>
          <a:stretch/>
        </p:blipFill>
        <p:spPr>
          <a:xfrm>
            <a:off x="3492360" y="333360"/>
            <a:ext cx="2438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a cap"/>
          <p:cNvPicPr/>
          <p:nvPr/>
        </p:nvPicPr>
        <p:blipFill>
          <a:blip r:embed="rId7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a coat"/>
          <p:cNvPicPr/>
          <p:nvPr/>
        </p:nvPicPr>
        <p:blipFill>
          <a:blip r:embed="rId8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a dress"/>
          <p:cNvPicPr/>
          <p:nvPr/>
        </p:nvPicPr>
        <p:blipFill>
          <a:blip r:embed="rId9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 shirt"/>
          <p:cNvPicPr/>
          <p:nvPr/>
        </p:nvPicPr>
        <p:blipFill>
          <a:blip r:embed="rId10"/>
          <a:srcRect l="22610" t="12189" r="21643" b="12189"/>
          <a:stretch/>
        </p:blipFill>
        <p:spPr>
          <a:xfrm>
            <a:off x="3203640" y="4653000"/>
            <a:ext cx="849240" cy="865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a T-shirt"/>
          <p:cNvPicPr/>
          <p:nvPr/>
        </p:nvPicPr>
        <p:blipFill>
          <a:blip r:embed="rId11"/>
          <a:srcRect l="19782" t="854" r="19759" b="0"/>
          <a:stretch/>
        </p:blipFill>
        <p:spPr>
          <a:xfrm rot="20412000">
            <a:off x="5148360" y="3357360"/>
            <a:ext cx="919080" cy="1130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a sweater"/>
          <p:cNvPicPr/>
          <p:nvPr/>
        </p:nvPicPr>
        <p:blipFill>
          <a:blip r:embed="rId12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shoes"/>
          <p:cNvPicPr/>
          <p:nvPr/>
        </p:nvPicPr>
        <p:blipFill>
          <a:blip r:embed="rId13"/>
          <a:srcRect l="17884" t="31115" r="16923" b="29833"/>
          <a:stretch/>
        </p:blipFill>
        <p:spPr>
          <a:xfrm>
            <a:off x="826920" y="4653000"/>
            <a:ext cx="129564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w12"/>
          <p:cNvPicPr/>
          <p:nvPr/>
        </p:nvPicPr>
        <p:blipFill>
          <a:blip r:embed="rId14"/>
          <a:srcRect l="8217" t="13715" r="15478" b="19182"/>
          <a:stretch/>
        </p:blipFill>
        <p:spPr>
          <a:xfrm>
            <a:off x="611280" y="5445000"/>
            <a:ext cx="86364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Motion origin="layout" path="M 0.02379 -0.02291 C 0.08073 -0.05301 0.13768 -0.08287 0.20157 -0.06736 C 0.26546 -0.05185 0.3691 0.08195 0.40712 0.06968 C 0.44514 0.05741 0.44532 -0.05092 0.42935 -0.14143 C 0.41337 -0.23194 0.33091 -0.41759 0.31129 -0.47291 E">
                                      <p:cBhvr>
                                        <p:cTn id="76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253960" y="928800"/>
            <a:ext cx="225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ff"/>
                </a:solidFill>
                <a:latin typeface="Lucida Sans"/>
              </a:rPr>
              <a:t>sh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444640" y="1073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楷体_GB2312"/>
              </a:rPr>
              <a:t>短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240080" y="92880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Lucida Sans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shorts"/>
          <p:cNvPicPr/>
          <p:nvPr/>
        </p:nvPicPr>
        <p:blipFill>
          <a:blip r:embed="rId2"/>
          <a:srcRect l="17022" t="14806" r="16834" b="15888"/>
          <a:stretch/>
        </p:blipFill>
        <p:spPr>
          <a:xfrm>
            <a:off x="1420920" y="2513160"/>
            <a:ext cx="504036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042920" y="5300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se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ny's short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ctivity"/>
          <p:cNvPicPr/>
          <p:nvPr/>
        </p:nvPicPr>
        <p:blipFill>
          <a:blip r:embed="rId1"/>
          <a:srcRect l="27316" t="12680" r="65126" b="66448"/>
          <a:stretch/>
        </p:blipFill>
        <p:spPr>
          <a:xfrm>
            <a:off x="3276720" y="189000"/>
            <a:ext cx="250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ALDSTFC"/>
          <p:cNvPicPr/>
          <p:nvPr/>
        </p:nvPicPr>
        <p:blipFill>
          <a:blip r:embed="rId2"/>
          <a:stretch/>
        </p:blipFill>
        <p:spPr>
          <a:xfrm>
            <a:off x="7020000" y="6206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NLN3Q0"/>
          <p:cNvPicPr/>
          <p:nvPr/>
        </p:nvPicPr>
        <p:blipFill>
          <a:blip r:embed="rId3"/>
          <a:stretch/>
        </p:blipFill>
        <p:spPr>
          <a:xfrm>
            <a:off x="1692360" y="17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A2Z8DYZ"/>
          <p:cNvPicPr/>
          <p:nvPr/>
        </p:nvPicPr>
        <p:blipFill>
          <a:blip r:embed="rId4"/>
          <a:stretch/>
        </p:blipFill>
        <p:spPr>
          <a:xfrm>
            <a:off x="2411280" y="2492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CAH5VNEW"/>
          <p:cNvPicPr/>
          <p:nvPr/>
        </p:nvPicPr>
        <p:blipFill>
          <a:blip r:embed="rId5"/>
          <a:stretch/>
        </p:blipFill>
        <p:spPr>
          <a:xfrm>
            <a:off x="-174600" y="2637000"/>
            <a:ext cx="1041480" cy="10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lanmujianjie"/>
          <p:cNvPicPr/>
          <p:nvPr/>
        </p:nvPicPr>
        <p:blipFill>
          <a:blip r:embed="rId6"/>
          <a:stretch/>
        </p:blipFill>
        <p:spPr>
          <a:xfrm>
            <a:off x="1619280" y="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12"/>
          <p:cNvPicPr/>
          <p:nvPr/>
        </p:nvPicPr>
        <p:blipFill>
          <a:blip r:embed="rId7"/>
          <a:srcRect l="8217" t="13715" r="15478" b="19182"/>
          <a:stretch/>
        </p:blipFill>
        <p:spPr>
          <a:xfrm>
            <a:off x="611280" y="5445000"/>
            <a:ext cx="863640" cy="7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a cap"/>
          <p:cNvPicPr/>
          <p:nvPr/>
        </p:nvPicPr>
        <p:blipFill>
          <a:blip r:embed="rId8"/>
          <a:srcRect l="17927" t="19176" r="13990" b="-279"/>
          <a:stretch/>
        </p:blipFill>
        <p:spPr>
          <a:xfrm>
            <a:off x="6156360" y="242100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a coat"/>
          <p:cNvPicPr/>
          <p:nvPr/>
        </p:nvPicPr>
        <p:blipFill>
          <a:blip r:embed="rId9"/>
          <a:srcRect l="17892" t="10935" r="17868" b="10935"/>
          <a:stretch/>
        </p:blipFill>
        <p:spPr>
          <a:xfrm rot="20211000">
            <a:off x="3708000" y="4436640"/>
            <a:ext cx="936720" cy="8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a dress"/>
          <p:cNvPicPr/>
          <p:nvPr/>
        </p:nvPicPr>
        <p:blipFill>
          <a:blip r:embed="rId10"/>
          <a:srcRect l="31060" t="0" r="29569" b="1500"/>
          <a:stretch/>
        </p:blipFill>
        <p:spPr>
          <a:xfrm rot="18480000">
            <a:off x="2132640" y="2699280"/>
            <a:ext cx="84600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a shirt"/>
          <p:cNvPicPr/>
          <p:nvPr/>
        </p:nvPicPr>
        <p:blipFill>
          <a:blip r:embed="rId11"/>
          <a:srcRect l="22610" t="12189" r="21643" b="12189"/>
          <a:stretch/>
        </p:blipFill>
        <p:spPr>
          <a:xfrm>
            <a:off x="3203640" y="4653000"/>
            <a:ext cx="84924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a T-shirt"/>
          <p:cNvPicPr/>
          <p:nvPr/>
        </p:nvPicPr>
        <p:blipFill>
          <a:blip r:embed="rId12"/>
          <a:srcRect l="19782" t="854" r="19759" b="0"/>
          <a:stretch/>
        </p:blipFill>
        <p:spPr>
          <a:xfrm rot="20412000">
            <a:off x="5148360" y="3357360"/>
            <a:ext cx="919080" cy="113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a sweater"/>
          <p:cNvPicPr/>
          <p:nvPr/>
        </p:nvPicPr>
        <p:blipFill>
          <a:blip r:embed="rId13"/>
          <a:srcRect l="17883" t="10960" r="17883" b="9677"/>
          <a:stretch/>
        </p:blipFill>
        <p:spPr>
          <a:xfrm>
            <a:off x="971640" y="2781360"/>
            <a:ext cx="1152360" cy="10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Motion origin="layout" path="M 1.38889E-006 5.18519E-006 C 0.18264 -0.07244 0.36545 -0.14467 0.41667 -0.24073 C 0.46788 -0.3368 0.38733 -0.45647 0.30695 -0.57592 E">
                                      <p:cBhvr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2400120" y="1484280"/>
            <a:ext cx="386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rebuchet MS"/>
              </a:rPr>
              <a:t>shirt </a:t>
            </a:r>
            <a:r>
              <a:rPr b="1" lang="en-US" sz="6000" spc="-1" strike="noStrike">
                <a:solidFill>
                  <a:srgbClr val="33cc33"/>
                </a:solidFill>
                <a:latin typeface="Trebuchet MS"/>
              </a:rPr>
              <a:t>   </a:t>
            </a:r>
            <a:r>
              <a:rPr b="1" lang="zh-CN" sz="6000" spc="-1" strike="noStrike">
                <a:solidFill>
                  <a:srgbClr val="33cc33"/>
                </a:solidFill>
                <a:latin typeface="Trebuchet MS"/>
                <a:ea typeface="华文中宋"/>
              </a:rPr>
              <a:t>衬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123721328"/>
          <p:cNvPicPr/>
          <p:nvPr/>
        </p:nvPicPr>
        <p:blipFill>
          <a:blip r:embed="rId2"/>
          <a:stretch/>
        </p:blipFill>
        <p:spPr>
          <a:xfrm>
            <a:off x="7740720" y="76500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 shirt"/>
          <p:cNvPicPr/>
          <p:nvPr/>
        </p:nvPicPr>
        <p:blipFill>
          <a:blip r:embed="rId3"/>
          <a:srcRect l="22606" t="12194" r="21646" b="12194"/>
          <a:stretch/>
        </p:blipFill>
        <p:spPr>
          <a:xfrm>
            <a:off x="2411280" y="2421000"/>
            <a:ext cx="3605400" cy="3673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30:00Z</dcterms:created>
  <dc:creator/>
  <dc:description/>
  <dc:language>en-US</dc:language>
  <cp:lastModifiedBy/>
  <dcterms:modified xsi:type="dcterms:W3CDTF">2016-12-28T01:35:32Z</dcterms:modified>
  <cp:revision>1</cp:revision>
  <dc:subject/>
  <dc:title/>
</cp:coreProperties>
</file>