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18.jpeg" ContentType="image/jpeg"/>
  <Override PartName="/ppt/media/image8.png" ContentType="image/png"/>
  <Override PartName="/ppt/media/image30.gif" ContentType="image/gif"/>
  <Override PartName="/ppt/media/image22.jpeg" ContentType="image/jpeg"/>
  <Override PartName="/ppt/media/image9.png" ContentType="image/png"/>
  <Override PartName="/ppt/media/image6.gif" ContentType="image/gif"/>
  <Override PartName="/ppt/media/image29.gif" ContentType="image/gif"/>
  <Override PartName="/ppt/media/image34.png" ContentType="image/png"/>
  <Override PartName="/ppt/media/image13.png" ContentType="image/png"/>
  <Override PartName="/ppt/media/image7.gif" ContentType="image/gif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1.png" ContentType="image/png"/>
  <Override PartName="/ppt/media/image2.gif" ContentType="image/gif"/>
  <Override PartName="/ppt/media/image5.png" ContentType="image/png"/>
  <Override PartName="/ppt/media/image35.jpeg" ContentType="image/jpeg"/>
  <Override PartName="/ppt/media/image10.png" ContentType="image/png"/>
  <Override PartName="/ppt/media/image4.gif" ContentType="image/gif"/>
  <Override PartName="/ppt/media/image27.png" ContentType="image/png"/>
  <Override PartName="/ppt/media/arrow.wav" ContentType="audio/x-wav"/>
  <Override PartName="/ppt/media/image14.png" ContentType="image/png"/>
  <Override PartName="/ppt/media/image15.gif" ContentType="image/gif"/>
  <Override PartName="/ppt/media/image20.png" ContentType="image/png"/>
  <Override PartName="/ppt/media/image28.jpeg" ContentType="image/jpeg"/>
  <Override PartName="/ppt/media/image23.gif" ContentType="image/gif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4225-7FEF-4CEE-9F68-301BFC1E0D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9080-536A-48A6-8580-9F827053E8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0722-82FD-4C1C-A968-3326F6E094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1C1-D1D3-459E-8DE4-2FE8DC3E8C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E613-AF7C-49EE-9C5E-4BB2E15094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DC73-AEFF-469B-BE7A-9BF33222A8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F49-84B7-4403-9DC0-ED36ACC923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5E0-1CE5-43C0-A067-E8E1229899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C330-F342-48CD-9F08-CAB538838C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6C73-73DC-4925-A49D-9F80334DDE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7BE-3867-49A6-AFC6-334882B1C1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FA0-121B-49A9-8BFD-400797BD30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D35B-916D-467F-A61B-2B86134030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F99-2689-4AF1-B60D-6E8833133D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5A9F-0C3F-479F-A590-B0E70AB1F4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90F9-2B31-456A-914B-BF4906D7D4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E14A-D2B9-46C4-B6AC-BCEB91B9A2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3003-5ABB-412E-9FF8-0F633D5306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2623-CC9C-4CA3-B346-28E55AD5F3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C7CA-C362-4E3C-B5D9-79B5996D06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B40-4C0E-4FD1-BD4E-2720A6DD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CF2-8D7F-4B0B-9FF8-FAF41694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AB6-0DD8-4149-A3CE-BA318082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AF9-35D4-4467-9CA7-9360D956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AC1-CAED-41F0-94D6-D773816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C15-A91C-4185-83C5-F47C5A2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361-E6C2-4BFB-87CB-8508CFB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5E4-E5E9-4360-B175-AD3E539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171-3F6F-4D70-9505-B493874B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50F-8D23-4B0F-B732-90A7129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301-136E-471B-B735-69FBB92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A54-1EE4-4659-B430-49E1EAC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FE8-189B-43BB-8B77-8DDC763E9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13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arrow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9.png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1989000"/>
            <a:ext cx="583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Unit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Our 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10090786_200611222210305"/>
          <p:cNvPicPr/>
          <p:nvPr/>
        </p:nvPicPr>
        <p:blipFill>
          <a:blip r:embed="rId2"/>
          <a:stretch/>
        </p:blipFill>
        <p:spPr>
          <a:xfrm>
            <a:off x="3708360" y="4654440"/>
            <a:ext cx="66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2657160" y="3933720"/>
            <a:ext cx="149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c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中宋"/>
              </a:rPr>
              <a:t>帽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 cap"/>
          <p:cNvPicPr/>
          <p:nvPr/>
        </p:nvPicPr>
        <p:blipFill>
          <a:blip r:embed="rId2"/>
          <a:srcRect l="17933" t="19157" r="13982" b="18033"/>
          <a:stretch/>
        </p:blipFill>
        <p:spPr>
          <a:xfrm>
            <a:off x="1116000" y="765000"/>
            <a:ext cx="4824360" cy="3341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2411280" y="5157720"/>
            <a:ext cx="58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i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r ca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ap2"/>
          <p:cNvPicPr/>
          <p:nvPr/>
        </p:nvPicPr>
        <p:blipFill>
          <a:blip r:embed="rId1"/>
          <a:stretch/>
        </p:blipFill>
        <p:spPr>
          <a:xfrm>
            <a:off x="2556000" y="26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a sweater"/>
          <p:cNvPicPr/>
          <p:nvPr/>
        </p:nvPicPr>
        <p:blipFill>
          <a:blip r:embed="rId8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Motion origin="layout" path="M 2.77778E-007 -1.14709E-006 C -0.03681 0.07978 -0.07344 0.15957 -0.11528 0.1783 C -0.15712 0.19704 -0.22674 0.16096 -0.2507 0.11286 C -0.27466 0.06475 -0.26667 -0.0229 -0.25851 -0.11055 E">
                                      <p:cBhvr>
                                        <p:cTn id="7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2141640" y="270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中宋"/>
              </a:rPr>
              <a:t>毛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333080" y="1628640"/>
            <a:ext cx="302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we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a sweater"/>
          <p:cNvPicPr/>
          <p:nvPr/>
        </p:nvPicPr>
        <p:blipFill>
          <a:blip r:embed="rId2"/>
          <a:srcRect l="17876" t="9694" r="15980" b="8419"/>
          <a:stretch/>
        </p:blipFill>
        <p:spPr>
          <a:xfrm>
            <a:off x="4067280" y="1341360"/>
            <a:ext cx="4248000" cy="39448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547640" y="4797360"/>
            <a:ext cx="64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i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 sweat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ractice 2"/>
          <p:cNvPicPr/>
          <p:nvPr/>
        </p:nvPicPr>
        <p:blipFill>
          <a:blip r:embed="rId1"/>
          <a:srcRect l="8415" t="57557" r="60400" b="24807"/>
          <a:stretch/>
        </p:blipFill>
        <p:spPr>
          <a:xfrm>
            <a:off x="1258920" y="836640"/>
            <a:ext cx="66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a sweater"/>
          <p:cNvPicPr/>
          <p:nvPr/>
        </p:nvPicPr>
        <p:blipFill>
          <a:blip r:embed="rId7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Motion origin="layout" path="M -3.88889E-006 -9.52821E-007 C 0.13768 0.15171 0.27553 0.30342 0.32014 0.26249 C 0.36476 0.22155 0.31615 -0.01226 0.26771 -0.24584 E">
                                      <p:cBhvr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65800" y="549360"/>
            <a:ext cx="28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or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短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765440" y="1268280"/>
            <a:ext cx="28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o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837800" y="2276640"/>
            <a:ext cx="25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irt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衬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838520" y="2852640"/>
            <a:ext cx="32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-shirt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T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恤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980720" y="350028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at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外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1835280" y="42210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ress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连衣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980720" y="5013360"/>
            <a:ext cx="235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p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1910880" y="5661000"/>
            <a:ext cx="32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weater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毛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8E66F2DDA845E9543B91B804459FF0F9"/>
          <p:cNvPicPr/>
          <p:nvPr/>
        </p:nvPicPr>
        <p:blipFill>
          <a:blip r:embed="rId2"/>
          <a:stretch/>
        </p:blipFill>
        <p:spPr>
          <a:xfrm>
            <a:off x="468360" y="907920"/>
            <a:ext cx="111420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a coat"/>
          <p:cNvPicPr/>
          <p:nvPr/>
        </p:nvPicPr>
        <p:blipFill>
          <a:blip r:embed="rId8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a dress"/>
          <p:cNvPicPr/>
          <p:nvPr/>
        </p:nvPicPr>
        <p:blipFill>
          <a:blip r:embed="rId9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a shirt"/>
          <p:cNvPicPr/>
          <p:nvPr/>
        </p:nvPicPr>
        <p:blipFill>
          <a:blip r:embed="rId10"/>
          <a:srcRect l="22610" t="12189" r="21643" b="12189"/>
          <a:stretch/>
        </p:blipFill>
        <p:spPr>
          <a:xfrm>
            <a:off x="3203640" y="4653000"/>
            <a:ext cx="849240" cy="86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a T-shirt"/>
          <p:cNvPicPr/>
          <p:nvPr/>
        </p:nvPicPr>
        <p:blipFill>
          <a:blip r:embed="rId11"/>
          <a:srcRect l="19783" t="878" r="19754" b="0"/>
          <a:stretch/>
        </p:blipFill>
        <p:spPr>
          <a:xfrm rot="20412000">
            <a:off x="5003640" y="3428640"/>
            <a:ext cx="76212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a sweater"/>
          <p:cNvPicPr/>
          <p:nvPr/>
        </p:nvPicPr>
        <p:blipFill>
          <a:blip r:embed="rId12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shoes"/>
          <p:cNvPicPr/>
          <p:nvPr/>
        </p:nvPicPr>
        <p:blipFill>
          <a:blip r:embed="rId13"/>
          <a:srcRect l="17881" t="31108" r="16927" b="29835"/>
          <a:stretch/>
        </p:blipFill>
        <p:spPr>
          <a:xfrm>
            <a:off x="971640" y="4508640"/>
            <a:ext cx="1008000" cy="45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shorts"/>
          <p:cNvPicPr/>
          <p:nvPr/>
        </p:nvPicPr>
        <p:blipFill>
          <a:blip r:embed="rId14"/>
          <a:srcRect l="16477" t="15159" r="16678" b="11718"/>
          <a:stretch/>
        </p:blipFill>
        <p:spPr>
          <a:xfrm>
            <a:off x="1042920" y="5300640"/>
            <a:ext cx="1081080" cy="8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Target"/>
          <p:cNvPicPr/>
          <p:nvPr/>
        </p:nvPicPr>
        <p:blipFill>
          <a:blip r:embed="rId1"/>
          <a:srcRect l="0" t="33614" r="65126" b="34303"/>
          <a:stretch/>
        </p:blipFill>
        <p:spPr>
          <a:xfrm>
            <a:off x="1403280" y="188928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/>
          <p:cNvSpPr/>
          <p:nvPr/>
        </p:nvSpPr>
        <p:spPr>
          <a:xfrm>
            <a:off x="250920" y="0"/>
            <a:ext cx="6553080" cy="1268280"/>
          </a:xfrm>
          <a:prstGeom prst="wedgeRoundRectCallout">
            <a:avLst>
              <a:gd name="adj1" fmla="val -10370"/>
              <a:gd name="adj2" fmla="val 95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this your T-shir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580000" y="907920"/>
            <a:ext cx="3564000" cy="1224000"/>
          </a:xfrm>
          <a:prstGeom prst="wedgeRoundRectCallout">
            <a:avLst>
              <a:gd name="adj1" fmla="val -16546"/>
              <a:gd name="adj2" fmla="val 69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, it is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Target"/>
          <p:cNvPicPr/>
          <p:nvPr/>
        </p:nvPicPr>
        <p:blipFill>
          <a:blip r:embed="rId1"/>
          <a:srcRect l="33938" t="33614" r="33003" b="35385"/>
          <a:stretch/>
        </p:blipFill>
        <p:spPr>
          <a:xfrm>
            <a:off x="2590920" y="2249640"/>
            <a:ext cx="6553080" cy="4608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9"/>
          <p:cNvSpPr/>
          <p:nvPr/>
        </p:nvSpPr>
        <p:spPr>
          <a:xfrm>
            <a:off x="324000" y="0"/>
            <a:ext cx="8135640" cy="1197000"/>
          </a:xfrm>
          <a:prstGeom prst="wedgeRoundRectCallout">
            <a:avLst>
              <a:gd name="adj1" fmla="val -12069"/>
              <a:gd name="adj2" fmla="val 17652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these Mom’s sho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3851280" y="1341360"/>
            <a:ext cx="5113440" cy="1079640"/>
          </a:xfrm>
          <a:prstGeom prst="wedgeRoundRectCallout">
            <a:avLst>
              <a:gd name="adj1" fmla="val -5944"/>
              <a:gd name="adj2" fmla="val 8014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, they are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 coat"/>
          <p:cNvPicPr/>
          <p:nvPr/>
        </p:nvPicPr>
        <p:blipFill>
          <a:blip r:embed="rId8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a dress"/>
          <p:cNvPicPr/>
          <p:nvPr/>
        </p:nvPicPr>
        <p:blipFill>
          <a:blip r:embed="rId9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a T-shirt"/>
          <p:cNvPicPr/>
          <p:nvPr/>
        </p:nvPicPr>
        <p:blipFill>
          <a:blip r:embed="rId10"/>
          <a:srcRect l="19782" t="854" r="19759" b="0"/>
          <a:stretch/>
        </p:blipFill>
        <p:spPr>
          <a:xfrm rot="20412000">
            <a:off x="5148360" y="3357360"/>
            <a:ext cx="919080" cy="113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a sweater"/>
          <p:cNvPicPr/>
          <p:nvPr/>
        </p:nvPicPr>
        <p:blipFill>
          <a:blip r:embed="rId11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Motion origin="layout" path="M -4.44444E-006 -1.48148E-006 C -0.08125 0.05255 -0.1625 0.10533 -0.15729 0.03727 C -0.15208 -0.03078 0.03334 -0.34699 0.03091 -0.40787 C 0.02848 -0.46875 -0.07187 -0.39815 -0.17204 -0.32754 E">
                                      <p:cBhvr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-4320" y="601560"/>
            <a:ext cx="873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hort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     shoe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短裤            鞋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19280" y="3051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hirt          T-shi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衬衣     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恤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gifbj047"/>
          <p:cNvPicPr/>
          <p:nvPr/>
        </p:nvPicPr>
        <p:blipFill>
          <a:blip r:embed="rId2"/>
          <a:stretch/>
        </p:blipFill>
        <p:spPr>
          <a:xfrm>
            <a:off x="3240000" y="4995720"/>
            <a:ext cx="1492200" cy="1791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07120" y="8571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外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67280" y="857160"/>
            <a:ext cx="174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c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 coat"/>
          <p:cNvPicPr/>
          <p:nvPr/>
        </p:nvPicPr>
        <p:blipFill>
          <a:blip r:embed="rId2"/>
          <a:srcRect l="17876" t="10946" r="17876" b="10946"/>
          <a:stretch/>
        </p:blipFill>
        <p:spPr>
          <a:xfrm>
            <a:off x="2336760" y="2657520"/>
            <a:ext cx="4032360" cy="3676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763640" y="5229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i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r co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20e46ceefbfc3dd255a5baa104fc_620_620_c6_jpeg_0df6710e_s1_q0_150_5_0_226_800"/>
          <p:cNvPicPr/>
          <p:nvPr/>
        </p:nvPicPr>
        <p:blipFill>
          <a:blip r:embed="rId1"/>
          <a:srcRect l="0" t="0" r="44799" b="5067"/>
          <a:stretch/>
        </p:blipFill>
        <p:spPr>
          <a:xfrm>
            <a:off x="2916360" y="189000"/>
            <a:ext cx="322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a coat"/>
          <p:cNvPicPr/>
          <p:nvPr/>
        </p:nvPicPr>
        <p:blipFill>
          <a:blip r:embed="rId8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a dress"/>
          <p:cNvPicPr/>
          <p:nvPr/>
        </p:nvPicPr>
        <p:blipFill>
          <a:blip r:embed="rId9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a sweater"/>
          <p:cNvPicPr/>
          <p:nvPr/>
        </p:nvPicPr>
        <p:blipFill>
          <a:blip r:embed="rId10"/>
          <a:srcRect l="17879" t="10940" r="17879" b="9658"/>
          <a:stretch/>
        </p:blipFill>
        <p:spPr>
          <a:xfrm>
            <a:off x="1042920" y="2847960"/>
            <a:ext cx="1081080" cy="10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Motion origin="layout" path="M 2.5E-006 7.48381E-006 C -0.05122 -0.0326 -0.10243 -0.06521 -0.10313 -0.14338 C -0.10382 -0.22155 -0.05434 -0.34551 -0.00469 -0.46924 E">
                                      <p:cBhvr>
                                        <p:cTn id="58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643040" y="928800"/>
            <a:ext cx="634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dress </a:t>
            </a:r>
            <a:r>
              <a:rPr b="1" lang="zh-CN" sz="4800" spc="-1" strike="noStrike">
                <a:solidFill>
                  <a:srgbClr val="3366cc"/>
                </a:solidFill>
                <a:latin typeface="Imprint MT Shadow"/>
              </a:rPr>
              <a:t>连衣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a dress"/>
          <p:cNvPicPr/>
          <p:nvPr/>
        </p:nvPicPr>
        <p:blipFill>
          <a:blip r:embed="rId2"/>
          <a:srcRect l="31107" t="3387" r="31103" b="2112"/>
          <a:stretch/>
        </p:blipFill>
        <p:spPr>
          <a:xfrm>
            <a:off x="3462480" y="2130480"/>
            <a:ext cx="24192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763640" y="530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i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m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 dres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Listen and sing"/>
          <p:cNvPicPr/>
          <p:nvPr/>
        </p:nvPicPr>
        <p:blipFill>
          <a:blip r:embed="rId1"/>
          <a:srcRect l="56626" t="5887" r="17876" b="2112"/>
          <a:stretch/>
        </p:blipFill>
        <p:spPr>
          <a:xfrm>
            <a:off x="3780000" y="0"/>
            <a:ext cx="194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a dress"/>
          <p:cNvPicPr/>
          <p:nvPr/>
        </p:nvPicPr>
        <p:blipFill>
          <a:blip r:embed="rId8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a sweater"/>
          <p:cNvPicPr/>
          <p:nvPr/>
        </p:nvPicPr>
        <p:blipFill>
          <a:blip r:embed="rId9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Motion origin="layout" path="M 5.55556E-007 -7.30805E-006 C 0.13924 0.08973 0.27865 0.17969 0.30295 0.13529 C 0.32726 0.09088 0.23664 -0.08789 0.14601 -0.26643 E">
                                      <p:cBhvr>
                                        <p:cTn id="68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30:00Z</dcterms:created>
  <dc:creator/>
  <dc:description/>
  <dc:language>en-US</dc:language>
  <cp:lastModifiedBy/>
  <dcterms:modified xsi:type="dcterms:W3CDTF">2016-12-28T01:35:51Z</dcterms:modified>
  <cp:revision>1</cp:revision>
  <dc:subject/>
  <dc:title/>
</cp:coreProperties>
</file>