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.jpeg" ContentType="image/jpeg"/>
  <Override PartName="/ppt/media/arrow.wav" ContentType="audio/x-wav"/>
  <Override PartName="/ppt/media/coin.wav" ContentType="audio/x-wav"/>
  <Override PartName="/ppt/media/image13.jpeg" ContentType="image/jpeg"/>
  <Override PartName="/ppt/media/image18.gif" ContentType="image/gif"/>
  <Override PartName="/ppt/media/chimes.wav" ContentType="audio/x-wav"/>
  <Override PartName="/ppt/media/camera.wav" ContentType="audio/x-wav"/>
  <Override PartName="/ppt/media/image17.gif" ContentType="image/gif"/>
  <Override PartName="/ppt/media/type.wav" ContentType="audio/x-wav"/>
  <Override PartName="/ppt/media/hammer.wav" ContentType="audio/x-wav"/>
  <Override PartName="/ppt/media/cashreg.wav" ContentType="audio/x-wav"/>
  <Override PartName="/ppt/media/laser.wav" ContentType="audio/x-wav"/>
  <Override PartName="/ppt/media/image4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1.jpeg" ContentType="image/jpeg"/>
  <Override PartName="/ppt/media/image6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A08A-ABF2-4573-9B55-F56F990F6F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8F16-B17C-43CB-8F6C-4961620BC9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A6E-1EEE-4768-9B41-3FA44971D2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98F-498D-47DF-B271-B75FEA690D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9268-880D-41BC-A0EE-5992DCD9A4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1849-B3D9-458E-A2CD-0FC4CFFBD5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6FE1-BCC5-41A4-A3FF-28AA8E762C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9FE-9A9A-49B7-A7F2-81A0546EF0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909F-D470-4CD4-B79B-A609D5826F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74D1-9BF3-4977-9064-4F3E5EFC21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BC0-0F62-479C-A4C0-2FD8743EA9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7F35-6836-4077-9F4F-FD0571D2D4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1F5-A4ED-4435-8602-60CBC644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008-3F9C-41F3-96C7-F9DB435D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616A4-0EFD-435F-9E7F-3837FDD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E7E74-B303-455D-80DD-2A47469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49587-51C6-4FFC-A300-3C37F80D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62895-A1B2-46D6-BCEC-9B45DBE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E347A-CA3B-48EC-B688-5D45818E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22BB4-5FAC-48F6-8D47-BF98D252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9AB3C-F2BB-4AFF-85BF-89F69642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6E2AE-DCC2-42D9-9FB4-E0506D6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785D3-92A6-45C1-83D7-AFC44FB8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FFA20-7B15-47CA-B2C9-9AB6F5C3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780-04F6-4E5D-A69A-6C80E090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988CD-96B5-4BAB-A33D-3F5F536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BF1C8-179A-442C-962E-539BE9B6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4EB66-7D9D-4CD3-82E9-95CC7A46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6CE84-8486-4050-BFD9-D8D590F5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E7421-EDFE-4B82-A5D9-B0DC29C9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C92FE-FDD9-428F-8934-38EB875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85DED-C8CD-4C7B-A1C8-FA98F27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0FD01-E0A2-44F3-98FF-57A223F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E08EC-8663-4569-9BF2-A421340A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6CE59-A53A-4323-B4F6-7A3E617A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8D9-B051-4A6A-BE25-638ABA25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16B33-E83D-4863-AFE5-C4F34A81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57683-0777-4342-BB6B-7A69D028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2B69F-095E-4D4C-B149-B02D982F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8BAEA-899E-4EA2-A940-83B23D39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2C9E7-912C-457A-9FC9-96A96C2D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EB526-1875-4C58-AE84-7639F3D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CBEE3-1EA4-484A-977A-16A821D0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1D31-8F9F-4527-9564-0D3F217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FBB14-05E4-4DE3-ACE4-A573532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C92B-9E67-45A2-AB48-132D66C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A028-D1AC-49F3-A1F6-DC928D42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AF88A-D168-4A56-8C7A-4FE50AA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E43F0-8F09-4040-9B20-DAC627BD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AEC6A-3547-4E1E-B5A2-5C313C31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DE038-9E49-4CDD-8B43-DF230E1B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0565E-3C1A-4C69-9112-6EE93F97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4CAF3-0510-485D-AE7F-0455158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BCD93-2954-491F-ABF6-72D86E6A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043F7-9066-4918-9C9B-D8E0D4BD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9A7D9-2A3B-428D-A8CD-C4DA2BAC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30005-1907-4663-A4EF-FB784ABF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81B8-E1F3-4AB0-86AB-AF0DD8F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2A0E8-5EA4-4AD1-BFAE-673116F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6EAA5-9C3A-4A52-9DAD-E195565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49810-4A00-4CF2-97CD-02DB8B0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8DF30-1FA7-485B-ACE9-90CAE582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5A501-6613-4DF4-8306-C1BDBC96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80E8-7CAE-4286-ACEF-0A1040B5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0C37-1245-4479-BAC7-2175BCD4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79B-F7C4-4D04-AB2D-D30AD33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5BE3-B15F-4043-801C-F5E5742B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7475-CA4A-4DBC-8322-4F98E822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0F8-5770-4295-B2DA-A7BEE0D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8EB4-D24B-4932-A87D-6E6A043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50C8-CA09-4874-A371-3238FB0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706C-EF60-4797-B73F-2BC0A97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0EF3-0DF5-4F8A-A1D6-220B5786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9735-F43C-4E78-8C13-F7D10A10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6E68-C5FC-4568-B310-6536310F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C906-D3A1-4679-BA58-3025442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31A9-95B1-4BC0-BD6E-C132756E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E004-9AC4-46F2-A821-A953B967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4247-BE94-40D4-9AA0-EBAA78CE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F3D-2667-47F2-BD42-35E75838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2E26-1F25-4FE0-8732-5633B177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4B4A-4218-4AA6-8A60-0B526AE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51F9-A096-4578-8FF9-962F4F66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32AF-EDF5-4E83-81AC-BFE67EB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61901-4517-44AF-837E-25865204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BED6-1845-41EE-A098-A70E55C3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127D-6CAA-4C58-9D90-65C783C9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A766-B67C-41DC-9434-D9244583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8D04-74B1-4565-ACC0-144F0C94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0F03-ACEA-4CCE-BA1A-98B4F01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27E-CF25-42F3-B96C-F70AD985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1834-7A7A-4BA5-BCEE-14F6A6E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E9C3A-C4EB-47AB-9EED-1466E3E8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B173-EB4F-4FD2-A4A0-C9CE543E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127F-A8D7-4384-BEF2-24166A5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EB8C-7A27-4C01-9C72-7A691C1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337CB-2B02-4A70-95FD-412520A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6DE5-47C6-4FD4-879D-93862A4E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7F63-B9D9-4617-9E9E-1EB6149E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F1D34-885F-4514-93CD-6614D3F3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F512-D774-418E-9C4F-EFD2A2EA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B62-7DA4-4CB7-AD9C-71461B13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440E-0D59-4A02-BF34-6779831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48FD8-BBF3-4F90-8DB6-E91154D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A4B6A-3242-4B35-B9B9-7163F0E8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7162-8920-41D4-8791-A8A36FA1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33CC-0359-40CF-B1A1-3F18A16C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45CB-428C-43C8-844A-4B728EB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9CF3-B21B-4DE3-90DF-C6BE5F1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EE342-E185-483F-AC5F-551B000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93AC-53DD-48B7-A9E5-C8F2BEC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6A49F-3FD9-439F-88CF-1C0F60AF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151-7B48-4AA0-9599-61EB785D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925D-97C5-4B82-BC68-0E557511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60E0-8F40-4F2E-A68C-9B663478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9CEA-8B63-4390-80BF-E3266C93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803F-36BF-43B7-9773-780BF6C0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1CF8-3F4C-409F-819A-82C27543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BD243-9D5F-4867-84D6-D3A3ACB9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3DE7-205C-4512-81C5-A85793B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CE76-429E-49F7-A538-33B06A55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BF0D-3CF4-462A-800D-60AAA23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E1832-D6C0-4F13-90A6-9AB3A857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DD4-6F01-4690-A6F5-7FEBAD4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452C0-82CE-445A-B8A2-B958FF19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531C-0238-40D4-91D2-AE25D381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04CD6-A72B-461C-97CD-98F227F3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C6EB3-6C7D-401C-A06A-97EE97F4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80D3A-C069-400A-9E96-1DE9F8E5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B8743-90E5-4EBC-8631-742967D5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B4F73-8C53-4FA9-9A8E-F09F15C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31A51-9BBE-46DE-853C-18D0ED61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75D30-FA08-4106-A2E5-41BEA4B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37F7-50ED-48D3-9AA6-C73E906F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455-4318-4629-8255-B0213D31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F505-0AE6-4A3B-9A48-FEF0179A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5D135-8CEB-4CEC-8F7F-27C32303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AEC92-BA4C-42D0-9011-48F9673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AA47A-80C1-49BE-8F24-0B613E5A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2E55B-1DC4-4413-926E-FDD496F0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B0E8D-14FF-4A0F-9284-2FD1BC2B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0B4B-ADD2-4C75-ABA7-4526FC9F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5DD64-DE39-41F8-B4B9-B911B553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46663-3C71-47A5-BF49-A991B4BD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BBAEA-1786-4E3C-B7C9-EA13DABF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F63-BB1E-431E-8009-CD25CF52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3025E-20BE-4DC1-B030-72200C41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57C1A-52E5-487D-8C7B-32532D8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024EC-8C87-4BA3-BE52-A55D55C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E801-CE29-4E56-92F6-87B6CD5D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3E284-FDF4-4399-8B99-B778513B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1AAFE-A5F5-4EB2-B60B-79F8850F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FE3FC-0AC7-4BF5-B7C1-E214CD0C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A11A6-DB3E-4651-ACEC-92315A7A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AE8E8-496A-4E86-B62F-164CE86C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68DE3-2E20-4205-B995-40CD67C4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cai.7cxk.net/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B8B-D011-4B1C-8D2E-83BD6F7C9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孔隆教育PPT模板(下)副本"/>
          <p:cNvPicPr/>
          <p:nvPr/>
        </p:nvPicPr>
        <p:blipFill>
          <a:blip r:embed="rId3"/>
          <a:srcRect l="6962" t="78985" r="0" b="0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sp>
        <p:nvSpPr>
          <p:cNvPr id="7" name="Text Box 9"/>
          <p:cNvSpPr/>
          <p:nvPr/>
        </p:nvSpPr>
        <p:spPr>
          <a:xfrm>
            <a:off x="6266880" y="6548400"/>
            <a:ext cx="247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ai.7cxk.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小学课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6DE3-5EDE-451B-8F67-C7B0C0E3D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497B-8061-4D7F-9A5D-2EB67AC4F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0BB7-C23B-4F71-A4CE-188DE7388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FB7-04D4-40BD-88E3-CC48FA61C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F44D-9BDA-4B4D-BFF9-FD559E6A5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D047-6C9B-4025-A9D7-7B649B7EF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95A6-2766-4651-8304-68675F317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1DFE-7893-4A0C-AF97-AE0471CC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C52B-AE8F-43CE-893D-FA7B3F9B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5CAC-9E55-454F-80EB-2F5C86DF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775F-B5B5-41F9-B032-A5B85C951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amera.wav"/><Relationship Id="rId12" Type="http://schemas.openxmlformats.org/officeDocument/2006/relationships/audio" Target="../media/cashreg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5"/>
          <p:cNvSpPr/>
          <p:nvPr/>
        </p:nvSpPr>
        <p:spPr>
          <a:xfrm>
            <a:off x="785880" y="2500200"/>
            <a:ext cx="79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Talk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about  the hobb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5" descr="H:\20093209565789.jpg"/>
          <p:cNvPicPr/>
          <p:nvPr/>
        </p:nvPicPr>
        <p:blipFill>
          <a:blip r:embed="rId1"/>
          <a:srcRect l="0" t="0" r="0" b="7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7"/>
          <p:cNvSpPr/>
          <p:nvPr/>
        </p:nvSpPr>
        <p:spPr>
          <a:xfrm>
            <a:off x="395280" y="2997360"/>
            <a:ext cx="820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your dad and mom about their hobbies and write a short passag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回家问爸爸妈妈的爱好，写一篇有关他们爱好的小短文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WordArt 6"/>
          <p:cNvSpPr txBox="1"/>
          <p:nvPr/>
        </p:nvSpPr>
        <p:spPr>
          <a:xfrm rot="776400">
            <a:off x="2607840" y="219240"/>
            <a:ext cx="3673440" cy="27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84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84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628560" y="3429000"/>
            <a:ext cx="851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ood hobbies can rich your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良好的爱好可以充实你的人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20071123012504807"/>
          <p:cNvPicPr/>
          <p:nvPr/>
        </p:nvPicPr>
        <p:blipFill>
          <a:blip r:embed="rId1"/>
          <a:stretch/>
        </p:blipFill>
        <p:spPr>
          <a:xfrm>
            <a:off x="468360" y="4221000"/>
            <a:ext cx="2666880" cy="24400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20071123012504807"/>
          <p:cNvPicPr/>
          <p:nvPr/>
        </p:nvPicPr>
        <p:blipFill>
          <a:blip r:embed="rId2"/>
          <a:stretch/>
        </p:blipFill>
        <p:spPr>
          <a:xfrm>
            <a:off x="3203640" y="3933720"/>
            <a:ext cx="2666880" cy="2511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20071123012504807"/>
          <p:cNvPicPr/>
          <p:nvPr/>
        </p:nvPicPr>
        <p:blipFill>
          <a:blip r:embed="rId3"/>
          <a:stretch/>
        </p:blipFill>
        <p:spPr>
          <a:xfrm>
            <a:off x="5940360" y="4149720"/>
            <a:ext cx="2667240" cy="2511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001"/>
          <p:cNvPicPr/>
          <p:nvPr/>
        </p:nvPicPr>
        <p:blipFill>
          <a:blip r:embed="rId4"/>
          <a:stretch/>
        </p:blipFill>
        <p:spPr>
          <a:xfrm>
            <a:off x="5867280" y="0"/>
            <a:ext cx="819360" cy="1619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8" descr="001"/>
          <p:cNvPicPr/>
          <p:nvPr/>
        </p:nvPicPr>
        <p:blipFill>
          <a:blip r:embed="rId5"/>
          <a:stretch/>
        </p:blipFill>
        <p:spPr>
          <a:xfrm>
            <a:off x="8325000" y="62064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9" descr="20090106115702"/>
          <p:cNvPicPr/>
          <p:nvPr/>
        </p:nvPicPr>
        <p:blipFill>
          <a:blip r:embed="rId6"/>
          <a:stretch/>
        </p:blipFill>
        <p:spPr>
          <a:xfrm>
            <a:off x="7524720" y="5373720"/>
            <a:ext cx="1224000" cy="12477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0" descr="20090106115702"/>
          <p:cNvPicPr/>
          <p:nvPr/>
        </p:nvPicPr>
        <p:blipFill>
          <a:blip r:embed="rId7"/>
          <a:stretch/>
        </p:blipFill>
        <p:spPr>
          <a:xfrm>
            <a:off x="6659640" y="5610240"/>
            <a:ext cx="1224000" cy="124776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1"/>
          <p:cNvSpPr/>
          <p:nvPr/>
        </p:nvSpPr>
        <p:spPr>
          <a:xfrm>
            <a:off x="611280" y="1052640"/>
            <a:ext cx="88675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Hobby is the first step to obtain knowled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爱好是获得知识的第一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800"/>
                            </p:stCondLst>
                            <p:childTnLst>
                              <p:par>
                                <p:cTn id="2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5" name="Picture 4" descr="20050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3023280" y="2997360"/>
            <a:ext cx="3201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cademy Engraved LET"/>
              </a:rPr>
              <a:t>Let’s 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5"/>
          <p:cNvSpPr/>
          <p:nvPr/>
        </p:nvSpPr>
        <p:spPr>
          <a:xfrm>
            <a:off x="3708360" y="580536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63" h="21600">
                <a:moveTo>
                  <a:pt x="18625" y="8406"/>
                </a:moveTo>
                <a:lnTo>
                  <a:pt x="23055" y="8406"/>
                </a:lnTo>
                <a:lnTo>
                  <a:pt x="27477" y="3794"/>
                </a:lnTo>
                <a:lnTo>
                  <a:pt x="27477" y="17806"/>
                </a:lnTo>
                <a:lnTo>
                  <a:pt x="23055" y="13194"/>
                </a:lnTo>
                <a:lnTo>
                  <a:pt x="18625" y="13194"/>
                </a:lnTo>
                <a:close/>
              </a:path>
              <a:path fill="darken" w="51263" h="21600">
                <a:moveTo>
                  <a:pt x="29130" y="10800"/>
                </a:moveTo>
                <a:lnTo>
                  <a:pt x="32638" y="10800"/>
                </a:lnTo>
              </a:path>
              <a:path fill="darken" w="51263" h="21600">
                <a:moveTo>
                  <a:pt x="29130" y="8406"/>
                </a:moveTo>
                <a:lnTo>
                  <a:pt x="32638" y="5639"/>
                </a:lnTo>
              </a:path>
              <a:path fill="darken" w="51263" h="21600">
                <a:moveTo>
                  <a:pt x="29130" y="13194"/>
                </a:moveTo>
                <a:lnTo>
                  <a:pt x="3263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468360" y="54936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your hobb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393840" y="141300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hobby is 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9080" y="24922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e sk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924360" y="256536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ing to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69080" y="342900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4284720" y="34290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ding a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684360" y="42210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ing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643280" y="429264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2031840" y="50259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920200" y="509904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1743480" y="581832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551480" y="589104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6496200" y="581832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684360" y="191628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ce sk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4211640" y="1989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listening to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539640" y="306864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ding a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4643280" y="306864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playing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684360" y="443700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making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985640" y="4378320"/>
            <a:ext cx="26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6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QQ图片20140528105613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924000"/>
          </a:xfrm>
          <a:prstGeom prst="rect">
            <a:avLst/>
          </a:prstGeom>
          <a:ln w="0">
            <a:noFill/>
          </a:ln>
        </p:spPr>
      </p:pic>
      <p:sp>
        <p:nvSpPr>
          <p:cNvPr id="528" name="WordArt 3"/>
          <p:cNvSpPr txBox="1"/>
          <p:nvPr/>
        </p:nvSpPr>
        <p:spPr>
          <a:xfrm>
            <a:off x="539640" y="476280"/>
            <a:ext cx="3514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Free talk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7164360" y="2276640"/>
            <a:ext cx="197964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ike re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hobby is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901440" y="34034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ao 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3852000" y="3403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126160" y="148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同学并完成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8147520" y="335772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ao 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395280" y="5445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iao 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185400" y="551664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 like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2486160" y="5445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3980520" y="55166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 (His/Her) hobby is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4287240" y="5445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7597800" y="5445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0" descr="xin_4908af33444942cabeb57b9c0165021a_xin_c2be24fedb8347c0bd591e6be9742faf_BLQ"/>
          <p:cNvPicPr/>
          <p:nvPr/>
        </p:nvPicPr>
        <p:blipFill>
          <a:blip r:embed="rId1"/>
          <a:stretch/>
        </p:blipFill>
        <p:spPr>
          <a:xfrm>
            <a:off x="6012000" y="2852640"/>
            <a:ext cx="2808000" cy="18003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21"/>
          <p:cNvSpPr/>
          <p:nvPr/>
        </p:nvSpPr>
        <p:spPr>
          <a:xfrm>
            <a:off x="5940360" y="4133880"/>
            <a:ext cx="280836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c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2" descr="swimming"/>
          <p:cNvPicPr/>
          <p:nvPr/>
        </p:nvPicPr>
        <p:blipFill>
          <a:blip r:embed="rId2"/>
          <a:stretch/>
        </p:blipFill>
        <p:spPr>
          <a:xfrm>
            <a:off x="6012000" y="907920"/>
            <a:ext cx="2808000" cy="187344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3"/>
          <p:cNvSpPr/>
          <p:nvPr/>
        </p:nvSpPr>
        <p:spPr>
          <a:xfrm>
            <a:off x="5940360" y="2262240"/>
            <a:ext cx="287964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m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QCC4AFE}GV{OIGQL~8%D~F2"/>
          <p:cNvPicPr/>
          <p:nvPr/>
        </p:nvPicPr>
        <p:blipFill>
          <a:blip r:embed="rId3"/>
          <a:stretch/>
        </p:blipFill>
        <p:spPr>
          <a:xfrm>
            <a:off x="250920" y="907920"/>
            <a:ext cx="2735280" cy="190836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7"/>
          <p:cNvSpPr/>
          <p:nvPr/>
        </p:nvSpPr>
        <p:spPr>
          <a:xfrm>
            <a:off x="250920" y="2276640"/>
            <a:ext cx="2735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6" descr=""/>
          <p:cNvPicPr/>
          <p:nvPr/>
        </p:nvPicPr>
        <p:blipFill>
          <a:blip r:embed="rId4"/>
          <a:srcRect l="4327" t="0" r="3846" b="-3925"/>
          <a:stretch/>
        </p:blipFill>
        <p:spPr>
          <a:xfrm>
            <a:off x="3059280" y="2852640"/>
            <a:ext cx="2808000" cy="18939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7"/>
          <p:cNvSpPr/>
          <p:nvPr/>
        </p:nvSpPr>
        <p:spPr>
          <a:xfrm>
            <a:off x="3059280" y="4149720"/>
            <a:ext cx="2808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" descr="134547~1"/>
          <p:cNvPicPr/>
          <p:nvPr/>
        </p:nvPicPr>
        <p:blipFill>
          <a:blip r:embed="rId5"/>
          <a:stretch/>
        </p:blipFill>
        <p:spPr>
          <a:xfrm>
            <a:off x="250920" y="4724280"/>
            <a:ext cx="2735280" cy="1959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BREH4257~[5K$LZZ$SLIO50"/>
          <p:cNvPicPr/>
          <p:nvPr/>
        </p:nvPicPr>
        <p:blipFill>
          <a:blip r:embed="rId6"/>
          <a:stretch/>
        </p:blipFill>
        <p:spPr>
          <a:xfrm>
            <a:off x="3132000" y="4724280"/>
            <a:ext cx="2735280" cy="164304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2"/>
          <p:cNvSpPr/>
          <p:nvPr/>
        </p:nvSpPr>
        <p:spPr>
          <a:xfrm>
            <a:off x="3132000" y="6372360"/>
            <a:ext cx="2735280" cy="485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laying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200806~1"/>
          <p:cNvPicPr/>
          <p:nvPr/>
        </p:nvPicPr>
        <p:blipFill>
          <a:blip r:embed="rId7"/>
          <a:stretch/>
        </p:blipFill>
        <p:spPr>
          <a:xfrm>
            <a:off x="5940360" y="4724280"/>
            <a:ext cx="2808360" cy="17290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4"/>
          <p:cNvSpPr/>
          <p:nvPr/>
        </p:nvSpPr>
        <p:spPr>
          <a:xfrm>
            <a:off x="250920" y="6338880"/>
            <a:ext cx="2735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ding a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5940360" y="6338880"/>
            <a:ext cx="280836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e-sk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6" descr="LLJ3[DYNR5OAO8Y{6BM8XZW"/>
          <p:cNvPicPr/>
          <p:nvPr/>
        </p:nvPicPr>
        <p:blipFill>
          <a:blip r:embed="rId8"/>
          <a:stretch/>
        </p:blipFill>
        <p:spPr>
          <a:xfrm>
            <a:off x="3059280" y="907920"/>
            <a:ext cx="2808000" cy="1873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13"/>
          <p:cNvSpPr/>
          <p:nvPr/>
        </p:nvSpPr>
        <p:spPr>
          <a:xfrm>
            <a:off x="3059280" y="2276640"/>
            <a:ext cx="2808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8" descr="LX_W)VEY@4@6}`5TG2DX7HE"/>
          <p:cNvPicPr/>
          <p:nvPr/>
        </p:nvPicPr>
        <p:blipFill>
          <a:blip r:embed="rId9"/>
          <a:stretch/>
        </p:blipFill>
        <p:spPr>
          <a:xfrm>
            <a:off x="250920" y="285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9"/>
          <p:cNvSpPr/>
          <p:nvPr/>
        </p:nvSpPr>
        <p:spPr>
          <a:xfrm>
            <a:off x="250920" y="4226040"/>
            <a:ext cx="2735280" cy="429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276840" y="981000"/>
            <a:ext cx="43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3059280" y="981000"/>
            <a:ext cx="502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2"/>
          <p:cNvSpPr/>
          <p:nvPr/>
        </p:nvSpPr>
        <p:spPr>
          <a:xfrm>
            <a:off x="6012000" y="907920"/>
            <a:ext cx="50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3"/>
          <p:cNvSpPr/>
          <p:nvPr/>
        </p:nvSpPr>
        <p:spPr>
          <a:xfrm>
            <a:off x="250920" y="2852640"/>
            <a:ext cx="576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3059280" y="2900520"/>
            <a:ext cx="43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5940360" y="2827440"/>
            <a:ext cx="50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252360" y="4700520"/>
            <a:ext cx="50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3132000" y="4797360"/>
            <a:ext cx="43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5940360" y="4724280"/>
            <a:ext cx="43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9"/>
          <p:cNvSpPr/>
          <p:nvPr/>
        </p:nvSpPr>
        <p:spPr>
          <a:xfrm>
            <a:off x="1547640" y="1989000"/>
            <a:ext cx="5399280" cy="439272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obb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0"/>
          <p:cNvSpPr/>
          <p:nvPr/>
        </p:nvSpPr>
        <p:spPr>
          <a:xfrm>
            <a:off x="356760" y="260280"/>
            <a:ext cx="26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sk in pairs</a:t>
            </a:r>
            <a:r>
              <a:rPr b="0" lang="zh-CN" sz="3200" spc="-1" strike="noStrike">
                <a:solidFill>
                  <a:srgbClr val="00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5"/>
          <p:cNvSpPr/>
          <p:nvPr/>
        </p:nvSpPr>
        <p:spPr>
          <a:xfrm>
            <a:off x="0" y="2349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s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like doin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573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Sh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H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like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539640" y="18900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you like do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403280" y="1268280"/>
            <a:ext cx="364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I like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5"/>
          <p:cNvSpPr/>
          <p:nvPr/>
        </p:nvSpPr>
        <p:spPr>
          <a:xfrm>
            <a:off x="2484360" y="112536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 you like …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50920" y="2924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, I do.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, I don’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5"/>
          <p:cNvSpPr/>
          <p:nvPr/>
        </p:nvSpPr>
        <p:spPr>
          <a:xfrm>
            <a:off x="1332000" y="98100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she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like…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1116000" y="2349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she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doe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she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he doesn’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53:54Z</dcterms:created>
  <dc:creator/>
  <dc:description/>
  <dc:language>en-US</dc:language>
  <cp:lastModifiedBy/>
  <dcterms:modified xsi:type="dcterms:W3CDTF">2016-12-28T01:55:10Z</dcterms:modified>
  <cp:revision>1</cp:revision>
  <dc:subject/>
  <dc:title/>
</cp:coreProperties>
</file>