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1C9A-7D51-4287-9DC3-A2386EC58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A49D-46C2-441B-B4ED-BC0FC9DD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E2BED-169A-44AE-85BE-AE5F391D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A9291-4762-4CC2-8AD1-36C60B39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B7245-40CA-4F65-8CD5-12E2D2B1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40816-734C-4F9F-9D1A-6F164AA8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D0EB4-60CE-4569-A8B6-99707197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55599-788D-4642-B8EB-A53D29BA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B6824-EE6F-4242-8D2B-AEE907A0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3B7F7-4D7C-445C-B436-F558049C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2EBE1-352E-42DA-96E0-9E625274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4E712-C821-4BA8-B085-BB79DF83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1DA5-1B66-4331-AB2B-6AF5A6B3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DB885-1DD3-487A-A25E-A3DF83B5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AE0AB-96DC-420C-88FC-629E8C0B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62008-27B5-4F89-A379-522A96A7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79A6B-A069-4A3E-94AA-A0AF42B7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046F4-88C2-4A1C-B06A-F91AB3C9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3FE90-6288-4CE4-AFF3-C36884D9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DA8DF-F754-4A85-9493-AB7E2327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B1B62-6379-40C4-841B-F42D772F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BCA99-7397-4597-AEBD-CEFCB6FD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D3E6F2-7141-4BF8-BBE0-ED2EC94C0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221F-520C-4281-9103-55B5E21F7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76082-658B-415D-8927-B6D96248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E6427-B806-4318-9F38-C43D5AAA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7B4C0-B715-405A-8915-1AFA3298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C4F96-AC29-457F-B15F-A31EFE08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F0C27-2429-45F7-BA9E-89015302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5E88F-E398-4026-9819-DB127505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3B490-9884-43B8-9BFF-C0431C1A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D4B2B-636A-4234-B0DA-D58B788E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5E916-7B00-4ABC-BCCE-9482D068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C050A-BF00-4872-930F-48BCF1E6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0350-1808-42DC-BE93-F688F763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55B85-A5AD-48CA-A5D0-BA525FFD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7021C-D4E7-40A4-BB85-89A559FF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0564E-5361-455C-9ABD-725EE5D04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185D7-06CF-4403-BA01-44266E9D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9BF3FF-96AC-437A-B138-6BE4B55E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F54DED-8859-4904-AAD9-608DC15F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DD59F-D4DD-45A3-A102-EDBE731A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F632F-B94A-497B-82AC-0C09A01F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9426C-276A-47C2-BB68-F3F9A4A7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5A47D4-948C-4BA6-90FD-2C1B5D8F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2294-7EDF-44DC-B139-EC04F761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FC444-EB3C-406C-BE44-9AE710B7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A390ED-E048-43FF-8A0F-8BF09A9A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195F6-9540-489A-A377-3CF3638D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584D1B-5509-4304-B9DF-84F5B7E4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E97ACB-5E54-4EAB-8797-8A254698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40BE-ADB5-4169-8CBC-A089AA47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89BE-A7E6-4838-AFEC-0A503A56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46BF-8CEB-4EB4-BD02-28A8384E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96B5-4EA2-4B82-82F8-7321D0BC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ABDD-6501-413B-8212-EA6F81DB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C896-EA21-4071-A0DB-95521472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0D32-8C0F-4724-8160-242CCB3C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E26C-890B-473B-A9AE-6315A58E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5484-50F8-424D-964B-23B660D8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6624-1961-4692-BD0E-B268333A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22F1-74CD-4951-8858-FCCA55B0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CD063-0662-4384-8F2C-1D5D3D69E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0F979-13CD-4C47-A6EA-4099B891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2CA88-20A4-45A9-9CED-6FB397B6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BD421-5365-46C9-AA28-53F47114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38D43-F4A3-4698-956E-B2A393B3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07A0-FF78-4EE1-97C1-54629266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EF156-5E96-4FD4-91F2-59D82D85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9E31D-FD20-44A2-9C7E-D5F64430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A9874-31BC-4B09-A826-64A4F42D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80332-7D52-4F4E-AB41-3B199754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2C6BC-F5C5-46CA-AFE4-E028B724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984BD-D1B0-4E36-B570-FAC859CCD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DDA3A-C460-4A74-9C4B-A49C3F331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69007-87B4-461A-B351-AA7F885A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CAF97-CD7A-4592-AF28-C17277CB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C9AF6-4735-48FB-9ACC-F7E3AB31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10F3-620D-42DD-B277-ECB45834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5BBC2-D132-42C9-9EE2-A1404D7F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03E91-AEEB-42CC-A7FC-A4A3F097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EAC2B-EB68-4BF7-BC5C-C3406269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F503D-5869-4BEE-BFA2-F536D64B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52031-2045-4623-A424-2FA0F678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2C500-8AAB-4D9B-A403-C0E09833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D44DB-6361-409B-963A-C8FE9461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D0EE9-83AD-48E5-B638-3F2FA69A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658DC-4B15-4D09-AA80-300EF5252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4AC52-3A10-45CB-B616-9EE8E2CA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A7B5-DB0D-4015-A623-69AFBDEA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46A32-CC81-42E5-AD31-1E2665CA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BE330-1B13-4769-8CF8-A6802540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B5459-0BAE-4961-A0EE-A865CA07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FF7DD-DFE8-446B-82AE-9E545926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5FBDD-EB7B-48F3-92D5-0A3AA16E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BC36C-07ED-46B4-961F-A2F62592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4CAF8-9FA0-4677-B4C7-71ABA214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79920-8F4B-43A8-BDC7-D1DDCC01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2BE21-7128-422F-9336-86FEC273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67E76-DF39-480D-BB84-E4E54F04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5B75-485B-4A73-90FB-865C8CF1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C243F-5C40-4D71-A0C5-5DE1E1BDB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C9A9F-605A-48B4-BD66-35152896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9EA7E-8407-476D-9357-FF720E6D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5D57D-72A7-4156-ADC4-1B60DFC6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7FAD4-DB25-41A6-8056-F37767C6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57A4E-A2D5-4EEB-BB39-6442EA77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DD038-959A-4548-9903-3757B387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2075F-E5F9-4510-8B52-C845BD88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FBF44-056E-4B01-BED6-CCFC55DD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016EE-ABD4-4064-81C9-260C689A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1478-F915-4FEF-82C8-050A348E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90D87-E1C4-458B-AB1F-051ED5B4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7EA00-313D-49AA-9E28-4CCE66DA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9F029-ABC2-45B0-9B24-CC7D8D1E0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A861F-714D-4360-9445-DB2DBC3B1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3207D-40BD-43B0-94B3-0ED512B4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A4289-E6A9-44FF-9CF8-7C409836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83846-B982-4683-9429-2D0CCE47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7294C-3EE3-4D1E-B260-4E844112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772D9-8ED8-407A-96B3-52CF3988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C712C-D0BB-4C8E-BDDE-530AD09D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C0F3-EFF7-44A5-AFBF-2C25A327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461A9-7172-4D3E-80EE-FB9DDA87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B958C-2A6F-44D6-8D49-3E37041E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6F8AC-3CA3-4156-9C44-D0D4D5CB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2E3DE-0FE7-4E1F-8E97-9C299D90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4FD5C-4A54-42F5-B7E0-E005762E6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7DDDF-2FBE-4591-AF61-2F7D49BE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77C17-E5F5-4067-8287-F9D3D30E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3E20D-082B-4231-BB8D-2D9FF4AA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B0162-926B-42B0-9745-CED6F141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3AD59-6E0F-46FD-88FF-91E64A1E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5411-A173-442E-8667-F89151DA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61640-FC22-4DAA-BAF9-8BA96C23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B987E-1FF1-4FBD-9191-2624EF1A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AEAE1-AB2D-4F95-B884-32D21BDE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54E48-5279-4279-83DE-CC3123D8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43396-7BEA-4E4F-BD4E-E5A1294A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4EFC3-88B2-412D-842E-9A4B0E5D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1D8F3-4CC9-45FD-96D0-04440E8D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6D012-C2E6-4D93-AF33-1672C298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00D63-1871-4335-9DCE-1458E4A3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0AA9A-D859-47EB-B29F-286A6589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A2A7-65E6-41FE-88A6-2E06416299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6F9C-9DA3-40D9-92CE-B69FC3FC6B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7BB7-BBF5-4C9E-972E-80047B3AFC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F7A3-8213-4B9C-AC5B-F993AE01D9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3481-2061-4DC0-9109-2D8779C7B8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9C7B-4B72-4B27-9F15-3DD946FCDF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AB80-5BCC-4B48-8083-D10137E08E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12C0-1FC3-4736-9EE2-363BD65B37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777A-AA1B-40E8-9A60-94B44A9595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C60A-402D-4F18-AE82-21D2B67FF1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5DF0-78D3-4E67-B5AC-CB7CBBFB00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F39D-88D1-401E-BAAF-0E2EF6D7D4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053002~1"/>
          <p:cNvPicPr/>
          <p:nvPr/>
        </p:nvPicPr>
        <p:blipFill>
          <a:blip r:embed="rId1"/>
          <a:srcRect l="0" t="0" r="0" b="4871"/>
          <a:stretch/>
        </p:blipFill>
        <p:spPr>
          <a:xfrm>
            <a:off x="0" y="990720"/>
            <a:ext cx="9144000" cy="558144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Comic Sans MS"/>
              </a:rPr>
              <a:t>Unit2 I’m Cooking in the Kitc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1066680" y="990360"/>
            <a:ext cx="74678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Comic Sans MS"/>
              </a:rPr>
              <a:t>What are you doing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2572920" y="198108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33"/>
                </a:solidFill>
                <a:latin typeface="Arial"/>
              </a:rPr>
              <a:t>你在做什么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1083960" y="2971800"/>
            <a:ext cx="226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Comic Sans MS"/>
              </a:rPr>
              <a:t>I’m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6"/>
          <p:cNvSpPr/>
          <p:nvPr/>
        </p:nvSpPr>
        <p:spPr>
          <a:xfrm>
            <a:off x="1902240" y="3809880"/>
            <a:ext cx="217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我在</a:t>
            </a:r>
            <a:r>
              <a:rPr b="1" lang="en-US" sz="5400" spc="-1" strike="noStrike">
                <a:solidFill>
                  <a:srgbClr val="ff00ff"/>
                </a:solidFill>
                <a:latin typeface="Arial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Comic Sans MS"/>
              </a:rPr>
              <a:t>What is she/he doing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3352680"/>
            <a:ext cx="46483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Comic Sans MS"/>
              </a:rPr>
              <a:t>She/He is 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2471040" y="2133720"/>
            <a:ext cx="399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她</a:t>
            </a:r>
            <a:r>
              <a:rPr b="1" lang="en-US" sz="5400" spc="-1" strike="noStrike">
                <a:solidFill>
                  <a:srgbClr val="ff00ff"/>
                </a:solidFill>
                <a:latin typeface="Arial"/>
              </a:rPr>
              <a:t>/</a:t>
            </a: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他在做什么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1876320" y="4572000"/>
            <a:ext cx="310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Arial"/>
              </a:rPr>
              <a:t>她</a:t>
            </a:r>
            <a:r>
              <a:rPr b="1" lang="en-US" sz="5400" spc="-1" strike="noStrike">
                <a:solidFill>
                  <a:srgbClr val="ff9900"/>
                </a:solidFill>
                <a:latin typeface="Arial"/>
              </a:rPr>
              <a:t>/</a:t>
            </a:r>
            <a:r>
              <a:rPr b="1" lang="zh-CN" sz="5400" spc="-1" strike="noStrike">
                <a:solidFill>
                  <a:srgbClr val="ff9900"/>
                </a:solidFill>
                <a:latin typeface="Arial"/>
              </a:rPr>
              <a:t>他在</a:t>
            </a:r>
            <a:r>
              <a:rPr b="1" lang="en-US" sz="5400" spc="-1" strike="noStrike">
                <a:solidFill>
                  <a:srgbClr val="ff9900"/>
                </a:solidFill>
                <a:latin typeface="Arial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Comic Sans MS"/>
              </a:rPr>
              <a:t>Let’s lea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3" descr="SY_201~1"/>
          <p:cNvPicPr/>
          <p:nvPr/>
        </p:nvPicPr>
        <p:blipFill>
          <a:blip r:embed="rId1"/>
          <a:srcRect l="0" t="0" r="0" b="3653"/>
          <a:stretch/>
        </p:blipFill>
        <p:spPr>
          <a:xfrm>
            <a:off x="0" y="990720"/>
            <a:ext cx="9144000" cy="565308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4"/>
          <p:cNvSpPr/>
          <p:nvPr/>
        </p:nvSpPr>
        <p:spPr>
          <a:xfrm>
            <a:off x="6204960" y="312840"/>
            <a:ext cx="22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9999"/>
                </a:solidFill>
                <a:latin typeface="Comic Sans MS"/>
              </a:rPr>
              <a:t>rea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2" descr="318754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3"/>
          <p:cNvSpPr/>
          <p:nvPr/>
        </p:nvSpPr>
        <p:spPr>
          <a:xfrm>
            <a:off x="230760" y="685800"/>
            <a:ext cx="259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ff"/>
                </a:solidFill>
                <a:latin typeface="Comic Sans MS"/>
              </a:rPr>
              <a:t>writ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3" descr="SY_201~2"/>
          <p:cNvPicPr/>
          <p:nvPr/>
        </p:nvPicPr>
        <p:blipFill>
          <a:blip r:embed="rId1"/>
          <a:srcRect l="0" t="0" r="0" b="5206"/>
          <a:stretch/>
        </p:blipFill>
        <p:spPr>
          <a:xfrm>
            <a:off x="0" y="0"/>
            <a:ext cx="9144000" cy="650088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4"/>
          <p:cNvSpPr/>
          <p:nvPr/>
        </p:nvSpPr>
        <p:spPr>
          <a:xfrm>
            <a:off x="2879640" y="380880"/>
            <a:ext cx="257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sleep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2" descr="LARGE4~1"/>
          <p:cNvPicPr/>
          <p:nvPr/>
        </p:nvPicPr>
        <p:blipFill>
          <a:blip r:embed="rId1"/>
          <a:srcRect l="0" t="0" r="0" b="11461"/>
          <a:stretch/>
        </p:blipFill>
        <p:spPr>
          <a:xfrm>
            <a:off x="0" y="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175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ff66"/>
                </a:solidFill>
                <a:latin typeface="Comic Sans MS"/>
              </a:rPr>
              <a:t>ea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201305~1"/>
          <p:cNvPicPr/>
          <p:nvPr/>
        </p:nvPicPr>
        <p:blipFill>
          <a:blip r:embed="rId1"/>
          <a:srcRect l="0" t="0" r="0" b="14575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276360" y="2282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Comic Sans MS"/>
              </a:rPr>
              <a:t>liste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172442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581280" y="44953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66ff"/>
                </a:solidFill>
                <a:latin typeface="Comic Sans MS"/>
              </a:rPr>
              <a:t>coo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332094~1"/>
          <p:cNvPicPr/>
          <p:nvPr/>
        </p:nvPicPr>
        <p:blipFill>
          <a:blip r:embed="rId1"/>
          <a:stretch/>
        </p:blipFill>
        <p:spPr>
          <a:xfrm>
            <a:off x="0" y="46080"/>
            <a:ext cx="7010280" cy="681192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867280" y="5409720"/>
            <a:ext cx="2895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00"/>
                </a:solidFill>
                <a:latin typeface="Comic Sans MS"/>
              </a:rPr>
              <a:t>sta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REDOCN~1"/>
          <p:cNvPicPr/>
          <p:nvPr/>
        </p:nvPicPr>
        <p:blipFill>
          <a:blip r:embed="rId1"/>
          <a:srcRect l="0" t="5208" r="0" b="5208"/>
          <a:stretch/>
        </p:blipFill>
        <p:spPr>
          <a:xfrm>
            <a:off x="0" y="35712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343040" y="106632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33cc"/>
                </a:solidFill>
                <a:latin typeface="Comic Sans MS"/>
              </a:rPr>
              <a:t>si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07:26:03Z</dcterms:created>
  <dc:creator> </dc:creator>
  <dc:description> </dc:description>
  <cp:keywords/>
  <dc:language>en-US</dc:language>
  <cp:lastModifiedBy>Bonny</cp:lastModifiedBy>
  <dcterms:modified xsi:type="dcterms:W3CDTF">2015-05-07T16:43:01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