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3EE-A26B-4E87-9D06-6B8E7CEA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FFA-76A7-4515-A293-F548FFF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059-B23D-4F97-B529-96F56E9B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F7A-5BAE-4542-85FA-DCC09BEF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235-B3EC-45E8-8DF4-039A091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434-31AD-4E89-94C7-B238344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F1C-32EA-41AD-8F0E-8217807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92C-551B-4448-8527-86F4CF4A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AC9-C4D1-4741-9736-0CB4D32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ACF-2CF4-47E2-90BB-C6DA86A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2E9-4ED1-406B-83CF-B80FF54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A88-8405-4CB7-B1D8-8390815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CE0-62FB-4CAE-A28D-31E4508774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3L3_1.sw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do on Satu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19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0" y="838080"/>
            <a:ext cx="4572000" cy="1828800"/>
          </a:xfrm>
          <a:prstGeom prst="wedgeEllipseCallout">
            <a:avLst>
              <a:gd name="adj1" fmla="val 5000"/>
              <a:gd name="adj2" fmla="val 80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do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2819520" y="5867280"/>
            <a:ext cx="6095880" cy="990720"/>
          </a:xfrm>
          <a:prstGeom prst="wedgeEllipseCallout">
            <a:avLst>
              <a:gd name="adj1" fmla="val -4634"/>
              <a:gd name="adj2" fmla="val -114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oft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play footba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U3L31003.mp3" descr="U3L31003"/>
          <p:cNvPicPr/>
          <p:nvPr/>
        </p:nvPicPr>
        <p:blipFill>
          <a:blip r:embed="rId2"/>
          <a:stretch/>
        </p:blipFill>
        <p:spPr>
          <a:xfrm>
            <a:off x="33526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U3L31003.mp3" descr="U3L31003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U3L31004.mp3" descr="U3L31004"/>
          <p:cNvPicPr/>
          <p:nvPr/>
        </p:nvPicPr>
        <p:blipFill>
          <a:blip r:embed="rId4"/>
          <a:stretch/>
        </p:blipFill>
        <p:spPr>
          <a:xfrm>
            <a:off x="5410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76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76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32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228600" y="304920"/>
            <a:ext cx="4876920" cy="1828800"/>
          </a:xfrm>
          <a:prstGeom prst="wedgeEllipseCallout">
            <a:avLst>
              <a:gd name="adj1" fmla="val 1398"/>
              <a:gd name="adj2" fmla="val 9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do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724280" y="1219320"/>
            <a:ext cx="3581640" cy="1523880"/>
          </a:xfrm>
          <a:prstGeom prst="wedgeEllipseCallout">
            <a:avLst>
              <a:gd name="adj1" fmla="val -53282"/>
              <a:gd name="adj2" fmla="val 6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play the  pi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U3L31007.mp3" descr="U3L31007"/>
          <p:cNvPicPr/>
          <p:nvPr/>
        </p:nvPicPr>
        <p:blipFill>
          <a:blip r:embed="rId2"/>
          <a:stretch/>
        </p:blipFill>
        <p:spPr>
          <a:xfrm>
            <a:off x="3124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U3L31008.mp3" descr="U3L31008"/>
          <p:cNvPicPr/>
          <p:nvPr/>
        </p:nvPicPr>
        <p:blipFill>
          <a:blip r:embed="rId3"/>
          <a:stretch/>
        </p:blipFill>
        <p:spPr>
          <a:xfrm>
            <a:off x="67057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3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40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3L3_1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跟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lay foot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320040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 basketball      play the piano   cook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TV            play the erh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aijiquan      run      pla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             read         skip       d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257800" y="1371600"/>
            <a:ext cx="3429000" cy="1752480"/>
          </a:xfrm>
          <a:prstGeom prst="wedgeEllipseCallout">
            <a:avLst>
              <a:gd name="adj1" fmla="val -18750"/>
              <a:gd name="adj2" fmla="val 24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组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 on Sun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ofte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lay the pi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320040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 basketball      play football   cook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TV            play the erh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aijiquan      run      pla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             read         skip       d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5257800" y="1523880"/>
            <a:ext cx="3276720" cy="1524240"/>
          </a:xfrm>
          <a:prstGeom prst="wedgeEllipseCallout">
            <a:avLst>
              <a:gd name="adj1" fmla="val -20787"/>
              <a:gd name="adj2" fmla="val 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桌问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o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733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029"/>
          <p:cNvPicPr/>
          <p:nvPr/>
        </p:nvPicPr>
        <p:blipFill>
          <a:blip r:embed="rId1"/>
          <a:stretch/>
        </p:blipFill>
        <p:spPr>
          <a:xfrm>
            <a:off x="304920" y="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030"/>
          <p:cNvPicPr/>
          <p:nvPr/>
        </p:nvPicPr>
        <p:blipFill>
          <a:blip r:embed="rId1"/>
          <a:stretch/>
        </p:blipFill>
        <p:spPr>
          <a:xfrm>
            <a:off x="1143000" y="76212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031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节课学到的单词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ry up      Saturday  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节课学会运用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do on Saturday/Sun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do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do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什么情况下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981080" y="2666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  day   is   tod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hat day is today.mp3" descr=""/>
          <p:cNvPicPr/>
          <p:nvPr/>
        </p:nvPicPr>
        <p:blipFill>
          <a:blip r:embed="rId1"/>
          <a:stretch/>
        </p:blipFill>
        <p:spPr>
          <a:xfrm>
            <a:off x="708660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0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alogue  for  3  times.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三遍，同桌签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作业本上书写四个单词（三英一汉），按照正确的格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93000~1"/>
          <p:cNvPicPr/>
          <p:nvPr/>
        </p:nvPicPr>
        <p:blipFill>
          <a:blip r:embed="rId1"/>
          <a:stretch/>
        </p:blipFill>
        <p:spPr>
          <a:xfrm>
            <a:off x="0" y="342900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022"/>
          <p:cNvPicPr/>
          <p:nvPr/>
        </p:nvPicPr>
        <p:blipFill>
          <a:blip r:embed="rId2"/>
          <a:stretch/>
        </p:blipFill>
        <p:spPr>
          <a:xfrm>
            <a:off x="2743200" y="3581280"/>
            <a:ext cx="31240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019"/>
          <p:cNvPicPr/>
          <p:nvPr/>
        </p:nvPicPr>
        <p:blipFill>
          <a:blip r:embed="rId3"/>
          <a:stretch/>
        </p:blipFill>
        <p:spPr>
          <a:xfrm>
            <a:off x="5867280" y="35053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6781680" y="0"/>
            <a:ext cx="1990800" cy="2819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0" y="2666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play  baske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352680" y="266688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play  foo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429000" y="60958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6095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watch  T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934320" y="28195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248520" y="6095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play the  p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457200" y="228600"/>
            <a:ext cx="203832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"/>
          <p:cNvPicPr/>
          <p:nvPr/>
        </p:nvPicPr>
        <p:blipFill>
          <a:blip r:embed="rId6"/>
          <a:stretch/>
        </p:blipFill>
        <p:spPr>
          <a:xfrm>
            <a:off x="3429000" y="228600"/>
            <a:ext cx="2373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8600" y="57150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_________ !  It’s time for school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80880" y="5638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Hurry u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urry  up  !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 , ru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811~1"/>
          <p:cNvPicPr/>
          <p:nvPr/>
        </p:nvPicPr>
        <p:blipFill>
          <a:blip r:embed="rId1"/>
          <a:stretch/>
        </p:blipFill>
        <p:spPr>
          <a:xfrm>
            <a:off x="95400" y="700200"/>
            <a:ext cx="87627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152280" y="914400"/>
            <a:ext cx="5029200" cy="2057400"/>
          </a:xfrm>
          <a:prstGeom prst="wedgeEllipseCallout">
            <a:avLst>
              <a:gd name="adj1" fmla="val -8902"/>
              <a:gd name="adj2" fmla="val 75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urry up ! It’s time for schoo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981080" y="5410080"/>
            <a:ext cx="6934320" cy="1447920"/>
          </a:xfrm>
          <a:prstGeom prst="wedgeEllipseCallout">
            <a:avLst>
              <a:gd name="adj1" fmla="val -4717"/>
              <a:gd name="adj2" fmla="val -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it’s ________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648320" y="5638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U3L3100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37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7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8B1363~1"/>
          <p:cNvPicPr/>
          <p:nvPr/>
        </p:nvPicPr>
        <p:blipFill>
          <a:blip r:embed="rId1"/>
          <a:stretch/>
        </p:blipFill>
        <p:spPr>
          <a:xfrm>
            <a:off x="1295280" y="304920"/>
            <a:ext cx="6705720" cy="353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447920" y="44197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62A60~1"/>
          <p:cNvPicPr/>
          <p:nvPr/>
        </p:nvPicPr>
        <p:blipFill>
          <a:blip r:embed="rId1"/>
          <a:stretch/>
        </p:blipFill>
        <p:spPr>
          <a:xfrm>
            <a:off x="762120" y="380880"/>
            <a:ext cx="6591240" cy="3962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52480" y="43434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3529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276720" y="990720"/>
            <a:ext cx="2438280" cy="457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8:14:44Z</dcterms:created>
  <dc:creator/>
  <dc:description/>
  <cp:keywords/>
  <dc:language>en-US</dc:language>
  <cp:lastModifiedBy>Administrator</cp:lastModifiedBy>
  <dcterms:modified xsi:type="dcterms:W3CDTF">2016-03-02T05:48:46Z</dcterms:modified>
  <cp:revision>1</cp:revision>
  <dc:subject/>
  <dc:title>What  do you do on Saturda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Version">
    <vt:r8>1</vt:r8>
  </property>
</Properties>
</file>