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projctor.wav" ContentType="audio/x-wav"/>
  <Override PartName="/ppt/media/chimes.wav" ContentType="audio/x-wav"/>
  <Override PartName="/ppt/media/image16.jpeg" ContentType="image/jpeg"/>
  <Override PartName="/ppt/media/image9.gif" ContentType="image/gif"/>
  <Override PartName="/ppt/media/type.wav" ContentType="audio/x-wav"/>
  <Override PartName="/ppt/media/image3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1.png" ContentType="image/png"/>
  <Override PartName="/ppt/media/image10.gif" ContentType="image/gif"/>
  <Override PartName="/ppt/media/image12.jpeg" ContentType="image/jpeg"/>
  <Override PartName="/ppt/media/image1.jpeg" ContentType="image/jpeg"/>
  <Override PartName="/ppt/media/glass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D8D-2246-4E07-8974-B09BC7BA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D25-3F7D-4849-A53D-47B52203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D52-A36E-4DB5-8F95-F681287C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BDB-1BEC-4CE1-B82D-D9E499DB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AD17-1274-47A4-8231-E499228E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64DB-1B70-49E3-8498-EEC397EA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805-8F3E-4627-BD00-32772C3E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3D30-B949-4BDD-915C-947E5AD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37D9-AB56-4C40-9A1B-1F2BECA6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7731-7920-494F-83D6-429D69C9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BEB7-D14B-4294-A89E-A135C68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E44-26BC-43FD-ABC3-96AA8B4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0D52-CD19-4770-8656-B60CEE62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1E4B-3BDD-45C0-A133-D61317F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959-114E-4579-9BA4-D49450F7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AFA6-C45D-4974-B282-C85012DD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183-AA66-4F1B-A7D4-EF67C747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440-CC44-4D21-B8BD-EF09DAB6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E79-6C58-46E0-8827-01BE6960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237-161F-4413-968E-60450A4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7C0-E49E-4719-87B1-1CE87F4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BEE-D253-46C3-B755-39ABD6B0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67B-D539-4198-8D2C-B3E4033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BC8-BB6C-41B8-AE3A-D4B35FA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36B-2ACA-4EFC-BBA7-6267AD1460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788-F1E0-4ECE-84BB-32EF93A43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lass.wav" TargetMode="External"/><Relationship Id="rId2" Type="http://schemas.microsoft.com/office/2007/relationships/media" Target="file:///tmp/home/.config/libreoffice/4/user/gallery/glass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1547640" y="2060640"/>
            <a:ext cx="58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Module 7</a:t>
            </a:r>
            <a:br>
              <a:rPr sz="4400"/>
            </a:b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Unit1 I helped M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9640" y="836640"/>
            <a:ext cx="182268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0200" y="5234040"/>
            <a:ext cx="32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564000" y="1989000"/>
            <a:ext cx="540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n the compu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195640" y="404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Watch and  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738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原形      过去式      原形        过去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/ t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  watch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      cook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     walk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        talk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      help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427640" y="2205000"/>
            <a:ext cx="432108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/d 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      listen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in           rain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y          pla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140360" y="220500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250920" y="0"/>
            <a:ext cx="388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Let’s read</a:t>
            </a:r>
            <a:endParaRPr b="1" lang="en-US" sz="40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f497d"/>
                </a:solidFill>
                <a:latin typeface="Calibri"/>
                <a:ea typeface="黑体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600200"/>
            <a:ext cx="5791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ed</a:t>
            </a:r>
            <a:r>
              <a:rPr b="0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， </a:t>
            </a:r>
            <a:r>
              <a:rPr b="0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ed </a:t>
            </a:r>
            <a:r>
              <a:rPr b="0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小尾巴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动词后面跟着它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如果动作已发生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千万不要忘了它</a:t>
            </a:r>
            <a:r>
              <a:rPr b="0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642000" y="272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084720" y="46958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Yesterday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昨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324480" y="2286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oday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今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478560" y="52354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392960" y="5257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914400" y="692280"/>
            <a:ext cx="754380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Calibri"/>
                <a:ea typeface="楷体_GB2312"/>
              </a:rPr>
              <a:t>游戏：心有灵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每位同学把自己昨天干的事情画或写到一张纸上。然后其他同学用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Did you …..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来猜。被猜的同学用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Yes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，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Idid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。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, I didn’t.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猜中的同学和你心有灵犀，是你最好的朋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692280"/>
            <a:ext cx="861048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Calibri"/>
                <a:ea typeface="楷体_GB2312"/>
              </a:rPr>
              <a:t>游戏：猜一猜老师昨天干了什么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老师画，同学们猜，看谁猜得中。要用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Did you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（动词原形）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..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？句型呀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01042701754578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"/>
          <p:cNvSpPr txBox="1"/>
          <p:nvPr/>
        </p:nvSpPr>
        <p:spPr>
          <a:xfrm>
            <a:off x="684360" y="148428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火眼金睛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755640" y="3500280"/>
            <a:ext cx="7634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f497d"/>
                </a:solidFill>
                <a:latin typeface="宋体"/>
              </a:rPr>
              <a:t>what did they do yester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f497d"/>
              </a:soli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4464360" cy="4535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0" y="5373720"/>
            <a:ext cx="9144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  play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asketball yesterd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66760" y="134604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wandiannao0"/>
          <p:cNvPicPr/>
          <p:nvPr/>
        </p:nvPicPr>
        <p:blipFill>
          <a:blip r:embed="rId1"/>
          <a:stretch/>
        </p:blipFill>
        <p:spPr>
          <a:xfrm>
            <a:off x="2050920" y="549360"/>
            <a:ext cx="4537080" cy="4154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51880" y="4869000"/>
            <a:ext cx="81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play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 the compu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9" descr="gif007"/>
          <p:cNvPicPr/>
          <p:nvPr/>
        </p:nvPicPr>
        <p:blipFill>
          <a:blip r:embed="rId1"/>
          <a:stretch/>
        </p:blipFill>
        <p:spPr>
          <a:xfrm>
            <a:off x="341280" y="457200"/>
            <a:ext cx="735480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0"/>
          <p:cNvSpPr/>
          <p:nvPr/>
        </p:nvSpPr>
        <p:spPr>
          <a:xfrm>
            <a:off x="550440" y="4869000"/>
            <a:ext cx="57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 play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footbal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7621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t’s play a game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1f497d"/>
                </a:solidFill>
                <a:latin typeface="Times New Roman"/>
              </a:rPr>
              <a:t>I do and  you say.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      </a:t>
            </a:r>
            <a:r>
              <a:rPr b="1" lang="zh-CN" sz="8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我做你说</a:t>
            </a:r>
            <a:r>
              <a:rPr b="1" lang="en-US" sz="80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003640" y="378936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15600" y="4724280"/>
            <a:ext cx="76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gling watch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watching tv"/>
          <p:cNvPicPr/>
          <p:nvPr/>
        </p:nvPicPr>
        <p:blipFill>
          <a:blip r:embed="rId1"/>
          <a:stretch/>
        </p:blipFill>
        <p:spPr>
          <a:xfrm>
            <a:off x="1547640" y="404640"/>
            <a:ext cx="55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图片5"/>
          <p:cNvPicPr/>
          <p:nvPr/>
        </p:nvPicPr>
        <p:blipFill>
          <a:blip r:embed="rId1"/>
          <a:stretch/>
        </p:blipFill>
        <p:spPr>
          <a:xfrm>
            <a:off x="3419640" y="1052640"/>
            <a:ext cx="204912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图片11"/>
          <p:cNvPicPr/>
          <p:nvPr/>
        </p:nvPicPr>
        <p:blipFill>
          <a:blip r:embed="rId2"/>
          <a:stretch/>
        </p:blipFill>
        <p:spPr>
          <a:xfrm>
            <a:off x="6084720" y="981000"/>
            <a:ext cx="1919520" cy="208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2"/>
          <p:cNvPicPr/>
          <p:nvPr/>
        </p:nvPicPr>
        <p:blipFill>
          <a:blip r:embed="rId3"/>
          <a:stretch/>
        </p:blipFill>
        <p:spPr>
          <a:xfrm>
            <a:off x="4643280" y="3573360"/>
            <a:ext cx="1978200" cy="2478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图片15"/>
          <p:cNvPicPr/>
          <p:nvPr/>
        </p:nvPicPr>
        <p:blipFill>
          <a:blip r:embed="rId4"/>
          <a:stretch/>
        </p:blipFill>
        <p:spPr>
          <a:xfrm>
            <a:off x="2484360" y="3573360"/>
            <a:ext cx="206856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图片4"/>
          <p:cNvPicPr/>
          <p:nvPr/>
        </p:nvPicPr>
        <p:blipFill>
          <a:blip r:embed="rId5"/>
          <a:stretch/>
        </p:blipFill>
        <p:spPr>
          <a:xfrm>
            <a:off x="684360" y="1125360"/>
            <a:ext cx="2057400" cy="1952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MG_0654"/>
          <p:cNvPicPr/>
          <p:nvPr/>
        </p:nvPicPr>
        <p:blipFill>
          <a:blip r:embed="rId6"/>
          <a:stretch/>
        </p:blipFill>
        <p:spPr>
          <a:xfrm>
            <a:off x="395280" y="3500280"/>
            <a:ext cx="1989000" cy="2438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IMG_0655"/>
          <p:cNvPicPr/>
          <p:nvPr/>
        </p:nvPicPr>
        <p:blipFill>
          <a:blip r:embed="rId7"/>
          <a:stretch/>
        </p:blipFill>
        <p:spPr>
          <a:xfrm>
            <a:off x="6804000" y="3573360"/>
            <a:ext cx="214164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32400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  <a:ea typeface="楷体_GB2312"/>
              </a:rPr>
              <a:t>我来给图画配音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195640" y="1341360"/>
            <a:ext cx="53290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Calibri"/>
                <a:ea typeface="楷体_GB2312"/>
              </a:rPr>
              <a:t>模仿秀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我们分别模仿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my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和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Grandma,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看哪个小组模仿的最像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3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8419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5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195640" y="1341360"/>
            <a:ext cx="53290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Calibri"/>
                <a:ea typeface="楷体_GB2312"/>
              </a:rPr>
              <a:t>模仿秀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我们分别模仿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my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和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Grandma,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看哪个小组模仿的最像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319400" y="4876920"/>
            <a:ext cx="64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: Did you … … yester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B: </a:t>
            </a:r>
            <a:r>
              <a:rPr b="1" i="1" lang="en-US" sz="4000" spc="-1" strike="noStrike">
                <a:solidFill>
                  <a:srgbClr val="1f497d"/>
                </a:solidFill>
                <a:latin typeface="Book Antiqua"/>
              </a:rPr>
              <a:t>Yes,I did./ No, I didn’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IMG_0653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395280" y="1557360"/>
            <a:ext cx="8458200" cy="3301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539640" y="33336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Homework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9"/>
          <p:cNvGrpSpPr/>
          <p:nvPr/>
        </p:nvGrpSpPr>
        <p:grpSpPr>
          <a:xfrm>
            <a:off x="3419640" y="609480"/>
            <a:ext cx="2209680" cy="3160800"/>
            <a:chOff x="3419640" y="609480"/>
            <a:chExt cx="2209680" cy="3160800"/>
          </a:xfrm>
        </p:grpSpPr>
        <p:pic>
          <p:nvPicPr>
            <p:cNvPr id="85" name="Picture 3" descr="IMG_0647"/>
            <p:cNvPicPr/>
            <p:nvPr/>
          </p:nvPicPr>
          <p:blipFill>
            <a:blip r:embed="rId1"/>
            <a:stretch/>
          </p:blipFill>
          <p:spPr>
            <a:xfrm>
              <a:off x="3419640" y="1484280"/>
              <a:ext cx="2209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5"/>
            <p:cNvSpPr/>
            <p:nvPr/>
          </p:nvSpPr>
          <p:spPr>
            <a:xfrm>
              <a:off x="3581280" y="6094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3600" spc="-1" strike="noStrike">
                  <a:solidFill>
                    <a:srgbClr val="1f497d"/>
                  </a:solidFill>
                  <a:latin typeface="Times New Roman"/>
                </a:rPr>
                <a:t>today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395280" y="620640"/>
            <a:ext cx="2521080" cy="3233520"/>
            <a:chOff x="395280" y="620640"/>
            <a:chExt cx="2521080" cy="3233520"/>
          </a:xfrm>
        </p:grpSpPr>
        <p:pic>
          <p:nvPicPr>
            <p:cNvPr id="88" name="Picture 2" descr="IMG_0645"/>
            <p:cNvPicPr/>
            <p:nvPr/>
          </p:nvPicPr>
          <p:blipFill>
            <a:blip r:embed="rId2"/>
            <a:stretch/>
          </p:blipFill>
          <p:spPr>
            <a:xfrm>
              <a:off x="611280" y="1644480"/>
              <a:ext cx="21333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395280" y="620640"/>
              <a:ext cx="25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4000" spc="-1" strike="noStrike">
                  <a:solidFill>
                    <a:srgbClr val="1f497d"/>
                  </a:solidFill>
                  <a:latin typeface="Times New Roman"/>
                </a:rPr>
                <a:t>yesterda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5724360" y="609480"/>
            <a:ext cx="2880000" cy="3157560"/>
            <a:chOff x="5724360" y="609480"/>
            <a:chExt cx="2880000" cy="3157560"/>
          </a:xfrm>
        </p:grpSpPr>
        <p:pic>
          <p:nvPicPr>
            <p:cNvPr id="91" name="Picture 4" descr="IMG_0648"/>
            <p:cNvPicPr/>
            <p:nvPr/>
          </p:nvPicPr>
          <p:blipFill>
            <a:blip r:embed="rId3"/>
            <a:stretch/>
          </p:blipFill>
          <p:spPr>
            <a:xfrm>
              <a:off x="6300720" y="1557360"/>
              <a:ext cx="2133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7"/>
            <p:cNvSpPr/>
            <p:nvPr/>
          </p:nvSpPr>
          <p:spPr>
            <a:xfrm>
              <a:off x="5724360" y="609480"/>
              <a:ext cx="288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4400" spc="-1" strike="noStrike">
                  <a:solidFill>
                    <a:srgbClr val="1f497d"/>
                  </a:solidFill>
                  <a:latin typeface="Times New Roman"/>
                </a:rPr>
                <a:t>tomorrow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 Box 8"/>
          <p:cNvSpPr/>
          <p:nvPr/>
        </p:nvSpPr>
        <p:spPr>
          <a:xfrm>
            <a:off x="755640" y="4653000"/>
            <a:ext cx="73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371600" y="1066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0880" y="426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re are five people in this dialogue. Who are they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990720" y="914400"/>
            <a:ext cx="7467480" cy="3248280"/>
            <a:chOff x="990720" y="914400"/>
            <a:chExt cx="7467480" cy="3248280"/>
          </a:xfrm>
        </p:grpSpPr>
        <p:sp>
          <p:nvSpPr>
            <p:cNvPr id="97" name="Text Box 3"/>
            <p:cNvSpPr/>
            <p:nvPr/>
          </p:nvSpPr>
          <p:spPr>
            <a:xfrm>
              <a:off x="1676520" y="35812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n Monday Amy phoned grandma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Picture 6" descr="图片4"/>
            <p:cNvPicPr/>
            <p:nvPr/>
          </p:nvPicPr>
          <p:blipFill>
            <a:blip r:embed="rId1"/>
            <a:stretch/>
          </p:blipFill>
          <p:spPr>
            <a:xfrm>
              <a:off x="990720" y="914400"/>
              <a:ext cx="7467480" cy="24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7"/>
          <p:cNvSpPr/>
          <p:nvPr/>
        </p:nvSpPr>
        <p:spPr>
          <a:xfrm>
            <a:off x="609480" y="152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Listen and 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watch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, Then find ou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  <p:seq>
              <p:cTn id="4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71600" y="1066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426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re are five people in this dialogue. Who are they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990720" y="914400"/>
            <a:ext cx="7467480" cy="3248280"/>
            <a:chOff x="990720" y="914400"/>
            <a:chExt cx="7467480" cy="3248280"/>
          </a:xfrm>
        </p:grpSpPr>
        <p:sp>
          <p:nvSpPr>
            <p:cNvPr id="105" name="Text Box 3"/>
            <p:cNvSpPr/>
            <p:nvPr/>
          </p:nvSpPr>
          <p:spPr>
            <a:xfrm>
              <a:off x="1676520" y="35812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n Monday Amy phoned grandma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5" descr="图片4"/>
            <p:cNvPicPr/>
            <p:nvPr/>
          </p:nvPicPr>
          <p:blipFill>
            <a:blip r:embed="rId1"/>
            <a:stretch/>
          </p:blipFill>
          <p:spPr>
            <a:xfrm>
              <a:off x="990720" y="914400"/>
              <a:ext cx="7467480" cy="24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6"/>
          <p:cNvSpPr/>
          <p:nvPr/>
        </p:nvSpPr>
        <p:spPr>
          <a:xfrm>
            <a:off x="609480" y="152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Listen and 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watch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, Then find ou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0880" y="56386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Times New Roman"/>
              </a:rPr>
              <a:t>Amy, Grandma, Sam, Dad and T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28600" y="762120"/>
            <a:ext cx="891540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atch and find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1f497d"/>
                </a:solidFill>
                <a:latin typeface="Times New Roman"/>
              </a:rPr>
              <a:t>what did Grandma do yesterday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7040" y="33336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o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at 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56320" y="26370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music 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9520" y="148428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o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i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30120" y="515772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l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ome friends 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8680" y="3789360"/>
            <a:ext cx="63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l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park  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96720" y="213372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es, I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97440" y="9810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, I di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97440" y="31417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, I di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41440" y="56610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es, I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9800" y="44370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es, I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219320" y="914400"/>
            <a:ext cx="6400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et’s c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Cook cook cook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d you cook meat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No, no, I di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Cook cook cook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d you cook fish  yester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yes, yes, I d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6:11Z</dcterms:created>
  <dc:creator>User</dc:creator>
  <dc:description/>
  <dc:language>en-US</dc:language>
  <cp:lastModifiedBy>User</cp:lastModifiedBy>
  <dcterms:modified xsi:type="dcterms:W3CDTF">2017-12-17T09:26:14Z</dcterms:modified>
  <cp:revision>1</cp:revision>
  <dc:subject/>
  <dc:title>幻灯片 1</dc:title>
</cp:coreProperties>
</file>