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DF04-668F-40E1-BCAF-B2E0AF8F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65EB-DA19-4160-A3E4-332E0199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B6C8-DF8D-49C0-AAA5-96DE7E1E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6B89-05C9-42BB-AF9E-519E7FCE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FB99-111F-4C49-9902-8B58C8F2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DB11-6834-45E0-A71A-EE66CDF3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E04D-7EF2-4D1F-BAFF-B79BA140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1EB9-5AD5-4036-B857-3BB6CBBD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982D-77DF-45D0-9112-689E1A1E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9A40-9C5E-4844-9A7E-89B9AAEE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B966-5CA0-4EF5-ADA8-7E189B6A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E6CD-FDB3-4BD3-B3A3-4BE526D5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9770-96AC-4C40-B94A-5991469E97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3.jpeg"/><Relationship Id="rId3" Type="http://schemas.openxmlformats.org/officeDocument/2006/relationships/hyperlink" Target="http://baike.baidu.com/view/51543.htm" TargetMode="External"/><Relationship Id="rId4" Type="http://schemas.openxmlformats.org/officeDocument/2006/relationships/hyperlink" Target="http://baike.baidu.com/view/26614.htm" TargetMode="External"/><Relationship Id="rId5" Type="http://schemas.openxmlformats.org/officeDocument/2006/relationships/hyperlink" Target="http://baike.baidu.com/view/132711.htm" TargetMode="External"/><Relationship Id="rId6" Type="http://schemas.openxmlformats.org/officeDocument/2006/relationships/hyperlink" Target="http://baike.baidu.com/view/5397.htm" TargetMode="External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01300000165488121467543517635"/>
          <p:cNvPicPr/>
          <p:nvPr/>
        </p:nvPicPr>
        <p:blipFill>
          <a:blip r:embed="rId1"/>
          <a:stretch/>
        </p:blipFill>
        <p:spPr>
          <a:xfrm>
            <a:off x="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副标题 2"/>
          <p:cNvSpPr/>
          <p:nvPr/>
        </p:nvSpPr>
        <p:spPr>
          <a:xfrm>
            <a:off x="3200400" y="1295280"/>
            <a:ext cx="6400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Calibri"/>
              </a:rPr>
              <a:t>Unit 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4400" spc="-1" strike="noStrike">
                <a:solidFill>
                  <a:srgbClr val="c0504d"/>
                </a:solidFill>
                <a:latin typeface="Calibri"/>
                <a:ea typeface="MS Gothic"/>
              </a:rPr>
              <a:t>It’s very old</a:t>
            </a:r>
            <a:r>
              <a:rPr b="1" lang="zh-CN" sz="4400" spc="-1" strike="noStrike">
                <a:solidFill>
                  <a:srgbClr val="c0504d"/>
                </a:solidFill>
                <a:latin typeface="Calibri"/>
                <a:ea typeface="MS Gothic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3581280" y="45720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Calibri"/>
              </a:rPr>
              <a:t>Module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2098901_164706541629_2"/>
          <p:cNvPicPr/>
          <p:nvPr/>
        </p:nvPicPr>
        <p:blipFill>
          <a:blip r:embed="rId2"/>
          <a:stretch/>
        </p:blipFill>
        <p:spPr>
          <a:xfrm>
            <a:off x="0" y="-106200"/>
            <a:ext cx="3581280" cy="35352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3692520" y="0"/>
            <a:ext cx="5375160" cy="2989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6600ff"/>
                </a:solidFill>
                <a:latin typeface="宋体"/>
              </a:rPr>
              <a:t>塔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从英国伦敦泰晤士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河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算起的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第一座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桥（泰晤士河上共建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座），也是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伦敦的象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有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伦敦正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之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远处观望塔桥，双塔高耸，极为壮观。两座尖塔连着一座可以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开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大桥，桥身能从中间断开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升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打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“八”字形，以方便高大的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船只通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桥塔内部设有楼梯上下，还有博物馆、展览厅、商店、酒吧等。登塔远眺，可尽情欣赏泰晤士河上下游方圆十里的风光和美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桥"/>
          <p:cNvPicPr/>
          <p:nvPr/>
        </p:nvPicPr>
        <p:blipFill>
          <a:blip r:embed="rId3"/>
          <a:stretch/>
        </p:blipFill>
        <p:spPr>
          <a:xfrm>
            <a:off x="0" y="3429000"/>
            <a:ext cx="3581280" cy="3200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0" y="-76320"/>
            <a:ext cx="358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ower Bridge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塔 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01300000165488121467543517635"/>
          <p:cNvPicPr/>
          <p:nvPr/>
        </p:nvPicPr>
        <p:blipFill>
          <a:blip r:embed="rId1"/>
          <a:stretch/>
        </p:blipFill>
        <p:spPr>
          <a:xfrm>
            <a:off x="0" y="1676520"/>
            <a:ext cx="4038480" cy="4473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2"/>
          <p:cNvSpPr/>
          <p:nvPr/>
        </p:nvSpPr>
        <p:spPr>
          <a:xfrm>
            <a:off x="304920" y="228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ere’s the bird’s home?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小鸟的家在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1371600" y="1219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’s 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old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685800" cy="498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2"/>
          <p:cNvSpPr/>
          <p:nvPr/>
        </p:nvSpPr>
        <p:spPr>
          <a:xfrm>
            <a:off x="1143000" y="8380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s is my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1" descr="5938228_145659192114_2.jpg"/>
          <p:cNvPicPr/>
          <p:nvPr/>
        </p:nvPicPr>
        <p:blipFill>
          <a:blip r:embed="rId3"/>
          <a:stretch/>
        </p:blipFill>
        <p:spPr>
          <a:xfrm>
            <a:off x="4154400" y="2362320"/>
            <a:ext cx="4989600" cy="3328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2"/>
          <p:cNvSpPr/>
          <p:nvPr/>
        </p:nvSpPr>
        <p:spPr>
          <a:xfrm>
            <a:off x="4952880" y="8380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s is my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5029200" y="1295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’s very 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famous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4"/>
          <a:stretch/>
        </p:blipFill>
        <p:spPr>
          <a:xfrm>
            <a:off x="8077320" y="914400"/>
            <a:ext cx="838080" cy="5954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3"/>
          <p:cNvSpPr/>
          <p:nvPr/>
        </p:nvSpPr>
        <p:spPr>
          <a:xfrm>
            <a:off x="4800600" y="3276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Bird's N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2.31214E-007 L 0.0875 0.19676 E">
                                      <p:cBhvr>
                                        <p:cTn id="442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5434E-006 L -0.1875 0.28856 E">
                                      <p:cBhvr>
                                        <p:cTn id="456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4" descr="鸟巢立方体"/>
          <p:cNvPicPr/>
          <p:nvPr/>
        </p:nvPicPr>
        <p:blipFill>
          <a:blip r:embed="rId1"/>
          <a:stretch/>
        </p:blipFill>
        <p:spPr>
          <a:xfrm>
            <a:off x="34920" y="44280"/>
            <a:ext cx="9144000" cy="66978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1469520" y="44280"/>
            <a:ext cx="627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鸟巢（国家体育场）：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Bird's Nest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224000" y="2708280"/>
            <a:ext cx="657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水立方（国家游泳中心）：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Water Cub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066680" y="380880"/>
            <a:ext cx="770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239840" y="266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879480" y="409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-90360" y="-93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0" y="2133720"/>
            <a:ext cx="3505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River Thames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泰晤士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0" y="3276720"/>
            <a:ext cx="3429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London Bridge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伦敦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0" y="1600200"/>
            <a:ext cx="3809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Buckingham Palace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白金汉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0" y="4419720"/>
            <a:ext cx="3352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Big Ben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大本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0" y="3886200"/>
            <a:ext cx="3352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London Eye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伦敦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0" y="2743200"/>
            <a:ext cx="3352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ower Bridge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塔 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0" y="4952880"/>
            <a:ext cx="3276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Hyde Park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海德公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4952880" y="4022640"/>
            <a:ext cx="3886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Gantang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Park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甘棠公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4952880" y="3413160"/>
            <a:ext cx="3886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Qixing Park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七星公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5029200" y="4632480"/>
            <a:ext cx="3733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Xishan Park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西山公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4876920" y="1600200"/>
            <a:ext cx="3809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Jiefang Bridge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解放 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4724280" y="2819520"/>
            <a:ext cx="4114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Wind and Rain Bridge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风雨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4876920" y="2209680"/>
            <a:ext cx="3886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Gantang Bridge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甘棠 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228600" y="868320"/>
            <a:ext cx="8915400" cy="5814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使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This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i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…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. It’s very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..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句型来描述景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1523880" y="-304920"/>
            <a:ext cx="403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2876760" y="5562720"/>
            <a:ext cx="76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Calibri"/>
              </a:rPr>
              <a:t>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318400" y="621648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Calibri"/>
              </a:rPr>
              <a:t>l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815440" y="6216480"/>
            <a:ext cx="18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Calibri"/>
              </a:rPr>
              <a:t>beauti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5328000" y="556272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Calibri"/>
              </a:rPr>
              <a:t>b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417360" y="5562720"/>
            <a:ext cx="11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Calibri"/>
              </a:rPr>
              <a:t>sm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030560" y="5562720"/>
            <a:ext cx="9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Calibri"/>
              </a:rPr>
              <a:t>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3792240" y="6216480"/>
            <a:ext cx="15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Calibri"/>
              </a:rPr>
              <a:t>fam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831320" y="5562720"/>
            <a:ext cx="7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Calibri"/>
              </a:rPr>
              <a:t>t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489960" y="5410080"/>
            <a:ext cx="110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dj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657240" y="159984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ask: I’m a little guide .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任务：我是一名小导游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4" descr="daoyou"/>
          <p:cNvPicPr/>
          <p:nvPr/>
        </p:nvPicPr>
        <p:blipFill>
          <a:blip r:embed="rId1"/>
          <a:stretch/>
        </p:blipFill>
        <p:spPr>
          <a:xfrm>
            <a:off x="0" y="0"/>
            <a:ext cx="3124080" cy="22096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57200" y="2895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使用“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This is…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It is…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句型，向家人朋友介绍所学的景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4038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准备三个以上自己熟知的其他景点，在下节课上作小导游的交流和展示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你可以用上自己所准备的照片或图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124080" y="2286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315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WordArt 3"/>
          <p:cNvSpPr txBox="1"/>
          <p:nvPr/>
        </p:nvSpPr>
        <p:spPr>
          <a:xfrm>
            <a:off x="1116000" y="1125360"/>
            <a:ext cx="6408720" cy="319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4000">
                  <a:solidFill>
                    <a:srgbClr val="9966ff"/>
                  </a:solidFill>
                  <a:miter/>
                </a:ln>
                <a:solidFill>
                  <a:srgbClr val="9966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Thank you !</a:t>
            </a:r>
            <a:endParaRPr b="0" lang="en-US" sz="1800" spc="1" strike="noStrike">
              <a:ln w="54000">
                <a:solidFill>
                  <a:srgbClr val="9966ff"/>
                </a:solidFill>
                <a:miter/>
              </a:ln>
              <a:solidFill>
                <a:srgbClr val="9966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0" descr="重点1"/>
          <p:cNvPicPr/>
          <p:nvPr/>
        </p:nvPicPr>
        <p:blipFill>
          <a:blip r:embed="rId1"/>
          <a:stretch/>
        </p:blipFill>
        <p:spPr>
          <a:xfrm>
            <a:off x="2771640" y="0"/>
            <a:ext cx="3810240" cy="1555920"/>
          </a:xfrm>
          <a:prstGeom prst="rect">
            <a:avLst/>
          </a:prstGeom>
          <a:ln w="0">
            <a:noFill/>
          </a:ln>
        </p:spPr>
      </p:pic>
      <p:sp>
        <p:nvSpPr>
          <p:cNvPr id="45" name="WordArt 21"/>
          <p:cNvSpPr txBox="1"/>
          <p:nvPr/>
        </p:nvSpPr>
        <p:spPr>
          <a:xfrm>
            <a:off x="3505320" y="228600"/>
            <a:ext cx="1828800" cy="102888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宋体"/>
              </a:rPr>
              <a:t>火眼金睛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636120" y="2514600"/>
            <a:ext cx="1758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60093"/>
                </a:solidFill>
                <a:latin typeface="Calibri"/>
              </a:rPr>
              <a:t>clo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6176520" y="3962520"/>
            <a:ext cx="214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60093"/>
                </a:solidFill>
                <a:latin typeface="Calibri"/>
              </a:rPr>
              <a:t>que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737280" y="3962520"/>
            <a:ext cx="296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60093"/>
                </a:solidFill>
                <a:latin typeface="Calibri"/>
              </a:rPr>
              <a:t>beautifu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6498360" y="2666880"/>
            <a:ext cx="115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60093"/>
                </a:solidFill>
                <a:latin typeface="Calibri"/>
              </a:rPr>
              <a:t>o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759120" y="2819520"/>
            <a:ext cx="127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60093"/>
                </a:solidFill>
                <a:latin typeface="Calibri"/>
              </a:rPr>
              <a:t>c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296880" y="5105520"/>
            <a:ext cx="248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60093"/>
                </a:solidFill>
                <a:latin typeface="Calibri"/>
              </a:rPr>
              <a:t>famo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981080" y="152388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60093"/>
                </a:solidFill>
                <a:latin typeface="Calibri"/>
              </a:rPr>
              <a:t>who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625720" y="1676520"/>
            <a:ext cx="145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60093"/>
                </a:solidFill>
                <a:latin typeface="Calibri"/>
              </a:rPr>
              <a:t>sh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360截图20120222133521100"/>
          <p:cNvPicPr/>
          <p:nvPr/>
        </p:nvPicPr>
        <p:blipFill>
          <a:blip r:embed="rId1"/>
          <a:stretch/>
        </p:blipFill>
        <p:spPr>
          <a:xfrm>
            <a:off x="0" y="0"/>
            <a:ext cx="2514600" cy="2971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360截图20120222133557872"/>
          <p:cNvPicPr/>
          <p:nvPr/>
        </p:nvPicPr>
        <p:blipFill>
          <a:blip r:embed="rId2"/>
          <a:stretch/>
        </p:blipFill>
        <p:spPr>
          <a:xfrm>
            <a:off x="6400800" y="3352680"/>
            <a:ext cx="2743200" cy="3505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uk_map_fade"/>
          <p:cNvPicPr/>
          <p:nvPr/>
        </p:nvPicPr>
        <p:blipFill>
          <a:blip r:embed="rId3"/>
          <a:stretch/>
        </p:blipFill>
        <p:spPr>
          <a:xfrm>
            <a:off x="0" y="3352680"/>
            <a:ext cx="2668680" cy="3505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0ab36d20cb4cdc6fd5074226"/>
          <p:cNvPicPr/>
          <p:nvPr/>
        </p:nvPicPr>
        <p:blipFill>
          <a:blip r:embed="rId4"/>
          <a:stretch/>
        </p:blipFill>
        <p:spPr>
          <a:xfrm>
            <a:off x="2590920" y="3352680"/>
            <a:ext cx="3784320" cy="35053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609480" y="5867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2209680" y="1295280"/>
            <a:ext cx="701064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:This i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a book about London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209680" y="1965240"/>
            <a:ext cx="647712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:It’s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very nice</a:t>
            </a: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12"/>
          <p:cNvSpPr txBox="1"/>
          <p:nvPr/>
        </p:nvSpPr>
        <p:spPr>
          <a:xfrm>
            <a:off x="2666880" y="-76320"/>
            <a:ext cx="2667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Let's  review :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2133720" y="1295280"/>
            <a:ext cx="70102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:This i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London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2133720" y="1981080"/>
            <a:ext cx="647676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:It’s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a big city </a:t>
            </a: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2133720" y="1295280"/>
            <a:ext cx="70102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:This i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Buckigham Palac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523880" y="1981080"/>
            <a:ext cx="762012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:It’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mall. But it’s very beautiful too </a:t>
            </a: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.</a:t>
            </a: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2133720" y="1295280"/>
            <a:ext cx="70102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:This i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Amy’s hous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1600200" y="1981080"/>
            <a:ext cx="762012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:It’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ery big and very beautiful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.</a:t>
            </a: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342900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Calibri"/>
              </a:rPr>
              <a:t>Where is Amy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066680" y="380880"/>
            <a:ext cx="770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239840" y="266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879480" y="409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-90360" y="-93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t01ffc5d0dab74304cb"/>
          <p:cNvPicPr/>
          <p:nvPr/>
        </p:nvPicPr>
        <p:blipFill>
          <a:blip r:embed="rId1"/>
          <a:stretch/>
        </p:blipFill>
        <p:spPr>
          <a:xfrm>
            <a:off x="6095880" y="1828800"/>
            <a:ext cx="304812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Redocn_2013051416335368"/>
          <p:cNvPicPr/>
          <p:nvPr/>
        </p:nvPicPr>
        <p:blipFill>
          <a:blip r:embed="rId2"/>
          <a:stretch/>
        </p:blipFill>
        <p:spPr>
          <a:xfrm>
            <a:off x="0" y="1981080"/>
            <a:ext cx="3276720" cy="2130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QQ图片20160312173644"/>
          <p:cNvPicPr/>
          <p:nvPr/>
        </p:nvPicPr>
        <p:blipFill>
          <a:blip r:embed="rId3"/>
          <a:stretch/>
        </p:blipFill>
        <p:spPr>
          <a:xfrm>
            <a:off x="4114800" y="4572000"/>
            <a:ext cx="5029200" cy="2057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5"/>
          <p:cNvSpPr/>
          <p:nvPr/>
        </p:nvSpPr>
        <p:spPr>
          <a:xfrm>
            <a:off x="0" y="3809880"/>
            <a:ext cx="3505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River Thames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泰晤士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4724280" y="6324480"/>
            <a:ext cx="2667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London Bridge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伦敦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1952cGui7753SGvY"/>
          <p:cNvPicPr/>
          <p:nvPr/>
        </p:nvPicPr>
        <p:blipFill>
          <a:blip r:embed="rId4"/>
          <a:stretch/>
        </p:blipFill>
        <p:spPr>
          <a:xfrm>
            <a:off x="5791320" y="0"/>
            <a:ext cx="3504960" cy="1938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01300000165488121467543517635"/>
          <p:cNvPicPr/>
          <p:nvPr/>
        </p:nvPicPr>
        <p:blipFill>
          <a:blip r:embed="rId5"/>
          <a:stretch/>
        </p:blipFill>
        <p:spPr>
          <a:xfrm>
            <a:off x="3429000" y="76320"/>
            <a:ext cx="2209680" cy="4114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3" descr="0ab36d20cb4cdc6fd5074226"/>
          <p:cNvPicPr/>
          <p:nvPr/>
        </p:nvPicPr>
        <p:blipFill>
          <a:blip r:embed="rId6"/>
          <a:stretch/>
        </p:blipFill>
        <p:spPr>
          <a:xfrm>
            <a:off x="0" y="0"/>
            <a:ext cx="3276720" cy="19162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5"/>
          <p:cNvSpPr/>
          <p:nvPr/>
        </p:nvSpPr>
        <p:spPr>
          <a:xfrm>
            <a:off x="0" y="1600200"/>
            <a:ext cx="335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uckingham Palace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白金汉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6"/>
          <p:cNvSpPr/>
          <p:nvPr/>
        </p:nvSpPr>
        <p:spPr>
          <a:xfrm>
            <a:off x="3581280" y="3809880"/>
            <a:ext cx="190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ig Ben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大本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7" descr="QQ图片20160312173612"/>
          <p:cNvPicPr/>
          <p:nvPr/>
        </p:nvPicPr>
        <p:blipFill>
          <a:blip r:embed="rId7"/>
          <a:stretch/>
        </p:blipFill>
        <p:spPr>
          <a:xfrm>
            <a:off x="0" y="4314960"/>
            <a:ext cx="3962520" cy="25430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8"/>
          <p:cNvSpPr/>
          <p:nvPr/>
        </p:nvSpPr>
        <p:spPr>
          <a:xfrm>
            <a:off x="6324480" y="4114800"/>
            <a:ext cx="2362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London Eye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伦敦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9"/>
          <p:cNvSpPr/>
          <p:nvPr/>
        </p:nvSpPr>
        <p:spPr>
          <a:xfrm>
            <a:off x="685800" y="6477120"/>
            <a:ext cx="228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ower Bridge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塔 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0"/>
          <p:cNvSpPr/>
          <p:nvPr/>
        </p:nvSpPr>
        <p:spPr>
          <a:xfrm>
            <a:off x="6172200" y="1523880"/>
            <a:ext cx="2362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Hyde Park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海德公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额鹅鹅鹅"/>
          <p:cNvPicPr/>
          <p:nvPr/>
        </p:nvPicPr>
        <p:blipFill>
          <a:blip r:embed="rId1"/>
          <a:stretch/>
        </p:blipFill>
        <p:spPr>
          <a:xfrm>
            <a:off x="0" y="2514600"/>
            <a:ext cx="3657600" cy="4343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钟 高"/>
          <p:cNvPicPr/>
          <p:nvPr/>
        </p:nvPicPr>
        <p:blipFill>
          <a:blip r:embed="rId2"/>
          <a:stretch/>
        </p:blipFill>
        <p:spPr>
          <a:xfrm>
            <a:off x="6629400" y="0"/>
            <a:ext cx="24382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2103480" y="6984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This is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Big Ben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大本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76320" y="83808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It’s very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old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古老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76320" y="160020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it’s very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a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5032903_220214152000_2"/>
          <p:cNvPicPr/>
          <p:nvPr/>
        </p:nvPicPr>
        <p:blipFill>
          <a:blip r:embed="rId3"/>
          <a:stretch/>
        </p:blipFill>
        <p:spPr>
          <a:xfrm>
            <a:off x="3657600" y="2514600"/>
            <a:ext cx="2951280" cy="4343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QQ图片20160312152400"/>
          <p:cNvPicPr/>
          <p:nvPr/>
        </p:nvPicPr>
        <p:blipFill>
          <a:blip r:embed="rId4"/>
          <a:stretch/>
        </p:blipFill>
        <p:spPr>
          <a:xfrm>
            <a:off x="6400800" y="0"/>
            <a:ext cx="2743200" cy="3505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QQ图片20160312152351"/>
          <p:cNvPicPr/>
          <p:nvPr/>
        </p:nvPicPr>
        <p:blipFill>
          <a:blip r:embed="rId5"/>
          <a:stretch/>
        </p:blipFill>
        <p:spPr>
          <a:xfrm>
            <a:off x="3733920" y="3505320"/>
            <a:ext cx="5410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公园"/>
          <p:cNvPicPr/>
          <p:nvPr/>
        </p:nvPicPr>
        <p:blipFill>
          <a:blip r:embed="rId1"/>
          <a:stretch/>
        </p:blipFill>
        <p:spPr>
          <a:xfrm>
            <a:off x="0" y="1828800"/>
            <a:ext cx="4343400" cy="2514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304920" y="4572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Ａ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is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is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Hyde Park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海德公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28600" y="99072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Ｂ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It’s very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beautiful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漂亮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20120716105229_z8xFH"/>
          <p:cNvPicPr/>
          <p:nvPr/>
        </p:nvPicPr>
        <p:blipFill>
          <a:blip r:embed="rId2"/>
          <a:stretch/>
        </p:blipFill>
        <p:spPr>
          <a:xfrm>
            <a:off x="4419720" y="4419720"/>
            <a:ext cx="4572000" cy="2438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1328768756_48628"/>
          <p:cNvPicPr/>
          <p:nvPr/>
        </p:nvPicPr>
        <p:blipFill>
          <a:blip r:embed="rId3"/>
          <a:stretch/>
        </p:blipFill>
        <p:spPr>
          <a:xfrm>
            <a:off x="4343400" y="1828800"/>
            <a:ext cx="4800600" cy="2571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hyde-park"/>
          <p:cNvPicPr/>
          <p:nvPr/>
        </p:nvPicPr>
        <p:blipFill>
          <a:blip r:embed="rId4"/>
          <a:stretch/>
        </p:blipFill>
        <p:spPr>
          <a:xfrm>
            <a:off x="0" y="4344840"/>
            <a:ext cx="4343400" cy="2436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QQ图片20160312151917"/>
          <p:cNvPicPr/>
          <p:nvPr/>
        </p:nvPicPr>
        <p:blipFill>
          <a:blip r:embed="rId5"/>
          <a:stretch/>
        </p:blipFill>
        <p:spPr>
          <a:xfrm>
            <a:off x="0" y="4343400"/>
            <a:ext cx="4343400" cy="2514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QQ图片20160312152411"/>
          <p:cNvPicPr/>
          <p:nvPr/>
        </p:nvPicPr>
        <p:blipFill>
          <a:blip r:embed="rId6"/>
          <a:stretch/>
        </p:blipFill>
        <p:spPr>
          <a:xfrm>
            <a:off x="4419720" y="4376880"/>
            <a:ext cx="4724280" cy="248112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19"/>
          <p:cNvGrpSpPr/>
          <p:nvPr/>
        </p:nvGrpSpPr>
        <p:grpSpPr>
          <a:xfrm>
            <a:off x="4343400" y="1828800"/>
            <a:ext cx="4800600" cy="2514240"/>
            <a:chOff x="4343400" y="1828800"/>
            <a:chExt cx="4800600" cy="2514240"/>
          </a:xfrm>
        </p:grpSpPr>
        <p:pic>
          <p:nvPicPr>
            <p:cNvPr id="105" name="Picture 16" descr="QQ图片20160312152342"/>
            <p:cNvPicPr/>
            <p:nvPr/>
          </p:nvPicPr>
          <p:blipFill>
            <a:blip r:embed="rId7"/>
            <a:stretch/>
          </p:blipFill>
          <p:spPr>
            <a:xfrm>
              <a:off x="4343400" y="1828800"/>
              <a:ext cx="4800600" cy="25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8"/>
            <p:cNvSpPr/>
            <p:nvPr/>
          </p:nvSpPr>
          <p:spPr>
            <a:xfrm>
              <a:off x="6858000" y="336276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Bookshelf Symbol 7"/>
                  <a:ea typeface="Bookshelf Symbol 7"/>
                </a:rPr>
                <a:t>甘棠公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20"/>
          <p:cNvSpPr/>
          <p:nvPr/>
        </p:nvSpPr>
        <p:spPr>
          <a:xfrm>
            <a:off x="3352680" y="3900600"/>
            <a:ext cx="2362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Hyde Park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海德公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609480" y="6400800"/>
            <a:ext cx="2819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Qixing Park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七星公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5029200" y="6400800"/>
            <a:ext cx="2819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Xishan Park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西山公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5257800" y="3886200"/>
            <a:ext cx="2819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Gantang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Park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甘棠公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1752480" y="0"/>
            <a:ext cx="3810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仿照例句，看图说话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06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伦敦塔桥"/>
          <p:cNvPicPr/>
          <p:nvPr/>
        </p:nvPicPr>
        <p:blipFill>
          <a:blip r:embed="rId1"/>
          <a:stretch/>
        </p:blipFill>
        <p:spPr>
          <a:xfrm>
            <a:off x="4343400" y="3048120"/>
            <a:ext cx="4800600" cy="33526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468360" y="260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: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This is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Tower Bridge.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塔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990720" y="68580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It’s very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famous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著名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57200" y="14479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:And it’s very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beautiful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, too.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美丽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0" y="3048120"/>
            <a:ext cx="4262400" cy="3429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2819520" y="3962520"/>
            <a:ext cx="2590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ower Bridge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塔 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QQ图片20160312151854"/>
          <p:cNvPicPr/>
          <p:nvPr/>
        </p:nvPicPr>
        <p:blipFill>
          <a:blip r:embed="rId3"/>
          <a:stretch/>
        </p:blipFill>
        <p:spPr>
          <a:xfrm>
            <a:off x="0" y="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QQ图片20160312151845"/>
          <p:cNvPicPr/>
          <p:nvPr/>
        </p:nvPicPr>
        <p:blipFill>
          <a:blip r:embed="rId4"/>
          <a:stretch/>
        </p:blipFill>
        <p:spPr>
          <a:xfrm>
            <a:off x="4191120" y="0"/>
            <a:ext cx="4952880" cy="27432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1"/>
          <p:cNvSpPr/>
          <p:nvPr/>
        </p:nvSpPr>
        <p:spPr>
          <a:xfrm>
            <a:off x="2666880" y="2057400"/>
            <a:ext cx="3124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Jiefang Bridge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解放 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5"/>
          <p:cNvGrpSpPr/>
          <p:nvPr/>
        </p:nvGrpSpPr>
        <p:grpSpPr>
          <a:xfrm>
            <a:off x="0" y="3048120"/>
            <a:ext cx="4267080" cy="3429000"/>
            <a:chOff x="0" y="3048120"/>
            <a:chExt cx="4267080" cy="3429000"/>
          </a:xfrm>
        </p:grpSpPr>
        <p:pic>
          <p:nvPicPr>
            <p:cNvPr id="122" name="Picture 12" descr="QQ图片20160312152332"/>
            <p:cNvPicPr/>
            <p:nvPr/>
          </p:nvPicPr>
          <p:blipFill>
            <a:blip r:embed="rId5"/>
            <a:stretch/>
          </p:blipFill>
          <p:spPr>
            <a:xfrm>
              <a:off x="0" y="3048120"/>
              <a:ext cx="426708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4"/>
            <p:cNvSpPr/>
            <p:nvPr/>
          </p:nvSpPr>
          <p:spPr>
            <a:xfrm>
              <a:off x="2204640" y="3954960"/>
              <a:ext cx="78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Calibri"/>
                </a:rPr>
                <a:t>灵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16"/>
          <p:cNvSpPr/>
          <p:nvPr/>
        </p:nvSpPr>
        <p:spPr>
          <a:xfrm>
            <a:off x="609480" y="6095880"/>
            <a:ext cx="3124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Gantang Bridge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甘棠 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7" descr="QQ图片20160312152320"/>
          <p:cNvPicPr/>
          <p:nvPr/>
        </p:nvPicPr>
        <p:blipFill>
          <a:blip r:embed="rId6"/>
          <a:stretch/>
        </p:blipFill>
        <p:spPr>
          <a:xfrm>
            <a:off x="4343400" y="3048120"/>
            <a:ext cx="4800600" cy="3429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8"/>
          <p:cNvSpPr/>
          <p:nvPr/>
        </p:nvSpPr>
        <p:spPr>
          <a:xfrm>
            <a:off x="4800600" y="6080040"/>
            <a:ext cx="4114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Wind and Rain Bridge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风雨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01000000000000119092873115756"/>
          <p:cNvPicPr/>
          <p:nvPr/>
        </p:nvPicPr>
        <p:blipFill>
          <a:blip r:embed="rId2"/>
          <a:stretch/>
        </p:blipFill>
        <p:spPr>
          <a:xfrm>
            <a:off x="0" y="533520"/>
            <a:ext cx="4114800" cy="63244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0" y="0"/>
            <a:ext cx="41911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Big Ben</a:t>
            </a: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大本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313160" y="320760"/>
            <a:ext cx="4602240" cy="3030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作为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伦敦市的标志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及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英国的象征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大本钟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巨大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华丽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3.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吨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个钟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面积有两平方米左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大本钟为伦敦城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报时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根据格林尼治时间每隔一小时敲响一次，至今已经超过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个半世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尽管这期间大本钟曾两度裂开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重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但现在大本钟的钟声仍然清晰、动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自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5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投入使用后，英国政府每隔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五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就要对大本钟实施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维护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包括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清洗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钟体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替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大本钟的报时轮系和运转轮系等。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3480" y="-23760"/>
            <a:ext cx="9141120" cy="6854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W020100211546680783968"/>
          <p:cNvPicPr/>
          <p:nvPr/>
        </p:nvPicPr>
        <p:blipFill>
          <a:blip r:embed="rId2"/>
          <a:stretch/>
        </p:blipFill>
        <p:spPr>
          <a:xfrm>
            <a:off x="0" y="152280"/>
            <a:ext cx="3809880" cy="4032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4419720" y="162000"/>
            <a:ext cx="4724280" cy="4258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25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海德公园是英国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最大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的皇家公园。位于伦敦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市中心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的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威斯敏斯特教堂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地区，占地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160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万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平方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25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海德公园历史悠久，历史文化氛围非常浓厚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世纪前这里是英王的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狩鹿场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。后来又用作英国皇家的</a:t>
            </a:r>
            <a:r>
              <a:rPr b="1" lang="zh-CN" sz="2000" spc="-1" strike="noStrike">
                <a:solidFill>
                  <a:srgbClr val="ff3300"/>
                </a:solidFill>
                <a:latin typeface="Calibri"/>
              </a:rPr>
              <a:t>赛车场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1" lang="zh-CN" sz="2000" spc="-1" strike="noStrike">
                <a:solidFill>
                  <a:srgbClr val="ff3300"/>
                </a:solidFill>
                <a:latin typeface="Calibri"/>
              </a:rPr>
              <a:t>赛马场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。后来，英王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亨利八世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将之用作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王室的公园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25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查理一世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执政期间，海德公园曾向公众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开放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85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年，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维多利亚女王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首次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在这里举办伦敦国际博览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25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这里现在也是人们举行各种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政治集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和其他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群众活动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的场所，有著名的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“演讲者之角”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Speakers’ Corner)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的著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4800837202778717705"/>
          <p:cNvPicPr/>
          <p:nvPr/>
        </p:nvPicPr>
        <p:blipFill>
          <a:blip r:embed="rId7"/>
          <a:stretch/>
        </p:blipFill>
        <p:spPr>
          <a:xfrm>
            <a:off x="0" y="0"/>
            <a:ext cx="3809880" cy="4343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6598138491960460267"/>
          <p:cNvPicPr/>
          <p:nvPr/>
        </p:nvPicPr>
        <p:blipFill>
          <a:blip r:embed="rId8"/>
          <a:stretch/>
        </p:blipFill>
        <p:spPr>
          <a:xfrm>
            <a:off x="0" y="4267080"/>
            <a:ext cx="4343400" cy="25909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152280" y="3886200"/>
            <a:ext cx="327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yde Park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海德公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7T09:26:02Z</dcterms:created>
  <dc:creator>User</dc:creator>
  <dc:description/>
  <dc:language>en-US</dc:language>
  <cp:lastModifiedBy>BMT-6</cp:lastModifiedBy>
  <dcterms:modified xsi:type="dcterms:W3CDTF">2018-01-08T05:40:54Z</dcterms:modified>
  <cp:revision>1</cp:revision>
  <dc:subject/>
  <dc:title>幻灯片 1</dc:title>
</cp:coreProperties>
</file>