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8.jpeg" ContentType="image/jpeg"/>
  <Override PartName="/ppt/media/image16.jpeg" ContentType="image/jpeg"/>
  <Override PartName="/ppt/media/chimes.wav" ContentType="audio/x-wav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CFEB-DAAC-485D-A7EC-DC52C1D49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E7D8-3F2B-4BF8-A8DF-9DC92BF3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D6C6-0E17-42D0-BD0B-9F6953261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FAE9-E923-40AD-A514-8AD1FB14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1FF1-C9A4-4FE9-B023-32FDEA5E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3DA0-475A-447E-AD8C-6A78CC93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0103-0651-4F0A-B10F-9F6EECA8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45A9-15D0-458C-B514-85BA7A65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D818-860C-4E25-B7BB-390D8F30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80D6-F24A-4E9D-AC81-71CFC3CF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44C2-E4CC-4EA4-81C4-E8BFC362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E6FC-6EF0-4C5F-A618-8B696A62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6769-A0AE-4317-8BE6-097448F278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0093"/>
                </a:solidFill>
                <a:latin typeface="Arial"/>
                <a:ea typeface="黑体"/>
              </a:rPr>
              <a:t>Module </a:t>
            </a:r>
            <a:r>
              <a:rPr b="0" lang="zh-CN" sz="5400" spc="-1" strike="noStrike">
                <a:solidFill>
                  <a:srgbClr val="d60093"/>
                </a:solidFill>
                <a:latin typeface="Arial"/>
                <a:ea typeface="黑体"/>
              </a:rPr>
              <a:t>1</a:t>
            </a:r>
            <a:r>
              <a:rPr b="0" lang="en-US" sz="5400" spc="-1" strike="noStrike">
                <a:solidFill>
                  <a:srgbClr val="d60093"/>
                </a:solidFill>
                <a:latin typeface="Arial"/>
                <a:ea typeface="黑体"/>
              </a:rPr>
              <a:t> Unit2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d60093"/>
                </a:solidFill>
                <a:latin typeface="Arial"/>
                <a:ea typeface="黑体"/>
              </a:rPr>
              <a:t>He's coo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130227A252_旋转"/>
          <p:cNvPicPr/>
          <p:nvPr/>
        </p:nvPicPr>
        <p:blipFill>
          <a:blip r:embed="rId1"/>
          <a:stretch/>
        </p:blipFill>
        <p:spPr>
          <a:xfrm>
            <a:off x="0" y="2133720"/>
            <a:ext cx="2079720" cy="2773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130227A250_旋转"/>
          <p:cNvPicPr/>
          <p:nvPr/>
        </p:nvPicPr>
        <p:blipFill>
          <a:blip r:embed="rId2"/>
          <a:stretch/>
        </p:blipFill>
        <p:spPr>
          <a:xfrm>
            <a:off x="6934320" y="1143000"/>
            <a:ext cx="2209680" cy="2946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130227A253_旋转"/>
          <p:cNvPicPr/>
          <p:nvPr/>
        </p:nvPicPr>
        <p:blipFill>
          <a:blip r:embed="rId3"/>
          <a:stretch/>
        </p:blipFill>
        <p:spPr>
          <a:xfrm>
            <a:off x="0" y="3962520"/>
            <a:ext cx="2209680" cy="294624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4"/>
          <p:cNvSpPr/>
          <p:nvPr/>
        </p:nvSpPr>
        <p:spPr>
          <a:xfrm>
            <a:off x="3962520" y="-147600"/>
            <a:ext cx="3733560" cy="1671480"/>
          </a:xfrm>
          <a:prstGeom prst="wedgeEllipseCallout">
            <a:avLst>
              <a:gd name="adj1" fmla="val 24634"/>
              <a:gd name="adj2" fmla="val 98032"/>
            </a:avLst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This i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little sister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76320" y="76320"/>
            <a:ext cx="3657600" cy="1904760"/>
          </a:xfrm>
          <a:prstGeom prst="wedgeEllipseCallout">
            <a:avLst>
              <a:gd name="adj1" fmla="val 24634"/>
              <a:gd name="adj2" fmla="val 98032"/>
            </a:avLst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This i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big brother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5715000" y="4114800"/>
            <a:ext cx="3048120" cy="1676520"/>
          </a:xfrm>
          <a:prstGeom prst="wedgeEllipseCallout">
            <a:avLst>
              <a:gd name="adj1" fmla="val -55750"/>
              <a:gd name="adj2" fmla="val 69972"/>
            </a:avLst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This i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friend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2694960" y="228600"/>
            <a:ext cx="26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Calibri"/>
              </a:rPr>
              <a:t>读课文连 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22000" y="1371600"/>
            <a:ext cx="446940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anpan's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anpan's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anpan's big br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anpan's little sis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anpan's fri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6844680" y="1371600"/>
            <a:ext cx="186480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n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cle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c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naugh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cu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4114800" y="1752480"/>
            <a:ext cx="259092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 flipV="1">
            <a:off x="4267080" y="1828800"/>
            <a:ext cx="2514600" cy="812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 flipV="1">
            <a:off x="4114800" y="4571640"/>
            <a:ext cx="266688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5029200" y="3581280"/>
            <a:ext cx="1752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"/>
          <p:cNvSpPr/>
          <p:nvPr/>
        </p:nvSpPr>
        <p:spPr>
          <a:xfrm>
            <a:off x="4800600" y="4648320"/>
            <a:ext cx="20574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3"/>
          <p:cNvSpPr/>
          <p:nvPr/>
        </p:nvSpPr>
        <p:spPr>
          <a:xfrm>
            <a:off x="2743200" y="380880"/>
            <a:ext cx="3733920" cy="609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8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2895480" y="152280"/>
            <a:ext cx="4191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我是填空高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882360" y="1295280"/>
            <a:ext cx="721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1.Panpan's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n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is very 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2.Panpan's big brother is 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3.Panpan's sister is 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4.Panpan's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cle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is very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5.Panpan's friend is very_______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6082560" y="3733920"/>
            <a:ext cx="186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naugh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6229800" y="3124080"/>
            <a:ext cx="142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cle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5209920" y="2514600"/>
            <a:ext cx="108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cu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6510240" y="1905120"/>
            <a:ext cx="10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c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6061320" y="1295280"/>
            <a:ext cx="103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n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1010880" y="990720"/>
            <a:ext cx="7782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判断对错（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TorF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1.Panpan's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n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is clever.(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2.Panpan's big brother is cool.(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3.Panpan's sister is cute.(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4.Panpan's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cle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is nice.(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5.Panpan's friend is very naughty.(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7652160" y="2209680"/>
            <a:ext cx="42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668280" y="167652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6509160" y="2819520"/>
            <a:ext cx="42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6439680" y="350532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8490240" y="4038480"/>
            <a:ext cx="42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130227A254_旋转"/>
          <p:cNvPicPr/>
          <p:nvPr/>
        </p:nvPicPr>
        <p:blipFill>
          <a:blip r:embed="rId1"/>
          <a:stretch/>
        </p:blipFill>
        <p:spPr>
          <a:xfrm>
            <a:off x="-149400" y="3048120"/>
            <a:ext cx="2664000" cy="3660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130227A251_旋转"/>
          <p:cNvPicPr/>
          <p:nvPr/>
        </p:nvPicPr>
        <p:blipFill>
          <a:blip r:embed="rId2"/>
          <a:stretch/>
        </p:blipFill>
        <p:spPr>
          <a:xfrm>
            <a:off x="6781680" y="3809880"/>
            <a:ext cx="2362320" cy="288000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4"/>
          <p:cNvSpPr/>
          <p:nvPr/>
        </p:nvSpPr>
        <p:spPr>
          <a:xfrm>
            <a:off x="5410080" y="1066680"/>
            <a:ext cx="3733920" cy="2514600"/>
          </a:xfrm>
          <a:prstGeom prst="wedgeEllipseCallout">
            <a:avLst>
              <a:gd name="adj1" fmla="val 38500"/>
              <a:gd name="adj2" fmla="val 93777"/>
            </a:avLst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This i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uncle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. H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s very cl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243960" y="304920"/>
            <a:ext cx="281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Calibri"/>
              </a:rPr>
              <a:t>Let's talk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611280" y="915840"/>
            <a:ext cx="3732120" cy="2436840"/>
          </a:xfrm>
          <a:prstGeom prst="wedgeEllipseCallout">
            <a:avLst>
              <a:gd name="adj1" fmla="val -53685"/>
              <a:gd name="adj2" fmla="val 72310"/>
            </a:avLst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This i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aunt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. Sh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n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130227A252_旋转"/>
          <p:cNvPicPr/>
          <p:nvPr/>
        </p:nvPicPr>
        <p:blipFill>
          <a:blip r:embed="rId1"/>
          <a:stretch/>
        </p:blipFill>
        <p:spPr>
          <a:xfrm>
            <a:off x="0" y="4191120"/>
            <a:ext cx="1954080" cy="2604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130227A250_旋转"/>
          <p:cNvPicPr/>
          <p:nvPr/>
        </p:nvPicPr>
        <p:blipFill>
          <a:blip r:embed="rId2"/>
          <a:stretch/>
        </p:blipFill>
        <p:spPr>
          <a:xfrm>
            <a:off x="7162920" y="1447920"/>
            <a:ext cx="1981080" cy="2641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130227A253_旋转"/>
          <p:cNvPicPr/>
          <p:nvPr/>
        </p:nvPicPr>
        <p:blipFill>
          <a:blip r:embed="rId3"/>
          <a:stretch/>
        </p:blipFill>
        <p:spPr>
          <a:xfrm>
            <a:off x="7202520" y="4267080"/>
            <a:ext cx="1941480" cy="258768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5"/>
          <p:cNvSpPr/>
          <p:nvPr/>
        </p:nvSpPr>
        <p:spPr>
          <a:xfrm>
            <a:off x="0" y="1447920"/>
            <a:ext cx="4038480" cy="2209680"/>
          </a:xfrm>
          <a:prstGeom prst="wedgeEllipseCallout">
            <a:avLst>
              <a:gd name="adj1" fmla="val 24634"/>
              <a:gd name="adj2" fmla="val 98032"/>
            </a:avLst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This i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big brother. H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s coo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5715000" y="457200"/>
            <a:ext cx="3809880" cy="2286000"/>
          </a:xfrm>
          <a:prstGeom prst="wedgeEllipseCallout">
            <a:avLst>
              <a:gd name="adj1" fmla="val -53685"/>
              <a:gd name="adj2" fmla="val 72310"/>
            </a:avLst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This i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little sister. Sh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s cu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5486400" y="3581280"/>
            <a:ext cx="4191120" cy="2362320"/>
          </a:xfrm>
          <a:prstGeom prst="wedgeEllipseCallout">
            <a:avLst>
              <a:gd name="adj1" fmla="val -55750"/>
              <a:gd name="adj2" fmla="val 69972"/>
            </a:avLst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This i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friend. H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s very naugh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3243960" y="304920"/>
            <a:ext cx="281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Calibri"/>
              </a:rPr>
              <a:t>Let's talk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"/>
          <p:cNvSpPr/>
          <p:nvPr/>
        </p:nvSpPr>
        <p:spPr>
          <a:xfrm>
            <a:off x="2235960" y="1523880"/>
            <a:ext cx="475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Calibri"/>
              </a:rPr>
              <a:t>Homework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用本课句型描述家庭成员性格特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喜羊羊"/>
          <p:cNvPicPr/>
          <p:nvPr/>
        </p:nvPicPr>
        <p:blipFill>
          <a:blip r:embed="rId1"/>
          <a:stretch/>
        </p:blipFill>
        <p:spPr>
          <a:xfrm>
            <a:off x="533520" y="228600"/>
            <a:ext cx="2867040" cy="3333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一休"/>
          <p:cNvPicPr/>
          <p:nvPr/>
        </p:nvPicPr>
        <p:blipFill>
          <a:blip r:embed="rId2"/>
          <a:stretch/>
        </p:blipFill>
        <p:spPr>
          <a:xfrm>
            <a:off x="380880" y="3581280"/>
            <a:ext cx="2667240" cy="2952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3276720" y="914400"/>
            <a:ext cx="556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This is Xiyangyang. He's very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He's a_____  bo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5467680" y="1523880"/>
            <a:ext cx="142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cle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4642920" y="2133720"/>
            <a:ext cx="153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cle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200400" y="3657600"/>
            <a:ext cx="556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This is Yix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He's very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He's a_____  bo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467680" y="4267080"/>
            <a:ext cx="142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cle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4858200" y="4876920"/>
            <a:ext cx="142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cle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美羊羊"/>
          <p:cNvPicPr/>
          <p:nvPr/>
        </p:nvPicPr>
        <p:blipFill>
          <a:blip r:embed="rId1"/>
          <a:stretch/>
        </p:blipFill>
        <p:spPr>
          <a:xfrm>
            <a:off x="304920" y="152280"/>
            <a:ext cx="3295440" cy="33339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3733920" y="2819520"/>
            <a:ext cx="556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This is Meiyangyang. She's very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She's a _____ gir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213960" y="3505320"/>
            <a:ext cx="103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n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5832720" y="4114800"/>
            <a:ext cx="103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n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262760" y="1066680"/>
            <a:ext cx="347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retty/beautif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美丽的，漂亮的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图图"/>
          <p:cNvPicPr/>
          <p:nvPr/>
        </p:nvPicPr>
        <p:blipFill>
          <a:blip r:embed="rId1"/>
          <a:stretch/>
        </p:blipFill>
        <p:spPr>
          <a:xfrm>
            <a:off x="76320" y="2438280"/>
            <a:ext cx="3314520" cy="2476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友善"/>
          <p:cNvPicPr/>
          <p:nvPr/>
        </p:nvPicPr>
        <p:blipFill>
          <a:blip r:embed="rId2"/>
          <a:stretch/>
        </p:blipFill>
        <p:spPr>
          <a:xfrm>
            <a:off x="4419720" y="5334120"/>
            <a:ext cx="1581120" cy="16668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3276720" y="914400"/>
            <a:ext cx="556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This is Tut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He's very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He's a _____  bo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5015880" y="4343400"/>
            <a:ext cx="186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naugh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3352680" y="3124080"/>
            <a:ext cx="556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This is Tut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He's very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He's a_______  bo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5549400" y="3733920"/>
            <a:ext cx="186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naugh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4795560" y="2133720"/>
            <a:ext cx="153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cle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5405040" y="1523880"/>
            <a:ext cx="153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cle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1"/>
          <p:cNvPicPr/>
          <p:nvPr/>
        </p:nvPicPr>
        <p:blipFill>
          <a:blip r:embed="rId1"/>
          <a:stretch/>
        </p:blipFill>
        <p:spPr>
          <a:xfrm>
            <a:off x="5003640" y="189000"/>
            <a:ext cx="3745080" cy="4464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20077311235964034"/>
          <p:cNvPicPr/>
          <p:nvPr/>
        </p:nvPicPr>
        <p:blipFill>
          <a:blip r:embed="rId2"/>
          <a:stretch/>
        </p:blipFill>
        <p:spPr>
          <a:xfrm>
            <a:off x="971640" y="189000"/>
            <a:ext cx="3024000" cy="4464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900000" y="530064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5400" spc="-1" strike="noStrike">
                <a:solidFill>
                  <a:srgbClr val="ff00ff"/>
                </a:solidFill>
                <a:latin typeface="Calibri"/>
              </a:rPr>
              <a:t>cool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556000" y="5516640"/>
            <a:ext cx="172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酷的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)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187280" y="4724280"/>
            <a:ext cx="290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He is cool.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076720" y="5300640"/>
            <a:ext cx="16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Calibri"/>
              </a:rPr>
              <a:t>cu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300720" y="551664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可爱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5508720" y="47242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e is cu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" descr="220.jpg"/>
          <p:cNvPicPr/>
          <p:nvPr/>
        </p:nvPicPr>
        <p:blipFill>
          <a:blip r:embed="rId1"/>
          <a:stretch/>
        </p:blipFill>
        <p:spPr>
          <a:xfrm>
            <a:off x="1143000" y="152280"/>
            <a:ext cx="6421320" cy="48722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1600200" y="5105520"/>
            <a:ext cx="2438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Calibri"/>
              </a:rPr>
              <a:t>little</a:t>
            </a:r>
            <a:r>
              <a:rPr b="1" lang="zh-CN" sz="5400" spc="-1" strike="noStrike">
                <a:solidFill>
                  <a:srgbClr val="ff00ff"/>
                </a:solidFill>
                <a:latin typeface="Calibri"/>
              </a:rPr>
              <a:t>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29200" y="5105520"/>
            <a:ext cx="274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Calibri"/>
              </a:rPr>
              <a:t>big</a:t>
            </a:r>
            <a:r>
              <a:rPr b="1" lang="zh-CN" sz="5400" spc="-1" strike="noStrike">
                <a:solidFill>
                  <a:srgbClr val="ff00ff"/>
                </a:solidFill>
                <a:latin typeface="Calibri"/>
              </a:rPr>
              <a:t>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600200" y="5943600"/>
            <a:ext cx="172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年幼的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)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029200" y="594360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年龄较大的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)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20081026_837564d90909cdb776cfprH9Kp1hnoCY.jpg"/>
          <p:cNvPicPr/>
          <p:nvPr/>
        </p:nvPicPr>
        <p:blipFill>
          <a:blip r:embed="rId1"/>
          <a:stretch/>
        </p:blipFill>
        <p:spPr>
          <a:xfrm>
            <a:off x="1905120" y="152280"/>
            <a:ext cx="5632200" cy="60962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7315200" y="76212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ff00ff"/>
                </a:solidFill>
                <a:latin typeface="Calibri"/>
              </a:rPr>
              <a:t>aunt</a:t>
            </a:r>
            <a:r>
              <a:rPr b="1" lang="zh-CN" sz="5400" spc="-1" strike="noStrike">
                <a:solidFill>
                  <a:srgbClr val="ff00ff"/>
                </a:solidFill>
                <a:latin typeface="Calibri"/>
              </a:rPr>
              <a:t>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0" y="76212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Calibri"/>
              </a:rPr>
              <a:t>uncle</a:t>
            </a:r>
            <a:r>
              <a:rPr b="1" lang="zh-CN" sz="5400" spc="-1" strike="noStrike">
                <a:solidFill>
                  <a:srgbClr val="ff00ff"/>
                </a:solidFill>
                <a:latin typeface="Calibri"/>
              </a:rPr>
              <a:t>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0" y="2209680"/>
            <a:ext cx="172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叔叔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)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7543800" y="2209680"/>
            <a:ext cx="172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阿姨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)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图片1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logo000879"/>
          <p:cNvPicPr/>
          <p:nvPr/>
        </p:nvPicPr>
        <p:blipFill>
          <a:blip r:embed="rId2"/>
          <a:stretch/>
        </p:blipFill>
        <p:spPr>
          <a:xfrm>
            <a:off x="152280" y="228600"/>
            <a:ext cx="2514600" cy="9381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4"/>
          <p:cNvSpPr/>
          <p:nvPr/>
        </p:nvSpPr>
        <p:spPr>
          <a:xfrm>
            <a:off x="633960" y="228600"/>
            <a:ext cx="141984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Ch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609480" y="1523880"/>
            <a:ext cx="891540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Nice, nice, she's very ni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Cute, cute, she's very cu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Clever, clever, he's very clev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Naughty, naughty, he's very naught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新图像"/>
          <p:cNvPicPr/>
          <p:nvPr/>
        </p:nvPicPr>
        <p:blipFill>
          <a:blip r:embed="rId1"/>
          <a:stretch/>
        </p:blipFill>
        <p:spPr>
          <a:xfrm>
            <a:off x="2819520" y="2743200"/>
            <a:ext cx="2824200" cy="2362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130227A251_旋转"/>
          <p:cNvPicPr/>
          <p:nvPr/>
        </p:nvPicPr>
        <p:blipFill>
          <a:blip r:embed="rId2"/>
          <a:stretch/>
        </p:blipFill>
        <p:spPr>
          <a:xfrm>
            <a:off x="76320" y="3048120"/>
            <a:ext cx="2361960" cy="2879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130227A254_旋转"/>
          <p:cNvPicPr/>
          <p:nvPr/>
        </p:nvPicPr>
        <p:blipFill>
          <a:blip r:embed="rId3"/>
          <a:stretch/>
        </p:blipFill>
        <p:spPr>
          <a:xfrm>
            <a:off x="6324480" y="2525760"/>
            <a:ext cx="2667240" cy="366084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5"/>
          <p:cNvSpPr/>
          <p:nvPr/>
        </p:nvSpPr>
        <p:spPr>
          <a:xfrm>
            <a:off x="2666880" y="838080"/>
            <a:ext cx="3124440" cy="1371600"/>
          </a:xfrm>
          <a:prstGeom prst="wedgeEllipseCallout">
            <a:avLst>
              <a:gd name="adj1" fmla="val 24634"/>
              <a:gd name="adj2" fmla="val 98032"/>
            </a:avLst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This is 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Panpan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-604800" y="609480"/>
            <a:ext cx="3195720" cy="1828800"/>
          </a:xfrm>
          <a:prstGeom prst="wedgeEllipseCallout">
            <a:avLst>
              <a:gd name="adj1" fmla="val 38500"/>
              <a:gd name="adj2" fmla="val 93777"/>
            </a:avLst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This i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uncle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6629400" y="762120"/>
            <a:ext cx="3048120" cy="1676160"/>
          </a:xfrm>
          <a:prstGeom prst="wedgeEllipseCallout">
            <a:avLst>
              <a:gd name="adj1" fmla="val -53685"/>
              <a:gd name="adj2" fmla="val 72310"/>
            </a:avLst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This i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unt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7T09:26:39Z</dcterms:created>
  <dc:creator>User</dc:creator>
  <dc:description/>
  <dc:language>en-US</dc:language>
  <cp:lastModifiedBy>BMT-6</cp:lastModifiedBy>
  <dcterms:modified xsi:type="dcterms:W3CDTF">2018-01-08T06:29:08Z</dcterms:modified>
  <cp:revision>1</cp:revision>
  <dc:subject/>
  <dc:title>Module 1 Unit2  He's cool.</dc:title>
</cp:coreProperties>
</file>