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chimes.wav" ContentType="audio/x-wav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AC5-7337-4B2A-8957-6DBB732B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912-B2C3-4844-B63F-215BA2D4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AF2-6DAE-4036-86B4-F216F94D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52E-15C5-4007-ADCF-57A45EE9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399-7ED8-473D-8512-175946A6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5C9-7146-4F86-92F5-5DAD226D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297-97CD-444C-A911-E369A622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886-CE79-457A-BD6C-CD303550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43F-C373-4140-B2D4-50358AF3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B69-50DA-4668-BDB4-CB007D43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793-FDC9-4F3C-B205-5FB131A2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F95-B2B1-4CB2-B753-746C339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ECDA-0D46-4A08-BA62-4783AE53AB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图片21"/>
          <p:cNvPicPr/>
          <p:nvPr/>
        </p:nvPicPr>
        <p:blipFill>
          <a:blip r:embed="rId1"/>
          <a:stretch/>
        </p:blipFill>
        <p:spPr>
          <a:xfrm>
            <a:off x="-252360" y="14400"/>
            <a:ext cx="939636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332000" y="1557360"/>
            <a:ext cx="60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ule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it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ndma cook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is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179280" y="4941720"/>
            <a:ext cx="8604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tch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V yester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227016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39640" y="4941720"/>
            <a:ext cx="2448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r Sm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324000" y="0"/>
            <a:ext cx="2828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Let's talk.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9" name="Picture 20" descr="QQ图片20140506095732"/>
          <p:cNvPicPr/>
          <p:nvPr/>
        </p:nvPicPr>
        <p:blipFill>
          <a:blip r:embed="rId3"/>
          <a:stretch/>
        </p:blipFill>
        <p:spPr>
          <a:xfrm>
            <a:off x="4932360" y="907920"/>
            <a:ext cx="3168720" cy="2291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4030560" y="3357720"/>
            <a:ext cx="511344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s Smar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usework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my cook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noodles. She help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um and wash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loth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341520" cy="2476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" descr=""/>
          <p:cNvPicPr/>
          <p:nvPr/>
        </p:nvPicPr>
        <p:blipFill>
          <a:blip r:embed="rId3"/>
          <a:stretch/>
        </p:blipFill>
        <p:spPr>
          <a:xfrm>
            <a:off x="3203640" y="2349360"/>
            <a:ext cx="2376360" cy="2225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" descr=""/>
          <p:cNvPicPr/>
          <p:nvPr/>
        </p:nvPicPr>
        <p:blipFill>
          <a:blip r:embed="rId4"/>
          <a:stretch/>
        </p:blipFill>
        <p:spPr>
          <a:xfrm>
            <a:off x="1042920" y="620640"/>
            <a:ext cx="2952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4920" y="4797360"/>
            <a:ext cx="8435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 pla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the computer and watch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QQ图片20140506100442"/>
          <p:cNvPicPr/>
          <p:nvPr/>
        </p:nvPicPr>
        <p:blipFill>
          <a:blip r:embed="rId2"/>
          <a:stretch/>
        </p:blipFill>
        <p:spPr>
          <a:xfrm>
            <a:off x="755640" y="765000"/>
            <a:ext cx="3816360" cy="3127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QQ图片20140506100501"/>
          <p:cNvPicPr/>
          <p:nvPr/>
        </p:nvPicPr>
        <p:blipFill>
          <a:blip r:embed="rId3"/>
          <a:stretch/>
        </p:blipFill>
        <p:spPr>
          <a:xfrm>
            <a:off x="4788000" y="1268280"/>
            <a:ext cx="36655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411280" y="4581360"/>
            <a:ext cx="481032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 help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QQ图片20140506095720"/>
          <p:cNvPicPr/>
          <p:nvPr/>
        </p:nvPicPr>
        <p:blipFill>
          <a:blip r:embed="rId2"/>
          <a:stretch/>
        </p:blipFill>
        <p:spPr>
          <a:xfrm>
            <a:off x="2340000" y="981000"/>
            <a:ext cx="39956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9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00" y="404280"/>
            <a:ext cx="568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选词填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lk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ed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ook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ed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alk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ed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help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ed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ed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lay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ed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help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9468000" cy="22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esterday grandma            fi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andparents               in the park and              with some frien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y               M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m                compu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d                       T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m                 Mum, to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2" descr="未命名"/>
          <p:cNvPicPr/>
          <p:nvPr/>
        </p:nvPicPr>
        <p:blipFill>
          <a:blip r:embed="rId2"/>
          <a:stretch/>
        </p:blipFill>
        <p:spPr>
          <a:xfrm>
            <a:off x="971640" y="1268280"/>
            <a:ext cx="7238880" cy="3048120"/>
          </a:xfrm>
          <a:prstGeom prst="rect">
            <a:avLst/>
          </a:prstGeom>
          <a:ln w="0">
            <a:noFill/>
          </a:ln>
        </p:spPr>
      </p:pic>
      <p:sp>
        <p:nvSpPr>
          <p:cNvPr id="115" name="Line 15"/>
          <p:cNvSpPr/>
          <p:nvPr/>
        </p:nvSpPr>
        <p:spPr>
          <a:xfrm>
            <a:off x="826920" y="6597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5580000" y="5084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2124000" y="5157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83808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990720" y="5791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838080" y="6172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298764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916360" y="4365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cook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2124000" y="4797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walk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580000" y="4724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talk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900000" y="50846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hel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971640" y="5445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play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900000" y="5805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826920" y="62373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hel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WordArt 30"/>
          <p:cNvSpPr txBox="1"/>
          <p:nvPr/>
        </p:nvSpPr>
        <p:spPr>
          <a:xfrm>
            <a:off x="179280" y="189000"/>
            <a:ext cx="2971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onsolid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1332000" y="98100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st memori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这节课你学到了什么？请大胆地站起来说一说吧。（可以用汉语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自然风景１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12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395280" y="404640"/>
            <a:ext cx="64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在生活中要主动去帮助家人、朋友和需要帮助的人，助人为乐是种美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ing  others is helping ourselv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900000" y="260280"/>
            <a:ext cx="49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84360" y="1125360"/>
            <a:ext cx="74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Calibri"/>
              </a:rPr>
              <a:t>：模仿课文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zh-CN" sz="1800" spc="-1" strike="noStrike">
                <a:solidFill>
                  <a:srgbClr val="000000"/>
                </a:solidFill>
                <a:latin typeface="Calibri"/>
              </a:rPr>
              <a:t>写写自己周末做过的事情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 week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sterday, I listened to music. I did my homework.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:</a:t>
            </a:r>
            <a:r>
              <a:rPr b="0" i="1" lang="zh-CN" sz="1800" spc="-1" strike="noStrike">
                <a:solidFill>
                  <a:srgbClr val="000000"/>
                </a:solidFill>
                <a:latin typeface="Calibri"/>
              </a:rPr>
              <a:t>认真读课文三遍，注意读准语音语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 1" descr="large_7629i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684360" y="765000"/>
            <a:ext cx="7200720" cy="20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hank you 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   </a:t>
            </a: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yebye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851280" y="580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k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468360" y="189000"/>
            <a:ext cx="30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Review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Picture 11" descr="图片1"/>
          <p:cNvPicPr/>
          <p:nvPr/>
        </p:nvPicPr>
        <p:blipFill>
          <a:blip r:embed="rId1"/>
          <a:stretch/>
        </p:blipFill>
        <p:spPr>
          <a:xfrm>
            <a:off x="2340000" y="5321160"/>
            <a:ext cx="2049480" cy="153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2457331_093930679000_2"/>
          <p:cNvPicPr/>
          <p:nvPr/>
        </p:nvPicPr>
        <p:blipFill>
          <a:blip r:embed="rId2"/>
          <a:stretch/>
        </p:blipFill>
        <p:spPr>
          <a:xfrm>
            <a:off x="3635280" y="333360"/>
            <a:ext cx="1638360" cy="151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1281608950235284532uivkjs"/>
          <p:cNvPicPr/>
          <p:nvPr/>
        </p:nvPicPr>
        <p:blipFill>
          <a:blip r:embed="rId3"/>
          <a:stretch/>
        </p:blipFill>
        <p:spPr>
          <a:xfrm>
            <a:off x="3203640" y="3429000"/>
            <a:ext cx="1789200" cy="1797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4788000" y="4076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fri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4716360" y="23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u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4967280" y="907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lk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in the p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2" descr="sy_20100904192246014055"/>
          <p:cNvPicPr/>
          <p:nvPr/>
        </p:nvPicPr>
        <p:blipFill>
          <a:blip r:embed="rId4"/>
          <a:stretch/>
        </p:blipFill>
        <p:spPr>
          <a:xfrm>
            <a:off x="3059280" y="1916280"/>
            <a:ext cx="2031840" cy="15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phone, phon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,    phon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Grand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walk,  walk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,     walk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in the pa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listen,  listen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,   listen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to mu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alk,    talk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,       talk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with frie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ook,   cook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,    cook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fis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have,  h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,          h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a nice day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Yeah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324000" y="-243000"/>
            <a:ext cx="2828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Let's chant.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5876640"/>
            <a:ext cx="6840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talk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Mrs Cat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0920" y="189000"/>
            <a:ext cx="6192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ook and discribe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QQ图片20140505184246"/>
          <p:cNvPicPr/>
          <p:nvPr/>
        </p:nvPicPr>
        <p:blipFill>
          <a:blip r:embed="rId2"/>
          <a:stretch/>
        </p:blipFill>
        <p:spPr>
          <a:xfrm>
            <a:off x="900000" y="2492280"/>
            <a:ext cx="2266920" cy="291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QQ图片20140505184408"/>
          <p:cNvPicPr/>
          <p:nvPr/>
        </p:nvPicPr>
        <p:blipFill>
          <a:blip r:embed="rId3"/>
          <a:stretch/>
        </p:blipFill>
        <p:spPr>
          <a:xfrm>
            <a:off x="4572000" y="1989000"/>
            <a:ext cx="4086360" cy="26863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3886200" y="4724280"/>
            <a:ext cx="525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lk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Miss Do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476360" y="1268280"/>
            <a:ext cx="54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do yester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1763640" y="2852640"/>
            <a:ext cx="1440000" cy="7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7020000" y="2637000"/>
            <a:ext cx="143964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30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dma and Grandpa walk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p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QQ图片20140505184037"/>
          <p:cNvPicPr/>
          <p:nvPr/>
        </p:nvPicPr>
        <p:blipFill>
          <a:blip r:embed="rId2"/>
          <a:stretch/>
        </p:blipFill>
        <p:spPr>
          <a:xfrm>
            <a:off x="2124000" y="2060640"/>
            <a:ext cx="4680000" cy="2736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179280" y="692280"/>
            <a:ext cx="91663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ndma and Grandpa do yester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402920" y="5229360"/>
            <a:ext cx="65372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alk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som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QQ图片20140505184116"/>
          <p:cNvPicPr/>
          <p:nvPr/>
        </p:nvPicPr>
        <p:blipFill>
          <a:blip r:embed="rId2"/>
          <a:stretch/>
        </p:blipFill>
        <p:spPr>
          <a:xfrm>
            <a:off x="2050920" y="1773360"/>
            <a:ext cx="5175360" cy="3098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47640" y="69228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do yester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050560" y="5661000"/>
            <a:ext cx="575964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listen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QQ图片20140505184056"/>
          <p:cNvPicPr/>
          <p:nvPr/>
        </p:nvPicPr>
        <p:blipFill>
          <a:blip r:embed="rId2"/>
          <a:stretch/>
        </p:blipFill>
        <p:spPr>
          <a:xfrm>
            <a:off x="2268360" y="1557360"/>
            <a:ext cx="5112000" cy="3824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763640" y="62064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do yester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68360" y="5660640"/>
            <a:ext cx="43308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dma cook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QQ图片20140505184138"/>
          <p:cNvPicPr/>
          <p:nvPr/>
        </p:nvPicPr>
        <p:blipFill>
          <a:blip r:embed="rId2"/>
          <a:stretch/>
        </p:blipFill>
        <p:spPr>
          <a:xfrm>
            <a:off x="2411280" y="1700280"/>
            <a:ext cx="4608720" cy="3741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1763640" y="62064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ndma do yester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61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050920" y="5516280"/>
            <a:ext cx="526752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dpa cook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od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QQ图片20140505184153"/>
          <p:cNvPicPr/>
          <p:nvPr/>
        </p:nvPicPr>
        <p:blipFill>
          <a:blip r:embed="rId2"/>
          <a:stretch/>
        </p:blipFill>
        <p:spPr>
          <a:xfrm>
            <a:off x="2627280" y="1628640"/>
            <a:ext cx="3960720" cy="36417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763640" y="62064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ndpa  do yester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8:29Z</dcterms:created>
  <dc:creator>User</dc:creator>
  <dc:description/>
  <dc:language>en-US</dc:language>
  <cp:lastModifiedBy>User</cp:lastModifiedBy>
  <dcterms:modified xsi:type="dcterms:W3CDTF">2017-12-17T09:28:31Z</dcterms:modified>
  <cp:revision>1</cp:revision>
  <dc:subject/>
  <dc:title>幻灯片 1</dc:title>
</cp:coreProperties>
</file>