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5F5-39F0-45FD-9485-58D5EC40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876-CA36-4556-B3C0-74A7638E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F5D-C492-46A3-A96B-CF313848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40F8-9D28-4025-9DE8-80684DDB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3CF-E7C7-402E-B9BD-E64E3FB8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CE7-0FF3-4385-BDA6-6E462A5F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67B-D1F1-4819-BF39-8192CCB3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F37-BDE8-4311-9E68-18560ECA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3BA-CEB5-43D0-8F95-D75800E8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E6B-D1DB-4269-952F-8E743028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1F7A-FE8C-4B1A-B563-334C7024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730-165D-45BE-A379-DFDCE486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914D-315A-4C4B-95D5-81373ECFC4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q2y.yejs.com.cn/HtmlLib/2098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5008680" cy="4535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-38160" y="473040"/>
            <a:ext cx="1029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odule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Unit2 Grandma cooked fish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09440" y="4222800"/>
            <a:ext cx="950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n Sunday, Liming _____________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angfang____________..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078520" y="414972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cooked nood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618760" cy="2703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3480" y="42840"/>
            <a:ext cx="92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 a survey,then write down some sentenc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调查你同学周末做了什么，并写出句子。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627280" y="501336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watched TV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1044720" y="260280"/>
            <a:ext cx="6984720" cy="643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hoose and complete the sentenc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Sam didn’t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football yesterda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play             B. play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Tom              Mum  yeste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 help             B. hel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Did  Amy  wash clothes yesterd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Yes,  she was.     B. Yes, she di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I talked                 Miss cat yesterday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with              B.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Yesterday w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ut and we               a happy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are   have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 were  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接连接符 3"/>
          <p:cNvSpPr/>
          <p:nvPr/>
        </p:nvSpPr>
        <p:spPr>
          <a:xfrm>
            <a:off x="2411280" y="2781360"/>
            <a:ext cx="8654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接连接符 5"/>
          <p:cNvSpPr/>
          <p:nvPr/>
        </p:nvSpPr>
        <p:spPr>
          <a:xfrm>
            <a:off x="3492360" y="4654440"/>
            <a:ext cx="100836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接连接符 6"/>
          <p:cNvSpPr/>
          <p:nvPr/>
        </p:nvSpPr>
        <p:spPr>
          <a:xfrm>
            <a:off x="3635280" y="5373720"/>
            <a:ext cx="93672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接连接符 7"/>
          <p:cNvSpPr/>
          <p:nvPr/>
        </p:nvSpPr>
        <p:spPr>
          <a:xfrm>
            <a:off x="6443640" y="5373720"/>
            <a:ext cx="100800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五角星 12"/>
          <p:cNvSpPr/>
          <p:nvPr/>
        </p:nvSpPr>
        <p:spPr>
          <a:xfrm>
            <a:off x="3780000" y="2060640"/>
            <a:ext cx="431640" cy="434880"/>
          </a:xfrm>
          <a:prstGeom prst="pie">
            <a:avLst/>
          </a:pr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五角星 13"/>
          <p:cNvSpPr/>
          <p:nvPr/>
        </p:nvSpPr>
        <p:spPr>
          <a:xfrm>
            <a:off x="1619280" y="1270080"/>
            <a:ext cx="431640" cy="431640"/>
          </a:xfrm>
          <a:prstGeom prst="pie">
            <a:avLst/>
          </a:pr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五角星 14"/>
          <p:cNvSpPr/>
          <p:nvPr/>
        </p:nvSpPr>
        <p:spPr>
          <a:xfrm>
            <a:off x="4429080" y="2925720"/>
            <a:ext cx="432000" cy="432000"/>
          </a:xfrm>
          <a:prstGeom prst="pie">
            <a:avLst/>
          </a:pr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五角星 15"/>
          <p:cNvSpPr/>
          <p:nvPr/>
        </p:nvSpPr>
        <p:spPr>
          <a:xfrm>
            <a:off x="1547640" y="3789360"/>
            <a:ext cx="432000" cy="431640"/>
          </a:xfrm>
          <a:prstGeom prst="pie">
            <a:avLst/>
          </a:pr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五角星 16"/>
          <p:cNvSpPr/>
          <p:nvPr/>
        </p:nvSpPr>
        <p:spPr>
          <a:xfrm>
            <a:off x="4788000" y="5086440"/>
            <a:ext cx="433440" cy="431640"/>
          </a:xfrm>
          <a:prstGeom prst="pie">
            <a:avLst/>
          </a:pr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Review the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hav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过去式）度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打电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烹调；煮；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真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过去式）助动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计算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宾格）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5"/>
          <p:cNvSpPr/>
          <p:nvPr/>
        </p:nvSpPr>
        <p:spPr>
          <a:xfrm>
            <a:off x="179280" y="1700280"/>
            <a:ext cx="3192480" cy="4897440"/>
          </a:xfrm>
          <a:prstGeom prst="rect">
            <a:avLst/>
          </a:prstGeom>
          <a:solidFill>
            <a:srgbClr val="ececec"/>
          </a:solidFill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8"/>
          <p:cNvSpPr/>
          <p:nvPr/>
        </p:nvSpPr>
        <p:spPr>
          <a:xfrm>
            <a:off x="5003640" y="1628640"/>
            <a:ext cx="3240360" cy="4897440"/>
          </a:xfrm>
          <a:prstGeom prst="rect">
            <a:avLst/>
          </a:prstGeom>
          <a:solidFill>
            <a:srgbClr val="ececec"/>
          </a:solidFill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148360" y="4292640"/>
            <a:ext cx="122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o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0" descr="20049110101624536xy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-316080"/>
            <a:ext cx="2232000" cy="221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4" descr="卡通房子4"/>
          <p:cNvPicPr/>
          <p:nvPr/>
        </p:nvPicPr>
        <p:blipFill>
          <a:blip r:embed="rId3"/>
          <a:stretch/>
        </p:blipFill>
        <p:spPr>
          <a:xfrm>
            <a:off x="5651640" y="0"/>
            <a:ext cx="1942920" cy="1943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9"/>
          <p:cNvSpPr/>
          <p:nvPr/>
        </p:nvSpPr>
        <p:spPr>
          <a:xfrm>
            <a:off x="179280" y="2205000"/>
            <a:ext cx="122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41"/>
          <p:cNvSpPr/>
          <p:nvPr/>
        </p:nvSpPr>
        <p:spPr>
          <a:xfrm>
            <a:off x="179280" y="3141720"/>
            <a:ext cx="122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61"/>
          <p:cNvGrpSpPr/>
          <p:nvPr/>
        </p:nvGrpSpPr>
        <p:grpSpPr>
          <a:xfrm>
            <a:off x="6300720" y="4292640"/>
            <a:ext cx="1727280" cy="550800"/>
            <a:chOff x="6300720" y="4292640"/>
            <a:chExt cx="1727280" cy="550800"/>
          </a:xfrm>
        </p:grpSpPr>
        <p:sp>
          <p:nvSpPr>
            <p:cNvPr id="54" name="Text Box 36"/>
            <p:cNvSpPr/>
            <p:nvPr/>
          </p:nvSpPr>
          <p:spPr>
            <a:xfrm>
              <a:off x="6575400" y="4292640"/>
              <a:ext cx="1452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Calibri"/>
                </a:rPr>
                <a:t>cook</a:t>
              </a:r>
              <a:r>
                <a:rPr b="0" i="1" lang="en-US" sz="3000" spc="-1" strike="noStrike">
                  <a:solidFill>
                    <a:srgbClr val="ff0000"/>
                  </a:solidFill>
                  <a:latin typeface="Calibri"/>
                </a:rPr>
                <a:t>ed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Line 43"/>
            <p:cNvSpPr/>
            <p:nvPr/>
          </p:nvSpPr>
          <p:spPr>
            <a:xfrm>
              <a:off x="6300720" y="4581720"/>
              <a:ext cx="287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63"/>
          <p:cNvGrpSpPr/>
          <p:nvPr/>
        </p:nvGrpSpPr>
        <p:grpSpPr>
          <a:xfrm>
            <a:off x="1258920" y="2205000"/>
            <a:ext cx="1800360" cy="550800"/>
            <a:chOff x="1258920" y="2205000"/>
            <a:chExt cx="1800360" cy="550800"/>
          </a:xfrm>
        </p:grpSpPr>
        <p:sp>
          <p:nvSpPr>
            <p:cNvPr id="57" name="Text Box 40"/>
            <p:cNvSpPr/>
            <p:nvPr/>
          </p:nvSpPr>
          <p:spPr>
            <a:xfrm>
              <a:off x="1533600" y="2205000"/>
              <a:ext cx="1525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play</a:t>
              </a:r>
              <a:r>
                <a:rPr b="0" i="1" lang="en-US" sz="3000" spc="-1" strike="noStrike">
                  <a:solidFill>
                    <a:srgbClr val="ff0000"/>
                  </a:solidFill>
                  <a:latin typeface="Calibri"/>
                </a:rPr>
                <a:t>ed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45"/>
            <p:cNvSpPr/>
            <p:nvPr/>
          </p:nvSpPr>
          <p:spPr>
            <a:xfrm>
              <a:off x="1258920" y="2506680"/>
              <a:ext cx="287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64"/>
          <p:cNvGrpSpPr/>
          <p:nvPr/>
        </p:nvGrpSpPr>
        <p:grpSpPr>
          <a:xfrm>
            <a:off x="1476360" y="3141720"/>
            <a:ext cx="1860480" cy="550800"/>
            <a:chOff x="1476360" y="3141720"/>
            <a:chExt cx="1860480" cy="550800"/>
          </a:xfrm>
        </p:grpSpPr>
        <p:sp>
          <p:nvSpPr>
            <p:cNvPr id="60" name="Text Box 42"/>
            <p:cNvSpPr/>
            <p:nvPr/>
          </p:nvSpPr>
          <p:spPr>
            <a:xfrm>
              <a:off x="1752480" y="3141720"/>
              <a:ext cx="158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phone</a:t>
              </a:r>
              <a:r>
                <a:rPr b="0" i="1" lang="en-US" sz="3000" spc="-1" strike="noStrike">
                  <a:solidFill>
                    <a:srgbClr val="ff0000"/>
                  </a:solidFill>
                  <a:latin typeface="Calibri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Line 46"/>
            <p:cNvSpPr/>
            <p:nvPr/>
          </p:nvSpPr>
          <p:spPr>
            <a:xfrm>
              <a:off x="1476360" y="3443400"/>
              <a:ext cx="287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Text Box 67"/>
          <p:cNvSpPr/>
          <p:nvPr/>
        </p:nvSpPr>
        <p:spPr>
          <a:xfrm>
            <a:off x="5148360" y="3357720"/>
            <a:ext cx="122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t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4932360" y="2276640"/>
            <a:ext cx="122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75"/>
          <p:cNvGrpSpPr/>
          <p:nvPr/>
        </p:nvGrpSpPr>
        <p:grpSpPr>
          <a:xfrm>
            <a:off x="6227640" y="3357720"/>
            <a:ext cx="1800360" cy="550800"/>
            <a:chOff x="6227640" y="3357720"/>
            <a:chExt cx="1800360" cy="550800"/>
          </a:xfrm>
        </p:grpSpPr>
        <p:sp>
          <p:nvSpPr>
            <p:cNvPr id="65" name="Text Box 76"/>
            <p:cNvSpPr/>
            <p:nvPr/>
          </p:nvSpPr>
          <p:spPr>
            <a:xfrm>
              <a:off x="6502320" y="3357720"/>
              <a:ext cx="1525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watch</a:t>
              </a:r>
              <a:r>
                <a:rPr b="0" i="1" lang="en-US" sz="3000" spc="-1" strike="noStrike">
                  <a:solidFill>
                    <a:srgbClr val="ff0000"/>
                  </a:solidFill>
                  <a:latin typeface="Calibri"/>
                </a:rPr>
                <a:t>ed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77"/>
            <p:cNvSpPr/>
            <p:nvPr/>
          </p:nvSpPr>
          <p:spPr>
            <a:xfrm>
              <a:off x="6227640" y="3659040"/>
              <a:ext cx="287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78"/>
          <p:cNvGrpSpPr/>
          <p:nvPr/>
        </p:nvGrpSpPr>
        <p:grpSpPr>
          <a:xfrm>
            <a:off x="6156360" y="2349360"/>
            <a:ext cx="1860480" cy="550800"/>
            <a:chOff x="6156360" y="2349360"/>
            <a:chExt cx="1860480" cy="550800"/>
          </a:xfrm>
        </p:grpSpPr>
        <p:sp>
          <p:nvSpPr>
            <p:cNvPr id="68" name="Text Box 79"/>
            <p:cNvSpPr/>
            <p:nvPr/>
          </p:nvSpPr>
          <p:spPr>
            <a:xfrm>
              <a:off x="6432480" y="2349360"/>
              <a:ext cx="158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help</a:t>
              </a:r>
              <a:r>
                <a:rPr b="0" i="1" lang="en-US" sz="3000" spc="-1" strike="noStrike">
                  <a:solidFill>
                    <a:srgbClr val="ff0000"/>
                  </a:solidFill>
                  <a:latin typeface="Calibri"/>
                </a:rPr>
                <a:t>ed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80"/>
            <p:cNvSpPr/>
            <p:nvPr/>
          </p:nvSpPr>
          <p:spPr>
            <a:xfrm>
              <a:off x="6156360" y="2651040"/>
              <a:ext cx="287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Oval 92"/>
          <p:cNvSpPr/>
          <p:nvPr/>
        </p:nvSpPr>
        <p:spPr>
          <a:xfrm>
            <a:off x="1187280" y="333360"/>
            <a:ext cx="1297080" cy="863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/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93"/>
          <p:cNvSpPr/>
          <p:nvPr/>
        </p:nvSpPr>
        <p:spPr>
          <a:xfrm>
            <a:off x="5940360" y="189000"/>
            <a:ext cx="1224000" cy="9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/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4"/>
          <p:cNvSpPr/>
          <p:nvPr/>
        </p:nvSpPr>
        <p:spPr>
          <a:xfrm>
            <a:off x="8532720" y="6524640"/>
            <a:ext cx="611280" cy="333360"/>
          </a:xfrm>
          <a:prstGeom prst="rightArrow">
            <a:avLst>
              <a:gd name="adj1" fmla="val 50000"/>
              <a:gd name="adj2" fmla="val 4584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41"/>
          <p:cNvSpPr/>
          <p:nvPr/>
        </p:nvSpPr>
        <p:spPr>
          <a:xfrm>
            <a:off x="324000" y="4221000"/>
            <a:ext cx="122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 64"/>
          <p:cNvGrpSpPr/>
          <p:nvPr/>
        </p:nvGrpSpPr>
        <p:grpSpPr>
          <a:xfrm>
            <a:off x="1403280" y="4221000"/>
            <a:ext cx="1860480" cy="550800"/>
            <a:chOff x="1403280" y="4221000"/>
            <a:chExt cx="1860480" cy="550800"/>
          </a:xfrm>
        </p:grpSpPr>
        <p:sp>
          <p:nvSpPr>
            <p:cNvPr id="75" name="Text Box 42"/>
            <p:cNvSpPr/>
            <p:nvPr/>
          </p:nvSpPr>
          <p:spPr>
            <a:xfrm>
              <a:off x="1679400" y="4221000"/>
              <a:ext cx="158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row</a:t>
              </a:r>
              <a:r>
                <a:rPr b="0" lang="en-US" sz="3000" spc="-1" strike="noStrike">
                  <a:solidFill>
                    <a:srgbClr val="ff0000"/>
                  </a:solidFill>
                  <a:latin typeface="Calibri"/>
                </a:rPr>
                <a:t>e</a:t>
              </a:r>
              <a:r>
                <a:rPr b="0" i="1" lang="en-US" sz="3000" spc="-1" strike="noStrike">
                  <a:solidFill>
                    <a:srgbClr val="ff0000"/>
                  </a:solidFill>
                  <a:latin typeface="Calibri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46"/>
            <p:cNvSpPr/>
            <p:nvPr/>
          </p:nvSpPr>
          <p:spPr>
            <a:xfrm>
              <a:off x="1403280" y="4522680"/>
              <a:ext cx="287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Text Box 67"/>
          <p:cNvSpPr/>
          <p:nvPr/>
        </p:nvSpPr>
        <p:spPr>
          <a:xfrm>
            <a:off x="5292720" y="5084640"/>
            <a:ext cx="122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75"/>
          <p:cNvGrpSpPr/>
          <p:nvPr/>
        </p:nvGrpSpPr>
        <p:grpSpPr>
          <a:xfrm>
            <a:off x="6372360" y="5084640"/>
            <a:ext cx="1799640" cy="550800"/>
            <a:chOff x="6372360" y="5084640"/>
            <a:chExt cx="1799640" cy="550800"/>
          </a:xfrm>
        </p:grpSpPr>
        <p:sp>
          <p:nvSpPr>
            <p:cNvPr id="79" name="Text Box 76"/>
            <p:cNvSpPr/>
            <p:nvPr/>
          </p:nvSpPr>
          <p:spPr>
            <a:xfrm>
              <a:off x="6646680" y="5084640"/>
              <a:ext cx="152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wash</a:t>
              </a:r>
              <a:r>
                <a:rPr b="0" i="1" lang="en-US" sz="3000" spc="-1" strike="noStrike">
                  <a:solidFill>
                    <a:srgbClr val="ff0000"/>
                  </a:solidFill>
                  <a:latin typeface="Calibri"/>
                </a:rPr>
                <a:t>ed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77"/>
            <p:cNvSpPr/>
            <p:nvPr/>
          </p:nvSpPr>
          <p:spPr>
            <a:xfrm>
              <a:off x="6372360" y="5386320"/>
              <a:ext cx="286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Text Box 16"/>
          <p:cNvSpPr/>
          <p:nvPr/>
        </p:nvSpPr>
        <p:spPr>
          <a:xfrm>
            <a:off x="179280" y="5445000"/>
            <a:ext cx="53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小提示：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ed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在清辅音后读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/t/,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在浊辅音后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/d/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2484360" y="33192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隶书"/>
              </a:rPr>
              <a:t>说说下列单词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隶书"/>
              </a:rPr>
              <a:t>过去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181240" cy="3097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36360" y="3645000"/>
            <a:ext cx="3025800" cy="2428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2844720" y="836640"/>
            <a:ext cx="748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bird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ith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Mrs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a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203640" y="4005360"/>
            <a:ext cx="748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bird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ith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Miss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og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92720" y="909720"/>
            <a:ext cx="17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talk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364000" y="4076640"/>
            <a:ext cx="22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walk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8636040" cy="3240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-39600" y="1200240"/>
            <a:ext cx="804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at did Amy say to Sam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7"/>
          <p:cNvGrpSpPr/>
          <p:nvPr/>
        </p:nvGrpSpPr>
        <p:grpSpPr>
          <a:xfrm>
            <a:off x="3419640" y="1844640"/>
            <a:ext cx="5795640" cy="2232000"/>
            <a:chOff x="3419640" y="1844640"/>
            <a:chExt cx="5795640" cy="2232000"/>
          </a:xfrm>
        </p:grpSpPr>
        <p:sp>
          <p:nvSpPr>
            <p:cNvPr id="92" name="椭圆形标注 6"/>
            <p:cNvSpPr/>
            <p:nvPr/>
          </p:nvSpPr>
          <p:spPr>
            <a:xfrm>
              <a:off x="3419640" y="1844640"/>
              <a:ext cx="5795640" cy="2232000"/>
            </a:xfrm>
            <a:prstGeom prst="wedgeEllipseCallout">
              <a:avLst>
                <a:gd name="adj1" fmla="val -7310"/>
                <a:gd name="adj2" fmla="val 76152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3668760" y="2636640"/>
              <a:ext cx="554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3600" spc="-1" strike="noStrike">
                  <a:solidFill>
                    <a:srgbClr val="ff6600"/>
                  </a:solidFill>
                  <a:latin typeface="Calibri"/>
                </a:rPr>
                <a:t> </a:t>
              </a:r>
              <a:r>
                <a:rPr b="0" lang="en-US" sz="3600" spc="-1" strike="noStrike">
                  <a:solidFill>
                    <a:srgbClr val="ff0000"/>
                  </a:solidFill>
                  <a:latin typeface="Calibri"/>
                </a:rPr>
                <a:t>phoned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Grandma yesterday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2705040" y="-25560"/>
            <a:ext cx="44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ad and sa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6360" y="2276640"/>
            <a:ext cx="4751640" cy="1811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4713120" y="2279520"/>
            <a:ext cx="4650120" cy="1868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3487680" y="117360"/>
            <a:ext cx="2590920" cy="21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3060720" y="4035600"/>
            <a:ext cx="3767040" cy="2842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-112680" y="11592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tell the stor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943600" y="40968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hone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12680" y="3930480"/>
            <a:ext cx="209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alk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7164360" y="4002120"/>
            <a:ext cx="209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sten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09440" y="4653000"/>
            <a:ext cx="209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alk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734160" y="6019920"/>
            <a:ext cx="24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ook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68680" y="120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137040" y="4081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4714920" y="22780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111240" y="227484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6360" y="117360"/>
            <a:ext cx="2267280" cy="1571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276720" y="117360"/>
            <a:ext cx="267480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>
            <a:off x="3417840" y="2563920"/>
            <a:ext cx="2374920" cy="14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4"/>
          <a:stretch/>
        </p:blipFill>
        <p:spPr>
          <a:xfrm>
            <a:off x="36360" y="2205000"/>
            <a:ext cx="2352960" cy="1571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5"/>
          <a:stretch/>
        </p:blipFill>
        <p:spPr>
          <a:xfrm>
            <a:off x="6877080" y="47520"/>
            <a:ext cx="1771560" cy="1940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6"/>
          <a:stretch/>
        </p:blipFill>
        <p:spPr>
          <a:xfrm>
            <a:off x="6654960" y="2782800"/>
            <a:ext cx="2199960" cy="15051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-36360" y="177336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is fri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273480" y="4076640"/>
            <a:ext cx="30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n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cal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is fri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0" y="3789360"/>
            <a:ext cx="345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friend’s ho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657840" y="1917720"/>
            <a:ext cx="30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asketb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206880" y="1914480"/>
            <a:ext cx="30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e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mu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6804000" y="4292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4" descr=""/>
          <p:cNvPicPr/>
          <p:nvPr/>
        </p:nvPicPr>
        <p:blipFill>
          <a:blip r:embed="rId7"/>
          <a:stretch/>
        </p:blipFill>
        <p:spPr>
          <a:xfrm>
            <a:off x="108000" y="4653000"/>
            <a:ext cx="2227320" cy="1755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5"/>
          <p:cNvSpPr/>
          <p:nvPr/>
        </p:nvSpPr>
        <p:spPr>
          <a:xfrm>
            <a:off x="108000" y="6165720"/>
            <a:ext cx="21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t 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562200" y="5300640"/>
            <a:ext cx="573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-What did he d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-He__________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828720" y="189000"/>
            <a:ext cx="7702560" cy="4895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828720" y="501336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A:What did he do on______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B:On______,He__________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wuduanbin\Desktop\截屏000.bmp"/>
          <p:cNvPicPr/>
          <p:nvPr/>
        </p:nvPicPr>
        <p:blipFill>
          <a:blip r:embed="rId1"/>
          <a:stretch/>
        </p:blipFill>
        <p:spPr>
          <a:xfrm>
            <a:off x="0" y="1197000"/>
            <a:ext cx="9113760" cy="5661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6560" y="54900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Listen and say, then ch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29:33Z</dcterms:created>
  <dc:creator>User</dc:creator>
  <dc:description/>
  <dc:language>en-US</dc:language>
  <cp:lastModifiedBy>User</cp:lastModifiedBy>
  <dcterms:modified xsi:type="dcterms:W3CDTF">2017-12-17T09:29:35Z</dcterms:modified>
  <cp:revision>1</cp:revision>
  <dc:subject/>
  <dc:title>幻灯片 1</dc:title>
</cp:coreProperties>
</file>