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43A2-9B3D-4B51-B5E2-0C69D8F0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12B-663B-454D-A5E9-F021F6FB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09E-1F6B-43DC-BC69-75D25526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B93-45DE-40CC-9058-5BF8FEB9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F90-A7BD-458F-B5F9-B952C79D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7BD-C791-40EB-82CE-B459E9C6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0CC-7A82-477C-A61F-4FD1E3F0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022-98E7-452D-B72D-1EA35A9F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9BE-BC55-424E-B92F-685173D2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A52-EA05-41B8-921F-695BD1EC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82A-BF29-4C88-8016-7F92CFA6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0C6-4FB1-4ADC-A0E9-3A6A4EA0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320D-136F-4D1A-B8C4-6001EC4475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T01F5A~1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143000" y="32004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ule 8 Unit 2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 took some pictur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286000" y="403848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T01F06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一般过去时的特点：①有表示过去的时间                                  ②动词变成过去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我们学过表示过去时间的词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terday, ago, last, t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结论： 一般过去时，表示过去发生的动作，基本句型： 某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动词的过去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某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________m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lk and juic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258720" y="5562720"/>
            <a:ext cx="358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rink-----</a:t>
            </a: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dr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057400" y="304920"/>
            <a:ext cx="13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Calibri"/>
              </a:rPr>
              <a:t>d</a:t>
            </a:r>
            <a:r>
              <a:rPr b="0" lang="en-US" sz="3600" spc="-1" strike="noStrike">
                <a:solidFill>
                  <a:srgbClr val="ff3300"/>
                </a:solidFill>
                <a:latin typeface="Calibri"/>
              </a:rPr>
              <a:t>r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3"/>
          <p:cNvPicPr/>
          <p:nvPr/>
        </p:nvPicPr>
        <p:blipFill>
          <a:blip r:embed="rId1"/>
          <a:stretch/>
        </p:blipFill>
        <p:spPr>
          <a:xfrm>
            <a:off x="685800" y="114300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________s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me pictur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195720" y="5562720"/>
            <a:ext cx="311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ke-----</a:t>
            </a: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t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070360" y="304920"/>
            <a:ext cx="10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Calibri"/>
              </a:rPr>
              <a:t>t</a:t>
            </a:r>
            <a:r>
              <a:rPr b="0" lang="en-US" sz="3600" spc="-1" strike="noStrike">
                <a:solidFill>
                  <a:srgbClr val="ff3300"/>
                </a:solidFill>
                <a:latin typeface="Calibri"/>
              </a:rPr>
              <a:t>o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2"/>
          <p:cNvPicPr/>
          <p:nvPr/>
        </p:nvPicPr>
        <p:blipFill>
          <a:blip r:embed="rId1"/>
          <a:stretch/>
        </p:blipFill>
        <p:spPr>
          <a:xfrm>
            <a:off x="990720" y="990720"/>
            <a:ext cx="7189560" cy="48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243960" y="5943600"/>
            <a:ext cx="30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ing-----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s</a:t>
            </a: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666880" y="0"/>
            <a:ext cx="36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alibri"/>
              </a:rPr>
              <a:t>sang and danc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1"/>
          <p:cNvPicPr/>
          <p:nvPr/>
        </p:nvPicPr>
        <p:blipFill>
          <a:blip r:embed="rId1"/>
          <a:stretch/>
        </p:blipFill>
        <p:spPr>
          <a:xfrm>
            <a:off x="1066680" y="1143000"/>
            <a:ext cx="769644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________p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ster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234960" y="5562720"/>
            <a:ext cx="362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mak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-----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m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18600" y="2728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Calibri"/>
              </a:rPr>
              <a:t>ma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4"/>
          <p:cNvPicPr/>
          <p:nvPr/>
        </p:nvPicPr>
        <p:blipFill>
          <a:blip r:embed="rId1"/>
          <a:stretch/>
        </p:blipFill>
        <p:spPr>
          <a:xfrm>
            <a:off x="533520" y="1219320"/>
            <a:ext cx="76960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562720" y="2362320"/>
            <a:ext cx="3581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nt swim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-7621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Yesterday I_________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X]KZ{@7`5H5XRGU(BS9YL4I"/>
          <p:cNvPicPr/>
          <p:nvPr/>
        </p:nvPicPr>
        <p:blipFill>
          <a:blip r:embed="rId1"/>
          <a:stretch/>
        </p:blipFill>
        <p:spPr>
          <a:xfrm>
            <a:off x="0" y="1676520"/>
            <a:ext cx="3429000" cy="3238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NYQX6AI~EFCR]M1G)CKA_]8"/>
          <p:cNvPicPr/>
          <p:nvPr/>
        </p:nvPicPr>
        <p:blipFill>
          <a:blip r:embed="rId2"/>
          <a:stretch/>
        </p:blipFill>
        <p:spPr>
          <a:xfrm>
            <a:off x="6553080" y="762120"/>
            <a:ext cx="2590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ZM9PTV(BJ0]UDDK~PYCMHN9"/>
          <p:cNvPicPr/>
          <p:nvPr/>
        </p:nvPicPr>
        <p:blipFill>
          <a:blip r:embed="rId3"/>
          <a:stretch/>
        </p:blipFill>
        <p:spPr>
          <a:xfrm>
            <a:off x="3429000" y="3352680"/>
            <a:ext cx="2362320" cy="21272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3276720" y="5486400"/>
            <a:ext cx="259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d my ho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12-A"/>
          <p:cNvPicPr/>
          <p:nvPr/>
        </p:nvPicPr>
        <p:blipFill>
          <a:blip r:embed="rId4"/>
          <a:stretch/>
        </p:blipFill>
        <p:spPr>
          <a:xfrm>
            <a:off x="5867280" y="2895480"/>
            <a:ext cx="2743200" cy="2686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5715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ened to 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6" descr="T01C67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352680" y="91440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k some pi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nk milk and ju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ng and dan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po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nt swim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nt to the supermar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d my ho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ed to mui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T01617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m_______ (drink ) milk and juice yeste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________ (make)a poster two days a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________ (visit) my grandparents next 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____ John ____ (do) last wee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y ________ (go) to school by bike last Mon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ming __________ (sing)song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____ (is) thin th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T01C67~1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3352680" y="914400"/>
            <a:ext cx="57913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能听、说、读、写下列不规则动词的过去式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d, had, went,saw,sang, ate, drank, took, ma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学会一般过去时的基本句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归纳总结本模块表示过去的短语。并能把短语运用到日常生活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419720" y="2286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9" descr="T016ED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EFC1-4E9C-4A90-83A0-CF23B8FA821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752480" y="0"/>
            <a:ext cx="266724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原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av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/h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s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ri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a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ak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267080" y="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过去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528440" y="114300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h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ad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有，度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537440" y="1731960"/>
            <a:ext cx="136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w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ent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569120" y="2286000"/>
            <a:ext cx="11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s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aw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4595400" y="2798640"/>
            <a:ext cx="15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s</a:t>
            </a:r>
            <a:r>
              <a:rPr b="0" lang="zh-CN" sz="3200" spc="-1" strike="noStrike">
                <a:solidFill>
                  <a:srgbClr val="3333cc"/>
                </a:solidFill>
                <a:latin typeface="Calibri"/>
              </a:rPr>
              <a:t>a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ng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唱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773600" y="4495680"/>
            <a:ext cx="105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a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te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366080" y="3352680"/>
            <a:ext cx="214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d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r</a:t>
            </a:r>
            <a:r>
              <a:rPr b="0" lang="zh-CN" sz="3200" spc="-1" strike="noStrike">
                <a:solidFill>
                  <a:srgbClr val="3333cc"/>
                </a:solidFill>
                <a:latin typeface="Calibri"/>
              </a:rPr>
              <a:t>a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nk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喝，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4478040" y="495288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took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拍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4506840" y="3962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3333cc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ve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4356360" y="5486400"/>
            <a:ext cx="179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ma</a:t>
            </a:r>
            <a:r>
              <a:rPr b="0" lang="en-US" sz="3200" spc="-1" strike="noStrike">
                <a:solidFill>
                  <a:srgbClr val="3333cc"/>
                </a:solidFill>
                <a:latin typeface="Calibri"/>
              </a:rPr>
              <a:t>d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e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制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4648320" y="0"/>
            <a:ext cx="5790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430520" y="533520"/>
            <a:ext cx="18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did </a:t>
            </a: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助动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Yesterday I_______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h my frien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114800" y="228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skip</a:t>
            </a:r>
            <a:r>
              <a:rPr b="0" lang="zh-CN" sz="3600" spc="-1" strike="noStrike">
                <a:solidFill>
                  <a:srgbClr val="ff3300"/>
                </a:solidFill>
                <a:latin typeface="Calibri"/>
              </a:rPr>
              <a:t>p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UZSACY~S~{]Q60C8H3E9THN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45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172520" y="841320"/>
            <a:ext cx="62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Yesterday I______________noodl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055040" y="6858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138360" y="228600"/>
            <a:ext cx="24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eat____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ate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27)9B3B@W})[QWS`$BWX962"/>
          <p:cNvPicPr/>
          <p:nvPr/>
        </p:nvPicPr>
        <p:blipFill>
          <a:blip r:embed="rId1"/>
          <a:stretch/>
        </p:blipFill>
        <p:spPr>
          <a:xfrm>
            <a:off x="0" y="2057400"/>
            <a:ext cx="8686800" cy="44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Yesterday I__________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ng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196160" y="1447920"/>
            <a:ext cx="27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s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------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</a:rPr>
              <a:t>sa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565880" y="0"/>
            <a:ext cx="10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Calibri"/>
              </a:rPr>
              <a:t>sa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QSS8MAJP10HSUO]4O[1CN9G"/>
          <p:cNvPicPr/>
          <p:nvPr/>
        </p:nvPicPr>
        <p:blipFill>
          <a:blip r:embed="rId1"/>
          <a:stretch/>
        </p:blipFill>
        <p:spPr>
          <a:xfrm>
            <a:off x="0" y="2174760"/>
            <a:ext cx="9144000" cy="468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lay</a:t>
            </a:r>
            <a:r>
              <a:rPr b="0" lang="zh-CN" sz="4000" spc="-1" strike="noStrike">
                <a:solidFill>
                  <a:srgbClr val="ff3300"/>
                </a:solidFill>
                <a:latin typeface="Calibri"/>
              </a:rPr>
              <a:t>---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lay</a:t>
            </a:r>
            <a:r>
              <a:rPr b="0" lang="zh-CN" sz="4000" spc="-1" strike="noStrike">
                <a:solidFill>
                  <a:srgbClr val="ff3300"/>
                </a:solidFill>
                <a:latin typeface="Calibri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918360" y="1665360"/>
            <a:ext cx="57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Yesterday I _____________basketball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323520" y="1550880"/>
            <a:ext cx="11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play</a:t>
            </a:r>
            <a:r>
              <a:rPr b="0" lang="zh-CN" sz="2800" spc="-1" strike="noStrike">
                <a:solidFill>
                  <a:srgbClr val="ff3300"/>
                </a:solidFill>
                <a:latin typeface="Calibri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HX@L{(_[JMM%)S)20(CDQHH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91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Yesterday I________cakes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02560" y="5562720"/>
            <a:ext cx="366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Mak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-----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m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542480" y="22860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Calibri"/>
              </a:rPr>
              <a:t>ma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QW1_PYUX1YM9BHO]$8[7A~B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58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Yesterday I_________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31237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p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p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oodles                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sa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song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UZSACY~S~{]Q60C8H3E9THN"/>
          <p:cNvPicPr/>
          <p:nvPr/>
        </p:nvPicPr>
        <p:blipFill>
          <a:blip r:embed="rId1"/>
          <a:stretch/>
        </p:blipFill>
        <p:spPr>
          <a:xfrm>
            <a:off x="-304920" y="1066680"/>
            <a:ext cx="3457800" cy="184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27)9B3B@W})[QWS`$BWX962"/>
          <p:cNvPicPr/>
          <p:nvPr/>
        </p:nvPicPr>
        <p:blipFill>
          <a:blip r:embed="rId2"/>
          <a:stretch/>
        </p:blipFill>
        <p:spPr>
          <a:xfrm>
            <a:off x="3276720" y="1143000"/>
            <a:ext cx="3429000" cy="1747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QSS8MAJP10HSUO]4O[1CN9G"/>
          <p:cNvPicPr/>
          <p:nvPr/>
        </p:nvPicPr>
        <p:blipFill>
          <a:blip r:embed="rId3"/>
          <a:stretch/>
        </p:blipFill>
        <p:spPr>
          <a:xfrm>
            <a:off x="6248520" y="1447920"/>
            <a:ext cx="3143160" cy="171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X@L{(_[JMM%)S)20(CDQHH"/>
          <p:cNvPicPr/>
          <p:nvPr/>
        </p:nvPicPr>
        <p:blipFill>
          <a:blip r:embed="rId4"/>
          <a:stretch/>
        </p:blipFill>
        <p:spPr>
          <a:xfrm>
            <a:off x="533520" y="3962520"/>
            <a:ext cx="3628800" cy="1552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QW1_PYUX1YM9BHO]$8[7A~B"/>
          <p:cNvPicPr/>
          <p:nvPr/>
        </p:nvPicPr>
        <p:blipFill>
          <a:blip r:embed="rId5"/>
          <a:stretch/>
        </p:blipFill>
        <p:spPr>
          <a:xfrm>
            <a:off x="5105520" y="3809880"/>
            <a:ext cx="2971800" cy="1752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0" y="57150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play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sketball             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ma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c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013560" y="649116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497d"/>
                </a:solidFill>
                <a:latin typeface="Calibri"/>
              </a:rPr>
              <a:t>描述艾米昨天的活动</a:t>
            </a:r>
            <a:r>
              <a:rPr b="0" lang="zh-CN" sz="1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lang="zh-CN" sz="1800" spc="-1" strike="noStrike">
                <a:solidFill>
                  <a:srgbClr val="1f497d"/>
                </a:solidFill>
                <a:latin typeface="Calibri"/>
              </a:rPr>
              <a:t>注意动词用</a:t>
            </a:r>
            <a:r>
              <a:rPr b="0" lang="zh-CN" sz="1800" spc="-1" strike="noStrike">
                <a:solidFill>
                  <a:srgbClr val="ff3300"/>
                </a:solidFill>
                <a:latin typeface="Calibri"/>
              </a:rPr>
              <a:t>过去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30:32Z</dcterms:created>
  <dc:creator>User</dc:creator>
  <dc:description/>
  <dc:language>en-US</dc:language>
  <cp:lastModifiedBy>User</cp:lastModifiedBy>
  <dcterms:modified xsi:type="dcterms:W3CDTF">2017-12-17T09:30:33Z</dcterms:modified>
  <cp:revision>1</cp:revision>
  <dc:subject/>
  <dc:title>Module 8 Unit 2　 I took some pictures </dc:title>
</cp:coreProperties>
</file>