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18666"/>
                </a:solidFill>
                <a:latin typeface="幼圆"/>
              </a:rPr>
              <a:t>Click to move the slide</a:t>
            </a: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8F0E-67FD-4F41-8051-6B1C58950C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问学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is Xiaoling’s teacher?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让学生用带介词短语的句子回答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过张亮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ld lad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学生说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ok lik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是猜测，看起来像，可能是真的，也可能不是真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学生看图，在所给职业单词范围内进行任意猜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oks lik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操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D03-CD61-4CE0-BD68-2DFECD76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7BA-5799-44AD-B260-6661A85D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B5A-0E73-46D1-AC22-562C869A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52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8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52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93C-47DF-4611-9EE9-C7853F3E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26E2-DD0B-455D-A15B-90ECCEA4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68A7-5159-404B-B698-A2E47258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CB18-009B-4C85-8CB5-AF531CA6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93A1-6577-44EB-B48E-0AFA61B8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E95F-ADBD-4E98-AEE2-C051E321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47840" y="276120"/>
            <a:ext cx="82152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F9A7-2D0A-44B9-B474-E796A970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1987-3318-437B-B2AC-A1ED6923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4CF-F12F-4DB1-80CF-D824348D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81E1-D04B-4BD4-9CC9-C0C8CDEE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5D31-161D-4D41-B17D-1FD99913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91C1-553E-49F5-A843-7B08E95C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AB94-8B46-43F8-944F-18BA2FE6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52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0300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78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52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0300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D7C5-F425-48D0-ACC2-E47336EF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5806C-17F1-4FC1-AD12-9BE29359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5A5A8-EF0D-4120-A066-59579343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3C215-7EB1-40F0-8AEF-CB04756B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B6BA-24D8-44F1-9D16-27031ADB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7142-6786-4660-AFDB-CD70FB51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5AD-41EA-4855-AC4C-1C31ED81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47840" y="276120"/>
            <a:ext cx="82152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5EC3D-B4D4-4F10-B1D4-51164F33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4A56-E4F6-4875-BBA3-7598D135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C589C-C8E8-4750-BCD0-EBD1F31D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D65DA-3FFF-4CD3-B605-C1760A3F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A0A7C-1E48-47CD-BD42-E1ED654A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BB8B-CB54-4A7E-856E-4CCAB0EE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252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0300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478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252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0300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BD7BE-1F85-47FB-86C8-9141B94C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AD5-F997-46AA-8BAB-B04C3BE9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1CB-492E-46F9-951E-41744E70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840" y="276120"/>
            <a:ext cx="82152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8CF-5530-4373-AC93-BC240A49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AAA-EBE9-4F02-849E-23B04CF6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992-5B01-44FB-8938-EE0E6815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2DE-D172-400E-AA18-6A69DB2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60E9-0FBF-4E18-8EC1-185D53070C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2" descr=""/>
          <p:cNvPicPr/>
          <p:nvPr/>
        </p:nvPicPr>
        <p:blipFill>
          <a:blip r:embed="rId2"/>
          <a:srcRect l="13780" t="0" r="-24" b="0"/>
          <a:stretch/>
        </p:blipFill>
        <p:spPr>
          <a:xfrm>
            <a:off x="-38160" y="-7920"/>
            <a:ext cx="7886880" cy="68659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4" descr=""/>
          <p:cNvPicPr/>
          <p:nvPr/>
        </p:nvPicPr>
        <p:blipFill>
          <a:blip r:embed="rId3"/>
          <a:srcRect l="54995" t="55709" r="2717" b="30524"/>
          <a:stretch/>
        </p:blipFill>
        <p:spPr>
          <a:xfrm>
            <a:off x="3162240" y="4822920"/>
            <a:ext cx="3867120" cy="946080"/>
          </a:xfrm>
          <a:prstGeom prst="rect">
            <a:avLst/>
          </a:prstGeom>
          <a:ln w="0">
            <a:noFill/>
          </a:ln>
        </p:spPr>
      </p:pic>
      <p:sp>
        <p:nvSpPr>
          <p:cNvPr id="43" name="矩形 15"/>
          <p:cNvSpPr/>
          <p:nvPr/>
        </p:nvSpPr>
        <p:spPr>
          <a:xfrm>
            <a:off x="0" y="0"/>
            <a:ext cx="9086760" cy="6865920"/>
          </a:xfrm>
          <a:prstGeom prst="rect">
            <a:avLst/>
          </a:prstGeom>
          <a:solidFill>
            <a:srgbClr val="f8f3d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3"/>
          <p:cNvSpPr/>
          <p:nvPr/>
        </p:nvSpPr>
        <p:spPr>
          <a:xfrm>
            <a:off x="7696080" y="-7920"/>
            <a:ext cx="1447920" cy="6865920"/>
          </a:xfrm>
          <a:prstGeom prst="rect">
            <a:avLst/>
          </a:prstGeom>
          <a:solidFill>
            <a:srgbClr val="f8f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E94C-0316-4299-8357-D76C11B46798}" type="slidenum">
              <a:rPr b="0" lang="zh-CN" sz="9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18666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70d4d7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0" descr=""/>
          <p:cNvPicPr/>
          <p:nvPr/>
        </p:nvPicPr>
        <p:blipFill>
          <a:blip r:embed="rId2"/>
          <a:srcRect l="13780" t="0" r="-24" b="0"/>
          <a:stretch/>
        </p:blipFill>
        <p:spPr>
          <a:xfrm>
            <a:off x="-38160" y="-7920"/>
            <a:ext cx="7886880" cy="6865920"/>
          </a:xfrm>
          <a:prstGeom prst="rect">
            <a:avLst/>
          </a:prstGeom>
          <a:ln w="0">
            <a:noFill/>
          </a:ln>
        </p:spPr>
      </p:pic>
      <p:sp>
        <p:nvSpPr>
          <p:cNvPr id="87" name="矩形 11"/>
          <p:cNvSpPr/>
          <p:nvPr/>
        </p:nvSpPr>
        <p:spPr>
          <a:xfrm>
            <a:off x="7696080" y="-7920"/>
            <a:ext cx="1447920" cy="6865920"/>
          </a:xfrm>
          <a:prstGeom prst="rect">
            <a:avLst/>
          </a:prstGeom>
          <a:solidFill>
            <a:srgbClr val="f8f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6" descr=""/>
          <p:cNvPicPr/>
          <p:nvPr/>
        </p:nvPicPr>
        <p:blipFill>
          <a:blip r:embed="rId3"/>
          <a:srcRect l="54995" t="55709" r="2717" b="30524"/>
          <a:stretch/>
        </p:blipFill>
        <p:spPr>
          <a:xfrm>
            <a:off x="3162240" y="4822920"/>
            <a:ext cx="3867120" cy="9460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7" descr=""/>
          <p:cNvPicPr/>
          <p:nvPr/>
        </p:nvPicPr>
        <p:blipFill>
          <a:blip r:embed="rId4"/>
          <a:srcRect l="5845" t="5458" r="7005" b="21263"/>
          <a:stretch/>
        </p:blipFill>
        <p:spPr>
          <a:xfrm>
            <a:off x="5653080" y="5938920"/>
            <a:ext cx="1866960" cy="581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0FC6-2876-4FED-9EFD-B6526AF07CC5}" type="slidenum">
              <a:rPr b="0" lang="zh-CN" sz="9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165560" y="2376360"/>
            <a:ext cx="4670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18666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6d6d6d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6d6d6d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5f5f5f"/>
              </a:solidFill>
              <a:latin typeface="Calibri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f5f5f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5f5f5f"/>
              </a:solidFill>
              <a:latin typeface="Calibri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f5f5f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5f5f5f"/>
              </a:solidFill>
              <a:latin typeface="Calibri"/>
            </a:endParaRPr>
          </a:p>
          <a:p>
            <a:pPr lvl="5" marL="1371600">
              <a:spcBef>
                <a:spcPts val="326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5f5f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5f5f5f"/>
              </a:solidFill>
              <a:latin typeface="Calibri"/>
            </a:endParaRPr>
          </a:p>
          <a:p>
            <a:pPr lvl="6" marL="1371600">
              <a:spcBef>
                <a:spcPts val="326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5f5f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2"/>
          <p:cNvSpPr/>
          <p:nvPr/>
        </p:nvSpPr>
        <p:spPr>
          <a:xfrm>
            <a:off x="1187280" y="2565360"/>
            <a:ext cx="677232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Module 1 Peop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37810" r="0" b="2132"/>
          <a:stretch/>
        </p:blipFill>
        <p:spPr>
          <a:xfrm>
            <a:off x="3492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139760" y="1233360"/>
            <a:ext cx="5019840" cy="1589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2520" y="3247920"/>
            <a:ext cx="3641760" cy="3129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95640" y="3573360"/>
            <a:ext cx="2660760" cy="2819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8720" y="4149720"/>
            <a:ext cx="28083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05000" y="1363680"/>
            <a:ext cx="538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ook at the la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ook at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r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ooks like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a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20667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37810" r="0" b="213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39760" y="1233360"/>
            <a:ext cx="5019840" cy="1589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22520" y="3247920"/>
            <a:ext cx="3641760" cy="3129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05000" y="1363680"/>
            <a:ext cx="538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ook at the la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ook at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r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ooks like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a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rcRect l="0" t="0" r="0" b="4718"/>
          <a:stretch/>
        </p:blipFill>
        <p:spPr>
          <a:xfrm>
            <a:off x="3851280" y="3573360"/>
            <a:ext cx="2703600" cy="2567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211640" y="2060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e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634920" y="691920"/>
            <a:ext cx="5473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looks like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a ____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omic Sans MS"/>
              </a:rPr>
              <a:t> </a:t>
            </a:r>
            <a:endParaRPr b="1" lang="en-US" sz="3600" spc="-1" strike="noStrike">
              <a:solidFill>
                <a:srgbClr val="018666"/>
              </a:solidFill>
              <a:latin typeface="幼圆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0" y="720720"/>
            <a:ext cx="7885080" cy="6137280"/>
            <a:chOff x="0" y="720720"/>
            <a:chExt cx="7885080" cy="6137280"/>
          </a:xfrm>
        </p:grpSpPr>
        <p:sp>
          <p:nvSpPr>
            <p:cNvPr id="192" name="未知"/>
            <p:cNvSpPr/>
            <p:nvPr/>
          </p:nvSpPr>
          <p:spPr>
            <a:xfrm>
              <a:off x="444600" y="4068720"/>
              <a:ext cx="2111400" cy="2030400"/>
            </a:xfrm>
            <a:custGeom>
              <a:avLst/>
              <a:gdLst/>
              <a:ahLst/>
              <a:rect l="l" t="t" r="r" b="b"/>
              <a:pathLst>
                <a:path w="5322" h="5115">
                  <a:moveTo>
                    <a:pt x="627" y="721"/>
                  </a:moveTo>
                  <a:lnTo>
                    <a:pt x="617" y="750"/>
                  </a:lnTo>
                  <a:lnTo>
                    <a:pt x="591" y="836"/>
                  </a:lnTo>
                  <a:lnTo>
                    <a:pt x="550" y="972"/>
                  </a:lnTo>
                  <a:lnTo>
                    <a:pt x="499" y="1154"/>
                  </a:lnTo>
                  <a:lnTo>
                    <a:pt x="470" y="1260"/>
                  </a:lnTo>
                  <a:lnTo>
                    <a:pt x="439" y="1376"/>
                  </a:lnTo>
                  <a:lnTo>
                    <a:pt x="407" y="1501"/>
                  </a:lnTo>
                  <a:lnTo>
                    <a:pt x="374" y="1634"/>
                  </a:lnTo>
                  <a:lnTo>
                    <a:pt x="340" y="1773"/>
                  </a:lnTo>
                  <a:lnTo>
                    <a:pt x="307" y="1920"/>
                  </a:lnTo>
                  <a:lnTo>
                    <a:pt x="272" y="2073"/>
                  </a:lnTo>
                  <a:lnTo>
                    <a:pt x="238" y="2232"/>
                  </a:lnTo>
                  <a:lnTo>
                    <a:pt x="206" y="2395"/>
                  </a:lnTo>
                  <a:lnTo>
                    <a:pt x="175" y="2563"/>
                  </a:lnTo>
                  <a:lnTo>
                    <a:pt x="144" y="2735"/>
                  </a:lnTo>
                  <a:lnTo>
                    <a:pt x="117" y="2909"/>
                  </a:lnTo>
                  <a:lnTo>
                    <a:pt x="90" y="3087"/>
                  </a:lnTo>
                  <a:lnTo>
                    <a:pt x="67" y="3264"/>
                  </a:lnTo>
                  <a:lnTo>
                    <a:pt x="46" y="3444"/>
                  </a:lnTo>
                  <a:lnTo>
                    <a:pt x="28" y="3624"/>
                  </a:lnTo>
                  <a:lnTo>
                    <a:pt x="16" y="3802"/>
                  </a:lnTo>
                  <a:lnTo>
                    <a:pt x="6" y="3981"/>
                  </a:lnTo>
                  <a:lnTo>
                    <a:pt x="1" y="4159"/>
                  </a:lnTo>
                  <a:lnTo>
                    <a:pt x="0" y="4332"/>
                  </a:lnTo>
                  <a:lnTo>
                    <a:pt x="5" y="4505"/>
                  </a:lnTo>
                  <a:lnTo>
                    <a:pt x="15" y="4672"/>
                  </a:lnTo>
                  <a:lnTo>
                    <a:pt x="31" y="4836"/>
                  </a:lnTo>
                  <a:lnTo>
                    <a:pt x="53" y="4996"/>
                  </a:lnTo>
                  <a:lnTo>
                    <a:pt x="102" y="4998"/>
                  </a:lnTo>
                  <a:lnTo>
                    <a:pt x="241" y="5008"/>
                  </a:lnTo>
                  <a:lnTo>
                    <a:pt x="458" y="5023"/>
                  </a:lnTo>
                  <a:lnTo>
                    <a:pt x="744" y="5041"/>
                  </a:lnTo>
                  <a:lnTo>
                    <a:pt x="908" y="5049"/>
                  </a:lnTo>
                  <a:lnTo>
                    <a:pt x="1085" y="5058"/>
                  </a:lnTo>
                  <a:lnTo>
                    <a:pt x="1273" y="5068"/>
                  </a:lnTo>
                  <a:lnTo>
                    <a:pt x="1471" y="5077"/>
                  </a:lnTo>
                  <a:lnTo>
                    <a:pt x="1677" y="5085"/>
                  </a:lnTo>
                  <a:lnTo>
                    <a:pt x="1891" y="5093"/>
                  </a:lnTo>
                  <a:lnTo>
                    <a:pt x="2111" y="5100"/>
                  </a:lnTo>
                  <a:lnTo>
                    <a:pt x="2333" y="5106"/>
                  </a:lnTo>
                  <a:lnTo>
                    <a:pt x="2559" y="5110"/>
                  </a:lnTo>
                  <a:lnTo>
                    <a:pt x="2786" y="5114"/>
                  </a:lnTo>
                  <a:lnTo>
                    <a:pt x="3014" y="5115"/>
                  </a:lnTo>
                  <a:lnTo>
                    <a:pt x="3240" y="5115"/>
                  </a:lnTo>
                  <a:lnTo>
                    <a:pt x="3463" y="5113"/>
                  </a:lnTo>
                  <a:lnTo>
                    <a:pt x="3682" y="5108"/>
                  </a:lnTo>
                  <a:lnTo>
                    <a:pt x="3894" y="5100"/>
                  </a:lnTo>
                  <a:lnTo>
                    <a:pt x="4100" y="5090"/>
                  </a:lnTo>
                  <a:lnTo>
                    <a:pt x="4298" y="5078"/>
                  </a:lnTo>
                  <a:lnTo>
                    <a:pt x="4485" y="5063"/>
                  </a:lnTo>
                  <a:lnTo>
                    <a:pt x="4661" y="5043"/>
                  </a:lnTo>
                  <a:lnTo>
                    <a:pt x="4824" y="5021"/>
                  </a:lnTo>
                  <a:lnTo>
                    <a:pt x="4973" y="4995"/>
                  </a:lnTo>
                  <a:lnTo>
                    <a:pt x="5107" y="4965"/>
                  </a:lnTo>
                  <a:lnTo>
                    <a:pt x="5223" y="4931"/>
                  </a:lnTo>
                  <a:lnTo>
                    <a:pt x="5322" y="4893"/>
                  </a:lnTo>
                  <a:lnTo>
                    <a:pt x="5318" y="4858"/>
                  </a:lnTo>
                  <a:lnTo>
                    <a:pt x="5308" y="4758"/>
                  </a:lnTo>
                  <a:lnTo>
                    <a:pt x="5291" y="4599"/>
                  </a:lnTo>
                  <a:lnTo>
                    <a:pt x="5270" y="4392"/>
                  </a:lnTo>
                  <a:lnTo>
                    <a:pt x="5242" y="4142"/>
                  </a:lnTo>
                  <a:lnTo>
                    <a:pt x="5210" y="3858"/>
                  </a:lnTo>
                  <a:lnTo>
                    <a:pt x="5173" y="3549"/>
                  </a:lnTo>
                  <a:lnTo>
                    <a:pt x="5133" y="3221"/>
                  </a:lnTo>
                  <a:lnTo>
                    <a:pt x="5112" y="3053"/>
                  </a:lnTo>
                  <a:lnTo>
                    <a:pt x="5090" y="2883"/>
                  </a:lnTo>
                  <a:lnTo>
                    <a:pt x="5066" y="2712"/>
                  </a:lnTo>
                  <a:lnTo>
                    <a:pt x="5043" y="2542"/>
                  </a:lnTo>
                  <a:lnTo>
                    <a:pt x="5018" y="2373"/>
                  </a:lnTo>
                  <a:lnTo>
                    <a:pt x="4993" y="2207"/>
                  </a:lnTo>
                  <a:lnTo>
                    <a:pt x="4967" y="2043"/>
                  </a:lnTo>
                  <a:lnTo>
                    <a:pt x="4941" y="1884"/>
                  </a:lnTo>
                  <a:lnTo>
                    <a:pt x="4915" y="1730"/>
                  </a:lnTo>
                  <a:lnTo>
                    <a:pt x="4887" y="1583"/>
                  </a:lnTo>
                  <a:lnTo>
                    <a:pt x="4861" y="1443"/>
                  </a:lnTo>
                  <a:lnTo>
                    <a:pt x="4834" y="1310"/>
                  </a:lnTo>
                  <a:lnTo>
                    <a:pt x="4805" y="1187"/>
                  </a:lnTo>
                  <a:lnTo>
                    <a:pt x="4778" y="1074"/>
                  </a:lnTo>
                  <a:lnTo>
                    <a:pt x="4751" y="972"/>
                  </a:lnTo>
                  <a:lnTo>
                    <a:pt x="4722" y="882"/>
                  </a:lnTo>
                  <a:lnTo>
                    <a:pt x="4399" y="424"/>
                  </a:lnTo>
                  <a:lnTo>
                    <a:pt x="4362" y="412"/>
                  </a:lnTo>
                  <a:lnTo>
                    <a:pt x="4255" y="378"/>
                  </a:lnTo>
                  <a:lnTo>
                    <a:pt x="4178" y="356"/>
                  </a:lnTo>
                  <a:lnTo>
                    <a:pt x="4088" y="330"/>
                  </a:lnTo>
                  <a:lnTo>
                    <a:pt x="3985" y="301"/>
                  </a:lnTo>
                  <a:lnTo>
                    <a:pt x="3870" y="270"/>
                  </a:lnTo>
                  <a:lnTo>
                    <a:pt x="3745" y="238"/>
                  </a:lnTo>
                  <a:lnTo>
                    <a:pt x="3611" y="206"/>
                  </a:lnTo>
                  <a:lnTo>
                    <a:pt x="3468" y="173"/>
                  </a:lnTo>
                  <a:lnTo>
                    <a:pt x="3319" y="142"/>
                  </a:lnTo>
                  <a:lnTo>
                    <a:pt x="3164" y="111"/>
                  </a:lnTo>
                  <a:lnTo>
                    <a:pt x="3004" y="84"/>
                  </a:lnTo>
                  <a:lnTo>
                    <a:pt x="2841" y="59"/>
                  </a:lnTo>
                  <a:lnTo>
                    <a:pt x="2675" y="37"/>
                  </a:lnTo>
                  <a:lnTo>
                    <a:pt x="2507" y="20"/>
                  </a:lnTo>
                  <a:lnTo>
                    <a:pt x="2341" y="7"/>
                  </a:lnTo>
                  <a:lnTo>
                    <a:pt x="2174" y="1"/>
                  </a:lnTo>
                  <a:lnTo>
                    <a:pt x="2010" y="0"/>
                  </a:lnTo>
                  <a:lnTo>
                    <a:pt x="1849" y="6"/>
                  </a:lnTo>
                  <a:lnTo>
                    <a:pt x="1692" y="20"/>
                  </a:lnTo>
                  <a:lnTo>
                    <a:pt x="1542" y="42"/>
                  </a:lnTo>
                  <a:lnTo>
                    <a:pt x="1398" y="72"/>
                  </a:lnTo>
                  <a:lnTo>
                    <a:pt x="1261" y="113"/>
                  </a:lnTo>
                  <a:lnTo>
                    <a:pt x="1135" y="163"/>
                  </a:lnTo>
                  <a:lnTo>
                    <a:pt x="1018" y="226"/>
                  </a:lnTo>
                  <a:lnTo>
                    <a:pt x="913" y="299"/>
                  </a:lnTo>
                  <a:lnTo>
                    <a:pt x="819" y="383"/>
                  </a:lnTo>
                  <a:lnTo>
                    <a:pt x="740" y="482"/>
                  </a:lnTo>
                  <a:lnTo>
                    <a:pt x="675" y="594"/>
                  </a:lnTo>
                  <a:lnTo>
                    <a:pt x="627" y="72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30200" y="4054320"/>
              <a:ext cx="2141640" cy="2059200"/>
            </a:xfrm>
            <a:custGeom>
              <a:avLst/>
              <a:gdLst/>
              <a:ahLst/>
              <a:rect l="l" t="t" r="r" b="b"/>
              <a:pathLst>
                <a:path w="5394" h="5190">
                  <a:moveTo>
                    <a:pt x="1104" y="194"/>
                  </a:moveTo>
                  <a:lnTo>
                    <a:pt x="1059" y="218"/>
                  </a:lnTo>
                  <a:lnTo>
                    <a:pt x="1017" y="244"/>
                  </a:lnTo>
                  <a:lnTo>
                    <a:pt x="976" y="271"/>
                  </a:lnTo>
                  <a:lnTo>
                    <a:pt x="938" y="300"/>
                  </a:lnTo>
                  <a:lnTo>
                    <a:pt x="900" y="329"/>
                  </a:lnTo>
                  <a:lnTo>
                    <a:pt x="866" y="360"/>
                  </a:lnTo>
                  <a:lnTo>
                    <a:pt x="833" y="393"/>
                  </a:lnTo>
                  <a:lnTo>
                    <a:pt x="802" y="427"/>
                  </a:lnTo>
                  <a:lnTo>
                    <a:pt x="774" y="462"/>
                  </a:lnTo>
                  <a:lnTo>
                    <a:pt x="746" y="499"/>
                  </a:lnTo>
                  <a:lnTo>
                    <a:pt x="722" y="538"/>
                  </a:lnTo>
                  <a:lnTo>
                    <a:pt x="698" y="576"/>
                  </a:lnTo>
                  <a:lnTo>
                    <a:pt x="678" y="617"/>
                  </a:lnTo>
                  <a:lnTo>
                    <a:pt x="659" y="659"/>
                  </a:lnTo>
                  <a:lnTo>
                    <a:pt x="642" y="704"/>
                  </a:lnTo>
                  <a:lnTo>
                    <a:pt x="627" y="749"/>
                  </a:lnTo>
                  <a:lnTo>
                    <a:pt x="627" y="747"/>
                  </a:lnTo>
                  <a:lnTo>
                    <a:pt x="617" y="782"/>
                  </a:lnTo>
                  <a:lnTo>
                    <a:pt x="590" y="871"/>
                  </a:lnTo>
                  <a:lnTo>
                    <a:pt x="549" y="1012"/>
                  </a:lnTo>
                  <a:lnTo>
                    <a:pt x="497" y="1197"/>
                  </a:lnTo>
                  <a:lnTo>
                    <a:pt x="467" y="1303"/>
                  </a:lnTo>
                  <a:lnTo>
                    <a:pt x="436" y="1421"/>
                  </a:lnTo>
                  <a:lnTo>
                    <a:pt x="405" y="1546"/>
                  </a:lnTo>
                  <a:lnTo>
                    <a:pt x="371" y="1679"/>
                  </a:lnTo>
                  <a:lnTo>
                    <a:pt x="338" y="1821"/>
                  </a:lnTo>
                  <a:lnTo>
                    <a:pt x="304" y="1968"/>
                  </a:lnTo>
                  <a:lnTo>
                    <a:pt x="270" y="2122"/>
                  </a:lnTo>
                  <a:lnTo>
                    <a:pt x="236" y="2281"/>
                  </a:lnTo>
                  <a:lnTo>
                    <a:pt x="204" y="2445"/>
                  </a:lnTo>
                  <a:lnTo>
                    <a:pt x="173" y="2613"/>
                  </a:lnTo>
                  <a:lnTo>
                    <a:pt x="143" y="2785"/>
                  </a:lnTo>
                  <a:lnTo>
                    <a:pt x="114" y="2960"/>
                  </a:lnTo>
                  <a:lnTo>
                    <a:pt x="89" y="3136"/>
                  </a:lnTo>
                  <a:lnTo>
                    <a:pt x="66" y="3314"/>
                  </a:lnTo>
                  <a:lnTo>
                    <a:pt x="46" y="3493"/>
                  </a:lnTo>
                  <a:lnTo>
                    <a:pt x="29" y="3673"/>
                  </a:lnTo>
                  <a:lnTo>
                    <a:pt x="15" y="3852"/>
                  </a:lnTo>
                  <a:lnTo>
                    <a:pt x="6" y="4029"/>
                  </a:lnTo>
                  <a:lnTo>
                    <a:pt x="0" y="4205"/>
                  </a:lnTo>
                  <a:lnTo>
                    <a:pt x="0" y="4380"/>
                  </a:lnTo>
                  <a:lnTo>
                    <a:pt x="5" y="4550"/>
                  </a:lnTo>
                  <a:lnTo>
                    <a:pt x="15" y="4718"/>
                  </a:lnTo>
                  <a:lnTo>
                    <a:pt x="31" y="4881"/>
                  </a:lnTo>
                  <a:lnTo>
                    <a:pt x="53" y="5039"/>
                  </a:lnTo>
                  <a:lnTo>
                    <a:pt x="57" y="5067"/>
                  </a:lnTo>
                  <a:lnTo>
                    <a:pt x="86" y="5069"/>
                  </a:lnTo>
                  <a:lnTo>
                    <a:pt x="164" y="5075"/>
                  </a:lnTo>
                  <a:lnTo>
                    <a:pt x="324" y="5086"/>
                  </a:lnTo>
                  <a:lnTo>
                    <a:pt x="559" y="5101"/>
                  </a:lnTo>
                  <a:lnTo>
                    <a:pt x="853" y="5118"/>
                  </a:lnTo>
                  <a:lnTo>
                    <a:pt x="1021" y="5128"/>
                  </a:lnTo>
                  <a:lnTo>
                    <a:pt x="1201" y="5137"/>
                  </a:lnTo>
                  <a:lnTo>
                    <a:pt x="1390" y="5146"/>
                  </a:lnTo>
                  <a:lnTo>
                    <a:pt x="1587" y="5154"/>
                  </a:lnTo>
                  <a:lnTo>
                    <a:pt x="1793" y="5163"/>
                  </a:lnTo>
                  <a:lnTo>
                    <a:pt x="2005" y="5170"/>
                  </a:lnTo>
                  <a:lnTo>
                    <a:pt x="2222" y="5177"/>
                  </a:lnTo>
                  <a:lnTo>
                    <a:pt x="2441" y="5183"/>
                  </a:lnTo>
                  <a:lnTo>
                    <a:pt x="2665" y="5187"/>
                  </a:lnTo>
                  <a:lnTo>
                    <a:pt x="2887" y="5189"/>
                  </a:lnTo>
                  <a:lnTo>
                    <a:pt x="3111" y="5190"/>
                  </a:lnTo>
                  <a:lnTo>
                    <a:pt x="3332" y="5189"/>
                  </a:lnTo>
                  <a:lnTo>
                    <a:pt x="3550" y="5187"/>
                  </a:lnTo>
                  <a:lnTo>
                    <a:pt x="3764" y="5182"/>
                  </a:lnTo>
                  <a:lnTo>
                    <a:pt x="3972" y="5174"/>
                  </a:lnTo>
                  <a:lnTo>
                    <a:pt x="4174" y="5163"/>
                  </a:lnTo>
                  <a:lnTo>
                    <a:pt x="4366" y="5151"/>
                  </a:lnTo>
                  <a:lnTo>
                    <a:pt x="4549" y="5134"/>
                  </a:lnTo>
                  <a:lnTo>
                    <a:pt x="4721" y="5115"/>
                  </a:lnTo>
                  <a:lnTo>
                    <a:pt x="4881" y="5092"/>
                  </a:lnTo>
                  <a:lnTo>
                    <a:pt x="5028" y="5066"/>
                  </a:lnTo>
                  <a:lnTo>
                    <a:pt x="5158" y="5035"/>
                  </a:lnTo>
                  <a:lnTo>
                    <a:pt x="5274" y="5002"/>
                  </a:lnTo>
                  <a:lnTo>
                    <a:pt x="5371" y="4963"/>
                  </a:lnTo>
                  <a:lnTo>
                    <a:pt x="5394" y="4953"/>
                  </a:lnTo>
                  <a:lnTo>
                    <a:pt x="5392" y="4927"/>
                  </a:lnTo>
                  <a:lnTo>
                    <a:pt x="5388" y="4888"/>
                  </a:lnTo>
                  <a:lnTo>
                    <a:pt x="5377" y="4782"/>
                  </a:lnTo>
                  <a:lnTo>
                    <a:pt x="5361" y="4621"/>
                  </a:lnTo>
                  <a:lnTo>
                    <a:pt x="5338" y="4411"/>
                  </a:lnTo>
                  <a:lnTo>
                    <a:pt x="5311" y="4159"/>
                  </a:lnTo>
                  <a:lnTo>
                    <a:pt x="5277" y="3875"/>
                  </a:lnTo>
                  <a:lnTo>
                    <a:pt x="5241" y="3565"/>
                  </a:lnTo>
                  <a:lnTo>
                    <a:pt x="5200" y="3237"/>
                  </a:lnTo>
                  <a:lnTo>
                    <a:pt x="5179" y="3070"/>
                  </a:lnTo>
                  <a:lnTo>
                    <a:pt x="5157" y="2900"/>
                  </a:lnTo>
                  <a:lnTo>
                    <a:pt x="5133" y="2730"/>
                  </a:lnTo>
                  <a:lnTo>
                    <a:pt x="5110" y="2560"/>
                  </a:lnTo>
                  <a:lnTo>
                    <a:pt x="5085" y="2391"/>
                  </a:lnTo>
                  <a:lnTo>
                    <a:pt x="5060" y="2226"/>
                  </a:lnTo>
                  <a:lnTo>
                    <a:pt x="5035" y="2063"/>
                  </a:lnTo>
                  <a:lnTo>
                    <a:pt x="5009" y="1905"/>
                  </a:lnTo>
                  <a:lnTo>
                    <a:pt x="4982" y="1751"/>
                  </a:lnTo>
                  <a:lnTo>
                    <a:pt x="4956" y="1605"/>
                  </a:lnTo>
                  <a:lnTo>
                    <a:pt x="4929" y="1466"/>
                  </a:lnTo>
                  <a:lnTo>
                    <a:pt x="4901" y="1334"/>
                  </a:lnTo>
                  <a:lnTo>
                    <a:pt x="4874" y="1211"/>
                  </a:lnTo>
                  <a:lnTo>
                    <a:pt x="4847" y="1100"/>
                  </a:lnTo>
                  <a:lnTo>
                    <a:pt x="4819" y="998"/>
                  </a:lnTo>
                  <a:lnTo>
                    <a:pt x="4792" y="909"/>
                  </a:lnTo>
                  <a:lnTo>
                    <a:pt x="4457" y="432"/>
                  </a:lnTo>
                  <a:lnTo>
                    <a:pt x="4446" y="429"/>
                  </a:lnTo>
                  <a:lnTo>
                    <a:pt x="4405" y="415"/>
                  </a:lnTo>
                  <a:lnTo>
                    <a:pt x="4318" y="388"/>
                  </a:lnTo>
                  <a:lnTo>
                    <a:pt x="4191" y="349"/>
                  </a:lnTo>
                  <a:lnTo>
                    <a:pt x="4030" y="303"/>
                  </a:lnTo>
                  <a:lnTo>
                    <a:pt x="3938" y="278"/>
                  </a:lnTo>
                  <a:lnTo>
                    <a:pt x="3838" y="252"/>
                  </a:lnTo>
                  <a:lnTo>
                    <a:pt x="3733" y="226"/>
                  </a:lnTo>
                  <a:lnTo>
                    <a:pt x="3621" y="199"/>
                  </a:lnTo>
                  <a:lnTo>
                    <a:pt x="3504" y="173"/>
                  </a:lnTo>
                  <a:lnTo>
                    <a:pt x="3383" y="147"/>
                  </a:lnTo>
                  <a:lnTo>
                    <a:pt x="3257" y="122"/>
                  </a:lnTo>
                  <a:lnTo>
                    <a:pt x="3129" y="99"/>
                  </a:lnTo>
                  <a:lnTo>
                    <a:pt x="2998" y="77"/>
                  </a:lnTo>
                  <a:lnTo>
                    <a:pt x="2864" y="58"/>
                  </a:lnTo>
                  <a:lnTo>
                    <a:pt x="2729" y="40"/>
                  </a:lnTo>
                  <a:lnTo>
                    <a:pt x="2593" y="25"/>
                  </a:lnTo>
                  <a:lnTo>
                    <a:pt x="2456" y="13"/>
                  </a:lnTo>
                  <a:lnTo>
                    <a:pt x="2320" y="5"/>
                  </a:lnTo>
                  <a:lnTo>
                    <a:pt x="2184" y="0"/>
                  </a:lnTo>
                  <a:lnTo>
                    <a:pt x="2051" y="0"/>
                  </a:lnTo>
                  <a:lnTo>
                    <a:pt x="1919" y="5"/>
                  </a:lnTo>
                  <a:lnTo>
                    <a:pt x="1789" y="14"/>
                  </a:lnTo>
                  <a:lnTo>
                    <a:pt x="1664" y="29"/>
                  </a:lnTo>
                  <a:lnTo>
                    <a:pt x="1541" y="49"/>
                  </a:lnTo>
                  <a:lnTo>
                    <a:pt x="1424" y="75"/>
                  </a:lnTo>
                  <a:lnTo>
                    <a:pt x="1311" y="108"/>
                  </a:lnTo>
                  <a:lnTo>
                    <a:pt x="1205" y="147"/>
                  </a:lnTo>
                  <a:lnTo>
                    <a:pt x="1104" y="194"/>
                  </a:lnTo>
                  <a:close/>
                  <a:moveTo>
                    <a:pt x="71" y="4304"/>
                  </a:moveTo>
                  <a:lnTo>
                    <a:pt x="73" y="4156"/>
                  </a:lnTo>
                  <a:lnTo>
                    <a:pt x="78" y="4004"/>
                  </a:lnTo>
                  <a:lnTo>
                    <a:pt x="86" y="3852"/>
                  </a:lnTo>
                  <a:lnTo>
                    <a:pt x="97" y="3699"/>
                  </a:lnTo>
                  <a:lnTo>
                    <a:pt x="112" y="3545"/>
                  </a:lnTo>
                  <a:lnTo>
                    <a:pt x="128" y="3393"/>
                  </a:lnTo>
                  <a:lnTo>
                    <a:pt x="147" y="3240"/>
                  </a:lnTo>
                  <a:lnTo>
                    <a:pt x="168" y="3087"/>
                  </a:lnTo>
                  <a:lnTo>
                    <a:pt x="190" y="2936"/>
                  </a:lnTo>
                  <a:lnTo>
                    <a:pt x="215" y="2787"/>
                  </a:lnTo>
                  <a:lnTo>
                    <a:pt x="240" y="2641"/>
                  </a:lnTo>
                  <a:lnTo>
                    <a:pt x="267" y="2496"/>
                  </a:lnTo>
                  <a:lnTo>
                    <a:pt x="294" y="2354"/>
                  </a:lnTo>
                  <a:lnTo>
                    <a:pt x="323" y="2216"/>
                  </a:lnTo>
                  <a:lnTo>
                    <a:pt x="351" y="2082"/>
                  </a:lnTo>
                  <a:lnTo>
                    <a:pt x="380" y="1952"/>
                  </a:lnTo>
                  <a:lnTo>
                    <a:pt x="410" y="1826"/>
                  </a:lnTo>
                  <a:lnTo>
                    <a:pt x="438" y="1705"/>
                  </a:lnTo>
                  <a:lnTo>
                    <a:pt x="467" y="1590"/>
                  </a:lnTo>
                  <a:lnTo>
                    <a:pt x="494" y="1481"/>
                  </a:lnTo>
                  <a:lnTo>
                    <a:pt x="548" y="1281"/>
                  </a:lnTo>
                  <a:lnTo>
                    <a:pt x="595" y="1108"/>
                  </a:lnTo>
                  <a:lnTo>
                    <a:pt x="635" y="968"/>
                  </a:lnTo>
                  <a:lnTo>
                    <a:pt x="667" y="863"/>
                  </a:lnTo>
                  <a:lnTo>
                    <a:pt x="687" y="796"/>
                  </a:lnTo>
                  <a:lnTo>
                    <a:pt x="695" y="770"/>
                  </a:lnTo>
                  <a:lnTo>
                    <a:pt x="695" y="768"/>
                  </a:lnTo>
                  <a:lnTo>
                    <a:pt x="709" y="728"/>
                  </a:lnTo>
                  <a:lnTo>
                    <a:pt x="725" y="688"/>
                  </a:lnTo>
                  <a:lnTo>
                    <a:pt x="743" y="648"/>
                  </a:lnTo>
                  <a:lnTo>
                    <a:pt x="761" y="611"/>
                  </a:lnTo>
                  <a:lnTo>
                    <a:pt x="782" y="575"/>
                  </a:lnTo>
                  <a:lnTo>
                    <a:pt x="806" y="539"/>
                  </a:lnTo>
                  <a:lnTo>
                    <a:pt x="831" y="505"/>
                  </a:lnTo>
                  <a:lnTo>
                    <a:pt x="857" y="472"/>
                  </a:lnTo>
                  <a:lnTo>
                    <a:pt x="885" y="441"/>
                  </a:lnTo>
                  <a:lnTo>
                    <a:pt x="915" y="411"/>
                  </a:lnTo>
                  <a:lnTo>
                    <a:pt x="948" y="383"/>
                  </a:lnTo>
                  <a:lnTo>
                    <a:pt x="982" y="354"/>
                  </a:lnTo>
                  <a:lnTo>
                    <a:pt x="1018" y="328"/>
                  </a:lnTo>
                  <a:lnTo>
                    <a:pt x="1056" y="303"/>
                  </a:lnTo>
                  <a:lnTo>
                    <a:pt x="1095" y="280"/>
                  </a:lnTo>
                  <a:lnTo>
                    <a:pt x="1136" y="257"/>
                  </a:lnTo>
                  <a:lnTo>
                    <a:pt x="1233" y="213"/>
                  </a:lnTo>
                  <a:lnTo>
                    <a:pt x="1336" y="175"/>
                  </a:lnTo>
                  <a:lnTo>
                    <a:pt x="1444" y="144"/>
                  </a:lnTo>
                  <a:lnTo>
                    <a:pt x="1558" y="120"/>
                  </a:lnTo>
                  <a:lnTo>
                    <a:pt x="1678" y="100"/>
                  </a:lnTo>
                  <a:lnTo>
                    <a:pt x="1801" y="86"/>
                  </a:lnTo>
                  <a:lnTo>
                    <a:pt x="1926" y="77"/>
                  </a:lnTo>
                  <a:lnTo>
                    <a:pt x="2055" y="74"/>
                  </a:lnTo>
                  <a:lnTo>
                    <a:pt x="2186" y="74"/>
                  </a:lnTo>
                  <a:lnTo>
                    <a:pt x="2318" y="79"/>
                  </a:lnTo>
                  <a:lnTo>
                    <a:pt x="2451" y="87"/>
                  </a:lnTo>
                  <a:lnTo>
                    <a:pt x="2585" y="99"/>
                  </a:lnTo>
                  <a:lnTo>
                    <a:pt x="2719" y="113"/>
                  </a:lnTo>
                  <a:lnTo>
                    <a:pt x="2851" y="131"/>
                  </a:lnTo>
                  <a:lnTo>
                    <a:pt x="2983" y="149"/>
                  </a:lnTo>
                  <a:lnTo>
                    <a:pt x="3112" y="172"/>
                  </a:lnTo>
                  <a:lnTo>
                    <a:pt x="3239" y="194"/>
                  </a:lnTo>
                  <a:lnTo>
                    <a:pt x="3363" y="219"/>
                  </a:lnTo>
                  <a:lnTo>
                    <a:pt x="3482" y="244"/>
                  </a:lnTo>
                  <a:lnTo>
                    <a:pt x="3597" y="270"/>
                  </a:lnTo>
                  <a:lnTo>
                    <a:pt x="3707" y="296"/>
                  </a:lnTo>
                  <a:lnTo>
                    <a:pt x="3811" y="322"/>
                  </a:lnTo>
                  <a:lnTo>
                    <a:pt x="3909" y="347"/>
                  </a:lnTo>
                  <a:lnTo>
                    <a:pt x="4001" y="370"/>
                  </a:lnTo>
                  <a:lnTo>
                    <a:pt x="4160" y="416"/>
                  </a:lnTo>
                  <a:lnTo>
                    <a:pt x="4285" y="452"/>
                  </a:lnTo>
                  <a:lnTo>
                    <a:pt x="4371" y="479"/>
                  </a:lnTo>
                  <a:lnTo>
                    <a:pt x="4412" y="493"/>
                  </a:lnTo>
                  <a:lnTo>
                    <a:pt x="4429" y="518"/>
                  </a:lnTo>
                  <a:lnTo>
                    <a:pt x="4467" y="571"/>
                  </a:lnTo>
                  <a:lnTo>
                    <a:pt x="4518" y="643"/>
                  </a:lnTo>
                  <a:lnTo>
                    <a:pt x="4575" y="724"/>
                  </a:lnTo>
                  <a:lnTo>
                    <a:pt x="4632" y="804"/>
                  </a:lnTo>
                  <a:lnTo>
                    <a:pt x="4681" y="874"/>
                  </a:lnTo>
                  <a:lnTo>
                    <a:pt x="4715" y="922"/>
                  </a:lnTo>
                  <a:lnTo>
                    <a:pt x="4729" y="941"/>
                  </a:lnTo>
                  <a:lnTo>
                    <a:pt x="4755" y="1024"/>
                  </a:lnTo>
                  <a:lnTo>
                    <a:pt x="4780" y="1118"/>
                  </a:lnTo>
                  <a:lnTo>
                    <a:pt x="4806" y="1224"/>
                  </a:lnTo>
                  <a:lnTo>
                    <a:pt x="4832" y="1338"/>
                  </a:lnTo>
                  <a:lnTo>
                    <a:pt x="4858" y="1461"/>
                  </a:lnTo>
                  <a:lnTo>
                    <a:pt x="4883" y="1591"/>
                  </a:lnTo>
                  <a:lnTo>
                    <a:pt x="4907" y="1729"/>
                  </a:lnTo>
                  <a:lnTo>
                    <a:pt x="4932" y="1873"/>
                  </a:lnTo>
                  <a:lnTo>
                    <a:pt x="4957" y="2020"/>
                  </a:lnTo>
                  <a:lnTo>
                    <a:pt x="4982" y="2173"/>
                  </a:lnTo>
                  <a:lnTo>
                    <a:pt x="5006" y="2329"/>
                  </a:lnTo>
                  <a:lnTo>
                    <a:pt x="5029" y="2488"/>
                  </a:lnTo>
                  <a:lnTo>
                    <a:pt x="5074" y="2811"/>
                  </a:lnTo>
                  <a:lnTo>
                    <a:pt x="5116" y="3133"/>
                  </a:lnTo>
                  <a:lnTo>
                    <a:pt x="5156" y="3450"/>
                  </a:lnTo>
                  <a:lnTo>
                    <a:pt x="5192" y="3752"/>
                  </a:lnTo>
                  <a:lnTo>
                    <a:pt x="5225" y="4034"/>
                  </a:lnTo>
                  <a:lnTo>
                    <a:pt x="5254" y="4290"/>
                  </a:lnTo>
                  <a:lnTo>
                    <a:pt x="5277" y="4512"/>
                  </a:lnTo>
                  <a:lnTo>
                    <a:pt x="5296" y="4693"/>
                  </a:lnTo>
                  <a:lnTo>
                    <a:pt x="5310" y="4827"/>
                  </a:lnTo>
                  <a:lnTo>
                    <a:pt x="5318" y="4907"/>
                  </a:lnTo>
                  <a:lnTo>
                    <a:pt x="5223" y="4942"/>
                  </a:lnTo>
                  <a:lnTo>
                    <a:pt x="5111" y="4973"/>
                  </a:lnTo>
                  <a:lnTo>
                    <a:pt x="4984" y="5000"/>
                  </a:lnTo>
                  <a:lnTo>
                    <a:pt x="4844" y="5024"/>
                  </a:lnTo>
                  <a:lnTo>
                    <a:pt x="4691" y="5045"/>
                  </a:lnTo>
                  <a:lnTo>
                    <a:pt x="4527" y="5064"/>
                  </a:lnTo>
                  <a:lnTo>
                    <a:pt x="4352" y="5079"/>
                  </a:lnTo>
                  <a:lnTo>
                    <a:pt x="4169" y="5090"/>
                  </a:lnTo>
                  <a:lnTo>
                    <a:pt x="3976" y="5100"/>
                  </a:lnTo>
                  <a:lnTo>
                    <a:pt x="3777" y="5107"/>
                  </a:lnTo>
                  <a:lnTo>
                    <a:pt x="3573" y="5112"/>
                  </a:lnTo>
                  <a:lnTo>
                    <a:pt x="3365" y="5116"/>
                  </a:lnTo>
                  <a:lnTo>
                    <a:pt x="3153" y="5117"/>
                  </a:lnTo>
                  <a:lnTo>
                    <a:pt x="2939" y="5116"/>
                  </a:lnTo>
                  <a:lnTo>
                    <a:pt x="2724" y="5113"/>
                  </a:lnTo>
                  <a:lnTo>
                    <a:pt x="2511" y="5110"/>
                  </a:lnTo>
                  <a:lnTo>
                    <a:pt x="2299" y="5106"/>
                  </a:lnTo>
                  <a:lnTo>
                    <a:pt x="2089" y="5100"/>
                  </a:lnTo>
                  <a:lnTo>
                    <a:pt x="1884" y="5094"/>
                  </a:lnTo>
                  <a:lnTo>
                    <a:pt x="1684" y="5086"/>
                  </a:lnTo>
                  <a:lnTo>
                    <a:pt x="1489" y="5077"/>
                  </a:lnTo>
                  <a:lnTo>
                    <a:pt x="1303" y="5069"/>
                  </a:lnTo>
                  <a:lnTo>
                    <a:pt x="1125" y="5060"/>
                  </a:lnTo>
                  <a:lnTo>
                    <a:pt x="957" y="5051"/>
                  </a:lnTo>
                  <a:lnTo>
                    <a:pt x="658" y="5035"/>
                  </a:lnTo>
                  <a:lnTo>
                    <a:pt x="411" y="5020"/>
                  </a:lnTo>
                  <a:lnTo>
                    <a:pt x="229" y="5008"/>
                  </a:lnTo>
                  <a:lnTo>
                    <a:pt x="120" y="5000"/>
                  </a:lnTo>
                  <a:lnTo>
                    <a:pt x="108" y="4917"/>
                  </a:lnTo>
                  <a:lnTo>
                    <a:pt x="98" y="4833"/>
                  </a:lnTo>
                  <a:lnTo>
                    <a:pt x="89" y="4749"/>
                  </a:lnTo>
                  <a:lnTo>
                    <a:pt x="83" y="4662"/>
                  </a:lnTo>
                  <a:lnTo>
                    <a:pt x="78" y="4574"/>
                  </a:lnTo>
                  <a:lnTo>
                    <a:pt x="75" y="4484"/>
                  </a:lnTo>
                  <a:lnTo>
                    <a:pt x="72" y="4395"/>
                  </a:lnTo>
                  <a:lnTo>
                    <a:pt x="71" y="430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25560" y="5956200"/>
              <a:ext cx="7845120" cy="347760"/>
            </a:xfrm>
            <a:custGeom>
              <a:avLst/>
              <a:gdLst/>
              <a:ahLst/>
              <a:rect l="l" t="t" r="r" b="b"/>
              <a:pathLst>
                <a:path w="19767" h="873">
                  <a:moveTo>
                    <a:pt x="506" y="33"/>
                  </a:moveTo>
                  <a:lnTo>
                    <a:pt x="692" y="37"/>
                  </a:lnTo>
                  <a:lnTo>
                    <a:pt x="1221" y="44"/>
                  </a:lnTo>
                  <a:lnTo>
                    <a:pt x="2047" y="57"/>
                  </a:lnTo>
                  <a:lnTo>
                    <a:pt x="3126" y="71"/>
                  </a:lnTo>
                  <a:lnTo>
                    <a:pt x="4414" y="88"/>
                  </a:lnTo>
                  <a:lnTo>
                    <a:pt x="5864" y="104"/>
                  </a:lnTo>
                  <a:lnTo>
                    <a:pt x="6637" y="111"/>
                  </a:lnTo>
                  <a:lnTo>
                    <a:pt x="7434" y="119"/>
                  </a:lnTo>
                  <a:lnTo>
                    <a:pt x="8250" y="126"/>
                  </a:lnTo>
                  <a:lnTo>
                    <a:pt x="9078" y="132"/>
                  </a:lnTo>
                  <a:lnTo>
                    <a:pt x="9914" y="137"/>
                  </a:lnTo>
                  <a:lnTo>
                    <a:pt x="10752" y="141"/>
                  </a:lnTo>
                  <a:lnTo>
                    <a:pt x="11585" y="143"/>
                  </a:lnTo>
                  <a:lnTo>
                    <a:pt x="12410" y="146"/>
                  </a:lnTo>
                  <a:lnTo>
                    <a:pt x="13219" y="146"/>
                  </a:lnTo>
                  <a:lnTo>
                    <a:pt x="14008" y="143"/>
                  </a:lnTo>
                  <a:lnTo>
                    <a:pt x="14770" y="140"/>
                  </a:lnTo>
                  <a:lnTo>
                    <a:pt x="15502" y="135"/>
                  </a:lnTo>
                  <a:lnTo>
                    <a:pt x="16194" y="127"/>
                  </a:lnTo>
                  <a:lnTo>
                    <a:pt x="16845" y="117"/>
                  </a:lnTo>
                  <a:lnTo>
                    <a:pt x="17447" y="104"/>
                  </a:lnTo>
                  <a:lnTo>
                    <a:pt x="17996" y="89"/>
                  </a:lnTo>
                  <a:lnTo>
                    <a:pt x="18484" y="71"/>
                  </a:lnTo>
                  <a:lnTo>
                    <a:pt x="18908" y="50"/>
                  </a:lnTo>
                  <a:lnTo>
                    <a:pt x="19259" y="27"/>
                  </a:lnTo>
                  <a:lnTo>
                    <a:pt x="19535" y="0"/>
                  </a:lnTo>
                  <a:lnTo>
                    <a:pt x="19545" y="8"/>
                  </a:lnTo>
                  <a:lnTo>
                    <a:pt x="19567" y="32"/>
                  </a:lnTo>
                  <a:lnTo>
                    <a:pt x="19583" y="49"/>
                  </a:lnTo>
                  <a:lnTo>
                    <a:pt x="19601" y="69"/>
                  </a:lnTo>
                  <a:lnTo>
                    <a:pt x="19620" y="91"/>
                  </a:lnTo>
                  <a:lnTo>
                    <a:pt x="19640" y="117"/>
                  </a:lnTo>
                  <a:lnTo>
                    <a:pt x="19660" y="145"/>
                  </a:lnTo>
                  <a:lnTo>
                    <a:pt x="19681" y="173"/>
                  </a:lnTo>
                  <a:lnTo>
                    <a:pt x="19700" y="205"/>
                  </a:lnTo>
                  <a:lnTo>
                    <a:pt x="19719" y="238"/>
                  </a:lnTo>
                  <a:lnTo>
                    <a:pt x="19733" y="271"/>
                  </a:lnTo>
                  <a:lnTo>
                    <a:pt x="19747" y="305"/>
                  </a:lnTo>
                  <a:lnTo>
                    <a:pt x="19758" y="341"/>
                  </a:lnTo>
                  <a:lnTo>
                    <a:pt x="19765" y="375"/>
                  </a:lnTo>
                  <a:lnTo>
                    <a:pt x="19767" y="410"/>
                  </a:lnTo>
                  <a:lnTo>
                    <a:pt x="19766" y="445"/>
                  </a:lnTo>
                  <a:lnTo>
                    <a:pt x="19758" y="480"/>
                  </a:lnTo>
                  <a:lnTo>
                    <a:pt x="19745" y="513"/>
                  </a:lnTo>
                  <a:lnTo>
                    <a:pt x="19725" y="545"/>
                  </a:lnTo>
                  <a:lnTo>
                    <a:pt x="19697" y="576"/>
                  </a:lnTo>
                  <a:lnTo>
                    <a:pt x="19664" y="606"/>
                  </a:lnTo>
                  <a:lnTo>
                    <a:pt x="19622" y="634"/>
                  </a:lnTo>
                  <a:lnTo>
                    <a:pt x="19571" y="660"/>
                  </a:lnTo>
                  <a:lnTo>
                    <a:pt x="19510" y="682"/>
                  </a:lnTo>
                  <a:lnTo>
                    <a:pt x="19440" y="702"/>
                  </a:lnTo>
                  <a:lnTo>
                    <a:pt x="19360" y="719"/>
                  </a:lnTo>
                  <a:lnTo>
                    <a:pt x="19269" y="733"/>
                  </a:lnTo>
                  <a:lnTo>
                    <a:pt x="19166" y="743"/>
                  </a:lnTo>
                  <a:lnTo>
                    <a:pt x="19050" y="749"/>
                  </a:lnTo>
                  <a:lnTo>
                    <a:pt x="18924" y="751"/>
                  </a:lnTo>
                  <a:lnTo>
                    <a:pt x="18734" y="754"/>
                  </a:lnTo>
                  <a:lnTo>
                    <a:pt x="18196" y="763"/>
                  </a:lnTo>
                  <a:lnTo>
                    <a:pt x="17357" y="775"/>
                  </a:lnTo>
                  <a:lnTo>
                    <a:pt x="16262" y="790"/>
                  </a:lnTo>
                  <a:lnTo>
                    <a:pt x="14959" y="806"/>
                  </a:lnTo>
                  <a:lnTo>
                    <a:pt x="13494" y="823"/>
                  </a:lnTo>
                  <a:lnTo>
                    <a:pt x="12716" y="832"/>
                  </a:lnTo>
                  <a:lnTo>
                    <a:pt x="11915" y="839"/>
                  </a:lnTo>
                  <a:lnTo>
                    <a:pt x="11097" y="847"/>
                  </a:lnTo>
                  <a:lnTo>
                    <a:pt x="10268" y="854"/>
                  </a:lnTo>
                  <a:lnTo>
                    <a:pt x="9432" y="859"/>
                  </a:lnTo>
                  <a:lnTo>
                    <a:pt x="8599" y="864"/>
                  </a:lnTo>
                  <a:lnTo>
                    <a:pt x="7770" y="869"/>
                  </a:lnTo>
                  <a:lnTo>
                    <a:pt x="6955" y="872"/>
                  </a:lnTo>
                  <a:lnTo>
                    <a:pt x="6156" y="873"/>
                  </a:lnTo>
                  <a:lnTo>
                    <a:pt x="5383" y="873"/>
                  </a:lnTo>
                  <a:lnTo>
                    <a:pt x="4638" y="870"/>
                  </a:lnTo>
                  <a:lnTo>
                    <a:pt x="3928" y="867"/>
                  </a:lnTo>
                  <a:lnTo>
                    <a:pt x="3262" y="861"/>
                  </a:lnTo>
                  <a:lnTo>
                    <a:pt x="2641" y="853"/>
                  </a:lnTo>
                  <a:lnTo>
                    <a:pt x="2073" y="842"/>
                  </a:lnTo>
                  <a:lnTo>
                    <a:pt x="1564" y="830"/>
                  </a:lnTo>
                  <a:lnTo>
                    <a:pt x="1121" y="815"/>
                  </a:lnTo>
                  <a:lnTo>
                    <a:pt x="747" y="796"/>
                  </a:lnTo>
                  <a:lnTo>
                    <a:pt x="450" y="775"/>
                  </a:lnTo>
                  <a:lnTo>
                    <a:pt x="234" y="751"/>
                  </a:lnTo>
                  <a:lnTo>
                    <a:pt x="227" y="745"/>
                  </a:lnTo>
                  <a:lnTo>
                    <a:pt x="207" y="729"/>
                  </a:lnTo>
                  <a:lnTo>
                    <a:pt x="178" y="703"/>
                  </a:lnTo>
                  <a:lnTo>
                    <a:pt x="144" y="668"/>
                  </a:lnTo>
                  <a:lnTo>
                    <a:pt x="125" y="648"/>
                  </a:lnTo>
                  <a:lnTo>
                    <a:pt x="106" y="626"/>
                  </a:lnTo>
                  <a:lnTo>
                    <a:pt x="88" y="603"/>
                  </a:lnTo>
                  <a:lnTo>
                    <a:pt x="70" y="578"/>
                  </a:lnTo>
                  <a:lnTo>
                    <a:pt x="53" y="553"/>
                  </a:lnTo>
                  <a:lnTo>
                    <a:pt x="38" y="526"/>
                  </a:lnTo>
                  <a:lnTo>
                    <a:pt x="24" y="498"/>
                  </a:lnTo>
                  <a:lnTo>
                    <a:pt x="13" y="470"/>
                  </a:lnTo>
                  <a:lnTo>
                    <a:pt x="6" y="440"/>
                  </a:lnTo>
                  <a:lnTo>
                    <a:pt x="1" y="410"/>
                  </a:lnTo>
                  <a:lnTo>
                    <a:pt x="0" y="380"/>
                  </a:lnTo>
                  <a:lnTo>
                    <a:pt x="2" y="351"/>
                  </a:lnTo>
                  <a:lnTo>
                    <a:pt x="10" y="321"/>
                  </a:lnTo>
                  <a:lnTo>
                    <a:pt x="22" y="291"/>
                  </a:lnTo>
                  <a:lnTo>
                    <a:pt x="39" y="261"/>
                  </a:lnTo>
                  <a:lnTo>
                    <a:pt x="63" y="233"/>
                  </a:lnTo>
                  <a:lnTo>
                    <a:pt x="91" y="204"/>
                  </a:lnTo>
                  <a:lnTo>
                    <a:pt x="129" y="176"/>
                  </a:lnTo>
                  <a:lnTo>
                    <a:pt x="171" y="150"/>
                  </a:lnTo>
                  <a:lnTo>
                    <a:pt x="222" y="124"/>
                  </a:lnTo>
                  <a:lnTo>
                    <a:pt x="280" y="99"/>
                  </a:lnTo>
                  <a:lnTo>
                    <a:pt x="347" y="75"/>
                  </a:lnTo>
                  <a:lnTo>
                    <a:pt x="422" y="54"/>
                  </a:lnTo>
                  <a:lnTo>
                    <a:pt x="506" y="3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11160" y="5942160"/>
              <a:ext cx="7873920" cy="374400"/>
            </a:xfrm>
            <a:custGeom>
              <a:avLst/>
              <a:gdLst/>
              <a:ahLst/>
              <a:rect l="l" t="t" r="r" b="b"/>
              <a:pathLst>
                <a:path w="19839" h="946">
                  <a:moveTo>
                    <a:pt x="19567" y="2"/>
                  </a:moveTo>
                  <a:lnTo>
                    <a:pt x="19294" y="29"/>
                  </a:lnTo>
                  <a:lnTo>
                    <a:pt x="18946" y="52"/>
                  </a:lnTo>
                  <a:lnTo>
                    <a:pt x="18526" y="74"/>
                  </a:lnTo>
                  <a:lnTo>
                    <a:pt x="18043" y="91"/>
                  </a:lnTo>
                  <a:lnTo>
                    <a:pt x="17501" y="106"/>
                  </a:lnTo>
                  <a:lnTo>
                    <a:pt x="16904" y="118"/>
                  </a:lnTo>
                  <a:lnTo>
                    <a:pt x="16258" y="128"/>
                  </a:lnTo>
                  <a:lnTo>
                    <a:pt x="15570" y="136"/>
                  </a:lnTo>
                  <a:lnTo>
                    <a:pt x="14845" y="142"/>
                  </a:lnTo>
                  <a:lnTo>
                    <a:pt x="14087" y="145"/>
                  </a:lnTo>
                  <a:lnTo>
                    <a:pt x="13304" y="147"/>
                  </a:lnTo>
                  <a:lnTo>
                    <a:pt x="12500" y="147"/>
                  </a:lnTo>
                  <a:lnTo>
                    <a:pt x="11681" y="145"/>
                  </a:lnTo>
                  <a:lnTo>
                    <a:pt x="10851" y="143"/>
                  </a:lnTo>
                  <a:lnTo>
                    <a:pt x="10018" y="139"/>
                  </a:lnTo>
                  <a:lnTo>
                    <a:pt x="9186" y="134"/>
                  </a:lnTo>
                  <a:lnTo>
                    <a:pt x="8360" y="128"/>
                  </a:lnTo>
                  <a:lnTo>
                    <a:pt x="7547" y="122"/>
                  </a:lnTo>
                  <a:lnTo>
                    <a:pt x="6752" y="114"/>
                  </a:lnTo>
                  <a:lnTo>
                    <a:pt x="5980" y="107"/>
                  </a:lnTo>
                  <a:lnTo>
                    <a:pt x="4528" y="91"/>
                  </a:lnTo>
                  <a:lnTo>
                    <a:pt x="3236" y="75"/>
                  </a:lnTo>
                  <a:lnTo>
                    <a:pt x="2148" y="60"/>
                  </a:lnTo>
                  <a:lnTo>
                    <a:pt x="1306" y="47"/>
                  </a:lnTo>
                  <a:lnTo>
                    <a:pt x="757" y="40"/>
                  </a:lnTo>
                  <a:lnTo>
                    <a:pt x="543" y="36"/>
                  </a:lnTo>
                  <a:lnTo>
                    <a:pt x="538" y="36"/>
                  </a:lnTo>
                  <a:lnTo>
                    <a:pt x="535" y="36"/>
                  </a:lnTo>
                  <a:lnTo>
                    <a:pt x="478" y="50"/>
                  </a:lnTo>
                  <a:lnTo>
                    <a:pt x="423" y="65"/>
                  </a:lnTo>
                  <a:lnTo>
                    <a:pt x="371" y="80"/>
                  </a:lnTo>
                  <a:lnTo>
                    <a:pt x="322" y="96"/>
                  </a:lnTo>
                  <a:lnTo>
                    <a:pt x="278" y="113"/>
                  </a:lnTo>
                  <a:lnTo>
                    <a:pt x="237" y="132"/>
                  </a:lnTo>
                  <a:lnTo>
                    <a:pt x="198" y="152"/>
                  </a:lnTo>
                  <a:lnTo>
                    <a:pt x="163" y="172"/>
                  </a:lnTo>
                  <a:lnTo>
                    <a:pt x="147" y="183"/>
                  </a:lnTo>
                  <a:lnTo>
                    <a:pt x="132" y="193"/>
                  </a:lnTo>
                  <a:lnTo>
                    <a:pt x="118" y="204"/>
                  </a:lnTo>
                  <a:lnTo>
                    <a:pt x="104" y="216"/>
                  </a:lnTo>
                  <a:lnTo>
                    <a:pt x="91" y="227"/>
                  </a:lnTo>
                  <a:lnTo>
                    <a:pt x="79" y="239"/>
                  </a:lnTo>
                  <a:lnTo>
                    <a:pt x="68" y="251"/>
                  </a:lnTo>
                  <a:lnTo>
                    <a:pt x="58" y="263"/>
                  </a:lnTo>
                  <a:lnTo>
                    <a:pt x="48" y="276"/>
                  </a:lnTo>
                  <a:lnTo>
                    <a:pt x="39" y="288"/>
                  </a:lnTo>
                  <a:lnTo>
                    <a:pt x="32" y="302"/>
                  </a:lnTo>
                  <a:lnTo>
                    <a:pt x="26" y="314"/>
                  </a:lnTo>
                  <a:lnTo>
                    <a:pt x="19" y="328"/>
                  </a:lnTo>
                  <a:lnTo>
                    <a:pt x="13" y="342"/>
                  </a:lnTo>
                  <a:lnTo>
                    <a:pt x="9" y="356"/>
                  </a:lnTo>
                  <a:lnTo>
                    <a:pt x="6" y="370"/>
                  </a:lnTo>
                  <a:lnTo>
                    <a:pt x="2" y="391"/>
                  </a:lnTo>
                  <a:lnTo>
                    <a:pt x="0" y="412"/>
                  </a:lnTo>
                  <a:lnTo>
                    <a:pt x="0" y="433"/>
                  </a:lnTo>
                  <a:lnTo>
                    <a:pt x="2" y="453"/>
                  </a:lnTo>
                  <a:lnTo>
                    <a:pt x="5" y="474"/>
                  </a:lnTo>
                  <a:lnTo>
                    <a:pt x="8" y="494"/>
                  </a:lnTo>
                  <a:lnTo>
                    <a:pt x="14" y="514"/>
                  </a:lnTo>
                  <a:lnTo>
                    <a:pt x="21" y="533"/>
                  </a:lnTo>
                  <a:lnTo>
                    <a:pt x="29" y="552"/>
                  </a:lnTo>
                  <a:lnTo>
                    <a:pt x="38" y="571"/>
                  </a:lnTo>
                  <a:lnTo>
                    <a:pt x="48" y="590"/>
                  </a:lnTo>
                  <a:lnTo>
                    <a:pt x="58" y="608"/>
                  </a:lnTo>
                  <a:lnTo>
                    <a:pt x="69" y="626"/>
                  </a:lnTo>
                  <a:lnTo>
                    <a:pt x="80" y="642"/>
                  </a:lnTo>
                  <a:lnTo>
                    <a:pt x="93" y="659"/>
                  </a:lnTo>
                  <a:lnTo>
                    <a:pt x="104" y="674"/>
                  </a:lnTo>
                  <a:lnTo>
                    <a:pt x="129" y="704"/>
                  </a:lnTo>
                  <a:lnTo>
                    <a:pt x="154" y="731"/>
                  </a:lnTo>
                  <a:lnTo>
                    <a:pt x="177" y="755"/>
                  </a:lnTo>
                  <a:lnTo>
                    <a:pt x="199" y="776"/>
                  </a:lnTo>
                  <a:lnTo>
                    <a:pt x="233" y="806"/>
                  </a:lnTo>
                  <a:lnTo>
                    <a:pt x="249" y="818"/>
                  </a:lnTo>
                  <a:lnTo>
                    <a:pt x="257" y="823"/>
                  </a:lnTo>
                  <a:lnTo>
                    <a:pt x="265" y="824"/>
                  </a:lnTo>
                  <a:lnTo>
                    <a:pt x="479" y="849"/>
                  </a:lnTo>
                  <a:lnTo>
                    <a:pt x="773" y="869"/>
                  </a:lnTo>
                  <a:lnTo>
                    <a:pt x="1143" y="887"/>
                  </a:lnTo>
                  <a:lnTo>
                    <a:pt x="1584" y="902"/>
                  </a:lnTo>
                  <a:lnTo>
                    <a:pt x="2088" y="915"/>
                  </a:lnTo>
                  <a:lnTo>
                    <a:pt x="2651" y="926"/>
                  </a:lnTo>
                  <a:lnTo>
                    <a:pt x="3267" y="933"/>
                  </a:lnTo>
                  <a:lnTo>
                    <a:pt x="3930" y="940"/>
                  </a:lnTo>
                  <a:lnTo>
                    <a:pt x="4633" y="943"/>
                  </a:lnTo>
                  <a:lnTo>
                    <a:pt x="5373" y="946"/>
                  </a:lnTo>
                  <a:lnTo>
                    <a:pt x="6141" y="946"/>
                  </a:lnTo>
                  <a:lnTo>
                    <a:pt x="6935" y="944"/>
                  </a:lnTo>
                  <a:lnTo>
                    <a:pt x="7746" y="942"/>
                  </a:lnTo>
                  <a:lnTo>
                    <a:pt x="8569" y="938"/>
                  </a:lnTo>
                  <a:lnTo>
                    <a:pt x="9400" y="933"/>
                  </a:lnTo>
                  <a:lnTo>
                    <a:pt x="10232" y="927"/>
                  </a:lnTo>
                  <a:lnTo>
                    <a:pt x="11057" y="921"/>
                  </a:lnTo>
                  <a:lnTo>
                    <a:pt x="11873" y="913"/>
                  </a:lnTo>
                  <a:lnTo>
                    <a:pt x="12673" y="906"/>
                  </a:lnTo>
                  <a:lnTo>
                    <a:pt x="13450" y="897"/>
                  </a:lnTo>
                  <a:lnTo>
                    <a:pt x="14915" y="881"/>
                  </a:lnTo>
                  <a:lnTo>
                    <a:pt x="16223" y="864"/>
                  </a:lnTo>
                  <a:lnTo>
                    <a:pt x="17328" y="849"/>
                  </a:lnTo>
                  <a:lnTo>
                    <a:pt x="18183" y="837"/>
                  </a:lnTo>
                  <a:lnTo>
                    <a:pt x="18743" y="828"/>
                  </a:lnTo>
                  <a:lnTo>
                    <a:pt x="18960" y="825"/>
                  </a:lnTo>
                  <a:lnTo>
                    <a:pt x="19052" y="824"/>
                  </a:lnTo>
                  <a:lnTo>
                    <a:pt x="19137" y="820"/>
                  </a:lnTo>
                  <a:lnTo>
                    <a:pt x="19178" y="818"/>
                  </a:lnTo>
                  <a:lnTo>
                    <a:pt x="19219" y="815"/>
                  </a:lnTo>
                  <a:lnTo>
                    <a:pt x="19258" y="812"/>
                  </a:lnTo>
                  <a:lnTo>
                    <a:pt x="19295" y="808"/>
                  </a:lnTo>
                  <a:lnTo>
                    <a:pt x="19331" y="803"/>
                  </a:lnTo>
                  <a:lnTo>
                    <a:pt x="19367" y="798"/>
                  </a:lnTo>
                  <a:lnTo>
                    <a:pt x="19401" y="792"/>
                  </a:lnTo>
                  <a:lnTo>
                    <a:pt x="19433" y="786"/>
                  </a:lnTo>
                  <a:lnTo>
                    <a:pt x="19464" y="778"/>
                  </a:lnTo>
                  <a:lnTo>
                    <a:pt x="19494" y="772"/>
                  </a:lnTo>
                  <a:lnTo>
                    <a:pt x="19524" y="763"/>
                  </a:lnTo>
                  <a:lnTo>
                    <a:pt x="19551" y="755"/>
                  </a:lnTo>
                  <a:lnTo>
                    <a:pt x="19577" y="746"/>
                  </a:lnTo>
                  <a:lnTo>
                    <a:pt x="19602" y="736"/>
                  </a:lnTo>
                  <a:lnTo>
                    <a:pt x="19627" y="726"/>
                  </a:lnTo>
                  <a:lnTo>
                    <a:pt x="19649" y="716"/>
                  </a:lnTo>
                  <a:lnTo>
                    <a:pt x="19670" y="705"/>
                  </a:lnTo>
                  <a:lnTo>
                    <a:pt x="19690" y="693"/>
                  </a:lnTo>
                  <a:lnTo>
                    <a:pt x="19709" y="681"/>
                  </a:lnTo>
                  <a:lnTo>
                    <a:pt x="19726" y="668"/>
                  </a:lnTo>
                  <a:lnTo>
                    <a:pt x="19743" y="655"/>
                  </a:lnTo>
                  <a:lnTo>
                    <a:pt x="19758" y="641"/>
                  </a:lnTo>
                  <a:lnTo>
                    <a:pt x="19772" y="627"/>
                  </a:lnTo>
                  <a:lnTo>
                    <a:pt x="19784" y="612"/>
                  </a:lnTo>
                  <a:lnTo>
                    <a:pt x="19796" y="596"/>
                  </a:lnTo>
                  <a:lnTo>
                    <a:pt x="19805" y="581"/>
                  </a:lnTo>
                  <a:lnTo>
                    <a:pt x="19814" y="564"/>
                  </a:lnTo>
                  <a:lnTo>
                    <a:pt x="19822" y="546"/>
                  </a:lnTo>
                  <a:lnTo>
                    <a:pt x="19829" y="524"/>
                  </a:lnTo>
                  <a:lnTo>
                    <a:pt x="19834" y="502"/>
                  </a:lnTo>
                  <a:lnTo>
                    <a:pt x="19838" y="479"/>
                  </a:lnTo>
                  <a:lnTo>
                    <a:pt x="19839" y="456"/>
                  </a:lnTo>
                  <a:lnTo>
                    <a:pt x="19838" y="433"/>
                  </a:lnTo>
                  <a:lnTo>
                    <a:pt x="19837" y="410"/>
                  </a:lnTo>
                  <a:lnTo>
                    <a:pt x="19833" y="387"/>
                  </a:lnTo>
                  <a:lnTo>
                    <a:pt x="19828" y="365"/>
                  </a:lnTo>
                  <a:lnTo>
                    <a:pt x="19820" y="342"/>
                  </a:lnTo>
                  <a:lnTo>
                    <a:pt x="19813" y="319"/>
                  </a:lnTo>
                  <a:lnTo>
                    <a:pt x="19804" y="298"/>
                  </a:lnTo>
                  <a:lnTo>
                    <a:pt x="19794" y="276"/>
                  </a:lnTo>
                  <a:lnTo>
                    <a:pt x="19783" y="255"/>
                  </a:lnTo>
                  <a:lnTo>
                    <a:pt x="19772" y="234"/>
                  </a:lnTo>
                  <a:lnTo>
                    <a:pt x="19761" y="214"/>
                  </a:lnTo>
                  <a:lnTo>
                    <a:pt x="19748" y="194"/>
                  </a:lnTo>
                  <a:lnTo>
                    <a:pt x="19722" y="158"/>
                  </a:lnTo>
                  <a:lnTo>
                    <a:pt x="19697" y="123"/>
                  </a:lnTo>
                  <a:lnTo>
                    <a:pt x="19673" y="93"/>
                  </a:lnTo>
                  <a:lnTo>
                    <a:pt x="19649" y="66"/>
                  </a:lnTo>
                  <a:lnTo>
                    <a:pt x="19613" y="28"/>
                  </a:lnTo>
                  <a:lnTo>
                    <a:pt x="19596" y="11"/>
                  </a:lnTo>
                  <a:lnTo>
                    <a:pt x="19583" y="0"/>
                  </a:lnTo>
                  <a:lnTo>
                    <a:pt x="19567" y="2"/>
                  </a:lnTo>
                  <a:close/>
                  <a:moveTo>
                    <a:pt x="19558" y="75"/>
                  </a:moveTo>
                  <a:lnTo>
                    <a:pt x="19576" y="92"/>
                  </a:lnTo>
                  <a:lnTo>
                    <a:pt x="19603" y="122"/>
                  </a:lnTo>
                  <a:lnTo>
                    <a:pt x="19620" y="142"/>
                  </a:lnTo>
                  <a:lnTo>
                    <a:pt x="19638" y="163"/>
                  </a:lnTo>
                  <a:lnTo>
                    <a:pt x="19656" y="185"/>
                  </a:lnTo>
                  <a:lnTo>
                    <a:pt x="19674" y="211"/>
                  </a:lnTo>
                  <a:lnTo>
                    <a:pt x="19692" y="237"/>
                  </a:lnTo>
                  <a:lnTo>
                    <a:pt x="19710" y="266"/>
                  </a:lnTo>
                  <a:lnTo>
                    <a:pt x="19725" y="296"/>
                  </a:lnTo>
                  <a:lnTo>
                    <a:pt x="19740" y="325"/>
                  </a:lnTo>
                  <a:lnTo>
                    <a:pt x="19746" y="340"/>
                  </a:lnTo>
                  <a:lnTo>
                    <a:pt x="19751" y="356"/>
                  </a:lnTo>
                  <a:lnTo>
                    <a:pt x="19756" y="371"/>
                  </a:lnTo>
                  <a:lnTo>
                    <a:pt x="19760" y="387"/>
                  </a:lnTo>
                  <a:lnTo>
                    <a:pt x="19763" y="404"/>
                  </a:lnTo>
                  <a:lnTo>
                    <a:pt x="19766" y="418"/>
                  </a:lnTo>
                  <a:lnTo>
                    <a:pt x="19767" y="435"/>
                  </a:lnTo>
                  <a:lnTo>
                    <a:pt x="19768" y="449"/>
                  </a:lnTo>
                  <a:lnTo>
                    <a:pt x="19767" y="468"/>
                  </a:lnTo>
                  <a:lnTo>
                    <a:pt x="19764" y="487"/>
                  </a:lnTo>
                  <a:lnTo>
                    <a:pt x="19761" y="504"/>
                  </a:lnTo>
                  <a:lnTo>
                    <a:pt x="19755" y="521"/>
                  </a:lnTo>
                  <a:lnTo>
                    <a:pt x="19751" y="531"/>
                  </a:lnTo>
                  <a:lnTo>
                    <a:pt x="19746" y="541"/>
                  </a:lnTo>
                  <a:lnTo>
                    <a:pt x="19740" y="551"/>
                  </a:lnTo>
                  <a:lnTo>
                    <a:pt x="19732" y="561"/>
                  </a:lnTo>
                  <a:lnTo>
                    <a:pt x="19725" y="572"/>
                  </a:lnTo>
                  <a:lnTo>
                    <a:pt x="19716" y="582"/>
                  </a:lnTo>
                  <a:lnTo>
                    <a:pt x="19706" y="592"/>
                  </a:lnTo>
                  <a:lnTo>
                    <a:pt x="19695" y="602"/>
                  </a:lnTo>
                  <a:lnTo>
                    <a:pt x="19683" y="612"/>
                  </a:lnTo>
                  <a:lnTo>
                    <a:pt x="19669" y="622"/>
                  </a:lnTo>
                  <a:lnTo>
                    <a:pt x="19654" y="632"/>
                  </a:lnTo>
                  <a:lnTo>
                    <a:pt x="19638" y="642"/>
                  </a:lnTo>
                  <a:lnTo>
                    <a:pt x="19620" y="650"/>
                  </a:lnTo>
                  <a:lnTo>
                    <a:pt x="19602" y="660"/>
                  </a:lnTo>
                  <a:lnTo>
                    <a:pt x="19582" y="669"/>
                  </a:lnTo>
                  <a:lnTo>
                    <a:pt x="19560" y="678"/>
                  </a:lnTo>
                  <a:lnTo>
                    <a:pt x="19536" y="685"/>
                  </a:lnTo>
                  <a:lnTo>
                    <a:pt x="19511" y="694"/>
                  </a:lnTo>
                  <a:lnTo>
                    <a:pt x="19485" y="701"/>
                  </a:lnTo>
                  <a:lnTo>
                    <a:pt x="19457" y="708"/>
                  </a:lnTo>
                  <a:lnTo>
                    <a:pt x="19425" y="715"/>
                  </a:lnTo>
                  <a:lnTo>
                    <a:pt x="19393" y="721"/>
                  </a:lnTo>
                  <a:lnTo>
                    <a:pt x="19360" y="727"/>
                  </a:lnTo>
                  <a:lnTo>
                    <a:pt x="19324" y="732"/>
                  </a:lnTo>
                  <a:lnTo>
                    <a:pt x="19285" y="737"/>
                  </a:lnTo>
                  <a:lnTo>
                    <a:pt x="19245" y="741"/>
                  </a:lnTo>
                  <a:lnTo>
                    <a:pt x="19203" y="745"/>
                  </a:lnTo>
                  <a:lnTo>
                    <a:pt x="19160" y="748"/>
                  </a:lnTo>
                  <a:lnTo>
                    <a:pt x="19113" y="751"/>
                  </a:lnTo>
                  <a:lnTo>
                    <a:pt x="19064" y="752"/>
                  </a:lnTo>
                  <a:lnTo>
                    <a:pt x="19013" y="753"/>
                  </a:lnTo>
                  <a:lnTo>
                    <a:pt x="18960" y="753"/>
                  </a:lnTo>
                  <a:lnTo>
                    <a:pt x="18743" y="757"/>
                  </a:lnTo>
                  <a:lnTo>
                    <a:pt x="18185" y="766"/>
                  </a:lnTo>
                  <a:lnTo>
                    <a:pt x="17332" y="778"/>
                  </a:lnTo>
                  <a:lnTo>
                    <a:pt x="16232" y="793"/>
                  </a:lnTo>
                  <a:lnTo>
                    <a:pt x="14927" y="809"/>
                  </a:lnTo>
                  <a:lnTo>
                    <a:pt x="13465" y="825"/>
                  </a:lnTo>
                  <a:lnTo>
                    <a:pt x="12690" y="834"/>
                  </a:lnTo>
                  <a:lnTo>
                    <a:pt x="11893" y="842"/>
                  </a:lnTo>
                  <a:lnTo>
                    <a:pt x="11078" y="849"/>
                  </a:lnTo>
                  <a:lnTo>
                    <a:pt x="10254" y="856"/>
                  </a:lnTo>
                  <a:lnTo>
                    <a:pt x="9424" y="861"/>
                  </a:lnTo>
                  <a:lnTo>
                    <a:pt x="8596" y="866"/>
                  </a:lnTo>
                  <a:lnTo>
                    <a:pt x="7774" y="870"/>
                  </a:lnTo>
                  <a:lnTo>
                    <a:pt x="6963" y="873"/>
                  </a:lnTo>
                  <a:lnTo>
                    <a:pt x="6172" y="875"/>
                  </a:lnTo>
                  <a:lnTo>
                    <a:pt x="5404" y="874"/>
                  </a:lnTo>
                  <a:lnTo>
                    <a:pt x="4665" y="873"/>
                  </a:lnTo>
                  <a:lnTo>
                    <a:pt x="3961" y="869"/>
                  </a:lnTo>
                  <a:lnTo>
                    <a:pt x="3299" y="863"/>
                  </a:lnTo>
                  <a:lnTo>
                    <a:pt x="2682" y="855"/>
                  </a:lnTo>
                  <a:lnTo>
                    <a:pt x="2118" y="845"/>
                  </a:lnTo>
                  <a:lnTo>
                    <a:pt x="1613" y="832"/>
                  </a:lnTo>
                  <a:lnTo>
                    <a:pt x="1171" y="817"/>
                  </a:lnTo>
                  <a:lnTo>
                    <a:pt x="799" y="799"/>
                  </a:lnTo>
                  <a:lnTo>
                    <a:pt x="501" y="778"/>
                  </a:lnTo>
                  <a:lnTo>
                    <a:pt x="285" y="755"/>
                  </a:lnTo>
                  <a:lnTo>
                    <a:pt x="270" y="742"/>
                  </a:lnTo>
                  <a:lnTo>
                    <a:pt x="243" y="719"/>
                  </a:lnTo>
                  <a:lnTo>
                    <a:pt x="227" y="704"/>
                  </a:lnTo>
                  <a:lnTo>
                    <a:pt x="208" y="685"/>
                  </a:lnTo>
                  <a:lnTo>
                    <a:pt x="190" y="665"/>
                  </a:lnTo>
                  <a:lnTo>
                    <a:pt x="171" y="643"/>
                  </a:lnTo>
                  <a:lnTo>
                    <a:pt x="151" y="619"/>
                  </a:lnTo>
                  <a:lnTo>
                    <a:pt x="134" y="595"/>
                  </a:lnTo>
                  <a:lnTo>
                    <a:pt x="116" y="569"/>
                  </a:lnTo>
                  <a:lnTo>
                    <a:pt x="101" y="541"/>
                  </a:lnTo>
                  <a:lnTo>
                    <a:pt x="95" y="528"/>
                  </a:lnTo>
                  <a:lnTo>
                    <a:pt x="89" y="513"/>
                  </a:lnTo>
                  <a:lnTo>
                    <a:pt x="84" y="498"/>
                  </a:lnTo>
                  <a:lnTo>
                    <a:pt x="79" y="484"/>
                  </a:lnTo>
                  <a:lnTo>
                    <a:pt x="75" y="469"/>
                  </a:lnTo>
                  <a:lnTo>
                    <a:pt x="73" y="454"/>
                  </a:lnTo>
                  <a:lnTo>
                    <a:pt x="72" y="440"/>
                  </a:lnTo>
                  <a:lnTo>
                    <a:pt x="72" y="425"/>
                  </a:lnTo>
                  <a:lnTo>
                    <a:pt x="72" y="415"/>
                  </a:lnTo>
                  <a:lnTo>
                    <a:pt x="72" y="405"/>
                  </a:lnTo>
                  <a:lnTo>
                    <a:pt x="74" y="395"/>
                  </a:lnTo>
                  <a:lnTo>
                    <a:pt x="75" y="385"/>
                  </a:lnTo>
                  <a:lnTo>
                    <a:pt x="78" y="374"/>
                  </a:lnTo>
                  <a:lnTo>
                    <a:pt x="82" y="363"/>
                  </a:lnTo>
                  <a:lnTo>
                    <a:pt x="86" y="353"/>
                  </a:lnTo>
                  <a:lnTo>
                    <a:pt x="91" y="342"/>
                  </a:lnTo>
                  <a:lnTo>
                    <a:pt x="98" y="330"/>
                  </a:lnTo>
                  <a:lnTo>
                    <a:pt x="105" y="320"/>
                  </a:lnTo>
                  <a:lnTo>
                    <a:pt x="113" y="309"/>
                  </a:lnTo>
                  <a:lnTo>
                    <a:pt x="121" y="299"/>
                  </a:lnTo>
                  <a:lnTo>
                    <a:pt x="130" y="289"/>
                  </a:lnTo>
                  <a:lnTo>
                    <a:pt x="140" y="279"/>
                  </a:lnTo>
                  <a:lnTo>
                    <a:pt x="151" y="270"/>
                  </a:lnTo>
                  <a:lnTo>
                    <a:pt x="162" y="261"/>
                  </a:lnTo>
                  <a:lnTo>
                    <a:pt x="187" y="242"/>
                  </a:lnTo>
                  <a:lnTo>
                    <a:pt x="216" y="224"/>
                  </a:lnTo>
                  <a:lnTo>
                    <a:pt x="247" y="206"/>
                  </a:lnTo>
                  <a:lnTo>
                    <a:pt x="281" y="190"/>
                  </a:lnTo>
                  <a:lnTo>
                    <a:pt x="319" y="175"/>
                  </a:lnTo>
                  <a:lnTo>
                    <a:pt x="358" y="159"/>
                  </a:lnTo>
                  <a:lnTo>
                    <a:pt x="401" y="145"/>
                  </a:lnTo>
                  <a:lnTo>
                    <a:pt x="447" y="132"/>
                  </a:lnTo>
                  <a:lnTo>
                    <a:pt x="495" y="119"/>
                  </a:lnTo>
                  <a:lnTo>
                    <a:pt x="547" y="107"/>
                  </a:lnTo>
                  <a:lnTo>
                    <a:pt x="778" y="111"/>
                  </a:lnTo>
                  <a:lnTo>
                    <a:pt x="1338" y="119"/>
                  </a:lnTo>
                  <a:lnTo>
                    <a:pt x="2186" y="132"/>
                  </a:lnTo>
                  <a:lnTo>
                    <a:pt x="3277" y="147"/>
                  </a:lnTo>
                  <a:lnTo>
                    <a:pt x="4567" y="163"/>
                  </a:lnTo>
                  <a:lnTo>
                    <a:pt x="6015" y="178"/>
                  </a:lnTo>
                  <a:lnTo>
                    <a:pt x="6783" y="186"/>
                  </a:lnTo>
                  <a:lnTo>
                    <a:pt x="7575" y="193"/>
                  </a:lnTo>
                  <a:lnTo>
                    <a:pt x="8384" y="200"/>
                  </a:lnTo>
                  <a:lnTo>
                    <a:pt x="9205" y="205"/>
                  </a:lnTo>
                  <a:lnTo>
                    <a:pt x="10033" y="210"/>
                  </a:lnTo>
                  <a:lnTo>
                    <a:pt x="10862" y="214"/>
                  </a:lnTo>
                  <a:lnTo>
                    <a:pt x="11687" y="217"/>
                  </a:lnTo>
                  <a:lnTo>
                    <a:pt x="12501" y="219"/>
                  </a:lnTo>
                  <a:lnTo>
                    <a:pt x="13302" y="219"/>
                  </a:lnTo>
                  <a:lnTo>
                    <a:pt x="14081" y="216"/>
                  </a:lnTo>
                  <a:lnTo>
                    <a:pt x="14835" y="212"/>
                  </a:lnTo>
                  <a:lnTo>
                    <a:pt x="15557" y="208"/>
                  </a:lnTo>
                  <a:lnTo>
                    <a:pt x="16243" y="200"/>
                  </a:lnTo>
                  <a:lnTo>
                    <a:pt x="16886" y="190"/>
                  </a:lnTo>
                  <a:lnTo>
                    <a:pt x="17482" y="178"/>
                  </a:lnTo>
                  <a:lnTo>
                    <a:pt x="18025" y="163"/>
                  </a:lnTo>
                  <a:lnTo>
                    <a:pt x="18509" y="145"/>
                  </a:lnTo>
                  <a:lnTo>
                    <a:pt x="18930" y="124"/>
                  </a:lnTo>
                  <a:lnTo>
                    <a:pt x="19281" y="101"/>
                  </a:lnTo>
                  <a:lnTo>
                    <a:pt x="19558" y="7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1370160" y="3705120"/>
              <a:ext cx="477720" cy="119160"/>
            </a:xfrm>
            <a:custGeom>
              <a:avLst/>
              <a:gdLst/>
              <a:ahLst/>
              <a:rect l="l" t="t" r="r" b="b"/>
              <a:pathLst>
                <a:path w="1205" h="301">
                  <a:moveTo>
                    <a:pt x="1081" y="23"/>
                  </a:moveTo>
                  <a:lnTo>
                    <a:pt x="1067" y="40"/>
                  </a:lnTo>
                  <a:lnTo>
                    <a:pt x="1053" y="53"/>
                  </a:lnTo>
                  <a:lnTo>
                    <a:pt x="1040" y="67"/>
                  </a:lnTo>
                  <a:lnTo>
                    <a:pt x="1026" y="79"/>
                  </a:lnTo>
                  <a:lnTo>
                    <a:pt x="1012" y="90"/>
                  </a:lnTo>
                  <a:lnTo>
                    <a:pt x="999" y="102"/>
                  </a:lnTo>
                  <a:lnTo>
                    <a:pt x="985" y="110"/>
                  </a:lnTo>
                  <a:lnTo>
                    <a:pt x="971" y="119"/>
                  </a:lnTo>
                  <a:lnTo>
                    <a:pt x="958" y="126"/>
                  </a:lnTo>
                  <a:lnTo>
                    <a:pt x="944" y="134"/>
                  </a:lnTo>
                  <a:lnTo>
                    <a:pt x="932" y="139"/>
                  </a:lnTo>
                  <a:lnTo>
                    <a:pt x="918" y="144"/>
                  </a:lnTo>
                  <a:lnTo>
                    <a:pt x="904" y="147"/>
                  </a:lnTo>
                  <a:lnTo>
                    <a:pt x="892" y="150"/>
                  </a:lnTo>
                  <a:lnTo>
                    <a:pt x="878" y="152"/>
                  </a:lnTo>
                  <a:lnTo>
                    <a:pt x="866" y="152"/>
                  </a:lnTo>
                  <a:lnTo>
                    <a:pt x="851" y="152"/>
                  </a:lnTo>
                  <a:lnTo>
                    <a:pt x="837" y="151"/>
                  </a:lnTo>
                  <a:lnTo>
                    <a:pt x="824" y="149"/>
                  </a:lnTo>
                  <a:lnTo>
                    <a:pt x="811" y="145"/>
                  </a:lnTo>
                  <a:lnTo>
                    <a:pt x="799" y="141"/>
                  </a:lnTo>
                  <a:lnTo>
                    <a:pt x="789" y="136"/>
                  </a:lnTo>
                  <a:lnTo>
                    <a:pt x="778" y="131"/>
                  </a:lnTo>
                  <a:lnTo>
                    <a:pt x="769" y="126"/>
                  </a:lnTo>
                  <a:lnTo>
                    <a:pt x="753" y="115"/>
                  </a:lnTo>
                  <a:lnTo>
                    <a:pt x="742" y="107"/>
                  </a:lnTo>
                  <a:lnTo>
                    <a:pt x="734" y="100"/>
                  </a:lnTo>
                  <a:lnTo>
                    <a:pt x="732" y="98"/>
                  </a:lnTo>
                  <a:lnTo>
                    <a:pt x="722" y="89"/>
                  </a:lnTo>
                  <a:lnTo>
                    <a:pt x="712" y="83"/>
                  </a:lnTo>
                  <a:lnTo>
                    <a:pt x="701" y="79"/>
                  </a:lnTo>
                  <a:lnTo>
                    <a:pt x="689" y="76"/>
                  </a:lnTo>
                  <a:lnTo>
                    <a:pt x="678" y="76"/>
                  </a:lnTo>
                  <a:lnTo>
                    <a:pt x="666" y="77"/>
                  </a:lnTo>
                  <a:lnTo>
                    <a:pt x="655" y="79"/>
                  </a:lnTo>
                  <a:lnTo>
                    <a:pt x="644" y="84"/>
                  </a:lnTo>
                  <a:lnTo>
                    <a:pt x="612" y="102"/>
                  </a:lnTo>
                  <a:lnTo>
                    <a:pt x="583" y="116"/>
                  </a:lnTo>
                  <a:lnTo>
                    <a:pt x="554" y="129"/>
                  </a:lnTo>
                  <a:lnTo>
                    <a:pt x="526" y="139"/>
                  </a:lnTo>
                  <a:lnTo>
                    <a:pt x="499" y="147"/>
                  </a:lnTo>
                  <a:lnTo>
                    <a:pt x="473" y="154"/>
                  </a:lnTo>
                  <a:lnTo>
                    <a:pt x="449" y="159"/>
                  </a:lnTo>
                  <a:lnTo>
                    <a:pt x="425" y="162"/>
                  </a:lnTo>
                  <a:lnTo>
                    <a:pt x="401" y="164"/>
                  </a:lnTo>
                  <a:lnTo>
                    <a:pt x="379" y="164"/>
                  </a:lnTo>
                  <a:lnTo>
                    <a:pt x="359" y="162"/>
                  </a:lnTo>
                  <a:lnTo>
                    <a:pt x="339" y="160"/>
                  </a:lnTo>
                  <a:lnTo>
                    <a:pt x="319" y="157"/>
                  </a:lnTo>
                  <a:lnTo>
                    <a:pt x="302" y="152"/>
                  </a:lnTo>
                  <a:lnTo>
                    <a:pt x="285" y="147"/>
                  </a:lnTo>
                  <a:lnTo>
                    <a:pt x="269" y="141"/>
                  </a:lnTo>
                  <a:lnTo>
                    <a:pt x="254" y="134"/>
                  </a:lnTo>
                  <a:lnTo>
                    <a:pt x="239" y="126"/>
                  </a:lnTo>
                  <a:lnTo>
                    <a:pt x="225" y="119"/>
                  </a:lnTo>
                  <a:lnTo>
                    <a:pt x="213" y="112"/>
                  </a:lnTo>
                  <a:lnTo>
                    <a:pt x="190" y="94"/>
                  </a:lnTo>
                  <a:lnTo>
                    <a:pt x="172" y="78"/>
                  </a:lnTo>
                  <a:lnTo>
                    <a:pt x="157" y="63"/>
                  </a:lnTo>
                  <a:lnTo>
                    <a:pt x="146" y="49"/>
                  </a:lnTo>
                  <a:lnTo>
                    <a:pt x="137" y="38"/>
                  </a:lnTo>
                  <a:lnTo>
                    <a:pt x="132" y="32"/>
                  </a:lnTo>
                  <a:lnTo>
                    <a:pt x="128" y="26"/>
                  </a:lnTo>
                  <a:lnTo>
                    <a:pt x="123" y="21"/>
                  </a:lnTo>
                  <a:lnTo>
                    <a:pt x="118" y="16"/>
                  </a:lnTo>
                  <a:lnTo>
                    <a:pt x="112" y="12"/>
                  </a:lnTo>
                  <a:lnTo>
                    <a:pt x="106" y="9"/>
                  </a:lnTo>
                  <a:lnTo>
                    <a:pt x="100" y="5"/>
                  </a:lnTo>
                  <a:lnTo>
                    <a:pt x="93" y="2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2" y="2"/>
                  </a:lnTo>
                  <a:lnTo>
                    <a:pt x="46" y="5"/>
                  </a:lnTo>
                  <a:lnTo>
                    <a:pt x="40" y="7"/>
                  </a:lnTo>
                  <a:lnTo>
                    <a:pt x="34" y="11"/>
                  </a:lnTo>
                  <a:lnTo>
                    <a:pt x="28" y="15"/>
                  </a:lnTo>
                  <a:lnTo>
                    <a:pt x="23" y="20"/>
                  </a:lnTo>
                  <a:lnTo>
                    <a:pt x="18" y="25"/>
                  </a:lnTo>
                  <a:lnTo>
                    <a:pt x="13" y="31"/>
                  </a:lnTo>
                  <a:lnTo>
                    <a:pt x="10" y="36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3" y="56"/>
                  </a:lnTo>
                  <a:lnTo>
                    <a:pt x="2" y="62"/>
                  </a:lnTo>
                  <a:lnTo>
                    <a:pt x="0" y="69"/>
                  </a:lnTo>
                  <a:lnTo>
                    <a:pt x="2" y="76"/>
                  </a:lnTo>
                  <a:lnTo>
                    <a:pt x="2" y="83"/>
                  </a:lnTo>
                  <a:lnTo>
                    <a:pt x="3" y="89"/>
                  </a:lnTo>
                  <a:lnTo>
                    <a:pt x="5" y="95"/>
                  </a:lnTo>
                  <a:lnTo>
                    <a:pt x="8" y="103"/>
                  </a:lnTo>
                  <a:lnTo>
                    <a:pt x="11" y="109"/>
                  </a:lnTo>
                  <a:lnTo>
                    <a:pt x="15" y="113"/>
                  </a:lnTo>
                  <a:lnTo>
                    <a:pt x="23" y="124"/>
                  </a:lnTo>
                  <a:lnTo>
                    <a:pt x="36" y="140"/>
                  </a:lnTo>
                  <a:lnTo>
                    <a:pt x="55" y="160"/>
                  </a:lnTo>
                  <a:lnTo>
                    <a:pt x="79" y="181"/>
                  </a:lnTo>
                  <a:lnTo>
                    <a:pt x="107" y="205"/>
                  </a:lnTo>
                  <a:lnTo>
                    <a:pt x="123" y="217"/>
                  </a:lnTo>
                  <a:lnTo>
                    <a:pt x="141" y="228"/>
                  </a:lnTo>
                  <a:lnTo>
                    <a:pt x="159" y="241"/>
                  </a:lnTo>
                  <a:lnTo>
                    <a:pt x="180" y="250"/>
                  </a:lnTo>
                  <a:lnTo>
                    <a:pt x="201" y="262"/>
                  </a:lnTo>
                  <a:lnTo>
                    <a:pt x="224" y="270"/>
                  </a:lnTo>
                  <a:lnTo>
                    <a:pt x="247" y="279"/>
                  </a:lnTo>
                  <a:lnTo>
                    <a:pt x="272" y="286"/>
                  </a:lnTo>
                  <a:lnTo>
                    <a:pt x="298" y="293"/>
                  </a:lnTo>
                  <a:lnTo>
                    <a:pt x="326" y="296"/>
                  </a:lnTo>
                  <a:lnTo>
                    <a:pt x="354" y="300"/>
                  </a:lnTo>
                  <a:lnTo>
                    <a:pt x="384" y="301"/>
                  </a:lnTo>
                  <a:lnTo>
                    <a:pt x="416" y="300"/>
                  </a:lnTo>
                  <a:lnTo>
                    <a:pt x="449" y="298"/>
                  </a:lnTo>
                  <a:lnTo>
                    <a:pt x="482" y="293"/>
                  </a:lnTo>
                  <a:lnTo>
                    <a:pt x="517" y="285"/>
                  </a:lnTo>
                  <a:lnTo>
                    <a:pt x="553" y="275"/>
                  </a:lnTo>
                  <a:lnTo>
                    <a:pt x="590" y="263"/>
                  </a:lnTo>
                  <a:lnTo>
                    <a:pt x="629" y="247"/>
                  </a:lnTo>
                  <a:lnTo>
                    <a:pt x="668" y="228"/>
                  </a:lnTo>
                  <a:lnTo>
                    <a:pt x="685" y="241"/>
                  </a:lnTo>
                  <a:lnTo>
                    <a:pt x="703" y="252"/>
                  </a:lnTo>
                  <a:lnTo>
                    <a:pt x="724" y="263"/>
                  </a:lnTo>
                  <a:lnTo>
                    <a:pt x="748" y="274"/>
                  </a:lnTo>
                  <a:lnTo>
                    <a:pt x="760" y="278"/>
                  </a:lnTo>
                  <a:lnTo>
                    <a:pt x="774" y="283"/>
                  </a:lnTo>
                  <a:lnTo>
                    <a:pt x="788" y="286"/>
                  </a:lnTo>
                  <a:lnTo>
                    <a:pt x="802" y="290"/>
                  </a:lnTo>
                  <a:lnTo>
                    <a:pt x="817" y="293"/>
                  </a:lnTo>
                  <a:lnTo>
                    <a:pt x="832" y="294"/>
                  </a:lnTo>
                  <a:lnTo>
                    <a:pt x="848" y="295"/>
                  </a:lnTo>
                  <a:lnTo>
                    <a:pt x="866" y="295"/>
                  </a:lnTo>
                  <a:lnTo>
                    <a:pt x="887" y="294"/>
                  </a:lnTo>
                  <a:lnTo>
                    <a:pt x="908" y="293"/>
                  </a:lnTo>
                  <a:lnTo>
                    <a:pt x="928" y="289"/>
                  </a:lnTo>
                  <a:lnTo>
                    <a:pt x="949" y="284"/>
                  </a:lnTo>
                  <a:lnTo>
                    <a:pt x="970" y="277"/>
                  </a:lnTo>
                  <a:lnTo>
                    <a:pt x="990" y="269"/>
                  </a:lnTo>
                  <a:lnTo>
                    <a:pt x="1010" y="260"/>
                  </a:lnTo>
                  <a:lnTo>
                    <a:pt x="1031" y="249"/>
                  </a:lnTo>
                  <a:lnTo>
                    <a:pt x="1051" y="238"/>
                  </a:lnTo>
                  <a:lnTo>
                    <a:pt x="1071" y="224"/>
                  </a:lnTo>
                  <a:lnTo>
                    <a:pt x="1091" y="210"/>
                  </a:lnTo>
                  <a:lnTo>
                    <a:pt x="1110" y="195"/>
                  </a:lnTo>
                  <a:lnTo>
                    <a:pt x="1130" y="177"/>
                  </a:lnTo>
                  <a:lnTo>
                    <a:pt x="1149" y="159"/>
                  </a:lnTo>
                  <a:lnTo>
                    <a:pt x="1169" y="139"/>
                  </a:lnTo>
                  <a:lnTo>
                    <a:pt x="1187" y="118"/>
                  </a:lnTo>
                  <a:lnTo>
                    <a:pt x="1192" y="112"/>
                  </a:lnTo>
                  <a:lnTo>
                    <a:pt x="1196" y="105"/>
                  </a:lnTo>
                  <a:lnTo>
                    <a:pt x="1200" y="99"/>
                  </a:lnTo>
                  <a:lnTo>
                    <a:pt x="1202" y="93"/>
                  </a:lnTo>
                  <a:lnTo>
                    <a:pt x="1204" y="87"/>
                  </a:lnTo>
                  <a:lnTo>
                    <a:pt x="1205" y="79"/>
                  </a:lnTo>
                  <a:lnTo>
                    <a:pt x="1205" y="73"/>
                  </a:lnTo>
                  <a:lnTo>
                    <a:pt x="1205" y="66"/>
                  </a:lnTo>
                  <a:lnTo>
                    <a:pt x="1205" y="59"/>
                  </a:lnTo>
                  <a:lnTo>
                    <a:pt x="1204" y="52"/>
                  </a:lnTo>
                  <a:lnTo>
                    <a:pt x="1201" y="46"/>
                  </a:lnTo>
                  <a:lnTo>
                    <a:pt x="1199" y="40"/>
                  </a:lnTo>
                  <a:lnTo>
                    <a:pt x="1195" y="33"/>
                  </a:lnTo>
                  <a:lnTo>
                    <a:pt x="1191" y="27"/>
                  </a:lnTo>
                  <a:lnTo>
                    <a:pt x="1186" y="22"/>
                  </a:lnTo>
                  <a:lnTo>
                    <a:pt x="1181" y="17"/>
                  </a:lnTo>
                  <a:lnTo>
                    <a:pt x="1175" y="12"/>
                  </a:lnTo>
                  <a:lnTo>
                    <a:pt x="1169" y="9"/>
                  </a:lnTo>
                  <a:lnTo>
                    <a:pt x="1163" y="5"/>
                  </a:lnTo>
                  <a:lnTo>
                    <a:pt x="1156" y="2"/>
                  </a:lnTo>
                  <a:lnTo>
                    <a:pt x="1150" y="1"/>
                  </a:lnTo>
                  <a:lnTo>
                    <a:pt x="1143" y="0"/>
                  </a:lnTo>
                  <a:lnTo>
                    <a:pt x="1137" y="0"/>
                  </a:lnTo>
                  <a:lnTo>
                    <a:pt x="1129" y="0"/>
                  </a:lnTo>
                  <a:lnTo>
                    <a:pt x="1123" y="0"/>
                  </a:lnTo>
                  <a:lnTo>
                    <a:pt x="1115" y="1"/>
                  </a:lnTo>
                  <a:lnTo>
                    <a:pt x="1109" y="4"/>
                  </a:lnTo>
                  <a:lnTo>
                    <a:pt x="1103" y="6"/>
                  </a:lnTo>
                  <a:lnTo>
                    <a:pt x="1097" y="10"/>
                  </a:lnTo>
                  <a:lnTo>
                    <a:pt x="1091" y="13"/>
                  </a:lnTo>
                  <a:lnTo>
                    <a:pt x="1086" y="18"/>
                  </a:lnTo>
                  <a:lnTo>
                    <a:pt x="1081" y="2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1927080" y="2671920"/>
              <a:ext cx="187560" cy="258480"/>
            </a:xfrm>
            <a:custGeom>
              <a:avLst/>
              <a:gdLst/>
              <a:ahLst/>
              <a:rect l="l" t="t" r="r" b="b"/>
              <a:pathLst>
                <a:path w="469" h="652">
                  <a:moveTo>
                    <a:pt x="0" y="340"/>
                  </a:moveTo>
                  <a:lnTo>
                    <a:pt x="8" y="320"/>
                  </a:lnTo>
                  <a:lnTo>
                    <a:pt x="33" y="267"/>
                  </a:lnTo>
                  <a:lnTo>
                    <a:pt x="52" y="232"/>
                  </a:lnTo>
                  <a:lnTo>
                    <a:pt x="73" y="195"/>
                  </a:lnTo>
                  <a:lnTo>
                    <a:pt x="85" y="176"/>
                  </a:lnTo>
                  <a:lnTo>
                    <a:pt x="98" y="156"/>
                  </a:lnTo>
                  <a:lnTo>
                    <a:pt x="110" y="138"/>
                  </a:lnTo>
                  <a:lnTo>
                    <a:pt x="125" y="119"/>
                  </a:lnTo>
                  <a:lnTo>
                    <a:pt x="140" y="100"/>
                  </a:lnTo>
                  <a:lnTo>
                    <a:pt x="155" y="83"/>
                  </a:lnTo>
                  <a:lnTo>
                    <a:pt x="171" y="67"/>
                  </a:lnTo>
                  <a:lnTo>
                    <a:pt x="187" y="52"/>
                  </a:lnTo>
                  <a:lnTo>
                    <a:pt x="203" y="38"/>
                  </a:lnTo>
                  <a:lnTo>
                    <a:pt x="222" y="27"/>
                  </a:lnTo>
                  <a:lnTo>
                    <a:pt x="239" y="16"/>
                  </a:lnTo>
                  <a:lnTo>
                    <a:pt x="258" y="9"/>
                  </a:lnTo>
                  <a:lnTo>
                    <a:pt x="277" y="2"/>
                  </a:lnTo>
                  <a:lnTo>
                    <a:pt x="295" y="0"/>
                  </a:lnTo>
                  <a:lnTo>
                    <a:pt x="315" y="0"/>
                  </a:lnTo>
                  <a:lnTo>
                    <a:pt x="335" y="2"/>
                  </a:lnTo>
                  <a:lnTo>
                    <a:pt x="355" y="7"/>
                  </a:lnTo>
                  <a:lnTo>
                    <a:pt x="376" y="17"/>
                  </a:lnTo>
                  <a:lnTo>
                    <a:pt x="396" y="30"/>
                  </a:lnTo>
                  <a:lnTo>
                    <a:pt x="417" y="47"/>
                  </a:lnTo>
                  <a:lnTo>
                    <a:pt x="419" y="51"/>
                  </a:lnTo>
                  <a:lnTo>
                    <a:pt x="426" y="63"/>
                  </a:lnTo>
                  <a:lnTo>
                    <a:pt x="436" y="82"/>
                  </a:lnTo>
                  <a:lnTo>
                    <a:pt x="446" y="108"/>
                  </a:lnTo>
                  <a:lnTo>
                    <a:pt x="450" y="123"/>
                  </a:lnTo>
                  <a:lnTo>
                    <a:pt x="455" y="140"/>
                  </a:lnTo>
                  <a:lnTo>
                    <a:pt x="460" y="157"/>
                  </a:lnTo>
                  <a:lnTo>
                    <a:pt x="464" y="176"/>
                  </a:lnTo>
                  <a:lnTo>
                    <a:pt x="467" y="196"/>
                  </a:lnTo>
                  <a:lnTo>
                    <a:pt x="469" y="217"/>
                  </a:lnTo>
                  <a:lnTo>
                    <a:pt x="469" y="238"/>
                  </a:lnTo>
                  <a:lnTo>
                    <a:pt x="469" y="260"/>
                  </a:lnTo>
                  <a:lnTo>
                    <a:pt x="467" y="284"/>
                  </a:lnTo>
                  <a:lnTo>
                    <a:pt x="463" y="308"/>
                  </a:lnTo>
                  <a:lnTo>
                    <a:pt x="457" y="332"/>
                  </a:lnTo>
                  <a:lnTo>
                    <a:pt x="448" y="357"/>
                  </a:lnTo>
                  <a:lnTo>
                    <a:pt x="437" y="382"/>
                  </a:lnTo>
                  <a:lnTo>
                    <a:pt x="424" y="407"/>
                  </a:lnTo>
                  <a:lnTo>
                    <a:pt x="408" y="433"/>
                  </a:lnTo>
                  <a:lnTo>
                    <a:pt x="390" y="458"/>
                  </a:lnTo>
                  <a:lnTo>
                    <a:pt x="367" y="484"/>
                  </a:lnTo>
                  <a:lnTo>
                    <a:pt x="342" y="509"/>
                  </a:lnTo>
                  <a:lnTo>
                    <a:pt x="314" y="535"/>
                  </a:lnTo>
                  <a:lnTo>
                    <a:pt x="282" y="558"/>
                  </a:lnTo>
                  <a:lnTo>
                    <a:pt x="244" y="583"/>
                  </a:lnTo>
                  <a:lnTo>
                    <a:pt x="205" y="607"/>
                  </a:lnTo>
                  <a:lnTo>
                    <a:pt x="160" y="630"/>
                  </a:lnTo>
                  <a:lnTo>
                    <a:pt x="111" y="652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913040" y="2657520"/>
              <a:ext cx="215640" cy="291960"/>
            </a:xfrm>
            <a:custGeom>
              <a:avLst/>
              <a:gdLst/>
              <a:ahLst/>
              <a:rect l="l" t="t" r="r" b="b"/>
              <a:pathLst>
                <a:path w="544" h="737">
                  <a:moveTo>
                    <a:pt x="307" y="5"/>
                  </a:moveTo>
                  <a:lnTo>
                    <a:pt x="291" y="9"/>
                  </a:lnTo>
                  <a:lnTo>
                    <a:pt x="275" y="15"/>
                  </a:lnTo>
                  <a:lnTo>
                    <a:pt x="260" y="22"/>
                  </a:lnTo>
                  <a:lnTo>
                    <a:pt x="244" y="31"/>
                  </a:lnTo>
                  <a:lnTo>
                    <a:pt x="229" y="41"/>
                  </a:lnTo>
                  <a:lnTo>
                    <a:pt x="215" y="52"/>
                  </a:lnTo>
                  <a:lnTo>
                    <a:pt x="200" y="63"/>
                  </a:lnTo>
                  <a:lnTo>
                    <a:pt x="186" y="76"/>
                  </a:lnTo>
                  <a:lnTo>
                    <a:pt x="174" y="89"/>
                  </a:lnTo>
                  <a:lnTo>
                    <a:pt x="160" y="103"/>
                  </a:lnTo>
                  <a:lnTo>
                    <a:pt x="148" y="118"/>
                  </a:lnTo>
                  <a:lnTo>
                    <a:pt x="137" y="133"/>
                  </a:lnTo>
                  <a:lnTo>
                    <a:pt x="113" y="164"/>
                  </a:lnTo>
                  <a:lnTo>
                    <a:pt x="93" y="195"/>
                  </a:lnTo>
                  <a:lnTo>
                    <a:pt x="73" y="226"/>
                  </a:lnTo>
                  <a:lnTo>
                    <a:pt x="57" y="254"/>
                  </a:lnTo>
                  <a:lnTo>
                    <a:pt x="42" y="283"/>
                  </a:lnTo>
                  <a:lnTo>
                    <a:pt x="30" y="308"/>
                  </a:lnTo>
                  <a:lnTo>
                    <a:pt x="13" y="346"/>
                  </a:lnTo>
                  <a:lnTo>
                    <a:pt x="5" y="363"/>
                  </a:lnTo>
                  <a:lnTo>
                    <a:pt x="0" y="376"/>
                  </a:lnTo>
                  <a:lnTo>
                    <a:pt x="129" y="737"/>
                  </a:lnTo>
                  <a:lnTo>
                    <a:pt x="164" y="722"/>
                  </a:lnTo>
                  <a:lnTo>
                    <a:pt x="200" y="705"/>
                  </a:lnTo>
                  <a:lnTo>
                    <a:pt x="235" y="687"/>
                  </a:lnTo>
                  <a:lnTo>
                    <a:pt x="268" y="670"/>
                  </a:lnTo>
                  <a:lnTo>
                    <a:pt x="299" y="651"/>
                  </a:lnTo>
                  <a:lnTo>
                    <a:pt x="329" y="633"/>
                  </a:lnTo>
                  <a:lnTo>
                    <a:pt x="357" y="613"/>
                  </a:lnTo>
                  <a:lnTo>
                    <a:pt x="381" y="592"/>
                  </a:lnTo>
                  <a:lnTo>
                    <a:pt x="406" y="571"/>
                  </a:lnTo>
                  <a:lnTo>
                    <a:pt x="427" y="550"/>
                  </a:lnTo>
                  <a:lnTo>
                    <a:pt x="447" y="527"/>
                  </a:lnTo>
                  <a:lnTo>
                    <a:pt x="466" y="505"/>
                  </a:lnTo>
                  <a:lnTo>
                    <a:pt x="482" y="481"/>
                  </a:lnTo>
                  <a:lnTo>
                    <a:pt x="497" y="456"/>
                  </a:lnTo>
                  <a:lnTo>
                    <a:pt x="509" y="432"/>
                  </a:lnTo>
                  <a:lnTo>
                    <a:pt x="521" y="407"/>
                  </a:lnTo>
                  <a:lnTo>
                    <a:pt x="529" y="381"/>
                  </a:lnTo>
                  <a:lnTo>
                    <a:pt x="533" y="365"/>
                  </a:lnTo>
                  <a:lnTo>
                    <a:pt x="537" y="350"/>
                  </a:lnTo>
                  <a:lnTo>
                    <a:pt x="539" y="334"/>
                  </a:lnTo>
                  <a:lnTo>
                    <a:pt x="542" y="319"/>
                  </a:lnTo>
                  <a:lnTo>
                    <a:pt x="544" y="289"/>
                  </a:lnTo>
                  <a:lnTo>
                    <a:pt x="544" y="260"/>
                  </a:lnTo>
                  <a:lnTo>
                    <a:pt x="542" y="233"/>
                  </a:lnTo>
                  <a:lnTo>
                    <a:pt x="539" y="207"/>
                  </a:lnTo>
                  <a:lnTo>
                    <a:pt x="534" y="184"/>
                  </a:lnTo>
                  <a:lnTo>
                    <a:pt x="528" y="160"/>
                  </a:lnTo>
                  <a:lnTo>
                    <a:pt x="522" y="140"/>
                  </a:lnTo>
                  <a:lnTo>
                    <a:pt x="514" y="121"/>
                  </a:lnTo>
                  <a:lnTo>
                    <a:pt x="508" y="105"/>
                  </a:lnTo>
                  <a:lnTo>
                    <a:pt x="501" y="92"/>
                  </a:lnTo>
                  <a:lnTo>
                    <a:pt x="491" y="72"/>
                  </a:lnTo>
                  <a:lnTo>
                    <a:pt x="486" y="63"/>
                  </a:lnTo>
                  <a:lnTo>
                    <a:pt x="475" y="53"/>
                  </a:lnTo>
                  <a:lnTo>
                    <a:pt x="463" y="45"/>
                  </a:lnTo>
                  <a:lnTo>
                    <a:pt x="452" y="36"/>
                  </a:lnTo>
                  <a:lnTo>
                    <a:pt x="441" y="28"/>
                  </a:lnTo>
                  <a:lnTo>
                    <a:pt x="430" y="22"/>
                  </a:lnTo>
                  <a:lnTo>
                    <a:pt x="419" y="16"/>
                  </a:lnTo>
                  <a:lnTo>
                    <a:pt x="408" y="11"/>
                  </a:lnTo>
                  <a:lnTo>
                    <a:pt x="396" y="7"/>
                  </a:lnTo>
                  <a:lnTo>
                    <a:pt x="385" y="5"/>
                  </a:lnTo>
                  <a:lnTo>
                    <a:pt x="374" y="2"/>
                  </a:lnTo>
                  <a:lnTo>
                    <a:pt x="363" y="0"/>
                  </a:lnTo>
                  <a:lnTo>
                    <a:pt x="352" y="0"/>
                  </a:lnTo>
                  <a:lnTo>
                    <a:pt x="340" y="0"/>
                  </a:lnTo>
                  <a:lnTo>
                    <a:pt x="329" y="0"/>
                  </a:lnTo>
                  <a:lnTo>
                    <a:pt x="318" y="2"/>
                  </a:lnTo>
                  <a:lnTo>
                    <a:pt x="307" y="5"/>
                  </a:lnTo>
                  <a:close/>
                  <a:moveTo>
                    <a:pt x="323" y="73"/>
                  </a:moveTo>
                  <a:lnTo>
                    <a:pt x="337" y="72"/>
                  </a:lnTo>
                  <a:lnTo>
                    <a:pt x="350" y="71"/>
                  </a:lnTo>
                  <a:lnTo>
                    <a:pt x="364" y="73"/>
                  </a:lnTo>
                  <a:lnTo>
                    <a:pt x="378" y="76"/>
                  </a:lnTo>
                  <a:lnTo>
                    <a:pt x="391" y="82"/>
                  </a:lnTo>
                  <a:lnTo>
                    <a:pt x="405" y="89"/>
                  </a:lnTo>
                  <a:lnTo>
                    <a:pt x="419" y="98"/>
                  </a:lnTo>
                  <a:lnTo>
                    <a:pt x="432" y="109"/>
                  </a:lnTo>
                  <a:lnTo>
                    <a:pt x="439" y="123"/>
                  </a:lnTo>
                  <a:lnTo>
                    <a:pt x="452" y="157"/>
                  </a:lnTo>
                  <a:lnTo>
                    <a:pt x="460" y="181"/>
                  </a:lnTo>
                  <a:lnTo>
                    <a:pt x="467" y="210"/>
                  </a:lnTo>
                  <a:lnTo>
                    <a:pt x="470" y="224"/>
                  </a:lnTo>
                  <a:lnTo>
                    <a:pt x="471" y="241"/>
                  </a:lnTo>
                  <a:lnTo>
                    <a:pt x="472" y="257"/>
                  </a:lnTo>
                  <a:lnTo>
                    <a:pt x="473" y="274"/>
                  </a:lnTo>
                  <a:lnTo>
                    <a:pt x="472" y="295"/>
                  </a:lnTo>
                  <a:lnTo>
                    <a:pt x="470" y="316"/>
                  </a:lnTo>
                  <a:lnTo>
                    <a:pt x="466" y="339"/>
                  </a:lnTo>
                  <a:lnTo>
                    <a:pt x="460" y="361"/>
                  </a:lnTo>
                  <a:lnTo>
                    <a:pt x="453" y="382"/>
                  </a:lnTo>
                  <a:lnTo>
                    <a:pt x="445" y="402"/>
                  </a:lnTo>
                  <a:lnTo>
                    <a:pt x="435" y="420"/>
                  </a:lnTo>
                  <a:lnTo>
                    <a:pt x="422" y="439"/>
                  </a:lnTo>
                  <a:lnTo>
                    <a:pt x="409" y="458"/>
                  </a:lnTo>
                  <a:lnTo>
                    <a:pt x="394" y="476"/>
                  </a:lnTo>
                  <a:lnTo>
                    <a:pt x="378" y="494"/>
                  </a:lnTo>
                  <a:lnTo>
                    <a:pt x="360" y="511"/>
                  </a:lnTo>
                  <a:lnTo>
                    <a:pt x="342" y="528"/>
                  </a:lnTo>
                  <a:lnTo>
                    <a:pt x="321" y="545"/>
                  </a:lnTo>
                  <a:lnTo>
                    <a:pt x="298" y="561"/>
                  </a:lnTo>
                  <a:lnTo>
                    <a:pt x="276" y="577"/>
                  </a:lnTo>
                  <a:lnTo>
                    <a:pt x="251" y="592"/>
                  </a:lnTo>
                  <a:lnTo>
                    <a:pt x="225" y="607"/>
                  </a:lnTo>
                  <a:lnTo>
                    <a:pt x="198" y="621"/>
                  </a:lnTo>
                  <a:lnTo>
                    <a:pt x="169" y="635"/>
                  </a:lnTo>
                  <a:lnTo>
                    <a:pt x="159" y="609"/>
                  </a:lnTo>
                  <a:lnTo>
                    <a:pt x="147" y="573"/>
                  </a:lnTo>
                  <a:lnTo>
                    <a:pt x="133" y="535"/>
                  </a:lnTo>
                  <a:lnTo>
                    <a:pt x="118" y="492"/>
                  </a:lnTo>
                  <a:lnTo>
                    <a:pt x="105" y="454"/>
                  </a:lnTo>
                  <a:lnTo>
                    <a:pt x="92" y="419"/>
                  </a:lnTo>
                  <a:lnTo>
                    <a:pt x="82" y="393"/>
                  </a:lnTo>
                  <a:lnTo>
                    <a:pt x="77" y="378"/>
                  </a:lnTo>
                  <a:lnTo>
                    <a:pt x="93" y="341"/>
                  </a:lnTo>
                  <a:lnTo>
                    <a:pt x="114" y="299"/>
                  </a:lnTo>
                  <a:lnTo>
                    <a:pt x="128" y="275"/>
                  </a:lnTo>
                  <a:lnTo>
                    <a:pt x="142" y="252"/>
                  </a:lnTo>
                  <a:lnTo>
                    <a:pt x="157" y="227"/>
                  </a:lnTo>
                  <a:lnTo>
                    <a:pt x="172" y="203"/>
                  </a:lnTo>
                  <a:lnTo>
                    <a:pt x="189" y="181"/>
                  </a:lnTo>
                  <a:lnTo>
                    <a:pt x="206" y="159"/>
                  </a:lnTo>
                  <a:lnTo>
                    <a:pt x="225" y="139"/>
                  </a:lnTo>
                  <a:lnTo>
                    <a:pt x="244" y="120"/>
                  </a:lnTo>
                  <a:lnTo>
                    <a:pt x="262" y="104"/>
                  </a:lnTo>
                  <a:lnTo>
                    <a:pt x="282" y="90"/>
                  </a:lnTo>
                  <a:lnTo>
                    <a:pt x="292" y="85"/>
                  </a:lnTo>
                  <a:lnTo>
                    <a:pt x="303" y="81"/>
                  </a:lnTo>
                  <a:lnTo>
                    <a:pt x="313" y="77"/>
                  </a:lnTo>
                  <a:lnTo>
                    <a:pt x="323" y="7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071720" y="2297160"/>
              <a:ext cx="984240" cy="1574640"/>
            </a:xfrm>
            <a:custGeom>
              <a:avLst/>
              <a:gdLst/>
              <a:ahLst/>
              <a:rect l="l" t="t" r="r" b="b"/>
              <a:pathLst>
                <a:path w="2481" h="3969">
                  <a:moveTo>
                    <a:pt x="372" y="306"/>
                  </a:moveTo>
                  <a:lnTo>
                    <a:pt x="372" y="314"/>
                  </a:lnTo>
                  <a:lnTo>
                    <a:pt x="372" y="333"/>
                  </a:lnTo>
                  <a:lnTo>
                    <a:pt x="372" y="366"/>
                  </a:lnTo>
                  <a:lnTo>
                    <a:pt x="372" y="409"/>
                  </a:lnTo>
                  <a:lnTo>
                    <a:pt x="370" y="460"/>
                  </a:lnTo>
                  <a:lnTo>
                    <a:pt x="368" y="518"/>
                  </a:lnTo>
                  <a:lnTo>
                    <a:pt x="364" y="583"/>
                  </a:lnTo>
                  <a:lnTo>
                    <a:pt x="359" y="652"/>
                  </a:lnTo>
                  <a:lnTo>
                    <a:pt x="350" y="724"/>
                  </a:lnTo>
                  <a:lnTo>
                    <a:pt x="341" y="797"/>
                  </a:lnTo>
                  <a:lnTo>
                    <a:pt x="334" y="833"/>
                  </a:lnTo>
                  <a:lnTo>
                    <a:pt x="328" y="871"/>
                  </a:lnTo>
                  <a:lnTo>
                    <a:pt x="321" y="907"/>
                  </a:lnTo>
                  <a:lnTo>
                    <a:pt x="312" y="941"/>
                  </a:lnTo>
                  <a:lnTo>
                    <a:pt x="303" y="976"/>
                  </a:lnTo>
                  <a:lnTo>
                    <a:pt x="292" y="1011"/>
                  </a:lnTo>
                  <a:lnTo>
                    <a:pt x="281" y="1043"/>
                  </a:lnTo>
                  <a:lnTo>
                    <a:pt x="270" y="1074"/>
                  </a:lnTo>
                  <a:lnTo>
                    <a:pt x="256" y="1104"/>
                  </a:lnTo>
                  <a:lnTo>
                    <a:pt x="242" y="1132"/>
                  </a:lnTo>
                  <a:lnTo>
                    <a:pt x="228" y="1159"/>
                  </a:lnTo>
                  <a:lnTo>
                    <a:pt x="211" y="1183"/>
                  </a:lnTo>
                  <a:lnTo>
                    <a:pt x="199" y="1197"/>
                  </a:lnTo>
                  <a:lnTo>
                    <a:pt x="169" y="1238"/>
                  </a:lnTo>
                  <a:lnTo>
                    <a:pt x="151" y="1268"/>
                  </a:lnTo>
                  <a:lnTo>
                    <a:pt x="129" y="1302"/>
                  </a:lnTo>
                  <a:lnTo>
                    <a:pt x="120" y="1322"/>
                  </a:lnTo>
                  <a:lnTo>
                    <a:pt x="110" y="1343"/>
                  </a:lnTo>
                  <a:lnTo>
                    <a:pt x="100" y="1366"/>
                  </a:lnTo>
                  <a:lnTo>
                    <a:pt x="90" y="1389"/>
                  </a:lnTo>
                  <a:lnTo>
                    <a:pt x="81" y="1413"/>
                  </a:lnTo>
                  <a:lnTo>
                    <a:pt x="72" y="1439"/>
                  </a:lnTo>
                  <a:lnTo>
                    <a:pt x="65" y="1466"/>
                  </a:lnTo>
                  <a:lnTo>
                    <a:pt x="59" y="1493"/>
                  </a:lnTo>
                  <a:lnTo>
                    <a:pt x="52" y="1522"/>
                  </a:lnTo>
                  <a:lnTo>
                    <a:pt x="48" y="1552"/>
                  </a:lnTo>
                  <a:lnTo>
                    <a:pt x="45" y="1583"/>
                  </a:lnTo>
                  <a:lnTo>
                    <a:pt x="43" y="1614"/>
                  </a:lnTo>
                  <a:lnTo>
                    <a:pt x="43" y="1647"/>
                  </a:lnTo>
                  <a:lnTo>
                    <a:pt x="44" y="1680"/>
                  </a:lnTo>
                  <a:lnTo>
                    <a:pt x="48" y="1714"/>
                  </a:lnTo>
                  <a:lnTo>
                    <a:pt x="52" y="1749"/>
                  </a:lnTo>
                  <a:lnTo>
                    <a:pt x="60" y="1784"/>
                  </a:lnTo>
                  <a:lnTo>
                    <a:pt x="70" y="1820"/>
                  </a:lnTo>
                  <a:lnTo>
                    <a:pt x="82" y="1856"/>
                  </a:lnTo>
                  <a:lnTo>
                    <a:pt x="97" y="1893"/>
                  </a:lnTo>
                  <a:lnTo>
                    <a:pt x="100" y="1915"/>
                  </a:lnTo>
                  <a:lnTo>
                    <a:pt x="105" y="1979"/>
                  </a:lnTo>
                  <a:lnTo>
                    <a:pt x="107" y="2022"/>
                  </a:lnTo>
                  <a:lnTo>
                    <a:pt x="110" y="2072"/>
                  </a:lnTo>
                  <a:lnTo>
                    <a:pt x="112" y="2129"/>
                  </a:lnTo>
                  <a:lnTo>
                    <a:pt x="112" y="2190"/>
                  </a:lnTo>
                  <a:lnTo>
                    <a:pt x="112" y="2254"/>
                  </a:lnTo>
                  <a:lnTo>
                    <a:pt x="111" y="2322"/>
                  </a:lnTo>
                  <a:lnTo>
                    <a:pt x="107" y="2391"/>
                  </a:lnTo>
                  <a:lnTo>
                    <a:pt x="101" y="2461"/>
                  </a:lnTo>
                  <a:lnTo>
                    <a:pt x="97" y="2496"/>
                  </a:lnTo>
                  <a:lnTo>
                    <a:pt x="93" y="2531"/>
                  </a:lnTo>
                  <a:lnTo>
                    <a:pt x="87" y="2564"/>
                  </a:lnTo>
                  <a:lnTo>
                    <a:pt x="82" y="2599"/>
                  </a:lnTo>
                  <a:lnTo>
                    <a:pt x="75" y="2632"/>
                  </a:lnTo>
                  <a:lnTo>
                    <a:pt x="67" y="2665"/>
                  </a:lnTo>
                  <a:lnTo>
                    <a:pt x="59" y="2696"/>
                  </a:lnTo>
                  <a:lnTo>
                    <a:pt x="50" y="2727"/>
                  </a:lnTo>
                  <a:lnTo>
                    <a:pt x="46" y="2735"/>
                  </a:lnTo>
                  <a:lnTo>
                    <a:pt x="38" y="2758"/>
                  </a:lnTo>
                  <a:lnTo>
                    <a:pt x="33" y="2775"/>
                  </a:lnTo>
                  <a:lnTo>
                    <a:pt x="26" y="2795"/>
                  </a:lnTo>
                  <a:lnTo>
                    <a:pt x="20" y="2819"/>
                  </a:lnTo>
                  <a:lnTo>
                    <a:pt x="15" y="2845"/>
                  </a:lnTo>
                  <a:lnTo>
                    <a:pt x="10" y="2874"/>
                  </a:lnTo>
                  <a:lnTo>
                    <a:pt x="5" y="2905"/>
                  </a:lnTo>
                  <a:lnTo>
                    <a:pt x="2" y="2939"/>
                  </a:lnTo>
                  <a:lnTo>
                    <a:pt x="0" y="2975"/>
                  </a:lnTo>
                  <a:lnTo>
                    <a:pt x="0" y="3013"/>
                  </a:lnTo>
                  <a:lnTo>
                    <a:pt x="2" y="3053"/>
                  </a:lnTo>
                  <a:lnTo>
                    <a:pt x="7" y="3095"/>
                  </a:lnTo>
                  <a:lnTo>
                    <a:pt x="13" y="3137"/>
                  </a:lnTo>
                  <a:lnTo>
                    <a:pt x="23" y="3182"/>
                  </a:lnTo>
                  <a:lnTo>
                    <a:pt x="35" y="3228"/>
                  </a:lnTo>
                  <a:lnTo>
                    <a:pt x="52" y="3274"/>
                  </a:lnTo>
                  <a:lnTo>
                    <a:pt x="72" y="3321"/>
                  </a:lnTo>
                  <a:lnTo>
                    <a:pt x="97" y="3369"/>
                  </a:lnTo>
                  <a:lnTo>
                    <a:pt x="126" y="3418"/>
                  </a:lnTo>
                  <a:lnTo>
                    <a:pt x="159" y="3466"/>
                  </a:lnTo>
                  <a:lnTo>
                    <a:pt x="198" y="3515"/>
                  </a:lnTo>
                  <a:lnTo>
                    <a:pt x="241" y="3563"/>
                  </a:lnTo>
                  <a:lnTo>
                    <a:pt x="291" y="3611"/>
                  </a:lnTo>
                  <a:lnTo>
                    <a:pt x="347" y="3659"/>
                  </a:lnTo>
                  <a:lnTo>
                    <a:pt x="408" y="3706"/>
                  </a:lnTo>
                  <a:lnTo>
                    <a:pt x="476" y="3752"/>
                  </a:lnTo>
                  <a:lnTo>
                    <a:pt x="552" y="3796"/>
                  </a:lnTo>
                  <a:lnTo>
                    <a:pt x="634" y="3840"/>
                  </a:lnTo>
                  <a:lnTo>
                    <a:pt x="723" y="3883"/>
                  </a:lnTo>
                  <a:lnTo>
                    <a:pt x="737" y="3887"/>
                  </a:lnTo>
                  <a:lnTo>
                    <a:pt x="775" y="3895"/>
                  </a:lnTo>
                  <a:lnTo>
                    <a:pt x="836" y="3909"/>
                  </a:lnTo>
                  <a:lnTo>
                    <a:pt x="917" y="3924"/>
                  </a:lnTo>
                  <a:lnTo>
                    <a:pt x="964" y="3933"/>
                  </a:lnTo>
                  <a:lnTo>
                    <a:pt x="1015" y="3940"/>
                  </a:lnTo>
                  <a:lnTo>
                    <a:pt x="1069" y="3948"/>
                  </a:lnTo>
                  <a:lnTo>
                    <a:pt x="1127" y="3954"/>
                  </a:lnTo>
                  <a:lnTo>
                    <a:pt x="1187" y="3960"/>
                  </a:lnTo>
                  <a:lnTo>
                    <a:pt x="1250" y="3965"/>
                  </a:lnTo>
                  <a:lnTo>
                    <a:pt x="1315" y="3967"/>
                  </a:lnTo>
                  <a:lnTo>
                    <a:pt x="1382" y="3969"/>
                  </a:lnTo>
                  <a:lnTo>
                    <a:pt x="1451" y="3969"/>
                  </a:lnTo>
                  <a:lnTo>
                    <a:pt x="1519" y="3966"/>
                  </a:lnTo>
                  <a:lnTo>
                    <a:pt x="1590" y="3961"/>
                  </a:lnTo>
                  <a:lnTo>
                    <a:pt x="1661" y="3954"/>
                  </a:lnTo>
                  <a:lnTo>
                    <a:pt x="1730" y="3944"/>
                  </a:lnTo>
                  <a:lnTo>
                    <a:pt x="1801" y="3931"/>
                  </a:lnTo>
                  <a:lnTo>
                    <a:pt x="1870" y="3915"/>
                  </a:lnTo>
                  <a:lnTo>
                    <a:pt x="1939" y="3894"/>
                  </a:lnTo>
                  <a:lnTo>
                    <a:pt x="2006" y="3871"/>
                  </a:lnTo>
                  <a:lnTo>
                    <a:pt x="2072" y="3843"/>
                  </a:lnTo>
                  <a:lnTo>
                    <a:pt x="2135" y="3811"/>
                  </a:lnTo>
                  <a:lnTo>
                    <a:pt x="2197" y="3775"/>
                  </a:lnTo>
                  <a:lnTo>
                    <a:pt x="2255" y="3734"/>
                  </a:lnTo>
                  <a:lnTo>
                    <a:pt x="2310" y="3687"/>
                  </a:lnTo>
                  <a:lnTo>
                    <a:pt x="2362" y="3636"/>
                  </a:lnTo>
                  <a:lnTo>
                    <a:pt x="2411" y="3579"/>
                  </a:lnTo>
                  <a:lnTo>
                    <a:pt x="2413" y="3575"/>
                  </a:lnTo>
                  <a:lnTo>
                    <a:pt x="2418" y="3562"/>
                  </a:lnTo>
                  <a:lnTo>
                    <a:pt x="2425" y="3541"/>
                  </a:lnTo>
                  <a:lnTo>
                    <a:pt x="2434" y="3512"/>
                  </a:lnTo>
                  <a:lnTo>
                    <a:pt x="2444" y="3475"/>
                  </a:lnTo>
                  <a:lnTo>
                    <a:pt x="2455" y="3430"/>
                  </a:lnTo>
                  <a:lnTo>
                    <a:pt x="2464" y="3378"/>
                  </a:lnTo>
                  <a:lnTo>
                    <a:pt x="2473" y="3320"/>
                  </a:lnTo>
                  <a:lnTo>
                    <a:pt x="2475" y="3289"/>
                  </a:lnTo>
                  <a:lnTo>
                    <a:pt x="2478" y="3255"/>
                  </a:lnTo>
                  <a:lnTo>
                    <a:pt x="2480" y="3221"/>
                  </a:lnTo>
                  <a:lnTo>
                    <a:pt x="2481" y="3185"/>
                  </a:lnTo>
                  <a:lnTo>
                    <a:pt x="2481" y="3146"/>
                  </a:lnTo>
                  <a:lnTo>
                    <a:pt x="2480" y="3106"/>
                  </a:lnTo>
                  <a:lnTo>
                    <a:pt x="2478" y="3067"/>
                  </a:lnTo>
                  <a:lnTo>
                    <a:pt x="2475" y="3025"/>
                  </a:lnTo>
                  <a:lnTo>
                    <a:pt x="2470" y="2981"/>
                  </a:lnTo>
                  <a:lnTo>
                    <a:pt x="2464" y="2935"/>
                  </a:lnTo>
                  <a:lnTo>
                    <a:pt x="2457" y="2889"/>
                  </a:lnTo>
                  <a:lnTo>
                    <a:pt x="2447" y="2842"/>
                  </a:lnTo>
                  <a:lnTo>
                    <a:pt x="2435" y="2794"/>
                  </a:lnTo>
                  <a:lnTo>
                    <a:pt x="2423" y="2744"/>
                  </a:lnTo>
                  <a:lnTo>
                    <a:pt x="2408" y="2693"/>
                  </a:lnTo>
                  <a:lnTo>
                    <a:pt x="2392" y="2641"/>
                  </a:lnTo>
                  <a:lnTo>
                    <a:pt x="2383" y="2621"/>
                  </a:lnTo>
                  <a:lnTo>
                    <a:pt x="2361" y="2565"/>
                  </a:lnTo>
                  <a:lnTo>
                    <a:pt x="2347" y="2526"/>
                  </a:lnTo>
                  <a:lnTo>
                    <a:pt x="2332" y="2480"/>
                  </a:lnTo>
                  <a:lnTo>
                    <a:pt x="2317" y="2428"/>
                  </a:lnTo>
                  <a:lnTo>
                    <a:pt x="2303" y="2371"/>
                  </a:lnTo>
                  <a:lnTo>
                    <a:pt x="2296" y="2341"/>
                  </a:lnTo>
                  <a:lnTo>
                    <a:pt x="2290" y="2310"/>
                  </a:lnTo>
                  <a:lnTo>
                    <a:pt x="2284" y="2278"/>
                  </a:lnTo>
                  <a:lnTo>
                    <a:pt x="2279" y="2245"/>
                  </a:lnTo>
                  <a:lnTo>
                    <a:pt x="2275" y="2212"/>
                  </a:lnTo>
                  <a:lnTo>
                    <a:pt x="2271" y="2178"/>
                  </a:lnTo>
                  <a:lnTo>
                    <a:pt x="2269" y="2145"/>
                  </a:lnTo>
                  <a:lnTo>
                    <a:pt x="2268" y="2110"/>
                  </a:lnTo>
                  <a:lnTo>
                    <a:pt x="2268" y="2075"/>
                  </a:lnTo>
                  <a:lnTo>
                    <a:pt x="2269" y="2041"/>
                  </a:lnTo>
                  <a:lnTo>
                    <a:pt x="2270" y="2006"/>
                  </a:lnTo>
                  <a:lnTo>
                    <a:pt x="2275" y="1971"/>
                  </a:lnTo>
                  <a:lnTo>
                    <a:pt x="2280" y="1938"/>
                  </a:lnTo>
                  <a:lnTo>
                    <a:pt x="2288" y="1903"/>
                  </a:lnTo>
                  <a:lnTo>
                    <a:pt x="2296" y="1869"/>
                  </a:lnTo>
                  <a:lnTo>
                    <a:pt x="2306" y="1836"/>
                  </a:lnTo>
                  <a:lnTo>
                    <a:pt x="2310" y="1819"/>
                  </a:lnTo>
                  <a:lnTo>
                    <a:pt x="2316" y="1770"/>
                  </a:lnTo>
                  <a:lnTo>
                    <a:pt x="2317" y="1737"/>
                  </a:lnTo>
                  <a:lnTo>
                    <a:pt x="2317" y="1696"/>
                  </a:lnTo>
                  <a:lnTo>
                    <a:pt x="2317" y="1675"/>
                  </a:lnTo>
                  <a:lnTo>
                    <a:pt x="2315" y="1651"/>
                  </a:lnTo>
                  <a:lnTo>
                    <a:pt x="2314" y="1626"/>
                  </a:lnTo>
                  <a:lnTo>
                    <a:pt x="2310" y="1600"/>
                  </a:lnTo>
                  <a:lnTo>
                    <a:pt x="2305" y="1574"/>
                  </a:lnTo>
                  <a:lnTo>
                    <a:pt x="2300" y="1547"/>
                  </a:lnTo>
                  <a:lnTo>
                    <a:pt x="2294" y="1518"/>
                  </a:lnTo>
                  <a:lnTo>
                    <a:pt x="2285" y="1490"/>
                  </a:lnTo>
                  <a:lnTo>
                    <a:pt x="2276" y="1460"/>
                  </a:lnTo>
                  <a:lnTo>
                    <a:pt x="2265" y="1430"/>
                  </a:lnTo>
                  <a:lnTo>
                    <a:pt x="2253" y="1400"/>
                  </a:lnTo>
                  <a:lnTo>
                    <a:pt x="2238" y="1369"/>
                  </a:lnTo>
                  <a:lnTo>
                    <a:pt x="2222" y="1337"/>
                  </a:lnTo>
                  <a:lnTo>
                    <a:pt x="2204" y="1306"/>
                  </a:lnTo>
                  <a:lnTo>
                    <a:pt x="2185" y="1274"/>
                  </a:lnTo>
                  <a:lnTo>
                    <a:pt x="2162" y="1243"/>
                  </a:lnTo>
                  <a:lnTo>
                    <a:pt x="2137" y="1211"/>
                  </a:lnTo>
                  <a:lnTo>
                    <a:pt x="2111" y="1180"/>
                  </a:lnTo>
                  <a:lnTo>
                    <a:pt x="2081" y="1147"/>
                  </a:lnTo>
                  <a:lnTo>
                    <a:pt x="2050" y="1116"/>
                  </a:lnTo>
                  <a:lnTo>
                    <a:pt x="2042" y="1105"/>
                  </a:lnTo>
                  <a:lnTo>
                    <a:pt x="2022" y="1073"/>
                  </a:lnTo>
                  <a:lnTo>
                    <a:pt x="2008" y="1049"/>
                  </a:lnTo>
                  <a:lnTo>
                    <a:pt x="1993" y="1018"/>
                  </a:lnTo>
                  <a:lnTo>
                    <a:pt x="1978" y="982"/>
                  </a:lnTo>
                  <a:lnTo>
                    <a:pt x="1964" y="941"/>
                  </a:lnTo>
                  <a:lnTo>
                    <a:pt x="1956" y="918"/>
                  </a:lnTo>
                  <a:lnTo>
                    <a:pt x="1950" y="894"/>
                  </a:lnTo>
                  <a:lnTo>
                    <a:pt x="1942" y="868"/>
                  </a:lnTo>
                  <a:lnTo>
                    <a:pt x="1937" y="841"/>
                  </a:lnTo>
                  <a:lnTo>
                    <a:pt x="1931" y="812"/>
                  </a:lnTo>
                  <a:lnTo>
                    <a:pt x="1926" y="781"/>
                  </a:lnTo>
                  <a:lnTo>
                    <a:pt x="1921" y="750"/>
                  </a:lnTo>
                  <a:lnTo>
                    <a:pt x="1919" y="717"/>
                  </a:lnTo>
                  <a:lnTo>
                    <a:pt x="1915" y="682"/>
                  </a:lnTo>
                  <a:lnTo>
                    <a:pt x="1914" y="646"/>
                  </a:lnTo>
                  <a:lnTo>
                    <a:pt x="1913" y="608"/>
                  </a:lnTo>
                  <a:lnTo>
                    <a:pt x="1914" y="569"/>
                  </a:lnTo>
                  <a:lnTo>
                    <a:pt x="1915" y="528"/>
                  </a:lnTo>
                  <a:lnTo>
                    <a:pt x="1918" y="486"/>
                  </a:lnTo>
                  <a:lnTo>
                    <a:pt x="1921" y="441"/>
                  </a:lnTo>
                  <a:lnTo>
                    <a:pt x="1928" y="397"/>
                  </a:lnTo>
                  <a:lnTo>
                    <a:pt x="1925" y="389"/>
                  </a:lnTo>
                  <a:lnTo>
                    <a:pt x="1921" y="371"/>
                  </a:lnTo>
                  <a:lnTo>
                    <a:pt x="1913" y="342"/>
                  </a:lnTo>
                  <a:lnTo>
                    <a:pt x="1901" y="306"/>
                  </a:lnTo>
                  <a:lnTo>
                    <a:pt x="1894" y="286"/>
                  </a:lnTo>
                  <a:lnTo>
                    <a:pt x="1885" y="265"/>
                  </a:lnTo>
                  <a:lnTo>
                    <a:pt x="1877" y="243"/>
                  </a:lnTo>
                  <a:lnTo>
                    <a:pt x="1865" y="221"/>
                  </a:lnTo>
                  <a:lnTo>
                    <a:pt x="1854" y="197"/>
                  </a:lnTo>
                  <a:lnTo>
                    <a:pt x="1841" y="175"/>
                  </a:lnTo>
                  <a:lnTo>
                    <a:pt x="1827" y="151"/>
                  </a:lnTo>
                  <a:lnTo>
                    <a:pt x="1811" y="130"/>
                  </a:lnTo>
                  <a:lnTo>
                    <a:pt x="1793" y="108"/>
                  </a:lnTo>
                  <a:lnTo>
                    <a:pt x="1775" y="88"/>
                  </a:lnTo>
                  <a:lnTo>
                    <a:pt x="1755" y="69"/>
                  </a:lnTo>
                  <a:lnTo>
                    <a:pt x="1734" y="52"/>
                  </a:lnTo>
                  <a:lnTo>
                    <a:pt x="1711" y="37"/>
                  </a:lnTo>
                  <a:lnTo>
                    <a:pt x="1687" y="25"/>
                  </a:lnTo>
                  <a:lnTo>
                    <a:pt x="1661" y="13"/>
                  </a:lnTo>
                  <a:lnTo>
                    <a:pt x="1633" y="6"/>
                  </a:lnTo>
                  <a:lnTo>
                    <a:pt x="1603" y="1"/>
                  </a:lnTo>
                  <a:lnTo>
                    <a:pt x="1572" y="0"/>
                  </a:lnTo>
                  <a:lnTo>
                    <a:pt x="1539" y="2"/>
                  </a:lnTo>
                  <a:lnTo>
                    <a:pt x="1504" y="7"/>
                  </a:lnTo>
                  <a:lnTo>
                    <a:pt x="1468" y="18"/>
                  </a:lnTo>
                  <a:lnTo>
                    <a:pt x="1430" y="32"/>
                  </a:lnTo>
                  <a:lnTo>
                    <a:pt x="1389" y="52"/>
                  </a:lnTo>
                  <a:lnTo>
                    <a:pt x="1346" y="75"/>
                  </a:lnTo>
                  <a:lnTo>
                    <a:pt x="1344" y="82"/>
                  </a:lnTo>
                  <a:lnTo>
                    <a:pt x="1335" y="98"/>
                  </a:lnTo>
                  <a:lnTo>
                    <a:pt x="1327" y="108"/>
                  </a:lnTo>
                  <a:lnTo>
                    <a:pt x="1315" y="118"/>
                  </a:lnTo>
                  <a:lnTo>
                    <a:pt x="1309" y="123"/>
                  </a:lnTo>
                  <a:lnTo>
                    <a:pt x="1300" y="126"/>
                  </a:lnTo>
                  <a:lnTo>
                    <a:pt x="1292" y="131"/>
                  </a:lnTo>
                  <a:lnTo>
                    <a:pt x="1281" y="135"/>
                  </a:lnTo>
                  <a:lnTo>
                    <a:pt x="1269" y="137"/>
                  </a:lnTo>
                  <a:lnTo>
                    <a:pt x="1257" y="140"/>
                  </a:lnTo>
                  <a:lnTo>
                    <a:pt x="1242" y="142"/>
                  </a:lnTo>
                  <a:lnTo>
                    <a:pt x="1227" y="142"/>
                  </a:lnTo>
                  <a:lnTo>
                    <a:pt x="1210" y="144"/>
                  </a:lnTo>
                  <a:lnTo>
                    <a:pt x="1191" y="142"/>
                  </a:lnTo>
                  <a:lnTo>
                    <a:pt x="1171" y="140"/>
                  </a:lnTo>
                  <a:lnTo>
                    <a:pt x="1150" y="137"/>
                  </a:lnTo>
                  <a:lnTo>
                    <a:pt x="1127" y="132"/>
                  </a:lnTo>
                  <a:lnTo>
                    <a:pt x="1102" y="127"/>
                  </a:lnTo>
                  <a:lnTo>
                    <a:pt x="1074" y="120"/>
                  </a:lnTo>
                  <a:lnTo>
                    <a:pt x="1046" y="111"/>
                  </a:lnTo>
                  <a:lnTo>
                    <a:pt x="1015" y="100"/>
                  </a:lnTo>
                  <a:lnTo>
                    <a:pt x="983" y="88"/>
                  </a:lnTo>
                  <a:lnTo>
                    <a:pt x="947" y="74"/>
                  </a:lnTo>
                  <a:lnTo>
                    <a:pt x="911" y="58"/>
                  </a:lnTo>
                  <a:lnTo>
                    <a:pt x="884" y="54"/>
                  </a:lnTo>
                  <a:lnTo>
                    <a:pt x="819" y="46"/>
                  </a:lnTo>
                  <a:lnTo>
                    <a:pt x="775" y="42"/>
                  </a:lnTo>
                  <a:lnTo>
                    <a:pt x="727" y="39"/>
                  </a:lnTo>
                  <a:lnTo>
                    <a:pt x="702" y="39"/>
                  </a:lnTo>
                  <a:lnTo>
                    <a:pt x="676" y="39"/>
                  </a:lnTo>
                  <a:lnTo>
                    <a:pt x="649" y="42"/>
                  </a:lnTo>
                  <a:lnTo>
                    <a:pt x="622" y="44"/>
                  </a:lnTo>
                  <a:lnTo>
                    <a:pt x="596" y="47"/>
                  </a:lnTo>
                  <a:lnTo>
                    <a:pt x="570" y="52"/>
                  </a:lnTo>
                  <a:lnTo>
                    <a:pt x="545" y="58"/>
                  </a:lnTo>
                  <a:lnTo>
                    <a:pt x="521" y="65"/>
                  </a:lnTo>
                  <a:lnTo>
                    <a:pt x="497" y="74"/>
                  </a:lnTo>
                  <a:lnTo>
                    <a:pt x="475" y="85"/>
                  </a:lnTo>
                  <a:lnTo>
                    <a:pt x="455" y="98"/>
                  </a:lnTo>
                  <a:lnTo>
                    <a:pt x="435" y="111"/>
                  </a:lnTo>
                  <a:lnTo>
                    <a:pt x="418" y="127"/>
                  </a:lnTo>
                  <a:lnTo>
                    <a:pt x="403" y="146"/>
                  </a:lnTo>
                  <a:lnTo>
                    <a:pt x="390" y="167"/>
                  </a:lnTo>
                  <a:lnTo>
                    <a:pt x="380" y="190"/>
                  </a:lnTo>
                  <a:lnTo>
                    <a:pt x="373" y="214"/>
                  </a:lnTo>
                  <a:lnTo>
                    <a:pt x="369" y="243"/>
                  </a:lnTo>
                  <a:lnTo>
                    <a:pt x="368" y="273"/>
                  </a:lnTo>
                  <a:lnTo>
                    <a:pt x="372" y="306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1057320" y="2282760"/>
              <a:ext cx="1012680" cy="1604880"/>
            </a:xfrm>
            <a:custGeom>
              <a:avLst/>
              <a:gdLst/>
              <a:ahLst/>
              <a:rect l="l" t="t" r="r" b="b"/>
              <a:pathLst>
                <a:path w="2553" h="4042">
                  <a:moveTo>
                    <a:pt x="1364" y="82"/>
                  </a:moveTo>
                  <a:lnTo>
                    <a:pt x="1351" y="89"/>
                  </a:lnTo>
                  <a:lnTo>
                    <a:pt x="1348" y="104"/>
                  </a:lnTo>
                  <a:lnTo>
                    <a:pt x="1346" y="108"/>
                  </a:lnTo>
                  <a:lnTo>
                    <a:pt x="1343" y="114"/>
                  </a:lnTo>
                  <a:lnTo>
                    <a:pt x="1339" y="118"/>
                  </a:lnTo>
                  <a:lnTo>
                    <a:pt x="1334" y="123"/>
                  </a:lnTo>
                  <a:lnTo>
                    <a:pt x="1328" y="128"/>
                  </a:lnTo>
                  <a:lnTo>
                    <a:pt x="1319" y="131"/>
                  </a:lnTo>
                  <a:lnTo>
                    <a:pt x="1312" y="135"/>
                  </a:lnTo>
                  <a:lnTo>
                    <a:pt x="1303" y="137"/>
                  </a:lnTo>
                  <a:lnTo>
                    <a:pt x="1293" y="140"/>
                  </a:lnTo>
                  <a:lnTo>
                    <a:pt x="1281" y="142"/>
                  </a:lnTo>
                  <a:lnTo>
                    <a:pt x="1267" y="144"/>
                  </a:lnTo>
                  <a:lnTo>
                    <a:pt x="1251" y="144"/>
                  </a:lnTo>
                  <a:lnTo>
                    <a:pt x="1232" y="142"/>
                  </a:lnTo>
                  <a:lnTo>
                    <a:pt x="1212" y="141"/>
                  </a:lnTo>
                  <a:lnTo>
                    <a:pt x="1190" y="137"/>
                  </a:lnTo>
                  <a:lnTo>
                    <a:pt x="1165" y="132"/>
                  </a:lnTo>
                  <a:lnTo>
                    <a:pt x="1138" y="126"/>
                  </a:lnTo>
                  <a:lnTo>
                    <a:pt x="1108" y="118"/>
                  </a:lnTo>
                  <a:lnTo>
                    <a:pt x="1076" y="108"/>
                  </a:lnTo>
                  <a:lnTo>
                    <a:pt x="1040" y="94"/>
                  </a:lnTo>
                  <a:lnTo>
                    <a:pt x="1001" y="79"/>
                  </a:lnTo>
                  <a:lnTo>
                    <a:pt x="960" y="62"/>
                  </a:lnTo>
                  <a:lnTo>
                    <a:pt x="938" y="58"/>
                  </a:lnTo>
                  <a:lnTo>
                    <a:pt x="892" y="51"/>
                  </a:lnTo>
                  <a:lnTo>
                    <a:pt x="861" y="47"/>
                  </a:lnTo>
                  <a:lnTo>
                    <a:pt x="826" y="43"/>
                  </a:lnTo>
                  <a:lnTo>
                    <a:pt x="789" y="41"/>
                  </a:lnTo>
                  <a:lnTo>
                    <a:pt x="749" y="39"/>
                  </a:lnTo>
                  <a:lnTo>
                    <a:pt x="708" y="41"/>
                  </a:lnTo>
                  <a:lnTo>
                    <a:pt x="666" y="43"/>
                  </a:lnTo>
                  <a:lnTo>
                    <a:pt x="645" y="46"/>
                  </a:lnTo>
                  <a:lnTo>
                    <a:pt x="624" y="49"/>
                  </a:lnTo>
                  <a:lnTo>
                    <a:pt x="603" y="53"/>
                  </a:lnTo>
                  <a:lnTo>
                    <a:pt x="583" y="57"/>
                  </a:lnTo>
                  <a:lnTo>
                    <a:pt x="563" y="63"/>
                  </a:lnTo>
                  <a:lnTo>
                    <a:pt x="543" y="69"/>
                  </a:lnTo>
                  <a:lnTo>
                    <a:pt x="523" y="77"/>
                  </a:lnTo>
                  <a:lnTo>
                    <a:pt x="506" y="84"/>
                  </a:lnTo>
                  <a:lnTo>
                    <a:pt x="487" y="94"/>
                  </a:lnTo>
                  <a:lnTo>
                    <a:pt x="471" y="104"/>
                  </a:lnTo>
                  <a:lnTo>
                    <a:pt x="455" y="115"/>
                  </a:lnTo>
                  <a:lnTo>
                    <a:pt x="440" y="128"/>
                  </a:lnTo>
                  <a:lnTo>
                    <a:pt x="430" y="137"/>
                  </a:lnTo>
                  <a:lnTo>
                    <a:pt x="420" y="149"/>
                  </a:lnTo>
                  <a:lnTo>
                    <a:pt x="411" y="160"/>
                  </a:lnTo>
                  <a:lnTo>
                    <a:pt x="404" y="171"/>
                  </a:lnTo>
                  <a:lnTo>
                    <a:pt x="396" y="183"/>
                  </a:lnTo>
                  <a:lnTo>
                    <a:pt x="390" y="196"/>
                  </a:lnTo>
                  <a:lnTo>
                    <a:pt x="384" y="209"/>
                  </a:lnTo>
                  <a:lnTo>
                    <a:pt x="380" y="223"/>
                  </a:lnTo>
                  <a:lnTo>
                    <a:pt x="377" y="237"/>
                  </a:lnTo>
                  <a:lnTo>
                    <a:pt x="373" y="250"/>
                  </a:lnTo>
                  <a:lnTo>
                    <a:pt x="370" y="265"/>
                  </a:lnTo>
                  <a:lnTo>
                    <a:pt x="369" y="281"/>
                  </a:lnTo>
                  <a:lnTo>
                    <a:pt x="369" y="296"/>
                  </a:lnTo>
                  <a:lnTo>
                    <a:pt x="369" y="314"/>
                  </a:lnTo>
                  <a:lnTo>
                    <a:pt x="370" y="330"/>
                  </a:lnTo>
                  <a:lnTo>
                    <a:pt x="372" y="347"/>
                  </a:lnTo>
                  <a:lnTo>
                    <a:pt x="372" y="343"/>
                  </a:lnTo>
                  <a:lnTo>
                    <a:pt x="372" y="372"/>
                  </a:lnTo>
                  <a:lnTo>
                    <a:pt x="372" y="446"/>
                  </a:lnTo>
                  <a:lnTo>
                    <a:pt x="370" y="497"/>
                  </a:lnTo>
                  <a:lnTo>
                    <a:pt x="368" y="556"/>
                  </a:lnTo>
                  <a:lnTo>
                    <a:pt x="364" y="618"/>
                  </a:lnTo>
                  <a:lnTo>
                    <a:pt x="359" y="686"/>
                  </a:lnTo>
                  <a:lnTo>
                    <a:pt x="352" y="755"/>
                  </a:lnTo>
                  <a:lnTo>
                    <a:pt x="342" y="826"/>
                  </a:lnTo>
                  <a:lnTo>
                    <a:pt x="336" y="862"/>
                  </a:lnTo>
                  <a:lnTo>
                    <a:pt x="329" y="898"/>
                  </a:lnTo>
                  <a:lnTo>
                    <a:pt x="322" y="933"/>
                  </a:lnTo>
                  <a:lnTo>
                    <a:pt x="314" y="966"/>
                  </a:lnTo>
                  <a:lnTo>
                    <a:pt x="306" y="1000"/>
                  </a:lnTo>
                  <a:lnTo>
                    <a:pt x="296" y="1033"/>
                  </a:lnTo>
                  <a:lnTo>
                    <a:pt x="285" y="1064"/>
                  </a:lnTo>
                  <a:lnTo>
                    <a:pt x="273" y="1094"/>
                  </a:lnTo>
                  <a:lnTo>
                    <a:pt x="261" y="1123"/>
                  </a:lnTo>
                  <a:lnTo>
                    <a:pt x="247" y="1150"/>
                  </a:lnTo>
                  <a:lnTo>
                    <a:pt x="234" y="1175"/>
                  </a:lnTo>
                  <a:lnTo>
                    <a:pt x="219" y="1198"/>
                  </a:lnTo>
                  <a:lnTo>
                    <a:pt x="205" y="1213"/>
                  </a:lnTo>
                  <a:lnTo>
                    <a:pt x="174" y="1257"/>
                  </a:lnTo>
                  <a:lnTo>
                    <a:pt x="154" y="1288"/>
                  </a:lnTo>
                  <a:lnTo>
                    <a:pt x="134" y="1325"/>
                  </a:lnTo>
                  <a:lnTo>
                    <a:pt x="123" y="1346"/>
                  </a:lnTo>
                  <a:lnTo>
                    <a:pt x="112" y="1367"/>
                  </a:lnTo>
                  <a:lnTo>
                    <a:pt x="102" y="1391"/>
                  </a:lnTo>
                  <a:lnTo>
                    <a:pt x="92" y="1415"/>
                  </a:lnTo>
                  <a:lnTo>
                    <a:pt x="84" y="1441"/>
                  </a:lnTo>
                  <a:lnTo>
                    <a:pt x="75" y="1469"/>
                  </a:lnTo>
                  <a:lnTo>
                    <a:pt x="66" y="1496"/>
                  </a:lnTo>
                  <a:lnTo>
                    <a:pt x="60" y="1526"/>
                  </a:lnTo>
                  <a:lnTo>
                    <a:pt x="54" y="1556"/>
                  </a:lnTo>
                  <a:lnTo>
                    <a:pt x="49" y="1587"/>
                  </a:lnTo>
                  <a:lnTo>
                    <a:pt x="45" y="1619"/>
                  </a:lnTo>
                  <a:lnTo>
                    <a:pt x="44" y="1652"/>
                  </a:lnTo>
                  <a:lnTo>
                    <a:pt x="44" y="1686"/>
                  </a:lnTo>
                  <a:lnTo>
                    <a:pt x="45" y="1721"/>
                  </a:lnTo>
                  <a:lnTo>
                    <a:pt x="49" y="1757"/>
                  </a:lnTo>
                  <a:lnTo>
                    <a:pt x="55" y="1793"/>
                  </a:lnTo>
                  <a:lnTo>
                    <a:pt x="62" y="1830"/>
                  </a:lnTo>
                  <a:lnTo>
                    <a:pt x="72" y="1867"/>
                  </a:lnTo>
                  <a:lnTo>
                    <a:pt x="85" y="1904"/>
                  </a:lnTo>
                  <a:lnTo>
                    <a:pt x="101" y="1944"/>
                  </a:lnTo>
                  <a:lnTo>
                    <a:pt x="102" y="1964"/>
                  </a:lnTo>
                  <a:lnTo>
                    <a:pt x="106" y="2023"/>
                  </a:lnTo>
                  <a:lnTo>
                    <a:pt x="108" y="2067"/>
                  </a:lnTo>
                  <a:lnTo>
                    <a:pt x="111" y="2115"/>
                  </a:lnTo>
                  <a:lnTo>
                    <a:pt x="112" y="2170"/>
                  </a:lnTo>
                  <a:lnTo>
                    <a:pt x="113" y="2229"/>
                  </a:lnTo>
                  <a:lnTo>
                    <a:pt x="112" y="2293"/>
                  </a:lnTo>
                  <a:lnTo>
                    <a:pt x="111" y="2358"/>
                  </a:lnTo>
                  <a:lnTo>
                    <a:pt x="107" y="2425"/>
                  </a:lnTo>
                  <a:lnTo>
                    <a:pt x="102" y="2494"/>
                  </a:lnTo>
                  <a:lnTo>
                    <a:pt x="98" y="2528"/>
                  </a:lnTo>
                  <a:lnTo>
                    <a:pt x="93" y="2562"/>
                  </a:lnTo>
                  <a:lnTo>
                    <a:pt x="88" y="2595"/>
                  </a:lnTo>
                  <a:lnTo>
                    <a:pt x="82" y="2628"/>
                  </a:lnTo>
                  <a:lnTo>
                    <a:pt x="76" y="2660"/>
                  </a:lnTo>
                  <a:lnTo>
                    <a:pt x="69" y="2692"/>
                  </a:lnTo>
                  <a:lnTo>
                    <a:pt x="61" y="2722"/>
                  </a:lnTo>
                  <a:lnTo>
                    <a:pt x="52" y="2752"/>
                  </a:lnTo>
                  <a:lnTo>
                    <a:pt x="46" y="2765"/>
                  </a:lnTo>
                  <a:lnTo>
                    <a:pt x="34" y="2800"/>
                  </a:lnTo>
                  <a:lnTo>
                    <a:pt x="28" y="2825"/>
                  </a:lnTo>
                  <a:lnTo>
                    <a:pt x="20" y="2853"/>
                  </a:lnTo>
                  <a:lnTo>
                    <a:pt x="13" y="2886"/>
                  </a:lnTo>
                  <a:lnTo>
                    <a:pt x="8" y="2923"/>
                  </a:lnTo>
                  <a:lnTo>
                    <a:pt x="3" y="2962"/>
                  </a:lnTo>
                  <a:lnTo>
                    <a:pt x="0" y="3006"/>
                  </a:lnTo>
                  <a:lnTo>
                    <a:pt x="0" y="3028"/>
                  </a:lnTo>
                  <a:lnTo>
                    <a:pt x="0" y="3052"/>
                  </a:lnTo>
                  <a:lnTo>
                    <a:pt x="2" y="3075"/>
                  </a:lnTo>
                  <a:lnTo>
                    <a:pt x="3" y="3100"/>
                  </a:lnTo>
                  <a:lnTo>
                    <a:pt x="5" y="3125"/>
                  </a:lnTo>
                  <a:lnTo>
                    <a:pt x="9" y="3151"/>
                  </a:lnTo>
                  <a:lnTo>
                    <a:pt x="13" y="3177"/>
                  </a:lnTo>
                  <a:lnTo>
                    <a:pt x="19" y="3204"/>
                  </a:lnTo>
                  <a:lnTo>
                    <a:pt x="25" y="3232"/>
                  </a:lnTo>
                  <a:lnTo>
                    <a:pt x="33" y="3259"/>
                  </a:lnTo>
                  <a:lnTo>
                    <a:pt x="41" y="3288"/>
                  </a:lnTo>
                  <a:lnTo>
                    <a:pt x="52" y="3315"/>
                  </a:lnTo>
                  <a:lnTo>
                    <a:pt x="61" y="3340"/>
                  </a:lnTo>
                  <a:lnTo>
                    <a:pt x="72" y="3363"/>
                  </a:lnTo>
                  <a:lnTo>
                    <a:pt x="84" y="3388"/>
                  </a:lnTo>
                  <a:lnTo>
                    <a:pt x="95" y="3410"/>
                  </a:lnTo>
                  <a:lnTo>
                    <a:pt x="108" y="3434"/>
                  </a:lnTo>
                  <a:lnTo>
                    <a:pt x="122" y="3458"/>
                  </a:lnTo>
                  <a:lnTo>
                    <a:pt x="136" y="3480"/>
                  </a:lnTo>
                  <a:lnTo>
                    <a:pt x="151" y="3502"/>
                  </a:lnTo>
                  <a:lnTo>
                    <a:pt x="167" y="3525"/>
                  </a:lnTo>
                  <a:lnTo>
                    <a:pt x="184" y="3546"/>
                  </a:lnTo>
                  <a:lnTo>
                    <a:pt x="201" y="3568"/>
                  </a:lnTo>
                  <a:lnTo>
                    <a:pt x="219" y="3589"/>
                  </a:lnTo>
                  <a:lnTo>
                    <a:pt x="239" y="3610"/>
                  </a:lnTo>
                  <a:lnTo>
                    <a:pt x="259" y="3630"/>
                  </a:lnTo>
                  <a:lnTo>
                    <a:pt x="278" y="3651"/>
                  </a:lnTo>
                  <a:lnTo>
                    <a:pt x="300" y="3671"/>
                  </a:lnTo>
                  <a:lnTo>
                    <a:pt x="322" y="3691"/>
                  </a:lnTo>
                  <a:lnTo>
                    <a:pt x="344" y="3709"/>
                  </a:lnTo>
                  <a:lnTo>
                    <a:pt x="368" y="3729"/>
                  </a:lnTo>
                  <a:lnTo>
                    <a:pt x="393" y="3748"/>
                  </a:lnTo>
                  <a:lnTo>
                    <a:pt x="418" y="3766"/>
                  </a:lnTo>
                  <a:lnTo>
                    <a:pt x="444" y="3785"/>
                  </a:lnTo>
                  <a:lnTo>
                    <a:pt x="471" y="3802"/>
                  </a:lnTo>
                  <a:lnTo>
                    <a:pt x="498" y="3821"/>
                  </a:lnTo>
                  <a:lnTo>
                    <a:pt x="526" y="3838"/>
                  </a:lnTo>
                  <a:lnTo>
                    <a:pt x="555" y="3855"/>
                  </a:lnTo>
                  <a:lnTo>
                    <a:pt x="585" y="3872"/>
                  </a:lnTo>
                  <a:lnTo>
                    <a:pt x="615" y="3888"/>
                  </a:lnTo>
                  <a:lnTo>
                    <a:pt x="646" y="3904"/>
                  </a:lnTo>
                  <a:lnTo>
                    <a:pt x="678" y="3920"/>
                  </a:lnTo>
                  <a:lnTo>
                    <a:pt x="711" y="3936"/>
                  </a:lnTo>
                  <a:lnTo>
                    <a:pt x="744" y="3951"/>
                  </a:lnTo>
                  <a:lnTo>
                    <a:pt x="768" y="3958"/>
                  </a:lnTo>
                  <a:lnTo>
                    <a:pt x="814" y="3969"/>
                  </a:lnTo>
                  <a:lnTo>
                    <a:pt x="881" y="3984"/>
                  </a:lnTo>
                  <a:lnTo>
                    <a:pt x="968" y="4000"/>
                  </a:lnTo>
                  <a:lnTo>
                    <a:pt x="1016" y="4008"/>
                  </a:lnTo>
                  <a:lnTo>
                    <a:pt x="1068" y="4016"/>
                  </a:lnTo>
                  <a:lnTo>
                    <a:pt x="1124" y="4023"/>
                  </a:lnTo>
                  <a:lnTo>
                    <a:pt x="1184" y="4029"/>
                  </a:lnTo>
                  <a:lnTo>
                    <a:pt x="1245" y="4034"/>
                  </a:lnTo>
                  <a:lnTo>
                    <a:pt x="1309" y="4038"/>
                  </a:lnTo>
                  <a:lnTo>
                    <a:pt x="1375" y="4042"/>
                  </a:lnTo>
                  <a:lnTo>
                    <a:pt x="1442" y="4042"/>
                  </a:lnTo>
                  <a:lnTo>
                    <a:pt x="1510" y="4042"/>
                  </a:lnTo>
                  <a:lnTo>
                    <a:pt x="1580" y="4038"/>
                  </a:lnTo>
                  <a:lnTo>
                    <a:pt x="1651" y="4033"/>
                  </a:lnTo>
                  <a:lnTo>
                    <a:pt x="1721" y="4025"/>
                  </a:lnTo>
                  <a:lnTo>
                    <a:pt x="1792" y="4013"/>
                  </a:lnTo>
                  <a:lnTo>
                    <a:pt x="1862" y="4000"/>
                  </a:lnTo>
                  <a:lnTo>
                    <a:pt x="1931" y="3982"/>
                  </a:lnTo>
                  <a:lnTo>
                    <a:pt x="2001" y="3961"/>
                  </a:lnTo>
                  <a:lnTo>
                    <a:pt x="2068" y="3936"/>
                  </a:lnTo>
                  <a:lnTo>
                    <a:pt x="2134" y="3908"/>
                  </a:lnTo>
                  <a:lnTo>
                    <a:pt x="2197" y="3874"/>
                  </a:lnTo>
                  <a:lnTo>
                    <a:pt x="2259" y="3837"/>
                  </a:lnTo>
                  <a:lnTo>
                    <a:pt x="2317" y="3795"/>
                  </a:lnTo>
                  <a:lnTo>
                    <a:pt x="2373" y="3748"/>
                  </a:lnTo>
                  <a:lnTo>
                    <a:pt x="2425" y="3696"/>
                  </a:lnTo>
                  <a:lnTo>
                    <a:pt x="2475" y="3637"/>
                  </a:lnTo>
                  <a:lnTo>
                    <a:pt x="2479" y="3629"/>
                  </a:lnTo>
                  <a:lnTo>
                    <a:pt x="2485" y="3613"/>
                  </a:lnTo>
                  <a:lnTo>
                    <a:pt x="2495" y="3588"/>
                  </a:lnTo>
                  <a:lnTo>
                    <a:pt x="2505" y="3556"/>
                  </a:lnTo>
                  <a:lnTo>
                    <a:pt x="2516" y="3516"/>
                  </a:lnTo>
                  <a:lnTo>
                    <a:pt x="2526" y="3469"/>
                  </a:lnTo>
                  <a:lnTo>
                    <a:pt x="2531" y="3443"/>
                  </a:lnTo>
                  <a:lnTo>
                    <a:pt x="2536" y="3415"/>
                  </a:lnTo>
                  <a:lnTo>
                    <a:pt x="2541" y="3386"/>
                  </a:lnTo>
                  <a:lnTo>
                    <a:pt x="2545" y="3355"/>
                  </a:lnTo>
                  <a:lnTo>
                    <a:pt x="2547" y="3322"/>
                  </a:lnTo>
                  <a:lnTo>
                    <a:pt x="2551" y="3289"/>
                  </a:lnTo>
                  <a:lnTo>
                    <a:pt x="2552" y="3253"/>
                  </a:lnTo>
                  <a:lnTo>
                    <a:pt x="2553" y="3216"/>
                  </a:lnTo>
                  <a:lnTo>
                    <a:pt x="2553" y="3177"/>
                  </a:lnTo>
                  <a:lnTo>
                    <a:pt x="2552" y="3137"/>
                  </a:lnTo>
                  <a:lnTo>
                    <a:pt x="2550" y="3096"/>
                  </a:lnTo>
                  <a:lnTo>
                    <a:pt x="2546" y="3053"/>
                  </a:lnTo>
                  <a:lnTo>
                    <a:pt x="2541" y="3010"/>
                  </a:lnTo>
                  <a:lnTo>
                    <a:pt x="2535" y="2964"/>
                  </a:lnTo>
                  <a:lnTo>
                    <a:pt x="2527" y="2918"/>
                  </a:lnTo>
                  <a:lnTo>
                    <a:pt x="2517" y="2869"/>
                  </a:lnTo>
                  <a:lnTo>
                    <a:pt x="2506" y="2820"/>
                  </a:lnTo>
                  <a:lnTo>
                    <a:pt x="2494" y="2770"/>
                  </a:lnTo>
                  <a:lnTo>
                    <a:pt x="2479" y="2719"/>
                  </a:lnTo>
                  <a:lnTo>
                    <a:pt x="2461" y="2666"/>
                  </a:lnTo>
                  <a:lnTo>
                    <a:pt x="2452" y="2644"/>
                  </a:lnTo>
                  <a:lnTo>
                    <a:pt x="2430" y="2588"/>
                  </a:lnTo>
                  <a:lnTo>
                    <a:pt x="2417" y="2548"/>
                  </a:lnTo>
                  <a:lnTo>
                    <a:pt x="2402" y="2503"/>
                  </a:lnTo>
                  <a:lnTo>
                    <a:pt x="2387" y="2453"/>
                  </a:lnTo>
                  <a:lnTo>
                    <a:pt x="2373" y="2397"/>
                  </a:lnTo>
                  <a:lnTo>
                    <a:pt x="2367" y="2368"/>
                  </a:lnTo>
                  <a:lnTo>
                    <a:pt x="2361" y="2338"/>
                  </a:lnTo>
                  <a:lnTo>
                    <a:pt x="2356" y="2307"/>
                  </a:lnTo>
                  <a:lnTo>
                    <a:pt x="2351" y="2276"/>
                  </a:lnTo>
                  <a:lnTo>
                    <a:pt x="2346" y="2244"/>
                  </a:lnTo>
                  <a:lnTo>
                    <a:pt x="2343" y="2212"/>
                  </a:lnTo>
                  <a:lnTo>
                    <a:pt x="2341" y="2178"/>
                  </a:lnTo>
                  <a:lnTo>
                    <a:pt x="2340" y="2146"/>
                  </a:lnTo>
                  <a:lnTo>
                    <a:pt x="2340" y="2113"/>
                  </a:lnTo>
                  <a:lnTo>
                    <a:pt x="2340" y="2079"/>
                  </a:lnTo>
                  <a:lnTo>
                    <a:pt x="2342" y="2046"/>
                  </a:lnTo>
                  <a:lnTo>
                    <a:pt x="2346" y="2013"/>
                  </a:lnTo>
                  <a:lnTo>
                    <a:pt x="2351" y="1980"/>
                  </a:lnTo>
                  <a:lnTo>
                    <a:pt x="2357" y="1948"/>
                  </a:lnTo>
                  <a:lnTo>
                    <a:pt x="2366" y="1915"/>
                  </a:lnTo>
                  <a:lnTo>
                    <a:pt x="2376" y="1884"/>
                  </a:lnTo>
                  <a:lnTo>
                    <a:pt x="2378" y="1876"/>
                  </a:lnTo>
                  <a:lnTo>
                    <a:pt x="2381" y="1860"/>
                  </a:lnTo>
                  <a:lnTo>
                    <a:pt x="2384" y="1836"/>
                  </a:lnTo>
                  <a:lnTo>
                    <a:pt x="2388" y="1805"/>
                  </a:lnTo>
                  <a:lnTo>
                    <a:pt x="2389" y="1769"/>
                  </a:lnTo>
                  <a:lnTo>
                    <a:pt x="2389" y="1726"/>
                  </a:lnTo>
                  <a:lnTo>
                    <a:pt x="2388" y="1703"/>
                  </a:lnTo>
                  <a:lnTo>
                    <a:pt x="2387" y="1678"/>
                  </a:lnTo>
                  <a:lnTo>
                    <a:pt x="2384" y="1652"/>
                  </a:lnTo>
                  <a:lnTo>
                    <a:pt x="2381" y="1626"/>
                  </a:lnTo>
                  <a:lnTo>
                    <a:pt x="2376" y="1599"/>
                  </a:lnTo>
                  <a:lnTo>
                    <a:pt x="2371" y="1570"/>
                  </a:lnTo>
                  <a:lnTo>
                    <a:pt x="2363" y="1541"/>
                  </a:lnTo>
                  <a:lnTo>
                    <a:pt x="2355" y="1511"/>
                  </a:lnTo>
                  <a:lnTo>
                    <a:pt x="2345" y="1481"/>
                  </a:lnTo>
                  <a:lnTo>
                    <a:pt x="2334" y="1450"/>
                  </a:lnTo>
                  <a:lnTo>
                    <a:pt x="2320" y="1418"/>
                  </a:lnTo>
                  <a:lnTo>
                    <a:pt x="2305" y="1387"/>
                  </a:lnTo>
                  <a:lnTo>
                    <a:pt x="2289" y="1355"/>
                  </a:lnTo>
                  <a:lnTo>
                    <a:pt x="2270" y="1322"/>
                  </a:lnTo>
                  <a:lnTo>
                    <a:pt x="2249" y="1289"/>
                  </a:lnTo>
                  <a:lnTo>
                    <a:pt x="2227" y="1257"/>
                  </a:lnTo>
                  <a:lnTo>
                    <a:pt x="2201" y="1224"/>
                  </a:lnTo>
                  <a:lnTo>
                    <a:pt x="2173" y="1191"/>
                  </a:lnTo>
                  <a:lnTo>
                    <a:pt x="2144" y="1159"/>
                  </a:lnTo>
                  <a:lnTo>
                    <a:pt x="2111" y="1126"/>
                  </a:lnTo>
                  <a:lnTo>
                    <a:pt x="2104" y="1116"/>
                  </a:lnTo>
                  <a:lnTo>
                    <a:pt x="2085" y="1085"/>
                  </a:lnTo>
                  <a:lnTo>
                    <a:pt x="2073" y="1062"/>
                  </a:lnTo>
                  <a:lnTo>
                    <a:pt x="2059" y="1032"/>
                  </a:lnTo>
                  <a:lnTo>
                    <a:pt x="2045" y="998"/>
                  </a:lnTo>
                  <a:lnTo>
                    <a:pt x="2032" y="958"/>
                  </a:lnTo>
                  <a:lnTo>
                    <a:pt x="2024" y="936"/>
                  </a:lnTo>
                  <a:lnTo>
                    <a:pt x="2018" y="913"/>
                  </a:lnTo>
                  <a:lnTo>
                    <a:pt x="2012" y="888"/>
                  </a:lnTo>
                  <a:lnTo>
                    <a:pt x="2007" y="862"/>
                  </a:lnTo>
                  <a:lnTo>
                    <a:pt x="2001" y="833"/>
                  </a:lnTo>
                  <a:lnTo>
                    <a:pt x="1997" y="805"/>
                  </a:lnTo>
                  <a:lnTo>
                    <a:pt x="1992" y="775"/>
                  </a:lnTo>
                  <a:lnTo>
                    <a:pt x="1990" y="743"/>
                  </a:lnTo>
                  <a:lnTo>
                    <a:pt x="1987" y="709"/>
                  </a:lnTo>
                  <a:lnTo>
                    <a:pt x="1986" y="675"/>
                  </a:lnTo>
                  <a:lnTo>
                    <a:pt x="1985" y="639"/>
                  </a:lnTo>
                  <a:lnTo>
                    <a:pt x="1985" y="601"/>
                  </a:lnTo>
                  <a:lnTo>
                    <a:pt x="1987" y="563"/>
                  </a:lnTo>
                  <a:lnTo>
                    <a:pt x="1990" y="522"/>
                  </a:lnTo>
                  <a:lnTo>
                    <a:pt x="1993" y="480"/>
                  </a:lnTo>
                  <a:lnTo>
                    <a:pt x="1998" y="438"/>
                  </a:lnTo>
                  <a:lnTo>
                    <a:pt x="1995" y="417"/>
                  </a:lnTo>
                  <a:lnTo>
                    <a:pt x="1985" y="376"/>
                  </a:lnTo>
                  <a:lnTo>
                    <a:pt x="1976" y="350"/>
                  </a:lnTo>
                  <a:lnTo>
                    <a:pt x="1967" y="320"/>
                  </a:lnTo>
                  <a:lnTo>
                    <a:pt x="1955" y="289"/>
                  </a:lnTo>
                  <a:lnTo>
                    <a:pt x="1941" y="255"/>
                  </a:lnTo>
                  <a:lnTo>
                    <a:pt x="1924" y="222"/>
                  </a:lnTo>
                  <a:lnTo>
                    <a:pt x="1905" y="188"/>
                  </a:lnTo>
                  <a:lnTo>
                    <a:pt x="1895" y="172"/>
                  </a:lnTo>
                  <a:lnTo>
                    <a:pt x="1884" y="156"/>
                  </a:lnTo>
                  <a:lnTo>
                    <a:pt x="1872" y="140"/>
                  </a:lnTo>
                  <a:lnTo>
                    <a:pt x="1859" y="124"/>
                  </a:lnTo>
                  <a:lnTo>
                    <a:pt x="1847" y="109"/>
                  </a:lnTo>
                  <a:lnTo>
                    <a:pt x="1832" y="94"/>
                  </a:lnTo>
                  <a:lnTo>
                    <a:pt x="1817" y="80"/>
                  </a:lnTo>
                  <a:lnTo>
                    <a:pt x="1802" y="68"/>
                  </a:lnTo>
                  <a:lnTo>
                    <a:pt x="1786" y="56"/>
                  </a:lnTo>
                  <a:lnTo>
                    <a:pt x="1769" y="44"/>
                  </a:lnTo>
                  <a:lnTo>
                    <a:pt x="1751" y="34"/>
                  </a:lnTo>
                  <a:lnTo>
                    <a:pt x="1733" y="25"/>
                  </a:lnTo>
                  <a:lnTo>
                    <a:pt x="1711" y="17"/>
                  </a:lnTo>
                  <a:lnTo>
                    <a:pt x="1692" y="11"/>
                  </a:lnTo>
                  <a:lnTo>
                    <a:pt x="1670" y="6"/>
                  </a:lnTo>
                  <a:lnTo>
                    <a:pt x="1649" y="2"/>
                  </a:lnTo>
                  <a:lnTo>
                    <a:pt x="1627" y="0"/>
                  </a:lnTo>
                  <a:lnTo>
                    <a:pt x="1605" y="0"/>
                  </a:lnTo>
                  <a:lnTo>
                    <a:pt x="1582" y="1"/>
                  </a:lnTo>
                  <a:lnTo>
                    <a:pt x="1560" y="3"/>
                  </a:lnTo>
                  <a:lnTo>
                    <a:pt x="1536" y="8"/>
                  </a:lnTo>
                  <a:lnTo>
                    <a:pt x="1513" y="15"/>
                  </a:lnTo>
                  <a:lnTo>
                    <a:pt x="1489" y="21"/>
                  </a:lnTo>
                  <a:lnTo>
                    <a:pt x="1464" y="31"/>
                  </a:lnTo>
                  <a:lnTo>
                    <a:pt x="1440" y="41"/>
                  </a:lnTo>
                  <a:lnTo>
                    <a:pt x="1415" y="53"/>
                  </a:lnTo>
                  <a:lnTo>
                    <a:pt x="1390" y="65"/>
                  </a:lnTo>
                  <a:lnTo>
                    <a:pt x="1364" y="82"/>
                  </a:lnTo>
                  <a:close/>
                  <a:moveTo>
                    <a:pt x="1703" y="90"/>
                  </a:moveTo>
                  <a:lnTo>
                    <a:pt x="1719" y="98"/>
                  </a:lnTo>
                  <a:lnTo>
                    <a:pt x="1734" y="106"/>
                  </a:lnTo>
                  <a:lnTo>
                    <a:pt x="1747" y="116"/>
                  </a:lnTo>
                  <a:lnTo>
                    <a:pt x="1761" y="126"/>
                  </a:lnTo>
                  <a:lnTo>
                    <a:pt x="1775" y="137"/>
                  </a:lnTo>
                  <a:lnTo>
                    <a:pt x="1787" y="150"/>
                  </a:lnTo>
                  <a:lnTo>
                    <a:pt x="1798" y="162"/>
                  </a:lnTo>
                  <a:lnTo>
                    <a:pt x="1810" y="176"/>
                  </a:lnTo>
                  <a:lnTo>
                    <a:pt x="1831" y="204"/>
                  </a:lnTo>
                  <a:lnTo>
                    <a:pt x="1849" y="233"/>
                  </a:lnTo>
                  <a:lnTo>
                    <a:pt x="1865" y="263"/>
                  </a:lnTo>
                  <a:lnTo>
                    <a:pt x="1879" y="291"/>
                  </a:lnTo>
                  <a:lnTo>
                    <a:pt x="1891" y="320"/>
                  </a:lnTo>
                  <a:lnTo>
                    <a:pt x="1901" y="347"/>
                  </a:lnTo>
                  <a:lnTo>
                    <a:pt x="1910" y="372"/>
                  </a:lnTo>
                  <a:lnTo>
                    <a:pt x="1916" y="394"/>
                  </a:lnTo>
                  <a:lnTo>
                    <a:pt x="1925" y="427"/>
                  </a:lnTo>
                  <a:lnTo>
                    <a:pt x="1928" y="439"/>
                  </a:lnTo>
                  <a:lnTo>
                    <a:pt x="1923" y="485"/>
                  </a:lnTo>
                  <a:lnTo>
                    <a:pt x="1918" y="528"/>
                  </a:lnTo>
                  <a:lnTo>
                    <a:pt x="1915" y="570"/>
                  </a:lnTo>
                  <a:lnTo>
                    <a:pt x="1914" y="611"/>
                  </a:lnTo>
                  <a:lnTo>
                    <a:pt x="1914" y="651"/>
                  </a:lnTo>
                  <a:lnTo>
                    <a:pt x="1914" y="688"/>
                  </a:lnTo>
                  <a:lnTo>
                    <a:pt x="1916" y="726"/>
                  </a:lnTo>
                  <a:lnTo>
                    <a:pt x="1919" y="760"/>
                  </a:lnTo>
                  <a:lnTo>
                    <a:pt x="1923" y="794"/>
                  </a:lnTo>
                  <a:lnTo>
                    <a:pt x="1926" y="826"/>
                  </a:lnTo>
                  <a:lnTo>
                    <a:pt x="1931" y="856"/>
                  </a:lnTo>
                  <a:lnTo>
                    <a:pt x="1937" y="886"/>
                  </a:lnTo>
                  <a:lnTo>
                    <a:pt x="1944" y="913"/>
                  </a:lnTo>
                  <a:lnTo>
                    <a:pt x="1950" y="939"/>
                  </a:lnTo>
                  <a:lnTo>
                    <a:pt x="1957" y="964"/>
                  </a:lnTo>
                  <a:lnTo>
                    <a:pt x="1965" y="987"/>
                  </a:lnTo>
                  <a:lnTo>
                    <a:pt x="1981" y="1031"/>
                  </a:lnTo>
                  <a:lnTo>
                    <a:pt x="1996" y="1068"/>
                  </a:lnTo>
                  <a:lnTo>
                    <a:pt x="2011" y="1099"/>
                  </a:lnTo>
                  <a:lnTo>
                    <a:pt x="2026" y="1125"/>
                  </a:lnTo>
                  <a:lnTo>
                    <a:pt x="2048" y="1161"/>
                  </a:lnTo>
                  <a:lnTo>
                    <a:pt x="2059" y="1175"/>
                  </a:lnTo>
                  <a:lnTo>
                    <a:pt x="2089" y="1204"/>
                  </a:lnTo>
                  <a:lnTo>
                    <a:pt x="2116" y="1235"/>
                  </a:lnTo>
                  <a:lnTo>
                    <a:pt x="2142" y="1265"/>
                  </a:lnTo>
                  <a:lnTo>
                    <a:pt x="2166" y="1295"/>
                  </a:lnTo>
                  <a:lnTo>
                    <a:pt x="2187" y="1325"/>
                  </a:lnTo>
                  <a:lnTo>
                    <a:pt x="2206" y="1355"/>
                  </a:lnTo>
                  <a:lnTo>
                    <a:pt x="2223" y="1384"/>
                  </a:lnTo>
                  <a:lnTo>
                    <a:pt x="2239" y="1414"/>
                  </a:lnTo>
                  <a:lnTo>
                    <a:pt x="2253" y="1443"/>
                  </a:lnTo>
                  <a:lnTo>
                    <a:pt x="2265" y="1472"/>
                  </a:lnTo>
                  <a:lnTo>
                    <a:pt x="2275" y="1500"/>
                  </a:lnTo>
                  <a:lnTo>
                    <a:pt x="2285" y="1528"/>
                  </a:lnTo>
                  <a:lnTo>
                    <a:pt x="2293" y="1556"/>
                  </a:lnTo>
                  <a:lnTo>
                    <a:pt x="2300" y="1582"/>
                  </a:lnTo>
                  <a:lnTo>
                    <a:pt x="2305" y="1608"/>
                  </a:lnTo>
                  <a:lnTo>
                    <a:pt x="2310" y="1632"/>
                  </a:lnTo>
                  <a:lnTo>
                    <a:pt x="2314" y="1656"/>
                  </a:lnTo>
                  <a:lnTo>
                    <a:pt x="2316" y="1680"/>
                  </a:lnTo>
                  <a:lnTo>
                    <a:pt x="2317" y="1702"/>
                  </a:lnTo>
                  <a:lnTo>
                    <a:pt x="2319" y="1723"/>
                  </a:lnTo>
                  <a:lnTo>
                    <a:pt x="2319" y="1762"/>
                  </a:lnTo>
                  <a:lnTo>
                    <a:pt x="2317" y="1795"/>
                  </a:lnTo>
                  <a:lnTo>
                    <a:pt x="2311" y="1843"/>
                  </a:lnTo>
                  <a:lnTo>
                    <a:pt x="2307" y="1864"/>
                  </a:lnTo>
                  <a:lnTo>
                    <a:pt x="2296" y="1898"/>
                  </a:lnTo>
                  <a:lnTo>
                    <a:pt x="2288" y="1931"/>
                  </a:lnTo>
                  <a:lnTo>
                    <a:pt x="2280" y="1966"/>
                  </a:lnTo>
                  <a:lnTo>
                    <a:pt x="2275" y="2001"/>
                  </a:lnTo>
                  <a:lnTo>
                    <a:pt x="2271" y="2036"/>
                  </a:lnTo>
                  <a:lnTo>
                    <a:pt x="2268" y="2072"/>
                  </a:lnTo>
                  <a:lnTo>
                    <a:pt x="2267" y="2106"/>
                  </a:lnTo>
                  <a:lnTo>
                    <a:pt x="2268" y="2141"/>
                  </a:lnTo>
                  <a:lnTo>
                    <a:pt x="2268" y="2176"/>
                  </a:lnTo>
                  <a:lnTo>
                    <a:pt x="2270" y="2211"/>
                  </a:lnTo>
                  <a:lnTo>
                    <a:pt x="2274" y="2244"/>
                  </a:lnTo>
                  <a:lnTo>
                    <a:pt x="2278" y="2278"/>
                  </a:lnTo>
                  <a:lnTo>
                    <a:pt x="2283" y="2311"/>
                  </a:lnTo>
                  <a:lnTo>
                    <a:pt x="2289" y="2343"/>
                  </a:lnTo>
                  <a:lnTo>
                    <a:pt x="2294" y="2374"/>
                  </a:lnTo>
                  <a:lnTo>
                    <a:pt x="2301" y="2405"/>
                  </a:lnTo>
                  <a:lnTo>
                    <a:pt x="2315" y="2462"/>
                  </a:lnTo>
                  <a:lnTo>
                    <a:pt x="2331" y="2516"/>
                  </a:lnTo>
                  <a:lnTo>
                    <a:pt x="2346" y="2564"/>
                  </a:lnTo>
                  <a:lnTo>
                    <a:pt x="2360" y="2605"/>
                  </a:lnTo>
                  <a:lnTo>
                    <a:pt x="2383" y="2666"/>
                  </a:lnTo>
                  <a:lnTo>
                    <a:pt x="2396" y="2692"/>
                  </a:lnTo>
                  <a:lnTo>
                    <a:pt x="2411" y="2742"/>
                  </a:lnTo>
                  <a:lnTo>
                    <a:pt x="2425" y="2791"/>
                  </a:lnTo>
                  <a:lnTo>
                    <a:pt x="2438" y="2838"/>
                  </a:lnTo>
                  <a:lnTo>
                    <a:pt x="2448" y="2884"/>
                  </a:lnTo>
                  <a:lnTo>
                    <a:pt x="2456" y="2930"/>
                  </a:lnTo>
                  <a:lnTo>
                    <a:pt x="2464" y="2975"/>
                  </a:lnTo>
                  <a:lnTo>
                    <a:pt x="2470" y="3017"/>
                  </a:lnTo>
                  <a:lnTo>
                    <a:pt x="2475" y="3059"/>
                  </a:lnTo>
                  <a:lnTo>
                    <a:pt x="2478" y="3100"/>
                  </a:lnTo>
                  <a:lnTo>
                    <a:pt x="2480" y="3139"/>
                  </a:lnTo>
                  <a:lnTo>
                    <a:pt x="2481" y="3177"/>
                  </a:lnTo>
                  <a:lnTo>
                    <a:pt x="2481" y="3213"/>
                  </a:lnTo>
                  <a:lnTo>
                    <a:pt x="2480" y="3249"/>
                  </a:lnTo>
                  <a:lnTo>
                    <a:pt x="2479" y="3283"/>
                  </a:lnTo>
                  <a:lnTo>
                    <a:pt x="2476" y="3315"/>
                  </a:lnTo>
                  <a:lnTo>
                    <a:pt x="2473" y="3346"/>
                  </a:lnTo>
                  <a:lnTo>
                    <a:pt x="2465" y="3403"/>
                  </a:lnTo>
                  <a:lnTo>
                    <a:pt x="2456" y="3453"/>
                  </a:lnTo>
                  <a:lnTo>
                    <a:pt x="2447" y="3496"/>
                  </a:lnTo>
                  <a:lnTo>
                    <a:pt x="2438" y="3532"/>
                  </a:lnTo>
                  <a:lnTo>
                    <a:pt x="2428" y="3562"/>
                  </a:lnTo>
                  <a:lnTo>
                    <a:pt x="2422" y="3583"/>
                  </a:lnTo>
                  <a:lnTo>
                    <a:pt x="2417" y="3596"/>
                  </a:lnTo>
                  <a:lnTo>
                    <a:pt x="2414" y="3601"/>
                  </a:lnTo>
                  <a:lnTo>
                    <a:pt x="2368" y="3655"/>
                  </a:lnTo>
                  <a:lnTo>
                    <a:pt x="2319" y="3703"/>
                  </a:lnTo>
                  <a:lnTo>
                    <a:pt x="2265" y="3747"/>
                  </a:lnTo>
                  <a:lnTo>
                    <a:pt x="2209" y="3786"/>
                  </a:lnTo>
                  <a:lnTo>
                    <a:pt x="2151" y="3820"/>
                  </a:lnTo>
                  <a:lnTo>
                    <a:pt x="2089" y="3851"/>
                  </a:lnTo>
                  <a:lnTo>
                    <a:pt x="2026" y="3877"/>
                  </a:lnTo>
                  <a:lnTo>
                    <a:pt x="1961" y="3899"/>
                  </a:lnTo>
                  <a:lnTo>
                    <a:pt x="1895" y="3918"/>
                  </a:lnTo>
                  <a:lnTo>
                    <a:pt x="1827" y="3934"/>
                  </a:lnTo>
                  <a:lnTo>
                    <a:pt x="1759" y="3946"/>
                  </a:lnTo>
                  <a:lnTo>
                    <a:pt x="1690" y="3955"/>
                  </a:lnTo>
                  <a:lnTo>
                    <a:pt x="1622" y="3962"/>
                  </a:lnTo>
                  <a:lnTo>
                    <a:pt x="1554" y="3967"/>
                  </a:lnTo>
                  <a:lnTo>
                    <a:pt x="1487" y="3969"/>
                  </a:lnTo>
                  <a:lnTo>
                    <a:pt x="1420" y="3969"/>
                  </a:lnTo>
                  <a:lnTo>
                    <a:pt x="1355" y="3967"/>
                  </a:lnTo>
                  <a:lnTo>
                    <a:pt x="1292" y="3965"/>
                  </a:lnTo>
                  <a:lnTo>
                    <a:pt x="1230" y="3960"/>
                  </a:lnTo>
                  <a:lnTo>
                    <a:pt x="1171" y="3955"/>
                  </a:lnTo>
                  <a:lnTo>
                    <a:pt x="1114" y="3949"/>
                  </a:lnTo>
                  <a:lnTo>
                    <a:pt x="1061" y="3941"/>
                  </a:lnTo>
                  <a:lnTo>
                    <a:pt x="1011" y="3934"/>
                  </a:lnTo>
                  <a:lnTo>
                    <a:pt x="965" y="3927"/>
                  </a:lnTo>
                  <a:lnTo>
                    <a:pt x="884" y="3910"/>
                  </a:lnTo>
                  <a:lnTo>
                    <a:pt x="824" y="3898"/>
                  </a:lnTo>
                  <a:lnTo>
                    <a:pt x="784" y="3888"/>
                  </a:lnTo>
                  <a:lnTo>
                    <a:pt x="769" y="3884"/>
                  </a:lnTo>
                  <a:lnTo>
                    <a:pt x="707" y="3856"/>
                  </a:lnTo>
                  <a:lnTo>
                    <a:pt x="647" y="3826"/>
                  </a:lnTo>
                  <a:lnTo>
                    <a:pt x="591" y="3794"/>
                  </a:lnTo>
                  <a:lnTo>
                    <a:pt x="538" y="3762"/>
                  </a:lnTo>
                  <a:lnTo>
                    <a:pt x="512" y="3745"/>
                  </a:lnTo>
                  <a:lnTo>
                    <a:pt x="487" y="3728"/>
                  </a:lnTo>
                  <a:lnTo>
                    <a:pt x="462" y="3712"/>
                  </a:lnTo>
                  <a:lnTo>
                    <a:pt x="439" y="3695"/>
                  </a:lnTo>
                  <a:lnTo>
                    <a:pt x="416" y="3676"/>
                  </a:lnTo>
                  <a:lnTo>
                    <a:pt x="394" y="3659"/>
                  </a:lnTo>
                  <a:lnTo>
                    <a:pt x="373" y="3640"/>
                  </a:lnTo>
                  <a:lnTo>
                    <a:pt x="352" y="3621"/>
                  </a:lnTo>
                  <a:lnTo>
                    <a:pt x="332" y="3603"/>
                  </a:lnTo>
                  <a:lnTo>
                    <a:pt x="313" y="3584"/>
                  </a:lnTo>
                  <a:lnTo>
                    <a:pt x="295" y="3565"/>
                  </a:lnTo>
                  <a:lnTo>
                    <a:pt x="276" y="3546"/>
                  </a:lnTo>
                  <a:lnTo>
                    <a:pt x="259" y="3526"/>
                  </a:lnTo>
                  <a:lnTo>
                    <a:pt x="242" y="3506"/>
                  </a:lnTo>
                  <a:lnTo>
                    <a:pt x="228" y="3485"/>
                  </a:lnTo>
                  <a:lnTo>
                    <a:pt x="213" y="3465"/>
                  </a:lnTo>
                  <a:lnTo>
                    <a:pt x="198" y="3444"/>
                  </a:lnTo>
                  <a:lnTo>
                    <a:pt x="184" y="3423"/>
                  </a:lnTo>
                  <a:lnTo>
                    <a:pt x="172" y="3402"/>
                  </a:lnTo>
                  <a:lnTo>
                    <a:pt x="159" y="3381"/>
                  </a:lnTo>
                  <a:lnTo>
                    <a:pt x="148" y="3358"/>
                  </a:lnTo>
                  <a:lnTo>
                    <a:pt x="138" y="3336"/>
                  </a:lnTo>
                  <a:lnTo>
                    <a:pt x="128" y="3314"/>
                  </a:lnTo>
                  <a:lnTo>
                    <a:pt x="120" y="3291"/>
                  </a:lnTo>
                  <a:lnTo>
                    <a:pt x="110" y="3265"/>
                  </a:lnTo>
                  <a:lnTo>
                    <a:pt x="102" y="3240"/>
                  </a:lnTo>
                  <a:lnTo>
                    <a:pt x="95" y="3216"/>
                  </a:lnTo>
                  <a:lnTo>
                    <a:pt x="88" y="3191"/>
                  </a:lnTo>
                  <a:lnTo>
                    <a:pt x="84" y="3166"/>
                  </a:lnTo>
                  <a:lnTo>
                    <a:pt x="80" y="3142"/>
                  </a:lnTo>
                  <a:lnTo>
                    <a:pt x="77" y="3119"/>
                  </a:lnTo>
                  <a:lnTo>
                    <a:pt x="75" y="3095"/>
                  </a:lnTo>
                  <a:lnTo>
                    <a:pt x="72" y="3073"/>
                  </a:lnTo>
                  <a:lnTo>
                    <a:pt x="72" y="3051"/>
                  </a:lnTo>
                  <a:lnTo>
                    <a:pt x="72" y="3029"/>
                  </a:lnTo>
                  <a:lnTo>
                    <a:pt x="72" y="3008"/>
                  </a:lnTo>
                  <a:lnTo>
                    <a:pt x="75" y="2969"/>
                  </a:lnTo>
                  <a:lnTo>
                    <a:pt x="79" y="2931"/>
                  </a:lnTo>
                  <a:lnTo>
                    <a:pt x="85" y="2898"/>
                  </a:lnTo>
                  <a:lnTo>
                    <a:pt x="91" y="2868"/>
                  </a:lnTo>
                  <a:lnTo>
                    <a:pt x="97" y="2842"/>
                  </a:lnTo>
                  <a:lnTo>
                    <a:pt x="103" y="2820"/>
                  </a:lnTo>
                  <a:lnTo>
                    <a:pt x="113" y="2789"/>
                  </a:lnTo>
                  <a:lnTo>
                    <a:pt x="118" y="2778"/>
                  </a:lnTo>
                  <a:lnTo>
                    <a:pt x="128" y="2747"/>
                  </a:lnTo>
                  <a:lnTo>
                    <a:pt x="137" y="2714"/>
                  </a:lnTo>
                  <a:lnTo>
                    <a:pt x="144" y="2681"/>
                  </a:lnTo>
                  <a:lnTo>
                    <a:pt x="152" y="2647"/>
                  </a:lnTo>
                  <a:lnTo>
                    <a:pt x="158" y="2613"/>
                  </a:lnTo>
                  <a:lnTo>
                    <a:pt x="163" y="2579"/>
                  </a:lnTo>
                  <a:lnTo>
                    <a:pt x="168" y="2543"/>
                  </a:lnTo>
                  <a:lnTo>
                    <a:pt x="172" y="2508"/>
                  </a:lnTo>
                  <a:lnTo>
                    <a:pt x="178" y="2439"/>
                  </a:lnTo>
                  <a:lnTo>
                    <a:pt x="182" y="2369"/>
                  </a:lnTo>
                  <a:lnTo>
                    <a:pt x="184" y="2301"/>
                  </a:lnTo>
                  <a:lnTo>
                    <a:pt x="184" y="2235"/>
                  </a:lnTo>
                  <a:lnTo>
                    <a:pt x="184" y="2175"/>
                  </a:lnTo>
                  <a:lnTo>
                    <a:pt x="182" y="2118"/>
                  </a:lnTo>
                  <a:lnTo>
                    <a:pt x="179" y="2067"/>
                  </a:lnTo>
                  <a:lnTo>
                    <a:pt x="177" y="2021"/>
                  </a:lnTo>
                  <a:lnTo>
                    <a:pt x="172" y="1955"/>
                  </a:lnTo>
                  <a:lnTo>
                    <a:pt x="169" y="1925"/>
                  </a:lnTo>
                  <a:lnTo>
                    <a:pt x="154" y="1889"/>
                  </a:lnTo>
                  <a:lnTo>
                    <a:pt x="143" y="1855"/>
                  </a:lnTo>
                  <a:lnTo>
                    <a:pt x="133" y="1821"/>
                  </a:lnTo>
                  <a:lnTo>
                    <a:pt x="126" y="1788"/>
                  </a:lnTo>
                  <a:lnTo>
                    <a:pt x="121" y="1754"/>
                  </a:lnTo>
                  <a:lnTo>
                    <a:pt x="117" y="1722"/>
                  </a:lnTo>
                  <a:lnTo>
                    <a:pt x="116" y="1691"/>
                  </a:lnTo>
                  <a:lnTo>
                    <a:pt x="116" y="1660"/>
                  </a:lnTo>
                  <a:lnTo>
                    <a:pt x="116" y="1630"/>
                  </a:lnTo>
                  <a:lnTo>
                    <a:pt x="120" y="1600"/>
                  </a:lnTo>
                  <a:lnTo>
                    <a:pt x="123" y="1573"/>
                  </a:lnTo>
                  <a:lnTo>
                    <a:pt x="128" y="1544"/>
                  </a:lnTo>
                  <a:lnTo>
                    <a:pt x="133" y="1518"/>
                  </a:lnTo>
                  <a:lnTo>
                    <a:pt x="141" y="1494"/>
                  </a:lnTo>
                  <a:lnTo>
                    <a:pt x="148" y="1469"/>
                  </a:lnTo>
                  <a:lnTo>
                    <a:pt x="157" y="1445"/>
                  </a:lnTo>
                  <a:lnTo>
                    <a:pt x="164" y="1423"/>
                  </a:lnTo>
                  <a:lnTo>
                    <a:pt x="174" y="1402"/>
                  </a:lnTo>
                  <a:lnTo>
                    <a:pt x="183" y="1382"/>
                  </a:lnTo>
                  <a:lnTo>
                    <a:pt x="193" y="1363"/>
                  </a:lnTo>
                  <a:lnTo>
                    <a:pt x="211" y="1330"/>
                  </a:lnTo>
                  <a:lnTo>
                    <a:pt x="230" y="1301"/>
                  </a:lnTo>
                  <a:lnTo>
                    <a:pt x="259" y="1260"/>
                  </a:lnTo>
                  <a:lnTo>
                    <a:pt x="273" y="1243"/>
                  </a:lnTo>
                  <a:lnTo>
                    <a:pt x="291" y="1218"/>
                  </a:lnTo>
                  <a:lnTo>
                    <a:pt x="306" y="1191"/>
                  </a:lnTo>
                  <a:lnTo>
                    <a:pt x="321" y="1162"/>
                  </a:lnTo>
                  <a:lnTo>
                    <a:pt x="334" y="1131"/>
                  </a:lnTo>
                  <a:lnTo>
                    <a:pt x="347" y="1100"/>
                  </a:lnTo>
                  <a:lnTo>
                    <a:pt x="359" y="1067"/>
                  </a:lnTo>
                  <a:lnTo>
                    <a:pt x="369" y="1032"/>
                  </a:lnTo>
                  <a:lnTo>
                    <a:pt x="379" y="997"/>
                  </a:lnTo>
                  <a:lnTo>
                    <a:pt x="388" y="961"/>
                  </a:lnTo>
                  <a:lnTo>
                    <a:pt x="396" y="925"/>
                  </a:lnTo>
                  <a:lnTo>
                    <a:pt x="403" y="889"/>
                  </a:lnTo>
                  <a:lnTo>
                    <a:pt x="410" y="852"/>
                  </a:lnTo>
                  <a:lnTo>
                    <a:pt x="420" y="778"/>
                  </a:lnTo>
                  <a:lnTo>
                    <a:pt x="429" y="706"/>
                  </a:lnTo>
                  <a:lnTo>
                    <a:pt x="435" y="636"/>
                  </a:lnTo>
                  <a:lnTo>
                    <a:pt x="439" y="570"/>
                  </a:lnTo>
                  <a:lnTo>
                    <a:pt x="441" y="511"/>
                  </a:lnTo>
                  <a:lnTo>
                    <a:pt x="444" y="458"/>
                  </a:lnTo>
                  <a:lnTo>
                    <a:pt x="444" y="412"/>
                  </a:lnTo>
                  <a:lnTo>
                    <a:pt x="444" y="377"/>
                  </a:lnTo>
                  <a:lnTo>
                    <a:pt x="444" y="353"/>
                  </a:lnTo>
                  <a:lnTo>
                    <a:pt x="442" y="341"/>
                  </a:lnTo>
                  <a:lnTo>
                    <a:pt x="442" y="337"/>
                  </a:lnTo>
                  <a:lnTo>
                    <a:pt x="440" y="312"/>
                  </a:lnTo>
                  <a:lnTo>
                    <a:pt x="440" y="289"/>
                  </a:lnTo>
                  <a:lnTo>
                    <a:pt x="441" y="278"/>
                  </a:lnTo>
                  <a:lnTo>
                    <a:pt x="442" y="268"/>
                  </a:lnTo>
                  <a:lnTo>
                    <a:pt x="445" y="257"/>
                  </a:lnTo>
                  <a:lnTo>
                    <a:pt x="447" y="247"/>
                  </a:lnTo>
                  <a:lnTo>
                    <a:pt x="450" y="237"/>
                  </a:lnTo>
                  <a:lnTo>
                    <a:pt x="454" y="228"/>
                  </a:lnTo>
                  <a:lnTo>
                    <a:pt x="459" y="219"/>
                  </a:lnTo>
                  <a:lnTo>
                    <a:pt x="463" y="211"/>
                  </a:lnTo>
                  <a:lnTo>
                    <a:pt x="468" y="202"/>
                  </a:lnTo>
                  <a:lnTo>
                    <a:pt x="475" y="195"/>
                  </a:lnTo>
                  <a:lnTo>
                    <a:pt x="481" y="187"/>
                  </a:lnTo>
                  <a:lnTo>
                    <a:pt x="488" y="180"/>
                  </a:lnTo>
                  <a:lnTo>
                    <a:pt x="501" y="170"/>
                  </a:lnTo>
                  <a:lnTo>
                    <a:pt x="514" y="161"/>
                  </a:lnTo>
                  <a:lnTo>
                    <a:pt x="528" y="152"/>
                  </a:lnTo>
                  <a:lnTo>
                    <a:pt x="543" y="145"/>
                  </a:lnTo>
                  <a:lnTo>
                    <a:pt x="559" y="139"/>
                  </a:lnTo>
                  <a:lnTo>
                    <a:pt x="576" y="132"/>
                  </a:lnTo>
                  <a:lnTo>
                    <a:pt x="594" y="128"/>
                  </a:lnTo>
                  <a:lnTo>
                    <a:pt x="611" y="123"/>
                  </a:lnTo>
                  <a:lnTo>
                    <a:pt x="630" y="120"/>
                  </a:lnTo>
                  <a:lnTo>
                    <a:pt x="647" y="116"/>
                  </a:lnTo>
                  <a:lnTo>
                    <a:pt x="666" y="115"/>
                  </a:lnTo>
                  <a:lnTo>
                    <a:pt x="685" y="113"/>
                  </a:lnTo>
                  <a:lnTo>
                    <a:pt x="723" y="111"/>
                  </a:lnTo>
                  <a:lnTo>
                    <a:pt x="759" y="111"/>
                  </a:lnTo>
                  <a:lnTo>
                    <a:pt x="795" y="113"/>
                  </a:lnTo>
                  <a:lnTo>
                    <a:pt x="827" y="115"/>
                  </a:lnTo>
                  <a:lnTo>
                    <a:pt x="858" y="118"/>
                  </a:lnTo>
                  <a:lnTo>
                    <a:pt x="884" y="121"/>
                  </a:lnTo>
                  <a:lnTo>
                    <a:pt x="923" y="126"/>
                  </a:lnTo>
                  <a:lnTo>
                    <a:pt x="939" y="129"/>
                  </a:lnTo>
                  <a:lnTo>
                    <a:pt x="974" y="145"/>
                  </a:lnTo>
                  <a:lnTo>
                    <a:pt x="1009" y="159"/>
                  </a:lnTo>
                  <a:lnTo>
                    <a:pt x="1041" y="171"/>
                  </a:lnTo>
                  <a:lnTo>
                    <a:pt x="1073" y="182"/>
                  </a:lnTo>
                  <a:lnTo>
                    <a:pt x="1104" y="191"/>
                  </a:lnTo>
                  <a:lnTo>
                    <a:pt x="1133" y="198"/>
                  </a:lnTo>
                  <a:lnTo>
                    <a:pt x="1161" y="204"/>
                  </a:lnTo>
                  <a:lnTo>
                    <a:pt x="1189" y="209"/>
                  </a:lnTo>
                  <a:lnTo>
                    <a:pt x="1214" y="213"/>
                  </a:lnTo>
                  <a:lnTo>
                    <a:pt x="1238" y="214"/>
                  </a:lnTo>
                  <a:lnTo>
                    <a:pt x="1261" y="214"/>
                  </a:lnTo>
                  <a:lnTo>
                    <a:pt x="1283" y="213"/>
                  </a:lnTo>
                  <a:lnTo>
                    <a:pt x="1303" y="211"/>
                  </a:lnTo>
                  <a:lnTo>
                    <a:pt x="1323" y="206"/>
                  </a:lnTo>
                  <a:lnTo>
                    <a:pt x="1340" y="201"/>
                  </a:lnTo>
                  <a:lnTo>
                    <a:pt x="1356" y="192"/>
                  </a:lnTo>
                  <a:lnTo>
                    <a:pt x="1367" y="186"/>
                  </a:lnTo>
                  <a:lnTo>
                    <a:pt x="1377" y="178"/>
                  </a:lnTo>
                  <a:lnTo>
                    <a:pt x="1386" y="172"/>
                  </a:lnTo>
                  <a:lnTo>
                    <a:pt x="1392" y="165"/>
                  </a:lnTo>
                  <a:lnTo>
                    <a:pt x="1402" y="151"/>
                  </a:lnTo>
                  <a:lnTo>
                    <a:pt x="1410" y="137"/>
                  </a:lnTo>
                  <a:lnTo>
                    <a:pt x="1431" y="126"/>
                  </a:lnTo>
                  <a:lnTo>
                    <a:pt x="1451" y="115"/>
                  </a:lnTo>
                  <a:lnTo>
                    <a:pt x="1472" y="105"/>
                  </a:lnTo>
                  <a:lnTo>
                    <a:pt x="1492" y="98"/>
                  </a:lnTo>
                  <a:lnTo>
                    <a:pt x="1512" y="90"/>
                  </a:lnTo>
                  <a:lnTo>
                    <a:pt x="1530" y="84"/>
                  </a:lnTo>
                  <a:lnTo>
                    <a:pt x="1549" y="79"/>
                  </a:lnTo>
                  <a:lnTo>
                    <a:pt x="1567" y="75"/>
                  </a:lnTo>
                  <a:lnTo>
                    <a:pt x="1586" y="73"/>
                  </a:lnTo>
                  <a:lnTo>
                    <a:pt x="1603" y="72"/>
                  </a:lnTo>
                  <a:lnTo>
                    <a:pt x="1621" y="72"/>
                  </a:lnTo>
                  <a:lnTo>
                    <a:pt x="1638" y="73"/>
                  </a:lnTo>
                  <a:lnTo>
                    <a:pt x="1656" y="75"/>
                  </a:lnTo>
                  <a:lnTo>
                    <a:pt x="1672" y="79"/>
                  </a:lnTo>
                  <a:lnTo>
                    <a:pt x="1688" y="84"/>
                  </a:lnTo>
                  <a:lnTo>
                    <a:pt x="1703" y="9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941400" y="2662200"/>
              <a:ext cx="190440" cy="258840"/>
            </a:xfrm>
            <a:custGeom>
              <a:avLst/>
              <a:gdLst/>
              <a:ahLst/>
              <a:rect l="l" t="t" r="r" b="b"/>
              <a:pathLst>
                <a:path w="480" h="654">
                  <a:moveTo>
                    <a:pt x="480" y="341"/>
                  </a:moveTo>
                  <a:lnTo>
                    <a:pt x="472" y="320"/>
                  </a:lnTo>
                  <a:lnTo>
                    <a:pt x="446" y="267"/>
                  </a:lnTo>
                  <a:lnTo>
                    <a:pt x="427" y="232"/>
                  </a:lnTo>
                  <a:lnTo>
                    <a:pt x="405" y="195"/>
                  </a:lnTo>
                  <a:lnTo>
                    <a:pt x="393" y="176"/>
                  </a:lnTo>
                  <a:lnTo>
                    <a:pt x="380" y="157"/>
                  </a:lnTo>
                  <a:lnTo>
                    <a:pt x="366" y="138"/>
                  </a:lnTo>
                  <a:lnTo>
                    <a:pt x="352" y="119"/>
                  </a:lnTo>
                  <a:lnTo>
                    <a:pt x="337" y="102"/>
                  </a:lnTo>
                  <a:lnTo>
                    <a:pt x="321" y="84"/>
                  </a:lnTo>
                  <a:lnTo>
                    <a:pt x="305" y="68"/>
                  </a:lnTo>
                  <a:lnTo>
                    <a:pt x="288" y="52"/>
                  </a:lnTo>
                  <a:lnTo>
                    <a:pt x="270" y="38"/>
                  </a:lnTo>
                  <a:lnTo>
                    <a:pt x="253" y="27"/>
                  </a:lnTo>
                  <a:lnTo>
                    <a:pt x="234" y="17"/>
                  </a:lnTo>
                  <a:lnTo>
                    <a:pt x="216" y="8"/>
                  </a:lnTo>
                  <a:lnTo>
                    <a:pt x="197" y="4"/>
                  </a:lnTo>
                  <a:lnTo>
                    <a:pt x="177" y="0"/>
                  </a:lnTo>
                  <a:lnTo>
                    <a:pt x="157" y="0"/>
                  </a:lnTo>
                  <a:lnTo>
                    <a:pt x="138" y="2"/>
                  </a:lnTo>
                  <a:lnTo>
                    <a:pt x="116" y="8"/>
                  </a:lnTo>
                  <a:lnTo>
                    <a:pt x="95" y="17"/>
                  </a:lnTo>
                  <a:lnTo>
                    <a:pt x="74" y="31"/>
                  </a:lnTo>
                  <a:lnTo>
                    <a:pt x="53" y="47"/>
                  </a:lnTo>
                  <a:lnTo>
                    <a:pt x="51" y="51"/>
                  </a:lnTo>
                  <a:lnTo>
                    <a:pt x="44" y="63"/>
                  </a:lnTo>
                  <a:lnTo>
                    <a:pt x="35" y="83"/>
                  </a:lnTo>
                  <a:lnTo>
                    <a:pt x="23" y="108"/>
                  </a:lnTo>
                  <a:lnTo>
                    <a:pt x="18" y="124"/>
                  </a:lnTo>
                  <a:lnTo>
                    <a:pt x="13" y="140"/>
                  </a:lnTo>
                  <a:lnTo>
                    <a:pt x="8" y="157"/>
                  </a:lnTo>
                  <a:lnTo>
                    <a:pt x="5" y="176"/>
                  </a:lnTo>
                  <a:lnTo>
                    <a:pt x="2" y="196"/>
                  </a:lnTo>
                  <a:lnTo>
                    <a:pt x="0" y="217"/>
                  </a:lnTo>
                  <a:lnTo>
                    <a:pt x="0" y="239"/>
                  </a:lnTo>
                  <a:lnTo>
                    <a:pt x="0" y="262"/>
                  </a:lnTo>
                  <a:lnTo>
                    <a:pt x="2" y="284"/>
                  </a:lnTo>
                  <a:lnTo>
                    <a:pt x="7" y="309"/>
                  </a:lnTo>
                  <a:lnTo>
                    <a:pt x="13" y="332"/>
                  </a:lnTo>
                  <a:lnTo>
                    <a:pt x="21" y="357"/>
                  </a:lnTo>
                  <a:lnTo>
                    <a:pt x="32" y="382"/>
                  </a:lnTo>
                  <a:lnTo>
                    <a:pt x="46" y="408"/>
                  </a:lnTo>
                  <a:lnTo>
                    <a:pt x="62" y="433"/>
                  </a:lnTo>
                  <a:lnTo>
                    <a:pt x="82" y="459"/>
                  </a:lnTo>
                  <a:lnTo>
                    <a:pt x="104" y="484"/>
                  </a:lnTo>
                  <a:lnTo>
                    <a:pt x="130" y="510"/>
                  </a:lnTo>
                  <a:lnTo>
                    <a:pt x="159" y="535"/>
                  </a:lnTo>
                  <a:lnTo>
                    <a:pt x="192" y="559"/>
                  </a:lnTo>
                  <a:lnTo>
                    <a:pt x="229" y="583"/>
                  </a:lnTo>
                  <a:lnTo>
                    <a:pt x="270" y="608"/>
                  </a:lnTo>
                  <a:lnTo>
                    <a:pt x="316" y="630"/>
                  </a:lnTo>
                  <a:lnTo>
                    <a:pt x="366" y="654"/>
                  </a:lnTo>
                  <a:lnTo>
                    <a:pt x="480" y="34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927000" y="2647800"/>
              <a:ext cx="220680" cy="292320"/>
            </a:xfrm>
            <a:custGeom>
              <a:avLst/>
              <a:gdLst/>
              <a:ahLst/>
              <a:rect l="l" t="t" r="r" b="b"/>
              <a:pathLst>
                <a:path w="555" h="737">
                  <a:moveTo>
                    <a:pt x="66" y="56"/>
                  </a:moveTo>
                  <a:lnTo>
                    <a:pt x="58" y="67"/>
                  </a:lnTo>
                  <a:lnTo>
                    <a:pt x="47" y="88"/>
                  </a:lnTo>
                  <a:lnTo>
                    <a:pt x="39" y="103"/>
                  </a:lnTo>
                  <a:lnTo>
                    <a:pt x="32" y="119"/>
                  </a:lnTo>
                  <a:lnTo>
                    <a:pt x="25" y="138"/>
                  </a:lnTo>
                  <a:lnTo>
                    <a:pt x="17" y="159"/>
                  </a:lnTo>
                  <a:lnTo>
                    <a:pt x="11" y="181"/>
                  </a:lnTo>
                  <a:lnTo>
                    <a:pt x="6" y="206"/>
                  </a:lnTo>
                  <a:lnTo>
                    <a:pt x="2" y="232"/>
                  </a:lnTo>
                  <a:lnTo>
                    <a:pt x="0" y="259"/>
                  </a:lnTo>
                  <a:lnTo>
                    <a:pt x="0" y="288"/>
                  </a:lnTo>
                  <a:lnTo>
                    <a:pt x="2" y="317"/>
                  </a:lnTo>
                  <a:lnTo>
                    <a:pt x="5" y="332"/>
                  </a:lnTo>
                  <a:lnTo>
                    <a:pt x="7" y="347"/>
                  </a:lnTo>
                  <a:lnTo>
                    <a:pt x="11" y="363"/>
                  </a:lnTo>
                  <a:lnTo>
                    <a:pt x="15" y="379"/>
                  </a:lnTo>
                  <a:lnTo>
                    <a:pt x="23" y="406"/>
                  </a:lnTo>
                  <a:lnTo>
                    <a:pt x="35" y="430"/>
                  </a:lnTo>
                  <a:lnTo>
                    <a:pt x="47" y="455"/>
                  </a:lnTo>
                  <a:lnTo>
                    <a:pt x="62" y="480"/>
                  </a:lnTo>
                  <a:lnTo>
                    <a:pt x="79" y="504"/>
                  </a:lnTo>
                  <a:lnTo>
                    <a:pt x="98" y="526"/>
                  </a:lnTo>
                  <a:lnTo>
                    <a:pt x="118" y="548"/>
                  </a:lnTo>
                  <a:lnTo>
                    <a:pt x="140" y="571"/>
                  </a:lnTo>
                  <a:lnTo>
                    <a:pt x="165" y="592"/>
                  </a:lnTo>
                  <a:lnTo>
                    <a:pt x="191" y="613"/>
                  </a:lnTo>
                  <a:lnTo>
                    <a:pt x="220" y="633"/>
                  </a:lnTo>
                  <a:lnTo>
                    <a:pt x="249" y="651"/>
                  </a:lnTo>
                  <a:lnTo>
                    <a:pt x="282" y="670"/>
                  </a:lnTo>
                  <a:lnTo>
                    <a:pt x="315" y="688"/>
                  </a:lnTo>
                  <a:lnTo>
                    <a:pt x="351" y="706"/>
                  </a:lnTo>
                  <a:lnTo>
                    <a:pt x="388" y="722"/>
                  </a:lnTo>
                  <a:lnTo>
                    <a:pt x="423" y="737"/>
                  </a:lnTo>
                  <a:lnTo>
                    <a:pt x="555" y="376"/>
                  </a:lnTo>
                  <a:lnTo>
                    <a:pt x="550" y="363"/>
                  </a:lnTo>
                  <a:lnTo>
                    <a:pt x="542" y="346"/>
                  </a:lnTo>
                  <a:lnTo>
                    <a:pt x="524" y="308"/>
                  </a:lnTo>
                  <a:lnTo>
                    <a:pt x="511" y="283"/>
                  </a:lnTo>
                  <a:lnTo>
                    <a:pt x="496" y="255"/>
                  </a:lnTo>
                  <a:lnTo>
                    <a:pt x="479" y="226"/>
                  </a:lnTo>
                  <a:lnTo>
                    <a:pt x="460" y="195"/>
                  </a:lnTo>
                  <a:lnTo>
                    <a:pt x="439" y="164"/>
                  </a:lnTo>
                  <a:lnTo>
                    <a:pt x="416" y="134"/>
                  </a:lnTo>
                  <a:lnTo>
                    <a:pt x="403" y="119"/>
                  </a:lnTo>
                  <a:lnTo>
                    <a:pt x="391" y="104"/>
                  </a:lnTo>
                  <a:lnTo>
                    <a:pt x="378" y="90"/>
                  </a:lnTo>
                  <a:lnTo>
                    <a:pt x="365" y="77"/>
                  </a:lnTo>
                  <a:lnTo>
                    <a:pt x="350" y="64"/>
                  </a:lnTo>
                  <a:lnTo>
                    <a:pt x="336" y="53"/>
                  </a:lnTo>
                  <a:lnTo>
                    <a:pt x="321" y="42"/>
                  </a:lnTo>
                  <a:lnTo>
                    <a:pt x="306" y="32"/>
                  </a:lnTo>
                  <a:lnTo>
                    <a:pt x="292" y="23"/>
                  </a:lnTo>
                  <a:lnTo>
                    <a:pt x="275" y="16"/>
                  </a:lnTo>
                  <a:lnTo>
                    <a:pt x="259" y="10"/>
                  </a:lnTo>
                  <a:lnTo>
                    <a:pt x="243" y="5"/>
                  </a:lnTo>
                  <a:lnTo>
                    <a:pt x="231" y="2"/>
                  </a:lnTo>
                  <a:lnTo>
                    <a:pt x="220" y="1"/>
                  </a:lnTo>
                  <a:lnTo>
                    <a:pt x="208" y="0"/>
                  </a:lnTo>
                  <a:lnTo>
                    <a:pt x="197" y="0"/>
                  </a:lnTo>
                  <a:lnTo>
                    <a:pt x="186" y="1"/>
                  </a:lnTo>
                  <a:lnTo>
                    <a:pt x="175" y="2"/>
                  </a:lnTo>
                  <a:lnTo>
                    <a:pt x="164" y="4"/>
                  </a:lnTo>
                  <a:lnTo>
                    <a:pt x="152" y="7"/>
                  </a:lnTo>
                  <a:lnTo>
                    <a:pt x="141" y="10"/>
                  </a:lnTo>
                  <a:lnTo>
                    <a:pt x="130" y="15"/>
                  </a:lnTo>
                  <a:lnTo>
                    <a:pt x="119" y="20"/>
                  </a:lnTo>
                  <a:lnTo>
                    <a:pt x="109" y="26"/>
                  </a:lnTo>
                  <a:lnTo>
                    <a:pt x="98" y="32"/>
                  </a:lnTo>
                  <a:lnTo>
                    <a:pt x="87" y="40"/>
                  </a:lnTo>
                  <a:lnTo>
                    <a:pt x="77" y="47"/>
                  </a:lnTo>
                  <a:lnTo>
                    <a:pt x="66" y="56"/>
                  </a:lnTo>
                  <a:close/>
                  <a:moveTo>
                    <a:pt x="84" y="360"/>
                  </a:moveTo>
                  <a:lnTo>
                    <a:pt x="78" y="337"/>
                  </a:lnTo>
                  <a:lnTo>
                    <a:pt x="74" y="316"/>
                  </a:lnTo>
                  <a:lnTo>
                    <a:pt x="72" y="295"/>
                  </a:lnTo>
                  <a:lnTo>
                    <a:pt x="72" y="275"/>
                  </a:lnTo>
                  <a:lnTo>
                    <a:pt x="72" y="257"/>
                  </a:lnTo>
                  <a:lnTo>
                    <a:pt x="73" y="239"/>
                  </a:lnTo>
                  <a:lnTo>
                    <a:pt x="75" y="223"/>
                  </a:lnTo>
                  <a:lnTo>
                    <a:pt x="78" y="207"/>
                  </a:lnTo>
                  <a:lnTo>
                    <a:pt x="87" y="177"/>
                  </a:lnTo>
                  <a:lnTo>
                    <a:pt x="95" y="152"/>
                  </a:lnTo>
                  <a:lnTo>
                    <a:pt x="111" y="116"/>
                  </a:lnTo>
                  <a:lnTo>
                    <a:pt x="119" y="103"/>
                  </a:lnTo>
                  <a:lnTo>
                    <a:pt x="131" y="94"/>
                  </a:lnTo>
                  <a:lnTo>
                    <a:pt x="144" y="85"/>
                  </a:lnTo>
                  <a:lnTo>
                    <a:pt x="156" y="80"/>
                  </a:lnTo>
                  <a:lnTo>
                    <a:pt x="170" y="76"/>
                  </a:lnTo>
                  <a:lnTo>
                    <a:pt x="184" y="73"/>
                  </a:lnTo>
                  <a:lnTo>
                    <a:pt x="197" y="72"/>
                  </a:lnTo>
                  <a:lnTo>
                    <a:pt x="212" y="72"/>
                  </a:lnTo>
                  <a:lnTo>
                    <a:pt x="226" y="74"/>
                  </a:lnTo>
                  <a:lnTo>
                    <a:pt x="237" y="77"/>
                  </a:lnTo>
                  <a:lnTo>
                    <a:pt x="247" y="82"/>
                  </a:lnTo>
                  <a:lnTo>
                    <a:pt x="258" y="85"/>
                  </a:lnTo>
                  <a:lnTo>
                    <a:pt x="268" y="92"/>
                  </a:lnTo>
                  <a:lnTo>
                    <a:pt x="288" y="105"/>
                  </a:lnTo>
                  <a:lnTo>
                    <a:pt x="308" y="121"/>
                  </a:lnTo>
                  <a:lnTo>
                    <a:pt x="328" y="140"/>
                  </a:lnTo>
                  <a:lnTo>
                    <a:pt x="346" y="160"/>
                  </a:lnTo>
                  <a:lnTo>
                    <a:pt x="364" y="182"/>
                  </a:lnTo>
                  <a:lnTo>
                    <a:pt x="381" y="205"/>
                  </a:lnTo>
                  <a:lnTo>
                    <a:pt x="397" y="228"/>
                  </a:lnTo>
                  <a:lnTo>
                    <a:pt x="412" y="252"/>
                  </a:lnTo>
                  <a:lnTo>
                    <a:pt x="426" y="275"/>
                  </a:lnTo>
                  <a:lnTo>
                    <a:pt x="439" y="299"/>
                  </a:lnTo>
                  <a:lnTo>
                    <a:pt x="460" y="342"/>
                  </a:lnTo>
                  <a:lnTo>
                    <a:pt x="478" y="378"/>
                  </a:lnTo>
                  <a:lnTo>
                    <a:pt x="472" y="393"/>
                  </a:lnTo>
                  <a:lnTo>
                    <a:pt x="463" y="419"/>
                  </a:lnTo>
                  <a:lnTo>
                    <a:pt x="449" y="454"/>
                  </a:lnTo>
                  <a:lnTo>
                    <a:pt x="436" y="494"/>
                  </a:lnTo>
                  <a:lnTo>
                    <a:pt x="421" y="536"/>
                  </a:lnTo>
                  <a:lnTo>
                    <a:pt x="406" y="576"/>
                  </a:lnTo>
                  <a:lnTo>
                    <a:pt x="393" y="610"/>
                  </a:lnTo>
                  <a:lnTo>
                    <a:pt x="383" y="636"/>
                  </a:lnTo>
                  <a:lnTo>
                    <a:pt x="354" y="623"/>
                  </a:lnTo>
                  <a:lnTo>
                    <a:pt x="325" y="608"/>
                  </a:lnTo>
                  <a:lnTo>
                    <a:pt x="299" y="593"/>
                  </a:lnTo>
                  <a:lnTo>
                    <a:pt x="273" y="577"/>
                  </a:lnTo>
                  <a:lnTo>
                    <a:pt x="249" y="562"/>
                  </a:lnTo>
                  <a:lnTo>
                    <a:pt x="227" y="544"/>
                  </a:lnTo>
                  <a:lnTo>
                    <a:pt x="205" y="528"/>
                  </a:lnTo>
                  <a:lnTo>
                    <a:pt x="186" y="511"/>
                  </a:lnTo>
                  <a:lnTo>
                    <a:pt x="167" y="494"/>
                  </a:lnTo>
                  <a:lnTo>
                    <a:pt x="150" y="476"/>
                  </a:lnTo>
                  <a:lnTo>
                    <a:pt x="135" y="458"/>
                  </a:lnTo>
                  <a:lnTo>
                    <a:pt x="121" y="439"/>
                  </a:lnTo>
                  <a:lnTo>
                    <a:pt x="110" y="419"/>
                  </a:lnTo>
                  <a:lnTo>
                    <a:pt x="99" y="399"/>
                  </a:lnTo>
                  <a:lnTo>
                    <a:pt x="90" y="379"/>
                  </a:lnTo>
                  <a:lnTo>
                    <a:pt x="84" y="36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1297080" y="2798640"/>
              <a:ext cx="465120" cy="289080"/>
            </a:xfrm>
            <a:custGeom>
              <a:avLst/>
              <a:gdLst/>
              <a:ahLst/>
              <a:rect l="l" t="t" r="r" b="b"/>
              <a:pathLst>
                <a:path w="1172" h="730">
                  <a:moveTo>
                    <a:pt x="509" y="0"/>
                  </a:moveTo>
                  <a:lnTo>
                    <a:pt x="492" y="2"/>
                  </a:lnTo>
                  <a:lnTo>
                    <a:pt x="451" y="9"/>
                  </a:lnTo>
                  <a:lnTo>
                    <a:pt x="425" y="14"/>
                  </a:lnTo>
                  <a:lnTo>
                    <a:pt x="395" y="22"/>
                  </a:lnTo>
                  <a:lnTo>
                    <a:pt x="362" y="30"/>
                  </a:lnTo>
                  <a:lnTo>
                    <a:pt x="327" y="41"/>
                  </a:lnTo>
                  <a:lnTo>
                    <a:pt x="290" y="55"/>
                  </a:lnTo>
                  <a:lnTo>
                    <a:pt x="252" y="70"/>
                  </a:lnTo>
                  <a:lnTo>
                    <a:pt x="234" y="80"/>
                  </a:lnTo>
                  <a:lnTo>
                    <a:pt x="216" y="89"/>
                  </a:lnTo>
                  <a:lnTo>
                    <a:pt x="198" y="100"/>
                  </a:lnTo>
                  <a:lnTo>
                    <a:pt x="179" y="111"/>
                  </a:lnTo>
                  <a:lnTo>
                    <a:pt x="162" y="122"/>
                  </a:lnTo>
                  <a:lnTo>
                    <a:pt x="144" y="134"/>
                  </a:lnTo>
                  <a:lnTo>
                    <a:pt x="128" y="148"/>
                  </a:lnTo>
                  <a:lnTo>
                    <a:pt x="112" y="162"/>
                  </a:lnTo>
                  <a:lnTo>
                    <a:pt x="97" y="178"/>
                  </a:lnTo>
                  <a:lnTo>
                    <a:pt x="82" y="194"/>
                  </a:lnTo>
                  <a:lnTo>
                    <a:pt x="69" y="210"/>
                  </a:lnTo>
                  <a:lnTo>
                    <a:pt x="56" y="228"/>
                  </a:lnTo>
                  <a:lnTo>
                    <a:pt x="45" y="245"/>
                  </a:lnTo>
                  <a:lnTo>
                    <a:pt x="35" y="264"/>
                  </a:lnTo>
                  <a:lnTo>
                    <a:pt x="26" y="282"/>
                  </a:lnTo>
                  <a:lnTo>
                    <a:pt x="19" y="301"/>
                  </a:lnTo>
                  <a:lnTo>
                    <a:pt x="14" y="319"/>
                  </a:lnTo>
                  <a:lnTo>
                    <a:pt x="9" y="339"/>
                  </a:lnTo>
                  <a:lnTo>
                    <a:pt x="5" y="359"/>
                  </a:lnTo>
                  <a:lnTo>
                    <a:pt x="3" y="379"/>
                  </a:lnTo>
                  <a:lnTo>
                    <a:pt x="0" y="400"/>
                  </a:lnTo>
                  <a:lnTo>
                    <a:pt x="0" y="421"/>
                  </a:lnTo>
                  <a:lnTo>
                    <a:pt x="2" y="443"/>
                  </a:lnTo>
                  <a:lnTo>
                    <a:pt x="4" y="466"/>
                  </a:lnTo>
                  <a:lnTo>
                    <a:pt x="6" y="488"/>
                  </a:lnTo>
                  <a:lnTo>
                    <a:pt x="11" y="510"/>
                  </a:lnTo>
                  <a:lnTo>
                    <a:pt x="18" y="534"/>
                  </a:lnTo>
                  <a:lnTo>
                    <a:pt x="24" y="558"/>
                  </a:lnTo>
                  <a:lnTo>
                    <a:pt x="28" y="564"/>
                  </a:lnTo>
                  <a:lnTo>
                    <a:pt x="35" y="575"/>
                  </a:lnTo>
                  <a:lnTo>
                    <a:pt x="47" y="591"/>
                  </a:lnTo>
                  <a:lnTo>
                    <a:pt x="65" y="610"/>
                  </a:lnTo>
                  <a:lnTo>
                    <a:pt x="76" y="620"/>
                  </a:lnTo>
                  <a:lnTo>
                    <a:pt x="88" y="630"/>
                  </a:lnTo>
                  <a:lnTo>
                    <a:pt x="102" y="641"/>
                  </a:lnTo>
                  <a:lnTo>
                    <a:pt x="118" y="651"/>
                  </a:lnTo>
                  <a:lnTo>
                    <a:pt x="136" y="662"/>
                  </a:lnTo>
                  <a:lnTo>
                    <a:pt x="156" y="672"/>
                  </a:lnTo>
                  <a:lnTo>
                    <a:pt x="177" y="682"/>
                  </a:lnTo>
                  <a:lnTo>
                    <a:pt x="200" y="690"/>
                  </a:lnTo>
                  <a:lnTo>
                    <a:pt x="226" y="699"/>
                  </a:lnTo>
                  <a:lnTo>
                    <a:pt x="254" y="708"/>
                  </a:lnTo>
                  <a:lnTo>
                    <a:pt x="283" y="714"/>
                  </a:lnTo>
                  <a:lnTo>
                    <a:pt x="316" y="720"/>
                  </a:lnTo>
                  <a:lnTo>
                    <a:pt x="350" y="725"/>
                  </a:lnTo>
                  <a:lnTo>
                    <a:pt x="388" y="729"/>
                  </a:lnTo>
                  <a:lnTo>
                    <a:pt x="427" y="730"/>
                  </a:lnTo>
                  <a:lnTo>
                    <a:pt x="470" y="730"/>
                  </a:lnTo>
                  <a:lnTo>
                    <a:pt x="514" y="729"/>
                  </a:lnTo>
                  <a:lnTo>
                    <a:pt x="563" y="725"/>
                  </a:lnTo>
                  <a:lnTo>
                    <a:pt x="614" y="720"/>
                  </a:lnTo>
                  <a:lnTo>
                    <a:pt x="667" y="713"/>
                  </a:lnTo>
                  <a:lnTo>
                    <a:pt x="723" y="703"/>
                  </a:lnTo>
                  <a:lnTo>
                    <a:pt x="783" y="690"/>
                  </a:lnTo>
                  <a:lnTo>
                    <a:pt x="846" y="675"/>
                  </a:lnTo>
                  <a:lnTo>
                    <a:pt x="912" y="657"/>
                  </a:lnTo>
                  <a:lnTo>
                    <a:pt x="924" y="653"/>
                  </a:lnTo>
                  <a:lnTo>
                    <a:pt x="953" y="643"/>
                  </a:lnTo>
                  <a:lnTo>
                    <a:pt x="971" y="636"/>
                  </a:lnTo>
                  <a:lnTo>
                    <a:pt x="991" y="627"/>
                  </a:lnTo>
                  <a:lnTo>
                    <a:pt x="1012" y="616"/>
                  </a:lnTo>
                  <a:lnTo>
                    <a:pt x="1036" y="603"/>
                  </a:lnTo>
                  <a:lnTo>
                    <a:pt x="1058" y="589"/>
                  </a:lnTo>
                  <a:lnTo>
                    <a:pt x="1081" y="572"/>
                  </a:lnTo>
                  <a:lnTo>
                    <a:pt x="1091" y="564"/>
                  </a:lnTo>
                  <a:lnTo>
                    <a:pt x="1102" y="554"/>
                  </a:lnTo>
                  <a:lnTo>
                    <a:pt x="1112" y="544"/>
                  </a:lnTo>
                  <a:lnTo>
                    <a:pt x="1120" y="534"/>
                  </a:lnTo>
                  <a:lnTo>
                    <a:pt x="1130" y="523"/>
                  </a:lnTo>
                  <a:lnTo>
                    <a:pt x="1138" y="512"/>
                  </a:lnTo>
                  <a:lnTo>
                    <a:pt x="1145" y="500"/>
                  </a:lnTo>
                  <a:lnTo>
                    <a:pt x="1153" y="488"/>
                  </a:lnTo>
                  <a:lnTo>
                    <a:pt x="1159" y="476"/>
                  </a:lnTo>
                  <a:lnTo>
                    <a:pt x="1164" y="462"/>
                  </a:lnTo>
                  <a:lnTo>
                    <a:pt x="1168" y="448"/>
                  </a:lnTo>
                  <a:lnTo>
                    <a:pt x="1170" y="433"/>
                  </a:lnTo>
                  <a:lnTo>
                    <a:pt x="1172" y="412"/>
                  </a:lnTo>
                  <a:lnTo>
                    <a:pt x="1171" y="391"/>
                  </a:lnTo>
                  <a:lnTo>
                    <a:pt x="1169" y="370"/>
                  </a:lnTo>
                  <a:lnTo>
                    <a:pt x="1163" y="348"/>
                  </a:lnTo>
                  <a:lnTo>
                    <a:pt x="1155" y="327"/>
                  </a:lnTo>
                  <a:lnTo>
                    <a:pt x="1144" y="304"/>
                  </a:lnTo>
                  <a:lnTo>
                    <a:pt x="1132" y="282"/>
                  </a:lnTo>
                  <a:lnTo>
                    <a:pt x="1117" y="260"/>
                  </a:lnTo>
                  <a:lnTo>
                    <a:pt x="1098" y="236"/>
                  </a:lnTo>
                  <a:lnTo>
                    <a:pt x="1078" y="214"/>
                  </a:lnTo>
                  <a:lnTo>
                    <a:pt x="1055" y="190"/>
                  </a:lnTo>
                  <a:lnTo>
                    <a:pt x="1030" y="167"/>
                  </a:lnTo>
                  <a:lnTo>
                    <a:pt x="1001" y="143"/>
                  </a:lnTo>
                  <a:lnTo>
                    <a:pt x="971" y="120"/>
                  </a:lnTo>
                  <a:lnTo>
                    <a:pt x="938" y="96"/>
                  </a:lnTo>
                  <a:lnTo>
                    <a:pt x="903" y="72"/>
                  </a:lnTo>
                  <a:lnTo>
                    <a:pt x="896" y="69"/>
                  </a:lnTo>
                  <a:lnTo>
                    <a:pt x="889" y="66"/>
                  </a:lnTo>
                  <a:lnTo>
                    <a:pt x="883" y="66"/>
                  </a:lnTo>
                  <a:lnTo>
                    <a:pt x="876" y="66"/>
                  </a:lnTo>
                  <a:lnTo>
                    <a:pt x="870" y="69"/>
                  </a:lnTo>
                  <a:lnTo>
                    <a:pt x="863" y="72"/>
                  </a:lnTo>
                  <a:lnTo>
                    <a:pt x="858" y="76"/>
                  </a:lnTo>
                  <a:lnTo>
                    <a:pt x="853" y="82"/>
                  </a:lnTo>
                  <a:lnTo>
                    <a:pt x="850" y="89"/>
                  </a:lnTo>
                  <a:lnTo>
                    <a:pt x="848" y="95"/>
                  </a:lnTo>
                  <a:lnTo>
                    <a:pt x="847" y="102"/>
                  </a:lnTo>
                  <a:lnTo>
                    <a:pt x="848" y="108"/>
                  </a:lnTo>
                  <a:lnTo>
                    <a:pt x="850" y="116"/>
                  </a:lnTo>
                  <a:lnTo>
                    <a:pt x="853" y="122"/>
                  </a:lnTo>
                  <a:lnTo>
                    <a:pt x="858" y="127"/>
                  </a:lnTo>
                  <a:lnTo>
                    <a:pt x="863" y="132"/>
                  </a:lnTo>
                  <a:lnTo>
                    <a:pt x="893" y="152"/>
                  </a:lnTo>
                  <a:lnTo>
                    <a:pt x="922" y="173"/>
                  </a:lnTo>
                  <a:lnTo>
                    <a:pt x="948" y="193"/>
                  </a:lnTo>
                  <a:lnTo>
                    <a:pt x="973" y="213"/>
                  </a:lnTo>
                  <a:lnTo>
                    <a:pt x="995" y="231"/>
                  </a:lnTo>
                  <a:lnTo>
                    <a:pt x="1015" y="251"/>
                  </a:lnTo>
                  <a:lnTo>
                    <a:pt x="1033" y="270"/>
                  </a:lnTo>
                  <a:lnTo>
                    <a:pt x="1048" y="288"/>
                  </a:lnTo>
                  <a:lnTo>
                    <a:pt x="1063" y="307"/>
                  </a:lnTo>
                  <a:lnTo>
                    <a:pt x="1074" y="324"/>
                  </a:lnTo>
                  <a:lnTo>
                    <a:pt x="1084" y="342"/>
                  </a:lnTo>
                  <a:lnTo>
                    <a:pt x="1092" y="359"/>
                  </a:lnTo>
                  <a:lnTo>
                    <a:pt x="1097" y="375"/>
                  </a:lnTo>
                  <a:lnTo>
                    <a:pt x="1100" y="391"/>
                  </a:lnTo>
                  <a:lnTo>
                    <a:pt x="1100" y="407"/>
                  </a:lnTo>
                  <a:lnTo>
                    <a:pt x="1099" y="422"/>
                  </a:lnTo>
                  <a:lnTo>
                    <a:pt x="1098" y="431"/>
                  </a:lnTo>
                  <a:lnTo>
                    <a:pt x="1096" y="440"/>
                  </a:lnTo>
                  <a:lnTo>
                    <a:pt x="1093" y="447"/>
                  </a:lnTo>
                  <a:lnTo>
                    <a:pt x="1089" y="456"/>
                  </a:lnTo>
                  <a:lnTo>
                    <a:pt x="1079" y="471"/>
                  </a:lnTo>
                  <a:lnTo>
                    <a:pt x="1068" y="486"/>
                  </a:lnTo>
                  <a:lnTo>
                    <a:pt x="1056" y="499"/>
                  </a:lnTo>
                  <a:lnTo>
                    <a:pt x="1042" y="512"/>
                  </a:lnTo>
                  <a:lnTo>
                    <a:pt x="1026" y="524"/>
                  </a:lnTo>
                  <a:lnTo>
                    <a:pt x="1011" y="534"/>
                  </a:lnTo>
                  <a:lnTo>
                    <a:pt x="994" y="545"/>
                  </a:lnTo>
                  <a:lnTo>
                    <a:pt x="978" y="554"/>
                  </a:lnTo>
                  <a:lnTo>
                    <a:pt x="961" y="563"/>
                  </a:lnTo>
                  <a:lnTo>
                    <a:pt x="945" y="569"/>
                  </a:lnTo>
                  <a:lnTo>
                    <a:pt x="915" y="581"/>
                  </a:lnTo>
                  <a:lnTo>
                    <a:pt x="892" y="589"/>
                  </a:lnTo>
                  <a:lnTo>
                    <a:pt x="832" y="605"/>
                  </a:lnTo>
                  <a:lnTo>
                    <a:pt x="775" y="618"/>
                  </a:lnTo>
                  <a:lnTo>
                    <a:pt x="721" y="631"/>
                  </a:lnTo>
                  <a:lnTo>
                    <a:pt x="668" y="639"/>
                  </a:lnTo>
                  <a:lnTo>
                    <a:pt x="620" y="647"/>
                  </a:lnTo>
                  <a:lnTo>
                    <a:pt x="574" y="653"/>
                  </a:lnTo>
                  <a:lnTo>
                    <a:pt x="531" y="657"/>
                  </a:lnTo>
                  <a:lnTo>
                    <a:pt x="490" y="658"/>
                  </a:lnTo>
                  <a:lnTo>
                    <a:pt x="451" y="659"/>
                  </a:lnTo>
                  <a:lnTo>
                    <a:pt x="415" y="658"/>
                  </a:lnTo>
                  <a:lnTo>
                    <a:pt x="380" y="656"/>
                  </a:lnTo>
                  <a:lnTo>
                    <a:pt x="349" y="653"/>
                  </a:lnTo>
                  <a:lnTo>
                    <a:pt x="319" y="648"/>
                  </a:lnTo>
                  <a:lnTo>
                    <a:pt x="292" y="643"/>
                  </a:lnTo>
                  <a:lnTo>
                    <a:pt x="267" y="637"/>
                  </a:lnTo>
                  <a:lnTo>
                    <a:pt x="245" y="631"/>
                  </a:lnTo>
                  <a:lnTo>
                    <a:pt x="224" y="623"/>
                  </a:lnTo>
                  <a:lnTo>
                    <a:pt x="204" y="616"/>
                  </a:lnTo>
                  <a:lnTo>
                    <a:pt x="187" y="607"/>
                  </a:lnTo>
                  <a:lnTo>
                    <a:pt x="170" y="598"/>
                  </a:lnTo>
                  <a:lnTo>
                    <a:pt x="157" y="591"/>
                  </a:lnTo>
                  <a:lnTo>
                    <a:pt x="143" y="582"/>
                  </a:lnTo>
                  <a:lnTo>
                    <a:pt x="133" y="575"/>
                  </a:lnTo>
                  <a:lnTo>
                    <a:pt x="123" y="566"/>
                  </a:lnTo>
                  <a:lnTo>
                    <a:pt x="108" y="553"/>
                  </a:lnTo>
                  <a:lnTo>
                    <a:pt x="97" y="541"/>
                  </a:lnTo>
                  <a:lnTo>
                    <a:pt x="92" y="534"/>
                  </a:lnTo>
                  <a:lnTo>
                    <a:pt x="90" y="530"/>
                  </a:lnTo>
                  <a:lnTo>
                    <a:pt x="85" y="512"/>
                  </a:lnTo>
                  <a:lnTo>
                    <a:pt x="80" y="493"/>
                  </a:lnTo>
                  <a:lnTo>
                    <a:pt x="76" y="476"/>
                  </a:lnTo>
                  <a:lnTo>
                    <a:pt x="74" y="457"/>
                  </a:lnTo>
                  <a:lnTo>
                    <a:pt x="72" y="440"/>
                  </a:lnTo>
                  <a:lnTo>
                    <a:pt x="71" y="422"/>
                  </a:lnTo>
                  <a:lnTo>
                    <a:pt x="72" y="406"/>
                  </a:lnTo>
                  <a:lnTo>
                    <a:pt x="72" y="389"/>
                  </a:lnTo>
                  <a:lnTo>
                    <a:pt x="75" y="373"/>
                  </a:lnTo>
                  <a:lnTo>
                    <a:pt x="77" y="357"/>
                  </a:lnTo>
                  <a:lnTo>
                    <a:pt x="82" y="340"/>
                  </a:lnTo>
                  <a:lnTo>
                    <a:pt x="86" y="326"/>
                  </a:lnTo>
                  <a:lnTo>
                    <a:pt x="92" y="311"/>
                  </a:lnTo>
                  <a:lnTo>
                    <a:pt x="98" y="296"/>
                  </a:lnTo>
                  <a:lnTo>
                    <a:pt x="107" y="282"/>
                  </a:lnTo>
                  <a:lnTo>
                    <a:pt x="115" y="267"/>
                  </a:lnTo>
                  <a:lnTo>
                    <a:pt x="126" y="252"/>
                  </a:lnTo>
                  <a:lnTo>
                    <a:pt x="138" y="237"/>
                  </a:lnTo>
                  <a:lnTo>
                    <a:pt x="151" y="224"/>
                  </a:lnTo>
                  <a:lnTo>
                    <a:pt x="164" y="211"/>
                  </a:lnTo>
                  <a:lnTo>
                    <a:pt x="178" y="199"/>
                  </a:lnTo>
                  <a:lnTo>
                    <a:pt x="193" y="188"/>
                  </a:lnTo>
                  <a:lnTo>
                    <a:pt x="209" y="177"/>
                  </a:lnTo>
                  <a:lnTo>
                    <a:pt x="224" y="167"/>
                  </a:lnTo>
                  <a:lnTo>
                    <a:pt x="256" y="148"/>
                  </a:lnTo>
                  <a:lnTo>
                    <a:pt x="290" y="132"/>
                  </a:lnTo>
                  <a:lnTo>
                    <a:pt x="323" y="118"/>
                  </a:lnTo>
                  <a:lnTo>
                    <a:pt x="357" y="107"/>
                  </a:lnTo>
                  <a:lnTo>
                    <a:pt x="388" y="97"/>
                  </a:lnTo>
                  <a:lnTo>
                    <a:pt x="418" y="90"/>
                  </a:lnTo>
                  <a:lnTo>
                    <a:pt x="445" y="84"/>
                  </a:lnTo>
                  <a:lnTo>
                    <a:pt x="468" y="79"/>
                  </a:lnTo>
                  <a:lnTo>
                    <a:pt x="503" y="72"/>
                  </a:lnTo>
                  <a:lnTo>
                    <a:pt x="517" y="71"/>
                  </a:lnTo>
                  <a:lnTo>
                    <a:pt x="524" y="70"/>
                  </a:lnTo>
                  <a:lnTo>
                    <a:pt x="531" y="66"/>
                  </a:lnTo>
                  <a:lnTo>
                    <a:pt x="535" y="63"/>
                  </a:lnTo>
                  <a:lnTo>
                    <a:pt x="540" y="58"/>
                  </a:lnTo>
                  <a:lnTo>
                    <a:pt x="544" y="53"/>
                  </a:lnTo>
                  <a:lnTo>
                    <a:pt x="547" y="46"/>
                  </a:lnTo>
                  <a:lnTo>
                    <a:pt x="549" y="39"/>
                  </a:lnTo>
                  <a:lnTo>
                    <a:pt x="549" y="32"/>
                  </a:lnTo>
                  <a:lnTo>
                    <a:pt x="548" y="25"/>
                  </a:lnTo>
                  <a:lnTo>
                    <a:pt x="544" y="19"/>
                  </a:lnTo>
                  <a:lnTo>
                    <a:pt x="540" y="13"/>
                  </a:lnTo>
                  <a:lnTo>
                    <a:pt x="535" y="8"/>
                  </a:lnTo>
                  <a:lnTo>
                    <a:pt x="531" y="4"/>
                  </a:lnTo>
                  <a:lnTo>
                    <a:pt x="524" y="2"/>
                  </a:lnTo>
                  <a:lnTo>
                    <a:pt x="517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214280" y="3208320"/>
              <a:ext cx="733680" cy="322200"/>
            </a:xfrm>
            <a:custGeom>
              <a:avLst/>
              <a:gdLst/>
              <a:ahLst/>
              <a:rect l="l" t="t" r="r" b="b"/>
              <a:pathLst>
                <a:path w="1849" h="809">
                  <a:moveTo>
                    <a:pt x="238" y="57"/>
                  </a:moveTo>
                  <a:lnTo>
                    <a:pt x="234" y="65"/>
                  </a:lnTo>
                  <a:lnTo>
                    <a:pt x="224" y="83"/>
                  </a:lnTo>
                  <a:lnTo>
                    <a:pt x="215" y="95"/>
                  </a:lnTo>
                  <a:lnTo>
                    <a:pt x="205" y="108"/>
                  </a:lnTo>
                  <a:lnTo>
                    <a:pt x="194" y="123"/>
                  </a:lnTo>
                  <a:lnTo>
                    <a:pt x="180" y="137"/>
                  </a:lnTo>
                  <a:lnTo>
                    <a:pt x="164" y="152"/>
                  </a:lnTo>
                  <a:lnTo>
                    <a:pt x="147" y="165"/>
                  </a:lnTo>
                  <a:lnTo>
                    <a:pt x="127" y="179"/>
                  </a:lnTo>
                  <a:lnTo>
                    <a:pt x="106" y="190"/>
                  </a:lnTo>
                  <a:lnTo>
                    <a:pt x="95" y="195"/>
                  </a:lnTo>
                  <a:lnTo>
                    <a:pt x="82" y="199"/>
                  </a:lnTo>
                  <a:lnTo>
                    <a:pt x="70" y="202"/>
                  </a:lnTo>
                  <a:lnTo>
                    <a:pt x="58" y="205"/>
                  </a:lnTo>
                  <a:lnTo>
                    <a:pt x="44" y="207"/>
                  </a:lnTo>
                  <a:lnTo>
                    <a:pt x="30" y="209"/>
                  </a:lnTo>
                  <a:lnTo>
                    <a:pt x="15" y="210"/>
                  </a:lnTo>
                  <a:lnTo>
                    <a:pt x="0" y="209"/>
                  </a:lnTo>
                  <a:lnTo>
                    <a:pt x="12" y="225"/>
                  </a:lnTo>
                  <a:lnTo>
                    <a:pt x="44" y="266"/>
                  </a:lnTo>
                  <a:lnTo>
                    <a:pt x="66" y="296"/>
                  </a:lnTo>
                  <a:lnTo>
                    <a:pt x="95" y="328"/>
                  </a:lnTo>
                  <a:lnTo>
                    <a:pt x="127" y="365"/>
                  </a:lnTo>
                  <a:lnTo>
                    <a:pt x="163" y="403"/>
                  </a:lnTo>
                  <a:lnTo>
                    <a:pt x="203" y="446"/>
                  </a:lnTo>
                  <a:lnTo>
                    <a:pt x="248" y="488"/>
                  </a:lnTo>
                  <a:lnTo>
                    <a:pt x="295" y="530"/>
                  </a:lnTo>
                  <a:lnTo>
                    <a:pt x="346" y="573"/>
                  </a:lnTo>
                  <a:lnTo>
                    <a:pt x="400" y="614"/>
                  </a:lnTo>
                  <a:lnTo>
                    <a:pt x="457" y="654"/>
                  </a:lnTo>
                  <a:lnTo>
                    <a:pt x="517" y="690"/>
                  </a:lnTo>
                  <a:lnTo>
                    <a:pt x="579" y="724"/>
                  </a:lnTo>
                  <a:lnTo>
                    <a:pt x="644" y="752"/>
                  </a:lnTo>
                  <a:lnTo>
                    <a:pt x="711" y="776"/>
                  </a:lnTo>
                  <a:lnTo>
                    <a:pt x="779" y="794"/>
                  </a:lnTo>
                  <a:lnTo>
                    <a:pt x="850" y="805"/>
                  </a:lnTo>
                  <a:lnTo>
                    <a:pt x="922" y="809"/>
                  </a:lnTo>
                  <a:lnTo>
                    <a:pt x="995" y="804"/>
                  </a:lnTo>
                  <a:lnTo>
                    <a:pt x="1070" y="792"/>
                  </a:lnTo>
                  <a:lnTo>
                    <a:pt x="1145" y="768"/>
                  </a:lnTo>
                  <a:lnTo>
                    <a:pt x="1221" y="736"/>
                  </a:lnTo>
                  <a:lnTo>
                    <a:pt x="1297" y="691"/>
                  </a:lnTo>
                  <a:lnTo>
                    <a:pt x="1374" y="634"/>
                  </a:lnTo>
                  <a:lnTo>
                    <a:pt x="1451" y="565"/>
                  </a:lnTo>
                  <a:lnTo>
                    <a:pt x="1528" y="482"/>
                  </a:lnTo>
                  <a:lnTo>
                    <a:pt x="1605" y="384"/>
                  </a:lnTo>
                  <a:lnTo>
                    <a:pt x="1681" y="272"/>
                  </a:lnTo>
                  <a:lnTo>
                    <a:pt x="1755" y="143"/>
                  </a:lnTo>
                  <a:lnTo>
                    <a:pt x="1849" y="133"/>
                  </a:lnTo>
                  <a:lnTo>
                    <a:pt x="1841" y="133"/>
                  </a:lnTo>
                  <a:lnTo>
                    <a:pt x="1817" y="130"/>
                  </a:lnTo>
                  <a:lnTo>
                    <a:pt x="1801" y="128"/>
                  </a:lnTo>
                  <a:lnTo>
                    <a:pt x="1782" y="124"/>
                  </a:lnTo>
                  <a:lnTo>
                    <a:pt x="1764" y="119"/>
                  </a:lnTo>
                  <a:lnTo>
                    <a:pt x="1744" y="113"/>
                  </a:lnTo>
                  <a:lnTo>
                    <a:pt x="1723" y="106"/>
                  </a:lnTo>
                  <a:lnTo>
                    <a:pt x="1703" y="97"/>
                  </a:lnTo>
                  <a:lnTo>
                    <a:pt x="1693" y="92"/>
                  </a:lnTo>
                  <a:lnTo>
                    <a:pt x="1683" y="86"/>
                  </a:lnTo>
                  <a:lnTo>
                    <a:pt x="1674" y="80"/>
                  </a:lnTo>
                  <a:lnTo>
                    <a:pt x="1666" y="73"/>
                  </a:lnTo>
                  <a:lnTo>
                    <a:pt x="1658" y="66"/>
                  </a:lnTo>
                  <a:lnTo>
                    <a:pt x="1651" y="59"/>
                  </a:lnTo>
                  <a:lnTo>
                    <a:pt x="1643" y="51"/>
                  </a:lnTo>
                  <a:lnTo>
                    <a:pt x="1637" y="42"/>
                  </a:lnTo>
                  <a:lnTo>
                    <a:pt x="1632" y="32"/>
                  </a:lnTo>
                  <a:lnTo>
                    <a:pt x="1628" y="23"/>
                  </a:lnTo>
                  <a:lnTo>
                    <a:pt x="1625" y="13"/>
                  </a:lnTo>
                  <a:lnTo>
                    <a:pt x="1622" y="0"/>
                  </a:lnTo>
                  <a:lnTo>
                    <a:pt x="1618" y="4"/>
                  </a:lnTo>
                  <a:lnTo>
                    <a:pt x="1610" y="10"/>
                  </a:lnTo>
                  <a:lnTo>
                    <a:pt x="1604" y="16"/>
                  </a:lnTo>
                  <a:lnTo>
                    <a:pt x="1599" y="23"/>
                  </a:lnTo>
                  <a:lnTo>
                    <a:pt x="1594" y="30"/>
                  </a:lnTo>
                  <a:lnTo>
                    <a:pt x="1589" y="37"/>
                  </a:lnTo>
                  <a:lnTo>
                    <a:pt x="1586" y="46"/>
                  </a:lnTo>
                  <a:lnTo>
                    <a:pt x="1585" y="56"/>
                  </a:lnTo>
                  <a:lnTo>
                    <a:pt x="1586" y="61"/>
                  </a:lnTo>
                  <a:lnTo>
                    <a:pt x="1586" y="66"/>
                  </a:lnTo>
                  <a:lnTo>
                    <a:pt x="1587" y="71"/>
                  </a:lnTo>
                  <a:lnTo>
                    <a:pt x="1590" y="77"/>
                  </a:lnTo>
                  <a:lnTo>
                    <a:pt x="1594" y="82"/>
                  </a:lnTo>
                  <a:lnTo>
                    <a:pt x="1597" y="88"/>
                  </a:lnTo>
                  <a:lnTo>
                    <a:pt x="1602" y="95"/>
                  </a:lnTo>
                  <a:lnTo>
                    <a:pt x="1607" y="99"/>
                  </a:lnTo>
                  <a:lnTo>
                    <a:pt x="1622" y="112"/>
                  </a:lnTo>
                  <a:lnTo>
                    <a:pt x="1641" y="124"/>
                  </a:lnTo>
                  <a:lnTo>
                    <a:pt x="1669" y="133"/>
                  </a:lnTo>
                  <a:lnTo>
                    <a:pt x="1664" y="147"/>
                  </a:lnTo>
                  <a:lnTo>
                    <a:pt x="1647" y="183"/>
                  </a:lnTo>
                  <a:lnTo>
                    <a:pt x="1633" y="207"/>
                  </a:lnTo>
                  <a:lnTo>
                    <a:pt x="1618" y="236"/>
                  </a:lnTo>
                  <a:lnTo>
                    <a:pt x="1599" y="268"/>
                  </a:lnTo>
                  <a:lnTo>
                    <a:pt x="1577" y="302"/>
                  </a:lnTo>
                  <a:lnTo>
                    <a:pt x="1553" y="338"/>
                  </a:lnTo>
                  <a:lnTo>
                    <a:pt x="1525" y="376"/>
                  </a:lnTo>
                  <a:lnTo>
                    <a:pt x="1494" y="413"/>
                  </a:lnTo>
                  <a:lnTo>
                    <a:pt x="1461" y="452"/>
                  </a:lnTo>
                  <a:lnTo>
                    <a:pt x="1423" y="490"/>
                  </a:lnTo>
                  <a:lnTo>
                    <a:pt x="1384" y="526"/>
                  </a:lnTo>
                  <a:lnTo>
                    <a:pt x="1340" y="561"/>
                  </a:lnTo>
                  <a:lnTo>
                    <a:pt x="1294" y="593"/>
                  </a:lnTo>
                  <a:lnTo>
                    <a:pt x="1245" y="622"/>
                  </a:lnTo>
                  <a:lnTo>
                    <a:pt x="1193" y="647"/>
                  </a:lnTo>
                  <a:lnTo>
                    <a:pt x="1137" y="668"/>
                  </a:lnTo>
                  <a:lnTo>
                    <a:pt x="1077" y="684"/>
                  </a:lnTo>
                  <a:lnTo>
                    <a:pt x="1015" y="694"/>
                  </a:lnTo>
                  <a:lnTo>
                    <a:pt x="950" y="699"/>
                  </a:lnTo>
                  <a:lnTo>
                    <a:pt x="881" y="695"/>
                  </a:lnTo>
                  <a:lnTo>
                    <a:pt x="810" y="685"/>
                  </a:lnTo>
                  <a:lnTo>
                    <a:pt x="734" y="666"/>
                  </a:lnTo>
                  <a:lnTo>
                    <a:pt x="656" y="639"/>
                  </a:lnTo>
                  <a:lnTo>
                    <a:pt x="574" y="603"/>
                  </a:lnTo>
                  <a:lnTo>
                    <a:pt x="490" y="556"/>
                  </a:lnTo>
                  <a:lnTo>
                    <a:pt x="400" y="499"/>
                  </a:lnTo>
                  <a:lnTo>
                    <a:pt x="308" y="430"/>
                  </a:lnTo>
                  <a:lnTo>
                    <a:pt x="214" y="350"/>
                  </a:lnTo>
                  <a:lnTo>
                    <a:pt x="115" y="257"/>
                  </a:lnTo>
                  <a:lnTo>
                    <a:pt x="122" y="253"/>
                  </a:lnTo>
                  <a:lnTo>
                    <a:pt x="143" y="245"/>
                  </a:lnTo>
                  <a:lnTo>
                    <a:pt x="157" y="237"/>
                  </a:lnTo>
                  <a:lnTo>
                    <a:pt x="172" y="229"/>
                  </a:lnTo>
                  <a:lnTo>
                    <a:pt x="187" y="219"/>
                  </a:lnTo>
                  <a:lnTo>
                    <a:pt x="202" y="207"/>
                  </a:lnTo>
                  <a:lnTo>
                    <a:pt x="215" y="194"/>
                  </a:lnTo>
                  <a:lnTo>
                    <a:pt x="228" y="179"/>
                  </a:lnTo>
                  <a:lnTo>
                    <a:pt x="234" y="171"/>
                  </a:lnTo>
                  <a:lnTo>
                    <a:pt x="239" y="163"/>
                  </a:lnTo>
                  <a:lnTo>
                    <a:pt x="243" y="154"/>
                  </a:lnTo>
                  <a:lnTo>
                    <a:pt x="246" y="144"/>
                  </a:lnTo>
                  <a:lnTo>
                    <a:pt x="250" y="135"/>
                  </a:lnTo>
                  <a:lnTo>
                    <a:pt x="251" y="126"/>
                  </a:lnTo>
                  <a:lnTo>
                    <a:pt x="253" y="116"/>
                  </a:lnTo>
                  <a:lnTo>
                    <a:pt x="251" y="104"/>
                  </a:lnTo>
                  <a:lnTo>
                    <a:pt x="250" y="93"/>
                  </a:lnTo>
                  <a:lnTo>
                    <a:pt x="248" y="82"/>
                  </a:lnTo>
                  <a:lnTo>
                    <a:pt x="244" y="70"/>
                  </a:lnTo>
                  <a:lnTo>
                    <a:pt x="238" y="5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1131840" y="2824200"/>
              <a:ext cx="154080" cy="98280"/>
            </a:xfrm>
            <a:custGeom>
              <a:avLst/>
              <a:gdLst/>
              <a:ahLst/>
              <a:rect l="l" t="t" r="r" b="b"/>
              <a:pathLst>
                <a:path w="386" h="249">
                  <a:moveTo>
                    <a:pt x="382" y="40"/>
                  </a:moveTo>
                  <a:lnTo>
                    <a:pt x="385" y="49"/>
                  </a:lnTo>
                  <a:lnTo>
                    <a:pt x="386" y="60"/>
                  </a:lnTo>
                  <a:lnTo>
                    <a:pt x="385" y="70"/>
                  </a:lnTo>
                  <a:lnTo>
                    <a:pt x="383" y="81"/>
                  </a:lnTo>
                  <a:lnTo>
                    <a:pt x="379" y="94"/>
                  </a:lnTo>
                  <a:lnTo>
                    <a:pt x="373" y="105"/>
                  </a:lnTo>
                  <a:lnTo>
                    <a:pt x="365" y="117"/>
                  </a:lnTo>
                  <a:lnTo>
                    <a:pt x="355" y="128"/>
                  </a:lnTo>
                  <a:lnTo>
                    <a:pt x="346" y="141"/>
                  </a:lnTo>
                  <a:lnTo>
                    <a:pt x="333" y="152"/>
                  </a:lnTo>
                  <a:lnTo>
                    <a:pt x="319" y="164"/>
                  </a:lnTo>
                  <a:lnTo>
                    <a:pt x="305" y="175"/>
                  </a:lnTo>
                  <a:lnTo>
                    <a:pt x="288" y="187"/>
                  </a:lnTo>
                  <a:lnTo>
                    <a:pt x="272" y="197"/>
                  </a:lnTo>
                  <a:lnTo>
                    <a:pt x="254" y="206"/>
                  </a:lnTo>
                  <a:lnTo>
                    <a:pt x="235" y="215"/>
                  </a:lnTo>
                  <a:lnTo>
                    <a:pt x="215" y="224"/>
                  </a:lnTo>
                  <a:lnTo>
                    <a:pt x="196" y="230"/>
                  </a:lnTo>
                  <a:lnTo>
                    <a:pt x="177" y="236"/>
                  </a:lnTo>
                  <a:lnTo>
                    <a:pt x="158" y="241"/>
                  </a:lnTo>
                  <a:lnTo>
                    <a:pt x="139" y="245"/>
                  </a:lnTo>
                  <a:lnTo>
                    <a:pt x="122" y="247"/>
                  </a:lnTo>
                  <a:lnTo>
                    <a:pt x="106" y="249"/>
                  </a:lnTo>
                  <a:lnTo>
                    <a:pt x="90" y="249"/>
                  </a:lnTo>
                  <a:lnTo>
                    <a:pt x="75" y="249"/>
                  </a:lnTo>
                  <a:lnTo>
                    <a:pt x="60" y="246"/>
                  </a:lnTo>
                  <a:lnTo>
                    <a:pt x="47" y="242"/>
                  </a:lnTo>
                  <a:lnTo>
                    <a:pt x="36" y="239"/>
                  </a:lnTo>
                  <a:lnTo>
                    <a:pt x="26" y="232"/>
                  </a:lnTo>
                  <a:lnTo>
                    <a:pt x="18" y="226"/>
                  </a:lnTo>
                  <a:lnTo>
                    <a:pt x="10" y="219"/>
                  </a:lnTo>
                  <a:lnTo>
                    <a:pt x="5" y="210"/>
                  </a:lnTo>
                  <a:lnTo>
                    <a:pt x="2" y="200"/>
                  </a:lnTo>
                  <a:lnTo>
                    <a:pt x="0" y="190"/>
                  </a:lnTo>
                  <a:lnTo>
                    <a:pt x="2" y="179"/>
                  </a:lnTo>
                  <a:lnTo>
                    <a:pt x="4" y="168"/>
                  </a:lnTo>
                  <a:lnTo>
                    <a:pt x="9" y="157"/>
                  </a:lnTo>
                  <a:lnTo>
                    <a:pt x="14" y="144"/>
                  </a:lnTo>
                  <a:lnTo>
                    <a:pt x="23" y="133"/>
                  </a:lnTo>
                  <a:lnTo>
                    <a:pt x="31" y="121"/>
                  </a:lnTo>
                  <a:lnTo>
                    <a:pt x="43" y="108"/>
                  </a:lnTo>
                  <a:lnTo>
                    <a:pt x="54" y="97"/>
                  </a:lnTo>
                  <a:lnTo>
                    <a:pt x="67" y="86"/>
                  </a:lnTo>
                  <a:lnTo>
                    <a:pt x="82" y="74"/>
                  </a:lnTo>
                  <a:lnTo>
                    <a:pt x="98" y="64"/>
                  </a:lnTo>
                  <a:lnTo>
                    <a:pt x="116" y="53"/>
                  </a:lnTo>
                  <a:lnTo>
                    <a:pt x="133" y="43"/>
                  </a:lnTo>
                  <a:lnTo>
                    <a:pt x="153" y="34"/>
                  </a:lnTo>
                  <a:lnTo>
                    <a:pt x="172" y="25"/>
                  </a:lnTo>
                  <a:lnTo>
                    <a:pt x="192" y="19"/>
                  </a:lnTo>
                  <a:lnTo>
                    <a:pt x="210" y="13"/>
                  </a:lnTo>
                  <a:lnTo>
                    <a:pt x="229" y="8"/>
                  </a:lnTo>
                  <a:lnTo>
                    <a:pt x="247" y="4"/>
                  </a:lnTo>
                  <a:lnTo>
                    <a:pt x="265" y="2"/>
                  </a:lnTo>
                  <a:lnTo>
                    <a:pt x="282" y="0"/>
                  </a:lnTo>
                  <a:lnTo>
                    <a:pt x="298" y="0"/>
                  </a:lnTo>
                  <a:lnTo>
                    <a:pt x="313" y="2"/>
                  </a:lnTo>
                  <a:lnTo>
                    <a:pt x="327" y="3"/>
                  </a:lnTo>
                  <a:lnTo>
                    <a:pt x="339" y="7"/>
                  </a:lnTo>
                  <a:lnTo>
                    <a:pt x="352" y="12"/>
                  </a:lnTo>
                  <a:lnTo>
                    <a:pt x="362" y="17"/>
                  </a:lnTo>
                  <a:lnTo>
                    <a:pt x="370" y="23"/>
                  </a:lnTo>
                  <a:lnTo>
                    <a:pt x="377" y="30"/>
                  </a:lnTo>
                  <a:lnTo>
                    <a:pt x="382" y="4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147680" y="2835360"/>
              <a:ext cx="122400" cy="77760"/>
            </a:xfrm>
            <a:custGeom>
              <a:avLst/>
              <a:gdLst/>
              <a:ahLst/>
              <a:rect l="l" t="t" r="r" b="b"/>
              <a:pathLst>
                <a:path w="308" h="199">
                  <a:moveTo>
                    <a:pt x="304" y="31"/>
                  </a:moveTo>
                  <a:lnTo>
                    <a:pt x="307" y="40"/>
                  </a:lnTo>
                  <a:lnTo>
                    <a:pt x="308" y="47"/>
                  </a:lnTo>
                  <a:lnTo>
                    <a:pt x="307" y="56"/>
                  </a:lnTo>
                  <a:lnTo>
                    <a:pt x="306" y="65"/>
                  </a:lnTo>
                  <a:lnTo>
                    <a:pt x="302" y="75"/>
                  </a:lnTo>
                  <a:lnTo>
                    <a:pt x="297" y="83"/>
                  </a:lnTo>
                  <a:lnTo>
                    <a:pt x="291" y="93"/>
                  </a:lnTo>
                  <a:lnTo>
                    <a:pt x="283" y="103"/>
                  </a:lnTo>
                  <a:lnTo>
                    <a:pt x="274" y="112"/>
                  </a:lnTo>
                  <a:lnTo>
                    <a:pt x="265" y="122"/>
                  </a:lnTo>
                  <a:lnTo>
                    <a:pt x="255" y="131"/>
                  </a:lnTo>
                  <a:lnTo>
                    <a:pt x="242" y="140"/>
                  </a:lnTo>
                  <a:lnTo>
                    <a:pt x="230" y="149"/>
                  </a:lnTo>
                  <a:lnTo>
                    <a:pt x="216" y="157"/>
                  </a:lnTo>
                  <a:lnTo>
                    <a:pt x="201" y="165"/>
                  </a:lnTo>
                  <a:lnTo>
                    <a:pt x="186" y="173"/>
                  </a:lnTo>
                  <a:lnTo>
                    <a:pt x="171" y="179"/>
                  </a:lnTo>
                  <a:lnTo>
                    <a:pt x="155" y="184"/>
                  </a:lnTo>
                  <a:lnTo>
                    <a:pt x="140" y="189"/>
                  </a:lnTo>
                  <a:lnTo>
                    <a:pt x="125" y="193"/>
                  </a:lnTo>
                  <a:lnTo>
                    <a:pt x="111" y="196"/>
                  </a:lnTo>
                  <a:lnTo>
                    <a:pt x="97" y="198"/>
                  </a:lnTo>
                  <a:lnTo>
                    <a:pt x="83" y="199"/>
                  </a:lnTo>
                  <a:lnTo>
                    <a:pt x="71" y="199"/>
                  </a:lnTo>
                  <a:lnTo>
                    <a:pt x="58" y="199"/>
                  </a:lnTo>
                  <a:lnTo>
                    <a:pt x="47" y="196"/>
                  </a:lnTo>
                  <a:lnTo>
                    <a:pt x="37" y="194"/>
                  </a:lnTo>
                  <a:lnTo>
                    <a:pt x="27" y="190"/>
                  </a:lnTo>
                  <a:lnTo>
                    <a:pt x="20" y="186"/>
                  </a:lnTo>
                  <a:lnTo>
                    <a:pt x="12" y="181"/>
                  </a:lnTo>
                  <a:lnTo>
                    <a:pt x="7" y="175"/>
                  </a:lnTo>
                  <a:lnTo>
                    <a:pt x="3" y="168"/>
                  </a:lnTo>
                  <a:lnTo>
                    <a:pt x="0" y="160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3" y="134"/>
                  </a:lnTo>
                  <a:lnTo>
                    <a:pt x="5" y="124"/>
                  </a:lnTo>
                  <a:lnTo>
                    <a:pt x="10" y="116"/>
                  </a:lnTo>
                  <a:lnTo>
                    <a:pt x="16" y="106"/>
                  </a:lnTo>
                  <a:lnTo>
                    <a:pt x="24" y="97"/>
                  </a:lnTo>
                  <a:lnTo>
                    <a:pt x="32" y="87"/>
                  </a:lnTo>
                  <a:lnTo>
                    <a:pt x="42" y="77"/>
                  </a:lnTo>
                  <a:lnTo>
                    <a:pt x="53" y="69"/>
                  </a:lnTo>
                  <a:lnTo>
                    <a:pt x="65" y="60"/>
                  </a:lnTo>
                  <a:lnTo>
                    <a:pt x="77" y="51"/>
                  </a:lnTo>
                  <a:lnTo>
                    <a:pt x="91" y="42"/>
                  </a:lnTo>
                  <a:lnTo>
                    <a:pt x="106" y="35"/>
                  </a:lnTo>
                  <a:lnTo>
                    <a:pt x="120" y="28"/>
                  </a:lnTo>
                  <a:lnTo>
                    <a:pt x="137" y="20"/>
                  </a:lnTo>
                  <a:lnTo>
                    <a:pt x="152" y="15"/>
                  </a:lnTo>
                  <a:lnTo>
                    <a:pt x="168" y="10"/>
                  </a:lnTo>
                  <a:lnTo>
                    <a:pt x="183" y="6"/>
                  </a:lnTo>
                  <a:lnTo>
                    <a:pt x="196" y="4"/>
                  </a:lnTo>
                  <a:lnTo>
                    <a:pt x="211" y="2"/>
                  </a:lnTo>
                  <a:lnTo>
                    <a:pt x="225" y="0"/>
                  </a:lnTo>
                  <a:lnTo>
                    <a:pt x="237" y="0"/>
                  </a:lnTo>
                  <a:lnTo>
                    <a:pt x="250" y="2"/>
                  </a:lnTo>
                  <a:lnTo>
                    <a:pt x="261" y="3"/>
                  </a:lnTo>
                  <a:lnTo>
                    <a:pt x="271" y="5"/>
                  </a:lnTo>
                  <a:lnTo>
                    <a:pt x="279" y="9"/>
                  </a:lnTo>
                  <a:lnTo>
                    <a:pt x="288" y="13"/>
                  </a:lnTo>
                  <a:lnTo>
                    <a:pt x="294" y="19"/>
                  </a:lnTo>
                  <a:lnTo>
                    <a:pt x="301" y="25"/>
                  </a:lnTo>
                  <a:lnTo>
                    <a:pt x="304" y="3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1165320" y="2846520"/>
              <a:ext cx="87120" cy="55440"/>
            </a:xfrm>
            <a:custGeom>
              <a:avLst/>
              <a:gdLst/>
              <a:ahLst/>
              <a:rect l="l" t="t" r="r" b="b"/>
              <a:pathLst>
                <a:path w="216" h="139">
                  <a:moveTo>
                    <a:pt x="214" y="22"/>
                  </a:moveTo>
                  <a:lnTo>
                    <a:pt x="215" y="27"/>
                  </a:lnTo>
                  <a:lnTo>
                    <a:pt x="216" y="34"/>
                  </a:lnTo>
                  <a:lnTo>
                    <a:pt x="215" y="40"/>
                  </a:lnTo>
                  <a:lnTo>
                    <a:pt x="214" y="46"/>
                  </a:lnTo>
                  <a:lnTo>
                    <a:pt x="211" y="52"/>
                  </a:lnTo>
                  <a:lnTo>
                    <a:pt x="207" y="58"/>
                  </a:lnTo>
                  <a:lnTo>
                    <a:pt x="204" y="66"/>
                  </a:lnTo>
                  <a:lnTo>
                    <a:pt x="199" y="72"/>
                  </a:lnTo>
                  <a:lnTo>
                    <a:pt x="185" y="86"/>
                  </a:lnTo>
                  <a:lnTo>
                    <a:pt x="170" y="98"/>
                  </a:lnTo>
                  <a:lnTo>
                    <a:pt x="151" y="109"/>
                  </a:lnTo>
                  <a:lnTo>
                    <a:pt x="130" y="120"/>
                  </a:lnTo>
                  <a:lnTo>
                    <a:pt x="109" y="129"/>
                  </a:lnTo>
                  <a:lnTo>
                    <a:pt x="88" y="135"/>
                  </a:lnTo>
                  <a:lnTo>
                    <a:pt x="68" y="139"/>
                  </a:lnTo>
                  <a:lnTo>
                    <a:pt x="50" y="139"/>
                  </a:lnTo>
                  <a:lnTo>
                    <a:pt x="41" y="139"/>
                  </a:lnTo>
                  <a:lnTo>
                    <a:pt x="34" y="138"/>
                  </a:lnTo>
                  <a:lnTo>
                    <a:pt x="26" y="135"/>
                  </a:lnTo>
                  <a:lnTo>
                    <a:pt x="20" y="133"/>
                  </a:lnTo>
                  <a:lnTo>
                    <a:pt x="14" y="130"/>
                  </a:lnTo>
                  <a:lnTo>
                    <a:pt x="9" y="127"/>
                  </a:lnTo>
                  <a:lnTo>
                    <a:pt x="5" y="122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7" y="81"/>
                  </a:lnTo>
                  <a:lnTo>
                    <a:pt x="11" y="75"/>
                  </a:lnTo>
                  <a:lnTo>
                    <a:pt x="17" y="67"/>
                  </a:lnTo>
                  <a:lnTo>
                    <a:pt x="30" y="55"/>
                  </a:lnTo>
                  <a:lnTo>
                    <a:pt x="46" y="41"/>
                  </a:lnTo>
                  <a:lnTo>
                    <a:pt x="63" y="30"/>
                  </a:lnTo>
                  <a:lnTo>
                    <a:pt x="84" y="19"/>
                  </a:lnTo>
                  <a:lnTo>
                    <a:pt x="107" y="10"/>
                  </a:lnTo>
                  <a:lnTo>
                    <a:pt x="128" y="5"/>
                  </a:lnTo>
                  <a:lnTo>
                    <a:pt x="148" y="1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3" y="1"/>
                  </a:lnTo>
                  <a:lnTo>
                    <a:pt x="190" y="4"/>
                  </a:lnTo>
                  <a:lnTo>
                    <a:pt x="196" y="6"/>
                  </a:lnTo>
                  <a:lnTo>
                    <a:pt x="201" y="9"/>
                  </a:lnTo>
                  <a:lnTo>
                    <a:pt x="206" y="12"/>
                  </a:lnTo>
                  <a:lnTo>
                    <a:pt x="210" y="17"/>
                  </a:lnTo>
                  <a:lnTo>
                    <a:pt x="214" y="2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744560" y="2771640"/>
              <a:ext cx="149400" cy="103320"/>
            </a:xfrm>
            <a:custGeom>
              <a:avLst/>
              <a:gdLst/>
              <a:ahLst/>
              <a:rect l="l" t="t" r="r" b="b"/>
              <a:pathLst>
                <a:path w="375" h="263">
                  <a:moveTo>
                    <a:pt x="370" y="230"/>
                  </a:moveTo>
                  <a:lnTo>
                    <a:pt x="364" y="238"/>
                  </a:lnTo>
                  <a:lnTo>
                    <a:pt x="356" y="246"/>
                  </a:lnTo>
                  <a:lnTo>
                    <a:pt x="348" y="252"/>
                  </a:lnTo>
                  <a:lnTo>
                    <a:pt x="337" y="256"/>
                  </a:lnTo>
                  <a:lnTo>
                    <a:pt x="325" y="260"/>
                  </a:lnTo>
                  <a:lnTo>
                    <a:pt x="312" y="262"/>
                  </a:lnTo>
                  <a:lnTo>
                    <a:pt x="298" y="263"/>
                  </a:lnTo>
                  <a:lnTo>
                    <a:pt x="283" y="263"/>
                  </a:lnTo>
                  <a:lnTo>
                    <a:pt x="267" y="262"/>
                  </a:lnTo>
                  <a:lnTo>
                    <a:pt x="251" y="260"/>
                  </a:lnTo>
                  <a:lnTo>
                    <a:pt x="233" y="256"/>
                  </a:lnTo>
                  <a:lnTo>
                    <a:pt x="215" y="251"/>
                  </a:lnTo>
                  <a:lnTo>
                    <a:pt x="197" y="245"/>
                  </a:lnTo>
                  <a:lnTo>
                    <a:pt x="179" y="237"/>
                  </a:lnTo>
                  <a:lnTo>
                    <a:pt x="159" y="229"/>
                  </a:lnTo>
                  <a:lnTo>
                    <a:pt x="140" y="219"/>
                  </a:lnTo>
                  <a:lnTo>
                    <a:pt x="123" y="209"/>
                  </a:lnTo>
                  <a:lnTo>
                    <a:pt x="106" y="198"/>
                  </a:lnTo>
                  <a:lnTo>
                    <a:pt x="89" y="186"/>
                  </a:lnTo>
                  <a:lnTo>
                    <a:pt x="73" y="174"/>
                  </a:lnTo>
                  <a:lnTo>
                    <a:pt x="60" y="162"/>
                  </a:lnTo>
                  <a:lnTo>
                    <a:pt x="47" y="149"/>
                  </a:lnTo>
                  <a:lnTo>
                    <a:pt x="36" y="137"/>
                  </a:lnTo>
                  <a:lnTo>
                    <a:pt x="26" y="124"/>
                  </a:lnTo>
                  <a:lnTo>
                    <a:pt x="17" y="112"/>
                  </a:lnTo>
                  <a:lnTo>
                    <a:pt x="11" y="100"/>
                  </a:lnTo>
                  <a:lnTo>
                    <a:pt x="6" y="87"/>
                  </a:lnTo>
                  <a:lnTo>
                    <a:pt x="3" y="75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3" y="42"/>
                  </a:lnTo>
                  <a:lnTo>
                    <a:pt x="6" y="34"/>
                  </a:lnTo>
                  <a:lnTo>
                    <a:pt x="12" y="25"/>
                  </a:lnTo>
                  <a:lnTo>
                    <a:pt x="20" y="18"/>
                  </a:lnTo>
                  <a:lnTo>
                    <a:pt x="29" y="11"/>
                  </a:lnTo>
                  <a:lnTo>
                    <a:pt x="39" y="6"/>
                  </a:lnTo>
                  <a:lnTo>
                    <a:pt x="51" y="4"/>
                  </a:lnTo>
                  <a:lnTo>
                    <a:pt x="63" y="1"/>
                  </a:lnTo>
                  <a:lnTo>
                    <a:pt x="78" y="0"/>
                  </a:lnTo>
                  <a:lnTo>
                    <a:pt x="93" y="0"/>
                  </a:lnTo>
                  <a:lnTo>
                    <a:pt x="109" y="1"/>
                  </a:lnTo>
                  <a:lnTo>
                    <a:pt x="125" y="4"/>
                  </a:lnTo>
                  <a:lnTo>
                    <a:pt x="143" y="8"/>
                  </a:lnTo>
                  <a:lnTo>
                    <a:pt x="161" y="13"/>
                  </a:lnTo>
                  <a:lnTo>
                    <a:pt x="179" y="19"/>
                  </a:lnTo>
                  <a:lnTo>
                    <a:pt x="197" y="26"/>
                  </a:lnTo>
                  <a:lnTo>
                    <a:pt x="216" y="35"/>
                  </a:lnTo>
                  <a:lnTo>
                    <a:pt x="236" y="44"/>
                  </a:lnTo>
                  <a:lnTo>
                    <a:pt x="253" y="55"/>
                  </a:lnTo>
                  <a:lnTo>
                    <a:pt x="271" y="66"/>
                  </a:lnTo>
                  <a:lnTo>
                    <a:pt x="287" y="77"/>
                  </a:lnTo>
                  <a:lnTo>
                    <a:pt x="303" y="90"/>
                  </a:lnTo>
                  <a:lnTo>
                    <a:pt x="317" y="102"/>
                  </a:lnTo>
                  <a:lnTo>
                    <a:pt x="329" y="114"/>
                  </a:lnTo>
                  <a:lnTo>
                    <a:pt x="340" y="127"/>
                  </a:lnTo>
                  <a:lnTo>
                    <a:pt x="350" y="139"/>
                  </a:lnTo>
                  <a:lnTo>
                    <a:pt x="359" y="152"/>
                  </a:lnTo>
                  <a:lnTo>
                    <a:pt x="365" y="164"/>
                  </a:lnTo>
                  <a:lnTo>
                    <a:pt x="370" y="176"/>
                  </a:lnTo>
                  <a:lnTo>
                    <a:pt x="374" y="188"/>
                  </a:lnTo>
                  <a:lnTo>
                    <a:pt x="375" y="200"/>
                  </a:lnTo>
                  <a:lnTo>
                    <a:pt x="375" y="210"/>
                  </a:lnTo>
                  <a:lnTo>
                    <a:pt x="374" y="220"/>
                  </a:lnTo>
                  <a:lnTo>
                    <a:pt x="370" y="23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1760400" y="2781360"/>
              <a:ext cx="119160" cy="84240"/>
            </a:xfrm>
            <a:custGeom>
              <a:avLst/>
              <a:gdLst/>
              <a:ahLst/>
              <a:rect l="l" t="t" r="r" b="b"/>
              <a:pathLst>
                <a:path w="299" h="211">
                  <a:moveTo>
                    <a:pt x="295" y="184"/>
                  </a:moveTo>
                  <a:lnTo>
                    <a:pt x="290" y="191"/>
                  </a:lnTo>
                  <a:lnTo>
                    <a:pt x="284" y="196"/>
                  </a:lnTo>
                  <a:lnTo>
                    <a:pt x="276" y="201"/>
                  </a:lnTo>
                  <a:lnTo>
                    <a:pt x="268" y="205"/>
                  </a:lnTo>
                  <a:lnTo>
                    <a:pt x="259" y="209"/>
                  </a:lnTo>
                  <a:lnTo>
                    <a:pt x="248" y="210"/>
                  </a:lnTo>
                  <a:lnTo>
                    <a:pt x="237" y="211"/>
                  </a:lnTo>
                  <a:lnTo>
                    <a:pt x="226" y="211"/>
                  </a:lnTo>
                  <a:lnTo>
                    <a:pt x="212" y="210"/>
                  </a:lnTo>
                  <a:lnTo>
                    <a:pt x="199" y="207"/>
                  </a:lnTo>
                  <a:lnTo>
                    <a:pt x="185" y="205"/>
                  </a:lnTo>
                  <a:lnTo>
                    <a:pt x="171" y="200"/>
                  </a:lnTo>
                  <a:lnTo>
                    <a:pt x="156" y="196"/>
                  </a:lnTo>
                  <a:lnTo>
                    <a:pt x="141" y="190"/>
                  </a:lnTo>
                  <a:lnTo>
                    <a:pt x="126" y="183"/>
                  </a:lnTo>
                  <a:lnTo>
                    <a:pt x="111" y="175"/>
                  </a:lnTo>
                  <a:lnTo>
                    <a:pt x="96" y="167"/>
                  </a:lnTo>
                  <a:lnTo>
                    <a:pt x="83" y="158"/>
                  </a:lnTo>
                  <a:lnTo>
                    <a:pt x="70" y="149"/>
                  </a:lnTo>
                  <a:lnTo>
                    <a:pt x="58" y="139"/>
                  </a:lnTo>
                  <a:lnTo>
                    <a:pt x="47" y="129"/>
                  </a:lnTo>
                  <a:lnTo>
                    <a:pt x="37" y="119"/>
                  </a:lnTo>
                  <a:lnTo>
                    <a:pt x="27" y="109"/>
                  </a:lnTo>
                  <a:lnTo>
                    <a:pt x="19" y="100"/>
                  </a:lnTo>
                  <a:lnTo>
                    <a:pt x="13" y="90"/>
                  </a:lnTo>
                  <a:lnTo>
                    <a:pt x="7" y="80"/>
                  </a:lnTo>
                  <a:lnTo>
                    <a:pt x="3" y="70"/>
                  </a:lnTo>
                  <a:lnTo>
                    <a:pt x="1" y="60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3" y="26"/>
                  </a:lnTo>
                  <a:lnTo>
                    <a:pt x="8" y="20"/>
                  </a:lnTo>
                  <a:lnTo>
                    <a:pt x="14" y="14"/>
                  </a:lnTo>
                  <a:lnTo>
                    <a:pt x="22" y="10"/>
                  </a:lnTo>
                  <a:lnTo>
                    <a:pt x="31" y="5"/>
                  </a:lnTo>
                  <a:lnTo>
                    <a:pt x="39" y="3"/>
                  </a:lnTo>
                  <a:lnTo>
                    <a:pt x="49" y="2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6" y="2"/>
                  </a:lnTo>
                  <a:lnTo>
                    <a:pt x="99" y="4"/>
                  </a:lnTo>
                  <a:lnTo>
                    <a:pt x="113" y="7"/>
                  </a:lnTo>
                  <a:lnTo>
                    <a:pt x="127" y="10"/>
                  </a:lnTo>
                  <a:lnTo>
                    <a:pt x="142" y="15"/>
                  </a:lnTo>
                  <a:lnTo>
                    <a:pt x="157" y="21"/>
                  </a:lnTo>
                  <a:lnTo>
                    <a:pt x="172" y="28"/>
                  </a:lnTo>
                  <a:lnTo>
                    <a:pt x="187" y="35"/>
                  </a:lnTo>
                  <a:lnTo>
                    <a:pt x="202" y="44"/>
                  </a:lnTo>
                  <a:lnTo>
                    <a:pt x="216" y="52"/>
                  </a:lnTo>
                  <a:lnTo>
                    <a:pt x="228" y="62"/>
                  </a:lnTo>
                  <a:lnTo>
                    <a:pt x="240" y="71"/>
                  </a:lnTo>
                  <a:lnTo>
                    <a:pt x="252" y="81"/>
                  </a:lnTo>
                  <a:lnTo>
                    <a:pt x="262" y="91"/>
                  </a:lnTo>
                  <a:lnTo>
                    <a:pt x="270" y="102"/>
                  </a:lnTo>
                  <a:lnTo>
                    <a:pt x="279" y="112"/>
                  </a:lnTo>
                  <a:lnTo>
                    <a:pt x="285" y="122"/>
                  </a:lnTo>
                  <a:lnTo>
                    <a:pt x="291" y="132"/>
                  </a:lnTo>
                  <a:lnTo>
                    <a:pt x="295" y="142"/>
                  </a:lnTo>
                  <a:lnTo>
                    <a:pt x="298" y="150"/>
                  </a:lnTo>
                  <a:lnTo>
                    <a:pt x="299" y="160"/>
                  </a:lnTo>
                  <a:lnTo>
                    <a:pt x="299" y="169"/>
                  </a:lnTo>
                  <a:lnTo>
                    <a:pt x="298" y="176"/>
                  </a:lnTo>
                  <a:lnTo>
                    <a:pt x="295" y="18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1778040" y="2793960"/>
              <a:ext cx="84240" cy="5868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206" y="127"/>
                  </a:moveTo>
                  <a:lnTo>
                    <a:pt x="204" y="132"/>
                  </a:lnTo>
                  <a:lnTo>
                    <a:pt x="199" y="136"/>
                  </a:lnTo>
                  <a:lnTo>
                    <a:pt x="194" y="140"/>
                  </a:lnTo>
                  <a:lnTo>
                    <a:pt x="189" y="142"/>
                  </a:lnTo>
                  <a:lnTo>
                    <a:pt x="182" y="145"/>
                  </a:lnTo>
                  <a:lnTo>
                    <a:pt x="174" y="146"/>
                  </a:lnTo>
                  <a:lnTo>
                    <a:pt x="167" y="146"/>
                  </a:lnTo>
                  <a:lnTo>
                    <a:pt x="158" y="146"/>
                  </a:lnTo>
                  <a:lnTo>
                    <a:pt x="141" y="143"/>
                  </a:lnTo>
                  <a:lnTo>
                    <a:pt x="121" y="139"/>
                  </a:lnTo>
                  <a:lnTo>
                    <a:pt x="100" y="131"/>
                  </a:lnTo>
                  <a:lnTo>
                    <a:pt x="78" y="121"/>
                  </a:lnTo>
                  <a:lnTo>
                    <a:pt x="59" y="110"/>
                  </a:lnTo>
                  <a:lnTo>
                    <a:pt x="41" y="96"/>
                  </a:lnTo>
                  <a:lnTo>
                    <a:pt x="26" y="83"/>
                  </a:lnTo>
                  <a:lnTo>
                    <a:pt x="14" y="68"/>
                  </a:lnTo>
                  <a:lnTo>
                    <a:pt x="10" y="62"/>
                  </a:lnTo>
                  <a:lnTo>
                    <a:pt x="5" y="54"/>
                  </a:lnTo>
                  <a:lnTo>
                    <a:pt x="3" y="48"/>
                  </a:lnTo>
                  <a:lnTo>
                    <a:pt x="1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70" y="1"/>
                  </a:lnTo>
                  <a:lnTo>
                    <a:pt x="90" y="6"/>
                  </a:lnTo>
                  <a:lnTo>
                    <a:pt x="111" y="13"/>
                  </a:lnTo>
                  <a:lnTo>
                    <a:pt x="132" y="23"/>
                  </a:lnTo>
                  <a:lnTo>
                    <a:pt x="152" y="36"/>
                  </a:lnTo>
                  <a:lnTo>
                    <a:pt x="169" y="49"/>
                  </a:lnTo>
                  <a:lnTo>
                    <a:pt x="184" y="63"/>
                  </a:lnTo>
                  <a:lnTo>
                    <a:pt x="196" y="76"/>
                  </a:lnTo>
                  <a:lnTo>
                    <a:pt x="200" y="84"/>
                  </a:lnTo>
                  <a:lnTo>
                    <a:pt x="204" y="91"/>
                  </a:lnTo>
                  <a:lnTo>
                    <a:pt x="208" y="98"/>
                  </a:lnTo>
                  <a:lnTo>
                    <a:pt x="209" y="104"/>
                  </a:lnTo>
                  <a:lnTo>
                    <a:pt x="210" y="110"/>
                  </a:lnTo>
                  <a:lnTo>
                    <a:pt x="210" y="116"/>
                  </a:lnTo>
                  <a:lnTo>
                    <a:pt x="209" y="122"/>
                  </a:lnTo>
                  <a:lnTo>
                    <a:pt x="206" y="12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285920" y="2736720"/>
              <a:ext cx="87120" cy="47880"/>
            </a:xfrm>
            <a:custGeom>
              <a:avLst/>
              <a:gdLst/>
              <a:ahLst/>
              <a:rect l="l" t="t" r="r" b="b"/>
              <a:pathLst>
                <a:path w="224" h="121">
                  <a:moveTo>
                    <a:pt x="224" y="14"/>
                  </a:moveTo>
                  <a:lnTo>
                    <a:pt x="224" y="18"/>
                  </a:lnTo>
                  <a:lnTo>
                    <a:pt x="220" y="25"/>
                  </a:lnTo>
                  <a:lnTo>
                    <a:pt x="213" y="36"/>
                  </a:lnTo>
                  <a:lnTo>
                    <a:pt x="203" y="51"/>
                  </a:lnTo>
                  <a:lnTo>
                    <a:pt x="197" y="58"/>
                  </a:lnTo>
                  <a:lnTo>
                    <a:pt x="188" y="66"/>
                  </a:lnTo>
                  <a:lnTo>
                    <a:pt x="179" y="75"/>
                  </a:lnTo>
                  <a:lnTo>
                    <a:pt x="168" y="82"/>
                  </a:lnTo>
                  <a:lnTo>
                    <a:pt x="156" y="91"/>
                  </a:lnTo>
                  <a:lnTo>
                    <a:pt x="142" y="98"/>
                  </a:lnTo>
                  <a:lnTo>
                    <a:pt x="127" y="106"/>
                  </a:lnTo>
                  <a:lnTo>
                    <a:pt x="111" y="112"/>
                  </a:lnTo>
                  <a:lnTo>
                    <a:pt x="101" y="114"/>
                  </a:lnTo>
                  <a:lnTo>
                    <a:pt x="75" y="119"/>
                  </a:lnTo>
                  <a:lnTo>
                    <a:pt x="59" y="121"/>
                  </a:lnTo>
                  <a:lnTo>
                    <a:pt x="40" y="119"/>
                  </a:lnTo>
                  <a:lnTo>
                    <a:pt x="30" y="118"/>
                  </a:lnTo>
                  <a:lnTo>
                    <a:pt x="20" y="117"/>
                  </a:lnTo>
                  <a:lnTo>
                    <a:pt x="10" y="114"/>
                  </a:lnTo>
                  <a:lnTo>
                    <a:pt x="0" y="111"/>
                  </a:lnTo>
                  <a:lnTo>
                    <a:pt x="7" y="104"/>
                  </a:lnTo>
                  <a:lnTo>
                    <a:pt x="23" y="87"/>
                  </a:lnTo>
                  <a:lnTo>
                    <a:pt x="35" y="76"/>
                  </a:lnTo>
                  <a:lnTo>
                    <a:pt x="49" y="65"/>
                  </a:lnTo>
                  <a:lnTo>
                    <a:pt x="64" y="52"/>
                  </a:lnTo>
                  <a:lnTo>
                    <a:pt x="81" y="40"/>
                  </a:lnTo>
                  <a:lnTo>
                    <a:pt x="99" y="29"/>
                  </a:lnTo>
                  <a:lnTo>
                    <a:pt x="117" y="19"/>
                  </a:lnTo>
                  <a:lnTo>
                    <a:pt x="136" y="10"/>
                  </a:lnTo>
                  <a:lnTo>
                    <a:pt x="154" y="4"/>
                  </a:lnTo>
                  <a:lnTo>
                    <a:pt x="163" y="1"/>
                  </a:lnTo>
                  <a:lnTo>
                    <a:pt x="173" y="1"/>
                  </a:lnTo>
                  <a:lnTo>
                    <a:pt x="182" y="0"/>
                  </a:lnTo>
                  <a:lnTo>
                    <a:pt x="190" y="1"/>
                  </a:lnTo>
                  <a:lnTo>
                    <a:pt x="199" y="3"/>
                  </a:lnTo>
                  <a:lnTo>
                    <a:pt x="208" y="5"/>
                  </a:lnTo>
                  <a:lnTo>
                    <a:pt x="217" y="9"/>
                  </a:lnTo>
                  <a:lnTo>
                    <a:pt x="224" y="1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224000" y="2625840"/>
              <a:ext cx="152280" cy="147600"/>
            </a:xfrm>
            <a:custGeom>
              <a:avLst/>
              <a:gdLst/>
              <a:ahLst/>
              <a:rect l="l" t="t" r="r" b="b"/>
              <a:pathLst>
                <a:path w="384" h="373">
                  <a:moveTo>
                    <a:pt x="42" y="303"/>
                  </a:moveTo>
                  <a:lnTo>
                    <a:pt x="54" y="318"/>
                  </a:lnTo>
                  <a:lnTo>
                    <a:pt x="69" y="330"/>
                  </a:lnTo>
                  <a:lnTo>
                    <a:pt x="84" y="341"/>
                  </a:lnTo>
                  <a:lnTo>
                    <a:pt x="100" y="351"/>
                  </a:lnTo>
                  <a:lnTo>
                    <a:pt x="117" y="359"/>
                  </a:lnTo>
                  <a:lnTo>
                    <a:pt x="135" y="365"/>
                  </a:lnTo>
                  <a:lnTo>
                    <a:pt x="152" y="370"/>
                  </a:lnTo>
                  <a:lnTo>
                    <a:pt x="171" y="372"/>
                  </a:lnTo>
                  <a:lnTo>
                    <a:pt x="189" y="373"/>
                  </a:lnTo>
                  <a:lnTo>
                    <a:pt x="208" y="372"/>
                  </a:lnTo>
                  <a:lnTo>
                    <a:pt x="226" y="370"/>
                  </a:lnTo>
                  <a:lnTo>
                    <a:pt x="244" y="366"/>
                  </a:lnTo>
                  <a:lnTo>
                    <a:pt x="262" y="360"/>
                  </a:lnTo>
                  <a:lnTo>
                    <a:pt x="279" y="352"/>
                  </a:lnTo>
                  <a:lnTo>
                    <a:pt x="296" y="344"/>
                  </a:lnTo>
                  <a:lnTo>
                    <a:pt x="312" y="333"/>
                  </a:lnTo>
                  <a:lnTo>
                    <a:pt x="327" y="319"/>
                  </a:lnTo>
                  <a:lnTo>
                    <a:pt x="340" y="305"/>
                  </a:lnTo>
                  <a:lnTo>
                    <a:pt x="351" y="292"/>
                  </a:lnTo>
                  <a:lnTo>
                    <a:pt x="361" y="275"/>
                  </a:lnTo>
                  <a:lnTo>
                    <a:pt x="370" y="259"/>
                  </a:lnTo>
                  <a:lnTo>
                    <a:pt x="376" y="242"/>
                  </a:lnTo>
                  <a:lnTo>
                    <a:pt x="379" y="225"/>
                  </a:lnTo>
                  <a:lnTo>
                    <a:pt x="383" y="207"/>
                  </a:lnTo>
                  <a:lnTo>
                    <a:pt x="384" y="189"/>
                  </a:lnTo>
                  <a:lnTo>
                    <a:pt x="383" y="171"/>
                  </a:lnTo>
                  <a:lnTo>
                    <a:pt x="381" y="154"/>
                  </a:lnTo>
                  <a:lnTo>
                    <a:pt x="377" y="135"/>
                  </a:lnTo>
                  <a:lnTo>
                    <a:pt x="371" y="119"/>
                  </a:lnTo>
                  <a:lnTo>
                    <a:pt x="363" y="102"/>
                  </a:lnTo>
                  <a:lnTo>
                    <a:pt x="353" y="86"/>
                  </a:lnTo>
                  <a:lnTo>
                    <a:pt x="342" y="69"/>
                  </a:lnTo>
                  <a:lnTo>
                    <a:pt x="329" y="56"/>
                  </a:lnTo>
                  <a:lnTo>
                    <a:pt x="315" y="43"/>
                  </a:lnTo>
                  <a:lnTo>
                    <a:pt x="299" y="32"/>
                  </a:lnTo>
                  <a:lnTo>
                    <a:pt x="283" y="22"/>
                  </a:lnTo>
                  <a:lnTo>
                    <a:pt x="266" y="15"/>
                  </a:lnTo>
                  <a:lnTo>
                    <a:pt x="249" y="9"/>
                  </a:lnTo>
                  <a:lnTo>
                    <a:pt x="230" y="4"/>
                  </a:lnTo>
                  <a:lnTo>
                    <a:pt x="213" y="1"/>
                  </a:lnTo>
                  <a:lnTo>
                    <a:pt x="194" y="0"/>
                  </a:lnTo>
                  <a:lnTo>
                    <a:pt x="176" y="0"/>
                  </a:lnTo>
                  <a:lnTo>
                    <a:pt x="157" y="2"/>
                  </a:lnTo>
                  <a:lnTo>
                    <a:pt x="140" y="7"/>
                  </a:lnTo>
                  <a:lnTo>
                    <a:pt x="121" y="12"/>
                  </a:lnTo>
                  <a:lnTo>
                    <a:pt x="104" y="20"/>
                  </a:lnTo>
                  <a:lnTo>
                    <a:pt x="88" y="30"/>
                  </a:lnTo>
                  <a:lnTo>
                    <a:pt x="72" y="41"/>
                  </a:lnTo>
                  <a:lnTo>
                    <a:pt x="57" y="53"/>
                  </a:lnTo>
                  <a:lnTo>
                    <a:pt x="44" y="67"/>
                  </a:lnTo>
                  <a:lnTo>
                    <a:pt x="32" y="82"/>
                  </a:lnTo>
                  <a:lnTo>
                    <a:pt x="23" y="98"/>
                  </a:lnTo>
                  <a:lnTo>
                    <a:pt x="14" y="114"/>
                  </a:lnTo>
                  <a:lnTo>
                    <a:pt x="8" y="132"/>
                  </a:lnTo>
                  <a:lnTo>
                    <a:pt x="3" y="149"/>
                  </a:lnTo>
                  <a:lnTo>
                    <a:pt x="1" y="166"/>
                  </a:lnTo>
                  <a:lnTo>
                    <a:pt x="0" y="184"/>
                  </a:lnTo>
                  <a:lnTo>
                    <a:pt x="0" y="202"/>
                  </a:lnTo>
                  <a:lnTo>
                    <a:pt x="2" y="220"/>
                  </a:lnTo>
                  <a:lnTo>
                    <a:pt x="7" y="237"/>
                  </a:lnTo>
                  <a:lnTo>
                    <a:pt x="13" y="254"/>
                  </a:lnTo>
                  <a:lnTo>
                    <a:pt x="21" y="272"/>
                  </a:lnTo>
                  <a:lnTo>
                    <a:pt x="31" y="288"/>
                  </a:lnTo>
                  <a:lnTo>
                    <a:pt x="42" y="30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1282680" y="2658960"/>
              <a:ext cx="90360" cy="87480"/>
            </a:xfrm>
            <a:custGeom>
              <a:avLst/>
              <a:gdLst/>
              <a:ahLst/>
              <a:rect l="l" t="t" r="r" b="b"/>
              <a:pathLst>
                <a:path w="226" h="219">
                  <a:moveTo>
                    <a:pt x="24" y="179"/>
                  </a:moveTo>
                  <a:lnTo>
                    <a:pt x="32" y="187"/>
                  </a:lnTo>
                  <a:lnTo>
                    <a:pt x="40" y="195"/>
                  </a:lnTo>
                  <a:lnTo>
                    <a:pt x="49" y="201"/>
                  </a:lnTo>
                  <a:lnTo>
                    <a:pt x="59" y="206"/>
                  </a:lnTo>
                  <a:lnTo>
                    <a:pt x="69" y="211"/>
                  </a:lnTo>
                  <a:lnTo>
                    <a:pt x="79" y="214"/>
                  </a:lnTo>
                  <a:lnTo>
                    <a:pt x="89" y="217"/>
                  </a:lnTo>
                  <a:lnTo>
                    <a:pt x="100" y="218"/>
                  </a:lnTo>
                  <a:lnTo>
                    <a:pt x="111" y="219"/>
                  </a:lnTo>
                  <a:lnTo>
                    <a:pt x="121" y="219"/>
                  </a:lnTo>
                  <a:lnTo>
                    <a:pt x="132" y="218"/>
                  </a:lnTo>
                  <a:lnTo>
                    <a:pt x="144" y="216"/>
                  </a:lnTo>
                  <a:lnTo>
                    <a:pt x="153" y="212"/>
                  </a:lnTo>
                  <a:lnTo>
                    <a:pt x="163" y="207"/>
                  </a:lnTo>
                  <a:lnTo>
                    <a:pt x="173" y="202"/>
                  </a:lnTo>
                  <a:lnTo>
                    <a:pt x="183" y="196"/>
                  </a:lnTo>
                  <a:lnTo>
                    <a:pt x="192" y="188"/>
                  </a:lnTo>
                  <a:lnTo>
                    <a:pt x="199" y="180"/>
                  </a:lnTo>
                  <a:lnTo>
                    <a:pt x="206" y="171"/>
                  </a:lnTo>
                  <a:lnTo>
                    <a:pt x="212" y="162"/>
                  </a:lnTo>
                  <a:lnTo>
                    <a:pt x="217" y="152"/>
                  </a:lnTo>
                  <a:lnTo>
                    <a:pt x="221" y="143"/>
                  </a:lnTo>
                  <a:lnTo>
                    <a:pt x="223" y="133"/>
                  </a:lnTo>
                  <a:lnTo>
                    <a:pt x="224" y="121"/>
                  </a:lnTo>
                  <a:lnTo>
                    <a:pt x="226" y="112"/>
                  </a:lnTo>
                  <a:lnTo>
                    <a:pt x="226" y="100"/>
                  </a:lnTo>
                  <a:lnTo>
                    <a:pt x="224" y="90"/>
                  </a:lnTo>
                  <a:lnTo>
                    <a:pt x="222" y="79"/>
                  </a:lnTo>
                  <a:lnTo>
                    <a:pt x="218" y="69"/>
                  </a:lnTo>
                  <a:lnTo>
                    <a:pt x="213" y="59"/>
                  </a:lnTo>
                  <a:lnTo>
                    <a:pt x="208" y="51"/>
                  </a:lnTo>
                  <a:lnTo>
                    <a:pt x="201" y="41"/>
                  </a:lnTo>
                  <a:lnTo>
                    <a:pt x="193" y="32"/>
                  </a:lnTo>
                  <a:lnTo>
                    <a:pt x="185" y="25"/>
                  </a:lnTo>
                  <a:lnTo>
                    <a:pt x="176" y="18"/>
                  </a:lnTo>
                  <a:lnTo>
                    <a:pt x="166" y="13"/>
                  </a:lnTo>
                  <a:lnTo>
                    <a:pt x="156" y="9"/>
                  </a:lnTo>
                  <a:lnTo>
                    <a:pt x="146" y="5"/>
                  </a:lnTo>
                  <a:lnTo>
                    <a:pt x="136" y="2"/>
                  </a:lnTo>
                  <a:lnTo>
                    <a:pt x="125" y="1"/>
                  </a:lnTo>
                  <a:lnTo>
                    <a:pt x="114" y="0"/>
                  </a:lnTo>
                  <a:lnTo>
                    <a:pt x="103" y="0"/>
                  </a:lnTo>
                  <a:lnTo>
                    <a:pt x="93" y="1"/>
                  </a:lnTo>
                  <a:lnTo>
                    <a:pt x="81" y="4"/>
                  </a:lnTo>
                  <a:lnTo>
                    <a:pt x="72" y="7"/>
                  </a:lnTo>
                  <a:lnTo>
                    <a:pt x="60" y="12"/>
                  </a:lnTo>
                  <a:lnTo>
                    <a:pt x="50" y="17"/>
                  </a:lnTo>
                  <a:lnTo>
                    <a:pt x="42" y="23"/>
                  </a:lnTo>
                  <a:lnTo>
                    <a:pt x="33" y="32"/>
                  </a:lnTo>
                  <a:lnTo>
                    <a:pt x="26" y="40"/>
                  </a:lnTo>
                  <a:lnTo>
                    <a:pt x="18" y="48"/>
                  </a:lnTo>
                  <a:lnTo>
                    <a:pt x="13" y="57"/>
                  </a:lnTo>
                  <a:lnTo>
                    <a:pt x="8" y="67"/>
                  </a:lnTo>
                  <a:lnTo>
                    <a:pt x="4" y="77"/>
                  </a:lnTo>
                  <a:lnTo>
                    <a:pt x="2" y="87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1" y="129"/>
                  </a:lnTo>
                  <a:lnTo>
                    <a:pt x="3" y="140"/>
                  </a:lnTo>
                  <a:lnTo>
                    <a:pt x="7" y="150"/>
                  </a:lnTo>
                  <a:lnTo>
                    <a:pt x="12" y="160"/>
                  </a:lnTo>
                  <a:lnTo>
                    <a:pt x="17" y="169"/>
                  </a:lnTo>
                  <a:lnTo>
                    <a:pt x="24" y="17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1338120" y="2690640"/>
              <a:ext cx="28800" cy="2700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7" y="56"/>
                  </a:moveTo>
                  <a:lnTo>
                    <a:pt x="12" y="61"/>
                  </a:lnTo>
                  <a:lnTo>
                    <a:pt x="18" y="65"/>
                  </a:lnTo>
                  <a:lnTo>
                    <a:pt x="25" y="67"/>
                  </a:lnTo>
                  <a:lnTo>
                    <a:pt x="32" y="68"/>
                  </a:lnTo>
                  <a:lnTo>
                    <a:pt x="38" y="69"/>
                  </a:lnTo>
                  <a:lnTo>
                    <a:pt x="46" y="68"/>
                  </a:lnTo>
                  <a:lnTo>
                    <a:pt x="52" y="66"/>
                  </a:lnTo>
                  <a:lnTo>
                    <a:pt x="58" y="61"/>
                  </a:lnTo>
                  <a:lnTo>
                    <a:pt x="63" y="57"/>
                  </a:lnTo>
                  <a:lnTo>
                    <a:pt x="67" y="51"/>
                  </a:lnTo>
                  <a:lnTo>
                    <a:pt x="69" y="45"/>
                  </a:lnTo>
                  <a:lnTo>
                    <a:pt x="71" y="38"/>
                  </a:lnTo>
                  <a:lnTo>
                    <a:pt x="71" y="31"/>
                  </a:lnTo>
                  <a:lnTo>
                    <a:pt x="71" y="25"/>
                  </a:lnTo>
                  <a:lnTo>
                    <a:pt x="67" y="19"/>
                  </a:lnTo>
                  <a:lnTo>
                    <a:pt x="63" y="12"/>
                  </a:lnTo>
                  <a:lnTo>
                    <a:pt x="58" y="7"/>
                  </a:lnTo>
                  <a:lnTo>
                    <a:pt x="53" y="4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0" y="4"/>
                  </a:lnTo>
                  <a:lnTo>
                    <a:pt x="13" y="7"/>
                  </a:lnTo>
                  <a:lnTo>
                    <a:pt x="9" y="12"/>
                  </a:lnTo>
                  <a:lnTo>
                    <a:pt x="4" y="17"/>
                  </a:lnTo>
                  <a:lnTo>
                    <a:pt x="1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4" y="50"/>
                  </a:lnTo>
                  <a:lnTo>
                    <a:pt x="7" y="56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1219320" y="2612880"/>
              <a:ext cx="149040" cy="96840"/>
            </a:xfrm>
            <a:custGeom>
              <a:avLst/>
              <a:gdLst/>
              <a:ahLst/>
              <a:rect l="l" t="t" r="r" b="b"/>
              <a:pathLst>
                <a:path w="376" h="243">
                  <a:moveTo>
                    <a:pt x="376" y="86"/>
                  </a:moveTo>
                  <a:lnTo>
                    <a:pt x="371" y="79"/>
                  </a:lnTo>
                  <a:lnTo>
                    <a:pt x="357" y="62"/>
                  </a:lnTo>
                  <a:lnTo>
                    <a:pt x="346" y="52"/>
                  </a:lnTo>
                  <a:lnTo>
                    <a:pt x="334" y="41"/>
                  </a:lnTo>
                  <a:lnTo>
                    <a:pt x="318" y="30"/>
                  </a:lnTo>
                  <a:lnTo>
                    <a:pt x="300" y="20"/>
                  </a:lnTo>
                  <a:lnTo>
                    <a:pt x="292" y="15"/>
                  </a:lnTo>
                  <a:lnTo>
                    <a:pt x="280" y="11"/>
                  </a:lnTo>
                  <a:lnTo>
                    <a:pt x="271" y="7"/>
                  </a:lnTo>
                  <a:lnTo>
                    <a:pt x="259" y="5"/>
                  </a:lnTo>
                  <a:lnTo>
                    <a:pt x="247" y="2"/>
                  </a:lnTo>
                  <a:lnTo>
                    <a:pt x="235" y="0"/>
                  </a:lnTo>
                  <a:lnTo>
                    <a:pt x="221" y="0"/>
                  </a:lnTo>
                  <a:lnTo>
                    <a:pt x="208" y="0"/>
                  </a:lnTo>
                  <a:lnTo>
                    <a:pt x="194" y="1"/>
                  </a:lnTo>
                  <a:lnTo>
                    <a:pt x="179" y="2"/>
                  </a:lnTo>
                  <a:lnTo>
                    <a:pt x="164" y="6"/>
                  </a:lnTo>
                  <a:lnTo>
                    <a:pt x="148" y="11"/>
                  </a:lnTo>
                  <a:lnTo>
                    <a:pt x="131" y="16"/>
                  </a:lnTo>
                  <a:lnTo>
                    <a:pt x="115" y="24"/>
                  </a:lnTo>
                  <a:lnTo>
                    <a:pt x="98" y="32"/>
                  </a:lnTo>
                  <a:lnTo>
                    <a:pt x="79" y="42"/>
                  </a:lnTo>
                  <a:lnTo>
                    <a:pt x="74" y="46"/>
                  </a:lnTo>
                  <a:lnTo>
                    <a:pt x="62" y="55"/>
                  </a:lnTo>
                  <a:lnTo>
                    <a:pt x="53" y="62"/>
                  </a:lnTo>
                  <a:lnTo>
                    <a:pt x="45" y="69"/>
                  </a:lnTo>
                  <a:lnTo>
                    <a:pt x="36" y="79"/>
                  </a:lnTo>
                  <a:lnTo>
                    <a:pt x="27" y="92"/>
                  </a:lnTo>
                  <a:lnTo>
                    <a:pt x="18" y="104"/>
                  </a:lnTo>
                  <a:lnTo>
                    <a:pt x="11" y="119"/>
                  </a:lnTo>
                  <a:lnTo>
                    <a:pt x="5" y="135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0" y="174"/>
                  </a:lnTo>
                  <a:lnTo>
                    <a:pt x="0" y="184"/>
                  </a:lnTo>
                  <a:lnTo>
                    <a:pt x="0" y="195"/>
                  </a:lnTo>
                  <a:lnTo>
                    <a:pt x="2" y="206"/>
                  </a:lnTo>
                  <a:lnTo>
                    <a:pt x="5" y="218"/>
                  </a:lnTo>
                  <a:lnTo>
                    <a:pt x="7" y="231"/>
                  </a:lnTo>
                  <a:lnTo>
                    <a:pt x="12" y="243"/>
                  </a:lnTo>
                  <a:lnTo>
                    <a:pt x="11" y="237"/>
                  </a:lnTo>
                  <a:lnTo>
                    <a:pt x="11" y="221"/>
                  </a:lnTo>
                  <a:lnTo>
                    <a:pt x="12" y="210"/>
                  </a:lnTo>
                  <a:lnTo>
                    <a:pt x="15" y="197"/>
                  </a:lnTo>
                  <a:lnTo>
                    <a:pt x="18" y="182"/>
                  </a:lnTo>
                  <a:lnTo>
                    <a:pt x="23" y="167"/>
                  </a:lnTo>
                  <a:lnTo>
                    <a:pt x="31" y="151"/>
                  </a:lnTo>
                  <a:lnTo>
                    <a:pt x="40" y="134"/>
                  </a:lnTo>
                  <a:lnTo>
                    <a:pt x="52" y="117"/>
                  </a:lnTo>
                  <a:lnTo>
                    <a:pt x="67" y="100"/>
                  </a:lnTo>
                  <a:lnTo>
                    <a:pt x="76" y="92"/>
                  </a:lnTo>
                  <a:lnTo>
                    <a:pt x="86" y="83"/>
                  </a:lnTo>
                  <a:lnTo>
                    <a:pt x="95" y="76"/>
                  </a:lnTo>
                  <a:lnTo>
                    <a:pt x="108" y="67"/>
                  </a:lnTo>
                  <a:lnTo>
                    <a:pt x="120" y="60"/>
                  </a:lnTo>
                  <a:lnTo>
                    <a:pt x="133" y="52"/>
                  </a:lnTo>
                  <a:lnTo>
                    <a:pt x="148" y="45"/>
                  </a:lnTo>
                  <a:lnTo>
                    <a:pt x="164" y="38"/>
                  </a:lnTo>
                  <a:lnTo>
                    <a:pt x="167" y="36"/>
                  </a:lnTo>
                  <a:lnTo>
                    <a:pt x="179" y="32"/>
                  </a:lnTo>
                  <a:lnTo>
                    <a:pt x="186" y="31"/>
                  </a:lnTo>
                  <a:lnTo>
                    <a:pt x="196" y="29"/>
                  </a:lnTo>
                  <a:lnTo>
                    <a:pt x="207" y="27"/>
                  </a:lnTo>
                  <a:lnTo>
                    <a:pt x="221" y="27"/>
                  </a:lnTo>
                  <a:lnTo>
                    <a:pt x="235" y="29"/>
                  </a:lnTo>
                  <a:lnTo>
                    <a:pt x="251" y="30"/>
                  </a:lnTo>
                  <a:lnTo>
                    <a:pt x="268" y="33"/>
                  </a:lnTo>
                  <a:lnTo>
                    <a:pt x="288" y="40"/>
                  </a:lnTo>
                  <a:lnTo>
                    <a:pt x="308" y="47"/>
                  </a:lnTo>
                  <a:lnTo>
                    <a:pt x="329" y="57"/>
                  </a:lnTo>
                  <a:lnTo>
                    <a:pt x="353" y="69"/>
                  </a:lnTo>
                  <a:lnTo>
                    <a:pt x="376" y="86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1231920" y="2509920"/>
              <a:ext cx="104760" cy="71280"/>
            </a:xfrm>
            <a:custGeom>
              <a:avLst/>
              <a:gdLst/>
              <a:ahLst/>
              <a:rect l="l" t="t" r="r" b="b"/>
              <a:pathLst>
                <a:path w="265" h="180">
                  <a:moveTo>
                    <a:pt x="4" y="132"/>
                  </a:moveTo>
                  <a:lnTo>
                    <a:pt x="2" y="139"/>
                  </a:lnTo>
                  <a:lnTo>
                    <a:pt x="0" y="146"/>
                  </a:lnTo>
                  <a:lnTo>
                    <a:pt x="2" y="152"/>
                  </a:lnTo>
                  <a:lnTo>
                    <a:pt x="3" y="159"/>
                  </a:lnTo>
                  <a:lnTo>
                    <a:pt x="7" y="164"/>
                  </a:lnTo>
                  <a:lnTo>
                    <a:pt x="10" y="170"/>
                  </a:lnTo>
                  <a:lnTo>
                    <a:pt x="15" y="174"/>
                  </a:lnTo>
                  <a:lnTo>
                    <a:pt x="21" y="178"/>
                  </a:lnTo>
                  <a:lnTo>
                    <a:pt x="28" y="180"/>
                  </a:lnTo>
                  <a:lnTo>
                    <a:pt x="35" y="180"/>
                  </a:lnTo>
                  <a:lnTo>
                    <a:pt x="41" y="180"/>
                  </a:lnTo>
                  <a:lnTo>
                    <a:pt x="48" y="178"/>
                  </a:lnTo>
                  <a:lnTo>
                    <a:pt x="54" y="175"/>
                  </a:lnTo>
                  <a:lnTo>
                    <a:pt x="59" y="172"/>
                  </a:lnTo>
                  <a:lnTo>
                    <a:pt x="64" y="167"/>
                  </a:lnTo>
                  <a:lnTo>
                    <a:pt x="67" y="160"/>
                  </a:lnTo>
                  <a:lnTo>
                    <a:pt x="76" y="143"/>
                  </a:lnTo>
                  <a:lnTo>
                    <a:pt x="86" y="127"/>
                  </a:lnTo>
                  <a:lnTo>
                    <a:pt x="97" y="115"/>
                  </a:lnTo>
                  <a:lnTo>
                    <a:pt x="110" y="103"/>
                  </a:lnTo>
                  <a:lnTo>
                    <a:pt x="123" y="95"/>
                  </a:lnTo>
                  <a:lnTo>
                    <a:pt x="136" y="87"/>
                  </a:lnTo>
                  <a:lnTo>
                    <a:pt x="149" y="82"/>
                  </a:lnTo>
                  <a:lnTo>
                    <a:pt x="162" y="77"/>
                  </a:lnTo>
                  <a:lnTo>
                    <a:pt x="174" y="74"/>
                  </a:lnTo>
                  <a:lnTo>
                    <a:pt x="187" y="72"/>
                  </a:lnTo>
                  <a:lnTo>
                    <a:pt x="197" y="71"/>
                  </a:lnTo>
                  <a:lnTo>
                    <a:pt x="207" y="70"/>
                  </a:lnTo>
                  <a:lnTo>
                    <a:pt x="221" y="70"/>
                  </a:lnTo>
                  <a:lnTo>
                    <a:pt x="228" y="70"/>
                  </a:lnTo>
                  <a:lnTo>
                    <a:pt x="234" y="70"/>
                  </a:lnTo>
                  <a:lnTo>
                    <a:pt x="241" y="69"/>
                  </a:lnTo>
                  <a:lnTo>
                    <a:pt x="247" y="66"/>
                  </a:lnTo>
                  <a:lnTo>
                    <a:pt x="252" y="62"/>
                  </a:lnTo>
                  <a:lnTo>
                    <a:pt x="257" y="58"/>
                  </a:lnTo>
                  <a:lnTo>
                    <a:pt x="261" y="53"/>
                  </a:lnTo>
                  <a:lnTo>
                    <a:pt x="264" y="46"/>
                  </a:lnTo>
                  <a:lnTo>
                    <a:pt x="265" y="39"/>
                  </a:lnTo>
                  <a:lnTo>
                    <a:pt x="265" y="33"/>
                  </a:lnTo>
                  <a:lnTo>
                    <a:pt x="264" y="25"/>
                  </a:lnTo>
                  <a:lnTo>
                    <a:pt x="261" y="19"/>
                  </a:lnTo>
                  <a:lnTo>
                    <a:pt x="257" y="14"/>
                  </a:lnTo>
                  <a:lnTo>
                    <a:pt x="252" y="9"/>
                  </a:lnTo>
                  <a:lnTo>
                    <a:pt x="247" y="5"/>
                  </a:lnTo>
                  <a:lnTo>
                    <a:pt x="241" y="3"/>
                  </a:lnTo>
                  <a:lnTo>
                    <a:pt x="234" y="2"/>
                  </a:lnTo>
                  <a:lnTo>
                    <a:pt x="223" y="0"/>
                  </a:lnTo>
                  <a:lnTo>
                    <a:pt x="210" y="0"/>
                  </a:lnTo>
                  <a:lnTo>
                    <a:pt x="197" y="2"/>
                  </a:lnTo>
                  <a:lnTo>
                    <a:pt x="182" y="3"/>
                  </a:lnTo>
                  <a:lnTo>
                    <a:pt x="166" y="5"/>
                  </a:lnTo>
                  <a:lnTo>
                    <a:pt x="151" y="9"/>
                  </a:lnTo>
                  <a:lnTo>
                    <a:pt x="133" y="14"/>
                  </a:lnTo>
                  <a:lnTo>
                    <a:pt x="117" y="20"/>
                  </a:lnTo>
                  <a:lnTo>
                    <a:pt x="101" y="29"/>
                  </a:lnTo>
                  <a:lnTo>
                    <a:pt x="85" y="38"/>
                  </a:lnTo>
                  <a:lnTo>
                    <a:pt x="69" y="49"/>
                  </a:lnTo>
                  <a:lnTo>
                    <a:pt x="54" y="61"/>
                  </a:lnTo>
                  <a:lnTo>
                    <a:pt x="40" y="76"/>
                  </a:lnTo>
                  <a:lnTo>
                    <a:pt x="26" y="92"/>
                  </a:lnTo>
                  <a:lnTo>
                    <a:pt x="14" y="112"/>
                  </a:lnTo>
                  <a:lnTo>
                    <a:pt x="4" y="13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1639800" y="2695680"/>
              <a:ext cx="87480" cy="47520"/>
            </a:xfrm>
            <a:custGeom>
              <a:avLst/>
              <a:gdLst/>
              <a:ahLst/>
              <a:rect l="l" t="t" r="r" b="b"/>
              <a:pathLst>
                <a:path w="224" h="120">
                  <a:moveTo>
                    <a:pt x="0" y="14"/>
                  </a:moveTo>
                  <a:lnTo>
                    <a:pt x="1" y="17"/>
                  </a:lnTo>
                  <a:lnTo>
                    <a:pt x="4" y="24"/>
                  </a:lnTo>
                  <a:lnTo>
                    <a:pt x="11" y="36"/>
                  </a:lnTo>
                  <a:lnTo>
                    <a:pt x="21" y="50"/>
                  </a:lnTo>
                  <a:lnTo>
                    <a:pt x="27" y="57"/>
                  </a:lnTo>
                  <a:lnTo>
                    <a:pt x="36" y="66"/>
                  </a:lnTo>
                  <a:lnTo>
                    <a:pt x="45" y="74"/>
                  </a:lnTo>
                  <a:lnTo>
                    <a:pt x="56" y="82"/>
                  </a:lnTo>
                  <a:lnTo>
                    <a:pt x="68" y="90"/>
                  </a:lnTo>
                  <a:lnTo>
                    <a:pt x="82" y="97"/>
                  </a:lnTo>
                  <a:lnTo>
                    <a:pt x="97" y="105"/>
                  </a:lnTo>
                  <a:lnTo>
                    <a:pt x="114" y="111"/>
                  </a:lnTo>
                  <a:lnTo>
                    <a:pt x="123" y="113"/>
                  </a:lnTo>
                  <a:lnTo>
                    <a:pt x="149" y="118"/>
                  </a:lnTo>
                  <a:lnTo>
                    <a:pt x="165" y="120"/>
                  </a:lnTo>
                  <a:lnTo>
                    <a:pt x="184" y="120"/>
                  </a:lnTo>
                  <a:lnTo>
                    <a:pt x="194" y="118"/>
                  </a:lnTo>
                  <a:lnTo>
                    <a:pt x="204" y="116"/>
                  </a:lnTo>
                  <a:lnTo>
                    <a:pt x="214" y="113"/>
                  </a:lnTo>
                  <a:lnTo>
                    <a:pt x="224" y="110"/>
                  </a:lnTo>
                  <a:lnTo>
                    <a:pt x="217" y="103"/>
                  </a:lnTo>
                  <a:lnTo>
                    <a:pt x="201" y="86"/>
                  </a:lnTo>
                  <a:lnTo>
                    <a:pt x="189" y="76"/>
                  </a:lnTo>
                  <a:lnTo>
                    <a:pt x="175" y="64"/>
                  </a:lnTo>
                  <a:lnTo>
                    <a:pt x="160" y="51"/>
                  </a:lnTo>
                  <a:lnTo>
                    <a:pt x="143" y="39"/>
                  </a:lnTo>
                  <a:lnTo>
                    <a:pt x="125" y="28"/>
                  </a:lnTo>
                  <a:lnTo>
                    <a:pt x="107" y="18"/>
                  </a:lnTo>
                  <a:lnTo>
                    <a:pt x="88" y="9"/>
                  </a:lnTo>
                  <a:lnTo>
                    <a:pt x="70" y="3"/>
                  </a:lnTo>
                  <a:lnTo>
                    <a:pt x="61" y="2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6" y="5"/>
                  </a:lnTo>
                  <a:lnTo>
                    <a:pt x="8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1636560" y="2584440"/>
              <a:ext cx="152640" cy="147600"/>
            </a:xfrm>
            <a:custGeom>
              <a:avLst/>
              <a:gdLst/>
              <a:ahLst/>
              <a:rect l="l" t="t" r="r" b="b"/>
              <a:pathLst>
                <a:path w="385" h="373">
                  <a:moveTo>
                    <a:pt x="342" y="304"/>
                  </a:moveTo>
                  <a:lnTo>
                    <a:pt x="329" y="318"/>
                  </a:lnTo>
                  <a:lnTo>
                    <a:pt x="315" y="330"/>
                  </a:lnTo>
                  <a:lnTo>
                    <a:pt x="300" y="341"/>
                  </a:lnTo>
                  <a:lnTo>
                    <a:pt x="284" y="351"/>
                  </a:lnTo>
                  <a:lnTo>
                    <a:pt x="267" y="359"/>
                  </a:lnTo>
                  <a:lnTo>
                    <a:pt x="249" y="365"/>
                  </a:lnTo>
                  <a:lnTo>
                    <a:pt x="232" y="370"/>
                  </a:lnTo>
                  <a:lnTo>
                    <a:pt x="213" y="372"/>
                  </a:lnTo>
                  <a:lnTo>
                    <a:pt x="195" y="373"/>
                  </a:lnTo>
                  <a:lnTo>
                    <a:pt x="176" y="373"/>
                  </a:lnTo>
                  <a:lnTo>
                    <a:pt x="159" y="371"/>
                  </a:lnTo>
                  <a:lnTo>
                    <a:pt x="140" y="366"/>
                  </a:lnTo>
                  <a:lnTo>
                    <a:pt x="123" y="361"/>
                  </a:lnTo>
                  <a:lnTo>
                    <a:pt x="105" y="354"/>
                  </a:lnTo>
                  <a:lnTo>
                    <a:pt x="88" y="344"/>
                  </a:lnTo>
                  <a:lnTo>
                    <a:pt x="72" y="333"/>
                  </a:lnTo>
                  <a:lnTo>
                    <a:pt x="57" y="320"/>
                  </a:lnTo>
                  <a:lnTo>
                    <a:pt x="44" y="306"/>
                  </a:lnTo>
                  <a:lnTo>
                    <a:pt x="33" y="292"/>
                  </a:lnTo>
                  <a:lnTo>
                    <a:pt x="23" y="275"/>
                  </a:lnTo>
                  <a:lnTo>
                    <a:pt x="15" y="259"/>
                  </a:lnTo>
                  <a:lnTo>
                    <a:pt x="8" y="242"/>
                  </a:lnTo>
                  <a:lnTo>
                    <a:pt x="3" y="225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1" y="171"/>
                  </a:lnTo>
                  <a:lnTo>
                    <a:pt x="3" y="154"/>
                  </a:lnTo>
                  <a:lnTo>
                    <a:pt x="7" y="137"/>
                  </a:lnTo>
                  <a:lnTo>
                    <a:pt x="13" y="119"/>
                  </a:lnTo>
                  <a:lnTo>
                    <a:pt x="21" y="102"/>
                  </a:lnTo>
                  <a:lnTo>
                    <a:pt x="31" y="86"/>
                  </a:lnTo>
                  <a:lnTo>
                    <a:pt x="42" y="71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4" y="32"/>
                  </a:lnTo>
                  <a:lnTo>
                    <a:pt x="100" y="22"/>
                  </a:lnTo>
                  <a:lnTo>
                    <a:pt x="118" y="15"/>
                  </a:lnTo>
                  <a:lnTo>
                    <a:pt x="135" y="9"/>
                  </a:lnTo>
                  <a:lnTo>
                    <a:pt x="152" y="5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08" y="1"/>
                  </a:lnTo>
                  <a:lnTo>
                    <a:pt x="227" y="4"/>
                  </a:lnTo>
                  <a:lnTo>
                    <a:pt x="244" y="7"/>
                  </a:lnTo>
                  <a:lnTo>
                    <a:pt x="263" y="14"/>
                  </a:lnTo>
                  <a:lnTo>
                    <a:pt x="280" y="21"/>
                  </a:lnTo>
                  <a:lnTo>
                    <a:pt x="296" y="30"/>
                  </a:lnTo>
                  <a:lnTo>
                    <a:pt x="313" y="41"/>
                  </a:lnTo>
                  <a:lnTo>
                    <a:pt x="327" y="53"/>
                  </a:lnTo>
                  <a:lnTo>
                    <a:pt x="340" y="68"/>
                  </a:lnTo>
                  <a:lnTo>
                    <a:pt x="352" y="83"/>
                  </a:lnTo>
                  <a:lnTo>
                    <a:pt x="361" y="98"/>
                  </a:lnTo>
                  <a:lnTo>
                    <a:pt x="370" y="114"/>
                  </a:lnTo>
                  <a:lnTo>
                    <a:pt x="376" y="132"/>
                  </a:lnTo>
                  <a:lnTo>
                    <a:pt x="381" y="149"/>
                  </a:lnTo>
                  <a:lnTo>
                    <a:pt x="383" y="166"/>
                  </a:lnTo>
                  <a:lnTo>
                    <a:pt x="385" y="185"/>
                  </a:lnTo>
                  <a:lnTo>
                    <a:pt x="385" y="202"/>
                  </a:lnTo>
                  <a:lnTo>
                    <a:pt x="382" y="220"/>
                  </a:lnTo>
                  <a:lnTo>
                    <a:pt x="377" y="238"/>
                  </a:lnTo>
                  <a:lnTo>
                    <a:pt x="371" y="256"/>
                  </a:lnTo>
                  <a:lnTo>
                    <a:pt x="363" y="272"/>
                  </a:lnTo>
                  <a:lnTo>
                    <a:pt x="354" y="288"/>
                  </a:lnTo>
                  <a:lnTo>
                    <a:pt x="342" y="30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1639800" y="2619360"/>
              <a:ext cx="90720" cy="87480"/>
            </a:xfrm>
            <a:custGeom>
              <a:avLst/>
              <a:gdLst/>
              <a:ahLst/>
              <a:rect l="l" t="t" r="r" b="b"/>
              <a:pathLst>
                <a:path w="226" h="219">
                  <a:moveTo>
                    <a:pt x="201" y="179"/>
                  </a:moveTo>
                  <a:lnTo>
                    <a:pt x="193" y="187"/>
                  </a:lnTo>
                  <a:lnTo>
                    <a:pt x="185" y="195"/>
                  </a:lnTo>
                  <a:lnTo>
                    <a:pt x="176" y="201"/>
                  </a:lnTo>
                  <a:lnTo>
                    <a:pt x="166" y="207"/>
                  </a:lnTo>
                  <a:lnTo>
                    <a:pt x="156" y="211"/>
                  </a:lnTo>
                  <a:lnTo>
                    <a:pt x="146" y="215"/>
                  </a:lnTo>
                  <a:lnTo>
                    <a:pt x="136" y="217"/>
                  </a:lnTo>
                  <a:lnTo>
                    <a:pt x="125" y="219"/>
                  </a:lnTo>
                  <a:lnTo>
                    <a:pt x="114" y="219"/>
                  </a:lnTo>
                  <a:lnTo>
                    <a:pt x="104" y="219"/>
                  </a:lnTo>
                  <a:lnTo>
                    <a:pt x="93" y="218"/>
                  </a:lnTo>
                  <a:lnTo>
                    <a:pt x="81" y="216"/>
                  </a:lnTo>
                  <a:lnTo>
                    <a:pt x="72" y="212"/>
                  </a:lnTo>
                  <a:lnTo>
                    <a:pt x="62" y="208"/>
                  </a:lnTo>
                  <a:lnTo>
                    <a:pt x="52" y="202"/>
                  </a:lnTo>
                  <a:lnTo>
                    <a:pt x="42" y="196"/>
                  </a:lnTo>
                  <a:lnTo>
                    <a:pt x="33" y="188"/>
                  </a:lnTo>
                  <a:lnTo>
                    <a:pt x="26" y="180"/>
                  </a:lnTo>
                  <a:lnTo>
                    <a:pt x="18" y="171"/>
                  </a:lnTo>
                  <a:lnTo>
                    <a:pt x="13" y="162"/>
                  </a:lnTo>
                  <a:lnTo>
                    <a:pt x="8" y="152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3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0"/>
                  </a:lnTo>
                  <a:lnTo>
                    <a:pt x="3" y="81"/>
                  </a:lnTo>
                  <a:lnTo>
                    <a:pt x="7" y="71"/>
                  </a:lnTo>
                  <a:lnTo>
                    <a:pt x="12" y="61"/>
                  </a:lnTo>
                  <a:lnTo>
                    <a:pt x="18" y="51"/>
                  </a:lnTo>
                  <a:lnTo>
                    <a:pt x="24" y="42"/>
                  </a:lnTo>
                  <a:lnTo>
                    <a:pt x="32" y="33"/>
                  </a:lnTo>
                  <a:lnTo>
                    <a:pt x="41" y="26"/>
                  </a:lnTo>
                  <a:lnTo>
                    <a:pt x="49" y="20"/>
                  </a:lnTo>
                  <a:lnTo>
                    <a:pt x="59" y="14"/>
                  </a:lnTo>
                  <a:lnTo>
                    <a:pt x="69" y="9"/>
                  </a:lnTo>
                  <a:lnTo>
                    <a:pt x="79" y="5"/>
                  </a:lnTo>
                  <a:lnTo>
                    <a:pt x="89" y="2"/>
                  </a:lnTo>
                  <a:lnTo>
                    <a:pt x="100" y="1"/>
                  </a:lnTo>
                  <a:lnTo>
                    <a:pt x="111" y="0"/>
                  </a:lnTo>
                  <a:lnTo>
                    <a:pt x="122" y="1"/>
                  </a:lnTo>
                  <a:lnTo>
                    <a:pt x="132" y="2"/>
                  </a:lnTo>
                  <a:lnTo>
                    <a:pt x="144" y="5"/>
                  </a:lnTo>
                  <a:lnTo>
                    <a:pt x="154" y="9"/>
                  </a:lnTo>
                  <a:lnTo>
                    <a:pt x="163" y="12"/>
                  </a:lnTo>
                  <a:lnTo>
                    <a:pt x="173" y="18"/>
                  </a:lnTo>
                  <a:lnTo>
                    <a:pt x="183" y="25"/>
                  </a:lnTo>
                  <a:lnTo>
                    <a:pt x="192" y="32"/>
                  </a:lnTo>
                  <a:lnTo>
                    <a:pt x="199" y="40"/>
                  </a:lnTo>
                  <a:lnTo>
                    <a:pt x="207" y="48"/>
                  </a:lnTo>
                  <a:lnTo>
                    <a:pt x="212" y="58"/>
                  </a:lnTo>
                  <a:lnTo>
                    <a:pt x="217" y="68"/>
                  </a:lnTo>
                  <a:lnTo>
                    <a:pt x="221" y="78"/>
                  </a:lnTo>
                  <a:lnTo>
                    <a:pt x="223" y="88"/>
                  </a:lnTo>
                  <a:lnTo>
                    <a:pt x="226" y="98"/>
                  </a:lnTo>
                  <a:lnTo>
                    <a:pt x="226" y="109"/>
                  </a:lnTo>
                  <a:lnTo>
                    <a:pt x="226" y="119"/>
                  </a:lnTo>
                  <a:lnTo>
                    <a:pt x="224" y="130"/>
                  </a:lnTo>
                  <a:lnTo>
                    <a:pt x="222" y="140"/>
                  </a:lnTo>
                  <a:lnTo>
                    <a:pt x="218" y="150"/>
                  </a:lnTo>
                  <a:lnTo>
                    <a:pt x="213" y="160"/>
                  </a:lnTo>
                  <a:lnTo>
                    <a:pt x="208" y="170"/>
                  </a:lnTo>
                  <a:lnTo>
                    <a:pt x="201" y="17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1646280" y="2649600"/>
              <a:ext cx="28440" cy="28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64" y="57"/>
                  </a:moveTo>
                  <a:lnTo>
                    <a:pt x="59" y="62"/>
                  </a:lnTo>
                  <a:lnTo>
                    <a:pt x="53" y="66"/>
                  </a:lnTo>
                  <a:lnTo>
                    <a:pt x="46" y="68"/>
                  </a:lnTo>
                  <a:lnTo>
                    <a:pt x="39" y="70"/>
                  </a:lnTo>
                  <a:lnTo>
                    <a:pt x="33" y="70"/>
                  </a:lnTo>
                  <a:lnTo>
                    <a:pt x="25" y="68"/>
                  </a:lnTo>
                  <a:lnTo>
                    <a:pt x="19" y="66"/>
                  </a:lnTo>
                  <a:lnTo>
                    <a:pt x="13" y="62"/>
                  </a:lnTo>
                  <a:lnTo>
                    <a:pt x="8" y="57"/>
                  </a:lnTo>
                  <a:lnTo>
                    <a:pt x="4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9"/>
                  </a:lnTo>
                  <a:lnTo>
                    <a:pt x="8" y="12"/>
                  </a:lnTo>
                  <a:lnTo>
                    <a:pt x="13" y="7"/>
                  </a:lnTo>
                  <a:lnTo>
                    <a:pt x="18" y="4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1" y="4"/>
                  </a:lnTo>
                  <a:lnTo>
                    <a:pt x="58" y="7"/>
                  </a:lnTo>
                  <a:lnTo>
                    <a:pt x="63" y="12"/>
                  </a:lnTo>
                  <a:lnTo>
                    <a:pt x="66" y="19"/>
                  </a:lnTo>
                  <a:lnTo>
                    <a:pt x="70" y="25"/>
                  </a:lnTo>
                  <a:lnTo>
                    <a:pt x="71" y="31"/>
                  </a:lnTo>
                  <a:lnTo>
                    <a:pt x="71" y="37"/>
                  </a:lnTo>
                  <a:lnTo>
                    <a:pt x="70" y="45"/>
                  </a:lnTo>
                  <a:lnTo>
                    <a:pt x="67" y="51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1644480" y="2571840"/>
              <a:ext cx="149400" cy="96840"/>
            </a:xfrm>
            <a:custGeom>
              <a:avLst/>
              <a:gdLst/>
              <a:ahLst/>
              <a:rect l="l" t="t" r="r" b="b"/>
              <a:pathLst>
                <a:path w="376" h="243">
                  <a:moveTo>
                    <a:pt x="0" y="86"/>
                  </a:moveTo>
                  <a:lnTo>
                    <a:pt x="5" y="79"/>
                  </a:lnTo>
                  <a:lnTo>
                    <a:pt x="19" y="63"/>
                  </a:lnTo>
                  <a:lnTo>
                    <a:pt x="30" y="52"/>
                  </a:lnTo>
                  <a:lnTo>
                    <a:pt x="42" y="41"/>
                  </a:lnTo>
                  <a:lnTo>
                    <a:pt x="58" y="31"/>
                  </a:lnTo>
                  <a:lnTo>
                    <a:pt x="76" y="20"/>
                  </a:lnTo>
                  <a:lnTo>
                    <a:pt x="84" y="16"/>
                  </a:lnTo>
                  <a:lnTo>
                    <a:pt x="96" y="11"/>
                  </a:lnTo>
                  <a:lnTo>
                    <a:pt x="106" y="9"/>
                  </a:lnTo>
                  <a:lnTo>
                    <a:pt x="117" y="5"/>
                  </a:lnTo>
                  <a:lnTo>
                    <a:pt x="129" y="2"/>
                  </a:lnTo>
                  <a:lnTo>
                    <a:pt x="142" y="1"/>
                  </a:lnTo>
                  <a:lnTo>
                    <a:pt x="155" y="0"/>
                  </a:lnTo>
                  <a:lnTo>
                    <a:pt x="168" y="0"/>
                  </a:lnTo>
                  <a:lnTo>
                    <a:pt x="182" y="1"/>
                  </a:lnTo>
                  <a:lnTo>
                    <a:pt x="197" y="4"/>
                  </a:lnTo>
                  <a:lnTo>
                    <a:pt x="212" y="6"/>
                  </a:lnTo>
                  <a:lnTo>
                    <a:pt x="228" y="11"/>
                  </a:lnTo>
                  <a:lnTo>
                    <a:pt x="245" y="17"/>
                  </a:lnTo>
                  <a:lnTo>
                    <a:pt x="261" y="25"/>
                  </a:lnTo>
                  <a:lnTo>
                    <a:pt x="278" y="34"/>
                  </a:lnTo>
                  <a:lnTo>
                    <a:pt x="297" y="43"/>
                  </a:lnTo>
                  <a:lnTo>
                    <a:pt x="302" y="46"/>
                  </a:lnTo>
                  <a:lnTo>
                    <a:pt x="314" y="55"/>
                  </a:lnTo>
                  <a:lnTo>
                    <a:pt x="323" y="62"/>
                  </a:lnTo>
                  <a:lnTo>
                    <a:pt x="332" y="71"/>
                  </a:lnTo>
                  <a:lnTo>
                    <a:pt x="340" y="81"/>
                  </a:lnTo>
                  <a:lnTo>
                    <a:pt x="349" y="92"/>
                  </a:lnTo>
                  <a:lnTo>
                    <a:pt x="358" y="105"/>
                  </a:lnTo>
                  <a:lnTo>
                    <a:pt x="365" y="120"/>
                  </a:lnTo>
                  <a:lnTo>
                    <a:pt x="371" y="136"/>
                  </a:lnTo>
                  <a:lnTo>
                    <a:pt x="375" y="154"/>
                  </a:lnTo>
                  <a:lnTo>
                    <a:pt x="376" y="164"/>
                  </a:lnTo>
                  <a:lnTo>
                    <a:pt x="376" y="174"/>
                  </a:lnTo>
                  <a:lnTo>
                    <a:pt x="376" y="185"/>
                  </a:lnTo>
                  <a:lnTo>
                    <a:pt x="375" y="196"/>
                  </a:lnTo>
                  <a:lnTo>
                    <a:pt x="374" y="207"/>
                  </a:lnTo>
                  <a:lnTo>
                    <a:pt x="371" y="218"/>
                  </a:lnTo>
                  <a:lnTo>
                    <a:pt x="369" y="231"/>
                  </a:lnTo>
                  <a:lnTo>
                    <a:pt x="364" y="243"/>
                  </a:lnTo>
                  <a:lnTo>
                    <a:pt x="365" y="238"/>
                  </a:lnTo>
                  <a:lnTo>
                    <a:pt x="365" y="222"/>
                  </a:lnTo>
                  <a:lnTo>
                    <a:pt x="364" y="211"/>
                  </a:lnTo>
                  <a:lnTo>
                    <a:pt x="361" y="197"/>
                  </a:lnTo>
                  <a:lnTo>
                    <a:pt x="358" y="184"/>
                  </a:lnTo>
                  <a:lnTo>
                    <a:pt x="353" y="168"/>
                  </a:lnTo>
                  <a:lnTo>
                    <a:pt x="345" y="151"/>
                  </a:lnTo>
                  <a:lnTo>
                    <a:pt x="336" y="135"/>
                  </a:lnTo>
                  <a:lnTo>
                    <a:pt x="324" y="118"/>
                  </a:lnTo>
                  <a:lnTo>
                    <a:pt x="309" y="101"/>
                  </a:lnTo>
                  <a:lnTo>
                    <a:pt x="300" y="92"/>
                  </a:lnTo>
                  <a:lnTo>
                    <a:pt x="291" y="84"/>
                  </a:lnTo>
                  <a:lnTo>
                    <a:pt x="279" y="76"/>
                  </a:lnTo>
                  <a:lnTo>
                    <a:pt x="268" y="68"/>
                  </a:lnTo>
                  <a:lnTo>
                    <a:pt x="256" y="61"/>
                  </a:lnTo>
                  <a:lnTo>
                    <a:pt x="242" y="52"/>
                  </a:lnTo>
                  <a:lnTo>
                    <a:pt x="228" y="46"/>
                  </a:lnTo>
                  <a:lnTo>
                    <a:pt x="212" y="38"/>
                  </a:lnTo>
                  <a:lnTo>
                    <a:pt x="209" y="37"/>
                  </a:lnTo>
                  <a:lnTo>
                    <a:pt x="197" y="34"/>
                  </a:lnTo>
                  <a:lnTo>
                    <a:pt x="190" y="31"/>
                  </a:lnTo>
                  <a:lnTo>
                    <a:pt x="180" y="30"/>
                  </a:lnTo>
                  <a:lnTo>
                    <a:pt x="169" y="29"/>
                  </a:lnTo>
                  <a:lnTo>
                    <a:pt x="155" y="27"/>
                  </a:lnTo>
                  <a:lnTo>
                    <a:pt x="142" y="29"/>
                  </a:lnTo>
                  <a:lnTo>
                    <a:pt x="125" y="31"/>
                  </a:lnTo>
                  <a:lnTo>
                    <a:pt x="108" y="35"/>
                  </a:lnTo>
                  <a:lnTo>
                    <a:pt x="88" y="40"/>
                  </a:lnTo>
                  <a:lnTo>
                    <a:pt x="68" y="47"/>
                  </a:lnTo>
                  <a:lnTo>
                    <a:pt x="47" y="57"/>
                  </a:lnTo>
                  <a:lnTo>
                    <a:pt x="24" y="71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676520" y="2468520"/>
              <a:ext cx="104760" cy="71640"/>
            </a:xfrm>
            <a:custGeom>
              <a:avLst/>
              <a:gdLst/>
              <a:ahLst/>
              <a:rect l="l" t="t" r="r" b="b"/>
              <a:pathLst>
                <a:path w="265" h="180">
                  <a:moveTo>
                    <a:pt x="261" y="131"/>
                  </a:moveTo>
                  <a:lnTo>
                    <a:pt x="263" y="137"/>
                  </a:lnTo>
                  <a:lnTo>
                    <a:pt x="265" y="145"/>
                  </a:lnTo>
                  <a:lnTo>
                    <a:pt x="263" y="151"/>
                  </a:lnTo>
                  <a:lnTo>
                    <a:pt x="262" y="157"/>
                  </a:lnTo>
                  <a:lnTo>
                    <a:pt x="258" y="163"/>
                  </a:lnTo>
                  <a:lnTo>
                    <a:pt x="255" y="168"/>
                  </a:lnTo>
                  <a:lnTo>
                    <a:pt x="250" y="173"/>
                  </a:lnTo>
                  <a:lnTo>
                    <a:pt x="244" y="176"/>
                  </a:lnTo>
                  <a:lnTo>
                    <a:pt x="237" y="178"/>
                  </a:lnTo>
                  <a:lnTo>
                    <a:pt x="230" y="180"/>
                  </a:lnTo>
                  <a:lnTo>
                    <a:pt x="224" y="178"/>
                  </a:lnTo>
                  <a:lnTo>
                    <a:pt x="217" y="177"/>
                  </a:lnTo>
                  <a:lnTo>
                    <a:pt x="211" y="173"/>
                  </a:lnTo>
                  <a:lnTo>
                    <a:pt x="206" y="170"/>
                  </a:lnTo>
                  <a:lnTo>
                    <a:pt x="201" y="165"/>
                  </a:lnTo>
                  <a:lnTo>
                    <a:pt x="199" y="159"/>
                  </a:lnTo>
                  <a:lnTo>
                    <a:pt x="189" y="141"/>
                  </a:lnTo>
                  <a:lnTo>
                    <a:pt x="179" y="126"/>
                  </a:lnTo>
                  <a:lnTo>
                    <a:pt x="168" y="113"/>
                  </a:lnTo>
                  <a:lnTo>
                    <a:pt x="155" y="103"/>
                  </a:lnTo>
                  <a:lnTo>
                    <a:pt x="142" y="93"/>
                  </a:lnTo>
                  <a:lnTo>
                    <a:pt x="129" y="87"/>
                  </a:lnTo>
                  <a:lnTo>
                    <a:pt x="116" y="80"/>
                  </a:lnTo>
                  <a:lnTo>
                    <a:pt x="103" y="75"/>
                  </a:lnTo>
                  <a:lnTo>
                    <a:pt x="91" y="73"/>
                  </a:lnTo>
                  <a:lnTo>
                    <a:pt x="78" y="70"/>
                  </a:lnTo>
                  <a:lnTo>
                    <a:pt x="68" y="69"/>
                  </a:lnTo>
                  <a:lnTo>
                    <a:pt x="59" y="68"/>
                  </a:lnTo>
                  <a:lnTo>
                    <a:pt x="44" y="68"/>
                  </a:lnTo>
                  <a:lnTo>
                    <a:pt x="37" y="68"/>
                  </a:lnTo>
                  <a:lnTo>
                    <a:pt x="31" y="68"/>
                  </a:lnTo>
                  <a:lnTo>
                    <a:pt x="24" y="67"/>
                  </a:lnTo>
                  <a:lnTo>
                    <a:pt x="18" y="64"/>
                  </a:lnTo>
                  <a:lnTo>
                    <a:pt x="13" y="60"/>
                  </a:lnTo>
                  <a:lnTo>
                    <a:pt x="8" y="56"/>
                  </a:lnTo>
                  <a:lnTo>
                    <a:pt x="4" y="51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5"/>
                  </a:lnTo>
                  <a:lnTo>
                    <a:pt x="4" y="18"/>
                  </a:lnTo>
                  <a:lnTo>
                    <a:pt x="8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8" y="0"/>
                  </a:lnTo>
                  <a:lnTo>
                    <a:pt x="83" y="1"/>
                  </a:lnTo>
                  <a:lnTo>
                    <a:pt x="100" y="5"/>
                  </a:lnTo>
                  <a:lnTo>
                    <a:pt x="114" y="8"/>
                  </a:lnTo>
                  <a:lnTo>
                    <a:pt x="132" y="13"/>
                  </a:lnTo>
                  <a:lnTo>
                    <a:pt x="148" y="20"/>
                  </a:lnTo>
                  <a:lnTo>
                    <a:pt x="164" y="27"/>
                  </a:lnTo>
                  <a:lnTo>
                    <a:pt x="180" y="37"/>
                  </a:lnTo>
                  <a:lnTo>
                    <a:pt x="196" y="48"/>
                  </a:lnTo>
                  <a:lnTo>
                    <a:pt x="211" y="60"/>
                  </a:lnTo>
                  <a:lnTo>
                    <a:pt x="225" y="75"/>
                  </a:lnTo>
                  <a:lnTo>
                    <a:pt x="239" y="92"/>
                  </a:lnTo>
                  <a:lnTo>
                    <a:pt x="251" y="110"/>
                  </a:lnTo>
                  <a:lnTo>
                    <a:pt x="261" y="13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1200" y="735120"/>
              <a:ext cx="1920600" cy="1798560"/>
            </a:xfrm>
            <a:custGeom>
              <a:avLst/>
              <a:gdLst/>
              <a:ahLst/>
              <a:rect l="l" t="t" r="r" b="b"/>
              <a:pathLst>
                <a:path w="4839" h="4533">
                  <a:moveTo>
                    <a:pt x="1050" y="4533"/>
                  </a:moveTo>
                  <a:lnTo>
                    <a:pt x="1053" y="4512"/>
                  </a:lnTo>
                  <a:lnTo>
                    <a:pt x="1060" y="4452"/>
                  </a:lnTo>
                  <a:lnTo>
                    <a:pt x="1072" y="4356"/>
                  </a:lnTo>
                  <a:lnTo>
                    <a:pt x="1085" y="4232"/>
                  </a:lnTo>
                  <a:lnTo>
                    <a:pt x="1100" y="4083"/>
                  </a:lnTo>
                  <a:lnTo>
                    <a:pt x="1116" y="3917"/>
                  </a:lnTo>
                  <a:lnTo>
                    <a:pt x="1132" y="3736"/>
                  </a:lnTo>
                  <a:lnTo>
                    <a:pt x="1147" y="3546"/>
                  </a:lnTo>
                  <a:lnTo>
                    <a:pt x="1155" y="3450"/>
                  </a:lnTo>
                  <a:lnTo>
                    <a:pt x="1160" y="3354"/>
                  </a:lnTo>
                  <a:lnTo>
                    <a:pt x="1166" y="3258"/>
                  </a:lnTo>
                  <a:lnTo>
                    <a:pt x="1170" y="3163"/>
                  </a:lnTo>
                  <a:lnTo>
                    <a:pt x="1173" y="3069"/>
                  </a:lnTo>
                  <a:lnTo>
                    <a:pt x="1176" y="2979"/>
                  </a:lnTo>
                  <a:lnTo>
                    <a:pt x="1177" y="2892"/>
                  </a:lnTo>
                  <a:lnTo>
                    <a:pt x="1177" y="2808"/>
                  </a:lnTo>
                  <a:lnTo>
                    <a:pt x="1176" y="2728"/>
                  </a:lnTo>
                  <a:lnTo>
                    <a:pt x="1172" y="2654"/>
                  </a:lnTo>
                  <a:lnTo>
                    <a:pt x="1167" y="2584"/>
                  </a:lnTo>
                  <a:lnTo>
                    <a:pt x="1161" y="2522"/>
                  </a:lnTo>
                  <a:lnTo>
                    <a:pt x="1152" y="2466"/>
                  </a:lnTo>
                  <a:lnTo>
                    <a:pt x="1142" y="2418"/>
                  </a:lnTo>
                  <a:lnTo>
                    <a:pt x="1129" y="2378"/>
                  </a:lnTo>
                  <a:lnTo>
                    <a:pt x="1114" y="2346"/>
                  </a:lnTo>
                  <a:lnTo>
                    <a:pt x="1154" y="2625"/>
                  </a:lnTo>
                  <a:lnTo>
                    <a:pt x="1139" y="2631"/>
                  </a:lnTo>
                  <a:lnTo>
                    <a:pt x="1100" y="2648"/>
                  </a:lnTo>
                  <a:lnTo>
                    <a:pt x="1072" y="2658"/>
                  </a:lnTo>
                  <a:lnTo>
                    <a:pt x="1038" y="2669"/>
                  </a:lnTo>
                  <a:lnTo>
                    <a:pt x="1001" y="2679"/>
                  </a:lnTo>
                  <a:lnTo>
                    <a:pt x="959" y="2690"/>
                  </a:lnTo>
                  <a:lnTo>
                    <a:pt x="914" y="2698"/>
                  </a:lnTo>
                  <a:lnTo>
                    <a:pt x="865" y="2707"/>
                  </a:lnTo>
                  <a:lnTo>
                    <a:pt x="815" y="2712"/>
                  </a:lnTo>
                  <a:lnTo>
                    <a:pt x="762" y="2716"/>
                  </a:lnTo>
                  <a:lnTo>
                    <a:pt x="708" y="2716"/>
                  </a:lnTo>
                  <a:lnTo>
                    <a:pt x="652" y="2712"/>
                  </a:lnTo>
                  <a:lnTo>
                    <a:pt x="596" y="2705"/>
                  </a:lnTo>
                  <a:lnTo>
                    <a:pt x="539" y="2692"/>
                  </a:lnTo>
                  <a:lnTo>
                    <a:pt x="483" y="2675"/>
                  </a:lnTo>
                  <a:lnTo>
                    <a:pt x="428" y="2651"/>
                  </a:lnTo>
                  <a:lnTo>
                    <a:pt x="374" y="2620"/>
                  </a:lnTo>
                  <a:lnTo>
                    <a:pt x="322" y="2583"/>
                  </a:lnTo>
                  <a:lnTo>
                    <a:pt x="272" y="2538"/>
                  </a:lnTo>
                  <a:lnTo>
                    <a:pt x="225" y="2486"/>
                  </a:lnTo>
                  <a:lnTo>
                    <a:pt x="180" y="2424"/>
                  </a:lnTo>
                  <a:lnTo>
                    <a:pt x="140" y="2354"/>
                  </a:lnTo>
                  <a:lnTo>
                    <a:pt x="104" y="2273"/>
                  </a:lnTo>
                  <a:lnTo>
                    <a:pt x="72" y="2182"/>
                  </a:lnTo>
                  <a:lnTo>
                    <a:pt x="46" y="2082"/>
                  </a:lnTo>
                  <a:lnTo>
                    <a:pt x="25" y="1969"/>
                  </a:lnTo>
                  <a:lnTo>
                    <a:pt x="10" y="1844"/>
                  </a:lnTo>
                  <a:lnTo>
                    <a:pt x="1" y="1706"/>
                  </a:lnTo>
                  <a:lnTo>
                    <a:pt x="0" y="1556"/>
                  </a:lnTo>
                  <a:lnTo>
                    <a:pt x="7" y="1392"/>
                  </a:lnTo>
                  <a:lnTo>
                    <a:pt x="11" y="1380"/>
                  </a:lnTo>
                  <a:lnTo>
                    <a:pt x="24" y="1344"/>
                  </a:lnTo>
                  <a:lnTo>
                    <a:pt x="33" y="1318"/>
                  </a:lnTo>
                  <a:lnTo>
                    <a:pt x="46" y="1288"/>
                  </a:lnTo>
                  <a:lnTo>
                    <a:pt x="60" y="1254"/>
                  </a:lnTo>
                  <a:lnTo>
                    <a:pt x="77" y="1217"/>
                  </a:lnTo>
                  <a:lnTo>
                    <a:pt x="96" y="1177"/>
                  </a:lnTo>
                  <a:lnTo>
                    <a:pt x="118" y="1134"/>
                  </a:lnTo>
                  <a:lnTo>
                    <a:pt x="143" y="1089"/>
                  </a:lnTo>
                  <a:lnTo>
                    <a:pt x="169" y="1043"/>
                  </a:lnTo>
                  <a:lnTo>
                    <a:pt x="199" y="996"/>
                  </a:lnTo>
                  <a:lnTo>
                    <a:pt x="232" y="948"/>
                  </a:lnTo>
                  <a:lnTo>
                    <a:pt x="267" y="901"/>
                  </a:lnTo>
                  <a:lnTo>
                    <a:pt x="305" y="852"/>
                  </a:lnTo>
                  <a:lnTo>
                    <a:pt x="346" y="806"/>
                  </a:lnTo>
                  <a:lnTo>
                    <a:pt x="391" y="761"/>
                  </a:lnTo>
                  <a:lnTo>
                    <a:pt x="438" y="717"/>
                  </a:lnTo>
                  <a:lnTo>
                    <a:pt x="488" y="675"/>
                  </a:lnTo>
                  <a:lnTo>
                    <a:pt x="541" y="636"/>
                  </a:lnTo>
                  <a:lnTo>
                    <a:pt x="598" y="600"/>
                  </a:lnTo>
                  <a:lnTo>
                    <a:pt x="658" y="569"/>
                  </a:lnTo>
                  <a:lnTo>
                    <a:pt x="721" y="541"/>
                  </a:lnTo>
                  <a:lnTo>
                    <a:pt x="787" y="519"/>
                  </a:lnTo>
                  <a:lnTo>
                    <a:pt x="858" y="500"/>
                  </a:lnTo>
                  <a:lnTo>
                    <a:pt x="931" y="488"/>
                  </a:lnTo>
                  <a:lnTo>
                    <a:pt x="1008" y="481"/>
                  </a:lnTo>
                  <a:lnTo>
                    <a:pt x="1089" y="481"/>
                  </a:lnTo>
                  <a:lnTo>
                    <a:pt x="1173" y="488"/>
                  </a:lnTo>
                  <a:lnTo>
                    <a:pt x="1262" y="502"/>
                  </a:lnTo>
                  <a:lnTo>
                    <a:pt x="1352" y="525"/>
                  </a:lnTo>
                  <a:lnTo>
                    <a:pt x="1356" y="516"/>
                  </a:lnTo>
                  <a:lnTo>
                    <a:pt x="1363" y="494"/>
                  </a:lnTo>
                  <a:lnTo>
                    <a:pt x="1371" y="478"/>
                  </a:lnTo>
                  <a:lnTo>
                    <a:pt x="1380" y="460"/>
                  </a:lnTo>
                  <a:lnTo>
                    <a:pt x="1389" y="439"/>
                  </a:lnTo>
                  <a:lnTo>
                    <a:pt x="1401" y="417"/>
                  </a:lnTo>
                  <a:lnTo>
                    <a:pt x="1416" y="393"/>
                  </a:lnTo>
                  <a:lnTo>
                    <a:pt x="1432" y="367"/>
                  </a:lnTo>
                  <a:lnTo>
                    <a:pt x="1450" y="341"/>
                  </a:lnTo>
                  <a:lnTo>
                    <a:pt x="1470" y="315"/>
                  </a:lnTo>
                  <a:lnTo>
                    <a:pt x="1494" y="289"/>
                  </a:lnTo>
                  <a:lnTo>
                    <a:pt x="1519" y="263"/>
                  </a:lnTo>
                  <a:lnTo>
                    <a:pt x="1547" y="237"/>
                  </a:lnTo>
                  <a:lnTo>
                    <a:pt x="1578" y="213"/>
                  </a:lnTo>
                  <a:lnTo>
                    <a:pt x="1612" y="190"/>
                  </a:lnTo>
                  <a:lnTo>
                    <a:pt x="1648" y="169"/>
                  </a:lnTo>
                  <a:lnTo>
                    <a:pt x="1686" y="149"/>
                  </a:lnTo>
                  <a:lnTo>
                    <a:pt x="1728" y="131"/>
                  </a:lnTo>
                  <a:lnTo>
                    <a:pt x="1774" y="118"/>
                  </a:lnTo>
                  <a:lnTo>
                    <a:pt x="1823" y="107"/>
                  </a:lnTo>
                  <a:lnTo>
                    <a:pt x="1875" y="98"/>
                  </a:lnTo>
                  <a:lnTo>
                    <a:pt x="1930" y="94"/>
                  </a:lnTo>
                  <a:lnTo>
                    <a:pt x="1988" y="94"/>
                  </a:lnTo>
                  <a:lnTo>
                    <a:pt x="2050" y="99"/>
                  </a:lnTo>
                  <a:lnTo>
                    <a:pt x="2116" y="109"/>
                  </a:lnTo>
                  <a:lnTo>
                    <a:pt x="2185" y="124"/>
                  </a:lnTo>
                  <a:lnTo>
                    <a:pt x="2260" y="144"/>
                  </a:lnTo>
                  <a:lnTo>
                    <a:pt x="2337" y="171"/>
                  </a:lnTo>
                  <a:lnTo>
                    <a:pt x="2418" y="203"/>
                  </a:lnTo>
                  <a:lnTo>
                    <a:pt x="2503" y="243"/>
                  </a:lnTo>
                  <a:lnTo>
                    <a:pt x="2527" y="233"/>
                  </a:lnTo>
                  <a:lnTo>
                    <a:pt x="2591" y="207"/>
                  </a:lnTo>
                  <a:lnTo>
                    <a:pt x="2637" y="191"/>
                  </a:lnTo>
                  <a:lnTo>
                    <a:pt x="2692" y="171"/>
                  </a:lnTo>
                  <a:lnTo>
                    <a:pt x="2753" y="150"/>
                  </a:lnTo>
                  <a:lnTo>
                    <a:pt x="2820" y="129"/>
                  </a:lnTo>
                  <a:lnTo>
                    <a:pt x="2892" y="108"/>
                  </a:lnTo>
                  <a:lnTo>
                    <a:pt x="2968" y="86"/>
                  </a:lnTo>
                  <a:lnTo>
                    <a:pt x="3048" y="66"/>
                  </a:lnTo>
                  <a:lnTo>
                    <a:pt x="3130" y="47"/>
                  </a:lnTo>
                  <a:lnTo>
                    <a:pt x="3215" y="31"/>
                  </a:lnTo>
                  <a:lnTo>
                    <a:pt x="3301" y="17"/>
                  </a:lnTo>
                  <a:lnTo>
                    <a:pt x="3385" y="7"/>
                  </a:lnTo>
                  <a:lnTo>
                    <a:pt x="3469" y="1"/>
                  </a:lnTo>
                  <a:lnTo>
                    <a:pt x="3553" y="0"/>
                  </a:lnTo>
                  <a:lnTo>
                    <a:pt x="3632" y="5"/>
                  </a:lnTo>
                  <a:lnTo>
                    <a:pt x="3708" y="15"/>
                  </a:lnTo>
                  <a:lnTo>
                    <a:pt x="3780" y="32"/>
                  </a:lnTo>
                  <a:lnTo>
                    <a:pt x="3847" y="56"/>
                  </a:lnTo>
                  <a:lnTo>
                    <a:pt x="3906" y="88"/>
                  </a:lnTo>
                  <a:lnTo>
                    <a:pt x="3960" y="129"/>
                  </a:lnTo>
                  <a:lnTo>
                    <a:pt x="4006" y="179"/>
                  </a:lnTo>
                  <a:lnTo>
                    <a:pt x="4042" y="238"/>
                  </a:lnTo>
                  <a:lnTo>
                    <a:pt x="4069" y="308"/>
                  </a:lnTo>
                  <a:lnTo>
                    <a:pt x="4085" y="388"/>
                  </a:lnTo>
                  <a:lnTo>
                    <a:pt x="4090" y="481"/>
                  </a:lnTo>
                  <a:lnTo>
                    <a:pt x="4084" y="586"/>
                  </a:lnTo>
                  <a:lnTo>
                    <a:pt x="4063" y="703"/>
                  </a:lnTo>
                  <a:lnTo>
                    <a:pt x="4029" y="835"/>
                  </a:lnTo>
                  <a:lnTo>
                    <a:pt x="3980" y="980"/>
                  </a:lnTo>
                  <a:lnTo>
                    <a:pt x="3983" y="974"/>
                  </a:lnTo>
                  <a:lnTo>
                    <a:pt x="3997" y="959"/>
                  </a:lnTo>
                  <a:lnTo>
                    <a:pt x="4006" y="948"/>
                  </a:lnTo>
                  <a:lnTo>
                    <a:pt x="4017" y="935"/>
                  </a:lnTo>
                  <a:lnTo>
                    <a:pt x="4029" y="923"/>
                  </a:lnTo>
                  <a:lnTo>
                    <a:pt x="4044" y="909"/>
                  </a:lnTo>
                  <a:lnTo>
                    <a:pt x="4062" y="895"/>
                  </a:lnTo>
                  <a:lnTo>
                    <a:pt x="4080" y="881"/>
                  </a:lnTo>
                  <a:lnTo>
                    <a:pt x="4100" y="867"/>
                  </a:lnTo>
                  <a:lnTo>
                    <a:pt x="4121" y="855"/>
                  </a:lnTo>
                  <a:lnTo>
                    <a:pt x="4145" y="842"/>
                  </a:lnTo>
                  <a:lnTo>
                    <a:pt x="4170" y="832"/>
                  </a:lnTo>
                  <a:lnTo>
                    <a:pt x="4196" y="824"/>
                  </a:lnTo>
                  <a:lnTo>
                    <a:pt x="4224" y="818"/>
                  </a:lnTo>
                  <a:lnTo>
                    <a:pt x="4253" y="814"/>
                  </a:lnTo>
                  <a:lnTo>
                    <a:pt x="4284" y="813"/>
                  </a:lnTo>
                  <a:lnTo>
                    <a:pt x="4315" y="815"/>
                  </a:lnTo>
                  <a:lnTo>
                    <a:pt x="4349" y="821"/>
                  </a:lnTo>
                  <a:lnTo>
                    <a:pt x="4383" y="831"/>
                  </a:lnTo>
                  <a:lnTo>
                    <a:pt x="4418" y="846"/>
                  </a:lnTo>
                  <a:lnTo>
                    <a:pt x="4455" y="865"/>
                  </a:lnTo>
                  <a:lnTo>
                    <a:pt x="4493" y="888"/>
                  </a:lnTo>
                  <a:lnTo>
                    <a:pt x="4531" y="918"/>
                  </a:lnTo>
                  <a:lnTo>
                    <a:pt x="4571" y="953"/>
                  </a:lnTo>
                  <a:lnTo>
                    <a:pt x="4612" y="995"/>
                  </a:lnTo>
                  <a:lnTo>
                    <a:pt x="4653" y="1042"/>
                  </a:lnTo>
                  <a:lnTo>
                    <a:pt x="4695" y="1097"/>
                  </a:lnTo>
                  <a:lnTo>
                    <a:pt x="4738" y="1159"/>
                  </a:lnTo>
                  <a:lnTo>
                    <a:pt x="4782" y="1228"/>
                  </a:lnTo>
                  <a:lnTo>
                    <a:pt x="4827" y="1305"/>
                  </a:lnTo>
                  <a:lnTo>
                    <a:pt x="4829" y="1325"/>
                  </a:lnTo>
                  <a:lnTo>
                    <a:pt x="4834" y="1381"/>
                  </a:lnTo>
                  <a:lnTo>
                    <a:pt x="4837" y="1421"/>
                  </a:lnTo>
                  <a:lnTo>
                    <a:pt x="4838" y="1466"/>
                  </a:lnTo>
                  <a:lnTo>
                    <a:pt x="4839" y="1519"/>
                  </a:lnTo>
                  <a:lnTo>
                    <a:pt x="4839" y="1577"/>
                  </a:lnTo>
                  <a:lnTo>
                    <a:pt x="4838" y="1639"/>
                  </a:lnTo>
                  <a:lnTo>
                    <a:pt x="4833" y="1706"/>
                  </a:lnTo>
                  <a:lnTo>
                    <a:pt x="4827" y="1775"/>
                  </a:lnTo>
                  <a:lnTo>
                    <a:pt x="4818" y="1849"/>
                  </a:lnTo>
                  <a:lnTo>
                    <a:pt x="4806" y="1923"/>
                  </a:lnTo>
                  <a:lnTo>
                    <a:pt x="4791" y="1999"/>
                  </a:lnTo>
                  <a:lnTo>
                    <a:pt x="4771" y="2076"/>
                  </a:lnTo>
                  <a:lnTo>
                    <a:pt x="4746" y="2153"/>
                  </a:lnTo>
                  <a:lnTo>
                    <a:pt x="4717" y="2228"/>
                  </a:lnTo>
                  <a:lnTo>
                    <a:pt x="4684" y="2303"/>
                  </a:lnTo>
                  <a:lnTo>
                    <a:pt x="4644" y="2375"/>
                  </a:lnTo>
                  <a:lnTo>
                    <a:pt x="4599" y="2444"/>
                  </a:lnTo>
                  <a:lnTo>
                    <a:pt x="4547" y="2511"/>
                  </a:lnTo>
                  <a:lnTo>
                    <a:pt x="4490" y="2572"/>
                  </a:lnTo>
                  <a:lnTo>
                    <a:pt x="4424" y="2629"/>
                  </a:lnTo>
                  <a:lnTo>
                    <a:pt x="4352" y="2680"/>
                  </a:lnTo>
                  <a:lnTo>
                    <a:pt x="4272" y="2725"/>
                  </a:lnTo>
                  <a:lnTo>
                    <a:pt x="4183" y="2763"/>
                  </a:lnTo>
                  <a:lnTo>
                    <a:pt x="4087" y="2793"/>
                  </a:lnTo>
                  <a:lnTo>
                    <a:pt x="3981" y="2815"/>
                  </a:lnTo>
                  <a:lnTo>
                    <a:pt x="3865" y="2828"/>
                  </a:lnTo>
                  <a:lnTo>
                    <a:pt x="3741" y="2830"/>
                  </a:lnTo>
                  <a:lnTo>
                    <a:pt x="3606" y="2823"/>
                  </a:lnTo>
                  <a:lnTo>
                    <a:pt x="3461" y="2804"/>
                  </a:lnTo>
                  <a:lnTo>
                    <a:pt x="3654" y="2390"/>
                  </a:lnTo>
                  <a:lnTo>
                    <a:pt x="3651" y="2398"/>
                  </a:lnTo>
                  <a:lnTo>
                    <a:pt x="3641" y="2421"/>
                  </a:lnTo>
                  <a:lnTo>
                    <a:pt x="3623" y="2457"/>
                  </a:lnTo>
                  <a:lnTo>
                    <a:pt x="3601" y="2505"/>
                  </a:lnTo>
                  <a:lnTo>
                    <a:pt x="3574" y="2563"/>
                  </a:lnTo>
                  <a:lnTo>
                    <a:pt x="3543" y="2631"/>
                  </a:lnTo>
                  <a:lnTo>
                    <a:pt x="3507" y="2706"/>
                  </a:lnTo>
                  <a:lnTo>
                    <a:pt x="3467" y="2788"/>
                  </a:lnTo>
                  <a:lnTo>
                    <a:pt x="2629" y="4278"/>
                  </a:lnTo>
                  <a:lnTo>
                    <a:pt x="2665" y="4310"/>
                  </a:lnTo>
                  <a:lnTo>
                    <a:pt x="2692" y="4336"/>
                  </a:lnTo>
                  <a:lnTo>
                    <a:pt x="2709" y="4354"/>
                  </a:lnTo>
                  <a:lnTo>
                    <a:pt x="2718" y="4367"/>
                  </a:lnTo>
                  <a:lnTo>
                    <a:pt x="2718" y="4373"/>
                  </a:lnTo>
                  <a:lnTo>
                    <a:pt x="2711" y="4376"/>
                  </a:lnTo>
                  <a:lnTo>
                    <a:pt x="2696" y="4373"/>
                  </a:lnTo>
                  <a:lnTo>
                    <a:pt x="2673" y="4367"/>
                  </a:lnTo>
                  <a:lnTo>
                    <a:pt x="2609" y="4346"/>
                  </a:lnTo>
                  <a:lnTo>
                    <a:pt x="2522" y="4316"/>
                  </a:lnTo>
                  <a:lnTo>
                    <a:pt x="2470" y="4300"/>
                  </a:lnTo>
                  <a:lnTo>
                    <a:pt x="2413" y="4283"/>
                  </a:lnTo>
                  <a:lnTo>
                    <a:pt x="2352" y="4265"/>
                  </a:lnTo>
                  <a:lnTo>
                    <a:pt x="2287" y="4249"/>
                  </a:lnTo>
                  <a:lnTo>
                    <a:pt x="2219" y="4234"/>
                  </a:lnTo>
                  <a:lnTo>
                    <a:pt x="2148" y="4221"/>
                  </a:lnTo>
                  <a:lnTo>
                    <a:pt x="2074" y="4211"/>
                  </a:lnTo>
                  <a:lnTo>
                    <a:pt x="1998" y="4202"/>
                  </a:lnTo>
                  <a:lnTo>
                    <a:pt x="1920" y="4197"/>
                  </a:lnTo>
                  <a:lnTo>
                    <a:pt x="1839" y="4197"/>
                  </a:lnTo>
                  <a:lnTo>
                    <a:pt x="1758" y="4201"/>
                  </a:lnTo>
                  <a:lnTo>
                    <a:pt x="1678" y="4210"/>
                  </a:lnTo>
                  <a:lnTo>
                    <a:pt x="1596" y="4225"/>
                  </a:lnTo>
                  <a:lnTo>
                    <a:pt x="1514" y="4246"/>
                  </a:lnTo>
                  <a:lnTo>
                    <a:pt x="1433" y="4274"/>
                  </a:lnTo>
                  <a:lnTo>
                    <a:pt x="1353" y="4309"/>
                  </a:lnTo>
                  <a:lnTo>
                    <a:pt x="1274" y="4352"/>
                  </a:lnTo>
                  <a:lnTo>
                    <a:pt x="1198" y="4403"/>
                  </a:lnTo>
                  <a:lnTo>
                    <a:pt x="1122" y="4464"/>
                  </a:lnTo>
                  <a:lnTo>
                    <a:pt x="1050" y="453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766800" y="720720"/>
              <a:ext cx="1949400" cy="1827360"/>
            </a:xfrm>
            <a:custGeom>
              <a:avLst/>
              <a:gdLst/>
              <a:ahLst/>
              <a:rect l="l" t="t" r="r" b="b"/>
              <a:pathLst>
                <a:path w="4910" h="4605">
                  <a:moveTo>
                    <a:pt x="2538" y="241"/>
                  </a:moveTo>
                  <a:lnTo>
                    <a:pt x="2477" y="212"/>
                  </a:lnTo>
                  <a:lnTo>
                    <a:pt x="2418" y="187"/>
                  </a:lnTo>
                  <a:lnTo>
                    <a:pt x="2359" y="166"/>
                  </a:lnTo>
                  <a:lnTo>
                    <a:pt x="2302" y="146"/>
                  </a:lnTo>
                  <a:lnTo>
                    <a:pt x="2246" y="130"/>
                  </a:lnTo>
                  <a:lnTo>
                    <a:pt x="2191" y="118"/>
                  </a:lnTo>
                  <a:lnTo>
                    <a:pt x="2165" y="113"/>
                  </a:lnTo>
                  <a:lnTo>
                    <a:pt x="2137" y="108"/>
                  </a:lnTo>
                  <a:lnTo>
                    <a:pt x="2111" y="103"/>
                  </a:lnTo>
                  <a:lnTo>
                    <a:pt x="2085" y="100"/>
                  </a:lnTo>
                  <a:lnTo>
                    <a:pt x="2059" y="98"/>
                  </a:lnTo>
                  <a:lnTo>
                    <a:pt x="2034" y="97"/>
                  </a:lnTo>
                  <a:lnTo>
                    <a:pt x="2009" y="96"/>
                  </a:lnTo>
                  <a:lnTo>
                    <a:pt x="1984" y="96"/>
                  </a:lnTo>
                  <a:lnTo>
                    <a:pt x="1960" y="96"/>
                  </a:lnTo>
                  <a:lnTo>
                    <a:pt x="1935" y="97"/>
                  </a:lnTo>
                  <a:lnTo>
                    <a:pt x="1911" y="99"/>
                  </a:lnTo>
                  <a:lnTo>
                    <a:pt x="1888" y="102"/>
                  </a:lnTo>
                  <a:lnTo>
                    <a:pt x="1865" y="105"/>
                  </a:lnTo>
                  <a:lnTo>
                    <a:pt x="1842" y="109"/>
                  </a:lnTo>
                  <a:lnTo>
                    <a:pt x="1819" y="114"/>
                  </a:lnTo>
                  <a:lnTo>
                    <a:pt x="1797" y="120"/>
                  </a:lnTo>
                  <a:lnTo>
                    <a:pt x="1776" y="127"/>
                  </a:lnTo>
                  <a:lnTo>
                    <a:pt x="1754" y="134"/>
                  </a:lnTo>
                  <a:lnTo>
                    <a:pt x="1732" y="141"/>
                  </a:lnTo>
                  <a:lnTo>
                    <a:pt x="1711" y="150"/>
                  </a:lnTo>
                  <a:lnTo>
                    <a:pt x="1690" y="160"/>
                  </a:lnTo>
                  <a:lnTo>
                    <a:pt x="1669" y="171"/>
                  </a:lnTo>
                  <a:lnTo>
                    <a:pt x="1649" y="181"/>
                  </a:lnTo>
                  <a:lnTo>
                    <a:pt x="1631" y="194"/>
                  </a:lnTo>
                  <a:lnTo>
                    <a:pt x="1612" y="205"/>
                  </a:lnTo>
                  <a:lnTo>
                    <a:pt x="1595" y="217"/>
                  </a:lnTo>
                  <a:lnTo>
                    <a:pt x="1578" y="230"/>
                  </a:lnTo>
                  <a:lnTo>
                    <a:pt x="1562" y="242"/>
                  </a:lnTo>
                  <a:lnTo>
                    <a:pt x="1532" y="269"/>
                  </a:lnTo>
                  <a:lnTo>
                    <a:pt x="1505" y="295"/>
                  </a:lnTo>
                  <a:lnTo>
                    <a:pt x="1482" y="323"/>
                  </a:lnTo>
                  <a:lnTo>
                    <a:pt x="1459" y="350"/>
                  </a:lnTo>
                  <a:lnTo>
                    <a:pt x="1441" y="376"/>
                  </a:lnTo>
                  <a:lnTo>
                    <a:pt x="1423" y="402"/>
                  </a:lnTo>
                  <a:lnTo>
                    <a:pt x="1408" y="427"/>
                  </a:lnTo>
                  <a:lnTo>
                    <a:pt x="1396" y="450"/>
                  </a:lnTo>
                  <a:lnTo>
                    <a:pt x="1377" y="491"/>
                  </a:lnTo>
                  <a:lnTo>
                    <a:pt x="1365" y="521"/>
                  </a:lnTo>
                  <a:lnTo>
                    <a:pt x="1273" y="502"/>
                  </a:lnTo>
                  <a:lnTo>
                    <a:pt x="1186" y="490"/>
                  </a:lnTo>
                  <a:lnTo>
                    <a:pt x="1102" y="485"/>
                  </a:lnTo>
                  <a:lnTo>
                    <a:pt x="1021" y="488"/>
                  </a:lnTo>
                  <a:lnTo>
                    <a:pt x="944" y="496"/>
                  </a:lnTo>
                  <a:lnTo>
                    <a:pt x="871" y="510"/>
                  </a:lnTo>
                  <a:lnTo>
                    <a:pt x="800" y="530"/>
                  </a:lnTo>
                  <a:lnTo>
                    <a:pt x="734" y="553"/>
                  </a:lnTo>
                  <a:lnTo>
                    <a:pt x="671" y="583"/>
                  </a:lnTo>
                  <a:lnTo>
                    <a:pt x="610" y="615"/>
                  </a:lnTo>
                  <a:lnTo>
                    <a:pt x="553" y="653"/>
                  </a:lnTo>
                  <a:lnTo>
                    <a:pt x="499" y="691"/>
                  </a:lnTo>
                  <a:lnTo>
                    <a:pt x="448" y="733"/>
                  </a:lnTo>
                  <a:lnTo>
                    <a:pt x="401" y="778"/>
                  </a:lnTo>
                  <a:lnTo>
                    <a:pt x="357" y="824"/>
                  </a:lnTo>
                  <a:lnTo>
                    <a:pt x="314" y="871"/>
                  </a:lnTo>
                  <a:lnTo>
                    <a:pt x="276" y="919"/>
                  </a:lnTo>
                  <a:lnTo>
                    <a:pt x="240" y="968"/>
                  </a:lnTo>
                  <a:lnTo>
                    <a:pt x="206" y="1015"/>
                  </a:lnTo>
                  <a:lnTo>
                    <a:pt x="176" y="1063"/>
                  </a:lnTo>
                  <a:lnTo>
                    <a:pt x="149" y="1109"/>
                  </a:lnTo>
                  <a:lnTo>
                    <a:pt x="123" y="1154"/>
                  </a:lnTo>
                  <a:lnTo>
                    <a:pt x="101" y="1197"/>
                  </a:lnTo>
                  <a:lnTo>
                    <a:pt x="81" y="1238"/>
                  </a:lnTo>
                  <a:lnTo>
                    <a:pt x="63" y="1275"/>
                  </a:lnTo>
                  <a:lnTo>
                    <a:pt x="49" y="1309"/>
                  </a:lnTo>
                  <a:lnTo>
                    <a:pt x="36" y="1340"/>
                  </a:lnTo>
                  <a:lnTo>
                    <a:pt x="26" y="1366"/>
                  </a:lnTo>
                  <a:lnTo>
                    <a:pt x="13" y="1403"/>
                  </a:lnTo>
                  <a:lnTo>
                    <a:pt x="8" y="1418"/>
                  </a:lnTo>
                  <a:lnTo>
                    <a:pt x="4" y="1478"/>
                  </a:lnTo>
                  <a:lnTo>
                    <a:pt x="3" y="1537"/>
                  </a:lnTo>
                  <a:lnTo>
                    <a:pt x="0" y="1594"/>
                  </a:lnTo>
                  <a:lnTo>
                    <a:pt x="0" y="1650"/>
                  </a:lnTo>
                  <a:lnTo>
                    <a:pt x="1" y="1705"/>
                  </a:lnTo>
                  <a:lnTo>
                    <a:pt x="3" y="1758"/>
                  </a:lnTo>
                  <a:lnTo>
                    <a:pt x="5" y="1810"/>
                  </a:lnTo>
                  <a:lnTo>
                    <a:pt x="9" y="1861"/>
                  </a:lnTo>
                  <a:lnTo>
                    <a:pt x="13" y="1909"/>
                  </a:lnTo>
                  <a:lnTo>
                    <a:pt x="19" y="1958"/>
                  </a:lnTo>
                  <a:lnTo>
                    <a:pt x="25" y="2005"/>
                  </a:lnTo>
                  <a:lnTo>
                    <a:pt x="31" y="2050"/>
                  </a:lnTo>
                  <a:lnTo>
                    <a:pt x="40" y="2094"/>
                  </a:lnTo>
                  <a:lnTo>
                    <a:pt x="49" y="2136"/>
                  </a:lnTo>
                  <a:lnTo>
                    <a:pt x="59" y="2177"/>
                  </a:lnTo>
                  <a:lnTo>
                    <a:pt x="70" y="2218"/>
                  </a:lnTo>
                  <a:lnTo>
                    <a:pt x="82" y="2257"/>
                  </a:lnTo>
                  <a:lnTo>
                    <a:pt x="95" y="2294"/>
                  </a:lnTo>
                  <a:lnTo>
                    <a:pt x="108" y="2330"/>
                  </a:lnTo>
                  <a:lnTo>
                    <a:pt x="123" y="2365"/>
                  </a:lnTo>
                  <a:lnTo>
                    <a:pt x="139" y="2398"/>
                  </a:lnTo>
                  <a:lnTo>
                    <a:pt x="155" y="2429"/>
                  </a:lnTo>
                  <a:lnTo>
                    <a:pt x="173" y="2460"/>
                  </a:lnTo>
                  <a:lnTo>
                    <a:pt x="191" y="2490"/>
                  </a:lnTo>
                  <a:lnTo>
                    <a:pt x="211" y="2517"/>
                  </a:lnTo>
                  <a:lnTo>
                    <a:pt x="231" y="2545"/>
                  </a:lnTo>
                  <a:lnTo>
                    <a:pt x="253" y="2569"/>
                  </a:lnTo>
                  <a:lnTo>
                    <a:pt x="276" y="2593"/>
                  </a:lnTo>
                  <a:lnTo>
                    <a:pt x="298" y="2617"/>
                  </a:lnTo>
                  <a:lnTo>
                    <a:pt x="323" y="2638"/>
                  </a:lnTo>
                  <a:lnTo>
                    <a:pt x="348" y="2658"/>
                  </a:lnTo>
                  <a:lnTo>
                    <a:pt x="374" y="2676"/>
                  </a:lnTo>
                  <a:lnTo>
                    <a:pt x="402" y="2695"/>
                  </a:lnTo>
                  <a:lnTo>
                    <a:pt x="432" y="2711"/>
                  </a:lnTo>
                  <a:lnTo>
                    <a:pt x="462" y="2726"/>
                  </a:lnTo>
                  <a:lnTo>
                    <a:pt x="492" y="2739"/>
                  </a:lnTo>
                  <a:lnTo>
                    <a:pt x="523" y="2751"/>
                  </a:lnTo>
                  <a:lnTo>
                    <a:pt x="553" y="2761"/>
                  </a:lnTo>
                  <a:lnTo>
                    <a:pt x="584" y="2768"/>
                  </a:lnTo>
                  <a:lnTo>
                    <a:pt x="615" y="2775"/>
                  </a:lnTo>
                  <a:lnTo>
                    <a:pt x="645" y="2780"/>
                  </a:lnTo>
                  <a:lnTo>
                    <a:pt x="674" y="2784"/>
                  </a:lnTo>
                  <a:lnTo>
                    <a:pt x="705" y="2788"/>
                  </a:lnTo>
                  <a:lnTo>
                    <a:pt x="735" y="2789"/>
                  </a:lnTo>
                  <a:lnTo>
                    <a:pt x="764" y="2789"/>
                  </a:lnTo>
                  <a:lnTo>
                    <a:pt x="794" y="2789"/>
                  </a:lnTo>
                  <a:lnTo>
                    <a:pt x="822" y="2788"/>
                  </a:lnTo>
                  <a:lnTo>
                    <a:pt x="851" y="2785"/>
                  </a:lnTo>
                  <a:lnTo>
                    <a:pt x="878" y="2783"/>
                  </a:lnTo>
                  <a:lnTo>
                    <a:pt x="904" y="2779"/>
                  </a:lnTo>
                  <a:lnTo>
                    <a:pt x="930" y="2775"/>
                  </a:lnTo>
                  <a:lnTo>
                    <a:pt x="956" y="2770"/>
                  </a:lnTo>
                  <a:lnTo>
                    <a:pt x="1003" y="2761"/>
                  </a:lnTo>
                  <a:lnTo>
                    <a:pt x="1048" y="2749"/>
                  </a:lnTo>
                  <a:lnTo>
                    <a:pt x="1087" y="2738"/>
                  </a:lnTo>
                  <a:lnTo>
                    <a:pt x="1121" y="2727"/>
                  </a:lnTo>
                  <a:lnTo>
                    <a:pt x="1150" y="2716"/>
                  </a:lnTo>
                  <a:lnTo>
                    <a:pt x="1172" y="2707"/>
                  </a:lnTo>
                  <a:lnTo>
                    <a:pt x="1175" y="2749"/>
                  </a:lnTo>
                  <a:lnTo>
                    <a:pt x="1176" y="2793"/>
                  </a:lnTo>
                  <a:lnTo>
                    <a:pt x="1176" y="2837"/>
                  </a:lnTo>
                  <a:lnTo>
                    <a:pt x="1177" y="2885"/>
                  </a:lnTo>
                  <a:lnTo>
                    <a:pt x="1176" y="2986"/>
                  </a:lnTo>
                  <a:lnTo>
                    <a:pt x="1174" y="3093"/>
                  </a:lnTo>
                  <a:lnTo>
                    <a:pt x="1169" y="3203"/>
                  </a:lnTo>
                  <a:lnTo>
                    <a:pt x="1164" y="3318"/>
                  </a:lnTo>
                  <a:lnTo>
                    <a:pt x="1156" y="3434"/>
                  </a:lnTo>
                  <a:lnTo>
                    <a:pt x="1149" y="3551"/>
                  </a:lnTo>
                  <a:lnTo>
                    <a:pt x="1140" y="3669"/>
                  </a:lnTo>
                  <a:lnTo>
                    <a:pt x="1130" y="3785"/>
                  </a:lnTo>
                  <a:lnTo>
                    <a:pt x="1120" y="3901"/>
                  </a:lnTo>
                  <a:lnTo>
                    <a:pt x="1110" y="4012"/>
                  </a:lnTo>
                  <a:lnTo>
                    <a:pt x="1100" y="4120"/>
                  </a:lnTo>
                  <a:lnTo>
                    <a:pt x="1089" y="4223"/>
                  </a:lnTo>
                  <a:lnTo>
                    <a:pt x="1079" y="4320"/>
                  </a:lnTo>
                  <a:lnTo>
                    <a:pt x="1069" y="4411"/>
                  </a:lnTo>
                  <a:lnTo>
                    <a:pt x="1059" y="4493"/>
                  </a:lnTo>
                  <a:lnTo>
                    <a:pt x="1051" y="4566"/>
                  </a:lnTo>
                  <a:lnTo>
                    <a:pt x="1051" y="4568"/>
                  </a:lnTo>
                  <a:lnTo>
                    <a:pt x="1051" y="4569"/>
                  </a:lnTo>
                  <a:lnTo>
                    <a:pt x="1051" y="4574"/>
                  </a:lnTo>
                  <a:lnTo>
                    <a:pt x="1052" y="4579"/>
                  </a:lnTo>
                  <a:lnTo>
                    <a:pt x="1053" y="4584"/>
                  </a:lnTo>
                  <a:lnTo>
                    <a:pt x="1056" y="4589"/>
                  </a:lnTo>
                  <a:lnTo>
                    <a:pt x="1058" y="4593"/>
                  </a:lnTo>
                  <a:lnTo>
                    <a:pt x="1062" y="4597"/>
                  </a:lnTo>
                  <a:lnTo>
                    <a:pt x="1066" y="4599"/>
                  </a:lnTo>
                  <a:lnTo>
                    <a:pt x="1071" y="4602"/>
                  </a:lnTo>
                  <a:lnTo>
                    <a:pt x="1076" y="4604"/>
                  </a:lnTo>
                  <a:lnTo>
                    <a:pt x="1082" y="4605"/>
                  </a:lnTo>
                  <a:lnTo>
                    <a:pt x="1087" y="4605"/>
                  </a:lnTo>
                  <a:lnTo>
                    <a:pt x="1093" y="4605"/>
                  </a:lnTo>
                  <a:lnTo>
                    <a:pt x="1098" y="4603"/>
                  </a:lnTo>
                  <a:lnTo>
                    <a:pt x="1103" y="4602"/>
                  </a:lnTo>
                  <a:lnTo>
                    <a:pt x="1108" y="4598"/>
                  </a:lnTo>
                  <a:lnTo>
                    <a:pt x="1112" y="4594"/>
                  </a:lnTo>
                  <a:lnTo>
                    <a:pt x="1159" y="4547"/>
                  </a:lnTo>
                  <a:lnTo>
                    <a:pt x="1208" y="4504"/>
                  </a:lnTo>
                  <a:lnTo>
                    <a:pt x="1258" y="4465"/>
                  </a:lnTo>
                  <a:lnTo>
                    <a:pt x="1308" y="4431"/>
                  </a:lnTo>
                  <a:lnTo>
                    <a:pt x="1360" y="4401"/>
                  </a:lnTo>
                  <a:lnTo>
                    <a:pt x="1412" y="4373"/>
                  </a:lnTo>
                  <a:lnTo>
                    <a:pt x="1465" y="4350"/>
                  </a:lnTo>
                  <a:lnTo>
                    <a:pt x="1519" y="4330"/>
                  </a:lnTo>
                  <a:lnTo>
                    <a:pt x="1573" y="4313"/>
                  </a:lnTo>
                  <a:lnTo>
                    <a:pt x="1627" y="4299"/>
                  </a:lnTo>
                  <a:lnTo>
                    <a:pt x="1681" y="4288"/>
                  </a:lnTo>
                  <a:lnTo>
                    <a:pt x="1736" y="4280"/>
                  </a:lnTo>
                  <a:lnTo>
                    <a:pt x="1790" y="4274"/>
                  </a:lnTo>
                  <a:lnTo>
                    <a:pt x="1844" y="4270"/>
                  </a:lnTo>
                  <a:lnTo>
                    <a:pt x="1898" y="4269"/>
                  </a:lnTo>
                  <a:lnTo>
                    <a:pt x="1951" y="4270"/>
                  </a:lnTo>
                  <a:lnTo>
                    <a:pt x="2003" y="4273"/>
                  </a:lnTo>
                  <a:lnTo>
                    <a:pt x="2054" y="4277"/>
                  </a:lnTo>
                  <a:lnTo>
                    <a:pt x="2105" y="4283"/>
                  </a:lnTo>
                  <a:lnTo>
                    <a:pt x="2155" y="4289"/>
                  </a:lnTo>
                  <a:lnTo>
                    <a:pt x="2203" y="4298"/>
                  </a:lnTo>
                  <a:lnTo>
                    <a:pt x="2250" y="4306"/>
                  </a:lnTo>
                  <a:lnTo>
                    <a:pt x="2296" y="4316"/>
                  </a:lnTo>
                  <a:lnTo>
                    <a:pt x="2341" y="4328"/>
                  </a:lnTo>
                  <a:lnTo>
                    <a:pt x="2424" y="4350"/>
                  </a:lnTo>
                  <a:lnTo>
                    <a:pt x="2500" y="4372"/>
                  </a:lnTo>
                  <a:lnTo>
                    <a:pt x="2567" y="4393"/>
                  </a:lnTo>
                  <a:lnTo>
                    <a:pt x="2624" y="4413"/>
                  </a:lnTo>
                  <a:lnTo>
                    <a:pt x="2661" y="4426"/>
                  </a:lnTo>
                  <a:lnTo>
                    <a:pt x="2692" y="4435"/>
                  </a:lnTo>
                  <a:lnTo>
                    <a:pt x="2717" y="4443"/>
                  </a:lnTo>
                  <a:lnTo>
                    <a:pt x="2737" y="4447"/>
                  </a:lnTo>
                  <a:lnTo>
                    <a:pt x="2746" y="4448"/>
                  </a:lnTo>
                  <a:lnTo>
                    <a:pt x="2753" y="4448"/>
                  </a:lnTo>
                  <a:lnTo>
                    <a:pt x="2761" y="4447"/>
                  </a:lnTo>
                  <a:lnTo>
                    <a:pt x="2767" y="4444"/>
                  </a:lnTo>
                  <a:lnTo>
                    <a:pt x="2772" y="4442"/>
                  </a:lnTo>
                  <a:lnTo>
                    <a:pt x="2777" y="4438"/>
                  </a:lnTo>
                  <a:lnTo>
                    <a:pt x="2780" y="4433"/>
                  </a:lnTo>
                  <a:lnTo>
                    <a:pt x="2784" y="4427"/>
                  </a:lnTo>
                  <a:lnTo>
                    <a:pt x="2787" y="4422"/>
                  </a:lnTo>
                  <a:lnTo>
                    <a:pt x="2789" y="4417"/>
                  </a:lnTo>
                  <a:lnTo>
                    <a:pt x="2790" y="4412"/>
                  </a:lnTo>
                  <a:lnTo>
                    <a:pt x="2790" y="4407"/>
                  </a:lnTo>
                  <a:lnTo>
                    <a:pt x="2789" y="4398"/>
                  </a:lnTo>
                  <a:lnTo>
                    <a:pt x="2785" y="4388"/>
                  </a:lnTo>
                  <a:lnTo>
                    <a:pt x="2778" y="4377"/>
                  </a:lnTo>
                  <a:lnTo>
                    <a:pt x="2769" y="4366"/>
                  </a:lnTo>
                  <a:lnTo>
                    <a:pt x="2743" y="4339"/>
                  </a:lnTo>
                  <a:lnTo>
                    <a:pt x="2708" y="4308"/>
                  </a:lnTo>
                  <a:lnTo>
                    <a:pt x="2721" y="4284"/>
                  </a:lnTo>
                  <a:lnTo>
                    <a:pt x="2748" y="4236"/>
                  </a:lnTo>
                  <a:lnTo>
                    <a:pt x="2789" y="4164"/>
                  </a:lnTo>
                  <a:lnTo>
                    <a:pt x="2839" y="4074"/>
                  </a:lnTo>
                  <a:lnTo>
                    <a:pt x="2898" y="3969"/>
                  </a:lnTo>
                  <a:lnTo>
                    <a:pt x="2964" y="3852"/>
                  </a:lnTo>
                  <a:lnTo>
                    <a:pt x="3034" y="3728"/>
                  </a:lnTo>
                  <a:lnTo>
                    <a:pt x="3106" y="3600"/>
                  </a:lnTo>
                  <a:lnTo>
                    <a:pt x="3178" y="3473"/>
                  </a:lnTo>
                  <a:lnTo>
                    <a:pt x="3247" y="3347"/>
                  </a:lnTo>
                  <a:lnTo>
                    <a:pt x="3314" y="3230"/>
                  </a:lnTo>
                  <a:lnTo>
                    <a:pt x="3374" y="3123"/>
                  </a:lnTo>
                  <a:lnTo>
                    <a:pt x="3426" y="3031"/>
                  </a:lnTo>
                  <a:lnTo>
                    <a:pt x="3467" y="2957"/>
                  </a:lnTo>
                  <a:lnTo>
                    <a:pt x="3497" y="2904"/>
                  </a:lnTo>
                  <a:lnTo>
                    <a:pt x="3512" y="2877"/>
                  </a:lnTo>
                  <a:lnTo>
                    <a:pt x="3554" y="2883"/>
                  </a:lnTo>
                  <a:lnTo>
                    <a:pt x="3595" y="2888"/>
                  </a:lnTo>
                  <a:lnTo>
                    <a:pt x="3636" y="2893"/>
                  </a:lnTo>
                  <a:lnTo>
                    <a:pt x="3676" y="2896"/>
                  </a:lnTo>
                  <a:lnTo>
                    <a:pt x="3715" y="2898"/>
                  </a:lnTo>
                  <a:lnTo>
                    <a:pt x="3755" y="2900"/>
                  </a:lnTo>
                  <a:lnTo>
                    <a:pt x="3794" y="2901"/>
                  </a:lnTo>
                  <a:lnTo>
                    <a:pt x="3831" y="2901"/>
                  </a:lnTo>
                  <a:lnTo>
                    <a:pt x="3868" y="2900"/>
                  </a:lnTo>
                  <a:lnTo>
                    <a:pt x="3904" y="2897"/>
                  </a:lnTo>
                  <a:lnTo>
                    <a:pt x="3940" y="2895"/>
                  </a:lnTo>
                  <a:lnTo>
                    <a:pt x="3976" y="2891"/>
                  </a:lnTo>
                  <a:lnTo>
                    <a:pt x="4011" y="2886"/>
                  </a:lnTo>
                  <a:lnTo>
                    <a:pt x="4045" y="2881"/>
                  </a:lnTo>
                  <a:lnTo>
                    <a:pt x="4078" y="2875"/>
                  </a:lnTo>
                  <a:lnTo>
                    <a:pt x="4112" y="2867"/>
                  </a:lnTo>
                  <a:lnTo>
                    <a:pt x="4144" y="2859"/>
                  </a:lnTo>
                  <a:lnTo>
                    <a:pt x="4175" y="2850"/>
                  </a:lnTo>
                  <a:lnTo>
                    <a:pt x="4206" y="2840"/>
                  </a:lnTo>
                  <a:lnTo>
                    <a:pt x="4237" y="2829"/>
                  </a:lnTo>
                  <a:lnTo>
                    <a:pt x="4267" y="2818"/>
                  </a:lnTo>
                  <a:lnTo>
                    <a:pt x="4295" y="2805"/>
                  </a:lnTo>
                  <a:lnTo>
                    <a:pt x="4324" y="2792"/>
                  </a:lnTo>
                  <a:lnTo>
                    <a:pt x="4352" y="2777"/>
                  </a:lnTo>
                  <a:lnTo>
                    <a:pt x="4380" y="2762"/>
                  </a:lnTo>
                  <a:lnTo>
                    <a:pt x="4406" y="2746"/>
                  </a:lnTo>
                  <a:lnTo>
                    <a:pt x="4432" y="2730"/>
                  </a:lnTo>
                  <a:lnTo>
                    <a:pt x="4458" y="2711"/>
                  </a:lnTo>
                  <a:lnTo>
                    <a:pt x="4483" y="2692"/>
                  </a:lnTo>
                  <a:lnTo>
                    <a:pt x="4506" y="2672"/>
                  </a:lnTo>
                  <a:lnTo>
                    <a:pt x="4530" y="2653"/>
                  </a:lnTo>
                  <a:lnTo>
                    <a:pt x="4552" y="2630"/>
                  </a:lnTo>
                  <a:lnTo>
                    <a:pt x="4593" y="2588"/>
                  </a:lnTo>
                  <a:lnTo>
                    <a:pt x="4632" y="2543"/>
                  </a:lnTo>
                  <a:lnTo>
                    <a:pt x="4667" y="2498"/>
                  </a:lnTo>
                  <a:lnTo>
                    <a:pt x="4698" y="2449"/>
                  </a:lnTo>
                  <a:lnTo>
                    <a:pt x="4728" y="2400"/>
                  </a:lnTo>
                  <a:lnTo>
                    <a:pt x="4754" y="2350"/>
                  </a:lnTo>
                  <a:lnTo>
                    <a:pt x="4777" y="2298"/>
                  </a:lnTo>
                  <a:lnTo>
                    <a:pt x="4800" y="2247"/>
                  </a:lnTo>
                  <a:lnTo>
                    <a:pt x="4818" y="2194"/>
                  </a:lnTo>
                  <a:lnTo>
                    <a:pt x="4834" y="2141"/>
                  </a:lnTo>
                  <a:lnTo>
                    <a:pt x="4849" y="2088"/>
                  </a:lnTo>
                  <a:lnTo>
                    <a:pt x="4863" y="2036"/>
                  </a:lnTo>
                  <a:lnTo>
                    <a:pt x="4874" y="1984"/>
                  </a:lnTo>
                  <a:lnTo>
                    <a:pt x="4883" y="1932"/>
                  </a:lnTo>
                  <a:lnTo>
                    <a:pt x="4890" y="1881"/>
                  </a:lnTo>
                  <a:lnTo>
                    <a:pt x="4898" y="1830"/>
                  </a:lnTo>
                  <a:lnTo>
                    <a:pt x="4901" y="1782"/>
                  </a:lnTo>
                  <a:lnTo>
                    <a:pt x="4905" y="1734"/>
                  </a:lnTo>
                  <a:lnTo>
                    <a:pt x="4909" y="1689"/>
                  </a:lnTo>
                  <a:lnTo>
                    <a:pt x="4910" y="1644"/>
                  </a:lnTo>
                  <a:lnTo>
                    <a:pt x="4910" y="1563"/>
                  </a:lnTo>
                  <a:lnTo>
                    <a:pt x="4909" y="1491"/>
                  </a:lnTo>
                  <a:lnTo>
                    <a:pt x="4906" y="1431"/>
                  </a:lnTo>
                  <a:lnTo>
                    <a:pt x="4903" y="1385"/>
                  </a:lnTo>
                  <a:lnTo>
                    <a:pt x="4899" y="1352"/>
                  </a:lnTo>
                  <a:lnTo>
                    <a:pt x="4896" y="1336"/>
                  </a:lnTo>
                  <a:lnTo>
                    <a:pt x="4862" y="1274"/>
                  </a:lnTo>
                  <a:lnTo>
                    <a:pt x="4827" y="1216"/>
                  </a:lnTo>
                  <a:lnTo>
                    <a:pt x="4792" y="1163"/>
                  </a:lnTo>
                  <a:lnTo>
                    <a:pt x="4757" y="1112"/>
                  </a:lnTo>
                  <a:lnTo>
                    <a:pt x="4721" y="1066"/>
                  </a:lnTo>
                  <a:lnTo>
                    <a:pt x="4687" y="1024"/>
                  </a:lnTo>
                  <a:lnTo>
                    <a:pt x="4668" y="1004"/>
                  </a:lnTo>
                  <a:lnTo>
                    <a:pt x="4651" y="985"/>
                  </a:lnTo>
                  <a:lnTo>
                    <a:pt x="4633" y="967"/>
                  </a:lnTo>
                  <a:lnTo>
                    <a:pt x="4615" y="950"/>
                  </a:lnTo>
                  <a:lnTo>
                    <a:pt x="4597" y="934"/>
                  </a:lnTo>
                  <a:lnTo>
                    <a:pt x="4580" y="919"/>
                  </a:lnTo>
                  <a:lnTo>
                    <a:pt x="4561" y="906"/>
                  </a:lnTo>
                  <a:lnTo>
                    <a:pt x="4544" y="893"/>
                  </a:lnTo>
                  <a:lnTo>
                    <a:pt x="4525" y="881"/>
                  </a:lnTo>
                  <a:lnTo>
                    <a:pt x="4508" y="870"/>
                  </a:lnTo>
                  <a:lnTo>
                    <a:pt x="4490" y="860"/>
                  </a:lnTo>
                  <a:lnTo>
                    <a:pt x="4472" y="851"/>
                  </a:lnTo>
                  <a:lnTo>
                    <a:pt x="4454" y="842"/>
                  </a:lnTo>
                  <a:lnTo>
                    <a:pt x="4436" y="836"/>
                  </a:lnTo>
                  <a:lnTo>
                    <a:pt x="4418" y="830"/>
                  </a:lnTo>
                  <a:lnTo>
                    <a:pt x="4400" y="825"/>
                  </a:lnTo>
                  <a:lnTo>
                    <a:pt x="4382" y="820"/>
                  </a:lnTo>
                  <a:lnTo>
                    <a:pt x="4364" y="818"/>
                  </a:lnTo>
                  <a:lnTo>
                    <a:pt x="4346" y="815"/>
                  </a:lnTo>
                  <a:lnTo>
                    <a:pt x="4328" y="814"/>
                  </a:lnTo>
                  <a:lnTo>
                    <a:pt x="4309" y="813"/>
                  </a:lnTo>
                  <a:lnTo>
                    <a:pt x="4290" y="814"/>
                  </a:lnTo>
                  <a:lnTo>
                    <a:pt x="4273" y="815"/>
                  </a:lnTo>
                  <a:lnTo>
                    <a:pt x="4256" y="818"/>
                  </a:lnTo>
                  <a:lnTo>
                    <a:pt x="4239" y="821"/>
                  </a:lnTo>
                  <a:lnTo>
                    <a:pt x="4223" y="825"/>
                  </a:lnTo>
                  <a:lnTo>
                    <a:pt x="4207" y="830"/>
                  </a:lnTo>
                  <a:lnTo>
                    <a:pt x="4192" y="835"/>
                  </a:lnTo>
                  <a:lnTo>
                    <a:pt x="4164" y="847"/>
                  </a:lnTo>
                  <a:lnTo>
                    <a:pt x="4136" y="862"/>
                  </a:lnTo>
                  <a:lnTo>
                    <a:pt x="4112" y="877"/>
                  </a:lnTo>
                  <a:lnTo>
                    <a:pt x="4089" y="893"/>
                  </a:lnTo>
                  <a:lnTo>
                    <a:pt x="4104" y="841"/>
                  </a:lnTo>
                  <a:lnTo>
                    <a:pt x="4119" y="789"/>
                  </a:lnTo>
                  <a:lnTo>
                    <a:pt x="4130" y="738"/>
                  </a:lnTo>
                  <a:lnTo>
                    <a:pt x="4141" y="690"/>
                  </a:lnTo>
                  <a:lnTo>
                    <a:pt x="4150" y="641"/>
                  </a:lnTo>
                  <a:lnTo>
                    <a:pt x="4156" y="596"/>
                  </a:lnTo>
                  <a:lnTo>
                    <a:pt x="4160" y="552"/>
                  </a:lnTo>
                  <a:lnTo>
                    <a:pt x="4161" y="510"/>
                  </a:lnTo>
                  <a:lnTo>
                    <a:pt x="4160" y="481"/>
                  </a:lnTo>
                  <a:lnTo>
                    <a:pt x="4159" y="453"/>
                  </a:lnTo>
                  <a:lnTo>
                    <a:pt x="4156" y="426"/>
                  </a:lnTo>
                  <a:lnTo>
                    <a:pt x="4153" y="398"/>
                  </a:lnTo>
                  <a:lnTo>
                    <a:pt x="4148" y="373"/>
                  </a:lnTo>
                  <a:lnTo>
                    <a:pt x="4143" y="349"/>
                  </a:lnTo>
                  <a:lnTo>
                    <a:pt x="4135" y="324"/>
                  </a:lnTo>
                  <a:lnTo>
                    <a:pt x="4128" y="300"/>
                  </a:lnTo>
                  <a:lnTo>
                    <a:pt x="4118" y="278"/>
                  </a:lnTo>
                  <a:lnTo>
                    <a:pt x="4108" y="257"/>
                  </a:lnTo>
                  <a:lnTo>
                    <a:pt x="4097" y="236"/>
                  </a:lnTo>
                  <a:lnTo>
                    <a:pt x="4086" y="216"/>
                  </a:lnTo>
                  <a:lnTo>
                    <a:pt x="4072" y="197"/>
                  </a:lnTo>
                  <a:lnTo>
                    <a:pt x="4058" y="179"/>
                  </a:lnTo>
                  <a:lnTo>
                    <a:pt x="4042" y="161"/>
                  </a:lnTo>
                  <a:lnTo>
                    <a:pt x="4026" y="145"/>
                  </a:lnTo>
                  <a:lnTo>
                    <a:pt x="3989" y="114"/>
                  </a:lnTo>
                  <a:lnTo>
                    <a:pt x="3949" y="87"/>
                  </a:lnTo>
                  <a:lnTo>
                    <a:pt x="3905" y="65"/>
                  </a:lnTo>
                  <a:lnTo>
                    <a:pt x="3860" y="45"/>
                  </a:lnTo>
                  <a:lnTo>
                    <a:pt x="3810" y="30"/>
                  </a:lnTo>
                  <a:lnTo>
                    <a:pt x="3759" y="17"/>
                  </a:lnTo>
                  <a:lnTo>
                    <a:pt x="3706" y="9"/>
                  </a:lnTo>
                  <a:lnTo>
                    <a:pt x="3651" y="4"/>
                  </a:lnTo>
                  <a:lnTo>
                    <a:pt x="3595" y="0"/>
                  </a:lnTo>
                  <a:lnTo>
                    <a:pt x="3537" y="0"/>
                  </a:lnTo>
                  <a:lnTo>
                    <a:pt x="3478" y="2"/>
                  </a:lnTo>
                  <a:lnTo>
                    <a:pt x="3420" y="6"/>
                  </a:lnTo>
                  <a:lnTo>
                    <a:pt x="3360" y="12"/>
                  </a:lnTo>
                  <a:lnTo>
                    <a:pt x="3301" y="21"/>
                  </a:lnTo>
                  <a:lnTo>
                    <a:pt x="3241" y="31"/>
                  </a:lnTo>
                  <a:lnTo>
                    <a:pt x="3183" y="42"/>
                  </a:lnTo>
                  <a:lnTo>
                    <a:pt x="3124" y="55"/>
                  </a:lnTo>
                  <a:lnTo>
                    <a:pt x="3067" y="67"/>
                  </a:lnTo>
                  <a:lnTo>
                    <a:pt x="3013" y="82"/>
                  </a:lnTo>
                  <a:lnTo>
                    <a:pt x="2958" y="97"/>
                  </a:lnTo>
                  <a:lnTo>
                    <a:pt x="2906" y="112"/>
                  </a:lnTo>
                  <a:lnTo>
                    <a:pt x="2856" y="127"/>
                  </a:lnTo>
                  <a:lnTo>
                    <a:pt x="2809" y="141"/>
                  </a:lnTo>
                  <a:lnTo>
                    <a:pt x="2764" y="156"/>
                  </a:lnTo>
                  <a:lnTo>
                    <a:pt x="2684" y="184"/>
                  </a:lnTo>
                  <a:lnTo>
                    <a:pt x="2618" y="208"/>
                  </a:lnTo>
                  <a:lnTo>
                    <a:pt x="2568" y="228"/>
                  </a:lnTo>
                  <a:lnTo>
                    <a:pt x="2538" y="241"/>
                  </a:lnTo>
                  <a:close/>
                  <a:moveTo>
                    <a:pt x="2552" y="311"/>
                  </a:moveTo>
                  <a:lnTo>
                    <a:pt x="2567" y="305"/>
                  </a:lnTo>
                  <a:lnTo>
                    <a:pt x="2603" y="292"/>
                  </a:lnTo>
                  <a:lnTo>
                    <a:pt x="2658" y="270"/>
                  </a:lnTo>
                  <a:lnTo>
                    <a:pt x="2730" y="244"/>
                  </a:lnTo>
                  <a:lnTo>
                    <a:pt x="2816" y="215"/>
                  </a:lnTo>
                  <a:lnTo>
                    <a:pt x="2915" y="185"/>
                  </a:lnTo>
                  <a:lnTo>
                    <a:pt x="2968" y="169"/>
                  </a:lnTo>
                  <a:lnTo>
                    <a:pt x="3023" y="154"/>
                  </a:lnTo>
                  <a:lnTo>
                    <a:pt x="3078" y="140"/>
                  </a:lnTo>
                  <a:lnTo>
                    <a:pt x="3137" y="127"/>
                  </a:lnTo>
                  <a:lnTo>
                    <a:pt x="3195" y="113"/>
                  </a:lnTo>
                  <a:lnTo>
                    <a:pt x="3255" y="102"/>
                  </a:lnTo>
                  <a:lnTo>
                    <a:pt x="3314" y="92"/>
                  </a:lnTo>
                  <a:lnTo>
                    <a:pt x="3374" y="84"/>
                  </a:lnTo>
                  <a:lnTo>
                    <a:pt x="3434" y="77"/>
                  </a:lnTo>
                  <a:lnTo>
                    <a:pt x="3492" y="73"/>
                  </a:lnTo>
                  <a:lnTo>
                    <a:pt x="3550" y="71"/>
                  </a:lnTo>
                  <a:lnTo>
                    <a:pt x="3607" y="72"/>
                  </a:lnTo>
                  <a:lnTo>
                    <a:pt x="3662" y="76"/>
                  </a:lnTo>
                  <a:lnTo>
                    <a:pt x="3715" y="82"/>
                  </a:lnTo>
                  <a:lnTo>
                    <a:pt x="3766" y="92"/>
                  </a:lnTo>
                  <a:lnTo>
                    <a:pt x="3815" y="104"/>
                  </a:lnTo>
                  <a:lnTo>
                    <a:pt x="3861" y="122"/>
                  </a:lnTo>
                  <a:lnTo>
                    <a:pt x="3903" y="143"/>
                  </a:lnTo>
                  <a:lnTo>
                    <a:pt x="3941" y="167"/>
                  </a:lnTo>
                  <a:lnTo>
                    <a:pt x="3976" y="196"/>
                  </a:lnTo>
                  <a:lnTo>
                    <a:pt x="3990" y="211"/>
                  </a:lnTo>
                  <a:lnTo>
                    <a:pt x="4004" y="225"/>
                  </a:lnTo>
                  <a:lnTo>
                    <a:pt x="4015" y="241"/>
                  </a:lnTo>
                  <a:lnTo>
                    <a:pt x="4026" y="256"/>
                  </a:lnTo>
                  <a:lnTo>
                    <a:pt x="4036" y="273"/>
                  </a:lnTo>
                  <a:lnTo>
                    <a:pt x="4046" y="290"/>
                  </a:lnTo>
                  <a:lnTo>
                    <a:pt x="4053" y="309"/>
                  </a:lnTo>
                  <a:lnTo>
                    <a:pt x="4061" y="328"/>
                  </a:lnTo>
                  <a:lnTo>
                    <a:pt x="4068" y="347"/>
                  </a:lnTo>
                  <a:lnTo>
                    <a:pt x="4073" y="368"/>
                  </a:lnTo>
                  <a:lnTo>
                    <a:pt x="4078" y="390"/>
                  </a:lnTo>
                  <a:lnTo>
                    <a:pt x="4083" y="411"/>
                  </a:lnTo>
                  <a:lnTo>
                    <a:pt x="4086" y="434"/>
                  </a:lnTo>
                  <a:lnTo>
                    <a:pt x="4088" y="458"/>
                  </a:lnTo>
                  <a:lnTo>
                    <a:pt x="4089" y="481"/>
                  </a:lnTo>
                  <a:lnTo>
                    <a:pt x="4090" y="506"/>
                  </a:lnTo>
                  <a:lnTo>
                    <a:pt x="4090" y="532"/>
                  </a:lnTo>
                  <a:lnTo>
                    <a:pt x="4089" y="558"/>
                  </a:lnTo>
                  <a:lnTo>
                    <a:pt x="4087" y="586"/>
                  </a:lnTo>
                  <a:lnTo>
                    <a:pt x="4084" y="613"/>
                  </a:lnTo>
                  <a:lnTo>
                    <a:pt x="4081" y="641"/>
                  </a:lnTo>
                  <a:lnTo>
                    <a:pt x="4076" y="671"/>
                  </a:lnTo>
                  <a:lnTo>
                    <a:pt x="4069" y="701"/>
                  </a:lnTo>
                  <a:lnTo>
                    <a:pt x="4063" y="732"/>
                  </a:lnTo>
                  <a:lnTo>
                    <a:pt x="4056" y="763"/>
                  </a:lnTo>
                  <a:lnTo>
                    <a:pt x="4048" y="795"/>
                  </a:lnTo>
                  <a:lnTo>
                    <a:pt x="4040" y="829"/>
                  </a:lnTo>
                  <a:lnTo>
                    <a:pt x="4030" y="862"/>
                  </a:lnTo>
                  <a:lnTo>
                    <a:pt x="4007" y="932"/>
                  </a:lnTo>
                  <a:lnTo>
                    <a:pt x="3981" y="1004"/>
                  </a:lnTo>
                  <a:lnTo>
                    <a:pt x="3980" y="1010"/>
                  </a:lnTo>
                  <a:lnTo>
                    <a:pt x="3979" y="1016"/>
                  </a:lnTo>
                  <a:lnTo>
                    <a:pt x="3980" y="1022"/>
                  </a:lnTo>
                  <a:lnTo>
                    <a:pt x="3981" y="1029"/>
                  </a:lnTo>
                  <a:lnTo>
                    <a:pt x="3984" y="1035"/>
                  </a:lnTo>
                  <a:lnTo>
                    <a:pt x="3987" y="1040"/>
                  </a:lnTo>
                  <a:lnTo>
                    <a:pt x="3992" y="1045"/>
                  </a:lnTo>
                  <a:lnTo>
                    <a:pt x="3999" y="1047"/>
                  </a:lnTo>
                  <a:lnTo>
                    <a:pt x="4005" y="1051"/>
                  </a:lnTo>
                  <a:lnTo>
                    <a:pt x="4011" y="1052"/>
                  </a:lnTo>
                  <a:lnTo>
                    <a:pt x="4017" y="1052"/>
                  </a:lnTo>
                  <a:lnTo>
                    <a:pt x="4023" y="1051"/>
                  </a:lnTo>
                  <a:lnTo>
                    <a:pt x="4030" y="1048"/>
                  </a:lnTo>
                  <a:lnTo>
                    <a:pt x="4035" y="1046"/>
                  </a:lnTo>
                  <a:lnTo>
                    <a:pt x="4040" y="1041"/>
                  </a:lnTo>
                  <a:lnTo>
                    <a:pt x="4045" y="1036"/>
                  </a:lnTo>
                  <a:lnTo>
                    <a:pt x="4050" y="1029"/>
                  </a:lnTo>
                  <a:lnTo>
                    <a:pt x="4064" y="1011"/>
                  </a:lnTo>
                  <a:lnTo>
                    <a:pt x="4076" y="999"/>
                  </a:lnTo>
                  <a:lnTo>
                    <a:pt x="4089" y="985"/>
                  </a:lnTo>
                  <a:lnTo>
                    <a:pt x="4104" y="971"/>
                  </a:lnTo>
                  <a:lnTo>
                    <a:pt x="4122" y="957"/>
                  </a:lnTo>
                  <a:lnTo>
                    <a:pt x="4141" y="943"/>
                  </a:lnTo>
                  <a:lnTo>
                    <a:pt x="4163" y="928"/>
                  </a:lnTo>
                  <a:lnTo>
                    <a:pt x="4185" y="916"/>
                  </a:lnTo>
                  <a:lnTo>
                    <a:pt x="4210" y="904"/>
                  </a:lnTo>
                  <a:lnTo>
                    <a:pt x="4223" y="900"/>
                  </a:lnTo>
                  <a:lnTo>
                    <a:pt x="4236" y="896"/>
                  </a:lnTo>
                  <a:lnTo>
                    <a:pt x="4251" y="892"/>
                  </a:lnTo>
                  <a:lnTo>
                    <a:pt x="4264" y="888"/>
                  </a:lnTo>
                  <a:lnTo>
                    <a:pt x="4279" y="887"/>
                  </a:lnTo>
                  <a:lnTo>
                    <a:pt x="4294" y="885"/>
                  </a:lnTo>
                  <a:lnTo>
                    <a:pt x="4309" y="885"/>
                  </a:lnTo>
                  <a:lnTo>
                    <a:pt x="4325" y="885"/>
                  </a:lnTo>
                  <a:lnTo>
                    <a:pt x="4340" y="886"/>
                  </a:lnTo>
                  <a:lnTo>
                    <a:pt x="4356" y="888"/>
                  </a:lnTo>
                  <a:lnTo>
                    <a:pt x="4371" y="891"/>
                  </a:lnTo>
                  <a:lnTo>
                    <a:pt x="4387" y="895"/>
                  </a:lnTo>
                  <a:lnTo>
                    <a:pt x="4402" y="900"/>
                  </a:lnTo>
                  <a:lnTo>
                    <a:pt x="4418" y="906"/>
                  </a:lnTo>
                  <a:lnTo>
                    <a:pt x="4434" y="912"/>
                  </a:lnTo>
                  <a:lnTo>
                    <a:pt x="4449" y="919"/>
                  </a:lnTo>
                  <a:lnTo>
                    <a:pt x="4465" y="928"/>
                  </a:lnTo>
                  <a:lnTo>
                    <a:pt x="4482" y="938"/>
                  </a:lnTo>
                  <a:lnTo>
                    <a:pt x="4498" y="948"/>
                  </a:lnTo>
                  <a:lnTo>
                    <a:pt x="4513" y="959"/>
                  </a:lnTo>
                  <a:lnTo>
                    <a:pt x="4529" y="970"/>
                  </a:lnTo>
                  <a:lnTo>
                    <a:pt x="4545" y="984"/>
                  </a:lnTo>
                  <a:lnTo>
                    <a:pt x="4561" y="998"/>
                  </a:lnTo>
                  <a:lnTo>
                    <a:pt x="4577" y="1011"/>
                  </a:lnTo>
                  <a:lnTo>
                    <a:pt x="4608" y="1043"/>
                  </a:lnTo>
                  <a:lnTo>
                    <a:pt x="4641" y="1078"/>
                  </a:lnTo>
                  <a:lnTo>
                    <a:pt x="4673" y="1117"/>
                  </a:lnTo>
                  <a:lnTo>
                    <a:pt x="4704" y="1159"/>
                  </a:lnTo>
                  <a:lnTo>
                    <a:pt x="4736" y="1203"/>
                  </a:lnTo>
                  <a:lnTo>
                    <a:pt x="4767" y="1252"/>
                  </a:lnTo>
                  <a:lnTo>
                    <a:pt x="4800" y="1304"/>
                  </a:lnTo>
                  <a:lnTo>
                    <a:pt x="4831" y="1359"/>
                  </a:lnTo>
                  <a:lnTo>
                    <a:pt x="4831" y="1367"/>
                  </a:lnTo>
                  <a:lnTo>
                    <a:pt x="4833" y="1393"/>
                  </a:lnTo>
                  <a:lnTo>
                    <a:pt x="4836" y="1434"/>
                  </a:lnTo>
                  <a:lnTo>
                    <a:pt x="4838" y="1489"/>
                  </a:lnTo>
                  <a:lnTo>
                    <a:pt x="4839" y="1556"/>
                  </a:lnTo>
                  <a:lnTo>
                    <a:pt x="4838" y="1633"/>
                  </a:lnTo>
                  <a:lnTo>
                    <a:pt x="4837" y="1675"/>
                  </a:lnTo>
                  <a:lnTo>
                    <a:pt x="4834" y="1718"/>
                  </a:lnTo>
                  <a:lnTo>
                    <a:pt x="4831" y="1764"/>
                  </a:lnTo>
                  <a:lnTo>
                    <a:pt x="4826" y="1811"/>
                  </a:lnTo>
                  <a:lnTo>
                    <a:pt x="4821" y="1859"/>
                  </a:lnTo>
                  <a:lnTo>
                    <a:pt x="4813" y="1908"/>
                  </a:lnTo>
                  <a:lnTo>
                    <a:pt x="4804" y="1958"/>
                  </a:lnTo>
                  <a:lnTo>
                    <a:pt x="4795" y="2009"/>
                  </a:lnTo>
                  <a:lnTo>
                    <a:pt x="4782" y="2060"/>
                  </a:lnTo>
                  <a:lnTo>
                    <a:pt x="4768" y="2110"/>
                  </a:lnTo>
                  <a:lnTo>
                    <a:pt x="4752" y="2161"/>
                  </a:lnTo>
                  <a:lnTo>
                    <a:pt x="4735" y="2212"/>
                  </a:lnTo>
                  <a:lnTo>
                    <a:pt x="4714" y="2262"/>
                  </a:lnTo>
                  <a:lnTo>
                    <a:pt x="4691" y="2311"/>
                  </a:lnTo>
                  <a:lnTo>
                    <a:pt x="4667" y="2360"/>
                  </a:lnTo>
                  <a:lnTo>
                    <a:pt x="4639" y="2407"/>
                  </a:lnTo>
                  <a:lnTo>
                    <a:pt x="4610" y="2453"/>
                  </a:lnTo>
                  <a:lnTo>
                    <a:pt x="4577" y="2498"/>
                  </a:lnTo>
                  <a:lnTo>
                    <a:pt x="4541" y="2540"/>
                  </a:lnTo>
                  <a:lnTo>
                    <a:pt x="4503" y="2579"/>
                  </a:lnTo>
                  <a:lnTo>
                    <a:pt x="4482" y="2599"/>
                  </a:lnTo>
                  <a:lnTo>
                    <a:pt x="4461" y="2618"/>
                  </a:lnTo>
                  <a:lnTo>
                    <a:pt x="4438" y="2635"/>
                  </a:lnTo>
                  <a:lnTo>
                    <a:pt x="4416" y="2653"/>
                  </a:lnTo>
                  <a:lnTo>
                    <a:pt x="4393" y="2669"/>
                  </a:lnTo>
                  <a:lnTo>
                    <a:pt x="4370" y="2685"/>
                  </a:lnTo>
                  <a:lnTo>
                    <a:pt x="4345" y="2700"/>
                  </a:lnTo>
                  <a:lnTo>
                    <a:pt x="4320" y="2713"/>
                  </a:lnTo>
                  <a:lnTo>
                    <a:pt x="4294" y="2726"/>
                  </a:lnTo>
                  <a:lnTo>
                    <a:pt x="4268" y="2738"/>
                  </a:lnTo>
                  <a:lnTo>
                    <a:pt x="4242" y="2749"/>
                  </a:lnTo>
                  <a:lnTo>
                    <a:pt x="4215" y="2761"/>
                  </a:lnTo>
                  <a:lnTo>
                    <a:pt x="4186" y="2770"/>
                  </a:lnTo>
                  <a:lnTo>
                    <a:pt x="4158" y="2779"/>
                  </a:lnTo>
                  <a:lnTo>
                    <a:pt x="4129" y="2788"/>
                  </a:lnTo>
                  <a:lnTo>
                    <a:pt x="4099" y="2795"/>
                  </a:lnTo>
                  <a:lnTo>
                    <a:pt x="4069" y="2803"/>
                  </a:lnTo>
                  <a:lnTo>
                    <a:pt x="4038" y="2808"/>
                  </a:lnTo>
                  <a:lnTo>
                    <a:pt x="4007" y="2814"/>
                  </a:lnTo>
                  <a:lnTo>
                    <a:pt x="3975" y="2818"/>
                  </a:lnTo>
                  <a:lnTo>
                    <a:pt x="3943" y="2821"/>
                  </a:lnTo>
                  <a:lnTo>
                    <a:pt x="3910" y="2824"/>
                  </a:lnTo>
                  <a:lnTo>
                    <a:pt x="3877" y="2826"/>
                  </a:lnTo>
                  <a:lnTo>
                    <a:pt x="3842" y="2828"/>
                  </a:lnTo>
                  <a:lnTo>
                    <a:pt x="3807" y="2828"/>
                  </a:lnTo>
                  <a:lnTo>
                    <a:pt x="3773" y="2828"/>
                  </a:lnTo>
                  <a:lnTo>
                    <a:pt x="3737" y="2826"/>
                  </a:lnTo>
                  <a:lnTo>
                    <a:pt x="3701" y="2825"/>
                  </a:lnTo>
                  <a:lnTo>
                    <a:pt x="3663" y="2823"/>
                  </a:lnTo>
                  <a:lnTo>
                    <a:pt x="3626" y="2819"/>
                  </a:lnTo>
                  <a:lnTo>
                    <a:pt x="3589" y="2814"/>
                  </a:lnTo>
                  <a:lnTo>
                    <a:pt x="3550" y="2809"/>
                  </a:lnTo>
                  <a:lnTo>
                    <a:pt x="3566" y="2773"/>
                  </a:lnTo>
                  <a:lnTo>
                    <a:pt x="3591" y="2721"/>
                  </a:lnTo>
                  <a:lnTo>
                    <a:pt x="3619" y="2660"/>
                  </a:lnTo>
                  <a:lnTo>
                    <a:pt x="3648" y="2598"/>
                  </a:lnTo>
                  <a:lnTo>
                    <a:pt x="3676" y="2538"/>
                  </a:lnTo>
                  <a:lnTo>
                    <a:pt x="3699" y="2488"/>
                  </a:lnTo>
                  <a:lnTo>
                    <a:pt x="3715" y="2454"/>
                  </a:lnTo>
                  <a:lnTo>
                    <a:pt x="3722" y="2440"/>
                  </a:lnTo>
                  <a:lnTo>
                    <a:pt x="3722" y="2440"/>
                  </a:lnTo>
                  <a:lnTo>
                    <a:pt x="3722" y="2440"/>
                  </a:lnTo>
                  <a:lnTo>
                    <a:pt x="3724" y="2433"/>
                  </a:lnTo>
                  <a:lnTo>
                    <a:pt x="3724" y="2427"/>
                  </a:lnTo>
                  <a:lnTo>
                    <a:pt x="3724" y="2422"/>
                  </a:lnTo>
                  <a:lnTo>
                    <a:pt x="3723" y="2417"/>
                  </a:lnTo>
                  <a:lnTo>
                    <a:pt x="3722" y="2412"/>
                  </a:lnTo>
                  <a:lnTo>
                    <a:pt x="3719" y="2407"/>
                  </a:lnTo>
                  <a:lnTo>
                    <a:pt x="3717" y="2403"/>
                  </a:lnTo>
                  <a:lnTo>
                    <a:pt x="3713" y="2400"/>
                  </a:lnTo>
                  <a:lnTo>
                    <a:pt x="3708" y="2397"/>
                  </a:lnTo>
                  <a:lnTo>
                    <a:pt x="3704" y="2395"/>
                  </a:lnTo>
                  <a:lnTo>
                    <a:pt x="3697" y="2392"/>
                  </a:lnTo>
                  <a:lnTo>
                    <a:pt x="3691" y="2391"/>
                  </a:lnTo>
                  <a:lnTo>
                    <a:pt x="3683" y="2391"/>
                  </a:lnTo>
                  <a:lnTo>
                    <a:pt x="3677" y="2393"/>
                  </a:lnTo>
                  <a:lnTo>
                    <a:pt x="3671" y="2396"/>
                  </a:lnTo>
                  <a:lnTo>
                    <a:pt x="3665" y="2401"/>
                  </a:lnTo>
                  <a:lnTo>
                    <a:pt x="3661" y="2406"/>
                  </a:lnTo>
                  <a:lnTo>
                    <a:pt x="3657" y="2412"/>
                  </a:lnTo>
                  <a:lnTo>
                    <a:pt x="3657" y="2412"/>
                  </a:lnTo>
                  <a:lnTo>
                    <a:pt x="3657" y="2411"/>
                  </a:lnTo>
                  <a:lnTo>
                    <a:pt x="3470" y="2808"/>
                  </a:lnTo>
                  <a:lnTo>
                    <a:pt x="2633" y="4297"/>
                  </a:lnTo>
                  <a:lnTo>
                    <a:pt x="2629" y="4305"/>
                  </a:lnTo>
                  <a:lnTo>
                    <a:pt x="2628" y="4313"/>
                  </a:lnTo>
                  <a:lnTo>
                    <a:pt x="2629" y="4321"/>
                  </a:lnTo>
                  <a:lnTo>
                    <a:pt x="2631" y="4329"/>
                  </a:lnTo>
                  <a:lnTo>
                    <a:pt x="2635" y="4335"/>
                  </a:lnTo>
                  <a:lnTo>
                    <a:pt x="2640" y="4341"/>
                  </a:lnTo>
                  <a:lnTo>
                    <a:pt x="2641" y="4342"/>
                  </a:lnTo>
                  <a:lnTo>
                    <a:pt x="2644" y="4345"/>
                  </a:lnTo>
                  <a:lnTo>
                    <a:pt x="2585" y="4325"/>
                  </a:lnTo>
                  <a:lnTo>
                    <a:pt x="2520" y="4304"/>
                  </a:lnTo>
                  <a:lnTo>
                    <a:pt x="2445" y="4282"/>
                  </a:lnTo>
                  <a:lnTo>
                    <a:pt x="2363" y="4261"/>
                  </a:lnTo>
                  <a:lnTo>
                    <a:pt x="2320" y="4249"/>
                  </a:lnTo>
                  <a:lnTo>
                    <a:pt x="2274" y="4241"/>
                  </a:lnTo>
                  <a:lnTo>
                    <a:pt x="2228" y="4231"/>
                  </a:lnTo>
                  <a:lnTo>
                    <a:pt x="2181" y="4223"/>
                  </a:lnTo>
                  <a:lnTo>
                    <a:pt x="2131" y="4216"/>
                  </a:lnTo>
                  <a:lnTo>
                    <a:pt x="2081" y="4211"/>
                  </a:lnTo>
                  <a:lnTo>
                    <a:pt x="2030" y="4206"/>
                  </a:lnTo>
                  <a:lnTo>
                    <a:pt x="1980" y="4202"/>
                  </a:lnTo>
                  <a:lnTo>
                    <a:pt x="1926" y="4201"/>
                  </a:lnTo>
                  <a:lnTo>
                    <a:pt x="1874" y="4202"/>
                  </a:lnTo>
                  <a:lnTo>
                    <a:pt x="1821" y="4205"/>
                  </a:lnTo>
                  <a:lnTo>
                    <a:pt x="1766" y="4208"/>
                  </a:lnTo>
                  <a:lnTo>
                    <a:pt x="1713" y="4216"/>
                  </a:lnTo>
                  <a:lnTo>
                    <a:pt x="1658" y="4225"/>
                  </a:lnTo>
                  <a:lnTo>
                    <a:pt x="1603" y="4237"/>
                  </a:lnTo>
                  <a:lnTo>
                    <a:pt x="1550" y="4252"/>
                  </a:lnTo>
                  <a:lnTo>
                    <a:pt x="1495" y="4269"/>
                  </a:lnTo>
                  <a:lnTo>
                    <a:pt x="1442" y="4289"/>
                  </a:lnTo>
                  <a:lnTo>
                    <a:pt x="1388" y="4313"/>
                  </a:lnTo>
                  <a:lnTo>
                    <a:pt x="1335" y="4340"/>
                  </a:lnTo>
                  <a:lnTo>
                    <a:pt x="1283" y="4371"/>
                  </a:lnTo>
                  <a:lnTo>
                    <a:pt x="1232" y="4404"/>
                  </a:lnTo>
                  <a:lnTo>
                    <a:pt x="1181" y="4443"/>
                  </a:lnTo>
                  <a:lnTo>
                    <a:pt x="1131" y="4485"/>
                  </a:lnTo>
                  <a:lnTo>
                    <a:pt x="1138" y="4431"/>
                  </a:lnTo>
                  <a:lnTo>
                    <a:pt x="1145" y="4365"/>
                  </a:lnTo>
                  <a:lnTo>
                    <a:pt x="1154" y="4289"/>
                  </a:lnTo>
                  <a:lnTo>
                    <a:pt x="1162" y="4205"/>
                  </a:lnTo>
                  <a:lnTo>
                    <a:pt x="1172" y="4113"/>
                  </a:lnTo>
                  <a:lnTo>
                    <a:pt x="1182" y="4015"/>
                  </a:lnTo>
                  <a:lnTo>
                    <a:pt x="1191" y="3911"/>
                  </a:lnTo>
                  <a:lnTo>
                    <a:pt x="1201" y="3801"/>
                  </a:lnTo>
                  <a:lnTo>
                    <a:pt x="1211" y="3690"/>
                  </a:lnTo>
                  <a:lnTo>
                    <a:pt x="1218" y="3576"/>
                  </a:lnTo>
                  <a:lnTo>
                    <a:pt x="1227" y="3459"/>
                  </a:lnTo>
                  <a:lnTo>
                    <a:pt x="1233" y="3344"/>
                  </a:lnTo>
                  <a:lnTo>
                    <a:pt x="1239" y="3230"/>
                  </a:lnTo>
                  <a:lnTo>
                    <a:pt x="1244" y="3117"/>
                  </a:lnTo>
                  <a:lnTo>
                    <a:pt x="1247" y="3006"/>
                  </a:lnTo>
                  <a:lnTo>
                    <a:pt x="1248" y="2901"/>
                  </a:lnTo>
                  <a:lnTo>
                    <a:pt x="1247" y="2809"/>
                  </a:lnTo>
                  <a:lnTo>
                    <a:pt x="1244" y="2722"/>
                  </a:lnTo>
                  <a:lnTo>
                    <a:pt x="1242" y="2681"/>
                  </a:lnTo>
                  <a:lnTo>
                    <a:pt x="1239" y="2641"/>
                  </a:lnTo>
                  <a:lnTo>
                    <a:pt x="1236" y="2604"/>
                  </a:lnTo>
                  <a:lnTo>
                    <a:pt x="1232" y="2568"/>
                  </a:lnTo>
                  <a:lnTo>
                    <a:pt x="1228" y="2535"/>
                  </a:lnTo>
                  <a:lnTo>
                    <a:pt x="1223" y="2504"/>
                  </a:lnTo>
                  <a:lnTo>
                    <a:pt x="1217" y="2474"/>
                  </a:lnTo>
                  <a:lnTo>
                    <a:pt x="1211" y="2447"/>
                  </a:lnTo>
                  <a:lnTo>
                    <a:pt x="1205" y="2422"/>
                  </a:lnTo>
                  <a:lnTo>
                    <a:pt x="1197" y="2401"/>
                  </a:lnTo>
                  <a:lnTo>
                    <a:pt x="1189" y="2381"/>
                  </a:lnTo>
                  <a:lnTo>
                    <a:pt x="1180" y="2364"/>
                  </a:lnTo>
                  <a:lnTo>
                    <a:pt x="1176" y="2359"/>
                  </a:lnTo>
                  <a:lnTo>
                    <a:pt x="1171" y="2355"/>
                  </a:lnTo>
                  <a:lnTo>
                    <a:pt x="1166" y="2351"/>
                  </a:lnTo>
                  <a:lnTo>
                    <a:pt x="1161" y="2349"/>
                  </a:lnTo>
                  <a:lnTo>
                    <a:pt x="1155" y="2347"/>
                  </a:lnTo>
                  <a:lnTo>
                    <a:pt x="1149" y="2347"/>
                  </a:lnTo>
                  <a:lnTo>
                    <a:pt x="1143" y="2347"/>
                  </a:lnTo>
                  <a:lnTo>
                    <a:pt x="1138" y="2349"/>
                  </a:lnTo>
                  <a:lnTo>
                    <a:pt x="1131" y="2351"/>
                  </a:lnTo>
                  <a:lnTo>
                    <a:pt x="1128" y="2355"/>
                  </a:lnTo>
                  <a:lnTo>
                    <a:pt x="1123" y="2359"/>
                  </a:lnTo>
                  <a:lnTo>
                    <a:pt x="1120" y="2362"/>
                  </a:lnTo>
                  <a:lnTo>
                    <a:pt x="1116" y="2367"/>
                  </a:lnTo>
                  <a:lnTo>
                    <a:pt x="1115" y="2372"/>
                  </a:lnTo>
                  <a:lnTo>
                    <a:pt x="1114" y="2377"/>
                  </a:lnTo>
                  <a:lnTo>
                    <a:pt x="1113" y="2382"/>
                  </a:lnTo>
                  <a:lnTo>
                    <a:pt x="1114" y="2385"/>
                  </a:lnTo>
                  <a:lnTo>
                    <a:pt x="1114" y="2387"/>
                  </a:lnTo>
                  <a:lnTo>
                    <a:pt x="1115" y="2397"/>
                  </a:lnTo>
                  <a:lnTo>
                    <a:pt x="1118" y="2421"/>
                  </a:lnTo>
                  <a:lnTo>
                    <a:pt x="1123" y="2455"/>
                  </a:lnTo>
                  <a:lnTo>
                    <a:pt x="1129" y="2496"/>
                  </a:lnTo>
                  <a:lnTo>
                    <a:pt x="1135" y="2540"/>
                  </a:lnTo>
                  <a:lnTo>
                    <a:pt x="1141" y="2582"/>
                  </a:lnTo>
                  <a:lnTo>
                    <a:pt x="1146" y="2615"/>
                  </a:lnTo>
                  <a:lnTo>
                    <a:pt x="1149" y="2639"/>
                  </a:lnTo>
                  <a:lnTo>
                    <a:pt x="1130" y="2648"/>
                  </a:lnTo>
                  <a:lnTo>
                    <a:pt x="1104" y="2656"/>
                  </a:lnTo>
                  <a:lnTo>
                    <a:pt x="1073" y="2666"/>
                  </a:lnTo>
                  <a:lnTo>
                    <a:pt x="1038" y="2677"/>
                  </a:lnTo>
                  <a:lnTo>
                    <a:pt x="997" y="2689"/>
                  </a:lnTo>
                  <a:lnTo>
                    <a:pt x="953" y="2699"/>
                  </a:lnTo>
                  <a:lnTo>
                    <a:pt x="929" y="2702"/>
                  </a:lnTo>
                  <a:lnTo>
                    <a:pt x="905" y="2706"/>
                  </a:lnTo>
                  <a:lnTo>
                    <a:pt x="881" y="2710"/>
                  </a:lnTo>
                  <a:lnTo>
                    <a:pt x="854" y="2712"/>
                  </a:lnTo>
                  <a:lnTo>
                    <a:pt x="828" y="2715"/>
                  </a:lnTo>
                  <a:lnTo>
                    <a:pt x="801" y="2716"/>
                  </a:lnTo>
                  <a:lnTo>
                    <a:pt x="775" y="2717"/>
                  </a:lnTo>
                  <a:lnTo>
                    <a:pt x="748" y="2717"/>
                  </a:lnTo>
                  <a:lnTo>
                    <a:pt x="719" y="2716"/>
                  </a:lnTo>
                  <a:lnTo>
                    <a:pt x="692" y="2713"/>
                  </a:lnTo>
                  <a:lnTo>
                    <a:pt x="663" y="2710"/>
                  </a:lnTo>
                  <a:lnTo>
                    <a:pt x="635" y="2706"/>
                  </a:lnTo>
                  <a:lnTo>
                    <a:pt x="606" y="2700"/>
                  </a:lnTo>
                  <a:lnTo>
                    <a:pt x="579" y="2692"/>
                  </a:lnTo>
                  <a:lnTo>
                    <a:pt x="550" y="2684"/>
                  </a:lnTo>
                  <a:lnTo>
                    <a:pt x="522" y="2674"/>
                  </a:lnTo>
                  <a:lnTo>
                    <a:pt x="494" y="2663"/>
                  </a:lnTo>
                  <a:lnTo>
                    <a:pt x="467" y="2649"/>
                  </a:lnTo>
                  <a:lnTo>
                    <a:pt x="440" y="2634"/>
                  </a:lnTo>
                  <a:lnTo>
                    <a:pt x="414" y="2617"/>
                  </a:lnTo>
                  <a:lnTo>
                    <a:pt x="389" y="2599"/>
                  </a:lnTo>
                  <a:lnTo>
                    <a:pt x="366" y="2581"/>
                  </a:lnTo>
                  <a:lnTo>
                    <a:pt x="344" y="2562"/>
                  </a:lnTo>
                  <a:lnTo>
                    <a:pt x="323" y="2540"/>
                  </a:lnTo>
                  <a:lnTo>
                    <a:pt x="302" y="2519"/>
                  </a:lnTo>
                  <a:lnTo>
                    <a:pt x="283" y="2494"/>
                  </a:lnTo>
                  <a:lnTo>
                    <a:pt x="265" y="2469"/>
                  </a:lnTo>
                  <a:lnTo>
                    <a:pt x="246" y="2443"/>
                  </a:lnTo>
                  <a:lnTo>
                    <a:pt x="229" y="2416"/>
                  </a:lnTo>
                  <a:lnTo>
                    <a:pt x="213" y="2387"/>
                  </a:lnTo>
                  <a:lnTo>
                    <a:pt x="198" y="2357"/>
                  </a:lnTo>
                  <a:lnTo>
                    <a:pt x="184" y="2325"/>
                  </a:lnTo>
                  <a:lnTo>
                    <a:pt x="170" y="2293"/>
                  </a:lnTo>
                  <a:lnTo>
                    <a:pt x="157" y="2258"/>
                  </a:lnTo>
                  <a:lnTo>
                    <a:pt x="145" y="2223"/>
                  </a:lnTo>
                  <a:lnTo>
                    <a:pt x="134" y="2187"/>
                  </a:lnTo>
                  <a:lnTo>
                    <a:pt x="124" y="2149"/>
                  </a:lnTo>
                  <a:lnTo>
                    <a:pt x="116" y="2110"/>
                  </a:lnTo>
                  <a:lnTo>
                    <a:pt x="107" y="2069"/>
                  </a:lnTo>
                  <a:lnTo>
                    <a:pt x="100" y="2029"/>
                  </a:lnTo>
                  <a:lnTo>
                    <a:pt x="92" y="1985"/>
                  </a:lnTo>
                  <a:lnTo>
                    <a:pt x="87" y="1940"/>
                  </a:lnTo>
                  <a:lnTo>
                    <a:pt x="82" y="1896"/>
                  </a:lnTo>
                  <a:lnTo>
                    <a:pt x="78" y="1849"/>
                  </a:lnTo>
                  <a:lnTo>
                    <a:pt x="75" y="1801"/>
                  </a:lnTo>
                  <a:lnTo>
                    <a:pt x="72" y="1752"/>
                  </a:lnTo>
                  <a:lnTo>
                    <a:pt x="71" y="1701"/>
                  </a:lnTo>
                  <a:lnTo>
                    <a:pt x="71" y="1650"/>
                  </a:lnTo>
                  <a:lnTo>
                    <a:pt x="71" y="1597"/>
                  </a:lnTo>
                  <a:lnTo>
                    <a:pt x="72" y="1542"/>
                  </a:lnTo>
                  <a:lnTo>
                    <a:pt x="75" y="1488"/>
                  </a:lnTo>
                  <a:lnTo>
                    <a:pt x="77" y="1431"/>
                  </a:lnTo>
                  <a:lnTo>
                    <a:pt x="83" y="1412"/>
                  </a:lnTo>
                  <a:lnTo>
                    <a:pt x="98" y="1372"/>
                  </a:lnTo>
                  <a:lnTo>
                    <a:pt x="108" y="1346"/>
                  </a:lnTo>
                  <a:lnTo>
                    <a:pt x="121" y="1316"/>
                  </a:lnTo>
                  <a:lnTo>
                    <a:pt x="136" y="1283"/>
                  </a:lnTo>
                  <a:lnTo>
                    <a:pt x="152" y="1247"/>
                  </a:lnTo>
                  <a:lnTo>
                    <a:pt x="172" y="1207"/>
                  </a:lnTo>
                  <a:lnTo>
                    <a:pt x="193" y="1166"/>
                  </a:lnTo>
                  <a:lnTo>
                    <a:pt x="216" y="1123"/>
                  </a:lnTo>
                  <a:lnTo>
                    <a:pt x="244" y="1078"/>
                  </a:lnTo>
                  <a:lnTo>
                    <a:pt x="272" y="1033"/>
                  </a:lnTo>
                  <a:lnTo>
                    <a:pt x="303" y="989"/>
                  </a:lnTo>
                  <a:lnTo>
                    <a:pt x="338" y="943"/>
                  </a:lnTo>
                  <a:lnTo>
                    <a:pt x="375" y="898"/>
                  </a:lnTo>
                  <a:lnTo>
                    <a:pt x="415" y="854"/>
                  </a:lnTo>
                  <a:lnTo>
                    <a:pt x="457" y="811"/>
                  </a:lnTo>
                  <a:lnTo>
                    <a:pt x="503" y="770"/>
                  </a:lnTo>
                  <a:lnTo>
                    <a:pt x="552" y="731"/>
                  </a:lnTo>
                  <a:lnTo>
                    <a:pt x="602" y="695"/>
                  </a:lnTo>
                  <a:lnTo>
                    <a:pt x="657" y="663"/>
                  </a:lnTo>
                  <a:lnTo>
                    <a:pt x="714" y="633"/>
                  </a:lnTo>
                  <a:lnTo>
                    <a:pt x="775" y="607"/>
                  </a:lnTo>
                  <a:lnTo>
                    <a:pt x="838" y="586"/>
                  </a:lnTo>
                  <a:lnTo>
                    <a:pt x="905" y="569"/>
                  </a:lnTo>
                  <a:lnTo>
                    <a:pt x="975" y="558"/>
                  </a:lnTo>
                  <a:lnTo>
                    <a:pt x="1049" y="552"/>
                  </a:lnTo>
                  <a:lnTo>
                    <a:pt x="1126" y="552"/>
                  </a:lnTo>
                  <a:lnTo>
                    <a:pt x="1206" y="560"/>
                  </a:lnTo>
                  <a:lnTo>
                    <a:pt x="1290" y="573"/>
                  </a:lnTo>
                  <a:lnTo>
                    <a:pt x="1379" y="596"/>
                  </a:lnTo>
                  <a:lnTo>
                    <a:pt x="1385" y="597"/>
                  </a:lnTo>
                  <a:lnTo>
                    <a:pt x="1392" y="597"/>
                  </a:lnTo>
                  <a:lnTo>
                    <a:pt x="1398" y="594"/>
                  </a:lnTo>
                  <a:lnTo>
                    <a:pt x="1405" y="592"/>
                  </a:lnTo>
                  <a:lnTo>
                    <a:pt x="1411" y="588"/>
                  </a:lnTo>
                  <a:lnTo>
                    <a:pt x="1416" y="583"/>
                  </a:lnTo>
                  <a:lnTo>
                    <a:pt x="1419" y="577"/>
                  </a:lnTo>
                  <a:lnTo>
                    <a:pt x="1422" y="571"/>
                  </a:lnTo>
                  <a:lnTo>
                    <a:pt x="1426" y="560"/>
                  </a:lnTo>
                  <a:lnTo>
                    <a:pt x="1438" y="530"/>
                  </a:lnTo>
                  <a:lnTo>
                    <a:pt x="1447" y="509"/>
                  </a:lnTo>
                  <a:lnTo>
                    <a:pt x="1459" y="485"/>
                  </a:lnTo>
                  <a:lnTo>
                    <a:pt x="1474" y="459"/>
                  </a:lnTo>
                  <a:lnTo>
                    <a:pt x="1492" y="432"/>
                  </a:lnTo>
                  <a:lnTo>
                    <a:pt x="1511" y="403"/>
                  </a:lnTo>
                  <a:lnTo>
                    <a:pt x="1534" y="373"/>
                  </a:lnTo>
                  <a:lnTo>
                    <a:pt x="1546" y="359"/>
                  </a:lnTo>
                  <a:lnTo>
                    <a:pt x="1560" y="345"/>
                  </a:lnTo>
                  <a:lnTo>
                    <a:pt x="1573" y="330"/>
                  </a:lnTo>
                  <a:lnTo>
                    <a:pt x="1590" y="315"/>
                  </a:lnTo>
                  <a:lnTo>
                    <a:pt x="1605" y="301"/>
                  </a:lnTo>
                  <a:lnTo>
                    <a:pt x="1622" y="288"/>
                  </a:lnTo>
                  <a:lnTo>
                    <a:pt x="1639" y="274"/>
                  </a:lnTo>
                  <a:lnTo>
                    <a:pt x="1658" y="261"/>
                  </a:lnTo>
                  <a:lnTo>
                    <a:pt x="1678" y="248"/>
                  </a:lnTo>
                  <a:lnTo>
                    <a:pt x="1698" y="237"/>
                  </a:lnTo>
                  <a:lnTo>
                    <a:pt x="1719" y="226"/>
                  </a:lnTo>
                  <a:lnTo>
                    <a:pt x="1741" y="215"/>
                  </a:lnTo>
                  <a:lnTo>
                    <a:pt x="1761" y="207"/>
                  </a:lnTo>
                  <a:lnTo>
                    <a:pt x="1781" y="200"/>
                  </a:lnTo>
                  <a:lnTo>
                    <a:pt x="1801" y="194"/>
                  </a:lnTo>
                  <a:lnTo>
                    <a:pt x="1821" y="187"/>
                  </a:lnTo>
                  <a:lnTo>
                    <a:pt x="1842" y="182"/>
                  </a:lnTo>
                  <a:lnTo>
                    <a:pt x="1863" y="177"/>
                  </a:lnTo>
                  <a:lnTo>
                    <a:pt x="1884" y="174"/>
                  </a:lnTo>
                  <a:lnTo>
                    <a:pt x="1906" y="171"/>
                  </a:lnTo>
                  <a:lnTo>
                    <a:pt x="1927" y="169"/>
                  </a:lnTo>
                  <a:lnTo>
                    <a:pt x="1950" y="166"/>
                  </a:lnTo>
                  <a:lnTo>
                    <a:pt x="1973" y="166"/>
                  </a:lnTo>
                  <a:lnTo>
                    <a:pt x="1996" y="165"/>
                  </a:lnTo>
                  <a:lnTo>
                    <a:pt x="2019" y="166"/>
                  </a:lnTo>
                  <a:lnTo>
                    <a:pt x="2043" y="167"/>
                  </a:lnTo>
                  <a:lnTo>
                    <a:pt x="2066" y="169"/>
                  </a:lnTo>
                  <a:lnTo>
                    <a:pt x="2091" y="171"/>
                  </a:lnTo>
                  <a:lnTo>
                    <a:pt x="2141" y="180"/>
                  </a:lnTo>
                  <a:lnTo>
                    <a:pt x="2192" y="190"/>
                  </a:lnTo>
                  <a:lnTo>
                    <a:pt x="2244" y="202"/>
                  </a:lnTo>
                  <a:lnTo>
                    <a:pt x="2297" y="218"/>
                  </a:lnTo>
                  <a:lnTo>
                    <a:pt x="2352" y="237"/>
                  </a:lnTo>
                  <a:lnTo>
                    <a:pt x="2408" y="259"/>
                  </a:lnTo>
                  <a:lnTo>
                    <a:pt x="2465" y="283"/>
                  </a:lnTo>
                  <a:lnTo>
                    <a:pt x="2523" y="310"/>
                  </a:lnTo>
                  <a:lnTo>
                    <a:pt x="2530" y="314"/>
                  </a:lnTo>
                  <a:lnTo>
                    <a:pt x="2537" y="314"/>
                  </a:lnTo>
                  <a:lnTo>
                    <a:pt x="2546" y="314"/>
                  </a:lnTo>
                  <a:lnTo>
                    <a:pt x="2552" y="31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60480" y="5003640"/>
              <a:ext cx="2554200" cy="1839960"/>
            </a:xfrm>
            <a:custGeom>
              <a:avLst/>
              <a:gdLst/>
              <a:ahLst/>
              <a:rect l="l" t="t" r="r" b="b"/>
              <a:pathLst>
                <a:path w="6436" h="4635">
                  <a:moveTo>
                    <a:pt x="5771" y="243"/>
                  </a:moveTo>
                  <a:lnTo>
                    <a:pt x="5783" y="256"/>
                  </a:lnTo>
                  <a:lnTo>
                    <a:pt x="5795" y="270"/>
                  </a:lnTo>
                  <a:lnTo>
                    <a:pt x="5809" y="285"/>
                  </a:lnTo>
                  <a:lnTo>
                    <a:pt x="5823" y="300"/>
                  </a:lnTo>
                  <a:lnTo>
                    <a:pt x="5810" y="285"/>
                  </a:lnTo>
                  <a:lnTo>
                    <a:pt x="5797" y="271"/>
                  </a:lnTo>
                  <a:lnTo>
                    <a:pt x="5783" y="256"/>
                  </a:lnTo>
                  <a:lnTo>
                    <a:pt x="5771" y="243"/>
                  </a:lnTo>
                  <a:close/>
                  <a:moveTo>
                    <a:pt x="5675" y="141"/>
                  </a:moveTo>
                  <a:lnTo>
                    <a:pt x="5686" y="152"/>
                  </a:lnTo>
                  <a:lnTo>
                    <a:pt x="5700" y="167"/>
                  </a:lnTo>
                  <a:lnTo>
                    <a:pt x="5686" y="152"/>
                  </a:lnTo>
                  <a:lnTo>
                    <a:pt x="5675" y="141"/>
                  </a:lnTo>
                  <a:close/>
                  <a:moveTo>
                    <a:pt x="5711" y="179"/>
                  </a:moveTo>
                  <a:lnTo>
                    <a:pt x="5723" y="193"/>
                  </a:lnTo>
                  <a:lnTo>
                    <a:pt x="5738" y="208"/>
                  </a:lnTo>
                  <a:lnTo>
                    <a:pt x="5753" y="224"/>
                  </a:lnTo>
                  <a:lnTo>
                    <a:pt x="5771" y="243"/>
                  </a:lnTo>
                  <a:lnTo>
                    <a:pt x="5755" y="225"/>
                  </a:lnTo>
                  <a:lnTo>
                    <a:pt x="5740" y="209"/>
                  </a:lnTo>
                  <a:lnTo>
                    <a:pt x="5725" y="194"/>
                  </a:lnTo>
                  <a:lnTo>
                    <a:pt x="5711" y="179"/>
                  </a:lnTo>
                  <a:close/>
                  <a:moveTo>
                    <a:pt x="5935" y="418"/>
                  </a:moveTo>
                  <a:lnTo>
                    <a:pt x="5948" y="433"/>
                  </a:lnTo>
                  <a:lnTo>
                    <a:pt x="5962" y="449"/>
                  </a:lnTo>
                  <a:lnTo>
                    <a:pt x="5949" y="435"/>
                  </a:lnTo>
                  <a:lnTo>
                    <a:pt x="5935" y="418"/>
                  </a:lnTo>
                  <a:close/>
                  <a:moveTo>
                    <a:pt x="1626" y="131"/>
                  </a:moveTo>
                  <a:lnTo>
                    <a:pt x="1641" y="141"/>
                  </a:lnTo>
                  <a:lnTo>
                    <a:pt x="1664" y="156"/>
                  </a:lnTo>
                  <a:lnTo>
                    <a:pt x="1695" y="173"/>
                  </a:lnTo>
                  <a:lnTo>
                    <a:pt x="1730" y="196"/>
                  </a:lnTo>
                  <a:lnTo>
                    <a:pt x="1690" y="171"/>
                  </a:lnTo>
                  <a:lnTo>
                    <a:pt x="1659" y="152"/>
                  </a:lnTo>
                  <a:lnTo>
                    <a:pt x="1638" y="140"/>
                  </a:lnTo>
                  <a:lnTo>
                    <a:pt x="1626" y="131"/>
                  </a:lnTo>
                  <a:close/>
                  <a:moveTo>
                    <a:pt x="5981" y="469"/>
                  </a:moveTo>
                  <a:lnTo>
                    <a:pt x="5973" y="460"/>
                  </a:lnTo>
                  <a:lnTo>
                    <a:pt x="5964" y="450"/>
                  </a:lnTo>
                  <a:lnTo>
                    <a:pt x="5977" y="464"/>
                  </a:lnTo>
                  <a:lnTo>
                    <a:pt x="5981" y="469"/>
                  </a:lnTo>
                  <a:close/>
                  <a:moveTo>
                    <a:pt x="1991" y="356"/>
                  </a:moveTo>
                  <a:lnTo>
                    <a:pt x="1986" y="352"/>
                  </a:lnTo>
                  <a:lnTo>
                    <a:pt x="1970" y="342"/>
                  </a:lnTo>
                  <a:lnTo>
                    <a:pt x="1981" y="348"/>
                  </a:lnTo>
                  <a:lnTo>
                    <a:pt x="1991" y="356"/>
                  </a:lnTo>
                  <a:close/>
                  <a:moveTo>
                    <a:pt x="5981" y="469"/>
                  </a:moveTo>
                  <a:lnTo>
                    <a:pt x="5974" y="464"/>
                  </a:lnTo>
                  <a:lnTo>
                    <a:pt x="5954" y="449"/>
                  </a:lnTo>
                  <a:lnTo>
                    <a:pt x="5922" y="428"/>
                  </a:lnTo>
                  <a:lnTo>
                    <a:pt x="5877" y="399"/>
                  </a:lnTo>
                  <a:lnTo>
                    <a:pt x="5823" y="366"/>
                  </a:lnTo>
                  <a:lnTo>
                    <a:pt x="5759" y="328"/>
                  </a:lnTo>
                  <a:lnTo>
                    <a:pt x="5723" y="308"/>
                  </a:lnTo>
                  <a:lnTo>
                    <a:pt x="5686" y="289"/>
                  </a:lnTo>
                  <a:lnTo>
                    <a:pt x="5648" y="268"/>
                  </a:lnTo>
                  <a:lnTo>
                    <a:pt x="5606" y="248"/>
                  </a:lnTo>
                  <a:lnTo>
                    <a:pt x="5563" y="227"/>
                  </a:lnTo>
                  <a:lnTo>
                    <a:pt x="5519" y="207"/>
                  </a:lnTo>
                  <a:lnTo>
                    <a:pt x="5471" y="187"/>
                  </a:lnTo>
                  <a:lnTo>
                    <a:pt x="5424" y="168"/>
                  </a:lnTo>
                  <a:lnTo>
                    <a:pt x="5376" y="150"/>
                  </a:lnTo>
                  <a:lnTo>
                    <a:pt x="5325" y="131"/>
                  </a:lnTo>
                  <a:lnTo>
                    <a:pt x="5274" y="115"/>
                  </a:lnTo>
                  <a:lnTo>
                    <a:pt x="5222" y="100"/>
                  </a:lnTo>
                  <a:lnTo>
                    <a:pt x="5168" y="85"/>
                  </a:lnTo>
                  <a:lnTo>
                    <a:pt x="5115" y="73"/>
                  </a:lnTo>
                  <a:lnTo>
                    <a:pt x="5060" y="63"/>
                  </a:lnTo>
                  <a:lnTo>
                    <a:pt x="5006" y="53"/>
                  </a:lnTo>
                  <a:lnTo>
                    <a:pt x="4950" y="47"/>
                  </a:lnTo>
                  <a:lnTo>
                    <a:pt x="4895" y="42"/>
                  </a:lnTo>
                  <a:lnTo>
                    <a:pt x="4839" y="39"/>
                  </a:lnTo>
                  <a:lnTo>
                    <a:pt x="4783" y="40"/>
                  </a:lnTo>
                  <a:lnTo>
                    <a:pt x="4791" y="23"/>
                  </a:lnTo>
                  <a:lnTo>
                    <a:pt x="4796" y="11"/>
                  </a:lnTo>
                  <a:lnTo>
                    <a:pt x="4800" y="3"/>
                  </a:lnTo>
                  <a:lnTo>
                    <a:pt x="4801" y="0"/>
                  </a:lnTo>
                  <a:lnTo>
                    <a:pt x="4770" y="5"/>
                  </a:lnTo>
                  <a:lnTo>
                    <a:pt x="4739" y="8"/>
                  </a:lnTo>
                  <a:lnTo>
                    <a:pt x="4708" y="14"/>
                  </a:lnTo>
                  <a:lnTo>
                    <a:pt x="4678" y="21"/>
                  </a:lnTo>
                  <a:lnTo>
                    <a:pt x="4649" y="27"/>
                  </a:lnTo>
                  <a:lnTo>
                    <a:pt x="4621" y="34"/>
                  </a:lnTo>
                  <a:lnTo>
                    <a:pt x="4592" y="43"/>
                  </a:lnTo>
                  <a:lnTo>
                    <a:pt x="4565" y="52"/>
                  </a:lnTo>
                  <a:lnTo>
                    <a:pt x="4538" y="62"/>
                  </a:lnTo>
                  <a:lnTo>
                    <a:pt x="4510" y="73"/>
                  </a:lnTo>
                  <a:lnTo>
                    <a:pt x="4484" y="84"/>
                  </a:lnTo>
                  <a:lnTo>
                    <a:pt x="4458" y="95"/>
                  </a:lnTo>
                  <a:lnTo>
                    <a:pt x="4433" y="107"/>
                  </a:lnTo>
                  <a:lnTo>
                    <a:pt x="4408" y="120"/>
                  </a:lnTo>
                  <a:lnTo>
                    <a:pt x="4385" y="132"/>
                  </a:lnTo>
                  <a:lnTo>
                    <a:pt x="4361" y="146"/>
                  </a:lnTo>
                  <a:lnTo>
                    <a:pt x="4322" y="168"/>
                  </a:lnTo>
                  <a:lnTo>
                    <a:pt x="4282" y="193"/>
                  </a:lnTo>
                  <a:lnTo>
                    <a:pt x="4243" y="220"/>
                  </a:lnTo>
                  <a:lnTo>
                    <a:pt x="4206" y="249"/>
                  </a:lnTo>
                  <a:lnTo>
                    <a:pt x="4169" y="281"/>
                  </a:lnTo>
                  <a:lnTo>
                    <a:pt x="4132" y="317"/>
                  </a:lnTo>
                  <a:lnTo>
                    <a:pt x="4114" y="335"/>
                  </a:lnTo>
                  <a:lnTo>
                    <a:pt x="4097" y="354"/>
                  </a:lnTo>
                  <a:lnTo>
                    <a:pt x="4078" y="374"/>
                  </a:lnTo>
                  <a:lnTo>
                    <a:pt x="4062" y="394"/>
                  </a:lnTo>
                  <a:lnTo>
                    <a:pt x="4038" y="421"/>
                  </a:lnTo>
                  <a:lnTo>
                    <a:pt x="4016" y="449"/>
                  </a:lnTo>
                  <a:lnTo>
                    <a:pt x="3994" y="475"/>
                  </a:lnTo>
                  <a:lnTo>
                    <a:pt x="3974" y="502"/>
                  </a:lnTo>
                  <a:lnTo>
                    <a:pt x="3954" y="529"/>
                  </a:lnTo>
                  <a:lnTo>
                    <a:pt x="3934" y="555"/>
                  </a:lnTo>
                  <a:lnTo>
                    <a:pt x="3917" y="583"/>
                  </a:lnTo>
                  <a:lnTo>
                    <a:pt x="3899" y="609"/>
                  </a:lnTo>
                  <a:lnTo>
                    <a:pt x="3867" y="662"/>
                  </a:lnTo>
                  <a:lnTo>
                    <a:pt x="3837" y="712"/>
                  </a:lnTo>
                  <a:lnTo>
                    <a:pt x="3812" y="760"/>
                  </a:lnTo>
                  <a:lnTo>
                    <a:pt x="3789" y="806"/>
                  </a:lnTo>
                  <a:lnTo>
                    <a:pt x="3769" y="848"/>
                  </a:lnTo>
                  <a:lnTo>
                    <a:pt x="3753" y="887"/>
                  </a:lnTo>
                  <a:lnTo>
                    <a:pt x="3738" y="921"/>
                  </a:lnTo>
                  <a:lnTo>
                    <a:pt x="3727" y="950"/>
                  </a:lnTo>
                  <a:lnTo>
                    <a:pt x="3713" y="991"/>
                  </a:lnTo>
                  <a:lnTo>
                    <a:pt x="3708" y="1006"/>
                  </a:lnTo>
                  <a:lnTo>
                    <a:pt x="3657" y="1107"/>
                  </a:lnTo>
                  <a:lnTo>
                    <a:pt x="3608" y="1197"/>
                  </a:lnTo>
                  <a:lnTo>
                    <a:pt x="3559" y="1276"/>
                  </a:lnTo>
                  <a:lnTo>
                    <a:pt x="3511" y="1344"/>
                  </a:lnTo>
                  <a:lnTo>
                    <a:pt x="3462" y="1403"/>
                  </a:lnTo>
                  <a:lnTo>
                    <a:pt x="3415" y="1451"/>
                  </a:lnTo>
                  <a:lnTo>
                    <a:pt x="3369" y="1492"/>
                  </a:lnTo>
                  <a:lnTo>
                    <a:pt x="3323" y="1523"/>
                  </a:lnTo>
                  <a:lnTo>
                    <a:pt x="3280" y="1548"/>
                  </a:lnTo>
                  <a:lnTo>
                    <a:pt x="3236" y="1565"/>
                  </a:lnTo>
                  <a:lnTo>
                    <a:pt x="3194" y="1575"/>
                  </a:lnTo>
                  <a:lnTo>
                    <a:pt x="3153" y="1580"/>
                  </a:lnTo>
                  <a:lnTo>
                    <a:pt x="3113" y="1579"/>
                  </a:lnTo>
                  <a:lnTo>
                    <a:pt x="3075" y="1573"/>
                  </a:lnTo>
                  <a:lnTo>
                    <a:pt x="3038" y="1562"/>
                  </a:lnTo>
                  <a:lnTo>
                    <a:pt x="3003" y="1548"/>
                  </a:lnTo>
                  <a:lnTo>
                    <a:pt x="2969" y="1529"/>
                  </a:lnTo>
                  <a:lnTo>
                    <a:pt x="2937" y="1509"/>
                  </a:lnTo>
                  <a:lnTo>
                    <a:pt x="2906" y="1486"/>
                  </a:lnTo>
                  <a:lnTo>
                    <a:pt x="2877" y="1461"/>
                  </a:lnTo>
                  <a:lnTo>
                    <a:pt x="2851" y="1436"/>
                  </a:lnTo>
                  <a:lnTo>
                    <a:pt x="2826" y="1409"/>
                  </a:lnTo>
                  <a:lnTo>
                    <a:pt x="2804" y="1383"/>
                  </a:lnTo>
                  <a:lnTo>
                    <a:pt x="2783" y="1357"/>
                  </a:lnTo>
                  <a:lnTo>
                    <a:pt x="2764" y="1332"/>
                  </a:lnTo>
                  <a:lnTo>
                    <a:pt x="2748" y="1308"/>
                  </a:lnTo>
                  <a:lnTo>
                    <a:pt x="2735" y="1287"/>
                  </a:lnTo>
                  <a:lnTo>
                    <a:pt x="2722" y="1269"/>
                  </a:lnTo>
                  <a:lnTo>
                    <a:pt x="2707" y="1241"/>
                  </a:lnTo>
                  <a:lnTo>
                    <a:pt x="2701" y="1232"/>
                  </a:lnTo>
                  <a:lnTo>
                    <a:pt x="2690" y="1203"/>
                  </a:lnTo>
                  <a:lnTo>
                    <a:pt x="2677" y="1174"/>
                  </a:lnTo>
                  <a:lnTo>
                    <a:pt x="2664" y="1146"/>
                  </a:lnTo>
                  <a:lnTo>
                    <a:pt x="2650" y="1119"/>
                  </a:lnTo>
                  <a:lnTo>
                    <a:pt x="2635" y="1091"/>
                  </a:lnTo>
                  <a:lnTo>
                    <a:pt x="2620" y="1063"/>
                  </a:lnTo>
                  <a:lnTo>
                    <a:pt x="2604" y="1037"/>
                  </a:lnTo>
                  <a:lnTo>
                    <a:pt x="2588" y="1009"/>
                  </a:lnTo>
                  <a:lnTo>
                    <a:pt x="2564" y="965"/>
                  </a:lnTo>
                  <a:lnTo>
                    <a:pt x="2541" y="921"/>
                  </a:lnTo>
                  <a:lnTo>
                    <a:pt x="2515" y="877"/>
                  </a:lnTo>
                  <a:lnTo>
                    <a:pt x="2486" y="833"/>
                  </a:lnTo>
                  <a:lnTo>
                    <a:pt x="2456" y="790"/>
                  </a:lnTo>
                  <a:lnTo>
                    <a:pt x="2425" y="746"/>
                  </a:lnTo>
                  <a:lnTo>
                    <a:pt x="2392" y="704"/>
                  </a:lnTo>
                  <a:lnTo>
                    <a:pt x="2356" y="662"/>
                  </a:lnTo>
                  <a:lnTo>
                    <a:pt x="2319" y="620"/>
                  </a:lnTo>
                  <a:lnTo>
                    <a:pt x="2279" y="580"/>
                  </a:lnTo>
                  <a:lnTo>
                    <a:pt x="2237" y="539"/>
                  </a:lnTo>
                  <a:lnTo>
                    <a:pt x="2192" y="501"/>
                  </a:lnTo>
                  <a:lnTo>
                    <a:pt x="2146" y="462"/>
                  </a:lnTo>
                  <a:lnTo>
                    <a:pt x="2096" y="425"/>
                  </a:lnTo>
                  <a:lnTo>
                    <a:pt x="2045" y="390"/>
                  </a:lnTo>
                  <a:lnTo>
                    <a:pt x="1991" y="356"/>
                  </a:lnTo>
                  <a:lnTo>
                    <a:pt x="1977" y="352"/>
                  </a:lnTo>
                  <a:lnTo>
                    <a:pt x="1934" y="343"/>
                  </a:lnTo>
                  <a:lnTo>
                    <a:pt x="1904" y="338"/>
                  </a:lnTo>
                  <a:lnTo>
                    <a:pt x="1868" y="333"/>
                  </a:lnTo>
                  <a:lnTo>
                    <a:pt x="1826" y="328"/>
                  </a:lnTo>
                  <a:lnTo>
                    <a:pt x="1780" y="323"/>
                  </a:lnTo>
                  <a:lnTo>
                    <a:pt x="1728" y="320"/>
                  </a:lnTo>
                  <a:lnTo>
                    <a:pt x="1673" y="316"/>
                  </a:lnTo>
                  <a:lnTo>
                    <a:pt x="1613" y="315"/>
                  </a:lnTo>
                  <a:lnTo>
                    <a:pt x="1551" y="315"/>
                  </a:lnTo>
                  <a:lnTo>
                    <a:pt x="1485" y="317"/>
                  </a:lnTo>
                  <a:lnTo>
                    <a:pt x="1416" y="322"/>
                  </a:lnTo>
                  <a:lnTo>
                    <a:pt x="1345" y="330"/>
                  </a:lnTo>
                  <a:lnTo>
                    <a:pt x="1273" y="341"/>
                  </a:lnTo>
                  <a:lnTo>
                    <a:pt x="1199" y="354"/>
                  </a:lnTo>
                  <a:lnTo>
                    <a:pt x="1123" y="372"/>
                  </a:lnTo>
                  <a:lnTo>
                    <a:pt x="1046" y="394"/>
                  </a:lnTo>
                  <a:lnTo>
                    <a:pt x="969" y="420"/>
                  </a:lnTo>
                  <a:lnTo>
                    <a:pt x="892" y="451"/>
                  </a:lnTo>
                  <a:lnTo>
                    <a:pt x="816" y="487"/>
                  </a:lnTo>
                  <a:lnTo>
                    <a:pt x="740" y="528"/>
                  </a:lnTo>
                  <a:lnTo>
                    <a:pt x="665" y="575"/>
                  </a:lnTo>
                  <a:lnTo>
                    <a:pt x="591" y="629"/>
                  </a:lnTo>
                  <a:lnTo>
                    <a:pt x="521" y="688"/>
                  </a:lnTo>
                  <a:lnTo>
                    <a:pt x="451" y="754"/>
                  </a:lnTo>
                  <a:lnTo>
                    <a:pt x="384" y="827"/>
                  </a:lnTo>
                  <a:lnTo>
                    <a:pt x="321" y="908"/>
                  </a:lnTo>
                  <a:lnTo>
                    <a:pt x="260" y="996"/>
                  </a:lnTo>
                  <a:lnTo>
                    <a:pt x="203" y="1091"/>
                  </a:lnTo>
                  <a:lnTo>
                    <a:pt x="151" y="1197"/>
                  </a:lnTo>
                  <a:lnTo>
                    <a:pt x="146" y="1207"/>
                  </a:lnTo>
                  <a:lnTo>
                    <a:pt x="134" y="1237"/>
                  </a:lnTo>
                  <a:lnTo>
                    <a:pt x="116" y="1281"/>
                  </a:lnTo>
                  <a:lnTo>
                    <a:pt x="95" y="1337"/>
                  </a:lnTo>
                  <a:lnTo>
                    <a:pt x="71" y="1402"/>
                  </a:lnTo>
                  <a:lnTo>
                    <a:pt x="49" y="1471"/>
                  </a:lnTo>
                  <a:lnTo>
                    <a:pt x="38" y="1506"/>
                  </a:lnTo>
                  <a:lnTo>
                    <a:pt x="28" y="1540"/>
                  </a:lnTo>
                  <a:lnTo>
                    <a:pt x="19" y="1575"/>
                  </a:lnTo>
                  <a:lnTo>
                    <a:pt x="11" y="1609"/>
                  </a:lnTo>
                  <a:lnTo>
                    <a:pt x="6" y="1640"/>
                  </a:lnTo>
                  <a:lnTo>
                    <a:pt x="3" y="1670"/>
                  </a:lnTo>
                  <a:lnTo>
                    <a:pt x="0" y="1697"/>
                  </a:lnTo>
                  <a:lnTo>
                    <a:pt x="1" y="1722"/>
                  </a:lnTo>
                  <a:lnTo>
                    <a:pt x="5" y="1743"/>
                  </a:lnTo>
                  <a:lnTo>
                    <a:pt x="11" y="1760"/>
                  </a:lnTo>
                  <a:lnTo>
                    <a:pt x="20" y="1774"/>
                  </a:lnTo>
                  <a:lnTo>
                    <a:pt x="34" y="1781"/>
                  </a:lnTo>
                  <a:lnTo>
                    <a:pt x="50" y="1785"/>
                  </a:lnTo>
                  <a:lnTo>
                    <a:pt x="70" y="1784"/>
                  </a:lnTo>
                  <a:lnTo>
                    <a:pt x="95" y="1775"/>
                  </a:lnTo>
                  <a:lnTo>
                    <a:pt x="124" y="1760"/>
                  </a:lnTo>
                  <a:lnTo>
                    <a:pt x="158" y="1739"/>
                  </a:lnTo>
                  <a:lnTo>
                    <a:pt x="196" y="1710"/>
                  </a:lnTo>
                  <a:lnTo>
                    <a:pt x="240" y="1674"/>
                  </a:lnTo>
                  <a:lnTo>
                    <a:pt x="290" y="1630"/>
                  </a:lnTo>
                  <a:lnTo>
                    <a:pt x="304" y="1616"/>
                  </a:lnTo>
                  <a:lnTo>
                    <a:pt x="347" y="1580"/>
                  </a:lnTo>
                  <a:lnTo>
                    <a:pt x="378" y="1555"/>
                  </a:lnTo>
                  <a:lnTo>
                    <a:pt x="415" y="1527"/>
                  </a:lnTo>
                  <a:lnTo>
                    <a:pt x="457" y="1495"/>
                  </a:lnTo>
                  <a:lnTo>
                    <a:pt x="504" y="1460"/>
                  </a:lnTo>
                  <a:lnTo>
                    <a:pt x="558" y="1423"/>
                  </a:lnTo>
                  <a:lnTo>
                    <a:pt x="614" y="1385"/>
                  </a:lnTo>
                  <a:lnTo>
                    <a:pt x="675" y="1347"/>
                  </a:lnTo>
                  <a:lnTo>
                    <a:pt x="739" y="1308"/>
                  </a:lnTo>
                  <a:lnTo>
                    <a:pt x="806" y="1270"/>
                  </a:lnTo>
                  <a:lnTo>
                    <a:pt x="877" y="1234"/>
                  </a:lnTo>
                  <a:lnTo>
                    <a:pt x="950" y="1198"/>
                  </a:lnTo>
                  <a:lnTo>
                    <a:pt x="1025" y="1166"/>
                  </a:lnTo>
                  <a:lnTo>
                    <a:pt x="1102" y="1137"/>
                  </a:lnTo>
                  <a:lnTo>
                    <a:pt x="1180" y="1111"/>
                  </a:lnTo>
                  <a:lnTo>
                    <a:pt x="1259" y="1090"/>
                  </a:lnTo>
                  <a:lnTo>
                    <a:pt x="1339" y="1075"/>
                  </a:lnTo>
                  <a:lnTo>
                    <a:pt x="1420" y="1064"/>
                  </a:lnTo>
                  <a:lnTo>
                    <a:pt x="1499" y="1060"/>
                  </a:lnTo>
                  <a:lnTo>
                    <a:pt x="1580" y="1064"/>
                  </a:lnTo>
                  <a:lnTo>
                    <a:pt x="1658" y="1074"/>
                  </a:lnTo>
                  <a:lnTo>
                    <a:pt x="1736" y="1093"/>
                  </a:lnTo>
                  <a:lnTo>
                    <a:pt x="1812" y="1121"/>
                  </a:lnTo>
                  <a:lnTo>
                    <a:pt x="1886" y="1158"/>
                  </a:lnTo>
                  <a:lnTo>
                    <a:pt x="1958" y="1206"/>
                  </a:lnTo>
                  <a:lnTo>
                    <a:pt x="2028" y="1264"/>
                  </a:lnTo>
                  <a:lnTo>
                    <a:pt x="2094" y="1333"/>
                  </a:lnTo>
                  <a:lnTo>
                    <a:pt x="2156" y="1414"/>
                  </a:lnTo>
                  <a:lnTo>
                    <a:pt x="2216" y="1508"/>
                  </a:lnTo>
                  <a:lnTo>
                    <a:pt x="2222" y="1522"/>
                  </a:lnTo>
                  <a:lnTo>
                    <a:pt x="2240" y="1560"/>
                  </a:lnTo>
                  <a:lnTo>
                    <a:pt x="2252" y="1588"/>
                  </a:lnTo>
                  <a:lnTo>
                    <a:pt x="2265" y="1621"/>
                  </a:lnTo>
                  <a:lnTo>
                    <a:pt x="2280" y="1658"/>
                  </a:lnTo>
                  <a:lnTo>
                    <a:pt x="2295" y="1702"/>
                  </a:lnTo>
                  <a:lnTo>
                    <a:pt x="2309" y="1748"/>
                  </a:lnTo>
                  <a:lnTo>
                    <a:pt x="2324" y="1799"/>
                  </a:lnTo>
                  <a:lnTo>
                    <a:pt x="2337" y="1853"/>
                  </a:lnTo>
                  <a:lnTo>
                    <a:pt x="2348" y="1911"/>
                  </a:lnTo>
                  <a:lnTo>
                    <a:pt x="2353" y="1941"/>
                  </a:lnTo>
                  <a:lnTo>
                    <a:pt x="2358" y="1971"/>
                  </a:lnTo>
                  <a:lnTo>
                    <a:pt x="2363" y="2003"/>
                  </a:lnTo>
                  <a:lnTo>
                    <a:pt x="2367" y="2034"/>
                  </a:lnTo>
                  <a:lnTo>
                    <a:pt x="2370" y="2068"/>
                  </a:lnTo>
                  <a:lnTo>
                    <a:pt x="2372" y="2100"/>
                  </a:lnTo>
                  <a:lnTo>
                    <a:pt x="2373" y="2134"/>
                  </a:lnTo>
                  <a:lnTo>
                    <a:pt x="2373" y="2167"/>
                  </a:lnTo>
                  <a:lnTo>
                    <a:pt x="2371" y="2202"/>
                  </a:lnTo>
                  <a:lnTo>
                    <a:pt x="2362" y="2299"/>
                  </a:lnTo>
                  <a:lnTo>
                    <a:pt x="2358" y="2367"/>
                  </a:lnTo>
                  <a:lnTo>
                    <a:pt x="2353" y="2447"/>
                  </a:lnTo>
                  <a:lnTo>
                    <a:pt x="2350" y="2538"/>
                  </a:lnTo>
                  <a:lnTo>
                    <a:pt x="2346" y="2639"/>
                  </a:lnTo>
                  <a:lnTo>
                    <a:pt x="2343" y="2746"/>
                  </a:lnTo>
                  <a:lnTo>
                    <a:pt x="2343" y="2861"/>
                  </a:lnTo>
                  <a:lnTo>
                    <a:pt x="2343" y="2981"/>
                  </a:lnTo>
                  <a:lnTo>
                    <a:pt x="2347" y="3106"/>
                  </a:lnTo>
                  <a:lnTo>
                    <a:pt x="2353" y="3233"/>
                  </a:lnTo>
                  <a:lnTo>
                    <a:pt x="2362" y="3362"/>
                  </a:lnTo>
                  <a:lnTo>
                    <a:pt x="2374" y="3491"/>
                  </a:lnTo>
                  <a:lnTo>
                    <a:pt x="2389" y="3620"/>
                  </a:lnTo>
                  <a:lnTo>
                    <a:pt x="2409" y="3746"/>
                  </a:lnTo>
                  <a:lnTo>
                    <a:pt x="2434" y="3869"/>
                  </a:lnTo>
                  <a:lnTo>
                    <a:pt x="2463" y="3987"/>
                  </a:lnTo>
                  <a:lnTo>
                    <a:pt x="2497" y="4099"/>
                  </a:lnTo>
                  <a:lnTo>
                    <a:pt x="2537" y="4204"/>
                  </a:lnTo>
                  <a:lnTo>
                    <a:pt x="2583" y="4301"/>
                  </a:lnTo>
                  <a:lnTo>
                    <a:pt x="2635" y="4388"/>
                  </a:lnTo>
                  <a:lnTo>
                    <a:pt x="2694" y="4464"/>
                  </a:lnTo>
                  <a:lnTo>
                    <a:pt x="2759" y="4528"/>
                  </a:lnTo>
                  <a:lnTo>
                    <a:pt x="2833" y="4578"/>
                  </a:lnTo>
                  <a:lnTo>
                    <a:pt x="2913" y="4614"/>
                  </a:lnTo>
                  <a:lnTo>
                    <a:pt x="3003" y="4634"/>
                  </a:lnTo>
                  <a:lnTo>
                    <a:pt x="3100" y="4635"/>
                  </a:lnTo>
                  <a:lnTo>
                    <a:pt x="3206" y="4619"/>
                  </a:lnTo>
                  <a:lnTo>
                    <a:pt x="3322" y="4583"/>
                  </a:lnTo>
                  <a:lnTo>
                    <a:pt x="3447" y="4526"/>
                  </a:lnTo>
                  <a:lnTo>
                    <a:pt x="3461" y="4511"/>
                  </a:lnTo>
                  <a:lnTo>
                    <a:pt x="3498" y="4466"/>
                  </a:lnTo>
                  <a:lnTo>
                    <a:pt x="3524" y="4434"/>
                  </a:lnTo>
                  <a:lnTo>
                    <a:pt x="3555" y="4394"/>
                  </a:lnTo>
                  <a:lnTo>
                    <a:pt x="3590" y="4347"/>
                  </a:lnTo>
                  <a:lnTo>
                    <a:pt x="3629" y="4292"/>
                  </a:lnTo>
                  <a:lnTo>
                    <a:pt x="3671" y="4232"/>
                  </a:lnTo>
                  <a:lnTo>
                    <a:pt x="3714" y="4165"/>
                  </a:lnTo>
                  <a:lnTo>
                    <a:pt x="3762" y="4089"/>
                  </a:lnTo>
                  <a:lnTo>
                    <a:pt x="3810" y="4008"/>
                  </a:lnTo>
                  <a:lnTo>
                    <a:pt x="3860" y="3920"/>
                  </a:lnTo>
                  <a:lnTo>
                    <a:pt x="3911" y="3825"/>
                  </a:lnTo>
                  <a:lnTo>
                    <a:pt x="3960" y="3723"/>
                  </a:lnTo>
                  <a:lnTo>
                    <a:pt x="4011" y="3615"/>
                  </a:lnTo>
                  <a:lnTo>
                    <a:pt x="4062" y="3501"/>
                  </a:lnTo>
                  <a:lnTo>
                    <a:pt x="4110" y="3379"/>
                  </a:lnTo>
                  <a:lnTo>
                    <a:pt x="4158" y="3253"/>
                  </a:lnTo>
                  <a:lnTo>
                    <a:pt x="4204" y="3119"/>
                  </a:lnTo>
                  <a:lnTo>
                    <a:pt x="4246" y="2978"/>
                  </a:lnTo>
                  <a:lnTo>
                    <a:pt x="4286" y="2832"/>
                  </a:lnTo>
                  <a:lnTo>
                    <a:pt x="4323" y="2679"/>
                  </a:lnTo>
                  <a:lnTo>
                    <a:pt x="4355" y="2521"/>
                  </a:lnTo>
                  <a:lnTo>
                    <a:pt x="4384" y="2357"/>
                  </a:lnTo>
                  <a:lnTo>
                    <a:pt x="4407" y="2186"/>
                  </a:lnTo>
                  <a:lnTo>
                    <a:pt x="4425" y="2009"/>
                  </a:lnTo>
                  <a:lnTo>
                    <a:pt x="4437" y="1827"/>
                  </a:lnTo>
                  <a:lnTo>
                    <a:pt x="4443" y="1640"/>
                  </a:lnTo>
                  <a:lnTo>
                    <a:pt x="4443" y="1445"/>
                  </a:lnTo>
                  <a:lnTo>
                    <a:pt x="4435" y="1245"/>
                  </a:lnTo>
                  <a:lnTo>
                    <a:pt x="4420" y="1040"/>
                  </a:lnTo>
                  <a:lnTo>
                    <a:pt x="4427" y="1037"/>
                  </a:lnTo>
                  <a:lnTo>
                    <a:pt x="4451" y="1027"/>
                  </a:lnTo>
                  <a:lnTo>
                    <a:pt x="4488" y="1013"/>
                  </a:lnTo>
                  <a:lnTo>
                    <a:pt x="4536" y="996"/>
                  </a:lnTo>
                  <a:lnTo>
                    <a:pt x="4565" y="987"/>
                  </a:lnTo>
                  <a:lnTo>
                    <a:pt x="4596" y="980"/>
                  </a:lnTo>
                  <a:lnTo>
                    <a:pt x="4629" y="971"/>
                  </a:lnTo>
                  <a:lnTo>
                    <a:pt x="4664" y="964"/>
                  </a:lnTo>
                  <a:lnTo>
                    <a:pt x="4702" y="957"/>
                  </a:lnTo>
                  <a:lnTo>
                    <a:pt x="4740" y="952"/>
                  </a:lnTo>
                  <a:lnTo>
                    <a:pt x="4781" y="947"/>
                  </a:lnTo>
                  <a:lnTo>
                    <a:pt x="4823" y="945"/>
                  </a:lnTo>
                  <a:lnTo>
                    <a:pt x="4865" y="945"/>
                  </a:lnTo>
                  <a:lnTo>
                    <a:pt x="4909" y="946"/>
                  </a:lnTo>
                  <a:lnTo>
                    <a:pt x="4954" y="950"/>
                  </a:lnTo>
                  <a:lnTo>
                    <a:pt x="4998" y="956"/>
                  </a:lnTo>
                  <a:lnTo>
                    <a:pt x="5044" y="965"/>
                  </a:lnTo>
                  <a:lnTo>
                    <a:pt x="5090" y="977"/>
                  </a:lnTo>
                  <a:lnTo>
                    <a:pt x="5135" y="992"/>
                  </a:lnTo>
                  <a:lnTo>
                    <a:pt x="5181" y="1011"/>
                  </a:lnTo>
                  <a:lnTo>
                    <a:pt x="5226" y="1034"/>
                  </a:lnTo>
                  <a:lnTo>
                    <a:pt x="5270" y="1060"/>
                  </a:lnTo>
                  <a:lnTo>
                    <a:pt x="5314" y="1091"/>
                  </a:lnTo>
                  <a:lnTo>
                    <a:pt x="5356" y="1127"/>
                  </a:lnTo>
                  <a:lnTo>
                    <a:pt x="5397" y="1167"/>
                  </a:lnTo>
                  <a:lnTo>
                    <a:pt x="5437" y="1212"/>
                  </a:lnTo>
                  <a:lnTo>
                    <a:pt x="5475" y="1263"/>
                  </a:lnTo>
                  <a:lnTo>
                    <a:pt x="5512" y="1318"/>
                  </a:lnTo>
                  <a:lnTo>
                    <a:pt x="5516" y="1325"/>
                  </a:lnTo>
                  <a:lnTo>
                    <a:pt x="5529" y="1342"/>
                  </a:lnTo>
                  <a:lnTo>
                    <a:pt x="5546" y="1372"/>
                  </a:lnTo>
                  <a:lnTo>
                    <a:pt x="5568" y="1410"/>
                  </a:lnTo>
                  <a:lnTo>
                    <a:pt x="5596" y="1456"/>
                  </a:lnTo>
                  <a:lnTo>
                    <a:pt x="5625" y="1511"/>
                  </a:lnTo>
                  <a:lnTo>
                    <a:pt x="5658" y="1572"/>
                  </a:lnTo>
                  <a:lnTo>
                    <a:pt x="5690" y="1636"/>
                  </a:lnTo>
                  <a:lnTo>
                    <a:pt x="5722" y="1706"/>
                  </a:lnTo>
                  <a:lnTo>
                    <a:pt x="5753" y="1777"/>
                  </a:lnTo>
                  <a:lnTo>
                    <a:pt x="5767" y="1815"/>
                  </a:lnTo>
                  <a:lnTo>
                    <a:pt x="5781" y="1851"/>
                  </a:lnTo>
                  <a:lnTo>
                    <a:pt x="5793" y="1888"/>
                  </a:lnTo>
                  <a:lnTo>
                    <a:pt x="5805" y="1925"/>
                  </a:lnTo>
                  <a:lnTo>
                    <a:pt x="5815" y="1962"/>
                  </a:lnTo>
                  <a:lnTo>
                    <a:pt x="5824" y="1998"/>
                  </a:lnTo>
                  <a:lnTo>
                    <a:pt x="5832" y="2034"/>
                  </a:lnTo>
                  <a:lnTo>
                    <a:pt x="5838" y="2069"/>
                  </a:lnTo>
                  <a:lnTo>
                    <a:pt x="5841" y="2104"/>
                  </a:lnTo>
                  <a:lnTo>
                    <a:pt x="5844" y="2137"/>
                  </a:lnTo>
                  <a:lnTo>
                    <a:pt x="5844" y="2171"/>
                  </a:lnTo>
                  <a:lnTo>
                    <a:pt x="5843" y="2202"/>
                  </a:lnTo>
                  <a:lnTo>
                    <a:pt x="5843" y="2208"/>
                  </a:lnTo>
                  <a:lnTo>
                    <a:pt x="5846" y="2227"/>
                  </a:lnTo>
                  <a:lnTo>
                    <a:pt x="5853" y="2253"/>
                  </a:lnTo>
                  <a:lnTo>
                    <a:pt x="5863" y="2284"/>
                  </a:lnTo>
                  <a:lnTo>
                    <a:pt x="5868" y="2301"/>
                  </a:lnTo>
                  <a:lnTo>
                    <a:pt x="5875" y="2318"/>
                  </a:lnTo>
                  <a:lnTo>
                    <a:pt x="5882" y="2337"/>
                  </a:lnTo>
                  <a:lnTo>
                    <a:pt x="5891" y="2354"/>
                  </a:lnTo>
                  <a:lnTo>
                    <a:pt x="5901" y="2371"/>
                  </a:lnTo>
                  <a:lnTo>
                    <a:pt x="5912" y="2387"/>
                  </a:lnTo>
                  <a:lnTo>
                    <a:pt x="5925" y="2402"/>
                  </a:lnTo>
                  <a:lnTo>
                    <a:pt x="5937" y="2414"/>
                  </a:lnTo>
                  <a:lnTo>
                    <a:pt x="5952" y="2425"/>
                  </a:lnTo>
                  <a:lnTo>
                    <a:pt x="5968" y="2435"/>
                  </a:lnTo>
                  <a:lnTo>
                    <a:pt x="5984" y="2441"/>
                  </a:lnTo>
                  <a:lnTo>
                    <a:pt x="6003" y="2444"/>
                  </a:lnTo>
                  <a:lnTo>
                    <a:pt x="6023" y="2445"/>
                  </a:lnTo>
                  <a:lnTo>
                    <a:pt x="6044" y="2441"/>
                  </a:lnTo>
                  <a:lnTo>
                    <a:pt x="6066" y="2434"/>
                  </a:lnTo>
                  <a:lnTo>
                    <a:pt x="6091" y="2421"/>
                  </a:lnTo>
                  <a:lnTo>
                    <a:pt x="6117" y="2405"/>
                  </a:lnTo>
                  <a:lnTo>
                    <a:pt x="6144" y="2384"/>
                  </a:lnTo>
                  <a:lnTo>
                    <a:pt x="6173" y="2357"/>
                  </a:lnTo>
                  <a:lnTo>
                    <a:pt x="6204" y="2325"/>
                  </a:lnTo>
                  <a:lnTo>
                    <a:pt x="6236" y="2287"/>
                  </a:lnTo>
                  <a:lnTo>
                    <a:pt x="6271" y="2243"/>
                  </a:lnTo>
                  <a:lnTo>
                    <a:pt x="6307" y="2191"/>
                  </a:lnTo>
                  <a:lnTo>
                    <a:pt x="6346" y="2132"/>
                  </a:lnTo>
                  <a:lnTo>
                    <a:pt x="6349" y="2122"/>
                  </a:lnTo>
                  <a:lnTo>
                    <a:pt x="6359" y="2094"/>
                  </a:lnTo>
                  <a:lnTo>
                    <a:pt x="6374" y="2047"/>
                  </a:lnTo>
                  <a:lnTo>
                    <a:pt x="6392" y="1982"/>
                  </a:lnTo>
                  <a:lnTo>
                    <a:pt x="6399" y="1945"/>
                  </a:lnTo>
                  <a:lnTo>
                    <a:pt x="6408" y="1904"/>
                  </a:lnTo>
                  <a:lnTo>
                    <a:pt x="6415" y="1859"/>
                  </a:lnTo>
                  <a:lnTo>
                    <a:pt x="6423" y="1812"/>
                  </a:lnTo>
                  <a:lnTo>
                    <a:pt x="6428" y="1761"/>
                  </a:lnTo>
                  <a:lnTo>
                    <a:pt x="6433" y="1708"/>
                  </a:lnTo>
                  <a:lnTo>
                    <a:pt x="6435" y="1652"/>
                  </a:lnTo>
                  <a:lnTo>
                    <a:pt x="6436" y="1593"/>
                  </a:lnTo>
                  <a:lnTo>
                    <a:pt x="6435" y="1532"/>
                  </a:lnTo>
                  <a:lnTo>
                    <a:pt x="6431" y="1470"/>
                  </a:lnTo>
                  <a:lnTo>
                    <a:pt x="6426" y="1404"/>
                  </a:lnTo>
                  <a:lnTo>
                    <a:pt x="6416" y="1338"/>
                  </a:lnTo>
                  <a:lnTo>
                    <a:pt x="6404" y="1270"/>
                  </a:lnTo>
                  <a:lnTo>
                    <a:pt x="6389" y="1201"/>
                  </a:lnTo>
                  <a:lnTo>
                    <a:pt x="6369" y="1130"/>
                  </a:lnTo>
                  <a:lnTo>
                    <a:pt x="6346" y="1058"/>
                  </a:lnTo>
                  <a:lnTo>
                    <a:pt x="6317" y="985"/>
                  </a:lnTo>
                  <a:lnTo>
                    <a:pt x="6285" y="911"/>
                  </a:lnTo>
                  <a:lnTo>
                    <a:pt x="6249" y="838"/>
                  </a:lnTo>
                  <a:lnTo>
                    <a:pt x="6207" y="764"/>
                  </a:lnTo>
                  <a:lnTo>
                    <a:pt x="6158" y="689"/>
                  </a:lnTo>
                  <a:lnTo>
                    <a:pt x="6105" y="616"/>
                  </a:lnTo>
                  <a:lnTo>
                    <a:pt x="6046" y="542"/>
                  </a:lnTo>
                  <a:lnTo>
                    <a:pt x="5981" y="469"/>
                  </a:lnTo>
                  <a:close/>
                  <a:moveTo>
                    <a:pt x="1970" y="342"/>
                  </a:moveTo>
                  <a:lnTo>
                    <a:pt x="1916" y="310"/>
                  </a:lnTo>
                  <a:lnTo>
                    <a:pt x="1869" y="280"/>
                  </a:lnTo>
                  <a:lnTo>
                    <a:pt x="1826" y="254"/>
                  </a:lnTo>
                  <a:lnTo>
                    <a:pt x="1787" y="230"/>
                  </a:lnTo>
                  <a:lnTo>
                    <a:pt x="1841" y="264"/>
                  </a:lnTo>
                  <a:lnTo>
                    <a:pt x="1891" y="295"/>
                  </a:lnTo>
                  <a:lnTo>
                    <a:pt x="1936" y="322"/>
                  </a:lnTo>
                  <a:lnTo>
                    <a:pt x="1970" y="34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2335320" y="5086440"/>
              <a:ext cx="48960" cy="50760"/>
            </a:xfrm>
            <a:custGeom>
              <a:avLst/>
              <a:gdLst/>
              <a:ahLst/>
              <a:rect l="l" t="t" r="r" b="b"/>
              <a:pathLst>
                <a:path w="124" h="128">
                  <a:moveTo>
                    <a:pt x="11" y="10"/>
                  </a:moveTo>
                  <a:lnTo>
                    <a:pt x="6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5" y="54"/>
                  </a:lnTo>
                  <a:lnTo>
                    <a:pt x="10" y="61"/>
                  </a:lnTo>
                  <a:lnTo>
                    <a:pt x="62" y="116"/>
                  </a:lnTo>
                  <a:lnTo>
                    <a:pt x="68" y="121"/>
                  </a:lnTo>
                  <a:lnTo>
                    <a:pt x="74" y="125"/>
                  </a:lnTo>
                  <a:lnTo>
                    <a:pt x="80" y="128"/>
                  </a:lnTo>
                  <a:lnTo>
                    <a:pt x="87" y="128"/>
                  </a:lnTo>
                  <a:lnTo>
                    <a:pt x="94" y="128"/>
                  </a:lnTo>
                  <a:lnTo>
                    <a:pt x="100" y="126"/>
                  </a:lnTo>
                  <a:lnTo>
                    <a:pt x="106" y="123"/>
                  </a:lnTo>
                  <a:lnTo>
                    <a:pt x="113" y="119"/>
                  </a:lnTo>
                  <a:lnTo>
                    <a:pt x="118" y="113"/>
                  </a:lnTo>
                  <a:lnTo>
                    <a:pt x="121" y="106"/>
                  </a:lnTo>
                  <a:lnTo>
                    <a:pt x="123" y="99"/>
                  </a:lnTo>
                  <a:lnTo>
                    <a:pt x="124" y="93"/>
                  </a:lnTo>
                  <a:lnTo>
                    <a:pt x="124" y="87"/>
                  </a:lnTo>
                  <a:lnTo>
                    <a:pt x="121" y="79"/>
                  </a:lnTo>
                  <a:lnTo>
                    <a:pt x="119" y="74"/>
                  </a:lnTo>
                  <a:lnTo>
                    <a:pt x="114" y="68"/>
                  </a:lnTo>
                  <a:lnTo>
                    <a:pt x="62" y="12"/>
                  </a:lnTo>
                  <a:lnTo>
                    <a:pt x="57" y="7"/>
                  </a:lnTo>
                  <a:lnTo>
                    <a:pt x="51" y="3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29" y="1"/>
                  </a:lnTo>
                  <a:lnTo>
                    <a:pt x="23" y="2"/>
                  </a:lnTo>
                  <a:lnTo>
                    <a:pt x="17" y="6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2298600" y="5046480"/>
              <a:ext cx="36720" cy="38160"/>
            </a:xfrm>
            <a:custGeom>
              <a:avLst/>
              <a:gdLst/>
              <a:ahLst/>
              <a:rect l="l" t="t" r="r" b="b"/>
              <a:pathLst>
                <a:path w="96" h="94">
                  <a:moveTo>
                    <a:pt x="13" y="7"/>
                  </a:moveTo>
                  <a:lnTo>
                    <a:pt x="6" y="13"/>
                  </a:lnTo>
                  <a:lnTo>
                    <a:pt x="3" y="20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34" y="83"/>
                  </a:lnTo>
                  <a:lnTo>
                    <a:pt x="34" y="83"/>
                  </a:lnTo>
                  <a:lnTo>
                    <a:pt x="40" y="88"/>
                  </a:lnTo>
                  <a:lnTo>
                    <a:pt x="45" y="92"/>
                  </a:lnTo>
                  <a:lnTo>
                    <a:pt x="52" y="93"/>
                  </a:lnTo>
                  <a:lnTo>
                    <a:pt x="59" y="94"/>
                  </a:lnTo>
                  <a:lnTo>
                    <a:pt x="66" y="94"/>
                  </a:lnTo>
                  <a:lnTo>
                    <a:pt x="72" y="92"/>
                  </a:lnTo>
                  <a:lnTo>
                    <a:pt x="79" y="89"/>
                  </a:lnTo>
                  <a:lnTo>
                    <a:pt x="85" y="84"/>
                  </a:lnTo>
                  <a:lnTo>
                    <a:pt x="90" y="79"/>
                  </a:lnTo>
                  <a:lnTo>
                    <a:pt x="92" y="73"/>
                  </a:lnTo>
                  <a:lnTo>
                    <a:pt x="95" y="67"/>
                  </a:lnTo>
                  <a:lnTo>
                    <a:pt x="96" y="59"/>
                  </a:lnTo>
                  <a:lnTo>
                    <a:pt x="95" y="53"/>
                  </a:lnTo>
                  <a:lnTo>
                    <a:pt x="93" y="46"/>
                  </a:lnTo>
                  <a:lnTo>
                    <a:pt x="91" y="39"/>
                  </a:lnTo>
                  <a:lnTo>
                    <a:pt x="86" y="34"/>
                  </a:lnTo>
                  <a:lnTo>
                    <a:pt x="61" y="7"/>
                  </a:lnTo>
                  <a:lnTo>
                    <a:pt x="61" y="8"/>
                  </a:lnTo>
                  <a:lnTo>
                    <a:pt x="62" y="11"/>
                  </a:lnTo>
                  <a:lnTo>
                    <a:pt x="56" y="6"/>
                  </a:lnTo>
                  <a:lnTo>
                    <a:pt x="50" y="2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8" y="3"/>
                  </a:lnTo>
                  <a:lnTo>
                    <a:pt x="13" y="7"/>
                  </a:lnTo>
                  <a:close/>
                  <a:moveTo>
                    <a:pt x="24" y="58"/>
                  </a:moveTo>
                  <a:lnTo>
                    <a:pt x="25" y="51"/>
                  </a:lnTo>
                  <a:lnTo>
                    <a:pt x="26" y="44"/>
                  </a:lnTo>
                  <a:lnTo>
                    <a:pt x="30" y="38"/>
                  </a:lnTo>
                  <a:lnTo>
                    <a:pt x="35" y="32"/>
                  </a:lnTo>
                  <a:lnTo>
                    <a:pt x="39" y="30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60" y="25"/>
                  </a:lnTo>
                  <a:lnTo>
                    <a:pt x="69" y="26"/>
                  </a:lnTo>
                  <a:lnTo>
                    <a:pt x="70" y="31"/>
                  </a:lnTo>
                  <a:lnTo>
                    <a:pt x="71" y="34"/>
                  </a:lnTo>
                  <a:lnTo>
                    <a:pt x="71" y="42"/>
                  </a:lnTo>
                  <a:lnTo>
                    <a:pt x="69" y="48"/>
                  </a:lnTo>
                  <a:lnTo>
                    <a:pt x="66" y="54"/>
                  </a:lnTo>
                  <a:lnTo>
                    <a:pt x="61" y="59"/>
                  </a:lnTo>
                  <a:lnTo>
                    <a:pt x="57" y="63"/>
                  </a:lnTo>
                  <a:lnTo>
                    <a:pt x="54" y="65"/>
                  </a:lnTo>
                  <a:lnTo>
                    <a:pt x="49" y="67"/>
                  </a:lnTo>
                  <a:lnTo>
                    <a:pt x="45" y="68"/>
                  </a:lnTo>
                  <a:lnTo>
                    <a:pt x="36" y="68"/>
                  </a:lnTo>
                  <a:lnTo>
                    <a:pt x="28" y="67"/>
                  </a:lnTo>
                  <a:lnTo>
                    <a:pt x="25" y="62"/>
                  </a:lnTo>
                  <a:lnTo>
                    <a:pt x="24" y="5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2311560" y="5060880"/>
              <a:ext cx="52200" cy="50760"/>
            </a:xfrm>
            <a:custGeom>
              <a:avLst/>
              <a:gdLst/>
              <a:ahLst/>
              <a:rect l="l" t="t" r="r" b="b"/>
              <a:pathLst>
                <a:path w="129" h="128">
                  <a:moveTo>
                    <a:pt x="11" y="10"/>
                  </a:moveTo>
                  <a:lnTo>
                    <a:pt x="7" y="17"/>
                  </a:lnTo>
                  <a:lnTo>
                    <a:pt x="4" y="22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6" y="55"/>
                  </a:lnTo>
                  <a:lnTo>
                    <a:pt x="10" y="61"/>
                  </a:lnTo>
                  <a:lnTo>
                    <a:pt x="70" y="125"/>
                  </a:lnTo>
                  <a:lnTo>
                    <a:pt x="68" y="121"/>
                  </a:lnTo>
                  <a:lnTo>
                    <a:pt x="67" y="117"/>
                  </a:lnTo>
                  <a:lnTo>
                    <a:pt x="72" y="121"/>
                  </a:lnTo>
                  <a:lnTo>
                    <a:pt x="78" y="125"/>
                  </a:lnTo>
                  <a:lnTo>
                    <a:pt x="84" y="126"/>
                  </a:lnTo>
                  <a:lnTo>
                    <a:pt x="92" y="127"/>
                  </a:lnTo>
                  <a:lnTo>
                    <a:pt x="98" y="128"/>
                  </a:lnTo>
                  <a:lnTo>
                    <a:pt x="104" y="127"/>
                  </a:lnTo>
                  <a:lnTo>
                    <a:pt x="111" y="125"/>
                  </a:lnTo>
                  <a:lnTo>
                    <a:pt x="116" y="121"/>
                  </a:lnTo>
                  <a:lnTo>
                    <a:pt x="120" y="115"/>
                  </a:lnTo>
                  <a:lnTo>
                    <a:pt x="125" y="108"/>
                  </a:lnTo>
                  <a:lnTo>
                    <a:pt x="128" y="101"/>
                  </a:lnTo>
                  <a:lnTo>
                    <a:pt x="129" y="94"/>
                  </a:lnTo>
                  <a:lnTo>
                    <a:pt x="129" y="89"/>
                  </a:lnTo>
                  <a:lnTo>
                    <a:pt x="128" y="85"/>
                  </a:lnTo>
                  <a:lnTo>
                    <a:pt x="125" y="80"/>
                  </a:lnTo>
                  <a:lnTo>
                    <a:pt x="122" y="75"/>
                  </a:lnTo>
                  <a:lnTo>
                    <a:pt x="118" y="72"/>
                  </a:lnTo>
                  <a:lnTo>
                    <a:pt x="112" y="66"/>
                  </a:lnTo>
                  <a:lnTo>
                    <a:pt x="62" y="13"/>
                  </a:lnTo>
                  <a:lnTo>
                    <a:pt x="62" y="12"/>
                  </a:lnTo>
                  <a:lnTo>
                    <a:pt x="57" y="8"/>
                  </a:lnTo>
                  <a:lnTo>
                    <a:pt x="51" y="4"/>
                  </a:lnTo>
                  <a:lnTo>
                    <a:pt x="44" y="2"/>
                  </a:lnTo>
                  <a:lnTo>
                    <a:pt x="37" y="0"/>
                  </a:lnTo>
                  <a:lnTo>
                    <a:pt x="30" y="2"/>
                  </a:lnTo>
                  <a:lnTo>
                    <a:pt x="24" y="3"/>
                  </a:lnTo>
                  <a:lnTo>
                    <a:pt x="17" y="7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2400480" y="5156280"/>
              <a:ext cx="39600" cy="39600"/>
            </a:xfrm>
            <a:custGeom>
              <a:avLst/>
              <a:gdLst/>
              <a:ahLst/>
              <a:rect l="l" t="t" r="r" b="b"/>
              <a:pathLst>
                <a:path w="99" h="102">
                  <a:moveTo>
                    <a:pt x="11" y="9"/>
                  </a:moveTo>
                  <a:lnTo>
                    <a:pt x="6" y="15"/>
                  </a:lnTo>
                  <a:lnTo>
                    <a:pt x="2" y="21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5" y="55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37" y="89"/>
                  </a:lnTo>
                  <a:lnTo>
                    <a:pt x="43" y="94"/>
                  </a:lnTo>
                  <a:lnTo>
                    <a:pt x="49" y="98"/>
                  </a:lnTo>
                  <a:lnTo>
                    <a:pt x="55" y="100"/>
                  </a:lnTo>
                  <a:lnTo>
                    <a:pt x="62" y="102"/>
                  </a:lnTo>
                  <a:lnTo>
                    <a:pt x="69" y="100"/>
                  </a:lnTo>
                  <a:lnTo>
                    <a:pt x="75" y="99"/>
                  </a:lnTo>
                  <a:lnTo>
                    <a:pt x="82" y="97"/>
                  </a:lnTo>
                  <a:lnTo>
                    <a:pt x="88" y="92"/>
                  </a:lnTo>
                  <a:lnTo>
                    <a:pt x="93" y="87"/>
                  </a:lnTo>
                  <a:lnTo>
                    <a:pt x="96" y="81"/>
                  </a:lnTo>
                  <a:lnTo>
                    <a:pt x="98" y="74"/>
                  </a:lnTo>
                  <a:lnTo>
                    <a:pt x="99" y="67"/>
                  </a:lnTo>
                  <a:lnTo>
                    <a:pt x="99" y="61"/>
                  </a:lnTo>
                  <a:lnTo>
                    <a:pt x="96" y="53"/>
                  </a:lnTo>
                  <a:lnTo>
                    <a:pt x="94" y="47"/>
                  </a:lnTo>
                  <a:lnTo>
                    <a:pt x="90" y="41"/>
                  </a:lnTo>
                  <a:lnTo>
                    <a:pt x="62" y="11"/>
                  </a:lnTo>
                  <a:lnTo>
                    <a:pt x="57" y="6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7" y="5"/>
                  </a:lnTo>
                  <a:lnTo>
                    <a:pt x="11" y="9"/>
                  </a:lnTo>
                  <a:close/>
                  <a:moveTo>
                    <a:pt x="28" y="66"/>
                  </a:moveTo>
                  <a:lnTo>
                    <a:pt x="28" y="58"/>
                  </a:lnTo>
                  <a:lnTo>
                    <a:pt x="31" y="51"/>
                  </a:lnTo>
                  <a:lnTo>
                    <a:pt x="34" y="45"/>
                  </a:lnTo>
                  <a:lnTo>
                    <a:pt x="39" y="40"/>
                  </a:lnTo>
                  <a:lnTo>
                    <a:pt x="46" y="35"/>
                  </a:lnTo>
                  <a:lnTo>
                    <a:pt x="54" y="32"/>
                  </a:lnTo>
                  <a:lnTo>
                    <a:pt x="62" y="32"/>
                  </a:lnTo>
                  <a:lnTo>
                    <a:pt x="70" y="32"/>
                  </a:lnTo>
                  <a:lnTo>
                    <a:pt x="70" y="33"/>
                  </a:lnTo>
                  <a:lnTo>
                    <a:pt x="72" y="35"/>
                  </a:lnTo>
                  <a:lnTo>
                    <a:pt x="70" y="42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59" y="62"/>
                  </a:lnTo>
                  <a:lnTo>
                    <a:pt x="57" y="64"/>
                  </a:lnTo>
                  <a:lnTo>
                    <a:pt x="53" y="67"/>
                  </a:lnTo>
                  <a:lnTo>
                    <a:pt x="49" y="68"/>
                  </a:lnTo>
                  <a:lnTo>
                    <a:pt x="44" y="68"/>
                  </a:lnTo>
                  <a:lnTo>
                    <a:pt x="37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6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90480" y="5041800"/>
              <a:ext cx="69840" cy="54000"/>
            </a:xfrm>
            <a:custGeom>
              <a:avLst/>
              <a:gdLst/>
              <a:ahLst/>
              <a:rect l="l" t="t" r="r" b="b"/>
              <a:pathLst>
                <a:path w="176" h="136">
                  <a:moveTo>
                    <a:pt x="6" y="16"/>
                  </a:moveTo>
                  <a:lnTo>
                    <a:pt x="2" y="24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4"/>
                  </a:lnTo>
                  <a:lnTo>
                    <a:pt x="3" y="50"/>
                  </a:lnTo>
                  <a:lnTo>
                    <a:pt x="7" y="56"/>
                  </a:lnTo>
                  <a:lnTo>
                    <a:pt x="12" y="61"/>
                  </a:lnTo>
                  <a:lnTo>
                    <a:pt x="17" y="66"/>
                  </a:lnTo>
                  <a:lnTo>
                    <a:pt x="121" y="129"/>
                  </a:lnTo>
                  <a:lnTo>
                    <a:pt x="128" y="133"/>
                  </a:lnTo>
                  <a:lnTo>
                    <a:pt x="135" y="134"/>
                  </a:lnTo>
                  <a:lnTo>
                    <a:pt x="141" y="136"/>
                  </a:lnTo>
                  <a:lnTo>
                    <a:pt x="149" y="134"/>
                  </a:lnTo>
                  <a:lnTo>
                    <a:pt x="155" y="132"/>
                  </a:lnTo>
                  <a:lnTo>
                    <a:pt x="161" y="128"/>
                  </a:lnTo>
                  <a:lnTo>
                    <a:pt x="166" y="124"/>
                  </a:lnTo>
                  <a:lnTo>
                    <a:pt x="171" y="118"/>
                  </a:lnTo>
                  <a:lnTo>
                    <a:pt x="174" y="113"/>
                  </a:lnTo>
                  <a:lnTo>
                    <a:pt x="175" y="110"/>
                  </a:lnTo>
                  <a:lnTo>
                    <a:pt x="176" y="105"/>
                  </a:lnTo>
                  <a:lnTo>
                    <a:pt x="176" y="100"/>
                  </a:lnTo>
                  <a:lnTo>
                    <a:pt x="175" y="91"/>
                  </a:lnTo>
                  <a:lnTo>
                    <a:pt x="171" y="82"/>
                  </a:lnTo>
                  <a:lnTo>
                    <a:pt x="166" y="75"/>
                  </a:lnTo>
                  <a:lnTo>
                    <a:pt x="159" y="69"/>
                  </a:lnTo>
                  <a:lnTo>
                    <a:pt x="54" y="5"/>
                  </a:lnTo>
                  <a:lnTo>
                    <a:pt x="48" y="2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2416320" y="5173560"/>
              <a:ext cx="31680" cy="302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55" y="55"/>
                  </a:moveTo>
                  <a:lnTo>
                    <a:pt x="49" y="59"/>
                  </a:lnTo>
                  <a:lnTo>
                    <a:pt x="43" y="62"/>
                  </a:lnTo>
                  <a:lnTo>
                    <a:pt x="36" y="65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9" y="64"/>
                  </a:lnTo>
                  <a:lnTo>
                    <a:pt x="13" y="61"/>
                  </a:lnTo>
                  <a:lnTo>
                    <a:pt x="8" y="56"/>
                  </a:lnTo>
                  <a:lnTo>
                    <a:pt x="3" y="51"/>
                  </a:lnTo>
                  <a:lnTo>
                    <a:pt x="0" y="49"/>
                  </a:lnTo>
                  <a:lnTo>
                    <a:pt x="3" y="51"/>
                  </a:lnTo>
                  <a:lnTo>
                    <a:pt x="8" y="56"/>
                  </a:lnTo>
                  <a:lnTo>
                    <a:pt x="18" y="67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8" y="67"/>
                  </a:lnTo>
                  <a:lnTo>
                    <a:pt x="23" y="72"/>
                  </a:lnTo>
                  <a:lnTo>
                    <a:pt x="29" y="75"/>
                  </a:lnTo>
                  <a:lnTo>
                    <a:pt x="35" y="77"/>
                  </a:lnTo>
                  <a:lnTo>
                    <a:pt x="43" y="79"/>
                  </a:lnTo>
                  <a:lnTo>
                    <a:pt x="49" y="77"/>
                  </a:lnTo>
                  <a:lnTo>
                    <a:pt x="56" y="76"/>
                  </a:lnTo>
                  <a:lnTo>
                    <a:pt x="62" y="72"/>
                  </a:lnTo>
                  <a:lnTo>
                    <a:pt x="67" y="69"/>
                  </a:lnTo>
                  <a:lnTo>
                    <a:pt x="72" y="62"/>
                  </a:lnTo>
                  <a:lnTo>
                    <a:pt x="76" y="56"/>
                  </a:lnTo>
                  <a:lnTo>
                    <a:pt x="77" y="50"/>
                  </a:lnTo>
                  <a:lnTo>
                    <a:pt x="79" y="44"/>
                  </a:lnTo>
                  <a:lnTo>
                    <a:pt x="79" y="36"/>
                  </a:lnTo>
                  <a:lnTo>
                    <a:pt x="76" y="30"/>
                  </a:lnTo>
                  <a:lnTo>
                    <a:pt x="74" y="24"/>
                  </a:lnTo>
                  <a:lnTo>
                    <a:pt x="69" y="18"/>
                  </a:lnTo>
                  <a:lnTo>
                    <a:pt x="52" y="0"/>
                  </a:lnTo>
                  <a:lnTo>
                    <a:pt x="57" y="7"/>
                  </a:lnTo>
                  <a:lnTo>
                    <a:pt x="60" y="13"/>
                  </a:lnTo>
                  <a:lnTo>
                    <a:pt x="62" y="20"/>
                  </a:lnTo>
                  <a:lnTo>
                    <a:pt x="64" y="28"/>
                  </a:lnTo>
                  <a:lnTo>
                    <a:pt x="64" y="35"/>
                  </a:lnTo>
                  <a:lnTo>
                    <a:pt x="62" y="43"/>
                  </a:lnTo>
                  <a:lnTo>
                    <a:pt x="59" y="49"/>
                  </a:lnTo>
                  <a:lnTo>
                    <a:pt x="55" y="5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833400" y="5127480"/>
              <a:ext cx="30240" cy="3204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48" y="49"/>
                  </a:moveTo>
                  <a:lnTo>
                    <a:pt x="45" y="55"/>
                  </a:lnTo>
                  <a:lnTo>
                    <a:pt x="40" y="59"/>
                  </a:lnTo>
                  <a:lnTo>
                    <a:pt x="34" y="62"/>
                  </a:lnTo>
                  <a:lnTo>
                    <a:pt x="27" y="65"/>
                  </a:lnTo>
                  <a:lnTo>
                    <a:pt x="20" y="66"/>
                  </a:lnTo>
                  <a:lnTo>
                    <a:pt x="14" y="65"/>
                  </a:lnTo>
                  <a:lnTo>
                    <a:pt x="6" y="63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2" y="73"/>
                  </a:lnTo>
                  <a:lnTo>
                    <a:pt x="29" y="77"/>
                  </a:lnTo>
                  <a:lnTo>
                    <a:pt x="36" y="78"/>
                  </a:lnTo>
                  <a:lnTo>
                    <a:pt x="42" y="80"/>
                  </a:lnTo>
                  <a:lnTo>
                    <a:pt x="48" y="78"/>
                  </a:lnTo>
                  <a:lnTo>
                    <a:pt x="56" y="76"/>
                  </a:lnTo>
                  <a:lnTo>
                    <a:pt x="61" y="72"/>
                  </a:lnTo>
                  <a:lnTo>
                    <a:pt x="67" y="67"/>
                  </a:lnTo>
                  <a:lnTo>
                    <a:pt x="71" y="62"/>
                  </a:lnTo>
                  <a:lnTo>
                    <a:pt x="73" y="56"/>
                  </a:lnTo>
                  <a:lnTo>
                    <a:pt x="76" y="49"/>
                  </a:lnTo>
                  <a:lnTo>
                    <a:pt x="76" y="41"/>
                  </a:lnTo>
                  <a:lnTo>
                    <a:pt x="75" y="35"/>
                  </a:lnTo>
                  <a:lnTo>
                    <a:pt x="72" y="29"/>
                  </a:lnTo>
                  <a:lnTo>
                    <a:pt x="70" y="23"/>
                  </a:lnTo>
                  <a:lnTo>
                    <a:pt x="65" y="18"/>
                  </a:lnTo>
                  <a:lnTo>
                    <a:pt x="58" y="13"/>
                  </a:lnTo>
                  <a:lnTo>
                    <a:pt x="37" y="0"/>
                  </a:lnTo>
                  <a:lnTo>
                    <a:pt x="44" y="4"/>
                  </a:lnTo>
                  <a:lnTo>
                    <a:pt x="48" y="9"/>
                  </a:lnTo>
                  <a:lnTo>
                    <a:pt x="51" y="15"/>
                  </a:lnTo>
                  <a:lnTo>
                    <a:pt x="53" y="21"/>
                  </a:lnTo>
                  <a:lnTo>
                    <a:pt x="55" y="29"/>
                  </a:lnTo>
                  <a:lnTo>
                    <a:pt x="53" y="35"/>
                  </a:lnTo>
                  <a:lnTo>
                    <a:pt x="52" y="42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46080" y="4989600"/>
              <a:ext cx="2581200" cy="1868400"/>
            </a:xfrm>
            <a:custGeom>
              <a:avLst/>
              <a:gdLst/>
              <a:ahLst/>
              <a:rect l="l" t="t" r="r" b="b"/>
              <a:pathLst>
                <a:path w="6503" h="4707">
                  <a:moveTo>
                    <a:pt x="4830" y="0"/>
                  </a:moveTo>
                  <a:lnTo>
                    <a:pt x="4800" y="4"/>
                  </a:lnTo>
                  <a:lnTo>
                    <a:pt x="4771" y="7"/>
                  </a:lnTo>
                  <a:lnTo>
                    <a:pt x="4741" y="13"/>
                  </a:lnTo>
                  <a:lnTo>
                    <a:pt x="4711" y="18"/>
                  </a:lnTo>
                  <a:lnTo>
                    <a:pt x="4681" y="26"/>
                  </a:lnTo>
                  <a:lnTo>
                    <a:pt x="4653" y="33"/>
                  </a:lnTo>
                  <a:lnTo>
                    <a:pt x="4624" y="42"/>
                  </a:lnTo>
                  <a:lnTo>
                    <a:pt x="4595" y="51"/>
                  </a:lnTo>
                  <a:lnTo>
                    <a:pt x="4567" y="61"/>
                  </a:lnTo>
                  <a:lnTo>
                    <a:pt x="4538" y="71"/>
                  </a:lnTo>
                  <a:lnTo>
                    <a:pt x="4511" y="82"/>
                  </a:lnTo>
                  <a:lnTo>
                    <a:pt x="4484" y="94"/>
                  </a:lnTo>
                  <a:lnTo>
                    <a:pt x="4456" y="108"/>
                  </a:lnTo>
                  <a:lnTo>
                    <a:pt x="4429" y="121"/>
                  </a:lnTo>
                  <a:lnTo>
                    <a:pt x="4402" y="135"/>
                  </a:lnTo>
                  <a:lnTo>
                    <a:pt x="4376" y="151"/>
                  </a:lnTo>
                  <a:lnTo>
                    <a:pt x="4355" y="162"/>
                  </a:lnTo>
                  <a:lnTo>
                    <a:pt x="4333" y="175"/>
                  </a:lnTo>
                  <a:lnTo>
                    <a:pt x="4312" y="187"/>
                  </a:lnTo>
                  <a:lnTo>
                    <a:pt x="4292" y="201"/>
                  </a:lnTo>
                  <a:lnTo>
                    <a:pt x="4271" y="214"/>
                  </a:lnTo>
                  <a:lnTo>
                    <a:pt x="4251" y="229"/>
                  </a:lnTo>
                  <a:lnTo>
                    <a:pt x="4232" y="244"/>
                  </a:lnTo>
                  <a:lnTo>
                    <a:pt x="4213" y="260"/>
                  </a:lnTo>
                  <a:lnTo>
                    <a:pt x="4193" y="276"/>
                  </a:lnTo>
                  <a:lnTo>
                    <a:pt x="4174" y="293"/>
                  </a:lnTo>
                  <a:lnTo>
                    <a:pt x="4156" y="311"/>
                  </a:lnTo>
                  <a:lnTo>
                    <a:pt x="4137" y="329"/>
                  </a:lnTo>
                  <a:lnTo>
                    <a:pt x="4119" y="347"/>
                  </a:lnTo>
                  <a:lnTo>
                    <a:pt x="4101" y="367"/>
                  </a:lnTo>
                  <a:lnTo>
                    <a:pt x="4084" y="387"/>
                  </a:lnTo>
                  <a:lnTo>
                    <a:pt x="4066" y="407"/>
                  </a:lnTo>
                  <a:lnTo>
                    <a:pt x="4043" y="434"/>
                  </a:lnTo>
                  <a:lnTo>
                    <a:pt x="4021" y="460"/>
                  </a:lnTo>
                  <a:lnTo>
                    <a:pt x="3999" y="487"/>
                  </a:lnTo>
                  <a:lnTo>
                    <a:pt x="3978" y="515"/>
                  </a:lnTo>
                  <a:lnTo>
                    <a:pt x="3958" y="542"/>
                  </a:lnTo>
                  <a:lnTo>
                    <a:pt x="3939" y="569"/>
                  </a:lnTo>
                  <a:lnTo>
                    <a:pt x="3921" y="595"/>
                  </a:lnTo>
                  <a:lnTo>
                    <a:pt x="3904" y="623"/>
                  </a:lnTo>
                  <a:lnTo>
                    <a:pt x="3870" y="675"/>
                  </a:lnTo>
                  <a:lnTo>
                    <a:pt x="3842" y="726"/>
                  </a:lnTo>
                  <a:lnTo>
                    <a:pt x="3816" y="774"/>
                  </a:lnTo>
                  <a:lnTo>
                    <a:pt x="3792" y="820"/>
                  </a:lnTo>
                  <a:lnTo>
                    <a:pt x="3772" y="863"/>
                  </a:lnTo>
                  <a:lnTo>
                    <a:pt x="3755" y="902"/>
                  </a:lnTo>
                  <a:lnTo>
                    <a:pt x="3740" y="937"/>
                  </a:lnTo>
                  <a:lnTo>
                    <a:pt x="3729" y="968"/>
                  </a:lnTo>
                  <a:lnTo>
                    <a:pt x="3713" y="1011"/>
                  </a:lnTo>
                  <a:lnTo>
                    <a:pt x="3706" y="1031"/>
                  </a:lnTo>
                  <a:lnTo>
                    <a:pt x="3674" y="1097"/>
                  </a:lnTo>
                  <a:lnTo>
                    <a:pt x="3643" y="1157"/>
                  </a:lnTo>
                  <a:lnTo>
                    <a:pt x="3611" y="1214"/>
                  </a:lnTo>
                  <a:lnTo>
                    <a:pt x="3578" y="1268"/>
                  </a:lnTo>
                  <a:lnTo>
                    <a:pt x="3561" y="1293"/>
                  </a:lnTo>
                  <a:lnTo>
                    <a:pt x="3545" y="1316"/>
                  </a:lnTo>
                  <a:lnTo>
                    <a:pt x="3529" y="1340"/>
                  </a:lnTo>
                  <a:lnTo>
                    <a:pt x="3513" y="1362"/>
                  </a:lnTo>
                  <a:lnTo>
                    <a:pt x="3496" y="1382"/>
                  </a:lnTo>
                  <a:lnTo>
                    <a:pt x="3480" y="1402"/>
                  </a:lnTo>
                  <a:lnTo>
                    <a:pt x="3463" y="1422"/>
                  </a:lnTo>
                  <a:lnTo>
                    <a:pt x="3447" y="1439"/>
                  </a:lnTo>
                  <a:lnTo>
                    <a:pt x="3431" y="1455"/>
                  </a:lnTo>
                  <a:lnTo>
                    <a:pt x="3413" y="1471"/>
                  </a:lnTo>
                  <a:lnTo>
                    <a:pt x="3397" y="1486"/>
                  </a:lnTo>
                  <a:lnTo>
                    <a:pt x="3381" y="1500"/>
                  </a:lnTo>
                  <a:lnTo>
                    <a:pt x="3364" y="1512"/>
                  </a:lnTo>
                  <a:lnTo>
                    <a:pt x="3347" y="1523"/>
                  </a:lnTo>
                  <a:lnTo>
                    <a:pt x="3330" y="1533"/>
                  </a:lnTo>
                  <a:lnTo>
                    <a:pt x="3314" y="1543"/>
                  </a:lnTo>
                  <a:lnTo>
                    <a:pt x="3297" y="1552"/>
                  </a:lnTo>
                  <a:lnTo>
                    <a:pt x="3280" y="1558"/>
                  </a:lnTo>
                  <a:lnTo>
                    <a:pt x="3263" y="1564"/>
                  </a:lnTo>
                  <a:lnTo>
                    <a:pt x="3247" y="1569"/>
                  </a:lnTo>
                  <a:lnTo>
                    <a:pt x="3230" y="1574"/>
                  </a:lnTo>
                  <a:lnTo>
                    <a:pt x="3213" y="1577"/>
                  </a:lnTo>
                  <a:lnTo>
                    <a:pt x="3196" y="1578"/>
                  </a:lnTo>
                  <a:lnTo>
                    <a:pt x="3180" y="1579"/>
                  </a:lnTo>
                  <a:lnTo>
                    <a:pt x="3157" y="1579"/>
                  </a:lnTo>
                  <a:lnTo>
                    <a:pt x="3135" y="1577"/>
                  </a:lnTo>
                  <a:lnTo>
                    <a:pt x="3114" y="1572"/>
                  </a:lnTo>
                  <a:lnTo>
                    <a:pt x="3093" y="1567"/>
                  </a:lnTo>
                  <a:lnTo>
                    <a:pt x="3072" y="1559"/>
                  </a:lnTo>
                  <a:lnTo>
                    <a:pt x="3052" y="1551"/>
                  </a:lnTo>
                  <a:lnTo>
                    <a:pt x="3033" y="1541"/>
                  </a:lnTo>
                  <a:lnTo>
                    <a:pt x="3013" y="1530"/>
                  </a:lnTo>
                  <a:lnTo>
                    <a:pt x="2995" y="1518"/>
                  </a:lnTo>
                  <a:lnTo>
                    <a:pt x="2977" y="1506"/>
                  </a:lnTo>
                  <a:lnTo>
                    <a:pt x="2960" y="1492"/>
                  </a:lnTo>
                  <a:lnTo>
                    <a:pt x="2944" y="1477"/>
                  </a:lnTo>
                  <a:lnTo>
                    <a:pt x="2928" y="1464"/>
                  </a:lnTo>
                  <a:lnTo>
                    <a:pt x="2912" y="1448"/>
                  </a:lnTo>
                  <a:lnTo>
                    <a:pt x="2898" y="1433"/>
                  </a:lnTo>
                  <a:lnTo>
                    <a:pt x="2883" y="1418"/>
                  </a:lnTo>
                  <a:lnTo>
                    <a:pt x="2857" y="1387"/>
                  </a:lnTo>
                  <a:lnTo>
                    <a:pt x="2835" y="1357"/>
                  </a:lnTo>
                  <a:lnTo>
                    <a:pt x="2815" y="1329"/>
                  </a:lnTo>
                  <a:lnTo>
                    <a:pt x="2797" y="1304"/>
                  </a:lnTo>
                  <a:lnTo>
                    <a:pt x="2775" y="1265"/>
                  </a:lnTo>
                  <a:lnTo>
                    <a:pt x="2766" y="1250"/>
                  </a:lnTo>
                  <a:lnTo>
                    <a:pt x="2761" y="1241"/>
                  </a:lnTo>
                  <a:lnTo>
                    <a:pt x="2749" y="1216"/>
                  </a:lnTo>
                  <a:lnTo>
                    <a:pt x="2730" y="1180"/>
                  </a:lnTo>
                  <a:lnTo>
                    <a:pt x="2709" y="1139"/>
                  </a:lnTo>
                  <a:lnTo>
                    <a:pt x="2688" y="1098"/>
                  </a:lnTo>
                  <a:lnTo>
                    <a:pt x="2669" y="1061"/>
                  </a:lnTo>
                  <a:lnTo>
                    <a:pt x="2656" y="1035"/>
                  </a:lnTo>
                  <a:lnTo>
                    <a:pt x="2651" y="1026"/>
                  </a:lnTo>
                  <a:lnTo>
                    <a:pt x="2625" y="974"/>
                  </a:lnTo>
                  <a:lnTo>
                    <a:pt x="2596" y="923"/>
                  </a:lnTo>
                  <a:lnTo>
                    <a:pt x="2565" y="874"/>
                  </a:lnTo>
                  <a:lnTo>
                    <a:pt x="2534" y="826"/>
                  </a:lnTo>
                  <a:lnTo>
                    <a:pt x="2502" y="780"/>
                  </a:lnTo>
                  <a:lnTo>
                    <a:pt x="2467" y="734"/>
                  </a:lnTo>
                  <a:lnTo>
                    <a:pt x="2431" y="691"/>
                  </a:lnTo>
                  <a:lnTo>
                    <a:pt x="2394" y="649"/>
                  </a:lnTo>
                  <a:lnTo>
                    <a:pt x="2354" y="608"/>
                  </a:lnTo>
                  <a:lnTo>
                    <a:pt x="2314" y="568"/>
                  </a:lnTo>
                  <a:lnTo>
                    <a:pt x="2272" y="530"/>
                  </a:lnTo>
                  <a:lnTo>
                    <a:pt x="2230" y="492"/>
                  </a:lnTo>
                  <a:lnTo>
                    <a:pt x="2185" y="458"/>
                  </a:lnTo>
                  <a:lnTo>
                    <a:pt x="2139" y="424"/>
                  </a:lnTo>
                  <a:lnTo>
                    <a:pt x="2092" y="391"/>
                  </a:lnTo>
                  <a:lnTo>
                    <a:pt x="2044" y="360"/>
                  </a:lnTo>
                  <a:lnTo>
                    <a:pt x="2024" y="356"/>
                  </a:lnTo>
                  <a:lnTo>
                    <a:pt x="1978" y="346"/>
                  </a:lnTo>
                  <a:lnTo>
                    <a:pt x="1944" y="341"/>
                  </a:lnTo>
                  <a:lnTo>
                    <a:pt x="1906" y="336"/>
                  </a:lnTo>
                  <a:lnTo>
                    <a:pt x="1862" y="330"/>
                  </a:lnTo>
                  <a:lnTo>
                    <a:pt x="1814" y="325"/>
                  </a:lnTo>
                  <a:lnTo>
                    <a:pt x="1761" y="321"/>
                  </a:lnTo>
                  <a:lnTo>
                    <a:pt x="1703" y="319"/>
                  </a:lnTo>
                  <a:lnTo>
                    <a:pt x="1643" y="317"/>
                  </a:lnTo>
                  <a:lnTo>
                    <a:pt x="1578" y="317"/>
                  </a:lnTo>
                  <a:lnTo>
                    <a:pt x="1510" y="321"/>
                  </a:lnTo>
                  <a:lnTo>
                    <a:pt x="1439" y="326"/>
                  </a:lnTo>
                  <a:lnTo>
                    <a:pt x="1367" y="334"/>
                  </a:lnTo>
                  <a:lnTo>
                    <a:pt x="1292" y="345"/>
                  </a:lnTo>
                  <a:lnTo>
                    <a:pt x="1217" y="360"/>
                  </a:lnTo>
                  <a:lnTo>
                    <a:pt x="1138" y="378"/>
                  </a:lnTo>
                  <a:lnTo>
                    <a:pt x="1061" y="401"/>
                  </a:lnTo>
                  <a:lnTo>
                    <a:pt x="983" y="428"/>
                  </a:lnTo>
                  <a:lnTo>
                    <a:pt x="904" y="459"/>
                  </a:lnTo>
                  <a:lnTo>
                    <a:pt x="827" y="496"/>
                  </a:lnTo>
                  <a:lnTo>
                    <a:pt x="748" y="538"/>
                  </a:lnTo>
                  <a:lnTo>
                    <a:pt x="673" y="587"/>
                  </a:lnTo>
                  <a:lnTo>
                    <a:pt x="598" y="640"/>
                  </a:lnTo>
                  <a:lnTo>
                    <a:pt x="526" y="701"/>
                  </a:lnTo>
                  <a:lnTo>
                    <a:pt x="455" y="768"/>
                  </a:lnTo>
                  <a:lnTo>
                    <a:pt x="387" y="842"/>
                  </a:lnTo>
                  <a:lnTo>
                    <a:pt x="323" y="924"/>
                  </a:lnTo>
                  <a:lnTo>
                    <a:pt x="262" y="1013"/>
                  </a:lnTo>
                  <a:lnTo>
                    <a:pt x="205" y="1110"/>
                  </a:lnTo>
                  <a:lnTo>
                    <a:pt x="151" y="1217"/>
                  </a:lnTo>
                  <a:lnTo>
                    <a:pt x="121" y="1286"/>
                  </a:lnTo>
                  <a:lnTo>
                    <a:pt x="88" y="1372"/>
                  </a:lnTo>
                  <a:lnTo>
                    <a:pt x="72" y="1418"/>
                  </a:lnTo>
                  <a:lnTo>
                    <a:pt x="56" y="1465"/>
                  </a:lnTo>
                  <a:lnTo>
                    <a:pt x="39" y="1513"/>
                  </a:lnTo>
                  <a:lnTo>
                    <a:pt x="27" y="1561"/>
                  </a:lnTo>
                  <a:lnTo>
                    <a:pt x="16" y="1608"/>
                  </a:lnTo>
                  <a:lnTo>
                    <a:pt x="7" y="1652"/>
                  </a:lnTo>
                  <a:lnTo>
                    <a:pt x="3" y="1674"/>
                  </a:lnTo>
                  <a:lnTo>
                    <a:pt x="1" y="1695"/>
                  </a:lnTo>
                  <a:lnTo>
                    <a:pt x="0" y="1714"/>
                  </a:lnTo>
                  <a:lnTo>
                    <a:pt x="0" y="1734"/>
                  </a:lnTo>
                  <a:lnTo>
                    <a:pt x="0" y="1752"/>
                  </a:lnTo>
                  <a:lnTo>
                    <a:pt x="1" y="1769"/>
                  </a:lnTo>
                  <a:lnTo>
                    <a:pt x="5" y="1784"/>
                  </a:lnTo>
                  <a:lnTo>
                    <a:pt x="8" y="1799"/>
                  </a:lnTo>
                  <a:lnTo>
                    <a:pt x="13" y="1812"/>
                  </a:lnTo>
                  <a:lnTo>
                    <a:pt x="21" y="1824"/>
                  </a:lnTo>
                  <a:lnTo>
                    <a:pt x="28" y="1834"/>
                  </a:lnTo>
                  <a:lnTo>
                    <a:pt x="38" y="1841"/>
                  </a:lnTo>
                  <a:lnTo>
                    <a:pt x="49" y="1848"/>
                  </a:lnTo>
                  <a:lnTo>
                    <a:pt x="62" y="1853"/>
                  </a:lnTo>
                  <a:lnTo>
                    <a:pt x="75" y="1856"/>
                  </a:lnTo>
                  <a:lnTo>
                    <a:pt x="89" y="1856"/>
                  </a:lnTo>
                  <a:lnTo>
                    <a:pt x="104" y="1855"/>
                  </a:lnTo>
                  <a:lnTo>
                    <a:pt x="120" y="1850"/>
                  </a:lnTo>
                  <a:lnTo>
                    <a:pt x="138" y="1845"/>
                  </a:lnTo>
                  <a:lnTo>
                    <a:pt x="156" y="1836"/>
                  </a:lnTo>
                  <a:lnTo>
                    <a:pt x="176" y="1826"/>
                  </a:lnTo>
                  <a:lnTo>
                    <a:pt x="196" y="1814"/>
                  </a:lnTo>
                  <a:lnTo>
                    <a:pt x="218" y="1799"/>
                  </a:lnTo>
                  <a:lnTo>
                    <a:pt x="242" y="1781"/>
                  </a:lnTo>
                  <a:lnTo>
                    <a:pt x="265" y="1763"/>
                  </a:lnTo>
                  <a:lnTo>
                    <a:pt x="292" y="1741"/>
                  </a:lnTo>
                  <a:lnTo>
                    <a:pt x="319" y="1717"/>
                  </a:lnTo>
                  <a:lnTo>
                    <a:pt x="347" y="1691"/>
                  </a:lnTo>
                  <a:lnTo>
                    <a:pt x="356" y="1682"/>
                  </a:lnTo>
                  <a:lnTo>
                    <a:pt x="381" y="1661"/>
                  </a:lnTo>
                  <a:lnTo>
                    <a:pt x="419" y="1630"/>
                  </a:lnTo>
                  <a:lnTo>
                    <a:pt x="472" y="1589"/>
                  </a:lnTo>
                  <a:lnTo>
                    <a:pt x="535" y="1541"/>
                  </a:lnTo>
                  <a:lnTo>
                    <a:pt x="609" y="1489"/>
                  </a:lnTo>
                  <a:lnTo>
                    <a:pt x="650" y="1461"/>
                  </a:lnTo>
                  <a:lnTo>
                    <a:pt x="693" y="1434"/>
                  </a:lnTo>
                  <a:lnTo>
                    <a:pt x="739" y="1406"/>
                  </a:lnTo>
                  <a:lnTo>
                    <a:pt x="785" y="1377"/>
                  </a:lnTo>
                  <a:lnTo>
                    <a:pt x="833" y="1350"/>
                  </a:lnTo>
                  <a:lnTo>
                    <a:pt x="884" y="1322"/>
                  </a:lnTo>
                  <a:lnTo>
                    <a:pt x="935" y="1296"/>
                  </a:lnTo>
                  <a:lnTo>
                    <a:pt x="988" y="1272"/>
                  </a:lnTo>
                  <a:lnTo>
                    <a:pt x="1042" y="1247"/>
                  </a:lnTo>
                  <a:lnTo>
                    <a:pt x="1096" y="1224"/>
                  </a:lnTo>
                  <a:lnTo>
                    <a:pt x="1152" y="1205"/>
                  </a:lnTo>
                  <a:lnTo>
                    <a:pt x="1209" y="1186"/>
                  </a:lnTo>
                  <a:lnTo>
                    <a:pt x="1266" y="1169"/>
                  </a:lnTo>
                  <a:lnTo>
                    <a:pt x="1323" y="1155"/>
                  </a:lnTo>
                  <a:lnTo>
                    <a:pt x="1381" y="1145"/>
                  </a:lnTo>
                  <a:lnTo>
                    <a:pt x="1439" y="1136"/>
                  </a:lnTo>
                  <a:lnTo>
                    <a:pt x="1496" y="1133"/>
                  </a:lnTo>
                  <a:lnTo>
                    <a:pt x="1553" y="1131"/>
                  </a:lnTo>
                  <a:lnTo>
                    <a:pt x="1610" y="1134"/>
                  </a:lnTo>
                  <a:lnTo>
                    <a:pt x="1667" y="1141"/>
                  </a:lnTo>
                  <a:lnTo>
                    <a:pt x="1689" y="1145"/>
                  </a:lnTo>
                  <a:lnTo>
                    <a:pt x="1710" y="1149"/>
                  </a:lnTo>
                  <a:lnTo>
                    <a:pt x="1729" y="1154"/>
                  </a:lnTo>
                  <a:lnTo>
                    <a:pt x="1751" y="1160"/>
                  </a:lnTo>
                  <a:lnTo>
                    <a:pt x="1770" y="1166"/>
                  </a:lnTo>
                  <a:lnTo>
                    <a:pt x="1790" y="1172"/>
                  </a:lnTo>
                  <a:lnTo>
                    <a:pt x="1810" y="1180"/>
                  </a:lnTo>
                  <a:lnTo>
                    <a:pt x="1830" y="1188"/>
                  </a:lnTo>
                  <a:lnTo>
                    <a:pt x="1850" y="1197"/>
                  </a:lnTo>
                  <a:lnTo>
                    <a:pt x="1869" y="1206"/>
                  </a:lnTo>
                  <a:lnTo>
                    <a:pt x="1887" y="1216"/>
                  </a:lnTo>
                  <a:lnTo>
                    <a:pt x="1906" y="1227"/>
                  </a:lnTo>
                  <a:lnTo>
                    <a:pt x="1923" y="1237"/>
                  </a:lnTo>
                  <a:lnTo>
                    <a:pt x="1942" y="1249"/>
                  </a:lnTo>
                  <a:lnTo>
                    <a:pt x="1959" y="1262"/>
                  </a:lnTo>
                  <a:lnTo>
                    <a:pt x="1977" y="1274"/>
                  </a:lnTo>
                  <a:lnTo>
                    <a:pt x="2010" y="1301"/>
                  </a:lnTo>
                  <a:lnTo>
                    <a:pt x="2044" y="1331"/>
                  </a:lnTo>
                  <a:lnTo>
                    <a:pt x="2075" y="1363"/>
                  </a:lnTo>
                  <a:lnTo>
                    <a:pt x="2106" y="1398"/>
                  </a:lnTo>
                  <a:lnTo>
                    <a:pt x="2136" y="1435"/>
                  </a:lnTo>
                  <a:lnTo>
                    <a:pt x="2164" y="1475"/>
                  </a:lnTo>
                  <a:lnTo>
                    <a:pt x="2191" y="1517"/>
                  </a:lnTo>
                  <a:lnTo>
                    <a:pt x="2217" y="1561"/>
                  </a:lnTo>
                  <a:lnTo>
                    <a:pt x="2225" y="1574"/>
                  </a:lnTo>
                  <a:lnTo>
                    <a:pt x="2242" y="1613"/>
                  </a:lnTo>
                  <a:lnTo>
                    <a:pt x="2254" y="1640"/>
                  </a:lnTo>
                  <a:lnTo>
                    <a:pt x="2266" y="1672"/>
                  </a:lnTo>
                  <a:lnTo>
                    <a:pt x="2281" y="1709"/>
                  </a:lnTo>
                  <a:lnTo>
                    <a:pt x="2294" y="1752"/>
                  </a:lnTo>
                  <a:lnTo>
                    <a:pt x="2308" y="1796"/>
                  </a:lnTo>
                  <a:lnTo>
                    <a:pt x="2323" y="1846"/>
                  </a:lnTo>
                  <a:lnTo>
                    <a:pt x="2335" y="1899"/>
                  </a:lnTo>
                  <a:lnTo>
                    <a:pt x="2347" y="1955"/>
                  </a:lnTo>
                  <a:lnTo>
                    <a:pt x="2352" y="1984"/>
                  </a:lnTo>
                  <a:lnTo>
                    <a:pt x="2357" y="2013"/>
                  </a:lnTo>
                  <a:lnTo>
                    <a:pt x="2360" y="2043"/>
                  </a:lnTo>
                  <a:lnTo>
                    <a:pt x="2364" y="2074"/>
                  </a:lnTo>
                  <a:lnTo>
                    <a:pt x="2367" y="2105"/>
                  </a:lnTo>
                  <a:lnTo>
                    <a:pt x="2369" y="2138"/>
                  </a:lnTo>
                  <a:lnTo>
                    <a:pt x="2370" y="2170"/>
                  </a:lnTo>
                  <a:lnTo>
                    <a:pt x="2370" y="2202"/>
                  </a:lnTo>
                  <a:lnTo>
                    <a:pt x="2368" y="2238"/>
                  </a:lnTo>
                  <a:lnTo>
                    <a:pt x="2362" y="2311"/>
                  </a:lnTo>
                  <a:lnTo>
                    <a:pt x="2354" y="2418"/>
                  </a:lnTo>
                  <a:lnTo>
                    <a:pt x="2347" y="2553"/>
                  </a:lnTo>
                  <a:lnTo>
                    <a:pt x="2344" y="2630"/>
                  </a:lnTo>
                  <a:lnTo>
                    <a:pt x="2342" y="2712"/>
                  </a:lnTo>
                  <a:lnTo>
                    <a:pt x="2339" y="2798"/>
                  </a:lnTo>
                  <a:lnTo>
                    <a:pt x="2339" y="2889"/>
                  </a:lnTo>
                  <a:lnTo>
                    <a:pt x="2339" y="2982"/>
                  </a:lnTo>
                  <a:lnTo>
                    <a:pt x="2342" y="3080"/>
                  </a:lnTo>
                  <a:lnTo>
                    <a:pt x="2344" y="3180"/>
                  </a:lnTo>
                  <a:lnTo>
                    <a:pt x="2350" y="3280"/>
                  </a:lnTo>
                  <a:lnTo>
                    <a:pt x="2357" y="3382"/>
                  </a:lnTo>
                  <a:lnTo>
                    <a:pt x="2365" y="3485"/>
                  </a:lnTo>
                  <a:lnTo>
                    <a:pt x="2376" y="3587"/>
                  </a:lnTo>
                  <a:lnTo>
                    <a:pt x="2390" y="3688"/>
                  </a:lnTo>
                  <a:lnTo>
                    <a:pt x="2407" y="3788"/>
                  </a:lnTo>
                  <a:lnTo>
                    <a:pt x="2426" y="3886"/>
                  </a:lnTo>
                  <a:lnTo>
                    <a:pt x="2448" y="3981"/>
                  </a:lnTo>
                  <a:lnTo>
                    <a:pt x="2473" y="4073"/>
                  </a:lnTo>
                  <a:lnTo>
                    <a:pt x="2502" y="4162"/>
                  </a:lnTo>
                  <a:lnTo>
                    <a:pt x="2534" y="4245"/>
                  </a:lnTo>
                  <a:lnTo>
                    <a:pt x="2570" y="4325"/>
                  </a:lnTo>
                  <a:lnTo>
                    <a:pt x="2610" y="4398"/>
                  </a:lnTo>
                  <a:lnTo>
                    <a:pt x="2653" y="4465"/>
                  </a:lnTo>
                  <a:lnTo>
                    <a:pt x="2702" y="4525"/>
                  </a:lnTo>
                  <a:lnTo>
                    <a:pt x="2755" y="4577"/>
                  </a:lnTo>
                  <a:lnTo>
                    <a:pt x="2812" y="4621"/>
                  </a:lnTo>
                  <a:lnTo>
                    <a:pt x="2830" y="4633"/>
                  </a:lnTo>
                  <a:lnTo>
                    <a:pt x="2847" y="4644"/>
                  </a:lnTo>
                  <a:lnTo>
                    <a:pt x="2864" y="4652"/>
                  </a:lnTo>
                  <a:lnTo>
                    <a:pt x="2883" y="4661"/>
                  </a:lnTo>
                  <a:lnTo>
                    <a:pt x="2900" y="4670"/>
                  </a:lnTo>
                  <a:lnTo>
                    <a:pt x="2919" y="4677"/>
                  </a:lnTo>
                  <a:lnTo>
                    <a:pt x="2939" y="4683"/>
                  </a:lnTo>
                  <a:lnTo>
                    <a:pt x="2958" y="4690"/>
                  </a:lnTo>
                  <a:lnTo>
                    <a:pt x="2977" y="4695"/>
                  </a:lnTo>
                  <a:lnTo>
                    <a:pt x="2996" y="4698"/>
                  </a:lnTo>
                  <a:lnTo>
                    <a:pt x="3017" y="4702"/>
                  </a:lnTo>
                  <a:lnTo>
                    <a:pt x="3037" y="4705"/>
                  </a:lnTo>
                  <a:lnTo>
                    <a:pt x="3057" y="4706"/>
                  </a:lnTo>
                  <a:lnTo>
                    <a:pt x="3078" y="4707"/>
                  </a:lnTo>
                  <a:lnTo>
                    <a:pt x="3099" y="4707"/>
                  </a:lnTo>
                  <a:lnTo>
                    <a:pt x="3120" y="4707"/>
                  </a:lnTo>
                  <a:lnTo>
                    <a:pt x="3143" y="4706"/>
                  </a:lnTo>
                  <a:lnTo>
                    <a:pt x="3164" y="4703"/>
                  </a:lnTo>
                  <a:lnTo>
                    <a:pt x="3186" y="4701"/>
                  </a:lnTo>
                  <a:lnTo>
                    <a:pt x="3208" y="4697"/>
                  </a:lnTo>
                  <a:lnTo>
                    <a:pt x="3231" y="4692"/>
                  </a:lnTo>
                  <a:lnTo>
                    <a:pt x="3254" y="4687"/>
                  </a:lnTo>
                  <a:lnTo>
                    <a:pt x="3277" y="4681"/>
                  </a:lnTo>
                  <a:lnTo>
                    <a:pt x="3300" y="4674"/>
                  </a:lnTo>
                  <a:lnTo>
                    <a:pt x="3324" y="4666"/>
                  </a:lnTo>
                  <a:lnTo>
                    <a:pt x="3349" y="4659"/>
                  </a:lnTo>
                  <a:lnTo>
                    <a:pt x="3372" y="4649"/>
                  </a:lnTo>
                  <a:lnTo>
                    <a:pt x="3397" y="4639"/>
                  </a:lnTo>
                  <a:lnTo>
                    <a:pt x="3447" y="4618"/>
                  </a:lnTo>
                  <a:lnTo>
                    <a:pt x="3498" y="4592"/>
                  </a:lnTo>
                  <a:lnTo>
                    <a:pt x="3511" y="4575"/>
                  </a:lnTo>
                  <a:lnTo>
                    <a:pt x="3546" y="4535"/>
                  </a:lnTo>
                  <a:lnTo>
                    <a:pt x="3570" y="4506"/>
                  </a:lnTo>
                  <a:lnTo>
                    <a:pt x="3598" y="4470"/>
                  </a:lnTo>
                  <a:lnTo>
                    <a:pt x="3629" y="4429"/>
                  </a:lnTo>
                  <a:lnTo>
                    <a:pt x="3664" y="4381"/>
                  </a:lnTo>
                  <a:lnTo>
                    <a:pt x="3701" y="4327"/>
                  </a:lnTo>
                  <a:lnTo>
                    <a:pt x="3741" y="4269"/>
                  </a:lnTo>
                  <a:lnTo>
                    <a:pt x="3783" y="4203"/>
                  </a:lnTo>
                  <a:lnTo>
                    <a:pt x="3827" y="4133"/>
                  </a:lnTo>
                  <a:lnTo>
                    <a:pt x="3872" y="4057"/>
                  </a:lnTo>
                  <a:lnTo>
                    <a:pt x="3919" y="3975"/>
                  </a:lnTo>
                  <a:lnTo>
                    <a:pt x="3965" y="3887"/>
                  </a:lnTo>
                  <a:lnTo>
                    <a:pt x="4012" y="3794"/>
                  </a:lnTo>
                  <a:lnTo>
                    <a:pt x="4059" y="3695"/>
                  </a:lnTo>
                  <a:lnTo>
                    <a:pt x="4106" y="3590"/>
                  </a:lnTo>
                  <a:lnTo>
                    <a:pt x="4152" y="3481"/>
                  </a:lnTo>
                  <a:lnTo>
                    <a:pt x="4197" y="3367"/>
                  </a:lnTo>
                  <a:lnTo>
                    <a:pt x="4239" y="3247"/>
                  </a:lnTo>
                  <a:lnTo>
                    <a:pt x="4281" y="3121"/>
                  </a:lnTo>
                  <a:lnTo>
                    <a:pt x="4320" y="2990"/>
                  </a:lnTo>
                  <a:lnTo>
                    <a:pt x="4357" y="2855"/>
                  </a:lnTo>
                  <a:lnTo>
                    <a:pt x="4391" y="2714"/>
                  </a:lnTo>
                  <a:lnTo>
                    <a:pt x="4420" y="2568"/>
                  </a:lnTo>
                  <a:lnTo>
                    <a:pt x="4446" y="2418"/>
                  </a:lnTo>
                  <a:lnTo>
                    <a:pt x="4470" y="2262"/>
                  </a:lnTo>
                  <a:lnTo>
                    <a:pt x="4487" y="2100"/>
                  </a:lnTo>
                  <a:lnTo>
                    <a:pt x="4501" y="1935"/>
                  </a:lnTo>
                  <a:lnTo>
                    <a:pt x="4510" y="1765"/>
                  </a:lnTo>
                  <a:lnTo>
                    <a:pt x="4512" y="1590"/>
                  </a:lnTo>
                  <a:lnTo>
                    <a:pt x="4512" y="1531"/>
                  </a:lnTo>
                  <a:lnTo>
                    <a:pt x="4511" y="1470"/>
                  </a:lnTo>
                  <a:lnTo>
                    <a:pt x="4509" y="1409"/>
                  </a:lnTo>
                  <a:lnTo>
                    <a:pt x="4506" y="1348"/>
                  </a:lnTo>
                  <a:lnTo>
                    <a:pt x="4504" y="1286"/>
                  </a:lnTo>
                  <a:lnTo>
                    <a:pt x="4499" y="1224"/>
                  </a:lnTo>
                  <a:lnTo>
                    <a:pt x="4495" y="1161"/>
                  </a:lnTo>
                  <a:lnTo>
                    <a:pt x="4489" y="1098"/>
                  </a:lnTo>
                  <a:lnTo>
                    <a:pt x="4513" y="1088"/>
                  </a:lnTo>
                  <a:lnTo>
                    <a:pt x="4548" y="1074"/>
                  </a:lnTo>
                  <a:lnTo>
                    <a:pt x="4593" y="1059"/>
                  </a:lnTo>
                  <a:lnTo>
                    <a:pt x="4645" y="1044"/>
                  </a:lnTo>
                  <a:lnTo>
                    <a:pt x="4674" y="1038"/>
                  </a:lnTo>
                  <a:lnTo>
                    <a:pt x="4705" y="1031"/>
                  </a:lnTo>
                  <a:lnTo>
                    <a:pt x="4736" y="1026"/>
                  </a:lnTo>
                  <a:lnTo>
                    <a:pt x="4769" y="1021"/>
                  </a:lnTo>
                  <a:lnTo>
                    <a:pt x="4804" y="1016"/>
                  </a:lnTo>
                  <a:lnTo>
                    <a:pt x="4840" y="1013"/>
                  </a:lnTo>
                  <a:lnTo>
                    <a:pt x="4876" y="1012"/>
                  </a:lnTo>
                  <a:lnTo>
                    <a:pt x="4915" y="1012"/>
                  </a:lnTo>
                  <a:lnTo>
                    <a:pt x="4952" y="1015"/>
                  </a:lnTo>
                  <a:lnTo>
                    <a:pt x="4992" y="1018"/>
                  </a:lnTo>
                  <a:lnTo>
                    <a:pt x="5030" y="1023"/>
                  </a:lnTo>
                  <a:lnTo>
                    <a:pt x="5070" y="1032"/>
                  </a:lnTo>
                  <a:lnTo>
                    <a:pt x="5110" y="1043"/>
                  </a:lnTo>
                  <a:lnTo>
                    <a:pt x="5148" y="1056"/>
                  </a:lnTo>
                  <a:lnTo>
                    <a:pt x="5188" y="1072"/>
                  </a:lnTo>
                  <a:lnTo>
                    <a:pt x="5227" y="1090"/>
                  </a:lnTo>
                  <a:lnTo>
                    <a:pt x="5266" y="1113"/>
                  </a:lnTo>
                  <a:lnTo>
                    <a:pt x="5304" y="1139"/>
                  </a:lnTo>
                  <a:lnTo>
                    <a:pt x="5342" y="1167"/>
                  </a:lnTo>
                  <a:lnTo>
                    <a:pt x="5379" y="1201"/>
                  </a:lnTo>
                  <a:lnTo>
                    <a:pt x="5415" y="1237"/>
                  </a:lnTo>
                  <a:lnTo>
                    <a:pt x="5450" y="1278"/>
                  </a:lnTo>
                  <a:lnTo>
                    <a:pt x="5483" y="1322"/>
                  </a:lnTo>
                  <a:lnTo>
                    <a:pt x="5516" y="1372"/>
                  </a:lnTo>
                  <a:lnTo>
                    <a:pt x="5532" y="1398"/>
                  </a:lnTo>
                  <a:lnTo>
                    <a:pt x="5573" y="1465"/>
                  </a:lnTo>
                  <a:lnTo>
                    <a:pt x="5599" y="1511"/>
                  </a:lnTo>
                  <a:lnTo>
                    <a:pt x="5629" y="1564"/>
                  </a:lnTo>
                  <a:lnTo>
                    <a:pt x="5660" y="1624"/>
                  </a:lnTo>
                  <a:lnTo>
                    <a:pt x="5691" y="1687"/>
                  </a:lnTo>
                  <a:lnTo>
                    <a:pt x="5723" y="1755"/>
                  </a:lnTo>
                  <a:lnTo>
                    <a:pt x="5753" y="1825"/>
                  </a:lnTo>
                  <a:lnTo>
                    <a:pt x="5766" y="1861"/>
                  </a:lnTo>
                  <a:lnTo>
                    <a:pt x="5780" y="1896"/>
                  </a:lnTo>
                  <a:lnTo>
                    <a:pt x="5792" y="1932"/>
                  </a:lnTo>
                  <a:lnTo>
                    <a:pt x="5804" y="1968"/>
                  </a:lnTo>
                  <a:lnTo>
                    <a:pt x="5814" y="2004"/>
                  </a:lnTo>
                  <a:lnTo>
                    <a:pt x="5822" y="2038"/>
                  </a:lnTo>
                  <a:lnTo>
                    <a:pt x="5830" y="2073"/>
                  </a:lnTo>
                  <a:lnTo>
                    <a:pt x="5835" y="2107"/>
                  </a:lnTo>
                  <a:lnTo>
                    <a:pt x="5840" y="2140"/>
                  </a:lnTo>
                  <a:lnTo>
                    <a:pt x="5841" y="2172"/>
                  </a:lnTo>
                  <a:lnTo>
                    <a:pt x="5842" y="2203"/>
                  </a:lnTo>
                  <a:lnTo>
                    <a:pt x="5840" y="2233"/>
                  </a:lnTo>
                  <a:lnTo>
                    <a:pt x="5842" y="2254"/>
                  </a:lnTo>
                  <a:lnTo>
                    <a:pt x="5850" y="2286"/>
                  </a:lnTo>
                  <a:lnTo>
                    <a:pt x="5855" y="2307"/>
                  </a:lnTo>
                  <a:lnTo>
                    <a:pt x="5861" y="2329"/>
                  </a:lnTo>
                  <a:lnTo>
                    <a:pt x="5868" y="2351"/>
                  </a:lnTo>
                  <a:lnTo>
                    <a:pt x="5878" y="2374"/>
                  </a:lnTo>
                  <a:lnTo>
                    <a:pt x="5888" y="2398"/>
                  </a:lnTo>
                  <a:lnTo>
                    <a:pt x="5901" y="2420"/>
                  </a:lnTo>
                  <a:lnTo>
                    <a:pt x="5908" y="2432"/>
                  </a:lnTo>
                  <a:lnTo>
                    <a:pt x="5915" y="2441"/>
                  </a:lnTo>
                  <a:lnTo>
                    <a:pt x="5923" y="2451"/>
                  </a:lnTo>
                  <a:lnTo>
                    <a:pt x="5932" y="2461"/>
                  </a:lnTo>
                  <a:lnTo>
                    <a:pt x="5940" y="2470"/>
                  </a:lnTo>
                  <a:lnTo>
                    <a:pt x="5949" y="2479"/>
                  </a:lnTo>
                  <a:lnTo>
                    <a:pt x="5959" y="2486"/>
                  </a:lnTo>
                  <a:lnTo>
                    <a:pt x="5970" y="2494"/>
                  </a:lnTo>
                  <a:lnTo>
                    <a:pt x="5980" y="2500"/>
                  </a:lnTo>
                  <a:lnTo>
                    <a:pt x="5992" y="2505"/>
                  </a:lnTo>
                  <a:lnTo>
                    <a:pt x="6004" y="2508"/>
                  </a:lnTo>
                  <a:lnTo>
                    <a:pt x="6016" y="2512"/>
                  </a:lnTo>
                  <a:lnTo>
                    <a:pt x="6027" y="2515"/>
                  </a:lnTo>
                  <a:lnTo>
                    <a:pt x="6037" y="2515"/>
                  </a:lnTo>
                  <a:lnTo>
                    <a:pt x="6048" y="2516"/>
                  </a:lnTo>
                  <a:lnTo>
                    <a:pt x="6059" y="2515"/>
                  </a:lnTo>
                  <a:lnTo>
                    <a:pt x="6069" y="2513"/>
                  </a:lnTo>
                  <a:lnTo>
                    <a:pt x="6081" y="2512"/>
                  </a:lnTo>
                  <a:lnTo>
                    <a:pt x="6092" y="2508"/>
                  </a:lnTo>
                  <a:lnTo>
                    <a:pt x="6103" y="2506"/>
                  </a:lnTo>
                  <a:lnTo>
                    <a:pt x="6114" y="2501"/>
                  </a:lnTo>
                  <a:lnTo>
                    <a:pt x="6125" y="2496"/>
                  </a:lnTo>
                  <a:lnTo>
                    <a:pt x="6136" y="2490"/>
                  </a:lnTo>
                  <a:lnTo>
                    <a:pt x="6149" y="2484"/>
                  </a:lnTo>
                  <a:lnTo>
                    <a:pt x="6172" y="2468"/>
                  </a:lnTo>
                  <a:lnTo>
                    <a:pt x="6196" y="2449"/>
                  </a:lnTo>
                  <a:lnTo>
                    <a:pt x="6221" y="2428"/>
                  </a:lnTo>
                  <a:lnTo>
                    <a:pt x="6246" y="2403"/>
                  </a:lnTo>
                  <a:lnTo>
                    <a:pt x="6272" y="2374"/>
                  </a:lnTo>
                  <a:lnTo>
                    <a:pt x="6298" y="2343"/>
                  </a:lnTo>
                  <a:lnTo>
                    <a:pt x="6325" y="2309"/>
                  </a:lnTo>
                  <a:lnTo>
                    <a:pt x="6353" y="2272"/>
                  </a:lnTo>
                  <a:lnTo>
                    <a:pt x="6380" y="2231"/>
                  </a:lnTo>
                  <a:lnTo>
                    <a:pt x="6408" y="2187"/>
                  </a:lnTo>
                  <a:lnTo>
                    <a:pt x="6413" y="2175"/>
                  </a:lnTo>
                  <a:lnTo>
                    <a:pt x="6425" y="2142"/>
                  </a:lnTo>
                  <a:lnTo>
                    <a:pt x="6432" y="2119"/>
                  </a:lnTo>
                  <a:lnTo>
                    <a:pt x="6439" y="2093"/>
                  </a:lnTo>
                  <a:lnTo>
                    <a:pt x="6448" y="2062"/>
                  </a:lnTo>
                  <a:lnTo>
                    <a:pt x="6457" y="2026"/>
                  </a:lnTo>
                  <a:lnTo>
                    <a:pt x="6466" y="1987"/>
                  </a:lnTo>
                  <a:lnTo>
                    <a:pt x="6474" y="1945"/>
                  </a:lnTo>
                  <a:lnTo>
                    <a:pt x="6482" y="1899"/>
                  </a:lnTo>
                  <a:lnTo>
                    <a:pt x="6489" y="1851"/>
                  </a:lnTo>
                  <a:lnTo>
                    <a:pt x="6494" y="1799"/>
                  </a:lnTo>
                  <a:lnTo>
                    <a:pt x="6499" y="1744"/>
                  </a:lnTo>
                  <a:lnTo>
                    <a:pt x="6502" y="1687"/>
                  </a:lnTo>
                  <a:lnTo>
                    <a:pt x="6503" y="1628"/>
                  </a:lnTo>
                  <a:lnTo>
                    <a:pt x="6502" y="1566"/>
                  </a:lnTo>
                  <a:lnTo>
                    <a:pt x="6498" y="1501"/>
                  </a:lnTo>
                  <a:lnTo>
                    <a:pt x="6495" y="1468"/>
                  </a:lnTo>
                  <a:lnTo>
                    <a:pt x="6492" y="1434"/>
                  </a:lnTo>
                  <a:lnTo>
                    <a:pt x="6488" y="1401"/>
                  </a:lnTo>
                  <a:lnTo>
                    <a:pt x="6483" y="1366"/>
                  </a:lnTo>
                  <a:lnTo>
                    <a:pt x="6477" y="1331"/>
                  </a:lnTo>
                  <a:lnTo>
                    <a:pt x="6470" y="1296"/>
                  </a:lnTo>
                  <a:lnTo>
                    <a:pt x="6462" y="1260"/>
                  </a:lnTo>
                  <a:lnTo>
                    <a:pt x="6454" y="1224"/>
                  </a:lnTo>
                  <a:lnTo>
                    <a:pt x="6444" y="1188"/>
                  </a:lnTo>
                  <a:lnTo>
                    <a:pt x="6434" y="1152"/>
                  </a:lnTo>
                  <a:lnTo>
                    <a:pt x="6422" y="1116"/>
                  </a:lnTo>
                  <a:lnTo>
                    <a:pt x="6410" y="1079"/>
                  </a:lnTo>
                  <a:lnTo>
                    <a:pt x="6396" y="1042"/>
                  </a:lnTo>
                  <a:lnTo>
                    <a:pt x="6382" y="1005"/>
                  </a:lnTo>
                  <a:lnTo>
                    <a:pt x="6366" y="968"/>
                  </a:lnTo>
                  <a:lnTo>
                    <a:pt x="6349" y="930"/>
                  </a:lnTo>
                  <a:lnTo>
                    <a:pt x="6330" y="893"/>
                  </a:lnTo>
                  <a:lnTo>
                    <a:pt x="6312" y="855"/>
                  </a:lnTo>
                  <a:lnTo>
                    <a:pt x="6290" y="817"/>
                  </a:lnTo>
                  <a:lnTo>
                    <a:pt x="6268" y="779"/>
                  </a:lnTo>
                  <a:lnTo>
                    <a:pt x="6244" y="742"/>
                  </a:lnTo>
                  <a:lnTo>
                    <a:pt x="6220" y="705"/>
                  </a:lnTo>
                  <a:lnTo>
                    <a:pt x="6194" y="666"/>
                  </a:lnTo>
                  <a:lnTo>
                    <a:pt x="6166" y="629"/>
                  </a:lnTo>
                  <a:lnTo>
                    <a:pt x="6136" y="592"/>
                  </a:lnTo>
                  <a:lnTo>
                    <a:pt x="6107" y="553"/>
                  </a:lnTo>
                  <a:lnTo>
                    <a:pt x="6074" y="516"/>
                  </a:lnTo>
                  <a:lnTo>
                    <a:pt x="6040" y="479"/>
                  </a:lnTo>
                  <a:lnTo>
                    <a:pt x="6038" y="476"/>
                  </a:lnTo>
                  <a:lnTo>
                    <a:pt x="6036" y="475"/>
                  </a:lnTo>
                  <a:lnTo>
                    <a:pt x="6025" y="466"/>
                  </a:lnTo>
                  <a:lnTo>
                    <a:pt x="6002" y="451"/>
                  </a:lnTo>
                  <a:lnTo>
                    <a:pt x="5969" y="429"/>
                  </a:lnTo>
                  <a:lnTo>
                    <a:pt x="5925" y="401"/>
                  </a:lnTo>
                  <a:lnTo>
                    <a:pt x="5872" y="367"/>
                  </a:lnTo>
                  <a:lnTo>
                    <a:pt x="5810" y="331"/>
                  </a:lnTo>
                  <a:lnTo>
                    <a:pt x="5739" y="293"/>
                  </a:lnTo>
                  <a:lnTo>
                    <a:pt x="5662" y="254"/>
                  </a:lnTo>
                  <a:lnTo>
                    <a:pt x="5620" y="234"/>
                  </a:lnTo>
                  <a:lnTo>
                    <a:pt x="5578" y="214"/>
                  </a:lnTo>
                  <a:lnTo>
                    <a:pt x="5533" y="196"/>
                  </a:lnTo>
                  <a:lnTo>
                    <a:pt x="5488" y="177"/>
                  </a:lnTo>
                  <a:lnTo>
                    <a:pt x="5441" y="159"/>
                  </a:lnTo>
                  <a:lnTo>
                    <a:pt x="5393" y="141"/>
                  </a:lnTo>
                  <a:lnTo>
                    <a:pt x="5344" y="125"/>
                  </a:lnTo>
                  <a:lnTo>
                    <a:pt x="5293" y="109"/>
                  </a:lnTo>
                  <a:lnTo>
                    <a:pt x="5242" y="95"/>
                  </a:lnTo>
                  <a:lnTo>
                    <a:pt x="5190" y="82"/>
                  </a:lnTo>
                  <a:lnTo>
                    <a:pt x="5138" y="71"/>
                  </a:lnTo>
                  <a:lnTo>
                    <a:pt x="5085" y="61"/>
                  </a:lnTo>
                  <a:lnTo>
                    <a:pt x="5031" y="53"/>
                  </a:lnTo>
                  <a:lnTo>
                    <a:pt x="4978" y="47"/>
                  </a:lnTo>
                  <a:lnTo>
                    <a:pt x="4923" y="42"/>
                  </a:lnTo>
                  <a:lnTo>
                    <a:pt x="4869" y="41"/>
                  </a:lnTo>
                  <a:lnTo>
                    <a:pt x="4869" y="38"/>
                  </a:lnTo>
                  <a:lnTo>
                    <a:pt x="4870" y="35"/>
                  </a:lnTo>
                  <a:lnTo>
                    <a:pt x="4869" y="30"/>
                  </a:lnTo>
                  <a:lnTo>
                    <a:pt x="4867" y="25"/>
                  </a:lnTo>
                  <a:lnTo>
                    <a:pt x="4866" y="20"/>
                  </a:lnTo>
                  <a:lnTo>
                    <a:pt x="4862" y="15"/>
                  </a:lnTo>
                  <a:lnTo>
                    <a:pt x="4856" y="7"/>
                  </a:lnTo>
                  <a:lnTo>
                    <a:pt x="4849" y="2"/>
                  </a:lnTo>
                  <a:lnTo>
                    <a:pt x="4840" y="0"/>
                  </a:lnTo>
                  <a:lnTo>
                    <a:pt x="4830" y="0"/>
                  </a:lnTo>
                  <a:close/>
                  <a:moveTo>
                    <a:pt x="3180" y="1651"/>
                  </a:moveTo>
                  <a:lnTo>
                    <a:pt x="3200" y="1650"/>
                  </a:lnTo>
                  <a:lnTo>
                    <a:pt x="3220" y="1647"/>
                  </a:lnTo>
                  <a:lnTo>
                    <a:pt x="3238" y="1645"/>
                  </a:lnTo>
                  <a:lnTo>
                    <a:pt x="3258" y="1640"/>
                  </a:lnTo>
                  <a:lnTo>
                    <a:pt x="3278" y="1635"/>
                  </a:lnTo>
                  <a:lnTo>
                    <a:pt x="3297" y="1628"/>
                  </a:lnTo>
                  <a:lnTo>
                    <a:pt x="3316" y="1620"/>
                  </a:lnTo>
                  <a:lnTo>
                    <a:pt x="3335" y="1611"/>
                  </a:lnTo>
                  <a:lnTo>
                    <a:pt x="3355" y="1602"/>
                  </a:lnTo>
                  <a:lnTo>
                    <a:pt x="3374" y="1590"/>
                  </a:lnTo>
                  <a:lnTo>
                    <a:pt x="3392" y="1578"/>
                  </a:lnTo>
                  <a:lnTo>
                    <a:pt x="3411" y="1564"/>
                  </a:lnTo>
                  <a:lnTo>
                    <a:pt x="3429" y="1549"/>
                  </a:lnTo>
                  <a:lnTo>
                    <a:pt x="3449" y="1533"/>
                  </a:lnTo>
                  <a:lnTo>
                    <a:pt x="3468" y="1517"/>
                  </a:lnTo>
                  <a:lnTo>
                    <a:pt x="3487" y="1499"/>
                  </a:lnTo>
                  <a:lnTo>
                    <a:pt x="3505" y="1480"/>
                  </a:lnTo>
                  <a:lnTo>
                    <a:pt x="3523" y="1459"/>
                  </a:lnTo>
                  <a:lnTo>
                    <a:pt x="3541" y="1438"/>
                  </a:lnTo>
                  <a:lnTo>
                    <a:pt x="3560" y="1415"/>
                  </a:lnTo>
                  <a:lnTo>
                    <a:pt x="3578" y="1392"/>
                  </a:lnTo>
                  <a:lnTo>
                    <a:pt x="3596" y="1367"/>
                  </a:lnTo>
                  <a:lnTo>
                    <a:pt x="3614" y="1341"/>
                  </a:lnTo>
                  <a:lnTo>
                    <a:pt x="3632" y="1314"/>
                  </a:lnTo>
                  <a:lnTo>
                    <a:pt x="3650" y="1285"/>
                  </a:lnTo>
                  <a:lnTo>
                    <a:pt x="3668" y="1255"/>
                  </a:lnTo>
                  <a:lnTo>
                    <a:pt x="3685" y="1226"/>
                  </a:lnTo>
                  <a:lnTo>
                    <a:pt x="3704" y="1193"/>
                  </a:lnTo>
                  <a:lnTo>
                    <a:pt x="3739" y="1128"/>
                  </a:lnTo>
                  <a:lnTo>
                    <a:pt x="3773" y="1056"/>
                  </a:lnTo>
                  <a:lnTo>
                    <a:pt x="3778" y="1040"/>
                  </a:lnTo>
                  <a:lnTo>
                    <a:pt x="3795" y="997"/>
                  </a:lnTo>
                  <a:lnTo>
                    <a:pt x="3806" y="968"/>
                  </a:lnTo>
                  <a:lnTo>
                    <a:pt x="3819" y="934"/>
                  </a:lnTo>
                  <a:lnTo>
                    <a:pt x="3837" y="896"/>
                  </a:lnTo>
                  <a:lnTo>
                    <a:pt x="3857" y="855"/>
                  </a:lnTo>
                  <a:lnTo>
                    <a:pt x="3879" y="809"/>
                  </a:lnTo>
                  <a:lnTo>
                    <a:pt x="3904" y="762"/>
                  </a:lnTo>
                  <a:lnTo>
                    <a:pt x="3932" y="712"/>
                  </a:lnTo>
                  <a:lnTo>
                    <a:pt x="3963" y="661"/>
                  </a:lnTo>
                  <a:lnTo>
                    <a:pt x="3998" y="610"/>
                  </a:lnTo>
                  <a:lnTo>
                    <a:pt x="4035" y="557"/>
                  </a:lnTo>
                  <a:lnTo>
                    <a:pt x="4055" y="531"/>
                  </a:lnTo>
                  <a:lnTo>
                    <a:pt x="4076" y="505"/>
                  </a:lnTo>
                  <a:lnTo>
                    <a:pt x="4099" y="479"/>
                  </a:lnTo>
                  <a:lnTo>
                    <a:pt x="4121" y="454"/>
                  </a:lnTo>
                  <a:lnTo>
                    <a:pt x="4153" y="415"/>
                  </a:lnTo>
                  <a:lnTo>
                    <a:pt x="4187" y="379"/>
                  </a:lnTo>
                  <a:lnTo>
                    <a:pt x="4222" y="346"/>
                  </a:lnTo>
                  <a:lnTo>
                    <a:pt x="4258" y="315"/>
                  </a:lnTo>
                  <a:lnTo>
                    <a:pt x="4295" y="286"/>
                  </a:lnTo>
                  <a:lnTo>
                    <a:pt x="4332" y="259"/>
                  </a:lnTo>
                  <a:lnTo>
                    <a:pt x="4371" y="236"/>
                  </a:lnTo>
                  <a:lnTo>
                    <a:pt x="4410" y="213"/>
                  </a:lnTo>
                  <a:lnTo>
                    <a:pt x="4433" y="201"/>
                  </a:lnTo>
                  <a:lnTo>
                    <a:pt x="4455" y="188"/>
                  </a:lnTo>
                  <a:lnTo>
                    <a:pt x="4477" y="177"/>
                  </a:lnTo>
                  <a:lnTo>
                    <a:pt x="4500" y="166"/>
                  </a:lnTo>
                  <a:lnTo>
                    <a:pt x="4545" y="147"/>
                  </a:lnTo>
                  <a:lnTo>
                    <a:pt x="4592" y="130"/>
                  </a:lnTo>
                  <a:lnTo>
                    <a:pt x="4639" y="115"/>
                  </a:lnTo>
                  <a:lnTo>
                    <a:pt x="4686" y="102"/>
                  </a:lnTo>
                  <a:lnTo>
                    <a:pt x="4733" y="92"/>
                  </a:lnTo>
                  <a:lnTo>
                    <a:pt x="4783" y="83"/>
                  </a:lnTo>
                  <a:lnTo>
                    <a:pt x="4784" y="89"/>
                  </a:lnTo>
                  <a:lnTo>
                    <a:pt x="4787" y="95"/>
                  </a:lnTo>
                  <a:lnTo>
                    <a:pt x="4792" y="102"/>
                  </a:lnTo>
                  <a:lnTo>
                    <a:pt x="4799" y="107"/>
                  </a:lnTo>
                  <a:lnTo>
                    <a:pt x="4808" y="110"/>
                  </a:lnTo>
                  <a:lnTo>
                    <a:pt x="4816" y="110"/>
                  </a:lnTo>
                  <a:lnTo>
                    <a:pt x="4870" y="110"/>
                  </a:lnTo>
                  <a:lnTo>
                    <a:pt x="4923" y="113"/>
                  </a:lnTo>
                  <a:lnTo>
                    <a:pt x="4977" y="116"/>
                  </a:lnTo>
                  <a:lnTo>
                    <a:pt x="5030" y="124"/>
                  </a:lnTo>
                  <a:lnTo>
                    <a:pt x="5082" y="131"/>
                  </a:lnTo>
                  <a:lnTo>
                    <a:pt x="5134" y="141"/>
                  </a:lnTo>
                  <a:lnTo>
                    <a:pt x="5187" y="154"/>
                  </a:lnTo>
                  <a:lnTo>
                    <a:pt x="5237" y="167"/>
                  </a:lnTo>
                  <a:lnTo>
                    <a:pt x="5287" y="181"/>
                  </a:lnTo>
                  <a:lnTo>
                    <a:pt x="5337" y="197"/>
                  </a:lnTo>
                  <a:lnTo>
                    <a:pt x="5385" y="214"/>
                  </a:lnTo>
                  <a:lnTo>
                    <a:pt x="5432" y="232"/>
                  </a:lnTo>
                  <a:lnTo>
                    <a:pt x="5478" y="250"/>
                  </a:lnTo>
                  <a:lnTo>
                    <a:pt x="5523" y="269"/>
                  </a:lnTo>
                  <a:lnTo>
                    <a:pt x="5566" y="288"/>
                  </a:lnTo>
                  <a:lnTo>
                    <a:pt x="5607" y="308"/>
                  </a:lnTo>
                  <a:lnTo>
                    <a:pt x="5687" y="347"/>
                  </a:lnTo>
                  <a:lnTo>
                    <a:pt x="5759" y="386"/>
                  </a:lnTo>
                  <a:lnTo>
                    <a:pt x="5822" y="422"/>
                  </a:lnTo>
                  <a:lnTo>
                    <a:pt x="5877" y="455"/>
                  </a:lnTo>
                  <a:lnTo>
                    <a:pt x="5922" y="484"/>
                  </a:lnTo>
                  <a:lnTo>
                    <a:pt x="5956" y="506"/>
                  </a:lnTo>
                  <a:lnTo>
                    <a:pt x="5979" y="522"/>
                  </a:lnTo>
                  <a:lnTo>
                    <a:pt x="5990" y="530"/>
                  </a:lnTo>
                  <a:lnTo>
                    <a:pt x="6022" y="566"/>
                  </a:lnTo>
                  <a:lnTo>
                    <a:pt x="6053" y="602"/>
                  </a:lnTo>
                  <a:lnTo>
                    <a:pt x="6082" y="638"/>
                  </a:lnTo>
                  <a:lnTo>
                    <a:pt x="6110" y="674"/>
                  </a:lnTo>
                  <a:lnTo>
                    <a:pt x="6136" y="709"/>
                  </a:lnTo>
                  <a:lnTo>
                    <a:pt x="6161" y="745"/>
                  </a:lnTo>
                  <a:lnTo>
                    <a:pt x="6186" y="781"/>
                  </a:lnTo>
                  <a:lnTo>
                    <a:pt x="6208" y="817"/>
                  </a:lnTo>
                  <a:lnTo>
                    <a:pt x="6230" y="855"/>
                  </a:lnTo>
                  <a:lnTo>
                    <a:pt x="6249" y="891"/>
                  </a:lnTo>
                  <a:lnTo>
                    <a:pt x="6268" y="927"/>
                  </a:lnTo>
                  <a:lnTo>
                    <a:pt x="6285" y="963"/>
                  </a:lnTo>
                  <a:lnTo>
                    <a:pt x="6302" y="999"/>
                  </a:lnTo>
                  <a:lnTo>
                    <a:pt x="6317" y="1035"/>
                  </a:lnTo>
                  <a:lnTo>
                    <a:pt x="6330" y="1071"/>
                  </a:lnTo>
                  <a:lnTo>
                    <a:pt x="6344" y="1105"/>
                  </a:lnTo>
                  <a:lnTo>
                    <a:pt x="6355" y="1141"/>
                  </a:lnTo>
                  <a:lnTo>
                    <a:pt x="6366" y="1176"/>
                  </a:lnTo>
                  <a:lnTo>
                    <a:pt x="6376" y="1211"/>
                  </a:lnTo>
                  <a:lnTo>
                    <a:pt x="6385" y="1245"/>
                  </a:lnTo>
                  <a:lnTo>
                    <a:pt x="6393" y="1279"/>
                  </a:lnTo>
                  <a:lnTo>
                    <a:pt x="6401" y="1314"/>
                  </a:lnTo>
                  <a:lnTo>
                    <a:pt x="6407" y="1347"/>
                  </a:lnTo>
                  <a:lnTo>
                    <a:pt x="6412" y="1379"/>
                  </a:lnTo>
                  <a:lnTo>
                    <a:pt x="6417" y="1413"/>
                  </a:lnTo>
                  <a:lnTo>
                    <a:pt x="6422" y="1445"/>
                  </a:lnTo>
                  <a:lnTo>
                    <a:pt x="6425" y="1477"/>
                  </a:lnTo>
                  <a:lnTo>
                    <a:pt x="6427" y="1508"/>
                  </a:lnTo>
                  <a:lnTo>
                    <a:pt x="6431" y="1571"/>
                  </a:lnTo>
                  <a:lnTo>
                    <a:pt x="6432" y="1630"/>
                  </a:lnTo>
                  <a:lnTo>
                    <a:pt x="6431" y="1686"/>
                  </a:lnTo>
                  <a:lnTo>
                    <a:pt x="6428" y="1741"/>
                  </a:lnTo>
                  <a:lnTo>
                    <a:pt x="6425" y="1791"/>
                  </a:lnTo>
                  <a:lnTo>
                    <a:pt x="6418" y="1841"/>
                  </a:lnTo>
                  <a:lnTo>
                    <a:pt x="6412" y="1887"/>
                  </a:lnTo>
                  <a:lnTo>
                    <a:pt x="6405" y="1929"/>
                  </a:lnTo>
                  <a:lnTo>
                    <a:pt x="6397" y="1969"/>
                  </a:lnTo>
                  <a:lnTo>
                    <a:pt x="6390" y="2006"/>
                  </a:lnTo>
                  <a:lnTo>
                    <a:pt x="6374" y="2067"/>
                  </a:lnTo>
                  <a:lnTo>
                    <a:pt x="6360" y="2114"/>
                  </a:lnTo>
                  <a:lnTo>
                    <a:pt x="6350" y="2144"/>
                  </a:lnTo>
                  <a:lnTo>
                    <a:pt x="6345" y="2155"/>
                  </a:lnTo>
                  <a:lnTo>
                    <a:pt x="6314" y="2202"/>
                  </a:lnTo>
                  <a:lnTo>
                    <a:pt x="6284" y="2245"/>
                  </a:lnTo>
                  <a:lnTo>
                    <a:pt x="6256" y="2283"/>
                  </a:lnTo>
                  <a:lnTo>
                    <a:pt x="6230" y="2315"/>
                  </a:lnTo>
                  <a:lnTo>
                    <a:pt x="6205" y="2343"/>
                  </a:lnTo>
                  <a:lnTo>
                    <a:pt x="6182" y="2367"/>
                  </a:lnTo>
                  <a:lnTo>
                    <a:pt x="6160" y="2387"/>
                  </a:lnTo>
                  <a:lnTo>
                    <a:pt x="6140" y="2403"/>
                  </a:lnTo>
                  <a:lnTo>
                    <a:pt x="6122" y="2417"/>
                  </a:lnTo>
                  <a:lnTo>
                    <a:pt x="6104" y="2427"/>
                  </a:lnTo>
                  <a:lnTo>
                    <a:pt x="6089" y="2434"/>
                  </a:lnTo>
                  <a:lnTo>
                    <a:pt x="6074" y="2439"/>
                  </a:lnTo>
                  <a:lnTo>
                    <a:pt x="6062" y="2443"/>
                  </a:lnTo>
                  <a:lnTo>
                    <a:pt x="6051" y="2444"/>
                  </a:lnTo>
                  <a:lnTo>
                    <a:pt x="6040" y="2444"/>
                  </a:lnTo>
                  <a:lnTo>
                    <a:pt x="6031" y="2443"/>
                  </a:lnTo>
                  <a:lnTo>
                    <a:pt x="6025" y="2440"/>
                  </a:lnTo>
                  <a:lnTo>
                    <a:pt x="6017" y="2438"/>
                  </a:lnTo>
                  <a:lnTo>
                    <a:pt x="6011" y="2435"/>
                  </a:lnTo>
                  <a:lnTo>
                    <a:pt x="6005" y="2432"/>
                  </a:lnTo>
                  <a:lnTo>
                    <a:pt x="5992" y="2422"/>
                  </a:lnTo>
                  <a:lnTo>
                    <a:pt x="5981" y="2410"/>
                  </a:lnTo>
                  <a:lnTo>
                    <a:pt x="5971" y="2397"/>
                  </a:lnTo>
                  <a:lnTo>
                    <a:pt x="5961" y="2383"/>
                  </a:lnTo>
                  <a:lnTo>
                    <a:pt x="5953" y="2367"/>
                  </a:lnTo>
                  <a:lnTo>
                    <a:pt x="5945" y="2351"/>
                  </a:lnTo>
                  <a:lnTo>
                    <a:pt x="5938" y="2335"/>
                  </a:lnTo>
                  <a:lnTo>
                    <a:pt x="5932" y="2317"/>
                  </a:lnTo>
                  <a:lnTo>
                    <a:pt x="5927" y="2301"/>
                  </a:lnTo>
                  <a:lnTo>
                    <a:pt x="5922" y="2285"/>
                  </a:lnTo>
                  <a:lnTo>
                    <a:pt x="5914" y="2255"/>
                  </a:lnTo>
                  <a:lnTo>
                    <a:pt x="5910" y="2232"/>
                  </a:lnTo>
                  <a:lnTo>
                    <a:pt x="5913" y="2201"/>
                  </a:lnTo>
                  <a:lnTo>
                    <a:pt x="5913" y="2167"/>
                  </a:lnTo>
                  <a:lnTo>
                    <a:pt x="5910" y="2134"/>
                  </a:lnTo>
                  <a:lnTo>
                    <a:pt x="5907" y="2099"/>
                  </a:lnTo>
                  <a:lnTo>
                    <a:pt x="5902" y="2064"/>
                  </a:lnTo>
                  <a:lnTo>
                    <a:pt x="5894" y="2028"/>
                  </a:lnTo>
                  <a:lnTo>
                    <a:pt x="5886" y="1992"/>
                  </a:lnTo>
                  <a:lnTo>
                    <a:pt x="5876" y="1956"/>
                  </a:lnTo>
                  <a:lnTo>
                    <a:pt x="5865" y="1919"/>
                  </a:lnTo>
                  <a:lnTo>
                    <a:pt x="5852" y="1882"/>
                  </a:lnTo>
                  <a:lnTo>
                    <a:pt x="5838" y="1846"/>
                  </a:lnTo>
                  <a:lnTo>
                    <a:pt x="5824" y="1809"/>
                  </a:lnTo>
                  <a:lnTo>
                    <a:pt x="5794" y="1737"/>
                  </a:lnTo>
                  <a:lnTo>
                    <a:pt x="5761" y="1667"/>
                  </a:lnTo>
                  <a:lnTo>
                    <a:pt x="5729" y="1602"/>
                  </a:lnTo>
                  <a:lnTo>
                    <a:pt x="5697" y="1541"/>
                  </a:lnTo>
                  <a:lnTo>
                    <a:pt x="5667" y="1486"/>
                  </a:lnTo>
                  <a:lnTo>
                    <a:pt x="5639" y="1438"/>
                  </a:lnTo>
                  <a:lnTo>
                    <a:pt x="5615" y="1397"/>
                  </a:lnTo>
                  <a:lnTo>
                    <a:pt x="5595" y="1365"/>
                  </a:lnTo>
                  <a:lnTo>
                    <a:pt x="5581" y="1343"/>
                  </a:lnTo>
                  <a:lnTo>
                    <a:pt x="5575" y="1334"/>
                  </a:lnTo>
                  <a:lnTo>
                    <a:pt x="5538" y="1276"/>
                  </a:lnTo>
                  <a:lnTo>
                    <a:pt x="5498" y="1224"/>
                  </a:lnTo>
                  <a:lnTo>
                    <a:pt x="5456" y="1177"/>
                  </a:lnTo>
                  <a:lnTo>
                    <a:pt x="5414" y="1136"/>
                  </a:lnTo>
                  <a:lnTo>
                    <a:pt x="5369" y="1099"/>
                  </a:lnTo>
                  <a:lnTo>
                    <a:pt x="5324" y="1068"/>
                  </a:lnTo>
                  <a:lnTo>
                    <a:pt x="5278" y="1040"/>
                  </a:lnTo>
                  <a:lnTo>
                    <a:pt x="5232" y="1016"/>
                  </a:lnTo>
                  <a:lnTo>
                    <a:pt x="5185" y="996"/>
                  </a:lnTo>
                  <a:lnTo>
                    <a:pt x="5138" y="980"/>
                  </a:lnTo>
                  <a:lnTo>
                    <a:pt x="5091" y="968"/>
                  </a:lnTo>
                  <a:lnTo>
                    <a:pt x="5044" y="958"/>
                  </a:lnTo>
                  <a:lnTo>
                    <a:pt x="4998" y="951"/>
                  </a:lnTo>
                  <a:lnTo>
                    <a:pt x="4951" y="948"/>
                  </a:lnTo>
                  <a:lnTo>
                    <a:pt x="4906" y="945"/>
                  </a:lnTo>
                  <a:lnTo>
                    <a:pt x="4861" y="945"/>
                  </a:lnTo>
                  <a:lnTo>
                    <a:pt x="4818" y="948"/>
                  </a:lnTo>
                  <a:lnTo>
                    <a:pt x="4775" y="953"/>
                  </a:lnTo>
                  <a:lnTo>
                    <a:pt x="4735" y="958"/>
                  </a:lnTo>
                  <a:lnTo>
                    <a:pt x="4696" y="964"/>
                  </a:lnTo>
                  <a:lnTo>
                    <a:pt x="4660" y="971"/>
                  </a:lnTo>
                  <a:lnTo>
                    <a:pt x="4625" y="980"/>
                  </a:lnTo>
                  <a:lnTo>
                    <a:pt x="4592" y="989"/>
                  </a:lnTo>
                  <a:lnTo>
                    <a:pt x="4562" y="997"/>
                  </a:lnTo>
                  <a:lnTo>
                    <a:pt x="4511" y="1013"/>
                  </a:lnTo>
                  <a:lnTo>
                    <a:pt x="4471" y="1028"/>
                  </a:lnTo>
                  <a:lnTo>
                    <a:pt x="4446" y="1040"/>
                  </a:lnTo>
                  <a:lnTo>
                    <a:pt x="4436" y="1043"/>
                  </a:lnTo>
                  <a:lnTo>
                    <a:pt x="4432" y="1046"/>
                  </a:lnTo>
                  <a:lnTo>
                    <a:pt x="4428" y="1049"/>
                  </a:lnTo>
                  <a:lnTo>
                    <a:pt x="4424" y="1053"/>
                  </a:lnTo>
                  <a:lnTo>
                    <a:pt x="4422" y="1058"/>
                  </a:lnTo>
                  <a:lnTo>
                    <a:pt x="4419" y="1063"/>
                  </a:lnTo>
                  <a:lnTo>
                    <a:pt x="4418" y="1068"/>
                  </a:lnTo>
                  <a:lnTo>
                    <a:pt x="4417" y="1073"/>
                  </a:lnTo>
                  <a:lnTo>
                    <a:pt x="4417" y="1079"/>
                  </a:lnTo>
                  <a:lnTo>
                    <a:pt x="4432" y="1280"/>
                  </a:lnTo>
                  <a:lnTo>
                    <a:pt x="4440" y="1476"/>
                  </a:lnTo>
                  <a:lnTo>
                    <a:pt x="4440" y="1667"/>
                  </a:lnTo>
                  <a:lnTo>
                    <a:pt x="4434" y="1852"/>
                  </a:lnTo>
                  <a:lnTo>
                    <a:pt x="4423" y="2031"/>
                  </a:lnTo>
                  <a:lnTo>
                    <a:pt x="4404" y="2205"/>
                  </a:lnTo>
                  <a:lnTo>
                    <a:pt x="4382" y="2373"/>
                  </a:lnTo>
                  <a:lnTo>
                    <a:pt x="4355" y="2536"/>
                  </a:lnTo>
                  <a:lnTo>
                    <a:pt x="4322" y="2692"/>
                  </a:lnTo>
                  <a:lnTo>
                    <a:pt x="4286" y="2842"/>
                  </a:lnTo>
                  <a:lnTo>
                    <a:pt x="4247" y="2987"/>
                  </a:lnTo>
                  <a:lnTo>
                    <a:pt x="4206" y="3126"/>
                  </a:lnTo>
                  <a:lnTo>
                    <a:pt x="4161" y="3258"/>
                  </a:lnTo>
                  <a:lnTo>
                    <a:pt x="4114" y="3384"/>
                  </a:lnTo>
                  <a:lnTo>
                    <a:pt x="4065" y="3505"/>
                  </a:lnTo>
                  <a:lnTo>
                    <a:pt x="4017" y="3619"/>
                  </a:lnTo>
                  <a:lnTo>
                    <a:pt x="3967" y="3727"/>
                  </a:lnTo>
                  <a:lnTo>
                    <a:pt x="3916" y="3827"/>
                  </a:lnTo>
                  <a:lnTo>
                    <a:pt x="3867" y="3922"/>
                  </a:lnTo>
                  <a:lnTo>
                    <a:pt x="3818" y="4011"/>
                  </a:lnTo>
                  <a:lnTo>
                    <a:pt x="3770" y="4092"/>
                  </a:lnTo>
                  <a:lnTo>
                    <a:pt x="3724" y="4167"/>
                  </a:lnTo>
                  <a:lnTo>
                    <a:pt x="3680" y="4236"/>
                  </a:lnTo>
                  <a:lnTo>
                    <a:pt x="3638" y="4296"/>
                  </a:lnTo>
                  <a:lnTo>
                    <a:pt x="3600" y="4351"/>
                  </a:lnTo>
                  <a:lnTo>
                    <a:pt x="3565" y="4399"/>
                  </a:lnTo>
                  <a:lnTo>
                    <a:pt x="3534" y="4439"/>
                  </a:lnTo>
                  <a:lnTo>
                    <a:pt x="3508" y="4473"/>
                  </a:lnTo>
                  <a:lnTo>
                    <a:pt x="3469" y="4518"/>
                  </a:lnTo>
                  <a:lnTo>
                    <a:pt x="3454" y="4536"/>
                  </a:lnTo>
                  <a:lnTo>
                    <a:pt x="3411" y="4558"/>
                  </a:lnTo>
                  <a:lnTo>
                    <a:pt x="3367" y="4577"/>
                  </a:lnTo>
                  <a:lnTo>
                    <a:pt x="3324" y="4593"/>
                  </a:lnTo>
                  <a:lnTo>
                    <a:pt x="3282" y="4607"/>
                  </a:lnTo>
                  <a:lnTo>
                    <a:pt x="3241" y="4618"/>
                  </a:lnTo>
                  <a:lnTo>
                    <a:pt x="3201" y="4626"/>
                  </a:lnTo>
                  <a:lnTo>
                    <a:pt x="3181" y="4630"/>
                  </a:lnTo>
                  <a:lnTo>
                    <a:pt x="3162" y="4633"/>
                  </a:lnTo>
                  <a:lnTo>
                    <a:pt x="3143" y="4634"/>
                  </a:lnTo>
                  <a:lnTo>
                    <a:pt x="3124" y="4635"/>
                  </a:lnTo>
                  <a:lnTo>
                    <a:pt x="3104" y="4636"/>
                  </a:lnTo>
                  <a:lnTo>
                    <a:pt x="3085" y="4636"/>
                  </a:lnTo>
                  <a:lnTo>
                    <a:pt x="3068" y="4635"/>
                  </a:lnTo>
                  <a:lnTo>
                    <a:pt x="3049" y="4634"/>
                  </a:lnTo>
                  <a:lnTo>
                    <a:pt x="3032" y="4631"/>
                  </a:lnTo>
                  <a:lnTo>
                    <a:pt x="3013" y="4629"/>
                  </a:lnTo>
                  <a:lnTo>
                    <a:pt x="2996" y="4625"/>
                  </a:lnTo>
                  <a:lnTo>
                    <a:pt x="2980" y="4621"/>
                  </a:lnTo>
                  <a:lnTo>
                    <a:pt x="2963" y="4616"/>
                  </a:lnTo>
                  <a:lnTo>
                    <a:pt x="2946" y="4610"/>
                  </a:lnTo>
                  <a:lnTo>
                    <a:pt x="2929" y="4604"/>
                  </a:lnTo>
                  <a:lnTo>
                    <a:pt x="2914" y="4598"/>
                  </a:lnTo>
                  <a:lnTo>
                    <a:pt x="2898" y="4590"/>
                  </a:lnTo>
                  <a:lnTo>
                    <a:pt x="2882" y="4582"/>
                  </a:lnTo>
                  <a:lnTo>
                    <a:pt x="2867" y="4573"/>
                  </a:lnTo>
                  <a:lnTo>
                    <a:pt x="2852" y="4563"/>
                  </a:lnTo>
                  <a:lnTo>
                    <a:pt x="2797" y="4521"/>
                  </a:lnTo>
                  <a:lnTo>
                    <a:pt x="2748" y="4470"/>
                  </a:lnTo>
                  <a:lnTo>
                    <a:pt x="2703" y="4412"/>
                  </a:lnTo>
                  <a:lnTo>
                    <a:pt x="2662" y="4346"/>
                  </a:lnTo>
                  <a:lnTo>
                    <a:pt x="2625" y="4274"/>
                  </a:lnTo>
                  <a:lnTo>
                    <a:pt x="2591" y="4196"/>
                  </a:lnTo>
                  <a:lnTo>
                    <a:pt x="2560" y="4114"/>
                  </a:lnTo>
                  <a:lnTo>
                    <a:pt x="2534" y="4026"/>
                  </a:lnTo>
                  <a:lnTo>
                    <a:pt x="2511" y="3935"/>
                  </a:lnTo>
                  <a:lnTo>
                    <a:pt x="2489" y="3840"/>
                  </a:lnTo>
                  <a:lnTo>
                    <a:pt x="2472" y="3743"/>
                  </a:lnTo>
                  <a:lnTo>
                    <a:pt x="2457" y="3644"/>
                  </a:lnTo>
                  <a:lnTo>
                    <a:pt x="2445" y="3543"/>
                  </a:lnTo>
                  <a:lnTo>
                    <a:pt x="2435" y="3441"/>
                  </a:lnTo>
                  <a:lnTo>
                    <a:pt x="2427" y="3341"/>
                  </a:lnTo>
                  <a:lnTo>
                    <a:pt x="2421" y="3239"/>
                  </a:lnTo>
                  <a:lnTo>
                    <a:pt x="2416" y="3140"/>
                  </a:lnTo>
                  <a:lnTo>
                    <a:pt x="2414" y="3042"/>
                  </a:lnTo>
                  <a:lnTo>
                    <a:pt x="2412" y="2946"/>
                  </a:lnTo>
                  <a:lnTo>
                    <a:pt x="2412" y="2853"/>
                  </a:lnTo>
                  <a:lnTo>
                    <a:pt x="2414" y="2764"/>
                  </a:lnTo>
                  <a:lnTo>
                    <a:pt x="2415" y="2680"/>
                  </a:lnTo>
                  <a:lnTo>
                    <a:pt x="2417" y="2600"/>
                  </a:lnTo>
                  <a:lnTo>
                    <a:pt x="2421" y="2526"/>
                  </a:lnTo>
                  <a:lnTo>
                    <a:pt x="2427" y="2396"/>
                  </a:lnTo>
                  <a:lnTo>
                    <a:pt x="2435" y="2296"/>
                  </a:lnTo>
                  <a:lnTo>
                    <a:pt x="2440" y="2232"/>
                  </a:lnTo>
                  <a:lnTo>
                    <a:pt x="2442" y="2206"/>
                  </a:lnTo>
                  <a:lnTo>
                    <a:pt x="2441" y="2171"/>
                  </a:lnTo>
                  <a:lnTo>
                    <a:pt x="2440" y="2138"/>
                  </a:lnTo>
                  <a:lnTo>
                    <a:pt x="2439" y="2104"/>
                  </a:lnTo>
                  <a:lnTo>
                    <a:pt x="2435" y="2071"/>
                  </a:lnTo>
                  <a:lnTo>
                    <a:pt x="2431" y="2038"/>
                  </a:lnTo>
                  <a:lnTo>
                    <a:pt x="2427" y="2006"/>
                  </a:lnTo>
                  <a:lnTo>
                    <a:pt x="2422" y="1975"/>
                  </a:lnTo>
                  <a:lnTo>
                    <a:pt x="2417" y="1945"/>
                  </a:lnTo>
                  <a:lnTo>
                    <a:pt x="2406" y="1886"/>
                  </a:lnTo>
                  <a:lnTo>
                    <a:pt x="2393" y="1831"/>
                  </a:lnTo>
                  <a:lnTo>
                    <a:pt x="2378" y="1779"/>
                  </a:lnTo>
                  <a:lnTo>
                    <a:pt x="2364" y="1732"/>
                  </a:lnTo>
                  <a:lnTo>
                    <a:pt x="2349" y="1688"/>
                  </a:lnTo>
                  <a:lnTo>
                    <a:pt x="2334" y="1649"/>
                  </a:lnTo>
                  <a:lnTo>
                    <a:pt x="2321" y="1615"/>
                  </a:lnTo>
                  <a:lnTo>
                    <a:pt x="2308" y="1585"/>
                  </a:lnTo>
                  <a:lnTo>
                    <a:pt x="2288" y="1544"/>
                  </a:lnTo>
                  <a:lnTo>
                    <a:pt x="2280" y="1527"/>
                  </a:lnTo>
                  <a:lnTo>
                    <a:pt x="2251" y="1479"/>
                  </a:lnTo>
                  <a:lnTo>
                    <a:pt x="2221" y="1433"/>
                  </a:lnTo>
                  <a:lnTo>
                    <a:pt x="2191" y="1391"/>
                  </a:lnTo>
                  <a:lnTo>
                    <a:pt x="2159" y="1351"/>
                  </a:lnTo>
                  <a:lnTo>
                    <a:pt x="2142" y="1331"/>
                  </a:lnTo>
                  <a:lnTo>
                    <a:pt x="2126" y="1312"/>
                  </a:lnTo>
                  <a:lnTo>
                    <a:pt x="2108" y="1295"/>
                  </a:lnTo>
                  <a:lnTo>
                    <a:pt x="2091" y="1278"/>
                  </a:lnTo>
                  <a:lnTo>
                    <a:pt x="2072" y="1262"/>
                  </a:lnTo>
                  <a:lnTo>
                    <a:pt x="2055" y="1245"/>
                  </a:lnTo>
                  <a:lnTo>
                    <a:pt x="2036" y="1231"/>
                  </a:lnTo>
                  <a:lnTo>
                    <a:pt x="2018" y="1216"/>
                  </a:lnTo>
                  <a:lnTo>
                    <a:pt x="1999" y="1201"/>
                  </a:lnTo>
                  <a:lnTo>
                    <a:pt x="1979" y="1188"/>
                  </a:lnTo>
                  <a:lnTo>
                    <a:pt x="1959" y="1176"/>
                  </a:lnTo>
                  <a:lnTo>
                    <a:pt x="1939" y="1164"/>
                  </a:lnTo>
                  <a:lnTo>
                    <a:pt x="1919" y="1152"/>
                  </a:lnTo>
                  <a:lnTo>
                    <a:pt x="1900" y="1141"/>
                  </a:lnTo>
                  <a:lnTo>
                    <a:pt x="1878" y="1131"/>
                  </a:lnTo>
                  <a:lnTo>
                    <a:pt x="1857" y="1121"/>
                  </a:lnTo>
                  <a:lnTo>
                    <a:pt x="1836" y="1113"/>
                  </a:lnTo>
                  <a:lnTo>
                    <a:pt x="1814" y="1105"/>
                  </a:lnTo>
                  <a:lnTo>
                    <a:pt x="1792" y="1098"/>
                  </a:lnTo>
                  <a:lnTo>
                    <a:pt x="1770" y="1090"/>
                  </a:lnTo>
                  <a:lnTo>
                    <a:pt x="1747" y="1085"/>
                  </a:lnTo>
                  <a:lnTo>
                    <a:pt x="1725" y="1079"/>
                  </a:lnTo>
                  <a:lnTo>
                    <a:pt x="1701" y="1074"/>
                  </a:lnTo>
                  <a:lnTo>
                    <a:pt x="1679" y="1071"/>
                  </a:lnTo>
                  <a:lnTo>
                    <a:pt x="1619" y="1063"/>
                  </a:lnTo>
                  <a:lnTo>
                    <a:pt x="1558" y="1059"/>
                  </a:lnTo>
                  <a:lnTo>
                    <a:pt x="1499" y="1061"/>
                  </a:lnTo>
                  <a:lnTo>
                    <a:pt x="1439" y="1064"/>
                  </a:lnTo>
                  <a:lnTo>
                    <a:pt x="1378" y="1072"/>
                  </a:lnTo>
                  <a:lnTo>
                    <a:pt x="1318" y="1083"/>
                  </a:lnTo>
                  <a:lnTo>
                    <a:pt x="1259" y="1097"/>
                  </a:lnTo>
                  <a:lnTo>
                    <a:pt x="1199" y="1113"/>
                  </a:lnTo>
                  <a:lnTo>
                    <a:pt x="1141" y="1131"/>
                  </a:lnTo>
                  <a:lnTo>
                    <a:pt x="1084" y="1151"/>
                  </a:lnTo>
                  <a:lnTo>
                    <a:pt x="1027" y="1175"/>
                  </a:lnTo>
                  <a:lnTo>
                    <a:pt x="972" y="1198"/>
                  </a:lnTo>
                  <a:lnTo>
                    <a:pt x="917" y="1224"/>
                  </a:lnTo>
                  <a:lnTo>
                    <a:pt x="864" y="1250"/>
                  </a:lnTo>
                  <a:lnTo>
                    <a:pt x="812" y="1278"/>
                  </a:lnTo>
                  <a:lnTo>
                    <a:pt x="762" y="1306"/>
                  </a:lnTo>
                  <a:lnTo>
                    <a:pt x="714" y="1335"/>
                  </a:lnTo>
                  <a:lnTo>
                    <a:pt x="668" y="1363"/>
                  </a:lnTo>
                  <a:lnTo>
                    <a:pt x="623" y="1392"/>
                  </a:lnTo>
                  <a:lnTo>
                    <a:pt x="581" y="1420"/>
                  </a:lnTo>
                  <a:lnTo>
                    <a:pt x="504" y="1474"/>
                  </a:lnTo>
                  <a:lnTo>
                    <a:pt x="438" y="1523"/>
                  </a:lnTo>
                  <a:lnTo>
                    <a:pt x="382" y="1567"/>
                  </a:lnTo>
                  <a:lnTo>
                    <a:pt x="340" y="1602"/>
                  </a:lnTo>
                  <a:lnTo>
                    <a:pt x="311" y="1626"/>
                  </a:lnTo>
                  <a:lnTo>
                    <a:pt x="299" y="1639"/>
                  </a:lnTo>
                  <a:lnTo>
                    <a:pt x="267" y="1667"/>
                  </a:lnTo>
                  <a:lnTo>
                    <a:pt x="238" y="1692"/>
                  </a:lnTo>
                  <a:lnTo>
                    <a:pt x="212" y="1713"/>
                  </a:lnTo>
                  <a:lnTo>
                    <a:pt x="190" y="1732"/>
                  </a:lnTo>
                  <a:lnTo>
                    <a:pt x="169" y="1745"/>
                  </a:lnTo>
                  <a:lnTo>
                    <a:pt x="151" y="1758"/>
                  </a:lnTo>
                  <a:lnTo>
                    <a:pt x="136" y="1767"/>
                  </a:lnTo>
                  <a:lnTo>
                    <a:pt x="123" y="1773"/>
                  </a:lnTo>
                  <a:lnTo>
                    <a:pt x="111" y="1778"/>
                  </a:lnTo>
                  <a:lnTo>
                    <a:pt x="102" y="1781"/>
                  </a:lnTo>
                  <a:lnTo>
                    <a:pt x="94" y="1784"/>
                  </a:lnTo>
                  <a:lnTo>
                    <a:pt x="89" y="1784"/>
                  </a:lnTo>
                  <a:lnTo>
                    <a:pt x="82" y="1784"/>
                  </a:lnTo>
                  <a:lnTo>
                    <a:pt x="79" y="1783"/>
                  </a:lnTo>
                  <a:lnTo>
                    <a:pt x="75" y="1780"/>
                  </a:lnTo>
                  <a:lnTo>
                    <a:pt x="73" y="1775"/>
                  </a:lnTo>
                  <a:lnTo>
                    <a:pt x="71" y="1770"/>
                  </a:lnTo>
                  <a:lnTo>
                    <a:pt x="69" y="1763"/>
                  </a:lnTo>
                  <a:lnTo>
                    <a:pt x="68" y="1745"/>
                  </a:lnTo>
                  <a:lnTo>
                    <a:pt x="68" y="1723"/>
                  </a:lnTo>
                  <a:lnTo>
                    <a:pt x="72" y="1697"/>
                  </a:lnTo>
                  <a:lnTo>
                    <a:pt x="77" y="1669"/>
                  </a:lnTo>
                  <a:lnTo>
                    <a:pt x="83" y="1635"/>
                  </a:lnTo>
                  <a:lnTo>
                    <a:pt x="92" y="1599"/>
                  </a:lnTo>
                  <a:lnTo>
                    <a:pt x="102" y="1561"/>
                  </a:lnTo>
                  <a:lnTo>
                    <a:pt x="114" y="1520"/>
                  </a:lnTo>
                  <a:lnTo>
                    <a:pt x="128" y="1477"/>
                  </a:lnTo>
                  <a:lnTo>
                    <a:pt x="143" y="1433"/>
                  </a:lnTo>
                  <a:lnTo>
                    <a:pt x="159" y="1387"/>
                  </a:lnTo>
                  <a:lnTo>
                    <a:pt x="177" y="1341"/>
                  </a:lnTo>
                  <a:lnTo>
                    <a:pt x="196" y="1294"/>
                  </a:lnTo>
                  <a:lnTo>
                    <a:pt x="216" y="1245"/>
                  </a:lnTo>
                  <a:lnTo>
                    <a:pt x="267" y="1145"/>
                  </a:lnTo>
                  <a:lnTo>
                    <a:pt x="321" y="1052"/>
                  </a:lnTo>
                  <a:lnTo>
                    <a:pt x="380" y="966"/>
                  </a:lnTo>
                  <a:lnTo>
                    <a:pt x="442" y="889"/>
                  </a:lnTo>
                  <a:lnTo>
                    <a:pt x="506" y="817"/>
                  </a:lnTo>
                  <a:lnTo>
                    <a:pt x="573" y="754"/>
                  </a:lnTo>
                  <a:lnTo>
                    <a:pt x="643" y="696"/>
                  </a:lnTo>
                  <a:lnTo>
                    <a:pt x="715" y="645"/>
                  </a:lnTo>
                  <a:lnTo>
                    <a:pt x="787" y="599"/>
                  </a:lnTo>
                  <a:lnTo>
                    <a:pt x="860" y="558"/>
                  </a:lnTo>
                  <a:lnTo>
                    <a:pt x="935" y="523"/>
                  </a:lnTo>
                  <a:lnTo>
                    <a:pt x="1011" y="494"/>
                  </a:lnTo>
                  <a:lnTo>
                    <a:pt x="1085" y="468"/>
                  </a:lnTo>
                  <a:lnTo>
                    <a:pt x="1160" y="445"/>
                  </a:lnTo>
                  <a:lnTo>
                    <a:pt x="1233" y="428"/>
                  </a:lnTo>
                  <a:lnTo>
                    <a:pt x="1306" y="414"/>
                  </a:lnTo>
                  <a:lnTo>
                    <a:pt x="1377" y="403"/>
                  </a:lnTo>
                  <a:lnTo>
                    <a:pt x="1446" y="396"/>
                  </a:lnTo>
                  <a:lnTo>
                    <a:pt x="1513" y="391"/>
                  </a:lnTo>
                  <a:lnTo>
                    <a:pt x="1578" y="388"/>
                  </a:lnTo>
                  <a:lnTo>
                    <a:pt x="1639" y="387"/>
                  </a:lnTo>
                  <a:lnTo>
                    <a:pt x="1697" y="388"/>
                  </a:lnTo>
                  <a:lnTo>
                    <a:pt x="1752" y="391"/>
                  </a:lnTo>
                  <a:lnTo>
                    <a:pt x="1803" y="394"/>
                  </a:lnTo>
                  <a:lnTo>
                    <a:pt x="1849" y="399"/>
                  </a:lnTo>
                  <a:lnTo>
                    <a:pt x="1890" y="403"/>
                  </a:lnTo>
                  <a:lnTo>
                    <a:pt x="1926" y="409"/>
                  </a:lnTo>
                  <a:lnTo>
                    <a:pt x="1957" y="413"/>
                  </a:lnTo>
                  <a:lnTo>
                    <a:pt x="1999" y="422"/>
                  </a:lnTo>
                  <a:lnTo>
                    <a:pt x="2016" y="425"/>
                  </a:lnTo>
                  <a:lnTo>
                    <a:pt x="2061" y="454"/>
                  </a:lnTo>
                  <a:lnTo>
                    <a:pt x="2104" y="485"/>
                  </a:lnTo>
                  <a:lnTo>
                    <a:pt x="2147" y="516"/>
                  </a:lnTo>
                  <a:lnTo>
                    <a:pt x="2189" y="549"/>
                  </a:lnTo>
                  <a:lnTo>
                    <a:pt x="2229" y="584"/>
                  </a:lnTo>
                  <a:lnTo>
                    <a:pt x="2267" y="621"/>
                  </a:lnTo>
                  <a:lnTo>
                    <a:pt x="2306" y="659"/>
                  </a:lnTo>
                  <a:lnTo>
                    <a:pt x="2343" y="698"/>
                  </a:lnTo>
                  <a:lnTo>
                    <a:pt x="2378" y="738"/>
                  </a:lnTo>
                  <a:lnTo>
                    <a:pt x="2412" y="780"/>
                  </a:lnTo>
                  <a:lnTo>
                    <a:pt x="2445" y="824"/>
                  </a:lnTo>
                  <a:lnTo>
                    <a:pt x="2476" y="868"/>
                  </a:lnTo>
                  <a:lnTo>
                    <a:pt x="2507" y="914"/>
                  </a:lnTo>
                  <a:lnTo>
                    <a:pt x="2535" y="961"/>
                  </a:lnTo>
                  <a:lnTo>
                    <a:pt x="2563" y="1010"/>
                  </a:lnTo>
                  <a:lnTo>
                    <a:pt x="2589" y="1061"/>
                  </a:lnTo>
                  <a:lnTo>
                    <a:pt x="2594" y="1071"/>
                  </a:lnTo>
                  <a:lnTo>
                    <a:pt x="2607" y="1095"/>
                  </a:lnTo>
                  <a:lnTo>
                    <a:pt x="2625" y="1131"/>
                  </a:lnTo>
                  <a:lnTo>
                    <a:pt x="2646" y="1171"/>
                  </a:lnTo>
                  <a:lnTo>
                    <a:pt x="2666" y="1211"/>
                  </a:lnTo>
                  <a:lnTo>
                    <a:pt x="2684" y="1245"/>
                  </a:lnTo>
                  <a:lnTo>
                    <a:pt x="2697" y="1270"/>
                  </a:lnTo>
                  <a:lnTo>
                    <a:pt x="2702" y="1279"/>
                  </a:lnTo>
                  <a:lnTo>
                    <a:pt x="2713" y="1300"/>
                  </a:lnTo>
                  <a:lnTo>
                    <a:pt x="2740" y="1346"/>
                  </a:lnTo>
                  <a:lnTo>
                    <a:pt x="2759" y="1374"/>
                  </a:lnTo>
                  <a:lnTo>
                    <a:pt x="2782" y="1406"/>
                  </a:lnTo>
                  <a:lnTo>
                    <a:pt x="2809" y="1439"/>
                  </a:lnTo>
                  <a:lnTo>
                    <a:pt x="2837" y="1474"/>
                  </a:lnTo>
                  <a:lnTo>
                    <a:pt x="2853" y="1491"/>
                  </a:lnTo>
                  <a:lnTo>
                    <a:pt x="2871" y="1507"/>
                  </a:lnTo>
                  <a:lnTo>
                    <a:pt x="2888" y="1525"/>
                  </a:lnTo>
                  <a:lnTo>
                    <a:pt x="2907" y="1540"/>
                  </a:lnTo>
                  <a:lnTo>
                    <a:pt x="2925" y="1556"/>
                  </a:lnTo>
                  <a:lnTo>
                    <a:pt x="2945" y="1571"/>
                  </a:lnTo>
                  <a:lnTo>
                    <a:pt x="2965" y="1584"/>
                  </a:lnTo>
                  <a:lnTo>
                    <a:pt x="2987" y="1598"/>
                  </a:lnTo>
                  <a:lnTo>
                    <a:pt x="3008" y="1609"/>
                  </a:lnTo>
                  <a:lnTo>
                    <a:pt x="3031" y="1620"/>
                  </a:lnTo>
                  <a:lnTo>
                    <a:pt x="3054" y="1629"/>
                  </a:lnTo>
                  <a:lnTo>
                    <a:pt x="3078" y="1636"/>
                  </a:lnTo>
                  <a:lnTo>
                    <a:pt x="3103" y="1644"/>
                  </a:lnTo>
                  <a:lnTo>
                    <a:pt x="3128" y="1647"/>
                  </a:lnTo>
                  <a:lnTo>
                    <a:pt x="3154" y="1650"/>
                  </a:lnTo>
                  <a:lnTo>
                    <a:pt x="3180" y="165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755640" y="5081760"/>
              <a:ext cx="100080" cy="71280"/>
            </a:xfrm>
            <a:custGeom>
              <a:avLst/>
              <a:gdLst/>
              <a:ahLst/>
              <a:rect l="l" t="t" r="r" b="b"/>
              <a:pathLst>
                <a:path w="254" h="184">
                  <a:moveTo>
                    <a:pt x="5" y="18"/>
                  </a:moveTo>
                  <a:lnTo>
                    <a:pt x="3" y="23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4" y="54"/>
                  </a:lnTo>
                  <a:lnTo>
                    <a:pt x="9" y="61"/>
                  </a:lnTo>
                  <a:lnTo>
                    <a:pt x="17" y="67"/>
                  </a:lnTo>
                  <a:lnTo>
                    <a:pt x="199" y="179"/>
                  </a:lnTo>
                  <a:lnTo>
                    <a:pt x="205" y="181"/>
                  </a:lnTo>
                  <a:lnTo>
                    <a:pt x="213" y="184"/>
                  </a:lnTo>
                  <a:lnTo>
                    <a:pt x="219" y="184"/>
                  </a:lnTo>
                  <a:lnTo>
                    <a:pt x="226" y="183"/>
                  </a:lnTo>
                  <a:lnTo>
                    <a:pt x="233" y="180"/>
                  </a:lnTo>
                  <a:lnTo>
                    <a:pt x="239" y="177"/>
                  </a:lnTo>
                  <a:lnTo>
                    <a:pt x="244" y="173"/>
                  </a:lnTo>
                  <a:lnTo>
                    <a:pt x="247" y="167"/>
                  </a:lnTo>
                  <a:lnTo>
                    <a:pt x="250" y="163"/>
                  </a:lnTo>
                  <a:lnTo>
                    <a:pt x="252" y="158"/>
                  </a:lnTo>
                  <a:lnTo>
                    <a:pt x="252" y="153"/>
                  </a:lnTo>
                  <a:lnTo>
                    <a:pt x="254" y="148"/>
                  </a:lnTo>
                  <a:lnTo>
                    <a:pt x="252" y="139"/>
                  </a:lnTo>
                  <a:lnTo>
                    <a:pt x="249" y="131"/>
                  </a:lnTo>
                  <a:lnTo>
                    <a:pt x="244" y="123"/>
                  </a:lnTo>
                  <a:lnTo>
                    <a:pt x="236" y="118"/>
                  </a:lnTo>
                  <a:lnTo>
                    <a:pt x="236" y="118"/>
                  </a:lnTo>
                  <a:lnTo>
                    <a:pt x="54" y="7"/>
                  </a:lnTo>
                  <a:lnTo>
                    <a:pt x="48" y="3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9" y="13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870120" y="5340240"/>
              <a:ext cx="804600" cy="577800"/>
            </a:xfrm>
            <a:custGeom>
              <a:avLst/>
              <a:gdLst/>
              <a:ahLst/>
              <a:rect l="l" t="t" r="r" b="b"/>
              <a:pathLst>
                <a:path w="2030" h="1455">
                  <a:moveTo>
                    <a:pt x="0" y="0"/>
                  </a:moveTo>
                  <a:lnTo>
                    <a:pt x="18" y="12"/>
                  </a:lnTo>
                  <a:lnTo>
                    <a:pt x="67" y="46"/>
                  </a:lnTo>
                  <a:lnTo>
                    <a:pt x="100" y="72"/>
                  </a:lnTo>
                  <a:lnTo>
                    <a:pt x="140" y="105"/>
                  </a:lnTo>
                  <a:lnTo>
                    <a:pt x="183" y="142"/>
                  </a:lnTo>
                  <a:lnTo>
                    <a:pt x="229" y="185"/>
                  </a:lnTo>
                  <a:lnTo>
                    <a:pt x="254" y="209"/>
                  </a:lnTo>
                  <a:lnTo>
                    <a:pt x="279" y="235"/>
                  </a:lnTo>
                  <a:lnTo>
                    <a:pt x="305" y="261"/>
                  </a:lnTo>
                  <a:lnTo>
                    <a:pt x="330" y="290"/>
                  </a:lnTo>
                  <a:lnTo>
                    <a:pt x="356" y="319"/>
                  </a:lnTo>
                  <a:lnTo>
                    <a:pt x="382" y="350"/>
                  </a:lnTo>
                  <a:lnTo>
                    <a:pt x="408" y="384"/>
                  </a:lnTo>
                  <a:lnTo>
                    <a:pt x="434" y="417"/>
                  </a:lnTo>
                  <a:lnTo>
                    <a:pt x="460" y="453"/>
                  </a:lnTo>
                  <a:lnTo>
                    <a:pt x="485" y="490"/>
                  </a:lnTo>
                  <a:lnTo>
                    <a:pt x="510" y="530"/>
                  </a:lnTo>
                  <a:lnTo>
                    <a:pt x="535" y="570"/>
                  </a:lnTo>
                  <a:lnTo>
                    <a:pt x="558" y="612"/>
                  </a:lnTo>
                  <a:lnTo>
                    <a:pt x="581" y="656"/>
                  </a:lnTo>
                  <a:lnTo>
                    <a:pt x="603" y="700"/>
                  </a:lnTo>
                  <a:lnTo>
                    <a:pt x="624" y="746"/>
                  </a:lnTo>
                  <a:lnTo>
                    <a:pt x="632" y="762"/>
                  </a:lnTo>
                  <a:lnTo>
                    <a:pt x="650" y="807"/>
                  </a:lnTo>
                  <a:lnTo>
                    <a:pt x="665" y="837"/>
                  </a:lnTo>
                  <a:lnTo>
                    <a:pt x="683" y="871"/>
                  </a:lnTo>
                  <a:lnTo>
                    <a:pt x="704" y="910"/>
                  </a:lnTo>
                  <a:lnTo>
                    <a:pt x="727" y="951"/>
                  </a:lnTo>
                  <a:lnTo>
                    <a:pt x="753" y="993"/>
                  </a:lnTo>
                  <a:lnTo>
                    <a:pt x="783" y="1036"/>
                  </a:lnTo>
                  <a:lnTo>
                    <a:pt x="814" y="1079"/>
                  </a:lnTo>
                  <a:lnTo>
                    <a:pt x="850" y="1121"/>
                  </a:lnTo>
                  <a:lnTo>
                    <a:pt x="888" y="1162"/>
                  </a:lnTo>
                  <a:lnTo>
                    <a:pt x="927" y="1199"/>
                  </a:lnTo>
                  <a:lnTo>
                    <a:pt x="969" y="1232"/>
                  </a:lnTo>
                  <a:lnTo>
                    <a:pt x="1015" y="1262"/>
                  </a:lnTo>
                  <a:lnTo>
                    <a:pt x="1063" y="1286"/>
                  </a:lnTo>
                  <a:lnTo>
                    <a:pt x="1112" y="1303"/>
                  </a:lnTo>
                  <a:lnTo>
                    <a:pt x="1164" y="1314"/>
                  </a:lnTo>
                  <a:lnTo>
                    <a:pt x="1219" y="1317"/>
                  </a:lnTo>
                  <a:lnTo>
                    <a:pt x="1276" y="1311"/>
                  </a:lnTo>
                  <a:lnTo>
                    <a:pt x="1335" y="1294"/>
                  </a:lnTo>
                  <a:lnTo>
                    <a:pt x="1397" y="1267"/>
                  </a:lnTo>
                  <a:lnTo>
                    <a:pt x="1459" y="1229"/>
                  </a:lnTo>
                  <a:lnTo>
                    <a:pt x="1525" y="1178"/>
                  </a:lnTo>
                  <a:lnTo>
                    <a:pt x="1592" y="1113"/>
                  </a:lnTo>
                  <a:lnTo>
                    <a:pt x="1660" y="1035"/>
                  </a:lnTo>
                  <a:lnTo>
                    <a:pt x="1731" y="942"/>
                  </a:lnTo>
                  <a:lnTo>
                    <a:pt x="1803" y="833"/>
                  </a:lnTo>
                  <a:lnTo>
                    <a:pt x="1877" y="706"/>
                  </a:lnTo>
                  <a:lnTo>
                    <a:pt x="1953" y="562"/>
                  </a:lnTo>
                  <a:lnTo>
                    <a:pt x="2030" y="400"/>
                  </a:lnTo>
                  <a:lnTo>
                    <a:pt x="2018" y="426"/>
                  </a:lnTo>
                  <a:lnTo>
                    <a:pt x="1982" y="498"/>
                  </a:lnTo>
                  <a:lnTo>
                    <a:pt x="1928" y="605"/>
                  </a:lnTo>
                  <a:lnTo>
                    <a:pt x="1861" y="735"/>
                  </a:lnTo>
                  <a:lnTo>
                    <a:pt x="1787" y="878"/>
                  </a:lnTo>
                  <a:lnTo>
                    <a:pt x="1708" y="1022"/>
                  </a:lnTo>
                  <a:lnTo>
                    <a:pt x="1670" y="1090"/>
                  </a:lnTo>
                  <a:lnTo>
                    <a:pt x="1631" y="1154"/>
                  </a:lnTo>
                  <a:lnTo>
                    <a:pt x="1595" y="1214"/>
                  </a:lnTo>
                  <a:lnTo>
                    <a:pt x="1562" y="1266"/>
                  </a:lnTo>
                  <a:lnTo>
                    <a:pt x="1556" y="1273"/>
                  </a:lnTo>
                  <a:lnTo>
                    <a:pt x="1539" y="1292"/>
                  </a:lnTo>
                  <a:lnTo>
                    <a:pt x="1528" y="1306"/>
                  </a:lnTo>
                  <a:lnTo>
                    <a:pt x="1513" y="1319"/>
                  </a:lnTo>
                  <a:lnTo>
                    <a:pt x="1496" y="1335"/>
                  </a:lnTo>
                  <a:lnTo>
                    <a:pt x="1477" y="1352"/>
                  </a:lnTo>
                  <a:lnTo>
                    <a:pt x="1456" y="1368"/>
                  </a:lnTo>
                  <a:lnTo>
                    <a:pt x="1433" y="1384"/>
                  </a:lnTo>
                  <a:lnTo>
                    <a:pt x="1407" y="1400"/>
                  </a:lnTo>
                  <a:lnTo>
                    <a:pt x="1379" y="1415"/>
                  </a:lnTo>
                  <a:lnTo>
                    <a:pt x="1351" y="1427"/>
                  </a:lnTo>
                  <a:lnTo>
                    <a:pt x="1318" y="1438"/>
                  </a:lnTo>
                  <a:lnTo>
                    <a:pt x="1286" y="1447"/>
                  </a:lnTo>
                  <a:lnTo>
                    <a:pt x="1251" y="1453"/>
                  </a:lnTo>
                  <a:lnTo>
                    <a:pt x="1215" y="1455"/>
                  </a:lnTo>
                  <a:lnTo>
                    <a:pt x="1178" y="1453"/>
                  </a:lnTo>
                  <a:lnTo>
                    <a:pt x="1138" y="1448"/>
                  </a:lnTo>
                  <a:lnTo>
                    <a:pt x="1099" y="1437"/>
                  </a:lnTo>
                  <a:lnTo>
                    <a:pt x="1056" y="1422"/>
                  </a:lnTo>
                  <a:lnTo>
                    <a:pt x="1014" y="1401"/>
                  </a:lnTo>
                  <a:lnTo>
                    <a:pt x="969" y="1374"/>
                  </a:lnTo>
                  <a:lnTo>
                    <a:pt x="925" y="1339"/>
                  </a:lnTo>
                  <a:lnTo>
                    <a:pt x="879" y="1299"/>
                  </a:lnTo>
                  <a:lnTo>
                    <a:pt x="832" y="1251"/>
                  </a:lnTo>
                  <a:lnTo>
                    <a:pt x="784" y="1195"/>
                  </a:lnTo>
                  <a:lnTo>
                    <a:pt x="736" y="1131"/>
                  </a:lnTo>
                  <a:lnTo>
                    <a:pt x="688" y="1057"/>
                  </a:lnTo>
                  <a:lnTo>
                    <a:pt x="638" y="976"/>
                  </a:lnTo>
                  <a:lnTo>
                    <a:pt x="588" y="883"/>
                  </a:lnTo>
                  <a:lnTo>
                    <a:pt x="537" y="781"/>
                  </a:lnTo>
                  <a:lnTo>
                    <a:pt x="527" y="760"/>
                  </a:lnTo>
                  <a:lnTo>
                    <a:pt x="498" y="703"/>
                  </a:lnTo>
                  <a:lnTo>
                    <a:pt x="477" y="663"/>
                  </a:lnTo>
                  <a:lnTo>
                    <a:pt x="450" y="616"/>
                  </a:lnTo>
                  <a:lnTo>
                    <a:pt x="419" y="565"/>
                  </a:lnTo>
                  <a:lnTo>
                    <a:pt x="386" y="508"/>
                  </a:lnTo>
                  <a:lnTo>
                    <a:pt x="349" y="448"/>
                  </a:lnTo>
                  <a:lnTo>
                    <a:pt x="308" y="385"/>
                  </a:lnTo>
                  <a:lnTo>
                    <a:pt x="263" y="321"/>
                  </a:lnTo>
                  <a:lnTo>
                    <a:pt x="216" y="255"/>
                  </a:lnTo>
                  <a:lnTo>
                    <a:pt x="191" y="221"/>
                  </a:lnTo>
                  <a:lnTo>
                    <a:pt x="166" y="189"/>
                  </a:lnTo>
                  <a:lnTo>
                    <a:pt x="140" y="157"/>
                  </a:lnTo>
                  <a:lnTo>
                    <a:pt x="113" y="124"/>
                  </a:lnTo>
                  <a:lnTo>
                    <a:pt x="85" y="92"/>
                  </a:lnTo>
                  <a:lnTo>
                    <a:pt x="58" y="61"/>
                  </a:lnTo>
                  <a:lnTo>
                    <a:pt x="29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1076400" y="5925960"/>
              <a:ext cx="633240" cy="587520"/>
            </a:xfrm>
            <a:custGeom>
              <a:avLst/>
              <a:gdLst/>
              <a:ahLst/>
              <a:rect l="l" t="t" r="r" b="b"/>
              <a:pathLst>
                <a:path w="1596" h="1479">
                  <a:moveTo>
                    <a:pt x="0" y="365"/>
                  </a:moveTo>
                  <a:lnTo>
                    <a:pt x="5" y="395"/>
                  </a:lnTo>
                  <a:lnTo>
                    <a:pt x="23" y="477"/>
                  </a:lnTo>
                  <a:lnTo>
                    <a:pt x="36" y="533"/>
                  </a:lnTo>
                  <a:lnTo>
                    <a:pt x="51" y="597"/>
                  </a:lnTo>
                  <a:lnTo>
                    <a:pt x="71" y="668"/>
                  </a:lnTo>
                  <a:lnTo>
                    <a:pt x="93" y="744"/>
                  </a:lnTo>
                  <a:lnTo>
                    <a:pt x="118" y="824"/>
                  </a:lnTo>
                  <a:lnTo>
                    <a:pt x="146" y="905"/>
                  </a:lnTo>
                  <a:lnTo>
                    <a:pt x="178" y="987"/>
                  </a:lnTo>
                  <a:lnTo>
                    <a:pt x="211" y="1067"/>
                  </a:lnTo>
                  <a:lnTo>
                    <a:pt x="250" y="1146"/>
                  </a:lnTo>
                  <a:lnTo>
                    <a:pt x="290" y="1219"/>
                  </a:lnTo>
                  <a:lnTo>
                    <a:pt x="334" y="1287"/>
                  </a:lnTo>
                  <a:lnTo>
                    <a:pt x="381" y="1347"/>
                  </a:lnTo>
                  <a:lnTo>
                    <a:pt x="431" y="1397"/>
                  </a:lnTo>
                  <a:lnTo>
                    <a:pt x="486" y="1437"/>
                  </a:lnTo>
                  <a:lnTo>
                    <a:pt x="543" y="1466"/>
                  </a:lnTo>
                  <a:lnTo>
                    <a:pt x="602" y="1479"/>
                  </a:lnTo>
                  <a:lnTo>
                    <a:pt x="667" y="1478"/>
                  </a:lnTo>
                  <a:lnTo>
                    <a:pt x="734" y="1461"/>
                  </a:lnTo>
                  <a:lnTo>
                    <a:pt x="804" y="1423"/>
                  </a:lnTo>
                  <a:lnTo>
                    <a:pt x="878" y="1366"/>
                  </a:lnTo>
                  <a:lnTo>
                    <a:pt x="955" y="1288"/>
                  </a:lnTo>
                  <a:lnTo>
                    <a:pt x="1036" y="1186"/>
                  </a:lnTo>
                  <a:lnTo>
                    <a:pt x="1120" y="1060"/>
                  </a:lnTo>
                  <a:lnTo>
                    <a:pt x="1208" y="907"/>
                  </a:lnTo>
                  <a:lnTo>
                    <a:pt x="1300" y="726"/>
                  </a:lnTo>
                  <a:lnTo>
                    <a:pt x="1395" y="516"/>
                  </a:lnTo>
                  <a:lnTo>
                    <a:pt x="1494" y="275"/>
                  </a:lnTo>
                  <a:lnTo>
                    <a:pt x="1596" y="0"/>
                  </a:lnTo>
                  <a:lnTo>
                    <a:pt x="1585" y="29"/>
                  </a:lnTo>
                  <a:lnTo>
                    <a:pt x="1552" y="108"/>
                  </a:lnTo>
                  <a:lnTo>
                    <a:pt x="1529" y="164"/>
                  </a:lnTo>
                  <a:lnTo>
                    <a:pt x="1500" y="227"/>
                  </a:lnTo>
                  <a:lnTo>
                    <a:pt x="1468" y="298"/>
                  </a:lnTo>
                  <a:lnTo>
                    <a:pt x="1432" y="374"/>
                  </a:lnTo>
                  <a:lnTo>
                    <a:pt x="1392" y="456"/>
                  </a:lnTo>
                  <a:lnTo>
                    <a:pt x="1348" y="539"/>
                  </a:lnTo>
                  <a:lnTo>
                    <a:pt x="1302" y="624"/>
                  </a:lnTo>
                  <a:lnTo>
                    <a:pt x="1251" y="710"/>
                  </a:lnTo>
                  <a:lnTo>
                    <a:pt x="1199" y="794"/>
                  </a:lnTo>
                  <a:lnTo>
                    <a:pt x="1143" y="876"/>
                  </a:lnTo>
                  <a:lnTo>
                    <a:pt x="1086" y="954"/>
                  </a:lnTo>
                  <a:lnTo>
                    <a:pt x="1026" y="1028"/>
                  </a:lnTo>
                  <a:lnTo>
                    <a:pt x="964" y="1095"/>
                  </a:lnTo>
                  <a:lnTo>
                    <a:pt x="900" y="1153"/>
                  </a:lnTo>
                  <a:lnTo>
                    <a:pt x="837" y="1201"/>
                  </a:lnTo>
                  <a:lnTo>
                    <a:pt x="771" y="1240"/>
                  </a:lnTo>
                  <a:lnTo>
                    <a:pt x="706" y="1266"/>
                  </a:lnTo>
                  <a:lnTo>
                    <a:pt x="638" y="1278"/>
                  </a:lnTo>
                  <a:lnTo>
                    <a:pt x="573" y="1277"/>
                  </a:lnTo>
                  <a:lnTo>
                    <a:pt x="506" y="1258"/>
                  </a:lnTo>
                  <a:lnTo>
                    <a:pt x="439" y="1222"/>
                  </a:lnTo>
                  <a:lnTo>
                    <a:pt x="373" y="1168"/>
                  </a:lnTo>
                  <a:lnTo>
                    <a:pt x="307" y="1093"/>
                  </a:lnTo>
                  <a:lnTo>
                    <a:pt x="242" y="995"/>
                  </a:lnTo>
                  <a:lnTo>
                    <a:pt x="179" y="876"/>
                  </a:lnTo>
                  <a:lnTo>
                    <a:pt x="118" y="732"/>
                  </a:lnTo>
                  <a:lnTo>
                    <a:pt x="57" y="562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347760" y="3492360"/>
              <a:ext cx="826920" cy="436680"/>
            </a:xfrm>
            <a:custGeom>
              <a:avLst/>
              <a:gdLst/>
              <a:ahLst/>
              <a:rect l="l" t="t" r="r" b="b"/>
              <a:pathLst>
                <a:path w="2085" h="1099">
                  <a:moveTo>
                    <a:pt x="2085" y="564"/>
                  </a:moveTo>
                  <a:lnTo>
                    <a:pt x="2080" y="557"/>
                  </a:lnTo>
                  <a:lnTo>
                    <a:pt x="2065" y="533"/>
                  </a:lnTo>
                  <a:lnTo>
                    <a:pt x="2053" y="516"/>
                  </a:lnTo>
                  <a:lnTo>
                    <a:pt x="2039" y="497"/>
                  </a:lnTo>
                  <a:lnTo>
                    <a:pt x="2022" y="475"/>
                  </a:lnTo>
                  <a:lnTo>
                    <a:pt x="2002" y="451"/>
                  </a:lnTo>
                  <a:lnTo>
                    <a:pt x="1979" y="427"/>
                  </a:lnTo>
                  <a:lnTo>
                    <a:pt x="1952" y="399"/>
                  </a:lnTo>
                  <a:lnTo>
                    <a:pt x="1923" y="372"/>
                  </a:lnTo>
                  <a:lnTo>
                    <a:pt x="1890" y="342"/>
                  </a:lnTo>
                  <a:lnTo>
                    <a:pt x="1854" y="314"/>
                  </a:lnTo>
                  <a:lnTo>
                    <a:pt x="1815" y="285"/>
                  </a:lnTo>
                  <a:lnTo>
                    <a:pt x="1772" y="255"/>
                  </a:lnTo>
                  <a:lnTo>
                    <a:pt x="1725" y="228"/>
                  </a:lnTo>
                  <a:lnTo>
                    <a:pt x="1676" y="201"/>
                  </a:lnTo>
                  <a:lnTo>
                    <a:pt x="1621" y="175"/>
                  </a:lnTo>
                  <a:lnTo>
                    <a:pt x="1564" y="150"/>
                  </a:lnTo>
                  <a:lnTo>
                    <a:pt x="1502" y="128"/>
                  </a:lnTo>
                  <a:lnTo>
                    <a:pt x="1436" y="108"/>
                  </a:lnTo>
                  <a:lnTo>
                    <a:pt x="1366" y="90"/>
                  </a:lnTo>
                  <a:lnTo>
                    <a:pt x="1293" y="77"/>
                  </a:lnTo>
                  <a:lnTo>
                    <a:pt x="1215" y="66"/>
                  </a:lnTo>
                  <a:lnTo>
                    <a:pt x="1133" y="58"/>
                  </a:lnTo>
                  <a:lnTo>
                    <a:pt x="1046" y="54"/>
                  </a:lnTo>
                  <a:lnTo>
                    <a:pt x="955" y="56"/>
                  </a:lnTo>
                  <a:lnTo>
                    <a:pt x="858" y="62"/>
                  </a:lnTo>
                  <a:lnTo>
                    <a:pt x="759" y="73"/>
                  </a:lnTo>
                  <a:lnTo>
                    <a:pt x="654" y="88"/>
                  </a:lnTo>
                  <a:lnTo>
                    <a:pt x="544" y="110"/>
                  </a:lnTo>
                  <a:lnTo>
                    <a:pt x="429" y="139"/>
                  </a:lnTo>
                  <a:lnTo>
                    <a:pt x="423" y="140"/>
                  </a:lnTo>
                  <a:lnTo>
                    <a:pt x="402" y="145"/>
                  </a:lnTo>
                  <a:lnTo>
                    <a:pt x="387" y="148"/>
                  </a:lnTo>
                  <a:lnTo>
                    <a:pt x="369" y="148"/>
                  </a:lnTo>
                  <a:lnTo>
                    <a:pt x="348" y="148"/>
                  </a:lnTo>
                  <a:lnTo>
                    <a:pt x="323" y="145"/>
                  </a:lnTo>
                  <a:lnTo>
                    <a:pt x="297" y="140"/>
                  </a:lnTo>
                  <a:lnTo>
                    <a:pt x="267" y="133"/>
                  </a:lnTo>
                  <a:lnTo>
                    <a:pt x="251" y="128"/>
                  </a:lnTo>
                  <a:lnTo>
                    <a:pt x="234" y="121"/>
                  </a:lnTo>
                  <a:lnTo>
                    <a:pt x="218" y="115"/>
                  </a:lnTo>
                  <a:lnTo>
                    <a:pt x="199" y="107"/>
                  </a:lnTo>
                  <a:lnTo>
                    <a:pt x="180" y="98"/>
                  </a:lnTo>
                  <a:lnTo>
                    <a:pt x="162" y="88"/>
                  </a:lnTo>
                  <a:lnTo>
                    <a:pt x="142" y="77"/>
                  </a:lnTo>
                  <a:lnTo>
                    <a:pt x="122" y="64"/>
                  </a:lnTo>
                  <a:lnTo>
                    <a:pt x="101" y="49"/>
                  </a:lnTo>
                  <a:lnTo>
                    <a:pt x="79" y="35"/>
                  </a:lnTo>
                  <a:lnTo>
                    <a:pt x="56" y="18"/>
                  </a:lnTo>
                  <a:lnTo>
                    <a:pt x="34" y="0"/>
                  </a:lnTo>
                  <a:lnTo>
                    <a:pt x="29" y="11"/>
                  </a:lnTo>
                  <a:lnTo>
                    <a:pt x="17" y="43"/>
                  </a:lnTo>
                  <a:lnTo>
                    <a:pt x="9" y="67"/>
                  </a:lnTo>
                  <a:lnTo>
                    <a:pt x="4" y="94"/>
                  </a:lnTo>
                  <a:lnTo>
                    <a:pt x="2" y="109"/>
                  </a:lnTo>
                  <a:lnTo>
                    <a:pt x="0" y="126"/>
                  </a:lnTo>
                  <a:lnTo>
                    <a:pt x="0" y="144"/>
                  </a:lnTo>
                  <a:lnTo>
                    <a:pt x="0" y="162"/>
                  </a:lnTo>
                  <a:lnTo>
                    <a:pt x="2" y="182"/>
                  </a:lnTo>
                  <a:lnTo>
                    <a:pt x="4" y="202"/>
                  </a:lnTo>
                  <a:lnTo>
                    <a:pt x="8" y="223"/>
                  </a:lnTo>
                  <a:lnTo>
                    <a:pt x="13" y="246"/>
                  </a:lnTo>
                  <a:lnTo>
                    <a:pt x="19" y="268"/>
                  </a:lnTo>
                  <a:lnTo>
                    <a:pt x="27" y="293"/>
                  </a:lnTo>
                  <a:lnTo>
                    <a:pt x="36" y="316"/>
                  </a:lnTo>
                  <a:lnTo>
                    <a:pt x="48" y="341"/>
                  </a:lnTo>
                  <a:lnTo>
                    <a:pt x="61" y="367"/>
                  </a:lnTo>
                  <a:lnTo>
                    <a:pt x="76" y="394"/>
                  </a:lnTo>
                  <a:lnTo>
                    <a:pt x="94" y="422"/>
                  </a:lnTo>
                  <a:lnTo>
                    <a:pt x="112" y="449"/>
                  </a:lnTo>
                  <a:lnTo>
                    <a:pt x="135" y="478"/>
                  </a:lnTo>
                  <a:lnTo>
                    <a:pt x="159" y="506"/>
                  </a:lnTo>
                  <a:lnTo>
                    <a:pt x="185" y="535"/>
                  </a:lnTo>
                  <a:lnTo>
                    <a:pt x="215" y="564"/>
                  </a:lnTo>
                  <a:lnTo>
                    <a:pt x="224" y="574"/>
                  </a:lnTo>
                  <a:lnTo>
                    <a:pt x="246" y="599"/>
                  </a:lnTo>
                  <a:lnTo>
                    <a:pt x="282" y="639"/>
                  </a:lnTo>
                  <a:lnTo>
                    <a:pt x="332" y="687"/>
                  </a:lnTo>
                  <a:lnTo>
                    <a:pt x="361" y="715"/>
                  </a:lnTo>
                  <a:lnTo>
                    <a:pt x="392" y="743"/>
                  </a:lnTo>
                  <a:lnTo>
                    <a:pt x="426" y="774"/>
                  </a:lnTo>
                  <a:lnTo>
                    <a:pt x="462" y="804"/>
                  </a:lnTo>
                  <a:lnTo>
                    <a:pt x="502" y="835"/>
                  </a:lnTo>
                  <a:lnTo>
                    <a:pt x="543" y="866"/>
                  </a:lnTo>
                  <a:lnTo>
                    <a:pt x="585" y="897"/>
                  </a:lnTo>
                  <a:lnTo>
                    <a:pt x="631" y="927"/>
                  </a:lnTo>
                  <a:lnTo>
                    <a:pt x="677" y="955"/>
                  </a:lnTo>
                  <a:lnTo>
                    <a:pt x="726" y="982"/>
                  </a:lnTo>
                  <a:lnTo>
                    <a:pt x="775" y="1007"/>
                  </a:lnTo>
                  <a:lnTo>
                    <a:pt x="826" y="1031"/>
                  </a:lnTo>
                  <a:lnTo>
                    <a:pt x="878" y="1051"/>
                  </a:lnTo>
                  <a:lnTo>
                    <a:pt x="932" y="1068"/>
                  </a:lnTo>
                  <a:lnTo>
                    <a:pt x="985" y="1082"/>
                  </a:lnTo>
                  <a:lnTo>
                    <a:pt x="1040" y="1092"/>
                  </a:lnTo>
                  <a:lnTo>
                    <a:pt x="1096" y="1098"/>
                  </a:lnTo>
                  <a:lnTo>
                    <a:pt x="1152" y="1099"/>
                  </a:lnTo>
                  <a:lnTo>
                    <a:pt x="1207" y="1095"/>
                  </a:lnTo>
                  <a:lnTo>
                    <a:pt x="1263" y="1087"/>
                  </a:lnTo>
                  <a:lnTo>
                    <a:pt x="1319" y="1073"/>
                  </a:lnTo>
                  <a:lnTo>
                    <a:pt x="1375" y="1052"/>
                  </a:lnTo>
                  <a:lnTo>
                    <a:pt x="1431" y="1026"/>
                  </a:lnTo>
                  <a:lnTo>
                    <a:pt x="1487" y="992"/>
                  </a:lnTo>
                  <a:lnTo>
                    <a:pt x="1504" y="994"/>
                  </a:lnTo>
                  <a:lnTo>
                    <a:pt x="1555" y="995"/>
                  </a:lnTo>
                  <a:lnTo>
                    <a:pt x="1571" y="994"/>
                  </a:lnTo>
                  <a:lnTo>
                    <a:pt x="1589" y="992"/>
                  </a:lnTo>
                  <a:lnTo>
                    <a:pt x="1607" y="990"/>
                  </a:lnTo>
                  <a:lnTo>
                    <a:pt x="1628" y="986"/>
                  </a:lnTo>
                  <a:lnTo>
                    <a:pt x="1649" y="982"/>
                  </a:lnTo>
                  <a:lnTo>
                    <a:pt x="1671" y="978"/>
                  </a:lnTo>
                  <a:lnTo>
                    <a:pt x="1694" y="970"/>
                  </a:lnTo>
                  <a:lnTo>
                    <a:pt x="1718" y="963"/>
                  </a:lnTo>
                  <a:lnTo>
                    <a:pt x="1741" y="954"/>
                  </a:lnTo>
                  <a:lnTo>
                    <a:pt x="1766" y="943"/>
                  </a:lnTo>
                  <a:lnTo>
                    <a:pt x="1791" y="930"/>
                  </a:lnTo>
                  <a:lnTo>
                    <a:pt x="1816" y="915"/>
                  </a:lnTo>
                  <a:lnTo>
                    <a:pt x="1841" y="899"/>
                  </a:lnTo>
                  <a:lnTo>
                    <a:pt x="1866" y="882"/>
                  </a:lnTo>
                  <a:lnTo>
                    <a:pt x="1890" y="861"/>
                  </a:lnTo>
                  <a:lnTo>
                    <a:pt x="1915" y="839"/>
                  </a:lnTo>
                  <a:lnTo>
                    <a:pt x="1939" y="814"/>
                  </a:lnTo>
                  <a:lnTo>
                    <a:pt x="1962" y="786"/>
                  </a:lnTo>
                  <a:lnTo>
                    <a:pt x="1985" y="757"/>
                  </a:lnTo>
                  <a:lnTo>
                    <a:pt x="2007" y="724"/>
                  </a:lnTo>
                  <a:lnTo>
                    <a:pt x="2028" y="688"/>
                  </a:lnTo>
                  <a:lnTo>
                    <a:pt x="2048" y="651"/>
                  </a:lnTo>
                  <a:lnTo>
                    <a:pt x="2067" y="609"/>
                  </a:lnTo>
                  <a:lnTo>
                    <a:pt x="2085" y="56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333360" y="3478320"/>
              <a:ext cx="855720" cy="463320"/>
            </a:xfrm>
            <a:custGeom>
              <a:avLst/>
              <a:gdLst/>
              <a:ahLst/>
              <a:rect l="l" t="t" r="r" b="b"/>
              <a:pathLst>
                <a:path w="2156" h="1167">
                  <a:moveTo>
                    <a:pt x="64" y="0"/>
                  </a:moveTo>
                  <a:lnTo>
                    <a:pt x="56" y="2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40" y="17"/>
                  </a:lnTo>
                  <a:lnTo>
                    <a:pt x="36" y="22"/>
                  </a:lnTo>
                  <a:lnTo>
                    <a:pt x="31" y="32"/>
                  </a:lnTo>
                  <a:lnTo>
                    <a:pt x="25" y="48"/>
                  </a:lnTo>
                  <a:lnTo>
                    <a:pt x="18" y="69"/>
                  </a:lnTo>
                  <a:lnTo>
                    <a:pt x="10" y="95"/>
                  </a:lnTo>
                  <a:lnTo>
                    <a:pt x="4" y="126"/>
                  </a:lnTo>
                  <a:lnTo>
                    <a:pt x="2" y="143"/>
                  </a:lnTo>
                  <a:lnTo>
                    <a:pt x="0" y="161"/>
                  </a:lnTo>
                  <a:lnTo>
                    <a:pt x="0" y="180"/>
                  </a:lnTo>
                  <a:lnTo>
                    <a:pt x="0" y="200"/>
                  </a:lnTo>
                  <a:lnTo>
                    <a:pt x="2" y="221"/>
                  </a:lnTo>
                  <a:lnTo>
                    <a:pt x="4" y="243"/>
                  </a:lnTo>
                  <a:lnTo>
                    <a:pt x="8" y="265"/>
                  </a:lnTo>
                  <a:lnTo>
                    <a:pt x="13" y="289"/>
                  </a:lnTo>
                  <a:lnTo>
                    <a:pt x="20" y="314"/>
                  </a:lnTo>
                  <a:lnTo>
                    <a:pt x="28" y="339"/>
                  </a:lnTo>
                  <a:lnTo>
                    <a:pt x="38" y="365"/>
                  </a:lnTo>
                  <a:lnTo>
                    <a:pt x="50" y="391"/>
                  </a:lnTo>
                  <a:lnTo>
                    <a:pt x="64" y="418"/>
                  </a:lnTo>
                  <a:lnTo>
                    <a:pt x="80" y="447"/>
                  </a:lnTo>
                  <a:lnTo>
                    <a:pt x="99" y="475"/>
                  </a:lnTo>
                  <a:lnTo>
                    <a:pt x="118" y="505"/>
                  </a:lnTo>
                  <a:lnTo>
                    <a:pt x="142" y="535"/>
                  </a:lnTo>
                  <a:lnTo>
                    <a:pt x="167" y="564"/>
                  </a:lnTo>
                  <a:lnTo>
                    <a:pt x="195" y="595"/>
                  </a:lnTo>
                  <a:lnTo>
                    <a:pt x="226" y="626"/>
                  </a:lnTo>
                  <a:lnTo>
                    <a:pt x="235" y="636"/>
                  </a:lnTo>
                  <a:lnTo>
                    <a:pt x="259" y="662"/>
                  </a:lnTo>
                  <a:lnTo>
                    <a:pt x="297" y="702"/>
                  </a:lnTo>
                  <a:lnTo>
                    <a:pt x="347" y="752"/>
                  </a:lnTo>
                  <a:lnTo>
                    <a:pt x="377" y="779"/>
                  </a:lnTo>
                  <a:lnTo>
                    <a:pt x="409" y="809"/>
                  </a:lnTo>
                  <a:lnTo>
                    <a:pt x="444" y="839"/>
                  </a:lnTo>
                  <a:lnTo>
                    <a:pt x="481" y="870"/>
                  </a:lnTo>
                  <a:lnTo>
                    <a:pt x="521" y="901"/>
                  </a:lnTo>
                  <a:lnTo>
                    <a:pt x="563" y="932"/>
                  </a:lnTo>
                  <a:lnTo>
                    <a:pt x="608" y="963"/>
                  </a:lnTo>
                  <a:lnTo>
                    <a:pt x="654" y="992"/>
                  </a:lnTo>
                  <a:lnTo>
                    <a:pt x="701" y="1021"/>
                  </a:lnTo>
                  <a:lnTo>
                    <a:pt x="750" y="1048"/>
                  </a:lnTo>
                  <a:lnTo>
                    <a:pt x="800" y="1074"/>
                  </a:lnTo>
                  <a:lnTo>
                    <a:pt x="852" y="1098"/>
                  </a:lnTo>
                  <a:lnTo>
                    <a:pt x="906" y="1118"/>
                  </a:lnTo>
                  <a:lnTo>
                    <a:pt x="960" y="1135"/>
                  </a:lnTo>
                  <a:lnTo>
                    <a:pt x="1015" y="1150"/>
                  </a:lnTo>
                  <a:lnTo>
                    <a:pt x="1072" y="1160"/>
                  </a:lnTo>
                  <a:lnTo>
                    <a:pt x="1128" y="1166"/>
                  </a:lnTo>
                  <a:lnTo>
                    <a:pt x="1185" y="1167"/>
                  </a:lnTo>
                  <a:lnTo>
                    <a:pt x="1242" y="1165"/>
                  </a:lnTo>
                  <a:lnTo>
                    <a:pt x="1301" y="1156"/>
                  </a:lnTo>
                  <a:lnTo>
                    <a:pt x="1358" y="1143"/>
                  </a:lnTo>
                  <a:lnTo>
                    <a:pt x="1415" y="1123"/>
                  </a:lnTo>
                  <a:lnTo>
                    <a:pt x="1472" y="1097"/>
                  </a:lnTo>
                  <a:lnTo>
                    <a:pt x="1529" y="1064"/>
                  </a:lnTo>
                  <a:lnTo>
                    <a:pt x="1541" y="1066"/>
                  </a:lnTo>
                  <a:lnTo>
                    <a:pt x="1561" y="1066"/>
                  </a:lnTo>
                  <a:lnTo>
                    <a:pt x="1587" y="1066"/>
                  </a:lnTo>
                  <a:lnTo>
                    <a:pt x="1620" y="1064"/>
                  </a:lnTo>
                  <a:lnTo>
                    <a:pt x="1638" y="1062"/>
                  </a:lnTo>
                  <a:lnTo>
                    <a:pt x="1657" y="1059"/>
                  </a:lnTo>
                  <a:lnTo>
                    <a:pt x="1677" y="1057"/>
                  </a:lnTo>
                  <a:lnTo>
                    <a:pt x="1699" y="1052"/>
                  </a:lnTo>
                  <a:lnTo>
                    <a:pt x="1720" y="1047"/>
                  </a:lnTo>
                  <a:lnTo>
                    <a:pt x="1744" y="1040"/>
                  </a:lnTo>
                  <a:lnTo>
                    <a:pt x="1766" y="1032"/>
                  </a:lnTo>
                  <a:lnTo>
                    <a:pt x="1791" y="1023"/>
                  </a:lnTo>
                  <a:lnTo>
                    <a:pt x="1815" y="1012"/>
                  </a:lnTo>
                  <a:lnTo>
                    <a:pt x="1839" y="1001"/>
                  </a:lnTo>
                  <a:lnTo>
                    <a:pt x="1864" y="986"/>
                  </a:lnTo>
                  <a:lnTo>
                    <a:pt x="1889" y="971"/>
                  </a:lnTo>
                  <a:lnTo>
                    <a:pt x="1914" y="954"/>
                  </a:lnTo>
                  <a:lnTo>
                    <a:pt x="1938" y="935"/>
                  </a:lnTo>
                  <a:lnTo>
                    <a:pt x="1962" y="913"/>
                  </a:lnTo>
                  <a:lnTo>
                    <a:pt x="1987" y="889"/>
                  </a:lnTo>
                  <a:lnTo>
                    <a:pt x="2011" y="865"/>
                  </a:lnTo>
                  <a:lnTo>
                    <a:pt x="2033" y="836"/>
                  </a:lnTo>
                  <a:lnTo>
                    <a:pt x="2056" y="806"/>
                  </a:lnTo>
                  <a:lnTo>
                    <a:pt x="2078" y="773"/>
                  </a:lnTo>
                  <a:lnTo>
                    <a:pt x="2098" y="737"/>
                  </a:lnTo>
                  <a:lnTo>
                    <a:pt x="2118" y="698"/>
                  </a:lnTo>
                  <a:lnTo>
                    <a:pt x="2136" y="657"/>
                  </a:lnTo>
                  <a:lnTo>
                    <a:pt x="2155" y="613"/>
                  </a:lnTo>
                  <a:lnTo>
                    <a:pt x="2156" y="607"/>
                  </a:lnTo>
                  <a:lnTo>
                    <a:pt x="2156" y="599"/>
                  </a:lnTo>
                  <a:lnTo>
                    <a:pt x="2155" y="592"/>
                  </a:lnTo>
                  <a:lnTo>
                    <a:pt x="2152" y="584"/>
                  </a:lnTo>
                  <a:lnTo>
                    <a:pt x="2146" y="574"/>
                  </a:lnTo>
                  <a:lnTo>
                    <a:pt x="2130" y="550"/>
                  </a:lnTo>
                  <a:lnTo>
                    <a:pt x="2118" y="532"/>
                  </a:lnTo>
                  <a:lnTo>
                    <a:pt x="2103" y="511"/>
                  </a:lnTo>
                  <a:lnTo>
                    <a:pt x="2084" y="489"/>
                  </a:lnTo>
                  <a:lnTo>
                    <a:pt x="2063" y="464"/>
                  </a:lnTo>
                  <a:lnTo>
                    <a:pt x="2038" y="438"/>
                  </a:lnTo>
                  <a:lnTo>
                    <a:pt x="2011" y="411"/>
                  </a:lnTo>
                  <a:lnTo>
                    <a:pt x="1981" y="382"/>
                  </a:lnTo>
                  <a:lnTo>
                    <a:pt x="1946" y="352"/>
                  </a:lnTo>
                  <a:lnTo>
                    <a:pt x="1909" y="322"/>
                  </a:lnTo>
                  <a:lnTo>
                    <a:pt x="1868" y="293"/>
                  </a:lnTo>
                  <a:lnTo>
                    <a:pt x="1823" y="263"/>
                  </a:lnTo>
                  <a:lnTo>
                    <a:pt x="1776" y="233"/>
                  </a:lnTo>
                  <a:lnTo>
                    <a:pt x="1724" y="206"/>
                  </a:lnTo>
                  <a:lnTo>
                    <a:pt x="1669" y="180"/>
                  </a:lnTo>
                  <a:lnTo>
                    <a:pt x="1610" y="155"/>
                  </a:lnTo>
                  <a:lnTo>
                    <a:pt x="1546" y="131"/>
                  </a:lnTo>
                  <a:lnTo>
                    <a:pt x="1479" y="112"/>
                  </a:lnTo>
                  <a:lnTo>
                    <a:pt x="1407" y="93"/>
                  </a:lnTo>
                  <a:lnTo>
                    <a:pt x="1333" y="78"/>
                  </a:lnTo>
                  <a:lnTo>
                    <a:pt x="1253" y="67"/>
                  </a:lnTo>
                  <a:lnTo>
                    <a:pt x="1169" y="59"/>
                  </a:lnTo>
                  <a:lnTo>
                    <a:pt x="1081" y="56"/>
                  </a:lnTo>
                  <a:lnTo>
                    <a:pt x="989" y="57"/>
                  </a:lnTo>
                  <a:lnTo>
                    <a:pt x="891" y="63"/>
                  </a:lnTo>
                  <a:lnTo>
                    <a:pt x="789" y="73"/>
                  </a:lnTo>
                  <a:lnTo>
                    <a:pt x="683" y="89"/>
                  </a:lnTo>
                  <a:lnTo>
                    <a:pt x="572" y="112"/>
                  </a:lnTo>
                  <a:lnTo>
                    <a:pt x="456" y="140"/>
                  </a:lnTo>
                  <a:lnTo>
                    <a:pt x="447" y="143"/>
                  </a:lnTo>
                  <a:lnTo>
                    <a:pt x="428" y="146"/>
                  </a:lnTo>
                  <a:lnTo>
                    <a:pt x="414" y="148"/>
                  </a:lnTo>
                  <a:lnTo>
                    <a:pt x="398" y="148"/>
                  </a:lnTo>
                  <a:lnTo>
                    <a:pt x="378" y="146"/>
                  </a:lnTo>
                  <a:lnTo>
                    <a:pt x="356" y="144"/>
                  </a:lnTo>
                  <a:lnTo>
                    <a:pt x="331" y="139"/>
                  </a:lnTo>
                  <a:lnTo>
                    <a:pt x="303" y="131"/>
                  </a:lnTo>
                  <a:lnTo>
                    <a:pt x="275" y="120"/>
                  </a:lnTo>
                  <a:lnTo>
                    <a:pt x="243" y="107"/>
                  </a:lnTo>
                  <a:lnTo>
                    <a:pt x="225" y="98"/>
                  </a:lnTo>
                  <a:lnTo>
                    <a:pt x="209" y="89"/>
                  </a:lnTo>
                  <a:lnTo>
                    <a:pt x="190" y="78"/>
                  </a:lnTo>
                  <a:lnTo>
                    <a:pt x="172" y="67"/>
                  </a:lnTo>
                  <a:lnTo>
                    <a:pt x="153" y="54"/>
                  </a:lnTo>
                  <a:lnTo>
                    <a:pt x="133" y="40"/>
                  </a:lnTo>
                  <a:lnTo>
                    <a:pt x="113" y="25"/>
                  </a:lnTo>
                  <a:lnTo>
                    <a:pt x="92" y="9"/>
                  </a:lnTo>
                  <a:lnTo>
                    <a:pt x="86" y="4"/>
                  </a:lnTo>
                  <a:lnTo>
                    <a:pt x="80" y="1"/>
                  </a:lnTo>
                  <a:lnTo>
                    <a:pt x="72" y="0"/>
                  </a:lnTo>
                  <a:lnTo>
                    <a:pt x="64" y="0"/>
                  </a:lnTo>
                  <a:close/>
                  <a:moveTo>
                    <a:pt x="279" y="578"/>
                  </a:moveTo>
                  <a:lnTo>
                    <a:pt x="249" y="548"/>
                  </a:lnTo>
                  <a:lnTo>
                    <a:pt x="221" y="518"/>
                  </a:lnTo>
                  <a:lnTo>
                    <a:pt x="198" y="489"/>
                  </a:lnTo>
                  <a:lnTo>
                    <a:pt x="176" y="461"/>
                  </a:lnTo>
                  <a:lnTo>
                    <a:pt x="157" y="433"/>
                  </a:lnTo>
                  <a:lnTo>
                    <a:pt x="139" y="406"/>
                  </a:lnTo>
                  <a:lnTo>
                    <a:pt x="125" y="380"/>
                  </a:lnTo>
                  <a:lnTo>
                    <a:pt x="112" y="355"/>
                  </a:lnTo>
                  <a:lnTo>
                    <a:pt x="102" y="330"/>
                  </a:lnTo>
                  <a:lnTo>
                    <a:pt x="94" y="306"/>
                  </a:lnTo>
                  <a:lnTo>
                    <a:pt x="86" y="283"/>
                  </a:lnTo>
                  <a:lnTo>
                    <a:pt x="80" y="260"/>
                  </a:lnTo>
                  <a:lnTo>
                    <a:pt x="76" y="239"/>
                  </a:lnTo>
                  <a:lnTo>
                    <a:pt x="74" y="219"/>
                  </a:lnTo>
                  <a:lnTo>
                    <a:pt x="72" y="201"/>
                  </a:lnTo>
                  <a:lnTo>
                    <a:pt x="72" y="182"/>
                  </a:lnTo>
                  <a:lnTo>
                    <a:pt x="72" y="155"/>
                  </a:lnTo>
                  <a:lnTo>
                    <a:pt x="76" y="130"/>
                  </a:lnTo>
                  <a:lnTo>
                    <a:pt x="80" y="108"/>
                  </a:lnTo>
                  <a:lnTo>
                    <a:pt x="86" y="90"/>
                  </a:lnTo>
                  <a:lnTo>
                    <a:pt x="107" y="107"/>
                  </a:lnTo>
                  <a:lnTo>
                    <a:pt x="128" y="120"/>
                  </a:lnTo>
                  <a:lnTo>
                    <a:pt x="149" y="134"/>
                  </a:lnTo>
                  <a:lnTo>
                    <a:pt x="171" y="146"/>
                  </a:lnTo>
                  <a:lnTo>
                    <a:pt x="190" y="157"/>
                  </a:lnTo>
                  <a:lnTo>
                    <a:pt x="209" y="166"/>
                  </a:lnTo>
                  <a:lnTo>
                    <a:pt x="228" y="176"/>
                  </a:lnTo>
                  <a:lnTo>
                    <a:pt x="246" y="184"/>
                  </a:lnTo>
                  <a:lnTo>
                    <a:pt x="264" y="190"/>
                  </a:lnTo>
                  <a:lnTo>
                    <a:pt x="280" y="196"/>
                  </a:lnTo>
                  <a:lnTo>
                    <a:pt x="296" y="201"/>
                  </a:lnTo>
                  <a:lnTo>
                    <a:pt x="312" y="206"/>
                  </a:lnTo>
                  <a:lnTo>
                    <a:pt x="342" y="212"/>
                  </a:lnTo>
                  <a:lnTo>
                    <a:pt x="369" y="216"/>
                  </a:lnTo>
                  <a:lnTo>
                    <a:pt x="393" y="218"/>
                  </a:lnTo>
                  <a:lnTo>
                    <a:pt x="414" y="218"/>
                  </a:lnTo>
                  <a:lnTo>
                    <a:pt x="433" y="217"/>
                  </a:lnTo>
                  <a:lnTo>
                    <a:pt x="449" y="215"/>
                  </a:lnTo>
                  <a:lnTo>
                    <a:pt x="470" y="210"/>
                  </a:lnTo>
                  <a:lnTo>
                    <a:pt x="480" y="207"/>
                  </a:lnTo>
                  <a:lnTo>
                    <a:pt x="583" y="181"/>
                  </a:lnTo>
                  <a:lnTo>
                    <a:pt x="683" y="161"/>
                  </a:lnTo>
                  <a:lnTo>
                    <a:pt x="779" y="145"/>
                  </a:lnTo>
                  <a:lnTo>
                    <a:pt x="871" y="134"/>
                  </a:lnTo>
                  <a:lnTo>
                    <a:pt x="958" y="128"/>
                  </a:lnTo>
                  <a:lnTo>
                    <a:pt x="1042" y="124"/>
                  </a:lnTo>
                  <a:lnTo>
                    <a:pt x="1123" y="125"/>
                  </a:lnTo>
                  <a:lnTo>
                    <a:pt x="1199" y="129"/>
                  </a:lnTo>
                  <a:lnTo>
                    <a:pt x="1272" y="136"/>
                  </a:lnTo>
                  <a:lnTo>
                    <a:pt x="1340" y="148"/>
                  </a:lnTo>
                  <a:lnTo>
                    <a:pt x="1406" y="160"/>
                  </a:lnTo>
                  <a:lnTo>
                    <a:pt x="1468" y="176"/>
                  </a:lnTo>
                  <a:lnTo>
                    <a:pt x="1527" y="193"/>
                  </a:lnTo>
                  <a:lnTo>
                    <a:pt x="1582" y="213"/>
                  </a:lnTo>
                  <a:lnTo>
                    <a:pt x="1633" y="234"/>
                  </a:lnTo>
                  <a:lnTo>
                    <a:pt x="1683" y="257"/>
                  </a:lnTo>
                  <a:lnTo>
                    <a:pt x="1728" y="280"/>
                  </a:lnTo>
                  <a:lnTo>
                    <a:pt x="1771" y="305"/>
                  </a:lnTo>
                  <a:lnTo>
                    <a:pt x="1810" y="331"/>
                  </a:lnTo>
                  <a:lnTo>
                    <a:pt x="1847" y="356"/>
                  </a:lnTo>
                  <a:lnTo>
                    <a:pt x="1880" y="382"/>
                  </a:lnTo>
                  <a:lnTo>
                    <a:pt x="1911" y="408"/>
                  </a:lnTo>
                  <a:lnTo>
                    <a:pt x="1939" y="434"/>
                  </a:lnTo>
                  <a:lnTo>
                    <a:pt x="1965" y="458"/>
                  </a:lnTo>
                  <a:lnTo>
                    <a:pt x="1987" y="483"/>
                  </a:lnTo>
                  <a:lnTo>
                    <a:pt x="2008" y="505"/>
                  </a:lnTo>
                  <a:lnTo>
                    <a:pt x="2026" y="526"/>
                  </a:lnTo>
                  <a:lnTo>
                    <a:pt x="2041" y="546"/>
                  </a:lnTo>
                  <a:lnTo>
                    <a:pt x="2064" y="579"/>
                  </a:lnTo>
                  <a:lnTo>
                    <a:pt x="2080" y="602"/>
                  </a:lnTo>
                  <a:lnTo>
                    <a:pt x="2063" y="641"/>
                  </a:lnTo>
                  <a:lnTo>
                    <a:pt x="2046" y="679"/>
                  </a:lnTo>
                  <a:lnTo>
                    <a:pt x="2027" y="713"/>
                  </a:lnTo>
                  <a:lnTo>
                    <a:pt x="2007" y="744"/>
                  </a:lnTo>
                  <a:lnTo>
                    <a:pt x="1987" y="774"/>
                  </a:lnTo>
                  <a:lnTo>
                    <a:pt x="1966" y="801"/>
                  </a:lnTo>
                  <a:lnTo>
                    <a:pt x="1945" y="826"/>
                  </a:lnTo>
                  <a:lnTo>
                    <a:pt x="1923" y="849"/>
                  </a:lnTo>
                  <a:lnTo>
                    <a:pt x="1902" y="868"/>
                  </a:lnTo>
                  <a:lnTo>
                    <a:pt x="1879" y="887"/>
                  </a:lnTo>
                  <a:lnTo>
                    <a:pt x="1857" y="904"/>
                  </a:lnTo>
                  <a:lnTo>
                    <a:pt x="1833" y="919"/>
                  </a:lnTo>
                  <a:lnTo>
                    <a:pt x="1811" y="932"/>
                  </a:lnTo>
                  <a:lnTo>
                    <a:pt x="1789" y="944"/>
                  </a:lnTo>
                  <a:lnTo>
                    <a:pt x="1767" y="954"/>
                  </a:lnTo>
                  <a:lnTo>
                    <a:pt x="1745" y="963"/>
                  </a:lnTo>
                  <a:lnTo>
                    <a:pt x="1724" y="970"/>
                  </a:lnTo>
                  <a:lnTo>
                    <a:pt x="1703" y="976"/>
                  </a:lnTo>
                  <a:lnTo>
                    <a:pt x="1683" y="981"/>
                  </a:lnTo>
                  <a:lnTo>
                    <a:pt x="1664" y="986"/>
                  </a:lnTo>
                  <a:lnTo>
                    <a:pt x="1628" y="991"/>
                  </a:lnTo>
                  <a:lnTo>
                    <a:pt x="1596" y="995"/>
                  </a:lnTo>
                  <a:lnTo>
                    <a:pt x="1570" y="995"/>
                  </a:lnTo>
                  <a:lnTo>
                    <a:pt x="1549" y="995"/>
                  </a:lnTo>
                  <a:lnTo>
                    <a:pt x="1535" y="994"/>
                  </a:lnTo>
                  <a:lnTo>
                    <a:pt x="1528" y="992"/>
                  </a:lnTo>
                  <a:lnTo>
                    <a:pt x="1522" y="992"/>
                  </a:lnTo>
                  <a:lnTo>
                    <a:pt x="1514" y="994"/>
                  </a:lnTo>
                  <a:lnTo>
                    <a:pt x="1508" y="995"/>
                  </a:lnTo>
                  <a:lnTo>
                    <a:pt x="1503" y="999"/>
                  </a:lnTo>
                  <a:lnTo>
                    <a:pt x="1451" y="1030"/>
                  </a:lnTo>
                  <a:lnTo>
                    <a:pt x="1397" y="1056"/>
                  </a:lnTo>
                  <a:lnTo>
                    <a:pt x="1344" y="1074"/>
                  </a:lnTo>
                  <a:lnTo>
                    <a:pt x="1292" y="1088"/>
                  </a:lnTo>
                  <a:lnTo>
                    <a:pt x="1238" y="1095"/>
                  </a:lnTo>
                  <a:lnTo>
                    <a:pt x="1185" y="1099"/>
                  </a:lnTo>
                  <a:lnTo>
                    <a:pt x="1132" y="1097"/>
                  </a:lnTo>
                  <a:lnTo>
                    <a:pt x="1078" y="1090"/>
                  </a:lnTo>
                  <a:lnTo>
                    <a:pt x="1026" y="1081"/>
                  </a:lnTo>
                  <a:lnTo>
                    <a:pt x="975" y="1068"/>
                  </a:lnTo>
                  <a:lnTo>
                    <a:pt x="924" y="1051"/>
                  </a:lnTo>
                  <a:lnTo>
                    <a:pt x="873" y="1031"/>
                  </a:lnTo>
                  <a:lnTo>
                    <a:pt x="825" y="1009"/>
                  </a:lnTo>
                  <a:lnTo>
                    <a:pt x="777" y="985"/>
                  </a:lnTo>
                  <a:lnTo>
                    <a:pt x="731" y="959"/>
                  </a:lnTo>
                  <a:lnTo>
                    <a:pt x="686" y="930"/>
                  </a:lnTo>
                  <a:lnTo>
                    <a:pt x="642" y="902"/>
                  </a:lnTo>
                  <a:lnTo>
                    <a:pt x="600" y="873"/>
                  </a:lnTo>
                  <a:lnTo>
                    <a:pt x="560" y="842"/>
                  </a:lnTo>
                  <a:lnTo>
                    <a:pt x="523" y="813"/>
                  </a:lnTo>
                  <a:lnTo>
                    <a:pt x="487" y="783"/>
                  </a:lnTo>
                  <a:lnTo>
                    <a:pt x="454" y="754"/>
                  </a:lnTo>
                  <a:lnTo>
                    <a:pt x="424" y="726"/>
                  </a:lnTo>
                  <a:lnTo>
                    <a:pt x="395" y="700"/>
                  </a:lnTo>
                  <a:lnTo>
                    <a:pt x="347" y="652"/>
                  </a:lnTo>
                  <a:lnTo>
                    <a:pt x="311" y="614"/>
                  </a:lnTo>
                  <a:lnTo>
                    <a:pt x="287" y="588"/>
                  </a:lnTo>
                  <a:lnTo>
                    <a:pt x="279" y="578"/>
                  </a:lnTo>
                  <a:close/>
                  <a:moveTo>
                    <a:pt x="1517" y="1063"/>
                  </a:moveTo>
                  <a:lnTo>
                    <a:pt x="1520" y="1063"/>
                  </a:lnTo>
                  <a:lnTo>
                    <a:pt x="1523" y="1063"/>
                  </a:lnTo>
                  <a:lnTo>
                    <a:pt x="1520" y="1063"/>
                  </a:lnTo>
                  <a:lnTo>
                    <a:pt x="1517" y="106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14400" y="3800520"/>
              <a:ext cx="1110960" cy="1341360"/>
            </a:xfrm>
            <a:custGeom>
              <a:avLst/>
              <a:gdLst/>
              <a:ahLst/>
              <a:rect l="l" t="t" r="r" b="b"/>
              <a:pathLst>
                <a:path w="2800" h="3381">
                  <a:moveTo>
                    <a:pt x="2642" y="8"/>
                  </a:moveTo>
                  <a:lnTo>
                    <a:pt x="2646" y="16"/>
                  </a:lnTo>
                  <a:lnTo>
                    <a:pt x="2657" y="42"/>
                  </a:lnTo>
                  <a:lnTo>
                    <a:pt x="2672" y="83"/>
                  </a:lnTo>
                  <a:lnTo>
                    <a:pt x="2691" y="137"/>
                  </a:lnTo>
                  <a:lnTo>
                    <a:pt x="2712" y="201"/>
                  </a:lnTo>
                  <a:lnTo>
                    <a:pt x="2733" y="276"/>
                  </a:lnTo>
                  <a:lnTo>
                    <a:pt x="2744" y="315"/>
                  </a:lnTo>
                  <a:lnTo>
                    <a:pt x="2754" y="358"/>
                  </a:lnTo>
                  <a:lnTo>
                    <a:pt x="2764" y="401"/>
                  </a:lnTo>
                  <a:lnTo>
                    <a:pt x="2773" y="444"/>
                  </a:lnTo>
                  <a:lnTo>
                    <a:pt x="2780" y="490"/>
                  </a:lnTo>
                  <a:lnTo>
                    <a:pt x="2788" y="536"/>
                  </a:lnTo>
                  <a:lnTo>
                    <a:pt x="2793" y="583"/>
                  </a:lnTo>
                  <a:lnTo>
                    <a:pt x="2798" y="631"/>
                  </a:lnTo>
                  <a:lnTo>
                    <a:pt x="2799" y="678"/>
                  </a:lnTo>
                  <a:lnTo>
                    <a:pt x="2800" y="724"/>
                  </a:lnTo>
                  <a:lnTo>
                    <a:pt x="2799" y="771"/>
                  </a:lnTo>
                  <a:lnTo>
                    <a:pt x="2795" y="817"/>
                  </a:lnTo>
                  <a:lnTo>
                    <a:pt x="2789" y="861"/>
                  </a:lnTo>
                  <a:lnTo>
                    <a:pt x="2780" y="905"/>
                  </a:lnTo>
                  <a:lnTo>
                    <a:pt x="2769" y="948"/>
                  </a:lnTo>
                  <a:lnTo>
                    <a:pt x="2755" y="989"/>
                  </a:lnTo>
                  <a:lnTo>
                    <a:pt x="2738" y="1029"/>
                  </a:lnTo>
                  <a:lnTo>
                    <a:pt x="2717" y="1066"/>
                  </a:lnTo>
                  <a:lnTo>
                    <a:pt x="2693" y="1101"/>
                  </a:lnTo>
                  <a:lnTo>
                    <a:pt x="2666" y="1133"/>
                  </a:lnTo>
                  <a:lnTo>
                    <a:pt x="2656" y="1143"/>
                  </a:lnTo>
                  <a:lnTo>
                    <a:pt x="2631" y="1168"/>
                  </a:lnTo>
                  <a:lnTo>
                    <a:pt x="2592" y="1207"/>
                  </a:lnTo>
                  <a:lnTo>
                    <a:pt x="2541" y="1258"/>
                  </a:lnTo>
                  <a:lnTo>
                    <a:pt x="2479" y="1319"/>
                  </a:lnTo>
                  <a:lnTo>
                    <a:pt x="2409" y="1387"/>
                  </a:lnTo>
                  <a:lnTo>
                    <a:pt x="2333" y="1459"/>
                  </a:lnTo>
                  <a:lnTo>
                    <a:pt x="2253" y="1534"/>
                  </a:lnTo>
                  <a:lnTo>
                    <a:pt x="2171" y="1609"/>
                  </a:lnTo>
                  <a:lnTo>
                    <a:pt x="2089" y="1681"/>
                  </a:lnTo>
                  <a:lnTo>
                    <a:pt x="2048" y="1716"/>
                  </a:lnTo>
                  <a:lnTo>
                    <a:pt x="2008" y="1748"/>
                  </a:lnTo>
                  <a:lnTo>
                    <a:pt x="1969" y="1781"/>
                  </a:lnTo>
                  <a:lnTo>
                    <a:pt x="1932" y="1809"/>
                  </a:lnTo>
                  <a:lnTo>
                    <a:pt x="1896" y="1837"/>
                  </a:lnTo>
                  <a:lnTo>
                    <a:pt x="1863" y="1861"/>
                  </a:lnTo>
                  <a:lnTo>
                    <a:pt x="1830" y="1882"/>
                  </a:lnTo>
                  <a:lnTo>
                    <a:pt x="1801" y="1900"/>
                  </a:lnTo>
                  <a:lnTo>
                    <a:pt x="1773" y="1915"/>
                  </a:lnTo>
                  <a:lnTo>
                    <a:pt x="1750" y="1926"/>
                  </a:lnTo>
                  <a:lnTo>
                    <a:pt x="1729" y="1932"/>
                  </a:lnTo>
                  <a:lnTo>
                    <a:pt x="1710" y="1935"/>
                  </a:lnTo>
                  <a:lnTo>
                    <a:pt x="1702" y="1926"/>
                  </a:lnTo>
                  <a:lnTo>
                    <a:pt x="1680" y="1905"/>
                  </a:lnTo>
                  <a:lnTo>
                    <a:pt x="1648" y="1875"/>
                  </a:lnTo>
                  <a:lnTo>
                    <a:pt x="1608" y="1839"/>
                  </a:lnTo>
                  <a:lnTo>
                    <a:pt x="1586" y="1822"/>
                  </a:lnTo>
                  <a:lnTo>
                    <a:pt x="1563" y="1804"/>
                  </a:lnTo>
                  <a:lnTo>
                    <a:pt x="1540" y="1788"/>
                  </a:lnTo>
                  <a:lnTo>
                    <a:pt x="1516" y="1773"/>
                  </a:lnTo>
                  <a:lnTo>
                    <a:pt x="1493" y="1761"/>
                  </a:lnTo>
                  <a:lnTo>
                    <a:pt x="1470" y="1751"/>
                  </a:lnTo>
                  <a:lnTo>
                    <a:pt x="1459" y="1747"/>
                  </a:lnTo>
                  <a:lnTo>
                    <a:pt x="1448" y="1745"/>
                  </a:lnTo>
                  <a:lnTo>
                    <a:pt x="1438" y="1742"/>
                  </a:lnTo>
                  <a:lnTo>
                    <a:pt x="1428" y="1741"/>
                  </a:lnTo>
                  <a:lnTo>
                    <a:pt x="1697" y="1926"/>
                  </a:lnTo>
                  <a:lnTo>
                    <a:pt x="1715" y="1932"/>
                  </a:lnTo>
                  <a:lnTo>
                    <a:pt x="1725" y="1938"/>
                  </a:lnTo>
                  <a:lnTo>
                    <a:pt x="1731" y="1942"/>
                  </a:lnTo>
                  <a:lnTo>
                    <a:pt x="1731" y="1943"/>
                  </a:lnTo>
                  <a:lnTo>
                    <a:pt x="1727" y="1944"/>
                  </a:lnTo>
                  <a:lnTo>
                    <a:pt x="1720" y="1943"/>
                  </a:lnTo>
                  <a:lnTo>
                    <a:pt x="1707" y="1941"/>
                  </a:lnTo>
                  <a:lnTo>
                    <a:pt x="1691" y="1937"/>
                  </a:lnTo>
                  <a:lnTo>
                    <a:pt x="1650" y="1928"/>
                  </a:lnTo>
                  <a:lnTo>
                    <a:pt x="1598" y="1916"/>
                  </a:lnTo>
                  <a:lnTo>
                    <a:pt x="1537" y="1901"/>
                  </a:lnTo>
                  <a:lnTo>
                    <a:pt x="1470" y="1886"/>
                  </a:lnTo>
                  <a:lnTo>
                    <a:pt x="1399" y="1871"/>
                  </a:lnTo>
                  <a:lnTo>
                    <a:pt x="1329" y="1858"/>
                  </a:lnTo>
                  <a:lnTo>
                    <a:pt x="1293" y="1851"/>
                  </a:lnTo>
                  <a:lnTo>
                    <a:pt x="1258" y="1846"/>
                  </a:lnTo>
                  <a:lnTo>
                    <a:pt x="1224" y="1843"/>
                  </a:lnTo>
                  <a:lnTo>
                    <a:pt x="1193" y="1839"/>
                  </a:lnTo>
                  <a:lnTo>
                    <a:pt x="1162" y="1837"/>
                  </a:lnTo>
                  <a:lnTo>
                    <a:pt x="1134" y="1835"/>
                  </a:lnTo>
                  <a:lnTo>
                    <a:pt x="1106" y="1835"/>
                  </a:lnTo>
                  <a:lnTo>
                    <a:pt x="1083" y="1837"/>
                  </a:lnTo>
                  <a:lnTo>
                    <a:pt x="1062" y="1840"/>
                  </a:lnTo>
                  <a:lnTo>
                    <a:pt x="1044" y="1845"/>
                  </a:lnTo>
                  <a:lnTo>
                    <a:pt x="1029" y="1851"/>
                  </a:lnTo>
                  <a:lnTo>
                    <a:pt x="1019" y="1860"/>
                  </a:lnTo>
                  <a:lnTo>
                    <a:pt x="1027" y="1860"/>
                  </a:lnTo>
                  <a:lnTo>
                    <a:pt x="1048" y="1861"/>
                  </a:lnTo>
                  <a:lnTo>
                    <a:pt x="1082" y="1863"/>
                  </a:lnTo>
                  <a:lnTo>
                    <a:pt x="1125" y="1865"/>
                  </a:lnTo>
                  <a:lnTo>
                    <a:pt x="1178" y="1869"/>
                  </a:lnTo>
                  <a:lnTo>
                    <a:pt x="1238" y="1874"/>
                  </a:lnTo>
                  <a:lnTo>
                    <a:pt x="1305" y="1880"/>
                  </a:lnTo>
                  <a:lnTo>
                    <a:pt x="1375" y="1889"/>
                  </a:lnTo>
                  <a:lnTo>
                    <a:pt x="1448" y="1900"/>
                  </a:lnTo>
                  <a:lnTo>
                    <a:pt x="1522" y="1913"/>
                  </a:lnTo>
                  <a:lnTo>
                    <a:pt x="1560" y="1921"/>
                  </a:lnTo>
                  <a:lnTo>
                    <a:pt x="1596" y="1930"/>
                  </a:lnTo>
                  <a:lnTo>
                    <a:pt x="1633" y="1939"/>
                  </a:lnTo>
                  <a:lnTo>
                    <a:pt x="1668" y="1949"/>
                  </a:lnTo>
                  <a:lnTo>
                    <a:pt x="1702" y="1959"/>
                  </a:lnTo>
                  <a:lnTo>
                    <a:pt x="1736" y="1972"/>
                  </a:lnTo>
                  <a:lnTo>
                    <a:pt x="1768" y="1984"/>
                  </a:lnTo>
                  <a:lnTo>
                    <a:pt x="1799" y="1998"/>
                  </a:lnTo>
                  <a:lnTo>
                    <a:pt x="1828" y="2011"/>
                  </a:lnTo>
                  <a:lnTo>
                    <a:pt x="1855" y="2028"/>
                  </a:lnTo>
                  <a:lnTo>
                    <a:pt x="1880" y="2044"/>
                  </a:lnTo>
                  <a:lnTo>
                    <a:pt x="1902" y="2061"/>
                  </a:lnTo>
                  <a:lnTo>
                    <a:pt x="1880" y="2061"/>
                  </a:lnTo>
                  <a:lnTo>
                    <a:pt x="1820" y="2064"/>
                  </a:lnTo>
                  <a:lnTo>
                    <a:pt x="1781" y="2066"/>
                  </a:lnTo>
                  <a:lnTo>
                    <a:pt x="1735" y="2070"/>
                  </a:lnTo>
                  <a:lnTo>
                    <a:pt x="1685" y="2076"/>
                  </a:lnTo>
                  <a:lnTo>
                    <a:pt x="1632" y="2083"/>
                  </a:lnTo>
                  <a:lnTo>
                    <a:pt x="1578" y="2093"/>
                  </a:lnTo>
                  <a:lnTo>
                    <a:pt x="1524" y="2105"/>
                  </a:lnTo>
                  <a:lnTo>
                    <a:pt x="1498" y="2112"/>
                  </a:lnTo>
                  <a:lnTo>
                    <a:pt x="1471" y="2119"/>
                  </a:lnTo>
                  <a:lnTo>
                    <a:pt x="1445" y="2128"/>
                  </a:lnTo>
                  <a:lnTo>
                    <a:pt x="1421" y="2138"/>
                  </a:lnTo>
                  <a:lnTo>
                    <a:pt x="1397" y="2148"/>
                  </a:lnTo>
                  <a:lnTo>
                    <a:pt x="1375" y="2159"/>
                  </a:lnTo>
                  <a:lnTo>
                    <a:pt x="1354" y="2172"/>
                  </a:lnTo>
                  <a:lnTo>
                    <a:pt x="1334" y="2185"/>
                  </a:lnTo>
                  <a:lnTo>
                    <a:pt x="1316" y="2199"/>
                  </a:lnTo>
                  <a:lnTo>
                    <a:pt x="1300" y="2214"/>
                  </a:lnTo>
                  <a:lnTo>
                    <a:pt x="1285" y="2230"/>
                  </a:lnTo>
                  <a:lnTo>
                    <a:pt x="1274" y="2247"/>
                  </a:lnTo>
                  <a:lnTo>
                    <a:pt x="1291" y="2237"/>
                  </a:lnTo>
                  <a:lnTo>
                    <a:pt x="1340" y="2211"/>
                  </a:lnTo>
                  <a:lnTo>
                    <a:pt x="1372" y="2194"/>
                  </a:lnTo>
                  <a:lnTo>
                    <a:pt x="1411" y="2176"/>
                  </a:lnTo>
                  <a:lnTo>
                    <a:pt x="1452" y="2157"/>
                  </a:lnTo>
                  <a:lnTo>
                    <a:pt x="1495" y="2138"/>
                  </a:lnTo>
                  <a:lnTo>
                    <a:pt x="1541" y="2121"/>
                  </a:lnTo>
                  <a:lnTo>
                    <a:pt x="1588" y="2106"/>
                  </a:lnTo>
                  <a:lnTo>
                    <a:pt x="1611" y="2098"/>
                  </a:lnTo>
                  <a:lnTo>
                    <a:pt x="1634" y="2093"/>
                  </a:lnTo>
                  <a:lnTo>
                    <a:pt x="1657" y="2088"/>
                  </a:lnTo>
                  <a:lnTo>
                    <a:pt x="1679" y="2083"/>
                  </a:lnTo>
                  <a:lnTo>
                    <a:pt x="1701" y="2081"/>
                  </a:lnTo>
                  <a:lnTo>
                    <a:pt x="1722" y="2080"/>
                  </a:lnTo>
                  <a:lnTo>
                    <a:pt x="1743" y="2078"/>
                  </a:lnTo>
                  <a:lnTo>
                    <a:pt x="1762" y="2080"/>
                  </a:lnTo>
                  <a:lnTo>
                    <a:pt x="1781" y="2082"/>
                  </a:lnTo>
                  <a:lnTo>
                    <a:pt x="1798" y="2087"/>
                  </a:lnTo>
                  <a:lnTo>
                    <a:pt x="1814" y="2092"/>
                  </a:lnTo>
                  <a:lnTo>
                    <a:pt x="1829" y="2101"/>
                  </a:lnTo>
                  <a:lnTo>
                    <a:pt x="2249" y="2674"/>
                  </a:lnTo>
                  <a:lnTo>
                    <a:pt x="2226" y="2673"/>
                  </a:lnTo>
                  <a:lnTo>
                    <a:pt x="2166" y="2667"/>
                  </a:lnTo>
                  <a:lnTo>
                    <a:pt x="2074" y="2658"/>
                  </a:lnTo>
                  <a:lnTo>
                    <a:pt x="1957" y="2652"/>
                  </a:lnTo>
                  <a:lnTo>
                    <a:pt x="1891" y="2648"/>
                  </a:lnTo>
                  <a:lnTo>
                    <a:pt x="1823" y="2647"/>
                  </a:lnTo>
                  <a:lnTo>
                    <a:pt x="1750" y="2645"/>
                  </a:lnTo>
                  <a:lnTo>
                    <a:pt x="1676" y="2645"/>
                  </a:lnTo>
                  <a:lnTo>
                    <a:pt x="1602" y="2648"/>
                  </a:lnTo>
                  <a:lnTo>
                    <a:pt x="1526" y="2652"/>
                  </a:lnTo>
                  <a:lnTo>
                    <a:pt x="1452" y="2658"/>
                  </a:lnTo>
                  <a:lnTo>
                    <a:pt x="1380" y="2665"/>
                  </a:lnTo>
                  <a:lnTo>
                    <a:pt x="1309" y="2676"/>
                  </a:lnTo>
                  <a:lnTo>
                    <a:pt x="1242" y="2690"/>
                  </a:lnTo>
                  <a:lnTo>
                    <a:pt x="1178" y="2706"/>
                  </a:lnTo>
                  <a:lnTo>
                    <a:pt x="1121" y="2726"/>
                  </a:lnTo>
                  <a:lnTo>
                    <a:pt x="1069" y="2750"/>
                  </a:lnTo>
                  <a:lnTo>
                    <a:pt x="1024" y="2777"/>
                  </a:lnTo>
                  <a:lnTo>
                    <a:pt x="986" y="2809"/>
                  </a:lnTo>
                  <a:lnTo>
                    <a:pt x="957" y="2844"/>
                  </a:lnTo>
                  <a:lnTo>
                    <a:pt x="938" y="2885"/>
                  </a:lnTo>
                  <a:lnTo>
                    <a:pt x="928" y="2930"/>
                  </a:lnTo>
                  <a:lnTo>
                    <a:pt x="929" y="2979"/>
                  </a:lnTo>
                  <a:lnTo>
                    <a:pt x="942" y="3035"/>
                  </a:lnTo>
                  <a:lnTo>
                    <a:pt x="969" y="3096"/>
                  </a:lnTo>
                  <a:lnTo>
                    <a:pt x="1010" y="3163"/>
                  </a:lnTo>
                  <a:lnTo>
                    <a:pt x="1063" y="3235"/>
                  </a:lnTo>
                  <a:lnTo>
                    <a:pt x="1134" y="3314"/>
                  </a:lnTo>
                  <a:lnTo>
                    <a:pt x="1124" y="3324"/>
                  </a:lnTo>
                  <a:lnTo>
                    <a:pt x="1094" y="3345"/>
                  </a:lnTo>
                  <a:lnTo>
                    <a:pt x="1084" y="3351"/>
                  </a:lnTo>
                  <a:lnTo>
                    <a:pt x="1074" y="3356"/>
                  </a:lnTo>
                  <a:lnTo>
                    <a:pt x="1062" y="3363"/>
                  </a:lnTo>
                  <a:lnTo>
                    <a:pt x="1049" y="3368"/>
                  </a:lnTo>
                  <a:lnTo>
                    <a:pt x="1036" y="3371"/>
                  </a:lnTo>
                  <a:lnTo>
                    <a:pt x="1022" y="3375"/>
                  </a:lnTo>
                  <a:lnTo>
                    <a:pt x="1006" y="3379"/>
                  </a:lnTo>
                  <a:lnTo>
                    <a:pt x="991" y="3380"/>
                  </a:lnTo>
                  <a:lnTo>
                    <a:pt x="974" y="3381"/>
                  </a:lnTo>
                  <a:lnTo>
                    <a:pt x="956" y="3380"/>
                  </a:lnTo>
                  <a:lnTo>
                    <a:pt x="939" y="3377"/>
                  </a:lnTo>
                  <a:lnTo>
                    <a:pt x="920" y="3372"/>
                  </a:lnTo>
                  <a:lnTo>
                    <a:pt x="900" y="3366"/>
                  </a:lnTo>
                  <a:lnTo>
                    <a:pt x="880" y="3358"/>
                  </a:lnTo>
                  <a:lnTo>
                    <a:pt x="861" y="3348"/>
                  </a:lnTo>
                  <a:lnTo>
                    <a:pt x="839" y="3334"/>
                  </a:lnTo>
                  <a:lnTo>
                    <a:pt x="818" y="3319"/>
                  </a:lnTo>
                  <a:lnTo>
                    <a:pt x="796" y="3301"/>
                  </a:lnTo>
                  <a:lnTo>
                    <a:pt x="775" y="3279"/>
                  </a:lnTo>
                  <a:lnTo>
                    <a:pt x="753" y="3255"/>
                  </a:lnTo>
                  <a:lnTo>
                    <a:pt x="729" y="3227"/>
                  </a:lnTo>
                  <a:lnTo>
                    <a:pt x="707" y="3196"/>
                  </a:lnTo>
                  <a:lnTo>
                    <a:pt x="683" y="3162"/>
                  </a:lnTo>
                  <a:lnTo>
                    <a:pt x="661" y="3123"/>
                  </a:lnTo>
                  <a:lnTo>
                    <a:pt x="637" y="2871"/>
                  </a:lnTo>
                  <a:lnTo>
                    <a:pt x="637" y="3098"/>
                  </a:lnTo>
                  <a:lnTo>
                    <a:pt x="625" y="3101"/>
                  </a:lnTo>
                  <a:lnTo>
                    <a:pt x="590" y="3105"/>
                  </a:lnTo>
                  <a:lnTo>
                    <a:pt x="566" y="3106"/>
                  </a:lnTo>
                  <a:lnTo>
                    <a:pt x="540" y="3106"/>
                  </a:lnTo>
                  <a:lnTo>
                    <a:pt x="512" y="3106"/>
                  </a:lnTo>
                  <a:lnTo>
                    <a:pt x="481" y="3103"/>
                  </a:lnTo>
                  <a:lnTo>
                    <a:pt x="450" y="3100"/>
                  </a:lnTo>
                  <a:lnTo>
                    <a:pt x="418" y="3093"/>
                  </a:lnTo>
                  <a:lnTo>
                    <a:pt x="404" y="3088"/>
                  </a:lnTo>
                  <a:lnTo>
                    <a:pt x="387" y="3083"/>
                  </a:lnTo>
                  <a:lnTo>
                    <a:pt x="374" y="3078"/>
                  </a:lnTo>
                  <a:lnTo>
                    <a:pt x="359" y="3071"/>
                  </a:lnTo>
                  <a:lnTo>
                    <a:pt x="345" y="3064"/>
                  </a:lnTo>
                  <a:lnTo>
                    <a:pt x="333" y="3055"/>
                  </a:lnTo>
                  <a:lnTo>
                    <a:pt x="320" y="3046"/>
                  </a:lnTo>
                  <a:lnTo>
                    <a:pt x="309" y="3035"/>
                  </a:lnTo>
                  <a:lnTo>
                    <a:pt x="298" y="3024"/>
                  </a:lnTo>
                  <a:lnTo>
                    <a:pt x="289" y="3010"/>
                  </a:lnTo>
                  <a:lnTo>
                    <a:pt x="281" y="2997"/>
                  </a:lnTo>
                  <a:lnTo>
                    <a:pt x="274" y="2982"/>
                  </a:lnTo>
                  <a:lnTo>
                    <a:pt x="265" y="2966"/>
                  </a:lnTo>
                  <a:lnTo>
                    <a:pt x="240" y="2921"/>
                  </a:lnTo>
                  <a:lnTo>
                    <a:pt x="222" y="2889"/>
                  </a:lnTo>
                  <a:lnTo>
                    <a:pt x="204" y="2850"/>
                  </a:lnTo>
                  <a:lnTo>
                    <a:pt x="183" y="2806"/>
                  </a:lnTo>
                  <a:lnTo>
                    <a:pt x="160" y="2756"/>
                  </a:lnTo>
                  <a:lnTo>
                    <a:pt x="138" y="2701"/>
                  </a:lnTo>
                  <a:lnTo>
                    <a:pt x="115" y="2642"/>
                  </a:lnTo>
                  <a:lnTo>
                    <a:pt x="93" y="2578"/>
                  </a:lnTo>
                  <a:lnTo>
                    <a:pt x="72" y="2510"/>
                  </a:lnTo>
                  <a:lnTo>
                    <a:pt x="53" y="2439"/>
                  </a:lnTo>
                  <a:lnTo>
                    <a:pt x="36" y="2365"/>
                  </a:lnTo>
                  <a:lnTo>
                    <a:pt x="21" y="2288"/>
                  </a:lnTo>
                  <a:lnTo>
                    <a:pt x="10" y="2209"/>
                  </a:lnTo>
                  <a:lnTo>
                    <a:pt x="2" y="2127"/>
                  </a:lnTo>
                  <a:lnTo>
                    <a:pt x="0" y="2044"/>
                  </a:lnTo>
                  <a:lnTo>
                    <a:pt x="2" y="1959"/>
                  </a:lnTo>
                  <a:lnTo>
                    <a:pt x="10" y="1874"/>
                  </a:lnTo>
                  <a:lnTo>
                    <a:pt x="24" y="1787"/>
                  </a:lnTo>
                  <a:lnTo>
                    <a:pt x="43" y="1701"/>
                  </a:lnTo>
                  <a:lnTo>
                    <a:pt x="71" y="1614"/>
                  </a:lnTo>
                  <a:lnTo>
                    <a:pt x="107" y="1529"/>
                  </a:lnTo>
                  <a:lnTo>
                    <a:pt x="149" y="1444"/>
                  </a:lnTo>
                  <a:lnTo>
                    <a:pt x="202" y="1361"/>
                  </a:lnTo>
                  <a:lnTo>
                    <a:pt x="263" y="1281"/>
                  </a:lnTo>
                  <a:lnTo>
                    <a:pt x="335" y="1200"/>
                  </a:lnTo>
                  <a:lnTo>
                    <a:pt x="417" y="1123"/>
                  </a:lnTo>
                  <a:lnTo>
                    <a:pt x="510" y="1049"/>
                  </a:lnTo>
                  <a:lnTo>
                    <a:pt x="615" y="978"/>
                  </a:lnTo>
                  <a:lnTo>
                    <a:pt x="733" y="911"/>
                  </a:lnTo>
                  <a:lnTo>
                    <a:pt x="748" y="900"/>
                  </a:lnTo>
                  <a:lnTo>
                    <a:pt x="790" y="868"/>
                  </a:lnTo>
                  <a:lnTo>
                    <a:pt x="857" y="818"/>
                  </a:lnTo>
                  <a:lnTo>
                    <a:pt x="946" y="755"/>
                  </a:lnTo>
                  <a:lnTo>
                    <a:pt x="1054" y="680"/>
                  </a:lnTo>
                  <a:lnTo>
                    <a:pt x="1177" y="597"/>
                  </a:lnTo>
                  <a:lnTo>
                    <a:pt x="1244" y="554"/>
                  </a:lnTo>
                  <a:lnTo>
                    <a:pt x="1315" y="509"/>
                  </a:lnTo>
                  <a:lnTo>
                    <a:pt x="1387" y="464"/>
                  </a:lnTo>
                  <a:lnTo>
                    <a:pt x="1462" y="420"/>
                  </a:lnTo>
                  <a:lnTo>
                    <a:pt x="1537" y="375"/>
                  </a:lnTo>
                  <a:lnTo>
                    <a:pt x="1616" y="330"/>
                  </a:lnTo>
                  <a:lnTo>
                    <a:pt x="1694" y="288"/>
                  </a:lnTo>
                  <a:lnTo>
                    <a:pt x="1773" y="246"/>
                  </a:lnTo>
                  <a:lnTo>
                    <a:pt x="1853" y="207"/>
                  </a:lnTo>
                  <a:lnTo>
                    <a:pt x="1932" y="170"/>
                  </a:lnTo>
                  <a:lnTo>
                    <a:pt x="2012" y="136"/>
                  </a:lnTo>
                  <a:lnTo>
                    <a:pt x="2090" y="103"/>
                  </a:lnTo>
                  <a:lnTo>
                    <a:pt x="2167" y="76"/>
                  </a:lnTo>
                  <a:lnTo>
                    <a:pt x="2243" y="51"/>
                  </a:lnTo>
                  <a:lnTo>
                    <a:pt x="2316" y="31"/>
                  </a:lnTo>
                  <a:lnTo>
                    <a:pt x="2388" y="16"/>
                  </a:lnTo>
                  <a:lnTo>
                    <a:pt x="2456" y="5"/>
                  </a:lnTo>
                  <a:lnTo>
                    <a:pt x="2522" y="0"/>
                  </a:lnTo>
                  <a:lnTo>
                    <a:pt x="2584" y="2"/>
                  </a:lnTo>
                  <a:lnTo>
                    <a:pt x="2642" y="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0" y="3786120"/>
              <a:ext cx="1139760" cy="1370160"/>
            </a:xfrm>
            <a:custGeom>
              <a:avLst/>
              <a:gdLst/>
              <a:ahLst/>
              <a:rect l="l" t="t" r="r" b="b"/>
              <a:pathLst>
                <a:path w="2872" h="3452">
                  <a:moveTo>
                    <a:pt x="746" y="918"/>
                  </a:moveTo>
                  <a:lnTo>
                    <a:pt x="712" y="937"/>
                  </a:lnTo>
                  <a:lnTo>
                    <a:pt x="678" y="957"/>
                  </a:lnTo>
                  <a:lnTo>
                    <a:pt x="644" y="977"/>
                  </a:lnTo>
                  <a:lnTo>
                    <a:pt x="613" y="997"/>
                  </a:lnTo>
                  <a:lnTo>
                    <a:pt x="581" y="1018"/>
                  </a:lnTo>
                  <a:lnTo>
                    <a:pt x="551" y="1038"/>
                  </a:lnTo>
                  <a:lnTo>
                    <a:pt x="522" y="1060"/>
                  </a:lnTo>
                  <a:lnTo>
                    <a:pt x="492" y="1081"/>
                  </a:lnTo>
                  <a:lnTo>
                    <a:pt x="463" y="1105"/>
                  </a:lnTo>
                  <a:lnTo>
                    <a:pt x="436" y="1127"/>
                  </a:lnTo>
                  <a:lnTo>
                    <a:pt x="410" y="1150"/>
                  </a:lnTo>
                  <a:lnTo>
                    <a:pt x="384" y="1174"/>
                  </a:lnTo>
                  <a:lnTo>
                    <a:pt x="359" y="1198"/>
                  </a:lnTo>
                  <a:lnTo>
                    <a:pt x="335" y="1222"/>
                  </a:lnTo>
                  <a:lnTo>
                    <a:pt x="312" y="1247"/>
                  </a:lnTo>
                  <a:lnTo>
                    <a:pt x="289" y="1272"/>
                  </a:lnTo>
                  <a:lnTo>
                    <a:pt x="267" y="1298"/>
                  </a:lnTo>
                  <a:lnTo>
                    <a:pt x="247" y="1325"/>
                  </a:lnTo>
                  <a:lnTo>
                    <a:pt x="227" y="1351"/>
                  </a:lnTo>
                  <a:lnTo>
                    <a:pt x="207" y="1379"/>
                  </a:lnTo>
                  <a:lnTo>
                    <a:pt x="189" y="1406"/>
                  </a:lnTo>
                  <a:lnTo>
                    <a:pt x="171" y="1435"/>
                  </a:lnTo>
                  <a:lnTo>
                    <a:pt x="155" y="1462"/>
                  </a:lnTo>
                  <a:lnTo>
                    <a:pt x="139" y="1490"/>
                  </a:lnTo>
                  <a:lnTo>
                    <a:pt x="124" y="1520"/>
                  </a:lnTo>
                  <a:lnTo>
                    <a:pt x="111" y="1550"/>
                  </a:lnTo>
                  <a:lnTo>
                    <a:pt x="97" y="1580"/>
                  </a:lnTo>
                  <a:lnTo>
                    <a:pt x="84" y="1609"/>
                  </a:lnTo>
                  <a:lnTo>
                    <a:pt x="73" y="1641"/>
                  </a:lnTo>
                  <a:lnTo>
                    <a:pt x="62" y="1672"/>
                  </a:lnTo>
                  <a:lnTo>
                    <a:pt x="52" y="1704"/>
                  </a:lnTo>
                  <a:lnTo>
                    <a:pt x="43" y="1735"/>
                  </a:lnTo>
                  <a:lnTo>
                    <a:pt x="29" y="1796"/>
                  </a:lnTo>
                  <a:lnTo>
                    <a:pt x="17" y="1855"/>
                  </a:lnTo>
                  <a:lnTo>
                    <a:pt x="9" y="1915"/>
                  </a:lnTo>
                  <a:lnTo>
                    <a:pt x="4" y="1973"/>
                  </a:lnTo>
                  <a:lnTo>
                    <a:pt x="0" y="2031"/>
                  </a:lnTo>
                  <a:lnTo>
                    <a:pt x="0" y="2090"/>
                  </a:lnTo>
                  <a:lnTo>
                    <a:pt x="1" y="2147"/>
                  </a:lnTo>
                  <a:lnTo>
                    <a:pt x="5" y="2204"/>
                  </a:lnTo>
                  <a:lnTo>
                    <a:pt x="11" y="2260"/>
                  </a:lnTo>
                  <a:lnTo>
                    <a:pt x="19" y="2314"/>
                  </a:lnTo>
                  <a:lnTo>
                    <a:pt x="27" y="2368"/>
                  </a:lnTo>
                  <a:lnTo>
                    <a:pt x="38" y="2420"/>
                  </a:lnTo>
                  <a:lnTo>
                    <a:pt x="50" y="2471"/>
                  </a:lnTo>
                  <a:lnTo>
                    <a:pt x="63" y="2520"/>
                  </a:lnTo>
                  <a:lnTo>
                    <a:pt x="77" y="2569"/>
                  </a:lnTo>
                  <a:lnTo>
                    <a:pt x="91" y="2614"/>
                  </a:lnTo>
                  <a:lnTo>
                    <a:pt x="106" y="2659"/>
                  </a:lnTo>
                  <a:lnTo>
                    <a:pt x="122" y="2701"/>
                  </a:lnTo>
                  <a:lnTo>
                    <a:pt x="137" y="2742"/>
                  </a:lnTo>
                  <a:lnTo>
                    <a:pt x="153" y="2781"/>
                  </a:lnTo>
                  <a:lnTo>
                    <a:pt x="183" y="2851"/>
                  </a:lnTo>
                  <a:lnTo>
                    <a:pt x="211" y="2911"/>
                  </a:lnTo>
                  <a:lnTo>
                    <a:pt x="237" y="2961"/>
                  </a:lnTo>
                  <a:lnTo>
                    <a:pt x="257" y="2999"/>
                  </a:lnTo>
                  <a:lnTo>
                    <a:pt x="272" y="3024"/>
                  </a:lnTo>
                  <a:lnTo>
                    <a:pt x="279" y="3036"/>
                  </a:lnTo>
                  <a:lnTo>
                    <a:pt x="287" y="3052"/>
                  </a:lnTo>
                  <a:lnTo>
                    <a:pt x="294" y="3067"/>
                  </a:lnTo>
                  <a:lnTo>
                    <a:pt x="304" y="3081"/>
                  </a:lnTo>
                  <a:lnTo>
                    <a:pt x="314" y="3093"/>
                  </a:lnTo>
                  <a:lnTo>
                    <a:pt x="325" y="3105"/>
                  </a:lnTo>
                  <a:lnTo>
                    <a:pt x="338" y="3114"/>
                  </a:lnTo>
                  <a:lnTo>
                    <a:pt x="350" y="3124"/>
                  </a:lnTo>
                  <a:lnTo>
                    <a:pt x="363" y="3133"/>
                  </a:lnTo>
                  <a:lnTo>
                    <a:pt x="376" y="3141"/>
                  </a:lnTo>
                  <a:lnTo>
                    <a:pt x="391" y="3147"/>
                  </a:lnTo>
                  <a:lnTo>
                    <a:pt x="406" y="3153"/>
                  </a:lnTo>
                  <a:lnTo>
                    <a:pt x="421" y="3158"/>
                  </a:lnTo>
                  <a:lnTo>
                    <a:pt x="436" y="3163"/>
                  </a:lnTo>
                  <a:lnTo>
                    <a:pt x="451" y="3167"/>
                  </a:lnTo>
                  <a:lnTo>
                    <a:pt x="467" y="3170"/>
                  </a:lnTo>
                  <a:lnTo>
                    <a:pt x="482" y="3173"/>
                  </a:lnTo>
                  <a:lnTo>
                    <a:pt x="513" y="3176"/>
                  </a:lnTo>
                  <a:lnTo>
                    <a:pt x="543" y="3178"/>
                  </a:lnTo>
                  <a:lnTo>
                    <a:pt x="570" y="3179"/>
                  </a:lnTo>
                  <a:lnTo>
                    <a:pt x="596" y="3178"/>
                  </a:lnTo>
                  <a:lnTo>
                    <a:pt x="640" y="3175"/>
                  </a:lnTo>
                  <a:lnTo>
                    <a:pt x="667" y="3172"/>
                  </a:lnTo>
                  <a:lnTo>
                    <a:pt x="685" y="3203"/>
                  </a:lnTo>
                  <a:lnTo>
                    <a:pt x="705" y="3234"/>
                  </a:lnTo>
                  <a:lnTo>
                    <a:pt x="724" y="3261"/>
                  </a:lnTo>
                  <a:lnTo>
                    <a:pt x="744" y="3287"/>
                  </a:lnTo>
                  <a:lnTo>
                    <a:pt x="762" y="3312"/>
                  </a:lnTo>
                  <a:lnTo>
                    <a:pt x="782" y="3334"/>
                  </a:lnTo>
                  <a:lnTo>
                    <a:pt x="802" y="3354"/>
                  </a:lnTo>
                  <a:lnTo>
                    <a:pt x="822" y="3373"/>
                  </a:lnTo>
                  <a:lnTo>
                    <a:pt x="842" y="3389"/>
                  </a:lnTo>
                  <a:lnTo>
                    <a:pt x="862" y="3404"/>
                  </a:lnTo>
                  <a:lnTo>
                    <a:pt x="882" y="3416"/>
                  </a:lnTo>
                  <a:lnTo>
                    <a:pt x="903" y="3426"/>
                  </a:lnTo>
                  <a:lnTo>
                    <a:pt x="923" y="3436"/>
                  </a:lnTo>
                  <a:lnTo>
                    <a:pt x="944" y="3442"/>
                  </a:lnTo>
                  <a:lnTo>
                    <a:pt x="965" y="3447"/>
                  </a:lnTo>
                  <a:lnTo>
                    <a:pt x="986" y="3451"/>
                  </a:lnTo>
                  <a:lnTo>
                    <a:pt x="1008" y="3452"/>
                  </a:lnTo>
                  <a:lnTo>
                    <a:pt x="1029" y="3452"/>
                  </a:lnTo>
                  <a:lnTo>
                    <a:pt x="1051" y="3449"/>
                  </a:lnTo>
                  <a:lnTo>
                    <a:pt x="1070" y="3446"/>
                  </a:lnTo>
                  <a:lnTo>
                    <a:pt x="1089" y="3440"/>
                  </a:lnTo>
                  <a:lnTo>
                    <a:pt x="1105" y="3433"/>
                  </a:lnTo>
                  <a:lnTo>
                    <a:pt x="1121" y="3427"/>
                  </a:lnTo>
                  <a:lnTo>
                    <a:pt x="1136" y="3420"/>
                  </a:lnTo>
                  <a:lnTo>
                    <a:pt x="1160" y="3404"/>
                  </a:lnTo>
                  <a:lnTo>
                    <a:pt x="1178" y="3390"/>
                  </a:lnTo>
                  <a:lnTo>
                    <a:pt x="1191" y="3380"/>
                  </a:lnTo>
                  <a:lnTo>
                    <a:pt x="1196" y="3375"/>
                  </a:lnTo>
                  <a:lnTo>
                    <a:pt x="1200" y="3369"/>
                  </a:lnTo>
                  <a:lnTo>
                    <a:pt x="1203" y="3364"/>
                  </a:lnTo>
                  <a:lnTo>
                    <a:pt x="1204" y="3356"/>
                  </a:lnTo>
                  <a:lnTo>
                    <a:pt x="1204" y="3350"/>
                  </a:lnTo>
                  <a:lnTo>
                    <a:pt x="1204" y="3344"/>
                  </a:lnTo>
                  <a:lnTo>
                    <a:pt x="1202" y="3338"/>
                  </a:lnTo>
                  <a:lnTo>
                    <a:pt x="1200" y="3332"/>
                  </a:lnTo>
                  <a:lnTo>
                    <a:pt x="1196" y="3325"/>
                  </a:lnTo>
                  <a:lnTo>
                    <a:pt x="1165" y="3293"/>
                  </a:lnTo>
                  <a:lnTo>
                    <a:pt x="1137" y="3261"/>
                  </a:lnTo>
                  <a:lnTo>
                    <a:pt x="1113" y="3230"/>
                  </a:lnTo>
                  <a:lnTo>
                    <a:pt x="1089" y="3200"/>
                  </a:lnTo>
                  <a:lnTo>
                    <a:pt x="1069" y="3172"/>
                  </a:lnTo>
                  <a:lnTo>
                    <a:pt x="1052" y="3143"/>
                  </a:lnTo>
                  <a:lnTo>
                    <a:pt x="1037" y="3116"/>
                  </a:lnTo>
                  <a:lnTo>
                    <a:pt x="1024" y="3090"/>
                  </a:lnTo>
                  <a:lnTo>
                    <a:pt x="1013" y="3064"/>
                  </a:lnTo>
                  <a:lnTo>
                    <a:pt x="1006" y="3040"/>
                  </a:lnTo>
                  <a:lnTo>
                    <a:pt x="1001" y="3016"/>
                  </a:lnTo>
                  <a:lnTo>
                    <a:pt x="998" y="2994"/>
                  </a:lnTo>
                  <a:lnTo>
                    <a:pt x="998" y="2983"/>
                  </a:lnTo>
                  <a:lnTo>
                    <a:pt x="1000" y="2973"/>
                  </a:lnTo>
                  <a:lnTo>
                    <a:pt x="1000" y="2962"/>
                  </a:lnTo>
                  <a:lnTo>
                    <a:pt x="1002" y="2952"/>
                  </a:lnTo>
                  <a:lnTo>
                    <a:pt x="1005" y="2942"/>
                  </a:lnTo>
                  <a:lnTo>
                    <a:pt x="1007" y="2933"/>
                  </a:lnTo>
                  <a:lnTo>
                    <a:pt x="1011" y="2923"/>
                  </a:lnTo>
                  <a:lnTo>
                    <a:pt x="1015" y="2915"/>
                  </a:lnTo>
                  <a:lnTo>
                    <a:pt x="1028" y="2892"/>
                  </a:lnTo>
                  <a:lnTo>
                    <a:pt x="1047" y="2871"/>
                  </a:lnTo>
                  <a:lnTo>
                    <a:pt x="1068" y="2851"/>
                  </a:lnTo>
                  <a:lnTo>
                    <a:pt x="1093" y="2834"/>
                  </a:lnTo>
                  <a:lnTo>
                    <a:pt x="1120" y="2818"/>
                  </a:lnTo>
                  <a:lnTo>
                    <a:pt x="1152" y="2803"/>
                  </a:lnTo>
                  <a:lnTo>
                    <a:pt x="1186" y="2789"/>
                  </a:lnTo>
                  <a:lnTo>
                    <a:pt x="1222" y="2777"/>
                  </a:lnTo>
                  <a:lnTo>
                    <a:pt x="1260" y="2767"/>
                  </a:lnTo>
                  <a:lnTo>
                    <a:pt x="1301" y="2757"/>
                  </a:lnTo>
                  <a:lnTo>
                    <a:pt x="1345" y="2748"/>
                  </a:lnTo>
                  <a:lnTo>
                    <a:pt x="1388" y="2741"/>
                  </a:lnTo>
                  <a:lnTo>
                    <a:pt x="1434" y="2735"/>
                  </a:lnTo>
                  <a:lnTo>
                    <a:pt x="1481" y="2730"/>
                  </a:lnTo>
                  <a:lnTo>
                    <a:pt x="1530" y="2726"/>
                  </a:lnTo>
                  <a:lnTo>
                    <a:pt x="1578" y="2722"/>
                  </a:lnTo>
                  <a:lnTo>
                    <a:pt x="1628" y="2720"/>
                  </a:lnTo>
                  <a:lnTo>
                    <a:pt x="1678" y="2719"/>
                  </a:lnTo>
                  <a:lnTo>
                    <a:pt x="1727" y="2717"/>
                  </a:lnTo>
                  <a:lnTo>
                    <a:pt x="1777" y="2717"/>
                  </a:lnTo>
                  <a:lnTo>
                    <a:pt x="1875" y="2719"/>
                  </a:lnTo>
                  <a:lnTo>
                    <a:pt x="1969" y="2721"/>
                  </a:lnTo>
                  <a:lnTo>
                    <a:pt x="2059" y="2726"/>
                  </a:lnTo>
                  <a:lnTo>
                    <a:pt x="2142" y="2732"/>
                  </a:lnTo>
                  <a:lnTo>
                    <a:pt x="2217" y="2739"/>
                  </a:lnTo>
                  <a:lnTo>
                    <a:pt x="2280" y="2746"/>
                  </a:lnTo>
                  <a:lnTo>
                    <a:pt x="2285" y="2746"/>
                  </a:lnTo>
                  <a:lnTo>
                    <a:pt x="2290" y="2746"/>
                  </a:lnTo>
                  <a:lnTo>
                    <a:pt x="2295" y="2745"/>
                  </a:lnTo>
                  <a:lnTo>
                    <a:pt x="2300" y="2742"/>
                  </a:lnTo>
                  <a:lnTo>
                    <a:pt x="2305" y="2740"/>
                  </a:lnTo>
                  <a:lnTo>
                    <a:pt x="2308" y="2737"/>
                  </a:lnTo>
                  <a:lnTo>
                    <a:pt x="2312" y="2734"/>
                  </a:lnTo>
                  <a:lnTo>
                    <a:pt x="2315" y="2729"/>
                  </a:lnTo>
                  <a:lnTo>
                    <a:pt x="2317" y="2725"/>
                  </a:lnTo>
                  <a:lnTo>
                    <a:pt x="2318" y="2720"/>
                  </a:lnTo>
                  <a:lnTo>
                    <a:pt x="2320" y="2715"/>
                  </a:lnTo>
                  <a:lnTo>
                    <a:pt x="2320" y="2710"/>
                  </a:lnTo>
                  <a:lnTo>
                    <a:pt x="2320" y="2705"/>
                  </a:lnTo>
                  <a:lnTo>
                    <a:pt x="2318" y="2700"/>
                  </a:lnTo>
                  <a:lnTo>
                    <a:pt x="2316" y="2694"/>
                  </a:lnTo>
                  <a:lnTo>
                    <a:pt x="2313" y="2689"/>
                  </a:lnTo>
                  <a:lnTo>
                    <a:pt x="2297" y="2667"/>
                  </a:lnTo>
                  <a:lnTo>
                    <a:pt x="2254" y="2607"/>
                  </a:lnTo>
                  <a:lnTo>
                    <a:pt x="2192" y="2523"/>
                  </a:lnTo>
                  <a:lnTo>
                    <a:pt x="2120" y="2425"/>
                  </a:lnTo>
                  <a:lnTo>
                    <a:pt x="2046" y="2325"/>
                  </a:lnTo>
                  <a:lnTo>
                    <a:pt x="1982" y="2235"/>
                  </a:lnTo>
                  <a:lnTo>
                    <a:pt x="1932" y="2168"/>
                  </a:lnTo>
                  <a:lnTo>
                    <a:pt x="1907" y="2134"/>
                  </a:lnTo>
                  <a:lnTo>
                    <a:pt x="1923" y="2133"/>
                  </a:lnTo>
                  <a:lnTo>
                    <a:pt x="1938" y="2133"/>
                  </a:lnTo>
                  <a:lnTo>
                    <a:pt x="1938" y="2133"/>
                  </a:lnTo>
                  <a:lnTo>
                    <a:pt x="1938" y="2133"/>
                  </a:lnTo>
                  <a:lnTo>
                    <a:pt x="1945" y="2132"/>
                  </a:lnTo>
                  <a:lnTo>
                    <a:pt x="1950" y="2131"/>
                  </a:lnTo>
                  <a:lnTo>
                    <a:pt x="1955" y="2129"/>
                  </a:lnTo>
                  <a:lnTo>
                    <a:pt x="1959" y="2127"/>
                  </a:lnTo>
                  <a:lnTo>
                    <a:pt x="1963" y="2123"/>
                  </a:lnTo>
                  <a:lnTo>
                    <a:pt x="1967" y="2119"/>
                  </a:lnTo>
                  <a:lnTo>
                    <a:pt x="1969" y="2114"/>
                  </a:lnTo>
                  <a:lnTo>
                    <a:pt x="1972" y="2109"/>
                  </a:lnTo>
                  <a:lnTo>
                    <a:pt x="1974" y="2103"/>
                  </a:lnTo>
                  <a:lnTo>
                    <a:pt x="1974" y="2097"/>
                  </a:lnTo>
                  <a:lnTo>
                    <a:pt x="1973" y="2090"/>
                  </a:lnTo>
                  <a:lnTo>
                    <a:pt x="1971" y="2082"/>
                  </a:lnTo>
                  <a:lnTo>
                    <a:pt x="1967" y="2076"/>
                  </a:lnTo>
                  <a:lnTo>
                    <a:pt x="1962" y="2070"/>
                  </a:lnTo>
                  <a:lnTo>
                    <a:pt x="1946" y="2057"/>
                  </a:lnTo>
                  <a:lnTo>
                    <a:pt x="1928" y="2046"/>
                  </a:lnTo>
                  <a:lnTo>
                    <a:pt x="1911" y="2035"/>
                  </a:lnTo>
                  <a:lnTo>
                    <a:pt x="1891" y="2024"/>
                  </a:lnTo>
                  <a:lnTo>
                    <a:pt x="1851" y="2004"/>
                  </a:lnTo>
                  <a:lnTo>
                    <a:pt x="1808" y="1985"/>
                  </a:lnTo>
                  <a:lnTo>
                    <a:pt x="1830" y="1975"/>
                  </a:lnTo>
                  <a:lnTo>
                    <a:pt x="1855" y="1962"/>
                  </a:lnTo>
                  <a:lnTo>
                    <a:pt x="1881" y="1946"/>
                  </a:lnTo>
                  <a:lnTo>
                    <a:pt x="1910" y="1928"/>
                  </a:lnTo>
                  <a:lnTo>
                    <a:pt x="1938" y="1909"/>
                  </a:lnTo>
                  <a:lnTo>
                    <a:pt x="1969" y="1886"/>
                  </a:lnTo>
                  <a:lnTo>
                    <a:pt x="2000" y="1863"/>
                  </a:lnTo>
                  <a:lnTo>
                    <a:pt x="2033" y="1838"/>
                  </a:lnTo>
                  <a:lnTo>
                    <a:pt x="2101" y="1783"/>
                  </a:lnTo>
                  <a:lnTo>
                    <a:pt x="2169" y="1725"/>
                  </a:lnTo>
                  <a:lnTo>
                    <a:pt x="2240" y="1663"/>
                  </a:lnTo>
                  <a:lnTo>
                    <a:pt x="2310" y="1600"/>
                  </a:lnTo>
                  <a:lnTo>
                    <a:pt x="2379" y="1535"/>
                  </a:lnTo>
                  <a:lnTo>
                    <a:pt x="2445" y="1473"/>
                  </a:lnTo>
                  <a:lnTo>
                    <a:pt x="2507" y="1412"/>
                  </a:lnTo>
                  <a:lnTo>
                    <a:pt x="2565" y="1356"/>
                  </a:lnTo>
                  <a:lnTo>
                    <a:pt x="2618" y="1304"/>
                  </a:lnTo>
                  <a:lnTo>
                    <a:pt x="2662" y="1260"/>
                  </a:lnTo>
                  <a:lnTo>
                    <a:pt x="2700" y="1222"/>
                  </a:lnTo>
                  <a:lnTo>
                    <a:pt x="2727" y="1194"/>
                  </a:lnTo>
                  <a:lnTo>
                    <a:pt x="2747" y="1173"/>
                  </a:lnTo>
                  <a:lnTo>
                    <a:pt x="2764" y="1149"/>
                  </a:lnTo>
                  <a:lnTo>
                    <a:pt x="2780" y="1124"/>
                  </a:lnTo>
                  <a:lnTo>
                    <a:pt x="2795" y="1100"/>
                  </a:lnTo>
                  <a:lnTo>
                    <a:pt x="2809" y="1074"/>
                  </a:lnTo>
                  <a:lnTo>
                    <a:pt x="2820" y="1047"/>
                  </a:lnTo>
                  <a:lnTo>
                    <a:pt x="2831" y="1020"/>
                  </a:lnTo>
                  <a:lnTo>
                    <a:pt x="2840" y="992"/>
                  </a:lnTo>
                  <a:lnTo>
                    <a:pt x="2849" y="963"/>
                  </a:lnTo>
                  <a:lnTo>
                    <a:pt x="2855" y="933"/>
                  </a:lnTo>
                  <a:lnTo>
                    <a:pt x="2860" y="904"/>
                  </a:lnTo>
                  <a:lnTo>
                    <a:pt x="2865" y="874"/>
                  </a:lnTo>
                  <a:lnTo>
                    <a:pt x="2868" y="843"/>
                  </a:lnTo>
                  <a:lnTo>
                    <a:pt x="2871" y="812"/>
                  </a:lnTo>
                  <a:lnTo>
                    <a:pt x="2872" y="781"/>
                  </a:lnTo>
                  <a:lnTo>
                    <a:pt x="2872" y="750"/>
                  </a:lnTo>
                  <a:lnTo>
                    <a:pt x="2872" y="717"/>
                  </a:lnTo>
                  <a:lnTo>
                    <a:pt x="2871" y="686"/>
                  </a:lnTo>
                  <a:lnTo>
                    <a:pt x="2868" y="654"/>
                  </a:lnTo>
                  <a:lnTo>
                    <a:pt x="2866" y="622"/>
                  </a:lnTo>
                  <a:lnTo>
                    <a:pt x="2859" y="560"/>
                  </a:lnTo>
                  <a:lnTo>
                    <a:pt x="2849" y="498"/>
                  </a:lnTo>
                  <a:lnTo>
                    <a:pt x="2837" y="437"/>
                  </a:lnTo>
                  <a:lnTo>
                    <a:pt x="2824" y="379"/>
                  </a:lnTo>
                  <a:lnTo>
                    <a:pt x="2810" y="323"/>
                  </a:lnTo>
                  <a:lnTo>
                    <a:pt x="2795" y="271"/>
                  </a:lnTo>
                  <a:lnTo>
                    <a:pt x="2782" y="222"/>
                  </a:lnTo>
                  <a:lnTo>
                    <a:pt x="2767" y="178"/>
                  </a:lnTo>
                  <a:lnTo>
                    <a:pt x="2753" y="138"/>
                  </a:lnTo>
                  <a:lnTo>
                    <a:pt x="2741" y="105"/>
                  </a:lnTo>
                  <a:lnTo>
                    <a:pt x="2722" y="54"/>
                  </a:lnTo>
                  <a:lnTo>
                    <a:pt x="2712" y="30"/>
                  </a:lnTo>
                  <a:lnTo>
                    <a:pt x="2707" y="23"/>
                  </a:lnTo>
                  <a:lnTo>
                    <a:pt x="2701" y="16"/>
                  </a:lnTo>
                  <a:lnTo>
                    <a:pt x="2693" y="11"/>
                  </a:lnTo>
                  <a:lnTo>
                    <a:pt x="2686" y="9"/>
                  </a:lnTo>
                  <a:lnTo>
                    <a:pt x="2626" y="2"/>
                  </a:lnTo>
                  <a:lnTo>
                    <a:pt x="2563" y="0"/>
                  </a:lnTo>
                  <a:lnTo>
                    <a:pt x="2497" y="5"/>
                  </a:lnTo>
                  <a:lnTo>
                    <a:pt x="2429" y="15"/>
                  </a:lnTo>
                  <a:lnTo>
                    <a:pt x="2357" y="30"/>
                  </a:lnTo>
                  <a:lnTo>
                    <a:pt x="2284" y="49"/>
                  </a:lnTo>
                  <a:lnTo>
                    <a:pt x="2209" y="72"/>
                  </a:lnTo>
                  <a:lnTo>
                    <a:pt x="2132" y="100"/>
                  </a:lnTo>
                  <a:lnTo>
                    <a:pt x="2054" y="129"/>
                  </a:lnTo>
                  <a:lnTo>
                    <a:pt x="1976" y="163"/>
                  </a:lnTo>
                  <a:lnTo>
                    <a:pt x="1896" y="200"/>
                  </a:lnTo>
                  <a:lnTo>
                    <a:pt x="1818" y="237"/>
                  </a:lnTo>
                  <a:lnTo>
                    <a:pt x="1738" y="278"/>
                  </a:lnTo>
                  <a:lnTo>
                    <a:pt x="1660" y="320"/>
                  </a:lnTo>
                  <a:lnTo>
                    <a:pt x="1583" y="364"/>
                  </a:lnTo>
                  <a:lnTo>
                    <a:pt x="1506" y="407"/>
                  </a:lnTo>
                  <a:lnTo>
                    <a:pt x="1432" y="452"/>
                  </a:lnTo>
                  <a:lnTo>
                    <a:pt x="1360" y="497"/>
                  </a:lnTo>
                  <a:lnTo>
                    <a:pt x="1290" y="540"/>
                  </a:lnTo>
                  <a:lnTo>
                    <a:pt x="1222" y="583"/>
                  </a:lnTo>
                  <a:lnTo>
                    <a:pt x="1096" y="667"/>
                  </a:lnTo>
                  <a:lnTo>
                    <a:pt x="986" y="743"/>
                  </a:lnTo>
                  <a:lnTo>
                    <a:pt x="893" y="809"/>
                  </a:lnTo>
                  <a:lnTo>
                    <a:pt x="820" y="863"/>
                  </a:lnTo>
                  <a:lnTo>
                    <a:pt x="770" y="900"/>
                  </a:lnTo>
                  <a:lnTo>
                    <a:pt x="746" y="918"/>
                  </a:lnTo>
                  <a:close/>
                  <a:moveTo>
                    <a:pt x="343" y="3004"/>
                  </a:moveTo>
                  <a:lnTo>
                    <a:pt x="338" y="2994"/>
                  </a:lnTo>
                  <a:lnTo>
                    <a:pt x="324" y="2972"/>
                  </a:lnTo>
                  <a:lnTo>
                    <a:pt x="305" y="2936"/>
                  </a:lnTo>
                  <a:lnTo>
                    <a:pt x="281" y="2889"/>
                  </a:lnTo>
                  <a:lnTo>
                    <a:pt x="253" y="2832"/>
                  </a:lnTo>
                  <a:lnTo>
                    <a:pt x="224" y="2763"/>
                  </a:lnTo>
                  <a:lnTo>
                    <a:pt x="209" y="2726"/>
                  </a:lnTo>
                  <a:lnTo>
                    <a:pt x="194" y="2686"/>
                  </a:lnTo>
                  <a:lnTo>
                    <a:pt x="179" y="2645"/>
                  </a:lnTo>
                  <a:lnTo>
                    <a:pt x="164" y="2602"/>
                  </a:lnTo>
                  <a:lnTo>
                    <a:pt x="149" y="2557"/>
                  </a:lnTo>
                  <a:lnTo>
                    <a:pt x="137" y="2510"/>
                  </a:lnTo>
                  <a:lnTo>
                    <a:pt x="123" y="2462"/>
                  </a:lnTo>
                  <a:lnTo>
                    <a:pt x="112" y="2413"/>
                  </a:lnTo>
                  <a:lnTo>
                    <a:pt x="101" y="2363"/>
                  </a:lnTo>
                  <a:lnTo>
                    <a:pt x="92" y="2310"/>
                  </a:lnTo>
                  <a:lnTo>
                    <a:pt x="84" y="2257"/>
                  </a:lnTo>
                  <a:lnTo>
                    <a:pt x="78" y="2204"/>
                  </a:lnTo>
                  <a:lnTo>
                    <a:pt x="75" y="2149"/>
                  </a:lnTo>
                  <a:lnTo>
                    <a:pt x="72" y="2093"/>
                  </a:lnTo>
                  <a:lnTo>
                    <a:pt x="72" y="2038"/>
                  </a:lnTo>
                  <a:lnTo>
                    <a:pt x="75" y="1980"/>
                  </a:lnTo>
                  <a:lnTo>
                    <a:pt x="79" y="1925"/>
                  </a:lnTo>
                  <a:lnTo>
                    <a:pt x="88" y="1868"/>
                  </a:lnTo>
                  <a:lnTo>
                    <a:pt x="98" y="1810"/>
                  </a:lnTo>
                  <a:lnTo>
                    <a:pt x="112" y="1753"/>
                  </a:lnTo>
                  <a:lnTo>
                    <a:pt x="120" y="1724"/>
                  </a:lnTo>
                  <a:lnTo>
                    <a:pt x="130" y="1694"/>
                  </a:lnTo>
                  <a:lnTo>
                    <a:pt x="140" y="1664"/>
                  </a:lnTo>
                  <a:lnTo>
                    <a:pt x="151" y="1636"/>
                  </a:lnTo>
                  <a:lnTo>
                    <a:pt x="163" y="1607"/>
                  </a:lnTo>
                  <a:lnTo>
                    <a:pt x="175" y="1578"/>
                  </a:lnTo>
                  <a:lnTo>
                    <a:pt x="189" y="1551"/>
                  </a:lnTo>
                  <a:lnTo>
                    <a:pt x="204" y="1523"/>
                  </a:lnTo>
                  <a:lnTo>
                    <a:pt x="219" y="1497"/>
                  </a:lnTo>
                  <a:lnTo>
                    <a:pt x="233" y="1469"/>
                  </a:lnTo>
                  <a:lnTo>
                    <a:pt x="251" y="1443"/>
                  </a:lnTo>
                  <a:lnTo>
                    <a:pt x="268" y="1417"/>
                  </a:lnTo>
                  <a:lnTo>
                    <a:pt x="287" y="1391"/>
                  </a:lnTo>
                  <a:lnTo>
                    <a:pt x="305" y="1366"/>
                  </a:lnTo>
                  <a:lnTo>
                    <a:pt x="325" y="1342"/>
                  </a:lnTo>
                  <a:lnTo>
                    <a:pt x="346" y="1317"/>
                  </a:lnTo>
                  <a:lnTo>
                    <a:pt x="368" y="1293"/>
                  </a:lnTo>
                  <a:lnTo>
                    <a:pt x="390" y="1268"/>
                  </a:lnTo>
                  <a:lnTo>
                    <a:pt x="412" y="1246"/>
                  </a:lnTo>
                  <a:lnTo>
                    <a:pt x="437" y="1222"/>
                  </a:lnTo>
                  <a:lnTo>
                    <a:pt x="462" y="1200"/>
                  </a:lnTo>
                  <a:lnTo>
                    <a:pt x="487" y="1178"/>
                  </a:lnTo>
                  <a:lnTo>
                    <a:pt x="513" y="1157"/>
                  </a:lnTo>
                  <a:lnTo>
                    <a:pt x="540" y="1134"/>
                  </a:lnTo>
                  <a:lnTo>
                    <a:pt x="567" y="1114"/>
                  </a:lnTo>
                  <a:lnTo>
                    <a:pt x="597" y="1093"/>
                  </a:lnTo>
                  <a:lnTo>
                    <a:pt x="626" y="1074"/>
                  </a:lnTo>
                  <a:lnTo>
                    <a:pt x="657" y="1054"/>
                  </a:lnTo>
                  <a:lnTo>
                    <a:pt x="687" y="1034"/>
                  </a:lnTo>
                  <a:lnTo>
                    <a:pt x="719" y="1015"/>
                  </a:lnTo>
                  <a:lnTo>
                    <a:pt x="751" y="997"/>
                  </a:lnTo>
                  <a:lnTo>
                    <a:pt x="785" y="978"/>
                  </a:lnTo>
                  <a:lnTo>
                    <a:pt x="802" y="966"/>
                  </a:lnTo>
                  <a:lnTo>
                    <a:pt x="846" y="932"/>
                  </a:lnTo>
                  <a:lnTo>
                    <a:pt x="914" y="884"/>
                  </a:lnTo>
                  <a:lnTo>
                    <a:pt x="1002" y="820"/>
                  </a:lnTo>
                  <a:lnTo>
                    <a:pt x="1108" y="747"/>
                  </a:lnTo>
                  <a:lnTo>
                    <a:pt x="1229" y="667"/>
                  </a:lnTo>
                  <a:lnTo>
                    <a:pt x="1294" y="623"/>
                  </a:lnTo>
                  <a:lnTo>
                    <a:pt x="1362" y="581"/>
                  </a:lnTo>
                  <a:lnTo>
                    <a:pt x="1433" y="536"/>
                  </a:lnTo>
                  <a:lnTo>
                    <a:pt x="1505" y="493"/>
                  </a:lnTo>
                  <a:lnTo>
                    <a:pt x="1580" y="449"/>
                  </a:lnTo>
                  <a:lnTo>
                    <a:pt x="1655" y="406"/>
                  </a:lnTo>
                  <a:lnTo>
                    <a:pt x="1731" y="364"/>
                  </a:lnTo>
                  <a:lnTo>
                    <a:pt x="1809" y="324"/>
                  </a:lnTo>
                  <a:lnTo>
                    <a:pt x="1886" y="284"/>
                  </a:lnTo>
                  <a:lnTo>
                    <a:pt x="1963" y="248"/>
                  </a:lnTo>
                  <a:lnTo>
                    <a:pt x="2040" y="214"/>
                  </a:lnTo>
                  <a:lnTo>
                    <a:pt x="2116" y="183"/>
                  </a:lnTo>
                  <a:lnTo>
                    <a:pt x="2192" y="154"/>
                  </a:lnTo>
                  <a:lnTo>
                    <a:pt x="2265" y="129"/>
                  </a:lnTo>
                  <a:lnTo>
                    <a:pt x="2336" y="109"/>
                  </a:lnTo>
                  <a:lnTo>
                    <a:pt x="2405" y="92"/>
                  </a:lnTo>
                  <a:lnTo>
                    <a:pt x="2472" y="81"/>
                  </a:lnTo>
                  <a:lnTo>
                    <a:pt x="2537" y="75"/>
                  </a:lnTo>
                  <a:lnTo>
                    <a:pt x="2596" y="74"/>
                  </a:lnTo>
                  <a:lnTo>
                    <a:pt x="2654" y="77"/>
                  </a:lnTo>
                  <a:lnTo>
                    <a:pt x="2670" y="118"/>
                  </a:lnTo>
                  <a:lnTo>
                    <a:pt x="2690" y="176"/>
                  </a:lnTo>
                  <a:lnTo>
                    <a:pt x="2702" y="211"/>
                  </a:lnTo>
                  <a:lnTo>
                    <a:pt x="2714" y="251"/>
                  </a:lnTo>
                  <a:lnTo>
                    <a:pt x="2727" y="293"/>
                  </a:lnTo>
                  <a:lnTo>
                    <a:pt x="2739" y="338"/>
                  </a:lnTo>
                  <a:lnTo>
                    <a:pt x="2750" y="385"/>
                  </a:lnTo>
                  <a:lnTo>
                    <a:pt x="2763" y="435"/>
                  </a:lnTo>
                  <a:lnTo>
                    <a:pt x="2773" y="485"/>
                  </a:lnTo>
                  <a:lnTo>
                    <a:pt x="2782" y="538"/>
                  </a:lnTo>
                  <a:lnTo>
                    <a:pt x="2790" y="591"/>
                  </a:lnTo>
                  <a:lnTo>
                    <a:pt x="2795" y="645"/>
                  </a:lnTo>
                  <a:lnTo>
                    <a:pt x="2799" y="699"/>
                  </a:lnTo>
                  <a:lnTo>
                    <a:pt x="2800" y="752"/>
                  </a:lnTo>
                  <a:lnTo>
                    <a:pt x="2800" y="781"/>
                  </a:lnTo>
                  <a:lnTo>
                    <a:pt x="2799" y="808"/>
                  </a:lnTo>
                  <a:lnTo>
                    <a:pt x="2796" y="837"/>
                  </a:lnTo>
                  <a:lnTo>
                    <a:pt x="2794" y="864"/>
                  </a:lnTo>
                  <a:lnTo>
                    <a:pt x="2790" y="890"/>
                  </a:lnTo>
                  <a:lnTo>
                    <a:pt x="2785" y="917"/>
                  </a:lnTo>
                  <a:lnTo>
                    <a:pt x="2780" y="943"/>
                  </a:lnTo>
                  <a:lnTo>
                    <a:pt x="2773" y="968"/>
                  </a:lnTo>
                  <a:lnTo>
                    <a:pt x="2765" y="993"/>
                  </a:lnTo>
                  <a:lnTo>
                    <a:pt x="2755" y="1018"/>
                  </a:lnTo>
                  <a:lnTo>
                    <a:pt x="2746" y="1040"/>
                  </a:lnTo>
                  <a:lnTo>
                    <a:pt x="2734" y="1064"/>
                  </a:lnTo>
                  <a:lnTo>
                    <a:pt x="2722" y="1085"/>
                  </a:lnTo>
                  <a:lnTo>
                    <a:pt x="2707" y="1106"/>
                  </a:lnTo>
                  <a:lnTo>
                    <a:pt x="2692" y="1126"/>
                  </a:lnTo>
                  <a:lnTo>
                    <a:pt x="2676" y="1145"/>
                  </a:lnTo>
                  <a:lnTo>
                    <a:pt x="2619" y="1203"/>
                  </a:lnTo>
                  <a:lnTo>
                    <a:pt x="2558" y="1263"/>
                  </a:lnTo>
                  <a:lnTo>
                    <a:pt x="2493" y="1327"/>
                  </a:lnTo>
                  <a:lnTo>
                    <a:pt x="2428" y="1391"/>
                  </a:lnTo>
                  <a:lnTo>
                    <a:pt x="2359" y="1456"/>
                  </a:lnTo>
                  <a:lnTo>
                    <a:pt x="2291" y="1519"/>
                  </a:lnTo>
                  <a:lnTo>
                    <a:pt x="2223" y="1582"/>
                  </a:lnTo>
                  <a:lnTo>
                    <a:pt x="2156" y="1642"/>
                  </a:lnTo>
                  <a:lnTo>
                    <a:pt x="2090" y="1699"/>
                  </a:lnTo>
                  <a:lnTo>
                    <a:pt x="2028" y="1752"/>
                  </a:lnTo>
                  <a:lnTo>
                    <a:pt x="1969" y="1799"/>
                  </a:lnTo>
                  <a:lnTo>
                    <a:pt x="1915" y="1842"/>
                  </a:lnTo>
                  <a:lnTo>
                    <a:pt x="1889" y="1860"/>
                  </a:lnTo>
                  <a:lnTo>
                    <a:pt x="1865" y="1876"/>
                  </a:lnTo>
                  <a:lnTo>
                    <a:pt x="1843" y="1891"/>
                  </a:lnTo>
                  <a:lnTo>
                    <a:pt x="1822" y="1904"/>
                  </a:lnTo>
                  <a:lnTo>
                    <a:pt x="1803" y="1913"/>
                  </a:lnTo>
                  <a:lnTo>
                    <a:pt x="1786" y="1922"/>
                  </a:lnTo>
                  <a:lnTo>
                    <a:pt x="1771" y="1928"/>
                  </a:lnTo>
                  <a:lnTo>
                    <a:pt x="1757" y="1931"/>
                  </a:lnTo>
                  <a:lnTo>
                    <a:pt x="1737" y="1911"/>
                  </a:lnTo>
                  <a:lnTo>
                    <a:pt x="1709" y="1884"/>
                  </a:lnTo>
                  <a:lnTo>
                    <a:pt x="1674" y="1853"/>
                  </a:lnTo>
                  <a:lnTo>
                    <a:pt x="1635" y="1822"/>
                  </a:lnTo>
                  <a:lnTo>
                    <a:pt x="1614" y="1807"/>
                  </a:lnTo>
                  <a:lnTo>
                    <a:pt x="1593" y="1792"/>
                  </a:lnTo>
                  <a:lnTo>
                    <a:pt x="1571" y="1778"/>
                  </a:lnTo>
                  <a:lnTo>
                    <a:pt x="1550" y="1767"/>
                  </a:lnTo>
                  <a:lnTo>
                    <a:pt x="1527" y="1757"/>
                  </a:lnTo>
                  <a:lnTo>
                    <a:pt x="1506" y="1750"/>
                  </a:lnTo>
                  <a:lnTo>
                    <a:pt x="1495" y="1746"/>
                  </a:lnTo>
                  <a:lnTo>
                    <a:pt x="1485" y="1743"/>
                  </a:lnTo>
                  <a:lnTo>
                    <a:pt x="1475" y="1742"/>
                  </a:lnTo>
                  <a:lnTo>
                    <a:pt x="1465" y="1742"/>
                  </a:lnTo>
                  <a:lnTo>
                    <a:pt x="1459" y="1742"/>
                  </a:lnTo>
                  <a:lnTo>
                    <a:pt x="1454" y="1743"/>
                  </a:lnTo>
                  <a:lnTo>
                    <a:pt x="1448" y="1746"/>
                  </a:lnTo>
                  <a:lnTo>
                    <a:pt x="1444" y="1748"/>
                  </a:lnTo>
                  <a:lnTo>
                    <a:pt x="1439" y="1752"/>
                  </a:lnTo>
                  <a:lnTo>
                    <a:pt x="1435" y="1756"/>
                  </a:lnTo>
                  <a:lnTo>
                    <a:pt x="1432" y="1761"/>
                  </a:lnTo>
                  <a:lnTo>
                    <a:pt x="1430" y="1766"/>
                  </a:lnTo>
                  <a:lnTo>
                    <a:pt x="1429" y="1772"/>
                  </a:lnTo>
                  <a:lnTo>
                    <a:pt x="1428" y="1777"/>
                  </a:lnTo>
                  <a:lnTo>
                    <a:pt x="1429" y="1786"/>
                  </a:lnTo>
                  <a:lnTo>
                    <a:pt x="1433" y="1794"/>
                  </a:lnTo>
                  <a:lnTo>
                    <a:pt x="1437" y="1801"/>
                  </a:lnTo>
                  <a:lnTo>
                    <a:pt x="1444" y="1807"/>
                  </a:lnTo>
                  <a:lnTo>
                    <a:pt x="1457" y="1815"/>
                  </a:lnTo>
                  <a:lnTo>
                    <a:pt x="1490" y="1838"/>
                  </a:lnTo>
                  <a:lnTo>
                    <a:pt x="1536" y="1870"/>
                  </a:lnTo>
                  <a:lnTo>
                    <a:pt x="1589" y="1906"/>
                  </a:lnTo>
                  <a:lnTo>
                    <a:pt x="1479" y="1882"/>
                  </a:lnTo>
                  <a:lnTo>
                    <a:pt x="1380" y="1863"/>
                  </a:lnTo>
                  <a:lnTo>
                    <a:pt x="1335" y="1854"/>
                  </a:lnTo>
                  <a:lnTo>
                    <a:pt x="1291" y="1848"/>
                  </a:lnTo>
                  <a:lnTo>
                    <a:pt x="1252" y="1843"/>
                  </a:lnTo>
                  <a:lnTo>
                    <a:pt x="1214" y="1839"/>
                  </a:lnTo>
                  <a:lnTo>
                    <a:pt x="1181" y="1837"/>
                  </a:lnTo>
                  <a:lnTo>
                    <a:pt x="1150" y="1837"/>
                  </a:lnTo>
                  <a:lnTo>
                    <a:pt x="1121" y="1838"/>
                  </a:lnTo>
                  <a:lnTo>
                    <a:pt x="1096" y="1840"/>
                  </a:lnTo>
                  <a:lnTo>
                    <a:pt x="1085" y="1843"/>
                  </a:lnTo>
                  <a:lnTo>
                    <a:pt x="1075" y="1846"/>
                  </a:lnTo>
                  <a:lnTo>
                    <a:pt x="1065" y="1849"/>
                  </a:lnTo>
                  <a:lnTo>
                    <a:pt x="1057" y="1853"/>
                  </a:lnTo>
                  <a:lnTo>
                    <a:pt x="1048" y="1858"/>
                  </a:lnTo>
                  <a:lnTo>
                    <a:pt x="1041" y="1861"/>
                  </a:lnTo>
                  <a:lnTo>
                    <a:pt x="1034" y="1868"/>
                  </a:lnTo>
                  <a:lnTo>
                    <a:pt x="1028" y="1873"/>
                  </a:lnTo>
                  <a:lnTo>
                    <a:pt x="1024" y="1877"/>
                  </a:lnTo>
                  <a:lnTo>
                    <a:pt x="1022" y="1884"/>
                  </a:lnTo>
                  <a:lnTo>
                    <a:pt x="1021" y="1890"/>
                  </a:lnTo>
                  <a:lnTo>
                    <a:pt x="1019" y="1896"/>
                  </a:lnTo>
                  <a:lnTo>
                    <a:pt x="1021" y="1904"/>
                  </a:lnTo>
                  <a:lnTo>
                    <a:pt x="1023" y="1911"/>
                  </a:lnTo>
                  <a:lnTo>
                    <a:pt x="1026" y="1915"/>
                  </a:lnTo>
                  <a:lnTo>
                    <a:pt x="1028" y="1920"/>
                  </a:lnTo>
                  <a:lnTo>
                    <a:pt x="1032" y="1923"/>
                  </a:lnTo>
                  <a:lnTo>
                    <a:pt x="1036" y="1926"/>
                  </a:lnTo>
                  <a:lnTo>
                    <a:pt x="1041" y="1928"/>
                  </a:lnTo>
                  <a:lnTo>
                    <a:pt x="1044" y="1930"/>
                  </a:lnTo>
                  <a:lnTo>
                    <a:pt x="1049" y="1931"/>
                  </a:lnTo>
                  <a:lnTo>
                    <a:pt x="1055" y="1932"/>
                  </a:lnTo>
                  <a:lnTo>
                    <a:pt x="1078" y="1932"/>
                  </a:lnTo>
                  <a:lnTo>
                    <a:pt x="1140" y="1935"/>
                  </a:lnTo>
                  <a:lnTo>
                    <a:pt x="1181" y="1938"/>
                  </a:lnTo>
                  <a:lnTo>
                    <a:pt x="1229" y="1941"/>
                  </a:lnTo>
                  <a:lnTo>
                    <a:pt x="1283" y="1946"/>
                  </a:lnTo>
                  <a:lnTo>
                    <a:pt x="1340" y="1952"/>
                  </a:lnTo>
                  <a:lnTo>
                    <a:pt x="1399" y="1959"/>
                  </a:lnTo>
                  <a:lnTo>
                    <a:pt x="1462" y="1968"/>
                  </a:lnTo>
                  <a:lnTo>
                    <a:pt x="1525" y="1979"/>
                  </a:lnTo>
                  <a:lnTo>
                    <a:pt x="1588" y="1993"/>
                  </a:lnTo>
                  <a:lnTo>
                    <a:pt x="1619" y="1999"/>
                  </a:lnTo>
                  <a:lnTo>
                    <a:pt x="1650" y="2008"/>
                  </a:lnTo>
                  <a:lnTo>
                    <a:pt x="1681" y="2015"/>
                  </a:lnTo>
                  <a:lnTo>
                    <a:pt x="1711" y="2024"/>
                  </a:lnTo>
                  <a:lnTo>
                    <a:pt x="1740" y="2034"/>
                  </a:lnTo>
                  <a:lnTo>
                    <a:pt x="1767" y="2044"/>
                  </a:lnTo>
                  <a:lnTo>
                    <a:pt x="1794" y="2055"/>
                  </a:lnTo>
                  <a:lnTo>
                    <a:pt x="1820" y="2066"/>
                  </a:lnTo>
                  <a:lnTo>
                    <a:pt x="1788" y="2069"/>
                  </a:lnTo>
                  <a:lnTo>
                    <a:pt x="1753" y="2072"/>
                  </a:lnTo>
                  <a:lnTo>
                    <a:pt x="1716" y="2076"/>
                  </a:lnTo>
                  <a:lnTo>
                    <a:pt x="1679" y="2081"/>
                  </a:lnTo>
                  <a:lnTo>
                    <a:pt x="1639" y="2088"/>
                  </a:lnTo>
                  <a:lnTo>
                    <a:pt x="1601" y="2096"/>
                  </a:lnTo>
                  <a:lnTo>
                    <a:pt x="1561" y="2105"/>
                  </a:lnTo>
                  <a:lnTo>
                    <a:pt x="1521" y="2114"/>
                  </a:lnTo>
                  <a:lnTo>
                    <a:pt x="1483" y="2127"/>
                  </a:lnTo>
                  <a:lnTo>
                    <a:pt x="1447" y="2141"/>
                  </a:lnTo>
                  <a:lnTo>
                    <a:pt x="1428" y="2148"/>
                  </a:lnTo>
                  <a:lnTo>
                    <a:pt x="1411" y="2157"/>
                  </a:lnTo>
                  <a:lnTo>
                    <a:pt x="1394" y="2164"/>
                  </a:lnTo>
                  <a:lnTo>
                    <a:pt x="1378" y="2174"/>
                  </a:lnTo>
                  <a:lnTo>
                    <a:pt x="1363" y="2183"/>
                  </a:lnTo>
                  <a:lnTo>
                    <a:pt x="1349" y="2193"/>
                  </a:lnTo>
                  <a:lnTo>
                    <a:pt x="1335" y="2204"/>
                  </a:lnTo>
                  <a:lnTo>
                    <a:pt x="1321" y="2215"/>
                  </a:lnTo>
                  <a:lnTo>
                    <a:pt x="1309" y="2226"/>
                  </a:lnTo>
                  <a:lnTo>
                    <a:pt x="1299" y="2239"/>
                  </a:lnTo>
                  <a:lnTo>
                    <a:pt x="1288" y="2251"/>
                  </a:lnTo>
                  <a:lnTo>
                    <a:pt x="1279" y="2265"/>
                  </a:lnTo>
                  <a:lnTo>
                    <a:pt x="1277" y="2270"/>
                  </a:lnTo>
                  <a:lnTo>
                    <a:pt x="1275" y="2273"/>
                  </a:lnTo>
                  <a:lnTo>
                    <a:pt x="1274" y="2278"/>
                  </a:lnTo>
                  <a:lnTo>
                    <a:pt x="1274" y="2283"/>
                  </a:lnTo>
                  <a:lnTo>
                    <a:pt x="1274" y="2291"/>
                  </a:lnTo>
                  <a:lnTo>
                    <a:pt x="1277" y="2297"/>
                  </a:lnTo>
                  <a:lnTo>
                    <a:pt x="1280" y="2303"/>
                  </a:lnTo>
                  <a:lnTo>
                    <a:pt x="1284" y="2308"/>
                  </a:lnTo>
                  <a:lnTo>
                    <a:pt x="1289" y="2312"/>
                  </a:lnTo>
                  <a:lnTo>
                    <a:pt x="1294" y="2315"/>
                  </a:lnTo>
                  <a:lnTo>
                    <a:pt x="1299" y="2318"/>
                  </a:lnTo>
                  <a:lnTo>
                    <a:pt x="1305" y="2319"/>
                  </a:lnTo>
                  <a:lnTo>
                    <a:pt x="1311" y="2319"/>
                  </a:lnTo>
                  <a:lnTo>
                    <a:pt x="1316" y="2318"/>
                  </a:lnTo>
                  <a:lnTo>
                    <a:pt x="1322" y="2317"/>
                  </a:lnTo>
                  <a:lnTo>
                    <a:pt x="1327" y="2314"/>
                  </a:lnTo>
                  <a:lnTo>
                    <a:pt x="1357" y="2297"/>
                  </a:lnTo>
                  <a:lnTo>
                    <a:pt x="1390" y="2279"/>
                  </a:lnTo>
                  <a:lnTo>
                    <a:pt x="1423" y="2262"/>
                  </a:lnTo>
                  <a:lnTo>
                    <a:pt x="1459" y="2245"/>
                  </a:lnTo>
                  <a:lnTo>
                    <a:pt x="1495" y="2229"/>
                  </a:lnTo>
                  <a:lnTo>
                    <a:pt x="1532" y="2212"/>
                  </a:lnTo>
                  <a:lnTo>
                    <a:pt x="1570" y="2198"/>
                  </a:lnTo>
                  <a:lnTo>
                    <a:pt x="1608" y="2184"/>
                  </a:lnTo>
                  <a:lnTo>
                    <a:pt x="1644" y="2173"/>
                  </a:lnTo>
                  <a:lnTo>
                    <a:pt x="1680" y="2164"/>
                  </a:lnTo>
                  <a:lnTo>
                    <a:pt x="1714" y="2157"/>
                  </a:lnTo>
                  <a:lnTo>
                    <a:pt x="1746" y="2152"/>
                  </a:lnTo>
                  <a:lnTo>
                    <a:pt x="1761" y="2150"/>
                  </a:lnTo>
                  <a:lnTo>
                    <a:pt x="1776" y="2150"/>
                  </a:lnTo>
                  <a:lnTo>
                    <a:pt x="1789" y="2150"/>
                  </a:lnTo>
                  <a:lnTo>
                    <a:pt x="1803" y="2152"/>
                  </a:lnTo>
                  <a:lnTo>
                    <a:pt x="1814" y="2154"/>
                  </a:lnTo>
                  <a:lnTo>
                    <a:pt x="1827" y="2158"/>
                  </a:lnTo>
                  <a:lnTo>
                    <a:pt x="1837" y="2162"/>
                  </a:lnTo>
                  <a:lnTo>
                    <a:pt x="1846" y="2167"/>
                  </a:lnTo>
                  <a:lnTo>
                    <a:pt x="1859" y="2184"/>
                  </a:lnTo>
                  <a:lnTo>
                    <a:pt x="1892" y="2231"/>
                  </a:lnTo>
                  <a:lnTo>
                    <a:pt x="1941" y="2298"/>
                  </a:lnTo>
                  <a:lnTo>
                    <a:pt x="1999" y="2379"/>
                  </a:lnTo>
                  <a:lnTo>
                    <a:pt x="2061" y="2464"/>
                  </a:lnTo>
                  <a:lnTo>
                    <a:pt x="2121" y="2546"/>
                  </a:lnTo>
                  <a:lnTo>
                    <a:pt x="2172" y="2617"/>
                  </a:lnTo>
                  <a:lnTo>
                    <a:pt x="2209" y="2667"/>
                  </a:lnTo>
                  <a:lnTo>
                    <a:pt x="2153" y="2662"/>
                  </a:lnTo>
                  <a:lnTo>
                    <a:pt x="2086" y="2657"/>
                  </a:lnTo>
                  <a:lnTo>
                    <a:pt x="2008" y="2652"/>
                  </a:lnTo>
                  <a:lnTo>
                    <a:pt x="1923" y="2648"/>
                  </a:lnTo>
                  <a:lnTo>
                    <a:pt x="1832" y="2645"/>
                  </a:lnTo>
                  <a:lnTo>
                    <a:pt x="1736" y="2645"/>
                  </a:lnTo>
                  <a:lnTo>
                    <a:pt x="1686" y="2647"/>
                  </a:lnTo>
                  <a:lnTo>
                    <a:pt x="1637" y="2648"/>
                  </a:lnTo>
                  <a:lnTo>
                    <a:pt x="1587" y="2650"/>
                  </a:lnTo>
                  <a:lnTo>
                    <a:pt x="1539" y="2654"/>
                  </a:lnTo>
                  <a:lnTo>
                    <a:pt x="1489" y="2658"/>
                  </a:lnTo>
                  <a:lnTo>
                    <a:pt x="1440" y="2663"/>
                  </a:lnTo>
                  <a:lnTo>
                    <a:pt x="1393" y="2669"/>
                  </a:lnTo>
                  <a:lnTo>
                    <a:pt x="1346" y="2676"/>
                  </a:lnTo>
                  <a:lnTo>
                    <a:pt x="1300" y="2685"/>
                  </a:lnTo>
                  <a:lnTo>
                    <a:pt x="1257" y="2695"/>
                  </a:lnTo>
                  <a:lnTo>
                    <a:pt x="1214" y="2706"/>
                  </a:lnTo>
                  <a:lnTo>
                    <a:pt x="1175" y="2720"/>
                  </a:lnTo>
                  <a:lnTo>
                    <a:pt x="1136" y="2734"/>
                  </a:lnTo>
                  <a:lnTo>
                    <a:pt x="1100" y="2750"/>
                  </a:lnTo>
                  <a:lnTo>
                    <a:pt x="1068" y="2767"/>
                  </a:lnTo>
                  <a:lnTo>
                    <a:pt x="1038" y="2787"/>
                  </a:lnTo>
                  <a:lnTo>
                    <a:pt x="1011" y="2808"/>
                  </a:lnTo>
                  <a:lnTo>
                    <a:pt x="987" y="2830"/>
                  </a:lnTo>
                  <a:lnTo>
                    <a:pt x="967" y="2855"/>
                  </a:lnTo>
                  <a:lnTo>
                    <a:pt x="951" y="2882"/>
                  </a:lnTo>
                  <a:lnTo>
                    <a:pt x="945" y="2894"/>
                  </a:lnTo>
                  <a:lnTo>
                    <a:pt x="941" y="2906"/>
                  </a:lnTo>
                  <a:lnTo>
                    <a:pt x="936" y="2918"/>
                  </a:lnTo>
                  <a:lnTo>
                    <a:pt x="934" y="2931"/>
                  </a:lnTo>
                  <a:lnTo>
                    <a:pt x="931" y="2943"/>
                  </a:lnTo>
                  <a:lnTo>
                    <a:pt x="929" y="2956"/>
                  </a:lnTo>
                  <a:lnTo>
                    <a:pt x="928" y="2969"/>
                  </a:lnTo>
                  <a:lnTo>
                    <a:pt x="928" y="2983"/>
                  </a:lnTo>
                  <a:lnTo>
                    <a:pt x="929" y="3002"/>
                  </a:lnTo>
                  <a:lnTo>
                    <a:pt x="931" y="3021"/>
                  </a:lnTo>
                  <a:lnTo>
                    <a:pt x="935" y="3041"/>
                  </a:lnTo>
                  <a:lnTo>
                    <a:pt x="940" y="3062"/>
                  </a:lnTo>
                  <a:lnTo>
                    <a:pt x="947" y="3083"/>
                  </a:lnTo>
                  <a:lnTo>
                    <a:pt x="956" y="3105"/>
                  </a:lnTo>
                  <a:lnTo>
                    <a:pt x="966" y="3127"/>
                  </a:lnTo>
                  <a:lnTo>
                    <a:pt x="977" y="3149"/>
                  </a:lnTo>
                  <a:lnTo>
                    <a:pt x="991" y="3173"/>
                  </a:lnTo>
                  <a:lnTo>
                    <a:pt x="1005" y="3195"/>
                  </a:lnTo>
                  <a:lnTo>
                    <a:pt x="1021" y="3220"/>
                  </a:lnTo>
                  <a:lnTo>
                    <a:pt x="1038" y="3243"/>
                  </a:lnTo>
                  <a:lnTo>
                    <a:pt x="1057" y="3268"/>
                  </a:lnTo>
                  <a:lnTo>
                    <a:pt x="1077" y="3293"/>
                  </a:lnTo>
                  <a:lnTo>
                    <a:pt x="1098" y="3318"/>
                  </a:lnTo>
                  <a:lnTo>
                    <a:pt x="1120" y="3344"/>
                  </a:lnTo>
                  <a:lnTo>
                    <a:pt x="1110" y="3351"/>
                  </a:lnTo>
                  <a:lnTo>
                    <a:pt x="1099" y="3359"/>
                  </a:lnTo>
                  <a:lnTo>
                    <a:pt x="1085" y="3365"/>
                  </a:lnTo>
                  <a:lnTo>
                    <a:pt x="1070" y="3371"/>
                  </a:lnTo>
                  <a:lnTo>
                    <a:pt x="1054" y="3376"/>
                  </a:lnTo>
                  <a:lnTo>
                    <a:pt x="1036" y="3380"/>
                  </a:lnTo>
                  <a:lnTo>
                    <a:pt x="1026" y="3381"/>
                  </a:lnTo>
                  <a:lnTo>
                    <a:pt x="1015" y="3381"/>
                  </a:lnTo>
                  <a:lnTo>
                    <a:pt x="1005" y="3381"/>
                  </a:lnTo>
                  <a:lnTo>
                    <a:pt x="992" y="3380"/>
                  </a:lnTo>
                  <a:lnTo>
                    <a:pt x="976" y="3377"/>
                  </a:lnTo>
                  <a:lnTo>
                    <a:pt x="959" y="3373"/>
                  </a:lnTo>
                  <a:lnTo>
                    <a:pt x="942" y="3366"/>
                  </a:lnTo>
                  <a:lnTo>
                    <a:pt x="925" y="3359"/>
                  </a:lnTo>
                  <a:lnTo>
                    <a:pt x="909" y="3349"/>
                  </a:lnTo>
                  <a:lnTo>
                    <a:pt x="892" y="3338"/>
                  </a:lnTo>
                  <a:lnTo>
                    <a:pt x="874" y="3325"/>
                  </a:lnTo>
                  <a:lnTo>
                    <a:pt x="858" y="3312"/>
                  </a:lnTo>
                  <a:lnTo>
                    <a:pt x="841" y="3296"/>
                  </a:lnTo>
                  <a:lnTo>
                    <a:pt x="825" y="3278"/>
                  </a:lnTo>
                  <a:lnTo>
                    <a:pt x="808" y="3260"/>
                  </a:lnTo>
                  <a:lnTo>
                    <a:pt x="791" y="3239"/>
                  </a:lnTo>
                  <a:lnTo>
                    <a:pt x="775" y="3216"/>
                  </a:lnTo>
                  <a:lnTo>
                    <a:pt x="759" y="3193"/>
                  </a:lnTo>
                  <a:lnTo>
                    <a:pt x="743" y="3168"/>
                  </a:lnTo>
                  <a:lnTo>
                    <a:pt x="726" y="3142"/>
                  </a:lnTo>
                  <a:lnTo>
                    <a:pt x="709" y="2904"/>
                  </a:lnTo>
                  <a:lnTo>
                    <a:pt x="708" y="2897"/>
                  </a:lnTo>
                  <a:lnTo>
                    <a:pt x="705" y="2891"/>
                  </a:lnTo>
                  <a:lnTo>
                    <a:pt x="702" y="2885"/>
                  </a:lnTo>
                  <a:lnTo>
                    <a:pt x="697" y="2880"/>
                  </a:lnTo>
                  <a:lnTo>
                    <a:pt x="692" y="2876"/>
                  </a:lnTo>
                  <a:lnTo>
                    <a:pt x="685" y="2874"/>
                  </a:lnTo>
                  <a:lnTo>
                    <a:pt x="679" y="2871"/>
                  </a:lnTo>
                  <a:lnTo>
                    <a:pt x="672" y="2871"/>
                  </a:lnTo>
                  <a:lnTo>
                    <a:pt x="664" y="2873"/>
                  </a:lnTo>
                  <a:lnTo>
                    <a:pt x="658" y="2875"/>
                  </a:lnTo>
                  <a:lnTo>
                    <a:pt x="652" y="2879"/>
                  </a:lnTo>
                  <a:lnTo>
                    <a:pt x="647" y="2882"/>
                  </a:lnTo>
                  <a:lnTo>
                    <a:pt x="643" y="2887"/>
                  </a:lnTo>
                  <a:lnTo>
                    <a:pt x="641" y="2894"/>
                  </a:lnTo>
                  <a:lnTo>
                    <a:pt x="638" y="2900"/>
                  </a:lnTo>
                  <a:lnTo>
                    <a:pt x="638" y="2907"/>
                  </a:lnTo>
                  <a:lnTo>
                    <a:pt x="637" y="2913"/>
                  </a:lnTo>
                  <a:lnTo>
                    <a:pt x="637" y="2931"/>
                  </a:lnTo>
                  <a:lnTo>
                    <a:pt x="637" y="2957"/>
                  </a:lnTo>
                  <a:lnTo>
                    <a:pt x="637" y="2988"/>
                  </a:lnTo>
                  <a:lnTo>
                    <a:pt x="637" y="3020"/>
                  </a:lnTo>
                  <a:lnTo>
                    <a:pt x="637" y="3052"/>
                  </a:lnTo>
                  <a:lnTo>
                    <a:pt x="637" y="3081"/>
                  </a:lnTo>
                  <a:lnTo>
                    <a:pt x="637" y="3103"/>
                  </a:lnTo>
                  <a:lnTo>
                    <a:pt x="606" y="3106"/>
                  </a:lnTo>
                  <a:lnTo>
                    <a:pt x="567" y="3107"/>
                  </a:lnTo>
                  <a:lnTo>
                    <a:pt x="546" y="3106"/>
                  </a:lnTo>
                  <a:lnTo>
                    <a:pt x="525" y="3105"/>
                  </a:lnTo>
                  <a:lnTo>
                    <a:pt x="503" y="3102"/>
                  </a:lnTo>
                  <a:lnTo>
                    <a:pt x="481" y="3098"/>
                  </a:lnTo>
                  <a:lnTo>
                    <a:pt x="458" y="3093"/>
                  </a:lnTo>
                  <a:lnTo>
                    <a:pt x="437" y="3087"/>
                  </a:lnTo>
                  <a:lnTo>
                    <a:pt x="417" y="3078"/>
                  </a:lnTo>
                  <a:lnTo>
                    <a:pt x="399" y="3069"/>
                  </a:lnTo>
                  <a:lnTo>
                    <a:pt x="389" y="3062"/>
                  </a:lnTo>
                  <a:lnTo>
                    <a:pt x="381" y="3056"/>
                  </a:lnTo>
                  <a:lnTo>
                    <a:pt x="373" y="3049"/>
                  </a:lnTo>
                  <a:lnTo>
                    <a:pt x="365" y="3041"/>
                  </a:lnTo>
                  <a:lnTo>
                    <a:pt x="359" y="3033"/>
                  </a:lnTo>
                  <a:lnTo>
                    <a:pt x="353" y="3024"/>
                  </a:lnTo>
                  <a:lnTo>
                    <a:pt x="348" y="3014"/>
                  </a:lnTo>
                  <a:lnTo>
                    <a:pt x="343" y="300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76160" y="4157640"/>
              <a:ext cx="400320" cy="453960"/>
            </a:xfrm>
            <a:custGeom>
              <a:avLst/>
              <a:gdLst/>
              <a:ahLst/>
              <a:rect l="l" t="t" r="r" b="b"/>
              <a:pathLst>
                <a:path w="1006" h="1144">
                  <a:moveTo>
                    <a:pt x="0" y="624"/>
                  </a:moveTo>
                  <a:lnTo>
                    <a:pt x="381" y="1144"/>
                  </a:lnTo>
                  <a:lnTo>
                    <a:pt x="1006" y="485"/>
                  </a:lnTo>
                  <a:lnTo>
                    <a:pt x="625" y="0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1994040" y="4240080"/>
              <a:ext cx="276120" cy="274680"/>
            </a:xfrm>
            <a:custGeom>
              <a:avLst/>
              <a:gdLst/>
              <a:ahLst/>
              <a:rect l="l" t="t" r="r" b="b"/>
              <a:pathLst>
                <a:path w="695" h="693">
                  <a:moveTo>
                    <a:pt x="244" y="0"/>
                  </a:moveTo>
                  <a:lnTo>
                    <a:pt x="0" y="364"/>
                  </a:lnTo>
                  <a:lnTo>
                    <a:pt x="209" y="693"/>
                  </a:lnTo>
                  <a:lnTo>
                    <a:pt x="695" y="225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449280" y="3763800"/>
              <a:ext cx="763560" cy="603360"/>
            </a:xfrm>
            <a:custGeom>
              <a:avLst/>
              <a:gdLst/>
              <a:ahLst/>
              <a:rect l="l" t="t" r="r" b="b"/>
              <a:pathLst>
                <a:path w="1922" h="1520">
                  <a:moveTo>
                    <a:pt x="1804" y="0"/>
                  </a:moveTo>
                  <a:lnTo>
                    <a:pt x="1794" y="1"/>
                  </a:lnTo>
                  <a:lnTo>
                    <a:pt x="1767" y="8"/>
                  </a:lnTo>
                  <a:lnTo>
                    <a:pt x="1723" y="16"/>
                  </a:lnTo>
                  <a:lnTo>
                    <a:pt x="1666" y="30"/>
                  </a:lnTo>
                  <a:lnTo>
                    <a:pt x="1598" y="49"/>
                  </a:lnTo>
                  <a:lnTo>
                    <a:pt x="1521" y="73"/>
                  </a:lnTo>
                  <a:lnTo>
                    <a:pt x="1479" y="87"/>
                  </a:lnTo>
                  <a:lnTo>
                    <a:pt x="1436" y="102"/>
                  </a:lnTo>
                  <a:lnTo>
                    <a:pt x="1393" y="119"/>
                  </a:lnTo>
                  <a:lnTo>
                    <a:pt x="1348" y="138"/>
                  </a:lnTo>
                  <a:lnTo>
                    <a:pt x="1302" y="158"/>
                  </a:lnTo>
                  <a:lnTo>
                    <a:pt x="1256" y="180"/>
                  </a:lnTo>
                  <a:lnTo>
                    <a:pt x="1212" y="202"/>
                  </a:lnTo>
                  <a:lnTo>
                    <a:pt x="1166" y="229"/>
                  </a:lnTo>
                  <a:lnTo>
                    <a:pt x="1121" y="255"/>
                  </a:lnTo>
                  <a:lnTo>
                    <a:pt x="1078" y="284"/>
                  </a:lnTo>
                  <a:lnTo>
                    <a:pt x="1034" y="314"/>
                  </a:lnTo>
                  <a:lnTo>
                    <a:pt x="993" y="348"/>
                  </a:lnTo>
                  <a:lnTo>
                    <a:pt x="953" y="381"/>
                  </a:lnTo>
                  <a:lnTo>
                    <a:pt x="916" y="418"/>
                  </a:lnTo>
                  <a:lnTo>
                    <a:pt x="880" y="457"/>
                  </a:lnTo>
                  <a:lnTo>
                    <a:pt x="848" y="498"/>
                  </a:lnTo>
                  <a:lnTo>
                    <a:pt x="818" y="541"/>
                  </a:lnTo>
                  <a:lnTo>
                    <a:pt x="791" y="586"/>
                  </a:lnTo>
                  <a:lnTo>
                    <a:pt x="767" y="633"/>
                  </a:lnTo>
                  <a:lnTo>
                    <a:pt x="747" y="684"/>
                  </a:lnTo>
                  <a:lnTo>
                    <a:pt x="734" y="714"/>
                  </a:lnTo>
                  <a:lnTo>
                    <a:pt x="694" y="793"/>
                  </a:lnTo>
                  <a:lnTo>
                    <a:pt x="664" y="848"/>
                  </a:lnTo>
                  <a:lnTo>
                    <a:pt x="629" y="907"/>
                  </a:lnTo>
                  <a:lnTo>
                    <a:pt x="609" y="938"/>
                  </a:lnTo>
                  <a:lnTo>
                    <a:pt x="588" y="970"/>
                  </a:lnTo>
                  <a:lnTo>
                    <a:pt x="565" y="1004"/>
                  </a:lnTo>
                  <a:lnTo>
                    <a:pt x="541" y="1037"/>
                  </a:lnTo>
                  <a:lnTo>
                    <a:pt x="516" y="1070"/>
                  </a:lnTo>
                  <a:lnTo>
                    <a:pt x="490" y="1103"/>
                  </a:lnTo>
                  <a:lnTo>
                    <a:pt x="462" y="1135"/>
                  </a:lnTo>
                  <a:lnTo>
                    <a:pt x="433" y="1168"/>
                  </a:lnTo>
                  <a:lnTo>
                    <a:pt x="403" y="1199"/>
                  </a:lnTo>
                  <a:lnTo>
                    <a:pt x="371" y="1227"/>
                  </a:lnTo>
                  <a:lnTo>
                    <a:pt x="339" y="1256"/>
                  </a:lnTo>
                  <a:lnTo>
                    <a:pt x="305" y="1282"/>
                  </a:lnTo>
                  <a:lnTo>
                    <a:pt x="270" y="1307"/>
                  </a:lnTo>
                  <a:lnTo>
                    <a:pt x="234" y="1328"/>
                  </a:lnTo>
                  <a:lnTo>
                    <a:pt x="198" y="1348"/>
                  </a:lnTo>
                  <a:lnTo>
                    <a:pt x="160" y="1365"/>
                  </a:lnTo>
                  <a:lnTo>
                    <a:pt x="121" y="1379"/>
                  </a:lnTo>
                  <a:lnTo>
                    <a:pt x="82" y="1389"/>
                  </a:lnTo>
                  <a:lnTo>
                    <a:pt x="41" y="1395"/>
                  </a:lnTo>
                  <a:lnTo>
                    <a:pt x="0" y="1399"/>
                  </a:lnTo>
                  <a:lnTo>
                    <a:pt x="13" y="1402"/>
                  </a:lnTo>
                  <a:lnTo>
                    <a:pt x="52" y="1415"/>
                  </a:lnTo>
                  <a:lnTo>
                    <a:pt x="111" y="1433"/>
                  </a:lnTo>
                  <a:lnTo>
                    <a:pt x="192" y="1453"/>
                  </a:lnTo>
                  <a:lnTo>
                    <a:pt x="238" y="1464"/>
                  </a:lnTo>
                  <a:lnTo>
                    <a:pt x="288" y="1474"/>
                  </a:lnTo>
                  <a:lnTo>
                    <a:pt x="341" y="1484"/>
                  </a:lnTo>
                  <a:lnTo>
                    <a:pt x="398" y="1494"/>
                  </a:lnTo>
                  <a:lnTo>
                    <a:pt x="458" y="1503"/>
                  </a:lnTo>
                  <a:lnTo>
                    <a:pt x="519" y="1509"/>
                  </a:lnTo>
                  <a:lnTo>
                    <a:pt x="583" y="1515"/>
                  </a:lnTo>
                  <a:lnTo>
                    <a:pt x="648" y="1519"/>
                  </a:lnTo>
                  <a:lnTo>
                    <a:pt x="715" y="1520"/>
                  </a:lnTo>
                  <a:lnTo>
                    <a:pt x="782" y="1519"/>
                  </a:lnTo>
                  <a:lnTo>
                    <a:pt x="850" y="1515"/>
                  </a:lnTo>
                  <a:lnTo>
                    <a:pt x="920" y="1508"/>
                  </a:lnTo>
                  <a:lnTo>
                    <a:pt x="988" y="1498"/>
                  </a:lnTo>
                  <a:lnTo>
                    <a:pt x="1055" y="1483"/>
                  </a:lnTo>
                  <a:lnTo>
                    <a:pt x="1122" y="1466"/>
                  </a:lnTo>
                  <a:lnTo>
                    <a:pt x="1189" y="1443"/>
                  </a:lnTo>
                  <a:lnTo>
                    <a:pt x="1253" y="1417"/>
                  </a:lnTo>
                  <a:lnTo>
                    <a:pt x="1316" y="1385"/>
                  </a:lnTo>
                  <a:lnTo>
                    <a:pt x="1377" y="1349"/>
                  </a:lnTo>
                  <a:lnTo>
                    <a:pt x="1434" y="1307"/>
                  </a:lnTo>
                  <a:lnTo>
                    <a:pt x="1490" y="1258"/>
                  </a:lnTo>
                  <a:lnTo>
                    <a:pt x="1541" y="1205"/>
                  </a:lnTo>
                  <a:lnTo>
                    <a:pt x="1589" y="1145"/>
                  </a:lnTo>
                  <a:lnTo>
                    <a:pt x="1634" y="1078"/>
                  </a:lnTo>
                  <a:lnTo>
                    <a:pt x="1639" y="1073"/>
                  </a:lnTo>
                  <a:lnTo>
                    <a:pt x="1655" y="1059"/>
                  </a:lnTo>
                  <a:lnTo>
                    <a:pt x="1679" y="1035"/>
                  </a:lnTo>
                  <a:lnTo>
                    <a:pt x="1708" y="1003"/>
                  </a:lnTo>
                  <a:lnTo>
                    <a:pt x="1725" y="983"/>
                  </a:lnTo>
                  <a:lnTo>
                    <a:pt x="1742" y="962"/>
                  </a:lnTo>
                  <a:lnTo>
                    <a:pt x="1759" y="938"/>
                  </a:lnTo>
                  <a:lnTo>
                    <a:pt x="1778" y="912"/>
                  </a:lnTo>
                  <a:lnTo>
                    <a:pt x="1795" y="884"/>
                  </a:lnTo>
                  <a:lnTo>
                    <a:pt x="1813" y="854"/>
                  </a:lnTo>
                  <a:lnTo>
                    <a:pt x="1830" y="822"/>
                  </a:lnTo>
                  <a:lnTo>
                    <a:pt x="1847" y="787"/>
                  </a:lnTo>
                  <a:lnTo>
                    <a:pt x="1862" y="751"/>
                  </a:lnTo>
                  <a:lnTo>
                    <a:pt x="1877" y="714"/>
                  </a:lnTo>
                  <a:lnTo>
                    <a:pt x="1890" y="674"/>
                  </a:lnTo>
                  <a:lnTo>
                    <a:pt x="1901" y="632"/>
                  </a:lnTo>
                  <a:lnTo>
                    <a:pt x="1910" y="588"/>
                  </a:lnTo>
                  <a:lnTo>
                    <a:pt x="1916" y="544"/>
                  </a:lnTo>
                  <a:lnTo>
                    <a:pt x="1921" y="497"/>
                  </a:lnTo>
                  <a:lnTo>
                    <a:pt x="1922" y="448"/>
                  </a:lnTo>
                  <a:lnTo>
                    <a:pt x="1921" y="397"/>
                  </a:lnTo>
                  <a:lnTo>
                    <a:pt x="1916" y="345"/>
                  </a:lnTo>
                  <a:lnTo>
                    <a:pt x="1907" y="292"/>
                  </a:lnTo>
                  <a:lnTo>
                    <a:pt x="1895" y="237"/>
                  </a:lnTo>
                  <a:lnTo>
                    <a:pt x="1878" y="180"/>
                  </a:lnTo>
                  <a:lnTo>
                    <a:pt x="1859" y="122"/>
                  </a:lnTo>
                  <a:lnTo>
                    <a:pt x="1834" y="62"/>
                  </a:lnTo>
                  <a:lnTo>
                    <a:pt x="1804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434880" y="3749760"/>
              <a:ext cx="792360" cy="630000"/>
            </a:xfrm>
            <a:custGeom>
              <a:avLst/>
              <a:gdLst/>
              <a:ahLst/>
              <a:rect l="l" t="t" r="r" b="b"/>
              <a:pathLst>
                <a:path w="1993" h="1588">
                  <a:moveTo>
                    <a:pt x="1835" y="2"/>
                  </a:moveTo>
                  <a:lnTo>
                    <a:pt x="1819" y="4"/>
                  </a:lnTo>
                  <a:lnTo>
                    <a:pt x="1785" y="10"/>
                  </a:lnTo>
                  <a:lnTo>
                    <a:pt x="1738" y="21"/>
                  </a:lnTo>
                  <a:lnTo>
                    <a:pt x="1677" y="35"/>
                  </a:lnTo>
                  <a:lnTo>
                    <a:pt x="1644" y="45"/>
                  </a:lnTo>
                  <a:lnTo>
                    <a:pt x="1607" y="55"/>
                  </a:lnTo>
                  <a:lnTo>
                    <a:pt x="1568" y="67"/>
                  </a:lnTo>
                  <a:lnTo>
                    <a:pt x="1527" y="80"/>
                  </a:lnTo>
                  <a:lnTo>
                    <a:pt x="1485" y="95"/>
                  </a:lnTo>
                  <a:lnTo>
                    <a:pt x="1441" y="111"/>
                  </a:lnTo>
                  <a:lnTo>
                    <a:pt x="1398" y="128"/>
                  </a:lnTo>
                  <a:lnTo>
                    <a:pt x="1352" y="147"/>
                  </a:lnTo>
                  <a:lnTo>
                    <a:pt x="1307" y="168"/>
                  </a:lnTo>
                  <a:lnTo>
                    <a:pt x="1261" y="190"/>
                  </a:lnTo>
                  <a:lnTo>
                    <a:pt x="1215" y="215"/>
                  </a:lnTo>
                  <a:lnTo>
                    <a:pt x="1169" y="241"/>
                  </a:lnTo>
                  <a:lnTo>
                    <a:pt x="1125" y="268"/>
                  </a:lnTo>
                  <a:lnTo>
                    <a:pt x="1081" y="298"/>
                  </a:lnTo>
                  <a:lnTo>
                    <a:pt x="1038" y="329"/>
                  </a:lnTo>
                  <a:lnTo>
                    <a:pt x="997" y="363"/>
                  </a:lnTo>
                  <a:lnTo>
                    <a:pt x="957" y="399"/>
                  </a:lnTo>
                  <a:lnTo>
                    <a:pt x="920" y="436"/>
                  </a:lnTo>
                  <a:lnTo>
                    <a:pt x="884" y="475"/>
                  </a:lnTo>
                  <a:lnTo>
                    <a:pt x="852" y="518"/>
                  </a:lnTo>
                  <a:lnTo>
                    <a:pt x="821" y="561"/>
                  </a:lnTo>
                  <a:lnTo>
                    <a:pt x="793" y="608"/>
                  </a:lnTo>
                  <a:lnTo>
                    <a:pt x="770" y="657"/>
                  </a:lnTo>
                  <a:lnTo>
                    <a:pt x="750" y="707"/>
                  </a:lnTo>
                  <a:lnTo>
                    <a:pt x="735" y="738"/>
                  </a:lnTo>
                  <a:lnTo>
                    <a:pt x="696" y="817"/>
                  </a:lnTo>
                  <a:lnTo>
                    <a:pt x="668" y="868"/>
                  </a:lnTo>
                  <a:lnTo>
                    <a:pt x="633" y="926"/>
                  </a:lnTo>
                  <a:lnTo>
                    <a:pt x="614" y="957"/>
                  </a:lnTo>
                  <a:lnTo>
                    <a:pt x="593" y="988"/>
                  </a:lnTo>
                  <a:lnTo>
                    <a:pt x="572" y="1019"/>
                  </a:lnTo>
                  <a:lnTo>
                    <a:pt x="549" y="1051"/>
                  </a:lnTo>
                  <a:lnTo>
                    <a:pt x="525" y="1083"/>
                  </a:lnTo>
                  <a:lnTo>
                    <a:pt x="499" y="1114"/>
                  </a:lnTo>
                  <a:lnTo>
                    <a:pt x="473" y="1147"/>
                  </a:lnTo>
                  <a:lnTo>
                    <a:pt x="444" y="1176"/>
                  </a:lnTo>
                  <a:lnTo>
                    <a:pt x="416" y="1206"/>
                  </a:lnTo>
                  <a:lnTo>
                    <a:pt x="386" y="1235"/>
                  </a:lnTo>
                  <a:lnTo>
                    <a:pt x="355" y="1262"/>
                  </a:lnTo>
                  <a:lnTo>
                    <a:pt x="324" y="1287"/>
                  </a:lnTo>
                  <a:lnTo>
                    <a:pt x="290" y="1310"/>
                  </a:lnTo>
                  <a:lnTo>
                    <a:pt x="257" y="1332"/>
                  </a:lnTo>
                  <a:lnTo>
                    <a:pt x="222" y="1350"/>
                  </a:lnTo>
                  <a:lnTo>
                    <a:pt x="186" y="1366"/>
                  </a:lnTo>
                  <a:lnTo>
                    <a:pt x="149" y="1380"/>
                  </a:lnTo>
                  <a:lnTo>
                    <a:pt x="111" y="1390"/>
                  </a:lnTo>
                  <a:lnTo>
                    <a:pt x="74" y="1396"/>
                  </a:lnTo>
                  <a:lnTo>
                    <a:pt x="34" y="1399"/>
                  </a:lnTo>
                  <a:lnTo>
                    <a:pt x="28" y="1400"/>
                  </a:lnTo>
                  <a:lnTo>
                    <a:pt x="22" y="1401"/>
                  </a:lnTo>
                  <a:lnTo>
                    <a:pt x="17" y="1403"/>
                  </a:lnTo>
                  <a:lnTo>
                    <a:pt x="12" y="1407"/>
                  </a:lnTo>
                  <a:lnTo>
                    <a:pt x="8" y="1412"/>
                  </a:lnTo>
                  <a:lnTo>
                    <a:pt x="5" y="1417"/>
                  </a:lnTo>
                  <a:lnTo>
                    <a:pt x="2" y="1422"/>
                  </a:lnTo>
                  <a:lnTo>
                    <a:pt x="1" y="1428"/>
                  </a:lnTo>
                  <a:lnTo>
                    <a:pt x="0" y="1435"/>
                  </a:lnTo>
                  <a:lnTo>
                    <a:pt x="1" y="1441"/>
                  </a:lnTo>
                  <a:lnTo>
                    <a:pt x="2" y="1447"/>
                  </a:lnTo>
                  <a:lnTo>
                    <a:pt x="5" y="1452"/>
                  </a:lnTo>
                  <a:lnTo>
                    <a:pt x="8" y="1457"/>
                  </a:lnTo>
                  <a:lnTo>
                    <a:pt x="12" y="1462"/>
                  </a:lnTo>
                  <a:lnTo>
                    <a:pt x="17" y="1466"/>
                  </a:lnTo>
                  <a:lnTo>
                    <a:pt x="23" y="1468"/>
                  </a:lnTo>
                  <a:lnTo>
                    <a:pt x="39" y="1473"/>
                  </a:lnTo>
                  <a:lnTo>
                    <a:pt x="80" y="1485"/>
                  </a:lnTo>
                  <a:lnTo>
                    <a:pt x="144" y="1504"/>
                  </a:lnTo>
                  <a:lnTo>
                    <a:pt x="226" y="1525"/>
                  </a:lnTo>
                  <a:lnTo>
                    <a:pt x="274" y="1535"/>
                  </a:lnTo>
                  <a:lnTo>
                    <a:pt x="325" y="1546"/>
                  </a:lnTo>
                  <a:lnTo>
                    <a:pt x="380" y="1556"/>
                  </a:lnTo>
                  <a:lnTo>
                    <a:pt x="438" y="1565"/>
                  </a:lnTo>
                  <a:lnTo>
                    <a:pt x="499" y="1573"/>
                  </a:lnTo>
                  <a:lnTo>
                    <a:pt x="562" y="1580"/>
                  </a:lnTo>
                  <a:lnTo>
                    <a:pt x="628" y="1585"/>
                  </a:lnTo>
                  <a:lnTo>
                    <a:pt x="694" y="1588"/>
                  </a:lnTo>
                  <a:lnTo>
                    <a:pt x="762" y="1588"/>
                  </a:lnTo>
                  <a:lnTo>
                    <a:pt x="832" y="1587"/>
                  </a:lnTo>
                  <a:lnTo>
                    <a:pt x="901" y="1583"/>
                  </a:lnTo>
                  <a:lnTo>
                    <a:pt x="971" y="1575"/>
                  </a:lnTo>
                  <a:lnTo>
                    <a:pt x="1042" y="1565"/>
                  </a:lnTo>
                  <a:lnTo>
                    <a:pt x="1110" y="1550"/>
                  </a:lnTo>
                  <a:lnTo>
                    <a:pt x="1179" y="1530"/>
                  </a:lnTo>
                  <a:lnTo>
                    <a:pt x="1246" y="1508"/>
                  </a:lnTo>
                  <a:lnTo>
                    <a:pt x="1312" y="1480"/>
                  </a:lnTo>
                  <a:lnTo>
                    <a:pt x="1376" y="1447"/>
                  </a:lnTo>
                  <a:lnTo>
                    <a:pt x="1438" y="1410"/>
                  </a:lnTo>
                  <a:lnTo>
                    <a:pt x="1497" y="1366"/>
                  </a:lnTo>
                  <a:lnTo>
                    <a:pt x="1553" y="1317"/>
                  </a:lnTo>
                  <a:lnTo>
                    <a:pt x="1605" y="1262"/>
                  </a:lnTo>
                  <a:lnTo>
                    <a:pt x="1655" y="1201"/>
                  </a:lnTo>
                  <a:lnTo>
                    <a:pt x="1700" y="1133"/>
                  </a:lnTo>
                  <a:lnTo>
                    <a:pt x="1705" y="1128"/>
                  </a:lnTo>
                  <a:lnTo>
                    <a:pt x="1721" y="1114"/>
                  </a:lnTo>
                  <a:lnTo>
                    <a:pt x="1744" y="1090"/>
                  </a:lnTo>
                  <a:lnTo>
                    <a:pt x="1775" y="1056"/>
                  </a:lnTo>
                  <a:lnTo>
                    <a:pt x="1792" y="1036"/>
                  </a:lnTo>
                  <a:lnTo>
                    <a:pt x="1809" y="1014"/>
                  </a:lnTo>
                  <a:lnTo>
                    <a:pt x="1828" y="989"/>
                  </a:lnTo>
                  <a:lnTo>
                    <a:pt x="1846" y="962"/>
                  </a:lnTo>
                  <a:lnTo>
                    <a:pt x="1864" y="933"/>
                  </a:lnTo>
                  <a:lnTo>
                    <a:pt x="1882" y="901"/>
                  </a:lnTo>
                  <a:lnTo>
                    <a:pt x="1900" y="869"/>
                  </a:lnTo>
                  <a:lnTo>
                    <a:pt x="1917" y="833"/>
                  </a:lnTo>
                  <a:lnTo>
                    <a:pt x="1932" y="796"/>
                  </a:lnTo>
                  <a:lnTo>
                    <a:pt x="1947" y="756"/>
                  </a:lnTo>
                  <a:lnTo>
                    <a:pt x="1960" y="715"/>
                  </a:lnTo>
                  <a:lnTo>
                    <a:pt x="1972" y="671"/>
                  </a:lnTo>
                  <a:lnTo>
                    <a:pt x="1980" y="627"/>
                  </a:lnTo>
                  <a:lnTo>
                    <a:pt x="1987" y="580"/>
                  </a:lnTo>
                  <a:lnTo>
                    <a:pt x="1991" y="531"/>
                  </a:lnTo>
                  <a:lnTo>
                    <a:pt x="1993" y="482"/>
                  </a:lnTo>
                  <a:lnTo>
                    <a:pt x="1991" y="430"/>
                  </a:lnTo>
                  <a:lnTo>
                    <a:pt x="1987" y="375"/>
                  </a:lnTo>
                  <a:lnTo>
                    <a:pt x="1978" y="320"/>
                  </a:lnTo>
                  <a:lnTo>
                    <a:pt x="1965" y="263"/>
                  </a:lnTo>
                  <a:lnTo>
                    <a:pt x="1949" y="205"/>
                  </a:lnTo>
                  <a:lnTo>
                    <a:pt x="1928" y="144"/>
                  </a:lnTo>
                  <a:lnTo>
                    <a:pt x="1902" y="83"/>
                  </a:lnTo>
                  <a:lnTo>
                    <a:pt x="1872" y="20"/>
                  </a:lnTo>
                  <a:lnTo>
                    <a:pt x="1869" y="15"/>
                  </a:lnTo>
                  <a:lnTo>
                    <a:pt x="1865" y="11"/>
                  </a:lnTo>
                  <a:lnTo>
                    <a:pt x="1861" y="8"/>
                  </a:lnTo>
                  <a:lnTo>
                    <a:pt x="1856" y="4"/>
                  </a:lnTo>
                  <a:lnTo>
                    <a:pt x="1851" y="3"/>
                  </a:lnTo>
                  <a:lnTo>
                    <a:pt x="1846" y="2"/>
                  </a:lnTo>
                  <a:lnTo>
                    <a:pt x="1840" y="0"/>
                  </a:lnTo>
                  <a:lnTo>
                    <a:pt x="1835" y="2"/>
                  </a:lnTo>
                  <a:close/>
                  <a:moveTo>
                    <a:pt x="816" y="734"/>
                  </a:moveTo>
                  <a:lnTo>
                    <a:pt x="833" y="690"/>
                  </a:lnTo>
                  <a:lnTo>
                    <a:pt x="853" y="648"/>
                  </a:lnTo>
                  <a:lnTo>
                    <a:pt x="876" y="608"/>
                  </a:lnTo>
                  <a:lnTo>
                    <a:pt x="901" y="570"/>
                  </a:lnTo>
                  <a:lnTo>
                    <a:pt x="929" y="534"/>
                  </a:lnTo>
                  <a:lnTo>
                    <a:pt x="960" y="499"/>
                  </a:lnTo>
                  <a:lnTo>
                    <a:pt x="991" y="466"/>
                  </a:lnTo>
                  <a:lnTo>
                    <a:pt x="1024" y="435"/>
                  </a:lnTo>
                  <a:lnTo>
                    <a:pt x="1059" y="405"/>
                  </a:lnTo>
                  <a:lnTo>
                    <a:pt x="1096" y="376"/>
                  </a:lnTo>
                  <a:lnTo>
                    <a:pt x="1133" y="350"/>
                  </a:lnTo>
                  <a:lnTo>
                    <a:pt x="1172" y="324"/>
                  </a:lnTo>
                  <a:lnTo>
                    <a:pt x="1210" y="301"/>
                  </a:lnTo>
                  <a:lnTo>
                    <a:pt x="1250" y="278"/>
                  </a:lnTo>
                  <a:lnTo>
                    <a:pt x="1290" y="257"/>
                  </a:lnTo>
                  <a:lnTo>
                    <a:pt x="1330" y="237"/>
                  </a:lnTo>
                  <a:lnTo>
                    <a:pt x="1369" y="219"/>
                  </a:lnTo>
                  <a:lnTo>
                    <a:pt x="1409" y="201"/>
                  </a:lnTo>
                  <a:lnTo>
                    <a:pt x="1449" y="186"/>
                  </a:lnTo>
                  <a:lnTo>
                    <a:pt x="1487" y="171"/>
                  </a:lnTo>
                  <a:lnTo>
                    <a:pt x="1525" y="158"/>
                  </a:lnTo>
                  <a:lnTo>
                    <a:pt x="1561" y="145"/>
                  </a:lnTo>
                  <a:lnTo>
                    <a:pt x="1595" y="134"/>
                  </a:lnTo>
                  <a:lnTo>
                    <a:pt x="1629" y="124"/>
                  </a:lnTo>
                  <a:lnTo>
                    <a:pt x="1691" y="107"/>
                  </a:lnTo>
                  <a:lnTo>
                    <a:pt x="1744" y="93"/>
                  </a:lnTo>
                  <a:lnTo>
                    <a:pt x="1787" y="83"/>
                  </a:lnTo>
                  <a:lnTo>
                    <a:pt x="1818" y="77"/>
                  </a:lnTo>
                  <a:lnTo>
                    <a:pt x="1831" y="104"/>
                  </a:lnTo>
                  <a:lnTo>
                    <a:pt x="1844" y="133"/>
                  </a:lnTo>
                  <a:lnTo>
                    <a:pt x="1855" y="160"/>
                  </a:lnTo>
                  <a:lnTo>
                    <a:pt x="1865" y="188"/>
                  </a:lnTo>
                  <a:lnTo>
                    <a:pt x="1875" y="215"/>
                  </a:lnTo>
                  <a:lnTo>
                    <a:pt x="1883" y="241"/>
                  </a:lnTo>
                  <a:lnTo>
                    <a:pt x="1891" y="267"/>
                  </a:lnTo>
                  <a:lnTo>
                    <a:pt x="1898" y="293"/>
                  </a:lnTo>
                  <a:lnTo>
                    <a:pt x="1903" y="318"/>
                  </a:lnTo>
                  <a:lnTo>
                    <a:pt x="1910" y="344"/>
                  </a:lnTo>
                  <a:lnTo>
                    <a:pt x="1913" y="369"/>
                  </a:lnTo>
                  <a:lnTo>
                    <a:pt x="1917" y="392"/>
                  </a:lnTo>
                  <a:lnTo>
                    <a:pt x="1919" y="417"/>
                  </a:lnTo>
                  <a:lnTo>
                    <a:pt x="1922" y="441"/>
                  </a:lnTo>
                  <a:lnTo>
                    <a:pt x="1922" y="463"/>
                  </a:lnTo>
                  <a:lnTo>
                    <a:pt x="1923" y="487"/>
                  </a:lnTo>
                  <a:lnTo>
                    <a:pt x="1922" y="520"/>
                  </a:lnTo>
                  <a:lnTo>
                    <a:pt x="1919" y="554"/>
                  </a:lnTo>
                  <a:lnTo>
                    <a:pt x="1917" y="586"/>
                  </a:lnTo>
                  <a:lnTo>
                    <a:pt x="1912" y="618"/>
                  </a:lnTo>
                  <a:lnTo>
                    <a:pt x="1906" y="648"/>
                  </a:lnTo>
                  <a:lnTo>
                    <a:pt x="1898" y="678"/>
                  </a:lnTo>
                  <a:lnTo>
                    <a:pt x="1891" y="706"/>
                  </a:lnTo>
                  <a:lnTo>
                    <a:pt x="1882" y="734"/>
                  </a:lnTo>
                  <a:lnTo>
                    <a:pt x="1872" y="761"/>
                  </a:lnTo>
                  <a:lnTo>
                    <a:pt x="1862" y="787"/>
                  </a:lnTo>
                  <a:lnTo>
                    <a:pt x="1851" y="812"/>
                  </a:lnTo>
                  <a:lnTo>
                    <a:pt x="1840" y="835"/>
                  </a:lnTo>
                  <a:lnTo>
                    <a:pt x="1828" y="858"/>
                  </a:lnTo>
                  <a:lnTo>
                    <a:pt x="1815" y="880"/>
                  </a:lnTo>
                  <a:lnTo>
                    <a:pt x="1803" y="901"/>
                  </a:lnTo>
                  <a:lnTo>
                    <a:pt x="1790" y="921"/>
                  </a:lnTo>
                  <a:lnTo>
                    <a:pt x="1765" y="957"/>
                  </a:lnTo>
                  <a:lnTo>
                    <a:pt x="1741" y="989"/>
                  </a:lnTo>
                  <a:lnTo>
                    <a:pt x="1717" y="1016"/>
                  </a:lnTo>
                  <a:lnTo>
                    <a:pt x="1696" y="1040"/>
                  </a:lnTo>
                  <a:lnTo>
                    <a:pt x="1662" y="1072"/>
                  </a:lnTo>
                  <a:lnTo>
                    <a:pt x="1646" y="1087"/>
                  </a:lnTo>
                  <a:lnTo>
                    <a:pt x="1613" y="1139"/>
                  </a:lnTo>
                  <a:lnTo>
                    <a:pt x="1577" y="1186"/>
                  </a:lnTo>
                  <a:lnTo>
                    <a:pt x="1537" y="1231"/>
                  </a:lnTo>
                  <a:lnTo>
                    <a:pt x="1496" y="1271"/>
                  </a:lnTo>
                  <a:lnTo>
                    <a:pt x="1454" y="1308"/>
                  </a:lnTo>
                  <a:lnTo>
                    <a:pt x="1409" y="1341"/>
                  </a:lnTo>
                  <a:lnTo>
                    <a:pt x="1363" y="1371"/>
                  </a:lnTo>
                  <a:lnTo>
                    <a:pt x="1315" y="1397"/>
                  </a:lnTo>
                  <a:lnTo>
                    <a:pt x="1266" y="1421"/>
                  </a:lnTo>
                  <a:lnTo>
                    <a:pt x="1217" y="1442"/>
                  </a:lnTo>
                  <a:lnTo>
                    <a:pt x="1166" y="1459"/>
                  </a:lnTo>
                  <a:lnTo>
                    <a:pt x="1114" y="1474"/>
                  </a:lnTo>
                  <a:lnTo>
                    <a:pt x="1061" y="1487"/>
                  </a:lnTo>
                  <a:lnTo>
                    <a:pt x="1008" y="1497"/>
                  </a:lnTo>
                  <a:lnTo>
                    <a:pt x="956" y="1505"/>
                  </a:lnTo>
                  <a:lnTo>
                    <a:pt x="902" y="1511"/>
                  </a:lnTo>
                  <a:lnTo>
                    <a:pt x="850" y="1515"/>
                  </a:lnTo>
                  <a:lnTo>
                    <a:pt x="797" y="1518"/>
                  </a:lnTo>
                  <a:lnTo>
                    <a:pt x="745" y="1518"/>
                  </a:lnTo>
                  <a:lnTo>
                    <a:pt x="694" y="1516"/>
                  </a:lnTo>
                  <a:lnTo>
                    <a:pt x="643" y="1515"/>
                  </a:lnTo>
                  <a:lnTo>
                    <a:pt x="593" y="1511"/>
                  </a:lnTo>
                  <a:lnTo>
                    <a:pt x="545" y="1506"/>
                  </a:lnTo>
                  <a:lnTo>
                    <a:pt x="496" y="1500"/>
                  </a:lnTo>
                  <a:lnTo>
                    <a:pt x="450" y="1494"/>
                  </a:lnTo>
                  <a:lnTo>
                    <a:pt x="407" y="1488"/>
                  </a:lnTo>
                  <a:lnTo>
                    <a:pt x="365" y="1480"/>
                  </a:lnTo>
                  <a:lnTo>
                    <a:pt x="324" y="1472"/>
                  </a:lnTo>
                  <a:lnTo>
                    <a:pt x="249" y="1456"/>
                  </a:lnTo>
                  <a:lnTo>
                    <a:pt x="186" y="1439"/>
                  </a:lnTo>
                  <a:lnTo>
                    <a:pt x="221" y="1427"/>
                  </a:lnTo>
                  <a:lnTo>
                    <a:pt x="256" y="1411"/>
                  </a:lnTo>
                  <a:lnTo>
                    <a:pt x="288" y="1392"/>
                  </a:lnTo>
                  <a:lnTo>
                    <a:pt x="321" y="1374"/>
                  </a:lnTo>
                  <a:lnTo>
                    <a:pt x="352" y="1351"/>
                  </a:lnTo>
                  <a:lnTo>
                    <a:pt x="383" y="1329"/>
                  </a:lnTo>
                  <a:lnTo>
                    <a:pt x="413" y="1304"/>
                  </a:lnTo>
                  <a:lnTo>
                    <a:pt x="443" y="1278"/>
                  </a:lnTo>
                  <a:lnTo>
                    <a:pt x="470" y="1251"/>
                  </a:lnTo>
                  <a:lnTo>
                    <a:pt x="498" y="1224"/>
                  </a:lnTo>
                  <a:lnTo>
                    <a:pt x="524" y="1195"/>
                  </a:lnTo>
                  <a:lnTo>
                    <a:pt x="549" y="1165"/>
                  </a:lnTo>
                  <a:lnTo>
                    <a:pt x="573" y="1137"/>
                  </a:lnTo>
                  <a:lnTo>
                    <a:pt x="596" y="1107"/>
                  </a:lnTo>
                  <a:lnTo>
                    <a:pt x="618" y="1077"/>
                  </a:lnTo>
                  <a:lnTo>
                    <a:pt x="639" y="1047"/>
                  </a:lnTo>
                  <a:lnTo>
                    <a:pt x="678" y="989"/>
                  </a:lnTo>
                  <a:lnTo>
                    <a:pt x="711" y="935"/>
                  </a:lnTo>
                  <a:lnTo>
                    <a:pt x="741" y="882"/>
                  </a:lnTo>
                  <a:lnTo>
                    <a:pt x="766" y="836"/>
                  </a:lnTo>
                  <a:lnTo>
                    <a:pt x="801" y="766"/>
                  </a:lnTo>
                  <a:lnTo>
                    <a:pt x="816" y="73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2844720" y="5127480"/>
              <a:ext cx="1243080" cy="516240"/>
            </a:xfrm>
            <a:custGeom>
              <a:avLst/>
              <a:gdLst/>
              <a:ahLst/>
              <a:rect l="l" t="t" r="r" b="b"/>
              <a:pathLst>
                <a:path w="3133" h="1302">
                  <a:moveTo>
                    <a:pt x="0" y="1133"/>
                  </a:moveTo>
                  <a:lnTo>
                    <a:pt x="12" y="1114"/>
                  </a:lnTo>
                  <a:lnTo>
                    <a:pt x="46" y="1061"/>
                  </a:lnTo>
                  <a:lnTo>
                    <a:pt x="72" y="1023"/>
                  </a:lnTo>
                  <a:lnTo>
                    <a:pt x="103" y="979"/>
                  </a:lnTo>
                  <a:lnTo>
                    <a:pt x="139" y="929"/>
                  </a:lnTo>
                  <a:lnTo>
                    <a:pt x="180" y="876"/>
                  </a:lnTo>
                  <a:lnTo>
                    <a:pt x="226" y="818"/>
                  </a:lnTo>
                  <a:lnTo>
                    <a:pt x="277" y="757"/>
                  </a:lnTo>
                  <a:lnTo>
                    <a:pt x="333" y="695"/>
                  </a:lnTo>
                  <a:lnTo>
                    <a:pt x="393" y="629"/>
                  </a:lnTo>
                  <a:lnTo>
                    <a:pt x="457" y="565"/>
                  </a:lnTo>
                  <a:lnTo>
                    <a:pt x="526" y="499"/>
                  </a:lnTo>
                  <a:lnTo>
                    <a:pt x="598" y="434"/>
                  </a:lnTo>
                  <a:lnTo>
                    <a:pt x="675" y="371"/>
                  </a:lnTo>
                  <a:lnTo>
                    <a:pt x="755" y="310"/>
                  </a:lnTo>
                  <a:lnTo>
                    <a:pt x="839" y="253"/>
                  </a:lnTo>
                  <a:lnTo>
                    <a:pt x="927" y="200"/>
                  </a:lnTo>
                  <a:lnTo>
                    <a:pt x="1017" y="150"/>
                  </a:lnTo>
                  <a:lnTo>
                    <a:pt x="1112" y="107"/>
                  </a:lnTo>
                  <a:lnTo>
                    <a:pt x="1209" y="70"/>
                  </a:lnTo>
                  <a:lnTo>
                    <a:pt x="1309" y="40"/>
                  </a:lnTo>
                  <a:lnTo>
                    <a:pt x="1412" y="18"/>
                  </a:lnTo>
                  <a:lnTo>
                    <a:pt x="1519" y="4"/>
                  </a:lnTo>
                  <a:lnTo>
                    <a:pt x="1627" y="0"/>
                  </a:lnTo>
                  <a:lnTo>
                    <a:pt x="1738" y="5"/>
                  </a:lnTo>
                  <a:lnTo>
                    <a:pt x="1852" y="23"/>
                  </a:lnTo>
                  <a:lnTo>
                    <a:pt x="1966" y="51"/>
                  </a:lnTo>
                  <a:lnTo>
                    <a:pt x="2084" y="92"/>
                  </a:lnTo>
                  <a:lnTo>
                    <a:pt x="2203" y="147"/>
                  </a:lnTo>
                  <a:lnTo>
                    <a:pt x="2325" y="215"/>
                  </a:lnTo>
                  <a:lnTo>
                    <a:pt x="2334" y="222"/>
                  </a:lnTo>
                  <a:lnTo>
                    <a:pt x="2361" y="246"/>
                  </a:lnTo>
                  <a:lnTo>
                    <a:pt x="2402" y="283"/>
                  </a:lnTo>
                  <a:lnTo>
                    <a:pt x="2457" y="331"/>
                  </a:lnTo>
                  <a:lnTo>
                    <a:pt x="2520" y="390"/>
                  </a:lnTo>
                  <a:lnTo>
                    <a:pt x="2591" y="458"/>
                  </a:lnTo>
                  <a:lnTo>
                    <a:pt x="2665" y="532"/>
                  </a:lnTo>
                  <a:lnTo>
                    <a:pt x="2743" y="612"/>
                  </a:lnTo>
                  <a:lnTo>
                    <a:pt x="2782" y="654"/>
                  </a:lnTo>
                  <a:lnTo>
                    <a:pt x="2820" y="695"/>
                  </a:lnTo>
                  <a:lnTo>
                    <a:pt x="2858" y="738"/>
                  </a:lnTo>
                  <a:lnTo>
                    <a:pt x="2894" y="781"/>
                  </a:lnTo>
                  <a:lnTo>
                    <a:pt x="2928" y="824"/>
                  </a:lnTo>
                  <a:lnTo>
                    <a:pt x="2962" y="867"/>
                  </a:lnTo>
                  <a:lnTo>
                    <a:pt x="2993" y="910"/>
                  </a:lnTo>
                  <a:lnTo>
                    <a:pt x="3023" y="952"/>
                  </a:lnTo>
                  <a:lnTo>
                    <a:pt x="3049" y="993"/>
                  </a:lnTo>
                  <a:lnTo>
                    <a:pt x="3072" y="1034"/>
                  </a:lnTo>
                  <a:lnTo>
                    <a:pt x="3092" y="1072"/>
                  </a:lnTo>
                  <a:lnTo>
                    <a:pt x="3108" y="1111"/>
                  </a:lnTo>
                  <a:lnTo>
                    <a:pt x="3121" y="1147"/>
                  </a:lnTo>
                  <a:lnTo>
                    <a:pt x="3130" y="1181"/>
                  </a:lnTo>
                  <a:lnTo>
                    <a:pt x="3133" y="1215"/>
                  </a:lnTo>
                  <a:lnTo>
                    <a:pt x="3132" y="1245"/>
                  </a:lnTo>
                  <a:lnTo>
                    <a:pt x="2974" y="1222"/>
                  </a:lnTo>
                  <a:lnTo>
                    <a:pt x="2967" y="1210"/>
                  </a:lnTo>
                  <a:lnTo>
                    <a:pt x="2947" y="1175"/>
                  </a:lnTo>
                  <a:lnTo>
                    <a:pt x="2915" y="1122"/>
                  </a:lnTo>
                  <a:lnTo>
                    <a:pt x="2871" y="1052"/>
                  </a:lnTo>
                  <a:lnTo>
                    <a:pt x="2817" y="972"/>
                  </a:lnTo>
                  <a:lnTo>
                    <a:pt x="2755" y="881"/>
                  </a:lnTo>
                  <a:lnTo>
                    <a:pt x="2720" y="834"/>
                  </a:lnTo>
                  <a:lnTo>
                    <a:pt x="2683" y="786"/>
                  </a:lnTo>
                  <a:lnTo>
                    <a:pt x="2645" y="737"/>
                  </a:lnTo>
                  <a:lnTo>
                    <a:pt x="2606" y="688"/>
                  </a:lnTo>
                  <a:lnTo>
                    <a:pt x="2563" y="639"/>
                  </a:lnTo>
                  <a:lnTo>
                    <a:pt x="2521" y="591"/>
                  </a:lnTo>
                  <a:lnTo>
                    <a:pt x="2476" y="545"/>
                  </a:lnTo>
                  <a:lnTo>
                    <a:pt x="2432" y="499"/>
                  </a:lnTo>
                  <a:lnTo>
                    <a:pt x="2386" y="457"/>
                  </a:lnTo>
                  <a:lnTo>
                    <a:pt x="2339" y="416"/>
                  </a:lnTo>
                  <a:lnTo>
                    <a:pt x="2291" y="379"/>
                  </a:lnTo>
                  <a:lnTo>
                    <a:pt x="2243" y="344"/>
                  </a:lnTo>
                  <a:lnTo>
                    <a:pt x="2195" y="313"/>
                  </a:lnTo>
                  <a:lnTo>
                    <a:pt x="2145" y="287"/>
                  </a:lnTo>
                  <a:lnTo>
                    <a:pt x="2096" y="264"/>
                  </a:lnTo>
                  <a:lnTo>
                    <a:pt x="2047" y="247"/>
                  </a:lnTo>
                  <a:lnTo>
                    <a:pt x="1997" y="236"/>
                  </a:lnTo>
                  <a:lnTo>
                    <a:pt x="1949" y="230"/>
                  </a:lnTo>
                  <a:lnTo>
                    <a:pt x="1900" y="230"/>
                  </a:lnTo>
                  <a:lnTo>
                    <a:pt x="1852" y="237"/>
                  </a:lnTo>
                  <a:lnTo>
                    <a:pt x="1839" y="237"/>
                  </a:lnTo>
                  <a:lnTo>
                    <a:pt x="1802" y="241"/>
                  </a:lnTo>
                  <a:lnTo>
                    <a:pt x="1744" y="248"/>
                  </a:lnTo>
                  <a:lnTo>
                    <a:pt x="1667" y="262"/>
                  </a:lnTo>
                  <a:lnTo>
                    <a:pt x="1623" y="271"/>
                  </a:lnTo>
                  <a:lnTo>
                    <a:pt x="1575" y="281"/>
                  </a:lnTo>
                  <a:lnTo>
                    <a:pt x="1523" y="293"/>
                  </a:lnTo>
                  <a:lnTo>
                    <a:pt x="1468" y="308"/>
                  </a:lnTo>
                  <a:lnTo>
                    <a:pt x="1411" y="325"/>
                  </a:lnTo>
                  <a:lnTo>
                    <a:pt x="1351" y="344"/>
                  </a:lnTo>
                  <a:lnTo>
                    <a:pt x="1289" y="366"/>
                  </a:lnTo>
                  <a:lnTo>
                    <a:pt x="1226" y="391"/>
                  </a:lnTo>
                  <a:lnTo>
                    <a:pt x="1161" y="420"/>
                  </a:lnTo>
                  <a:lnTo>
                    <a:pt x="1096" y="449"/>
                  </a:lnTo>
                  <a:lnTo>
                    <a:pt x="1029" y="484"/>
                  </a:lnTo>
                  <a:lnTo>
                    <a:pt x="961" y="521"/>
                  </a:lnTo>
                  <a:lnTo>
                    <a:pt x="894" y="563"/>
                  </a:lnTo>
                  <a:lnTo>
                    <a:pt x="827" y="608"/>
                  </a:lnTo>
                  <a:lnTo>
                    <a:pt x="762" y="657"/>
                  </a:lnTo>
                  <a:lnTo>
                    <a:pt x="696" y="710"/>
                  </a:lnTo>
                  <a:lnTo>
                    <a:pt x="632" y="767"/>
                  </a:lnTo>
                  <a:lnTo>
                    <a:pt x="570" y="829"/>
                  </a:lnTo>
                  <a:lnTo>
                    <a:pt x="509" y="896"/>
                  </a:lnTo>
                  <a:lnTo>
                    <a:pt x="451" y="967"/>
                  </a:lnTo>
                  <a:lnTo>
                    <a:pt x="395" y="1042"/>
                  </a:lnTo>
                  <a:lnTo>
                    <a:pt x="342" y="1124"/>
                  </a:lnTo>
                  <a:lnTo>
                    <a:pt x="292" y="1210"/>
                  </a:lnTo>
                  <a:lnTo>
                    <a:pt x="246" y="1302"/>
                  </a:lnTo>
                  <a:lnTo>
                    <a:pt x="0" y="113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2825640" y="5113440"/>
              <a:ext cx="1276560" cy="552240"/>
            </a:xfrm>
            <a:custGeom>
              <a:avLst/>
              <a:gdLst/>
              <a:ahLst/>
              <a:rect l="l" t="t" r="r" b="b"/>
              <a:pathLst>
                <a:path w="3217" h="1391">
                  <a:moveTo>
                    <a:pt x="1367" y="37"/>
                  </a:moveTo>
                  <a:lnTo>
                    <a:pt x="1293" y="57"/>
                  </a:lnTo>
                  <a:lnTo>
                    <a:pt x="1221" y="81"/>
                  </a:lnTo>
                  <a:lnTo>
                    <a:pt x="1150" y="108"/>
                  </a:lnTo>
                  <a:lnTo>
                    <a:pt x="1082" y="139"/>
                  </a:lnTo>
                  <a:lnTo>
                    <a:pt x="1014" y="173"/>
                  </a:lnTo>
                  <a:lnTo>
                    <a:pt x="949" y="209"/>
                  </a:lnTo>
                  <a:lnTo>
                    <a:pt x="885" y="247"/>
                  </a:lnTo>
                  <a:lnTo>
                    <a:pt x="823" y="288"/>
                  </a:lnTo>
                  <a:lnTo>
                    <a:pt x="764" y="330"/>
                  </a:lnTo>
                  <a:lnTo>
                    <a:pt x="705" y="374"/>
                  </a:lnTo>
                  <a:lnTo>
                    <a:pt x="649" y="420"/>
                  </a:lnTo>
                  <a:lnTo>
                    <a:pt x="596" y="465"/>
                  </a:lnTo>
                  <a:lnTo>
                    <a:pt x="544" y="511"/>
                  </a:lnTo>
                  <a:lnTo>
                    <a:pt x="494" y="559"/>
                  </a:lnTo>
                  <a:lnTo>
                    <a:pt x="447" y="606"/>
                  </a:lnTo>
                  <a:lnTo>
                    <a:pt x="402" y="653"/>
                  </a:lnTo>
                  <a:lnTo>
                    <a:pt x="359" y="699"/>
                  </a:lnTo>
                  <a:lnTo>
                    <a:pt x="318" y="745"/>
                  </a:lnTo>
                  <a:lnTo>
                    <a:pt x="281" y="789"/>
                  </a:lnTo>
                  <a:lnTo>
                    <a:pt x="245" y="833"/>
                  </a:lnTo>
                  <a:lnTo>
                    <a:pt x="211" y="875"/>
                  </a:lnTo>
                  <a:lnTo>
                    <a:pt x="180" y="915"/>
                  </a:lnTo>
                  <a:lnTo>
                    <a:pt x="151" y="953"/>
                  </a:lnTo>
                  <a:lnTo>
                    <a:pt x="125" y="988"/>
                  </a:lnTo>
                  <a:lnTo>
                    <a:pt x="82" y="1051"/>
                  </a:lnTo>
                  <a:lnTo>
                    <a:pt x="50" y="1101"/>
                  </a:lnTo>
                  <a:lnTo>
                    <a:pt x="27" y="1134"/>
                  </a:lnTo>
                  <a:lnTo>
                    <a:pt x="17" y="1150"/>
                  </a:lnTo>
                  <a:lnTo>
                    <a:pt x="0" y="1179"/>
                  </a:lnTo>
                  <a:lnTo>
                    <a:pt x="309" y="1391"/>
                  </a:lnTo>
                  <a:lnTo>
                    <a:pt x="327" y="1353"/>
                  </a:lnTo>
                  <a:lnTo>
                    <a:pt x="371" y="1264"/>
                  </a:lnTo>
                  <a:lnTo>
                    <a:pt x="420" y="1180"/>
                  </a:lnTo>
                  <a:lnTo>
                    <a:pt x="471" y="1102"/>
                  </a:lnTo>
                  <a:lnTo>
                    <a:pt x="525" y="1028"/>
                  </a:lnTo>
                  <a:lnTo>
                    <a:pt x="582" y="958"/>
                  </a:lnTo>
                  <a:lnTo>
                    <a:pt x="641" y="894"/>
                  </a:lnTo>
                  <a:lnTo>
                    <a:pt x="702" y="834"/>
                  </a:lnTo>
                  <a:lnTo>
                    <a:pt x="764" y="778"/>
                  </a:lnTo>
                  <a:lnTo>
                    <a:pt x="828" y="726"/>
                  </a:lnTo>
                  <a:lnTo>
                    <a:pt x="893" y="678"/>
                  </a:lnTo>
                  <a:lnTo>
                    <a:pt x="957" y="634"/>
                  </a:lnTo>
                  <a:lnTo>
                    <a:pt x="1023" y="593"/>
                  </a:lnTo>
                  <a:lnTo>
                    <a:pt x="1089" y="556"/>
                  </a:lnTo>
                  <a:lnTo>
                    <a:pt x="1154" y="523"/>
                  </a:lnTo>
                  <a:lnTo>
                    <a:pt x="1218" y="493"/>
                  </a:lnTo>
                  <a:lnTo>
                    <a:pt x="1281" y="464"/>
                  </a:lnTo>
                  <a:lnTo>
                    <a:pt x="1344" y="441"/>
                  </a:lnTo>
                  <a:lnTo>
                    <a:pt x="1404" y="418"/>
                  </a:lnTo>
                  <a:lnTo>
                    <a:pt x="1463" y="398"/>
                  </a:lnTo>
                  <a:lnTo>
                    <a:pt x="1519" y="382"/>
                  </a:lnTo>
                  <a:lnTo>
                    <a:pt x="1573" y="367"/>
                  </a:lnTo>
                  <a:lnTo>
                    <a:pt x="1623" y="354"/>
                  </a:lnTo>
                  <a:lnTo>
                    <a:pt x="1671" y="344"/>
                  </a:lnTo>
                  <a:lnTo>
                    <a:pt x="1715" y="334"/>
                  </a:lnTo>
                  <a:lnTo>
                    <a:pt x="1792" y="322"/>
                  </a:lnTo>
                  <a:lnTo>
                    <a:pt x="1849" y="313"/>
                  </a:lnTo>
                  <a:lnTo>
                    <a:pt x="1887" y="309"/>
                  </a:lnTo>
                  <a:lnTo>
                    <a:pt x="1901" y="308"/>
                  </a:lnTo>
                  <a:lnTo>
                    <a:pt x="1947" y="302"/>
                  </a:lnTo>
                  <a:lnTo>
                    <a:pt x="1994" y="302"/>
                  </a:lnTo>
                  <a:lnTo>
                    <a:pt x="2040" y="308"/>
                  </a:lnTo>
                  <a:lnTo>
                    <a:pt x="2087" y="319"/>
                  </a:lnTo>
                  <a:lnTo>
                    <a:pt x="2135" y="336"/>
                  </a:lnTo>
                  <a:lnTo>
                    <a:pt x="2182" y="358"/>
                  </a:lnTo>
                  <a:lnTo>
                    <a:pt x="2229" y="384"/>
                  </a:lnTo>
                  <a:lnTo>
                    <a:pt x="2276" y="413"/>
                  </a:lnTo>
                  <a:lnTo>
                    <a:pt x="2322" y="447"/>
                  </a:lnTo>
                  <a:lnTo>
                    <a:pt x="2368" y="484"/>
                  </a:lnTo>
                  <a:lnTo>
                    <a:pt x="2414" y="524"/>
                  </a:lnTo>
                  <a:lnTo>
                    <a:pt x="2459" y="565"/>
                  </a:lnTo>
                  <a:lnTo>
                    <a:pt x="2502" y="609"/>
                  </a:lnTo>
                  <a:lnTo>
                    <a:pt x="2544" y="654"/>
                  </a:lnTo>
                  <a:lnTo>
                    <a:pt x="2587" y="701"/>
                  </a:lnTo>
                  <a:lnTo>
                    <a:pt x="2626" y="748"/>
                  </a:lnTo>
                  <a:lnTo>
                    <a:pt x="2665" y="797"/>
                  </a:lnTo>
                  <a:lnTo>
                    <a:pt x="2702" y="844"/>
                  </a:lnTo>
                  <a:lnTo>
                    <a:pt x="2738" y="891"/>
                  </a:lnTo>
                  <a:lnTo>
                    <a:pt x="2772" y="937"/>
                  </a:lnTo>
                  <a:lnTo>
                    <a:pt x="2834" y="1025"/>
                  </a:lnTo>
                  <a:lnTo>
                    <a:pt x="2887" y="1106"/>
                  </a:lnTo>
                  <a:lnTo>
                    <a:pt x="2930" y="1174"/>
                  </a:lnTo>
                  <a:lnTo>
                    <a:pt x="2963" y="1227"/>
                  </a:lnTo>
                  <a:lnTo>
                    <a:pt x="2983" y="1262"/>
                  </a:lnTo>
                  <a:lnTo>
                    <a:pt x="2991" y="1276"/>
                  </a:lnTo>
                  <a:lnTo>
                    <a:pt x="3000" y="1292"/>
                  </a:lnTo>
                  <a:lnTo>
                    <a:pt x="3211" y="1322"/>
                  </a:lnTo>
                  <a:lnTo>
                    <a:pt x="3215" y="1286"/>
                  </a:lnTo>
                  <a:lnTo>
                    <a:pt x="3217" y="1255"/>
                  </a:lnTo>
                  <a:lnTo>
                    <a:pt x="3214" y="1221"/>
                  </a:lnTo>
                  <a:lnTo>
                    <a:pt x="3206" y="1186"/>
                  </a:lnTo>
                  <a:lnTo>
                    <a:pt x="3195" y="1150"/>
                  </a:lnTo>
                  <a:lnTo>
                    <a:pt x="3180" y="1112"/>
                  </a:lnTo>
                  <a:lnTo>
                    <a:pt x="3163" y="1073"/>
                  </a:lnTo>
                  <a:lnTo>
                    <a:pt x="3140" y="1034"/>
                  </a:lnTo>
                  <a:lnTo>
                    <a:pt x="3117" y="994"/>
                  </a:lnTo>
                  <a:lnTo>
                    <a:pt x="3089" y="952"/>
                  </a:lnTo>
                  <a:lnTo>
                    <a:pt x="3061" y="911"/>
                  </a:lnTo>
                  <a:lnTo>
                    <a:pt x="3030" y="869"/>
                  </a:lnTo>
                  <a:lnTo>
                    <a:pt x="2998" y="827"/>
                  </a:lnTo>
                  <a:lnTo>
                    <a:pt x="2963" y="786"/>
                  </a:lnTo>
                  <a:lnTo>
                    <a:pt x="2927" y="743"/>
                  </a:lnTo>
                  <a:lnTo>
                    <a:pt x="2891" y="702"/>
                  </a:lnTo>
                  <a:lnTo>
                    <a:pt x="2853" y="662"/>
                  </a:lnTo>
                  <a:lnTo>
                    <a:pt x="2779" y="582"/>
                  </a:lnTo>
                  <a:lnTo>
                    <a:pt x="2704" y="506"/>
                  </a:lnTo>
                  <a:lnTo>
                    <a:pt x="2632" y="438"/>
                  </a:lnTo>
                  <a:lnTo>
                    <a:pt x="2567" y="375"/>
                  </a:lnTo>
                  <a:lnTo>
                    <a:pt x="2507" y="322"/>
                  </a:lnTo>
                  <a:lnTo>
                    <a:pt x="2457" y="277"/>
                  </a:lnTo>
                  <a:lnTo>
                    <a:pt x="2420" y="243"/>
                  </a:lnTo>
                  <a:lnTo>
                    <a:pt x="2395" y="224"/>
                  </a:lnTo>
                  <a:lnTo>
                    <a:pt x="2364" y="204"/>
                  </a:lnTo>
                  <a:lnTo>
                    <a:pt x="2332" y="185"/>
                  </a:lnTo>
                  <a:lnTo>
                    <a:pt x="2301" y="168"/>
                  </a:lnTo>
                  <a:lnTo>
                    <a:pt x="2269" y="152"/>
                  </a:lnTo>
                  <a:lnTo>
                    <a:pt x="2236" y="135"/>
                  </a:lnTo>
                  <a:lnTo>
                    <a:pt x="2205" y="121"/>
                  </a:lnTo>
                  <a:lnTo>
                    <a:pt x="2173" y="107"/>
                  </a:lnTo>
                  <a:lnTo>
                    <a:pt x="2142" y="93"/>
                  </a:lnTo>
                  <a:lnTo>
                    <a:pt x="2110" y="82"/>
                  </a:lnTo>
                  <a:lnTo>
                    <a:pt x="2077" y="70"/>
                  </a:lnTo>
                  <a:lnTo>
                    <a:pt x="2045" y="60"/>
                  </a:lnTo>
                  <a:lnTo>
                    <a:pt x="2013" y="50"/>
                  </a:lnTo>
                  <a:lnTo>
                    <a:pt x="1982" y="41"/>
                  </a:lnTo>
                  <a:lnTo>
                    <a:pt x="1950" y="32"/>
                  </a:lnTo>
                  <a:lnTo>
                    <a:pt x="1917" y="26"/>
                  </a:lnTo>
                  <a:lnTo>
                    <a:pt x="1885" y="20"/>
                  </a:lnTo>
                  <a:lnTo>
                    <a:pt x="1853" y="14"/>
                  </a:lnTo>
                  <a:lnTo>
                    <a:pt x="1820" y="10"/>
                  </a:lnTo>
                  <a:lnTo>
                    <a:pt x="1788" y="6"/>
                  </a:lnTo>
                  <a:lnTo>
                    <a:pt x="1756" y="4"/>
                  </a:lnTo>
                  <a:lnTo>
                    <a:pt x="1724" y="1"/>
                  </a:lnTo>
                  <a:lnTo>
                    <a:pt x="1691" y="0"/>
                  </a:lnTo>
                  <a:lnTo>
                    <a:pt x="1659" y="0"/>
                  </a:lnTo>
                  <a:lnTo>
                    <a:pt x="1627" y="0"/>
                  </a:lnTo>
                  <a:lnTo>
                    <a:pt x="1594" y="3"/>
                  </a:lnTo>
                  <a:lnTo>
                    <a:pt x="1561" y="5"/>
                  </a:lnTo>
                  <a:lnTo>
                    <a:pt x="1529" y="8"/>
                  </a:lnTo>
                  <a:lnTo>
                    <a:pt x="1496" y="11"/>
                  </a:lnTo>
                  <a:lnTo>
                    <a:pt x="1464" y="18"/>
                  </a:lnTo>
                  <a:lnTo>
                    <a:pt x="1432" y="23"/>
                  </a:lnTo>
                  <a:lnTo>
                    <a:pt x="1399" y="30"/>
                  </a:lnTo>
                  <a:lnTo>
                    <a:pt x="1367" y="37"/>
                  </a:lnTo>
                  <a:close/>
                  <a:moveTo>
                    <a:pt x="1383" y="106"/>
                  </a:moveTo>
                  <a:lnTo>
                    <a:pt x="1414" y="99"/>
                  </a:lnTo>
                  <a:lnTo>
                    <a:pt x="1445" y="93"/>
                  </a:lnTo>
                  <a:lnTo>
                    <a:pt x="1476" y="87"/>
                  </a:lnTo>
                  <a:lnTo>
                    <a:pt x="1506" y="82"/>
                  </a:lnTo>
                  <a:lnTo>
                    <a:pt x="1537" y="78"/>
                  </a:lnTo>
                  <a:lnTo>
                    <a:pt x="1568" y="76"/>
                  </a:lnTo>
                  <a:lnTo>
                    <a:pt x="1598" y="73"/>
                  </a:lnTo>
                  <a:lnTo>
                    <a:pt x="1629" y="72"/>
                  </a:lnTo>
                  <a:lnTo>
                    <a:pt x="1660" y="72"/>
                  </a:lnTo>
                  <a:lnTo>
                    <a:pt x="1690" y="72"/>
                  </a:lnTo>
                  <a:lnTo>
                    <a:pt x="1721" y="73"/>
                  </a:lnTo>
                  <a:lnTo>
                    <a:pt x="1751" y="75"/>
                  </a:lnTo>
                  <a:lnTo>
                    <a:pt x="1782" y="77"/>
                  </a:lnTo>
                  <a:lnTo>
                    <a:pt x="1813" y="81"/>
                  </a:lnTo>
                  <a:lnTo>
                    <a:pt x="1843" y="85"/>
                  </a:lnTo>
                  <a:lnTo>
                    <a:pt x="1874" y="90"/>
                  </a:lnTo>
                  <a:lnTo>
                    <a:pt x="1904" y="96"/>
                  </a:lnTo>
                  <a:lnTo>
                    <a:pt x="1933" y="102"/>
                  </a:lnTo>
                  <a:lnTo>
                    <a:pt x="1964" y="111"/>
                  </a:lnTo>
                  <a:lnTo>
                    <a:pt x="1994" y="118"/>
                  </a:lnTo>
                  <a:lnTo>
                    <a:pt x="2024" y="128"/>
                  </a:lnTo>
                  <a:lnTo>
                    <a:pt x="2055" y="138"/>
                  </a:lnTo>
                  <a:lnTo>
                    <a:pt x="2085" y="148"/>
                  </a:lnTo>
                  <a:lnTo>
                    <a:pt x="2115" y="159"/>
                  </a:lnTo>
                  <a:lnTo>
                    <a:pt x="2144" y="171"/>
                  </a:lnTo>
                  <a:lnTo>
                    <a:pt x="2174" y="185"/>
                  </a:lnTo>
                  <a:lnTo>
                    <a:pt x="2205" y="199"/>
                  </a:lnTo>
                  <a:lnTo>
                    <a:pt x="2235" y="214"/>
                  </a:lnTo>
                  <a:lnTo>
                    <a:pt x="2265" y="230"/>
                  </a:lnTo>
                  <a:lnTo>
                    <a:pt x="2295" y="246"/>
                  </a:lnTo>
                  <a:lnTo>
                    <a:pt x="2323" y="263"/>
                  </a:lnTo>
                  <a:lnTo>
                    <a:pt x="2353" y="281"/>
                  </a:lnTo>
                  <a:lnTo>
                    <a:pt x="2398" y="319"/>
                  </a:lnTo>
                  <a:lnTo>
                    <a:pt x="2449" y="364"/>
                  </a:lnTo>
                  <a:lnTo>
                    <a:pt x="2505" y="416"/>
                  </a:lnTo>
                  <a:lnTo>
                    <a:pt x="2564" y="472"/>
                  </a:lnTo>
                  <a:lnTo>
                    <a:pt x="2627" y="532"/>
                  </a:lnTo>
                  <a:lnTo>
                    <a:pt x="2692" y="597"/>
                  </a:lnTo>
                  <a:lnTo>
                    <a:pt x="2757" y="664"/>
                  </a:lnTo>
                  <a:lnTo>
                    <a:pt x="2820" y="732"/>
                  </a:lnTo>
                  <a:lnTo>
                    <a:pt x="2851" y="767"/>
                  </a:lnTo>
                  <a:lnTo>
                    <a:pt x="2881" y="802"/>
                  </a:lnTo>
                  <a:lnTo>
                    <a:pt x="2911" y="836"/>
                  </a:lnTo>
                  <a:lnTo>
                    <a:pt x="2939" y="871"/>
                  </a:lnTo>
                  <a:lnTo>
                    <a:pt x="2965" y="906"/>
                  </a:lnTo>
                  <a:lnTo>
                    <a:pt x="2991" y="941"/>
                  </a:lnTo>
                  <a:lnTo>
                    <a:pt x="3016" y="974"/>
                  </a:lnTo>
                  <a:lnTo>
                    <a:pt x="3039" y="1008"/>
                  </a:lnTo>
                  <a:lnTo>
                    <a:pt x="3060" y="1040"/>
                  </a:lnTo>
                  <a:lnTo>
                    <a:pt x="3078" y="1071"/>
                  </a:lnTo>
                  <a:lnTo>
                    <a:pt x="3096" y="1102"/>
                  </a:lnTo>
                  <a:lnTo>
                    <a:pt x="3109" y="1132"/>
                  </a:lnTo>
                  <a:lnTo>
                    <a:pt x="3122" y="1160"/>
                  </a:lnTo>
                  <a:lnTo>
                    <a:pt x="3130" y="1189"/>
                  </a:lnTo>
                  <a:lnTo>
                    <a:pt x="3138" y="1215"/>
                  </a:lnTo>
                  <a:lnTo>
                    <a:pt x="3142" y="1240"/>
                  </a:lnTo>
                  <a:lnTo>
                    <a:pt x="3113" y="1236"/>
                  </a:lnTo>
                  <a:lnTo>
                    <a:pt x="3086" y="1231"/>
                  </a:lnTo>
                  <a:lnTo>
                    <a:pt x="3062" y="1229"/>
                  </a:lnTo>
                  <a:lnTo>
                    <a:pt x="3045" y="1226"/>
                  </a:lnTo>
                  <a:lnTo>
                    <a:pt x="3027" y="1196"/>
                  </a:lnTo>
                  <a:lnTo>
                    <a:pt x="2999" y="1148"/>
                  </a:lnTo>
                  <a:lnTo>
                    <a:pt x="2960" y="1085"/>
                  </a:lnTo>
                  <a:lnTo>
                    <a:pt x="2911" y="1010"/>
                  </a:lnTo>
                  <a:lnTo>
                    <a:pt x="2883" y="969"/>
                  </a:lnTo>
                  <a:lnTo>
                    <a:pt x="2853" y="927"/>
                  </a:lnTo>
                  <a:lnTo>
                    <a:pt x="2822" y="882"/>
                  </a:lnTo>
                  <a:lnTo>
                    <a:pt x="2789" y="836"/>
                  </a:lnTo>
                  <a:lnTo>
                    <a:pt x="2753" y="791"/>
                  </a:lnTo>
                  <a:lnTo>
                    <a:pt x="2717" y="743"/>
                  </a:lnTo>
                  <a:lnTo>
                    <a:pt x="2678" y="696"/>
                  </a:lnTo>
                  <a:lnTo>
                    <a:pt x="2639" y="649"/>
                  </a:lnTo>
                  <a:lnTo>
                    <a:pt x="2598" y="603"/>
                  </a:lnTo>
                  <a:lnTo>
                    <a:pt x="2554" y="559"/>
                  </a:lnTo>
                  <a:lnTo>
                    <a:pt x="2511" y="515"/>
                  </a:lnTo>
                  <a:lnTo>
                    <a:pt x="2467" y="473"/>
                  </a:lnTo>
                  <a:lnTo>
                    <a:pt x="2421" y="433"/>
                  </a:lnTo>
                  <a:lnTo>
                    <a:pt x="2375" y="396"/>
                  </a:lnTo>
                  <a:lnTo>
                    <a:pt x="2328" y="361"/>
                  </a:lnTo>
                  <a:lnTo>
                    <a:pt x="2281" y="330"/>
                  </a:lnTo>
                  <a:lnTo>
                    <a:pt x="2233" y="302"/>
                  </a:lnTo>
                  <a:lnTo>
                    <a:pt x="2184" y="278"/>
                  </a:lnTo>
                  <a:lnTo>
                    <a:pt x="2136" y="258"/>
                  </a:lnTo>
                  <a:lnTo>
                    <a:pt x="2087" y="243"/>
                  </a:lnTo>
                  <a:lnTo>
                    <a:pt x="2038" y="233"/>
                  </a:lnTo>
                  <a:lnTo>
                    <a:pt x="1989" y="230"/>
                  </a:lnTo>
                  <a:lnTo>
                    <a:pt x="1941" y="231"/>
                  </a:lnTo>
                  <a:lnTo>
                    <a:pt x="1892" y="238"/>
                  </a:lnTo>
                  <a:lnTo>
                    <a:pt x="1892" y="238"/>
                  </a:lnTo>
                  <a:lnTo>
                    <a:pt x="1877" y="238"/>
                  </a:lnTo>
                  <a:lnTo>
                    <a:pt x="1840" y="243"/>
                  </a:lnTo>
                  <a:lnTo>
                    <a:pt x="1782" y="251"/>
                  </a:lnTo>
                  <a:lnTo>
                    <a:pt x="1705" y="264"/>
                  </a:lnTo>
                  <a:lnTo>
                    <a:pt x="1661" y="273"/>
                  </a:lnTo>
                  <a:lnTo>
                    <a:pt x="1613" y="284"/>
                  </a:lnTo>
                  <a:lnTo>
                    <a:pt x="1562" y="298"/>
                  </a:lnTo>
                  <a:lnTo>
                    <a:pt x="1507" y="313"/>
                  </a:lnTo>
                  <a:lnTo>
                    <a:pt x="1450" y="330"/>
                  </a:lnTo>
                  <a:lnTo>
                    <a:pt x="1391" y="349"/>
                  </a:lnTo>
                  <a:lnTo>
                    <a:pt x="1330" y="371"/>
                  </a:lnTo>
                  <a:lnTo>
                    <a:pt x="1267" y="396"/>
                  </a:lnTo>
                  <a:lnTo>
                    <a:pt x="1202" y="425"/>
                  </a:lnTo>
                  <a:lnTo>
                    <a:pt x="1137" y="454"/>
                  </a:lnTo>
                  <a:lnTo>
                    <a:pt x="1070" y="489"/>
                  </a:lnTo>
                  <a:lnTo>
                    <a:pt x="1003" y="526"/>
                  </a:lnTo>
                  <a:lnTo>
                    <a:pt x="936" y="567"/>
                  </a:lnTo>
                  <a:lnTo>
                    <a:pt x="870" y="611"/>
                  </a:lnTo>
                  <a:lnTo>
                    <a:pt x="805" y="659"/>
                  </a:lnTo>
                  <a:lnTo>
                    <a:pt x="739" y="711"/>
                  </a:lnTo>
                  <a:lnTo>
                    <a:pt x="674" y="767"/>
                  </a:lnTo>
                  <a:lnTo>
                    <a:pt x="612" y="828"/>
                  </a:lnTo>
                  <a:lnTo>
                    <a:pt x="550" y="892"/>
                  </a:lnTo>
                  <a:lnTo>
                    <a:pt x="492" y="962"/>
                  </a:lnTo>
                  <a:lnTo>
                    <a:pt x="436" y="1036"/>
                  </a:lnTo>
                  <a:lnTo>
                    <a:pt x="381" y="1114"/>
                  </a:lnTo>
                  <a:lnTo>
                    <a:pt x="330" y="1199"/>
                  </a:lnTo>
                  <a:lnTo>
                    <a:pt x="283" y="1287"/>
                  </a:lnTo>
                  <a:lnTo>
                    <a:pt x="266" y="1274"/>
                  </a:lnTo>
                  <a:lnTo>
                    <a:pt x="242" y="1260"/>
                  </a:lnTo>
                  <a:lnTo>
                    <a:pt x="216" y="1241"/>
                  </a:lnTo>
                  <a:lnTo>
                    <a:pt x="189" y="1222"/>
                  </a:lnTo>
                  <a:lnTo>
                    <a:pt x="161" y="1204"/>
                  </a:lnTo>
                  <a:lnTo>
                    <a:pt x="137" y="1186"/>
                  </a:lnTo>
                  <a:lnTo>
                    <a:pt x="114" y="1171"/>
                  </a:lnTo>
                  <a:lnTo>
                    <a:pt x="97" y="1159"/>
                  </a:lnTo>
                  <a:lnTo>
                    <a:pt x="117" y="1127"/>
                  </a:lnTo>
                  <a:lnTo>
                    <a:pt x="148" y="1082"/>
                  </a:lnTo>
                  <a:lnTo>
                    <a:pt x="187" y="1026"/>
                  </a:lnTo>
                  <a:lnTo>
                    <a:pt x="235" y="962"/>
                  </a:lnTo>
                  <a:lnTo>
                    <a:pt x="262" y="927"/>
                  </a:lnTo>
                  <a:lnTo>
                    <a:pt x="292" y="890"/>
                  </a:lnTo>
                  <a:lnTo>
                    <a:pt x="323" y="851"/>
                  </a:lnTo>
                  <a:lnTo>
                    <a:pt x="356" y="812"/>
                  </a:lnTo>
                  <a:lnTo>
                    <a:pt x="392" y="772"/>
                  </a:lnTo>
                  <a:lnTo>
                    <a:pt x="430" y="730"/>
                  </a:lnTo>
                  <a:lnTo>
                    <a:pt x="468" y="689"/>
                  </a:lnTo>
                  <a:lnTo>
                    <a:pt x="509" y="647"/>
                  </a:lnTo>
                  <a:lnTo>
                    <a:pt x="553" y="604"/>
                  </a:lnTo>
                  <a:lnTo>
                    <a:pt x="597" y="562"/>
                  </a:lnTo>
                  <a:lnTo>
                    <a:pt x="643" y="520"/>
                  </a:lnTo>
                  <a:lnTo>
                    <a:pt x="690" y="479"/>
                  </a:lnTo>
                  <a:lnTo>
                    <a:pt x="740" y="438"/>
                  </a:lnTo>
                  <a:lnTo>
                    <a:pt x="792" y="400"/>
                  </a:lnTo>
                  <a:lnTo>
                    <a:pt x="844" y="361"/>
                  </a:lnTo>
                  <a:lnTo>
                    <a:pt x="899" y="324"/>
                  </a:lnTo>
                  <a:lnTo>
                    <a:pt x="955" y="289"/>
                  </a:lnTo>
                  <a:lnTo>
                    <a:pt x="1012" y="256"/>
                  </a:lnTo>
                  <a:lnTo>
                    <a:pt x="1070" y="224"/>
                  </a:lnTo>
                  <a:lnTo>
                    <a:pt x="1131" y="195"/>
                  </a:lnTo>
                  <a:lnTo>
                    <a:pt x="1192" y="169"/>
                  </a:lnTo>
                  <a:lnTo>
                    <a:pt x="1254" y="144"/>
                  </a:lnTo>
                  <a:lnTo>
                    <a:pt x="1319" y="124"/>
                  </a:lnTo>
                  <a:lnTo>
                    <a:pt x="1383" y="106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2867040" y="5199120"/>
              <a:ext cx="1244520" cy="493560"/>
            </a:xfrm>
            <a:custGeom>
              <a:avLst/>
              <a:gdLst/>
              <a:ahLst/>
              <a:rect l="l" t="t" r="r" b="b"/>
              <a:pathLst>
                <a:path w="3133" h="1246">
                  <a:moveTo>
                    <a:pt x="0" y="1133"/>
                  </a:moveTo>
                  <a:lnTo>
                    <a:pt x="12" y="1114"/>
                  </a:lnTo>
                  <a:lnTo>
                    <a:pt x="47" y="1061"/>
                  </a:lnTo>
                  <a:lnTo>
                    <a:pt x="72" y="1023"/>
                  </a:lnTo>
                  <a:lnTo>
                    <a:pt x="103" y="979"/>
                  </a:lnTo>
                  <a:lnTo>
                    <a:pt x="139" y="930"/>
                  </a:lnTo>
                  <a:lnTo>
                    <a:pt x="180" y="876"/>
                  </a:lnTo>
                  <a:lnTo>
                    <a:pt x="227" y="819"/>
                  </a:lnTo>
                  <a:lnTo>
                    <a:pt x="277" y="758"/>
                  </a:lnTo>
                  <a:lnTo>
                    <a:pt x="333" y="695"/>
                  </a:lnTo>
                  <a:lnTo>
                    <a:pt x="392" y="630"/>
                  </a:lnTo>
                  <a:lnTo>
                    <a:pt x="457" y="564"/>
                  </a:lnTo>
                  <a:lnTo>
                    <a:pt x="525" y="499"/>
                  </a:lnTo>
                  <a:lnTo>
                    <a:pt x="598" y="434"/>
                  </a:lnTo>
                  <a:lnTo>
                    <a:pt x="675" y="371"/>
                  </a:lnTo>
                  <a:lnTo>
                    <a:pt x="755" y="311"/>
                  </a:lnTo>
                  <a:lnTo>
                    <a:pt x="839" y="253"/>
                  </a:lnTo>
                  <a:lnTo>
                    <a:pt x="926" y="200"/>
                  </a:lnTo>
                  <a:lnTo>
                    <a:pt x="1018" y="151"/>
                  </a:lnTo>
                  <a:lnTo>
                    <a:pt x="1112" y="108"/>
                  </a:lnTo>
                  <a:lnTo>
                    <a:pt x="1209" y="71"/>
                  </a:lnTo>
                  <a:lnTo>
                    <a:pt x="1310" y="41"/>
                  </a:lnTo>
                  <a:lnTo>
                    <a:pt x="1413" y="18"/>
                  </a:lnTo>
                  <a:lnTo>
                    <a:pt x="1518" y="5"/>
                  </a:lnTo>
                  <a:lnTo>
                    <a:pt x="1628" y="0"/>
                  </a:lnTo>
                  <a:lnTo>
                    <a:pt x="1738" y="6"/>
                  </a:lnTo>
                  <a:lnTo>
                    <a:pt x="1851" y="22"/>
                  </a:lnTo>
                  <a:lnTo>
                    <a:pt x="1967" y="51"/>
                  </a:lnTo>
                  <a:lnTo>
                    <a:pt x="2083" y="92"/>
                  </a:lnTo>
                  <a:lnTo>
                    <a:pt x="2204" y="146"/>
                  </a:lnTo>
                  <a:lnTo>
                    <a:pt x="2324" y="215"/>
                  </a:lnTo>
                  <a:lnTo>
                    <a:pt x="2334" y="223"/>
                  </a:lnTo>
                  <a:lnTo>
                    <a:pt x="2360" y="246"/>
                  </a:lnTo>
                  <a:lnTo>
                    <a:pt x="2403" y="283"/>
                  </a:lnTo>
                  <a:lnTo>
                    <a:pt x="2456" y="331"/>
                  </a:lnTo>
                  <a:lnTo>
                    <a:pt x="2519" y="391"/>
                  </a:lnTo>
                  <a:lnTo>
                    <a:pt x="2590" y="458"/>
                  </a:lnTo>
                  <a:lnTo>
                    <a:pt x="2666" y="532"/>
                  </a:lnTo>
                  <a:lnTo>
                    <a:pt x="2743" y="613"/>
                  </a:lnTo>
                  <a:lnTo>
                    <a:pt x="2781" y="654"/>
                  </a:lnTo>
                  <a:lnTo>
                    <a:pt x="2820" y="696"/>
                  </a:lnTo>
                  <a:lnTo>
                    <a:pt x="2857" y="738"/>
                  </a:lnTo>
                  <a:lnTo>
                    <a:pt x="2894" y="782"/>
                  </a:lnTo>
                  <a:lnTo>
                    <a:pt x="2929" y="824"/>
                  </a:lnTo>
                  <a:lnTo>
                    <a:pt x="2963" y="867"/>
                  </a:lnTo>
                  <a:lnTo>
                    <a:pt x="2994" y="909"/>
                  </a:lnTo>
                  <a:lnTo>
                    <a:pt x="3022" y="951"/>
                  </a:lnTo>
                  <a:lnTo>
                    <a:pt x="3048" y="994"/>
                  </a:lnTo>
                  <a:lnTo>
                    <a:pt x="3072" y="1033"/>
                  </a:lnTo>
                  <a:lnTo>
                    <a:pt x="3092" y="1073"/>
                  </a:lnTo>
                  <a:lnTo>
                    <a:pt x="3109" y="1110"/>
                  </a:lnTo>
                  <a:lnTo>
                    <a:pt x="3122" y="1148"/>
                  </a:lnTo>
                  <a:lnTo>
                    <a:pt x="3129" y="1182"/>
                  </a:lnTo>
                  <a:lnTo>
                    <a:pt x="3133" y="1215"/>
                  </a:lnTo>
                  <a:lnTo>
                    <a:pt x="3131" y="1246"/>
                  </a:lnTo>
                  <a:lnTo>
                    <a:pt x="2975" y="1223"/>
                  </a:lnTo>
                  <a:lnTo>
                    <a:pt x="2968" y="1211"/>
                  </a:lnTo>
                  <a:lnTo>
                    <a:pt x="2948" y="1176"/>
                  </a:lnTo>
                  <a:lnTo>
                    <a:pt x="2914" y="1123"/>
                  </a:lnTo>
                  <a:lnTo>
                    <a:pt x="2871" y="1053"/>
                  </a:lnTo>
                  <a:lnTo>
                    <a:pt x="2817" y="971"/>
                  </a:lnTo>
                  <a:lnTo>
                    <a:pt x="2754" y="882"/>
                  </a:lnTo>
                  <a:lnTo>
                    <a:pt x="2719" y="834"/>
                  </a:lnTo>
                  <a:lnTo>
                    <a:pt x="2683" y="785"/>
                  </a:lnTo>
                  <a:lnTo>
                    <a:pt x="2645" y="737"/>
                  </a:lnTo>
                  <a:lnTo>
                    <a:pt x="2605" y="688"/>
                  </a:lnTo>
                  <a:lnTo>
                    <a:pt x="2564" y="639"/>
                  </a:lnTo>
                  <a:lnTo>
                    <a:pt x="2520" y="592"/>
                  </a:lnTo>
                  <a:lnTo>
                    <a:pt x="2477" y="545"/>
                  </a:lnTo>
                  <a:lnTo>
                    <a:pt x="2432" y="500"/>
                  </a:lnTo>
                  <a:lnTo>
                    <a:pt x="2386" y="456"/>
                  </a:lnTo>
                  <a:lnTo>
                    <a:pt x="2339" y="415"/>
                  </a:lnTo>
                  <a:lnTo>
                    <a:pt x="2292" y="378"/>
                  </a:lnTo>
                  <a:lnTo>
                    <a:pt x="2244" y="344"/>
                  </a:lnTo>
                  <a:lnTo>
                    <a:pt x="2194" y="313"/>
                  </a:lnTo>
                  <a:lnTo>
                    <a:pt x="2145" y="286"/>
                  </a:lnTo>
                  <a:lnTo>
                    <a:pt x="2096" y="264"/>
                  </a:lnTo>
                  <a:lnTo>
                    <a:pt x="2047" y="247"/>
                  </a:lnTo>
                  <a:lnTo>
                    <a:pt x="1998" y="236"/>
                  </a:lnTo>
                  <a:lnTo>
                    <a:pt x="1949" y="229"/>
                  </a:lnTo>
                  <a:lnTo>
                    <a:pt x="1900" y="231"/>
                  </a:lnTo>
                  <a:lnTo>
                    <a:pt x="1851" y="237"/>
                  </a:lnTo>
                  <a:lnTo>
                    <a:pt x="1840" y="236"/>
                  </a:lnTo>
                  <a:lnTo>
                    <a:pt x="1806" y="233"/>
                  </a:lnTo>
                  <a:lnTo>
                    <a:pt x="1783" y="232"/>
                  </a:lnTo>
                  <a:lnTo>
                    <a:pt x="1754" y="232"/>
                  </a:lnTo>
                  <a:lnTo>
                    <a:pt x="1721" y="231"/>
                  </a:lnTo>
                  <a:lnTo>
                    <a:pt x="1685" y="232"/>
                  </a:lnTo>
                  <a:lnTo>
                    <a:pt x="1644" y="233"/>
                  </a:lnTo>
                  <a:lnTo>
                    <a:pt x="1599" y="237"/>
                  </a:lnTo>
                  <a:lnTo>
                    <a:pt x="1553" y="242"/>
                  </a:lnTo>
                  <a:lnTo>
                    <a:pt x="1502" y="248"/>
                  </a:lnTo>
                  <a:lnTo>
                    <a:pt x="1450" y="257"/>
                  </a:lnTo>
                  <a:lnTo>
                    <a:pt x="1395" y="267"/>
                  </a:lnTo>
                  <a:lnTo>
                    <a:pt x="1338" y="280"/>
                  </a:lnTo>
                  <a:lnTo>
                    <a:pt x="1280" y="295"/>
                  </a:lnTo>
                  <a:lnTo>
                    <a:pt x="1220" y="315"/>
                  </a:lnTo>
                  <a:lnTo>
                    <a:pt x="1160" y="336"/>
                  </a:lnTo>
                  <a:lnTo>
                    <a:pt x="1099" y="362"/>
                  </a:lnTo>
                  <a:lnTo>
                    <a:pt x="1037" y="391"/>
                  </a:lnTo>
                  <a:lnTo>
                    <a:pt x="973" y="424"/>
                  </a:lnTo>
                  <a:lnTo>
                    <a:pt x="911" y="461"/>
                  </a:lnTo>
                  <a:lnTo>
                    <a:pt x="849" y="502"/>
                  </a:lnTo>
                  <a:lnTo>
                    <a:pt x="788" y="548"/>
                  </a:lnTo>
                  <a:lnTo>
                    <a:pt x="727" y="600"/>
                  </a:lnTo>
                  <a:lnTo>
                    <a:pt x="668" y="656"/>
                  </a:lnTo>
                  <a:lnTo>
                    <a:pt x="611" y="717"/>
                  </a:lnTo>
                  <a:lnTo>
                    <a:pt x="555" y="784"/>
                  </a:lnTo>
                  <a:lnTo>
                    <a:pt x="501" y="856"/>
                  </a:lnTo>
                  <a:lnTo>
                    <a:pt x="449" y="935"/>
                  </a:lnTo>
                  <a:lnTo>
                    <a:pt x="401" y="1020"/>
                  </a:lnTo>
                  <a:lnTo>
                    <a:pt x="355" y="1110"/>
                  </a:lnTo>
                  <a:lnTo>
                    <a:pt x="0" y="113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2841480" y="5184720"/>
              <a:ext cx="1284480" cy="523800"/>
            </a:xfrm>
            <a:custGeom>
              <a:avLst/>
              <a:gdLst/>
              <a:ahLst/>
              <a:rect l="l" t="t" r="r" b="b"/>
              <a:pathLst>
                <a:path w="3234" h="1321">
                  <a:moveTo>
                    <a:pt x="1383" y="37"/>
                  </a:moveTo>
                  <a:lnTo>
                    <a:pt x="1310" y="57"/>
                  </a:lnTo>
                  <a:lnTo>
                    <a:pt x="1237" y="82"/>
                  </a:lnTo>
                  <a:lnTo>
                    <a:pt x="1167" y="109"/>
                  </a:lnTo>
                  <a:lnTo>
                    <a:pt x="1098" y="139"/>
                  </a:lnTo>
                  <a:lnTo>
                    <a:pt x="1031" y="172"/>
                  </a:lnTo>
                  <a:lnTo>
                    <a:pt x="965" y="208"/>
                  </a:lnTo>
                  <a:lnTo>
                    <a:pt x="902" y="247"/>
                  </a:lnTo>
                  <a:lnTo>
                    <a:pt x="840" y="288"/>
                  </a:lnTo>
                  <a:lnTo>
                    <a:pt x="780" y="330"/>
                  </a:lnTo>
                  <a:lnTo>
                    <a:pt x="723" y="375"/>
                  </a:lnTo>
                  <a:lnTo>
                    <a:pt x="667" y="419"/>
                  </a:lnTo>
                  <a:lnTo>
                    <a:pt x="612" y="465"/>
                  </a:lnTo>
                  <a:lnTo>
                    <a:pt x="561" y="512"/>
                  </a:lnTo>
                  <a:lnTo>
                    <a:pt x="512" y="559"/>
                  </a:lnTo>
                  <a:lnTo>
                    <a:pt x="465" y="607"/>
                  </a:lnTo>
                  <a:lnTo>
                    <a:pt x="419" y="652"/>
                  </a:lnTo>
                  <a:lnTo>
                    <a:pt x="376" y="700"/>
                  </a:lnTo>
                  <a:lnTo>
                    <a:pt x="335" y="746"/>
                  </a:lnTo>
                  <a:lnTo>
                    <a:pt x="297" y="790"/>
                  </a:lnTo>
                  <a:lnTo>
                    <a:pt x="261" y="834"/>
                  </a:lnTo>
                  <a:lnTo>
                    <a:pt x="227" y="876"/>
                  </a:lnTo>
                  <a:lnTo>
                    <a:pt x="196" y="916"/>
                  </a:lnTo>
                  <a:lnTo>
                    <a:pt x="169" y="953"/>
                  </a:lnTo>
                  <a:lnTo>
                    <a:pt x="143" y="989"/>
                  </a:lnTo>
                  <a:lnTo>
                    <a:pt x="100" y="1051"/>
                  </a:lnTo>
                  <a:lnTo>
                    <a:pt x="66" y="1100"/>
                  </a:lnTo>
                  <a:lnTo>
                    <a:pt x="45" y="1135"/>
                  </a:lnTo>
                  <a:lnTo>
                    <a:pt x="35" y="1151"/>
                  </a:lnTo>
                  <a:lnTo>
                    <a:pt x="0" y="1210"/>
                  </a:lnTo>
                  <a:lnTo>
                    <a:pt x="443" y="1181"/>
                  </a:lnTo>
                  <a:lnTo>
                    <a:pt x="452" y="1161"/>
                  </a:lnTo>
                  <a:lnTo>
                    <a:pt x="496" y="1074"/>
                  </a:lnTo>
                  <a:lnTo>
                    <a:pt x="543" y="992"/>
                  </a:lnTo>
                  <a:lnTo>
                    <a:pt x="592" y="917"/>
                  </a:lnTo>
                  <a:lnTo>
                    <a:pt x="645" y="846"/>
                  </a:lnTo>
                  <a:lnTo>
                    <a:pt x="699" y="782"/>
                  </a:lnTo>
                  <a:lnTo>
                    <a:pt x="755" y="722"/>
                  </a:lnTo>
                  <a:lnTo>
                    <a:pt x="812" y="667"/>
                  </a:lnTo>
                  <a:lnTo>
                    <a:pt x="871" y="618"/>
                  </a:lnTo>
                  <a:lnTo>
                    <a:pt x="930" y="573"/>
                  </a:lnTo>
                  <a:lnTo>
                    <a:pt x="991" y="533"/>
                  </a:lnTo>
                  <a:lnTo>
                    <a:pt x="1051" y="496"/>
                  </a:lnTo>
                  <a:lnTo>
                    <a:pt x="1112" y="464"/>
                  </a:lnTo>
                  <a:lnTo>
                    <a:pt x="1172" y="435"/>
                  </a:lnTo>
                  <a:lnTo>
                    <a:pt x="1232" y="411"/>
                  </a:lnTo>
                  <a:lnTo>
                    <a:pt x="1292" y="389"/>
                  </a:lnTo>
                  <a:lnTo>
                    <a:pt x="1349" y="370"/>
                  </a:lnTo>
                  <a:lnTo>
                    <a:pt x="1406" y="355"/>
                  </a:lnTo>
                  <a:lnTo>
                    <a:pt x="1462" y="341"/>
                  </a:lnTo>
                  <a:lnTo>
                    <a:pt x="1515" y="330"/>
                  </a:lnTo>
                  <a:lnTo>
                    <a:pt x="1566" y="321"/>
                  </a:lnTo>
                  <a:lnTo>
                    <a:pt x="1614" y="315"/>
                  </a:lnTo>
                  <a:lnTo>
                    <a:pt x="1660" y="310"/>
                  </a:lnTo>
                  <a:lnTo>
                    <a:pt x="1704" y="306"/>
                  </a:lnTo>
                  <a:lnTo>
                    <a:pt x="1744" y="305"/>
                  </a:lnTo>
                  <a:lnTo>
                    <a:pt x="1780" y="304"/>
                  </a:lnTo>
                  <a:lnTo>
                    <a:pt x="1813" y="304"/>
                  </a:lnTo>
                  <a:lnTo>
                    <a:pt x="1842" y="304"/>
                  </a:lnTo>
                  <a:lnTo>
                    <a:pt x="1865" y="305"/>
                  </a:lnTo>
                  <a:lnTo>
                    <a:pt x="1899" y="308"/>
                  </a:lnTo>
                  <a:lnTo>
                    <a:pt x="1912" y="309"/>
                  </a:lnTo>
                  <a:lnTo>
                    <a:pt x="1958" y="301"/>
                  </a:lnTo>
                  <a:lnTo>
                    <a:pt x="2006" y="301"/>
                  </a:lnTo>
                  <a:lnTo>
                    <a:pt x="2053" y="308"/>
                  </a:lnTo>
                  <a:lnTo>
                    <a:pt x="2100" y="319"/>
                  </a:lnTo>
                  <a:lnTo>
                    <a:pt x="2148" y="336"/>
                  </a:lnTo>
                  <a:lnTo>
                    <a:pt x="2196" y="357"/>
                  </a:lnTo>
                  <a:lnTo>
                    <a:pt x="2243" y="383"/>
                  </a:lnTo>
                  <a:lnTo>
                    <a:pt x="2290" y="413"/>
                  </a:lnTo>
                  <a:lnTo>
                    <a:pt x="2337" y="448"/>
                  </a:lnTo>
                  <a:lnTo>
                    <a:pt x="2383" y="484"/>
                  </a:lnTo>
                  <a:lnTo>
                    <a:pt x="2429" y="523"/>
                  </a:lnTo>
                  <a:lnTo>
                    <a:pt x="2474" y="566"/>
                  </a:lnTo>
                  <a:lnTo>
                    <a:pt x="2517" y="609"/>
                  </a:lnTo>
                  <a:lnTo>
                    <a:pt x="2561" y="655"/>
                  </a:lnTo>
                  <a:lnTo>
                    <a:pt x="2603" y="701"/>
                  </a:lnTo>
                  <a:lnTo>
                    <a:pt x="2643" y="748"/>
                  </a:lnTo>
                  <a:lnTo>
                    <a:pt x="2681" y="796"/>
                  </a:lnTo>
                  <a:lnTo>
                    <a:pt x="2720" y="844"/>
                  </a:lnTo>
                  <a:lnTo>
                    <a:pt x="2754" y="891"/>
                  </a:lnTo>
                  <a:lnTo>
                    <a:pt x="2789" y="938"/>
                  </a:lnTo>
                  <a:lnTo>
                    <a:pt x="2851" y="1026"/>
                  </a:lnTo>
                  <a:lnTo>
                    <a:pt x="2903" y="1105"/>
                  </a:lnTo>
                  <a:lnTo>
                    <a:pt x="2947" y="1174"/>
                  </a:lnTo>
                  <a:lnTo>
                    <a:pt x="2979" y="1227"/>
                  </a:lnTo>
                  <a:lnTo>
                    <a:pt x="3000" y="1263"/>
                  </a:lnTo>
                  <a:lnTo>
                    <a:pt x="3008" y="1277"/>
                  </a:lnTo>
                  <a:lnTo>
                    <a:pt x="3016" y="1291"/>
                  </a:lnTo>
                  <a:lnTo>
                    <a:pt x="3227" y="1321"/>
                  </a:lnTo>
                  <a:lnTo>
                    <a:pt x="3232" y="1285"/>
                  </a:lnTo>
                  <a:lnTo>
                    <a:pt x="3234" y="1254"/>
                  </a:lnTo>
                  <a:lnTo>
                    <a:pt x="3231" y="1221"/>
                  </a:lnTo>
                  <a:lnTo>
                    <a:pt x="3224" y="1186"/>
                  </a:lnTo>
                  <a:lnTo>
                    <a:pt x="3213" y="1150"/>
                  </a:lnTo>
                  <a:lnTo>
                    <a:pt x="3198" y="1113"/>
                  </a:lnTo>
                  <a:lnTo>
                    <a:pt x="3179" y="1074"/>
                  </a:lnTo>
                  <a:lnTo>
                    <a:pt x="3158" y="1035"/>
                  </a:lnTo>
                  <a:lnTo>
                    <a:pt x="3134" y="994"/>
                  </a:lnTo>
                  <a:lnTo>
                    <a:pt x="3107" y="953"/>
                  </a:lnTo>
                  <a:lnTo>
                    <a:pt x="3078" y="911"/>
                  </a:lnTo>
                  <a:lnTo>
                    <a:pt x="3047" y="870"/>
                  </a:lnTo>
                  <a:lnTo>
                    <a:pt x="3014" y="827"/>
                  </a:lnTo>
                  <a:lnTo>
                    <a:pt x="2979" y="785"/>
                  </a:lnTo>
                  <a:lnTo>
                    <a:pt x="2944" y="743"/>
                  </a:lnTo>
                  <a:lnTo>
                    <a:pt x="2908" y="702"/>
                  </a:lnTo>
                  <a:lnTo>
                    <a:pt x="2871" y="661"/>
                  </a:lnTo>
                  <a:lnTo>
                    <a:pt x="2795" y="582"/>
                  </a:lnTo>
                  <a:lnTo>
                    <a:pt x="2721" y="507"/>
                  </a:lnTo>
                  <a:lnTo>
                    <a:pt x="2650" y="438"/>
                  </a:lnTo>
                  <a:lnTo>
                    <a:pt x="2583" y="376"/>
                  </a:lnTo>
                  <a:lnTo>
                    <a:pt x="2525" y="321"/>
                  </a:lnTo>
                  <a:lnTo>
                    <a:pt x="2475" y="278"/>
                  </a:lnTo>
                  <a:lnTo>
                    <a:pt x="2436" y="244"/>
                  </a:lnTo>
                  <a:lnTo>
                    <a:pt x="2413" y="223"/>
                  </a:lnTo>
                  <a:lnTo>
                    <a:pt x="2381" y="205"/>
                  </a:lnTo>
                  <a:lnTo>
                    <a:pt x="2350" y="186"/>
                  </a:lnTo>
                  <a:lnTo>
                    <a:pt x="2317" y="169"/>
                  </a:lnTo>
                  <a:lnTo>
                    <a:pt x="2286" y="151"/>
                  </a:lnTo>
                  <a:lnTo>
                    <a:pt x="2254" y="136"/>
                  </a:lnTo>
                  <a:lnTo>
                    <a:pt x="2222" y="121"/>
                  </a:lnTo>
                  <a:lnTo>
                    <a:pt x="2191" y="107"/>
                  </a:lnTo>
                  <a:lnTo>
                    <a:pt x="2158" y="94"/>
                  </a:lnTo>
                  <a:lnTo>
                    <a:pt x="2126" y="82"/>
                  </a:lnTo>
                  <a:lnTo>
                    <a:pt x="2094" y="71"/>
                  </a:lnTo>
                  <a:lnTo>
                    <a:pt x="2063" y="59"/>
                  </a:lnTo>
                  <a:lnTo>
                    <a:pt x="2030" y="50"/>
                  </a:lnTo>
                  <a:lnTo>
                    <a:pt x="1998" y="41"/>
                  </a:lnTo>
                  <a:lnTo>
                    <a:pt x="1966" y="33"/>
                  </a:lnTo>
                  <a:lnTo>
                    <a:pt x="1934" y="26"/>
                  </a:lnTo>
                  <a:lnTo>
                    <a:pt x="1901" y="20"/>
                  </a:lnTo>
                  <a:lnTo>
                    <a:pt x="1869" y="15"/>
                  </a:lnTo>
                  <a:lnTo>
                    <a:pt x="1837" y="10"/>
                  </a:lnTo>
                  <a:lnTo>
                    <a:pt x="1804" y="6"/>
                  </a:lnTo>
                  <a:lnTo>
                    <a:pt x="1772" y="4"/>
                  </a:lnTo>
                  <a:lnTo>
                    <a:pt x="1740" y="1"/>
                  </a:lnTo>
                  <a:lnTo>
                    <a:pt x="1708" y="1"/>
                  </a:lnTo>
                  <a:lnTo>
                    <a:pt x="1675" y="0"/>
                  </a:lnTo>
                  <a:lnTo>
                    <a:pt x="1643" y="1"/>
                  </a:lnTo>
                  <a:lnTo>
                    <a:pt x="1611" y="2"/>
                  </a:lnTo>
                  <a:lnTo>
                    <a:pt x="1578" y="5"/>
                  </a:lnTo>
                  <a:lnTo>
                    <a:pt x="1546" y="9"/>
                  </a:lnTo>
                  <a:lnTo>
                    <a:pt x="1514" y="12"/>
                  </a:lnTo>
                  <a:lnTo>
                    <a:pt x="1480" y="17"/>
                  </a:lnTo>
                  <a:lnTo>
                    <a:pt x="1448" y="23"/>
                  </a:lnTo>
                  <a:lnTo>
                    <a:pt x="1416" y="30"/>
                  </a:lnTo>
                  <a:lnTo>
                    <a:pt x="1383" y="37"/>
                  </a:lnTo>
                  <a:close/>
                  <a:moveTo>
                    <a:pt x="1401" y="107"/>
                  </a:moveTo>
                  <a:lnTo>
                    <a:pt x="1432" y="99"/>
                  </a:lnTo>
                  <a:lnTo>
                    <a:pt x="1462" y="93"/>
                  </a:lnTo>
                  <a:lnTo>
                    <a:pt x="1493" y="88"/>
                  </a:lnTo>
                  <a:lnTo>
                    <a:pt x="1524" y="83"/>
                  </a:lnTo>
                  <a:lnTo>
                    <a:pt x="1554" y="79"/>
                  </a:lnTo>
                  <a:lnTo>
                    <a:pt x="1585" y="76"/>
                  </a:lnTo>
                  <a:lnTo>
                    <a:pt x="1616" y="74"/>
                  </a:lnTo>
                  <a:lnTo>
                    <a:pt x="1647" y="72"/>
                  </a:lnTo>
                  <a:lnTo>
                    <a:pt x="1677" y="72"/>
                  </a:lnTo>
                  <a:lnTo>
                    <a:pt x="1708" y="72"/>
                  </a:lnTo>
                  <a:lnTo>
                    <a:pt x="1737" y="73"/>
                  </a:lnTo>
                  <a:lnTo>
                    <a:pt x="1768" y="74"/>
                  </a:lnTo>
                  <a:lnTo>
                    <a:pt x="1798" y="78"/>
                  </a:lnTo>
                  <a:lnTo>
                    <a:pt x="1829" y="81"/>
                  </a:lnTo>
                  <a:lnTo>
                    <a:pt x="1860" y="85"/>
                  </a:lnTo>
                  <a:lnTo>
                    <a:pt x="1890" y="90"/>
                  </a:lnTo>
                  <a:lnTo>
                    <a:pt x="1920" y="97"/>
                  </a:lnTo>
                  <a:lnTo>
                    <a:pt x="1951" y="103"/>
                  </a:lnTo>
                  <a:lnTo>
                    <a:pt x="1981" y="110"/>
                  </a:lnTo>
                  <a:lnTo>
                    <a:pt x="2012" y="119"/>
                  </a:lnTo>
                  <a:lnTo>
                    <a:pt x="2042" y="128"/>
                  </a:lnTo>
                  <a:lnTo>
                    <a:pt x="2071" y="138"/>
                  </a:lnTo>
                  <a:lnTo>
                    <a:pt x="2101" y="149"/>
                  </a:lnTo>
                  <a:lnTo>
                    <a:pt x="2132" y="160"/>
                  </a:lnTo>
                  <a:lnTo>
                    <a:pt x="2162" y="172"/>
                  </a:lnTo>
                  <a:lnTo>
                    <a:pt x="2192" y="185"/>
                  </a:lnTo>
                  <a:lnTo>
                    <a:pt x="2222" y="200"/>
                  </a:lnTo>
                  <a:lnTo>
                    <a:pt x="2251" y="215"/>
                  </a:lnTo>
                  <a:lnTo>
                    <a:pt x="2281" y="229"/>
                  </a:lnTo>
                  <a:lnTo>
                    <a:pt x="2311" y="246"/>
                  </a:lnTo>
                  <a:lnTo>
                    <a:pt x="2341" y="263"/>
                  </a:lnTo>
                  <a:lnTo>
                    <a:pt x="2371" y="280"/>
                  </a:lnTo>
                  <a:lnTo>
                    <a:pt x="2415" y="319"/>
                  </a:lnTo>
                  <a:lnTo>
                    <a:pt x="2466" y="365"/>
                  </a:lnTo>
                  <a:lnTo>
                    <a:pt x="2522" y="416"/>
                  </a:lnTo>
                  <a:lnTo>
                    <a:pt x="2582" y="473"/>
                  </a:lnTo>
                  <a:lnTo>
                    <a:pt x="2645" y="533"/>
                  </a:lnTo>
                  <a:lnTo>
                    <a:pt x="2708" y="598"/>
                  </a:lnTo>
                  <a:lnTo>
                    <a:pt x="2773" y="664"/>
                  </a:lnTo>
                  <a:lnTo>
                    <a:pt x="2836" y="733"/>
                  </a:lnTo>
                  <a:lnTo>
                    <a:pt x="2867" y="768"/>
                  </a:lnTo>
                  <a:lnTo>
                    <a:pt x="2898" y="803"/>
                  </a:lnTo>
                  <a:lnTo>
                    <a:pt x="2927" y="837"/>
                  </a:lnTo>
                  <a:lnTo>
                    <a:pt x="2956" y="872"/>
                  </a:lnTo>
                  <a:lnTo>
                    <a:pt x="2983" y="907"/>
                  </a:lnTo>
                  <a:lnTo>
                    <a:pt x="3009" y="940"/>
                  </a:lnTo>
                  <a:lnTo>
                    <a:pt x="3033" y="974"/>
                  </a:lnTo>
                  <a:lnTo>
                    <a:pt x="3056" y="1007"/>
                  </a:lnTo>
                  <a:lnTo>
                    <a:pt x="3076" y="1040"/>
                  </a:lnTo>
                  <a:lnTo>
                    <a:pt x="3096" y="1072"/>
                  </a:lnTo>
                  <a:lnTo>
                    <a:pt x="3112" y="1103"/>
                  </a:lnTo>
                  <a:lnTo>
                    <a:pt x="3127" y="1133"/>
                  </a:lnTo>
                  <a:lnTo>
                    <a:pt x="3138" y="1161"/>
                  </a:lnTo>
                  <a:lnTo>
                    <a:pt x="3148" y="1188"/>
                  </a:lnTo>
                  <a:lnTo>
                    <a:pt x="3154" y="1215"/>
                  </a:lnTo>
                  <a:lnTo>
                    <a:pt x="3158" y="1239"/>
                  </a:lnTo>
                  <a:lnTo>
                    <a:pt x="3129" y="1236"/>
                  </a:lnTo>
                  <a:lnTo>
                    <a:pt x="3102" y="1232"/>
                  </a:lnTo>
                  <a:lnTo>
                    <a:pt x="3080" y="1228"/>
                  </a:lnTo>
                  <a:lnTo>
                    <a:pt x="3062" y="1226"/>
                  </a:lnTo>
                  <a:lnTo>
                    <a:pt x="3045" y="1196"/>
                  </a:lnTo>
                  <a:lnTo>
                    <a:pt x="3016" y="1148"/>
                  </a:lnTo>
                  <a:lnTo>
                    <a:pt x="2977" y="1085"/>
                  </a:lnTo>
                  <a:lnTo>
                    <a:pt x="2928" y="1011"/>
                  </a:lnTo>
                  <a:lnTo>
                    <a:pt x="2901" y="970"/>
                  </a:lnTo>
                  <a:lnTo>
                    <a:pt x="2871" y="927"/>
                  </a:lnTo>
                  <a:lnTo>
                    <a:pt x="2839" y="882"/>
                  </a:lnTo>
                  <a:lnTo>
                    <a:pt x="2805" y="836"/>
                  </a:lnTo>
                  <a:lnTo>
                    <a:pt x="2771" y="790"/>
                  </a:lnTo>
                  <a:lnTo>
                    <a:pt x="2733" y="743"/>
                  </a:lnTo>
                  <a:lnTo>
                    <a:pt x="2695" y="696"/>
                  </a:lnTo>
                  <a:lnTo>
                    <a:pt x="2655" y="650"/>
                  </a:lnTo>
                  <a:lnTo>
                    <a:pt x="2614" y="604"/>
                  </a:lnTo>
                  <a:lnTo>
                    <a:pt x="2572" y="558"/>
                  </a:lnTo>
                  <a:lnTo>
                    <a:pt x="2528" y="515"/>
                  </a:lnTo>
                  <a:lnTo>
                    <a:pt x="2484" y="473"/>
                  </a:lnTo>
                  <a:lnTo>
                    <a:pt x="2438" y="433"/>
                  </a:lnTo>
                  <a:lnTo>
                    <a:pt x="2392" y="396"/>
                  </a:lnTo>
                  <a:lnTo>
                    <a:pt x="2345" y="361"/>
                  </a:lnTo>
                  <a:lnTo>
                    <a:pt x="2297" y="330"/>
                  </a:lnTo>
                  <a:lnTo>
                    <a:pt x="2250" y="303"/>
                  </a:lnTo>
                  <a:lnTo>
                    <a:pt x="2202" y="278"/>
                  </a:lnTo>
                  <a:lnTo>
                    <a:pt x="2152" y="259"/>
                  </a:lnTo>
                  <a:lnTo>
                    <a:pt x="2104" y="244"/>
                  </a:lnTo>
                  <a:lnTo>
                    <a:pt x="2055" y="234"/>
                  </a:lnTo>
                  <a:lnTo>
                    <a:pt x="2006" y="229"/>
                  </a:lnTo>
                  <a:lnTo>
                    <a:pt x="1957" y="231"/>
                  </a:lnTo>
                  <a:lnTo>
                    <a:pt x="1909" y="238"/>
                  </a:lnTo>
                  <a:lnTo>
                    <a:pt x="1898" y="237"/>
                  </a:lnTo>
                  <a:lnTo>
                    <a:pt x="1864" y="234"/>
                  </a:lnTo>
                  <a:lnTo>
                    <a:pt x="1840" y="233"/>
                  </a:lnTo>
                  <a:lnTo>
                    <a:pt x="1812" y="233"/>
                  </a:lnTo>
                  <a:lnTo>
                    <a:pt x="1778" y="233"/>
                  </a:lnTo>
                  <a:lnTo>
                    <a:pt x="1742" y="234"/>
                  </a:lnTo>
                  <a:lnTo>
                    <a:pt x="1701" y="236"/>
                  </a:lnTo>
                  <a:lnTo>
                    <a:pt x="1657" y="239"/>
                  </a:lnTo>
                  <a:lnTo>
                    <a:pt x="1609" y="244"/>
                  </a:lnTo>
                  <a:lnTo>
                    <a:pt x="1560" y="251"/>
                  </a:lnTo>
                  <a:lnTo>
                    <a:pt x="1506" y="260"/>
                  </a:lnTo>
                  <a:lnTo>
                    <a:pt x="1452" y="270"/>
                  </a:lnTo>
                  <a:lnTo>
                    <a:pt x="1395" y="284"/>
                  </a:lnTo>
                  <a:lnTo>
                    <a:pt x="1335" y="300"/>
                  </a:lnTo>
                  <a:lnTo>
                    <a:pt x="1275" y="320"/>
                  </a:lnTo>
                  <a:lnTo>
                    <a:pt x="1215" y="342"/>
                  </a:lnTo>
                  <a:lnTo>
                    <a:pt x="1151" y="368"/>
                  </a:lnTo>
                  <a:lnTo>
                    <a:pt x="1089" y="397"/>
                  </a:lnTo>
                  <a:lnTo>
                    <a:pt x="1026" y="430"/>
                  </a:lnTo>
                  <a:lnTo>
                    <a:pt x="964" y="468"/>
                  </a:lnTo>
                  <a:lnTo>
                    <a:pt x="900" y="509"/>
                  </a:lnTo>
                  <a:lnTo>
                    <a:pt x="838" y="554"/>
                  </a:lnTo>
                  <a:lnTo>
                    <a:pt x="778" y="605"/>
                  </a:lnTo>
                  <a:lnTo>
                    <a:pt x="718" y="661"/>
                  </a:lnTo>
                  <a:lnTo>
                    <a:pt x="658" y="722"/>
                  </a:lnTo>
                  <a:lnTo>
                    <a:pt x="602" y="789"/>
                  </a:lnTo>
                  <a:lnTo>
                    <a:pt x="548" y="861"/>
                  </a:lnTo>
                  <a:lnTo>
                    <a:pt x="496" y="938"/>
                  </a:lnTo>
                  <a:lnTo>
                    <a:pt x="445" y="1022"/>
                  </a:lnTo>
                  <a:lnTo>
                    <a:pt x="399" y="1113"/>
                  </a:lnTo>
                  <a:lnTo>
                    <a:pt x="383" y="1113"/>
                  </a:lnTo>
                  <a:lnTo>
                    <a:pt x="358" y="1115"/>
                  </a:lnTo>
                  <a:lnTo>
                    <a:pt x="326" y="1117"/>
                  </a:lnTo>
                  <a:lnTo>
                    <a:pt x="288" y="1119"/>
                  </a:lnTo>
                  <a:lnTo>
                    <a:pt x="247" y="1121"/>
                  </a:lnTo>
                  <a:lnTo>
                    <a:pt x="208" y="1124"/>
                  </a:lnTo>
                  <a:lnTo>
                    <a:pt x="168" y="1126"/>
                  </a:lnTo>
                  <a:lnTo>
                    <a:pt x="133" y="1129"/>
                  </a:lnTo>
                  <a:lnTo>
                    <a:pt x="162" y="1087"/>
                  </a:lnTo>
                  <a:lnTo>
                    <a:pt x="199" y="1035"/>
                  </a:lnTo>
                  <a:lnTo>
                    <a:pt x="242" y="975"/>
                  </a:lnTo>
                  <a:lnTo>
                    <a:pt x="294" y="909"/>
                  </a:lnTo>
                  <a:lnTo>
                    <a:pt x="323" y="873"/>
                  </a:lnTo>
                  <a:lnTo>
                    <a:pt x="353" y="837"/>
                  </a:lnTo>
                  <a:lnTo>
                    <a:pt x="385" y="800"/>
                  </a:lnTo>
                  <a:lnTo>
                    <a:pt x="419" y="762"/>
                  </a:lnTo>
                  <a:lnTo>
                    <a:pt x="455" y="722"/>
                  </a:lnTo>
                  <a:lnTo>
                    <a:pt x="492" y="684"/>
                  </a:lnTo>
                  <a:lnTo>
                    <a:pt x="530" y="644"/>
                  </a:lnTo>
                  <a:lnTo>
                    <a:pt x="570" y="604"/>
                  </a:lnTo>
                  <a:lnTo>
                    <a:pt x="612" y="564"/>
                  </a:lnTo>
                  <a:lnTo>
                    <a:pt x="656" y="525"/>
                  </a:lnTo>
                  <a:lnTo>
                    <a:pt x="701" y="486"/>
                  </a:lnTo>
                  <a:lnTo>
                    <a:pt x="746" y="448"/>
                  </a:lnTo>
                  <a:lnTo>
                    <a:pt x="794" y="411"/>
                  </a:lnTo>
                  <a:lnTo>
                    <a:pt x="843" y="375"/>
                  </a:lnTo>
                  <a:lnTo>
                    <a:pt x="893" y="340"/>
                  </a:lnTo>
                  <a:lnTo>
                    <a:pt x="945" y="306"/>
                  </a:lnTo>
                  <a:lnTo>
                    <a:pt x="997" y="274"/>
                  </a:lnTo>
                  <a:lnTo>
                    <a:pt x="1052" y="243"/>
                  </a:lnTo>
                  <a:lnTo>
                    <a:pt x="1107" y="215"/>
                  </a:lnTo>
                  <a:lnTo>
                    <a:pt x="1164" y="188"/>
                  </a:lnTo>
                  <a:lnTo>
                    <a:pt x="1221" y="164"/>
                  </a:lnTo>
                  <a:lnTo>
                    <a:pt x="1280" y="143"/>
                  </a:lnTo>
                  <a:lnTo>
                    <a:pt x="1340" y="123"/>
                  </a:lnTo>
                  <a:lnTo>
                    <a:pt x="1401" y="10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2913120" y="5261040"/>
              <a:ext cx="1198440" cy="511200"/>
            </a:xfrm>
            <a:custGeom>
              <a:avLst/>
              <a:gdLst/>
              <a:ahLst/>
              <a:rect l="l" t="t" r="r" b="b"/>
              <a:pathLst>
                <a:path w="3019" h="1290">
                  <a:moveTo>
                    <a:pt x="0" y="1030"/>
                  </a:moveTo>
                  <a:lnTo>
                    <a:pt x="10" y="1013"/>
                  </a:lnTo>
                  <a:lnTo>
                    <a:pt x="42" y="963"/>
                  </a:lnTo>
                  <a:lnTo>
                    <a:pt x="66" y="927"/>
                  </a:lnTo>
                  <a:lnTo>
                    <a:pt x="94" y="888"/>
                  </a:lnTo>
                  <a:lnTo>
                    <a:pt x="128" y="842"/>
                  </a:lnTo>
                  <a:lnTo>
                    <a:pt x="166" y="791"/>
                  </a:lnTo>
                  <a:lnTo>
                    <a:pt x="209" y="737"/>
                  </a:lnTo>
                  <a:lnTo>
                    <a:pt x="256" y="682"/>
                  </a:lnTo>
                  <a:lnTo>
                    <a:pt x="308" y="623"/>
                  </a:lnTo>
                  <a:lnTo>
                    <a:pt x="364" y="564"/>
                  </a:lnTo>
                  <a:lnTo>
                    <a:pt x="425" y="503"/>
                  </a:lnTo>
                  <a:lnTo>
                    <a:pt x="489" y="442"/>
                  </a:lnTo>
                  <a:lnTo>
                    <a:pt x="558" y="384"/>
                  </a:lnTo>
                  <a:lnTo>
                    <a:pt x="630" y="325"/>
                  </a:lnTo>
                  <a:lnTo>
                    <a:pt x="705" y="271"/>
                  </a:lnTo>
                  <a:lnTo>
                    <a:pt x="786" y="219"/>
                  </a:lnTo>
                  <a:lnTo>
                    <a:pt x="869" y="170"/>
                  </a:lnTo>
                  <a:lnTo>
                    <a:pt x="956" y="126"/>
                  </a:lnTo>
                  <a:lnTo>
                    <a:pt x="1047" y="87"/>
                  </a:lnTo>
                  <a:lnTo>
                    <a:pt x="1140" y="55"/>
                  </a:lnTo>
                  <a:lnTo>
                    <a:pt x="1237" y="30"/>
                  </a:lnTo>
                  <a:lnTo>
                    <a:pt x="1337" y="12"/>
                  </a:lnTo>
                  <a:lnTo>
                    <a:pt x="1439" y="2"/>
                  </a:lnTo>
                  <a:lnTo>
                    <a:pt x="1546" y="0"/>
                  </a:lnTo>
                  <a:lnTo>
                    <a:pt x="1654" y="10"/>
                  </a:lnTo>
                  <a:lnTo>
                    <a:pt x="1766" y="29"/>
                  </a:lnTo>
                  <a:lnTo>
                    <a:pt x="1879" y="60"/>
                  </a:lnTo>
                  <a:lnTo>
                    <a:pt x="1995" y="102"/>
                  </a:lnTo>
                  <a:lnTo>
                    <a:pt x="2113" y="158"/>
                  </a:lnTo>
                  <a:lnTo>
                    <a:pt x="2234" y="226"/>
                  </a:lnTo>
                  <a:lnTo>
                    <a:pt x="2244" y="235"/>
                  </a:lnTo>
                  <a:lnTo>
                    <a:pt x="2270" y="258"/>
                  </a:lnTo>
                  <a:lnTo>
                    <a:pt x="2310" y="297"/>
                  </a:lnTo>
                  <a:lnTo>
                    <a:pt x="2363" y="348"/>
                  </a:lnTo>
                  <a:lnTo>
                    <a:pt x="2424" y="410"/>
                  </a:lnTo>
                  <a:lnTo>
                    <a:pt x="2493" y="481"/>
                  </a:lnTo>
                  <a:lnTo>
                    <a:pt x="2565" y="558"/>
                  </a:lnTo>
                  <a:lnTo>
                    <a:pt x="2641" y="641"/>
                  </a:lnTo>
                  <a:lnTo>
                    <a:pt x="2678" y="683"/>
                  </a:lnTo>
                  <a:lnTo>
                    <a:pt x="2716" y="727"/>
                  </a:lnTo>
                  <a:lnTo>
                    <a:pt x="2752" y="771"/>
                  </a:lnTo>
                  <a:lnTo>
                    <a:pt x="2788" y="816"/>
                  </a:lnTo>
                  <a:lnTo>
                    <a:pt x="2821" y="860"/>
                  </a:lnTo>
                  <a:lnTo>
                    <a:pt x="2854" y="904"/>
                  </a:lnTo>
                  <a:lnTo>
                    <a:pt x="2885" y="948"/>
                  </a:lnTo>
                  <a:lnTo>
                    <a:pt x="2912" y="992"/>
                  </a:lnTo>
                  <a:lnTo>
                    <a:pt x="2938" y="1034"/>
                  </a:lnTo>
                  <a:lnTo>
                    <a:pt x="2960" y="1075"/>
                  </a:lnTo>
                  <a:lnTo>
                    <a:pt x="2980" y="1116"/>
                  </a:lnTo>
                  <a:lnTo>
                    <a:pt x="2995" y="1154"/>
                  </a:lnTo>
                  <a:lnTo>
                    <a:pt x="3008" y="1191"/>
                  </a:lnTo>
                  <a:lnTo>
                    <a:pt x="3016" y="1226"/>
                  </a:lnTo>
                  <a:lnTo>
                    <a:pt x="3019" y="1260"/>
                  </a:lnTo>
                  <a:lnTo>
                    <a:pt x="3017" y="1290"/>
                  </a:lnTo>
                  <a:lnTo>
                    <a:pt x="2861" y="1267"/>
                  </a:lnTo>
                  <a:lnTo>
                    <a:pt x="2854" y="1255"/>
                  </a:lnTo>
                  <a:lnTo>
                    <a:pt x="2834" y="1220"/>
                  </a:lnTo>
                  <a:lnTo>
                    <a:pt x="2800" y="1167"/>
                  </a:lnTo>
                  <a:lnTo>
                    <a:pt x="2757" y="1097"/>
                  </a:lnTo>
                  <a:lnTo>
                    <a:pt x="2703" y="1017"/>
                  </a:lnTo>
                  <a:lnTo>
                    <a:pt x="2640" y="926"/>
                  </a:lnTo>
                  <a:lnTo>
                    <a:pt x="2605" y="879"/>
                  </a:lnTo>
                  <a:lnTo>
                    <a:pt x="2569" y="830"/>
                  </a:lnTo>
                  <a:lnTo>
                    <a:pt x="2531" y="782"/>
                  </a:lnTo>
                  <a:lnTo>
                    <a:pt x="2491" y="732"/>
                  </a:lnTo>
                  <a:lnTo>
                    <a:pt x="2450" y="684"/>
                  </a:lnTo>
                  <a:lnTo>
                    <a:pt x="2406" y="636"/>
                  </a:lnTo>
                  <a:lnTo>
                    <a:pt x="2363" y="590"/>
                  </a:lnTo>
                  <a:lnTo>
                    <a:pt x="2318" y="544"/>
                  </a:lnTo>
                  <a:lnTo>
                    <a:pt x="2272" y="502"/>
                  </a:lnTo>
                  <a:lnTo>
                    <a:pt x="2225" y="461"/>
                  </a:lnTo>
                  <a:lnTo>
                    <a:pt x="2178" y="424"/>
                  </a:lnTo>
                  <a:lnTo>
                    <a:pt x="2130" y="389"/>
                  </a:lnTo>
                  <a:lnTo>
                    <a:pt x="2080" y="358"/>
                  </a:lnTo>
                  <a:lnTo>
                    <a:pt x="2031" y="332"/>
                  </a:lnTo>
                  <a:lnTo>
                    <a:pt x="1982" y="309"/>
                  </a:lnTo>
                  <a:lnTo>
                    <a:pt x="1933" y="292"/>
                  </a:lnTo>
                  <a:lnTo>
                    <a:pt x="1884" y="281"/>
                  </a:lnTo>
                  <a:lnTo>
                    <a:pt x="1835" y="275"/>
                  </a:lnTo>
                  <a:lnTo>
                    <a:pt x="1786" y="275"/>
                  </a:lnTo>
                  <a:lnTo>
                    <a:pt x="1737" y="282"/>
                  </a:lnTo>
                  <a:lnTo>
                    <a:pt x="1726" y="281"/>
                  </a:lnTo>
                  <a:lnTo>
                    <a:pt x="1692" y="278"/>
                  </a:lnTo>
                  <a:lnTo>
                    <a:pt x="1669" y="277"/>
                  </a:lnTo>
                  <a:lnTo>
                    <a:pt x="1640" y="276"/>
                  </a:lnTo>
                  <a:lnTo>
                    <a:pt x="1607" y="276"/>
                  </a:lnTo>
                  <a:lnTo>
                    <a:pt x="1571" y="276"/>
                  </a:lnTo>
                  <a:lnTo>
                    <a:pt x="1530" y="278"/>
                  </a:lnTo>
                  <a:lnTo>
                    <a:pt x="1485" y="281"/>
                  </a:lnTo>
                  <a:lnTo>
                    <a:pt x="1439" y="286"/>
                  </a:lnTo>
                  <a:lnTo>
                    <a:pt x="1388" y="292"/>
                  </a:lnTo>
                  <a:lnTo>
                    <a:pt x="1336" y="301"/>
                  </a:lnTo>
                  <a:lnTo>
                    <a:pt x="1281" y="312"/>
                  </a:lnTo>
                  <a:lnTo>
                    <a:pt x="1224" y="324"/>
                  </a:lnTo>
                  <a:lnTo>
                    <a:pt x="1166" y="340"/>
                  </a:lnTo>
                  <a:lnTo>
                    <a:pt x="1106" y="359"/>
                  </a:lnTo>
                  <a:lnTo>
                    <a:pt x="1046" y="381"/>
                  </a:lnTo>
                  <a:lnTo>
                    <a:pt x="985" y="407"/>
                  </a:lnTo>
                  <a:lnTo>
                    <a:pt x="923" y="436"/>
                  </a:lnTo>
                  <a:lnTo>
                    <a:pt x="859" y="469"/>
                  </a:lnTo>
                  <a:lnTo>
                    <a:pt x="797" y="507"/>
                  </a:lnTo>
                  <a:lnTo>
                    <a:pt x="735" y="548"/>
                  </a:lnTo>
                  <a:lnTo>
                    <a:pt x="674" y="593"/>
                  </a:lnTo>
                  <a:lnTo>
                    <a:pt x="613" y="644"/>
                  </a:lnTo>
                  <a:lnTo>
                    <a:pt x="554" y="700"/>
                  </a:lnTo>
                  <a:lnTo>
                    <a:pt x="497" y="762"/>
                  </a:lnTo>
                  <a:lnTo>
                    <a:pt x="441" y="828"/>
                  </a:lnTo>
                  <a:lnTo>
                    <a:pt x="387" y="901"/>
                  </a:lnTo>
                  <a:lnTo>
                    <a:pt x="335" y="979"/>
                  </a:lnTo>
                  <a:lnTo>
                    <a:pt x="287" y="1065"/>
                  </a:lnTo>
                  <a:lnTo>
                    <a:pt x="241" y="1156"/>
                  </a:lnTo>
                  <a:lnTo>
                    <a:pt x="0" y="103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2894040" y="5246640"/>
              <a:ext cx="1231920" cy="542880"/>
            </a:xfrm>
            <a:custGeom>
              <a:avLst/>
              <a:gdLst/>
              <a:ahLst/>
              <a:rect l="l" t="t" r="r" b="b"/>
              <a:pathLst>
                <a:path w="3105" h="1366">
                  <a:moveTo>
                    <a:pt x="1247" y="38"/>
                  </a:moveTo>
                  <a:lnTo>
                    <a:pt x="1179" y="58"/>
                  </a:lnTo>
                  <a:lnTo>
                    <a:pt x="1112" y="80"/>
                  </a:lnTo>
                  <a:lnTo>
                    <a:pt x="1046" y="106"/>
                  </a:lnTo>
                  <a:lnTo>
                    <a:pt x="983" y="133"/>
                  </a:lnTo>
                  <a:lnTo>
                    <a:pt x="920" y="164"/>
                  </a:lnTo>
                  <a:lnTo>
                    <a:pt x="860" y="198"/>
                  </a:lnTo>
                  <a:lnTo>
                    <a:pt x="801" y="232"/>
                  </a:lnTo>
                  <a:lnTo>
                    <a:pt x="745" y="270"/>
                  </a:lnTo>
                  <a:lnTo>
                    <a:pt x="689" y="308"/>
                  </a:lnTo>
                  <a:lnTo>
                    <a:pt x="637" y="348"/>
                  </a:lnTo>
                  <a:lnTo>
                    <a:pt x="586" y="389"/>
                  </a:lnTo>
                  <a:lnTo>
                    <a:pt x="537" y="431"/>
                  </a:lnTo>
                  <a:lnTo>
                    <a:pt x="491" y="473"/>
                  </a:lnTo>
                  <a:lnTo>
                    <a:pt x="445" y="515"/>
                  </a:lnTo>
                  <a:lnTo>
                    <a:pt x="403" y="558"/>
                  </a:lnTo>
                  <a:lnTo>
                    <a:pt x="362" y="600"/>
                  </a:lnTo>
                  <a:lnTo>
                    <a:pt x="323" y="642"/>
                  </a:lnTo>
                  <a:lnTo>
                    <a:pt x="287" y="684"/>
                  </a:lnTo>
                  <a:lnTo>
                    <a:pt x="252" y="724"/>
                  </a:lnTo>
                  <a:lnTo>
                    <a:pt x="220" y="763"/>
                  </a:lnTo>
                  <a:lnTo>
                    <a:pt x="190" y="801"/>
                  </a:lnTo>
                  <a:lnTo>
                    <a:pt x="163" y="837"/>
                  </a:lnTo>
                  <a:lnTo>
                    <a:pt x="137" y="870"/>
                  </a:lnTo>
                  <a:lnTo>
                    <a:pt x="115" y="902"/>
                  </a:lnTo>
                  <a:lnTo>
                    <a:pt x="76" y="958"/>
                  </a:lnTo>
                  <a:lnTo>
                    <a:pt x="46" y="1003"/>
                  </a:lnTo>
                  <a:lnTo>
                    <a:pt x="28" y="1034"/>
                  </a:lnTo>
                  <a:lnTo>
                    <a:pt x="19" y="1049"/>
                  </a:lnTo>
                  <a:lnTo>
                    <a:pt x="0" y="1081"/>
                  </a:lnTo>
                  <a:lnTo>
                    <a:pt x="307" y="1240"/>
                  </a:lnTo>
                  <a:lnTo>
                    <a:pt x="323" y="1206"/>
                  </a:lnTo>
                  <a:lnTo>
                    <a:pt x="367" y="1118"/>
                  </a:lnTo>
                  <a:lnTo>
                    <a:pt x="414" y="1036"/>
                  </a:lnTo>
                  <a:lnTo>
                    <a:pt x="463" y="961"/>
                  </a:lnTo>
                  <a:lnTo>
                    <a:pt x="516" y="891"/>
                  </a:lnTo>
                  <a:lnTo>
                    <a:pt x="570" y="827"/>
                  </a:lnTo>
                  <a:lnTo>
                    <a:pt x="626" y="767"/>
                  </a:lnTo>
                  <a:lnTo>
                    <a:pt x="683" y="713"/>
                  </a:lnTo>
                  <a:lnTo>
                    <a:pt x="742" y="663"/>
                  </a:lnTo>
                  <a:lnTo>
                    <a:pt x="801" y="618"/>
                  </a:lnTo>
                  <a:lnTo>
                    <a:pt x="862" y="577"/>
                  </a:lnTo>
                  <a:lnTo>
                    <a:pt x="922" y="541"/>
                  </a:lnTo>
                  <a:lnTo>
                    <a:pt x="983" y="509"/>
                  </a:lnTo>
                  <a:lnTo>
                    <a:pt x="1043" y="481"/>
                  </a:lnTo>
                  <a:lnTo>
                    <a:pt x="1103" y="456"/>
                  </a:lnTo>
                  <a:lnTo>
                    <a:pt x="1163" y="433"/>
                  </a:lnTo>
                  <a:lnTo>
                    <a:pt x="1220" y="415"/>
                  </a:lnTo>
                  <a:lnTo>
                    <a:pt x="1277" y="399"/>
                  </a:lnTo>
                  <a:lnTo>
                    <a:pt x="1333" y="386"/>
                  </a:lnTo>
                  <a:lnTo>
                    <a:pt x="1386" y="375"/>
                  </a:lnTo>
                  <a:lnTo>
                    <a:pt x="1437" y="366"/>
                  </a:lnTo>
                  <a:lnTo>
                    <a:pt x="1485" y="360"/>
                  </a:lnTo>
                  <a:lnTo>
                    <a:pt x="1531" y="355"/>
                  </a:lnTo>
                  <a:lnTo>
                    <a:pt x="1575" y="352"/>
                  </a:lnTo>
                  <a:lnTo>
                    <a:pt x="1615" y="349"/>
                  </a:lnTo>
                  <a:lnTo>
                    <a:pt x="1651" y="348"/>
                  </a:lnTo>
                  <a:lnTo>
                    <a:pt x="1684" y="348"/>
                  </a:lnTo>
                  <a:lnTo>
                    <a:pt x="1713" y="349"/>
                  </a:lnTo>
                  <a:lnTo>
                    <a:pt x="1736" y="349"/>
                  </a:lnTo>
                  <a:lnTo>
                    <a:pt x="1770" y="352"/>
                  </a:lnTo>
                  <a:lnTo>
                    <a:pt x="1783" y="353"/>
                  </a:lnTo>
                  <a:lnTo>
                    <a:pt x="1829" y="347"/>
                  </a:lnTo>
                  <a:lnTo>
                    <a:pt x="1877" y="347"/>
                  </a:lnTo>
                  <a:lnTo>
                    <a:pt x="1924" y="353"/>
                  </a:lnTo>
                  <a:lnTo>
                    <a:pt x="1971" y="364"/>
                  </a:lnTo>
                  <a:lnTo>
                    <a:pt x="2019" y="380"/>
                  </a:lnTo>
                  <a:lnTo>
                    <a:pt x="2067" y="402"/>
                  </a:lnTo>
                  <a:lnTo>
                    <a:pt x="2114" y="428"/>
                  </a:lnTo>
                  <a:lnTo>
                    <a:pt x="2161" y="458"/>
                  </a:lnTo>
                  <a:lnTo>
                    <a:pt x="2208" y="492"/>
                  </a:lnTo>
                  <a:lnTo>
                    <a:pt x="2254" y="529"/>
                  </a:lnTo>
                  <a:lnTo>
                    <a:pt x="2300" y="569"/>
                  </a:lnTo>
                  <a:lnTo>
                    <a:pt x="2345" y="610"/>
                  </a:lnTo>
                  <a:lnTo>
                    <a:pt x="2388" y="654"/>
                  </a:lnTo>
                  <a:lnTo>
                    <a:pt x="2432" y="699"/>
                  </a:lnTo>
                  <a:lnTo>
                    <a:pt x="2474" y="746"/>
                  </a:lnTo>
                  <a:lnTo>
                    <a:pt x="2514" y="793"/>
                  </a:lnTo>
                  <a:lnTo>
                    <a:pt x="2552" y="840"/>
                  </a:lnTo>
                  <a:lnTo>
                    <a:pt x="2591" y="889"/>
                  </a:lnTo>
                  <a:lnTo>
                    <a:pt x="2625" y="936"/>
                  </a:lnTo>
                  <a:lnTo>
                    <a:pt x="2660" y="982"/>
                  </a:lnTo>
                  <a:lnTo>
                    <a:pt x="2722" y="1070"/>
                  </a:lnTo>
                  <a:lnTo>
                    <a:pt x="2774" y="1151"/>
                  </a:lnTo>
                  <a:lnTo>
                    <a:pt x="2818" y="1219"/>
                  </a:lnTo>
                  <a:lnTo>
                    <a:pt x="2850" y="1272"/>
                  </a:lnTo>
                  <a:lnTo>
                    <a:pt x="2871" y="1307"/>
                  </a:lnTo>
                  <a:lnTo>
                    <a:pt x="2879" y="1321"/>
                  </a:lnTo>
                  <a:lnTo>
                    <a:pt x="2887" y="1337"/>
                  </a:lnTo>
                  <a:lnTo>
                    <a:pt x="3098" y="1366"/>
                  </a:lnTo>
                  <a:lnTo>
                    <a:pt x="3103" y="1330"/>
                  </a:lnTo>
                  <a:lnTo>
                    <a:pt x="3105" y="1299"/>
                  </a:lnTo>
                  <a:lnTo>
                    <a:pt x="3102" y="1266"/>
                  </a:lnTo>
                  <a:lnTo>
                    <a:pt x="3095" y="1230"/>
                  </a:lnTo>
                  <a:lnTo>
                    <a:pt x="3085" y="1194"/>
                  </a:lnTo>
                  <a:lnTo>
                    <a:pt x="3070" y="1156"/>
                  </a:lnTo>
                  <a:lnTo>
                    <a:pt x="3053" y="1116"/>
                  </a:lnTo>
                  <a:lnTo>
                    <a:pt x="3031" y="1076"/>
                  </a:lnTo>
                  <a:lnTo>
                    <a:pt x="3008" y="1034"/>
                  </a:lnTo>
                  <a:lnTo>
                    <a:pt x="2982" y="992"/>
                  </a:lnTo>
                  <a:lnTo>
                    <a:pt x="2954" y="950"/>
                  </a:lnTo>
                  <a:lnTo>
                    <a:pt x="2925" y="906"/>
                  </a:lnTo>
                  <a:lnTo>
                    <a:pt x="2892" y="863"/>
                  </a:lnTo>
                  <a:lnTo>
                    <a:pt x="2859" y="819"/>
                  </a:lnTo>
                  <a:lnTo>
                    <a:pt x="2824" y="776"/>
                  </a:lnTo>
                  <a:lnTo>
                    <a:pt x="2789" y="734"/>
                  </a:lnTo>
                  <a:lnTo>
                    <a:pt x="2753" y="692"/>
                  </a:lnTo>
                  <a:lnTo>
                    <a:pt x="2680" y="610"/>
                  </a:lnTo>
                  <a:lnTo>
                    <a:pt x="2608" y="531"/>
                  </a:lnTo>
                  <a:lnTo>
                    <a:pt x="2538" y="460"/>
                  </a:lnTo>
                  <a:lnTo>
                    <a:pt x="2475" y="394"/>
                  </a:lnTo>
                  <a:lnTo>
                    <a:pt x="2417" y="338"/>
                  </a:lnTo>
                  <a:lnTo>
                    <a:pt x="2370" y="292"/>
                  </a:lnTo>
                  <a:lnTo>
                    <a:pt x="2332" y="257"/>
                  </a:lnTo>
                  <a:lnTo>
                    <a:pt x="2309" y="236"/>
                  </a:lnTo>
                  <a:lnTo>
                    <a:pt x="2275" y="215"/>
                  </a:lnTo>
                  <a:lnTo>
                    <a:pt x="2242" y="196"/>
                  </a:lnTo>
                  <a:lnTo>
                    <a:pt x="2209" y="178"/>
                  </a:lnTo>
                  <a:lnTo>
                    <a:pt x="2176" y="161"/>
                  </a:lnTo>
                  <a:lnTo>
                    <a:pt x="2142" y="144"/>
                  </a:lnTo>
                  <a:lnTo>
                    <a:pt x="2109" y="128"/>
                  </a:lnTo>
                  <a:lnTo>
                    <a:pt x="2077" y="113"/>
                  </a:lnTo>
                  <a:lnTo>
                    <a:pt x="2043" y="100"/>
                  </a:lnTo>
                  <a:lnTo>
                    <a:pt x="2009" y="87"/>
                  </a:lnTo>
                  <a:lnTo>
                    <a:pt x="1976" y="75"/>
                  </a:lnTo>
                  <a:lnTo>
                    <a:pt x="1944" y="64"/>
                  </a:lnTo>
                  <a:lnTo>
                    <a:pt x="1910" y="54"/>
                  </a:lnTo>
                  <a:lnTo>
                    <a:pt x="1877" y="44"/>
                  </a:lnTo>
                  <a:lnTo>
                    <a:pt x="1843" y="35"/>
                  </a:lnTo>
                  <a:lnTo>
                    <a:pt x="1811" y="28"/>
                  </a:lnTo>
                  <a:lnTo>
                    <a:pt x="1777" y="22"/>
                  </a:lnTo>
                  <a:lnTo>
                    <a:pt x="1744" y="15"/>
                  </a:lnTo>
                  <a:lnTo>
                    <a:pt x="1711" y="12"/>
                  </a:lnTo>
                  <a:lnTo>
                    <a:pt x="1678" y="7"/>
                  </a:lnTo>
                  <a:lnTo>
                    <a:pt x="1644" y="4"/>
                  </a:lnTo>
                  <a:lnTo>
                    <a:pt x="1611" y="2"/>
                  </a:lnTo>
                  <a:lnTo>
                    <a:pt x="1579" y="0"/>
                  </a:lnTo>
                  <a:lnTo>
                    <a:pt x="1545" y="0"/>
                  </a:lnTo>
                  <a:lnTo>
                    <a:pt x="1512" y="2"/>
                  </a:lnTo>
                  <a:lnTo>
                    <a:pt x="1479" y="3"/>
                  </a:lnTo>
                  <a:lnTo>
                    <a:pt x="1446" y="5"/>
                  </a:lnTo>
                  <a:lnTo>
                    <a:pt x="1412" y="8"/>
                  </a:lnTo>
                  <a:lnTo>
                    <a:pt x="1380" y="13"/>
                  </a:lnTo>
                  <a:lnTo>
                    <a:pt x="1346" y="18"/>
                  </a:lnTo>
                  <a:lnTo>
                    <a:pt x="1314" y="24"/>
                  </a:lnTo>
                  <a:lnTo>
                    <a:pt x="1281" y="30"/>
                  </a:lnTo>
                  <a:lnTo>
                    <a:pt x="1247" y="38"/>
                  </a:lnTo>
                  <a:close/>
                  <a:moveTo>
                    <a:pt x="1266" y="107"/>
                  </a:moveTo>
                  <a:lnTo>
                    <a:pt x="1297" y="100"/>
                  </a:lnTo>
                  <a:lnTo>
                    <a:pt x="1328" y="94"/>
                  </a:lnTo>
                  <a:lnTo>
                    <a:pt x="1359" y="87"/>
                  </a:lnTo>
                  <a:lnTo>
                    <a:pt x="1390" y="84"/>
                  </a:lnTo>
                  <a:lnTo>
                    <a:pt x="1421" y="79"/>
                  </a:lnTo>
                  <a:lnTo>
                    <a:pt x="1452" y="76"/>
                  </a:lnTo>
                  <a:lnTo>
                    <a:pt x="1484" y="74"/>
                  </a:lnTo>
                  <a:lnTo>
                    <a:pt x="1515" y="72"/>
                  </a:lnTo>
                  <a:lnTo>
                    <a:pt x="1546" y="72"/>
                  </a:lnTo>
                  <a:lnTo>
                    <a:pt x="1577" y="72"/>
                  </a:lnTo>
                  <a:lnTo>
                    <a:pt x="1610" y="74"/>
                  </a:lnTo>
                  <a:lnTo>
                    <a:pt x="1641" y="75"/>
                  </a:lnTo>
                  <a:lnTo>
                    <a:pt x="1672" y="79"/>
                  </a:lnTo>
                  <a:lnTo>
                    <a:pt x="1703" y="82"/>
                  </a:lnTo>
                  <a:lnTo>
                    <a:pt x="1734" y="86"/>
                  </a:lnTo>
                  <a:lnTo>
                    <a:pt x="1766" y="92"/>
                  </a:lnTo>
                  <a:lnTo>
                    <a:pt x="1797" y="98"/>
                  </a:lnTo>
                  <a:lnTo>
                    <a:pt x="1828" y="105"/>
                  </a:lnTo>
                  <a:lnTo>
                    <a:pt x="1859" y="113"/>
                  </a:lnTo>
                  <a:lnTo>
                    <a:pt x="1891" y="122"/>
                  </a:lnTo>
                  <a:lnTo>
                    <a:pt x="1923" y="131"/>
                  </a:lnTo>
                  <a:lnTo>
                    <a:pt x="1954" y="142"/>
                  </a:lnTo>
                  <a:lnTo>
                    <a:pt x="1985" y="153"/>
                  </a:lnTo>
                  <a:lnTo>
                    <a:pt x="2016" y="165"/>
                  </a:lnTo>
                  <a:lnTo>
                    <a:pt x="2048" y="178"/>
                  </a:lnTo>
                  <a:lnTo>
                    <a:pt x="2079" y="192"/>
                  </a:lnTo>
                  <a:lnTo>
                    <a:pt x="2110" y="206"/>
                  </a:lnTo>
                  <a:lnTo>
                    <a:pt x="2141" y="223"/>
                  </a:lnTo>
                  <a:lnTo>
                    <a:pt x="2172" y="239"/>
                  </a:lnTo>
                  <a:lnTo>
                    <a:pt x="2203" y="256"/>
                  </a:lnTo>
                  <a:lnTo>
                    <a:pt x="2234" y="273"/>
                  </a:lnTo>
                  <a:lnTo>
                    <a:pt x="2265" y="292"/>
                  </a:lnTo>
                  <a:lnTo>
                    <a:pt x="2309" y="333"/>
                  </a:lnTo>
                  <a:lnTo>
                    <a:pt x="2358" y="380"/>
                  </a:lnTo>
                  <a:lnTo>
                    <a:pt x="2412" y="433"/>
                  </a:lnTo>
                  <a:lnTo>
                    <a:pt x="2470" y="492"/>
                  </a:lnTo>
                  <a:lnTo>
                    <a:pt x="2531" y="555"/>
                  </a:lnTo>
                  <a:lnTo>
                    <a:pt x="2594" y="622"/>
                  </a:lnTo>
                  <a:lnTo>
                    <a:pt x="2656" y="692"/>
                  </a:lnTo>
                  <a:lnTo>
                    <a:pt x="2719" y="763"/>
                  </a:lnTo>
                  <a:lnTo>
                    <a:pt x="2748" y="799"/>
                  </a:lnTo>
                  <a:lnTo>
                    <a:pt x="2778" y="835"/>
                  </a:lnTo>
                  <a:lnTo>
                    <a:pt x="2807" y="871"/>
                  </a:lnTo>
                  <a:lnTo>
                    <a:pt x="2834" y="907"/>
                  </a:lnTo>
                  <a:lnTo>
                    <a:pt x="2860" y="943"/>
                  </a:lnTo>
                  <a:lnTo>
                    <a:pt x="2885" y="978"/>
                  </a:lnTo>
                  <a:lnTo>
                    <a:pt x="2908" y="1013"/>
                  </a:lnTo>
                  <a:lnTo>
                    <a:pt x="2931" y="1046"/>
                  </a:lnTo>
                  <a:lnTo>
                    <a:pt x="2951" y="1080"/>
                  </a:lnTo>
                  <a:lnTo>
                    <a:pt x="2969" y="1113"/>
                  </a:lnTo>
                  <a:lnTo>
                    <a:pt x="2985" y="1144"/>
                  </a:lnTo>
                  <a:lnTo>
                    <a:pt x="2999" y="1175"/>
                  </a:lnTo>
                  <a:lnTo>
                    <a:pt x="3010" y="1205"/>
                  </a:lnTo>
                  <a:lnTo>
                    <a:pt x="3020" y="1232"/>
                  </a:lnTo>
                  <a:lnTo>
                    <a:pt x="3026" y="1260"/>
                  </a:lnTo>
                  <a:lnTo>
                    <a:pt x="3030" y="1285"/>
                  </a:lnTo>
                  <a:lnTo>
                    <a:pt x="3000" y="1281"/>
                  </a:lnTo>
                  <a:lnTo>
                    <a:pt x="2974" y="1276"/>
                  </a:lnTo>
                  <a:lnTo>
                    <a:pt x="2951" y="1273"/>
                  </a:lnTo>
                  <a:lnTo>
                    <a:pt x="2933" y="1271"/>
                  </a:lnTo>
                  <a:lnTo>
                    <a:pt x="2916" y="1241"/>
                  </a:lnTo>
                  <a:lnTo>
                    <a:pt x="2887" y="1193"/>
                  </a:lnTo>
                  <a:lnTo>
                    <a:pt x="2848" y="1129"/>
                  </a:lnTo>
                  <a:lnTo>
                    <a:pt x="2799" y="1055"/>
                  </a:lnTo>
                  <a:lnTo>
                    <a:pt x="2772" y="1014"/>
                  </a:lnTo>
                  <a:lnTo>
                    <a:pt x="2742" y="971"/>
                  </a:lnTo>
                  <a:lnTo>
                    <a:pt x="2710" y="927"/>
                  </a:lnTo>
                  <a:lnTo>
                    <a:pt x="2676" y="881"/>
                  </a:lnTo>
                  <a:lnTo>
                    <a:pt x="2642" y="835"/>
                  </a:lnTo>
                  <a:lnTo>
                    <a:pt x="2604" y="788"/>
                  </a:lnTo>
                  <a:lnTo>
                    <a:pt x="2566" y="741"/>
                  </a:lnTo>
                  <a:lnTo>
                    <a:pt x="2526" y="694"/>
                  </a:lnTo>
                  <a:lnTo>
                    <a:pt x="2485" y="648"/>
                  </a:lnTo>
                  <a:lnTo>
                    <a:pt x="2443" y="603"/>
                  </a:lnTo>
                  <a:lnTo>
                    <a:pt x="2399" y="560"/>
                  </a:lnTo>
                  <a:lnTo>
                    <a:pt x="2355" y="518"/>
                  </a:lnTo>
                  <a:lnTo>
                    <a:pt x="2309" y="478"/>
                  </a:lnTo>
                  <a:lnTo>
                    <a:pt x="2263" y="441"/>
                  </a:lnTo>
                  <a:lnTo>
                    <a:pt x="2216" y="406"/>
                  </a:lnTo>
                  <a:lnTo>
                    <a:pt x="2168" y="375"/>
                  </a:lnTo>
                  <a:lnTo>
                    <a:pt x="2121" y="347"/>
                  </a:lnTo>
                  <a:lnTo>
                    <a:pt x="2073" y="323"/>
                  </a:lnTo>
                  <a:lnTo>
                    <a:pt x="2023" y="303"/>
                  </a:lnTo>
                  <a:lnTo>
                    <a:pt x="1975" y="288"/>
                  </a:lnTo>
                  <a:lnTo>
                    <a:pt x="1926" y="278"/>
                  </a:lnTo>
                  <a:lnTo>
                    <a:pt x="1877" y="275"/>
                  </a:lnTo>
                  <a:lnTo>
                    <a:pt x="1828" y="276"/>
                  </a:lnTo>
                  <a:lnTo>
                    <a:pt x="1780" y="283"/>
                  </a:lnTo>
                  <a:lnTo>
                    <a:pt x="1769" y="281"/>
                  </a:lnTo>
                  <a:lnTo>
                    <a:pt x="1736" y="280"/>
                  </a:lnTo>
                  <a:lnTo>
                    <a:pt x="1711" y="278"/>
                  </a:lnTo>
                  <a:lnTo>
                    <a:pt x="1684" y="277"/>
                  </a:lnTo>
                  <a:lnTo>
                    <a:pt x="1651" y="277"/>
                  </a:lnTo>
                  <a:lnTo>
                    <a:pt x="1615" y="278"/>
                  </a:lnTo>
                  <a:lnTo>
                    <a:pt x="1574" y="281"/>
                  </a:lnTo>
                  <a:lnTo>
                    <a:pt x="1530" y="285"/>
                  </a:lnTo>
                  <a:lnTo>
                    <a:pt x="1483" y="290"/>
                  </a:lnTo>
                  <a:lnTo>
                    <a:pt x="1433" y="296"/>
                  </a:lnTo>
                  <a:lnTo>
                    <a:pt x="1381" y="304"/>
                  </a:lnTo>
                  <a:lnTo>
                    <a:pt x="1327" y="316"/>
                  </a:lnTo>
                  <a:lnTo>
                    <a:pt x="1269" y="329"/>
                  </a:lnTo>
                  <a:lnTo>
                    <a:pt x="1211" y="344"/>
                  </a:lnTo>
                  <a:lnTo>
                    <a:pt x="1151" y="364"/>
                  </a:lnTo>
                  <a:lnTo>
                    <a:pt x="1091" y="385"/>
                  </a:lnTo>
                  <a:lnTo>
                    <a:pt x="1028" y="411"/>
                  </a:lnTo>
                  <a:lnTo>
                    <a:pt x="966" y="440"/>
                  </a:lnTo>
                  <a:lnTo>
                    <a:pt x="904" y="472"/>
                  </a:lnTo>
                  <a:lnTo>
                    <a:pt x="841" y="509"/>
                  </a:lnTo>
                  <a:lnTo>
                    <a:pt x="779" y="550"/>
                  </a:lnTo>
                  <a:lnTo>
                    <a:pt x="717" y="595"/>
                  </a:lnTo>
                  <a:lnTo>
                    <a:pt x="656" y="646"/>
                  </a:lnTo>
                  <a:lnTo>
                    <a:pt x="596" y="700"/>
                  </a:lnTo>
                  <a:lnTo>
                    <a:pt x="538" y="760"/>
                  </a:lnTo>
                  <a:lnTo>
                    <a:pt x="481" y="826"/>
                  </a:lnTo>
                  <a:lnTo>
                    <a:pt x="426" y="896"/>
                  </a:lnTo>
                  <a:lnTo>
                    <a:pt x="374" y="973"/>
                  </a:lnTo>
                  <a:lnTo>
                    <a:pt x="324" y="1055"/>
                  </a:lnTo>
                  <a:lnTo>
                    <a:pt x="277" y="1144"/>
                  </a:lnTo>
                  <a:lnTo>
                    <a:pt x="239" y="1125"/>
                  </a:lnTo>
                  <a:lnTo>
                    <a:pt x="190" y="1100"/>
                  </a:lnTo>
                  <a:lnTo>
                    <a:pt x="141" y="1074"/>
                  </a:lnTo>
                  <a:lnTo>
                    <a:pt x="100" y="1053"/>
                  </a:lnTo>
                  <a:lnTo>
                    <a:pt x="121" y="1020"/>
                  </a:lnTo>
                  <a:lnTo>
                    <a:pt x="151" y="977"/>
                  </a:lnTo>
                  <a:lnTo>
                    <a:pt x="187" y="926"/>
                  </a:lnTo>
                  <a:lnTo>
                    <a:pt x="231" y="866"/>
                  </a:lnTo>
                  <a:lnTo>
                    <a:pt x="256" y="835"/>
                  </a:lnTo>
                  <a:lnTo>
                    <a:pt x="282" y="802"/>
                  </a:lnTo>
                  <a:lnTo>
                    <a:pt x="311" y="767"/>
                  </a:lnTo>
                  <a:lnTo>
                    <a:pt x="341" y="732"/>
                  </a:lnTo>
                  <a:lnTo>
                    <a:pt x="373" y="696"/>
                  </a:lnTo>
                  <a:lnTo>
                    <a:pt x="406" y="661"/>
                  </a:lnTo>
                  <a:lnTo>
                    <a:pt x="441" y="623"/>
                  </a:lnTo>
                  <a:lnTo>
                    <a:pt x="478" y="586"/>
                  </a:lnTo>
                  <a:lnTo>
                    <a:pt x="516" y="549"/>
                  </a:lnTo>
                  <a:lnTo>
                    <a:pt x="557" y="512"/>
                  </a:lnTo>
                  <a:lnTo>
                    <a:pt x="598" y="474"/>
                  </a:lnTo>
                  <a:lnTo>
                    <a:pt x="641" y="438"/>
                  </a:lnTo>
                  <a:lnTo>
                    <a:pt x="685" y="402"/>
                  </a:lnTo>
                  <a:lnTo>
                    <a:pt x="730" y="368"/>
                  </a:lnTo>
                  <a:lnTo>
                    <a:pt x="779" y="334"/>
                  </a:lnTo>
                  <a:lnTo>
                    <a:pt x="827" y="302"/>
                  </a:lnTo>
                  <a:lnTo>
                    <a:pt x="877" y="271"/>
                  </a:lnTo>
                  <a:lnTo>
                    <a:pt x="929" y="241"/>
                  </a:lnTo>
                  <a:lnTo>
                    <a:pt x="981" y="214"/>
                  </a:lnTo>
                  <a:lnTo>
                    <a:pt x="1036" y="188"/>
                  </a:lnTo>
                  <a:lnTo>
                    <a:pt x="1092" y="164"/>
                  </a:lnTo>
                  <a:lnTo>
                    <a:pt x="1148" y="143"/>
                  </a:lnTo>
                  <a:lnTo>
                    <a:pt x="1206" y="123"/>
                  </a:lnTo>
                  <a:lnTo>
                    <a:pt x="1266" y="10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2941560" y="5348160"/>
              <a:ext cx="1157400" cy="495360"/>
            </a:xfrm>
            <a:custGeom>
              <a:avLst/>
              <a:gdLst/>
              <a:ahLst/>
              <a:rect l="l" t="t" r="r" b="b"/>
              <a:pathLst>
                <a:path w="2913" h="1249">
                  <a:moveTo>
                    <a:pt x="0" y="907"/>
                  </a:moveTo>
                  <a:lnTo>
                    <a:pt x="10" y="891"/>
                  </a:lnTo>
                  <a:lnTo>
                    <a:pt x="41" y="845"/>
                  </a:lnTo>
                  <a:lnTo>
                    <a:pt x="64" y="814"/>
                  </a:lnTo>
                  <a:lnTo>
                    <a:pt x="91" y="777"/>
                  </a:lnTo>
                  <a:lnTo>
                    <a:pt x="123" y="735"/>
                  </a:lnTo>
                  <a:lnTo>
                    <a:pt x="160" y="690"/>
                  </a:lnTo>
                  <a:lnTo>
                    <a:pt x="201" y="641"/>
                  </a:lnTo>
                  <a:lnTo>
                    <a:pt x="247" y="591"/>
                  </a:lnTo>
                  <a:lnTo>
                    <a:pt x="298" y="537"/>
                  </a:lnTo>
                  <a:lnTo>
                    <a:pt x="352" y="484"/>
                  </a:lnTo>
                  <a:lnTo>
                    <a:pt x="411" y="429"/>
                  </a:lnTo>
                  <a:lnTo>
                    <a:pt x="473" y="376"/>
                  </a:lnTo>
                  <a:lnTo>
                    <a:pt x="540" y="323"/>
                  </a:lnTo>
                  <a:lnTo>
                    <a:pt x="611" y="272"/>
                  </a:lnTo>
                  <a:lnTo>
                    <a:pt x="686" y="223"/>
                  </a:lnTo>
                  <a:lnTo>
                    <a:pt x="763" y="177"/>
                  </a:lnTo>
                  <a:lnTo>
                    <a:pt x="845" y="135"/>
                  </a:lnTo>
                  <a:lnTo>
                    <a:pt x="930" y="97"/>
                  </a:lnTo>
                  <a:lnTo>
                    <a:pt x="1018" y="65"/>
                  </a:lnTo>
                  <a:lnTo>
                    <a:pt x="1112" y="38"/>
                  </a:lnTo>
                  <a:lnTo>
                    <a:pt x="1206" y="17"/>
                  </a:lnTo>
                  <a:lnTo>
                    <a:pt x="1305" y="5"/>
                  </a:lnTo>
                  <a:lnTo>
                    <a:pt x="1406" y="0"/>
                  </a:lnTo>
                  <a:lnTo>
                    <a:pt x="1511" y="3"/>
                  </a:lnTo>
                  <a:lnTo>
                    <a:pt x="1618" y="15"/>
                  </a:lnTo>
                  <a:lnTo>
                    <a:pt x="1729" y="38"/>
                  </a:lnTo>
                  <a:lnTo>
                    <a:pt x="1842" y="71"/>
                  </a:lnTo>
                  <a:lnTo>
                    <a:pt x="1957" y="115"/>
                  </a:lnTo>
                  <a:lnTo>
                    <a:pt x="2076" y="171"/>
                  </a:lnTo>
                  <a:lnTo>
                    <a:pt x="2197" y="241"/>
                  </a:lnTo>
                  <a:lnTo>
                    <a:pt x="2229" y="266"/>
                  </a:lnTo>
                  <a:lnTo>
                    <a:pt x="2314" y="331"/>
                  </a:lnTo>
                  <a:lnTo>
                    <a:pt x="2371" y="377"/>
                  </a:lnTo>
                  <a:lnTo>
                    <a:pt x="2433" y="431"/>
                  </a:lnTo>
                  <a:lnTo>
                    <a:pt x="2500" y="490"/>
                  </a:lnTo>
                  <a:lnTo>
                    <a:pt x="2569" y="555"/>
                  </a:lnTo>
                  <a:lnTo>
                    <a:pt x="2603" y="588"/>
                  </a:lnTo>
                  <a:lnTo>
                    <a:pt x="2638" y="623"/>
                  </a:lnTo>
                  <a:lnTo>
                    <a:pt x="2670" y="658"/>
                  </a:lnTo>
                  <a:lnTo>
                    <a:pt x="2702" y="692"/>
                  </a:lnTo>
                  <a:lnTo>
                    <a:pt x="2733" y="728"/>
                  </a:lnTo>
                  <a:lnTo>
                    <a:pt x="2763" y="764"/>
                  </a:lnTo>
                  <a:lnTo>
                    <a:pt x="2790" y="800"/>
                  </a:lnTo>
                  <a:lnTo>
                    <a:pt x="2817" y="836"/>
                  </a:lnTo>
                  <a:lnTo>
                    <a:pt x="2840" y="872"/>
                  </a:lnTo>
                  <a:lnTo>
                    <a:pt x="2860" y="908"/>
                  </a:lnTo>
                  <a:lnTo>
                    <a:pt x="2877" y="943"/>
                  </a:lnTo>
                  <a:lnTo>
                    <a:pt x="2892" y="976"/>
                  </a:lnTo>
                  <a:lnTo>
                    <a:pt x="2903" y="1010"/>
                  </a:lnTo>
                  <a:lnTo>
                    <a:pt x="2910" y="1042"/>
                  </a:lnTo>
                  <a:lnTo>
                    <a:pt x="2913" y="1073"/>
                  </a:lnTo>
                  <a:lnTo>
                    <a:pt x="2912" y="1104"/>
                  </a:lnTo>
                  <a:lnTo>
                    <a:pt x="2846" y="1249"/>
                  </a:lnTo>
                  <a:lnTo>
                    <a:pt x="2840" y="1237"/>
                  </a:lnTo>
                  <a:lnTo>
                    <a:pt x="2819" y="1202"/>
                  </a:lnTo>
                  <a:lnTo>
                    <a:pt x="2787" y="1149"/>
                  </a:lnTo>
                  <a:lnTo>
                    <a:pt x="2743" y="1079"/>
                  </a:lnTo>
                  <a:lnTo>
                    <a:pt x="2717" y="1040"/>
                  </a:lnTo>
                  <a:lnTo>
                    <a:pt x="2689" y="998"/>
                  </a:lnTo>
                  <a:lnTo>
                    <a:pt x="2659" y="954"/>
                  </a:lnTo>
                  <a:lnTo>
                    <a:pt x="2627" y="907"/>
                  </a:lnTo>
                  <a:lnTo>
                    <a:pt x="2592" y="860"/>
                  </a:lnTo>
                  <a:lnTo>
                    <a:pt x="2556" y="811"/>
                  </a:lnTo>
                  <a:lnTo>
                    <a:pt x="2517" y="763"/>
                  </a:lnTo>
                  <a:lnTo>
                    <a:pt x="2478" y="715"/>
                  </a:lnTo>
                  <a:lnTo>
                    <a:pt x="2435" y="665"/>
                  </a:lnTo>
                  <a:lnTo>
                    <a:pt x="2393" y="618"/>
                  </a:lnTo>
                  <a:lnTo>
                    <a:pt x="2350" y="571"/>
                  </a:lnTo>
                  <a:lnTo>
                    <a:pt x="2304" y="526"/>
                  </a:lnTo>
                  <a:lnTo>
                    <a:pt x="2258" y="483"/>
                  </a:lnTo>
                  <a:lnTo>
                    <a:pt x="2211" y="442"/>
                  </a:lnTo>
                  <a:lnTo>
                    <a:pt x="2163" y="405"/>
                  </a:lnTo>
                  <a:lnTo>
                    <a:pt x="2115" y="370"/>
                  </a:lnTo>
                  <a:lnTo>
                    <a:pt x="2067" y="339"/>
                  </a:lnTo>
                  <a:lnTo>
                    <a:pt x="2018" y="313"/>
                  </a:lnTo>
                  <a:lnTo>
                    <a:pt x="1968" y="290"/>
                  </a:lnTo>
                  <a:lnTo>
                    <a:pt x="1919" y="273"/>
                  </a:lnTo>
                  <a:lnTo>
                    <a:pt x="1870" y="262"/>
                  </a:lnTo>
                  <a:lnTo>
                    <a:pt x="1821" y="256"/>
                  </a:lnTo>
                  <a:lnTo>
                    <a:pt x="1772" y="257"/>
                  </a:lnTo>
                  <a:lnTo>
                    <a:pt x="1724" y="263"/>
                  </a:lnTo>
                  <a:lnTo>
                    <a:pt x="1713" y="262"/>
                  </a:lnTo>
                  <a:lnTo>
                    <a:pt x="1679" y="259"/>
                  </a:lnTo>
                  <a:lnTo>
                    <a:pt x="1654" y="258"/>
                  </a:lnTo>
                  <a:lnTo>
                    <a:pt x="1626" y="258"/>
                  </a:lnTo>
                  <a:lnTo>
                    <a:pt x="1593" y="258"/>
                  </a:lnTo>
                  <a:lnTo>
                    <a:pt x="1556" y="258"/>
                  </a:lnTo>
                  <a:lnTo>
                    <a:pt x="1515" y="259"/>
                  </a:lnTo>
                  <a:lnTo>
                    <a:pt x="1472" y="263"/>
                  </a:lnTo>
                  <a:lnTo>
                    <a:pt x="1425" y="268"/>
                  </a:lnTo>
                  <a:lnTo>
                    <a:pt x="1375" y="274"/>
                  </a:lnTo>
                  <a:lnTo>
                    <a:pt x="1323" y="283"/>
                  </a:lnTo>
                  <a:lnTo>
                    <a:pt x="1268" y="293"/>
                  </a:lnTo>
                  <a:lnTo>
                    <a:pt x="1211" y="306"/>
                  </a:lnTo>
                  <a:lnTo>
                    <a:pt x="1153" y="323"/>
                  </a:lnTo>
                  <a:lnTo>
                    <a:pt x="1093" y="341"/>
                  </a:lnTo>
                  <a:lnTo>
                    <a:pt x="1032" y="364"/>
                  </a:lnTo>
                  <a:lnTo>
                    <a:pt x="970" y="388"/>
                  </a:lnTo>
                  <a:lnTo>
                    <a:pt x="908" y="418"/>
                  </a:lnTo>
                  <a:lnTo>
                    <a:pt x="846" y="450"/>
                  </a:lnTo>
                  <a:lnTo>
                    <a:pt x="784" y="488"/>
                  </a:lnTo>
                  <a:lnTo>
                    <a:pt x="722" y="529"/>
                  </a:lnTo>
                  <a:lnTo>
                    <a:pt x="660" y="576"/>
                  </a:lnTo>
                  <a:lnTo>
                    <a:pt x="600" y="627"/>
                  </a:lnTo>
                  <a:lnTo>
                    <a:pt x="540" y="682"/>
                  </a:lnTo>
                  <a:lnTo>
                    <a:pt x="483" y="743"/>
                  </a:lnTo>
                  <a:lnTo>
                    <a:pt x="427" y="810"/>
                  </a:lnTo>
                  <a:lnTo>
                    <a:pt x="373" y="882"/>
                  </a:lnTo>
                  <a:lnTo>
                    <a:pt x="322" y="962"/>
                  </a:lnTo>
                  <a:lnTo>
                    <a:pt x="272" y="1046"/>
                  </a:lnTo>
                  <a:lnTo>
                    <a:pt x="226" y="1137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2924280" y="5334120"/>
              <a:ext cx="1187280" cy="541080"/>
            </a:xfrm>
            <a:custGeom>
              <a:avLst/>
              <a:gdLst/>
              <a:ahLst/>
              <a:rect l="l" t="t" r="r" b="b"/>
              <a:pathLst>
                <a:path w="2990" h="1365">
                  <a:moveTo>
                    <a:pt x="1163" y="35"/>
                  </a:moveTo>
                  <a:lnTo>
                    <a:pt x="1097" y="52"/>
                  </a:lnTo>
                  <a:lnTo>
                    <a:pt x="1034" y="73"/>
                  </a:lnTo>
                  <a:lnTo>
                    <a:pt x="972" y="96"/>
                  </a:lnTo>
                  <a:lnTo>
                    <a:pt x="912" y="120"/>
                  </a:lnTo>
                  <a:lnTo>
                    <a:pt x="854" y="148"/>
                  </a:lnTo>
                  <a:lnTo>
                    <a:pt x="797" y="177"/>
                  </a:lnTo>
                  <a:lnTo>
                    <a:pt x="742" y="208"/>
                  </a:lnTo>
                  <a:lnTo>
                    <a:pt x="689" y="241"/>
                  </a:lnTo>
                  <a:lnTo>
                    <a:pt x="638" y="275"/>
                  </a:lnTo>
                  <a:lnTo>
                    <a:pt x="588" y="310"/>
                  </a:lnTo>
                  <a:lnTo>
                    <a:pt x="541" y="346"/>
                  </a:lnTo>
                  <a:lnTo>
                    <a:pt x="495" y="382"/>
                  </a:lnTo>
                  <a:lnTo>
                    <a:pt x="450" y="419"/>
                  </a:lnTo>
                  <a:lnTo>
                    <a:pt x="409" y="458"/>
                  </a:lnTo>
                  <a:lnTo>
                    <a:pt x="370" y="495"/>
                  </a:lnTo>
                  <a:lnTo>
                    <a:pt x="331" y="532"/>
                  </a:lnTo>
                  <a:lnTo>
                    <a:pt x="295" y="568"/>
                  </a:lnTo>
                  <a:lnTo>
                    <a:pt x="262" y="606"/>
                  </a:lnTo>
                  <a:lnTo>
                    <a:pt x="229" y="640"/>
                  </a:lnTo>
                  <a:lnTo>
                    <a:pt x="199" y="675"/>
                  </a:lnTo>
                  <a:lnTo>
                    <a:pt x="146" y="740"/>
                  </a:lnTo>
                  <a:lnTo>
                    <a:pt x="101" y="797"/>
                  </a:lnTo>
                  <a:lnTo>
                    <a:pt x="65" y="846"/>
                  </a:lnTo>
                  <a:lnTo>
                    <a:pt x="39" y="885"/>
                  </a:lnTo>
                  <a:lnTo>
                    <a:pt x="22" y="912"/>
                  </a:lnTo>
                  <a:lnTo>
                    <a:pt x="13" y="924"/>
                  </a:lnTo>
                  <a:lnTo>
                    <a:pt x="0" y="948"/>
                  </a:lnTo>
                  <a:lnTo>
                    <a:pt x="281" y="1235"/>
                  </a:lnTo>
                  <a:lnTo>
                    <a:pt x="304" y="1189"/>
                  </a:lnTo>
                  <a:lnTo>
                    <a:pt x="347" y="1101"/>
                  </a:lnTo>
                  <a:lnTo>
                    <a:pt x="394" y="1019"/>
                  </a:lnTo>
                  <a:lnTo>
                    <a:pt x="444" y="943"/>
                  </a:lnTo>
                  <a:lnTo>
                    <a:pt x="496" y="872"/>
                  </a:lnTo>
                  <a:lnTo>
                    <a:pt x="551" y="808"/>
                  </a:lnTo>
                  <a:lnTo>
                    <a:pt x="606" y="748"/>
                  </a:lnTo>
                  <a:lnTo>
                    <a:pt x="664" y="694"/>
                  </a:lnTo>
                  <a:lnTo>
                    <a:pt x="722" y="644"/>
                  </a:lnTo>
                  <a:lnTo>
                    <a:pt x="782" y="599"/>
                  </a:lnTo>
                  <a:lnTo>
                    <a:pt x="841" y="560"/>
                  </a:lnTo>
                  <a:lnTo>
                    <a:pt x="902" y="524"/>
                  </a:lnTo>
                  <a:lnTo>
                    <a:pt x="963" y="490"/>
                  </a:lnTo>
                  <a:lnTo>
                    <a:pt x="1023" y="462"/>
                  </a:lnTo>
                  <a:lnTo>
                    <a:pt x="1082" y="437"/>
                  </a:lnTo>
                  <a:lnTo>
                    <a:pt x="1142" y="416"/>
                  </a:lnTo>
                  <a:lnTo>
                    <a:pt x="1200" y="397"/>
                  </a:lnTo>
                  <a:lnTo>
                    <a:pt x="1257" y="381"/>
                  </a:lnTo>
                  <a:lnTo>
                    <a:pt x="1312" y="367"/>
                  </a:lnTo>
                  <a:lnTo>
                    <a:pt x="1365" y="356"/>
                  </a:lnTo>
                  <a:lnTo>
                    <a:pt x="1416" y="347"/>
                  </a:lnTo>
                  <a:lnTo>
                    <a:pt x="1466" y="341"/>
                  </a:lnTo>
                  <a:lnTo>
                    <a:pt x="1512" y="336"/>
                  </a:lnTo>
                  <a:lnTo>
                    <a:pt x="1555" y="333"/>
                  </a:lnTo>
                  <a:lnTo>
                    <a:pt x="1595" y="331"/>
                  </a:lnTo>
                  <a:lnTo>
                    <a:pt x="1631" y="330"/>
                  </a:lnTo>
                  <a:lnTo>
                    <a:pt x="1663" y="330"/>
                  </a:lnTo>
                  <a:lnTo>
                    <a:pt x="1692" y="330"/>
                  </a:lnTo>
                  <a:lnTo>
                    <a:pt x="1716" y="331"/>
                  </a:lnTo>
                  <a:lnTo>
                    <a:pt x="1750" y="334"/>
                  </a:lnTo>
                  <a:lnTo>
                    <a:pt x="1763" y="335"/>
                  </a:lnTo>
                  <a:lnTo>
                    <a:pt x="1810" y="328"/>
                  </a:lnTo>
                  <a:lnTo>
                    <a:pt x="1857" y="328"/>
                  </a:lnTo>
                  <a:lnTo>
                    <a:pt x="1904" y="334"/>
                  </a:lnTo>
                  <a:lnTo>
                    <a:pt x="1952" y="345"/>
                  </a:lnTo>
                  <a:lnTo>
                    <a:pt x="1999" y="362"/>
                  </a:lnTo>
                  <a:lnTo>
                    <a:pt x="2047" y="383"/>
                  </a:lnTo>
                  <a:lnTo>
                    <a:pt x="2094" y="409"/>
                  </a:lnTo>
                  <a:lnTo>
                    <a:pt x="2142" y="439"/>
                  </a:lnTo>
                  <a:lnTo>
                    <a:pt x="2189" y="474"/>
                  </a:lnTo>
                  <a:lnTo>
                    <a:pt x="2235" y="510"/>
                  </a:lnTo>
                  <a:lnTo>
                    <a:pt x="2281" y="550"/>
                  </a:lnTo>
                  <a:lnTo>
                    <a:pt x="2325" y="592"/>
                  </a:lnTo>
                  <a:lnTo>
                    <a:pt x="2369" y="635"/>
                  </a:lnTo>
                  <a:lnTo>
                    <a:pt x="2412" y="681"/>
                  </a:lnTo>
                  <a:lnTo>
                    <a:pt x="2453" y="727"/>
                  </a:lnTo>
                  <a:lnTo>
                    <a:pt x="2494" y="774"/>
                  </a:lnTo>
                  <a:lnTo>
                    <a:pt x="2533" y="823"/>
                  </a:lnTo>
                  <a:lnTo>
                    <a:pt x="2570" y="870"/>
                  </a:lnTo>
                  <a:lnTo>
                    <a:pt x="2606" y="917"/>
                  </a:lnTo>
                  <a:lnTo>
                    <a:pt x="2640" y="964"/>
                  </a:lnTo>
                  <a:lnTo>
                    <a:pt x="2702" y="1052"/>
                  </a:lnTo>
                  <a:lnTo>
                    <a:pt x="2755" y="1132"/>
                  </a:lnTo>
                  <a:lnTo>
                    <a:pt x="2798" y="1200"/>
                  </a:lnTo>
                  <a:lnTo>
                    <a:pt x="2831" y="1253"/>
                  </a:lnTo>
                  <a:lnTo>
                    <a:pt x="2852" y="1289"/>
                  </a:lnTo>
                  <a:lnTo>
                    <a:pt x="2859" y="1303"/>
                  </a:lnTo>
                  <a:lnTo>
                    <a:pt x="2894" y="1365"/>
                  </a:lnTo>
                  <a:lnTo>
                    <a:pt x="2988" y="1154"/>
                  </a:lnTo>
                  <a:lnTo>
                    <a:pt x="2990" y="1122"/>
                  </a:lnTo>
                  <a:lnTo>
                    <a:pt x="2988" y="1088"/>
                  </a:lnTo>
                  <a:lnTo>
                    <a:pt x="2981" y="1053"/>
                  </a:lnTo>
                  <a:lnTo>
                    <a:pt x="2971" y="1019"/>
                  </a:lnTo>
                  <a:lnTo>
                    <a:pt x="2957" y="983"/>
                  </a:lnTo>
                  <a:lnTo>
                    <a:pt x="2940" y="947"/>
                  </a:lnTo>
                  <a:lnTo>
                    <a:pt x="2920" y="909"/>
                  </a:lnTo>
                  <a:lnTo>
                    <a:pt x="2898" y="872"/>
                  </a:lnTo>
                  <a:lnTo>
                    <a:pt x="2873" y="835"/>
                  </a:lnTo>
                  <a:lnTo>
                    <a:pt x="2846" y="798"/>
                  </a:lnTo>
                  <a:lnTo>
                    <a:pt x="2817" y="761"/>
                  </a:lnTo>
                  <a:lnTo>
                    <a:pt x="2786" y="723"/>
                  </a:lnTo>
                  <a:lnTo>
                    <a:pt x="2754" y="687"/>
                  </a:lnTo>
                  <a:lnTo>
                    <a:pt x="2721" y="651"/>
                  </a:lnTo>
                  <a:lnTo>
                    <a:pt x="2688" y="617"/>
                  </a:lnTo>
                  <a:lnTo>
                    <a:pt x="2653" y="582"/>
                  </a:lnTo>
                  <a:lnTo>
                    <a:pt x="2618" y="548"/>
                  </a:lnTo>
                  <a:lnTo>
                    <a:pt x="2585" y="516"/>
                  </a:lnTo>
                  <a:lnTo>
                    <a:pt x="2550" y="485"/>
                  </a:lnTo>
                  <a:lnTo>
                    <a:pt x="2517" y="455"/>
                  </a:lnTo>
                  <a:lnTo>
                    <a:pt x="2453" y="400"/>
                  </a:lnTo>
                  <a:lnTo>
                    <a:pt x="2395" y="351"/>
                  </a:lnTo>
                  <a:lnTo>
                    <a:pt x="2344" y="311"/>
                  </a:lnTo>
                  <a:lnTo>
                    <a:pt x="2304" y="279"/>
                  </a:lnTo>
                  <a:lnTo>
                    <a:pt x="2276" y="258"/>
                  </a:lnTo>
                  <a:lnTo>
                    <a:pt x="2262" y="248"/>
                  </a:lnTo>
                  <a:lnTo>
                    <a:pt x="2227" y="227"/>
                  </a:lnTo>
                  <a:lnTo>
                    <a:pt x="2192" y="207"/>
                  </a:lnTo>
                  <a:lnTo>
                    <a:pt x="2158" y="189"/>
                  </a:lnTo>
                  <a:lnTo>
                    <a:pt x="2124" y="170"/>
                  </a:lnTo>
                  <a:lnTo>
                    <a:pt x="2089" y="153"/>
                  </a:lnTo>
                  <a:lnTo>
                    <a:pt x="2055" y="137"/>
                  </a:lnTo>
                  <a:lnTo>
                    <a:pt x="2020" y="120"/>
                  </a:lnTo>
                  <a:lnTo>
                    <a:pt x="1986" y="107"/>
                  </a:lnTo>
                  <a:lnTo>
                    <a:pt x="1952" y="93"/>
                  </a:lnTo>
                  <a:lnTo>
                    <a:pt x="1917" y="81"/>
                  </a:lnTo>
                  <a:lnTo>
                    <a:pt x="1882" y="68"/>
                  </a:lnTo>
                  <a:lnTo>
                    <a:pt x="1849" y="58"/>
                  </a:lnTo>
                  <a:lnTo>
                    <a:pt x="1814" y="48"/>
                  </a:lnTo>
                  <a:lnTo>
                    <a:pt x="1779" y="39"/>
                  </a:lnTo>
                  <a:lnTo>
                    <a:pt x="1744" y="31"/>
                  </a:lnTo>
                  <a:lnTo>
                    <a:pt x="1711" y="24"/>
                  </a:lnTo>
                  <a:lnTo>
                    <a:pt x="1676" y="17"/>
                  </a:lnTo>
                  <a:lnTo>
                    <a:pt x="1641" y="12"/>
                  </a:lnTo>
                  <a:lnTo>
                    <a:pt x="1608" y="7"/>
                  </a:lnTo>
                  <a:lnTo>
                    <a:pt x="1573" y="5"/>
                  </a:lnTo>
                  <a:lnTo>
                    <a:pt x="1538" y="3"/>
                  </a:lnTo>
                  <a:lnTo>
                    <a:pt x="1505" y="0"/>
                  </a:lnTo>
                  <a:lnTo>
                    <a:pt x="1470" y="0"/>
                  </a:lnTo>
                  <a:lnTo>
                    <a:pt x="1435" y="0"/>
                  </a:lnTo>
                  <a:lnTo>
                    <a:pt x="1401" y="1"/>
                  </a:lnTo>
                  <a:lnTo>
                    <a:pt x="1367" y="4"/>
                  </a:lnTo>
                  <a:lnTo>
                    <a:pt x="1333" y="6"/>
                  </a:lnTo>
                  <a:lnTo>
                    <a:pt x="1298" y="10"/>
                  </a:lnTo>
                  <a:lnTo>
                    <a:pt x="1265" y="15"/>
                  </a:lnTo>
                  <a:lnTo>
                    <a:pt x="1230" y="21"/>
                  </a:lnTo>
                  <a:lnTo>
                    <a:pt x="1197" y="27"/>
                  </a:lnTo>
                  <a:lnTo>
                    <a:pt x="1163" y="35"/>
                  </a:lnTo>
                  <a:close/>
                  <a:moveTo>
                    <a:pt x="1179" y="104"/>
                  </a:moveTo>
                  <a:lnTo>
                    <a:pt x="1211" y="98"/>
                  </a:lnTo>
                  <a:lnTo>
                    <a:pt x="1244" y="91"/>
                  </a:lnTo>
                  <a:lnTo>
                    <a:pt x="1276" y="86"/>
                  </a:lnTo>
                  <a:lnTo>
                    <a:pt x="1308" y="81"/>
                  </a:lnTo>
                  <a:lnTo>
                    <a:pt x="1341" y="77"/>
                  </a:lnTo>
                  <a:lnTo>
                    <a:pt x="1373" y="74"/>
                  </a:lnTo>
                  <a:lnTo>
                    <a:pt x="1405" y="73"/>
                  </a:lnTo>
                  <a:lnTo>
                    <a:pt x="1439" y="72"/>
                  </a:lnTo>
                  <a:lnTo>
                    <a:pt x="1471" y="71"/>
                  </a:lnTo>
                  <a:lnTo>
                    <a:pt x="1503" y="72"/>
                  </a:lnTo>
                  <a:lnTo>
                    <a:pt x="1536" y="73"/>
                  </a:lnTo>
                  <a:lnTo>
                    <a:pt x="1568" y="76"/>
                  </a:lnTo>
                  <a:lnTo>
                    <a:pt x="1601" y="79"/>
                  </a:lnTo>
                  <a:lnTo>
                    <a:pt x="1634" y="83"/>
                  </a:lnTo>
                  <a:lnTo>
                    <a:pt x="1666" y="88"/>
                  </a:lnTo>
                  <a:lnTo>
                    <a:pt x="1698" y="94"/>
                  </a:lnTo>
                  <a:lnTo>
                    <a:pt x="1732" y="101"/>
                  </a:lnTo>
                  <a:lnTo>
                    <a:pt x="1764" y="109"/>
                  </a:lnTo>
                  <a:lnTo>
                    <a:pt x="1796" y="117"/>
                  </a:lnTo>
                  <a:lnTo>
                    <a:pt x="1830" y="127"/>
                  </a:lnTo>
                  <a:lnTo>
                    <a:pt x="1862" y="137"/>
                  </a:lnTo>
                  <a:lnTo>
                    <a:pt x="1894" y="148"/>
                  </a:lnTo>
                  <a:lnTo>
                    <a:pt x="1928" y="160"/>
                  </a:lnTo>
                  <a:lnTo>
                    <a:pt x="1960" y="173"/>
                  </a:lnTo>
                  <a:lnTo>
                    <a:pt x="1993" y="186"/>
                  </a:lnTo>
                  <a:lnTo>
                    <a:pt x="2026" y="201"/>
                  </a:lnTo>
                  <a:lnTo>
                    <a:pt x="2058" y="217"/>
                  </a:lnTo>
                  <a:lnTo>
                    <a:pt x="2091" y="233"/>
                  </a:lnTo>
                  <a:lnTo>
                    <a:pt x="2124" y="251"/>
                  </a:lnTo>
                  <a:lnTo>
                    <a:pt x="2156" y="268"/>
                  </a:lnTo>
                  <a:lnTo>
                    <a:pt x="2189" y="288"/>
                  </a:lnTo>
                  <a:lnTo>
                    <a:pt x="2222" y="307"/>
                  </a:lnTo>
                  <a:lnTo>
                    <a:pt x="2262" y="338"/>
                  </a:lnTo>
                  <a:lnTo>
                    <a:pt x="2308" y="374"/>
                  </a:lnTo>
                  <a:lnTo>
                    <a:pt x="2360" y="414"/>
                  </a:lnTo>
                  <a:lnTo>
                    <a:pt x="2415" y="459"/>
                  </a:lnTo>
                  <a:lnTo>
                    <a:pt x="2472" y="509"/>
                  </a:lnTo>
                  <a:lnTo>
                    <a:pt x="2530" y="562"/>
                  </a:lnTo>
                  <a:lnTo>
                    <a:pt x="2589" y="617"/>
                  </a:lnTo>
                  <a:lnTo>
                    <a:pt x="2646" y="674"/>
                  </a:lnTo>
                  <a:lnTo>
                    <a:pt x="2673" y="702"/>
                  </a:lnTo>
                  <a:lnTo>
                    <a:pt x="2700" y="732"/>
                  </a:lnTo>
                  <a:lnTo>
                    <a:pt x="2726" y="761"/>
                  </a:lnTo>
                  <a:lnTo>
                    <a:pt x="2753" y="790"/>
                  </a:lnTo>
                  <a:lnTo>
                    <a:pt x="2776" y="819"/>
                  </a:lnTo>
                  <a:lnTo>
                    <a:pt x="2798" y="849"/>
                  </a:lnTo>
                  <a:lnTo>
                    <a:pt x="2821" y="877"/>
                  </a:lnTo>
                  <a:lnTo>
                    <a:pt x="2841" y="906"/>
                  </a:lnTo>
                  <a:lnTo>
                    <a:pt x="2858" y="934"/>
                  </a:lnTo>
                  <a:lnTo>
                    <a:pt x="2874" y="963"/>
                  </a:lnTo>
                  <a:lnTo>
                    <a:pt x="2888" y="990"/>
                  </a:lnTo>
                  <a:lnTo>
                    <a:pt x="2900" y="1016"/>
                  </a:lnTo>
                  <a:lnTo>
                    <a:pt x="2909" y="1042"/>
                  </a:lnTo>
                  <a:lnTo>
                    <a:pt x="2916" y="1067"/>
                  </a:lnTo>
                  <a:lnTo>
                    <a:pt x="2920" y="1092"/>
                  </a:lnTo>
                  <a:lnTo>
                    <a:pt x="2921" y="1115"/>
                  </a:lnTo>
                  <a:lnTo>
                    <a:pt x="2921" y="1125"/>
                  </a:lnTo>
                  <a:lnTo>
                    <a:pt x="2920" y="1135"/>
                  </a:lnTo>
                  <a:lnTo>
                    <a:pt x="2918" y="1141"/>
                  </a:lnTo>
                  <a:lnTo>
                    <a:pt x="2910" y="1158"/>
                  </a:lnTo>
                  <a:lnTo>
                    <a:pt x="2899" y="1181"/>
                  </a:lnTo>
                  <a:lnTo>
                    <a:pt x="2887" y="1207"/>
                  </a:lnTo>
                  <a:lnTo>
                    <a:pt x="2857" y="1158"/>
                  </a:lnTo>
                  <a:lnTo>
                    <a:pt x="2818" y="1097"/>
                  </a:lnTo>
                  <a:lnTo>
                    <a:pt x="2771" y="1026"/>
                  </a:lnTo>
                  <a:lnTo>
                    <a:pt x="2718" y="948"/>
                  </a:lnTo>
                  <a:lnTo>
                    <a:pt x="2689" y="907"/>
                  </a:lnTo>
                  <a:lnTo>
                    <a:pt x="2658" y="866"/>
                  </a:lnTo>
                  <a:lnTo>
                    <a:pt x="2626" y="824"/>
                  </a:lnTo>
                  <a:lnTo>
                    <a:pt x="2592" y="780"/>
                  </a:lnTo>
                  <a:lnTo>
                    <a:pt x="2558" y="737"/>
                  </a:lnTo>
                  <a:lnTo>
                    <a:pt x="2522" y="695"/>
                  </a:lnTo>
                  <a:lnTo>
                    <a:pt x="2484" y="653"/>
                  </a:lnTo>
                  <a:lnTo>
                    <a:pt x="2447" y="610"/>
                  </a:lnTo>
                  <a:lnTo>
                    <a:pt x="2407" y="571"/>
                  </a:lnTo>
                  <a:lnTo>
                    <a:pt x="2368" y="531"/>
                  </a:lnTo>
                  <a:lnTo>
                    <a:pt x="2327" y="493"/>
                  </a:lnTo>
                  <a:lnTo>
                    <a:pt x="2286" y="457"/>
                  </a:lnTo>
                  <a:lnTo>
                    <a:pt x="2243" y="423"/>
                  </a:lnTo>
                  <a:lnTo>
                    <a:pt x="2200" y="391"/>
                  </a:lnTo>
                  <a:lnTo>
                    <a:pt x="2158" y="362"/>
                  </a:lnTo>
                  <a:lnTo>
                    <a:pt x="2114" y="336"/>
                  </a:lnTo>
                  <a:lnTo>
                    <a:pt x="2070" y="313"/>
                  </a:lnTo>
                  <a:lnTo>
                    <a:pt x="2026" y="294"/>
                  </a:lnTo>
                  <a:lnTo>
                    <a:pt x="1981" y="278"/>
                  </a:lnTo>
                  <a:lnTo>
                    <a:pt x="1937" y="267"/>
                  </a:lnTo>
                  <a:lnTo>
                    <a:pt x="1892" y="259"/>
                  </a:lnTo>
                  <a:lnTo>
                    <a:pt x="1849" y="256"/>
                  </a:lnTo>
                  <a:lnTo>
                    <a:pt x="1804" y="258"/>
                  </a:lnTo>
                  <a:lnTo>
                    <a:pt x="1760" y="264"/>
                  </a:lnTo>
                  <a:lnTo>
                    <a:pt x="1749" y="263"/>
                  </a:lnTo>
                  <a:lnTo>
                    <a:pt x="1717" y="261"/>
                  </a:lnTo>
                  <a:lnTo>
                    <a:pt x="1692" y="259"/>
                  </a:lnTo>
                  <a:lnTo>
                    <a:pt x="1665" y="259"/>
                  </a:lnTo>
                  <a:lnTo>
                    <a:pt x="1632" y="259"/>
                  </a:lnTo>
                  <a:lnTo>
                    <a:pt x="1595" y="261"/>
                  </a:lnTo>
                  <a:lnTo>
                    <a:pt x="1555" y="262"/>
                  </a:lnTo>
                  <a:lnTo>
                    <a:pt x="1512" y="266"/>
                  </a:lnTo>
                  <a:lnTo>
                    <a:pt x="1466" y="271"/>
                  </a:lnTo>
                  <a:lnTo>
                    <a:pt x="1416" y="277"/>
                  </a:lnTo>
                  <a:lnTo>
                    <a:pt x="1364" y="285"/>
                  </a:lnTo>
                  <a:lnTo>
                    <a:pt x="1310" y="297"/>
                  </a:lnTo>
                  <a:lnTo>
                    <a:pt x="1254" y="310"/>
                  </a:lnTo>
                  <a:lnTo>
                    <a:pt x="1195" y="325"/>
                  </a:lnTo>
                  <a:lnTo>
                    <a:pt x="1136" y="344"/>
                  </a:lnTo>
                  <a:lnTo>
                    <a:pt x="1076" y="366"/>
                  </a:lnTo>
                  <a:lnTo>
                    <a:pt x="1014" y="391"/>
                  </a:lnTo>
                  <a:lnTo>
                    <a:pt x="952" y="419"/>
                  </a:lnTo>
                  <a:lnTo>
                    <a:pt x="890" y="452"/>
                  </a:lnTo>
                  <a:lnTo>
                    <a:pt x="828" y="488"/>
                  </a:lnTo>
                  <a:lnTo>
                    <a:pt x="766" y="529"/>
                  </a:lnTo>
                  <a:lnTo>
                    <a:pt x="704" y="573"/>
                  </a:lnTo>
                  <a:lnTo>
                    <a:pt x="643" y="623"/>
                  </a:lnTo>
                  <a:lnTo>
                    <a:pt x="583" y="676"/>
                  </a:lnTo>
                  <a:lnTo>
                    <a:pt x="525" y="736"/>
                  </a:lnTo>
                  <a:lnTo>
                    <a:pt x="468" y="800"/>
                  </a:lnTo>
                  <a:lnTo>
                    <a:pt x="413" y="870"/>
                  </a:lnTo>
                  <a:lnTo>
                    <a:pt x="361" y="945"/>
                  </a:lnTo>
                  <a:lnTo>
                    <a:pt x="311" y="1027"/>
                  </a:lnTo>
                  <a:lnTo>
                    <a:pt x="264" y="1114"/>
                  </a:lnTo>
                  <a:lnTo>
                    <a:pt x="222" y="1073"/>
                  </a:lnTo>
                  <a:lnTo>
                    <a:pt x="171" y="1021"/>
                  </a:lnTo>
                  <a:lnTo>
                    <a:pt x="122" y="972"/>
                  </a:lnTo>
                  <a:lnTo>
                    <a:pt x="90" y="938"/>
                  </a:lnTo>
                  <a:lnTo>
                    <a:pt x="106" y="913"/>
                  </a:lnTo>
                  <a:lnTo>
                    <a:pt x="132" y="877"/>
                  </a:lnTo>
                  <a:lnTo>
                    <a:pt x="165" y="834"/>
                  </a:lnTo>
                  <a:lnTo>
                    <a:pt x="204" y="783"/>
                  </a:lnTo>
                  <a:lnTo>
                    <a:pt x="250" y="726"/>
                  </a:lnTo>
                  <a:lnTo>
                    <a:pt x="304" y="665"/>
                  </a:lnTo>
                  <a:lnTo>
                    <a:pt x="334" y="634"/>
                  </a:lnTo>
                  <a:lnTo>
                    <a:pt x="365" y="602"/>
                  </a:lnTo>
                  <a:lnTo>
                    <a:pt x="397" y="568"/>
                  </a:lnTo>
                  <a:lnTo>
                    <a:pt x="432" y="536"/>
                  </a:lnTo>
                  <a:lnTo>
                    <a:pt x="468" y="503"/>
                  </a:lnTo>
                  <a:lnTo>
                    <a:pt x="505" y="469"/>
                  </a:lnTo>
                  <a:lnTo>
                    <a:pt x="543" y="437"/>
                  </a:lnTo>
                  <a:lnTo>
                    <a:pt x="584" y="405"/>
                  </a:lnTo>
                  <a:lnTo>
                    <a:pt x="625" y="372"/>
                  </a:lnTo>
                  <a:lnTo>
                    <a:pt x="669" y="341"/>
                  </a:lnTo>
                  <a:lnTo>
                    <a:pt x="715" y="310"/>
                  </a:lnTo>
                  <a:lnTo>
                    <a:pt x="761" y="282"/>
                  </a:lnTo>
                  <a:lnTo>
                    <a:pt x="808" y="253"/>
                  </a:lnTo>
                  <a:lnTo>
                    <a:pt x="858" y="227"/>
                  </a:lnTo>
                  <a:lnTo>
                    <a:pt x="907" y="201"/>
                  </a:lnTo>
                  <a:lnTo>
                    <a:pt x="959" y="177"/>
                  </a:lnTo>
                  <a:lnTo>
                    <a:pt x="1013" y="156"/>
                  </a:lnTo>
                  <a:lnTo>
                    <a:pt x="1067" y="137"/>
                  </a:lnTo>
                  <a:lnTo>
                    <a:pt x="1122" y="119"/>
                  </a:lnTo>
                  <a:lnTo>
                    <a:pt x="1179" y="10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2982960" y="5425920"/>
              <a:ext cx="1092240" cy="447840"/>
            </a:xfrm>
            <a:custGeom>
              <a:avLst/>
              <a:gdLst/>
              <a:ahLst/>
              <a:rect l="l" t="t" r="r" b="b"/>
              <a:pathLst>
                <a:path w="2749" h="1127">
                  <a:moveTo>
                    <a:pt x="0" y="873"/>
                  </a:moveTo>
                  <a:lnTo>
                    <a:pt x="9" y="856"/>
                  </a:lnTo>
                  <a:lnTo>
                    <a:pt x="37" y="813"/>
                  </a:lnTo>
                  <a:lnTo>
                    <a:pt x="58" y="782"/>
                  </a:lnTo>
                  <a:lnTo>
                    <a:pt x="84" y="746"/>
                  </a:lnTo>
                  <a:lnTo>
                    <a:pt x="113" y="705"/>
                  </a:lnTo>
                  <a:lnTo>
                    <a:pt x="147" y="662"/>
                  </a:lnTo>
                  <a:lnTo>
                    <a:pt x="186" y="614"/>
                  </a:lnTo>
                  <a:lnTo>
                    <a:pt x="228" y="565"/>
                  </a:lnTo>
                  <a:lnTo>
                    <a:pt x="275" y="514"/>
                  </a:lnTo>
                  <a:lnTo>
                    <a:pt x="326" y="462"/>
                  </a:lnTo>
                  <a:lnTo>
                    <a:pt x="381" y="410"/>
                  </a:lnTo>
                  <a:lnTo>
                    <a:pt x="439" y="358"/>
                  </a:lnTo>
                  <a:lnTo>
                    <a:pt x="502" y="307"/>
                  </a:lnTo>
                  <a:lnTo>
                    <a:pt x="568" y="257"/>
                  </a:lnTo>
                  <a:lnTo>
                    <a:pt x="639" y="210"/>
                  </a:lnTo>
                  <a:lnTo>
                    <a:pt x="714" y="167"/>
                  </a:lnTo>
                  <a:lnTo>
                    <a:pt x="792" y="126"/>
                  </a:lnTo>
                  <a:lnTo>
                    <a:pt x="873" y="90"/>
                  </a:lnTo>
                  <a:lnTo>
                    <a:pt x="958" y="60"/>
                  </a:lnTo>
                  <a:lnTo>
                    <a:pt x="1046" y="34"/>
                  </a:lnTo>
                  <a:lnTo>
                    <a:pt x="1138" y="15"/>
                  </a:lnTo>
                  <a:lnTo>
                    <a:pt x="1234" y="4"/>
                  </a:lnTo>
                  <a:lnTo>
                    <a:pt x="1333" y="0"/>
                  </a:lnTo>
                  <a:lnTo>
                    <a:pt x="1435" y="5"/>
                  </a:lnTo>
                  <a:lnTo>
                    <a:pt x="1541" y="19"/>
                  </a:lnTo>
                  <a:lnTo>
                    <a:pt x="1649" y="41"/>
                  </a:lnTo>
                  <a:lnTo>
                    <a:pt x="1760" y="76"/>
                  </a:lnTo>
                  <a:lnTo>
                    <a:pt x="1875" y="121"/>
                  </a:lnTo>
                  <a:lnTo>
                    <a:pt x="1993" y="178"/>
                  </a:lnTo>
                  <a:lnTo>
                    <a:pt x="2113" y="246"/>
                  </a:lnTo>
                  <a:lnTo>
                    <a:pt x="2150" y="278"/>
                  </a:lnTo>
                  <a:lnTo>
                    <a:pt x="2189" y="307"/>
                  </a:lnTo>
                  <a:lnTo>
                    <a:pt x="2226" y="335"/>
                  </a:lnTo>
                  <a:lnTo>
                    <a:pt x="2262" y="360"/>
                  </a:lnTo>
                  <a:lnTo>
                    <a:pt x="2334" y="408"/>
                  </a:lnTo>
                  <a:lnTo>
                    <a:pt x="2401" y="451"/>
                  </a:lnTo>
                  <a:lnTo>
                    <a:pt x="2466" y="490"/>
                  </a:lnTo>
                  <a:lnTo>
                    <a:pt x="2525" y="526"/>
                  </a:lnTo>
                  <a:lnTo>
                    <a:pt x="2553" y="544"/>
                  </a:lnTo>
                  <a:lnTo>
                    <a:pt x="2580" y="561"/>
                  </a:lnTo>
                  <a:lnTo>
                    <a:pt x="2604" y="578"/>
                  </a:lnTo>
                  <a:lnTo>
                    <a:pt x="2627" y="596"/>
                  </a:lnTo>
                  <a:lnTo>
                    <a:pt x="2648" y="613"/>
                  </a:lnTo>
                  <a:lnTo>
                    <a:pt x="2668" y="631"/>
                  </a:lnTo>
                  <a:lnTo>
                    <a:pt x="2685" y="648"/>
                  </a:lnTo>
                  <a:lnTo>
                    <a:pt x="2702" y="667"/>
                  </a:lnTo>
                  <a:lnTo>
                    <a:pt x="2715" y="686"/>
                  </a:lnTo>
                  <a:lnTo>
                    <a:pt x="2726" y="706"/>
                  </a:lnTo>
                  <a:lnTo>
                    <a:pt x="2736" y="727"/>
                  </a:lnTo>
                  <a:lnTo>
                    <a:pt x="2743" y="748"/>
                  </a:lnTo>
                  <a:lnTo>
                    <a:pt x="2748" y="772"/>
                  </a:lnTo>
                  <a:lnTo>
                    <a:pt x="2749" y="797"/>
                  </a:lnTo>
                  <a:lnTo>
                    <a:pt x="2748" y="823"/>
                  </a:lnTo>
                  <a:lnTo>
                    <a:pt x="2745" y="851"/>
                  </a:lnTo>
                  <a:lnTo>
                    <a:pt x="2739" y="880"/>
                  </a:lnTo>
                  <a:lnTo>
                    <a:pt x="2729" y="912"/>
                  </a:lnTo>
                  <a:lnTo>
                    <a:pt x="2717" y="946"/>
                  </a:lnTo>
                  <a:lnTo>
                    <a:pt x="2702" y="982"/>
                  </a:lnTo>
                  <a:lnTo>
                    <a:pt x="2604" y="1127"/>
                  </a:lnTo>
                  <a:lnTo>
                    <a:pt x="2597" y="1118"/>
                  </a:lnTo>
                  <a:lnTo>
                    <a:pt x="2582" y="1091"/>
                  </a:lnTo>
                  <a:lnTo>
                    <a:pt x="2556" y="1050"/>
                  </a:lnTo>
                  <a:lnTo>
                    <a:pt x="2523" y="997"/>
                  </a:lnTo>
                  <a:lnTo>
                    <a:pt x="2502" y="967"/>
                  </a:lnTo>
                  <a:lnTo>
                    <a:pt x="2481" y="935"/>
                  </a:lnTo>
                  <a:lnTo>
                    <a:pt x="2456" y="900"/>
                  </a:lnTo>
                  <a:lnTo>
                    <a:pt x="2430" y="865"/>
                  </a:lnTo>
                  <a:lnTo>
                    <a:pt x="2401" y="829"/>
                  </a:lnTo>
                  <a:lnTo>
                    <a:pt x="2371" y="792"/>
                  </a:lnTo>
                  <a:lnTo>
                    <a:pt x="2340" y="755"/>
                  </a:lnTo>
                  <a:lnTo>
                    <a:pt x="2308" y="717"/>
                  </a:lnTo>
                  <a:lnTo>
                    <a:pt x="2273" y="680"/>
                  </a:lnTo>
                  <a:lnTo>
                    <a:pt x="2237" y="644"/>
                  </a:lnTo>
                  <a:lnTo>
                    <a:pt x="2200" y="609"/>
                  </a:lnTo>
                  <a:lnTo>
                    <a:pt x="2161" y="575"/>
                  </a:lnTo>
                  <a:lnTo>
                    <a:pt x="2122" y="542"/>
                  </a:lnTo>
                  <a:lnTo>
                    <a:pt x="2081" y="513"/>
                  </a:lnTo>
                  <a:lnTo>
                    <a:pt x="2039" y="484"/>
                  </a:lnTo>
                  <a:lnTo>
                    <a:pt x="1996" y="459"/>
                  </a:lnTo>
                  <a:lnTo>
                    <a:pt x="1953" y="437"/>
                  </a:lnTo>
                  <a:lnTo>
                    <a:pt x="1908" y="417"/>
                  </a:lnTo>
                  <a:lnTo>
                    <a:pt x="1862" y="402"/>
                  </a:lnTo>
                  <a:lnTo>
                    <a:pt x="1816" y="391"/>
                  </a:lnTo>
                  <a:lnTo>
                    <a:pt x="1770" y="384"/>
                  </a:lnTo>
                  <a:lnTo>
                    <a:pt x="1723" y="381"/>
                  </a:lnTo>
                  <a:lnTo>
                    <a:pt x="1676" y="384"/>
                  </a:lnTo>
                  <a:lnTo>
                    <a:pt x="1627" y="391"/>
                  </a:lnTo>
                  <a:lnTo>
                    <a:pt x="1618" y="387"/>
                  </a:lnTo>
                  <a:lnTo>
                    <a:pt x="1587" y="376"/>
                  </a:lnTo>
                  <a:lnTo>
                    <a:pt x="1565" y="369"/>
                  </a:lnTo>
                  <a:lnTo>
                    <a:pt x="1539" y="361"/>
                  </a:lnTo>
                  <a:lnTo>
                    <a:pt x="1510" y="354"/>
                  </a:lnTo>
                  <a:lnTo>
                    <a:pt x="1476" y="345"/>
                  </a:lnTo>
                  <a:lnTo>
                    <a:pt x="1439" y="338"/>
                  </a:lnTo>
                  <a:lnTo>
                    <a:pt x="1399" y="332"/>
                  </a:lnTo>
                  <a:lnTo>
                    <a:pt x="1356" y="325"/>
                  </a:lnTo>
                  <a:lnTo>
                    <a:pt x="1310" y="320"/>
                  </a:lnTo>
                  <a:lnTo>
                    <a:pt x="1261" y="318"/>
                  </a:lnTo>
                  <a:lnTo>
                    <a:pt x="1212" y="317"/>
                  </a:lnTo>
                  <a:lnTo>
                    <a:pt x="1159" y="318"/>
                  </a:lnTo>
                  <a:lnTo>
                    <a:pt x="1106" y="322"/>
                  </a:lnTo>
                  <a:lnTo>
                    <a:pt x="1050" y="329"/>
                  </a:lnTo>
                  <a:lnTo>
                    <a:pt x="994" y="339"/>
                  </a:lnTo>
                  <a:lnTo>
                    <a:pt x="937" y="353"/>
                  </a:lnTo>
                  <a:lnTo>
                    <a:pt x="880" y="370"/>
                  </a:lnTo>
                  <a:lnTo>
                    <a:pt x="822" y="392"/>
                  </a:lnTo>
                  <a:lnTo>
                    <a:pt x="763" y="418"/>
                  </a:lnTo>
                  <a:lnTo>
                    <a:pt x="705" y="451"/>
                  </a:lnTo>
                  <a:lnTo>
                    <a:pt x="647" y="487"/>
                  </a:lnTo>
                  <a:lnTo>
                    <a:pt x="589" y="529"/>
                  </a:lnTo>
                  <a:lnTo>
                    <a:pt x="534" y="577"/>
                  </a:lnTo>
                  <a:lnTo>
                    <a:pt x="479" y="632"/>
                  </a:lnTo>
                  <a:lnTo>
                    <a:pt x="425" y="693"/>
                  </a:lnTo>
                  <a:lnTo>
                    <a:pt x="373" y="761"/>
                  </a:lnTo>
                  <a:lnTo>
                    <a:pt x="322" y="835"/>
                  </a:lnTo>
                  <a:lnTo>
                    <a:pt x="275" y="918"/>
                  </a:lnTo>
                  <a:lnTo>
                    <a:pt x="229" y="1009"/>
                  </a:lnTo>
                  <a:lnTo>
                    <a:pt x="0" y="87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2963880" y="5411880"/>
              <a:ext cx="1123920" cy="488880"/>
            </a:xfrm>
            <a:custGeom>
              <a:avLst/>
              <a:gdLst/>
              <a:ahLst/>
              <a:rect l="l" t="t" r="r" b="b"/>
              <a:pathLst>
                <a:path w="2833" h="1232">
                  <a:moveTo>
                    <a:pt x="1074" y="39"/>
                  </a:moveTo>
                  <a:lnTo>
                    <a:pt x="1012" y="56"/>
                  </a:lnTo>
                  <a:lnTo>
                    <a:pt x="953" y="76"/>
                  </a:lnTo>
                  <a:lnTo>
                    <a:pt x="895" y="98"/>
                  </a:lnTo>
                  <a:lnTo>
                    <a:pt x="840" y="123"/>
                  </a:lnTo>
                  <a:lnTo>
                    <a:pt x="785" y="149"/>
                  </a:lnTo>
                  <a:lnTo>
                    <a:pt x="732" y="178"/>
                  </a:lnTo>
                  <a:lnTo>
                    <a:pt x="681" y="208"/>
                  </a:lnTo>
                  <a:lnTo>
                    <a:pt x="632" y="240"/>
                  </a:lnTo>
                  <a:lnTo>
                    <a:pt x="585" y="272"/>
                  </a:lnTo>
                  <a:lnTo>
                    <a:pt x="539" y="306"/>
                  </a:lnTo>
                  <a:lnTo>
                    <a:pt x="496" y="340"/>
                  </a:lnTo>
                  <a:lnTo>
                    <a:pt x="453" y="375"/>
                  </a:lnTo>
                  <a:lnTo>
                    <a:pt x="412" y="411"/>
                  </a:lnTo>
                  <a:lnTo>
                    <a:pt x="375" y="447"/>
                  </a:lnTo>
                  <a:lnTo>
                    <a:pt x="338" y="483"/>
                  </a:lnTo>
                  <a:lnTo>
                    <a:pt x="303" y="518"/>
                  </a:lnTo>
                  <a:lnTo>
                    <a:pt x="271" y="552"/>
                  </a:lnTo>
                  <a:lnTo>
                    <a:pt x="240" y="587"/>
                  </a:lnTo>
                  <a:lnTo>
                    <a:pt x="211" y="621"/>
                  </a:lnTo>
                  <a:lnTo>
                    <a:pt x="184" y="654"/>
                  </a:lnTo>
                  <a:lnTo>
                    <a:pt x="137" y="715"/>
                  </a:lnTo>
                  <a:lnTo>
                    <a:pt x="97" y="770"/>
                  </a:lnTo>
                  <a:lnTo>
                    <a:pt x="65" y="817"/>
                  </a:lnTo>
                  <a:lnTo>
                    <a:pt x="41" y="854"/>
                  </a:lnTo>
                  <a:lnTo>
                    <a:pt x="25" y="879"/>
                  </a:lnTo>
                  <a:lnTo>
                    <a:pt x="18" y="891"/>
                  </a:lnTo>
                  <a:lnTo>
                    <a:pt x="0" y="921"/>
                  </a:lnTo>
                  <a:lnTo>
                    <a:pt x="294" y="1095"/>
                  </a:lnTo>
                  <a:lnTo>
                    <a:pt x="311" y="1060"/>
                  </a:lnTo>
                  <a:lnTo>
                    <a:pt x="354" y="973"/>
                  </a:lnTo>
                  <a:lnTo>
                    <a:pt x="400" y="894"/>
                  </a:lnTo>
                  <a:lnTo>
                    <a:pt x="447" y="822"/>
                  </a:lnTo>
                  <a:lnTo>
                    <a:pt x="497" y="756"/>
                  </a:lnTo>
                  <a:lnTo>
                    <a:pt x="548" y="698"/>
                  </a:lnTo>
                  <a:lnTo>
                    <a:pt x="600" y="645"/>
                  </a:lnTo>
                  <a:lnTo>
                    <a:pt x="653" y="598"/>
                  </a:lnTo>
                  <a:lnTo>
                    <a:pt x="708" y="557"/>
                  </a:lnTo>
                  <a:lnTo>
                    <a:pt x="763" y="521"/>
                  </a:lnTo>
                  <a:lnTo>
                    <a:pt x="817" y="490"/>
                  </a:lnTo>
                  <a:lnTo>
                    <a:pt x="872" y="464"/>
                  </a:lnTo>
                  <a:lnTo>
                    <a:pt x="928" y="442"/>
                  </a:lnTo>
                  <a:lnTo>
                    <a:pt x="982" y="425"/>
                  </a:lnTo>
                  <a:lnTo>
                    <a:pt x="1037" y="410"/>
                  </a:lnTo>
                  <a:lnTo>
                    <a:pt x="1090" y="400"/>
                  </a:lnTo>
                  <a:lnTo>
                    <a:pt x="1143" y="392"/>
                  </a:lnTo>
                  <a:lnTo>
                    <a:pt x="1193" y="387"/>
                  </a:lnTo>
                  <a:lnTo>
                    <a:pt x="1243" y="386"/>
                  </a:lnTo>
                  <a:lnTo>
                    <a:pt x="1292" y="386"/>
                  </a:lnTo>
                  <a:lnTo>
                    <a:pt x="1337" y="389"/>
                  </a:lnTo>
                  <a:lnTo>
                    <a:pt x="1382" y="392"/>
                  </a:lnTo>
                  <a:lnTo>
                    <a:pt x="1424" y="399"/>
                  </a:lnTo>
                  <a:lnTo>
                    <a:pt x="1463" y="405"/>
                  </a:lnTo>
                  <a:lnTo>
                    <a:pt x="1500" y="412"/>
                  </a:lnTo>
                  <a:lnTo>
                    <a:pt x="1532" y="420"/>
                  </a:lnTo>
                  <a:lnTo>
                    <a:pt x="1563" y="427"/>
                  </a:lnTo>
                  <a:lnTo>
                    <a:pt x="1590" y="435"/>
                  </a:lnTo>
                  <a:lnTo>
                    <a:pt x="1613" y="442"/>
                  </a:lnTo>
                  <a:lnTo>
                    <a:pt x="1647" y="453"/>
                  </a:lnTo>
                  <a:lnTo>
                    <a:pt x="1663" y="459"/>
                  </a:lnTo>
                  <a:lnTo>
                    <a:pt x="1673" y="464"/>
                  </a:lnTo>
                  <a:lnTo>
                    <a:pt x="1684" y="462"/>
                  </a:lnTo>
                  <a:lnTo>
                    <a:pt x="1729" y="454"/>
                  </a:lnTo>
                  <a:lnTo>
                    <a:pt x="1773" y="453"/>
                  </a:lnTo>
                  <a:lnTo>
                    <a:pt x="1818" y="456"/>
                  </a:lnTo>
                  <a:lnTo>
                    <a:pt x="1862" y="462"/>
                  </a:lnTo>
                  <a:lnTo>
                    <a:pt x="1905" y="473"/>
                  </a:lnTo>
                  <a:lnTo>
                    <a:pt x="1948" y="489"/>
                  </a:lnTo>
                  <a:lnTo>
                    <a:pt x="1991" y="508"/>
                  </a:lnTo>
                  <a:lnTo>
                    <a:pt x="2033" y="529"/>
                  </a:lnTo>
                  <a:lnTo>
                    <a:pt x="2074" y="554"/>
                  </a:lnTo>
                  <a:lnTo>
                    <a:pt x="2114" y="581"/>
                  </a:lnTo>
                  <a:lnTo>
                    <a:pt x="2152" y="610"/>
                  </a:lnTo>
                  <a:lnTo>
                    <a:pt x="2191" y="641"/>
                  </a:lnTo>
                  <a:lnTo>
                    <a:pt x="2227" y="674"/>
                  </a:lnTo>
                  <a:lnTo>
                    <a:pt x="2263" y="708"/>
                  </a:lnTo>
                  <a:lnTo>
                    <a:pt x="2297" y="744"/>
                  </a:lnTo>
                  <a:lnTo>
                    <a:pt x="2331" y="778"/>
                  </a:lnTo>
                  <a:lnTo>
                    <a:pt x="2363" y="815"/>
                  </a:lnTo>
                  <a:lnTo>
                    <a:pt x="2393" y="851"/>
                  </a:lnTo>
                  <a:lnTo>
                    <a:pt x="2422" y="887"/>
                  </a:lnTo>
                  <a:lnTo>
                    <a:pt x="2449" y="922"/>
                  </a:lnTo>
                  <a:lnTo>
                    <a:pt x="2499" y="989"/>
                  </a:lnTo>
                  <a:lnTo>
                    <a:pt x="2540" y="1050"/>
                  </a:lnTo>
                  <a:lnTo>
                    <a:pt x="2574" y="1102"/>
                  </a:lnTo>
                  <a:lnTo>
                    <a:pt x="2599" y="1143"/>
                  </a:lnTo>
                  <a:lnTo>
                    <a:pt x="2615" y="1170"/>
                  </a:lnTo>
                  <a:lnTo>
                    <a:pt x="2620" y="1180"/>
                  </a:lnTo>
                  <a:lnTo>
                    <a:pt x="2649" y="1232"/>
                  </a:lnTo>
                  <a:lnTo>
                    <a:pt x="2780" y="1038"/>
                  </a:lnTo>
                  <a:lnTo>
                    <a:pt x="2793" y="1009"/>
                  </a:lnTo>
                  <a:lnTo>
                    <a:pt x="2803" y="982"/>
                  </a:lnTo>
                  <a:lnTo>
                    <a:pt x="2811" y="956"/>
                  </a:lnTo>
                  <a:lnTo>
                    <a:pt x="2819" y="931"/>
                  </a:lnTo>
                  <a:lnTo>
                    <a:pt x="2825" y="907"/>
                  </a:lnTo>
                  <a:lnTo>
                    <a:pt x="2829" y="885"/>
                  </a:lnTo>
                  <a:lnTo>
                    <a:pt x="2831" y="863"/>
                  </a:lnTo>
                  <a:lnTo>
                    <a:pt x="2833" y="842"/>
                  </a:lnTo>
                  <a:lnTo>
                    <a:pt x="2831" y="822"/>
                  </a:lnTo>
                  <a:lnTo>
                    <a:pt x="2830" y="803"/>
                  </a:lnTo>
                  <a:lnTo>
                    <a:pt x="2826" y="784"/>
                  </a:lnTo>
                  <a:lnTo>
                    <a:pt x="2823" y="766"/>
                  </a:lnTo>
                  <a:lnTo>
                    <a:pt x="2816" y="750"/>
                  </a:lnTo>
                  <a:lnTo>
                    <a:pt x="2810" y="732"/>
                  </a:lnTo>
                  <a:lnTo>
                    <a:pt x="2802" y="716"/>
                  </a:lnTo>
                  <a:lnTo>
                    <a:pt x="2793" y="701"/>
                  </a:lnTo>
                  <a:lnTo>
                    <a:pt x="2782" y="686"/>
                  </a:lnTo>
                  <a:lnTo>
                    <a:pt x="2770" y="672"/>
                  </a:lnTo>
                  <a:lnTo>
                    <a:pt x="2758" y="658"/>
                  </a:lnTo>
                  <a:lnTo>
                    <a:pt x="2744" y="644"/>
                  </a:lnTo>
                  <a:lnTo>
                    <a:pt x="2731" y="631"/>
                  </a:lnTo>
                  <a:lnTo>
                    <a:pt x="2716" y="618"/>
                  </a:lnTo>
                  <a:lnTo>
                    <a:pt x="2700" y="605"/>
                  </a:lnTo>
                  <a:lnTo>
                    <a:pt x="2684" y="592"/>
                  </a:lnTo>
                  <a:lnTo>
                    <a:pt x="2648" y="567"/>
                  </a:lnTo>
                  <a:lnTo>
                    <a:pt x="2609" y="543"/>
                  </a:lnTo>
                  <a:lnTo>
                    <a:pt x="2569" y="518"/>
                  </a:lnTo>
                  <a:lnTo>
                    <a:pt x="2527" y="492"/>
                  </a:lnTo>
                  <a:lnTo>
                    <a:pt x="2487" y="468"/>
                  </a:lnTo>
                  <a:lnTo>
                    <a:pt x="2448" y="443"/>
                  </a:lnTo>
                  <a:lnTo>
                    <a:pt x="2405" y="417"/>
                  </a:lnTo>
                  <a:lnTo>
                    <a:pt x="2363" y="389"/>
                  </a:lnTo>
                  <a:lnTo>
                    <a:pt x="2320" y="359"/>
                  </a:lnTo>
                  <a:lnTo>
                    <a:pt x="2275" y="327"/>
                  </a:lnTo>
                  <a:lnTo>
                    <a:pt x="2230" y="293"/>
                  </a:lnTo>
                  <a:lnTo>
                    <a:pt x="2184" y="255"/>
                  </a:lnTo>
                  <a:lnTo>
                    <a:pt x="2150" y="234"/>
                  </a:lnTo>
                  <a:lnTo>
                    <a:pt x="2114" y="212"/>
                  </a:lnTo>
                  <a:lnTo>
                    <a:pt x="2078" y="193"/>
                  </a:lnTo>
                  <a:lnTo>
                    <a:pt x="2043" y="174"/>
                  </a:lnTo>
                  <a:lnTo>
                    <a:pt x="2007" y="157"/>
                  </a:lnTo>
                  <a:lnTo>
                    <a:pt x="1972" y="139"/>
                  </a:lnTo>
                  <a:lnTo>
                    <a:pt x="1937" y="124"/>
                  </a:lnTo>
                  <a:lnTo>
                    <a:pt x="1901" y="110"/>
                  </a:lnTo>
                  <a:lnTo>
                    <a:pt x="1866" y="95"/>
                  </a:lnTo>
                  <a:lnTo>
                    <a:pt x="1832" y="82"/>
                  </a:lnTo>
                  <a:lnTo>
                    <a:pt x="1796" y="70"/>
                  </a:lnTo>
                  <a:lnTo>
                    <a:pt x="1761" y="59"/>
                  </a:lnTo>
                  <a:lnTo>
                    <a:pt x="1726" y="49"/>
                  </a:lnTo>
                  <a:lnTo>
                    <a:pt x="1691" y="40"/>
                  </a:lnTo>
                  <a:lnTo>
                    <a:pt x="1657" y="31"/>
                  </a:lnTo>
                  <a:lnTo>
                    <a:pt x="1622" y="24"/>
                  </a:lnTo>
                  <a:lnTo>
                    <a:pt x="1587" y="18"/>
                  </a:lnTo>
                  <a:lnTo>
                    <a:pt x="1552" y="13"/>
                  </a:lnTo>
                  <a:lnTo>
                    <a:pt x="1518" y="9"/>
                  </a:lnTo>
                  <a:lnTo>
                    <a:pt x="1483" y="5"/>
                  </a:lnTo>
                  <a:lnTo>
                    <a:pt x="1448" y="3"/>
                  </a:lnTo>
                  <a:lnTo>
                    <a:pt x="1414" y="2"/>
                  </a:lnTo>
                  <a:lnTo>
                    <a:pt x="1380" y="0"/>
                  </a:lnTo>
                  <a:lnTo>
                    <a:pt x="1345" y="2"/>
                  </a:lnTo>
                  <a:lnTo>
                    <a:pt x="1311" y="3"/>
                  </a:lnTo>
                  <a:lnTo>
                    <a:pt x="1277" y="5"/>
                  </a:lnTo>
                  <a:lnTo>
                    <a:pt x="1243" y="8"/>
                  </a:lnTo>
                  <a:lnTo>
                    <a:pt x="1210" y="13"/>
                  </a:lnTo>
                  <a:lnTo>
                    <a:pt x="1175" y="18"/>
                  </a:lnTo>
                  <a:lnTo>
                    <a:pt x="1141" y="24"/>
                  </a:lnTo>
                  <a:lnTo>
                    <a:pt x="1108" y="31"/>
                  </a:lnTo>
                  <a:lnTo>
                    <a:pt x="1074" y="39"/>
                  </a:lnTo>
                  <a:close/>
                  <a:moveTo>
                    <a:pt x="1092" y="108"/>
                  </a:moveTo>
                  <a:lnTo>
                    <a:pt x="1124" y="101"/>
                  </a:lnTo>
                  <a:lnTo>
                    <a:pt x="1156" y="93"/>
                  </a:lnTo>
                  <a:lnTo>
                    <a:pt x="1187" y="88"/>
                  </a:lnTo>
                  <a:lnTo>
                    <a:pt x="1220" y="83"/>
                  </a:lnTo>
                  <a:lnTo>
                    <a:pt x="1252" y="78"/>
                  </a:lnTo>
                  <a:lnTo>
                    <a:pt x="1284" y="76"/>
                  </a:lnTo>
                  <a:lnTo>
                    <a:pt x="1316" y="74"/>
                  </a:lnTo>
                  <a:lnTo>
                    <a:pt x="1349" y="72"/>
                  </a:lnTo>
                  <a:lnTo>
                    <a:pt x="1381" y="72"/>
                  </a:lnTo>
                  <a:lnTo>
                    <a:pt x="1413" y="72"/>
                  </a:lnTo>
                  <a:lnTo>
                    <a:pt x="1447" y="74"/>
                  </a:lnTo>
                  <a:lnTo>
                    <a:pt x="1479" y="76"/>
                  </a:lnTo>
                  <a:lnTo>
                    <a:pt x="1511" y="80"/>
                  </a:lnTo>
                  <a:lnTo>
                    <a:pt x="1545" y="83"/>
                  </a:lnTo>
                  <a:lnTo>
                    <a:pt x="1577" y="88"/>
                  </a:lnTo>
                  <a:lnTo>
                    <a:pt x="1611" y="95"/>
                  </a:lnTo>
                  <a:lnTo>
                    <a:pt x="1643" y="102"/>
                  </a:lnTo>
                  <a:lnTo>
                    <a:pt x="1676" y="110"/>
                  </a:lnTo>
                  <a:lnTo>
                    <a:pt x="1709" y="118"/>
                  </a:lnTo>
                  <a:lnTo>
                    <a:pt x="1742" y="128"/>
                  </a:lnTo>
                  <a:lnTo>
                    <a:pt x="1776" y="138"/>
                  </a:lnTo>
                  <a:lnTo>
                    <a:pt x="1809" y="149"/>
                  </a:lnTo>
                  <a:lnTo>
                    <a:pt x="1842" y="162"/>
                  </a:lnTo>
                  <a:lnTo>
                    <a:pt x="1875" y="175"/>
                  </a:lnTo>
                  <a:lnTo>
                    <a:pt x="1909" y="189"/>
                  </a:lnTo>
                  <a:lnTo>
                    <a:pt x="1942" y="204"/>
                  </a:lnTo>
                  <a:lnTo>
                    <a:pt x="1976" y="220"/>
                  </a:lnTo>
                  <a:lnTo>
                    <a:pt x="2009" y="236"/>
                  </a:lnTo>
                  <a:lnTo>
                    <a:pt x="2043" y="255"/>
                  </a:lnTo>
                  <a:lnTo>
                    <a:pt x="2076" y="273"/>
                  </a:lnTo>
                  <a:lnTo>
                    <a:pt x="2110" y="292"/>
                  </a:lnTo>
                  <a:lnTo>
                    <a:pt x="2143" y="313"/>
                  </a:lnTo>
                  <a:lnTo>
                    <a:pt x="2189" y="350"/>
                  </a:lnTo>
                  <a:lnTo>
                    <a:pt x="2235" y="386"/>
                  </a:lnTo>
                  <a:lnTo>
                    <a:pt x="2280" y="418"/>
                  </a:lnTo>
                  <a:lnTo>
                    <a:pt x="2325" y="449"/>
                  </a:lnTo>
                  <a:lnTo>
                    <a:pt x="2368" y="478"/>
                  </a:lnTo>
                  <a:lnTo>
                    <a:pt x="2410" y="504"/>
                  </a:lnTo>
                  <a:lnTo>
                    <a:pt x="2451" y="529"/>
                  </a:lnTo>
                  <a:lnTo>
                    <a:pt x="2490" y="552"/>
                  </a:lnTo>
                  <a:lnTo>
                    <a:pt x="2551" y="590"/>
                  </a:lnTo>
                  <a:lnTo>
                    <a:pt x="2604" y="624"/>
                  </a:lnTo>
                  <a:lnTo>
                    <a:pt x="2629" y="641"/>
                  </a:lnTo>
                  <a:lnTo>
                    <a:pt x="2651" y="657"/>
                  </a:lnTo>
                  <a:lnTo>
                    <a:pt x="2671" y="673"/>
                  </a:lnTo>
                  <a:lnTo>
                    <a:pt x="2690" y="689"/>
                  </a:lnTo>
                  <a:lnTo>
                    <a:pt x="2707" y="705"/>
                  </a:lnTo>
                  <a:lnTo>
                    <a:pt x="2721" y="722"/>
                  </a:lnTo>
                  <a:lnTo>
                    <a:pt x="2733" y="740"/>
                  </a:lnTo>
                  <a:lnTo>
                    <a:pt x="2744" y="757"/>
                  </a:lnTo>
                  <a:lnTo>
                    <a:pt x="2752" y="776"/>
                  </a:lnTo>
                  <a:lnTo>
                    <a:pt x="2758" y="796"/>
                  </a:lnTo>
                  <a:lnTo>
                    <a:pt x="2762" y="817"/>
                  </a:lnTo>
                  <a:lnTo>
                    <a:pt x="2763" y="838"/>
                  </a:lnTo>
                  <a:lnTo>
                    <a:pt x="2762" y="855"/>
                  </a:lnTo>
                  <a:lnTo>
                    <a:pt x="2761" y="874"/>
                  </a:lnTo>
                  <a:lnTo>
                    <a:pt x="2757" y="892"/>
                  </a:lnTo>
                  <a:lnTo>
                    <a:pt x="2752" y="912"/>
                  </a:lnTo>
                  <a:lnTo>
                    <a:pt x="2746" y="933"/>
                  </a:lnTo>
                  <a:lnTo>
                    <a:pt x="2738" y="956"/>
                  </a:lnTo>
                  <a:lnTo>
                    <a:pt x="2728" y="978"/>
                  </a:lnTo>
                  <a:lnTo>
                    <a:pt x="2718" y="1003"/>
                  </a:lnTo>
                  <a:lnTo>
                    <a:pt x="2712" y="1011"/>
                  </a:lnTo>
                  <a:lnTo>
                    <a:pt x="2697" y="1034"/>
                  </a:lnTo>
                  <a:lnTo>
                    <a:pt x="2676" y="1065"/>
                  </a:lnTo>
                  <a:lnTo>
                    <a:pt x="2655" y="1096"/>
                  </a:lnTo>
                  <a:lnTo>
                    <a:pt x="2630" y="1057"/>
                  </a:lnTo>
                  <a:lnTo>
                    <a:pt x="2600" y="1010"/>
                  </a:lnTo>
                  <a:lnTo>
                    <a:pt x="2563" y="957"/>
                  </a:lnTo>
                  <a:lnTo>
                    <a:pt x="2521" y="897"/>
                  </a:lnTo>
                  <a:lnTo>
                    <a:pt x="2497" y="866"/>
                  </a:lnTo>
                  <a:lnTo>
                    <a:pt x="2474" y="835"/>
                  </a:lnTo>
                  <a:lnTo>
                    <a:pt x="2448" y="803"/>
                  </a:lnTo>
                  <a:lnTo>
                    <a:pt x="2420" y="771"/>
                  </a:lnTo>
                  <a:lnTo>
                    <a:pt x="2392" y="739"/>
                  </a:lnTo>
                  <a:lnTo>
                    <a:pt x="2362" y="706"/>
                  </a:lnTo>
                  <a:lnTo>
                    <a:pt x="2331" y="674"/>
                  </a:lnTo>
                  <a:lnTo>
                    <a:pt x="2300" y="643"/>
                  </a:lnTo>
                  <a:lnTo>
                    <a:pt x="2266" y="612"/>
                  </a:lnTo>
                  <a:lnTo>
                    <a:pt x="2233" y="582"/>
                  </a:lnTo>
                  <a:lnTo>
                    <a:pt x="2198" y="555"/>
                  </a:lnTo>
                  <a:lnTo>
                    <a:pt x="2163" y="528"/>
                  </a:lnTo>
                  <a:lnTo>
                    <a:pt x="2126" y="503"/>
                  </a:lnTo>
                  <a:lnTo>
                    <a:pt x="2089" y="479"/>
                  </a:lnTo>
                  <a:lnTo>
                    <a:pt x="2050" y="458"/>
                  </a:lnTo>
                  <a:lnTo>
                    <a:pt x="2012" y="438"/>
                  </a:lnTo>
                  <a:lnTo>
                    <a:pt x="1973" y="422"/>
                  </a:lnTo>
                  <a:lnTo>
                    <a:pt x="1932" y="409"/>
                  </a:lnTo>
                  <a:lnTo>
                    <a:pt x="1891" y="397"/>
                  </a:lnTo>
                  <a:lnTo>
                    <a:pt x="1850" y="389"/>
                  </a:lnTo>
                  <a:lnTo>
                    <a:pt x="1809" y="384"/>
                  </a:lnTo>
                  <a:lnTo>
                    <a:pt x="1767" y="382"/>
                  </a:lnTo>
                  <a:lnTo>
                    <a:pt x="1725" y="385"/>
                  </a:lnTo>
                  <a:lnTo>
                    <a:pt x="1681" y="391"/>
                  </a:lnTo>
                  <a:lnTo>
                    <a:pt x="1660" y="384"/>
                  </a:lnTo>
                  <a:lnTo>
                    <a:pt x="1623" y="371"/>
                  </a:lnTo>
                  <a:lnTo>
                    <a:pt x="1597" y="364"/>
                  </a:lnTo>
                  <a:lnTo>
                    <a:pt x="1568" y="356"/>
                  </a:lnTo>
                  <a:lnTo>
                    <a:pt x="1536" y="349"/>
                  </a:lnTo>
                  <a:lnTo>
                    <a:pt x="1501" y="342"/>
                  </a:lnTo>
                  <a:lnTo>
                    <a:pt x="1463" y="335"/>
                  </a:lnTo>
                  <a:lnTo>
                    <a:pt x="1422" y="329"/>
                  </a:lnTo>
                  <a:lnTo>
                    <a:pt x="1377" y="324"/>
                  </a:lnTo>
                  <a:lnTo>
                    <a:pt x="1331" y="320"/>
                  </a:lnTo>
                  <a:lnTo>
                    <a:pt x="1283" y="319"/>
                  </a:lnTo>
                  <a:lnTo>
                    <a:pt x="1233" y="319"/>
                  </a:lnTo>
                  <a:lnTo>
                    <a:pt x="1181" y="322"/>
                  </a:lnTo>
                  <a:lnTo>
                    <a:pt x="1128" y="327"/>
                  </a:lnTo>
                  <a:lnTo>
                    <a:pt x="1073" y="335"/>
                  </a:lnTo>
                  <a:lnTo>
                    <a:pt x="1018" y="346"/>
                  </a:lnTo>
                  <a:lnTo>
                    <a:pt x="961" y="361"/>
                  </a:lnTo>
                  <a:lnTo>
                    <a:pt x="905" y="379"/>
                  </a:lnTo>
                  <a:lnTo>
                    <a:pt x="848" y="402"/>
                  </a:lnTo>
                  <a:lnTo>
                    <a:pt x="791" y="428"/>
                  </a:lnTo>
                  <a:lnTo>
                    <a:pt x="734" y="459"/>
                  </a:lnTo>
                  <a:lnTo>
                    <a:pt x="677" y="495"/>
                  </a:lnTo>
                  <a:lnTo>
                    <a:pt x="621" y="538"/>
                  </a:lnTo>
                  <a:lnTo>
                    <a:pt x="566" y="583"/>
                  </a:lnTo>
                  <a:lnTo>
                    <a:pt x="512" y="637"/>
                  </a:lnTo>
                  <a:lnTo>
                    <a:pt x="458" y="695"/>
                  </a:lnTo>
                  <a:lnTo>
                    <a:pt x="407" y="760"/>
                  </a:lnTo>
                  <a:lnTo>
                    <a:pt x="358" y="832"/>
                  </a:lnTo>
                  <a:lnTo>
                    <a:pt x="311" y="910"/>
                  </a:lnTo>
                  <a:lnTo>
                    <a:pt x="265" y="995"/>
                  </a:lnTo>
                  <a:lnTo>
                    <a:pt x="227" y="973"/>
                  </a:lnTo>
                  <a:lnTo>
                    <a:pt x="181" y="946"/>
                  </a:lnTo>
                  <a:lnTo>
                    <a:pt x="135" y="918"/>
                  </a:lnTo>
                  <a:lnTo>
                    <a:pt x="98" y="896"/>
                  </a:lnTo>
                  <a:lnTo>
                    <a:pt x="117" y="868"/>
                  </a:lnTo>
                  <a:lnTo>
                    <a:pt x="142" y="832"/>
                  </a:lnTo>
                  <a:lnTo>
                    <a:pt x="173" y="788"/>
                  </a:lnTo>
                  <a:lnTo>
                    <a:pt x="210" y="739"/>
                  </a:lnTo>
                  <a:lnTo>
                    <a:pt x="253" y="685"/>
                  </a:lnTo>
                  <a:lnTo>
                    <a:pt x="302" y="627"/>
                  </a:lnTo>
                  <a:lnTo>
                    <a:pt x="329" y="598"/>
                  </a:lnTo>
                  <a:lnTo>
                    <a:pt x="358" y="567"/>
                  </a:lnTo>
                  <a:lnTo>
                    <a:pt x="386" y="538"/>
                  </a:lnTo>
                  <a:lnTo>
                    <a:pt x="417" y="507"/>
                  </a:lnTo>
                  <a:lnTo>
                    <a:pt x="450" y="476"/>
                  </a:lnTo>
                  <a:lnTo>
                    <a:pt x="484" y="446"/>
                  </a:lnTo>
                  <a:lnTo>
                    <a:pt x="519" y="415"/>
                  </a:lnTo>
                  <a:lnTo>
                    <a:pt x="555" y="385"/>
                  </a:lnTo>
                  <a:lnTo>
                    <a:pt x="592" y="356"/>
                  </a:lnTo>
                  <a:lnTo>
                    <a:pt x="632" y="328"/>
                  </a:lnTo>
                  <a:lnTo>
                    <a:pt x="672" y="299"/>
                  </a:lnTo>
                  <a:lnTo>
                    <a:pt x="714" y="272"/>
                  </a:lnTo>
                  <a:lnTo>
                    <a:pt x="758" y="247"/>
                  </a:lnTo>
                  <a:lnTo>
                    <a:pt x="801" y="222"/>
                  </a:lnTo>
                  <a:lnTo>
                    <a:pt x="847" y="199"/>
                  </a:lnTo>
                  <a:lnTo>
                    <a:pt x="893" y="177"/>
                  </a:lnTo>
                  <a:lnTo>
                    <a:pt x="941" y="157"/>
                  </a:lnTo>
                  <a:lnTo>
                    <a:pt x="990" y="139"/>
                  </a:lnTo>
                  <a:lnTo>
                    <a:pt x="1041" y="122"/>
                  </a:lnTo>
                  <a:lnTo>
                    <a:pt x="1092" y="10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3651120" y="5130720"/>
              <a:ext cx="130320" cy="412920"/>
            </a:xfrm>
            <a:custGeom>
              <a:avLst/>
              <a:gdLst/>
              <a:ahLst/>
              <a:rect l="l" t="t" r="r" b="b"/>
              <a:pathLst>
                <a:path w="328" h="1041">
                  <a:moveTo>
                    <a:pt x="136" y="2"/>
                  </a:moveTo>
                  <a:lnTo>
                    <a:pt x="133" y="8"/>
                  </a:lnTo>
                  <a:lnTo>
                    <a:pt x="127" y="26"/>
                  </a:lnTo>
                  <a:lnTo>
                    <a:pt x="117" y="56"/>
                  </a:lnTo>
                  <a:lnTo>
                    <a:pt x="105" y="95"/>
                  </a:lnTo>
                  <a:lnTo>
                    <a:pt x="90" y="143"/>
                  </a:lnTo>
                  <a:lnTo>
                    <a:pt x="75" y="199"/>
                  </a:lnTo>
                  <a:lnTo>
                    <a:pt x="59" y="261"/>
                  </a:lnTo>
                  <a:lnTo>
                    <a:pt x="44" y="329"/>
                  </a:lnTo>
                  <a:lnTo>
                    <a:pt x="36" y="365"/>
                  </a:lnTo>
                  <a:lnTo>
                    <a:pt x="29" y="401"/>
                  </a:lnTo>
                  <a:lnTo>
                    <a:pt x="23" y="440"/>
                  </a:lnTo>
                  <a:lnTo>
                    <a:pt x="18" y="478"/>
                  </a:lnTo>
                  <a:lnTo>
                    <a:pt x="13" y="517"/>
                  </a:lnTo>
                  <a:lnTo>
                    <a:pt x="8" y="556"/>
                  </a:lnTo>
                  <a:lnTo>
                    <a:pt x="4" y="596"/>
                  </a:lnTo>
                  <a:lnTo>
                    <a:pt x="3" y="636"/>
                  </a:lnTo>
                  <a:lnTo>
                    <a:pt x="2" y="675"/>
                  </a:lnTo>
                  <a:lnTo>
                    <a:pt x="0" y="715"/>
                  </a:lnTo>
                  <a:lnTo>
                    <a:pt x="2" y="755"/>
                  </a:lnTo>
                  <a:lnTo>
                    <a:pt x="4" y="794"/>
                  </a:lnTo>
                  <a:lnTo>
                    <a:pt x="9" y="833"/>
                  </a:lnTo>
                  <a:lnTo>
                    <a:pt x="14" y="871"/>
                  </a:lnTo>
                  <a:lnTo>
                    <a:pt x="21" y="909"/>
                  </a:lnTo>
                  <a:lnTo>
                    <a:pt x="30" y="946"/>
                  </a:lnTo>
                  <a:lnTo>
                    <a:pt x="56" y="1041"/>
                  </a:lnTo>
                  <a:lnTo>
                    <a:pt x="144" y="1041"/>
                  </a:lnTo>
                  <a:lnTo>
                    <a:pt x="143" y="1033"/>
                  </a:lnTo>
                  <a:lnTo>
                    <a:pt x="142" y="1007"/>
                  </a:lnTo>
                  <a:lnTo>
                    <a:pt x="139" y="967"/>
                  </a:lnTo>
                  <a:lnTo>
                    <a:pt x="137" y="914"/>
                  </a:lnTo>
                  <a:lnTo>
                    <a:pt x="136" y="850"/>
                  </a:lnTo>
                  <a:lnTo>
                    <a:pt x="136" y="778"/>
                  </a:lnTo>
                  <a:lnTo>
                    <a:pt x="137" y="699"/>
                  </a:lnTo>
                  <a:lnTo>
                    <a:pt x="141" y="616"/>
                  </a:lnTo>
                  <a:lnTo>
                    <a:pt x="144" y="574"/>
                  </a:lnTo>
                  <a:lnTo>
                    <a:pt x="148" y="530"/>
                  </a:lnTo>
                  <a:lnTo>
                    <a:pt x="153" y="487"/>
                  </a:lnTo>
                  <a:lnTo>
                    <a:pt x="158" y="443"/>
                  </a:lnTo>
                  <a:lnTo>
                    <a:pt x="166" y="401"/>
                  </a:lnTo>
                  <a:lnTo>
                    <a:pt x="173" y="359"/>
                  </a:lnTo>
                  <a:lnTo>
                    <a:pt x="182" y="318"/>
                  </a:lnTo>
                  <a:lnTo>
                    <a:pt x="193" y="278"/>
                  </a:lnTo>
                  <a:lnTo>
                    <a:pt x="204" y="240"/>
                  </a:lnTo>
                  <a:lnTo>
                    <a:pt x="218" y="203"/>
                  </a:lnTo>
                  <a:lnTo>
                    <a:pt x="231" y="168"/>
                  </a:lnTo>
                  <a:lnTo>
                    <a:pt x="247" y="136"/>
                  </a:lnTo>
                  <a:lnTo>
                    <a:pt x="265" y="105"/>
                  </a:lnTo>
                  <a:lnTo>
                    <a:pt x="285" y="77"/>
                  </a:lnTo>
                  <a:lnTo>
                    <a:pt x="306" y="53"/>
                  </a:lnTo>
                  <a:lnTo>
                    <a:pt x="328" y="31"/>
                  </a:lnTo>
                  <a:lnTo>
                    <a:pt x="322" y="29"/>
                  </a:lnTo>
                  <a:lnTo>
                    <a:pt x="303" y="25"/>
                  </a:lnTo>
                  <a:lnTo>
                    <a:pt x="277" y="19"/>
                  </a:lnTo>
                  <a:lnTo>
                    <a:pt x="245" y="13"/>
                  </a:lnTo>
                  <a:lnTo>
                    <a:pt x="213" y="7"/>
                  </a:lnTo>
                  <a:lnTo>
                    <a:pt x="180" y="3"/>
                  </a:lnTo>
                  <a:lnTo>
                    <a:pt x="167" y="2"/>
                  </a:lnTo>
                  <a:lnTo>
                    <a:pt x="154" y="0"/>
                  </a:lnTo>
                  <a:lnTo>
                    <a:pt x="143" y="0"/>
                  </a:lnTo>
                  <a:lnTo>
                    <a:pt x="136" y="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3638520" y="5116680"/>
              <a:ext cx="174600" cy="441000"/>
            </a:xfrm>
            <a:custGeom>
              <a:avLst/>
              <a:gdLst/>
              <a:ahLst/>
              <a:rect l="l" t="t" r="r" b="b"/>
              <a:pathLst>
                <a:path w="439" h="1111">
                  <a:moveTo>
                    <a:pt x="160" y="1"/>
                  </a:moveTo>
                  <a:lnTo>
                    <a:pt x="142" y="6"/>
                  </a:lnTo>
                  <a:lnTo>
                    <a:pt x="136" y="23"/>
                  </a:lnTo>
                  <a:lnTo>
                    <a:pt x="132" y="34"/>
                  </a:lnTo>
                  <a:lnTo>
                    <a:pt x="125" y="55"/>
                  </a:lnTo>
                  <a:lnTo>
                    <a:pt x="114" y="88"/>
                  </a:lnTo>
                  <a:lnTo>
                    <a:pt x="101" y="129"/>
                  </a:lnTo>
                  <a:lnTo>
                    <a:pt x="87" y="178"/>
                  </a:lnTo>
                  <a:lnTo>
                    <a:pt x="70" y="235"/>
                  </a:lnTo>
                  <a:lnTo>
                    <a:pt x="54" y="299"/>
                  </a:lnTo>
                  <a:lnTo>
                    <a:pt x="39" y="368"/>
                  </a:lnTo>
                  <a:lnTo>
                    <a:pt x="32" y="404"/>
                  </a:lnTo>
                  <a:lnTo>
                    <a:pt x="26" y="441"/>
                  </a:lnTo>
                  <a:lnTo>
                    <a:pt x="19" y="479"/>
                  </a:lnTo>
                  <a:lnTo>
                    <a:pt x="14" y="517"/>
                  </a:lnTo>
                  <a:lnTo>
                    <a:pt x="10" y="557"/>
                  </a:lnTo>
                  <a:lnTo>
                    <a:pt x="6" y="596"/>
                  </a:lnTo>
                  <a:lnTo>
                    <a:pt x="2" y="636"/>
                  </a:lnTo>
                  <a:lnTo>
                    <a:pt x="0" y="676"/>
                  </a:lnTo>
                  <a:lnTo>
                    <a:pt x="0" y="717"/>
                  </a:lnTo>
                  <a:lnTo>
                    <a:pt x="0" y="756"/>
                  </a:lnTo>
                  <a:lnTo>
                    <a:pt x="1" y="796"/>
                  </a:lnTo>
                  <a:lnTo>
                    <a:pt x="3" y="836"/>
                  </a:lnTo>
                  <a:lnTo>
                    <a:pt x="7" y="876"/>
                  </a:lnTo>
                  <a:lnTo>
                    <a:pt x="13" y="914"/>
                  </a:lnTo>
                  <a:lnTo>
                    <a:pt x="21" y="951"/>
                  </a:lnTo>
                  <a:lnTo>
                    <a:pt x="31" y="989"/>
                  </a:lnTo>
                  <a:lnTo>
                    <a:pt x="63" y="1111"/>
                  </a:lnTo>
                  <a:lnTo>
                    <a:pt x="217" y="1111"/>
                  </a:lnTo>
                  <a:lnTo>
                    <a:pt x="214" y="1073"/>
                  </a:lnTo>
                  <a:lnTo>
                    <a:pt x="213" y="1063"/>
                  </a:lnTo>
                  <a:lnTo>
                    <a:pt x="212" y="1037"/>
                  </a:lnTo>
                  <a:lnTo>
                    <a:pt x="209" y="996"/>
                  </a:lnTo>
                  <a:lnTo>
                    <a:pt x="207" y="944"/>
                  </a:lnTo>
                  <a:lnTo>
                    <a:pt x="206" y="882"/>
                  </a:lnTo>
                  <a:lnTo>
                    <a:pt x="206" y="811"/>
                  </a:lnTo>
                  <a:lnTo>
                    <a:pt x="207" y="734"/>
                  </a:lnTo>
                  <a:lnTo>
                    <a:pt x="211" y="654"/>
                  </a:lnTo>
                  <a:lnTo>
                    <a:pt x="213" y="613"/>
                  </a:lnTo>
                  <a:lnTo>
                    <a:pt x="217" y="570"/>
                  </a:lnTo>
                  <a:lnTo>
                    <a:pt x="222" y="528"/>
                  </a:lnTo>
                  <a:lnTo>
                    <a:pt x="227" y="487"/>
                  </a:lnTo>
                  <a:lnTo>
                    <a:pt x="233" y="446"/>
                  </a:lnTo>
                  <a:lnTo>
                    <a:pt x="240" y="405"/>
                  </a:lnTo>
                  <a:lnTo>
                    <a:pt x="249" y="366"/>
                  </a:lnTo>
                  <a:lnTo>
                    <a:pt x="258" y="327"/>
                  </a:lnTo>
                  <a:lnTo>
                    <a:pt x="269" y="291"/>
                  </a:lnTo>
                  <a:lnTo>
                    <a:pt x="281" y="255"/>
                  </a:lnTo>
                  <a:lnTo>
                    <a:pt x="295" y="222"/>
                  </a:lnTo>
                  <a:lnTo>
                    <a:pt x="310" y="191"/>
                  </a:lnTo>
                  <a:lnTo>
                    <a:pt x="326" y="162"/>
                  </a:lnTo>
                  <a:lnTo>
                    <a:pt x="345" y="136"/>
                  </a:lnTo>
                  <a:lnTo>
                    <a:pt x="363" y="113"/>
                  </a:lnTo>
                  <a:lnTo>
                    <a:pt x="386" y="93"/>
                  </a:lnTo>
                  <a:lnTo>
                    <a:pt x="439" y="47"/>
                  </a:lnTo>
                  <a:lnTo>
                    <a:pt x="371" y="31"/>
                  </a:lnTo>
                  <a:lnTo>
                    <a:pt x="350" y="26"/>
                  </a:lnTo>
                  <a:lnTo>
                    <a:pt x="322" y="20"/>
                  </a:lnTo>
                  <a:lnTo>
                    <a:pt x="293" y="13"/>
                  </a:lnTo>
                  <a:lnTo>
                    <a:pt x="262" y="7"/>
                  </a:lnTo>
                  <a:lnTo>
                    <a:pt x="231" y="2"/>
                  </a:lnTo>
                  <a:lnTo>
                    <a:pt x="203" y="0"/>
                  </a:lnTo>
                  <a:lnTo>
                    <a:pt x="190" y="0"/>
                  </a:lnTo>
                  <a:lnTo>
                    <a:pt x="178" y="0"/>
                  </a:lnTo>
                  <a:lnTo>
                    <a:pt x="168" y="0"/>
                  </a:lnTo>
                  <a:lnTo>
                    <a:pt x="160" y="1"/>
                  </a:lnTo>
                  <a:close/>
                  <a:moveTo>
                    <a:pt x="99" y="970"/>
                  </a:moveTo>
                  <a:lnTo>
                    <a:pt x="91" y="943"/>
                  </a:lnTo>
                  <a:lnTo>
                    <a:pt x="87" y="914"/>
                  </a:lnTo>
                  <a:lnTo>
                    <a:pt x="82" y="884"/>
                  </a:lnTo>
                  <a:lnTo>
                    <a:pt x="78" y="856"/>
                  </a:lnTo>
                  <a:lnTo>
                    <a:pt x="74" y="826"/>
                  </a:lnTo>
                  <a:lnTo>
                    <a:pt x="73" y="795"/>
                  </a:lnTo>
                  <a:lnTo>
                    <a:pt x="72" y="765"/>
                  </a:lnTo>
                  <a:lnTo>
                    <a:pt x="70" y="734"/>
                  </a:lnTo>
                  <a:lnTo>
                    <a:pt x="72" y="678"/>
                  </a:lnTo>
                  <a:lnTo>
                    <a:pt x="75" y="622"/>
                  </a:lnTo>
                  <a:lnTo>
                    <a:pt x="80" y="567"/>
                  </a:lnTo>
                  <a:lnTo>
                    <a:pt x="88" y="512"/>
                  </a:lnTo>
                  <a:lnTo>
                    <a:pt x="95" y="459"/>
                  </a:lnTo>
                  <a:lnTo>
                    <a:pt x="105" y="408"/>
                  </a:lnTo>
                  <a:lnTo>
                    <a:pt x="115" y="358"/>
                  </a:lnTo>
                  <a:lnTo>
                    <a:pt x="125" y="312"/>
                  </a:lnTo>
                  <a:lnTo>
                    <a:pt x="136" y="268"/>
                  </a:lnTo>
                  <a:lnTo>
                    <a:pt x="146" y="228"/>
                  </a:lnTo>
                  <a:lnTo>
                    <a:pt x="157" y="191"/>
                  </a:lnTo>
                  <a:lnTo>
                    <a:pt x="167" y="157"/>
                  </a:lnTo>
                  <a:lnTo>
                    <a:pt x="183" y="104"/>
                  </a:lnTo>
                  <a:lnTo>
                    <a:pt x="196" y="72"/>
                  </a:lnTo>
                  <a:lnTo>
                    <a:pt x="216" y="73"/>
                  </a:lnTo>
                  <a:lnTo>
                    <a:pt x="242" y="77"/>
                  </a:lnTo>
                  <a:lnTo>
                    <a:pt x="272" y="83"/>
                  </a:lnTo>
                  <a:lnTo>
                    <a:pt x="304" y="89"/>
                  </a:lnTo>
                  <a:lnTo>
                    <a:pt x="290" y="105"/>
                  </a:lnTo>
                  <a:lnTo>
                    <a:pt x="279" y="122"/>
                  </a:lnTo>
                  <a:lnTo>
                    <a:pt x="267" y="141"/>
                  </a:lnTo>
                  <a:lnTo>
                    <a:pt x="257" y="160"/>
                  </a:lnTo>
                  <a:lnTo>
                    <a:pt x="245" y="180"/>
                  </a:lnTo>
                  <a:lnTo>
                    <a:pt x="237" y="201"/>
                  </a:lnTo>
                  <a:lnTo>
                    <a:pt x="227" y="222"/>
                  </a:lnTo>
                  <a:lnTo>
                    <a:pt x="218" y="243"/>
                  </a:lnTo>
                  <a:lnTo>
                    <a:pt x="211" y="266"/>
                  </a:lnTo>
                  <a:lnTo>
                    <a:pt x="203" y="289"/>
                  </a:lnTo>
                  <a:lnTo>
                    <a:pt x="196" y="312"/>
                  </a:lnTo>
                  <a:lnTo>
                    <a:pt x="188" y="336"/>
                  </a:lnTo>
                  <a:lnTo>
                    <a:pt x="177" y="386"/>
                  </a:lnTo>
                  <a:lnTo>
                    <a:pt x="167" y="436"/>
                  </a:lnTo>
                  <a:lnTo>
                    <a:pt x="157" y="487"/>
                  </a:lnTo>
                  <a:lnTo>
                    <a:pt x="151" y="539"/>
                  </a:lnTo>
                  <a:lnTo>
                    <a:pt x="145" y="590"/>
                  </a:lnTo>
                  <a:lnTo>
                    <a:pt x="141" y="641"/>
                  </a:lnTo>
                  <a:lnTo>
                    <a:pt x="137" y="692"/>
                  </a:lnTo>
                  <a:lnTo>
                    <a:pt x="135" y="742"/>
                  </a:lnTo>
                  <a:lnTo>
                    <a:pt x="134" y="789"/>
                  </a:lnTo>
                  <a:lnTo>
                    <a:pt x="134" y="835"/>
                  </a:lnTo>
                  <a:lnTo>
                    <a:pt x="134" y="871"/>
                  </a:lnTo>
                  <a:lnTo>
                    <a:pt x="134" y="903"/>
                  </a:lnTo>
                  <a:lnTo>
                    <a:pt x="135" y="933"/>
                  </a:lnTo>
                  <a:lnTo>
                    <a:pt x="136" y="960"/>
                  </a:lnTo>
                  <a:lnTo>
                    <a:pt x="137" y="985"/>
                  </a:lnTo>
                  <a:lnTo>
                    <a:pt x="139" y="1006"/>
                  </a:lnTo>
                  <a:lnTo>
                    <a:pt x="139" y="1024"/>
                  </a:lnTo>
                  <a:lnTo>
                    <a:pt x="140" y="1041"/>
                  </a:lnTo>
                  <a:lnTo>
                    <a:pt x="129" y="1041"/>
                  </a:lnTo>
                  <a:lnTo>
                    <a:pt x="118" y="1041"/>
                  </a:lnTo>
                  <a:lnTo>
                    <a:pt x="111" y="1017"/>
                  </a:lnTo>
                  <a:lnTo>
                    <a:pt x="105" y="995"/>
                  </a:lnTo>
                  <a:lnTo>
                    <a:pt x="100" y="977"/>
                  </a:lnTo>
                  <a:lnTo>
                    <a:pt x="99" y="97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3695760" y="5137200"/>
              <a:ext cx="142920" cy="420480"/>
            </a:xfrm>
            <a:custGeom>
              <a:avLst/>
              <a:gdLst/>
              <a:ahLst/>
              <a:rect l="l" t="t" r="r" b="b"/>
              <a:pathLst>
                <a:path w="360" h="1062">
                  <a:moveTo>
                    <a:pt x="177" y="1"/>
                  </a:moveTo>
                  <a:lnTo>
                    <a:pt x="173" y="7"/>
                  </a:lnTo>
                  <a:lnTo>
                    <a:pt x="166" y="27"/>
                  </a:lnTo>
                  <a:lnTo>
                    <a:pt x="154" y="58"/>
                  </a:lnTo>
                  <a:lnTo>
                    <a:pt x="139" y="98"/>
                  </a:lnTo>
                  <a:lnTo>
                    <a:pt x="120" y="149"/>
                  </a:lnTo>
                  <a:lnTo>
                    <a:pt x="101" y="206"/>
                  </a:lnTo>
                  <a:lnTo>
                    <a:pt x="82" y="271"/>
                  </a:lnTo>
                  <a:lnTo>
                    <a:pt x="62" y="341"/>
                  </a:lnTo>
                  <a:lnTo>
                    <a:pt x="52" y="378"/>
                  </a:lnTo>
                  <a:lnTo>
                    <a:pt x="43" y="417"/>
                  </a:lnTo>
                  <a:lnTo>
                    <a:pt x="34" y="455"/>
                  </a:lnTo>
                  <a:lnTo>
                    <a:pt x="27" y="495"/>
                  </a:lnTo>
                  <a:lnTo>
                    <a:pt x="20" y="535"/>
                  </a:lnTo>
                  <a:lnTo>
                    <a:pt x="13" y="575"/>
                  </a:lnTo>
                  <a:lnTo>
                    <a:pt x="8" y="616"/>
                  </a:lnTo>
                  <a:lnTo>
                    <a:pt x="5" y="657"/>
                  </a:lnTo>
                  <a:lnTo>
                    <a:pt x="2" y="697"/>
                  </a:lnTo>
                  <a:lnTo>
                    <a:pt x="0" y="738"/>
                  </a:lnTo>
                  <a:lnTo>
                    <a:pt x="0" y="779"/>
                  </a:lnTo>
                  <a:lnTo>
                    <a:pt x="2" y="819"/>
                  </a:lnTo>
                  <a:lnTo>
                    <a:pt x="5" y="858"/>
                  </a:lnTo>
                  <a:lnTo>
                    <a:pt x="10" y="897"/>
                  </a:lnTo>
                  <a:lnTo>
                    <a:pt x="17" y="934"/>
                  </a:lnTo>
                  <a:lnTo>
                    <a:pt x="26" y="971"/>
                  </a:lnTo>
                  <a:lnTo>
                    <a:pt x="87" y="1062"/>
                  </a:lnTo>
                  <a:lnTo>
                    <a:pt x="175" y="1062"/>
                  </a:lnTo>
                  <a:lnTo>
                    <a:pt x="175" y="1053"/>
                  </a:lnTo>
                  <a:lnTo>
                    <a:pt x="172" y="1027"/>
                  </a:lnTo>
                  <a:lnTo>
                    <a:pt x="170" y="987"/>
                  </a:lnTo>
                  <a:lnTo>
                    <a:pt x="167" y="934"/>
                  </a:lnTo>
                  <a:lnTo>
                    <a:pt x="166" y="871"/>
                  </a:lnTo>
                  <a:lnTo>
                    <a:pt x="166" y="799"/>
                  </a:lnTo>
                  <a:lnTo>
                    <a:pt x="167" y="719"/>
                  </a:lnTo>
                  <a:lnTo>
                    <a:pt x="171" y="636"/>
                  </a:lnTo>
                  <a:lnTo>
                    <a:pt x="175" y="594"/>
                  </a:lnTo>
                  <a:lnTo>
                    <a:pt x="178" y="551"/>
                  </a:lnTo>
                  <a:lnTo>
                    <a:pt x="183" y="507"/>
                  </a:lnTo>
                  <a:lnTo>
                    <a:pt x="188" y="464"/>
                  </a:lnTo>
                  <a:lnTo>
                    <a:pt x="196" y="422"/>
                  </a:lnTo>
                  <a:lnTo>
                    <a:pt x="203" y="379"/>
                  </a:lnTo>
                  <a:lnTo>
                    <a:pt x="213" y="338"/>
                  </a:lnTo>
                  <a:lnTo>
                    <a:pt x="223" y="299"/>
                  </a:lnTo>
                  <a:lnTo>
                    <a:pt x="234" y="260"/>
                  </a:lnTo>
                  <a:lnTo>
                    <a:pt x="248" y="223"/>
                  </a:lnTo>
                  <a:lnTo>
                    <a:pt x="262" y="188"/>
                  </a:lnTo>
                  <a:lnTo>
                    <a:pt x="278" y="156"/>
                  </a:lnTo>
                  <a:lnTo>
                    <a:pt x="295" y="125"/>
                  </a:lnTo>
                  <a:lnTo>
                    <a:pt x="315" y="98"/>
                  </a:lnTo>
                  <a:lnTo>
                    <a:pt x="336" y="73"/>
                  </a:lnTo>
                  <a:lnTo>
                    <a:pt x="360" y="52"/>
                  </a:lnTo>
                  <a:lnTo>
                    <a:pt x="336" y="42"/>
                  </a:lnTo>
                  <a:lnTo>
                    <a:pt x="282" y="22"/>
                  </a:lnTo>
                  <a:lnTo>
                    <a:pt x="250" y="12"/>
                  </a:lnTo>
                  <a:lnTo>
                    <a:pt x="221" y="5"/>
                  </a:lnTo>
                  <a:lnTo>
                    <a:pt x="207" y="2"/>
                  </a:lnTo>
                  <a:lnTo>
                    <a:pt x="195" y="1"/>
                  </a:lnTo>
                  <a:lnTo>
                    <a:pt x="185" y="0"/>
                  </a:lnTo>
                  <a:lnTo>
                    <a:pt x="177" y="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3681360" y="5122800"/>
              <a:ext cx="184320" cy="449280"/>
            </a:xfrm>
            <a:custGeom>
              <a:avLst/>
              <a:gdLst/>
              <a:ahLst/>
              <a:rect l="l" t="t" r="r" b="b"/>
              <a:pathLst>
                <a:path w="464" h="1133">
                  <a:moveTo>
                    <a:pt x="203" y="1"/>
                  </a:moveTo>
                  <a:lnTo>
                    <a:pt x="187" y="6"/>
                  </a:lnTo>
                  <a:lnTo>
                    <a:pt x="180" y="21"/>
                  </a:lnTo>
                  <a:lnTo>
                    <a:pt x="176" y="32"/>
                  </a:lnTo>
                  <a:lnTo>
                    <a:pt x="166" y="56"/>
                  </a:lnTo>
                  <a:lnTo>
                    <a:pt x="152" y="89"/>
                  </a:lnTo>
                  <a:lnTo>
                    <a:pt x="136" y="132"/>
                  </a:lnTo>
                  <a:lnTo>
                    <a:pt x="119" y="184"/>
                  </a:lnTo>
                  <a:lnTo>
                    <a:pt x="99" y="243"/>
                  </a:lnTo>
                  <a:lnTo>
                    <a:pt x="79" y="309"/>
                  </a:lnTo>
                  <a:lnTo>
                    <a:pt x="59" y="380"/>
                  </a:lnTo>
                  <a:lnTo>
                    <a:pt x="51" y="418"/>
                  </a:lnTo>
                  <a:lnTo>
                    <a:pt x="41" y="455"/>
                  </a:lnTo>
                  <a:lnTo>
                    <a:pt x="33" y="495"/>
                  </a:lnTo>
                  <a:lnTo>
                    <a:pt x="26" y="535"/>
                  </a:lnTo>
                  <a:lnTo>
                    <a:pt x="18" y="574"/>
                  </a:lnTo>
                  <a:lnTo>
                    <a:pt x="12" y="615"/>
                  </a:lnTo>
                  <a:lnTo>
                    <a:pt x="8" y="656"/>
                  </a:lnTo>
                  <a:lnTo>
                    <a:pt x="5" y="697"/>
                  </a:lnTo>
                  <a:lnTo>
                    <a:pt x="1" y="738"/>
                  </a:lnTo>
                  <a:lnTo>
                    <a:pt x="0" y="779"/>
                  </a:lnTo>
                  <a:lnTo>
                    <a:pt x="1" y="820"/>
                  </a:lnTo>
                  <a:lnTo>
                    <a:pt x="2" y="861"/>
                  </a:lnTo>
                  <a:lnTo>
                    <a:pt x="6" y="901"/>
                  </a:lnTo>
                  <a:lnTo>
                    <a:pt x="11" y="939"/>
                  </a:lnTo>
                  <a:lnTo>
                    <a:pt x="18" y="978"/>
                  </a:lnTo>
                  <a:lnTo>
                    <a:pt x="27" y="1015"/>
                  </a:lnTo>
                  <a:lnTo>
                    <a:pt x="94" y="1117"/>
                  </a:lnTo>
                  <a:lnTo>
                    <a:pt x="104" y="1133"/>
                  </a:lnTo>
                  <a:lnTo>
                    <a:pt x="250" y="1133"/>
                  </a:lnTo>
                  <a:lnTo>
                    <a:pt x="247" y="1094"/>
                  </a:lnTo>
                  <a:lnTo>
                    <a:pt x="245" y="1084"/>
                  </a:lnTo>
                  <a:lnTo>
                    <a:pt x="244" y="1058"/>
                  </a:lnTo>
                  <a:lnTo>
                    <a:pt x="242" y="1017"/>
                  </a:lnTo>
                  <a:lnTo>
                    <a:pt x="239" y="965"/>
                  </a:lnTo>
                  <a:lnTo>
                    <a:pt x="238" y="903"/>
                  </a:lnTo>
                  <a:lnTo>
                    <a:pt x="238" y="833"/>
                  </a:lnTo>
                  <a:lnTo>
                    <a:pt x="239" y="756"/>
                  </a:lnTo>
                  <a:lnTo>
                    <a:pt x="243" y="675"/>
                  </a:lnTo>
                  <a:lnTo>
                    <a:pt x="245" y="634"/>
                  </a:lnTo>
                  <a:lnTo>
                    <a:pt x="249" y="592"/>
                  </a:lnTo>
                  <a:lnTo>
                    <a:pt x="254" y="551"/>
                  </a:lnTo>
                  <a:lnTo>
                    <a:pt x="259" y="509"/>
                  </a:lnTo>
                  <a:lnTo>
                    <a:pt x="265" y="468"/>
                  </a:lnTo>
                  <a:lnTo>
                    <a:pt x="273" y="427"/>
                  </a:lnTo>
                  <a:lnTo>
                    <a:pt x="282" y="387"/>
                  </a:lnTo>
                  <a:lnTo>
                    <a:pt x="291" y="349"/>
                  </a:lnTo>
                  <a:lnTo>
                    <a:pt x="301" y="313"/>
                  </a:lnTo>
                  <a:lnTo>
                    <a:pt x="314" y="277"/>
                  </a:lnTo>
                  <a:lnTo>
                    <a:pt x="327" y="243"/>
                  </a:lnTo>
                  <a:lnTo>
                    <a:pt x="342" y="212"/>
                  </a:lnTo>
                  <a:lnTo>
                    <a:pt x="358" y="184"/>
                  </a:lnTo>
                  <a:lnTo>
                    <a:pt x="377" y="158"/>
                  </a:lnTo>
                  <a:lnTo>
                    <a:pt x="397" y="134"/>
                  </a:lnTo>
                  <a:lnTo>
                    <a:pt x="418" y="114"/>
                  </a:lnTo>
                  <a:lnTo>
                    <a:pt x="464" y="76"/>
                  </a:lnTo>
                  <a:lnTo>
                    <a:pt x="408" y="53"/>
                  </a:lnTo>
                  <a:lnTo>
                    <a:pt x="385" y="43"/>
                  </a:lnTo>
                  <a:lnTo>
                    <a:pt x="357" y="34"/>
                  </a:lnTo>
                  <a:lnTo>
                    <a:pt x="329" y="24"/>
                  </a:lnTo>
                  <a:lnTo>
                    <a:pt x="299" y="14"/>
                  </a:lnTo>
                  <a:lnTo>
                    <a:pt x="270" y="6"/>
                  </a:lnTo>
                  <a:lnTo>
                    <a:pt x="244" y="1"/>
                  </a:lnTo>
                  <a:lnTo>
                    <a:pt x="232" y="0"/>
                  </a:lnTo>
                  <a:lnTo>
                    <a:pt x="222" y="0"/>
                  </a:lnTo>
                  <a:lnTo>
                    <a:pt x="212" y="0"/>
                  </a:lnTo>
                  <a:lnTo>
                    <a:pt x="203" y="1"/>
                  </a:lnTo>
                  <a:close/>
                  <a:moveTo>
                    <a:pt x="92" y="985"/>
                  </a:moveTo>
                  <a:lnTo>
                    <a:pt x="85" y="964"/>
                  </a:lnTo>
                  <a:lnTo>
                    <a:pt x="80" y="942"/>
                  </a:lnTo>
                  <a:lnTo>
                    <a:pt x="77" y="918"/>
                  </a:lnTo>
                  <a:lnTo>
                    <a:pt x="74" y="895"/>
                  </a:lnTo>
                  <a:lnTo>
                    <a:pt x="72" y="871"/>
                  </a:lnTo>
                  <a:lnTo>
                    <a:pt x="70" y="847"/>
                  </a:lnTo>
                  <a:lnTo>
                    <a:pt x="69" y="823"/>
                  </a:lnTo>
                  <a:lnTo>
                    <a:pt x="69" y="799"/>
                  </a:lnTo>
                  <a:lnTo>
                    <a:pt x="69" y="771"/>
                  </a:lnTo>
                  <a:lnTo>
                    <a:pt x="70" y="743"/>
                  </a:lnTo>
                  <a:lnTo>
                    <a:pt x="72" y="715"/>
                  </a:lnTo>
                  <a:lnTo>
                    <a:pt x="74" y="686"/>
                  </a:lnTo>
                  <a:lnTo>
                    <a:pt x="82" y="629"/>
                  </a:lnTo>
                  <a:lnTo>
                    <a:pt x="90" y="573"/>
                  </a:lnTo>
                  <a:lnTo>
                    <a:pt x="100" y="517"/>
                  </a:lnTo>
                  <a:lnTo>
                    <a:pt x="113" y="463"/>
                  </a:lnTo>
                  <a:lnTo>
                    <a:pt x="125" y="409"/>
                  </a:lnTo>
                  <a:lnTo>
                    <a:pt x="139" y="359"/>
                  </a:lnTo>
                  <a:lnTo>
                    <a:pt x="152" y="310"/>
                  </a:lnTo>
                  <a:lnTo>
                    <a:pt x="167" y="264"/>
                  </a:lnTo>
                  <a:lnTo>
                    <a:pt x="181" y="222"/>
                  </a:lnTo>
                  <a:lnTo>
                    <a:pt x="195" y="182"/>
                  </a:lnTo>
                  <a:lnTo>
                    <a:pt x="218" y="118"/>
                  </a:lnTo>
                  <a:lnTo>
                    <a:pt x="236" y="73"/>
                  </a:lnTo>
                  <a:lnTo>
                    <a:pt x="254" y="77"/>
                  </a:lnTo>
                  <a:lnTo>
                    <a:pt x="279" y="84"/>
                  </a:lnTo>
                  <a:lnTo>
                    <a:pt x="308" y="93"/>
                  </a:lnTo>
                  <a:lnTo>
                    <a:pt x="340" y="104"/>
                  </a:lnTo>
                  <a:lnTo>
                    <a:pt x="327" y="120"/>
                  </a:lnTo>
                  <a:lnTo>
                    <a:pt x="315" y="138"/>
                  </a:lnTo>
                  <a:lnTo>
                    <a:pt x="303" y="156"/>
                  </a:lnTo>
                  <a:lnTo>
                    <a:pt x="291" y="175"/>
                  </a:lnTo>
                  <a:lnTo>
                    <a:pt x="282" y="195"/>
                  </a:lnTo>
                  <a:lnTo>
                    <a:pt x="272" y="216"/>
                  </a:lnTo>
                  <a:lnTo>
                    <a:pt x="262" y="237"/>
                  </a:lnTo>
                  <a:lnTo>
                    <a:pt x="253" y="259"/>
                  </a:lnTo>
                  <a:lnTo>
                    <a:pt x="244" y="282"/>
                  </a:lnTo>
                  <a:lnTo>
                    <a:pt x="237" y="305"/>
                  </a:lnTo>
                  <a:lnTo>
                    <a:pt x="229" y="329"/>
                  </a:lnTo>
                  <a:lnTo>
                    <a:pt x="222" y="352"/>
                  </a:lnTo>
                  <a:lnTo>
                    <a:pt x="211" y="402"/>
                  </a:lnTo>
                  <a:lnTo>
                    <a:pt x="200" y="453"/>
                  </a:lnTo>
                  <a:lnTo>
                    <a:pt x="191" y="505"/>
                  </a:lnTo>
                  <a:lnTo>
                    <a:pt x="183" y="557"/>
                  </a:lnTo>
                  <a:lnTo>
                    <a:pt x="177" y="609"/>
                  </a:lnTo>
                  <a:lnTo>
                    <a:pt x="173" y="661"/>
                  </a:lnTo>
                  <a:lnTo>
                    <a:pt x="170" y="712"/>
                  </a:lnTo>
                  <a:lnTo>
                    <a:pt x="167" y="762"/>
                  </a:lnTo>
                  <a:lnTo>
                    <a:pt x="166" y="810"/>
                  </a:lnTo>
                  <a:lnTo>
                    <a:pt x="166" y="856"/>
                  </a:lnTo>
                  <a:lnTo>
                    <a:pt x="166" y="892"/>
                  </a:lnTo>
                  <a:lnTo>
                    <a:pt x="167" y="924"/>
                  </a:lnTo>
                  <a:lnTo>
                    <a:pt x="167" y="955"/>
                  </a:lnTo>
                  <a:lnTo>
                    <a:pt x="169" y="981"/>
                  </a:lnTo>
                  <a:lnTo>
                    <a:pt x="170" y="1006"/>
                  </a:lnTo>
                  <a:lnTo>
                    <a:pt x="171" y="1027"/>
                  </a:lnTo>
                  <a:lnTo>
                    <a:pt x="172" y="1046"/>
                  </a:lnTo>
                  <a:lnTo>
                    <a:pt x="172" y="1062"/>
                  </a:lnTo>
                  <a:lnTo>
                    <a:pt x="156" y="1062"/>
                  </a:lnTo>
                  <a:lnTo>
                    <a:pt x="142" y="1062"/>
                  </a:lnTo>
                  <a:lnTo>
                    <a:pt x="128" y="1041"/>
                  </a:lnTo>
                  <a:lnTo>
                    <a:pt x="111" y="1016"/>
                  </a:lnTo>
                  <a:lnTo>
                    <a:pt x="96" y="995"/>
                  </a:lnTo>
                  <a:lnTo>
                    <a:pt x="92" y="98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3751200" y="5153040"/>
              <a:ext cx="146160" cy="415800"/>
            </a:xfrm>
            <a:custGeom>
              <a:avLst/>
              <a:gdLst/>
              <a:ahLst/>
              <a:rect l="l" t="t" r="r" b="b"/>
              <a:pathLst>
                <a:path w="367" h="1048">
                  <a:moveTo>
                    <a:pt x="164" y="1"/>
                  </a:moveTo>
                  <a:lnTo>
                    <a:pt x="162" y="7"/>
                  </a:lnTo>
                  <a:lnTo>
                    <a:pt x="154" y="26"/>
                  </a:lnTo>
                  <a:lnTo>
                    <a:pt x="142" y="56"/>
                  </a:lnTo>
                  <a:lnTo>
                    <a:pt x="128" y="95"/>
                  </a:lnTo>
                  <a:lnTo>
                    <a:pt x="111" y="144"/>
                  </a:lnTo>
                  <a:lnTo>
                    <a:pt x="92" y="201"/>
                  </a:lnTo>
                  <a:lnTo>
                    <a:pt x="74" y="264"/>
                  </a:lnTo>
                  <a:lnTo>
                    <a:pt x="56" y="332"/>
                  </a:lnTo>
                  <a:lnTo>
                    <a:pt x="48" y="369"/>
                  </a:lnTo>
                  <a:lnTo>
                    <a:pt x="39" y="405"/>
                  </a:lnTo>
                  <a:lnTo>
                    <a:pt x="30" y="444"/>
                  </a:lnTo>
                  <a:lnTo>
                    <a:pt x="24" y="482"/>
                  </a:lnTo>
                  <a:lnTo>
                    <a:pt x="18" y="522"/>
                  </a:lnTo>
                  <a:lnTo>
                    <a:pt x="12" y="562"/>
                  </a:lnTo>
                  <a:lnTo>
                    <a:pt x="7" y="601"/>
                  </a:lnTo>
                  <a:lnTo>
                    <a:pt x="3" y="642"/>
                  </a:lnTo>
                  <a:lnTo>
                    <a:pt x="0" y="682"/>
                  </a:lnTo>
                  <a:lnTo>
                    <a:pt x="0" y="723"/>
                  </a:lnTo>
                  <a:lnTo>
                    <a:pt x="0" y="763"/>
                  </a:lnTo>
                  <a:lnTo>
                    <a:pt x="2" y="802"/>
                  </a:lnTo>
                  <a:lnTo>
                    <a:pt x="5" y="841"/>
                  </a:lnTo>
                  <a:lnTo>
                    <a:pt x="10" y="879"/>
                  </a:lnTo>
                  <a:lnTo>
                    <a:pt x="18" y="917"/>
                  </a:lnTo>
                  <a:lnTo>
                    <a:pt x="27" y="954"/>
                  </a:lnTo>
                  <a:lnTo>
                    <a:pt x="27" y="1048"/>
                  </a:lnTo>
                  <a:lnTo>
                    <a:pt x="173" y="1041"/>
                  </a:lnTo>
                  <a:lnTo>
                    <a:pt x="173" y="1032"/>
                  </a:lnTo>
                  <a:lnTo>
                    <a:pt x="171" y="1008"/>
                  </a:lnTo>
                  <a:lnTo>
                    <a:pt x="169" y="971"/>
                  </a:lnTo>
                  <a:lnTo>
                    <a:pt x="168" y="922"/>
                  </a:lnTo>
                  <a:lnTo>
                    <a:pt x="167" y="862"/>
                  </a:lnTo>
                  <a:lnTo>
                    <a:pt x="167" y="795"/>
                  </a:lnTo>
                  <a:lnTo>
                    <a:pt x="169" y="722"/>
                  </a:lnTo>
                  <a:lnTo>
                    <a:pt x="174" y="644"/>
                  </a:lnTo>
                  <a:lnTo>
                    <a:pt x="178" y="604"/>
                  </a:lnTo>
                  <a:lnTo>
                    <a:pt x="182" y="563"/>
                  </a:lnTo>
                  <a:lnTo>
                    <a:pt x="187" y="522"/>
                  </a:lnTo>
                  <a:lnTo>
                    <a:pt x="193" y="482"/>
                  </a:lnTo>
                  <a:lnTo>
                    <a:pt x="200" y="441"/>
                  </a:lnTo>
                  <a:lnTo>
                    <a:pt x="209" y="403"/>
                  </a:lnTo>
                  <a:lnTo>
                    <a:pt x="218" y="363"/>
                  </a:lnTo>
                  <a:lnTo>
                    <a:pt x="229" y="326"/>
                  </a:lnTo>
                  <a:lnTo>
                    <a:pt x="240" y="289"/>
                  </a:lnTo>
                  <a:lnTo>
                    <a:pt x="254" y="254"/>
                  </a:lnTo>
                  <a:lnTo>
                    <a:pt x="269" y="221"/>
                  </a:lnTo>
                  <a:lnTo>
                    <a:pt x="285" y="190"/>
                  </a:lnTo>
                  <a:lnTo>
                    <a:pt x="302" y="160"/>
                  </a:lnTo>
                  <a:lnTo>
                    <a:pt x="322" y="134"/>
                  </a:lnTo>
                  <a:lnTo>
                    <a:pt x="343" y="109"/>
                  </a:lnTo>
                  <a:lnTo>
                    <a:pt x="367" y="88"/>
                  </a:lnTo>
                  <a:lnTo>
                    <a:pt x="359" y="83"/>
                  </a:lnTo>
                  <a:lnTo>
                    <a:pt x="339" y="73"/>
                  </a:lnTo>
                  <a:lnTo>
                    <a:pt x="312" y="58"/>
                  </a:lnTo>
                  <a:lnTo>
                    <a:pt x="279" y="41"/>
                  </a:lnTo>
                  <a:lnTo>
                    <a:pt x="244" y="25"/>
                  </a:lnTo>
                  <a:lnTo>
                    <a:pt x="210" y="10"/>
                  </a:lnTo>
                  <a:lnTo>
                    <a:pt x="195" y="5"/>
                  </a:lnTo>
                  <a:lnTo>
                    <a:pt x="183" y="2"/>
                  </a:lnTo>
                  <a:lnTo>
                    <a:pt x="172" y="0"/>
                  </a:lnTo>
                  <a:lnTo>
                    <a:pt x="164" y="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3736800" y="5138640"/>
              <a:ext cx="184320" cy="446040"/>
            </a:xfrm>
            <a:custGeom>
              <a:avLst/>
              <a:gdLst/>
              <a:ahLst/>
              <a:rect l="l" t="t" r="r" b="b"/>
              <a:pathLst>
                <a:path w="465" h="1122">
                  <a:moveTo>
                    <a:pt x="190" y="1"/>
                  </a:moveTo>
                  <a:lnTo>
                    <a:pt x="174" y="6"/>
                  </a:lnTo>
                  <a:lnTo>
                    <a:pt x="168" y="22"/>
                  </a:lnTo>
                  <a:lnTo>
                    <a:pt x="163" y="32"/>
                  </a:lnTo>
                  <a:lnTo>
                    <a:pt x="154" y="55"/>
                  </a:lnTo>
                  <a:lnTo>
                    <a:pt x="142" y="87"/>
                  </a:lnTo>
                  <a:lnTo>
                    <a:pt x="126" y="129"/>
                  </a:lnTo>
                  <a:lnTo>
                    <a:pt x="108" y="180"/>
                  </a:lnTo>
                  <a:lnTo>
                    <a:pt x="91" y="237"/>
                  </a:lnTo>
                  <a:lnTo>
                    <a:pt x="71" y="301"/>
                  </a:lnTo>
                  <a:lnTo>
                    <a:pt x="54" y="371"/>
                  </a:lnTo>
                  <a:lnTo>
                    <a:pt x="45" y="408"/>
                  </a:lnTo>
                  <a:lnTo>
                    <a:pt x="36" y="445"/>
                  </a:lnTo>
                  <a:lnTo>
                    <a:pt x="29" y="484"/>
                  </a:lnTo>
                  <a:lnTo>
                    <a:pt x="23" y="522"/>
                  </a:lnTo>
                  <a:lnTo>
                    <a:pt x="17" y="562"/>
                  </a:lnTo>
                  <a:lnTo>
                    <a:pt x="10" y="602"/>
                  </a:lnTo>
                  <a:lnTo>
                    <a:pt x="7" y="643"/>
                  </a:lnTo>
                  <a:lnTo>
                    <a:pt x="3" y="684"/>
                  </a:lnTo>
                  <a:lnTo>
                    <a:pt x="0" y="723"/>
                  </a:lnTo>
                  <a:lnTo>
                    <a:pt x="0" y="764"/>
                  </a:lnTo>
                  <a:lnTo>
                    <a:pt x="0" y="804"/>
                  </a:lnTo>
                  <a:lnTo>
                    <a:pt x="3" y="844"/>
                  </a:lnTo>
                  <a:lnTo>
                    <a:pt x="7" y="883"/>
                  </a:lnTo>
                  <a:lnTo>
                    <a:pt x="12" y="923"/>
                  </a:lnTo>
                  <a:lnTo>
                    <a:pt x="19" y="960"/>
                  </a:lnTo>
                  <a:lnTo>
                    <a:pt x="28" y="997"/>
                  </a:lnTo>
                  <a:lnTo>
                    <a:pt x="27" y="1083"/>
                  </a:lnTo>
                  <a:lnTo>
                    <a:pt x="27" y="1122"/>
                  </a:lnTo>
                  <a:lnTo>
                    <a:pt x="248" y="1109"/>
                  </a:lnTo>
                  <a:lnTo>
                    <a:pt x="245" y="1073"/>
                  </a:lnTo>
                  <a:lnTo>
                    <a:pt x="244" y="1063"/>
                  </a:lnTo>
                  <a:lnTo>
                    <a:pt x="243" y="1038"/>
                  </a:lnTo>
                  <a:lnTo>
                    <a:pt x="241" y="1001"/>
                  </a:lnTo>
                  <a:lnTo>
                    <a:pt x="239" y="953"/>
                  </a:lnTo>
                  <a:lnTo>
                    <a:pt x="239" y="896"/>
                  </a:lnTo>
                  <a:lnTo>
                    <a:pt x="239" y="830"/>
                  </a:lnTo>
                  <a:lnTo>
                    <a:pt x="241" y="758"/>
                  </a:lnTo>
                  <a:lnTo>
                    <a:pt x="246" y="682"/>
                  </a:lnTo>
                  <a:lnTo>
                    <a:pt x="249" y="644"/>
                  </a:lnTo>
                  <a:lnTo>
                    <a:pt x="253" y="605"/>
                  </a:lnTo>
                  <a:lnTo>
                    <a:pt x="257" y="566"/>
                  </a:lnTo>
                  <a:lnTo>
                    <a:pt x="264" y="527"/>
                  </a:lnTo>
                  <a:lnTo>
                    <a:pt x="270" y="488"/>
                  </a:lnTo>
                  <a:lnTo>
                    <a:pt x="277" y="450"/>
                  </a:lnTo>
                  <a:lnTo>
                    <a:pt x="287" y="413"/>
                  </a:lnTo>
                  <a:lnTo>
                    <a:pt x="297" y="376"/>
                  </a:lnTo>
                  <a:lnTo>
                    <a:pt x="308" y="341"/>
                  </a:lnTo>
                  <a:lnTo>
                    <a:pt x="321" y="308"/>
                  </a:lnTo>
                  <a:lnTo>
                    <a:pt x="334" y="275"/>
                  </a:lnTo>
                  <a:lnTo>
                    <a:pt x="349" y="246"/>
                  </a:lnTo>
                  <a:lnTo>
                    <a:pt x="366" y="218"/>
                  </a:lnTo>
                  <a:lnTo>
                    <a:pt x="384" y="192"/>
                  </a:lnTo>
                  <a:lnTo>
                    <a:pt x="404" y="170"/>
                  </a:lnTo>
                  <a:lnTo>
                    <a:pt x="425" y="150"/>
                  </a:lnTo>
                  <a:lnTo>
                    <a:pt x="465" y="117"/>
                  </a:lnTo>
                  <a:lnTo>
                    <a:pt x="420" y="92"/>
                  </a:lnTo>
                  <a:lnTo>
                    <a:pt x="378" y="68"/>
                  </a:lnTo>
                  <a:lnTo>
                    <a:pt x="338" y="47"/>
                  </a:lnTo>
                  <a:lnTo>
                    <a:pt x="303" y="31"/>
                  </a:lnTo>
                  <a:lnTo>
                    <a:pt x="274" y="17"/>
                  </a:lnTo>
                  <a:lnTo>
                    <a:pt x="246" y="7"/>
                  </a:lnTo>
                  <a:lnTo>
                    <a:pt x="224" y="2"/>
                  </a:lnTo>
                  <a:lnTo>
                    <a:pt x="214" y="0"/>
                  </a:lnTo>
                  <a:lnTo>
                    <a:pt x="205" y="0"/>
                  </a:lnTo>
                  <a:lnTo>
                    <a:pt x="198" y="0"/>
                  </a:lnTo>
                  <a:lnTo>
                    <a:pt x="190" y="1"/>
                  </a:lnTo>
                  <a:close/>
                  <a:moveTo>
                    <a:pt x="99" y="989"/>
                  </a:moveTo>
                  <a:lnTo>
                    <a:pt x="91" y="963"/>
                  </a:lnTo>
                  <a:lnTo>
                    <a:pt x="86" y="937"/>
                  </a:lnTo>
                  <a:lnTo>
                    <a:pt x="82" y="911"/>
                  </a:lnTo>
                  <a:lnTo>
                    <a:pt x="79" y="883"/>
                  </a:lnTo>
                  <a:lnTo>
                    <a:pt x="76" y="856"/>
                  </a:lnTo>
                  <a:lnTo>
                    <a:pt x="74" y="829"/>
                  </a:lnTo>
                  <a:lnTo>
                    <a:pt x="72" y="801"/>
                  </a:lnTo>
                  <a:lnTo>
                    <a:pt x="72" y="773"/>
                  </a:lnTo>
                  <a:lnTo>
                    <a:pt x="74" y="718"/>
                  </a:lnTo>
                  <a:lnTo>
                    <a:pt x="77" y="663"/>
                  </a:lnTo>
                  <a:lnTo>
                    <a:pt x="84" y="608"/>
                  </a:lnTo>
                  <a:lnTo>
                    <a:pt x="91" y="553"/>
                  </a:lnTo>
                  <a:lnTo>
                    <a:pt x="100" y="500"/>
                  </a:lnTo>
                  <a:lnTo>
                    <a:pt x="111" y="448"/>
                  </a:lnTo>
                  <a:lnTo>
                    <a:pt x="122" y="397"/>
                  </a:lnTo>
                  <a:lnTo>
                    <a:pt x="135" y="349"/>
                  </a:lnTo>
                  <a:lnTo>
                    <a:pt x="147" y="303"/>
                  </a:lnTo>
                  <a:lnTo>
                    <a:pt x="159" y="259"/>
                  </a:lnTo>
                  <a:lnTo>
                    <a:pt x="172" y="220"/>
                  </a:lnTo>
                  <a:lnTo>
                    <a:pt x="184" y="182"/>
                  </a:lnTo>
                  <a:lnTo>
                    <a:pt x="205" y="120"/>
                  </a:lnTo>
                  <a:lnTo>
                    <a:pt x="223" y="77"/>
                  </a:lnTo>
                  <a:lnTo>
                    <a:pt x="246" y="84"/>
                  </a:lnTo>
                  <a:lnTo>
                    <a:pt x="276" y="98"/>
                  </a:lnTo>
                  <a:lnTo>
                    <a:pt x="312" y="115"/>
                  </a:lnTo>
                  <a:lnTo>
                    <a:pt x="351" y="135"/>
                  </a:lnTo>
                  <a:lnTo>
                    <a:pt x="337" y="153"/>
                  </a:lnTo>
                  <a:lnTo>
                    <a:pt x="323" y="170"/>
                  </a:lnTo>
                  <a:lnTo>
                    <a:pt x="311" y="187"/>
                  </a:lnTo>
                  <a:lnTo>
                    <a:pt x="298" y="207"/>
                  </a:lnTo>
                  <a:lnTo>
                    <a:pt x="287" y="227"/>
                  </a:lnTo>
                  <a:lnTo>
                    <a:pt x="276" y="248"/>
                  </a:lnTo>
                  <a:lnTo>
                    <a:pt x="266" y="270"/>
                  </a:lnTo>
                  <a:lnTo>
                    <a:pt x="257" y="293"/>
                  </a:lnTo>
                  <a:lnTo>
                    <a:pt x="249" y="315"/>
                  </a:lnTo>
                  <a:lnTo>
                    <a:pt x="240" y="339"/>
                  </a:lnTo>
                  <a:lnTo>
                    <a:pt x="233" y="362"/>
                  </a:lnTo>
                  <a:lnTo>
                    <a:pt x="225" y="387"/>
                  </a:lnTo>
                  <a:lnTo>
                    <a:pt x="213" y="437"/>
                  </a:lnTo>
                  <a:lnTo>
                    <a:pt x="202" y="489"/>
                  </a:lnTo>
                  <a:lnTo>
                    <a:pt x="192" y="540"/>
                  </a:lnTo>
                  <a:lnTo>
                    <a:pt x="184" y="592"/>
                  </a:lnTo>
                  <a:lnTo>
                    <a:pt x="178" y="644"/>
                  </a:lnTo>
                  <a:lnTo>
                    <a:pt x="174" y="695"/>
                  </a:lnTo>
                  <a:lnTo>
                    <a:pt x="171" y="744"/>
                  </a:lnTo>
                  <a:lnTo>
                    <a:pt x="168" y="793"/>
                  </a:lnTo>
                  <a:lnTo>
                    <a:pt x="167" y="839"/>
                  </a:lnTo>
                  <a:lnTo>
                    <a:pt x="167" y="882"/>
                  </a:lnTo>
                  <a:lnTo>
                    <a:pt x="167" y="934"/>
                  </a:lnTo>
                  <a:lnTo>
                    <a:pt x="168" y="979"/>
                  </a:lnTo>
                  <a:lnTo>
                    <a:pt x="169" y="1014"/>
                  </a:lnTo>
                  <a:lnTo>
                    <a:pt x="172" y="1042"/>
                  </a:lnTo>
                  <a:lnTo>
                    <a:pt x="152" y="1043"/>
                  </a:lnTo>
                  <a:lnTo>
                    <a:pt x="135" y="1043"/>
                  </a:lnTo>
                  <a:lnTo>
                    <a:pt x="117" y="1045"/>
                  </a:lnTo>
                  <a:lnTo>
                    <a:pt x="99" y="1046"/>
                  </a:lnTo>
                  <a:lnTo>
                    <a:pt x="99" y="1025"/>
                  </a:lnTo>
                  <a:lnTo>
                    <a:pt x="99" y="1007"/>
                  </a:lnTo>
                  <a:lnTo>
                    <a:pt x="99" y="994"/>
                  </a:lnTo>
                  <a:lnTo>
                    <a:pt x="99" y="98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3805200" y="5172120"/>
              <a:ext cx="130320" cy="414360"/>
            </a:xfrm>
            <a:custGeom>
              <a:avLst/>
              <a:gdLst/>
              <a:ahLst/>
              <a:rect l="l" t="t" r="r" b="b"/>
              <a:pathLst>
                <a:path w="327" h="1041">
                  <a:moveTo>
                    <a:pt x="135" y="1"/>
                  </a:moveTo>
                  <a:lnTo>
                    <a:pt x="132" y="8"/>
                  </a:lnTo>
                  <a:lnTo>
                    <a:pt x="126" y="26"/>
                  </a:lnTo>
                  <a:lnTo>
                    <a:pt x="116" y="55"/>
                  </a:lnTo>
                  <a:lnTo>
                    <a:pt x="104" y="94"/>
                  </a:lnTo>
                  <a:lnTo>
                    <a:pt x="89" y="142"/>
                  </a:lnTo>
                  <a:lnTo>
                    <a:pt x="74" y="197"/>
                  </a:lnTo>
                  <a:lnTo>
                    <a:pt x="58" y="261"/>
                  </a:lnTo>
                  <a:lnTo>
                    <a:pt x="43" y="328"/>
                  </a:lnTo>
                  <a:lnTo>
                    <a:pt x="36" y="364"/>
                  </a:lnTo>
                  <a:lnTo>
                    <a:pt x="28" y="401"/>
                  </a:lnTo>
                  <a:lnTo>
                    <a:pt x="22" y="438"/>
                  </a:lnTo>
                  <a:lnTo>
                    <a:pt x="17" y="477"/>
                  </a:lnTo>
                  <a:lnTo>
                    <a:pt x="12" y="515"/>
                  </a:lnTo>
                  <a:lnTo>
                    <a:pt x="7" y="555"/>
                  </a:lnTo>
                  <a:lnTo>
                    <a:pt x="3" y="594"/>
                  </a:lnTo>
                  <a:lnTo>
                    <a:pt x="2" y="634"/>
                  </a:lnTo>
                  <a:lnTo>
                    <a:pt x="0" y="674"/>
                  </a:lnTo>
                  <a:lnTo>
                    <a:pt x="0" y="715"/>
                  </a:lnTo>
                  <a:lnTo>
                    <a:pt x="1" y="754"/>
                  </a:lnTo>
                  <a:lnTo>
                    <a:pt x="3" y="793"/>
                  </a:lnTo>
                  <a:lnTo>
                    <a:pt x="7" y="833"/>
                  </a:lnTo>
                  <a:lnTo>
                    <a:pt x="13" y="870"/>
                  </a:lnTo>
                  <a:lnTo>
                    <a:pt x="21" y="908"/>
                  </a:lnTo>
                  <a:lnTo>
                    <a:pt x="29" y="944"/>
                  </a:lnTo>
                  <a:lnTo>
                    <a:pt x="55" y="1041"/>
                  </a:lnTo>
                  <a:lnTo>
                    <a:pt x="144" y="1041"/>
                  </a:lnTo>
                  <a:lnTo>
                    <a:pt x="142" y="1032"/>
                  </a:lnTo>
                  <a:lnTo>
                    <a:pt x="141" y="1008"/>
                  </a:lnTo>
                  <a:lnTo>
                    <a:pt x="139" y="970"/>
                  </a:lnTo>
                  <a:lnTo>
                    <a:pt x="136" y="919"/>
                  </a:lnTo>
                  <a:lnTo>
                    <a:pt x="135" y="860"/>
                  </a:lnTo>
                  <a:lnTo>
                    <a:pt x="135" y="792"/>
                  </a:lnTo>
                  <a:lnTo>
                    <a:pt x="136" y="717"/>
                  </a:lnTo>
                  <a:lnTo>
                    <a:pt x="140" y="639"/>
                  </a:lnTo>
                  <a:lnTo>
                    <a:pt x="144" y="598"/>
                  </a:lnTo>
                  <a:lnTo>
                    <a:pt x="147" y="557"/>
                  </a:lnTo>
                  <a:lnTo>
                    <a:pt x="152" y="516"/>
                  </a:lnTo>
                  <a:lnTo>
                    <a:pt x="157" y="475"/>
                  </a:lnTo>
                  <a:lnTo>
                    <a:pt x="165" y="436"/>
                  </a:lnTo>
                  <a:lnTo>
                    <a:pt x="172" y="395"/>
                  </a:lnTo>
                  <a:lnTo>
                    <a:pt x="181" y="356"/>
                  </a:lnTo>
                  <a:lnTo>
                    <a:pt x="192" y="318"/>
                  </a:lnTo>
                  <a:lnTo>
                    <a:pt x="203" y="281"/>
                  </a:lnTo>
                  <a:lnTo>
                    <a:pt x="216" y="246"/>
                  </a:lnTo>
                  <a:lnTo>
                    <a:pt x="231" y="212"/>
                  </a:lnTo>
                  <a:lnTo>
                    <a:pt x="247" y="180"/>
                  </a:lnTo>
                  <a:lnTo>
                    <a:pt x="264" y="150"/>
                  </a:lnTo>
                  <a:lnTo>
                    <a:pt x="284" y="124"/>
                  </a:lnTo>
                  <a:lnTo>
                    <a:pt x="305" y="99"/>
                  </a:lnTo>
                  <a:lnTo>
                    <a:pt x="327" y="78"/>
                  </a:lnTo>
                  <a:lnTo>
                    <a:pt x="321" y="75"/>
                  </a:lnTo>
                  <a:lnTo>
                    <a:pt x="303" y="65"/>
                  </a:lnTo>
                  <a:lnTo>
                    <a:pt x="276" y="51"/>
                  </a:lnTo>
                  <a:lnTo>
                    <a:pt x="244" y="36"/>
                  </a:lnTo>
                  <a:lnTo>
                    <a:pt x="211" y="21"/>
                  </a:lnTo>
                  <a:lnTo>
                    <a:pt x="180" y="9"/>
                  </a:lnTo>
                  <a:lnTo>
                    <a:pt x="166" y="5"/>
                  </a:lnTo>
                  <a:lnTo>
                    <a:pt x="154" y="1"/>
                  </a:lnTo>
                  <a:lnTo>
                    <a:pt x="142" y="0"/>
                  </a:lnTo>
                  <a:lnTo>
                    <a:pt x="135" y="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3790800" y="5159520"/>
              <a:ext cx="169920" cy="439560"/>
            </a:xfrm>
            <a:custGeom>
              <a:avLst/>
              <a:gdLst/>
              <a:ahLst/>
              <a:rect l="l" t="t" r="r" b="b"/>
              <a:pathLst>
                <a:path w="427" h="1111">
                  <a:moveTo>
                    <a:pt x="161" y="2"/>
                  </a:moveTo>
                  <a:lnTo>
                    <a:pt x="144" y="7"/>
                  </a:lnTo>
                  <a:lnTo>
                    <a:pt x="137" y="23"/>
                  </a:lnTo>
                  <a:lnTo>
                    <a:pt x="134" y="34"/>
                  </a:lnTo>
                  <a:lnTo>
                    <a:pt x="126" y="55"/>
                  </a:lnTo>
                  <a:lnTo>
                    <a:pt x="115" y="87"/>
                  </a:lnTo>
                  <a:lnTo>
                    <a:pt x="101" y="129"/>
                  </a:lnTo>
                  <a:lnTo>
                    <a:pt x="88" y="179"/>
                  </a:lnTo>
                  <a:lnTo>
                    <a:pt x="72" y="236"/>
                  </a:lnTo>
                  <a:lnTo>
                    <a:pt x="55" y="299"/>
                  </a:lnTo>
                  <a:lnTo>
                    <a:pt x="41" y="368"/>
                  </a:lnTo>
                  <a:lnTo>
                    <a:pt x="33" y="404"/>
                  </a:lnTo>
                  <a:lnTo>
                    <a:pt x="27" y="441"/>
                  </a:lnTo>
                  <a:lnTo>
                    <a:pt x="21" y="479"/>
                  </a:lnTo>
                  <a:lnTo>
                    <a:pt x="16" y="518"/>
                  </a:lnTo>
                  <a:lnTo>
                    <a:pt x="11" y="556"/>
                  </a:lnTo>
                  <a:lnTo>
                    <a:pt x="6" y="596"/>
                  </a:lnTo>
                  <a:lnTo>
                    <a:pt x="3" y="636"/>
                  </a:lnTo>
                  <a:lnTo>
                    <a:pt x="1" y="675"/>
                  </a:lnTo>
                  <a:lnTo>
                    <a:pt x="0" y="716"/>
                  </a:lnTo>
                  <a:lnTo>
                    <a:pt x="1" y="756"/>
                  </a:lnTo>
                  <a:lnTo>
                    <a:pt x="2" y="796"/>
                  </a:lnTo>
                  <a:lnTo>
                    <a:pt x="5" y="835"/>
                  </a:lnTo>
                  <a:lnTo>
                    <a:pt x="8" y="875"/>
                  </a:lnTo>
                  <a:lnTo>
                    <a:pt x="14" y="914"/>
                  </a:lnTo>
                  <a:lnTo>
                    <a:pt x="22" y="952"/>
                  </a:lnTo>
                  <a:lnTo>
                    <a:pt x="31" y="988"/>
                  </a:lnTo>
                  <a:lnTo>
                    <a:pt x="64" y="1111"/>
                  </a:lnTo>
                  <a:lnTo>
                    <a:pt x="219" y="1111"/>
                  </a:lnTo>
                  <a:lnTo>
                    <a:pt x="216" y="1072"/>
                  </a:lnTo>
                  <a:lnTo>
                    <a:pt x="214" y="1062"/>
                  </a:lnTo>
                  <a:lnTo>
                    <a:pt x="212" y="1039"/>
                  </a:lnTo>
                  <a:lnTo>
                    <a:pt x="211" y="1000"/>
                  </a:lnTo>
                  <a:lnTo>
                    <a:pt x="208" y="951"/>
                  </a:lnTo>
                  <a:lnTo>
                    <a:pt x="207" y="892"/>
                  </a:lnTo>
                  <a:lnTo>
                    <a:pt x="207" y="827"/>
                  </a:lnTo>
                  <a:lnTo>
                    <a:pt x="208" y="753"/>
                  </a:lnTo>
                  <a:lnTo>
                    <a:pt x="212" y="678"/>
                  </a:lnTo>
                  <a:lnTo>
                    <a:pt x="214" y="638"/>
                  </a:lnTo>
                  <a:lnTo>
                    <a:pt x="218" y="598"/>
                  </a:lnTo>
                  <a:lnTo>
                    <a:pt x="222" y="560"/>
                  </a:lnTo>
                  <a:lnTo>
                    <a:pt x="228" y="520"/>
                  </a:lnTo>
                  <a:lnTo>
                    <a:pt x="234" y="481"/>
                  </a:lnTo>
                  <a:lnTo>
                    <a:pt x="242" y="442"/>
                  </a:lnTo>
                  <a:lnTo>
                    <a:pt x="250" y="405"/>
                  </a:lnTo>
                  <a:lnTo>
                    <a:pt x="259" y="368"/>
                  </a:lnTo>
                  <a:lnTo>
                    <a:pt x="270" y="333"/>
                  </a:lnTo>
                  <a:lnTo>
                    <a:pt x="283" y="299"/>
                  </a:lnTo>
                  <a:lnTo>
                    <a:pt x="296" y="267"/>
                  </a:lnTo>
                  <a:lnTo>
                    <a:pt x="311" y="236"/>
                  </a:lnTo>
                  <a:lnTo>
                    <a:pt x="327" y="209"/>
                  </a:lnTo>
                  <a:lnTo>
                    <a:pt x="346" y="183"/>
                  </a:lnTo>
                  <a:lnTo>
                    <a:pt x="365" y="160"/>
                  </a:lnTo>
                  <a:lnTo>
                    <a:pt x="387" y="141"/>
                  </a:lnTo>
                  <a:lnTo>
                    <a:pt x="427" y="107"/>
                  </a:lnTo>
                  <a:lnTo>
                    <a:pt x="381" y="81"/>
                  </a:lnTo>
                  <a:lnTo>
                    <a:pt x="340" y="60"/>
                  </a:lnTo>
                  <a:lnTo>
                    <a:pt x="304" y="41"/>
                  </a:lnTo>
                  <a:lnTo>
                    <a:pt x="270" y="26"/>
                  </a:lnTo>
                  <a:lnTo>
                    <a:pt x="240" y="15"/>
                  </a:lnTo>
                  <a:lnTo>
                    <a:pt x="216" y="7"/>
                  </a:lnTo>
                  <a:lnTo>
                    <a:pt x="193" y="2"/>
                  </a:lnTo>
                  <a:lnTo>
                    <a:pt x="183" y="0"/>
                  </a:lnTo>
                  <a:lnTo>
                    <a:pt x="176" y="0"/>
                  </a:lnTo>
                  <a:lnTo>
                    <a:pt x="168" y="0"/>
                  </a:lnTo>
                  <a:lnTo>
                    <a:pt x="161" y="2"/>
                  </a:lnTo>
                  <a:close/>
                  <a:moveTo>
                    <a:pt x="100" y="969"/>
                  </a:moveTo>
                  <a:lnTo>
                    <a:pt x="93" y="942"/>
                  </a:lnTo>
                  <a:lnTo>
                    <a:pt x="86" y="914"/>
                  </a:lnTo>
                  <a:lnTo>
                    <a:pt x="81" y="885"/>
                  </a:lnTo>
                  <a:lnTo>
                    <a:pt x="78" y="855"/>
                  </a:lnTo>
                  <a:lnTo>
                    <a:pt x="75" y="825"/>
                  </a:lnTo>
                  <a:lnTo>
                    <a:pt x="73" y="796"/>
                  </a:lnTo>
                  <a:lnTo>
                    <a:pt x="72" y="765"/>
                  </a:lnTo>
                  <a:lnTo>
                    <a:pt x="72" y="735"/>
                  </a:lnTo>
                  <a:lnTo>
                    <a:pt x="73" y="680"/>
                  </a:lnTo>
                  <a:lnTo>
                    <a:pt x="77" y="626"/>
                  </a:lnTo>
                  <a:lnTo>
                    <a:pt x="81" y="571"/>
                  </a:lnTo>
                  <a:lnTo>
                    <a:pt x="88" y="518"/>
                  </a:lnTo>
                  <a:lnTo>
                    <a:pt x="95" y="467"/>
                  </a:lnTo>
                  <a:lnTo>
                    <a:pt x="104" y="416"/>
                  </a:lnTo>
                  <a:lnTo>
                    <a:pt x="114" y="368"/>
                  </a:lnTo>
                  <a:lnTo>
                    <a:pt x="124" y="322"/>
                  </a:lnTo>
                  <a:lnTo>
                    <a:pt x="135" y="278"/>
                  </a:lnTo>
                  <a:lnTo>
                    <a:pt x="145" y="239"/>
                  </a:lnTo>
                  <a:lnTo>
                    <a:pt x="155" y="201"/>
                  </a:lnTo>
                  <a:lnTo>
                    <a:pt x="165" y="168"/>
                  </a:lnTo>
                  <a:lnTo>
                    <a:pt x="182" y="113"/>
                  </a:lnTo>
                  <a:lnTo>
                    <a:pt x="194" y="76"/>
                  </a:lnTo>
                  <a:lnTo>
                    <a:pt x="217" y="83"/>
                  </a:lnTo>
                  <a:lnTo>
                    <a:pt x="244" y="95"/>
                  </a:lnTo>
                  <a:lnTo>
                    <a:pt x="276" y="110"/>
                  </a:lnTo>
                  <a:lnTo>
                    <a:pt x="311" y="127"/>
                  </a:lnTo>
                  <a:lnTo>
                    <a:pt x="298" y="142"/>
                  </a:lnTo>
                  <a:lnTo>
                    <a:pt x="285" y="159"/>
                  </a:lnTo>
                  <a:lnTo>
                    <a:pt x="273" y="177"/>
                  </a:lnTo>
                  <a:lnTo>
                    <a:pt x="262" y="195"/>
                  </a:lnTo>
                  <a:lnTo>
                    <a:pt x="252" y="214"/>
                  </a:lnTo>
                  <a:lnTo>
                    <a:pt x="242" y="234"/>
                  </a:lnTo>
                  <a:lnTo>
                    <a:pt x="232" y="255"/>
                  </a:lnTo>
                  <a:lnTo>
                    <a:pt x="223" y="276"/>
                  </a:lnTo>
                  <a:lnTo>
                    <a:pt x="214" y="298"/>
                  </a:lnTo>
                  <a:lnTo>
                    <a:pt x="206" y="320"/>
                  </a:lnTo>
                  <a:lnTo>
                    <a:pt x="198" y="343"/>
                  </a:lnTo>
                  <a:lnTo>
                    <a:pt x="192" y="366"/>
                  </a:lnTo>
                  <a:lnTo>
                    <a:pt x="180" y="414"/>
                  </a:lnTo>
                  <a:lnTo>
                    <a:pt x="168" y="463"/>
                  </a:lnTo>
                  <a:lnTo>
                    <a:pt x="160" y="513"/>
                  </a:lnTo>
                  <a:lnTo>
                    <a:pt x="152" y="562"/>
                  </a:lnTo>
                  <a:lnTo>
                    <a:pt x="146" y="612"/>
                  </a:lnTo>
                  <a:lnTo>
                    <a:pt x="142" y="662"/>
                  </a:lnTo>
                  <a:lnTo>
                    <a:pt x="139" y="710"/>
                  </a:lnTo>
                  <a:lnTo>
                    <a:pt x="136" y="757"/>
                  </a:lnTo>
                  <a:lnTo>
                    <a:pt x="135" y="803"/>
                  </a:lnTo>
                  <a:lnTo>
                    <a:pt x="135" y="848"/>
                  </a:lnTo>
                  <a:lnTo>
                    <a:pt x="135" y="881"/>
                  </a:lnTo>
                  <a:lnTo>
                    <a:pt x="135" y="911"/>
                  </a:lnTo>
                  <a:lnTo>
                    <a:pt x="136" y="940"/>
                  </a:lnTo>
                  <a:lnTo>
                    <a:pt x="137" y="964"/>
                  </a:lnTo>
                  <a:lnTo>
                    <a:pt x="137" y="987"/>
                  </a:lnTo>
                  <a:lnTo>
                    <a:pt x="139" y="1007"/>
                  </a:lnTo>
                  <a:lnTo>
                    <a:pt x="140" y="1025"/>
                  </a:lnTo>
                  <a:lnTo>
                    <a:pt x="141" y="1040"/>
                  </a:lnTo>
                  <a:lnTo>
                    <a:pt x="130" y="1040"/>
                  </a:lnTo>
                  <a:lnTo>
                    <a:pt x="119" y="1040"/>
                  </a:lnTo>
                  <a:lnTo>
                    <a:pt x="113" y="1018"/>
                  </a:lnTo>
                  <a:lnTo>
                    <a:pt x="106" y="994"/>
                  </a:lnTo>
                  <a:lnTo>
                    <a:pt x="101" y="977"/>
                  </a:lnTo>
                  <a:lnTo>
                    <a:pt x="100" y="96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3844800" y="5200560"/>
              <a:ext cx="163800" cy="412920"/>
            </a:xfrm>
            <a:custGeom>
              <a:avLst/>
              <a:gdLst/>
              <a:ahLst/>
              <a:rect l="l" t="t" r="r" b="b"/>
              <a:pathLst>
                <a:path w="411" h="1042">
                  <a:moveTo>
                    <a:pt x="176" y="0"/>
                  </a:moveTo>
                  <a:lnTo>
                    <a:pt x="174" y="6"/>
                  </a:lnTo>
                  <a:lnTo>
                    <a:pt x="167" y="23"/>
                  </a:lnTo>
                  <a:lnTo>
                    <a:pt x="155" y="52"/>
                  </a:lnTo>
                  <a:lnTo>
                    <a:pt x="142" y="89"/>
                  </a:lnTo>
                  <a:lnTo>
                    <a:pt x="124" y="136"/>
                  </a:lnTo>
                  <a:lnTo>
                    <a:pt x="107" y="191"/>
                  </a:lnTo>
                  <a:lnTo>
                    <a:pt x="88" y="251"/>
                  </a:lnTo>
                  <a:lnTo>
                    <a:pt x="70" y="318"/>
                  </a:lnTo>
                  <a:lnTo>
                    <a:pt x="51" y="389"/>
                  </a:lnTo>
                  <a:lnTo>
                    <a:pt x="35" y="465"/>
                  </a:lnTo>
                  <a:lnTo>
                    <a:pt x="27" y="503"/>
                  </a:lnTo>
                  <a:lnTo>
                    <a:pt x="20" y="542"/>
                  </a:lnTo>
                  <a:lnTo>
                    <a:pt x="15" y="581"/>
                  </a:lnTo>
                  <a:lnTo>
                    <a:pt x="10" y="621"/>
                  </a:lnTo>
                  <a:lnTo>
                    <a:pt x="5" y="661"/>
                  </a:lnTo>
                  <a:lnTo>
                    <a:pt x="3" y="701"/>
                  </a:lnTo>
                  <a:lnTo>
                    <a:pt x="0" y="740"/>
                  </a:lnTo>
                  <a:lnTo>
                    <a:pt x="0" y="780"/>
                  </a:lnTo>
                  <a:lnTo>
                    <a:pt x="1" y="820"/>
                  </a:lnTo>
                  <a:lnTo>
                    <a:pt x="4" y="858"/>
                  </a:lnTo>
                  <a:lnTo>
                    <a:pt x="8" y="897"/>
                  </a:lnTo>
                  <a:lnTo>
                    <a:pt x="13" y="934"/>
                  </a:lnTo>
                  <a:lnTo>
                    <a:pt x="30" y="1032"/>
                  </a:lnTo>
                  <a:lnTo>
                    <a:pt x="117" y="1042"/>
                  </a:lnTo>
                  <a:lnTo>
                    <a:pt x="117" y="1034"/>
                  </a:lnTo>
                  <a:lnTo>
                    <a:pt x="118" y="1011"/>
                  </a:lnTo>
                  <a:lnTo>
                    <a:pt x="121" y="975"/>
                  </a:lnTo>
                  <a:lnTo>
                    <a:pt x="124" y="928"/>
                  </a:lnTo>
                  <a:lnTo>
                    <a:pt x="131" y="871"/>
                  </a:lnTo>
                  <a:lnTo>
                    <a:pt x="138" y="805"/>
                  </a:lnTo>
                  <a:lnTo>
                    <a:pt x="148" y="734"/>
                  </a:lnTo>
                  <a:lnTo>
                    <a:pt x="162" y="660"/>
                  </a:lnTo>
                  <a:lnTo>
                    <a:pt x="169" y="622"/>
                  </a:lnTo>
                  <a:lnTo>
                    <a:pt x="178" y="584"/>
                  </a:lnTo>
                  <a:lnTo>
                    <a:pt x="188" y="544"/>
                  </a:lnTo>
                  <a:lnTo>
                    <a:pt x="198" y="506"/>
                  </a:lnTo>
                  <a:lnTo>
                    <a:pt x="209" y="469"/>
                  </a:lnTo>
                  <a:lnTo>
                    <a:pt x="221" y="431"/>
                  </a:lnTo>
                  <a:lnTo>
                    <a:pt x="235" y="394"/>
                  </a:lnTo>
                  <a:lnTo>
                    <a:pt x="250" y="359"/>
                  </a:lnTo>
                  <a:lnTo>
                    <a:pt x="265" y="325"/>
                  </a:lnTo>
                  <a:lnTo>
                    <a:pt x="282" y="292"/>
                  </a:lnTo>
                  <a:lnTo>
                    <a:pt x="301" y="261"/>
                  </a:lnTo>
                  <a:lnTo>
                    <a:pt x="319" y="233"/>
                  </a:lnTo>
                  <a:lnTo>
                    <a:pt x="340" y="206"/>
                  </a:lnTo>
                  <a:lnTo>
                    <a:pt x="363" y="182"/>
                  </a:lnTo>
                  <a:lnTo>
                    <a:pt x="386" y="161"/>
                  </a:lnTo>
                  <a:lnTo>
                    <a:pt x="411" y="141"/>
                  </a:lnTo>
                  <a:lnTo>
                    <a:pt x="402" y="135"/>
                  </a:lnTo>
                  <a:lnTo>
                    <a:pt x="379" y="119"/>
                  </a:lnTo>
                  <a:lnTo>
                    <a:pt x="347" y="95"/>
                  </a:lnTo>
                  <a:lnTo>
                    <a:pt x="307" y="68"/>
                  </a:lnTo>
                  <a:lnTo>
                    <a:pt x="266" y="42"/>
                  </a:lnTo>
                  <a:lnTo>
                    <a:pt x="229" y="19"/>
                  </a:lnTo>
                  <a:lnTo>
                    <a:pt x="211" y="11"/>
                  </a:lnTo>
                  <a:lnTo>
                    <a:pt x="198" y="3"/>
                  </a:lnTo>
                  <a:lnTo>
                    <a:pt x="185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3830760" y="5186520"/>
              <a:ext cx="201600" cy="442800"/>
            </a:xfrm>
            <a:custGeom>
              <a:avLst/>
              <a:gdLst/>
              <a:ahLst/>
              <a:rect l="l" t="t" r="r" b="b"/>
              <a:pathLst>
                <a:path w="508" h="1119">
                  <a:moveTo>
                    <a:pt x="207" y="0"/>
                  </a:moveTo>
                  <a:lnTo>
                    <a:pt x="188" y="3"/>
                  </a:lnTo>
                  <a:lnTo>
                    <a:pt x="180" y="21"/>
                  </a:lnTo>
                  <a:lnTo>
                    <a:pt x="175" y="31"/>
                  </a:lnTo>
                  <a:lnTo>
                    <a:pt x="168" y="52"/>
                  </a:lnTo>
                  <a:lnTo>
                    <a:pt x="155" y="83"/>
                  </a:lnTo>
                  <a:lnTo>
                    <a:pt x="140" y="124"/>
                  </a:lnTo>
                  <a:lnTo>
                    <a:pt x="123" y="172"/>
                  </a:lnTo>
                  <a:lnTo>
                    <a:pt x="104" y="227"/>
                  </a:lnTo>
                  <a:lnTo>
                    <a:pt x="86" y="289"/>
                  </a:lnTo>
                  <a:lnTo>
                    <a:pt x="67" y="357"/>
                  </a:lnTo>
                  <a:lnTo>
                    <a:pt x="50" y="428"/>
                  </a:lnTo>
                  <a:lnTo>
                    <a:pt x="34" y="503"/>
                  </a:lnTo>
                  <a:lnTo>
                    <a:pt x="26" y="542"/>
                  </a:lnTo>
                  <a:lnTo>
                    <a:pt x="20" y="581"/>
                  </a:lnTo>
                  <a:lnTo>
                    <a:pt x="14" y="621"/>
                  </a:lnTo>
                  <a:lnTo>
                    <a:pt x="9" y="661"/>
                  </a:lnTo>
                  <a:lnTo>
                    <a:pt x="5" y="701"/>
                  </a:lnTo>
                  <a:lnTo>
                    <a:pt x="3" y="740"/>
                  </a:lnTo>
                  <a:lnTo>
                    <a:pt x="0" y="781"/>
                  </a:lnTo>
                  <a:lnTo>
                    <a:pt x="0" y="821"/>
                  </a:lnTo>
                  <a:lnTo>
                    <a:pt x="1" y="859"/>
                  </a:lnTo>
                  <a:lnTo>
                    <a:pt x="4" y="899"/>
                  </a:lnTo>
                  <a:lnTo>
                    <a:pt x="8" y="938"/>
                  </a:lnTo>
                  <a:lnTo>
                    <a:pt x="14" y="976"/>
                  </a:lnTo>
                  <a:lnTo>
                    <a:pt x="35" y="1100"/>
                  </a:lnTo>
                  <a:lnTo>
                    <a:pt x="188" y="1119"/>
                  </a:lnTo>
                  <a:lnTo>
                    <a:pt x="189" y="1079"/>
                  </a:lnTo>
                  <a:lnTo>
                    <a:pt x="189" y="1070"/>
                  </a:lnTo>
                  <a:lnTo>
                    <a:pt x="190" y="1047"/>
                  </a:lnTo>
                  <a:lnTo>
                    <a:pt x="193" y="1011"/>
                  </a:lnTo>
                  <a:lnTo>
                    <a:pt x="196" y="964"/>
                  </a:lnTo>
                  <a:lnTo>
                    <a:pt x="201" y="908"/>
                  </a:lnTo>
                  <a:lnTo>
                    <a:pt x="210" y="845"/>
                  </a:lnTo>
                  <a:lnTo>
                    <a:pt x="220" y="776"/>
                  </a:lnTo>
                  <a:lnTo>
                    <a:pt x="232" y="704"/>
                  </a:lnTo>
                  <a:lnTo>
                    <a:pt x="240" y="667"/>
                  </a:lnTo>
                  <a:lnTo>
                    <a:pt x="247" y="630"/>
                  </a:lnTo>
                  <a:lnTo>
                    <a:pt x="257" y="593"/>
                  </a:lnTo>
                  <a:lnTo>
                    <a:pt x="267" y="555"/>
                  </a:lnTo>
                  <a:lnTo>
                    <a:pt x="277" y="519"/>
                  </a:lnTo>
                  <a:lnTo>
                    <a:pt x="289" y="483"/>
                  </a:lnTo>
                  <a:lnTo>
                    <a:pt x="302" y="447"/>
                  </a:lnTo>
                  <a:lnTo>
                    <a:pt x="316" y="414"/>
                  </a:lnTo>
                  <a:lnTo>
                    <a:pt x="330" y="382"/>
                  </a:lnTo>
                  <a:lnTo>
                    <a:pt x="347" y="349"/>
                  </a:lnTo>
                  <a:lnTo>
                    <a:pt x="363" y="321"/>
                  </a:lnTo>
                  <a:lnTo>
                    <a:pt x="381" y="294"/>
                  </a:lnTo>
                  <a:lnTo>
                    <a:pt x="401" y="268"/>
                  </a:lnTo>
                  <a:lnTo>
                    <a:pt x="421" y="245"/>
                  </a:lnTo>
                  <a:lnTo>
                    <a:pt x="443" y="224"/>
                  </a:lnTo>
                  <a:lnTo>
                    <a:pt x="467" y="207"/>
                  </a:lnTo>
                  <a:lnTo>
                    <a:pt x="508" y="180"/>
                  </a:lnTo>
                  <a:lnTo>
                    <a:pt x="468" y="148"/>
                  </a:lnTo>
                  <a:lnTo>
                    <a:pt x="431" y="121"/>
                  </a:lnTo>
                  <a:lnTo>
                    <a:pt x="397" y="98"/>
                  </a:lnTo>
                  <a:lnTo>
                    <a:pt x="366" y="77"/>
                  </a:lnTo>
                  <a:lnTo>
                    <a:pt x="340" y="59"/>
                  </a:lnTo>
                  <a:lnTo>
                    <a:pt x="317" y="44"/>
                  </a:lnTo>
                  <a:lnTo>
                    <a:pt x="297" y="32"/>
                  </a:lnTo>
                  <a:lnTo>
                    <a:pt x="278" y="22"/>
                  </a:lnTo>
                  <a:lnTo>
                    <a:pt x="263" y="14"/>
                  </a:lnTo>
                  <a:lnTo>
                    <a:pt x="251" y="10"/>
                  </a:lnTo>
                  <a:lnTo>
                    <a:pt x="240" y="5"/>
                  </a:lnTo>
                  <a:lnTo>
                    <a:pt x="231" y="2"/>
                  </a:lnTo>
                  <a:lnTo>
                    <a:pt x="224" y="0"/>
                  </a:lnTo>
                  <a:lnTo>
                    <a:pt x="214" y="0"/>
                  </a:lnTo>
                  <a:lnTo>
                    <a:pt x="207" y="0"/>
                  </a:lnTo>
                  <a:close/>
                  <a:moveTo>
                    <a:pt x="85" y="964"/>
                  </a:moveTo>
                  <a:lnTo>
                    <a:pt x="78" y="926"/>
                  </a:lnTo>
                  <a:lnTo>
                    <a:pt x="75" y="889"/>
                  </a:lnTo>
                  <a:lnTo>
                    <a:pt x="72" y="851"/>
                  </a:lnTo>
                  <a:lnTo>
                    <a:pt x="72" y="812"/>
                  </a:lnTo>
                  <a:lnTo>
                    <a:pt x="72" y="785"/>
                  </a:lnTo>
                  <a:lnTo>
                    <a:pt x="73" y="756"/>
                  </a:lnTo>
                  <a:lnTo>
                    <a:pt x="75" y="728"/>
                  </a:lnTo>
                  <a:lnTo>
                    <a:pt x="77" y="698"/>
                  </a:lnTo>
                  <a:lnTo>
                    <a:pt x="83" y="641"/>
                  </a:lnTo>
                  <a:lnTo>
                    <a:pt x="92" y="585"/>
                  </a:lnTo>
                  <a:lnTo>
                    <a:pt x="102" y="528"/>
                  </a:lnTo>
                  <a:lnTo>
                    <a:pt x="113" y="474"/>
                  </a:lnTo>
                  <a:lnTo>
                    <a:pt x="126" y="420"/>
                  </a:lnTo>
                  <a:lnTo>
                    <a:pt x="138" y="369"/>
                  </a:lnTo>
                  <a:lnTo>
                    <a:pt x="152" y="321"/>
                  </a:lnTo>
                  <a:lnTo>
                    <a:pt x="165" y="275"/>
                  </a:lnTo>
                  <a:lnTo>
                    <a:pt x="179" y="232"/>
                  </a:lnTo>
                  <a:lnTo>
                    <a:pt x="191" y="193"/>
                  </a:lnTo>
                  <a:lnTo>
                    <a:pt x="215" y="126"/>
                  </a:lnTo>
                  <a:lnTo>
                    <a:pt x="234" y="79"/>
                  </a:lnTo>
                  <a:lnTo>
                    <a:pt x="263" y="96"/>
                  </a:lnTo>
                  <a:lnTo>
                    <a:pt x="302" y="120"/>
                  </a:lnTo>
                  <a:lnTo>
                    <a:pt x="345" y="150"/>
                  </a:lnTo>
                  <a:lnTo>
                    <a:pt x="393" y="182"/>
                  </a:lnTo>
                  <a:lnTo>
                    <a:pt x="371" y="202"/>
                  </a:lnTo>
                  <a:lnTo>
                    <a:pt x="353" y="223"/>
                  </a:lnTo>
                  <a:lnTo>
                    <a:pt x="335" y="245"/>
                  </a:lnTo>
                  <a:lnTo>
                    <a:pt x="318" y="269"/>
                  </a:lnTo>
                  <a:lnTo>
                    <a:pt x="302" y="295"/>
                  </a:lnTo>
                  <a:lnTo>
                    <a:pt x="286" y="321"/>
                  </a:lnTo>
                  <a:lnTo>
                    <a:pt x="272" y="349"/>
                  </a:lnTo>
                  <a:lnTo>
                    <a:pt x="258" y="378"/>
                  </a:lnTo>
                  <a:lnTo>
                    <a:pt x="246" y="408"/>
                  </a:lnTo>
                  <a:lnTo>
                    <a:pt x="234" y="439"/>
                  </a:lnTo>
                  <a:lnTo>
                    <a:pt x="222" y="470"/>
                  </a:lnTo>
                  <a:lnTo>
                    <a:pt x="211" y="501"/>
                  </a:lnTo>
                  <a:lnTo>
                    <a:pt x="201" y="533"/>
                  </a:lnTo>
                  <a:lnTo>
                    <a:pt x="193" y="565"/>
                  </a:lnTo>
                  <a:lnTo>
                    <a:pt x="184" y="598"/>
                  </a:lnTo>
                  <a:lnTo>
                    <a:pt x="176" y="629"/>
                  </a:lnTo>
                  <a:lnTo>
                    <a:pt x="163" y="693"/>
                  </a:lnTo>
                  <a:lnTo>
                    <a:pt x="152" y="755"/>
                  </a:lnTo>
                  <a:lnTo>
                    <a:pt x="142" y="815"/>
                  </a:lnTo>
                  <a:lnTo>
                    <a:pt x="134" y="871"/>
                  </a:lnTo>
                  <a:lnTo>
                    <a:pt x="128" y="923"/>
                  </a:lnTo>
                  <a:lnTo>
                    <a:pt x="124" y="969"/>
                  </a:lnTo>
                  <a:lnTo>
                    <a:pt x="121" y="1007"/>
                  </a:lnTo>
                  <a:lnTo>
                    <a:pt x="119" y="1038"/>
                  </a:lnTo>
                  <a:lnTo>
                    <a:pt x="107" y="1037"/>
                  </a:lnTo>
                  <a:lnTo>
                    <a:pt x="96" y="1036"/>
                  </a:lnTo>
                  <a:lnTo>
                    <a:pt x="92" y="1013"/>
                  </a:lnTo>
                  <a:lnTo>
                    <a:pt x="88" y="990"/>
                  </a:lnTo>
                  <a:lnTo>
                    <a:pt x="86" y="971"/>
                  </a:lnTo>
                  <a:lnTo>
                    <a:pt x="85" y="96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3879720" y="5246640"/>
              <a:ext cx="181080" cy="405000"/>
            </a:xfrm>
            <a:custGeom>
              <a:avLst/>
              <a:gdLst/>
              <a:ahLst/>
              <a:rect l="l" t="t" r="r" b="b"/>
              <a:pathLst>
                <a:path w="456" h="1020">
                  <a:moveTo>
                    <a:pt x="281" y="0"/>
                  </a:moveTo>
                  <a:lnTo>
                    <a:pt x="278" y="7"/>
                  </a:lnTo>
                  <a:lnTo>
                    <a:pt x="269" y="23"/>
                  </a:lnTo>
                  <a:lnTo>
                    <a:pt x="252" y="50"/>
                  </a:lnTo>
                  <a:lnTo>
                    <a:pt x="234" y="85"/>
                  </a:lnTo>
                  <a:lnTo>
                    <a:pt x="210" y="129"/>
                  </a:lnTo>
                  <a:lnTo>
                    <a:pt x="185" y="180"/>
                  </a:lnTo>
                  <a:lnTo>
                    <a:pt x="158" y="237"/>
                  </a:lnTo>
                  <a:lnTo>
                    <a:pt x="131" y="301"/>
                  </a:lnTo>
                  <a:lnTo>
                    <a:pt x="116" y="334"/>
                  </a:lnTo>
                  <a:lnTo>
                    <a:pt x="103" y="369"/>
                  </a:lnTo>
                  <a:lnTo>
                    <a:pt x="90" y="404"/>
                  </a:lnTo>
                  <a:lnTo>
                    <a:pt x="77" y="441"/>
                  </a:lnTo>
                  <a:lnTo>
                    <a:pt x="65" y="477"/>
                  </a:lnTo>
                  <a:lnTo>
                    <a:pt x="52" y="515"/>
                  </a:lnTo>
                  <a:lnTo>
                    <a:pt x="43" y="553"/>
                  </a:lnTo>
                  <a:lnTo>
                    <a:pt x="33" y="591"/>
                  </a:lnTo>
                  <a:lnTo>
                    <a:pt x="24" y="631"/>
                  </a:lnTo>
                  <a:lnTo>
                    <a:pt x="16" y="669"/>
                  </a:lnTo>
                  <a:lnTo>
                    <a:pt x="10" y="709"/>
                  </a:lnTo>
                  <a:lnTo>
                    <a:pt x="5" y="747"/>
                  </a:lnTo>
                  <a:lnTo>
                    <a:pt x="2" y="786"/>
                  </a:lnTo>
                  <a:lnTo>
                    <a:pt x="0" y="826"/>
                  </a:lnTo>
                  <a:lnTo>
                    <a:pt x="0" y="863"/>
                  </a:lnTo>
                  <a:lnTo>
                    <a:pt x="2" y="901"/>
                  </a:lnTo>
                  <a:lnTo>
                    <a:pt x="10" y="1002"/>
                  </a:lnTo>
                  <a:lnTo>
                    <a:pt x="96" y="1020"/>
                  </a:lnTo>
                  <a:lnTo>
                    <a:pt x="97" y="1013"/>
                  </a:lnTo>
                  <a:lnTo>
                    <a:pt x="100" y="988"/>
                  </a:lnTo>
                  <a:lnTo>
                    <a:pt x="105" y="951"/>
                  </a:lnTo>
                  <a:lnTo>
                    <a:pt x="112" y="901"/>
                  </a:lnTo>
                  <a:lnTo>
                    <a:pt x="121" y="842"/>
                  </a:lnTo>
                  <a:lnTo>
                    <a:pt x="133" y="776"/>
                  </a:lnTo>
                  <a:lnTo>
                    <a:pt x="149" y="703"/>
                  </a:lnTo>
                  <a:lnTo>
                    <a:pt x="168" y="627"/>
                  </a:lnTo>
                  <a:lnTo>
                    <a:pt x="178" y="587"/>
                  </a:lnTo>
                  <a:lnTo>
                    <a:pt x="189" y="549"/>
                  </a:lnTo>
                  <a:lnTo>
                    <a:pt x="201" y="509"/>
                  </a:lnTo>
                  <a:lnTo>
                    <a:pt x="215" y="471"/>
                  </a:lnTo>
                  <a:lnTo>
                    <a:pt x="229" y="432"/>
                  </a:lnTo>
                  <a:lnTo>
                    <a:pt x="245" y="395"/>
                  </a:lnTo>
                  <a:lnTo>
                    <a:pt x="261" y="359"/>
                  </a:lnTo>
                  <a:lnTo>
                    <a:pt x="278" y="324"/>
                  </a:lnTo>
                  <a:lnTo>
                    <a:pt x="296" y="291"/>
                  </a:lnTo>
                  <a:lnTo>
                    <a:pt x="316" y="259"/>
                  </a:lnTo>
                  <a:lnTo>
                    <a:pt x="336" y="229"/>
                  </a:lnTo>
                  <a:lnTo>
                    <a:pt x="358" y="201"/>
                  </a:lnTo>
                  <a:lnTo>
                    <a:pt x="380" y="177"/>
                  </a:lnTo>
                  <a:lnTo>
                    <a:pt x="404" y="154"/>
                  </a:lnTo>
                  <a:lnTo>
                    <a:pt x="430" y="136"/>
                  </a:lnTo>
                  <a:lnTo>
                    <a:pt x="456" y="120"/>
                  </a:lnTo>
                  <a:lnTo>
                    <a:pt x="434" y="101"/>
                  </a:lnTo>
                  <a:lnTo>
                    <a:pt x="383" y="60"/>
                  </a:lnTo>
                  <a:lnTo>
                    <a:pt x="353" y="38"/>
                  </a:lnTo>
                  <a:lnTo>
                    <a:pt x="324" y="19"/>
                  </a:lnTo>
                  <a:lnTo>
                    <a:pt x="311" y="12"/>
                  </a:lnTo>
                  <a:lnTo>
                    <a:pt x="300" y="5"/>
                  </a:lnTo>
                  <a:lnTo>
                    <a:pt x="290" y="2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3865680" y="5232240"/>
              <a:ext cx="220680" cy="436680"/>
            </a:xfrm>
            <a:custGeom>
              <a:avLst/>
              <a:gdLst/>
              <a:ahLst/>
              <a:rect l="l" t="t" r="r" b="b"/>
              <a:pathLst>
                <a:path w="555" h="1099">
                  <a:moveTo>
                    <a:pt x="316" y="0"/>
                  </a:moveTo>
                  <a:lnTo>
                    <a:pt x="297" y="0"/>
                  </a:lnTo>
                  <a:lnTo>
                    <a:pt x="287" y="16"/>
                  </a:lnTo>
                  <a:lnTo>
                    <a:pt x="281" y="26"/>
                  </a:lnTo>
                  <a:lnTo>
                    <a:pt x="270" y="46"/>
                  </a:lnTo>
                  <a:lnTo>
                    <a:pt x="254" y="74"/>
                  </a:lnTo>
                  <a:lnTo>
                    <a:pt x="232" y="111"/>
                  </a:lnTo>
                  <a:lnTo>
                    <a:pt x="209" y="157"/>
                  </a:lnTo>
                  <a:lnTo>
                    <a:pt x="183" y="209"/>
                  </a:lnTo>
                  <a:lnTo>
                    <a:pt x="156" y="268"/>
                  </a:lnTo>
                  <a:lnTo>
                    <a:pt x="128" y="332"/>
                  </a:lnTo>
                  <a:lnTo>
                    <a:pt x="115" y="366"/>
                  </a:lnTo>
                  <a:lnTo>
                    <a:pt x="101" y="400"/>
                  </a:lnTo>
                  <a:lnTo>
                    <a:pt x="87" y="436"/>
                  </a:lnTo>
                  <a:lnTo>
                    <a:pt x="75" y="472"/>
                  </a:lnTo>
                  <a:lnTo>
                    <a:pt x="64" y="510"/>
                  </a:lnTo>
                  <a:lnTo>
                    <a:pt x="52" y="548"/>
                  </a:lnTo>
                  <a:lnTo>
                    <a:pt x="41" y="587"/>
                  </a:lnTo>
                  <a:lnTo>
                    <a:pt x="31" y="625"/>
                  </a:lnTo>
                  <a:lnTo>
                    <a:pt x="23" y="663"/>
                  </a:lnTo>
                  <a:lnTo>
                    <a:pt x="16" y="703"/>
                  </a:lnTo>
                  <a:lnTo>
                    <a:pt x="10" y="743"/>
                  </a:lnTo>
                  <a:lnTo>
                    <a:pt x="5" y="783"/>
                  </a:lnTo>
                  <a:lnTo>
                    <a:pt x="2" y="821"/>
                  </a:lnTo>
                  <a:lnTo>
                    <a:pt x="0" y="861"/>
                  </a:lnTo>
                  <a:lnTo>
                    <a:pt x="0" y="899"/>
                  </a:lnTo>
                  <a:lnTo>
                    <a:pt x="3" y="938"/>
                  </a:lnTo>
                  <a:lnTo>
                    <a:pt x="13" y="1064"/>
                  </a:lnTo>
                  <a:lnTo>
                    <a:pt x="164" y="1099"/>
                  </a:lnTo>
                  <a:lnTo>
                    <a:pt x="168" y="1058"/>
                  </a:lnTo>
                  <a:lnTo>
                    <a:pt x="168" y="1048"/>
                  </a:lnTo>
                  <a:lnTo>
                    <a:pt x="172" y="1025"/>
                  </a:lnTo>
                  <a:lnTo>
                    <a:pt x="177" y="987"/>
                  </a:lnTo>
                  <a:lnTo>
                    <a:pt x="183" y="938"/>
                  </a:lnTo>
                  <a:lnTo>
                    <a:pt x="193" y="881"/>
                  </a:lnTo>
                  <a:lnTo>
                    <a:pt x="205" y="816"/>
                  </a:lnTo>
                  <a:lnTo>
                    <a:pt x="220" y="745"/>
                  </a:lnTo>
                  <a:lnTo>
                    <a:pt x="237" y="671"/>
                  </a:lnTo>
                  <a:lnTo>
                    <a:pt x="247" y="634"/>
                  </a:lnTo>
                  <a:lnTo>
                    <a:pt x="259" y="596"/>
                  </a:lnTo>
                  <a:lnTo>
                    <a:pt x="270" y="558"/>
                  </a:lnTo>
                  <a:lnTo>
                    <a:pt x="283" y="521"/>
                  </a:lnTo>
                  <a:lnTo>
                    <a:pt x="296" y="485"/>
                  </a:lnTo>
                  <a:lnTo>
                    <a:pt x="311" y="449"/>
                  </a:lnTo>
                  <a:lnTo>
                    <a:pt x="326" y="413"/>
                  </a:lnTo>
                  <a:lnTo>
                    <a:pt x="342" y="379"/>
                  </a:lnTo>
                  <a:lnTo>
                    <a:pt x="359" y="347"/>
                  </a:lnTo>
                  <a:lnTo>
                    <a:pt x="378" y="317"/>
                  </a:lnTo>
                  <a:lnTo>
                    <a:pt x="396" y="289"/>
                  </a:lnTo>
                  <a:lnTo>
                    <a:pt x="416" y="263"/>
                  </a:lnTo>
                  <a:lnTo>
                    <a:pt x="439" y="239"/>
                  </a:lnTo>
                  <a:lnTo>
                    <a:pt x="461" y="218"/>
                  </a:lnTo>
                  <a:lnTo>
                    <a:pt x="483" y="201"/>
                  </a:lnTo>
                  <a:lnTo>
                    <a:pt x="508" y="186"/>
                  </a:lnTo>
                  <a:lnTo>
                    <a:pt x="555" y="161"/>
                  </a:lnTo>
                  <a:lnTo>
                    <a:pt x="516" y="126"/>
                  </a:lnTo>
                  <a:lnTo>
                    <a:pt x="480" y="96"/>
                  </a:lnTo>
                  <a:lnTo>
                    <a:pt x="447" y="70"/>
                  </a:lnTo>
                  <a:lnTo>
                    <a:pt x="418" y="48"/>
                  </a:lnTo>
                  <a:lnTo>
                    <a:pt x="391" y="31"/>
                  </a:lnTo>
                  <a:lnTo>
                    <a:pt x="368" y="17"/>
                  </a:lnTo>
                  <a:lnTo>
                    <a:pt x="347" y="7"/>
                  </a:lnTo>
                  <a:lnTo>
                    <a:pt x="338" y="3"/>
                  </a:lnTo>
                  <a:lnTo>
                    <a:pt x="331" y="1"/>
                  </a:lnTo>
                  <a:lnTo>
                    <a:pt x="322" y="0"/>
                  </a:lnTo>
                  <a:lnTo>
                    <a:pt x="316" y="0"/>
                  </a:lnTo>
                  <a:close/>
                  <a:moveTo>
                    <a:pt x="74" y="933"/>
                  </a:moveTo>
                  <a:lnTo>
                    <a:pt x="72" y="919"/>
                  </a:lnTo>
                  <a:lnTo>
                    <a:pt x="72" y="905"/>
                  </a:lnTo>
                  <a:lnTo>
                    <a:pt x="72" y="892"/>
                  </a:lnTo>
                  <a:lnTo>
                    <a:pt x="71" y="877"/>
                  </a:lnTo>
                  <a:lnTo>
                    <a:pt x="72" y="847"/>
                  </a:lnTo>
                  <a:lnTo>
                    <a:pt x="74" y="816"/>
                  </a:lnTo>
                  <a:lnTo>
                    <a:pt x="76" y="785"/>
                  </a:lnTo>
                  <a:lnTo>
                    <a:pt x="81" y="754"/>
                  </a:lnTo>
                  <a:lnTo>
                    <a:pt x="85" y="723"/>
                  </a:lnTo>
                  <a:lnTo>
                    <a:pt x="91" y="692"/>
                  </a:lnTo>
                  <a:lnTo>
                    <a:pt x="97" y="661"/>
                  </a:lnTo>
                  <a:lnTo>
                    <a:pt x="105" y="630"/>
                  </a:lnTo>
                  <a:lnTo>
                    <a:pt x="121" y="569"/>
                  </a:lnTo>
                  <a:lnTo>
                    <a:pt x="139" y="510"/>
                  </a:lnTo>
                  <a:lnTo>
                    <a:pt x="159" y="451"/>
                  </a:lnTo>
                  <a:lnTo>
                    <a:pt x="180" y="395"/>
                  </a:lnTo>
                  <a:lnTo>
                    <a:pt x="203" y="342"/>
                  </a:lnTo>
                  <a:lnTo>
                    <a:pt x="224" y="291"/>
                  </a:lnTo>
                  <a:lnTo>
                    <a:pt x="246" y="244"/>
                  </a:lnTo>
                  <a:lnTo>
                    <a:pt x="267" y="202"/>
                  </a:lnTo>
                  <a:lnTo>
                    <a:pt x="305" y="130"/>
                  </a:lnTo>
                  <a:lnTo>
                    <a:pt x="332" y="80"/>
                  </a:lnTo>
                  <a:lnTo>
                    <a:pt x="352" y="92"/>
                  </a:lnTo>
                  <a:lnTo>
                    <a:pt x="377" y="109"/>
                  </a:lnTo>
                  <a:lnTo>
                    <a:pt x="405" y="130"/>
                  </a:lnTo>
                  <a:lnTo>
                    <a:pt x="436" y="155"/>
                  </a:lnTo>
                  <a:lnTo>
                    <a:pt x="414" y="172"/>
                  </a:lnTo>
                  <a:lnTo>
                    <a:pt x="394" y="192"/>
                  </a:lnTo>
                  <a:lnTo>
                    <a:pt x="374" y="213"/>
                  </a:lnTo>
                  <a:lnTo>
                    <a:pt x="355" y="235"/>
                  </a:lnTo>
                  <a:lnTo>
                    <a:pt x="337" y="260"/>
                  </a:lnTo>
                  <a:lnTo>
                    <a:pt x="319" y="286"/>
                  </a:lnTo>
                  <a:lnTo>
                    <a:pt x="303" y="314"/>
                  </a:lnTo>
                  <a:lnTo>
                    <a:pt x="287" y="341"/>
                  </a:lnTo>
                  <a:lnTo>
                    <a:pt x="272" y="371"/>
                  </a:lnTo>
                  <a:lnTo>
                    <a:pt x="259" y="400"/>
                  </a:lnTo>
                  <a:lnTo>
                    <a:pt x="245" y="431"/>
                  </a:lnTo>
                  <a:lnTo>
                    <a:pt x="231" y="462"/>
                  </a:lnTo>
                  <a:lnTo>
                    <a:pt x="220" y="495"/>
                  </a:lnTo>
                  <a:lnTo>
                    <a:pt x="208" y="527"/>
                  </a:lnTo>
                  <a:lnTo>
                    <a:pt x="198" y="559"/>
                  </a:lnTo>
                  <a:lnTo>
                    <a:pt x="188" y="592"/>
                  </a:lnTo>
                  <a:lnTo>
                    <a:pt x="169" y="657"/>
                  </a:lnTo>
                  <a:lnTo>
                    <a:pt x="153" y="721"/>
                  </a:lnTo>
                  <a:lnTo>
                    <a:pt x="139" y="781"/>
                  </a:lnTo>
                  <a:lnTo>
                    <a:pt x="128" y="838"/>
                  </a:lnTo>
                  <a:lnTo>
                    <a:pt x="118" y="891"/>
                  </a:lnTo>
                  <a:lnTo>
                    <a:pt x="111" y="938"/>
                  </a:lnTo>
                  <a:lnTo>
                    <a:pt x="105" y="979"/>
                  </a:lnTo>
                  <a:lnTo>
                    <a:pt x="101" y="1011"/>
                  </a:lnTo>
                  <a:lnTo>
                    <a:pt x="90" y="1008"/>
                  </a:lnTo>
                  <a:lnTo>
                    <a:pt x="80" y="1006"/>
                  </a:lnTo>
                  <a:lnTo>
                    <a:pt x="77" y="982"/>
                  </a:lnTo>
                  <a:lnTo>
                    <a:pt x="76" y="959"/>
                  </a:lnTo>
                  <a:lnTo>
                    <a:pt x="75" y="940"/>
                  </a:lnTo>
                  <a:lnTo>
                    <a:pt x="74" y="93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3895560" y="5283360"/>
              <a:ext cx="219240" cy="390240"/>
            </a:xfrm>
            <a:custGeom>
              <a:avLst/>
              <a:gdLst/>
              <a:ahLst/>
              <a:rect l="l" t="t" r="r" b="b"/>
              <a:pathLst>
                <a:path w="550" h="984">
                  <a:moveTo>
                    <a:pt x="392" y="0"/>
                  </a:moveTo>
                  <a:lnTo>
                    <a:pt x="376" y="21"/>
                  </a:lnTo>
                  <a:lnTo>
                    <a:pt x="334" y="77"/>
                  </a:lnTo>
                  <a:lnTo>
                    <a:pt x="306" y="117"/>
                  </a:lnTo>
                  <a:lnTo>
                    <a:pt x="274" y="164"/>
                  </a:lnTo>
                  <a:lnTo>
                    <a:pt x="240" y="217"/>
                  </a:lnTo>
                  <a:lnTo>
                    <a:pt x="205" y="276"/>
                  </a:lnTo>
                  <a:lnTo>
                    <a:pt x="188" y="307"/>
                  </a:lnTo>
                  <a:lnTo>
                    <a:pt x="170" y="339"/>
                  </a:lnTo>
                  <a:lnTo>
                    <a:pt x="153" y="371"/>
                  </a:lnTo>
                  <a:lnTo>
                    <a:pt x="135" y="406"/>
                  </a:lnTo>
                  <a:lnTo>
                    <a:pt x="118" y="441"/>
                  </a:lnTo>
                  <a:lnTo>
                    <a:pt x="103" y="475"/>
                  </a:lnTo>
                  <a:lnTo>
                    <a:pt x="87" y="513"/>
                  </a:lnTo>
                  <a:lnTo>
                    <a:pt x="73" y="549"/>
                  </a:lnTo>
                  <a:lnTo>
                    <a:pt x="60" y="586"/>
                  </a:lnTo>
                  <a:lnTo>
                    <a:pt x="47" y="623"/>
                  </a:lnTo>
                  <a:lnTo>
                    <a:pt x="36" y="662"/>
                  </a:lnTo>
                  <a:lnTo>
                    <a:pt x="26" y="699"/>
                  </a:lnTo>
                  <a:lnTo>
                    <a:pt x="19" y="737"/>
                  </a:lnTo>
                  <a:lnTo>
                    <a:pt x="12" y="776"/>
                  </a:lnTo>
                  <a:lnTo>
                    <a:pt x="7" y="813"/>
                  </a:lnTo>
                  <a:lnTo>
                    <a:pt x="5" y="851"/>
                  </a:lnTo>
                  <a:lnTo>
                    <a:pt x="0" y="952"/>
                  </a:lnTo>
                  <a:lnTo>
                    <a:pt x="82" y="984"/>
                  </a:lnTo>
                  <a:lnTo>
                    <a:pt x="91" y="952"/>
                  </a:lnTo>
                  <a:lnTo>
                    <a:pt x="113" y="868"/>
                  </a:lnTo>
                  <a:lnTo>
                    <a:pt x="129" y="810"/>
                  </a:lnTo>
                  <a:lnTo>
                    <a:pt x="150" y="746"/>
                  </a:lnTo>
                  <a:lnTo>
                    <a:pt x="174" y="676"/>
                  </a:lnTo>
                  <a:lnTo>
                    <a:pt x="202" y="603"/>
                  </a:lnTo>
                  <a:lnTo>
                    <a:pt x="217" y="567"/>
                  </a:lnTo>
                  <a:lnTo>
                    <a:pt x="233" y="530"/>
                  </a:lnTo>
                  <a:lnTo>
                    <a:pt x="251" y="493"/>
                  </a:lnTo>
                  <a:lnTo>
                    <a:pt x="268" y="457"/>
                  </a:lnTo>
                  <a:lnTo>
                    <a:pt x="287" y="421"/>
                  </a:lnTo>
                  <a:lnTo>
                    <a:pt x="307" y="386"/>
                  </a:lnTo>
                  <a:lnTo>
                    <a:pt x="328" y="353"/>
                  </a:lnTo>
                  <a:lnTo>
                    <a:pt x="349" y="320"/>
                  </a:lnTo>
                  <a:lnTo>
                    <a:pt x="371" y="289"/>
                  </a:lnTo>
                  <a:lnTo>
                    <a:pt x="394" y="261"/>
                  </a:lnTo>
                  <a:lnTo>
                    <a:pt x="419" y="235"/>
                  </a:lnTo>
                  <a:lnTo>
                    <a:pt x="443" y="211"/>
                  </a:lnTo>
                  <a:lnTo>
                    <a:pt x="468" y="190"/>
                  </a:lnTo>
                  <a:lnTo>
                    <a:pt x="494" y="171"/>
                  </a:lnTo>
                  <a:lnTo>
                    <a:pt x="522" y="157"/>
                  </a:lnTo>
                  <a:lnTo>
                    <a:pt x="550" y="144"/>
                  </a:lnTo>
                  <a:lnTo>
                    <a:pt x="530" y="123"/>
                  </a:lnTo>
                  <a:lnTo>
                    <a:pt x="484" y="75"/>
                  </a:lnTo>
                  <a:lnTo>
                    <a:pt x="458" y="49"/>
                  </a:lnTo>
                  <a:lnTo>
                    <a:pt x="432" y="25"/>
                  </a:lnTo>
                  <a:lnTo>
                    <a:pt x="420" y="15"/>
                  </a:lnTo>
                  <a:lnTo>
                    <a:pt x="409" y="8"/>
                  </a:lnTo>
                  <a:lnTo>
                    <a:pt x="400" y="3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3881520" y="5268960"/>
              <a:ext cx="257040" cy="423720"/>
            </a:xfrm>
            <a:custGeom>
              <a:avLst/>
              <a:gdLst/>
              <a:ahLst/>
              <a:rect l="l" t="t" r="r" b="b"/>
              <a:pathLst>
                <a:path w="649" h="1070">
                  <a:moveTo>
                    <a:pt x="401" y="15"/>
                  </a:moveTo>
                  <a:lnTo>
                    <a:pt x="381" y="41"/>
                  </a:lnTo>
                  <a:lnTo>
                    <a:pt x="335" y="102"/>
                  </a:lnTo>
                  <a:lnTo>
                    <a:pt x="306" y="144"/>
                  </a:lnTo>
                  <a:lnTo>
                    <a:pt x="274" y="191"/>
                  </a:lnTo>
                  <a:lnTo>
                    <a:pt x="239" y="246"/>
                  </a:lnTo>
                  <a:lnTo>
                    <a:pt x="205" y="305"/>
                  </a:lnTo>
                  <a:lnTo>
                    <a:pt x="187" y="336"/>
                  </a:lnTo>
                  <a:lnTo>
                    <a:pt x="170" y="369"/>
                  </a:lnTo>
                  <a:lnTo>
                    <a:pt x="153" y="402"/>
                  </a:lnTo>
                  <a:lnTo>
                    <a:pt x="135" y="437"/>
                  </a:lnTo>
                  <a:lnTo>
                    <a:pt x="119" y="472"/>
                  </a:lnTo>
                  <a:lnTo>
                    <a:pt x="103" y="507"/>
                  </a:lnTo>
                  <a:lnTo>
                    <a:pt x="88" y="543"/>
                  </a:lnTo>
                  <a:lnTo>
                    <a:pt x="73" y="581"/>
                  </a:lnTo>
                  <a:lnTo>
                    <a:pt x="61" y="618"/>
                  </a:lnTo>
                  <a:lnTo>
                    <a:pt x="48" y="656"/>
                  </a:lnTo>
                  <a:lnTo>
                    <a:pt x="37" y="694"/>
                  </a:lnTo>
                  <a:lnTo>
                    <a:pt x="27" y="732"/>
                  </a:lnTo>
                  <a:lnTo>
                    <a:pt x="20" y="771"/>
                  </a:lnTo>
                  <a:lnTo>
                    <a:pt x="13" y="809"/>
                  </a:lnTo>
                  <a:lnTo>
                    <a:pt x="8" y="847"/>
                  </a:lnTo>
                  <a:lnTo>
                    <a:pt x="6" y="886"/>
                  </a:lnTo>
                  <a:lnTo>
                    <a:pt x="0" y="1012"/>
                  </a:lnTo>
                  <a:lnTo>
                    <a:pt x="145" y="1070"/>
                  </a:lnTo>
                  <a:lnTo>
                    <a:pt x="155" y="1029"/>
                  </a:lnTo>
                  <a:lnTo>
                    <a:pt x="162" y="995"/>
                  </a:lnTo>
                  <a:lnTo>
                    <a:pt x="185" y="912"/>
                  </a:lnTo>
                  <a:lnTo>
                    <a:pt x="201" y="856"/>
                  </a:lnTo>
                  <a:lnTo>
                    <a:pt x="221" y="794"/>
                  </a:lnTo>
                  <a:lnTo>
                    <a:pt x="244" y="726"/>
                  </a:lnTo>
                  <a:lnTo>
                    <a:pt x="272" y="656"/>
                  </a:lnTo>
                  <a:lnTo>
                    <a:pt x="287" y="620"/>
                  </a:lnTo>
                  <a:lnTo>
                    <a:pt x="302" y="584"/>
                  </a:lnTo>
                  <a:lnTo>
                    <a:pt x="318" y="548"/>
                  </a:lnTo>
                  <a:lnTo>
                    <a:pt x="335" y="514"/>
                  </a:lnTo>
                  <a:lnTo>
                    <a:pt x="352" y="479"/>
                  </a:lnTo>
                  <a:lnTo>
                    <a:pt x="371" y="445"/>
                  </a:lnTo>
                  <a:lnTo>
                    <a:pt x="391" y="413"/>
                  </a:lnTo>
                  <a:lnTo>
                    <a:pt x="411" y="382"/>
                  </a:lnTo>
                  <a:lnTo>
                    <a:pt x="432" y="354"/>
                  </a:lnTo>
                  <a:lnTo>
                    <a:pt x="453" y="326"/>
                  </a:lnTo>
                  <a:lnTo>
                    <a:pt x="475" y="302"/>
                  </a:lnTo>
                  <a:lnTo>
                    <a:pt x="499" y="278"/>
                  </a:lnTo>
                  <a:lnTo>
                    <a:pt x="523" y="258"/>
                  </a:lnTo>
                  <a:lnTo>
                    <a:pt x="547" y="241"/>
                  </a:lnTo>
                  <a:lnTo>
                    <a:pt x="572" y="226"/>
                  </a:lnTo>
                  <a:lnTo>
                    <a:pt x="600" y="215"/>
                  </a:lnTo>
                  <a:lnTo>
                    <a:pt x="649" y="197"/>
                  </a:lnTo>
                  <a:lnTo>
                    <a:pt x="614" y="158"/>
                  </a:lnTo>
                  <a:lnTo>
                    <a:pt x="582" y="123"/>
                  </a:lnTo>
                  <a:lnTo>
                    <a:pt x="554" y="92"/>
                  </a:lnTo>
                  <a:lnTo>
                    <a:pt x="528" y="66"/>
                  </a:lnTo>
                  <a:lnTo>
                    <a:pt x="503" y="45"/>
                  </a:lnTo>
                  <a:lnTo>
                    <a:pt x="482" y="27"/>
                  </a:lnTo>
                  <a:lnTo>
                    <a:pt x="463" y="15"/>
                  </a:lnTo>
                  <a:lnTo>
                    <a:pt x="454" y="10"/>
                  </a:lnTo>
                  <a:lnTo>
                    <a:pt x="447" y="6"/>
                  </a:lnTo>
                  <a:lnTo>
                    <a:pt x="439" y="4"/>
                  </a:lnTo>
                  <a:lnTo>
                    <a:pt x="433" y="3"/>
                  </a:lnTo>
                  <a:lnTo>
                    <a:pt x="413" y="0"/>
                  </a:lnTo>
                  <a:lnTo>
                    <a:pt x="401" y="15"/>
                  </a:lnTo>
                  <a:close/>
                  <a:moveTo>
                    <a:pt x="77" y="890"/>
                  </a:moveTo>
                  <a:lnTo>
                    <a:pt x="79" y="859"/>
                  </a:lnTo>
                  <a:lnTo>
                    <a:pt x="83" y="826"/>
                  </a:lnTo>
                  <a:lnTo>
                    <a:pt x="88" y="795"/>
                  </a:lnTo>
                  <a:lnTo>
                    <a:pt x="94" y="763"/>
                  </a:lnTo>
                  <a:lnTo>
                    <a:pt x="102" y="732"/>
                  </a:lnTo>
                  <a:lnTo>
                    <a:pt x="110" y="700"/>
                  </a:lnTo>
                  <a:lnTo>
                    <a:pt x="119" y="669"/>
                  </a:lnTo>
                  <a:lnTo>
                    <a:pt x="129" y="637"/>
                  </a:lnTo>
                  <a:lnTo>
                    <a:pt x="140" y="606"/>
                  </a:lnTo>
                  <a:lnTo>
                    <a:pt x="153" y="574"/>
                  </a:lnTo>
                  <a:lnTo>
                    <a:pt x="165" y="545"/>
                  </a:lnTo>
                  <a:lnTo>
                    <a:pt x="179" y="514"/>
                  </a:lnTo>
                  <a:lnTo>
                    <a:pt x="206" y="455"/>
                  </a:lnTo>
                  <a:lnTo>
                    <a:pt x="236" y="398"/>
                  </a:lnTo>
                  <a:lnTo>
                    <a:pt x="264" y="345"/>
                  </a:lnTo>
                  <a:lnTo>
                    <a:pt x="294" y="294"/>
                  </a:lnTo>
                  <a:lnTo>
                    <a:pt x="324" y="247"/>
                  </a:lnTo>
                  <a:lnTo>
                    <a:pt x="352" y="205"/>
                  </a:lnTo>
                  <a:lnTo>
                    <a:pt x="401" y="134"/>
                  </a:lnTo>
                  <a:lnTo>
                    <a:pt x="437" y="86"/>
                  </a:lnTo>
                  <a:lnTo>
                    <a:pt x="456" y="99"/>
                  </a:lnTo>
                  <a:lnTo>
                    <a:pt x="478" y="120"/>
                  </a:lnTo>
                  <a:lnTo>
                    <a:pt x="504" y="145"/>
                  </a:lnTo>
                  <a:lnTo>
                    <a:pt x="531" y="174"/>
                  </a:lnTo>
                  <a:lnTo>
                    <a:pt x="508" y="189"/>
                  </a:lnTo>
                  <a:lnTo>
                    <a:pt x="485" y="205"/>
                  </a:lnTo>
                  <a:lnTo>
                    <a:pt x="463" y="223"/>
                  </a:lnTo>
                  <a:lnTo>
                    <a:pt x="442" y="242"/>
                  </a:lnTo>
                  <a:lnTo>
                    <a:pt x="421" y="264"/>
                  </a:lnTo>
                  <a:lnTo>
                    <a:pt x="401" y="287"/>
                  </a:lnTo>
                  <a:lnTo>
                    <a:pt x="381" y="311"/>
                  </a:lnTo>
                  <a:lnTo>
                    <a:pt x="362" y="338"/>
                  </a:lnTo>
                  <a:lnTo>
                    <a:pt x="344" y="364"/>
                  </a:lnTo>
                  <a:lnTo>
                    <a:pt x="326" y="391"/>
                  </a:lnTo>
                  <a:lnTo>
                    <a:pt x="309" y="419"/>
                  </a:lnTo>
                  <a:lnTo>
                    <a:pt x="292" y="449"/>
                  </a:lnTo>
                  <a:lnTo>
                    <a:pt x="277" y="479"/>
                  </a:lnTo>
                  <a:lnTo>
                    <a:pt x="261" y="509"/>
                  </a:lnTo>
                  <a:lnTo>
                    <a:pt x="247" y="540"/>
                  </a:lnTo>
                  <a:lnTo>
                    <a:pt x="232" y="570"/>
                  </a:lnTo>
                  <a:lnTo>
                    <a:pt x="206" y="632"/>
                  </a:lnTo>
                  <a:lnTo>
                    <a:pt x="182" y="691"/>
                  </a:lnTo>
                  <a:lnTo>
                    <a:pt x="161" y="749"/>
                  </a:lnTo>
                  <a:lnTo>
                    <a:pt x="143" y="804"/>
                  </a:lnTo>
                  <a:lnTo>
                    <a:pt x="126" y="856"/>
                  </a:lnTo>
                  <a:lnTo>
                    <a:pt x="114" y="901"/>
                  </a:lnTo>
                  <a:lnTo>
                    <a:pt x="103" y="940"/>
                  </a:lnTo>
                  <a:lnTo>
                    <a:pt x="94" y="973"/>
                  </a:lnTo>
                  <a:lnTo>
                    <a:pt x="83" y="968"/>
                  </a:lnTo>
                  <a:lnTo>
                    <a:pt x="74" y="964"/>
                  </a:lnTo>
                  <a:lnTo>
                    <a:pt x="76" y="940"/>
                  </a:lnTo>
                  <a:lnTo>
                    <a:pt x="76" y="917"/>
                  </a:lnTo>
                  <a:lnTo>
                    <a:pt x="77" y="897"/>
                  </a:lnTo>
                  <a:lnTo>
                    <a:pt x="77" y="89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3892680" y="5334120"/>
              <a:ext cx="284040" cy="353880"/>
            </a:xfrm>
            <a:custGeom>
              <a:avLst/>
              <a:gdLst/>
              <a:ahLst/>
              <a:rect l="l" t="t" r="r" b="b"/>
              <a:pathLst>
                <a:path w="714" h="893">
                  <a:moveTo>
                    <a:pt x="560" y="0"/>
                  </a:moveTo>
                  <a:lnTo>
                    <a:pt x="535" y="15"/>
                  </a:lnTo>
                  <a:lnTo>
                    <a:pt x="484" y="48"/>
                  </a:lnTo>
                  <a:lnTo>
                    <a:pt x="451" y="72"/>
                  </a:lnTo>
                  <a:lnTo>
                    <a:pt x="413" y="100"/>
                  </a:lnTo>
                  <a:lnTo>
                    <a:pt x="393" y="118"/>
                  </a:lnTo>
                  <a:lnTo>
                    <a:pt x="374" y="135"/>
                  </a:lnTo>
                  <a:lnTo>
                    <a:pt x="352" y="155"/>
                  </a:lnTo>
                  <a:lnTo>
                    <a:pt x="331" y="176"/>
                  </a:lnTo>
                  <a:lnTo>
                    <a:pt x="309" y="198"/>
                  </a:lnTo>
                  <a:lnTo>
                    <a:pt x="288" y="223"/>
                  </a:lnTo>
                  <a:lnTo>
                    <a:pt x="266" y="249"/>
                  </a:lnTo>
                  <a:lnTo>
                    <a:pt x="243" y="276"/>
                  </a:lnTo>
                  <a:lnTo>
                    <a:pt x="222" y="305"/>
                  </a:lnTo>
                  <a:lnTo>
                    <a:pt x="200" y="336"/>
                  </a:lnTo>
                  <a:lnTo>
                    <a:pt x="179" y="368"/>
                  </a:lnTo>
                  <a:lnTo>
                    <a:pt x="159" y="403"/>
                  </a:lnTo>
                  <a:lnTo>
                    <a:pt x="138" y="439"/>
                  </a:lnTo>
                  <a:lnTo>
                    <a:pt x="119" y="477"/>
                  </a:lnTo>
                  <a:lnTo>
                    <a:pt x="100" y="517"/>
                  </a:lnTo>
                  <a:lnTo>
                    <a:pt x="82" y="558"/>
                  </a:lnTo>
                  <a:lnTo>
                    <a:pt x="66" y="603"/>
                  </a:lnTo>
                  <a:lnTo>
                    <a:pt x="51" y="647"/>
                  </a:lnTo>
                  <a:lnTo>
                    <a:pt x="36" y="696"/>
                  </a:lnTo>
                  <a:lnTo>
                    <a:pt x="23" y="745"/>
                  </a:lnTo>
                  <a:lnTo>
                    <a:pt x="0" y="842"/>
                  </a:lnTo>
                  <a:lnTo>
                    <a:pt x="76" y="893"/>
                  </a:lnTo>
                  <a:lnTo>
                    <a:pt x="89" y="862"/>
                  </a:lnTo>
                  <a:lnTo>
                    <a:pt x="130" y="784"/>
                  </a:lnTo>
                  <a:lnTo>
                    <a:pt x="159" y="731"/>
                  </a:lnTo>
                  <a:lnTo>
                    <a:pt x="194" y="671"/>
                  </a:lnTo>
                  <a:lnTo>
                    <a:pt x="232" y="607"/>
                  </a:lnTo>
                  <a:lnTo>
                    <a:pt x="275" y="541"/>
                  </a:lnTo>
                  <a:lnTo>
                    <a:pt x="298" y="507"/>
                  </a:lnTo>
                  <a:lnTo>
                    <a:pt x="321" y="474"/>
                  </a:lnTo>
                  <a:lnTo>
                    <a:pt x="346" y="442"/>
                  </a:lnTo>
                  <a:lnTo>
                    <a:pt x="371" y="409"/>
                  </a:lnTo>
                  <a:lnTo>
                    <a:pt x="397" y="378"/>
                  </a:lnTo>
                  <a:lnTo>
                    <a:pt x="425" y="347"/>
                  </a:lnTo>
                  <a:lnTo>
                    <a:pt x="452" y="319"/>
                  </a:lnTo>
                  <a:lnTo>
                    <a:pt x="479" y="291"/>
                  </a:lnTo>
                  <a:lnTo>
                    <a:pt x="508" y="267"/>
                  </a:lnTo>
                  <a:lnTo>
                    <a:pt x="536" y="243"/>
                  </a:lnTo>
                  <a:lnTo>
                    <a:pt x="565" y="222"/>
                  </a:lnTo>
                  <a:lnTo>
                    <a:pt x="595" y="203"/>
                  </a:lnTo>
                  <a:lnTo>
                    <a:pt x="624" y="188"/>
                  </a:lnTo>
                  <a:lnTo>
                    <a:pt x="654" y="176"/>
                  </a:lnTo>
                  <a:lnTo>
                    <a:pt x="683" y="167"/>
                  </a:lnTo>
                  <a:lnTo>
                    <a:pt x="714" y="162"/>
                  </a:lnTo>
                  <a:lnTo>
                    <a:pt x="694" y="139"/>
                  </a:lnTo>
                  <a:lnTo>
                    <a:pt x="649" y="85"/>
                  </a:lnTo>
                  <a:lnTo>
                    <a:pt x="623" y="56"/>
                  </a:lnTo>
                  <a:lnTo>
                    <a:pt x="598" y="30"/>
                  </a:lnTo>
                  <a:lnTo>
                    <a:pt x="587" y="18"/>
                  </a:lnTo>
                  <a:lnTo>
                    <a:pt x="577" y="10"/>
                  </a:lnTo>
                  <a:lnTo>
                    <a:pt x="567" y="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3933720" y="5378400"/>
              <a:ext cx="282600" cy="353880"/>
            </a:xfrm>
            <a:custGeom>
              <a:avLst/>
              <a:gdLst/>
              <a:ahLst/>
              <a:rect l="l" t="t" r="r" b="b"/>
              <a:pathLst>
                <a:path w="711" h="893">
                  <a:moveTo>
                    <a:pt x="560" y="0"/>
                  </a:moveTo>
                  <a:lnTo>
                    <a:pt x="541" y="16"/>
                  </a:lnTo>
                  <a:lnTo>
                    <a:pt x="489" y="62"/>
                  </a:lnTo>
                  <a:lnTo>
                    <a:pt x="454" y="94"/>
                  </a:lnTo>
                  <a:lnTo>
                    <a:pt x="414" y="132"/>
                  </a:lnTo>
                  <a:lnTo>
                    <a:pt x="371" y="177"/>
                  </a:lnTo>
                  <a:lnTo>
                    <a:pt x="326" y="227"/>
                  </a:lnTo>
                  <a:lnTo>
                    <a:pt x="303" y="253"/>
                  </a:lnTo>
                  <a:lnTo>
                    <a:pt x="280" y="280"/>
                  </a:lnTo>
                  <a:lnTo>
                    <a:pt x="257" y="309"/>
                  </a:lnTo>
                  <a:lnTo>
                    <a:pt x="233" y="338"/>
                  </a:lnTo>
                  <a:lnTo>
                    <a:pt x="211" y="368"/>
                  </a:lnTo>
                  <a:lnTo>
                    <a:pt x="188" y="400"/>
                  </a:lnTo>
                  <a:lnTo>
                    <a:pt x="167" y="431"/>
                  </a:lnTo>
                  <a:lnTo>
                    <a:pt x="146" y="465"/>
                  </a:lnTo>
                  <a:lnTo>
                    <a:pt x="126" y="498"/>
                  </a:lnTo>
                  <a:lnTo>
                    <a:pt x="106" y="532"/>
                  </a:lnTo>
                  <a:lnTo>
                    <a:pt x="89" y="567"/>
                  </a:lnTo>
                  <a:lnTo>
                    <a:pt x="73" y="601"/>
                  </a:lnTo>
                  <a:lnTo>
                    <a:pt x="58" y="637"/>
                  </a:lnTo>
                  <a:lnTo>
                    <a:pt x="44" y="673"/>
                  </a:lnTo>
                  <a:lnTo>
                    <a:pt x="33" y="709"/>
                  </a:lnTo>
                  <a:lnTo>
                    <a:pt x="23" y="745"/>
                  </a:lnTo>
                  <a:lnTo>
                    <a:pt x="0" y="842"/>
                  </a:lnTo>
                  <a:lnTo>
                    <a:pt x="75" y="893"/>
                  </a:lnTo>
                  <a:lnTo>
                    <a:pt x="89" y="862"/>
                  </a:lnTo>
                  <a:lnTo>
                    <a:pt x="130" y="779"/>
                  </a:lnTo>
                  <a:lnTo>
                    <a:pt x="159" y="724"/>
                  </a:lnTo>
                  <a:lnTo>
                    <a:pt x="192" y="662"/>
                  </a:lnTo>
                  <a:lnTo>
                    <a:pt x="231" y="595"/>
                  </a:lnTo>
                  <a:lnTo>
                    <a:pt x="274" y="527"/>
                  </a:lnTo>
                  <a:lnTo>
                    <a:pt x="296" y="492"/>
                  </a:lnTo>
                  <a:lnTo>
                    <a:pt x="320" y="458"/>
                  </a:lnTo>
                  <a:lnTo>
                    <a:pt x="345" y="423"/>
                  </a:lnTo>
                  <a:lnTo>
                    <a:pt x="370" y="389"/>
                  </a:lnTo>
                  <a:lnTo>
                    <a:pt x="396" y="357"/>
                  </a:lnTo>
                  <a:lnTo>
                    <a:pt x="423" y="326"/>
                  </a:lnTo>
                  <a:lnTo>
                    <a:pt x="450" y="296"/>
                  </a:lnTo>
                  <a:lnTo>
                    <a:pt x="478" y="268"/>
                  </a:lnTo>
                  <a:lnTo>
                    <a:pt x="506" y="242"/>
                  </a:lnTo>
                  <a:lnTo>
                    <a:pt x="535" y="217"/>
                  </a:lnTo>
                  <a:lnTo>
                    <a:pt x="563" y="196"/>
                  </a:lnTo>
                  <a:lnTo>
                    <a:pt x="593" y="177"/>
                  </a:lnTo>
                  <a:lnTo>
                    <a:pt x="622" y="161"/>
                  </a:lnTo>
                  <a:lnTo>
                    <a:pt x="652" y="149"/>
                  </a:lnTo>
                  <a:lnTo>
                    <a:pt x="681" y="140"/>
                  </a:lnTo>
                  <a:lnTo>
                    <a:pt x="711" y="134"/>
                  </a:lnTo>
                  <a:lnTo>
                    <a:pt x="693" y="115"/>
                  </a:lnTo>
                  <a:lnTo>
                    <a:pt x="649" y="72"/>
                  </a:lnTo>
                  <a:lnTo>
                    <a:pt x="623" y="47"/>
                  </a:lnTo>
                  <a:lnTo>
                    <a:pt x="598" y="26"/>
                  </a:lnTo>
                  <a:lnTo>
                    <a:pt x="587" y="16"/>
                  </a:lnTo>
                  <a:lnTo>
                    <a:pt x="576" y="8"/>
                  </a:lnTo>
                  <a:lnTo>
                    <a:pt x="567" y="3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3975120" y="5416560"/>
              <a:ext cx="276120" cy="353880"/>
            </a:xfrm>
            <a:custGeom>
              <a:avLst/>
              <a:gdLst/>
              <a:ahLst/>
              <a:rect l="l" t="t" r="r" b="b"/>
              <a:pathLst>
                <a:path w="698" h="894">
                  <a:moveTo>
                    <a:pt x="567" y="0"/>
                  </a:moveTo>
                  <a:lnTo>
                    <a:pt x="546" y="16"/>
                  </a:lnTo>
                  <a:lnTo>
                    <a:pt x="492" y="59"/>
                  </a:lnTo>
                  <a:lnTo>
                    <a:pt x="454" y="90"/>
                  </a:lnTo>
                  <a:lnTo>
                    <a:pt x="412" y="127"/>
                  </a:lnTo>
                  <a:lnTo>
                    <a:pt x="366" y="169"/>
                  </a:lnTo>
                  <a:lnTo>
                    <a:pt x="318" y="216"/>
                  </a:lnTo>
                  <a:lnTo>
                    <a:pt x="294" y="242"/>
                  </a:lnTo>
                  <a:lnTo>
                    <a:pt x="269" y="268"/>
                  </a:lnTo>
                  <a:lnTo>
                    <a:pt x="245" y="296"/>
                  </a:lnTo>
                  <a:lnTo>
                    <a:pt x="220" y="324"/>
                  </a:lnTo>
                  <a:lnTo>
                    <a:pt x="196" y="354"/>
                  </a:lnTo>
                  <a:lnTo>
                    <a:pt x="173" y="384"/>
                  </a:lnTo>
                  <a:lnTo>
                    <a:pt x="150" y="415"/>
                  </a:lnTo>
                  <a:lnTo>
                    <a:pt x="128" y="447"/>
                  </a:lnTo>
                  <a:lnTo>
                    <a:pt x="107" y="479"/>
                  </a:lnTo>
                  <a:lnTo>
                    <a:pt x="87" y="513"/>
                  </a:lnTo>
                  <a:lnTo>
                    <a:pt x="68" y="546"/>
                  </a:lnTo>
                  <a:lnTo>
                    <a:pt x="51" y="581"/>
                  </a:lnTo>
                  <a:lnTo>
                    <a:pt x="36" y="617"/>
                  </a:lnTo>
                  <a:lnTo>
                    <a:pt x="22" y="652"/>
                  </a:lnTo>
                  <a:lnTo>
                    <a:pt x="10" y="688"/>
                  </a:lnTo>
                  <a:lnTo>
                    <a:pt x="0" y="724"/>
                  </a:lnTo>
                  <a:lnTo>
                    <a:pt x="7" y="844"/>
                  </a:lnTo>
                  <a:lnTo>
                    <a:pt x="82" y="894"/>
                  </a:lnTo>
                  <a:lnTo>
                    <a:pt x="96" y="865"/>
                  </a:lnTo>
                  <a:lnTo>
                    <a:pt x="134" y="789"/>
                  </a:lnTo>
                  <a:lnTo>
                    <a:pt x="161" y="738"/>
                  </a:lnTo>
                  <a:lnTo>
                    <a:pt x="194" y="680"/>
                  </a:lnTo>
                  <a:lnTo>
                    <a:pt x="230" y="619"/>
                  </a:lnTo>
                  <a:lnTo>
                    <a:pt x="271" y="555"/>
                  </a:lnTo>
                  <a:lnTo>
                    <a:pt x="293" y="524"/>
                  </a:lnTo>
                  <a:lnTo>
                    <a:pt x="315" y="492"/>
                  </a:lnTo>
                  <a:lnTo>
                    <a:pt x="339" y="459"/>
                  </a:lnTo>
                  <a:lnTo>
                    <a:pt x="364" y="428"/>
                  </a:lnTo>
                  <a:lnTo>
                    <a:pt x="389" y="399"/>
                  </a:lnTo>
                  <a:lnTo>
                    <a:pt x="415" y="369"/>
                  </a:lnTo>
                  <a:lnTo>
                    <a:pt x="441" y="341"/>
                  </a:lnTo>
                  <a:lnTo>
                    <a:pt x="468" y="315"/>
                  </a:lnTo>
                  <a:lnTo>
                    <a:pt x="495" y="291"/>
                  </a:lnTo>
                  <a:lnTo>
                    <a:pt x="523" y="268"/>
                  </a:lnTo>
                  <a:lnTo>
                    <a:pt x="551" y="248"/>
                  </a:lnTo>
                  <a:lnTo>
                    <a:pt x="580" y="231"/>
                  </a:lnTo>
                  <a:lnTo>
                    <a:pt x="610" y="216"/>
                  </a:lnTo>
                  <a:lnTo>
                    <a:pt x="638" y="204"/>
                  </a:lnTo>
                  <a:lnTo>
                    <a:pt x="668" y="195"/>
                  </a:lnTo>
                  <a:lnTo>
                    <a:pt x="698" y="190"/>
                  </a:lnTo>
                  <a:lnTo>
                    <a:pt x="694" y="183"/>
                  </a:lnTo>
                  <a:lnTo>
                    <a:pt x="683" y="162"/>
                  </a:lnTo>
                  <a:lnTo>
                    <a:pt x="666" y="133"/>
                  </a:lnTo>
                  <a:lnTo>
                    <a:pt x="646" y="100"/>
                  </a:lnTo>
                  <a:lnTo>
                    <a:pt x="623" y="66"/>
                  </a:lnTo>
                  <a:lnTo>
                    <a:pt x="602" y="35"/>
                  </a:lnTo>
                  <a:lnTo>
                    <a:pt x="592" y="23"/>
                  </a:lnTo>
                  <a:lnTo>
                    <a:pt x="582" y="13"/>
                  </a:lnTo>
                  <a:lnTo>
                    <a:pt x="574" y="5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4005360" y="5456160"/>
              <a:ext cx="279360" cy="355680"/>
            </a:xfrm>
            <a:custGeom>
              <a:avLst/>
              <a:gdLst/>
              <a:ahLst/>
              <a:rect l="l" t="t" r="r" b="b"/>
              <a:pathLst>
                <a:path w="706" h="893">
                  <a:moveTo>
                    <a:pt x="560" y="0"/>
                  </a:moveTo>
                  <a:lnTo>
                    <a:pt x="541" y="16"/>
                  </a:lnTo>
                  <a:lnTo>
                    <a:pt x="488" y="62"/>
                  </a:lnTo>
                  <a:lnTo>
                    <a:pt x="454" y="94"/>
                  </a:lnTo>
                  <a:lnTo>
                    <a:pt x="414" y="134"/>
                  </a:lnTo>
                  <a:lnTo>
                    <a:pt x="372" y="177"/>
                  </a:lnTo>
                  <a:lnTo>
                    <a:pt x="326" y="227"/>
                  </a:lnTo>
                  <a:lnTo>
                    <a:pt x="303" y="253"/>
                  </a:lnTo>
                  <a:lnTo>
                    <a:pt x="280" y="280"/>
                  </a:lnTo>
                  <a:lnTo>
                    <a:pt x="256" y="309"/>
                  </a:lnTo>
                  <a:lnTo>
                    <a:pt x="234" y="339"/>
                  </a:lnTo>
                  <a:lnTo>
                    <a:pt x="210" y="370"/>
                  </a:lnTo>
                  <a:lnTo>
                    <a:pt x="188" y="401"/>
                  </a:lnTo>
                  <a:lnTo>
                    <a:pt x="167" y="433"/>
                  </a:lnTo>
                  <a:lnTo>
                    <a:pt x="146" y="465"/>
                  </a:lnTo>
                  <a:lnTo>
                    <a:pt x="126" y="499"/>
                  </a:lnTo>
                  <a:lnTo>
                    <a:pt x="107" y="532"/>
                  </a:lnTo>
                  <a:lnTo>
                    <a:pt x="89" y="567"/>
                  </a:lnTo>
                  <a:lnTo>
                    <a:pt x="72" y="602"/>
                  </a:lnTo>
                  <a:lnTo>
                    <a:pt x="58" y="638"/>
                  </a:lnTo>
                  <a:lnTo>
                    <a:pt x="44" y="674"/>
                  </a:lnTo>
                  <a:lnTo>
                    <a:pt x="33" y="710"/>
                  </a:lnTo>
                  <a:lnTo>
                    <a:pt x="23" y="746"/>
                  </a:lnTo>
                  <a:lnTo>
                    <a:pt x="0" y="844"/>
                  </a:lnTo>
                  <a:lnTo>
                    <a:pt x="75" y="893"/>
                  </a:lnTo>
                  <a:lnTo>
                    <a:pt x="89" y="865"/>
                  </a:lnTo>
                  <a:lnTo>
                    <a:pt x="128" y="792"/>
                  </a:lnTo>
                  <a:lnTo>
                    <a:pt x="157" y="742"/>
                  </a:lnTo>
                  <a:lnTo>
                    <a:pt x="190" y="686"/>
                  </a:lnTo>
                  <a:lnTo>
                    <a:pt x="229" y="627"/>
                  </a:lnTo>
                  <a:lnTo>
                    <a:pt x="271" y="565"/>
                  </a:lnTo>
                  <a:lnTo>
                    <a:pt x="294" y="533"/>
                  </a:lnTo>
                  <a:lnTo>
                    <a:pt x="317" y="502"/>
                  </a:lnTo>
                  <a:lnTo>
                    <a:pt x="342" y="471"/>
                  </a:lnTo>
                  <a:lnTo>
                    <a:pt x="367" y="440"/>
                  </a:lnTo>
                  <a:lnTo>
                    <a:pt x="393" y="412"/>
                  </a:lnTo>
                  <a:lnTo>
                    <a:pt x="419" y="383"/>
                  </a:lnTo>
                  <a:lnTo>
                    <a:pt x="446" y="356"/>
                  </a:lnTo>
                  <a:lnTo>
                    <a:pt x="474" y="330"/>
                  </a:lnTo>
                  <a:lnTo>
                    <a:pt x="501" y="306"/>
                  </a:lnTo>
                  <a:lnTo>
                    <a:pt x="529" y="285"/>
                  </a:lnTo>
                  <a:lnTo>
                    <a:pt x="559" y="265"/>
                  </a:lnTo>
                  <a:lnTo>
                    <a:pt x="588" y="248"/>
                  </a:lnTo>
                  <a:lnTo>
                    <a:pt x="618" y="233"/>
                  </a:lnTo>
                  <a:lnTo>
                    <a:pt x="646" y="222"/>
                  </a:lnTo>
                  <a:lnTo>
                    <a:pt x="676" y="213"/>
                  </a:lnTo>
                  <a:lnTo>
                    <a:pt x="706" y="208"/>
                  </a:lnTo>
                  <a:lnTo>
                    <a:pt x="701" y="200"/>
                  </a:lnTo>
                  <a:lnTo>
                    <a:pt x="688" y="177"/>
                  </a:lnTo>
                  <a:lnTo>
                    <a:pt x="669" y="145"/>
                  </a:lnTo>
                  <a:lnTo>
                    <a:pt x="646" y="109"/>
                  </a:lnTo>
                  <a:lnTo>
                    <a:pt x="621" y="71"/>
                  </a:lnTo>
                  <a:lnTo>
                    <a:pt x="598" y="37"/>
                  </a:lnTo>
                  <a:lnTo>
                    <a:pt x="587" y="24"/>
                  </a:lnTo>
                  <a:lnTo>
                    <a:pt x="577" y="12"/>
                  </a:lnTo>
                  <a:lnTo>
                    <a:pt x="567" y="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4017960" y="5521320"/>
              <a:ext cx="297000" cy="330120"/>
            </a:xfrm>
            <a:custGeom>
              <a:avLst/>
              <a:gdLst/>
              <a:ahLst/>
              <a:rect l="l" t="t" r="r" b="b"/>
              <a:pathLst>
                <a:path w="749" h="832">
                  <a:moveTo>
                    <a:pt x="637" y="0"/>
                  </a:moveTo>
                  <a:lnTo>
                    <a:pt x="616" y="13"/>
                  </a:lnTo>
                  <a:lnTo>
                    <a:pt x="561" y="53"/>
                  </a:lnTo>
                  <a:lnTo>
                    <a:pt x="523" y="82"/>
                  </a:lnTo>
                  <a:lnTo>
                    <a:pt x="479" y="115"/>
                  </a:lnTo>
                  <a:lnTo>
                    <a:pt x="432" y="155"/>
                  </a:lnTo>
                  <a:lnTo>
                    <a:pt x="382" y="198"/>
                  </a:lnTo>
                  <a:lnTo>
                    <a:pt x="358" y="222"/>
                  </a:lnTo>
                  <a:lnTo>
                    <a:pt x="332" y="247"/>
                  </a:lnTo>
                  <a:lnTo>
                    <a:pt x="305" y="273"/>
                  </a:lnTo>
                  <a:lnTo>
                    <a:pt x="281" y="299"/>
                  </a:lnTo>
                  <a:lnTo>
                    <a:pt x="255" y="327"/>
                  </a:lnTo>
                  <a:lnTo>
                    <a:pt x="230" y="356"/>
                  </a:lnTo>
                  <a:lnTo>
                    <a:pt x="205" y="384"/>
                  </a:lnTo>
                  <a:lnTo>
                    <a:pt x="181" y="415"/>
                  </a:lnTo>
                  <a:lnTo>
                    <a:pt x="158" y="445"/>
                  </a:lnTo>
                  <a:lnTo>
                    <a:pt x="135" y="477"/>
                  </a:lnTo>
                  <a:lnTo>
                    <a:pt x="115" y="510"/>
                  </a:lnTo>
                  <a:lnTo>
                    <a:pt x="96" y="543"/>
                  </a:lnTo>
                  <a:lnTo>
                    <a:pt x="77" y="577"/>
                  </a:lnTo>
                  <a:lnTo>
                    <a:pt x="61" y="610"/>
                  </a:lnTo>
                  <a:lnTo>
                    <a:pt x="46" y="645"/>
                  </a:lnTo>
                  <a:lnTo>
                    <a:pt x="32" y="680"/>
                  </a:lnTo>
                  <a:lnTo>
                    <a:pt x="0" y="774"/>
                  </a:lnTo>
                  <a:lnTo>
                    <a:pt x="70" y="832"/>
                  </a:lnTo>
                  <a:lnTo>
                    <a:pt x="86" y="805"/>
                  </a:lnTo>
                  <a:lnTo>
                    <a:pt x="132" y="732"/>
                  </a:lnTo>
                  <a:lnTo>
                    <a:pt x="163" y="683"/>
                  </a:lnTo>
                  <a:lnTo>
                    <a:pt x="200" y="629"/>
                  </a:lnTo>
                  <a:lnTo>
                    <a:pt x="242" y="570"/>
                  </a:lnTo>
                  <a:lnTo>
                    <a:pt x="289" y="511"/>
                  </a:lnTo>
                  <a:lnTo>
                    <a:pt x="314" y="480"/>
                  </a:lnTo>
                  <a:lnTo>
                    <a:pt x="339" y="450"/>
                  </a:lnTo>
                  <a:lnTo>
                    <a:pt x="366" y="422"/>
                  </a:lnTo>
                  <a:lnTo>
                    <a:pt x="394" y="392"/>
                  </a:lnTo>
                  <a:lnTo>
                    <a:pt x="421" y="365"/>
                  </a:lnTo>
                  <a:lnTo>
                    <a:pt x="450" y="338"/>
                  </a:lnTo>
                  <a:lnTo>
                    <a:pt x="478" y="312"/>
                  </a:lnTo>
                  <a:lnTo>
                    <a:pt x="508" y="289"/>
                  </a:lnTo>
                  <a:lnTo>
                    <a:pt x="536" y="268"/>
                  </a:lnTo>
                  <a:lnTo>
                    <a:pt x="567" y="248"/>
                  </a:lnTo>
                  <a:lnTo>
                    <a:pt x="597" y="231"/>
                  </a:lnTo>
                  <a:lnTo>
                    <a:pt x="627" y="217"/>
                  </a:lnTo>
                  <a:lnTo>
                    <a:pt x="658" y="204"/>
                  </a:lnTo>
                  <a:lnTo>
                    <a:pt x="688" y="196"/>
                  </a:lnTo>
                  <a:lnTo>
                    <a:pt x="718" y="191"/>
                  </a:lnTo>
                  <a:lnTo>
                    <a:pt x="749" y="190"/>
                  </a:lnTo>
                  <a:lnTo>
                    <a:pt x="745" y="182"/>
                  </a:lnTo>
                  <a:lnTo>
                    <a:pt x="735" y="162"/>
                  </a:lnTo>
                  <a:lnTo>
                    <a:pt x="721" y="134"/>
                  </a:lnTo>
                  <a:lnTo>
                    <a:pt x="705" y="100"/>
                  </a:lnTo>
                  <a:lnTo>
                    <a:pt x="687" y="67"/>
                  </a:lnTo>
                  <a:lnTo>
                    <a:pt x="668" y="36"/>
                  </a:lnTo>
                  <a:lnTo>
                    <a:pt x="659" y="23"/>
                  </a:lnTo>
                  <a:lnTo>
                    <a:pt x="652" y="12"/>
                  </a:lnTo>
                  <a:lnTo>
                    <a:pt x="644" y="5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4014720" y="5573880"/>
              <a:ext cx="324000" cy="325440"/>
            </a:xfrm>
            <a:custGeom>
              <a:avLst/>
              <a:gdLst/>
              <a:ahLst/>
              <a:rect l="l" t="t" r="r" b="b"/>
              <a:pathLst>
                <a:path w="815" h="823">
                  <a:moveTo>
                    <a:pt x="714" y="0"/>
                  </a:moveTo>
                  <a:lnTo>
                    <a:pt x="692" y="14"/>
                  </a:lnTo>
                  <a:lnTo>
                    <a:pt x="635" y="53"/>
                  </a:lnTo>
                  <a:lnTo>
                    <a:pt x="597" y="82"/>
                  </a:lnTo>
                  <a:lnTo>
                    <a:pt x="552" y="115"/>
                  </a:lnTo>
                  <a:lnTo>
                    <a:pt x="502" y="155"/>
                  </a:lnTo>
                  <a:lnTo>
                    <a:pt x="452" y="199"/>
                  </a:lnTo>
                  <a:lnTo>
                    <a:pt x="397" y="246"/>
                  </a:lnTo>
                  <a:lnTo>
                    <a:pt x="342" y="298"/>
                  </a:lnTo>
                  <a:lnTo>
                    <a:pt x="315" y="324"/>
                  </a:lnTo>
                  <a:lnTo>
                    <a:pt x="288" y="352"/>
                  </a:lnTo>
                  <a:lnTo>
                    <a:pt x="262" y="381"/>
                  </a:lnTo>
                  <a:lnTo>
                    <a:pt x="235" y="411"/>
                  </a:lnTo>
                  <a:lnTo>
                    <a:pt x="211" y="440"/>
                  </a:lnTo>
                  <a:lnTo>
                    <a:pt x="186" y="471"/>
                  </a:lnTo>
                  <a:lnTo>
                    <a:pt x="162" y="503"/>
                  </a:lnTo>
                  <a:lnTo>
                    <a:pt x="140" y="535"/>
                  </a:lnTo>
                  <a:lnTo>
                    <a:pt x="119" y="567"/>
                  </a:lnTo>
                  <a:lnTo>
                    <a:pt x="100" y="599"/>
                  </a:lnTo>
                  <a:lnTo>
                    <a:pt x="81" y="633"/>
                  </a:lnTo>
                  <a:lnTo>
                    <a:pt x="65" y="666"/>
                  </a:lnTo>
                  <a:lnTo>
                    <a:pt x="0" y="741"/>
                  </a:lnTo>
                  <a:lnTo>
                    <a:pt x="89" y="823"/>
                  </a:lnTo>
                  <a:lnTo>
                    <a:pt x="106" y="794"/>
                  </a:lnTo>
                  <a:lnTo>
                    <a:pt x="157" y="720"/>
                  </a:lnTo>
                  <a:lnTo>
                    <a:pt x="193" y="670"/>
                  </a:lnTo>
                  <a:lnTo>
                    <a:pt x="234" y="614"/>
                  </a:lnTo>
                  <a:lnTo>
                    <a:pt x="281" y="556"/>
                  </a:lnTo>
                  <a:lnTo>
                    <a:pt x="332" y="496"/>
                  </a:lnTo>
                  <a:lnTo>
                    <a:pt x="360" y="465"/>
                  </a:lnTo>
                  <a:lnTo>
                    <a:pt x="387" y="436"/>
                  </a:lnTo>
                  <a:lnTo>
                    <a:pt x="417" y="407"/>
                  </a:lnTo>
                  <a:lnTo>
                    <a:pt x="445" y="378"/>
                  </a:lnTo>
                  <a:lnTo>
                    <a:pt x="475" y="351"/>
                  </a:lnTo>
                  <a:lnTo>
                    <a:pt x="506" y="326"/>
                  </a:lnTo>
                  <a:lnTo>
                    <a:pt x="536" y="302"/>
                  </a:lnTo>
                  <a:lnTo>
                    <a:pt x="567" y="279"/>
                  </a:lnTo>
                  <a:lnTo>
                    <a:pt x="598" y="259"/>
                  </a:lnTo>
                  <a:lnTo>
                    <a:pt x="630" y="241"/>
                  </a:lnTo>
                  <a:lnTo>
                    <a:pt x="661" y="226"/>
                  </a:lnTo>
                  <a:lnTo>
                    <a:pt x="692" y="213"/>
                  </a:lnTo>
                  <a:lnTo>
                    <a:pt x="723" y="204"/>
                  </a:lnTo>
                  <a:lnTo>
                    <a:pt x="755" y="197"/>
                  </a:lnTo>
                  <a:lnTo>
                    <a:pt x="784" y="196"/>
                  </a:lnTo>
                  <a:lnTo>
                    <a:pt x="815" y="197"/>
                  </a:lnTo>
                  <a:lnTo>
                    <a:pt x="812" y="189"/>
                  </a:lnTo>
                  <a:lnTo>
                    <a:pt x="804" y="169"/>
                  </a:lnTo>
                  <a:lnTo>
                    <a:pt x="792" y="140"/>
                  </a:lnTo>
                  <a:lnTo>
                    <a:pt x="777" y="105"/>
                  </a:lnTo>
                  <a:lnTo>
                    <a:pt x="759" y="71"/>
                  </a:lnTo>
                  <a:lnTo>
                    <a:pt x="743" y="38"/>
                  </a:lnTo>
                  <a:lnTo>
                    <a:pt x="735" y="26"/>
                  </a:lnTo>
                  <a:lnTo>
                    <a:pt x="727" y="14"/>
                  </a:lnTo>
                  <a:lnTo>
                    <a:pt x="720" y="5"/>
                  </a:lnTo>
                  <a:lnTo>
                    <a:pt x="714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3913200" y="5214960"/>
              <a:ext cx="88920" cy="100080"/>
            </a:xfrm>
            <a:custGeom>
              <a:avLst/>
              <a:gdLst/>
              <a:ahLst/>
              <a:rect l="l" t="t" r="r" b="b"/>
              <a:pathLst>
                <a:path w="223" h="249">
                  <a:moveTo>
                    <a:pt x="223" y="124"/>
                  </a:moveTo>
                  <a:lnTo>
                    <a:pt x="223" y="138"/>
                  </a:lnTo>
                  <a:lnTo>
                    <a:pt x="222" y="150"/>
                  </a:lnTo>
                  <a:lnTo>
                    <a:pt x="218" y="161"/>
                  </a:lnTo>
                  <a:lnTo>
                    <a:pt x="215" y="174"/>
                  </a:lnTo>
                  <a:lnTo>
                    <a:pt x="210" y="184"/>
                  </a:lnTo>
                  <a:lnTo>
                    <a:pt x="205" y="195"/>
                  </a:lnTo>
                  <a:lnTo>
                    <a:pt x="198" y="204"/>
                  </a:lnTo>
                  <a:lnTo>
                    <a:pt x="191" y="213"/>
                  </a:lnTo>
                  <a:lnTo>
                    <a:pt x="184" y="221"/>
                  </a:lnTo>
                  <a:lnTo>
                    <a:pt x="175" y="228"/>
                  </a:lnTo>
                  <a:lnTo>
                    <a:pt x="165" y="235"/>
                  </a:lnTo>
                  <a:lnTo>
                    <a:pt x="155" y="240"/>
                  </a:lnTo>
                  <a:lnTo>
                    <a:pt x="145" y="244"/>
                  </a:lnTo>
                  <a:lnTo>
                    <a:pt x="134" y="247"/>
                  </a:lnTo>
                  <a:lnTo>
                    <a:pt x="123" y="249"/>
                  </a:lnTo>
                  <a:lnTo>
                    <a:pt x="111" y="249"/>
                  </a:lnTo>
                  <a:lnTo>
                    <a:pt x="100" y="249"/>
                  </a:lnTo>
                  <a:lnTo>
                    <a:pt x="89" y="247"/>
                  </a:lnTo>
                  <a:lnTo>
                    <a:pt x="78" y="244"/>
                  </a:lnTo>
                  <a:lnTo>
                    <a:pt x="68" y="240"/>
                  </a:lnTo>
                  <a:lnTo>
                    <a:pt x="58" y="235"/>
                  </a:lnTo>
                  <a:lnTo>
                    <a:pt x="49" y="228"/>
                  </a:lnTo>
                  <a:lnTo>
                    <a:pt x="41" y="221"/>
                  </a:lnTo>
                  <a:lnTo>
                    <a:pt x="32" y="213"/>
                  </a:lnTo>
                  <a:lnTo>
                    <a:pt x="25" y="204"/>
                  </a:lnTo>
                  <a:lnTo>
                    <a:pt x="18" y="195"/>
                  </a:lnTo>
                  <a:lnTo>
                    <a:pt x="13" y="184"/>
                  </a:lnTo>
                  <a:lnTo>
                    <a:pt x="8" y="174"/>
                  </a:lnTo>
                  <a:lnTo>
                    <a:pt x="5" y="161"/>
                  </a:lnTo>
                  <a:lnTo>
                    <a:pt x="2" y="150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0" y="112"/>
                  </a:lnTo>
                  <a:lnTo>
                    <a:pt x="2" y="99"/>
                  </a:lnTo>
                  <a:lnTo>
                    <a:pt x="5" y="88"/>
                  </a:lnTo>
                  <a:lnTo>
                    <a:pt x="8" y="76"/>
                  </a:lnTo>
                  <a:lnTo>
                    <a:pt x="13" y="66"/>
                  </a:lnTo>
                  <a:lnTo>
                    <a:pt x="18" y="55"/>
                  </a:lnTo>
                  <a:lnTo>
                    <a:pt x="25" y="46"/>
                  </a:lnTo>
                  <a:lnTo>
                    <a:pt x="32" y="37"/>
                  </a:lnTo>
                  <a:lnTo>
                    <a:pt x="41" y="29"/>
                  </a:lnTo>
                  <a:lnTo>
                    <a:pt x="49" y="21"/>
                  </a:lnTo>
                  <a:lnTo>
                    <a:pt x="58" y="15"/>
                  </a:lnTo>
                  <a:lnTo>
                    <a:pt x="68" y="10"/>
                  </a:lnTo>
                  <a:lnTo>
                    <a:pt x="78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1" y="0"/>
                  </a:lnTo>
                  <a:lnTo>
                    <a:pt x="123" y="1"/>
                  </a:lnTo>
                  <a:lnTo>
                    <a:pt x="134" y="3"/>
                  </a:lnTo>
                  <a:lnTo>
                    <a:pt x="145" y="6"/>
                  </a:lnTo>
                  <a:lnTo>
                    <a:pt x="155" y="10"/>
                  </a:lnTo>
                  <a:lnTo>
                    <a:pt x="165" y="15"/>
                  </a:lnTo>
                  <a:lnTo>
                    <a:pt x="175" y="21"/>
                  </a:lnTo>
                  <a:lnTo>
                    <a:pt x="184" y="29"/>
                  </a:lnTo>
                  <a:lnTo>
                    <a:pt x="191" y="37"/>
                  </a:lnTo>
                  <a:lnTo>
                    <a:pt x="198" y="46"/>
                  </a:lnTo>
                  <a:lnTo>
                    <a:pt x="205" y="55"/>
                  </a:lnTo>
                  <a:lnTo>
                    <a:pt x="210" y="66"/>
                  </a:lnTo>
                  <a:lnTo>
                    <a:pt x="215" y="76"/>
                  </a:lnTo>
                  <a:lnTo>
                    <a:pt x="218" y="88"/>
                  </a:lnTo>
                  <a:lnTo>
                    <a:pt x="222" y="99"/>
                  </a:lnTo>
                  <a:lnTo>
                    <a:pt x="223" y="112"/>
                  </a:lnTo>
                  <a:lnTo>
                    <a:pt x="223" y="12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3929040" y="5219640"/>
              <a:ext cx="52560" cy="4464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31" y="56"/>
                  </a:moveTo>
                  <a:lnTo>
                    <a:pt x="131" y="62"/>
                  </a:lnTo>
                  <a:lnTo>
                    <a:pt x="130" y="67"/>
                  </a:lnTo>
                  <a:lnTo>
                    <a:pt x="128" y="72"/>
                  </a:lnTo>
                  <a:lnTo>
                    <a:pt x="126" y="77"/>
                  </a:lnTo>
                  <a:lnTo>
                    <a:pt x="120" y="87"/>
                  </a:lnTo>
                  <a:lnTo>
                    <a:pt x="112" y="96"/>
                  </a:lnTo>
                  <a:lnTo>
                    <a:pt x="102" y="102"/>
                  </a:lnTo>
                  <a:lnTo>
                    <a:pt x="91" y="108"/>
                  </a:lnTo>
                  <a:lnTo>
                    <a:pt x="79" y="110"/>
                  </a:lnTo>
                  <a:lnTo>
                    <a:pt x="65" y="112"/>
                  </a:lnTo>
                  <a:lnTo>
                    <a:pt x="53" y="110"/>
                  </a:lnTo>
                  <a:lnTo>
                    <a:pt x="40" y="108"/>
                  </a:lnTo>
                  <a:lnTo>
                    <a:pt x="29" y="102"/>
                  </a:lnTo>
                  <a:lnTo>
                    <a:pt x="19" y="96"/>
                  </a:lnTo>
                  <a:lnTo>
                    <a:pt x="12" y="87"/>
                  </a:lnTo>
                  <a:lnTo>
                    <a:pt x="5" y="77"/>
                  </a:lnTo>
                  <a:lnTo>
                    <a:pt x="3" y="72"/>
                  </a:lnTo>
                  <a:lnTo>
                    <a:pt x="2" y="67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2" y="45"/>
                  </a:lnTo>
                  <a:lnTo>
                    <a:pt x="3" y="38"/>
                  </a:lnTo>
                  <a:lnTo>
                    <a:pt x="5" y="33"/>
                  </a:lnTo>
                  <a:lnTo>
                    <a:pt x="12" y="25"/>
                  </a:lnTo>
                  <a:lnTo>
                    <a:pt x="19" y="16"/>
                  </a:lnTo>
                  <a:lnTo>
                    <a:pt x="29" y="9"/>
                  </a:lnTo>
                  <a:lnTo>
                    <a:pt x="40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9" y="1"/>
                  </a:lnTo>
                  <a:lnTo>
                    <a:pt x="91" y="4"/>
                  </a:lnTo>
                  <a:lnTo>
                    <a:pt x="102" y="9"/>
                  </a:lnTo>
                  <a:lnTo>
                    <a:pt x="112" y="16"/>
                  </a:lnTo>
                  <a:lnTo>
                    <a:pt x="120" y="25"/>
                  </a:lnTo>
                  <a:lnTo>
                    <a:pt x="126" y="33"/>
                  </a:lnTo>
                  <a:lnTo>
                    <a:pt x="128" y="38"/>
                  </a:lnTo>
                  <a:lnTo>
                    <a:pt x="130" y="45"/>
                  </a:lnTo>
                  <a:lnTo>
                    <a:pt x="131" y="50"/>
                  </a:lnTo>
                  <a:lnTo>
                    <a:pt x="131" y="56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3765600" y="5365800"/>
              <a:ext cx="88920" cy="98280"/>
            </a:xfrm>
            <a:custGeom>
              <a:avLst/>
              <a:gdLst/>
              <a:ahLst/>
              <a:rect l="l" t="t" r="r" b="b"/>
              <a:pathLst>
                <a:path w="225" h="248">
                  <a:moveTo>
                    <a:pt x="225" y="124"/>
                  </a:moveTo>
                  <a:lnTo>
                    <a:pt x="225" y="136"/>
                  </a:lnTo>
                  <a:lnTo>
                    <a:pt x="222" y="149"/>
                  </a:lnTo>
                  <a:lnTo>
                    <a:pt x="220" y="161"/>
                  </a:lnTo>
                  <a:lnTo>
                    <a:pt x="216" y="172"/>
                  </a:lnTo>
                  <a:lnTo>
                    <a:pt x="211" y="183"/>
                  </a:lnTo>
                  <a:lnTo>
                    <a:pt x="206" y="193"/>
                  </a:lnTo>
                  <a:lnTo>
                    <a:pt x="199" y="203"/>
                  </a:lnTo>
                  <a:lnTo>
                    <a:pt x="192" y="212"/>
                  </a:lnTo>
                  <a:lnTo>
                    <a:pt x="184" y="221"/>
                  </a:lnTo>
                  <a:lnTo>
                    <a:pt x="175" y="227"/>
                  </a:lnTo>
                  <a:lnTo>
                    <a:pt x="166" y="233"/>
                  </a:lnTo>
                  <a:lnTo>
                    <a:pt x="156" y="239"/>
                  </a:lnTo>
                  <a:lnTo>
                    <a:pt x="146" y="243"/>
                  </a:lnTo>
                  <a:lnTo>
                    <a:pt x="135" y="245"/>
                  </a:lnTo>
                  <a:lnTo>
                    <a:pt x="124" y="248"/>
                  </a:lnTo>
                  <a:lnTo>
                    <a:pt x="113" y="248"/>
                  </a:lnTo>
                  <a:lnTo>
                    <a:pt x="101" y="248"/>
                  </a:lnTo>
                  <a:lnTo>
                    <a:pt x="89" y="245"/>
                  </a:lnTo>
                  <a:lnTo>
                    <a:pt x="79" y="243"/>
                  </a:lnTo>
                  <a:lnTo>
                    <a:pt x="68" y="239"/>
                  </a:lnTo>
                  <a:lnTo>
                    <a:pt x="60" y="233"/>
                  </a:lnTo>
                  <a:lnTo>
                    <a:pt x="50" y="227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6" y="203"/>
                  </a:lnTo>
                  <a:lnTo>
                    <a:pt x="20" y="193"/>
                  </a:lnTo>
                  <a:lnTo>
                    <a:pt x="14" y="183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2" y="149"/>
                  </a:lnTo>
                  <a:lnTo>
                    <a:pt x="1" y="136"/>
                  </a:lnTo>
                  <a:lnTo>
                    <a:pt x="0" y="124"/>
                  </a:lnTo>
                  <a:lnTo>
                    <a:pt x="1" y="111"/>
                  </a:lnTo>
                  <a:lnTo>
                    <a:pt x="2" y="99"/>
                  </a:lnTo>
                  <a:lnTo>
                    <a:pt x="5" y="87"/>
                  </a:lnTo>
                  <a:lnTo>
                    <a:pt x="9" y="75"/>
                  </a:lnTo>
                  <a:lnTo>
                    <a:pt x="14" y="64"/>
                  </a:lnTo>
                  <a:lnTo>
                    <a:pt x="20" y="54"/>
                  </a:lnTo>
                  <a:lnTo>
                    <a:pt x="26" y="44"/>
                  </a:lnTo>
                  <a:lnTo>
                    <a:pt x="33" y="36"/>
                  </a:lnTo>
                  <a:lnTo>
                    <a:pt x="41" y="28"/>
                  </a:lnTo>
                  <a:lnTo>
                    <a:pt x="50" y="21"/>
                  </a:lnTo>
                  <a:lnTo>
                    <a:pt x="60" y="15"/>
                  </a:lnTo>
                  <a:lnTo>
                    <a:pt x="68" y="8"/>
                  </a:lnTo>
                  <a:lnTo>
                    <a:pt x="79" y="5"/>
                  </a:lnTo>
                  <a:lnTo>
                    <a:pt x="89" y="2"/>
                  </a:lnTo>
                  <a:lnTo>
                    <a:pt x="101" y="0"/>
                  </a:lnTo>
                  <a:lnTo>
                    <a:pt x="113" y="0"/>
                  </a:lnTo>
                  <a:lnTo>
                    <a:pt x="124" y="0"/>
                  </a:lnTo>
                  <a:lnTo>
                    <a:pt x="135" y="2"/>
                  </a:lnTo>
                  <a:lnTo>
                    <a:pt x="146" y="5"/>
                  </a:lnTo>
                  <a:lnTo>
                    <a:pt x="156" y="8"/>
                  </a:lnTo>
                  <a:lnTo>
                    <a:pt x="166" y="15"/>
                  </a:lnTo>
                  <a:lnTo>
                    <a:pt x="175" y="21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9" y="44"/>
                  </a:lnTo>
                  <a:lnTo>
                    <a:pt x="206" y="54"/>
                  </a:lnTo>
                  <a:lnTo>
                    <a:pt x="211" y="64"/>
                  </a:lnTo>
                  <a:lnTo>
                    <a:pt x="216" y="75"/>
                  </a:lnTo>
                  <a:lnTo>
                    <a:pt x="220" y="87"/>
                  </a:lnTo>
                  <a:lnTo>
                    <a:pt x="222" y="99"/>
                  </a:lnTo>
                  <a:lnTo>
                    <a:pt x="225" y="111"/>
                  </a:lnTo>
                  <a:lnTo>
                    <a:pt x="225" y="12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3781440" y="5369040"/>
              <a:ext cx="52200" cy="4428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31" y="56"/>
                  </a:moveTo>
                  <a:lnTo>
                    <a:pt x="130" y="62"/>
                  </a:lnTo>
                  <a:lnTo>
                    <a:pt x="129" y="67"/>
                  </a:lnTo>
                  <a:lnTo>
                    <a:pt x="128" y="74"/>
                  </a:lnTo>
                  <a:lnTo>
                    <a:pt x="125" y="79"/>
                  </a:lnTo>
                  <a:lnTo>
                    <a:pt x="119" y="88"/>
                  </a:lnTo>
                  <a:lnTo>
                    <a:pt x="111" y="96"/>
                  </a:lnTo>
                  <a:lnTo>
                    <a:pt x="102" y="103"/>
                  </a:lnTo>
                  <a:lnTo>
                    <a:pt x="90" y="108"/>
                  </a:lnTo>
                  <a:lnTo>
                    <a:pt x="79" y="112"/>
                  </a:lnTo>
                  <a:lnTo>
                    <a:pt x="66" y="112"/>
                  </a:lnTo>
                  <a:lnTo>
                    <a:pt x="52" y="112"/>
                  </a:lnTo>
                  <a:lnTo>
                    <a:pt x="41" y="108"/>
                  </a:lnTo>
                  <a:lnTo>
                    <a:pt x="30" y="103"/>
                  </a:lnTo>
                  <a:lnTo>
                    <a:pt x="20" y="96"/>
                  </a:lnTo>
                  <a:lnTo>
                    <a:pt x="11" y="88"/>
                  </a:lnTo>
                  <a:lnTo>
                    <a:pt x="6" y="79"/>
                  </a:lnTo>
                  <a:lnTo>
                    <a:pt x="3" y="74"/>
                  </a:lnTo>
                  <a:lnTo>
                    <a:pt x="1" y="67"/>
                  </a:lnTo>
                  <a:lnTo>
                    <a:pt x="1" y="62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3" y="40"/>
                  </a:lnTo>
                  <a:lnTo>
                    <a:pt x="6" y="35"/>
                  </a:lnTo>
                  <a:lnTo>
                    <a:pt x="11" y="25"/>
                  </a:lnTo>
                  <a:lnTo>
                    <a:pt x="20" y="17"/>
                  </a:lnTo>
                  <a:lnTo>
                    <a:pt x="30" y="10"/>
                  </a:lnTo>
                  <a:lnTo>
                    <a:pt x="41" y="5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79" y="2"/>
                  </a:lnTo>
                  <a:lnTo>
                    <a:pt x="90" y="5"/>
                  </a:lnTo>
                  <a:lnTo>
                    <a:pt x="102" y="10"/>
                  </a:lnTo>
                  <a:lnTo>
                    <a:pt x="111" y="17"/>
                  </a:lnTo>
                  <a:lnTo>
                    <a:pt x="119" y="25"/>
                  </a:lnTo>
                  <a:lnTo>
                    <a:pt x="125" y="35"/>
                  </a:lnTo>
                  <a:lnTo>
                    <a:pt x="128" y="40"/>
                  </a:lnTo>
                  <a:lnTo>
                    <a:pt x="129" y="45"/>
                  </a:lnTo>
                  <a:lnTo>
                    <a:pt x="130" y="51"/>
                  </a:lnTo>
                  <a:lnTo>
                    <a:pt x="131" y="56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3754440" y="5214960"/>
              <a:ext cx="66600" cy="73080"/>
            </a:xfrm>
            <a:custGeom>
              <a:avLst/>
              <a:gdLst/>
              <a:ahLst/>
              <a:rect l="l" t="t" r="r" b="b"/>
              <a:pathLst>
                <a:path w="166" h="185">
                  <a:moveTo>
                    <a:pt x="166" y="92"/>
                  </a:moveTo>
                  <a:lnTo>
                    <a:pt x="166" y="102"/>
                  </a:lnTo>
                  <a:lnTo>
                    <a:pt x="165" y="112"/>
                  </a:lnTo>
                  <a:lnTo>
                    <a:pt x="162" y="120"/>
                  </a:lnTo>
                  <a:lnTo>
                    <a:pt x="160" y="129"/>
                  </a:lnTo>
                  <a:lnTo>
                    <a:pt x="156" y="137"/>
                  </a:lnTo>
                  <a:lnTo>
                    <a:pt x="152" y="144"/>
                  </a:lnTo>
                  <a:lnTo>
                    <a:pt x="147" y="151"/>
                  </a:lnTo>
                  <a:lnTo>
                    <a:pt x="141" y="158"/>
                  </a:lnTo>
                  <a:lnTo>
                    <a:pt x="136" y="164"/>
                  </a:lnTo>
                  <a:lnTo>
                    <a:pt x="130" y="169"/>
                  </a:lnTo>
                  <a:lnTo>
                    <a:pt x="123" y="174"/>
                  </a:lnTo>
                  <a:lnTo>
                    <a:pt x="115" y="177"/>
                  </a:lnTo>
                  <a:lnTo>
                    <a:pt x="108" y="181"/>
                  </a:lnTo>
                  <a:lnTo>
                    <a:pt x="100" y="182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74" y="185"/>
                  </a:lnTo>
                  <a:lnTo>
                    <a:pt x="67" y="182"/>
                  </a:lnTo>
                  <a:lnTo>
                    <a:pt x="58" y="181"/>
                  </a:lnTo>
                  <a:lnTo>
                    <a:pt x="51" y="177"/>
                  </a:lnTo>
                  <a:lnTo>
                    <a:pt x="43" y="174"/>
                  </a:lnTo>
                  <a:lnTo>
                    <a:pt x="37" y="169"/>
                  </a:lnTo>
                  <a:lnTo>
                    <a:pt x="29" y="164"/>
                  </a:lnTo>
                  <a:lnTo>
                    <a:pt x="24" y="158"/>
                  </a:lnTo>
                  <a:lnTo>
                    <a:pt x="18" y="151"/>
                  </a:lnTo>
                  <a:lnTo>
                    <a:pt x="13" y="144"/>
                  </a:lnTo>
                  <a:lnTo>
                    <a:pt x="10" y="137"/>
                  </a:lnTo>
                  <a:lnTo>
                    <a:pt x="6" y="129"/>
                  </a:lnTo>
                  <a:lnTo>
                    <a:pt x="3" y="120"/>
                  </a:lnTo>
                  <a:lnTo>
                    <a:pt x="1" y="112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1" y="74"/>
                  </a:lnTo>
                  <a:lnTo>
                    <a:pt x="3" y="65"/>
                  </a:lnTo>
                  <a:lnTo>
                    <a:pt x="6" y="57"/>
                  </a:lnTo>
                  <a:lnTo>
                    <a:pt x="10" y="48"/>
                  </a:lnTo>
                  <a:lnTo>
                    <a:pt x="13" y="41"/>
                  </a:lnTo>
                  <a:lnTo>
                    <a:pt x="18" y="34"/>
                  </a:lnTo>
                  <a:lnTo>
                    <a:pt x="24" y="27"/>
                  </a:lnTo>
                  <a:lnTo>
                    <a:pt x="29" y="21"/>
                  </a:lnTo>
                  <a:lnTo>
                    <a:pt x="37" y="16"/>
                  </a:lnTo>
                  <a:lnTo>
                    <a:pt x="43" y="11"/>
                  </a:lnTo>
                  <a:lnTo>
                    <a:pt x="51" y="7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4" y="1"/>
                  </a:lnTo>
                  <a:lnTo>
                    <a:pt x="83" y="0"/>
                  </a:lnTo>
                  <a:lnTo>
                    <a:pt x="92" y="1"/>
                  </a:lnTo>
                  <a:lnTo>
                    <a:pt x="100" y="3"/>
                  </a:lnTo>
                  <a:lnTo>
                    <a:pt x="108" y="5"/>
                  </a:lnTo>
                  <a:lnTo>
                    <a:pt x="115" y="7"/>
                  </a:lnTo>
                  <a:lnTo>
                    <a:pt x="123" y="11"/>
                  </a:lnTo>
                  <a:lnTo>
                    <a:pt x="130" y="16"/>
                  </a:lnTo>
                  <a:lnTo>
                    <a:pt x="136" y="21"/>
                  </a:lnTo>
                  <a:lnTo>
                    <a:pt x="141" y="27"/>
                  </a:lnTo>
                  <a:lnTo>
                    <a:pt x="147" y="34"/>
                  </a:lnTo>
                  <a:lnTo>
                    <a:pt x="152" y="41"/>
                  </a:lnTo>
                  <a:lnTo>
                    <a:pt x="156" y="48"/>
                  </a:lnTo>
                  <a:lnTo>
                    <a:pt x="160" y="57"/>
                  </a:lnTo>
                  <a:lnTo>
                    <a:pt x="162" y="65"/>
                  </a:lnTo>
                  <a:lnTo>
                    <a:pt x="165" y="74"/>
                  </a:lnTo>
                  <a:lnTo>
                    <a:pt x="166" y="83"/>
                  </a:lnTo>
                  <a:lnTo>
                    <a:pt x="166" y="9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3765600" y="5218200"/>
              <a:ext cx="39600" cy="3312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97" y="41"/>
                  </a:moveTo>
                  <a:lnTo>
                    <a:pt x="96" y="50"/>
                  </a:lnTo>
                  <a:lnTo>
                    <a:pt x="94" y="58"/>
                  </a:lnTo>
                  <a:lnTo>
                    <a:pt x="89" y="65"/>
                  </a:lnTo>
                  <a:lnTo>
                    <a:pt x="82" y="71"/>
                  </a:lnTo>
                  <a:lnTo>
                    <a:pt x="76" y="76"/>
                  </a:lnTo>
                  <a:lnTo>
                    <a:pt x="68" y="80"/>
                  </a:lnTo>
                  <a:lnTo>
                    <a:pt x="59" y="82"/>
                  </a:lnTo>
                  <a:lnTo>
                    <a:pt x="49" y="84"/>
                  </a:lnTo>
                  <a:lnTo>
                    <a:pt x="39" y="82"/>
                  </a:lnTo>
                  <a:lnTo>
                    <a:pt x="30" y="80"/>
                  </a:lnTo>
                  <a:lnTo>
                    <a:pt x="22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4" y="58"/>
                  </a:lnTo>
                  <a:lnTo>
                    <a:pt x="2" y="50"/>
                  </a:lnTo>
                  <a:lnTo>
                    <a:pt x="0" y="41"/>
                  </a:lnTo>
                  <a:lnTo>
                    <a:pt x="2" y="34"/>
                  </a:lnTo>
                  <a:lnTo>
                    <a:pt x="4" y="25"/>
                  </a:lnTo>
                  <a:lnTo>
                    <a:pt x="9" y="19"/>
                  </a:lnTo>
                  <a:lnTo>
                    <a:pt x="14" y="13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8" y="3"/>
                  </a:lnTo>
                  <a:lnTo>
                    <a:pt x="76" y="7"/>
                  </a:lnTo>
                  <a:lnTo>
                    <a:pt x="82" y="13"/>
                  </a:lnTo>
                  <a:lnTo>
                    <a:pt x="89" y="19"/>
                  </a:lnTo>
                  <a:lnTo>
                    <a:pt x="94" y="25"/>
                  </a:lnTo>
                  <a:lnTo>
                    <a:pt x="96" y="34"/>
                  </a:lnTo>
                  <a:lnTo>
                    <a:pt x="97" y="4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3843360" y="5292720"/>
              <a:ext cx="65160" cy="73080"/>
            </a:xfrm>
            <a:custGeom>
              <a:avLst/>
              <a:gdLst/>
              <a:ahLst/>
              <a:rect l="l" t="t" r="r" b="b"/>
              <a:pathLst>
                <a:path w="166" h="184">
                  <a:moveTo>
                    <a:pt x="166" y="93"/>
                  </a:moveTo>
                  <a:lnTo>
                    <a:pt x="166" y="101"/>
                  </a:lnTo>
                  <a:lnTo>
                    <a:pt x="164" y="111"/>
                  </a:lnTo>
                  <a:lnTo>
                    <a:pt x="162" y="120"/>
                  </a:lnTo>
                  <a:lnTo>
                    <a:pt x="159" y="129"/>
                  </a:lnTo>
                  <a:lnTo>
                    <a:pt x="156" y="136"/>
                  </a:lnTo>
                  <a:lnTo>
                    <a:pt x="152" y="144"/>
                  </a:lnTo>
                  <a:lnTo>
                    <a:pt x="147" y="151"/>
                  </a:lnTo>
                  <a:lnTo>
                    <a:pt x="142" y="157"/>
                  </a:lnTo>
                  <a:lnTo>
                    <a:pt x="136" y="163"/>
                  </a:lnTo>
                  <a:lnTo>
                    <a:pt x="130" y="170"/>
                  </a:lnTo>
                  <a:lnTo>
                    <a:pt x="122" y="173"/>
                  </a:lnTo>
                  <a:lnTo>
                    <a:pt x="115" y="177"/>
                  </a:lnTo>
                  <a:lnTo>
                    <a:pt x="107" y="181"/>
                  </a:lnTo>
                  <a:lnTo>
                    <a:pt x="100" y="183"/>
                  </a:lnTo>
                  <a:lnTo>
                    <a:pt x="91" y="184"/>
                  </a:lnTo>
                  <a:lnTo>
                    <a:pt x="82" y="184"/>
                  </a:lnTo>
                  <a:lnTo>
                    <a:pt x="75" y="184"/>
                  </a:lnTo>
                  <a:lnTo>
                    <a:pt x="66" y="183"/>
                  </a:lnTo>
                  <a:lnTo>
                    <a:pt x="58" y="181"/>
                  </a:lnTo>
                  <a:lnTo>
                    <a:pt x="50" y="177"/>
                  </a:lnTo>
                  <a:lnTo>
                    <a:pt x="43" y="173"/>
                  </a:lnTo>
                  <a:lnTo>
                    <a:pt x="36" y="170"/>
                  </a:lnTo>
                  <a:lnTo>
                    <a:pt x="30" y="163"/>
                  </a:lnTo>
                  <a:lnTo>
                    <a:pt x="24" y="157"/>
                  </a:lnTo>
                  <a:lnTo>
                    <a:pt x="19" y="151"/>
                  </a:lnTo>
                  <a:lnTo>
                    <a:pt x="14" y="144"/>
                  </a:lnTo>
                  <a:lnTo>
                    <a:pt x="10" y="136"/>
                  </a:lnTo>
                  <a:lnTo>
                    <a:pt x="7" y="129"/>
                  </a:lnTo>
                  <a:lnTo>
                    <a:pt x="3" y="120"/>
                  </a:lnTo>
                  <a:lnTo>
                    <a:pt x="2" y="111"/>
                  </a:lnTo>
                  <a:lnTo>
                    <a:pt x="0" y="101"/>
                  </a:lnTo>
                  <a:lnTo>
                    <a:pt x="0" y="93"/>
                  </a:lnTo>
                  <a:lnTo>
                    <a:pt x="0" y="83"/>
                  </a:lnTo>
                  <a:lnTo>
                    <a:pt x="2" y="74"/>
                  </a:lnTo>
                  <a:lnTo>
                    <a:pt x="3" y="65"/>
                  </a:lnTo>
                  <a:lnTo>
                    <a:pt x="7" y="57"/>
                  </a:lnTo>
                  <a:lnTo>
                    <a:pt x="10" y="48"/>
                  </a:lnTo>
                  <a:lnTo>
                    <a:pt x="14" y="41"/>
                  </a:lnTo>
                  <a:lnTo>
                    <a:pt x="19" y="33"/>
                  </a:lnTo>
                  <a:lnTo>
                    <a:pt x="24" y="27"/>
                  </a:lnTo>
                  <a:lnTo>
                    <a:pt x="30" y="21"/>
                  </a:lnTo>
                  <a:lnTo>
                    <a:pt x="36" y="16"/>
                  </a:lnTo>
                  <a:lnTo>
                    <a:pt x="43" y="11"/>
                  </a:lnTo>
                  <a:lnTo>
                    <a:pt x="50" y="7"/>
                  </a:lnTo>
                  <a:lnTo>
                    <a:pt x="58" y="5"/>
                  </a:lnTo>
                  <a:lnTo>
                    <a:pt x="66" y="2"/>
                  </a:lnTo>
                  <a:lnTo>
                    <a:pt x="75" y="1"/>
                  </a:lnTo>
                  <a:lnTo>
                    <a:pt x="82" y="0"/>
                  </a:lnTo>
                  <a:lnTo>
                    <a:pt x="91" y="1"/>
                  </a:lnTo>
                  <a:lnTo>
                    <a:pt x="100" y="2"/>
                  </a:lnTo>
                  <a:lnTo>
                    <a:pt x="107" y="5"/>
                  </a:lnTo>
                  <a:lnTo>
                    <a:pt x="115" y="7"/>
                  </a:lnTo>
                  <a:lnTo>
                    <a:pt x="122" y="11"/>
                  </a:lnTo>
                  <a:lnTo>
                    <a:pt x="130" y="16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7" y="33"/>
                  </a:lnTo>
                  <a:lnTo>
                    <a:pt x="152" y="41"/>
                  </a:lnTo>
                  <a:lnTo>
                    <a:pt x="156" y="48"/>
                  </a:lnTo>
                  <a:lnTo>
                    <a:pt x="159" y="57"/>
                  </a:lnTo>
                  <a:lnTo>
                    <a:pt x="162" y="65"/>
                  </a:lnTo>
                  <a:lnTo>
                    <a:pt x="164" y="74"/>
                  </a:lnTo>
                  <a:lnTo>
                    <a:pt x="166" y="83"/>
                  </a:lnTo>
                  <a:lnTo>
                    <a:pt x="166" y="9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3854520" y="5295960"/>
              <a:ext cx="38160" cy="3168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97" y="41"/>
                  </a:moveTo>
                  <a:lnTo>
                    <a:pt x="96" y="50"/>
                  </a:lnTo>
                  <a:lnTo>
                    <a:pt x="93" y="58"/>
                  </a:lnTo>
                  <a:lnTo>
                    <a:pt x="88" y="65"/>
                  </a:lnTo>
                  <a:lnTo>
                    <a:pt x="83" y="71"/>
                  </a:lnTo>
                  <a:lnTo>
                    <a:pt x="76" y="76"/>
                  </a:lnTo>
                  <a:lnTo>
                    <a:pt x="67" y="79"/>
                  </a:lnTo>
                  <a:lnTo>
                    <a:pt x="58" y="82"/>
                  </a:lnTo>
                  <a:lnTo>
                    <a:pt x="48" y="83"/>
                  </a:lnTo>
                  <a:lnTo>
                    <a:pt x="38" y="82"/>
                  </a:lnTo>
                  <a:lnTo>
                    <a:pt x="30" y="79"/>
                  </a:lnTo>
                  <a:lnTo>
                    <a:pt x="21" y="76"/>
                  </a:lnTo>
                  <a:lnTo>
                    <a:pt x="15" y="71"/>
                  </a:lnTo>
                  <a:lnTo>
                    <a:pt x="9" y="65"/>
                  </a:lnTo>
                  <a:lnTo>
                    <a:pt x="4" y="58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4" y="25"/>
                  </a:lnTo>
                  <a:lnTo>
                    <a:pt x="9" y="19"/>
                  </a:lnTo>
                  <a:lnTo>
                    <a:pt x="15" y="12"/>
                  </a:lnTo>
                  <a:lnTo>
                    <a:pt x="21" y="7"/>
                  </a:lnTo>
                  <a:lnTo>
                    <a:pt x="30" y="4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7" y="4"/>
                  </a:lnTo>
                  <a:lnTo>
                    <a:pt x="76" y="7"/>
                  </a:lnTo>
                  <a:lnTo>
                    <a:pt x="83" y="12"/>
                  </a:lnTo>
                  <a:lnTo>
                    <a:pt x="88" y="19"/>
                  </a:lnTo>
                  <a:lnTo>
                    <a:pt x="93" y="25"/>
                  </a:lnTo>
                  <a:lnTo>
                    <a:pt x="96" y="34"/>
                  </a:lnTo>
                  <a:lnTo>
                    <a:pt x="97" y="4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3970440" y="5327640"/>
              <a:ext cx="65160" cy="74520"/>
            </a:xfrm>
            <a:custGeom>
              <a:avLst/>
              <a:gdLst/>
              <a:ahLst/>
              <a:rect l="l" t="t" r="r" b="b"/>
              <a:pathLst>
                <a:path w="165" h="185">
                  <a:moveTo>
                    <a:pt x="165" y="93"/>
                  </a:moveTo>
                  <a:lnTo>
                    <a:pt x="165" y="102"/>
                  </a:lnTo>
                  <a:lnTo>
                    <a:pt x="164" y="112"/>
                  </a:lnTo>
                  <a:lnTo>
                    <a:pt x="162" y="121"/>
                  </a:lnTo>
                  <a:lnTo>
                    <a:pt x="159" y="129"/>
                  </a:lnTo>
                  <a:lnTo>
                    <a:pt x="156" y="137"/>
                  </a:lnTo>
                  <a:lnTo>
                    <a:pt x="152" y="144"/>
                  </a:lnTo>
                  <a:lnTo>
                    <a:pt x="147" y="152"/>
                  </a:lnTo>
                  <a:lnTo>
                    <a:pt x="142" y="158"/>
                  </a:lnTo>
                  <a:lnTo>
                    <a:pt x="136" y="164"/>
                  </a:lnTo>
                  <a:lnTo>
                    <a:pt x="129" y="169"/>
                  </a:lnTo>
                  <a:lnTo>
                    <a:pt x="122" y="174"/>
                  </a:lnTo>
                  <a:lnTo>
                    <a:pt x="116" y="178"/>
                  </a:lnTo>
                  <a:lnTo>
                    <a:pt x="107" y="181"/>
                  </a:lnTo>
                  <a:lnTo>
                    <a:pt x="100" y="184"/>
                  </a:lnTo>
                  <a:lnTo>
                    <a:pt x="91" y="185"/>
                  </a:lnTo>
                  <a:lnTo>
                    <a:pt x="82" y="185"/>
                  </a:lnTo>
                  <a:lnTo>
                    <a:pt x="75" y="185"/>
                  </a:lnTo>
                  <a:lnTo>
                    <a:pt x="66" y="184"/>
                  </a:lnTo>
                  <a:lnTo>
                    <a:pt x="59" y="181"/>
                  </a:lnTo>
                  <a:lnTo>
                    <a:pt x="50" y="178"/>
                  </a:lnTo>
                  <a:lnTo>
                    <a:pt x="44" y="174"/>
                  </a:lnTo>
                  <a:lnTo>
                    <a:pt x="36" y="169"/>
                  </a:lnTo>
                  <a:lnTo>
                    <a:pt x="30" y="164"/>
                  </a:lnTo>
                  <a:lnTo>
                    <a:pt x="24" y="158"/>
                  </a:lnTo>
                  <a:lnTo>
                    <a:pt x="19" y="152"/>
                  </a:lnTo>
                  <a:lnTo>
                    <a:pt x="14" y="144"/>
                  </a:lnTo>
                  <a:lnTo>
                    <a:pt x="10" y="137"/>
                  </a:lnTo>
                  <a:lnTo>
                    <a:pt x="7" y="129"/>
                  </a:lnTo>
                  <a:lnTo>
                    <a:pt x="4" y="121"/>
                  </a:lnTo>
                  <a:lnTo>
                    <a:pt x="2" y="112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3"/>
                  </a:lnTo>
                  <a:lnTo>
                    <a:pt x="2" y="75"/>
                  </a:lnTo>
                  <a:lnTo>
                    <a:pt x="4" y="66"/>
                  </a:lnTo>
                  <a:lnTo>
                    <a:pt x="7" y="57"/>
                  </a:lnTo>
                  <a:lnTo>
                    <a:pt x="10" y="49"/>
                  </a:lnTo>
                  <a:lnTo>
                    <a:pt x="14" y="41"/>
                  </a:lnTo>
                  <a:lnTo>
                    <a:pt x="19" y="34"/>
                  </a:lnTo>
                  <a:lnTo>
                    <a:pt x="24" y="27"/>
                  </a:lnTo>
                  <a:lnTo>
                    <a:pt x="30" y="21"/>
                  </a:lnTo>
                  <a:lnTo>
                    <a:pt x="36" y="16"/>
                  </a:lnTo>
                  <a:lnTo>
                    <a:pt x="44" y="11"/>
                  </a:lnTo>
                  <a:lnTo>
                    <a:pt x="50" y="8"/>
                  </a:lnTo>
                  <a:lnTo>
                    <a:pt x="59" y="5"/>
                  </a:lnTo>
                  <a:lnTo>
                    <a:pt x="66" y="3"/>
                  </a:lnTo>
                  <a:lnTo>
                    <a:pt x="75" y="1"/>
                  </a:lnTo>
                  <a:lnTo>
                    <a:pt x="82" y="0"/>
                  </a:lnTo>
                  <a:lnTo>
                    <a:pt x="91" y="1"/>
                  </a:lnTo>
                  <a:lnTo>
                    <a:pt x="100" y="3"/>
                  </a:lnTo>
                  <a:lnTo>
                    <a:pt x="107" y="5"/>
                  </a:lnTo>
                  <a:lnTo>
                    <a:pt x="116" y="8"/>
                  </a:lnTo>
                  <a:lnTo>
                    <a:pt x="122" y="11"/>
                  </a:lnTo>
                  <a:lnTo>
                    <a:pt x="129" y="16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7" y="34"/>
                  </a:lnTo>
                  <a:lnTo>
                    <a:pt x="152" y="41"/>
                  </a:lnTo>
                  <a:lnTo>
                    <a:pt x="156" y="49"/>
                  </a:lnTo>
                  <a:lnTo>
                    <a:pt x="159" y="57"/>
                  </a:lnTo>
                  <a:lnTo>
                    <a:pt x="162" y="66"/>
                  </a:lnTo>
                  <a:lnTo>
                    <a:pt x="164" y="75"/>
                  </a:lnTo>
                  <a:lnTo>
                    <a:pt x="165" y="83"/>
                  </a:lnTo>
                  <a:lnTo>
                    <a:pt x="165" y="9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3981600" y="5330880"/>
              <a:ext cx="37800" cy="3312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97" y="41"/>
                  </a:moveTo>
                  <a:lnTo>
                    <a:pt x="95" y="49"/>
                  </a:lnTo>
                  <a:lnTo>
                    <a:pt x="93" y="57"/>
                  </a:lnTo>
                  <a:lnTo>
                    <a:pt x="89" y="64"/>
                  </a:lnTo>
                  <a:lnTo>
                    <a:pt x="83" y="70"/>
                  </a:lnTo>
                  <a:lnTo>
                    <a:pt x="76" y="75"/>
                  </a:lnTo>
                  <a:lnTo>
                    <a:pt x="67" y="79"/>
                  </a:lnTo>
                  <a:lnTo>
                    <a:pt x="58" y="81"/>
                  </a:lnTo>
                  <a:lnTo>
                    <a:pt x="48" y="83"/>
                  </a:lnTo>
                  <a:lnTo>
                    <a:pt x="38" y="81"/>
                  </a:lnTo>
                  <a:lnTo>
                    <a:pt x="30" y="79"/>
                  </a:lnTo>
                  <a:lnTo>
                    <a:pt x="21" y="75"/>
                  </a:lnTo>
                  <a:lnTo>
                    <a:pt x="15" y="70"/>
                  </a:lnTo>
                  <a:lnTo>
                    <a:pt x="9" y="64"/>
                  </a:lnTo>
                  <a:lnTo>
                    <a:pt x="4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4" y="24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21" y="7"/>
                  </a:lnTo>
                  <a:lnTo>
                    <a:pt x="30" y="3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76" y="7"/>
                  </a:lnTo>
                  <a:lnTo>
                    <a:pt x="83" y="12"/>
                  </a:lnTo>
                  <a:lnTo>
                    <a:pt x="89" y="18"/>
                  </a:lnTo>
                  <a:lnTo>
                    <a:pt x="93" y="24"/>
                  </a:lnTo>
                  <a:lnTo>
                    <a:pt x="95" y="33"/>
                  </a:lnTo>
                  <a:lnTo>
                    <a:pt x="97" y="4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3828960" y="5122800"/>
              <a:ext cx="77760" cy="87480"/>
            </a:xfrm>
            <a:custGeom>
              <a:avLst/>
              <a:gdLst/>
              <a:ahLst/>
              <a:rect l="l" t="t" r="r" b="b"/>
              <a:pathLst>
                <a:path w="198" h="218">
                  <a:moveTo>
                    <a:pt x="198" y="109"/>
                  </a:moveTo>
                  <a:lnTo>
                    <a:pt x="196" y="120"/>
                  </a:lnTo>
                  <a:lnTo>
                    <a:pt x="195" y="131"/>
                  </a:lnTo>
                  <a:lnTo>
                    <a:pt x="193" y="141"/>
                  </a:lnTo>
                  <a:lnTo>
                    <a:pt x="190" y="151"/>
                  </a:lnTo>
                  <a:lnTo>
                    <a:pt x="185" y="161"/>
                  </a:lnTo>
                  <a:lnTo>
                    <a:pt x="180" y="170"/>
                  </a:lnTo>
                  <a:lnTo>
                    <a:pt x="175" y="178"/>
                  </a:lnTo>
                  <a:lnTo>
                    <a:pt x="168" y="186"/>
                  </a:lnTo>
                  <a:lnTo>
                    <a:pt x="162" y="193"/>
                  </a:lnTo>
                  <a:lnTo>
                    <a:pt x="154" y="200"/>
                  </a:lnTo>
                  <a:lnTo>
                    <a:pt x="145" y="206"/>
                  </a:lnTo>
                  <a:lnTo>
                    <a:pt x="137" y="209"/>
                  </a:lnTo>
                  <a:lnTo>
                    <a:pt x="128" y="213"/>
                  </a:lnTo>
                  <a:lnTo>
                    <a:pt x="118" y="217"/>
                  </a:lnTo>
                  <a:lnTo>
                    <a:pt x="108" y="218"/>
                  </a:lnTo>
                  <a:lnTo>
                    <a:pt x="98" y="218"/>
                  </a:lnTo>
                  <a:lnTo>
                    <a:pt x="88" y="218"/>
                  </a:lnTo>
                  <a:lnTo>
                    <a:pt x="78" y="217"/>
                  </a:lnTo>
                  <a:lnTo>
                    <a:pt x="70" y="213"/>
                  </a:lnTo>
                  <a:lnTo>
                    <a:pt x="60" y="209"/>
                  </a:lnTo>
                  <a:lnTo>
                    <a:pt x="51" y="206"/>
                  </a:lnTo>
                  <a:lnTo>
                    <a:pt x="44" y="200"/>
                  </a:lnTo>
                  <a:lnTo>
                    <a:pt x="36" y="193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6" y="170"/>
                  </a:lnTo>
                  <a:lnTo>
                    <a:pt x="11" y="161"/>
                  </a:lnTo>
                  <a:lnTo>
                    <a:pt x="8" y="151"/>
                  </a:lnTo>
                  <a:lnTo>
                    <a:pt x="4" y="141"/>
                  </a:lnTo>
                  <a:lnTo>
                    <a:pt x="1" y="131"/>
                  </a:lnTo>
                  <a:lnTo>
                    <a:pt x="0" y="120"/>
                  </a:lnTo>
                  <a:lnTo>
                    <a:pt x="0" y="109"/>
                  </a:lnTo>
                  <a:lnTo>
                    <a:pt x="0" y="98"/>
                  </a:lnTo>
                  <a:lnTo>
                    <a:pt x="1" y="87"/>
                  </a:lnTo>
                  <a:lnTo>
                    <a:pt x="4" y="77"/>
                  </a:lnTo>
                  <a:lnTo>
                    <a:pt x="8" y="66"/>
                  </a:lnTo>
                  <a:lnTo>
                    <a:pt x="11" y="57"/>
                  </a:lnTo>
                  <a:lnTo>
                    <a:pt x="16" y="48"/>
                  </a:lnTo>
                  <a:lnTo>
                    <a:pt x="23" y="39"/>
                  </a:lnTo>
                  <a:lnTo>
                    <a:pt x="29" y="31"/>
                  </a:lnTo>
                  <a:lnTo>
                    <a:pt x="36" y="25"/>
                  </a:lnTo>
                  <a:lnTo>
                    <a:pt x="44" y="18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70" y="5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18" y="1"/>
                  </a:lnTo>
                  <a:lnTo>
                    <a:pt x="128" y="5"/>
                  </a:lnTo>
                  <a:lnTo>
                    <a:pt x="137" y="8"/>
                  </a:lnTo>
                  <a:lnTo>
                    <a:pt x="145" y="12"/>
                  </a:lnTo>
                  <a:lnTo>
                    <a:pt x="154" y="18"/>
                  </a:lnTo>
                  <a:lnTo>
                    <a:pt x="162" y="25"/>
                  </a:lnTo>
                  <a:lnTo>
                    <a:pt x="168" y="31"/>
                  </a:lnTo>
                  <a:lnTo>
                    <a:pt x="175" y="39"/>
                  </a:lnTo>
                  <a:lnTo>
                    <a:pt x="180" y="48"/>
                  </a:lnTo>
                  <a:lnTo>
                    <a:pt x="185" y="57"/>
                  </a:lnTo>
                  <a:lnTo>
                    <a:pt x="190" y="66"/>
                  </a:lnTo>
                  <a:lnTo>
                    <a:pt x="193" y="77"/>
                  </a:lnTo>
                  <a:lnTo>
                    <a:pt x="195" y="87"/>
                  </a:lnTo>
                  <a:lnTo>
                    <a:pt x="196" y="98"/>
                  </a:lnTo>
                  <a:lnTo>
                    <a:pt x="198" y="10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3841920" y="5126040"/>
              <a:ext cx="45720" cy="39600"/>
            </a:xfrm>
            <a:custGeom>
              <a:avLst/>
              <a:gdLst/>
              <a:ahLst/>
              <a:rect l="l" t="t" r="r" b="b"/>
              <a:pathLst>
                <a:path w="115" h="99">
                  <a:moveTo>
                    <a:pt x="115" y="50"/>
                  </a:moveTo>
                  <a:lnTo>
                    <a:pt x="114" y="60"/>
                  </a:lnTo>
                  <a:lnTo>
                    <a:pt x="110" y="68"/>
                  </a:lnTo>
                  <a:lnTo>
                    <a:pt x="105" y="77"/>
                  </a:lnTo>
                  <a:lnTo>
                    <a:pt x="98" y="85"/>
                  </a:lnTo>
                  <a:lnTo>
                    <a:pt x="89" y="91"/>
                  </a:lnTo>
                  <a:lnTo>
                    <a:pt x="79" y="96"/>
                  </a:lnTo>
                  <a:lnTo>
                    <a:pt x="69" y="98"/>
                  </a:lnTo>
                  <a:lnTo>
                    <a:pt x="57" y="99"/>
                  </a:lnTo>
                  <a:lnTo>
                    <a:pt x="46" y="98"/>
                  </a:lnTo>
                  <a:lnTo>
                    <a:pt x="35" y="96"/>
                  </a:lnTo>
                  <a:lnTo>
                    <a:pt x="25" y="91"/>
                  </a:lnTo>
                  <a:lnTo>
                    <a:pt x="17" y="85"/>
                  </a:lnTo>
                  <a:lnTo>
                    <a:pt x="10" y="77"/>
                  </a:lnTo>
                  <a:lnTo>
                    <a:pt x="5" y="68"/>
                  </a:lnTo>
                  <a:lnTo>
                    <a:pt x="1" y="60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5" y="30"/>
                  </a:lnTo>
                  <a:lnTo>
                    <a:pt x="10" y="23"/>
                  </a:lnTo>
                  <a:lnTo>
                    <a:pt x="17" y="15"/>
                  </a:lnTo>
                  <a:lnTo>
                    <a:pt x="25" y="9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lnTo>
                    <a:pt x="69" y="1"/>
                  </a:lnTo>
                  <a:lnTo>
                    <a:pt x="79" y="4"/>
                  </a:lnTo>
                  <a:lnTo>
                    <a:pt x="89" y="9"/>
                  </a:lnTo>
                  <a:lnTo>
                    <a:pt x="98" y="15"/>
                  </a:lnTo>
                  <a:lnTo>
                    <a:pt x="105" y="23"/>
                  </a:lnTo>
                  <a:lnTo>
                    <a:pt x="110" y="30"/>
                  </a:lnTo>
                  <a:lnTo>
                    <a:pt x="114" y="40"/>
                  </a:lnTo>
                  <a:lnTo>
                    <a:pt x="115" y="5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3776760" y="5357880"/>
              <a:ext cx="385560" cy="299880"/>
            </a:xfrm>
            <a:custGeom>
              <a:avLst/>
              <a:gdLst/>
              <a:ahLst/>
              <a:rect l="l" t="t" r="r" b="b"/>
              <a:pathLst>
                <a:path w="972" h="760">
                  <a:moveTo>
                    <a:pt x="969" y="0"/>
                  </a:moveTo>
                  <a:lnTo>
                    <a:pt x="971" y="18"/>
                  </a:lnTo>
                  <a:lnTo>
                    <a:pt x="972" y="65"/>
                  </a:lnTo>
                  <a:lnTo>
                    <a:pt x="971" y="98"/>
                  </a:lnTo>
                  <a:lnTo>
                    <a:pt x="969" y="137"/>
                  </a:lnTo>
                  <a:lnTo>
                    <a:pt x="968" y="179"/>
                  </a:lnTo>
                  <a:lnTo>
                    <a:pt x="964" y="224"/>
                  </a:lnTo>
                  <a:lnTo>
                    <a:pt x="958" y="271"/>
                  </a:lnTo>
                  <a:lnTo>
                    <a:pt x="951" y="320"/>
                  </a:lnTo>
                  <a:lnTo>
                    <a:pt x="946" y="345"/>
                  </a:lnTo>
                  <a:lnTo>
                    <a:pt x="940" y="370"/>
                  </a:lnTo>
                  <a:lnTo>
                    <a:pt x="935" y="395"/>
                  </a:lnTo>
                  <a:lnTo>
                    <a:pt x="927" y="420"/>
                  </a:lnTo>
                  <a:lnTo>
                    <a:pt x="920" y="445"/>
                  </a:lnTo>
                  <a:lnTo>
                    <a:pt x="911" y="468"/>
                  </a:lnTo>
                  <a:lnTo>
                    <a:pt x="902" y="492"/>
                  </a:lnTo>
                  <a:lnTo>
                    <a:pt x="891" y="514"/>
                  </a:lnTo>
                  <a:lnTo>
                    <a:pt x="880" y="536"/>
                  </a:lnTo>
                  <a:lnTo>
                    <a:pt x="869" y="559"/>
                  </a:lnTo>
                  <a:lnTo>
                    <a:pt x="855" y="579"/>
                  </a:lnTo>
                  <a:lnTo>
                    <a:pt x="841" y="598"/>
                  </a:lnTo>
                  <a:lnTo>
                    <a:pt x="836" y="603"/>
                  </a:lnTo>
                  <a:lnTo>
                    <a:pt x="824" y="617"/>
                  </a:lnTo>
                  <a:lnTo>
                    <a:pt x="804" y="636"/>
                  </a:lnTo>
                  <a:lnTo>
                    <a:pt x="777" y="660"/>
                  </a:lnTo>
                  <a:lnTo>
                    <a:pt x="759" y="673"/>
                  </a:lnTo>
                  <a:lnTo>
                    <a:pt x="742" y="685"/>
                  </a:lnTo>
                  <a:lnTo>
                    <a:pt x="722" y="698"/>
                  </a:lnTo>
                  <a:lnTo>
                    <a:pt x="700" y="710"/>
                  </a:lnTo>
                  <a:lnTo>
                    <a:pt x="678" y="721"/>
                  </a:lnTo>
                  <a:lnTo>
                    <a:pt x="653" y="732"/>
                  </a:lnTo>
                  <a:lnTo>
                    <a:pt x="627" y="741"/>
                  </a:lnTo>
                  <a:lnTo>
                    <a:pt x="599" y="749"/>
                  </a:lnTo>
                  <a:lnTo>
                    <a:pt x="569" y="755"/>
                  </a:lnTo>
                  <a:lnTo>
                    <a:pt x="540" y="758"/>
                  </a:lnTo>
                  <a:lnTo>
                    <a:pt x="509" y="760"/>
                  </a:lnTo>
                  <a:lnTo>
                    <a:pt x="475" y="758"/>
                  </a:lnTo>
                  <a:lnTo>
                    <a:pt x="442" y="753"/>
                  </a:lnTo>
                  <a:lnTo>
                    <a:pt x="406" y="746"/>
                  </a:lnTo>
                  <a:lnTo>
                    <a:pt x="370" y="735"/>
                  </a:lnTo>
                  <a:lnTo>
                    <a:pt x="332" y="720"/>
                  </a:lnTo>
                  <a:lnTo>
                    <a:pt x="294" y="701"/>
                  </a:lnTo>
                  <a:lnTo>
                    <a:pt x="254" y="678"/>
                  </a:lnTo>
                  <a:lnTo>
                    <a:pt x="214" y="650"/>
                  </a:lnTo>
                  <a:lnTo>
                    <a:pt x="172" y="617"/>
                  </a:lnTo>
                  <a:lnTo>
                    <a:pt x="131" y="579"/>
                  </a:lnTo>
                  <a:lnTo>
                    <a:pt x="88" y="535"/>
                  </a:lnTo>
                  <a:lnTo>
                    <a:pt x="44" y="485"/>
                  </a:lnTo>
                  <a:lnTo>
                    <a:pt x="0" y="430"/>
                  </a:lnTo>
                  <a:lnTo>
                    <a:pt x="8" y="430"/>
                  </a:lnTo>
                  <a:lnTo>
                    <a:pt x="32" y="427"/>
                  </a:lnTo>
                  <a:lnTo>
                    <a:pt x="69" y="423"/>
                  </a:lnTo>
                  <a:lnTo>
                    <a:pt x="117" y="417"/>
                  </a:lnTo>
                  <a:lnTo>
                    <a:pt x="177" y="409"/>
                  </a:lnTo>
                  <a:lnTo>
                    <a:pt x="244" y="397"/>
                  </a:lnTo>
                  <a:lnTo>
                    <a:pt x="280" y="390"/>
                  </a:lnTo>
                  <a:lnTo>
                    <a:pt x="317" y="381"/>
                  </a:lnTo>
                  <a:lnTo>
                    <a:pt x="356" y="371"/>
                  </a:lnTo>
                  <a:lnTo>
                    <a:pt x="396" y="361"/>
                  </a:lnTo>
                  <a:lnTo>
                    <a:pt x="435" y="350"/>
                  </a:lnTo>
                  <a:lnTo>
                    <a:pt x="476" y="337"/>
                  </a:lnTo>
                  <a:lnTo>
                    <a:pt x="517" y="323"/>
                  </a:lnTo>
                  <a:lnTo>
                    <a:pt x="557" y="308"/>
                  </a:lnTo>
                  <a:lnTo>
                    <a:pt x="598" y="291"/>
                  </a:lnTo>
                  <a:lnTo>
                    <a:pt x="639" y="273"/>
                  </a:lnTo>
                  <a:lnTo>
                    <a:pt x="679" y="253"/>
                  </a:lnTo>
                  <a:lnTo>
                    <a:pt x="717" y="232"/>
                  </a:lnTo>
                  <a:lnTo>
                    <a:pt x="755" y="209"/>
                  </a:lnTo>
                  <a:lnTo>
                    <a:pt x="792" y="185"/>
                  </a:lnTo>
                  <a:lnTo>
                    <a:pt x="827" y="159"/>
                  </a:lnTo>
                  <a:lnTo>
                    <a:pt x="859" y="131"/>
                  </a:lnTo>
                  <a:lnTo>
                    <a:pt x="890" y="101"/>
                  </a:lnTo>
                  <a:lnTo>
                    <a:pt x="918" y="70"/>
                  </a:lnTo>
                  <a:lnTo>
                    <a:pt x="946" y="36"/>
                  </a:lnTo>
                  <a:lnTo>
                    <a:pt x="969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3762360" y="5343480"/>
              <a:ext cx="414360" cy="328680"/>
            </a:xfrm>
            <a:custGeom>
              <a:avLst/>
              <a:gdLst/>
              <a:ahLst/>
              <a:rect l="l" t="t" r="r" b="b"/>
              <a:pathLst>
                <a:path w="1042" h="832">
                  <a:moveTo>
                    <a:pt x="973" y="18"/>
                  </a:moveTo>
                  <a:lnTo>
                    <a:pt x="951" y="51"/>
                  </a:lnTo>
                  <a:lnTo>
                    <a:pt x="926" y="84"/>
                  </a:lnTo>
                  <a:lnTo>
                    <a:pt x="899" y="113"/>
                  </a:lnTo>
                  <a:lnTo>
                    <a:pt x="869" y="142"/>
                  </a:lnTo>
                  <a:lnTo>
                    <a:pt x="837" y="168"/>
                  </a:lnTo>
                  <a:lnTo>
                    <a:pt x="803" y="193"/>
                  </a:lnTo>
                  <a:lnTo>
                    <a:pt x="768" y="216"/>
                  </a:lnTo>
                  <a:lnTo>
                    <a:pt x="732" y="239"/>
                  </a:lnTo>
                  <a:lnTo>
                    <a:pt x="695" y="258"/>
                  </a:lnTo>
                  <a:lnTo>
                    <a:pt x="657" y="277"/>
                  </a:lnTo>
                  <a:lnTo>
                    <a:pt x="618" y="294"/>
                  </a:lnTo>
                  <a:lnTo>
                    <a:pt x="578" y="311"/>
                  </a:lnTo>
                  <a:lnTo>
                    <a:pt x="539" y="325"/>
                  </a:lnTo>
                  <a:lnTo>
                    <a:pt x="499" y="339"/>
                  </a:lnTo>
                  <a:lnTo>
                    <a:pt x="460" y="352"/>
                  </a:lnTo>
                  <a:lnTo>
                    <a:pt x="422" y="363"/>
                  </a:lnTo>
                  <a:lnTo>
                    <a:pt x="383" y="373"/>
                  </a:lnTo>
                  <a:lnTo>
                    <a:pt x="346" y="381"/>
                  </a:lnTo>
                  <a:lnTo>
                    <a:pt x="309" y="390"/>
                  </a:lnTo>
                  <a:lnTo>
                    <a:pt x="274" y="397"/>
                  </a:lnTo>
                  <a:lnTo>
                    <a:pt x="208" y="409"/>
                  </a:lnTo>
                  <a:lnTo>
                    <a:pt x="151" y="417"/>
                  </a:lnTo>
                  <a:lnTo>
                    <a:pt x="103" y="423"/>
                  </a:lnTo>
                  <a:lnTo>
                    <a:pt x="67" y="427"/>
                  </a:lnTo>
                  <a:lnTo>
                    <a:pt x="42" y="430"/>
                  </a:lnTo>
                  <a:lnTo>
                    <a:pt x="33" y="431"/>
                  </a:lnTo>
                  <a:lnTo>
                    <a:pt x="28" y="431"/>
                  </a:lnTo>
                  <a:lnTo>
                    <a:pt x="23" y="432"/>
                  </a:lnTo>
                  <a:lnTo>
                    <a:pt x="20" y="435"/>
                  </a:lnTo>
                  <a:lnTo>
                    <a:pt x="15" y="436"/>
                  </a:lnTo>
                  <a:lnTo>
                    <a:pt x="11" y="440"/>
                  </a:lnTo>
                  <a:lnTo>
                    <a:pt x="8" y="443"/>
                  </a:lnTo>
                  <a:lnTo>
                    <a:pt x="5" y="447"/>
                  </a:lnTo>
                  <a:lnTo>
                    <a:pt x="2" y="451"/>
                  </a:lnTo>
                  <a:lnTo>
                    <a:pt x="1" y="456"/>
                  </a:lnTo>
                  <a:lnTo>
                    <a:pt x="0" y="461"/>
                  </a:lnTo>
                  <a:lnTo>
                    <a:pt x="0" y="466"/>
                  </a:lnTo>
                  <a:lnTo>
                    <a:pt x="0" y="469"/>
                  </a:lnTo>
                  <a:lnTo>
                    <a:pt x="1" y="474"/>
                  </a:lnTo>
                  <a:lnTo>
                    <a:pt x="2" y="479"/>
                  </a:lnTo>
                  <a:lnTo>
                    <a:pt x="3" y="483"/>
                  </a:lnTo>
                  <a:lnTo>
                    <a:pt x="7" y="488"/>
                  </a:lnTo>
                  <a:lnTo>
                    <a:pt x="38" y="529"/>
                  </a:lnTo>
                  <a:lnTo>
                    <a:pt x="72" y="567"/>
                  </a:lnTo>
                  <a:lnTo>
                    <a:pt x="104" y="603"/>
                  </a:lnTo>
                  <a:lnTo>
                    <a:pt x="136" y="637"/>
                  </a:lnTo>
                  <a:lnTo>
                    <a:pt x="170" y="667"/>
                  </a:lnTo>
                  <a:lnTo>
                    <a:pt x="202" y="695"/>
                  </a:lnTo>
                  <a:lnTo>
                    <a:pt x="236" y="720"/>
                  </a:lnTo>
                  <a:lnTo>
                    <a:pt x="269" y="744"/>
                  </a:lnTo>
                  <a:lnTo>
                    <a:pt x="302" y="763"/>
                  </a:lnTo>
                  <a:lnTo>
                    <a:pt x="335" y="781"/>
                  </a:lnTo>
                  <a:lnTo>
                    <a:pt x="352" y="789"/>
                  </a:lnTo>
                  <a:lnTo>
                    <a:pt x="369" y="796"/>
                  </a:lnTo>
                  <a:lnTo>
                    <a:pt x="386" y="803"/>
                  </a:lnTo>
                  <a:lnTo>
                    <a:pt x="402" y="808"/>
                  </a:lnTo>
                  <a:lnTo>
                    <a:pt x="419" y="814"/>
                  </a:lnTo>
                  <a:lnTo>
                    <a:pt x="437" y="818"/>
                  </a:lnTo>
                  <a:lnTo>
                    <a:pt x="453" y="822"/>
                  </a:lnTo>
                  <a:lnTo>
                    <a:pt x="470" y="825"/>
                  </a:lnTo>
                  <a:lnTo>
                    <a:pt x="487" y="828"/>
                  </a:lnTo>
                  <a:lnTo>
                    <a:pt x="504" y="829"/>
                  </a:lnTo>
                  <a:lnTo>
                    <a:pt x="521" y="830"/>
                  </a:lnTo>
                  <a:lnTo>
                    <a:pt x="537" y="832"/>
                  </a:lnTo>
                  <a:lnTo>
                    <a:pt x="559" y="832"/>
                  </a:lnTo>
                  <a:lnTo>
                    <a:pt x="578" y="830"/>
                  </a:lnTo>
                  <a:lnTo>
                    <a:pt x="598" y="828"/>
                  </a:lnTo>
                  <a:lnTo>
                    <a:pt x="617" y="825"/>
                  </a:lnTo>
                  <a:lnTo>
                    <a:pt x="636" y="822"/>
                  </a:lnTo>
                  <a:lnTo>
                    <a:pt x="653" y="817"/>
                  </a:lnTo>
                  <a:lnTo>
                    <a:pt x="670" y="812"/>
                  </a:lnTo>
                  <a:lnTo>
                    <a:pt x="688" y="806"/>
                  </a:lnTo>
                  <a:lnTo>
                    <a:pt x="720" y="793"/>
                  </a:lnTo>
                  <a:lnTo>
                    <a:pt x="750" y="780"/>
                  </a:lnTo>
                  <a:lnTo>
                    <a:pt x="777" y="763"/>
                  </a:lnTo>
                  <a:lnTo>
                    <a:pt x="802" y="747"/>
                  </a:lnTo>
                  <a:lnTo>
                    <a:pt x="824" y="731"/>
                  </a:lnTo>
                  <a:lnTo>
                    <a:pt x="844" y="715"/>
                  </a:lnTo>
                  <a:lnTo>
                    <a:pt x="862" y="700"/>
                  </a:lnTo>
                  <a:lnTo>
                    <a:pt x="875" y="686"/>
                  </a:lnTo>
                  <a:lnTo>
                    <a:pt x="896" y="665"/>
                  </a:lnTo>
                  <a:lnTo>
                    <a:pt x="904" y="657"/>
                  </a:lnTo>
                  <a:lnTo>
                    <a:pt x="919" y="636"/>
                  </a:lnTo>
                  <a:lnTo>
                    <a:pt x="932" y="615"/>
                  </a:lnTo>
                  <a:lnTo>
                    <a:pt x="945" y="592"/>
                  </a:lnTo>
                  <a:lnTo>
                    <a:pt x="957" y="570"/>
                  </a:lnTo>
                  <a:lnTo>
                    <a:pt x="967" y="546"/>
                  </a:lnTo>
                  <a:lnTo>
                    <a:pt x="977" y="523"/>
                  </a:lnTo>
                  <a:lnTo>
                    <a:pt x="986" y="498"/>
                  </a:lnTo>
                  <a:lnTo>
                    <a:pt x="994" y="473"/>
                  </a:lnTo>
                  <a:lnTo>
                    <a:pt x="1002" y="447"/>
                  </a:lnTo>
                  <a:lnTo>
                    <a:pt x="1008" y="422"/>
                  </a:lnTo>
                  <a:lnTo>
                    <a:pt x="1014" y="397"/>
                  </a:lnTo>
                  <a:lnTo>
                    <a:pt x="1019" y="371"/>
                  </a:lnTo>
                  <a:lnTo>
                    <a:pt x="1028" y="322"/>
                  </a:lnTo>
                  <a:lnTo>
                    <a:pt x="1034" y="272"/>
                  </a:lnTo>
                  <a:lnTo>
                    <a:pt x="1038" y="226"/>
                  </a:lnTo>
                  <a:lnTo>
                    <a:pt x="1040" y="183"/>
                  </a:lnTo>
                  <a:lnTo>
                    <a:pt x="1042" y="143"/>
                  </a:lnTo>
                  <a:lnTo>
                    <a:pt x="1042" y="108"/>
                  </a:lnTo>
                  <a:lnTo>
                    <a:pt x="1042" y="57"/>
                  </a:lnTo>
                  <a:lnTo>
                    <a:pt x="1040" y="34"/>
                  </a:lnTo>
                  <a:lnTo>
                    <a:pt x="1039" y="28"/>
                  </a:lnTo>
                  <a:lnTo>
                    <a:pt x="1037" y="23"/>
                  </a:lnTo>
                  <a:lnTo>
                    <a:pt x="1034" y="18"/>
                  </a:lnTo>
                  <a:lnTo>
                    <a:pt x="1032" y="13"/>
                  </a:lnTo>
                  <a:lnTo>
                    <a:pt x="1028" y="9"/>
                  </a:lnTo>
                  <a:lnTo>
                    <a:pt x="1023" y="7"/>
                  </a:lnTo>
                  <a:lnTo>
                    <a:pt x="1018" y="4"/>
                  </a:lnTo>
                  <a:lnTo>
                    <a:pt x="1013" y="2"/>
                  </a:lnTo>
                  <a:lnTo>
                    <a:pt x="1007" y="0"/>
                  </a:lnTo>
                  <a:lnTo>
                    <a:pt x="1002" y="0"/>
                  </a:lnTo>
                  <a:lnTo>
                    <a:pt x="996" y="2"/>
                  </a:lnTo>
                  <a:lnTo>
                    <a:pt x="991" y="3"/>
                  </a:lnTo>
                  <a:lnTo>
                    <a:pt x="986" y="7"/>
                  </a:lnTo>
                  <a:lnTo>
                    <a:pt x="981" y="9"/>
                  </a:lnTo>
                  <a:lnTo>
                    <a:pt x="977" y="13"/>
                  </a:lnTo>
                  <a:lnTo>
                    <a:pt x="973" y="18"/>
                  </a:lnTo>
                  <a:close/>
                  <a:moveTo>
                    <a:pt x="970" y="133"/>
                  </a:moveTo>
                  <a:lnTo>
                    <a:pt x="968" y="184"/>
                  </a:lnTo>
                  <a:lnTo>
                    <a:pt x="965" y="242"/>
                  </a:lnTo>
                  <a:lnTo>
                    <a:pt x="961" y="273"/>
                  </a:lnTo>
                  <a:lnTo>
                    <a:pt x="957" y="306"/>
                  </a:lnTo>
                  <a:lnTo>
                    <a:pt x="952" y="338"/>
                  </a:lnTo>
                  <a:lnTo>
                    <a:pt x="946" y="370"/>
                  </a:lnTo>
                  <a:lnTo>
                    <a:pt x="940" y="404"/>
                  </a:lnTo>
                  <a:lnTo>
                    <a:pt x="931" y="436"/>
                  </a:lnTo>
                  <a:lnTo>
                    <a:pt x="921" y="468"/>
                  </a:lnTo>
                  <a:lnTo>
                    <a:pt x="910" y="499"/>
                  </a:lnTo>
                  <a:lnTo>
                    <a:pt x="898" y="530"/>
                  </a:lnTo>
                  <a:lnTo>
                    <a:pt x="883" y="559"/>
                  </a:lnTo>
                  <a:lnTo>
                    <a:pt x="874" y="574"/>
                  </a:lnTo>
                  <a:lnTo>
                    <a:pt x="867" y="586"/>
                  </a:lnTo>
                  <a:lnTo>
                    <a:pt x="858" y="600"/>
                  </a:lnTo>
                  <a:lnTo>
                    <a:pt x="848" y="612"/>
                  </a:lnTo>
                  <a:lnTo>
                    <a:pt x="842" y="619"/>
                  </a:lnTo>
                  <a:lnTo>
                    <a:pt x="826" y="636"/>
                  </a:lnTo>
                  <a:lnTo>
                    <a:pt x="813" y="648"/>
                  </a:lnTo>
                  <a:lnTo>
                    <a:pt x="799" y="660"/>
                  </a:lnTo>
                  <a:lnTo>
                    <a:pt x="782" y="674"/>
                  </a:lnTo>
                  <a:lnTo>
                    <a:pt x="762" y="688"/>
                  </a:lnTo>
                  <a:lnTo>
                    <a:pt x="741" y="701"/>
                  </a:lnTo>
                  <a:lnTo>
                    <a:pt x="717" y="715"/>
                  </a:lnTo>
                  <a:lnTo>
                    <a:pt x="693" y="727"/>
                  </a:lnTo>
                  <a:lnTo>
                    <a:pt x="665" y="739"/>
                  </a:lnTo>
                  <a:lnTo>
                    <a:pt x="650" y="744"/>
                  </a:lnTo>
                  <a:lnTo>
                    <a:pt x="636" y="747"/>
                  </a:lnTo>
                  <a:lnTo>
                    <a:pt x="621" y="751"/>
                  </a:lnTo>
                  <a:lnTo>
                    <a:pt x="604" y="755"/>
                  </a:lnTo>
                  <a:lnTo>
                    <a:pt x="588" y="757"/>
                  </a:lnTo>
                  <a:lnTo>
                    <a:pt x="572" y="758"/>
                  </a:lnTo>
                  <a:lnTo>
                    <a:pt x="555" y="760"/>
                  </a:lnTo>
                  <a:lnTo>
                    <a:pt x="537" y="760"/>
                  </a:lnTo>
                  <a:lnTo>
                    <a:pt x="511" y="758"/>
                  </a:lnTo>
                  <a:lnTo>
                    <a:pt x="484" y="755"/>
                  </a:lnTo>
                  <a:lnTo>
                    <a:pt x="457" y="750"/>
                  </a:lnTo>
                  <a:lnTo>
                    <a:pt x="431" y="742"/>
                  </a:lnTo>
                  <a:lnTo>
                    <a:pt x="403" y="732"/>
                  </a:lnTo>
                  <a:lnTo>
                    <a:pt x="376" y="720"/>
                  </a:lnTo>
                  <a:lnTo>
                    <a:pt x="350" y="706"/>
                  </a:lnTo>
                  <a:lnTo>
                    <a:pt x="323" y="690"/>
                  </a:lnTo>
                  <a:lnTo>
                    <a:pt x="295" y="673"/>
                  </a:lnTo>
                  <a:lnTo>
                    <a:pt x="269" y="653"/>
                  </a:lnTo>
                  <a:lnTo>
                    <a:pt x="242" y="632"/>
                  </a:lnTo>
                  <a:lnTo>
                    <a:pt x="215" y="608"/>
                  </a:lnTo>
                  <a:lnTo>
                    <a:pt x="189" y="582"/>
                  </a:lnTo>
                  <a:lnTo>
                    <a:pt x="161" y="555"/>
                  </a:lnTo>
                  <a:lnTo>
                    <a:pt x="134" y="526"/>
                  </a:lnTo>
                  <a:lnTo>
                    <a:pt x="108" y="495"/>
                  </a:lnTo>
                  <a:lnTo>
                    <a:pt x="143" y="490"/>
                  </a:lnTo>
                  <a:lnTo>
                    <a:pt x="185" y="485"/>
                  </a:lnTo>
                  <a:lnTo>
                    <a:pt x="231" y="478"/>
                  </a:lnTo>
                  <a:lnTo>
                    <a:pt x="282" y="468"/>
                  </a:lnTo>
                  <a:lnTo>
                    <a:pt x="336" y="457"/>
                  </a:lnTo>
                  <a:lnTo>
                    <a:pt x="393" y="443"/>
                  </a:lnTo>
                  <a:lnTo>
                    <a:pt x="453" y="427"/>
                  </a:lnTo>
                  <a:lnTo>
                    <a:pt x="515" y="407"/>
                  </a:lnTo>
                  <a:lnTo>
                    <a:pt x="546" y="397"/>
                  </a:lnTo>
                  <a:lnTo>
                    <a:pt x="577" y="386"/>
                  </a:lnTo>
                  <a:lnTo>
                    <a:pt x="608" y="374"/>
                  </a:lnTo>
                  <a:lnTo>
                    <a:pt x="639" y="360"/>
                  </a:lnTo>
                  <a:lnTo>
                    <a:pt x="669" y="347"/>
                  </a:lnTo>
                  <a:lnTo>
                    <a:pt x="700" y="332"/>
                  </a:lnTo>
                  <a:lnTo>
                    <a:pt x="730" y="317"/>
                  </a:lnTo>
                  <a:lnTo>
                    <a:pt x="760" y="301"/>
                  </a:lnTo>
                  <a:lnTo>
                    <a:pt x="788" y="283"/>
                  </a:lnTo>
                  <a:lnTo>
                    <a:pt x="817" y="265"/>
                  </a:lnTo>
                  <a:lnTo>
                    <a:pt x="845" y="245"/>
                  </a:lnTo>
                  <a:lnTo>
                    <a:pt x="871" y="225"/>
                  </a:lnTo>
                  <a:lnTo>
                    <a:pt x="898" y="204"/>
                  </a:lnTo>
                  <a:lnTo>
                    <a:pt x="922" y="182"/>
                  </a:lnTo>
                  <a:lnTo>
                    <a:pt x="947" y="158"/>
                  </a:lnTo>
                  <a:lnTo>
                    <a:pt x="970" y="13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3767040" y="5394240"/>
              <a:ext cx="385920" cy="271440"/>
            </a:xfrm>
            <a:custGeom>
              <a:avLst/>
              <a:gdLst/>
              <a:ahLst/>
              <a:rect l="l" t="t" r="r" b="b"/>
              <a:pathLst>
                <a:path w="972" h="686">
                  <a:moveTo>
                    <a:pt x="972" y="0"/>
                  </a:moveTo>
                  <a:lnTo>
                    <a:pt x="959" y="19"/>
                  </a:lnTo>
                  <a:lnTo>
                    <a:pt x="923" y="66"/>
                  </a:lnTo>
                  <a:lnTo>
                    <a:pt x="872" y="134"/>
                  </a:lnTo>
                  <a:lnTo>
                    <a:pt x="815" y="215"/>
                  </a:lnTo>
                  <a:lnTo>
                    <a:pt x="785" y="258"/>
                  </a:lnTo>
                  <a:lnTo>
                    <a:pt x="757" y="300"/>
                  </a:lnTo>
                  <a:lnTo>
                    <a:pt x="731" y="341"/>
                  </a:lnTo>
                  <a:lnTo>
                    <a:pt x="710" y="381"/>
                  </a:lnTo>
                  <a:lnTo>
                    <a:pt x="700" y="398"/>
                  </a:lnTo>
                  <a:lnTo>
                    <a:pt x="692" y="416"/>
                  </a:lnTo>
                  <a:lnTo>
                    <a:pt x="684" y="433"/>
                  </a:lnTo>
                  <a:lnTo>
                    <a:pt x="679" y="448"/>
                  </a:lnTo>
                  <a:lnTo>
                    <a:pt x="674" y="462"/>
                  </a:lnTo>
                  <a:lnTo>
                    <a:pt x="672" y="474"/>
                  </a:lnTo>
                  <a:lnTo>
                    <a:pt x="672" y="484"/>
                  </a:lnTo>
                  <a:lnTo>
                    <a:pt x="673" y="493"/>
                  </a:lnTo>
                  <a:lnTo>
                    <a:pt x="674" y="499"/>
                  </a:lnTo>
                  <a:lnTo>
                    <a:pt x="680" y="511"/>
                  </a:lnTo>
                  <a:lnTo>
                    <a:pt x="684" y="519"/>
                  </a:lnTo>
                  <a:lnTo>
                    <a:pt x="692" y="527"/>
                  </a:lnTo>
                  <a:lnTo>
                    <a:pt x="699" y="535"/>
                  </a:lnTo>
                  <a:lnTo>
                    <a:pt x="710" y="541"/>
                  </a:lnTo>
                  <a:lnTo>
                    <a:pt x="716" y="544"/>
                  </a:lnTo>
                  <a:lnTo>
                    <a:pt x="723" y="545"/>
                  </a:lnTo>
                  <a:lnTo>
                    <a:pt x="729" y="546"/>
                  </a:lnTo>
                  <a:lnTo>
                    <a:pt x="738" y="547"/>
                  </a:lnTo>
                  <a:lnTo>
                    <a:pt x="745" y="547"/>
                  </a:lnTo>
                  <a:lnTo>
                    <a:pt x="754" y="546"/>
                  </a:lnTo>
                  <a:lnTo>
                    <a:pt x="764" y="545"/>
                  </a:lnTo>
                  <a:lnTo>
                    <a:pt x="774" y="542"/>
                  </a:lnTo>
                  <a:lnTo>
                    <a:pt x="785" y="539"/>
                  </a:lnTo>
                  <a:lnTo>
                    <a:pt x="797" y="534"/>
                  </a:lnTo>
                  <a:lnTo>
                    <a:pt x="810" y="529"/>
                  </a:lnTo>
                  <a:lnTo>
                    <a:pt x="822" y="521"/>
                  </a:lnTo>
                  <a:lnTo>
                    <a:pt x="837" y="513"/>
                  </a:lnTo>
                  <a:lnTo>
                    <a:pt x="852" y="503"/>
                  </a:lnTo>
                  <a:lnTo>
                    <a:pt x="867" y="491"/>
                  </a:lnTo>
                  <a:lnTo>
                    <a:pt x="884" y="478"/>
                  </a:lnTo>
                  <a:lnTo>
                    <a:pt x="879" y="484"/>
                  </a:lnTo>
                  <a:lnTo>
                    <a:pt x="864" y="500"/>
                  </a:lnTo>
                  <a:lnTo>
                    <a:pt x="842" y="525"/>
                  </a:lnTo>
                  <a:lnTo>
                    <a:pt x="811" y="554"/>
                  </a:lnTo>
                  <a:lnTo>
                    <a:pt x="792" y="570"/>
                  </a:lnTo>
                  <a:lnTo>
                    <a:pt x="772" y="585"/>
                  </a:lnTo>
                  <a:lnTo>
                    <a:pt x="750" y="601"/>
                  </a:lnTo>
                  <a:lnTo>
                    <a:pt x="726" y="617"/>
                  </a:lnTo>
                  <a:lnTo>
                    <a:pt x="700" y="630"/>
                  </a:lnTo>
                  <a:lnTo>
                    <a:pt x="674" y="644"/>
                  </a:lnTo>
                  <a:lnTo>
                    <a:pt x="646" y="657"/>
                  </a:lnTo>
                  <a:lnTo>
                    <a:pt x="616" y="668"/>
                  </a:lnTo>
                  <a:lnTo>
                    <a:pt x="585" y="676"/>
                  </a:lnTo>
                  <a:lnTo>
                    <a:pt x="551" y="683"/>
                  </a:lnTo>
                  <a:lnTo>
                    <a:pt x="518" y="686"/>
                  </a:lnTo>
                  <a:lnTo>
                    <a:pt x="483" y="686"/>
                  </a:lnTo>
                  <a:lnTo>
                    <a:pt x="447" y="684"/>
                  </a:lnTo>
                  <a:lnTo>
                    <a:pt x="410" y="678"/>
                  </a:lnTo>
                  <a:lnTo>
                    <a:pt x="372" y="666"/>
                  </a:lnTo>
                  <a:lnTo>
                    <a:pt x="334" y="652"/>
                  </a:lnTo>
                  <a:lnTo>
                    <a:pt x="294" y="632"/>
                  </a:lnTo>
                  <a:lnTo>
                    <a:pt x="253" y="608"/>
                  </a:lnTo>
                  <a:lnTo>
                    <a:pt x="212" y="578"/>
                  </a:lnTo>
                  <a:lnTo>
                    <a:pt x="171" y="542"/>
                  </a:lnTo>
                  <a:lnTo>
                    <a:pt x="129" y="501"/>
                  </a:lnTo>
                  <a:lnTo>
                    <a:pt x="87" y="453"/>
                  </a:lnTo>
                  <a:lnTo>
                    <a:pt x="43" y="400"/>
                  </a:lnTo>
                  <a:lnTo>
                    <a:pt x="0" y="338"/>
                  </a:lnTo>
                  <a:lnTo>
                    <a:pt x="7" y="340"/>
                  </a:lnTo>
                  <a:lnTo>
                    <a:pt x="27" y="344"/>
                  </a:lnTo>
                  <a:lnTo>
                    <a:pt x="58" y="350"/>
                  </a:lnTo>
                  <a:lnTo>
                    <a:pt x="99" y="355"/>
                  </a:lnTo>
                  <a:lnTo>
                    <a:pt x="124" y="359"/>
                  </a:lnTo>
                  <a:lnTo>
                    <a:pt x="150" y="360"/>
                  </a:lnTo>
                  <a:lnTo>
                    <a:pt x="179" y="362"/>
                  </a:lnTo>
                  <a:lnTo>
                    <a:pt x="210" y="362"/>
                  </a:lnTo>
                  <a:lnTo>
                    <a:pt x="242" y="362"/>
                  </a:lnTo>
                  <a:lnTo>
                    <a:pt x="276" y="362"/>
                  </a:lnTo>
                  <a:lnTo>
                    <a:pt x="310" y="360"/>
                  </a:lnTo>
                  <a:lnTo>
                    <a:pt x="346" y="356"/>
                  </a:lnTo>
                  <a:lnTo>
                    <a:pt x="384" y="351"/>
                  </a:lnTo>
                  <a:lnTo>
                    <a:pt x="422" y="345"/>
                  </a:lnTo>
                  <a:lnTo>
                    <a:pt x="462" y="336"/>
                  </a:lnTo>
                  <a:lnTo>
                    <a:pt x="502" y="326"/>
                  </a:lnTo>
                  <a:lnTo>
                    <a:pt x="541" y="314"/>
                  </a:lnTo>
                  <a:lnTo>
                    <a:pt x="582" y="300"/>
                  </a:lnTo>
                  <a:lnTo>
                    <a:pt x="622" y="283"/>
                  </a:lnTo>
                  <a:lnTo>
                    <a:pt x="663" y="264"/>
                  </a:lnTo>
                  <a:lnTo>
                    <a:pt x="704" y="242"/>
                  </a:lnTo>
                  <a:lnTo>
                    <a:pt x="744" y="217"/>
                  </a:lnTo>
                  <a:lnTo>
                    <a:pt x="785" y="190"/>
                  </a:lnTo>
                  <a:lnTo>
                    <a:pt x="823" y="159"/>
                  </a:lnTo>
                  <a:lnTo>
                    <a:pt x="863" y="124"/>
                  </a:lnTo>
                  <a:lnTo>
                    <a:pt x="900" y="87"/>
                  </a:lnTo>
                  <a:lnTo>
                    <a:pt x="937" y="46"/>
                  </a:lnTo>
                  <a:lnTo>
                    <a:pt x="972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3762360" y="5300640"/>
              <a:ext cx="399960" cy="258840"/>
            </a:xfrm>
            <a:custGeom>
              <a:avLst/>
              <a:gdLst/>
              <a:ahLst/>
              <a:rect l="l" t="t" r="r" b="b"/>
              <a:pathLst>
                <a:path w="1006" h="653">
                  <a:moveTo>
                    <a:pt x="998" y="100"/>
                  </a:moveTo>
                  <a:lnTo>
                    <a:pt x="992" y="89"/>
                  </a:lnTo>
                  <a:lnTo>
                    <a:pt x="986" y="78"/>
                  </a:lnTo>
                  <a:lnTo>
                    <a:pt x="978" y="68"/>
                  </a:lnTo>
                  <a:lnTo>
                    <a:pt x="970" y="58"/>
                  </a:lnTo>
                  <a:lnTo>
                    <a:pt x="960" y="50"/>
                  </a:lnTo>
                  <a:lnTo>
                    <a:pt x="948" y="41"/>
                  </a:lnTo>
                  <a:lnTo>
                    <a:pt x="937" y="33"/>
                  </a:lnTo>
                  <a:lnTo>
                    <a:pt x="924" y="27"/>
                  </a:lnTo>
                  <a:lnTo>
                    <a:pt x="910" y="21"/>
                  </a:lnTo>
                  <a:lnTo>
                    <a:pt x="895" y="16"/>
                  </a:lnTo>
                  <a:lnTo>
                    <a:pt x="880" y="11"/>
                  </a:lnTo>
                  <a:lnTo>
                    <a:pt x="863" y="7"/>
                  </a:lnTo>
                  <a:lnTo>
                    <a:pt x="845" y="5"/>
                  </a:lnTo>
                  <a:lnTo>
                    <a:pt x="828" y="2"/>
                  </a:lnTo>
                  <a:lnTo>
                    <a:pt x="809" y="1"/>
                  </a:lnTo>
                  <a:lnTo>
                    <a:pt x="790" y="0"/>
                  </a:lnTo>
                  <a:lnTo>
                    <a:pt x="770" y="0"/>
                  </a:lnTo>
                  <a:lnTo>
                    <a:pt x="749" y="1"/>
                  </a:lnTo>
                  <a:lnTo>
                    <a:pt x="727" y="2"/>
                  </a:lnTo>
                  <a:lnTo>
                    <a:pt x="705" y="5"/>
                  </a:lnTo>
                  <a:lnTo>
                    <a:pt x="683" y="7"/>
                  </a:lnTo>
                  <a:lnTo>
                    <a:pt x="660" y="11"/>
                  </a:lnTo>
                  <a:lnTo>
                    <a:pt x="637" y="16"/>
                  </a:lnTo>
                  <a:lnTo>
                    <a:pt x="613" y="21"/>
                  </a:lnTo>
                  <a:lnTo>
                    <a:pt x="590" y="27"/>
                  </a:lnTo>
                  <a:lnTo>
                    <a:pt x="565" y="35"/>
                  </a:lnTo>
                  <a:lnTo>
                    <a:pt x="540" y="42"/>
                  </a:lnTo>
                  <a:lnTo>
                    <a:pt x="515" y="50"/>
                  </a:lnTo>
                  <a:lnTo>
                    <a:pt x="490" y="59"/>
                  </a:lnTo>
                  <a:lnTo>
                    <a:pt x="464" y="68"/>
                  </a:lnTo>
                  <a:lnTo>
                    <a:pt x="439" y="79"/>
                  </a:lnTo>
                  <a:lnTo>
                    <a:pt x="413" y="90"/>
                  </a:lnTo>
                  <a:lnTo>
                    <a:pt x="364" y="115"/>
                  </a:lnTo>
                  <a:lnTo>
                    <a:pt x="315" y="141"/>
                  </a:lnTo>
                  <a:lnTo>
                    <a:pt x="270" y="169"/>
                  </a:lnTo>
                  <a:lnTo>
                    <a:pt x="228" y="197"/>
                  </a:lnTo>
                  <a:lnTo>
                    <a:pt x="208" y="212"/>
                  </a:lnTo>
                  <a:lnTo>
                    <a:pt x="189" y="227"/>
                  </a:lnTo>
                  <a:lnTo>
                    <a:pt x="170" y="242"/>
                  </a:lnTo>
                  <a:lnTo>
                    <a:pt x="152" y="257"/>
                  </a:lnTo>
                  <a:lnTo>
                    <a:pt x="135" y="273"/>
                  </a:lnTo>
                  <a:lnTo>
                    <a:pt x="119" y="288"/>
                  </a:lnTo>
                  <a:lnTo>
                    <a:pt x="104" y="304"/>
                  </a:lnTo>
                  <a:lnTo>
                    <a:pt x="90" y="319"/>
                  </a:lnTo>
                  <a:lnTo>
                    <a:pt x="77" y="335"/>
                  </a:lnTo>
                  <a:lnTo>
                    <a:pt x="64" y="351"/>
                  </a:lnTo>
                  <a:lnTo>
                    <a:pt x="53" y="366"/>
                  </a:lnTo>
                  <a:lnTo>
                    <a:pt x="43" y="382"/>
                  </a:lnTo>
                  <a:lnTo>
                    <a:pt x="33" y="397"/>
                  </a:lnTo>
                  <a:lnTo>
                    <a:pt x="26" y="412"/>
                  </a:lnTo>
                  <a:lnTo>
                    <a:pt x="18" y="428"/>
                  </a:lnTo>
                  <a:lnTo>
                    <a:pt x="12" y="443"/>
                  </a:lnTo>
                  <a:lnTo>
                    <a:pt x="7" y="458"/>
                  </a:lnTo>
                  <a:lnTo>
                    <a:pt x="3" y="471"/>
                  </a:lnTo>
                  <a:lnTo>
                    <a:pt x="1" y="486"/>
                  </a:lnTo>
                  <a:lnTo>
                    <a:pt x="0" y="500"/>
                  </a:lnTo>
                  <a:lnTo>
                    <a:pt x="0" y="514"/>
                  </a:lnTo>
                  <a:lnTo>
                    <a:pt x="1" y="527"/>
                  </a:lnTo>
                  <a:lnTo>
                    <a:pt x="5" y="540"/>
                  </a:lnTo>
                  <a:lnTo>
                    <a:pt x="8" y="552"/>
                  </a:lnTo>
                  <a:lnTo>
                    <a:pt x="13" y="563"/>
                  </a:lnTo>
                  <a:lnTo>
                    <a:pt x="20" y="574"/>
                  </a:lnTo>
                  <a:lnTo>
                    <a:pt x="27" y="586"/>
                  </a:lnTo>
                  <a:lnTo>
                    <a:pt x="36" y="595"/>
                  </a:lnTo>
                  <a:lnTo>
                    <a:pt x="46" y="604"/>
                  </a:lnTo>
                  <a:lnTo>
                    <a:pt x="57" y="612"/>
                  </a:lnTo>
                  <a:lnTo>
                    <a:pt x="69" y="619"/>
                  </a:lnTo>
                  <a:lnTo>
                    <a:pt x="82" y="626"/>
                  </a:lnTo>
                  <a:lnTo>
                    <a:pt x="95" y="631"/>
                  </a:lnTo>
                  <a:lnTo>
                    <a:pt x="110" y="638"/>
                  </a:lnTo>
                  <a:lnTo>
                    <a:pt x="126" y="641"/>
                  </a:lnTo>
                  <a:lnTo>
                    <a:pt x="143" y="645"/>
                  </a:lnTo>
                  <a:lnTo>
                    <a:pt x="160" y="649"/>
                  </a:lnTo>
                  <a:lnTo>
                    <a:pt x="177" y="650"/>
                  </a:lnTo>
                  <a:lnTo>
                    <a:pt x="196" y="653"/>
                  </a:lnTo>
                  <a:lnTo>
                    <a:pt x="216" y="653"/>
                  </a:lnTo>
                  <a:lnTo>
                    <a:pt x="236" y="653"/>
                  </a:lnTo>
                  <a:lnTo>
                    <a:pt x="257" y="651"/>
                  </a:lnTo>
                  <a:lnTo>
                    <a:pt x="278" y="650"/>
                  </a:lnTo>
                  <a:lnTo>
                    <a:pt x="300" y="648"/>
                  </a:lnTo>
                  <a:lnTo>
                    <a:pt x="323" y="645"/>
                  </a:lnTo>
                  <a:lnTo>
                    <a:pt x="345" y="641"/>
                  </a:lnTo>
                  <a:lnTo>
                    <a:pt x="369" y="636"/>
                  </a:lnTo>
                  <a:lnTo>
                    <a:pt x="392" y="631"/>
                  </a:lnTo>
                  <a:lnTo>
                    <a:pt x="417" y="625"/>
                  </a:lnTo>
                  <a:lnTo>
                    <a:pt x="441" y="619"/>
                  </a:lnTo>
                  <a:lnTo>
                    <a:pt x="465" y="612"/>
                  </a:lnTo>
                  <a:lnTo>
                    <a:pt x="490" y="603"/>
                  </a:lnTo>
                  <a:lnTo>
                    <a:pt x="516" y="594"/>
                  </a:lnTo>
                  <a:lnTo>
                    <a:pt x="541" y="584"/>
                  </a:lnTo>
                  <a:lnTo>
                    <a:pt x="566" y="573"/>
                  </a:lnTo>
                  <a:lnTo>
                    <a:pt x="592" y="562"/>
                  </a:lnTo>
                  <a:lnTo>
                    <a:pt x="617" y="551"/>
                  </a:lnTo>
                  <a:lnTo>
                    <a:pt x="642" y="538"/>
                  </a:lnTo>
                  <a:lnTo>
                    <a:pt x="667" y="525"/>
                  </a:lnTo>
                  <a:lnTo>
                    <a:pt x="690" y="512"/>
                  </a:lnTo>
                  <a:lnTo>
                    <a:pt x="713" y="499"/>
                  </a:lnTo>
                  <a:lnTo>
                    <a:pt x="735" y="485"/>
                  </a:lnTo>
                  <a:lnTo>
                    <a:pt x="757" y="470"/>
                  </a:lnTo>
                  <a:lnTo>
                    <a:pt x="778" y="457"/>
                  </a:lnTo>
                  <a:lnTo>
                    <a:pt x="798" y="442"/>
                  </a:lnTo>
                  <a:lnTo>
                    <a:pt x="817" y="427"/>
                  </a:lnTo>
                  <a:lnTo>
                    <a:pt x="835" y="412"/>
                  </a:lnTo>
                  <a:lnTo>
                    <a:pt x="854" y="396"/>
                  </a:lnTo>
                  <a:lnTo>
                    <a:pt x="870" y="381"/>
                  </a:lnTo>
                  <a:lnTo>
                    <a:pt x="886" y="365"/>
                  </a:lnTo>
                  <a:lnTo>
                    <a:pt x="901" y="350"/>
                  </a:lnTo>
                  <a:lnTo>
                    <a:pt x="916" y="334"/>
                  </a:lnTo>
                  <a:lnTo>
                    <a:pt x="930" y="319"/>
                  </a:lnTo>
                  <a:lnTo>
                    <a:pt x="941" y="303"/>
                  </a:lnTo>
                  <a:lnTo>
                    <a:pt x="953" y="287"/>
                  </a:lnTo>
                  <a:lnTo>
                    <a:pt x="963" y="272"/>
                  </a:lnTo>
                  <a:lnTo>
                    <a:pt x="972" y="256"/>
                  </a:lnTo>
                  <a:lnTo>
                    <a:pt x="981" y="241"/>
                  </a:lnTo>
                  <a:lnTo>
                    <a:pt x="988" y="226"/>
                  </a:lnTo>
                  <a:lnTo>
                    <a:pt x="993" y="211"/>
                  </a:lnTo>
                  <a:lnTo>
                    <a:pt x="998" y="196"/>
                  </a:lnTo>
                  <a:lnTo>
                    <a:pt x="1002" y="181"/>
                  </a:lnTo>
                  <a:lnTo>
                    <a:pt x="1004" y="167"/>
                  </a:lnTo>
                  <a:lnTo>
                    <a:pt x="1006" y="154"/>
                  </a:lnTo>
                  <a:lnTo>
                    <a:pt x="1006" y="140"/>
                  </a:lnTo>
                  <a:lnTo>
                    <a:pt x="1004" y="126"/>
                  </a:lnTo>
                  <a:lnTo>
                    <a:pt x="1002" y="114"/>
                  </a:lnTo>
                  <a:lnTo>
                    <a:pt x="998" y="1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3747960" y="5288040"/>
              <a:ext cx="428760" cy="285840"/>
            </a:xfrm>
            <a:custGeom>
              <a:avLst/>
              <a:gdLst/>
              <a:ahLst/>
              <a:rect l="l" t="t" r="r" b="b"/>
              <a:pathLst>
                <a:path w="1077" h="724">
                  <a:moveTo>
                    <a:pt x="433" y="93"/>
                  </a:moveTo>
                  <a:lnTo>
                    <a:pt x="406" y="106"/>
                  </a:lnTo>
                  <a:lnTo>
                    <a:pt x="380" y="119"/>
                  </a:lnTo>
                  <a:lnTo>
                    <a:pt x="354" y="133"/>
                  </a:lnTo>
                  <a:lnTo>
                    <a:pt x="329" y="148"/>
                  </a:lnTo>
                  <a:lnTo>
                    <a:pt x="304" y="161"/>
                  </a:lnTo>
                  <a:lnTo>
                    <a:pt x="281" y="176"/>
                  </a:lnTo>
                  <a:lnTo>
                    <a:pt x="257" y="192"/>
                  </a:lnTo>
                  <a:lnTo>
                    <a:pt x="236" y="207"/>
                  </a:lnTo>
                  <a:lnTo>
                    <a:pt x="214" y="224"/>
                  </a:lnTo>
                  <a:lnTo>
                    <a:pt x="194" y="240"/>
                  </a:lnTo>
                  <a:lnTo>
                    <a:pt x="174" y="256"/>
                  </a:lnTo>
                  <a:lnTo>
                    <a:pt x="155" y="273"/>
                  </a:lnTo>
                  <a:lnTo>
                    <a:pt x="138" y="289"/>
                  </a:lnTo>
                  <a:lnTo>
                    <a:pt x="120" y="307"/>
                  </a:lnTo>
                  <a:lnTo>
                    <a:pt x="106" y="324"/>
                  </a:lnTo>
                  <a:lnTo>
                    <a:pt x="91" y="340"/>
                  </a:lnTo>
                  <a:lnTo>
                    <a:pt x="76" y="358"/>
                  </a:lnTo>
                  <a:lnTo>
                    <a:pt x="63" y="375"/>
                  </a:lnTo>
                  <a:lnTo>
                    <a:pt x="52" y="392"/>
                  </a:lnTo>
                  <a:lnTo>
                    <a:pt x="41" y="408"/>
                  </a:lnTo>
                  <a:lnTo>
                    <a:pt x="32" y="426"/>
                  </a:lnTo>
                  <a:lnTo>
                    <a:pt x="24" y="443"/>
                  </a:lnTo>
                  <a:lnTo>
                    <a:pt x="16" y="459"/>
                  </a:lnTo>
                  <a:lnTo>
                    <a:pt x="11" y="477"/>
                  </a:lnTo>
                  <a:lnTo>
                    <a:pt x="6" y="493"/>
                  </a:lnTo>
                  <a:lnTo>
                    <a:pt x="2" y="509"/>
                  </a:lnTo>
                  <a:lnTo>
                    <a:pt x="0" y="525"/>
                  </a:lnTo>
                  <a:lnTo>
                    <a:pt x="0" y="540"/>
                  </a:lnTo>
                  <a:lnTo>
                    <a:pt x="0" y="556"/>
                  </a:lnTo>
                  <a:lnTo>
                    <a:pt x="2" y="571"/>
                  </a:lnTo>
                  <a:lnTo>
                    <a:pt x="5" y="586"/>
                  </a:lnTo>
                  <a:lnTo>
                    <a:pt x="10" y="599"/>
                  </a:lnTo>
                  <a:lnTo>
                    <a:pt x="16" y="616"/>
                  </a:lnTo>
                  <a:lnTo>
                    <a:pt x="26" y="630"/>
                  </a:lnTo>
                  <a:lnTo>
                    <a:pt x="36" y="644"/>
                  </a:lnTo>
                  <a:lnTo>
                    <a:pt x="48" y="658"/>
                  </a:lnTo>
                  <a:lnTo>
                    <a:pt x="62" y="669"/>
                  </a:lnTo>
                  <a:lnTo>
                    <a:pt x="77" y="680"/>
                  </a:lnTo>
                  <a:lnTo>
                    <a:pt x="94" y="690"/>
                  </a:lnTo>
                  <a:lnTo>
                    <a:pt x="113" y="699"/>
                  </a:lnTo>
                  <a:lnTo>
                    <a:pt x="137" y="707"/>
                  </a:lnTo>
                  <a:lnTo>
                    <a:pt x="163" y="714"/>
                  </a:lnTo>
                  <a:lnTo>
                    <a:pt x="190" y="719"/>
                  </a:lnTo>
                  <a:lnTo>
                    <a:pt x="219" y="722"/>
                  </a:lnTo>
                  <a:lnTo>
                    <a:pt x="250" y="724"/>
                  </a:lnTo>
                  <a:lnTo>
                    <a:pt x="281" y="724"/>
                  </a:lnTo>
                  <a:lnTo>
                    <a:pt x="313" y="721"/>
                  </a:lnTo>
                  <a:lnTo>
                    <a:pt x="348" y="717"/>
                  </a:lnTo>
                  <a:lnTo>
                    <a:pt x="382" y="712"/>
                  </a:lnTo>
                  <a:lnTo>
                    <a:pt x="417" y="706"/>
                  </a:lnTo>
                  <a:lnTo>
                    <a:pt x="453" y="697"/>
                  </a:lnTo>
                  <a:lnTo>
                    <a:pt x="490" y="686"/>
                  </a:lnTo>
                  <a:lnTo>
                    <a:pt x="528" y="675"/>
                  </a:lnTo>
                  <a:lnTo>
                    <a:pt x="566" y="661"/>
                  </a:lnTo>
                  <a:lnTo>
                    <a:pt x="603" y="647"/>
                  </a:lnTo>
                  <a:lnTo>
                    <a:pt x="642" y="629"/>
                  </a:lnTo>
                  <a:lnTo>
                    <a:pt x="689" y="607"/>
                  </a:lnTo>
                  <a:lnTo>
                    <a:pt x="735" y="582"/>
                  </a:lnTo>
                  <a:lnTo>
                    <a:pt x="779" y="557"/>
                  </a:lnTo>
                  <a:lnTo>
                    <a:pt x="820" y="530"/>
                  </a:lnTo>
                  <a:lnTo>
                    <a:pt x="857" y="503"/>
                  </a:lnTo>
                  <a:lnTo>
                    <a:pt x="893" y="474"/>
                  </a:lnTo>
                  <a:lnTo>
                    <a:pt x="926" y="444"/>
                  </a:lnTo>
                  <a:lnTo>
                    <a:pt x="956" y="415"/>
                  </a:lnTo>
                  <a:lnTo>
                    <a:pt x="970" y="400"/>
                  </a:lnTo>
                  <a:lnTo>
                    <a:pt x="983" y="385"/>
                  </a:lnTo>
                  <a:lnTo>
                    <a:pt x="996" y="370"/>
                  </a:lnTo>
                  <a:lnTo>
                    <a:pt x="1007" y="355"/>
                  </a:lnTo>
                  <a:lnTo>
                    <a:pt x="1018" y="340"/>
                  </a:lnTo>
                  <a:lnTo>
                    <a:pt x="1028" y="325"/>
                  </a:lnTo>
                  <a:lnTo>
                    <a:pt x="1037" y="310"/>
                  </a:lnTo>
                  <a:lnTo>
                    <a:pt x="1044" y="295"/>
                  </a:lnTo>
                  <a:lnTo>
                    <a:pt x="1052" y="281"/>
                  </a:lnTo>
                  <a:lnTo>
                    <a:pt x="1058" y="266"/>
                  </a:lnTo>
                  <a:lnTo>
                    <a:pt x="1064" y="251"/>
                  </a:lnTo>
                  <a:lnTo>
                    <a:pt x="1068" y="237"/>
                  </a:lnTo>
                  <a:lnTo>
                    <a:pt x="1072" y="222"/>
                  </a:lnTo>
                  <a:lnTo>
                    <a:pt x="1074" y="209"/>
                  </a:lnTo>
                  <a:lnTo>
                    <a:pt x="1075" y="194"/>
                  </a:lnTo>
                  <a:lnTo>
                    <a:pt x="1077" y="180"/>
                  </a:lnTo>
                  <a:lnTo>
                    <a:pt x="1075" y="165"/>
                  </a:lnTo>
                  <a:lnTo>
                    <a:pt x="1074" y="152"/>
                  </a:lnTo>
                  <a:lnTo>
                    <a:pt x="1070" y="137"/>
                  </a:lnTo>
                  <a:lnTo>
                    <a:pt x="1067" y="123"/>
                  </a:lnTo>
                  <a:lnTo>
                    <a:pt x="1059" y="108"/>
                  </a:lnTo>
                  <a:lnTo>
                    <a:pt x="1051" y="92"/>
                  </a:lnTo>
                  <a:lnTo>
                    <a:pt x="1039" y="78"/>
                  </a:lnTo>
                  <a:lnTo>
                    <a:pt x="1027" y="66"/>
                  </a:lnTo>
                  <a:lnTo>
                    <a:pt x="1013" y="54"/>
                  </a:lnTo>
                  <a:lnTo>
                    <a:pt x="998" y="42"/>
                  </a:lnTo>
                  <a:lnTo>
                    <a:pt x="981" y="34"/>
                  </a:lnTo>
                  <a:lnTo>
                    <a:pt x="964" y="25"/>
                  </a:lnTo>
                  <a:lnTo>
                    <a:pt x="939" y="16"/>
                  </a:lnTo>
                  <a:lnTo>
                    <a:pt x="914" y="9"/>
                  </a:lnTo>
                  <a:lnTo>
                    <a:pt x="885" y="4"/>
                  </a:lnTo>
                  <a:lnTo>
                    <a:pt x="857" y="1"/>
                  </a:lnTo>
                  <a:lnTo>
                    <a:pt x="827" y="0"/>
                  </a:lnTo>
                  <a:lnTo>
                    <a:pt x="795" y="0"/>
                  </a:lnTo>
                  <a:lnTo>
                    <a:pt x="762" y="1"/>
                  </a:lnTo>
                  <a:lnTo>
                    <a:pt x="729" y="5"/>
                  </a:lnTo>
                  <a:lnTo>
                    <a:pt x="694" y="10"/>
                  </a:lnTo>
                  <a:lnTo>
                    <a:pt x="658" y="18"/>
                  </a:lnTo>
                  <a:lnTo>
                    <a:pt x="622" y="26"/>
                  </a:lnTo>
                  <a:lnTo>
                    <a:pt x="585" y="36"/>
                  </a:lnTo>
                  <a:lnTo>
                    <a:pt x="548" y="49"/>
                  </a:lnTo>
                  <a:lnTo>
                    <a:pt x="510" y="61"/>
                  </a:lnTo>
                  <a:lnTo>
                    <a:pt x="472" y="77"/>
                  </a:lnTo>
                  <a:lnTo>
                    <a:pt x="433" y="93"/>
                  </a:lnTo>
                  <a:close/>
                  <a:moveTo>
                    <a:pt x="140" y="632"/>
                  </a:moveTo>
                  <a:lnTo>
                    <a:pt x="128" y="627"/>
                  </a:lnTo>
                  <a:lnTo>
                    <a:pt x="118" y="621"/>
                  </a:lnTo>
                  <a:lnTo>
                    <a:pt x="108" y="614"/>
                  </a:lnTo>
                  <a:lnTo>
                    <a:pt x="99" y="608"/>
                  </a:lnTo>
                  <a:lnTo>
                    <a:pt x="92" y="601"/>
                  </a:lnTo>
                  <a:lnTo>
                    <a:pt x="86" y="592"/>
                  </a:lnTo>
                  <a:lnTo>
                    <a:pt x="81" y="583"/>
                  </a:lnTo>
                  <a:lnTo>
                    <a:pt x="77" y="575"/>
                  </a:lnTo>
                  <a:lnTo>
                    <a:pt x="73" y="565"/>
                  </a:lnTo>
                  <a:lnTo>
                    <a:pt x="72" y="555"/>
                  </a:lnTo>
                  <a:lnTo>
                    <a:pt x="71" y="545"/>
                  </a:lnTo>
                  <a:lnTo>
                    <a:pt x="71" y="534"/>
                  </a:lnTo>
                  <a:lnTo>
                    <a:pt x="72" y="523"/>
                  </a:lnTo>
                  <a:lnTo>
                    <a:pt x="74" y="510"/>
                  </a:lnTo>
                  <a:lnTo>
                    <a:pt x="78" y="498"/>
                  </a:lnTo>
                  <a:lnTo>
                    <a:pt x="82" y="485"/>
                  </a:lnTo>
                  <a:lnTo>
                    <a:pt x="87" y="473"/>
                  </a:lnTo>
                  <a:lnTo>
                    <a:pt x="93" y="459"/>
                  </a:lnTo>
                  <a:lnTo>
                    <a:pt x="101" y="446"/>
                  </a:lnTo>
                  <a:lnTo>
                    <a:pt x="109" y="433"/>
                  </a:lnTo>
                  <a:lnTo>
                    <a:pt x="118" y="418"/>
                  </a:lnTo>
                  <a:lnTo>
                    <a:pt x="129" y="405"/>
                  </a:lnTo>
                  <a:lnTo>
                    <a:pt x="140" y="391"/>
                  </a:lnTo>
                  <a:lnTo>
                    <a:pt x="151" y="376"/>
                  </a:lnTo>
                  <a:lnTo>
                    <a:pt x="179" y="348"/>
                  </a:lnTo>
                  <a:lnTo>
                    <a:pt x="209" y="319"/>
                  </a:lnTo>
                  <a:lnTo>
                    <a:pt x="243" y="291"/>
                  </a:lnTo>
                  <a:lnTo>
                    <a:pt x="281" y="262"/>
                  </a:lnTo>
                  <a:lnTo>
                    <a:pt x="322" y="235"/>
                  </a:lnTo>
                  <a:lnTo>
                    <a:pt x="365" y="209"/>
                  </a:lnTo>
                  <a:lnTo>
                    <a:pt x="389" y="195"/>
                  </a:lnTo>
                  <a:lnTo>
                    <a:pt x="412" y="183"/>
                  </a:lnTo>
                  <a:lnTo>
                    <a:pt x="437" y="170"/>
                  </a:lnTo>
                  <a:lnTo>
                    <a:pt x="463" y="158"/>
                  </a:lnTo>
                  <a:lnTo>
                    <a:pt x="498" y="143"/>
                  </a:lnTo>
                  <a:lnTo>
                    <a:pt x="531" y="129"/>
                  </a:lnTo>
                  <a:lnTo>
                    <a:pt x="566" y="117"/>
                  </a:lnTo>
                  <a:lnTo>
                    <a:pt x="600" y="107"/>
                  </a:lnTo>
                  <a:lnTo>
                    <a:pt x="633" y="97"/>
                  </a:lnTo>
                  <a:lnTo>
                    <a:pt x="666" y="88"/>
                  </a:lnTo>
                  <a:lnTo>
                    <a:pt x="698" y="82"/>
                  </a:lnTo>
                  <a:lnTo>
                    <a:pt x="730" y="77"/>
                  </a:lnTo>
                  <a:lnTo>
                    <a:pt x="760" y="73"/>
                  </a:lnTo>
                  <a:lnTo>
                    <a:pt x="790" y="71"/>
                  </a:lnTo>
                  <a:lnTo>
                    <a:pt x="817" y="71"/>
                  </a:lnTo>
                  <a:lnTo>
                    <a:pt x="844" y="71"/>
                  </a:lnTo>
                  <a:lnTo>
                    <a:pt x="869" y="73"/>
                  </a:lnTo>
                  <a:lnTo>
                    <a:pt x="893" y="78"/>
                  </a:lnTo>
                  <a:lnTo>
                    <a:pt x="915" y="83"/>
                  </a:lnTo>
                  <a:lnTo>
                    <a:pt x="936" y="91"/>
                  </a:lnTo>
                  <a:lnTo>
                    <a:pt x="947" y="96"/>
                  </a:lnTo>
                  <a:lnTo>
                    <a:pt x="959" y="102"/>
                  </a:lnTo>
                  <a:lnTo>
                    <a:pt x="967" y="108"/>
                  </a:lnTo>
                  <a:lnTo>
                    <a:pt x="976" y="116"/>
                  </a:lnTo>
                  <a:lnTo>
                    <a:pt x="983" y="123"/>
                  </a:lnTo>
                  <a:lnTo>
                    <a:pt x="990" y="130"/>
                  </a:lnTo>
                  <a:lnTo>
                    <a:pt x="995" y="139"/>
                  </a:lnTo>
                  <a:lnTo>
                    <a:pt x="1000" y="149"/>
                  </a:lnTo>
                  <a:lnTo>
                    <a:pt x="1000" y="149"/>
                  </a:lnTo>
                  <a:lnTo>
                    <a:pt x="1002" y="158"/>
                  </a:lnTo>
                  <a:lnTo>
                    <a:pt x="1005" y="168"/>
                  </a:lnTo>
                  <a:lnTo>
                    <a:pt x="1005" y="179"/>
                  </a:lnTo>
                  <a:lnTo>
                    <a:pt x="1005" y="190"/>
                  </a:lnTo>
                  <a:lnTo>
                    <a:pt x="1003" y="201"/>
                  </a:lnTo>
                  <a:lnTo>
                    <a:pt x="1001" y="212"/>
                  </a:lnTo>
                  <a:lnTo>
                    <a:pt x="998" y="225"/>
                  </a:lnTo>
                  <a:lnTo>
                    <a:pt x="993" y="237"/>
                  </a:lnTo>
                  <a:lnTo>
                    <a:pt x="988" y="251"/>
                  </a:lnTo>
                  <a:lnTo>
                    <a:pt x="982" y="263"/>
                  </a:lnTo>
                  <a:lnTo>
                    <a:pt x="975" y="277"/>
                  </a:lnTo>
                  <a:lnTo>
                    <a:pt x="966" y="291"/>
                  </a:lnTo>
                  <a:lnTo>
                    <a:pt x="957" y="304"/>
                  </a:lnTo>
                  <a:lnTo>
                    <a:pt x="947" y="318"/>
                  </a:lnTo>
                  <a:lnTo>
                    <a:pt x="936" y="331"/>
                  </a:lnTo>
                  <a:lnTo>
                    <a:pt x="924" y="346"/>
                  </a:lnTo>
                  <a:lnTo>
                    <a:pt x="898" y="375"/>
                  </a:lnTo>
                  <a:lnTo>
                    <a:pt x="867" y="403"/>
                  </a:lnTo>
                  <a:lnTo>
                    <a:pt x="833" y="432"/>
                  </a:lnTo>
                  <a:lnTo>
                    <a:pt x="796" y="460"/>
                  </a:lnTo>
                  <a:lnTo>
                    <a:pt x="775" y="474"/>
                  </a:lnTo>
                  <a:lnTo>
                    <a:pt x="755" y="488"/>
                  </a:lnTo>
                  <a:lnTo>
                    <a:pt x="733" y="501"/>
                  </a:lnTo>
                  <a:lnTo>
                    <a:pt x="710" y="515"/>
                  </a:lnTo>
                  <a:lnTo>
                    <a:pt x="687" y="527"/>
                  </a:lnTo>
                  <a:lnTo>
                    <a:pt x="663" y="540"/>
                  </a:lnTo>
                  <a:lnTo>
                    <a:pt x="638" y="552"/>
                  </a:lnTo>
                  <a:lnTo>
                    <a:pt x="612" y="565"/>
                  </a:lnTo>
                  <a:lnTo>
                    <a:pt x="577" y="580"/>
                  </a:lnTo>
                  <a:lnTo>
                    <a:pt x="544" y="593"/>
                  </a:lnTo>
                  <a:lnTo>
                    <a:pt x="509" y="606"/>
                  </a:lnTo>
                  <a:lnTo>
                    <a:pt x="476" y="617"/>
                  </a:lnTo>
                  <a:lnTo>
                    <a:pt x="442" y="627"/>
                  </a:lnTo>
                  <a:lnTo>
                    <a:pt x="410" y="634"/>
                  </a:lnTo>
                  <a:lnTo>
                    <a:pt x="377" y="640"/>
                  </a:lnTo>
                  <a:lnTo>
                    <a:pt x="346" y="645"/>
                  </a:lnTo>
                  <a:lnTo>
                    <a:pt x="315" y="649"/>
                  </a:lnTo>
                  <a:lnTo>
                    <a:pt x="287" y="652"/>
                  </a:lnTo>
                  <a:lnTo>
                    <a:pt x="258" y="653"/>
                  </a:lnTo>
                  <a:lnTo>
                    <a:pt x="232" y="652"/>
                  </a:lnTo>
                  <a:lnTo>
                    <a:pt x="206" y="649"/>
                  </a:lnTo>
                  <a:lnTo>
                    <a:pt x="183" y="645"/>
                  </a:lnTo>
                  <a:lnTo>
                    <a:pt x="160" y="639"/>
                  </a:lnTo>
                  <a:lnTo>
                    <a:pt x="140" y="632"/>
                  </a:lnTo>
                  <a:close/>
                  <a:moveTo>
                    <a:pt x="1067" y="123"/>
                  </a:moveTo>
                  <a:lnTo>
                    <a:pt x="1067" y="123"/>
                  </a:lnTo>
                  <a:lnTo>
                    <a:pt x="1067" y="12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3846600" y="5343480"/>
              <a:ext cx="244440" cy="160200"/>
            </a:xfrm>
            <a:custGeom>
              <a:avLst/>
              <a:gdLst/>
              <a:ahLst/>
              <a:rect l="l" t="t" r="r" b="b"/>
              <a:pathLst>
                <a:path w="617" h="404">
                  <a:moveTo>
                    <a:pt x="612" y="63"/>
                  </a:moveTo>
                  <a:lnTo>
                    <a:pt x="608" y="57"/>
                  </a:lnTo>
                  <a:lnTo>
                    <a:pt x="605" y="49"/>
                  </a:lnTo>
                  <a:lnTo>
                    <a:pt x="600" y="43"/>
                  </a:lnTo>
                  <a:lnTo>
                    <a:pt x="595" y="37"/>
                  </a:lnTo>
                  <a:lnTo>
                    <a:pt x="588" y="31"/>
                  </a:lnTo>
                  <a:lnTo>
                    <a:pt x="582" y="26"/>
                  </a:lnTo>
                  <a:lnTo>
                    <a:pt x="575" y="21"/>
                  </a:lnTo>
                  <a:lnTo>
                    <a:pt x="566" y="17"/>
                  </a:lnTo>
                  <a:lnTo>
                    <a:pt x="549" y="10"/>
                  </a:lnTo>
                  <a:lnTo>
                    <a:pt x="529" y="5"/>
                  </a:lnTo>
                  <a:lnTo>
                    <a:pt x="508" y="1"/>
                  </a:lnTo>
                  <a:lnTo>
                    <a:pt x="484" y="0"/>
                  </a:lnTo>
                  <a:lnTo>
                    <a:pt x="458" y="0"/>
                  </a:lnTo>
                  <a:lnTo>
                    <a:pt x="432" y="2"/>
                  </a:lnTo>
                  <a:lnTo>
                    <a:pt x="405" y="6"/>
                  </a:lnTo>
                  <a:lnTo>
                    <a:pt x="376" y="12"/>
                  </a:lnTo>
                  <a:lnTo>
                    <a:pt x="346" y="19"/>
                  </a:lnTo>
                  <a:lnTo>
                    <a:pt x="315" y="29"/>
                  </a:lnTo>
                  <a:lnTo>
                    <a:pt x="284" y="41"/>
                  </a:lnTo>
                  <a:lnTo>
                    <a:pt x="253" y="54"/>
                  </a:lnTo>
                  <a:lnTo>
                    <a:pt x="222" y="69"/>
                  </a:lnTo>
                  <a:lnTo>
                    <a:pt x="194" y="85"/>
                  </a:lnTo>
                  <a:lnTo>
                    <a:pt x="165" y="103"/>
                  </a:lnTo>
                  <a:lnTo>
                    <a:pt x="139" y="120"/>
                  </a:lnTo>
                  <a:lnTo>
                    <a:pt x="115" y="139"/>
                  </a:lnTo>
                  <a:lnTo>
                    <a:pt x="93" y="157"/>
                  </a:lnTo>
                  <a:lnTo>
                    <a:pt x="73" y="176"/>
                  </a:lnTo>
                  <a:lnTo>
                    <a:pt x="54" y="196"/>
                  </a:lnTo>
                  <a:lnTo>
                    <a:pt x="40" y="214"/>
                  </a:lnTo>
                  <a:lnTo>
                    <a:pt x="26" y="234"/>
                  </a:lnTo>
                  <a:lnTo>
                    <a:pt x="16" y="253"/>
                  </a:lnTo>
                  <a:lnTo>
                    <a:pt x="7" y="271"/>
                  </a:lnTo>
                  <a:lnTo>
                    <a:pt x="5" y="281"/>
                  </a:lnTo>
                  <a:lnTo>
                    <a:pt x="2" y="290"/>
                  </a:lnTo>
                  <a:lnTo>
                    <a:pt x="1" y="299"/>
                  </a:lnTo>
                  <a:lnTo>
                    <a:pt x="0" y="307"/>
                  </a:lnTo>
                  <a:lnTo>
                    <a:pt x="0" y="316"/>
                  </a:lnTo>
                  <a:lnTo>
                    <a:pt x="1" y="325"/>
                  </a:lnTo>
                  <a:lnTo>
                    <a:pt x="4" y="332"/>
                  </a:lnTo>
                  <a:lnTo>
                    <a:pt x="6" y="340"/>
                  </a:lnTo>
                  <a:lnTo>
                    <a:pt x="9" y="347"/>
                  </a:lnTo>
                  <a:lnTo>
                    <a:pt x="12" y="354"/>
                  </a:lnTo>
                  <a:lnTo>
                    <a:pt x="17" y="361"/>
                  </a:lnTo>
                  <a:lnTo>
                    <a:pt x="23" y="367"/>
                  </a:lnTo>
                  <a:lnTo>
                    <a:pt x="28" y="373"/>
                  </a:lnTo>
                  <a:lnTo>
                    <a:pt x="36" y="378"/>
                  </a:lnTo>
                  <a:lnTo>
                    <a:pt x="43" y="382"/>
                  </a:lnTo>
                  <a:lnTo>
                    <a:pt x="51" y="387"/>
                  </a:lnTo>
                  <a:lnTo>
                    <a:pt x="59" y="390"/>
                  </a:lnTo>
                  <a:lnTo>
                    <a:pt x="68" y="394"/>
                  </a:lnTo>
                  <a:lnTo>
                    <a:pt x="78" y="397"/>
                  </a:lnTo>
                  <a:lnTo>
                    <a:pt x="88" y="399"/>
                  </a:lnTo>
                  <a:lnTo>
                    <a:pt x="110" y="402"/>
                  </a:lnTo>
                  <a:lnTo>
                    <a:pt x="134" y="404"/>
                  </a:lnTo>
                  <a:lnTo>
                    <a:pt x="159" y="403"/>
                  </a:lnTo>
                  <a:lnTo>
                    <a:pt x="185" y="402"/>
                  </a:lnTo>
                  <a:lnTo>
                    <a:pt x="213" y="397"/>
                  </a:lnTo>
                  <a:lnTo>
                    <a:pt x="242" y="392"/>
                  </a:lnTo>
                  <a:lnTo>
                    <a:pt x="272" y="383"/>
                  </a:lnTo>
                  <a:lnTo>
                    <a:pt x="302" y="374"/>
                  </a:lnTo>
                  <a:lnTo>
                    <a:pt x="333" y="362"/>
                  </a:lnTo>
                  <a:lnTo>
                    <a:pt x="365" y="350"/>
                  </a:lnTo>
                  <a:lnTo>
                    <a:pt x="395" y="335"/>
                  </a:lnTo>
                  <a:lnTo>
                    <a:pt x="425" y="318"/>
                  </a:lnTo>
                  <a:lnTo>
                    <a:pt x="452" y="301"/>
                  </a:lnTo>
                  <a:lnTo>
                    <a:pt x="478" y="284"/>
                  </a:lnTo>
                  <a:lnTo>
                    <a:pt x="503" y="265"/>
                  </a:lnTo>
                  <a:lnTo>
                    <a:pt x="525" y="247"/>
                  </a:lnTo>
                  <a:lnTo>
                    <a:pt x="545" y="228"/>
                  </a:lnTo>
                  <a:lnTo>
                    <a:pt x="562" y="208"/>
                  </a:lnTo>
                  <a:lnTo>
                    <a:pt x="579" y="188"/>
                  </a:lnTo>
                  <a:lnTo>
                    <a:pt x="591" y="170"/>
                  </a:lnTo>
                  <a:lnTo>
                    <a:pt x="602" y="151"/>
                  </a:lnTo>
                  <a:lnTo>
                    <a:pt x="610" y="131"/>
                  </a:lnTo>
                  <a:lnTo>
                    <a:pt x="613" y="122"/>
                  </a:lnTo>
                  <a:lnTo>
                    <a:pt x="615" y="114"/>
                  </a:lnTo>
                  <a:lnTo>
                    <a:pt x="617" y="105"/>
                  </a:lnTo>
                  <a:lnTo>
                    <a:pt x="617" y="96"/>
                  </a:lnTo>
                  <a:lnTo>
                    <a:pt x="617" y="88"/>
                  </a:lnTo>
                  <a:lnTo>
                    <a:pt x="616" y="79"/>
                  </a:lnTo>
                  <a:lnTo>
                    <a:pt x="615" y="72"/>
                  </a:lnTo>
                  <a:lnTo>
                    <a:pt x="612" y="6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2736720" y="5551560"/>
              <a:ext cx="1711440" cy="345960"/>
            </a:xfrm>
            <a:custGeom>
              <a:avLst/>
              <a:gdLst/>
              <a:ahLst/>
              <a:rect l="l" t="t" r="r" b="b"/>
              <a:pathLst>
                <a:path w="4314" h="871">
                  <a:moveTo>
                    <a:pt x="0" y="39"/>
                  </a:moveTo>
                  <a:lnTo>
                    <a:pt x="44" y="38"/>
                  </a:lnTo>
                  <a:lnTo>
                    <a:pt x="164" y="35"/>
                  </a:lnTo>
                  <a:lnTo>
                    <a:pt x="353" y="31"/>
                  </a:lnTo>
                  <a:lnTo>
                    <a:pt x="600" y="26"/>
                  </a:lnTo>
                  <a:lnTo>
                    <a:pt x="894" y="22"/>
                  </a:lnTo>
                  <a:lnTo>
                    <a:pt x="1225" y="17"/>
                  </a:lnTo>
                  <a:lnTo>
                    <a:pt x="1584" y="12"/>
                  </a:lnTo>
                  <a:lnTo>
                    <a:pt x="1959" y="7"/>
                  </a:lnTo>
                  <a:lnTo>
                    <a:pt x="2339" y="3"/>
                  </a:lnTo>
                  <a:lnTo>
                    <a:pt x="2716" y="2"/>
                  </a:lnTo>
                  <a:lnTo>
                    <a:pt x="3079" y="0"/>
                  </a:lnTo>
                  <a:lnTo>
                    <a:pt x="3416" y="3"/>
                  </a:lnTo>
                  <a:lnTo>
                    <a:pt x="3573" y="4"/>
                  </a:lnTo>
                  <a:lnTo>
                    <a:pt x="3719" y="7"/>
                  </a:lnTo>
                  <a:lnTo>
                    <a:pt x="3854" y="10"/>
                  </a:lnTo>
                  <a:lnTo>
                    <a:pt x="3977" y="14"/>
                  </a:lnTo>
                  <a:lnTo>
                    <a:pt x="4085" y="19"/>
                  </a:lnTo>
                  <a:lnTo>
                    <a:pt x="4179" y="25"/>
                  </a:lnTo>
                  <a:lnTo>
                    <a:pt x="4256" y="31"/>
                  </a:lnTo>
                  <a:lnTo>
                    <a:pt x="4314" y="39"/>
                  </a:lnTo>
                  <a:lnTo>
                    <a:pt x="4298" y="69"/>
                  </a:lnTo>
                  <a:lnTo>
                    <a:pt x="4248" y="149"/>
                  </a:lnTo>
                  <a:lnTo>
                    <a:pt x="4214" y="204"/>
                  </a:lnTo>
                  <a:lnTo>
                    <a:pt x="4171" y="265"/>
                  </a:lnTo>
                  <a:lnTo>
                    <a:pt x="4148" y="297"/>
                  </a:lnTo>
                  <a:lnTo>
                    <a:pt x="4123" y="332"/>
                  </a:lnTo>
                  <a:lnTo>
                    <a:pt x="4096" y="365"/>
                  </a:lnTo>
                  <a:lnTo>
                    <a:pt x="4068" y="401"/>
                  </a:lnTo>
                  <a:lnTo>
                    <a:pt x="4039" y="437"/>
                  </a:lnTo>
                  <a:lnTo>
                    <a:pt x="4009" y="472"/>
                  </a:lnTo>
                  <a:lnTo>
                    <a:pt x="3977" y="508"/>
                  </a:lnTo>
                  <a:lnTo>
                    <a:pt x="3943" y="544"/>
                  </a:lnTo>
                  <a:lnTo>
                    <a:pt x="3909" y="579"/>
                  </a:lnTo>
                  <a:lnTo>
                    <a:pt x="3873" y="612"/>
                  </a:lnTo>
                  <a:lnTo>
                    <a:pt x="3837" y="646"/>
                  </a:lnTo>
                  <a:lnTo>
                    <a:pt x="3799" y="677"/>
                  </a:lnTo>
                  <a:lnTo>
                    <a:pt x="3760" y="708"/>
                  </a:lnTo>
                  <a:lnTo>
                    <a:pt x="3721" y="736"/>
                  </a:lnTo>
                  <a:lnTo>
                    <a:pt x="3681" y="763"/>
                  </a:lnTo>
                  <a:lnTo>
                    <a:pt x="3640" y="787"/>
                  </a:lnTo>
                  <a:lnTo>
                    <a:pt x="3598" y="809"/>
                  </a:lnTo>
                  <a:lnTo>
                    <a:pt x="3556" y="829"/>
                  </a:lnTo>
                  <a:lnTo>
                    <a:pt x="3512" y="847"/>
                  </a:lnTo>
                  <a:lnTo>
                    <a:pt x="3467" y="860"/>
                  </a:lnTo>
                  <a:lnTo>
                    <a:pt x="3443" y="860"/>
                  </a:lnTo>
                  <a:lnTo>
                    <a:pt x="3374" y="861"/>
                  </a:lnTo>
                  <a:lnTo>
                    <a:pt x="3265" y="864"/>
                  </a:lnTo>
                  <a:lnTo>
                    <a:pt x="3125" y="865"/>
                  </a:lnTo>
                  <a:lnTo>
                    <a:pt x="2956" y="868"/>
                  </a:lnTo>
                  <a:lnTo>
                    <a:pt x="2766" y="869"/>
                  </a:lnTo>
                  <a:lnTo>
                    <a:pt x="2560" y="870"/>
                  </a:lnTo>
                  <a:lnTo>
                    <a:pt x="2345" y="871"/>
                  </a:lnTo>
                  <a:lnTo>
                    <a:pt x="2126" y="870"/>
                  </a:lnTo>
                  <a:lnTo>
                    <a:pt x="1909" y="869"/>
                  </a:lnTo>
                  <a:lnTo>
                    <a:pt x="1700" y="865"/>
                  </a:lnTo>
                  <a:lnTo>
                    <a:pt x="1507" y="860"/>
                  </a:lnTo>
                  <a:lnTo>
                    <a:pt x="1416" y="857"/>
                  </a:lnTo>
                  <a:lnTo>
                    <a:pt x="1332" y="853"/>
                  </a:lnTo>
                  <a:lnTo>
                    <a:pt x="1253" y="849"/>
                  </a:lnTo>
                  <a:lnTo>
                    <a:pt x="1183" y="844"/>
                  </a:lnTo>
                  <a:lnTo>
                    <a:pt x="1119" y="838"/>
                  </a:lnTo>
                  <a:lnTo>
                    <a:pt x="1066" y="832"/>
                  </a:lnTo>
                  <a:lnTo>
                    <a:pt x="1020" y="824"/>
                  </a:lnTo>
                  <a:lnTo>
                    <a:pt x="985" y="817"/>
                  </a:lnTo>
                  <a:lnTo>
                    <a:pt x="976" y="813"/>
                  </a:lnTo>
                  <a:lnTo>
                    <a:pt x="953" y="803"/>
                  </a:lnTo>
                  <a:lnTo>
                    <a:pt x="913" y="786"/>
                  </a:lnTo>
                  <a:lnTo>
                    <a:pt x="862" y="762"/>
                  </a:lnTo>
                  <a:lnTo>
                    <a:pt x="801" y="732"/>
                  </a:lnTo>
                  <a:lnTo>
                    <a:pt x="731" y="696"/>
                  </a:lnTo>
                  <a:lnTo>
                    <a:pt x="693" y="675"/>
                  </a:lnTo>
                  <a:lnTo>
                    <a:pt x="655" y="654"/>
                  </a:lnTo>
                  <a:lnTo>
                    <a:pt x="615" y="631"/>
                  </a:lnTo>
                  <a:lnTo>
                    <a:pt x="574" y="606"/>
                  </a:lnTo>
                  <a:lnTo>
                    <a:pt x="533" y="580"/>
                  </a:lnTo>
                  <a:lnTo>
                    <a:pt x="491" y="553"/>
                  </a:lnTo>
                  <a:lnTo>
                    <a:pt x="450" y="524"/>
                  </a:lnTo>
                  <a:lnTo>
                    <a:pt x="408" y="494"/>
                  </a:lnTo>
                  <a:lnTo>
                    <a:pt x="366" y="463"/>
                  </a:lnTo>
                  <a:lnTo>
                    <a:pt x="325" y="430"/>
                  </a:lnTo>
                  <a:lnTo>
                    <a:pt x="285" y="396"/>
                  </a:lnTo>
                  <a:lnTo>
                    <a:pt x="246" y="361"/>
                  </a:lnTo>
                  <a:lnTo>
                    <a:pt x="208" y="326"/>
                  </a:lnTo>
                  <a:lnTo>
                    <a:pt x="172" y="287"/>
                  </a:lnTo>
                  <a:lnTo>
                    <a:pt x="137" y="249"/>
                  </a:lnTo>
                  <a:lnTo>
                    <a:pt x="105" y="209"/>
                  </a:lnTo>
                  <a:lnTo>
                    <a:pt x="75" y="168"/>
                  </a:lnTo>
                  <a:lnTo>
                    <a:pt x="48" y="126"/>
                  </a:lnTo>
                  <a:lnTo>
                    <a:pt x="23" y="8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2714760" y="5537160"/>
              <a:ext cx="1755720" cy="374760"/>
            </a:xfrm>
            <a:custGeom>
              <a:avLst/>
              <a:gdLst/>
              <a:ahLst/>
              <a:rect l="l" t="t" r="r" b="b"/>
              <a:pathLst>
                <a:path w="4424" h="942">
                  <a:moveTo>
                    <a:pt x="54" y="39"/>
                  </a:moveTo>
                  <a:lnTo>
                    <a:pt x="0" y="40"/>
                  </a:lnTo>
                  <a:lnTo>
                    <a:pt x="22" y="90"/>
                  </a:lnTo>
                  <a:lnTo>
                    <a:pt x="45" y="134"/>
                  </a:lnTo>
                  <a:lnTo>
                    <a:pt x="69" y="178"/>
                  </a:lnTo>
                  <a:lnTo>
                    <a:pt x="97" y="221"/>
                  </a:lnTo>
                  <a:lnTo>
                    <a:pt x="128" y="262"/>
                  </a:lnTo>
                  <a:lnTo>
                    <a:pt x="160" y="302"/>
                  </a:lnTo>
                  <a:lnTo>
                    <a:pt x="194" y="342"/>
                  </a:lnTo>
                  <a:lnTo>
                    <a:pt x="230" y="380"/>
                  </a:lnTo>
                  <a:lnTo>
                    <a:pt x="268" y="416"/>
                  </a:lnTo>
                  <a:lnTo>
                    <a:pt x="307" y="452"/>
                  </a:lnTo>
                  <a:lnTo>
                    <a:pt x="346" y="486"/>
                  </a:lnTo>
                  <a:lnTo>
                    <a:pt x="387" y="519"/>
                  </a:lnTo>
                  <a:lnTo>
                    <a:pt x="428" y="551"/>
                  </a:lnTo>
                  <a:lnTo>
                    <a:pt x="470" y="581"/>
                  </a:lnTo>
                  <a:lnTo>
                    <a:pt x="511" y="611"/>
                  </a:lnTo>
                  <a:lnTo>
                    <a:pt x="554" y="638"/>
                  </a:lnTo>
                  <a:lnTo>
                    <a:pt x="595" y="664"/>
                  </a:lnTo>
                  <a:lnTo>
                    <a:pt x="636" y="689"/>
                  </a:lnTo>
                  <a:lnTo>
                    <a:pt x="675" y="713"/>
                  </a:lnTo>
                  <a:lnTo>
                    <a:pt x="715" y="735"/>
                  </a:lnTo>
                  <a:lnTo>
                    <a:pt x="752" y="756"/>
                  </a:lnTo>
                  <a:lnTo>
                    <a:pt x="824" y="793"/>
                  </a:lnTo>
                  <a:lnTo>
                    <a:pt x="888" y="824"/>
                  </a:lnTo>
                  <a:lnTo>
                    <a:pt x="941" y="849"/>
                  </a:lnTo>
                  <a:lnTo>
                    <a:pt x="983" y="868"/>
                  </a:lnTo>
                  <a:lnTo>
                    <a:pt x="1013" y="880"/>
                  </a:lnTo>
                  <a:lnTo>
                    <a:pt x="1027" y="886"/>
                  </a:lnTo>
                  <a:lnTo>
                    <a:pt x="1061" y="894"/>
                  </a:lnTo>
                  <a:lnTo>
                    <a:pt x="1106" y="901"/>
                  </a:lnTo>
                  <a:lnTo>
                    <a:pt x="1160" y="907"/>
                  </a:lnTo>
                  <a:lnTo>
                    <a:pt x="1222" y="914"/>
                  </a:lnTo>
                  <a:lnTo>
                    <a:pt x="1291" y="919"/>
                  </a:lnTo>
                  <a:lnTo>
                    <a:pt x="1368" y="924"/>
                  </a:lnTo>
                  <a:lnTo>
                    <a:pt x="1451" y="927"/>
                  </a:lnTo>
                  <a:lnTo>
                    <a:pt x="1540" y="931"/>
                  </a:lnTo>
                  <a:lnTo>
                    <a:pt x="1730" y="936"/>
                  </a:lnTo>
                  <a:lnTo>
                    <a:pt x="1933" y="940"/>
                  </a:lnTo>
                  <a:lnTo>
                    <a:pt x="2146" y="942"/>
                  </a:lnTo>
                  <a:lnTo>
                    <a:pt x="2362" y="942"/>
                  </a:lnTo>
                  <a:lnTo>
                    <a:pt x="2574" y="942"/>
                  </a:lnTo>
                  <a:lnTo>
                    <a:pt x="2778" y="941"/>
                  </a:lnTo>
                  <a:lnTo>
                    <a:pt x="2969" y="940"/>
                  </a:lnTo>
                  <a:lnTo>
                    <a:pt x="3140" y="938"/>
                  </a:lnTo>
                  <a:lnTo>
                    <a:pt x="3287" y="936"/>
                  </a:lnTo>
                  <a:lnTo>
                    <a:pt x="3402" y="933"/>
                  </a:lnTo>
                  <a:lnTo>
                    <a:pt x="3483" y="932"/>
                  </a:lnTo>
                  <a:lnTo>
                    <a:pt x="3523" y="932"/>
                  </a:lnTo>
                  <a:lnTo>
                    <a:pt x="3567" y="917"/>
                  </a:lnTo>
                  <a:lnTo>
                    <a:pt x="3613" y="901"/>
                  </a:lnTo>
                  <a:lnTo>
                    <a:pt x="3657" y="881"/>
                  </a:lnTo>
                  <a:lnTo>
                    <a:pt x="3700" y="859"/>
                  </a:lnTo>
                  <a:lnTo>
                    <a:pt x="3742" y="834"/>
                  </a:lnTo>
                  <a:lnTo>
                    <a:pt x="3785" y="807"/>
                  </a:lnTo>
                  <a:lnTo>
                    <a:pt x="3824" y="778"/>
                  </a:lnTo>
                  <a:lnTo>
                    <a:pt x="3864" y="749"/>
                  </a:lnTo>
                  <a:lnTo>
                    <a:pt x="3903" y="716"/>
                  </a:lnTo>
                  <a:lnTo>
                    <a:pt x="3940" y="684"/>
                  </a:lnTo>
                  <a:lnTo>
                    <a:pt x="3976" y="649"/>
                  </a:lnTo>
                  <a:lnTo>
                    <a:pt x="4012" y="615"/>
                  </a:lnTo>
                  <a:lnTo>
                    <a:pt x="4045" y="580"/>
                  </a:lnTo>
                  <a:lnTo>
                    <a:pt x="4078" y="544"/>
                  </a:lnTo>
                  <a:lnTo>
                    <a:pt x="4109" y="508"/>
                  </a:lnTo>
                  <a:lnTo>
                    <a:pt x="4140" y="473"/>
                  </a:lnTo>
                  <a:lnTo>
                    <a:pt x="4168" y="437"/>
                  </a:lnTo>
                  <a:lnTo>
                    <a:pt x="4194" y="402"/>
                  </a:lnTo>
                  <a:lnTo>
                    <a:pt x="4221" y="369"/>
                  </a:lnTo>
                  <a:lnTo>
                    <a:pt x="4245" y="335"/>
                  </a:lnTo>
                  <a:lnTo>
                    <a:pt x="4289" y="272"/>
                  </a:lnTo>
                  <a:lnTo>
                    <a:pt x="4325" y="216"/>
                  </a:lnTo>
                  <a:lnTo>
                    <a:pt x="4355" y="169"/>
                  </a:lnTo>
                  <a:lnTo>
                    <a:pt x="4378" y="131"/>
                  </a:lnTo>
                  <a:lnTo>
                    <a:pt x="4393" y="105"/>
                  </a:lnTo>
                  <a:lnTo>
                    <a:pt x="4401" y="92"/>
                  </a:lnTo>
                  <a:lnTo>
                    <a:pt x="4424" y="48"/>
                  </a:lnTo>
                  <a:lnTo>
                    <a:pt x="4374" y="40"/>
                  </a:lnTo>
                  <a:lnTo>
                    <a:pt x="4316" y="33"/>
                  </a:lnTo>
                  <a:lnTo>
                    <a:pt x="4240" y="25"/>
                  </a:lnTo>
                  <a:lnTo>
                    <a:pt x="4148" y="20"/>
                  </a:lnTo>
                  <a:lnTo>
                    <a:pt x="4043" y="15"/>
                  </a:lnTo>
                  <a:lnTo>
                    <a:pt x="3924" y="10"/>
                  </a:lnTo>
                  <a:lnTo>
                    <a:pt x="3792" y="8"/>
                  </a:lnTo>
                  <a:lnTo>
                    <a:pt x="3649" y="5"/>
                  </a:lnTo>
                  <a:lnTo>
                    <a:pt x="3498" y="3"/>
                  </a:lnTo>
                  <a:lnTo>
                    <a:pt x="3169" y="0"/>
                  </a:lnTo>
                  <a:lnTo>
                    <a:pt x="2816" y="0"/>
                  </a:lnTo>
                  <a:lnTo>
                    <a:pt x="2447" y="3"/>
                  </a:lnTo>
                  <a:lnTo>
                    <a:pt x="2074" y="7"/>
                  </a:lnTo>
                  <a:lnTo>
                    <a:pt x="1705" y="10"/>
                  </a:lnTo>
                  <a:lnTo>
                    <a:pt x="1350" y="15"/>
                  </a:lnTo>
                  <a:lnTo>
                    <a:pt x="1018" y="20"/>
                  </a:lnTo>
                  <a:lnTo>
                    <a:pt x="720" y="27"/>
                  </a:lnTo>
                  <a:lnTo>
                    <a:pt x="464" y="31"/>
                  </a:lnTo>
                  <a:lnTo>
                    <a:pt x="262" y="35"/>
                  </a:lnTo>
                  <a:lnTo>
                    <a:pt x="121" y="38"/>
                  </a:lnTo>
                  <a:lnTo>
                    <a:pt x="54" y="39"/>
                  </a:lnTo>
                  <a:close/>
                  <a:moveTo>
                    <a:pt x="4310" y="106"/>
                  </a:moveTo>
                  <a:lnTo>
                    <a:pt x="4290" y="138"/>
                  </a:lnTo>
                  <a:lnTo>
                    <a:pt x="4265" y="178"/>
                  </a:lnTo>
                  <a:lnTo>
                    <a:pt x="4235" y="223"/>
                  </a:lnTo>
                  <a:lnTo>
                    <a:pt x="4201" y="273"/>
                  </a:lnTo>
                  <a:lnTo>
                    <a:pt x="4162" y="327"/>
                  </a:lnTo>
                  <a:lnTo>
                    <a:pt x="4119" y="384"/>
                  </a:lnTo>
                  <a:lnTo>
                    <a:pt x="4095" y="412"/>
                  </a:lnTo>
                  <a:lnTo>
                    <a:pt x="4071" y="442"/>
                  </a:lnTo>
                  <a:lnTo>
                    <a:pt x="4047" y="472"/>
                  </a:lnTo>
                  <a:lnTo>
                    <a:pt x="4021" y="502"/>
                  </a:lnTo>
                  <a:lnTo>
                    <a:pt x="3995" y="530"/>
                  </a:lnTo>
                  <a:lnTo>
                    <a:pt x="3967" y="560"/>
                  </a:lnTo>
                  <a:lnTo>
                    <a:pt x="3939" y="589"/>
                  </a:lnTo>
                  <a:lnTo>
                    <a:pt x="3910" y="616"/>
                  </a:lnTo>
                  <a:lnTo>
                    <a:pt x="3880" y="644"/>
                  </a:lnTo>
                  <a:lnTo>
                    <a:pt x="3849" y="670"/>
                  </a:lnTo>
                  <a:lnTo>
                    <a:pt x="3818" y="696"/>
                  </a:lnTo>
                  <a:lnTo>
                    <a:pt x="3786" y="720"/>
                  </a:lnTo>
                  <a:lnTo>
                    <a:pt x="3754" y="744"/>
                  </a:lnTo>
                  <a:lnTo>
                    <a:pt x="3721" y="766"/>
                  </a:lnTo>
                  <a:lnTo>
                    <a:pt x="3687" y="787"/>
                  </a:lnTo>
                  <a:lnTo>
                    <a:pt x="3653" y="806"/>
                  </a:lnTo>
                  <a:lnTo>
                    <a:pt x="3618" y="823"/>
                  </a:lnTo>
                  <a:lnTo>
                    <a:pt x="3583" y="838"/>
                  </a:lnTo>
                  <a:lnTo>
                    <a:pt x="3547" y="850"/>
                  </a:lnTo>
                  <a:lnTo>
                    <a:pt x="3513" y="862"/>
                  </a:lnTo>
                  <a:lnTo>
                    <a:pt x="3485" y="863"/>
                  </a:lnTo>
                  <a:lnTo>
                    <a:pt x="3415" y="863"/>
                  </a:lnTo>
                  <a:lnTo>
                    <a:pt x="3307" y="865"/>
                  </a:lnTo>
                  <a:lnTo>
                    <a:pt x="3165" y="866"/>
                  </a:lnTo>
                  <a:lnTo>
                    <a:pt x="2997" y="869"/>
                  </a:lnTo>
                  <a:lnTo>
                    <a:pt x="2807" y="870"/>
                  </a:lnTo>
                  <a:lnTo>
                    <a:pt x="2604" y="871"/>
                  </a:lnTo>
                  <a:lnTo>
                    <a:pt x="2390" y="871"/>
                  </a:lnTo>
                  <a:lnTo>
                    <a:pt x="2174" y="871"/>
                  </a:lnTo>
                  <a:lnTo>
                    <a:pt x="1959" y="869"/>
                  </a:lnTo>
                  <a:lnTo>
                    <a:pt x="1753" y="865"/>
                  </a:lnTo>
                  <a:lnTo>
                    <a:pt x="1562" y="860"/>
                  </a:lnTo>
                  <a:lnTo>
                    <a:pt x="1473" y="858"/>
                  </a:lnTo>
                  <a:lnTo>
                    <a:pt x="1389" y="854"/>
                  </a:lnTo>
                  <a:lnTo>
                    <a:pt x="1312" y="849"/>
                  </a:lnTo>
                  <a:lnTo>
                    <a:pt x="1243" y="844"/>
                  </a:lnTo>
                  <a:lnTo>
                    <a:pt x="1181" y="839"/>
                  </a:lnTo>
                  <a:lnTo>
                    <a:pt x="1127" y="833"/>
                  </a:lnTo>
                  <a:lnTo>
                    <a:pt x="1083" y="827"/>
                  </a:lnTo>
                  <a:lnTo>
                    <a:pt x="1049" y="818"/>
                  </a:lnTo>
                  <a:lnTo>
                    <a:pt x="1040" y="816"/>
                  </a:lnTo>
                  <a:lnTo>
                    <a:pt x="1018" y="806"/>
                  </a:lnTo>
                  <a:lnTo>
                    <a:pt x="982" y="790"/>
                  </a:lnTo>
                  <a:lnTo>
                    <a:pt x="935" y="767"/>
                  </a:lnTo>
                  <a:lnTo>
                    <a:pt x="879" y="740"/>
                  </a:lnTo>
                  <a:lnTo>
                    <a:pt x="816" y="706"/>
                  </a:lnTo>
                  <a:lnTo>
                    <a:pt x="745" y="668"/>
                  </a:lnTo>
                  <a:lnTo>
                    <a:pt x="672" y="623"/>
                  </a:lnTo>
                  <a:lnTo>
                    <a:pt x="633" y="600"/>
                  </a:lnTo>
                  <a:lnTo>
                    <a:pt x="593" y="575"/>
                  </a:lnTo>
                  <a:lnTo>
                    <a:pt x="555" y="549"/>
                  </a:lnTo>
                  <a:lnTo>
                    <a:pt x="515" y="522"/>
                  </a:lnTo>
                  <a:lnTo>
                    <a:pt x="477" y="493"/>
                  </a:lnTo>
                  <a:lnTo>
                    <a:pt x="438" y="463"/>
                  </a:lnTo>
                  <a:lnTo>
                    <a:pt x="400" y="432"/>
                  </a:lnTo>
                  <a:lnTo>
                    <a:pt x="362" y="400"/>
                  </a:lnTo>
                  <a:lnTo>
                    <a:pt x="326" y="368"/>
                  </a:lnTo>
                  <a:lnTo>
                    <a:pt x="292" y="334"/>
                  </a:lnTo>
                  <a:lnTo>
                    <a:pt x="258" y="298"/>
                  </a:lnTo>
                  <a:lnTo>
                    <a:pt x="226" y="262"/>
                  </a:lnTo>
                  <a:lnTo>
                    <a:pt x="195" y="226"/>
                  </a:lnTo>
                  <a:lnTo>
                    <a:pt x="167" y="188"/>
                  </a:lnTo>
                  <a:lnTo>
                    <a:pt x="141" y="149"/>
                  </a:lnTo>
                  <a:lnTo>
                    <a:pt x="118" y="110"/>
                  </a:lnTo>
                  <a:lnTo>
                    <a:pt x="234" y="107"/>
                  </a:lnTo>
                  <a:lnTo>
                    <a:pt x="407" y="103"/>
                  </a:lnTo>
                  <a:lnTo>
                    <a:pt x="626" y="100"/>
                  </a:lnTo>
                  <a:lnTo>
                    <a:pt x="884" y="95"/>
                  </a:lnTo>
                  <a:lnTo>
                    <a:pt x="1174" y="90"/>
                  </a:lnTo>
                  <a:lnTo>
                    <a:pt x="1490" y="85"/>
                  </a:lnTo>
                  <a:lnTo>
                    <a:pt x="1821" y="81"/>
                  </a:lnTo>
                  <a:lnTo>
                    <a:pt x="2162" y="77"/>
                  </a:lnTo>
                  <a:lnTo>
                    <a:pt x="2504" y="75"/>
                  </a:lnTo>
                  <a:lnTo>
                    <a:pt x="2840" y="74"/>
                  </a:lnTo>
                  <a:lnTo>
                    <a:pt x="3163" y="74"/>
                  </a:lnTo>
                  <a:lnTo>
                    <a:pt x="3464" y="75"/>
                  </a:lnTo>
                  <a:lnTo>
                    <a:pt x="3606" y="76"/>
                  </a:lnTo>
                  <a:lnTo>
                    <a:pt x="3737" y="79"/>
                  </a:lnTo>
                  <a:lnTo>
                    <a:pt x="3862" y="81"/>
                  </a:lnTo>
                  <a:lnTo>
                    <a:pt x="3975" y="85"/>
                  </a:lnTo>
                  <a:lnTo>
                    <a:pt x="4078" y="89"/>
                  </a:lnTo>
                  <a:lnTo>
                    <a:pt x="4168" y="94"/>
                  </a:lnTo>
                  <a:lnTo>
                    <a:pt x="4245" y="100"/>
                  </a:lnTo>
                  <a:lnTo>
                    <a:pt x="4310" y="106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27320" y="5875200"/>
              <a:ext cx="986040" cy="12096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3112920" y="5861160"/>
              <a:ext cx="1014480" cy="149040"/>
            </a:xfrm>
            <a:custGeom>
              <a:avLst/>
              <a:gdLst/>
              <a:ahLst/>
              <a:rect l="l" t="t" r="r" b="b"/>
              <a:pathLst>
                <a:path w="2553" h="375">
                  <a:moveTo>
                    <a:pt x="2517" y="0"/>
                  </a:moveTo>
                  <a:lnTo>
                    <a:pt x="0" y="0"/>
                  </a:lnTo>
                  <a:lnTo>
                    <a:pt x="0" y="375"/>
                  </a:lnTo>
                  <a:lnTo>
                    <a:pt x="2553" y="375"/>
                  </a:lnTo>
                  <a:lnTo>
                    <a:pt x="2553" y="0"/>
                  </a:lnTo>
                  <a:lnTo>
                    <a:pt x="2517" y="0"/>
                  </a:lnTo>
                  <a:close/>
                  <a:moveTo>
                    <a:pt x="2481" y="72"/>
                  </a:moveTo>
                  <a:lnTo>
                    <a:pt x="2481" y="93"/>
                  </a:lnTo>
                  <a:lnTo>
                    <a:pt x="2481" y="121"/>
                  </a:lnTo>
                  <a:lnTo>
                    <a:pt x="2481" y="154"/>
                  </a:lnTo>
                  <a:lnTo>
                    <a:pt x="2481" y="187"/>
                  </a:lnTo>
                  <a:lnTo>
                    <a:pt x="2481" y="222"/>
                  </a:lnTo>
                  <a:lnTo>
                    <a:pt x="2481" y="253"/>
                  </a:lnTo>
                  <a:lnTo>
                    <a:pt x="2481" y="281"/>
                  </a:lnTo>
                  <a:lnTo>
                    <a:pt x="2481" y="303"/>
                  </a:lnTo>
                  <a:lnTo>
                    <a:pt x="2444" y="303"/>
                  </a:lnTo>
                  <a:lnTo>
                    <a:pt x="2361" y="303"/>
                  </a:lnTo>
                  <a:lnTo>
                    <a:pt x="2240" y="303"/>
                  </a:lnTo>
                  <a:lnTo>
                    <a:pt x="2087" y="303"/>
                  </a:lnTo>
                  <a:lnTo>
                    <a:pt x="1906" y="303"/>
                  </a:lnTo>
                  <a:lnTo>
                    <a:pt x="1708" y="303"/>
                  </a:lnTo>
                  <a:lnTo>
                    <a:pt x="1495" y="303"/>
                  </a:lnTo>
                  <a:lnTo>
                    <a:pt x="1277" y="303"/>
                  </a:lnTo>
                  <a:lnTo>
                    <a:pt x="1058" y="303"/>
                  </a:lnTo>
                  <a:lnTo>
                    <a:pt x="846" y="303"/>
                  </a:lnTo>
                  <a:lnTo>
                    <a:pt x="647" y="303"/>
                  </a:lnTo>
                  <a:lnTo>
                    <a:pt x="467" y="303"/>
                  </a:lnTo>
                  <a:lnTo>
                    <a:pt x="313" y="303"/>
                  </a:lnTo>
                  <a:lnTo>
                    <a:pt x="192" y="303"/>
                  </a:lnTo>
                  <a:lnTo>
                    <a:pt x="108" y="303"/>
                  </a:lnTo>
                  <a:lnTo>
                    <a:pt x="71" y="303"/>
                  </a:lnTo>
                  <a:lnTo>
                    <a:pt x="71" y="281"/>
                  </a:lnTo>
                  <a:lnTo>
                    <a:pt x="71" y="253"/>
                  </a:lnTo>
                  <a:lnTo>
                    <a:pt x="71" y="222"/>
                  </a:lnTo>
                  <a:lnTo>
                    <a:pt x="71" y="187"/>
                  </a:lnTo>
                  <a:lnTo>
                    <a:pt x="71" y="154"/>
                  </a:lnTo>
                  <a:lnTo>
                    <a:pt x="71" y="121"/>
                  </a:lnTo>
                  <a:lnTo>
                    <a:pt x="71" y="93"/>
                  </a:lnTo>
                  <a:lnTo>
                    <a:pt x="71" y="72"/>
                  </a:lnTo>
                  <a:lnTo>
                    <a:pt x="108" y="72"/>
                  </a:lnTo>
                  <a:lnTo>
                    <a:pt x="192" y="72"/>
                  </a:lnTo>
                  <a:lnTo>
                    <a:pt x="313" y="72"/>
                  </a:lnTo>
                  <a:lnTo>
                    <a:pt x="467" y="72"/>
                  </a:lnTo>
                  <a:lnTo>
                    <a:pt x="647" y="72"/>
                  </a:lnTo>
                  <a:lnTo>
                    <a:pt x="846" y="72"/>
                  </a:lnTo>
                  <a:lnTo>
                    <a:pt x="1058" y="72"/>
                  </a:lnTo>
                  <a:lnTo>
                    <a:pt x="1277" y="72"/>
                  </a:lnTo>
                  <a:lnTo>
                    <a:pt x="1495" y="72"/>
                  </a:lnTo>
                  <a:lnTo>
                    <a:pt x="1708" y="72"/>
                  </a:lnTo>
                  <a:lnTo>
                    <a:pt x="1906" y="72"/>
                  </a:lnTo>
                  <a:lnTo>
                    <a:pt x="2087" y="72"/>
                  </a:lnTo>
                  <a:lnTo>
                    <a:pt x="2240" y="72"/>
                  </a:lnTo>
                  <a:lnTo>
                    <a:pt x="2361" y="72"/>
                  </a:lnTo>
                  <a:lnTo>
                    <a:pt x="2444" y="72"/>
                  </a:lnTo>
                  <a:lnTo>
                    <a:pt x="2481" y="7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2760840" y="5573880"/>
              <a:ext cx="1663560" cy="280800"/>
            </a:xfrm>
            <a:custGeom>
              <a:avLst/>
              <a:gdLst/>
              <a:ahLst/>
              <a:rect l="l" t="t" r="r" b="b"/>
              <a:pathLst>
                <a:path w="4192" h="704">
                  <a:moveTo>
                    <a:pt x="0" y="0"/>
                  </a:moveTo>
                  <a:lnTo>
                    <a:pt x="1398" y="39"/>
                  </a:lnTo>
                  <a:lnTo>
                    <a:pt x="1433" y="60"/>
                  </a:lnTo>
                  <a:lnTo>
                    <a:pt x="1525" y="116"/>
                  </a:lnTo>
                  <a:lnTo>
                    <a:pt x="1585" y="155"/>
                  </a:lnTo>
                  <a:lnTo>
                    <a:pt x="1653" y="198"/>
                  </a:lnTo>
                  <a:lnTo>
                    <a:pt x="1725" y="246"/>
                  </a:lnTo>
                  <a:lnTo>
                    <a:pt x="1799" y="296"/>
                  </a:lnTo>
                  <a:lnTo>
                    <a:pt x="1874" y="348"/>
                  </a:lnTo>
                  <a:lnTo>
                    <a:pt x="1946" y="400"/>
                  </a:lnTo>
                  <a:lnTo>
                    <a:pt x="1979" y="426"/>
                  </a:lnTo>
                  <a:lnTo>
                    <a:pt x="2012" y="452"/>
                  </a:lnTo>
                  <a:lnTo>
                    <a:pt x="2043" y="477"/>
                  </a:lnTo>
                  <a:lnTo>
                    <a:pt x="2071" y="502"/>
                  </a:lnTo>
                  <a:lnTo>
                    <a:pt x="2097" y="526"/>
                  </a:lnTo>
                  <a:lnTo>
                    <a:pt x="2121" y="548"/>
                  </a:lnTo>
                  <a:lnTo>
                    <a:pt x="2141" y="570"/>
                  </a:lnTo>
                  <a:lnTo>
                    <a:pt x="2158" y="590"/>
                  </a:lnTo>
                  <a:lnTo>
                    <a:pt x="2172" y="609"/>
                  </a:lnTo>
                  <a:lnTo>
                    <a:pt x="2181" y="627"/>
                  </a:lnTo>
                  <a:lnTo>
                    <a:pt x="2186" y="642"/>
                  </a:lnTo>
                  <a:lnTo>
                    <a:pt x="2187" y="657"/>
                  </a:lnTo>
                  <a:lnTo>
                    <a:pt x="2184" y="704"/>
                  </a:lnTo>
                  <a:lnTo>
                    <a:pt x="3422" y="704"/>
                  </a:lnTo>
                  <a:lnTo>
                    <a:pt x="3446" y="693"/>
                  </a:lnTo>
                  <a:lnTo>
                    <a:pt x="3512" y="660"/>
                  </a:lnTo>
                  <a:lnTo>
                    <a:pt x="3558" y="636"/>
                  </a:lnTo>
                  <a:lnTo>
                    <a:pt x="3609" y="605"/>
                  </a:lnTo>
                  <a:lnTo>
                    <a:pt x="3666" y="570"/>
                  </a:lnTo>
                  <a:lnTo>
                    <a:pt x="3725" y="529"/>
                  </a:lnTo>
                  <a:lnTo>
                    <a:pt x="3758" y="507"/>
                  </a:lnTo>
                  <a:lnTo>
                    <a:pt x="3789" y="483"/>
                  </a:lnTo>
                  <a:lnTo>
                    <a:pt x="3821" y="459"/>
                  </a:lnTo>
                  <a:lnTo>
                    <a:pt x="3853" y="431"/>
                  </a:lnTo>
                  <a:lnTo>
                    <a:pt x="3885" y="404"/>
                  </a:lnTo>
                  <a:lnTo>
                    <a:pt x="3918" y="375"/>
                  </a:lnTo>
                  <a:lnTo>
                    <a:pt x="3949" y="344"/>
                  </a:lnTo>
                  <a:lnTo>
                    <a:pt x="3980" y="313"/>
                  </a:lnTo>
                  <a:lnTo>
                    <a:pt x="4011" y="280"/>
                  </a:lnTo>
                  <a:lnTo>
                    <a:pt x="4041" y="245"/>
                  </a:lnTo>
                  <a:lnTo>
                    <a:pt x="4069" y="210"/>
                  </a:lnTo>
                  <a:lnTo>
                    <a:pt x="4097" y="173"/>
                  </a:lnTo>
                  <a:lnTo>
                    <a:pt x="4123" y="135"/>
                  </a:lnTo>
                  <a:lnTo>
                    <a:pt x="4147" y="95"/>
                  </a:lnTo>
                  <a:lnTo>
                    <a:pt x="4171" y="54"/>
                  </a:lnTo>
                  <a:lnTo>
                    <a:pt x="419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3152880" y="5881680"/>
              <a:ext cx="955440" cy="108000"/>
            </a:xfrm>
            <a:custGeom>
              <a:avLst/>
              <a:gdLst/>
              <a:ahLst/>
              <a:rect l="l" t="t" r="r" b="b"/>
              <a:pathLst>
                <a:path w="2405" h="273">
                  <a:moveTo>
                    <a:pt x="1190" y="37"/>
                  </a:moveTo>
                  <a:lnTo>
                    <a:pt x="1180" y="39"/>
                  </a:lnTo>
                  <a:lnTo>
                    <a:pt x="1152" y="48"/>
                  </a:lnTo>
                  <a:lnTo>
                    <a:pt x="1109" y="59"/>
                  </a:lnTo>
                  <a:lnTo>
                    <a:pt x="1053" y="74"/>
                  </a:lnTo>
                  <a:lnTo>
                    <a:pt x="985" y="92"/>
                  </a:lnTo>
                  <a:lnTo>
                    <a:pt x="908" y="111"/>
                  </a:lnTo>
                  <a:lnTo>
                    <a:pt x="823" y="131"/>
                  </a:lnTo>
                  <a:lnTo>
                    <a:pt x="735" y="152"/>
                  </a:lnTo>
                  <a:lnTo>
                    <a:pt x="644" y="173"/>
                  </a:lnTo>
                  <a:lnTo>
                    <a:pt x="553" y="192"/>
                  </a:lnTo>
                  <a:lnTo>
                    <a:pt x="464" y="209"/>
                  </a:lnTo>
                  <a:lnTo>
                    <a:pt x="380" y="223"/>
                  </a:lnTo>
                  <a:lnTo>
                    <a:pt x="340" y="229"/>
                  </a:lnTo>
                  <a:lnTo>
                    <a:pt x="302" y="234"/>
                  </a:lnTo>
                  <a:lnTo>
                    <a:pt x="266" y="238"/>
                  </a:lnTo>
                  <a:lnTo>
                    <a:pt x="232" y="240"/>
                  </a:lnTo>
                  <a:lnTo>
                    <a:pt x="201" y="242"/>
                  </a:lnTo>
                  <a:lnTo>
                    <a:pt x="174" y="242"/>
                  </a:lnTo>
                  <a:lnTo>
                    <a:pt x="149" y="240"/>
                  </a:lnTo>
                  <a:lnTo>
                    <a:pt x="129" y="238"/>
                  </a:lnTo>
                  <a:lnTo>
                    <a:pt x="0" y="263"/>
                  </a:lnTo>
                  <a:lnTo>
                    <a:pt x="2397" y="273"/>
                  </a:lnTo>
                  <a:lnTo>
                    <a:pt x="2405" y="0"/>
                  </a:lnTo>
                  <a:lnTo>
                    <a:pt x="1190" y="3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4491000" y="5137200"/>
              <a:ext cx="1243080" cy="517320"/>
            </a:xfrm>
            <a:custGeom>
              <a:avLst/>
              <a:gdLst/>
              <a:ahLst/>
              <a:rect l="l" t="t" r="r" b="b"/>
              <a:pathLst>
                <a:path w="3133" h="1303">
                  <a:moveTo>
                    <a:pt x="0" y="1134"/>
                  </a:moveTo>
                  <a:lnTo>
                    <a:pt x="12" y="1114"/>
                  </a:lnTo>
                  <a:lnTo>
                    <a:pt x="47" y="1061"/>
                  </a:lnTo>
                  <a:lnTo>
                    <a:pt x="72" y="1023"/>
                  </a:lnTo>
                  <a:lnTo>
                    <a:pt x="103" y="980"/>
                  </a:lnTo>
                  <a:lnTo>
                    <a:pt x="139" y="930"/>
                  </a:lnTo>
                  <a:lnTo>
                    <a:pt x="180" y="877"/>
                  </a:lnTo>
                  <a:lnTo>
                    <a:pt x="226" y="819"/>
                  </a:lnTo>
                  <a:lnTo>
                    <a:pt x="277" y="758"/>
                  </a:lnTo>
                  <a:lnTo>
                    <a:pt x="333" y="695"/>
                  </a:lnTo>
                  <a:lnTo>
                    <a:pt x="392" y="630"/>
                  </a:lnTo>
                  <a:lnTo>
                    <a:pt x="457" y="564"/>
                  </a:lnTo>
                  <a:lnTo>
                    <a:pt x="525" y="500"/>
                  </a:lnTo>
                  <a:lnTo>
                    <a:pt x="598" y="435"/>
                  </a:lnTo>
                  <a:lnTo>
                    <a:pt x="674" y="372"/>
                  </a:lnTo>
                  <a:lnTo>
                    <a:pt x="755" y="311"/>
                  </a:lnTo>
                  <a:lnTo>
                    <a:pt x="839" y="253"/>
                  </a:lnTo>
                  <a:lnTo>
                    <a:pt x="926" y="200"/>
                  </a:lnTo>
                  <a:lnTo>
                    <a:pt x="1017" y="151"/>
                  </a:lnTo>
                  <a:lnTo>
                    <a:pt x="1111" y="108"/>
                  </a:lnTo>
                  <a:lnTo>
                    <a:pt x="1209" y="70"/>
                  </a:lnTo>
                  <a:lnTo>
                    <a:pt x="1309" y="41"/>
                  </a:lnTo>
                  <a:lnTo>
                    <a:pt x="1413" y="18"/>
                  </a:lnTo>
                  <a:lnTo>
                    <a:pt x="1518" y="5"/>
                  </a:lnTo>
                  <a:lnTo>
                    <a:pt x="1627" y="0"/>
                  </a:lnTo>
                  <a:lnTo>
                    <a:pt x="1738" y="6"/>
                  </a:lnTo>
                  <a:lnTo>
                    <a:pt x="1851" y="22"/>
                  </a:lnTo>
                  <a:lnTo>
                    <a:pt x="1967" y="51"/>
                  </a:lnTo>
                  <a:lnTo>
                    <a:pt x="2083" y="92"/>
                  </a:lnTo>
                  <a:lnTo>
                    <a:pt x="2203" y="146"/>
                  </a:lnTo>
                  <a:lnTo>
                    <a:pt x="2324" y="214"/>
                  </a:lnTo>
                  <a:lnTo>
                    <a:pt x="2333" y="223"/>
                  </a:lnTo>
                  <a:lnTo>
                    <a:pt x="2360" y="247"/>
                  </a:lnTo>
                  <a:lnTo>
                    <a:pt x="2401" y="283"/>
                  </a:lnTo>
                  <a:lnTo>
                    <a:pt x="2456" y="332"/>
                  </a:lnTo>
                  <a:lnTo>
                    <a:pt x="2519" y="391"/>
                  </a:lnTo>
                  <a:lnTo>
                    <a:pt x="2590" y="458"/>
                  </a:lnTo>
                  <a:lnTo>
                    <a:pt x="2666" y="532"/>
                  </a:lnTo>
                  <a:lnTo>
                    <a:pt x="2743" y="613"/>
                  </a:lnTo>
                  <a:lnTo>
                    <a:pt x="2781" y="654"/>
                  </a:lnTo>
                  <a:lnTo>
                    <a:pt x="2820" y="696"/>
                  </a:lnTo>
                  <a:lnTo>
                    <a:pt x="2857" y="738"/>
                  </a:lnTo>
                  <a:lnTo>
                    <a:pt x="2893" y="781"/>
                  </a:lnTo>
                  <a:lnTo>
                    <a:pt x="2928" y="825"/>
                  </a:lnTo>
                  <a:lnTo>
                    <a:pt x="2961" y="867"/>
                  </a:lnTo>
                  <a:lnTo>
                    <a:pt x="2994" y="910"/>
                  </a:lnTo>
                  <a:lnTo>
                    <a:pt x="3022" y="951"/>
                  </a:lnTo>
                  <a:lnTo>
                    <a:pt x="3048" y="994"/>
                  </a:lnTo>
                  <a:lnTo>
                    <a:pt x="3072" y="1033"/>
                  </a:lnTo>
                  <a:lnTo>
                    <a:pt x="3092" y="1073"/>
                  </a:lnTo>
                  <a:lnTo>
                    <a:pt x="3108" y="1111"/>
                  </a:lnTo>
                  <a:lnTo>
                    <a:pt x="3120" y="1147"/>
                  </a:lnTo>
                  <a:lnTo>
                    <a:pt x="3129" y="1182"/>
                  </a:lnTo>
                  <a:lnTo>
                    <a:pt x="3133" y="1214"/>
                  </a:lnTo>
                  <a:lnTo>
                    <a:pt x="3132" y="1245"/>
                  </a:lnTo>
                  <a:lnTo>
                    <a:pt x="2974" y="1223"/>
                  </a:lnTo>
                  <a:lnTo>
                    <a:pt x="2968" y="1211"/>
                  </a:lnTo>
                  <a:lnTo>
                    <a:pt x="2946" y="1176"/>
                  </a:lnTo>
                  <a:lnTo>
                    <a:pt x="2914" y="1123"/>
                  </a:lnTo>
                  <a:lnTo>
                    <a:pt x="2871" y="1053"/>
                  </a:lnTo>
                  <a:lnTo>
                    <a:pt x="2845" y="1013"/>
                  </a:lnTo>
                  <a:lnTo>
                    <a:pt x="2817" y="972"/>
                  </a:lnTo>
                  <a:lnTo>
                    <a:pt x="2786" y="928"/>
                  </a:lnTo>
                  <a:lnTo>
                    <a:pt x="2754" y="882"/>
                  </a:lnTo>
                  <a:lnTo>
                    <a:pt x="2719" y="835"/>
                  </a:lnTo>
                  <a:lnTo>
                    <a:pt x="2683" y="786"/>
                  </a:lnTo>
                  <a:lnTo>
                    <a:pt x="2645" y="737"/>
                  </a:lnTo>
                  <a:lnTo>
                    <a:pt x="2605" y="688"/>
                  </a:lnTo>
                  <a:lnTo>
                    <a:pt x="2564" y="640"/>
                  </a:lnTo>
                  <a:lnTo>
                    <a:pt x="2521" y="592"/>
                  </a:lnTo>
                  <a:lnTo>
                    <a:pt x="2477" y="544"/>
                  </a:lnTo>
                  <a:lnTo>
                    <a:pt x="2431" y="500"/>
                  </a:lnTo>
                  <a:lnTo>
                    <a:pt x="2385" y="456"/>
                  </a:lnTo>
                  <a:lnTo>
                    <a:pt x="2339" y="417"/>
                  </a:lnTo>
                  <a:lnTo>
                    <a:pt x="2291" y="378"/>
                  </a:lnTo>
                  <a:lnTo>
                    <a:pt x="2242" y="343"/>
                  </a:lnTo>
                  <a:lnTo>
                    <a:pt x="2194" y="314"/>
                  </a:lnTo>
                  <a:lnTo>
                    <a:pt x="2146" y="286"/>
                  </a:lnTo>
                  <a:lnTo>
                    <a:pt x="2096" y="264"/>
                  </a:lnTo>
                  <a:lnTo>
                    <a:pt x="2046" y="248"/>
                  </a:lnTo>
                  <a:lnTo>
                    <a:pt x="1998" y="236"/>
                  </a:lnTo>
                  <a:lnTo>
                    <a:pt x="1948" y="229"/>
                  </a:lnTo>
                  <a:lnTo>
                    <a:pt x="1900" y="231"/>
                  </a:lnTo>
                  <a:lnTo>
                    <a:pt x="1851" y="237"/>
                  </a:lnTo>
                  <a:lnTo>
                    <a:pt x="1839" y="238"/>
                  </a:lnTo>
                  <a:lnTo>
                    <a:pt x="1802" y="242"/>
                  </a:lnTo>
                  <a:lnTo>
                    <a:pt x="1743" y="249"/>
                  </a:lnTo>
                  <a:lnTo>
                    <a:pt x="1667" y="262"/>
                  </a:lnTo>
                  <a:lnTo>
                    <a:pt x="1623" y="270"/>
                  </a:lnTo>
                  <a:lnTo>
                    <a:pt x="1574" y="281"/>
                  </a:lnTo>
                  <a:lnTo>
                    <a:pt x="1522" y="294"/>
                  </a:lnTo>
                  <a:lnTo>
                    <a:pt x="1468" y="309"/>
                  </a:lnTo>
                  <a:lnTo>
                    <a:pt x="1410" y="325"/>
                  </a:lnTo>
                  <a:lnTo>
                    <a:pt x="1351" y="345"/>
                  </a:lnTo>
                  <a:lnTo>
                    <a:pt x="1289" y="367"/>
                  </a:lnTo>
                  <a:lnTo>
                    <a:pt x="1225" y="392"/>
                  </a:lnTo>
                  <a:lnTo>
                    <a:pt x="1161" y="419"/>
                  </a:lnTo>
                  <a:lnTo>
                    <a:pt x="1095" y="450"/>
                  </a:lnTo>
                  <a:lnTo>
                    <a:pt x="1029" y="485"/>
                  </a:lnTo>
                  <a:lnTo>
                    <a:pt x="962" y="522"/>
                  </a:lnTo>
                  <a:lnTo>
                    <a:pt x="895" y="563"/>
                  </a:lnTo>
                  <a:lnTo>
                    <a:pt x="828" y="609"/>
                  </a:lnTo>
                  <a:lnTo>
                    <a:pt x="761" y="657"/>
                  </a:lnTo>
                  <a:lnTo>
                    <a:pt x="696" y="711"/>
                  </a:lnTo>
                  <a:lnTo>
                    <a:pt x="632" y="768"/>
                  </a:lnTo>
                  <a:lnTo>
                    <a:pt x="570" y="830"/>
                  </a:lnTo>
                  <a:lnTo>
                    <a:pt x="509" y="896"/>
                  </a:lnTo>
                  <a:lnTo>
                    <a:pt x="451" y="968"/>
                  </a:lnTo>
                  <a:lnTo>
                    <a:pt x="395" y="1043"/>
                  </a:lnTo>
                  <a:lnTo>
                    <a:pt x="341" y="1124"/>
                  </a:lnTo>
                  <a:lnTo>
                    <a:pt x="292" y="1211"/>
                  </a:lnTo>
                  <a:lnTo>
                    <a:pt x="246" y="1303"/>
                  </a:lnTo>
                  <a:lnTo>
                    <a:pt x="0" y="113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4471920" y="5122800"/>
              <a:ext cx="1276560" cy="552600"/>
            </a:xfrm>
            <a:custGeom>
              <a:avLst/>
              <a:gdLst/>
              <a:ahLst/>
              <a:rect l="l" t="t" r="r" b="b"/>
              <a:pathLst>
                <a:path w="3216" h="1391">
                  <a:moveTo>
                    <a:pt x="1366" y="36"/>
                  </a:moveTo>
                  <a:lnTo>
                    <a:pt x="1291" y="57"/>
                  </a:lnTo>
                  <a:lnTo>
                    <a:pt x="1219" y="81"/>
                  </a:lnTo>
                  <a:lnTo>
                    <a:pt x="1148" y="108"/>
                  </a:lnTo>
                  <a:lnTo>
                    <a:pt x="1080" y="139"/>
                  </a:lnTo>
                  <a:lnTo>
                    <a:pt x="1013" y="172"/>
                  </a:lnTo>
                  <a:lnTo>
                    <a:pt x="947" y="208"/>
                  </a:lnTo>
                  <a:lnTo>
                    <a:pt x="884" y="247"/>
                  </a:lnTo>
                  <a:lnTo>
                    <a:pt x="822" y="287"/>
                  </a:lnTo>
                  <a:lnTo>
                    <a:pt x="762" y="330"/>
                  </a:lnTo>
                  <a:lnTo>
                    <a:pt x="705" y="373"/>
                  </a:lnTo>
                  <a:lnTo>
                    <a:pt x="649" y="418"/>
                  </a:lnTo>
                  <a:lnTo>
                    <a:pt x="594" y="464"/>
                  </a:lnTo>
                  <a:lnTo>
                    <a:pt x="544" y="511"/>
                  </a:lnTo>
                  <a:lnTo>
                    <a:pt x="494" y="558"/>
                  </a:lnTo>
                  <a:lnTo>
                    <a:pt x="445" y="605"/>
                  </a:lnTo>
                  <a:lnTo>
                    <a:pt x="401" y="653"/>
                  </a:lnTo>
                  <a:lnTo>
                    <a:pt x="357" y="699"/>
                  </a:lnTo>
                  <a:lnTo>
                    <a:pt x="318" y="744"/>
                  </a:lnTo>
                  <a:lnTo>
                    <a:pt x="279" y="789"/>
                  </a:lnTo>
                  <a:lnTo>
                    <a:pt x="243" y="833"/>
                  </a:lnTo>
                  <a:lnTo>
                    <a:pt x="209" y="875"/>
                  </a:lnTo>
                  <a:lnTo>
                    <a:pt x="178" y="914"/>
                  </a:lnTo>
                  <a:lnTo>
                    <a:pt x="150" y="953"/>
                  </a:lnTo>
                  <a:lnTo>
                    <a:pt x="125" y="988"/>
                  </a:lnTo>
                  <a:lnTo>
                    <a:pt x="80" y="1050"/>
                  </a:lnTo>
                  <a:lnTo>
                    <a:pt x="48" y="1099"/>
                  </a:lnTo>
                  <a:lnTo>
                    <a:pt x="26" y="1134"/>
                  </a:lnTo>
                  <a:lnTo>
                    <a:pt x="16" y="1150"/>
                  </a:lnTo>
                  <a:lnTo>
                    <a:pt x="0" y="1179"/>
                  </a:lnTo>
                  <a:lnTo>
                    <a:pt x="308" y="1391"/>
                  </a:lnTo>
                  <a:lnTo>
                    <a:pt x="325" y="1352"/>
                  </a:lnTo>
                  <a:lnTo>
                    <a:pt x="370" y="1263"/>
                  </a:lnTo>
                  <a:lnTo>
                    <a:pt x="418" y="1180"/>
                  </a:lnTo>
                  <a:lnTo>
                    <a:pt x="469" y="1101"/>
                  </a:lnTo>
                  <a:lnTo>
                    <a:pt x="524" y="1027"/>
                  </a:lnTo>
                  <a:lnTo>
                    <a:pt x="581" y="958"/>
                  </a:lnTo>
                  <a:lnTo>
                    <a:pt x="639" y="893"/>
                  </a:lnTo>
                  <a:lnTo>
                    <a:pt x="700" y="834"/>
                  </a:lnTo>
                  <a:lnTo>
                    <a:pt x="763" y="777"/>
                  </a:lnTo>
                  <a:lnTo>
                    <a:pt x="827" y="726"/>
                  </a:lnTo>
                  <a:lnTo>
                    <a:pt x="891" y="677"/>
                  </a:lnTo>
                  <a:lnTo>
                    <a:pt x="956" y="634"/>
                  </a:lnTo>
                  <a:lnTo>
                    <a:pt x="1022" y="593"/>
                  </a:lnTo>
                  <a:lnTo>
                    <a:pt x="1087" y="556"/>
                  </a:lnTo>
                  <a:lnTo>
                    <a:pt x="1152" y="522"/>
                  </a:lnTo>
                  <a:lnTo>
                    <a:pt x="1217" y="491"/>
                  </a:lnTo>
                  <a:lnTo>
                    <a:pt x="1280" y="464"/>
                  </a:lnTo>
                  <a:lnTo>
                    <a:pt x="1342" y="439"/>
                  </a:lnTo>
                  <a:lnTo>
                    <a:pt x="1403" y="418"/>
                  </a:lnTo>
                  <a:lnTo>
                    <a:pt x="1461" y="398"/>
                  </a:lnTo>
                  <a:lnTo>
                    <a:pt x="1517" y="381"/>
                  </a:lnTo>
                  <a:lnTo>
                    <a:pt x="1572" y="366"/>
                  </a:lnTo>
                  <a:lnTo>
                    <a:pt x="1623" y="354"/>
                  </a:lnTo>
                  <a:lnTo>
                    <a:pt x="1670" y="342"/>
                  </a:lnTo>
                  <a:lnTo>
                    <a:pt x="1713" y="334"/>
                  </a:lnTo>
                  <a:lnTo>
                    <a:pt x="1790" y="320"/>
                  </a:lnTo>
                  <a:lnTo>
                    <a:pt x="1849" y="313"/>
                  </a:lnTo>
                  <a:lnTo>
                    <a:pt x="1886" y="309"/>
                  </a:lnTo>
                  <a:lnTo>
                    <a:pt x="1901" y="308"/>
                  </a:lnTo>
                  <a:lnTo>
                    <a:pt x="1945" y="302"/>
                  </a:lnTo>
                  <a:lnTo>
                    <a:pt x="1993" y="302"/>
                  </a:lnTo>
                  <a:lnTo>
                    <a:pt x="2040" y="306"/>
                  </a:lnTo>
                  <a:lnTo>
                    <a:pt x="2087" y="319"/>
                  </a:lnTo>
                  <a:lnTo>
                    <a:pt x="2133" y="335"/>
                  </a:lnTo>
                  <a:lnTo>
                    <a:pt x="2181" y="357"/>
                  </a:lnTo>
                  <a:lnTo>
                    <a:pt x="2227" y="383"/>
                  </a:lnTo>
                  <a:lnTo>
                    <a:pt x="2275" y="413"/>
                  </a:lnTo>
                  <a:lnTo>
                    <a:pt x="2322" y="447"/>
                  </a:lnTo>
                  <a:lnTo>
                    <a:pt x="2368" y="483"/>
                  </a:lnTo>
                  <a:lnTo>
                    <a:pt x="2412" y="522"/>
                  </a:lnTo>
                  <a:lnTo>
                    <a:pt x="2457" y="565"/>
                  </a:lnTo>
                  <a:lnTo>
                    <a:pt x="2501" y="608"/>
                  </a:lnTo>
                  <a:lnTo>
                    <a:pt x="2544" y="654"/>
                  </a:lnTo>
                  <a:lnTo>
                    <a:pt x="2585" y="701"/>
                  </a:lnTo>
                  <a:lnTo>
                    <a:pt x="2625" y="748"/>
                  </a:lnTo>
                  <a:lnTo>
                    <a:pt x="2664" y="795"/>
                  </a:lnTo>
                  <a:lnTo>
                    <a:pt x="2702" y="844"/>
                  </a:lnTo>
                  <a:lnTo>
                    <a:pt x="2736" y="891"/>
                  </a:lnTo>
                  <a:lnTo>
                    <a:pt x="2771" y="937"/>
                  </a:lnTo>
                  <a:lnTo>
                    <a:pt x="2832" y="1025"/>
                  </a:lnTo>
                  <a:lnTo>
                    <a:pt x="2885" y="1104"/>
                  </a:lnTo>
                  <a:lnTo>
                    <a:pt x="2929" y="1172"/>
                  </a:lnTo>
                  <a:lnTo>
                    <a:pt x="2961" y="1226"/>
                  </a:lnTo>
                  <a:lnTo>
                    <a:pt x="2982" y="1262"/>
                  </a:lnTo>
                  <a:lnTo>
                    <a:pt x="2990" y="1275"/>
                  </a:lnTo>
                  <a:lnTo>
                    <a:pt x="2998" y="1290"/>
                  </a:lnTo>
                  <a:lnTo>
                    <a:pt x="3210" y="1320"/>
                  </a:lnTo>
                  <a:lnTo>
                    <a:pt x="3215" y="1284"/>
                  </a:lnTo>
                  <a:lnTo>
                    <a:pt x="3216" y="1253"/>
                  </a:lnTo>
                  <a:lnTo>
                    <a:pt x="3212" y="1221"/>
                  </a:lnTo>
                  <a:lnTo>
                    <a:pt x="3206" y="1186"/>
                  </a:lnTo>
                  <a:lnTo>
                    <a:pt x="3195" y="1149"/>
                  </a:lnTo>
                  <a:lnTo>
                    <a:pt x="3180" y="1112"/>
                  </a:lnTo>
                  <a:lnTo>
                    <a:pt x="3161" y="1073"/>
                  </a:lnTo>
                  <a:lnTo>
                    <a:pt x="3140" y="1034"/>
                  </a:lnTo>
                  <a:lnTo>
                    <a:pt x="3115" y="993"/>
                  </a:lnTo>
                  <a:lnTo>
                    <a:pt x="3089" y="952"/>
                  </a:lnTo>
                  <a:lnTo>
                    <a:pt x="3059" y="911"/>
                  </a:lnTo>
                  <a:lnTo>
                    <a:pt x="3028" y="869"/>
                  </a:lnTo>
                  <a:lnTo>
                    <a:pt x="2996" y="826"/>
                  </a:lnTo>
                  <a:lnTo>
                    <a:pt x="2961" y="784"/>
                  </a:lnTo>
                  <a:lnTo>
                    <a:pt x="2926" y="742"/>
                  </a:lnTo>
                  <a:lnTo>
                    <a:pt x="2889" y="701"/>
                  </a:lnTo>
                  <a:lnTo>
                    <a:pt x="2852" y="660"/>
                  </a:lnTo>
                  <a:lnTo>
                    <a:pt x="2777" y="581"/>
                  </a:lnTo>
                  <a:lnTo>
                    <a:pt x="2703" y="506"/>
                  </a:lnTo>
                  <a:lnTo>
                    <a:pt x="2632" y="437"/>
                  </a:lnTo>
                  <a:lnTo>
                    <a:pt x="2565" y="375"/>
                  </a:lnTo>
                  <a:lnTo>
                    <a:pt x="2505" y="320"/>
                  </a:lnTo>
                  <a:lnTo>
                    <a:pt x="2456" y="277"/>
                  </a:lnTo>
                  <a:lnTo>
                    <a:pt x="2419" y="243"/>
                  </a:lnTo>
                  <a:lnTo>
                    <a:pt x="2394" y="222"/>
                  </a:lnTo>
                  <a:lnTo>
                    <a:pt x="2363" y="204"/>
                  </a:lnTo>
                  <a:lnTo>
                    <a:pt x="2330" y="185"/>
                  </a:lnTo>
                  <a:lnTo>
                    <a:pt x="2299" y="168"/>
                  </a:lnTo>
                  <a:lnTo>
                    <a:pt x="2267" y="151"/>
                  </a:lnTo>
                  <a:lnTo>
                    <a:pt x="2236" y="135"/>
                  </a:lnTo>
                  <a:lnTo>
                    <a:pt x="2204" y="120"/>
                  </a:lnTo>
                  <a:lnTo>
                    <a:pt x="2171" y="107"/>
                  </a:lnTo>
                  <a:lnTo>
                    <a:pt x="2140" y="93"/>
                  </a:lnTo>
                  <a:lnTo>
                    <a:pt x="2108" y="81"/>
                  </a:lnTo>
                  <a:lnTo>
                    <a:pt x="2076" y="70"/>
                  </a:lnTo>
                  <a:lnTo>
                    <a:pt x="2044" y="58"/>
                  </a:lnTo>
                  <a:lnTo>
                    <a:pt x="2013" y="50"/>
                  </a:lnTo>
                  <a:lnTo>
                    <a:pt x="1980" y="41"/>
                  </a:lnTo>
                  <a:lnTo>
                    <a:pt x="1948" y="32"/>
                  </a:lnTo>
                  <a:lnTo>
                    <a:pt x="1916" y="25"/>
                  </a:lnTo>
                  <a:lnTo>
                    <a:pt x="1883" y="19"/>
                  </a:lnTo>
                  <a:lnTo>
                    <a:pt x="1851" y="14"/>
                  </a:lnTo>
                  <a:lnTo>
                    <a:pt x="1819" y="9"/>
                  </a:lnTo>
                  <a:lnTo>
                    <a:pt x="1787" y="5"/>
                  </a:lnTo>
                  <a:lnTo>
                    <a:pt x="1754" y="3"/>
                  </a:lnTo>
                  <a:lnTo>
                    <a:pt x="1722" y="1"/>
                  </a:lnTo>
                  <a:lnTo>
                    <a:pt x="1690" y="0"/>
                  </a:lnTo>
                  <a:lnTo>
                    <a:pt x="1657" y="0"/>
                  </a:lnTo>
                  <a:lnTo>
                    <a:pt x="1625" y="0"/>
                  </a:lnTo>
                  <a:lnTo>
                    <a:pt x="1593" y="1"/>
                  </a:lnTo>
                  <a:lnTo>
                    <a:pt x="1561" y="4"/>
                  </a:lnTo>
                  <a:lnTo>
                    <a:pt x="1528" y="7"/>
                  </a:lnTo>
                  <a:lnTo>
                    <a:pt x="1495" y="11"/>
                  </a:lnTo>
                  <a:lnTo>
                    <a:pt x="1462" y="16"/>
                  </a:lnTo>
                  <a:lnTo>
                    <a:pt x="1430" y="22"/>
                  </a:lnTo>
                  <a:lnTo>
                    <a:pt x="1398" y="29"/>
                  </a:lnTo>
                  <a:lnTo>
                    <a:pt x="1366" y="36"/>
                  </a:lnTo>
                  <a:close/>
                  <a:moveTo>
                    <a:pt x="1383" y="105"/>
                  </a:moveTo>
                  <a:lnTo>
                    <a:pt x="1413" y="98"/>
                  </a:lnTo>
                  <a:lnTo>
                    <a:pt x="1444" y="92"/>
                  </a:lnTo>
                  <a:lnTo>
                    <a:pt x="1475" y="87"/>
                  </a:lnTo>
                  <a:lnTo>
                    <a:pt x="1505" y="82"/>
                  </a:lnTo>
                  <a:lnTo>
                    <a:pt x="1536" y="78"/>
                  </a:lnTo>
                  <a:lnTo>
                    <a:pt x="1567" y="76"/>
                  </a:lnTo>
                  <a:lnTo>
                    <a:pt x="1598" y="73"/>
                  </a:lnTo>
                  <a:lnTo>
                    <a:pt x="1628" y="72"/>
                  </a:lnTo>
                  <a:lnTo>
                    <a:pt x="1659" y="71"/>
                  </a:lnTo>
                  <a:lnTo>
                    <a:pt x="1688" y="71"/>
                  </a:lnTo>
                  <a:lnTo>
                    <a:pt x="1719" y="72"/>
                  </a:lnTo>
                  <a:lnTo>
                    <a:pt x="1751" y="74"/>
                  </a:lnTo>
                  <a:lnTo>
                    <a:pt x="1780" y="77"/>
                  </a:lnTo>
                  <a:lnTo>
                    <a:pt x="1811" y="81"/>
                  </a:lnTo>
                  <a:lnTo>
                    <a:pt x="1841" y="84"/>
                  </a:lnTo>
                  <a:lnTo>
                    <a:pt x="1872" y="89"/>
                  </a:lnTo>
                  <a:lnTo>
                    <a:pt x="1902" y="96"/>
                  </a:lnTo>
                  <a:lnTo>
                    <a:pt x="1933" y="102"/>
                  </a:lnTo>
                  <a:lnTo>
                    <a:pt x="1963" y="109"/>
                  </a:lnTo>
                  <a:lnTo>
                    <a:pt x="1993" y="118"/>
                  </a:lnTo>
                  <a:lnTo>
                    <a:pt x="2024" y="127"/>
                  </a:lnTo>
                  <a:lnTo>
                    <a:pt x="2053" y="137"/>
                  </a:lnTo>
                  <a:lnTo>
                    <a:pt x="2083" y="148"/>
                  </a:lnTo>
                  <a:lnTo>
                    <a:pt x="2113" y="159"/>
                  </a:lnTo>
                  <a:lnTo>
                    <a:pt x="2144" y="171"/>
                  </a:lnTo>
                  <a:lnTo>
                    <a:pt x="2174" y="185"/>
                  </a:lnTo>
                  <a:lnTo>
                    <a:pt x="2204" y="199"/>
                  </a:lnTo>
                  <a:lnTo>
                    <a:pt x="2234" y="213"/>
                  </a:lnTo>
                  <a:lnTo>
                    <a:pt x="2263" y="228"/>
                  </a:lnTo>
                  <a:lnTo>
                    <a:pt x="2293" y="244"/>
                  </a:lnTo>
                  <a:lnTo>
                    <a:pt x="2323" y="262"/>
                  </a:lnTo>
                  <a:lnTo>
                    <a:pt x="2353" y="280"/>
                  </a:lnTo>
                  <a:lnTo>
                    <a:pt x="2396" y="319"/>
                  </a:lnTo>
                  <a:lnTo>
                    <a:pt x="2447" y="364"/>
                  </a:lnTo>
                  <a:lnTo>
                    <a:pt x="2503" y="414"/>
                  </a:lnTo>
                  <a:lnTo>
                    <a:pt x="2564" y="472"/>
                  </a:lnTo>
                  <a:lnTo>
                    <a:pt x="2626" y="532"/>
                  </a:lnTo>
                  <a:lnTo>
                    <a:pt x="2691" y="597"/>
                  </a:lnTo>
                  <a:lnTo>
                    <a:pt x="2755" y="664"/>
                  </a:lnTo>
                  <a:lnTo>
                    <a:pt x="2818" y="732"/>
                  </a:lnTo>
                  <a:lnTo>
                    <a:pt x="2849" y="767"/>
                  </a:lnTo>
                  <a:lnTo>
                    <a:pt x="2879" y="802"/>
                  </a:lnTo>
                  <a:lnTo>
                    <a:pt x="2909" y="836"/>
                  </a:lnTo>
                  <a:lnTo>
                    <a:pt x="2938" y="871"/>
                  </a:lnTo>
                  <a:lnTo>
                    <a:pt x="2965" y="906"/>
                  </a:lnTo>
                  <a:lnTo>
                    <a:pt x="2990" y="939"/>
                  </a:lnTo>
                  <a:lnTo>
                    <a:pt x="3015" y="974"/>
                  </a:lnTo>
                  <a:lnTo>
                    <a:pt x="3037" y="1006"/>
                  </a:lnTo>
                  <a:lnTo>
                    <a:pt x="3058" y="1038"/>
                  </a:lnTo>
                  <a:lnTo>
                    <a:pt x="3077" y="1071"/>
                  </a:lnTo>
                  <a:lnTo>
                    <a:pt x="3094" y="1102"/>
                  </a:lnTo>
                  <a:lnTo>
                    <a:pt x="3108" y="1132"/>
                  </a:lnTo>
                  <a:lnTo>
                    <a:pt x="3120" y="1160"/>
                  </a:lnTo>
                  <a:lnTo>
                    <a:pt x="3130" y="1187"/>
                  </a:lnTo>
                  <a:lnTo>
                    <a:pt x="3136" y="1213"/>
                  </a:lnTo>
                  <a:lnTo>
                    <a:pt x="3140" y="1238"/>
                  </a:lnTo>
                  <a:lnTo>
                    <a:pt x="3111" y="1235"/>
                  </a:lnTo>
                  <a:lnTo>
                    <a:pt x="3084" y="1231"/>
                  </a:lnTo>
                  <a:lnTo>
                    <a:pt x="3061" y="1227"/>
                  </a:lnTo>
                  <a:lnTo>
                    <a:pt x="3043" y="1225"/>
                  </a:lnTo>
                  <a:lnTo>
                    <a:pt x="3026" y="1195"/>
                  </a:lnTo>
                  <a:lnTo>
                    <a:pt x="2997" y="1148"/>
                  </a:lnTo>
                  <a:lnTo>
                    <a:pt x="2959" y="1084"/>
                  </a:lnTo>
                  <a:lnTo>
                    <a:pt x="2910" y="1010"/>
                  </a:lnTo>
                  <a:lnTo>
                    <a:pt x="2882" y="969"/>
                  </a:lnTo>
                  <a:lnTo>
                    <a:pt x="2853" y="926"/>
                  </a:lnTo>
                  <a:lnTo>
                    <a:pt x="2821" y="881"/>
                  </a:lnTo>
                  <a:lnTo>
                    <a:pt x="2787" y="836"/>
                  </a:lnTo>
                  <a:lnTo>
                    <a:pt x="2753" y="789"/>
                  </a:lnTo>
                  <a:lnTo>
                    <a:pt x="2715" y="742"/>
                  </a:lnTo>
                  <a:lnTo>
                    <a:pt x="2677" y="696"/>
                  </a:lnTo>
                  <a:lnTo>
                    <a:pt x="2637" y="649"/>
                  </a:lnTo>
                  <a:lnTo>
                    <a:pt x="2596" y="603"/>
                  </a:lnTo>
                  <a:lnTo>
                    <a:pt x="2554" y="558"/>
                  </a:lnTo>
                  <a:lnTo>
                    <a:pt x="2510" y="514"/>
                  </a:lnTo>
                  <a:lnTo>
                    <a:pt x="2466" y="473"/>
                  </a:lnTo>
                  <a:lnTo>
                    <a:pt x="2420" y="432"/>
                  </a:lnTo>
                  <a:lnTo>
                    <a:pt x="2374" y="395"/>
                  </a:lnTo>
                  <a:lnTo>
                    <a:pt x="2327" y="361"/>
                  </a:lnTo>
                  <a:lnTo>
                    <a:pt x="2279" y="329"/>
                  </a:lnTo>
                  <a:lnTo>
                    <a:pt x="2231" y="302"/>
                  </a:lnTo>
                  <a:lnTo>
                    <a:pt x="2183" y="278"/>
                  </a:lnTo>
                  <a:lnTo>
                    <a:pt x="2134" y="258"/>
                  </a:lnTo>
                  <a:lnTo>
                    <a:pt x="2086" y="243"/>
                  </a:lnTo>
                  <a:lnTo>
                    <a:pt x="2036" y="233"/>
                  </a:lnTo>
                  <a:lnTo>
                    <a:pt x="1988" y="228"/>
                  </a:lnTo>
                  <a:lnTo>
                    <a:pt x="1939" y="230"/>
                  </a:lnTo>
                  <a:lnTo>
                    <a:pt x="1891" y="237"/>
                  </a:lnTo>
                  <a:lnTo>
                    <a:pt x="1891" y="237"/>
                  </a:lnTo>
                  <a:lnTo>
                    <a:pt x="1876" y="238"/>
                  </a:lnTo>
                  <a:lnTo>
                    <a:pt x="1839" y="242"/>
                  </a:lnTo>
                  <a:lnTo>
                    <a:pt x="1780" y="251"/>
                  </a:lnTo>
                  <a:lnTo>
                    <a:pt x="1705" y="264"/>
                  </a:lnTo>
                  <a:lnTo>
                    <a:pt x="1660" y="273"/>
                  </a:lnTo>
                  <a:lnTo>
                    <a:pt x="1611" y="284"/>
                  </a:lnTo>
                  <a:lnTo>
                    <a:pt x="1561" y="297"/>
                  </a:lnTo>
                  <a:lnTo>
                    <a:pt x="1506" y="311"/>
                  </a:lnTo>
                  <a:lnTo>
                    <a:pt x="1449" y="329"/>
                  </a:lnTo>
                  <a:lnTo>
                    <a:pt x="1390" y="349"/>
                  </a:lnTo>
                  <a:lnTo>
                    <a:pt x="1328" y="371"/>
                  </a:lnTo>
                  <a:lnTo>
                    <a:pt x="1266" y="396"/>
                  </a:lnTo>
                  <a:lnTo>
                    <a:pt x="1202" y="423"/>
                  </a:lnTo>
                  <a:lnTo>
                    <a:pt x="1136" y="454"/>
                  </a:lnTo>
                  <a:lnTo>
                    <a:pt x="1069" y="488"/>
                  </a:lnTo>
                  <a:lnTo>
                    <a:pt x="1003" y="525"/>
                  </a:lnTo>
                  <a:lnTo>
                    <a:pt x="936" y="566"/>
                  </a:lnTo>
                  <a:lnTo>
                    <a:pt x="869" y="610"/>
                  </a:lnTo>
                  <a:lnTo>
                    <a:pt x="803" y="659"/>
                  </a:lnTo>
                  <a:lnTo>
                    <a:pt x="737" y="711"/>
                  </a:lnTo>
                  <a:lnTo>
                    <a:pt x="673" y="767"/>
                  </a:lnTo>
                  <a:lnTo>
                    <a:pt x="611" y="828"/>
                  </a:lnTo>
                  <a:lnTo>
                    <a:pt x="550" y="892"/>
                  </a:lnTo>
                  <a:lnTo>
                    <a:pt x="490" y="962"/>
                  </a:lnTo>
                  <a:lnTo>
                    <a:pt x="434" y="1035"/>
                  </a:lnTo>
                  <a:lnTo>
                    <a:pt x="381" y="1114"/>
                  </a:lnTo>
                  <a:lnTo>
                    <a:pt x="330" y="1197"/>
                  </a:lnTo>
                  <a:lnTo>
                    <a:pt x="283" y="1287"/>
                  </a:lnTo>
                  <a:lnTo>
                    <a:pt x="241" y="1258"/>
                  </a:lnTo>
                  <a:lnTo>
                    <a:pt x="187" y="1222"/>
                  </a:lnTo>
                  <a:lnTo>
                    <a:pt x="135" y="1185"/>
                  </a:lnTo>
                  <a:lnTo>
                    <a:pt x="95" y="1159"/>
                  </a:lnTo>
                  <a:lnTo>
                    <a:pt x="116" y="1127"/>
                  </a:lnTo>
                  <a:lnTo>
                    <a:pt x="146" y="1082"/>
                  </a:lnTo>
                  <a:lnTo>
                    <a:pt x="186" y="1026"/>
                  </a:lnTo>
                  <a:lnTo>
                    <a:pt x="234" y="962"/>
                  </a:lnTo>
                  <a:lnTo>
                    <a:pt x="262" y="926"/>
                  </a:lnTo>
                  <a:lnTo>
                    <a:pt x="290" y="890"/>
                  </a:lnTo>
                  <a:lnTo>
                    <a:pt x="321" y="851"/>
                  </a:lnTo>
                  <a:lnTo>
                    <a:pt x="355" y="811"/>
                  </a:lnTo>
                  <a:lnTo>
                    <a:pt x="391" y="771"/>
                  </a:lnTo>
                  <a:lnTo>
                    <a:pt x="428" y="730"/>
                  </a:lnTo>
                  <a:lnTo>
                    <a:pt x="467" y="687"/>
                  </a:lnTo>
                  <a:lnTo>
                    <a:pt x="508" y="645"/>
                  </a:lnTo>
                  <a:lnTo>
                    <a:pt x="551" y="603"/>
                  </a:lnTo>
                  <a:lnTo>
                    <a:pt x="596" y="562"/>
                  </a:lnTo>
                  <a:lnTo>
                    <a:pt x="642" y="520"/>
                  </a:lnTo>
                  <a:lnTo>
                    <a:pt x="690" y="479"/>
                  </a:lnTo>
                  <a:lnTo>
                    <a:pt x="740" y="438"/>
                  </a:lnTo>
                  <a:lnTo>
                    <a:pt x="791" y="398"/>
                  </a:lnTo>
                  <a:lnTo>
                    <a:pt x="843" y="360"/>
                  </a:lnTo>
                  <a:lnTo>
                    <a:pt x="897" y="324"/>
                  </a:lnTo>
                  <a:lnTo>
                    <a:pt x="953" y="288"/>
                  </a:lnTo>
                  <a:lnTo>
                    <a:pt x="1010" y="254"/>
                  </a:lnTo>
                  <a:lnTo>
                    <a:pt x="1069" y="223"/>
                  </a:lnTo>
                  <a:lnTo>
                    <a:pt x="1130" y="195"/>
                  </a:lnTo>
                  <a:lnTo>
                    <a:pt x="1190" y="168"/>
                  </a:lnTo>
                  <a:lnTo>
                    <a:pt x="1254" y="144"/>
                  </a:lnTo>
                  <a:lnTo>
                    <a:pt x="1317" y="123"/>
                  </a:lnTo>
                  <a:lnTo>
                    <a:pt x="1383" y="10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4514760" y="5208480"/>
              <a:ext cx="1243080" cy="493920"/>
            </a:xfrm>
            <a:custGeom>
              <a:avLst/>
              <a:gdLst/>
              <a:ahLst/>
              <a:rect l="l" t="t" r="r" b="b"/>
              <a:pathLst>
                <a:path w="3133" h="1244">
                  <a:moveTo>
                    <a:pt x="0" y="1132"/>
                  </a:moveTo>
                  <a:lnTo>
                    <a:pt x="12" y="1114"/>
                  </a:lnTo>
                  <a:lnTo>
                    <a:pt x="46" y="1060"/>
                  </a:lnTo>
                  <a:lnTo>
                    <a:pt x="72" y="1022"/>
                  </a:lnTo>
                  <a:lnTo>
                    <a:pt x="103" y="979"/>
                  </a:lnTo>
                  <a:lnTo>
                    <a:pt x="140" y="929"/>
                  </a:lnTo>
                  <a:lnTo>
                    <a:pt x="180" y="876"/>
                  </a:lnTo>
                  <a:lnTo>
                    <a:pt x="226" y="819"/>
                  </a:lnTo>
                  <a:lnTo>
                    <a:pt x="277" y="757"/>
                  </a:lnTo>
                  <a:lnTo>
                    <a:pt x="332" y="694"/>
                  </a:lnTo>
                  <a:lnTo>
                    <a:pt x="393" y="629"/>
                  </a:lnTo>
                  <a:lnTo>
                    <a:pt x="457" y="564"/>
                  </a:lnTo>
                  <a:lnTo>
                    <a:pt x="526" y="498"/>
                  </a:lnTo>
                  <a:lnTo>
                    <a:pt x="598" y="434"/>
                  </a:lnTo>
                  <a:lnTo>
                    <a:pt x="675" y="371"/>
                  </a:lnTo>
                  <a:lnTo>
                    <a:pt x="755" y="310"/>
                  </a:lnTo>
                  <a:lnTo>
                    <a:pt x="839" y="253"/>
                  </a:lnTo>
                  <a:lnTo>
                    <a:pt x="927" y="199"/>
                  </a:lnTo>
                  <a:lnTo>
                    <a:pt x="1017" y="150"/>
                  </a:lnTo>
                  <a:lnTo>
                    <a:pt x="1112" y="106"/>
                  </a:lnTo>
                  <a:lnTo>
                    <a:pt x="1209" y="69"/>
                  </a:lnTo>
                  <a:lnTo>
                    <a:pt x="1309" y="39"/>
                  </a:lnTo>
                  <a:lnTo>
                    <a:pt x="1412" y="17"/>
                  </a:lnTo>
                  <a:lnTo>
                    <a:pt x="1518" y="3"/>
                  </a:lnTo>
                  <a:lnTo>
                    <a:pt x="1627" y="0"/>
                  </a:lnTo>
                  <a:lnTo>
                    <a:pt x="1738" y="5"/>
                  </a:lnTo>
                  <a:lnTo>
                    <a:pt x="1851" y="22"/>
                  </a:lnTo>
                  <a:lnTo>
                    <a:pt x="1966" y="51"/>
                  </a:lnTo>
                  <a:lnTo>
                    <a:pt x="2084" y="91"/>
                  </a:lnTo>
                  <a:lnTo>
                    <a:pt x="2203" y="146"/>
                  </a:lnTo>
                  <a:lnTo>
                    <a:pt x="2324" y="214"/>
                  </a:lnTo>
                  <a:lnTo>
                    <a:pt x="2334" y="222"/>
                  </a:lnTo>
                  <a:lnTo>
                    <a:pt x="2361" y="245"/>
                  </a:lnTo>
                  <a:lnTo>
                    <a:pt x="2402" y="283"/>
                  </a:lnTo>
                  <a:lnTo>
                    <a:pt x="2457" y="331"/>
                  </a:lnTo>
                  <a:lnTo>
                    <a:pt x="2520" y="389"/>
                  </a:lnTo>
                  <a:lnTo>
                    <a:pt x="2591" y="457"/>
                  </a:lnTo>
                  <a:lnTo>
                    <a:pt x="2665" y="532"/>
                  </a:lnTo>
                  <a:lnTo>
                    <a:pt x="2743" y="611"/>
                  </a:lnTo>
                  <a:lnTo>
                    <a:pt x="2782" y="654"/>
                  </a:lnTo>
                  <a:lnTo>
                    <a:pt x="2819" y="696"/>
                  </a:lnTo>
                  <a:lnTo>
                    <a:pt x="2858" y="738"/>
                  </a:lnTo>
                  <a:lnTo>
                    <a:pt x="2894" y="780"/>
                  </a:lnTo>
                  <a:lnTo>
                    <a:pt x="2928" y="823"/>
                  </a:lnTo>
                  <a:lnTo>
                    <a:pt x="2962" y="867"/>
                  </a:lnTo>
                  <a:lnTo>
                    <a:pt x="2993" y="909"/>
                  </a:lnTo>
                  <a:lnTo>
                    <a:pt x="3023" y="951"/>
                  </a:lnTo>
                  <a:lnTo>
                    <a:pt x="3049" y="992"/>
                  </a:lnTo>
                  <a:lnTo>
                    <a:pt x="3073" y="1033"/>
                  </a:lnTo>
                  <a:lnTo>
                    <a:pt x="3092" y="1073"/>
                  </a:lnTo>
                  <a:lnTo>
                    <a:pt x="3109" y="1110"/>
                  </a:lnTo>
                  <a:lnTo>
                    <a:pt x="3121" y="1146"/>
                  </a:lnTo>
                  <a:lnTo>
                    <a:pt x="3130" y="1181"/>
                  </a:lnTo>
                  <a:lnTo>
                    <a:pt x="3133" y="1214"/>
                  </a:lnTo>
                  <a:lnTo>
                    <a:pt x="3132" y="1244"/>
                  </a:lnTo>
                  <a:lnTo>
                    <a:pt x="2974" y="1222"/>
                  </a:lnTo>
                  <a:lnTo>
                    <a:pt x="2967" y="1209"/>
                  </a:lnTo>
                  <a:lnTo>
                    <a:pt x="2947" y="1175"/>
                  </a:lnTo>
                  <a:lnTo>
                    <a:pt x="2915" y="1121"/>
                  </a:lnTo>
                  <a:lnTo>
                    <a:pt x="2871" y="1052"/>
                  </a:lnTo>
                  <a:lnTo>
                    <a:pt x="2845" y="1013"/>
                  </a:lnTo>
                  <a:lnTo>
                    <a:pt x="2817" y="971"/>
                  </a:lnTo>
                  <a:lnTo>
                    <a:pt x="2787" y="926"/>
                  </a:lnTo>
                  <a:lnTo>
                    <a:pt x="2755" y="881"/>
                  </a:lnTo>
                  <a:lnTo>
                    <a:pt x="2720" y="833"/>
                  </a:lnTo>
                  <a:lnTo>
                    <a:pt x="2683" y="785"/>
                  </a:lnTo>
                  <a:lnTo>
                    <a:pt x="2645" y="737"/>
                  </a:lnTo>
                  <a:lnTo>
                    <a:pt x="2604" y="687"/>
                  </a:lnTo>
                  <a:lnTo>
                    <a:pt x="2563" y="639"/>
                  </a:lnTo>
                  <a:lnTo>
                    <a:pt x="2521" y="591"/>
                  </a:lnTo>
                  <a:lnTo>
                    <a:pt x="2476" y="544"/>
                  </a:lnTo>
                  <a:lnTo>
                    <a:pt x="2432" y="500"/>
                  </a:lnTo>
                  <a:lnTo>
                    <a:pt x="2386" y="456"/>
                  </a:lnTo>
                  <a:lnTo>
                    <a:pt x="2339" y="415"/>
                  </a:lnTo>
                  <a:lnTo>
                    <a:pt x="2291" y="378"/>
                  </a:lnTo>
                  <a:lnTo>
                    <a:pt x="2243" y="343"/>
                  </a:lnTo>
                  <a:lnTo>
                    <a:pt x="2195" y="312"/>
                  </a:lnTo>
                  <a:lnTo>
                    <a:pt x="2145" y="286"/>
                  </a:lnTo>
                  <a:lnTo>
                    <a:pt x="2097" y="264"/>
                  </a:lnTo>
                  <a:lnTo>
                    <a:pt x="2047" y="247"/>
                  </a:lnTo>
                  <a:lnTo>
                    <a:pt x="1997" y="235"/>
                  </a:lnTo>
                  <a:lnTo>
                    <a:pt x="1949" y="229"/>
                  </a:lnTo>
                  <a:lnTo>
                    <a:pt x="1900" y="229"/>
                  </a:lnTo>
                  <a:lnTo>
                    <a:pt x="1852" y="237"/>
                  </a:lnTo>
                  <a:lnTo>
                    <a:pt x="1839" y="235"/>
                  </a:lnTo>
                  <a:lnTo>
                    <a:pt x="1807" y="233"/>
                  </a:lnTo>
                  <a:lnTo>
                    <a:pt x="1782" y="232"/>
                  </a:lnTo>
                  <a:lnTo>
                    <a:pt x="1754" y="230"/>
                  </a:lnTo>
                  <a:lnTo>
                    <a:pt x="1721" y="230"/>
                  </a:lnTo>
                  <a:lnTo>
                    <a:pt x="1684" y="232"/>
                  </a:lnTo>
                  <a:lnTo>
                    <a:pt x="1643" y="233"/>
                  </a:lnTo>
                  <a:lnTo>
                    <a:pt x="1600" y="235"/>
                  </a:lnTo>
                  <a:lnTo>
                    <a:pt x="1553" y="240"/>
                  </a:lnTo>
                  <a:lnTo>
                    <a:pt x="1503" y="247"/>
                  </a:lnTo>
                  <a:lnTo>
                    <a:pt x="1450" y="255"/>
                  </a:lnTo>
                  <a:lnTo>
                    <a:pt x="1395" y="266"/>
                  </a:lnTo>
                  <a:lnTo>
                    <a:pt x="1339" y="279"/>
                  </a:lnTo>
                  <a:lnTo>
                    <a:pt x="1281" y="295"/>
                  </a:lnTo>
                  <a:lnTo>
                    <a:pt x="1221" y="314"/>
                  </a:lnTo>
                  <a:lnTo>
                    <a:pt x="1160" y="336"/>
                  </a:lnTo>
                  <a:lnTo>
                    <a:pt x="1098" y="362"/>
                  </a:lnTo>
                  <a:lnTo>
                    <a:pt x="1036" y="390"/>
                  </a:lnTo>
                  <a:lnTo>
                    <a:pt x="974" y="424"/>
                  </a:lnTo>
                  <a:lnTo>
                    <a:pt x="911" y="461"/>
                  </a:lnTo>
                  <a:lnTo>
                    <a:pt x="849" y="502"/>
                  </a:lnTo>
                  <a:lnTo>
                    <a:pt x="788" y="548"/>
                  </a:lnTo>
                  <a:lnTo>
                    <a:pt x="727" y="599"/>
                  </a:lnTo>
                  <a:lnTo>
                    <a:pt x="668" y="655"/>
                  </a:lnTo>
                  <a:lnTo>
                    <a:pt x="610" y="717"/>
                  </a:lnTo>
                  <a:lnTo>
                    <a:pt x="554" y="783"/>
                  </a:lnTo>
                  <a:lnTo>
                    <a:pt x="501" y="856"/>
                  </a:lnTo>
                  <a:lnTo>
                    <a:pt x="449" y="934"/>
                  </a:lnTo>
                  <a:lnTo>
                    <a:pt x="400" y="1018"/>
                  </a:lnTo>
                  <a:lnTo>
                    <a:pt x="354" y="1110"/>
                  </a:lnTo>
                  <a:lnTo>
                    <a:pt x="0" y="113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4487760" y="5194440"/>
              <a:ext cx="1284480" cy="523800"/>
            </a:xfrm>
            <a:custGeom>
              <a:avLst/>
              <a:gdLst/>
              <a:ahLst/>
              <a:rect l="l" t="t" r="r" b="b"/>
              <a:pathLst>
                <a:path w="3233" h="1321">
                  <a:moveTo>
                    <a:pt x="1383" y="37"/>
                  </a:moveTo>
                  <a:lnTo>
                    <a:pt x="1310" y="57"/>
                  </a:lnTo>
                  <a:lnTo>
                    <a:pt x="1238" y="80"/>
                  </a:lnTo>
                  <a:lnTo>
                    <a:pt x="1167" y="108"/>
                  </a:lnTo>
                  <a:lnTo>
                    <a:pt x="1097" y="139"/>
                  </a:lnTo>
                  <a:lnTo>
                    <a:pt x="1030" y="172"/>
                  </a:lnTo>
                  <a:lnTo>
                    <a:pt x="966" y="208"/>
                  </a:lnTo>
                  <a:lnTo>
                    <a:pt x="902" y="247"/>
                  </a:lnTo>
                  <a:lnTo>
                    <a:pt x="840" y="288"/>
                  </a:lnTo>
                  <a:lnTo>
                    <a:pt x="781" y="330"/>
                  </a:lnTo>
                  <a:lnTo>
                    <a:pt x="722" y="373"/>
                  </a:lnTo>
                  <a:lnTo>
                    <a:pt x="666" y="419"/>
                  </a:lnTo>
                  <a:lnTo>
                    <a:pt x="613" y="465"/>
                  </a:lnTo>
                  <a:lnTo>
                    <a:pt x="561" y="511"/>
                  </a:lnTo>
                  <a:lnTo>
                    <a:pt x="511" y="558"/>
                  </a:lnTo>
                  <a:lnTo>
                    <a:pt x="464" y="605"/>
                  </a:lnTo>
                  <a:lnTo>
                    <a:pt x="419" y="652"/>
                  </a:lnTo>
                  <a:lnTo>
                    <a:pt x="376" y="699"/>
                  </a:lnTo>
                  <a:lnTo>
                    <a:pt x="335" y="744"/>
                  </a:lnTo>
                  <a:lnTo>
                    <a:pt x="296" y="790"/>
                  </a:lnTo>
                  <a:lnTo>
                    <a:pt x="262" y="832"/>
                  </a:lnTo>
                  <a:lnTo>
                    <a:pt x="228" y="874"/>
                  </a:lnTo>
                  <a:lnTo>
                    <a:pt x="197" y="914"/>
                  </a:lnTo>
                  <a:lnTo>
                    <a:pt x="168" y="953"/>
                  </a:lnTo>
                  <a:lnTo>
                    <a:pt x="142" y="989"/>
                  </a:lnTo>
                  <a:lnTo>
                    <a:pt x="99" y="1051"/>
                  </a:lnTo>
                  <a:lnTo>
                    <a:pt x="65" y="1100"/>
                  </a:lnTo>
                  <a:lnTo>
                    <a:pt x="44" y="1134"/>
                  </a:lnTo>
                  <a:lnTo>
                    <a:pt x="34" y="1150"/>
                  </a:lnTo>
                  <a:lnTo>
                    <a:pt x="0" y="1208"/>
                  </a:lnTo>
                  <a:lnTo>
                    <a:pt x="443" y="1181"/>
                  </a:lnTo>
                  <a:lnTo>
                    <a:pt x="452" y="1161"/>
                  </a:lnTo>
                  <a:lnTo>
                    <a:pt x="496" y="1073"/>
                  </a:lnTo>
                  <a:lnTo>
                    <a:pt x="544" y="991"/>
                  </a:lnTo>
                  <a:lnTo>
                    <a:pt x="593" y="915"/>
                  </a:lnTo>
                  <a:lnTo>
                    <a:pt x="645" y="846"/>
                  </a:lnTo>
                  <a:lnTo>
                    <a:pt x="699" y="781"/>
                  </a:lnTo>
                  <a:lnTo>
                    <a:pt x="755" y="722"/>
                  </a:lnTo>
                  <a:lnTo>
                    <a:pt x="812" y="667"/>
                  </a:lnTo>
                  <a:lnTo>
                    <a:pt x="871" y="618"/>
                  </a:lnTo>
                  <a:lnTo>
                    <a:pt x="930" y="573"/>
                  </a:lnTo>
                  <a:lnTo>
                    <a:pt x="991" y="532"/>
                  </a:lnTo>
                  <a:lnTo>
                    <a:pt x="1050" y="496"/>
                  </a:lnTo>
                  <a:lnTo>
                    <a:pt x="1111" y="464"/>
                  </a:lnTo>
                  <a:lnTo>
                    <a:pt x="1172" y="435"/>
                  </a:lnTo>
                  <a:lnTo>
                    <a:pt x="1231" y="410"/>
                  </a:lnTo>
                  <a:lnTo>
                    <a:pt x="1291" y="388"/>
                  </a:lnTo>
                  <a:lnTo>
                    <a:pt x="1349" y="369"/>
                  </a:lnTo>
                  <a:lnTo>
                    <a:pt x="1405" y="353"/>
                  </a:lnTo>
                  <a:lnTo>
                    <a:pt x="1461" y="341"/>
                  </a:lnTo>
                  <a:lnTo>
                    <a:pt x="1515" y="330"/>
                  </a:lnTo>
                  <a:lnTo>
                    <a:pt x="1565" y="321"/>
                  </a:lnTo>
                  <a:lnTo>
                    <a:pt x="1614" y="315"/>
                  </a:lnTo>
                  <a:lnTo>
                    <a:pt x="1661" y="310"/>
                  </a:lnTo>
                  <a:lnTo>
                    <a:pt x="1703" y="306"/>
                  </a:lnTo>
                  <a:lnTo>
                    <a:pt x="1743" y="304"/>
                  </a:lnTo>
                  <a:lnTo>
                    <a:pt x="1780" y="302"/>
                  </a:lnTo>
                  <a:lnTo>
                    <a:pt x="1813" y="302"/>
                  </a:lnTo>
                  <a:lnTo>
                    <a:pt x="1841" y="304"/>
                  </a:lnTo>
                  <a:lnTo>
                    <a:pt x="1865" y="304"/>
                  </a:lnTo>
                  <a:lnTo>
                    <a:pt x="1898" y="306"/>
                  </a:lnTo>
                  <a:lnTo>
                    <a:pt x="1912" y="307"/>
                  </a:lnTo>
                  <a:lnTo>
                    <a:pt x="1958" y="301"/>
                  </a:lnTo>
                  <a:lnTo>
                    <a:pt x="2005" y="301"/>
                  </a:lnTo>
                  <a:lnTo>
                    <a:pt x="2052" y="307"/>
                  </a:lnTo>
                  <a:lnTo>
                    <a:pt x="2101" y="319"/>
                  </a:lnTo>
                  <a:lnTo>
                    <a:pt x="2148" y="336"/>
                  </a:lnTo>
                  <a:lnTo>
                    <a:pt x="2195" y="357"/>
                  </a:lnTo>
                  <a:lnTo>
                    <a:pt x="2243" y="383"/>
                  </a:lnTo>
                  <a:lnTo>
                    <a:pt x="2291" y="413"/>
                  </a:lnTo>
                  <a:lnTo>
                    <a:pt x="2337" y="446"/>
                  </a:lnTo>
                  <a:lnTo>
                    <a:pt x="2384" y="484"/>
                  </a:lnTo>
                  <a:lnTo>
                    <a:pt x="2428" y="523"/>
                  </a:lnTo>
                  <a:lnTo>
                    <a:pt x="2473" y="564"/>
                  </a:lnTo>
                  <a:lnTo>
                    <a:pt x="2518" y="609"/>
                  </a:lnTo>
                  <a:lnTo>
                    <a:pt x="2560" y="654"/>
                  </a:lnTo>
                  <a:lnTo>
                    <a:pt x="2602" y="701"/>
                  </a:lnTo>
                  <a:lnTo>
                    <a:pt x="2642" y="748"/>
                  </a:lnTo>
                  <a:lnTo>
                    <a:pt x="2682" y="796"/>
                  </a:lnTo>
                  <a:lnTo>
                    <a:pt x="2719" y="843"/>
                  </a:lnTo>
                  <a:lnTo>
                    <a:pt x="2755" y="891"/>
                  </a:lnTo>
                  <a:lnTo>
                    <a:pt x="2789" y="936"/>
                  </a:lnTo>
                  <a:lnTo>
                    <a:pt x="2851" y="1025"/>
                  </a:lnTo>
                  <a:lnTo>
                    <a:pt x="2904" y="1105"/>
                  </a:lnTo>
                  <a:lnTo>
                    <a:pt x="2946" y="1173"/>
                  </a:lnTo>
                  <a:lnTo>
                    <a:pt x="2980" y="1227"/>
                  </a:lnTo>
                  <a:lnTo>
                    <a:pt x="3000" y="1261"/>
                  </a:lnTo>
                  <a:lnTo>
                    <a:pt x="3008" y="1275"/>
                  </a:lnTo>
                  <a:lnTo>
                    <a:pt x="3017" y="1291"/>
                  </a:lnTo>
                  <a:lnTo>
                    <a:pt x="3228" y="1321"/>
                  </a:lnTo>
                  <a:lnTo>
                    <a:pt x="3232" y="1285"/>
                  </a:lnTo>
                  <a:lnTo>
                    <a:pt x="3233" y="1254"/>
                  </a:lnTo>
                  <a:lnTo>
                    <a:pt x="3231" y="1221"/>
                  </a:lnTo>
                  <a:lnTo>
                    <a:pt x="3223" y="1186"/>
                  </a:lnTo>
                  <a:lnTo>
                    <a:pt x="3212" y="1150"/>
                  </a:lnTo>
                  <a:lnTo>
                    <a:pt x="3197" y="1113"/>
                  </a:lnTo>
                  <a:lnTo>
                    <a:pt x="3180" y="1073"/>
                  </a:lnTo>
                  <a:lnTo>
                    <a:pt x="3157" y="1033"/>
                  </a:lnTo>
                  <a:lnTo>
                    <a:pt x="3134" y="993"/>
                  </a:lnTo>
                  <a:lnTo>
                    <a:pt x="3106" y="953"/>
                  </a:lnTo>
                  <a:lnTo>
                    <a:pt x="3078" y="910"/>
                  </a:lnTo>
                  <a:lnTo>
                    <a:pt x="3047" y="868"/>
                  </a:lnTo>
                  <a:lnTo>
                    <a:pt x="3015" y="826"/>
                  </a:lnTo>
                  <a:lnTo>
                    <a:pt x="2980" y="785"/>
                  </a:lnTo>
                  <a:lnTo>
                    <a:pt x="2944" y="743"/>
                  </a:lnTo>
                  <a:lnTo>
                    <a:pt x="2908" y="702"/>
                  </a:lnTo>
                  <a:lnTo>
                    <a:pt x="2871" y="661"/>
                  </a:lnTo>
                  <a:lnTo>
                    <a:pt x="2796" y="582"/>
                  </a:lnTo>
                  <a:lnTo>
                    <a:pt x="2722" y="506"/>
                  </a:lnTo>
                  <a:lnTo>
                    <a:pt x="2650" y="438"/>
                  </a:lnTo>
                  <a:lnTo>
                    <a:pt x="2584" y="374"/>
                  </a:lnTo>
                  <a:lnTo>
                    <a:pt x="2524" y="321"/>
                  </a:lnTo>
                  <a:lnTo>
                    <a:pt x="2474" y="276"/>
                  </a:lnTo>
                  <a:lnTo>
                    <a:pt x="2436" y="243"/>
                  </a:lnTo>
                  <a:lnTo>
                    <a:pt x="2412" y="223"/>
                  </a:lnTo>
                  <a:lnTo>
                    <a:pt x="2381" y="203"/>
                  </a:lnTo>
                  <a:lnTo>
                    <a:pt x="2349" y="186"/>
                  </a:lnTo>
                  <a:lnTo>
                    <a:pt x="2318" y="167"/>
                  </a:lnTo>
                  <a:lnTo>
                    <a:pt x="2286" y="151"/>
                  </a:lnTo>
                  <a:lnTo>
                    <a:pt x="2253" y="135"/>
                  </a:lnTo>
                  <a:lnTo>
                    <a:pt x="2222" y="120"/>
                  </a:lnTo>
                  <a:lnTo>
                    <a:pt x="2190" y="106"/>
                  </a:lnTo>
                  <a:lnTo>
                    <a:pt x="2158" y="94"/>
                  </a:lnTo>
                  <a:lnTo>
                    <a:pt x="2127" y="82"/>
                  </a:lnTo>
                  <a:lnTo>
                    <a:pt x="2094" y="69"/>
                  </a:lnTo>
                  <a:lnTo>
                    <a:pt x="2062" y="59"/>
                  </a:lnTo>
                  <a:lnTo>
                    <a:pt x="2030" y="49"/>
                  </a:lnTo>
                  <a:lnTo>
                    <a:pt x="1998" y="41"/>
                  </a:lnTo>
                  <a:lnTo>
                    <a:pt x="1967" y="33"/>
                  </a:lnTo>
                  <a:lnTo>
                    <a:pt x="1934" y="26"/>
                  </a:lnTo>
                  <a:lnTo>
                    <a:pt x="1902" y="20"/>
                  </a:lnTo>
                  <a:lnTo>
                    <a:pt x="1870" y="13"/>
                  </a:lnTo>
                  <a:lnTo>
                    <a:pt x="1837" y="10"/>
                  </a:lnTo>
                  <a:lnTo>
                    <a:pt x="1805" y="6"/>
                  </a:lnTo>
                  <a:lnTo>
                    <a:pt x="1773" y="3"/>
                  </a:lnTo>
                  <a:lnTo>
                    <a:pt x="1741" y="1"/>
                  </a:lnTo>
                  <a:lnTo>
                    <a:pt x="1708" y="0"/>
                  </a:lnTo>
                  <a:lnTo>
                    <a:pt x="1676" y="0"/>
                  </a:lnTo>
                  <a:lnTo>
                    <a:pt x="1644" y="1"/>
                  </a:lnTo>
                  <a:lnTo>
                    <a:pt x="1610" y="2"/>
                  </a:lnTo>
                  <a:lnTo>
                    <a:pt x="1578" y="5"/>
                  </a:lnTo>
                  <a:lnTo>
                    <a:pt x="1546" y="7"/>
                  </a:lnTo>
                  <a:lnTo>
                    <a:pt x="1513" y="12"/>
                  </a:lnTo>
                  <a:lnTo>
                    <a:pt x="1481" y="17"/>
                  </a:lnTo>
                  <a:lnTo>
                    <a:pt x="1449" y="22"/>
                  </a:lnTo>
                  <a:lnTo>
                    <a:pt x="1415" y="29"/>
                  </a:lnTo>
                  <a:lnTo>
                    <a:pt x="1383" y="37"/>
                  </a:lnTo>
                  <a:close/>
                  <a:moveTo>
                    <a:pt x="1400" y="105"/>
                  </a:moveTo>
                  <a:lnTo>
                    <a:pt x="1431" y="99"/>
                  </a:lnTo>
                  <a:lnTo>
                    <a:pt x="1462" y="93"/>
                  </a:lnTo>
                  <a:lnTo>
                    <a:pt x="1492" y="87"/>
                  </a:lnTo>
                  <a:lnTo>
                    <a:pt x="1523" y="82"/>
                  </a:lnTo>
                  <a:lnTo>
                    <a:pt x="1554" y="78"/>
                  </a:lnTo>
                  <a:lnTo>
                    <a:pt x="1584" y="75"/>
                  </a:lnTo>
                  <a:lnTo>
                    <a:pt x="1615" y="73"/>
                  </a:lnTo>
                  <a:lnTo>
                    <a:pt x="1646" y="72"/>
                  </a:lnTo>
                  <a:lnTo>
                    <a:pt x="1676" y="72"/>
                  </a:lnTo>
                  <a:lnTo>
                    <a:pt x="1707" y="72"/>
                  </a:lnTo>
                  <a:lnTo>
                    <a:pt x="1738" y="73"/>
                  </a:lnTo>
                  <a:lnTo>
                    <a:pt x="1768" y="74"/>
                  </a:lnTo>
                  <a:lnTo>
                    <a:pt x="1799" y="77"/>
                  </a:lnTo>
                  <a:lnTo>
                    <a:pt x="1829" y="80"/>
                  </a:lnTo>
                  <a:lnTo>
                    <a:pt x="1860" y="84"/>
                  </a:lnTo>
                  <a:lnTo>
                    <a:pt x="1890" y="89"/>
                  </a:lnTo>
                  <a:lnTo>
                    <a:pt x="1921" y="95"/>
                  </a:lnTo>
                  <a:lnTo>
                    <a:pt x="1950" y="103"/>
                  </a:lnTo>
                  <a:lnTo>
                    <a:pt x="1981" y="110"/>
                  </a:lnTo>
                  <a:lnTo>
                    <a:pt x="2011" y="118"/>
                  </a:lnTo>
                  <a:lnTo>
                    <a:pt x="2041" y="127"/>
                  </a:lnTo>
                  <a:lnTo>
                    <a:pt x="2072" y="137"/>
                  </a:lnTo>
                  <a:lnTo>
                    <a:pt x="2102" y="147"/>
                  </a:lnTo>
                  <a:lnTo>
                    <a:pt x="2132" y="159"/>
                  </a:lnTo>
                  <a:lnTo>
                    <a:pt x="2162" y="171"/>
                  </a:lnTo>
                  <a:lnTo>
                    <a:pt x="2191" y="185"/>
                  </a:lnTo>
                  <a:lnTo>
                    <a:pt x="2221" y="198"/>
                  </a:lnTo>
                  <a:lnTo>
                    <a:pt x="2252" y="213"/>
                  </a:lnTo>
                  <a:lnTo>
                    <a:pt x="2281" y="229"/>
                  </a:lnTo>
                  <a:lnTo>
                    <a:pt x="2311" y="245"/>
                  </a:lnTo>
                  <a:lnTo>
                    <a:pt x="2340" y="263"/>
                  </a:lnTo>
                  <a:lnTo>
                    <a:pt x="2370" y="280"/>
                  </a:lnTo>
                  <a:lnTo>
                    <a:pt x="2415" y="319"/>
                  </a:lnTo>
                  <a:lnTo>
                    <a:pt x="2466" y="363"/>
                  </a:lnTo>
                  <a:lnTo>
                    <a:pt x="2522" y="415"/>
                  </a:lnTo>
                  <a:lnTo>
                    <a:pt x="2581" y="471"/>
                  </a:lnTo>
                  <a:lnTo>
                    <a:pt x="2645" y="532"/>
                  </a:lnTo>
                  <a:lnTo>
                    <a:pt x="2709" y="596"/>
                  </a:lnTo>
                  <a:lnTo>
                    <a:pt x="2774" y="663"/>
                  </a:lnTo>
                  <a:lnTo>
                    <a:pt x="2837" y="732"/>
                  </a:lnTo>
                  <a:lnTo>
                    <a:pt x="2868" y="766"/>
                  </a:lnTo>
                  <a:lnTo>
                    <a:pt x="2898" y="801"/>
                  </a:lnTo>
                  <a:lnTo>
                    <a:pt x="2928" y="836"/>
                  </a:lnTo>
                  <a:lnTo>
                    <a:pt x="2956" y="871"/>
                  </a:lnTo>
                  <a:lnTo>
                    <a:pt x="2982" y="905"/>
                  </a:lnTo>
                  <a:lnTo>
                    <a:pt x="3008" y="940"/>
                  </a:lnTo>
                  <a:lnTo>
                    <a:pt x="3033" y="974"/>
                  </a:lnTo>
                  <a:lnTo>
                    <a:pt x="3056" y="1007"/>
                  </a:lnTo>
                  <a:lnTo>
                    <a:pt x="3077" y="1039"/>
                  </a:lnTo>
                  <a:lnTo>
                    <a:pt x="3095" y="1070"/>
                  </a:lnTo>
                  <a:lnTo>
                    <a:pt x="3111" y="1101"/>
                  </a:lnTo>
                  <a:lnTo>
                    <a:pt x="3126" y="1131"/>
                  </a:lnTo>
                  <a:lnTo>
                    <a:pt x="3139" y="1161"/>
                  </a:lnTo>
                  <a:lnTo>
                    <a:pt x="3147" y="1188"/>
                  </a:lnTo>
                  <a:lnTo>
                    <a:pt x="3155" y="1214"/>
                  </a:lnTo>
                  <a:lnTo>
                    <a:pt x="3159" y="1239"/>
                  </a:lnTo>
                  <a:lnTo>
                    <a:pt x="3129" y="1235"/>
                  </a:lnTo>
                  <a:lnTo>
                    <a:pt x="3103" y="1232"/>
                  </a:lnTo>
                  <a:lnTo>
                    <a:pt x="3079" y="1228"/>
                  </a:lnTo>
                  <a:lnTo>
                    <a:pt x="3062" y="1226"/>
                  </a:lnTo>
                  <a:lnTo>
                    <a:pt x="3044" y="1196"/>
                  </a:lnTo>
                  <a:lnTo>
                    <a:pt x="3016" y="1147"/>
                  </a:lnTo>
                  <a:lnTo>
                    <a:pt x="2976" y="1085"/>
                  </a:lnTo>
                  <a:lnTo>
                    <a:pt x="2928" y="1010"/>
                  </a:lnTo>
                  <a:lnTo>
                    <a:pt x="2900" y="969"/>
                  </a:lnTo>
                  <a:lnTo>
                    <a:pt x="2871" y="926"/>
                  </a:lnTo>
                  <a:lnTo>
                    <a:pt x="2839" y="882"/>
                  </a:lnTo>
                  <a:lnTo>
                    <a:pt x="2806" y="836"/>
                  </a:lnTo>
                  <a:lnTo>
                    <a:pt x="2770" y="790"/>
                  </a:lnTo>
                  <a:lnTo>
                    <a:pt x="2734" y="743"/>
                  </a:lnTo>
                  <a:lnTo>
                    <a:pt x="2695" y="696"/>
                  </a:lnTo>
                  <a:lnTo>
                    <a:pt x="2656" y="649"/>
                  </a:lnTo>
                  <a:lnTo>
                    <a:pt x="2614" y="603"/>
                  </a:lnTo>
                  <a:lnTo>
                    <a:pt x="2571" y="558"/>
                  </a:lnTo>
                  <a:lnTo>
                    <a:pt x="2528" y="515"/>
                  </a:lnTo>
                  <a:lnTo>
                    <a:pt x="2483" y="472"/>
                  </a:lnTo>
                  <a:lnTo>
                    <a:pt x="2438" y="433"/>
                  </a:lnTo>
                  <a:lnTo>
                    <a:pt x="2392" y="395"/>
                  </a:lnTo>
                  <a:lnTo>
                    <a:pt x="2345" y="361"/>
                  </a:lnTo>
                  <a:lnTo>
                    <a:pt x="2297" y="330"/>
                  </a:lnTo>
                  <a:lnTo>
                    <a:pt x="2250" y="301"/>
                  </a:lnTo>
                  <a:lnTo>
                    <a:pt x="2201" y="278"/>
                  </a:lnTo>
                  <a:lnTo>
                    <a:pt x="2153" y="258"/>
                  </a:lnTo>
                  <a:lnTo>
                    <a:pt x="2103" y="243"/>
                  </a:lnTo>
                  <a:lnTo>
                    <a:pt x="2055" y="233"/>
                  </a:lnTo>
                  <a:lnTo>
                    <a:pt x="2006" y="229"/>
                  </a:lnTo>
                  <a:lnTo>
                    <a:pt x="1958" y="230"/>
                  </a:lnTo>
                  <a:lnTo>
                    <a:pt x="1909" y="238"/>
                  </a:lnTo>
                  <a:lnTo>
                    <a:pt x="1897" y="237"/>
                  </a:lnTo>
                  <a:lnTo>
                    <a:pt x="1865" y="234"/>
                  </a:lnTo>
                  <a:lnTo>
                    <a:pt x="1840" y="233"/>
                  </a:lnTo>
                  <a:lnTo>
                    <a:pt x="1811" y="232"/>
                  </a:lnTo>
                  <a:lnTo>
                    <a:pt x="1779" y="232"/>
                  </a:lnTo>
                  <a:lnTo>
                    <a:pt x="1742" y="233"/>
                  </a:lnTo>
                  <a:lnTo>
                    <a:pt x="1701" y="235"/>
                  </a:lnTo>
                  <a:lnTo>
                    <a:pt x="1656" y="239"/>
                  </a:lnTo>
                  <a:lnTo>
                    <a:pt x="1609" y="244"/>
                  </a:lnTo>
                  <a:lnTo>
                    <a:pt x="1559" y="250"/>
                  </a:lnTo>
                  <a:lnTo>
                    <a:pt x="1506" y="259"/>
                  </a:lnTo>
                  <a:lnTo>
                    <a:pt x="1451" y="270"/>
                  </a:lnTo>
                  <a:lnTo>
                    <a:pt x="1394" y="284"/>
                  </a:lnTo>
                  <a:lnTo>
                    <a:pt x="1336" y="300"/>
                  </a:lnTo>
                  <a:lnTo>
                    <a:pt x="1275" y="320"/>
                  </a:lnTo>
                  <a:lnTo>
                    <a:pt x="1214" y="342"/>
                  </a:lnTo>
                  <a:lnTo>
                    <a:pt x="1152" y="367"/>
                  </a:lnTo>
                  <a:lnTo>
                    <a:pt x="1089" y="397"/>
                  </a:lnTo>
                  <a:lnTo>
                    <a:pt x="1025" y="430"/>
                  </a:lnTo>
                  <a:lnTo>
                    <a:pt x="963" y="466"/>
                  </a:lnTo>
                  <a:lnTo>
                    <a:pt x="900" y="508"/>
                  </a:lnTo>
                  <a:lnTo>
                    <a:pt x="838" y="554"/>
                  </a:lnTo>
                  <a:lnTo>
                    <a:pt x="777" y="605"/>
                  </a:lnTo>
                  <a:lnTo>
                    <a:pt x="717" y="661"/>
                  </a:lnTo>
                  <a:lnTo>
                    <a:pt x="659" y="722"/>
                  </a:lnTo>
                  <a:lnTo>
                    <a:pt x="602" y="788"/>
                  </a:lnTo>
                  <a:lnTo>
                    <a:pt x="547" y="859"/>
                  </a:lnTo>
                  <a:lnTo>
                    <a:pt x="495" y="938"/>
                  </a:lnTo>
                  <a:lnTo>
                    <a:pt x="445" y="1022"/>
                  </a:lnTo>
                  <a:lnTo>
                    <a:pt x="398" y="1111"/>
                  </a:lnTo>
                  <a:lnTo>
                    <a:pt x="383" y="1113"/>
                  </a:lnTo>
                  <a:lnTo>
                    <a:pt x="357" y="1114"/>
                  </a:lnTo>
                  <a:lnTo>
                    <a:pt x="325" y="1116"/>
                  </a:lnTo>
                  <a:lnTo>
                    <a:pt x="288" y="1119"/>
                  </a:lnTo>
                  <a:lnTo>
                    <a:pt x="248" y="1121"/>
                  </a:lnTo>
                  <a:lnTo>
                    <a:pt x="207" y="1124"/>
                  </a:lnTo>
                  <a:lnTo>
                    <a:pt x="168" y="1126"/>
                  </a:lnTo>
                  <a:lnTo>
                    <a:pt x="134" y="1129"/>
                  </a:lnTo>
                  <a:lnTo>
                    <a:pt x="162" y="1087"/>
                  </a:lnTo>
                  <a:lnTo>
                    <a:pt x="198" y="1034"/>
                  </a:lnTo>
                  <a:lnTo>
                    <a:pt x="243" y="975"/>
                  </a:lnTo>
                  <a:lnTo>
                    <a:pt x="294" y="908"/>
                  </a:lnTo>
                  <a:lnTo>
                    <a:pt x="322" y="873"/>
                  </a:lnTo>
                  <a:lnTo>
                    <a:pt x="354" y="836"/>
                  </a:lnTo>
                  <a:lnTo>
                    <a:pt x="385" y="799"/>
                  </a:lnTo>
                  <a:lnTo>
                    <a:pt x="419" y="760"/>
                  </a:lnTo>
                  <a:lnTo>
                    <a:pt x="454" y="722"/>
                  </a:lnTo>
                  <a:lnTo>
                    <a:pt x="491" y="682"/>
                  </a:lnTo>
                  <a:lnTo>
                    <a:pt x="530" y="642"/>
                  </a:lnTo>
                  <a:lnTo>
                    <a:pt x="571" y="603"/>
                  </a:lnTo>
                  <a:lnTo>
                    <a:pt x="612" y="564"/>
                  </a:lnTo>
                  <a:lnTo>
                    <a:pt x="655" y="525"/>
                  </a:lnTo>
                  <a:lnTo>
                    <a:pt x="700" y="486"/>
                  </a:lnTo>
                  <a:lnTo>
                    <a:pt x="746" y="448"/>
                  </a:lnTo>
                  <a:lnTo>
                    <a:pt x="793" y="410"/>
                  </a:lnTo>
                  <a:lnTo>
                    <a:pt x="843" y="374"/>
                  </a:lnTo>
                  <a:lnTo>
                    <a:pt x="892" y="340"/>
                  </a:lnTo>
                  <a:lnTo>
                    <a:pt x="945" y="305"/>
                  </a:lnTo>
                  <a:lnTo>
                    <a:pt x="998" y="273"/>
                  </a:lnTo>
                  <a:lnTo>
                    <a:pt x="1051" y="243"/>
                  </a:lnTo>
                  <a:lnTo>
                    <a:pt x="1107" y="214"/>
                  </a:lnTo>
                  <a:lnTo>
                    <a:pt x="1163" y="187"/>
                  </a:lnTo>
                  <a:lnTo>
                    <a:pt x="1221" y="163"/>
                  </a:lnTo>
                  <a:lnTo>
                    <a:pt x="1280" y="141"/>
                  </a:lnTo>
                  <a:lnTo>
                    <a:pt x="1339" y="123"/>
                  </a:lnTo>
                  <a:lnTo>
                    <a:pt x="1400" y="10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4559400" y="5270400"/>
              <a:ext cx="1198440" cy="513000"/>
            </a:xfrm>
            <a:custGeom>
              <a:avLst/>
              <a:gdLst/>
              <a:ahLst/>
              <a:rect l="l" t="t" r="r" b="b"/>
              <a:pathLst>
                <a:path w="3020" h="1289">
                  <a:moveTo>
                    <a:pt x="0" y="1030"/>
                  </a:moveTo>
                  <a:lnTo>
                    <a:pt x="12" y="1011"/>
                  </a:lnTo>
                  <a:lnTo>
                    <a:pt x="43" y="962"/>
                  </a:lnTo>
                  <a:lnTo>
                    <a:pt x="66" y="927"/>
                  </a:lnTo>
                  <a:lnTo>
                    <a:pt x="95" y="886"/>
                  </a:lnTo>
                  <a:lnTo>
                    <a:pt x="128" y="840"/>
                  </a:lnTo>
                  <a:lnTo>
                    <a:pt x="167" y="791"/>
                  </a:lnTo>
                  <a:lnTo>
                    <a:pt x="209" y="737"/>
                  </a:lnTo>
                  <a:lnTo>
                    <a:pt x="256" y="680"/>
                  </a:lnTo>
                  <a:lnTo>
                    <a:pt x="308" y="622"/>
                  </a:lnTo>
                  <a:lnTo>
                    <a:pt x="364" y="562"/>
                  </a:lnTo>
                  <a:lnTo>
                    <a:pt x="425" y="503"/>
                  </a:lnTo>
                  <a:lnTo>
                    <a:pt x="490" y="442"/>
                  </a:lnTo>
                  <a:lnTo>
                    <a:pt x="558" y="382"/>
                  </a:lnTo>
                  <a:lnTo>
                    <a:pt x="630" y="325"/>
                  </a:lnTo>
                  <a:lnTo>
                    <a:pt x="707" y="269"/>
                  </a:lnTo>
                  <a:lnTo>
                    <a:pt x="786" y="217"/>
                  </a:lnTo>
                  <a:lnTo>
                    <a:pt x="870" y="169"/>
                  </a:lnTo>
                  <a:lnTo>
                    <a:pt x="957" y="126"/>
                  </a:lnTo>
                  <a:lnTo>
                    <a:pt x="1047" y="87"/>
                  </a:lnTo>
                  <a:lnTo>
                    <a:pt x="1140" y="55"/>
                  </a:lnTo>
                  <a:lnTo>
                    <a:pt x="1237" y="29"/>
                  </a:lnTo>
                  <a:lnTo>
                    <a:pt x="1338" y="11"/>
                  </a:lnTo>
                  <a:lnTo>
                    <a:pt x="1441" y="1"/>
                  </a:lnTo>
                  <a:lnTo>
                    <a:pt x="1546" y="0"/>
                  </a:lnTo>
                  <a:lnTo>
                    <a:pt x="1654" y="9"/>
                  </a:lnTo>
                  <a:lnTo>
                    <a:pt x="1766" y="29"/>
                  </a:lnTo>
                  <a:lnTo>
                    <a:pt x="1879" y="59"/>
                  </a:lnTo>
                  <a:lnTo>
                    <a:pt x="1996" y="102"/>
                  </a:lnTo>
                  <a:lnTo>
                    <a:pt x="2114" y="157"/>
                  </a:lnTo>
                  <a:lnTo>
                    <a:pt x="2236" y="226"/>
                  </a:lnTo>
                  <a:lnTo>
                    <a:pt x="2244" y="233"/>
                  </a:lnTo>
                  <a:lnTo>
                    <a:pt x="2270" y="258"/>
                  </a:lnTo>
                  <a:lnTo>
                    <a:pt x="2311" y="297"/>
                  </a:lnTo>
                  <a:lnTo>
                    <a:pt x="2363" y="348"/>
                  </a:lnTo>
                  <a:lnTo>
                    <a:pt x="2426" y="408"/>
                  </a:lnTo>
                  <a:lnTo>
                    <a:pt x="2494" y="479"/>
                  </a:lnTo>
                  <a:lnTo>
                    <a:pt x="2567" y="557"/>
                  </a:lnTo>
                  <a:lnTo>
                    <a:pt x="2642" y="639"/>
                  </a:lnTo>
                  <a:lnTo>
                    <a:pt x="2679" y="683"/>
                  </a:lnTo>
                  <a:lnTo>
                    <a:pt x="2716" y="726"/>
                  </a:lnTo>
                  <a:lnTo>
                    <a:pt x="2753" y="771"/>
                  </a:lnTo>
                  <a:lnTo>
                    <a:pt x="2788" y="815"/>
                  </a:lnTo>
                  <a:lnTo>
                    <a:pt x="2822" y="859"/>
                  </a:lnTo>
                  <a:lnTo>
                    <a:pt x="2854" y="903"/>
                  </a:lnTo>
                  <a:lnTo>
                    <a:pt x="2885" y="947"/>
                  </a:lnTo>
                  <a:lnTo>
                    <a:pt x="2914" y="990"/>
                  </a:lnTo>
                  <a:lnTo>
                    <a:pt x="2938" y="1034"/>
                  </a:lnTo>
                  <a:lnTo>
                    <a:pt x="2961" y="1075"/>
                  </a:lnTo>
                  <a:lnTo>
                    <a:pt x="2981" y="1114"/>
                  </a:lnTo>
                  <a:lnTo>
                    <a:pt x="2997" y="1153"/>
                  </a:lnTo>
                  <a:lnTo>
                    <a:pt x="3008" y="1190"/>
                  </a:lnTo>
                  <a:lnTo>
                    <a:pt x="3017" y="1226"/>
                  </a:lnTo>
                  <a:lnTo>
                    <a:pt x="3020" y="1258"/>
                  </a:lnTo>
                  <a:lnTo>
                    <a:pt x="3019" y="1289"/>
                  </a:lnTo>
                  <a:lnTo>
                    <a:pt x="2861" y="1267"/>
                  </a:lnTo>
                  <a:lnTo>
                    <a:pt x="2854" y="1255"/>
                  </a:lnTo>
                  <a:lnTo>
                    <a:pt x="2834" y="1220"/>
                  </a:lnTo>
                  <a:lnTo>
                    <a:pt x="2802" y="1166"/>
                  </a:lnTo>
                  <a:lnTo>
                    <a:pt x="2758" y="1097"/>
                  </a:lnTo>
                  <a:lnTo>
                    <a:pt x="2732" y="1057"/>
                  </a:lnTo>
                  <a:lnTo>
                    <a:pt x="2704" y="1015"/>
                  </a:lnTo>
                  <a:lnTo>
                    <a:pt x="2674" y="972"/>
                  </a:lnTo>
                  <a:lnTo>
                    <a:pt x="2642" y="926"/>
                  </a:lnTo>
                  <a:lnTo>
                    <a:pt x="2607" y="879"/>
                  </a:lnTo>
                  <a:lnTo>
                    <a:pt x="2570" y="830"/>
                  </a:lnTo>
                  <a:lnTo>
                    <a:pt x="2532" y="781"/>
                  </a:lnTo>
                  <a:lnTo>
                    <a:pt x="2491" y="732"/>
                  </a:lnTo>
                  <a:lnTo>
                    <a:pt x="2450" y="684"/>
                  </a:lnTo>
                  <a:lnTo>
                    <a:pt x="2408" y="635"/>
                  </a:lnTo>
                  <a:lnTo>
                    <a:pt x="2363" y="588"/>
                  </a:lnTo>
                  <a:lnTo>
                    <a:pt x="2319" y="544"/>
                  </a:lnTo>
                  <a:lnTo>
                    <a:pt x="2273" y="500"/>
                  </a:lnTo>
                  <a:lnTo>
                    <a:pt x="2226" y="461"/>
                  </a:lnTo>
                  <a:lnTo>
                    <a:pt x="2178" y="422"/>
                  </a:lnTo>
                  <a:lnTo>
                    <a:pt x="2130" y="387"/>
                  </a:lnTo>
                  <a:lnTo>
                    <a:pt x="2082" y="358"/>
                  </a:lnTo>
                  <a:lnTo>
                    <a:pt x="2032" y="330"/>
                  </a:lnTo>
                  <a:lnTo>
                    <a:pt x="1984" y="308"/>
                  </a:lnTo>
                  <a:lnTo>
                    <a:pt x="1934" y="292"/>
                  </a:lnTo>
                  <a:lnTo>
                    <a:pt x="1884" y="279"/>
                  </a:lnTo>
                  <a:lnTo>
                    <a:pt x="1836" y="273"/>
                  </a:lnTo>
                  <a:lnTo>
                    <a:pt x="1787" y="274"/>
                  </a:lnTo>
                  <a:lnTo>
                    <a:pt x="1739" y="281"/>
                  </a:lnTo>
                  <a:lnTo>
                    <a:pt x="1726" y="279"/>
                  </a:lnTo>
                  <a:lnTo>
                    <a:pt x="1694" y="277"/>
                  </a:lnTo>
                  <a:lnTo>
                    <a:pt x="1669" y="276"/>
                  </a:lnTo>
                  <a:lnTo>
                    <a:pt x="1641" y="276"/>
                  </a:lnTo>
                  <a:lnTo>
                    <a:pt x="1608" y="276"/>
                  </a:lnTo>
                  <a:lnTo>
                    <a:pt x="1571" y="276"/>
                  </a:lnTo>
                  <a:lnTo>
                    <a:pt x="1530" y="278"/>
                  </a:lnTo>
                  <a:lnTo>
                    <a:pt x="1487" y="281"/>
                  </a:lnTo>
                  <a:lnTo>
                    <a:pt x="1440" y="286"/>
                  </a:lnTo>
                  <a:lnTo>
                    <a:pt x="1390" y="292"/>
                  </a:lnTo>
                  <a:lnTo>
                    <a:pt x="1337" y="300"/>
                  </a:lnTo>
                  <a:lnTo>
                    <a:pt x="1282" y="310"/>
                  </a:lnTo>
                  <a:lnTo>
                    <a:pt x="1226" y="324"/>
                  </a:lnTo>
                  <a:lnTo>
                    <a:pt x="1168" y="340"/>
                  </a:lnTo>
                  <a:lnTo>
                    <a:pt x="1108" y="359"/>
                  </a:lnTo>
                  <a:lnTo>
                    <a:pt x="1047" y="381"/>
                  </a:lnTo>
                  <a:lnTo>
                    <a:pt x="985" y="406"/>
                  </a:lnTo>
                  <a:lnTo>
                    <a:pt x="923" y="436"/>
                  </a:lnTo>
                  <a:lnTo>
                    <a:pt x="861" y="468"/>
                  </a:lnTo>
                  <a:lnTo>
                    <a:pt x="798" y="505"/>
                  </a:lnTo>
                  <a:lnTo>
                    <a:pt x="736" y="547"/>
                  </a:lnTo>
                  <a:lnTo>
                    <a:pt x="675" y="593"/>
                  </a:lnTo>
                  <a:lnTo>
                    <a:pt x="614" y="644"/>
                  </a:lnTo>
                  <a:lnTo>
                    <a:pt x="555" y="700"/>
                  </a:lnTo>
                  <a:lnTo>
                    <a:pt x="497" y="761"/>
                  </a:lnTo>
                  <a:lnTo>
                    <a:pt x="441" y="828"/>
                  </a:lnTo>
                  <a:lnTo>
                    <a:pt x="388" y="900"/>
                  </a:lnTo>
                  <a:lnTo>
                    <a:pt x="336" y="979"/>
                  </a:lnTo>
                  <a:lnTo>
                    <a:pt x="287" y="1064"/>
                  </a:lnTo>
                  <a:lnTo>
                    <a:pt x="241" y="1155"/>
                  </a:lnTo>
                  <a:lnTo>
                    <a:pt x="0" y="103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4538520" y="5256360"/>
              <a:ext cx="1233720" cy="542880"/>
            </a:xfrm>
            <a:custGeom>
              <a:avLst/>
              <a:gdLst/>
              <a:ahLst/>
              <a:rect l="l" t="t" r="r" b="b"/>
              <a:pathLst>
                <a:path w="3104" h="1365">
                  <a:moveTo>
                    <a:pt x="1248" y="37"/>
                  </a:moveTo>
                  <a:lnTo>
                    <a:pt x="1178" y="56"/>
                  </a:lnTo>
                  <a:lnTo>
                    <a:pt x="1111" y="80"/>
                  </a:lnTo>
                  <a:lnTo>
                    <a:pt x="1045" y="104"/>
                  </a:lnTo>
                  <a:lnTo>
                    <a:pt x="982" y="133"/>
                  </a:lnTo>
                  <a:lnTo>
                    <a:pt x="920" y="164"/>
                  </a:lnTo>
                  <a:lnTo>
                    <a:pt x="860" y="196"/>
                  </a:lnTo>
                  <a:lnTo>
                    <a:pt x="801" y="232"/>
                  </a:lnTo>
                  <a:lnTo>
                    <a:pt x="745" y="269"/>
                  </a:lnTo>
                  <a:lnTo>
                    <a:pt x="690" y="308"/>
                  </a:lnTo>
                  <a:lnTo>
                    <a:pt x="637" y="348"/>
                  </a:lnTo>
                  <a:lnTo>
                    <a:pt x="586" y="389"/>
                  </a:lnTo>
                  <a:lnTo>
                    <a:pt x="537" y="430"/>
                  </a:lnTo>
                  <a:lnTo>
                    <a:pt x="490" y="472"/>
                  </a:lnTo>
                  <a:lnTo>
                    <a:pt x="446" y="515"/>
                  </a:lnTo>
                  <a:lnTo>
                    <a:pt x="402" y="557"/>
                  </a:lnTo>
                  <a:lnTo>
                    <a:pt x="361" y="600"/>
                  </a:lnTo>
                  <a:lnTo>
                    <a:pt x="323" y="642"/>
                  </a:lnTo>
                  <a:lnTo>
                    <a:pt x="287" y="683"/>
                  </a:lnTo>
                  <a:lnTo>
                    <a:pt x="252" y="724"/>
                  </a:lnTo>
                  <a:lnTo>
                    <a:pt x="220" y="762"/>
                  </a:lnTo>
                  <a:lnTo>
                    <a:pt x="190" y="801"/>
                  </a:lnTo>
                  <a:lnTo>
                    <a:pt x="162" y="836"/>
                  </a:lnTo>
                  <a:lnTo>
                    <a:pt x="138" y="870"/>
                  </a:lnTo>
                  <a:lnTo>
                    <a:pt x="114" y="902"/>
                  </a:lnTo>
                  <a:lnTo>
                    <a:pt x="76" y="958"/>
                  </a:lnTo>
                  <a:lnTo>
                    <a:pt x="46" y="1003"/>
                  </a:lnTo>
                  <a:lnTo>
                    <a:pt x="27" y="1033"/>
                  </a:lnTo>
                  <a:lnTo>
                    <a:pt x="18" y="1047"/>
                  </a:lnTo>
                  <a:lnTo>
                    <a:pt x="0" y="1080"/>
                  </a:lnTo>
                  <a:lnTo>
                    <a:pt x="306" y="1240"/>
                  </a:lnTo>
                  <a:lnTo>
                    <a:pt x="323" y="1206"/>
                  </a:lnTo>
                  <a:lnTo>
                    <a:pt x="367" y="1118"/>
                  </a:lnTo>
                  <a:lnTo>
                    <a:pt x="415" y="1036"/>
                  </a:lnTo>
                  <a:lnTo>
                    <a:pt x="464" y="961"/>
                  </a:lnTo>
                  <a:lnTo>
                    <a:pt x="516" y="890"/>
                  </a:lnTo>
                  <a:lnTo>
                    <a:pt x="570" y="825"/>
                  </a:lnTo>
                  <a:lnTo>
                    <a:pt x="626" y="766"/>
                  </a:lnTo>
                  <a:lnTo>
                    <a:pt x="683" y="712"/>
                  </a:lnTo>
                  <a:lnTo>
                    <a:pt x="742" y="663"/>
                  </a:lnTo>
                  <a:lnTo>
                    <a:pt x="801" y="618"/>
                  </a:lnTo>
                  <a:lnTo>
                    <a:pt x="862" y="577"/>
                  </a:lnTo>
                  <a:lnTo>
                    <a:pt x="921" y="541"/>
                  </a:lnTo>
                  <a:lnTo>
                    <a:pt x="982" y="509"/>
                  </a:lnTo>
                  <a:lnTo>
                    <a:pt x="1043" y="480"/>
                  </a:lnTo>
                  <a:lnTo>
                    <a:pt x="1102" y="454"/>
                  </a:lnTo>
                  <a:lnTo>
                    <a:pt x="1162" y="433"/>
                  </a:lnTo>
                  <a:lnTo>
                    <a:pt x="1220" y="415"/>
                  </a:lnTo>
                  <a:lnTo>
                    <a:pt x="1276" y="399"/>
                  </a:lnTo>
                  <a:lnTo>
                    <a:pt x="1332" y="385"/>
                  </a:lnTo>
                  <a:lnTo>
                    <a:pt x="1386" y="375"/>
                  </a:lnTo>
                  <a:lnTo>
                    <a:pt x="1436" y="366"/>
                  </a:lnTo>
                  <a:lnTo>
                    <a:pt x="1485" y="359"/>
                  </a:lnTo>
                  <a:lnTo>
                    <a:pt x="1532" y="354"/>
                  </a:lnTo>
                  <a:lnTo>
                    <a:pt x="1574" y="350"/>
                  </a:lnTo>
                  <a:lnTo>
                    <a:pt x="1614" y="349"/>
                  </a:lnTo>
                  <a:lnTo>
                    <a:pt x="1651" y="348"/>
                  </a:lnTo>
                  <a:lnTo>
                    <a:pt x="1684" y="348"/>
                  </a:lnTo>
                  <a:lnTo>
                    <a:pt x="1712" y="348"/>
                  </a:lnTo>
                  <a:lnTo>
                    <a:pt x="1736" y="349"/>
                  </a:lnTo>
                  <a:lnTo>
                    <a:pt x="1769" y="351"/>
                  </a:lnTo>
                  <a:lnTo>
                    <a:pt x="1783" y="353"/>
                  </a:lnTo>
                  <a:lnTo>
                    <a:pt x="1829" y="346"/>
                  </a:lnTo>
                  <a:lnTo>
                    <a:pt x="1876" y="345"/>
                  </a:lnTo>
                  <a:lnTo>
                    <a:pt x="1923" y="351"/>
                  </a:lnTo>
                  <a:lnTo>
                    <a:pt x="1972" y="364"/>
                  </a:lnTo>
                  <a:lnTo>
                    <a:pt x="2019" y="380"/>
                  </a:lnTo>
                  <a:lnTo>
                    <a:pt x="2066" y="401"/>
                  </a:lnTo>
                  <a:lnTo>
                    <a:pt x="2114" y="427"/>
                  </a:lnTo>
                  <a:lnTo>
                    <a:pt x="2162" y="458"/>
                  </a:lnTo>
                  <a:lnTo>
                    <a:pt x="2208" y="492"/>
                  </a:lnTo>
                  <a:lnTo>
                    <a:pt x="2255" y="528"/>
                  </a:lnTo>
                  <a:lnTo>
                    <a:pt x="2299" y="567"/>
                  </a:lnTo>
                  <a:lnTo>
                    <a:pt x="2344" y="609"/>
                  </a:lnTo>
                  <a:lnTo>
                    <a:pt x="2389" y="653"/>
                  </a:lnTo>
                  <a:lnTo>
                    <a:pt x="2431" y="699"/>
                  </a:lnTo>
                  <a:lnTo>
                    <a:pt x="2473" y="746"/>
                  </a:lnTo>
                  <a:lnTo>
                    <a:pt x="2513" y="793"/>
                  </a:lnTo>
                  <a:lnTo>
                    <a:pt x="2553" y="840"/>
                  </a:lnTo>
                  <a:lnTo>
                    <a:pt x="2590" y="887"/>
                  </a:lnTo>
                  <a:lnTo>
                    <a:pt x="2626" y="936"/>
                  </a:lnTo>
                  <a:lnTo>
                    <a:pt x="2660" y="982"/>
                  </a:lnTo>
                  <a:lnTo>
                    <a:pt x="2722" y="1070"/>
                  </a:lnTo>
                  <a:lnTo>
                    <a:pt x="2775" y="1149"/>
                  </a:lnTo>
                  <a:lnTo>
                    <a:pt x="2817" y="1217"/>
                  </a:lnTo>
                  <a:lnTo>
                    <a:pt x="2851" y="1271"/>
                  </a:lnTo>
                  <a:lnTo>
                    <a:pt x="2871" y="1307"/>
                  </a:lnTo>
                  <a:lnTo>
                    <a:pt x="2879" y="1320"/>
                  </a:lnTo>
                  <a:lnTo>
                    <a:pt x="2888" y="1335"/>
                  </a:lnTo>
                  <a:lnTo>
                    <a:pt x="3099" y="1365"/>
                  </a:lnTo>
                  <a:lnTo>
                    <a:pt x="3103" y="1330"/>
                  </a:lnTo>
                  <a:lnTo>
                    <a:pt x="3104" y="1298"/>
                  </a:lnTo>
                  <a:lnTo>
                    <a:pt x="3102" y="1265"/>
                  </a:lnTo>
                  <a:lnTo>
                    <a:pt x="3095" y="1230"/>
                  </a:lnTo>
                  <a:lnTo>
                    <a:pt x="3084" y="1193"/>
                  </a:lnTo>
                  <a:lnTo>
                    <a:pt x="3069" y="1155"/>
                  </a:lnTo>
                  <a:lnTo>
                    <a:pt x="3052" y="1116"/>
                  </a:lnTo>
                  <a:lnTo>
                    <a:pt x="3032" y="1075"/>
                  </a:lnTo>
                  <a:lnTo>
                    <a:pt x="3009" y="1034"/>
                  </a:lnTo>
                  <a:lnTo>
                    <a:pt x="2982" y="992"/>
                  </a:lnTo>
                  <a:lnTo>
                    <a:pt x="2954" y="948"/>
                  </a:lnTo>
                  <a:lnTo>
                    <a:pt x="2924" y="906"/>
                  </a:lnTo>
                  <a:lnTo>
                    <a:pt x="2892" y="863"/>
                  </a:lnTo>
                  <a:lnTo>
                    <a:pt x="2858" y="819"/>
                  </a:lnTo>
                  <a:lnTo>
                    <a:pt x="2825" y="776"/>
                  </a:lnTo>
                  <a:lnTo>
                    <a:pt x="2789" y="732"/>
                  </a:lnTo>
                  <a:lnTo>
                    <a:pt x="2753" y="690"/>
                  </a:lnTo>
                  <a:lnTo>
                    <a:pt x="2681" y="608"/>
                  </a:lnTo>
                  <a:lnTo>
                    <a:pt x="2609" y="530"/>
                  </a:lnTo>
                  <a:lnTo>
                    <a:pt x="2539" y="458"/>
                  </a:lnTo>
                  <a:lnTo>
                    <a:pt x="2475" y="394"/>
                  </a:lnTo>
                  <a:lnTo>
                    <a:pt x="2417" y="338"/>
                  </a:lnTo>
                  <a:lnTo>
                    <a:pt x="2369" y="292"/>
                  </a:lnTo>
                  <a:lnTo>
                    <a:pt x="2332" y="257"/>
                  </a:lnTo>
                  <a:lnTo>
                    <a:pt x="2308" y="235"/>
                  </a:lnTo>
                  <a:lnTo>
                    <a:pt x="2275" y="215"/>
                  </a:lnTo>
                  <a:lnTo>
                    <a:pt x="2242" y="196"/>
                  </a:lnTo>
                  <a:lnTo>
                    <a:pt x="2209" y="178"/>
                  </a:lnTo>
                  <a:lnTo>
                    <a:pt x="2175" y="160"/>
                  </a:lnTo>
                  <a:lnTo>
                    <a:pt x="2142" y="143"/>
                  </a:lnTo>
                  <a:lnTo>
                    <a:pt x="2109" y="128"/>
                  </a:lnTo>
                  <a:lnTo>
                    <a:pt x="2076" y="113"/>
                  </a:lnTo>
                  <a:lnTo>
                    <a:pt x="2042" y="100"/>
                  </a:lnTo>
                  <a:lnTo>
                    <a:pt x="2010" y="86"/>
                  </a:lnTo>
                  <a:lnTo>
                    <a:pt x="1977" y="75"/>
                  </a:lnTo>
                  <a:lnTo>
                    <a:pt x="1943" y="64"/>
                  </a:lnTo>
                  <a:lnTo>
                    <a:pt x="1910" y="52"/>
                  </a:lnTo>
                  <a:lnTo>
                    <a:pt x="1877" y="44"/>
                  </a:lnTo>
                  <a:lnTo>
                    <a:pt x="1844" y="35"/>
                  </a:lnTo>
                  <a:lnTo>
                    <a:pt x="1810" y="28"/>
                  </a:lnTo>
                  <a:lnTo>
                    <a:pt x="1777" y="21"/>
                  </a:lnTo>
                  <a:lnTo>
                    <a:pt x="1744" y="15"/>
                  </a:lnTo>
                  <a:lnTo>
                    <a:pt x="1711" y="10"/>
                  </a:lnTo>
                  <a:lnTo>
                    <a:pt x="1677" y="6"/>
                  </a:lnTo>
                  <a:lnTo>
                    <a:pt x="1644" y="4"/>
                  </a:lnTo>
                  <a:lnTo>
                    <a:pt x="1612" y="2"/>
                  </a:lnTo>
                  <a:lnTo>
                    <a:pt x="1578" y="0"/>
                  </a:lnTo>
                  <a:lnTo>
                    <a:pt x="1544" y="0"/>
                  </a:lnTo>
                  <a:lnTo>
                    <a:pt x="1512" y="0"/>
                  </a:lnTo>
                  <a:lnTo>
                    <a:pt x="1479" y="2"/>
                  </a:lnTo>
                  <a:lnTo>
                    <a:pt x="1445" y="4"/>
                  </a:lnTo>
                  <a:lnTo>
                    <a:pt x="1413" y="8"/>
                  </a:lnTo>
                  <a:lnTo>
                    <a:pt x="1379" y="11"/>
                  </a:lnTo>
                  <a:lnTo>
                    <a:pt x="1346" y="18"/>
                  </a:lnTo>
                  <a:lnTo>
                    <a:pt x="1314" y="23"/>
                  </a:lnTo>
                  <a:lnTo>
                    <a:pt x="1280" y="30"/>
                  </a:lnTo>
                  <a:lnTo>
                    <a:pt x="1248" y="37"/>
                  </a:lnTo>
                  <a:close/>
                  <a:moveTo>
                    <a:pt x="1265" y="107"/>
                  </a:moveTo>
                  <a:lnTo>
                    <a:pt x="1296" y="100"/>
                  </a:lnTo>
                  <a:lnTo>
                    <a:pt x="1327" y="93"/>
                  </a:lnTo>
                  <a:lnTo>
                    <a:pt x="1358" y="87"/>
                  </a:lnTo>
                  <a:lnTo>
                    <a:pt x="1389" y="82"/>
                  </a:lnTo>
                  <a:lnTo>
                    <a:pt x="1422" y="78"/>
                  </a:lnTo>
                  <a:lnTo>
                    <a:pt x="1453" y="76"/>
                  </a:lnTo>
                  <a:lnTo>
                    <a:pt x="1484" y="73"/>
                  </a:lnTo>
                  <a:lnTo>
                    <a:pt x="1515" y="72"/>
                  </a:lnTo>
                  <a:lnTo>
                    <a:pt x="1546" y="71"/>
                  </a:lnTo>
                  <a:lnTo>
                    <a:pt x="1578" y="71"/>
                  </a:lnTo>
                  <a:lnTo>
                    <a:pt x="1609" y="72"/>
                  </a:lnTo>
                  <a:lnTo>
                    <a:pt x="1640" y="75"/>
                  </a:lnTo>
                  <a:lnTo>
                    <a:pt x="1671" y="77"/>
                  </a:lnTo>
                  <a:lnTo>
                    <a:pt x="1703" y="81"/>
                  </a:lnTo>
                  <a:lnTo>
                    <a:pt x="1734" y="86"/>
                  </a:lnTo>
                  <a:lnTo>
                    <a:pt x="1766" y="91"/>
                  </a:lnTo>
                  <a:lnTo>
                    <a:pt x="1797" y="97"/>
                  </a:lnTo>
                  <a:lnTo>
                    <a:pt x="1828" y="104"/>
                  </a:lnTo>
                  <a:lnTo>
                    <a:pt x="1860" y="112"/>
                  </a:lnTo>
                  <a:lnTo>
                    <a:pt x="1891" y="121"/>
                  </a:lnTo>
                  <a:lnTo>
                    <a:pt x="1922" y="131"/>
                  </a:lnTo>
                  <a:lnTo>
                    <a:pt x="1953" y="142"/>
                  </a:lnTo>
                  <a:lnTo>
                    <a:pt x="1984" y="153"/>
                  </a:lnTo>
                  <a:lnTo>
                    <a:pt x="2016" y="164"/>
                  </a:lnTo>
                  <a:lnTo>
                    <a:pt x="2047" y="178"/>
                  </a:lnTo>
                  <a:lnTo>
                    <a:pt x="2078" y="191"/>
                  </a:lnTo>
                  <a:lnTo>
                    <a:pt x="2109" y="206"/>
                  </a:lnTo>
                  <a:lnTo>
                    <a:pt x="2141" y="221"/>
                  </a:lnTo>
                  <a:lnTo>
                    <a:pt x="2172" y="237"/>
                  </a:lnTo>
                  <a:lnTo>
                    <a:pt x="2203" y="255"/>
                  </a:lnTo>
                  <a:lnTo>
                    <a:pt x="2235" y="273"/>
                  </a:lnTo>
                  <a:lnTo>
                    <a:pt x="2266" y="292"/>
                  </a:lnTo>
                  <a:lnTo>
                    <a:pt x="2308" y="332"/>
                  </a:lnTo>
                  <a:lnTo>
                    <a:pt x="2358" y="379"/>
                  </a:lnTo>
                  <a:lnTo>
                    <a:pt x="2412" y="432"/>
                  </a:lnTo>
                  <a:lnTo>
                    <a:pt x="2471" y="492"/>
                  </a:lnTo>
                  <a:lnTo>
                    <a:pt x="2532" y="555"/>
                  </a:lnTo>
                  <a:lnTo>
                    <a:pt x="2594" y="622"/>
                  </a:lnTo>
                  <a:lnTo>
                    <a:pt x="2656" y="691"/>
                  </a:lnTo>
                  <a:lnTo>
                    <a:pt x="2718" y="762"/>
                  </a:lnTo>
                  <a:lnTo>
                    <a:pt x="2748" y="798"/>
                  </a:lnTo>
                  <a:lnTo>
                    <a:pt x="2778" y="834"/>
                  </a:lnTo>
                  <a:lnTo>
                    <a:pt x="2806" y="871"/>
                  </a:lnTo>
                  <a:lnTo>
                    <a:pt x="2833" y="906"/>
                  </a:lnTo>
                  <a:lnTo>
                    <a:pt x="2860" y="942"/>
                  </a:lnTo>
                  <a:lnTo>
                    <a:pt x="2884" y="978"/>
                  </a:lnTo>
                  <a:lnTo>
                    <a:pt x="2908" y="1013"/>
                  </a:lnTo>
                  <a:lnTo>
                    <a:pt x="2930" y="1046"/>
                  </a:lnTo>
                  <a:lnTo>
                    <a:pt x="2950" y="1080"/>
                  </a:lnTo>
                  <a:lnTo>
                    <a:pt x="2969" y="1112"/>
                  </a:lnTo>
                  <a:lnTo>
                    <a:pt x="2985" y="1144"/>
                  </a:lnTo>
                  <a:lnTo>
                    <a:pt x="2999" y="1174"/>
                  </a:lnTo>
                  <a:lnTo>
                    <a:pt x="3011" y="1204"/>
                  </a:lnTo>
                  <a:lnTo>
                    <a:pt x="3020" y="1232"/>
                  </a:lnTo>
                  <a:lnTo>
                    <a:pt x="3026" y="1258"/>
                  </a:lnTo>
                  <a:lnTo>
                    <a:pt x="3030" y="1283"/>
                  </a:lnTo>
                  <a:lnTo>
                    <a:pt x="3001" y="1279"/>
                  </a:lnTo>
                  <a:lnTo>
                    <a:pt x="2974" y="1276"/>
                  </a:lnTo>
                  <a:lnTo>
                    <a:pt x="2950" y="1272"/>
                  </a:lnTo>
                  <a:lnTo>
                    <a:pt x="2933" y="1269"/>
                  </a:lnTo>
                  <a:lnTo>
                    <a:pt x="2915" y="1240"/>
                  </a:lnTo>
                  <a:lnTo>
                    <a:pt x="2887" y="1193"/>
                  </a:lnTo>
                  <a:lnTo>
                    <a:pt x="2847" y="1129"/>
                  </a:lnTo>
                  <a:lnTo>
                    <a:pt x="2799" y="1055"/>
                  </a:lnTo>
                  <a:lnTo>
                    <a:pt x="2771" y="1014"/>
                  </a:lnTo>
                  <a:lnTo>
                    <a:pt x="2742" y="970"/>
                  </a:lnTo>
                  <a:lnTo>
                    <a:pt x="2710" y="926"/>
                  </a:lnTo>
                  <a:lnTo>
                    <a:pt x="2677" y="881"/>
                  </a:lnTo>
                  <a:lnTo>
                    <a:pt x="2641" y="834"/>
                  </a:lnTo>
                  <a:lnTo>
                    <a:pt x="2605" y="787"/>
                  </a:lnTo>
                  <a:lnTo>
                    <a:pt x="2566" y="741"/>
                  </a:lnTo>
                  <a:lnTo>
                    <a:pt x="2527" y="694"/>
                  </a:lnTo>
                  <a:lnTo>
                    <a:pt x="2485" y="648"/>
                  </a:lnTo>
                  <a:lnTo>
                    <a:pt x="2442" y="602"/>
                  </a:lnTo>
                  <a:lnTo>
                    <a:pt x="2399" y="559"/>
                  </a:lnTo>
                  <a:lnTo>
                    <a:pt x="2354" y="516"/>
                  </a:lnTo>
                  <a:lnTo>
                    <a:pt x="2309" y="477"/>
                  </a:lnTo>
                  <a:lnTo>
                    <a:pt x="2263" y="439"/>
                  </a:lnTo>
                  <a:lnTo>
                    <a:pt x="2216" y="406"/>
                  </a:lnTo>
                  <a:lnTo>
                    <a:pt x="2168" y="374"/>
                  </a:lnTo>
                  <a:lnTo>
                    <a:pt x="2121" y="346"/>
                  </a:lnTo>
                  <a:lnTo>
                    <a:pt x="2072" y="323"/>
                  </a:lnTo>
                  <a:lnTo>
                    <a:pt x="2024" y="303"/>
                  </a:lnTo>
                  <a:lnTo>
                    <a:pt x="1974" y="288"/>
                  </a:lnTo>
                  <a:lnTo>
                    <a:pt x="1926" y="278"/>
                  </a:lnTo>
                  <a:lnTo>
                    <a:pt x="1877" y="273"/>
                  </a:lnTo>
                  <a:lnTo>
                    <a:pt x="1828" y="274"/>
                  </a:lnTo>
                  <a:lnTo>
                    <a:pt x="1780" y="282"/>
                  </a:lnTo>
                  <a:lnTo>
                    <a:pt x="1768" y="281"/>
                  </a:lnTo>
                  <a:lnTo>
                    <a:pt x="1736" y="278"/>
                  </a:lnTo>
                  <a:lnTo>
                    <a:pt x="1712" y="277"/>
                  </a:lnTo>
                  <a:lnTo>
                    <a:pt x="1684" y="277"/>
                  </a:lnTo>
                  <a:lnTo>
                    <a:pt x="1651" y="277"/>
                  </a:lnTo>
                  <a:lnTo>
                    <a:pt x="1614" y="278"/>
                  </a:lnTo>
                  <a:lnTo>
                    <a:pt x="1574" y="279"/>
                  </a:lnTo>
                  <a:lnTo>
                    <a:pt x="1530" y="283"/>
                  </a:lnTo>
                  <a:lnTo>
                    <a:pt x="1482" y="288"/>
                  </a:lnTo>
                  <a:lnTo>
                    <a:pt x="1433" y="296"/>
                  </a:lnTo>
                  <a:lnTo>
                    <a:pt x="1381" y="304"/>
                  </a:lnTo>
                  <a:lnTo>
                    <a:pt x="1326" y="314"/>
                  </a:lnTo>
                  <a:lnTo>
                    <a:pt x="1270" y="328"/>
                  </a:lnTo>
                  <a:lnTo>
                    <a:pt x="1212" y="344"/>
                  </a:lnTo>
                  <a:lnTo>
                    <a:pt x="1152" y="363"/>
                  </a:lnTo>
                  <a:lnTo>
                    <a:pt x="1091" y="385"/>
                  </a:lnTo>
                  <a:lnTo>
                    <a:pt x="1029" y="410"/>
                  </a:lnTo>
                  <a:lnTo>
                    <a:pt x="967" y="439"/>
                  </a:lnTo>
                  <a:lnTo>
                    <a:pt x="904" y="472"/>
                  </a:lnTo>
                  <a:lnTo>
                    <a:pt x="842" y="508"/>
                  </a:lnTo>
                  <a:lnTo>
                    <a:pt x="778" y="549"/>
                  </a:lnTo>
                  <a:lnTo>
                    <a:pt x="717" y="595"/>
                  </a:lnTo>
                  <a:lnTo>
                    <a:pt x="657" y="644"/>
                  </a:lnTo>
                  <a:lnTo>
                    <a:pt x="596" y="699"/>
                  </a:lnTo>
                  <a:lnTo>
                    <a:pt x="537" y="760"/>
                  </a:lnTo>
                  <a:lnTo>
                    <a:pt x="482" y="824"/>
                  </a:lnTo>
                  <a:lnTo>
                    <a:pt x="427" y="895"/>
                  </a:lnTo>
                  <a:lnTo>
                    <a:pt x="374" y="972"/>
                  </a:lnTo>
                  <a:lnTo>
                    <a:pt x="324" y="1055"/>
                  </a:lnTo>
                  <a:lnTo>
                    <a:pt x="277" y="1143"/>
                  </a:lnTo>
                  <a:lnTo>
                    <a:pt x="239" y="1124"/>
                  </a:lnTo>
                  <a:lnTo>
                    <a:pt x="190" y="1098"/>
                  </a:lnTo>
                  <a:lnTo>
                    <a:pt x="140" y="1072"/>
                  </a:lnTo>
                  <a:lnTo>
                    <a:pt x="100" y="1051"/>
                  </a:lnTo>
                  <a:lnTo>
                    <a:pt x="121" y="1019"/>
                  </a:lnTo>
                  <a:lnTo>
                    <a:pt x="150" y="977"/>
                  </a:lnTo>
                  <a:lnTo>
                    <a:pt x="186" y="925"/>
                  </a:lnTo>
                  <a:lnTo>
                    <a:pt x="231" y="866"/>
                  </a:lnTo>
                  <a:lnTo>
                    <a:pt x="256" y="834"/>
                  </a:lnTo>
                  <a:lnTo>
                    <a:pt x="282" y="802"/>
                  </a:lnTo>
                  <a:lnTo>
                    <a:pt x="310" y="767"/>
                  </a:lnTo>
                  <a:lnTo>
                    <a:pt x="340" y="732"/>
                  </a:lnTo>
                  <a:lnTo>
                    <a:pt x="372" y="696"/>
                  </a:lnTo>
                  <a:lnTo>
                    <a:pt x="406" y="659"/>
                  </a:lnTo>
                  <a:lnTo>
                    <a:pt x="441" y="622"/>
                  </a:lnTo>
                  <a:lnTo>
                    <a:pt x="478" y="585"/>
                  </a:lnTo>
                  <a:lnTo>
                    <a:pt x="516" y="547"/>
                  </a:lnTo>
                  <a:lnTo>
                    <a:pt x="556" y="511"/>
                  </a:lnTo>
                  <a:lnTo>
                    <a:pt x="597" y="474"/>
                  </a:lnTo>
                  <a:lnTo>
                    <a:pt x="641" y="438"/>
                  </a:lnTo>
                  <a:lnTo>
                    <a:pt x="685" y="402"/>
                  </a:lnTo>
                  <a:lnTo>
                    <a:pt x="731" y="368"/>
                  </a:lnTo>
                  <a:lnTo>
                    <a:pt x="778" y="334"/>
                  </a:lnTo>
                  <a:lnTo>
                    <a:pt x="827" y="302"/>
                  </a:lnTo>
                  <a:lnTo>
                    <a:pt x="878" y="271"/>
                  </a:lnTo>
                  <a:lnTo>
                    <a:pt x="929" y="241"/>
                  </a:lnTo>
                  <a:lnTo>
                    <a:pt x="982" y="212"/>
                  </a:lnTo>
                  <a:lnTo>
                    <a:pt x="1035" y="188"/>
                  </a:lnTo>
                  <a:lnTo>
                    <a:pt x="1091" y="163"/>
                  </a:lnTo>
                  <a:lnTo>
                    <a:pt x="1148" y="142"/>
                  </a:lnTo>
                  <a:lnTo>
                    <a:pt x="1205" y="123"/>
                  </a:lnTo>
                  <a:lnTo>
                    <a:pt x="1265" y="10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4587840" y="5357880"/>
              <a:ext cx="1155600" cy="495360"/>
            </a:xfrm>
            <a:custGeom>
              <a:avLst/>
              <a:gdLst/>
              <a:ahLst/>
              <a:rect l="l" t="t" r="r" b="b"/>
              <a:pathLst>
                <a:path w="2913" h="1249">
                  <a:moveTo>
                    <a:pt x="0" y="908"/>
                  </a:moveTo>
                  <a:lnTo>
                    <a:pt x="11" y="892"/>
                  </a:lnTo>
                  <a:lnTo>
                    <a:pt x="41" y="846"/>
                  </a:lnTo>
                  <a:lnTo>
                    <a:pt x="64" y="814"/>
                  </a:lnTo>
                  <a:lnTo>
                    <a:pt x="92" y="778"/>
                  </a:lnTo>
                  <a:lnTo>
                    <a:pt x="124" y="735"/>
                  </a:lnTo>
                  <a:lnTo>
                    <a:pt x="160" y="689"/>
                  </a:lnTo>
                  <a:lnTo>
                    <a:pt x="202" y="641"/>
                  </a:lnTo>
                  <a:lnTo>
                    <a:pt x="248" y="590"/>
                  </a:lnTo>
                  <a:lnTo>
                    <a:pt x="298" y="538"/>
                  </a:lnTo>
                  <a:lnTo>
                    <a:pt x="352" y="483"/>
                  </a:lnTo>
                  <a:lnTo>
                    <a:pt x="411" y="430"/>
                  </a:lnTo>
                  <a:lnTo>
                    <a:pt x="473" y="376"/>
                  </a:lnTo>
                  <a:lnTo>
                    <a:pt x="540" y="323"/>
                  </a:lnTo>
                  <a:lnTo>
                    <a:pt x="611" y="271"/>
                  </a:lnTo>
                  <a:lnTo>
                    <a:pt x="685" y="223"/>
                  </a:lnTo>
                  <a:lnTo>
                    <a:pt x="763" y="177"/>
                  </a:lnTo>
                  <a:lnTo>
                    <a:pt x="845" y="135"/>
                  </a:lnTo>
                  <a:lnTo>
                    <a:pt x="930" y="98"/>
                  </a:lnTo>
                  <a:lnTo>
                    <a:pt x="1019" y="65"/>
                  </a:lnTo>
                  <a:lnTo>
                    <a:pt x="1111" y="38"/>
                  </a:lnTo>
                  <a:lnTo>
                    <a:pt x="1207" y="18"/>
                  </a:lnTo>
                  <a:lnTo>
                    <a:pt x="1305" y="5"/>
                  </a:lnTo>
                  <a:lnTo>
                    <a:pt x="1407" y="0"/>
                  </a:lnTo>
                  <a:lnTo>
                    <a:pt x="1511" y="3"/>
                  </a:lnTo>
                  <a:lnTo>
                    <a:pt x="1619" y="16"/>
                  </a:lnTo>
                  <a:lnTo>
                    <a:pt x="1728" y="38"/>
                  </a:lnTo>
                  <a:lnTo>
                    <a:pt x="1841" y="72"/>
                  </a:lnTo>
                  <a:lnTo>
                    <a:pt x="1958" y="116"/>
                  </a:lnTo>
                  <a:lnTo>
                    <a:pt x="2076" y="172"/>
                  </a:lnTo>
                  <a:lnTo>
                    <a:pt x="2196" y="242"/>
                  </a:lnTo>
                  <a:lnTo>
                    <a:pt x="2229" y="265"/>
                  </a:lnTo>
                  <a:lnTo>
                    <a:pt x="2314" y="332"/>
                  </a:lnTo>
                  <a:lnTo>
                    <a:pt x="2370" y="378"/>
                  </a:lnTo>
                  <a:lnTo>
                    <a:pt x="2434" y="431"/>
                  </a:lnTo>
                  <a:lnTo>
                    <a:pt x="2501" y="491"/>
                  </a:lnTo>
                  <a:lnTo>
                    <a:pt x="2569" y="555"/>
                  </a:lnTo>
                  <a:lnTo>
                    <a:pt x="2604" y="589"/>
                  </a:lnTo>
                  <a:lnTo>
                    <a:pt x="2637" y="622"/>
                  </a:lnTo>
                  <a:lnTo>
                    <a:pt x="2671" y="658"/>
                  </a:lnTo>
                  <a:lnTo>
                    <a:pt x="2703" y="693"/>
                  </a:lnTo>
                  <a:lnTo>
                    <a:pt x="2734" y="729"/>
                  </a:lnTo>
                  <a:lnTo>
                    <a:pt x="2763" y="765"/>
                  </a:lnTo>
                  <a:lnTo>
                    <a:pt x="2791" y="801"/>
                  </a:lnTo>
                  <a:lnTo>
                    <a:pt x="2816" y="837"/>
                  </a:lnTo>
                  <a:lnTo>
                    <a:pt x="2840" y="873"/>
                  </a:lnTo>
                  <a:lnTo>
                    <a:pt x="2861" y="908"/>
                  </a:lnTo>
                  <a:lnTo>
                    <a:pt x="2878" y="943"/>
                  </a:lnTo>
                  <a:lnTo>
                    <a:pt x="2892" y="977"/>
                  </a:lnTo>
                  <a:lnTo>
                    <a:pt x="2903" y="1011"/>
                  </a:lnTo>
                  <a:lnTo>
                    <a:pt x="2910" y="1043"/>
                  </a:lnTo>
                  <a:lnTo>
                    <a:pt x="2913" y="1074"/>
                  </a:lnTo>
                  <a:lnTo>
                    <a:pt x="2912" y="1104"/>
                  </a:lnTo>
                  <a:lnTo>
                    <a:pt x="2847" y="1249"/>
                  </a:lnTo>
                  <a:lnTo>
                    <a:pt x="2840" y="1237"/>
                  </a:lnTo>
                  <a:lnTo>
                    <a:pt x="2820" y="1202"/>
                  </a:lnTo>
                  <a:lnTo>
                    <a:pt x="2786" y="1148"/>
                  </a:lnTo>
                  <a:lnTo>
                    <a:pt x="2743" y="1079"/>
                  </a:lnTo>
                  <a:lnTo>
                    <a:pt x="2689" y="998"/>
                  </a:lnTo>
                  <a:lnTo>
                    <a:pt x="2626" y="908"/>
                  </a:lnTo>
                  <a:lnTo>
                    <a:pt x="2591" y="861"/>
                  </a:lnTo>
                  <a:lnTo>
                    <a:pt x="2555" y="812"/>
                  </a:lnTo>
                  <a:lnTo>
                    <a:pt x="2517" y="764"/>
                  </a:lnTo>
                  <a:lnTo>
                    <a:pt x="2477" y="714"/>
                  </a:lnTo>
                  <a:lnTo>
                    <a:pt x="2436" y="666"/>
                  </a:lnTo>
                  <a:lnTo>
                    <a:pt x="2393" y="619"/>
                  </a:lnTo>
                  <a:lnTo>
                    <a:pt x="2349" y="572"/>
                  </a:lnTo>
                  <a:lnTo>
                    <a:pt x="2304" y="527"/>
                  </a:lnTo>
                  <a:lnTo>
                    <a:pt x="2257" y="483"/>
                  </a:lnTo>
                  <a:lnTo>
                    <a:pt x="2211" y="443"/>
                  </a:lnTo>
                  <a:lnTo>
                    <a:pt x="2163" y="405"/>
                  </a:lnTo>
                  <a:lnTo>
                    <a:pt x="2116" y="371"/>
                  </a:lnTo>
                  <a:lnTo>
                    <a:pt x="2066" y="340"/>
                  </a:lnTo>
                  <a:lnTo>
                    <a:pt x="2018" y="314"/>
                  </a:lnTo>
                  <a:lnTo>
                    <a:pt x="1968" y="291"/>
                  </a:lnTo>
                  <a:lnTo>
                    <a:pt x="1919" y="274"/>
                  </a:lnTo>
                  <a:lnTo>
                    <a:pt x="1870" y="263"/>
                  </a:lnTo>
                  <a:lnTo>
                    <a:pt x="1820" y="256"/>
                  </a:lnTo>
                  <a:lnTo>
                    <a:pt x="1772" y="256"/>
                  </a:lnTo>
                  <a:lnTo>
                    <a:pt x="1723" y="264"/>
                  </a:lnTo>
                  <a:lnTo>
                    <a:pt x="1712" y="263"/>
                  </a:lnTo>
                  <a:lnTo>
                    <a:pt x="1679" y="260"/>
                  </a:lnTo>
                  <a:lnTo>
                    <a:pt x="1655" y="259"/>
                  </a:lnTo>
                  <a:lnTo>
                    <a:pt x="1626" y="258"/>
                  </a:lnTo>
                  <a:lnTo>
                    <a:pt x="1593" y="258"/>
                  </a:lnTo>
                  <a:lnTo>
                    <a:pt x="1556" y="259"/>
                  </a:lnTo>
                  <a:lnTo>
                    <a:pt x="1516" y="260"/>
                  </a:lnTo>
                  <a:lnTo>
                    <a:pt x="1471" y="264"/>
                  </a:lnTo>
                  <a:lnTo>
                    <a:pt x="1424" y="268"/>
                  </a:lnTo>
                  <a:lnTo>
                    <a:pt x="1374" y="274"/>
                  </a:lnTo>
                  <a:lnTo>
                    <a:pt x="1322" y="282"/>
                  </a:lnTo>
                  <a:lnTo>
                    <a:pt x="1268" y="294"/>
                  </a:lnTo>
                  <a:lnTo>
                    <a:pt x="1210" y="307"/>
                  </a:lnTo>
                  <a:lnTo>
                    <a:pt x="1152" y="322"/>
                  </a:lnTo>
                  <a:lnTo>
                    <a:pt x="1092" y="341"/>
                  </a:lnTo>
                  <a:lnTo>
                    <a:pt x="1032" y="363"/>
                  </a:lnTo>
                  <a:lnTo>
                    <a:pt x="969" y="389"/>
                  </a:lnTo>
                  <a:lnTo>
                    <a:pt x="907" y="418"/>
                  </a:lnTo>
                  <a:lnTo>
                    <a:pt x="845" y="451"/>
                  </a:lnTo>
                  <a:lnTo>
                    <a:pt x="783" y="488"/>
                  </a:lnTo>
                  <a:lnTo>
                    <a:pt x="721" y="529"/>
                  </a:lnTo>
                  <a:lnTo>
                    <a:pt x="660" y="575"/>
                  </a:lnTo>
                  <a:lnTo>
                    <a:pt x="599" y="626"/>
                  </a:lnTo>
                  <a:lnTo>
                    <a:pt x="540" y="682"/>
                  </a:lnTo>
                  <a:lnTo>
                    <a:pt x="483" y="744"/>
                  </a:lnTo>
                  <a:lnTo>
                    <a:pt x="427" y="811"/>
                  </a:lnTo>
                  <a:lnTo>
                    <a:pt x="372" y="883"/>
                  </a:lnTo>
                  <a:lnTo>
                    <a:pt x="321" y="961"/>
                  </a:lnTo>
                  <a:lnTo>
                    <a:pt x="273" y="1047"/>
                  </a:lnTo>
                  <a:lnTo>
                    <a:pt x="227" y="1137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4570560" y="5343480"/>
              <a:ext cx="1187280" cy="541440"/>
            </a:xfrm>
            <a:custGeom>
              <a:avLst/>
              <a:gdLst/>
              <a:ahLst/>
              <a:rect l="l" t="t" r="r" b="b"/>
              <a:pathLst>
                <a:path w="2991" h="1363">
                  <a:moveTo>
                    <a:pt x="1164" y="35"/>
                  </a:moveTo>
                  <a:lnTo>
                    <a:pt x="1098" y="52"/>
                  </a:lnTo>
                  <a:lnTo>
                    <a:pt x="1034" y="72"/>
                  </a:lnTo>
                  <a:lnTo>
                    <a:pt x="972" y="95"/>
                  </a:lnTo>
                  <a:lnTo>
                    <a:pt x="913" y="120"/>
                  </a:lnTo>
                  <a:lnTo>
                    <a:pt x="854" y="148"/>
                  </a:lnTo>
                  <a:lnTo>
                    <a:pt x="797" y="177"/>
                  </a:lnTo>
                  <a:lnTo>
                    <a:pt x="743" y="208"/>
                  </a:lnTo>
                  <a:lnTo>
                    <a:pt x="689" y="241"/>
                  </a:lnTo>
                  <a:lnTo>
                    <a:pt x="638" y="274"/>
                  </a:lnTo>
                  <a:lnTo>
                    <a:pt x="589" y="310"/>
                  </a:lnTo>
                  <a:lnTo>
                    <a:pt x="541" y="346"/>
                  </a:lnTo>
                  <a:lnTo>
                    <a:pt x="495" y="382"/>
                  </a:lnTo>
                  <a:lnTo>
                    <a:pt x="452" y="419"/>
                  </a:lnTo>
                  <a:lnTo>
                    <a:pt x="410" y="456"/>
                  </a:lnTo>
                  <a:lnTo>
                    <a:pt x="370" y="494"/>
                  </a:lnTo>
                  <a:lnTo>
                    <a:pt x="332" y="531"/>
                  </a:lnTo>
                  <a:lnTo>
                    <a:pt x="296" y="568"/>
                  </a:lnTo>
                  <a:lnTo>
                    <a:pt x="262" y="604"/>
                  </a:lnTo>
                  <a:lnTo>
                    <a:pt x="230" y="640"/>
                  </a:lnTo>
                  <a:lnTo>
                    <a:pt x="200" y="674"/>
                  </a:lnTo>
                  <a:lnTo>
                    <a:pt x="173" y="707"/>
                  </a:lnTo>
                  <a:lnTo>
                    <a:pt x="148" y="738"/>
                  </a:lnTo>
                  <a:lnTo>
                    <a:pt x="124" y="768"/>
                  </a:lnTo>
                  <a:lnTo>
                    <a:pt x="103" y="796"/>
                  </a:lnTo>
                  <a:lnTo>
                    <a:pt x="67" y="845"/>
                  </a:lnTo>
                  <a:lnTo>
                    <a:pt x="40" y="884"/>
                  </a:lnTo>
                  <a:lnTo>
                    <a:pt x="22" y="911"/>
                  </a:lnTo>
                  <a:lnTo>
                    <a:pt x="15" y="924"/>
                  </a:lnTo>
                  <a:lnTo>
                    <a:pt x="0" y="948"/>
                  </a:lnTo>
                  <a:lnTo>
                    <a:pt x="282" y="1234"/>
                  </a:lnTo>
                  <a:lnTo>
                    <a:pt x="304" y="1187"/>
                  </a:lnTo>
                  <a:lnTo>
                    <a:pt x="348" y="1099"/>
                  </a:lnTo>
                  <a:lnTo>
                    <a:pt x="395" y="1017"/>
                  </a:lnTo>
                  <a:lnTo>
                    <a:pt x="445" y="942"/>
                  </a:lnTo>
                  <a:lnTo>
                    <a:pt x="497" y="872"/>
                  </a:lnTo>
                  <a:lnTo>
                    <a:pt x="551" y="808"/>
                  </a:lnTo>
                  <a:lnTo>
                    <a:pt x="607" y="748"/>
                  </a:lnTo>
                  <a:lnTo>
                    <a:pt x="664" y="693"/>
                  </a:lnTo>
                  <a:lnTo>
                    <a:pt x="723" y="644"/>
                  </a:lnTo>
                  <a:lnTo>
                    <a:pt x="782" y="599"/>
                  </a:lnTo>
                  <a:lnTo>
                    <a:pt x="842" y="558"/>
                  </a:lnTo>
                  <a:lnTo>
                    <a:pt x="903" y="522"/>
                  </a:lnTo>
                  <a:lnTo>
                    <a:pt x="964" y="490"/>
                  </a:lnTo>
                  <a:lnTo>
                    <a:pt x="1023" y="461"/>
                  </a:lnTo>
                  <a:lnTo>
                    <a:pt x="1084" y="437"/>
                  </a:lnTo>
                  <a:lnTo>
                    <a:pt x="1142" y="414"/>
                  </a:lnTo>
                  <a:lnTo>
                    <a:pt x="1201" y="396"/>
                  </a:lnTo>
                  <a:lnTo>
                    <a:pt x="1258" y="380"/>
                  </a:lnTo>
                  <a:lnTo>
                    <a:pt x="1313" y="367"/>
                  </a:lnTo>
                  <a:lnTo>
                    <a:pt x="1366" y="356"/>
                  </a:lnTo>
                  <a:lnTo>
                    <a:pt x="1418" y="347"/>
                  </a:lnTo>
                  <a:lnTo>
                    <a:pt x="1466" y="341"/>
                  </a:lnTo>
                  <a:lnTo>
                    <a:pt x="1512" y="336"/>
                  </a:lnTo>
                  <a:lnTo>
                    <a:pt x="1556" y="332"/>
                  </a:lnTo>
                  <a:lnTo>
                    <a:pt x="1596" y="330"/>
                  </a:lnTo>
                  <a:lnTo>
                    <a:pt x="1632" y="330"/>
                  </a:lnTo>
                  <a:lnTo>
                    <a:pt x="1664" y="329"/>
                  </a:lnTo>
                  <a:lnTo>
                    <a:pt x="1692" y="330"/>
                  </a:lnTo>
                  <a:lnTo>
                    <a:pt x="1717" y="331"/>
                  </a:lnTo>
                  <a:lnTo>
                    <a:pt x="1751" y="332"/>
                  </a:lnTo>
                  <a:lnTo>
                    <a:pt x="1765" y="334"/>
                  </a:lnTo>
                  <a:lnTo>
                    <a:pt x="1810" y="327"/>
                  </a:lnTo>
                  <a:lnTo>
                    <a:pt x="1858" y="327"/>
                  </a:lnTo>
                  <a:lnTo>
                    <a:pt x="1905" y="334"/>
                  </a:lnTo>
                  <a:lnTo>
                    <a:pt x="1952" y="345"/>
                  </a:lnTo>
                  <a:lnTo>
                    <a:pt x="2000" y="362"/>
                  </a:lnTo>
                  <a:lnTo>
                    <a:pt x="2048" y="383"/>
                  </a:lnTo>
                  <a:lnTo>
                    <a:pt x="2095" y="409"/>
                  </a:lnTo>
                  <a:lnTo>
                    <a:pt x="2142" y="439"/>
                  </a:lnTo>
                  <a:lnTo>
                    <a:pt x="2189" y="473"/>
                  </a:lnTo>
                  <a:lnTo>
                    <a:pt x="2235" y="510"/>
                  </a:lnTo>
                  <a:lnTo>
                    <a:pt x="2281" y="549"/>
                  </a:lnTo>
                  <a:lnTo>
                    <a:pt x="2326" y="590"/>
                  </a:lnTo>
                  <a:lnTo>
                    <a:pt x="2369" y="635"/>
                  </a:lnTo>
                  <a:lnTo>
                    <a:pt x="2413" y="680"/>
                  </a:lnTo>
                  <a:lnTo>
                    <a:pt x="2454" y="727"/>
                  </a:lnTo>
                  <a:lnTo>
                    <a:pt x="2495" y="774"/>
                  </a:lnTo>
                  <a:lnTo>
                    <a:pt x="2533" y="822"/>
                  </a:lnTo>
                  <a:lnTo>
                    <a:pt x="2570" y="870"/>
                  </a:lnTo>
                  <a:lnTo>
                    <a:pt x="2606" y="917"/>
                  </a:lnTo>
                  <a:lnTo>
                    <a:pt x="2641" y="963"/>
                  </a:lnTo>
                  <a:lnTo>
                    <a:pt x="2702" y="1051"/>
                  </a:lnTo>
                  <a:lnTo>
                    <a:pt x="2755" y="1131"/>
                  </a:lnTo>
                  <a:lnTo>
                    <a:pt x="2799" y="1200"/>
                  </a:lnTo>
                  <a:lnTo>
                    <a:pt x="2831" y="1253"/>
                  </a:lnTo>
                  <a:lnTo>
                    <a:pt x="2852" y="1288"/>
                  </a:lnTo>
                  <a:lnTo>
                    <a:pt x="2860" y="1301"/>
                  </a:lnTo>
                  <a:lnTo>
                    <a:pt x="2895" y="1363"/>
                  </a:lnTo>
                  <a:lnTo>
                    <a:pt x="2989" y="1154"/>
                  </a:lnTo>
                  <a:lnTo>
                    <a:pt x="2991" y="1121"/>
                  </a:lnTo>
                  <a:lnTo>
                    <a:pt x="2989" y="1088"/>
                  </a:lnTo>
                  <a:lnTo>
                    <a:pt x="2983" y="1053"/>
                  </a:lnTo>
                  <a:lnTo>
                    <a:pt x="2971" y="1018"/>
                  </a:lnTo>
                  <a:lnTo>
                    <a:pt x="2958" y="982"/>
                  </a:lnTo>
                  <a:lnTo>
                    <a:pt x="2942" y="945"/>
                  </a:lnTo>
                  <a:lnTo>
                    <a:pt x="2922" y="909"/>
                  </a:lnTo>
                  <a:lnTo>
                    <a:pt x="2898" y="872"/>
                  </a:lnTo>
                  <a:lnTo>
                    <a:pt x="2873" y="835"/>
                  </a:lnTo>
                  <a:lnTo>
                    <a:pt x="2846" y="798"/>
                  </a:lnTo>
                  <a:lnTo>
                    <a:pt x="2818" y="760"/>
                  </a:lnTo>
                  <a:lnTo>
                    <a:pt x="2786" y="723"/>
                  </a:lnTo>
                  <a:lnTo>
                    <a:pt x="2755" y="687"/>
                  </a:lnTo>
                  <a:lnTo>
                    <a:pt x="2722" y="651"/>
                  </a:lnTo>
                  <a:lnTo>
                    <a:pt x="2688" y="615"/>
                  </a:lnTo>
                  <a:lnTo>
                    <a:pt x="2655" y="582"/>
                  </a:lnTo>
                  <a:lnTo>
                    <a:pt x="2620" y="548"/>
                  </a:lnTo>
                  <a:lnTo>
                    <a:pt x="2585" y="516"/>
                  </a:lnTo>
                  <a:lnTo>
                    <a:pt x="2552" y="484"/>
                  </a:lnTo>
                  <a:lnTo>
                    <a:pt x="2518" y="454"/>
                  </a:lnTo>
                  <a:lnTo>
                    <a:pt x="2454" y="399"/>
                  </a:lnTo>
                  <a:lnTo>
                    <a:pt x="2395" y="351"/>
                  </a:lnTo>
                  <a:lnTo>
                    <a:pt x="2344" y="310"/>
                  </a:lnTo>
                  <a:lnTo>
                    <a:pt x="2305" y="279"/>
                  </a:lnTo>
                  <a:lnTo>
                    <a:pt x="2276" y="258"/>
                  </a:lnTo>
                  <a:lnTo>
                    <a:pt x="2262" y="247"/>
                  </a:lnTo>
                  <a:lnTo>
                    <a:pt x="2228" y="227"/>
                  </a:lnTo>
                  <a:lnTo>
                    <a:pt x="2193" y="206"/>
                  </a:lnTo>
                  <a:lnTo>
                    <a:pt x="2159" y="187"/>
                  </a:lnTo>
                  <a:lnTo>
                    <a:pt x="2125" y="169"/>
                  </a:lnTo>
                  <a:lnTo>
                    <a:pt x="2090" y="152"/>
                  </a:lnTo>
                  <a:lnTo>
                    <a:pt x="2055" y="135"/>
                  </a:lnTo>
                  <a:lnTo>
                    <a:pt x="2022" y="120"/>
                  </a:lnTo>
                  <a:lnTo>
                    <a:pt x="1987" y="105"/>
                  </a:lnTo>
                  <a:lnTo>
                    <a:pt x="1952" y="92"/>
                  </a:lnTo>
                  <a:lnTo>
                    <a:pt x="1917" y="79"/>
                  </a:lnTo>
                  <a:lnTo>
                    <a:pt x="1884" y="68"/>
                  </a:lnTo>
                  <a:lnTo>
                    <a:pt x="1849" y="57"/>
                  </a:lnTo>
                  <a:lnTo>
                    <a:pt x="1814" y="47"/>
                  </a:lnTo>
                  <a:lnTo>
                    <a:pt x="1779" y="38"/>
                  </a:lnTo>
                  <a:lnTo>
                    <a:pt x="1746" y="31"/>
                  </a:lnTo>
                  <a:lnTo>
                    <a:pt x="1711" y="23"/>
                  </a:lnTo>
                  <a:lnTo>
                    <a:pt x="1676" y="17"/>
                  </a:lnTo>
                  <a:lnTo>
                    <a:pt x="1642" y="12"/>
                  </a:lnTo>
                  <a:lnTo>
                    <a:pt x="1608" y="7"/>
                  </a:lnTo>
                  <a:lnTo>
                    <a:pt x="1573" y="4"/>
                  </a:lnTo>
                  <a:lnTo>
                    <a:pt x="1539" y="1"/>
                  </a:lnTo>
                  <a:lnTo>
                    <a:pt x="1505" y="0"/>
                  </a:lnTo>
                  <a:lnTo>
                    <a:pt x="1470" y="0"/>
                  </a:lnTo>
                  <a:lnTo>
                    <a:pt x="1437" y="0"/>
                  </a:lnTo>
                  <a:lnTo>
                    <a:pt x="1402" y="1"/>
                  </a:lnTo>
                  <a:lnTo>
                    <a:pt x="1368" y="2"/>
                  </a:lnTo>
                  <a:lnTo>
                    <a:pt x="1334" y="6"/>
                  </a:lnTo>
                  <a:lnTo>
                    <a:pt x="1300" y="10"/>
                  </a:lnTo>
                  <a:lnTo>
                    <a:pt x="1265" y="15"/>
                  </a:lnTo>
                  <a:lnTo>
                    <a:pt x="1232" y="21"/>
                  </a:lnTo>
                  <a:lnTo>
                    <a:pt x="1197" y="27"/>
                  </a:lnTo>
                  <a:lnTo>
                    <a:pt x="1164" y="35"/>
                  </a:lnTo>
                  <a:close/>
                  <a:moveTo>
                    <a:pt x="1181" y="104"/>
                  </a:moveTo>
                  <a:lnTo>
                    <a:pt x="1212" y="97"/>
                  </a:lnTo>
                  <a:lnTo>
                    <a:pt x="1244" y="90"/>
                  </a:lnTo>
                  <a:lnTo>
                    <a:pt x="1277" y="85"/>
                  </a:lnTo>
                  <a:lnTo>
                    <a:pt x="1309" y="81"/>
                  </a:lnTo>
                  <a:lnTo>
                    <a:pt x="1341" y="77"/>
                  </a:lnTo>
                  <a:lnTo>
                    <a:pt x="1373" y="74"/>
                  </a:lnTo>
                  <a:lnTo>
                    <a:pt x="1407" y="72"/>
                  </a:lnTo>
                  <a:lnTo>
                    <a:pt x="1439" y="71"/>
                  </a:lnTo>
                  <a:lnTo>
                    <a:pt x="1471" y="71"/>
                  </a:lnTo>
                  <a:lnTo>
                    <a:pt x="1504" y="72"/>
                  </a:lnTo>
                  <a:lnTo>
                    <a:pt x="1536" y="73"/>
                  </a:lnTo>
                  <a:lnTo>
                    <a:pt x="1570" y="76"/>
                  </a:lnTo>
                  <a:lnTo>
                    <a:pt x="1602" y="78"/>
                  </a:lnTo>
                  <a:lnTo>
                    <a:pt x="1634" y="83"/>
                  </a:lnTo>
                  <a:lnTo>
                    <a:pt x="1666" y="88"/>
                  </a:lnTo>
                  <a:lnTo>
                    <a:pt x="1700" y="93"/>
                  </a:lnTo>
                  <a:lnTo>
                    <a:pt x="1732" y="100"/>
                  </a:lnTo>
                  <a:lnTo>
                    <a:pt x="1765" y="108"/>
                  </a:lnTo>
                  <a:lnTo>
                    <a:pt x="1797" y="116"/>
                  </a:lnTo>
                  <a:lnTo>
                    <a:pt x="1830" y="126"/>
                  </a:lnTo>
                  <a:lnTo>
                    <a:pt x="1863" y="136"/>
                  </a:lnTo>
                  <a:lnTo>
                    <a:pt x="1895" y="148"/>
                  </a:lnTo>
                  <a:lnTo>
                    <a:pt x="1928" y="160"/>
                  </a:lnTo>
                  <a:lnTo>
                    <a:pt x="1961" y="172"/>
                  </a:lnTo>
                  <a:lnTo>
                    <a:pt x="1994" y="186"/>
                  </a:lnTo>
                  <a:lnTo>
                    <a:pt x="2027" y="201"/>
                  </a:lnTo>
                  <a:lnTo>
                    <a:pt x="2059" y="216"/>
                  </a:lnTo>
                  <a:lnTo>
                    <a:pt x="2092" y="232"/>
                  </a:lnTo>
                  <a:lnTo>
                    <a:pt x="2125" y="249"/>
                  </a:lnTo>
                  <a:lnTo>
                    <a:pt x="2157" y="268"/>
                  </a:lnTo>
                  <a:lnTo>
                    <a:pt x="2190" y="286"/>
                  </a:lnTo>
                  <a:lnTo>
                    <a:pt x="2223" y="306"/>
                  </a:lnTo>
                  <a:lnTo>
                    <a:pt x="2262" y="336"/>
                  </a:lnTo>
                  <a:lnTo>
                    <a:pt x="2310" y="372"/>
                  </a:lnTo>
                  <a:lnTo>
                    <a:pt x="2361" y="413"/>
                  </a:lnTo>
                  <a:lnTo>
                    <a:pt x="2415" y="459"/>
                  </a:lnTo>
                  <a:lnTo>
                    <a:pt x="2472" y="509"/>
                  </a:lnTo>
                  <a:lnTo>
                    <a:pt x="2531" y="561"/>
                  </a:lnTo>
                  <a:lnTo>
                    <a:pt x="2589" y="616"/>
                  </a:lnTo>
                  <a:lnTo>
                    <a:pt x="2646" y="672"/>
                  </a:lnTo>
                  <a:lnTo>
                    <a:pt x="2675" y="702"/>
                  </a:lnTo>
                  <a:lnTo>
                    <a:pt x="2702" y="731"/>
                  </a:lnTo>
                  <a:lnTo>
                    <a:pt x="2728" y="760"/>
                  </a:lnTo>
                  <a:lnTo>
                    <a:pt x="2753" y="789"/>
                  </a:lnTo>
                  <a:lnTo>
                    <a:pt x="2777" y="819"/>
                  </a:lnTo>
                  <a:lnTo>
                    <a:pt x="2800" y="849"/>
                  </a:lnTo>
                  <a:lnTo>
                    <a:pt x="2821" y="877"/>
                  </a:lnTo>
                  <a:lnTo>
                    <a:pt x="2841" y="906"/>
                  </a:lnTo>
                  <a:lnTo>
                    <a:pt x="2858" y="934"/>
                  </a:lnTo>
                  <a:lnTo>
                    <a:pt x="2875" y="961"/>
                  </a:lnTo>
                  <a:lnTo>
                    <a:pt x="2888" y="989"/>
                  </a:lnTo>
                  <a:lnTo>
                    <a:pt x="2901" y="1016"/>
                  </a:lnTo>
                  <a:lnTo>
                    <a:pt x="2909" y="1042"/>
                  </a:lnTo>
                  <a:lnTo>
                    <a:pt x="2917" y="1067"/>
                  </a:lnTo>
                  <a:lnTo>
                    <a:pt x="2921" y="1090"/>
                  </a:lnTo>
                  <a:lnTo>
                    <a:pt x="2923" y="1114"/>
                  </a:lnTo>
                  <a:lnTo>
                    <a:pt x="2922" y="1125"/>
                  </a:lnTo>
                  <a:lnTo>
                    <a:pt x="2922" y="1135"/>
                  </a:lnTo>
                  <a:lnTo>
                    <a:pt x="2918" y="1141"/>
                  </a:lnTo>
                  <a:lnTo>
                    <a:pt x="2911" y="1157"/>
                  </a:lnTo>
                  <a:lnTo>
                    <a:pt x="2899" y="1181"/>
                  </a:lnTo>
                  <a:lnTo>
                    <a:pt x="2888" y="1207"/>
                  </a:lnTo>
                  <a:lnTo>
                    <a:pt x="2857" y="1157"/>
                  </a:lnTo>
                  <a:lnTo>
                    <a:pt x="2819" y="1095"/>
                  </a:lnTo>
                  <a:lnTo>
                    <a:pt x="2773" y="1025"/>
                  </a:lnTo>
                  <a:lnTo>
                    <a:pt x="2719" y="948"/>
                  </a:lnTo>
                  <a:lnTo>
                    <a:pt x="2690" y="907"/>
                  </a:lnTo>
                  <a:lnTo>
                    <a:pt x="2659" y="865"/>
                  </a:lnTo>
                  <a:lnTo>
                    <a:pt x="2628" y="822"/>
                  </a:lnTo>
                  <a:lnTo>
                    <a:pt x="2594" y="780"/>
                  </a:lnTo>
                  <a:lnTo>
                    <a:pt x="2559" y="737"/>
                  </a:lnTo>
                  <a:lnTo>
                    <a:pt x="2523" y="695"/>
                  </a:lnTo>
                  <a:lnTo>
                    <a:pt x="2486" y="652"/>
                  </a:lnTo>
                  <a:lnTo>
                    <a:pt x="2447" y="610"/>
                  </a:lnTo>
                  <a:lnTo>
                    <a:pt x="2409" y="569"/>
                  </a:lnTo>
                  <a:lnTo>
                    <a:pt x="2368" y="530"/>
                  </a:lnTo>
                  <a:lnTo>
                    <a:pt x="2327" y="492"/>
                  </a:lnTo>
                  <a:lnTo>
                    <a:pt x="2286" y="456"/>
                  </a:lnTo>
                  <a:lnTo>
                    <a:pt x="2244" y="423"/>
                  </a:lnTo>
                  <a:lnTo>
                    <a:pt x="2202" y="391"/>
                  </a:lnTo>
                  <a:lnTo>
                    <a:pt x="2158" y="362"/>
                  </a:lnTo>
                  <a:lnTo>
                    <a:pt x="2115" y="336"/>
                  </a:lnTo>
                  <a:lnTo>
                    <a:pt x="2070" y="313"/>
                  </a:lnTo>
                  <a:lnTo>
                    <a:pt x="2027" y="293"/>
                  </a:lnTo>
                  <a:lnTo>
                    <a:pt x="1982" y="278"/>
                  </a:lnTo>
                  <a:lnTo>
                    <a:pt x="1937" y="265"/>
                  </a:lnTo>
                  <a:lnTo>
                    <a:pt x="1894" y="258"/>
                  </a:lnTo>
                  <a:lnTo>
                    <a:pt x="1849" y="255"/>
                  </a:lnTo>
                  <a:lnTo>
                    <a:pt x="1804" y="257"/>
                  </a:lnTo>
                  <a:lnTo>
                    <a:pt x="1761" y="264"/>
                  </a:lnTo>
                  <a:lnTo>
                    <a:pt x="1750" y="263"/>
                  </a:lnTo>
                  <a:lnTo>
                    <a:pt x="1717" y="260"/>
                  </a:lnTo>
                  <a:lnTo>
                    <a:pt x="1694" y="259"/>
                  </a:lnTo>
                  <a:lnTo>
                    <a:pt x="1665" y="259"/>
                  </a:lnTo>
                  <a:lnTo>
                    <a:pt x="1633" y="259"/>
                  </a:lnTo>
                  <a:lnTo>
                    <a:pt x="1597" y="259"/>
                  </a:lnTo>
                  <a:lnTo>
                    <a:pt x="1556" y="262"/>
                  </a:lnTo>
                  <a:lnTo>
                    <a:pt x="1512" y="265"/>
                  </a:lnTo>
                  <a:lnTo>
                    <a:pt x="1466" y="270"/>
                  </a:lnTo>
                  <a:lnTo>
                    <a:pt x="1417" y="277"/>
                  </a:lnTo>
                  <a:lnTo>
                    <a:pt x="1365" y="285"/>
                  </a:lnTo>
                  <a:lnTo>
                    <a:pt x="1310" y="296"/>
                  </a:lnTo>
                  <a:lnTo>
                    <a:pt x="1254" y="309"/>
                  </a:lnTo>
                  <a:lnTo>
                    <a:pt x="1196" y="325"/>
                  </a:lnTo>
                  <a:lnTo>
                    <a:pt x="1136" y="344"/>
                  </a:lnTo>
                  <a:lnTo>
                    <a:pt x="1077" y="366"/>
                  </a:lnTo>
                  <a:lnTo>
                    <a:pt x="1014" y="391"/>
                  </a:lnTo>
                  <a:lnTo>
                    <a:pt x="952" y="419"/>
                  </a:lnTo>
                  <a:lnTo>
                    <a:pt x="890" y="451"/>
                  </a:lnTo>
                  <a:lnTo>
                    <a:pt x="828" y="487"/>
                  </a:lnTo>
                  <a:lnTo>
                    <a:pt x="766" y="527"/>
                  </a:lnTo>
                  <a:lnTo>
                    <a:pt x="704" y="572"/>
                  </a:lnTo>
                  <a:lnTo>
                    <a:pt x="643" y="621"/>
                  </a:lnTo>
                  <a:lnTo>
                    <a:pt x="584" y="676"/>
                  </a:lnTo>
                  <a:lnTo>
                    <a:pt x="525" y="734"/>
                  </a:lnTo>
                  <a:lnTo>
                    <a:pt x="468" y="799"/>
                  </a:lnTo>
                  <a:lnTo>
                    <a:pt x="413" y="870"/>
                  </a:lnTo>
                  <a:lnTo>
                    <a:pt x="361" y="945"/>
                  </a:lnTo>
                  <a:lnTo>
                    <a:pt x="312" y="1026"/>
                  </a:lnTo>
                  <a:lnTo>
                    <a:pt x="264" y="1114"/>
                  </a:lnTo>
                  <a:lnTo>
                    <a:pt x="224" y="1072"/>
                  </a:lnTo>
                  <a:lnTo>
                    <a:pt x="171" y="1021"/>
                  </a:lnTo>
                  <a:lnTo>
                    <a:pt x="123" y="971"/>
                  </a:lnTo>
                  <a:lnTo>
                    <a:pt x="91" y="938"/>
                  </a:lnTo>
                  <a:lnTo>
                    <a:pt x="108" y="912"/>
                  </a:lnTo>
                  <a:lnTo>
                    <a:pt x="133" y="877"/>
                  </a:lnTo>
                  <a:lnTo>
                    <a:pt x="165" y="834"/>
                  </a:lnTo>
                  <a:lnTo>
                    <a:pt x="205" y="783"/>
                  </a:lnTo>
                  <a:lnTo>
                    <a:pt x="251" y="726"/>
                  </a:lnTo>
                  <a:lnTo>
                    <a:pt x="305" y="665"/>
                  </a:lnTo>
                  <a:lnTo>
                    <a:pt x="334" y="633"/>
                  </a:lnTo>
                  <a:lnTo>
                    <a:pt x="365" y="600"/>
                  </a:lnTo>
                  <a:lnTo>
                    <a:pt x="397" y="568"/>
                  </a:lnTo>
                  <a:lnTo>
                    <a:pt x="432" y="535"/>
                  </a:lnTo>
                  <a:lnTo>
                    <a:pt x="468" y="502"/>
                  </a:lnTo>
                  <a:lnTo>
                    <a:pt x="505" y="469"/>
                  </a:lnTo>
                  <a:lnTo>
                    <a:pt x="544" y="437"/>
                  </a:lnTo>
                  <a:lnTo>
                    <a:pt x="585" y="403"/>
                  </a:lnTo>
                  <a:lnTo>
                    <a:pt x="627" y="372"/>
                  </a:lnTo>
                  <a:lnTo>
                    <a:pt x="671" y="340"/>
                  </a:lnTo>
                  <a:lnTo>
                    <a:pt x="715" y="310"/>
                  </a:lnTo>
                  <a:lnTo>
                    <a:pt x="761" y="280"/>
                  </a:lnTo>
                  <a:lnTo>
                    <a:pt x="808" y="253"/>
                  </a:lnTo>
                  <a:lnTo>
                    <a:pt x="858" y="226"/>
                  </a:lnTo>
                  <a:lnTo>
                    <a:pt x="909" y="201"/>
                  </a:lnTo>
                  <a:lnTo>
                    <a:pt x="960" y="177"/>
                  </a:lnTo>
                  <a:lnTo>
                    <a:pt x="1013" y="156"/>
                  </a:lnTo>
                  <a:lnTo>
                    <a:pt x="1068" y="136"/>
                  </a:lnTo>
                  <a:lnTo>
                    <a:pt x="1124" y="119"/>
                  </a:lnTo>
                  <a:lnTo>
                    <a:pt x="1181" y="10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4630680" y="5437080"/>
              <a:ext cx="1090800" cy="446040"/>
            </a:xfrm>
            <a:custGeom>
              <a:avLst/>
              <a:gdLst/>
              <a:ahLst/>
              <a:rect l="l" t="t" r="r" b="b"/>
              <a:pathLst>
                <a:path w="2748" h="1127">
                  <a:moveTo>
                    <a:pt x="0" y="872"/>
                  </a:moveTo>
                  <a:lnTo>
                    <a:pt x="9" y="856"/>
                  </a:lnTo>
                  <a:lnTo>
                    <a:pt x="37" y="812"/>
                  </a:lnTo>
                  <a:lnTo>
                    <a:pt x="57" y="782"/>
                  </a:lnTo>
                  <a:lnTo>
                    <a:pt x="83" y="746"/>
                  </a:lnTo>
                  <a:lnTo>
                    <a:pt x="113" y="705"/>
                  </a:lnTo>
                  <a:lnTo>
                    <a:pt x="147" y="661"/>
                  </a:lnTo>
                  <a:lnTo>
                    <a:pt x="185" y="614"/>
                  </a:lnTo>
                  <a:lnTo>
                    <a:pt x="227" y="565"/>
                  </a:lnTo>
                  <a:lnTo>
                    <a:pt x="275" y="514"/>
                  </a:lnTo>
                  <a:lnTo>
                    <a:pt x="326" y="462"/>
                  </a:lnTo>
                  <a:lnTo>
                    <a:pt x="380" y="410"/>
                  </a:lnTo>
                  <a:lnTo>
                    <a:pt x="439" y="357"/>
                  </a:lnTo>
                  <a:lnTo>
                    <a:pt x="502" y="305"/>
                  </a:lnTo>
                  <a:lnTo>
                    <a:pt x="569" y="257"/>
                  </a:lnTo>
                  <a:lnTo>
                    <a:pt x="640" y="210"/>
                  </a:lnTo>
                  <a:lnTo>
                    <a:pt x="713" y="165"/>
                  </a:lnTo>
                  <a:lnTo>
                    <a:pt x="791" y="125"/>
                  </a:lnTo>
                  <a:lnTo>
                    <a:pt x="873" y="89"/>
                  </a:lnTo>
                  <a:lnTo>
                    <a:pt x="958" y="58"/>
                  </a:lnTo>
                  <a:lnTo>
                    <a:pt x="1047" y="34"/>
                  </a:lnTo>
                  <a:lnTo>
                    <a:pt x="1139" y="15"/>
                  </a:lnTo>
                  <a:lnTo>
                    <a:pt x="1235" y="4"/>
                  </a:lnTo>
                  <a:lnTo>
                    <a:pt x="1333" y="0"/>
                  </a:lnTo>
                  <a:lnTo>
                    <a:pt x="1434" y="4"/>
                  </a:lnTo>
                  <a:lnTo>
                    <a:pt x="1540" y="17"/>
                  </a:lnTo>
                  <a:lnTo>
                    <a:pt x="1649" y="41"/>
                  </a:lnTo>
                  <a:lnTo>
                    <a:pt x="1760" y="75"/>
                  </a:lnTo>
                  <a:lnTo>
                    <a:pt x="1875" y="120"/>
                  </a:lnTo>
                  <a:lnTo>
                    <a:pt x="1992" y="176"/>
                  </a:lnTo>
                  <a:lnTo>
                    <a:pt x="2112" y="246"/>
                  </a:lnTo>
                  <a:lnTo>
                    <a:pt x="2151" y="277"/>
                  </a:lnTo>
                  <a:lnTo>
                    <a:pt x="2188" y="307"/>
                  </a:lnTo>
                  <a:lnTo>
                    <a:pt x="2225" y="334"/>
                  </a:lnTo>
                  <a:lnTo>
                    <a:pt x="2263" y="360"/>
                  </a:lnTo>
                  <a:lnTo>
                    <a:pt x="2333" y="408"/>
                  </a:lnTo>
                  <a:lnTo>
                    <a:pt x="2402" y="450"/>
                  </a:lnTo>
                  <a:lnTo>
                    <a:pt x="2465" y="489"/>
                  </a:lnTo>
                  <a:lnTo>
                    <a:pt x="2525" y="526"/>
                  </a:lnTo>
                  <a:lnTo>
                    <a:pt x="2553" y="544"/>
                  </a:lnTo>
                  <a:lnTo>
                    <a:pt x="2579" y="561"/>
                  </a:lnTo>
                  <a:lnTo>
                    <a:pt x="2604" y="577"/>
                  </a:lnTo>
                  <a:lnTo>
                    <a:pt x="2627" y="594"/>
                  </a:lnTo>
                  <a:lnTo>
                    <a:pt x="2649" y="612"/>
                  </a:lnTo>
                  <a:lnTo>
                    <a:pt x="2668" y="629"/>
                  </a:lnTo>
                  <a:lnTo>
                    <a:pt x="2686" y="648"/>
                  </a:lnTo>
                  <a:lnTo>
                    <a:pt x="2701" y="666"/>
                  </a:lnTo>
                  <a:lnTo>
                    <a:pt x="2715" y="685"/>
                  </a:lnTo>
                  <a:lnTo>
                    <a:pt x="2726" y="705"/>
                  </a:lnTo>
                  <a:lnTo>
                    <a:pt x="2736" y="726"/>
                  </a:lnTo>
                  <a:lnTo>
                    <a:pt x="2742" y="748"/>
                  </a:lnTo>
                  <a:lnTo>
                    <a:pt x="2747" y="772"/>
                  </a:lnTo>
                  <a:lnTo>
                    <a:pt x="2748" y="797"/>
                  </a:lnTo>
                  <a:lnTo>
                    <a:pt x="2748" y="823"/>
                  </a:lnTo>
                  <a:lnTo>
                    <a:pt x="2745" y="850"/>
                  </a:lnTo>
                  <a:lnTo>
                    <a:pt x="2738" y="880"/>
                  </a:lnTo>
                  <a:lnTo>
                    <a:pt x="2728" y="912"/>
                  </a:lnTo>
                  <a:lnTo>
                    <a:pt x="2716" y="946"/>
                  </a:lnTo>
                  <a:lnTo>
                    <a:pt x="2701" y="980"/>
                  </a:lnTo>
                  <a:lnTo>
                    <a:pt x="2603" y="1127"/>
                  </a:lnTo>
                  <a:lnTo>
                    <a:pt x="2598" y="1117"/>
                  </a:lnTo>
                  <a:lnTo>
                    <a:pt x="2582" y="1091"/>
                  </a:lnTo>
                  <a:lnTo>
                    <a:pt x="2557" y="1050"/>
                  </a:lnTo>
                  <a:lnTo>
                    <a:pt x="2522" y="996"/>
                  </a:lnTo>
                  <a:lnTo>
                    <a:pt x="2502" y="965"/>
                  </a:lnTo>
                  <a:lnTo>
                    <a:pt x="2480" y="933"/>
                  </a:lnTo>
                  <a:lnTo>
                    <a:pt x="2455" y="900"/>
                  </a:lnTo>
                  <a:lnTo>
                    <a:pt x="2429" y="865"/>
                  </a:lnTo>
                  <a:lnTo>
                    <a:pt x="2402" y="828"/>
                  </a:lnTo>
                  <a:lnTo>
                    <a:pt x="2372" y="792"/>
                  </a:lnTo>
                  <a:lnTo>
                    <a:pt x="2341" y="754"/>
                  </a:lnTo>
                  <a:lnTo>
                    <a:pt x="2307" y="717"/>
                  </a:lnTo>
                  <a:lnTo>
                    <a:pt x="2273" y="680"/>
                  </a:lnTo>
                  <a:lnTo>
                    <a:pt x="2237" y="644"/>
                  </a:lnTo>
                  <a:lnTo>
                    <a:pt x="2199" y="608"/>
                  </a:lnTo>
                  <a:lnTo>
                    <a:pt x="2161" y="575"/>
                  </a:lnTo>
                  <a:lnTo>
                    <a:pt x="2121" y="542"/>
                  </a:lnTo>
                  <a:lnTo>
                    <a:pt x="2081" y="511"/>
                  </a:lnTo>
                  <a:lnTo>
                    <a:pt x="2039" y="484"/>
                  </a:lnTo>
                  <a:lnTo>
                    <a:pt x="1996" y="458"/>
                  </a:lnTo>
                  <a:lnTo>
                    <a:pt x="1952" y="436"/>
                  </a:lnTo>
                  <a:lnTo>
                    <a:pt x="1908" y="417"/>
                  </a:lnTo>
                  <a:lnTo>
                    <a:pt x="1863" y="402"/>
                  </a:lnTo>
                  <a:lnTo>
                    <a:pt x="1817" y="390"/>
                  </a:lnTo>
                  <a:lnTo>
                    <a:pt x="1770" y="383"/>
                  </a:lnTo>
                  <a:lnTo>
                    <a:pt x="1723" y="381"/>
                  </a:lnTo>
                  <a:lnTo>
                    <a:pt x="1675" y="382"/>
                  </a:lnTo>
                  <a:lnTo>
                    <a:pt x="1628" y="391"/>
                  </a:lnTo>
                  <a:lnTo>
                    <a:pt x="1617" y="386"/>
                  </a:lnTo>
                  <a:lnTo>
                    <a:pt x="1587" y="376"/>
                  </a:lnTo>
                  <a:lnTo>
                    <a:pt x="1565" y="369"/>
                  </a:lnTo>
                  <a:lnTo>
                    <a:pt x="1539" y="361"/>
                  </a:lnTo>
                  <a:lnTo>
                    <a:pt x="1509" y="354"/>
                  </a:lnTo>
                  <a:lnTo>
                    <a:pt x="1475" y="345"/>
                  </a:lnTo>
                  <a:lnTo>
                    <a:pt x="1438" y="338"/>
                  </a:lnTo>
                  <a:lnTo>
                    <a:pt x="1398" y="330"/>
                  </a:lnTo>
                  <a:lnTo>
                    <a:pt x="1355" y="325"/>
                  </a:lnTo>
                  <a:lnTo>
                    <a:pt x="1310" y="320"/>
                  </a:lnTo>
                  <a:lnTo>
                    <a:pt x="1262" y="316"/>
                  </a:lnTo>
                  <a:lnTo>
                    <a:pt x="1211" y="316"/>
                  </a:lnTo>
                  <a:lnTo>
                    <a:pt x="1159" y="318"/>
                  </a:lnTo>
                  <a:lnTo>
                    <a:pt x="1105" y="321"/>
                  </a:lnTo>
                  <a:lnTo>
                    <a:pt x="1051" y="328"/>
                  </a:lnTo>
                  <a:lnTo>
                    <a:pt x="994" y="338"/>
                  </a:lnTo>
                  <a:lnTo>
                    <a:pt x="937" y="352"/>
                  </a:lnTo>
                  <a:lnTo>
                    <a:pt x="879" y="370"/>
                  </a:lnTo>
                  <a:lnTo>
                    <a:pt x="821" y="391"/>
                  </a:lnTo>
                  <a:lnTo>
                    <a:pt x="763" y="418"/>
                  </a:lnTo>
                  <a:lnTo>
                    <a:pt x="704" y="449"/>
                  </a:lnTo>
                  <a:lnTo>
                    <a:pt x="647" y="486"/>
                  </a:lnTo>
                  <a:lnTo>
                    <a:pt x="590" y="529"/>
                  </a:lnTo>
                  <a:lnTo>
                    <a:pt x="533" y="577"/>
                  </a:lnTo>
                  <a:lnTo>
                    <a:pt x="478" y="630"/>
                  </a:lnTo>
                  <a:lnTo>
                    <a:pt x="425" y="692"/>
                  </a:lnTo>
                  <a:lnTo>
                    <a:pt x="373" y="759"/>
                  </a:lnTo>
                  <a:lnTo>
                    <a:pt x="323" y="835"/>
                  </a:lnTo>
                  <a:lnTo>
                    <a:pt x="275" y="917"/>
                  </a:lnTo>
                  <a:lnTo>
                    <a:pt x="229" y="1008"/>
                  </a:lnTo>
                  <a:lnTo>
                    <a:pt x="0" y="87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4610160" y="5423040"/>
              <a:ext cx="1123920" cy="487080"/>
            </a:xfrm>
            <a:custGeom>
              <a:avLst/>
              <a:gdLst/>
              <a:ahLst/>
              <a:rect l="l" t="t" r="r" b="b"/>
              <a:pathLst>
                <a:path w="2831" h="1231">
                  <a:moveTo>
                    <a:pt x="1073" y="39"/>
                  </a:moveTo>
                  <a:lnTo>
                    <a:pt x="1012" y="56"/>
                  </a:lnTo>
                  <a:lnTo>
                    <a:pt x="952" y="76"/>
                  </a:lnTo>
                  <a:lnTo>
                    <a:pt x="894" y="98"/>
                  </a:lnTo>
                  <a:lnTo>
                    <a:pt x="838" y="122"/>
                  </a:lnTo>
                  <a:lnTo>
                    <a:pt x="783" y="149"/>
                  </a:lnTo>
                  <a:lnTo>
                    <a:pt x="731" y="178"/>
                  </a:lnTo>
                  <a:lnTo>
                    <a:pt x="680" y="207"/>
                  </a:lnTo>
                  <a:lnTo>
                    <a:pt x="631" y="238"/>
                  </a:lnTo>
                  <a:lnTo>
                    <a:pt x="583" y="272"/>
                  </a:lnTo>
                  <a:lnTo>
                    <a:pt x="537" y="305"/>
                  </a:lnTo>
                  <a:lnTo>
                    <a:pt x="494" y="340"/>
                  </a:lnTo>
                  <a:lnTo>
                    <a:pt x="452" y="375"/>
                  </a:lnTo>
                  <a:lnTo>
                    <a:pt x="412" y="411"/>
                  </a:lnTo>
                  <a:lnTo>
                    <a:pt x="374" y="446"/>
                  </a:lnTo>
                  <a:lnTo>
                    <a:pt x="338" y="482"/>
                  </a:lnTo>
                  <a:lnTo>
                    <a:pt x="303" y="518"/>
                  </a:lnTo>
                  <a:lnTo>
                    <a:pt x="269" y="552"/>
                  </a:lnTo>
                  <a:lnTo>
                    <a:pt x="239" y="587"/>
                  </a:lnTo>
                  <a:lnTo>
                    <a:pt x="210" y="620"/>
                  </a:lnTo>
                  <a:lnTo>
                    <a:pt x="184" y="653"/>
                  </a:lnTo>
                  <a:lnTo>
                    <a:pt x="135" y="715"/>
                  </a:lnTo>
                  <a:lnTo>
                    <a:pt x="95" y="769"/>
                  </a:lnTo>
                  <a:lnTo>
                    <a:pt x="63" y="817"/>
                  </a:lnTo>
                  <a:lnTo>
                    <a:pt x="40" y="852"/>
                  </a:lnTo>
                  <a:lnTo>
                    <a:pt x="23" y="879"/>
                  </a:lnTo>
                  <a:lnTo>
                    <a:pt x="17" y="891"/>
                  </a:lnTo>
                  <a:lnTo>
                    <a:pt x="0" y="921"/>
                  </a:lnTo>
                  <a:lnTo>
                    <a:pt x="293" y="1094"/>
                  </a:lnTo>
                  <a:lnTo>
                    <a:pt x="309" y="1058"/>
                  </a:lnTo>
                  <a:lnTo>
                    <a:pt x="352" y="973"/>
                  </a:lnTo>
                  <a:lnTo>
                    <a:pt x="398" y="893"/>
                  </a:lnTo>
                  <a:lnTo>
                    <a:pt x="447" y="821"/>
                  </a:lnTo>
                  <a:lnTo>
                    <a:pt x="495" y="756"/>
                  </a:lnTo>
                  <a:lnTo>
                    <a:pt x="546" y="697"/>
                  </a:lnTo>
                  <a:lnTo>
                    <a:pt x="598" y="644"/>
                  </a:lnTo>
                  <a:lnTo>
                    <a:pt x="652" y="597"/>
                  </a:lnTo>
                  <a:lnTo>
                    <a:pt x="706" y="556"/>
                  </a:lnTo>
                  <a:lnTo>
                    <a:pt x="761" y="520"/>
                  </a:lnTo>
                  <a:lnTo>
                    <a:pt x="816" y="489"/>
                  </a:lnTo>
                  <a:lnTo>
                    <a:pt x="872" y="463"/>
                  </a:lnTo>
                  <a:lnTo>
                    <a:pt x="926" y="442"/>
                  </a:lnTo>
                  <a:lnTo>
                    <a:pt x="981" y="423"/>
                  </a:lnTo>
                  <a:lnTo>
                    <a:pt x="1035" y="410"/>
                  </a:lnTo>
                  <a:lnTo>
                    <a:pt x="1089" y="400"/>
                  </a:lnTo>
                  <a:lnTo>
                    <a:pt x="1141" y="392"/>
                  </a:lnTo>
                  <a:lnTo>
                    <a:pt x="1193" y="387"/>
                  </a:lnTo>
                  <a:lnTo>
                    <a:pt x="1243" y="386"/>
                  </a:lnTo>
                  <a:lnTo>
                    <a:pt x="1291" y="386"/>
                  </a:lnTo>
                  <a:lnTo>
                    <a:pt x="1337" y="388"/>
                  </a:lnTo>
                  <a:lnTo>
                    <a:pt x="1381" y="392"/>
                  </a:lnTo>
                  <a:lnTo>
                    <a:pt x="1423" y="397"/>
                  </a:lnTo>
                  <a:lnTo>
                    <a:pt x="1463" y="403"/>
                  </a:lnTo>
                  <a:lnTo>
                    <a:pt x="1499" y="411"/>
                  </a:lnTo>
                  <a:lnTo>
                    <a:pt x="1532" y="418"/>
                  </a:lnTo>
                  <a:lnTo>
                    <a:pt x="1562" y="427"/>
                  </a:lnTo>
                  <a:lnTo>
                    <a:pt x="1589" y="434"/>
                  </a:lnTo>
                  <a:lnTo>
                    <a:pt x="1612" y="441"/>
                  </a:lnTo>
                  <a:lnTo>
                    <a:pt x="1645" y="453"/>
                  </a:lnTo>
                  <a:lnTo>
                    <a:pt x="1661" y="459"/>
                  </a:lnTo>
                  <a:lnTo>
                    <a:pt x="1672" y="464"/>
                  </a:lnTo>
                  <a:lnTo>
                    <a:pt x="1684" y="462"/>
                  </a:lnTo>
                  <a:lnTo>
                    <a:pt x="1728" y="454"/>
                  </a:lnTo>
                  <a:lnTo>
                    <a:pt x="1773" y="452"/>
                  </a:lnTo>
                  <a:lnTo>
                    <a:pt x="1818" y="454"/>
                  </a:lnTo>
                  <a:lnTo>
                    <a:pt x="1861" y="462"/>
                  </a:lnTo>
                  <a:lnTo>
                    <a:pt x="1905" y="473"/>
                  </a:lnTo>
                  <a:lnTo>
                    <a:pt x="1947" y="488"/>
                  </a:lnTo>
                  <a:lnTo>
                    <a:pt x="1990" y="506"/>
                  </a:lnTo>
                  <a:lnTo>
                    <a:pt x="2031" y="529"/>
                  </a:lnTo>
                  <a:lnTo>
                    <a:pt x="2072" y="552"/>
                  </a:lnTo>
                  <a:lnTo>
                    <a:pt x="2112" y="580"/>
                  </a:lnTo>
                  <a:lnTo>
                    <a:pt x="2152" y="609"/>
                  </a:lnTo>
                  <a:lnTo>
                    <a:pt x="2189" y="640"/>
                  </a:lnTo>
                  <a:lnTo>
                    <a:pt x="2226" y="674"/>
                  </a:lnTo>
                  <a:lnTo>
                    <a:pt x="2262" y="707"/>
                  </a:lnTo>
                  <a:lnTo>
                    <a:pt x="2297" y="742"/>
                  </a:lnTo>
                  <a:lnTo>
                    <a:pt x="2329" y="778"/>
                  </a:lnTo>
                  <a:lnTo>
                    <a:pt x="2362" y="814"/>
                  </a:lnTo>
                  <a:lnTo>
                    <a:pt x="2391" y="850"/>
                  </a:lnTo>
                  <a:lnTo>
                    <a:pt x="2421" y="886"/>
                  </a:lnTo>
                  <a:lnTo>
                    <a:pt x="2447" y="921"/>
                  </a:lnTo>
                  <a:lnTo>
                    <a:pt x="2497" y="989"/>
                  </a:lnTo>
                  <a:lnTo>
                    <a:pt x="2539" y="1050"/>
                  </a:lnTo>
                  <a:lnTo>
                    <a:pt x="2573" y="1102"/>
                  </a:lnTo>
                  <a:lnTo>
                    <a:pt x="2598" y="1143"/>
                  </a:lnTo>
                  <a:lnTo>
                    <a:pt x="2614" y="1169"/>
                  </a:lnTo>
                  <a:lnTo>
                    <a:pt x="2620" y="1180"/>
                  </a:lnTo>
                  <a:lnTo>
                    <a:pt x="2648" y="1231"/>
                  </a:lnTo>
                  <a:lnTo>
                    <a:pt x="2779" y="1036"/>
                  </a:lnTo>
                  <a:lnTo>
                    <a:pt x="2791" y="1009"/>
                  </a:lnTo>
                  <a:lnTo>
                    <a:pt x="2801" y="982"/>
                  </a:lnTo>
                  <a:lnTo>
                    <a:pt x="2811" y="955"/>
                  </a:lnTo>
                  <a:lnTo>
                    <a:pt x="2817" y="931"/>
                  </a:lnTo>
                  <a:lnTo>
                    <a:pt x="2824" y="907"/>
                  </a:lnTo>
                  <a:lnTo>
                    <a:pt x="2827" y="885"/>
                  </a:lnTo>
                  <a:lnTo>
                    <a:pt x="2830" y="862"/>
                  </a:lnTo>
                  <a:lnTo>
                    <a:pt x="2831" y="841"/>
                  </a:lnTo>
                  <a:lnTo>
                    <a:pt x="2831" y="821"/>
                  </a:lnTo>
                  <a:lnTo>
                    <a:pt x="2829" y="802"/>
                  </a:lnTo>
                  <a:lnTo>
                    <a:pt x="2826" y="783"/>
                  </a:lnTo>
                  <a:lnTo>
                    <a:pt x="2821" y="766"/>
                  </a:lnTo>
                  <a:lnTo>
                    <a:pt x="2815" y="748"/>
                  </a:lnTo>
                  <a:lnTo>
                    <a:pt x="2809" y="732"/>
                  </a:lnTo>
                  <a:lnTo>
                    <a:pt x="2800" y="716"/>
                  </a:lnTo>
                  <a:lnTo>
                    <a:pt x="2791" y="701"/>
                  </a:lnTo>
                  <a:lnTo>
                    <a:pt x="2780" y="686"/>
                  </a:lnTo>
                  <a:lnTo>
                    <a:pt x="2769" y="671"/>
                  </a:lnTo>
                  <a:lnTo>
                    <a:pt x="2756" y="658"/>
                  </a:lnTo>
                  <a:lnTo>
                    <a:pt x="2744" y="644"/>
                  </a:lnTo>
                  <a:lnTo>
                    <a:pt x="2729" y="630"/>
                  </a:lnTo>
                  <a:lnTo>
                    <a:pt x="2714" y="617"/>
                  </a:lnTo>
                  <a:lnTo>
                    <a:pt x="2698" y="604"/>
                  </a:lnTo>
                  <a:lnTo>
                    <a:pt x="2682" y="592"/>
                  </a:lnTo>
                  <a:lnTo>
                    <a:pt x="2646" y="567"/>
                  </a:lnTo>
                  <a:lnTo>
                    <a:pt x="2609" y="542"/>
                  </a:lnTo>
                  <a:lnTo>
                    <a:pt x="2568" y="516"/>
                  </a:lnTo>
                  <a:lnTo>
                    <a:pt x="2526" y="491"/>
                  </a:lnTo>
                  <a:lnTo>
                    <a:pt x="2487" y="468"/>
                  </a:lnTo>
                  <a:lnTo>
                    <a:pt x="2446" y="443"/>
                  </a:lnTo>
                  <a:lnTo>
                    <a:pt x="2405" y="416"/>
                  </a:lnTo>
                  <a:lnTo>
                    <a:pt x="2362" y="388"/>
                  </a:lnTo>
                  <a:lnTo>
                    <a:pt x="2318" y="359"/>
                  </a:lnTo>
                  <a:lnTo>
                    <a:pt x="2275" y="326"/>
                  </a:lnTo>
                  <a:lnTo>
                    <a:pt x="2230" y="292"/>
                  </a:lnTo>
                  <a:lnTo>
                    <a:pt x="2184" y="254"/>
                  </a:lnTo>
                  <a:lnTo>
                    <a:pt x="2148" y="233"/>
                  </a:lnTo>
                  <a:lnTo>
                    <a:pt x="2112" y="212"/>
                  </a:lnTo>
                  <a:lnTo>
                    <a:pt x="2077" y="192"/>
                  </a:lnTo>
                  <a:lnTo>
                    <a:pt x="2041" y="174"/>
                  </a:lnTo>
                  <a:lnTo>
                    <a:pt x="2006" y="156"/>
                  </a:lnTo>
                  <a:lnTo>
                    <a:pt x="1970" y="139"/>
                  </a:lnTo>
                  <a:lnTo>
                    <a:pt x="1936" y="123"/>
                  </a:lnTo>
                  <a:lnTo>
                    <a:pt x="1901" y="108"/>
                  </a:lnTo>
                  <a:lnTo>
                    <a:pt x="1865" y="94"/>
                  </a:lnTo>
                  <a:lnTo>
                    <a:pt x="1830" y="82"/>
                  </a:lnTo>
                  <a:lnTo>
                    <a:pt x="1795" y="70"/>
                  </a:lnTo>
                  <a:lnTo>
                    <a:pt x="1761" y="58"/>
                  </a:lnTo>
                  <a:lnTo>
                    <a:pt x="1725" y="49"/>
                  </a:lnTo>
                  <a:lnTo>
                    <a:pt x="1690" y="39"/>
                  </a:lnTo>
                  <a:lnTo>
                    <a:pt x="1655" y="31"/>
                  </a:lnTo>
                  <a:lnTo>
                    <a:pt x="1620" y="24"/>
                  </a:lnTo>
                  <a:lnTo>
                    <a:pt x="1586" y="18"/>
                  </a:lnTo>
                  <a:lnTo>
                    <a:pt x="1551" y="13"/>
                  </a:lnTo>
                  <a:lnTo>
                    <a:pt x="1516" y="8"/>
                  </a:lnTo>
                  <a:lnTo>
                    <a:pt x="1482" y="4"/>
                  </a:lnTo>
                  <a:lnTo>
                    <a:pt x="1448" y="3"/>
                  </a:lnTo>
                  <a:lnTo>
                    <a:pt x="1413" y="0"/>
                  </a:lnTo>
                  <a:lnTo>
                    <a:pt x="1378" y="0"/>
                  </a:lnTo>
                  <a:lnTo>
                    <a:pt x="1345" y="0"/>
                  </a:lnTo>
                  <a:lnTo>
                    <a:pt x="1310" y="1"/>
                  </a:lnTo>
                  <a:lnTo>
                    <a:pt x="1276" y="4"/>
                  </a:lnTo>
                  <a:lnTo>
                    <a:pt x="1242" y="8"/>
                  </a:lnTo>
                  <a:lnTo>
                    <a:pt x="1208" y="11"/>
                  </a:lnTo>
                  <a:lnTo>
                    <a:pt x="1175" y="18"/>
                  </a:lnTo>
                  <a:lnTo>
                    <a:pt x="1140" y="24"/>
                  </a:lnTo>
                  <a:lnTo>
                    <a:pt x="1106" y="30"/>
                  </a:lnTo>
                  <a:lnTo>
                    <a:pt x="1073" y="39"/>
                  </a:lnTo>
                  <a:close/>
                  <a:moveTo>
                    <a:pt x="1091" y="107"/>
                  </a:moveTo>
                  <a:lnTo>
                    <a:pt x="1122" y="99"/>
                  </a:lnTo>
                  <a:lnTo>
                    <a:pt x="1155" y="93"/>
                  </a:lnTo>
                  <a:lnTo>
                    <a:pt x="1187" y="87"/>
                  </a:lnTo>
                  <a:lnTo>
                    <a:pt x="1219" y="82"/>
                  </a:lnTo>
                  <a:lnTo>
                    <a:pt x="1250" y="78"/>
                  </a:lnTo>
                  <a:lnTo>
                    <a:pt x="1283" y="76"/>
                  </a:lnTo>
                  <a:lnTo>
                    <a:pt x="1315" y="73"/>
                  </a:lnTo>
                  <a:lnTo>
                    <a:pt x="1348" y="72"/>
                  </a:lnTo>
                  <a:lnTo>
                    <a:pt x="1381" y="71"/>
                  </a:lnTo>
                  <a:lnTo>
                    <a:pt x="1413" y="72"/>
                  </a:lnTo>
                  <a:lnTo>
                    <a:pt x="1445" y="73"/>
                  </a:lnTo>
                  <a:lnTo>
                    <a:pt x="1477" y="76"/>
                  </a:lnTo>
                  <a:lnTo>
                    <a:pt x="1511" y="80"/>
                  </a:lnTo>
                  <a:lnTo>
                    <a:pt x="1543" y="83"/>
                  </a:lnTo>
                  <a:lnTo>
                    <a:pt x="1577" y="88"/>
                  </a:lnTo>
                  <a:lnTo>
                    <a:pt x="1609" y="94"/>
                  </a:lnTo>
                  <a:lnTo>
                    <a:pt x="1643" y="101"/>
                  </a:lnTo>
                  <a:lnTo>
                    <a:pt x="1675" y="109"/>
                  </a:lnTo>
                  <a:lnTo>
                    <a:pt x="1708" y="118"/>
                  </a:lnTo>
                  <a:lnTo>
                    <a:pt x="1741" y="127"/>
                  </a:lnTo>
                  <a:lnTo>
                    <a:pt x="1774" y="138"/>
                  </a:lnTo>
                  <a:lnTo>
                    <a:pt x="1808" y="149"/>
                  </a:lnTo>
                  <a:lnTo>
                    <a:pt x="1841" y="161"/>
                  </a:lnTo>
                  <a:lnTo>
                    <a:pt x="1874" y="174"/>
                  </a:lnTo>
                  <a:lnTo>
                    <a:pt x="1907" y="189"/>
                  </a:lnTo>
                  <a:lnTo>
                    <a:pt x="1941" y="204"/>
                  </a:lnTo>
                  <a:lnTo>
                    <a:pt x="1974" y="220"/>
                  </a:lnTo>
                  <a:lnTo>
                    <a:pt x="2008" y="236"/>
                  </a:lnTo>
                  <a:lnTo>
                    <a:pt x="2041" y="253"/>
                  </a:lnTo>
                  <a:lnTo>
                    <a:pt x="2075" y="272"/>
                  </a:lnTo>
                  <a:lnTo>
                    <a:pt x="2108" y="292"/>
                  </a:lnTo>
                  <a:lnTo>
                    <a:pt x="2142" y="312"/>
                  </a:lnTo>
                  <a:lnTo>
                    <a:pt x="2188" y="350"/>
                  </a:lnTo>
                  <a:lnTo>
                    <a:pt x="2234" y="385"/>
                  </a:lnTo>
                  <a:lnTo>
                    <a:pt x="2280" y="418"/>
                  </a:lnTo>
                  <a:lnTo>
                    <a:pt x="2324" y="448"/>
                  </a:lnTo>
                  <a:lnTo>
                    <a:pt x="2368" y="477"/>
                  </a:lnTo>
                  <a:lnTo>
                    <a:pt x="2410" y="504"/>
                  </a:lnTo>
                  <a:lnTo>
                    <a:pt x="2450" y="529"/>
                  </a:lnTo>
                  <a:lnTo>
                    <a:pt x="2490" y="552"/>
                  </a:lnTo>
                  <a:lnTo>
                    <a:pt x="2549" y="589"/>
                  </a:lnTo>
                  <a:lnTo>
                    <a:pt x="2604" y="623"/>
                  </a:lnTo>
                  <a:lnTo>
                    <a:pt x="2627" y="640"/>
                  </a:lnTo>
                  <a:lnTo>
                    <a:pt x="2650" y="656"/>
                  </a:lnTo>
                  <a:lnTo>
                    <a:pt x="2671" y="673"/>
                  </a:lnTo>
                  <a:lnTo>
                    <a:pt x="2689" y="689"/>
                  </a:lnTo>
                  <a:lnTo>
                    <a:pt x="2706" y="705"/>
                  </a:lnTo>
                  <a:lnTo>
                    <a:pt x="2720" y="721"/>
                  </a:lnTo>
                  <a:lnTo>
                    <a:pt x="2733" y="738"/>
                  </a:lnTo>
                  <a:lnTo>
                    <a:pt x="2743" y="757"/>
                  </a:lnTo>
                  <a:lnTo>
                    <a:pt x="2750" y="776"/>
                  </a:lnTo>
                  <a:lnTo>
                    <a:pt x="2756" y="795"/>
                  </a:lnTo>
                  <a:lnTo>
                    <a:pt x="2760" y="815"/>
                  </a:lnTo>
                  <a:lnTo>
                    <a:pt x="2761" y="838"/>
                  </a:lnTo>
                  <a:lnTo>
                    <a:pt x="2760" y="855"/>
                  </a:lnTo>
                  <a:lnTo>
                    <a:pt x="2759" y="872"/>
                  </a:lnTo>
                  <a:lnTo>
                    <a:pt x="2755" y="892"/>
                  </a:lnTo>
                  <a:lnTo>
                    <a:pt x="2750" y="912"/>
                  </a:lnTo>
                  <a:lnTo>
                    <a:pt x="2744" y="933"/>
                  </a:lnTo>
                  <a:lnTo>
                    <a:pt x="2737" y="954"/>
                  </a:lnTo>
                  <a:lnTo>
                    <a:pt x="2728" y="978"/>
                  </a:lnTo>
                  <a:lnTo>
                    <a:pt x="2717" y="1001"/>
                  </a:lnTo>
                  <a:lnTo>
                    <a:pt x="2711" y="1011"/>
                  </a:lnTo>
                  <a:lnTo>
                    <a:pt x="2696" y="1034"/>
                  </a:lnTo>
                  <a:lnTo>
                    <a:pt x="2675" y="1063"/>
                  </a:lnTo>
                  <a:lnTo>
                    <a:pt x="2653" y="1096"/>
                  </a:lnTo>
                  <a:lnTo>
                    <a:pt x="2630" y="1057"/>
                  </a:lnTo>
                  <a:lnTo>
                    <a:pt x="2599" y="1010"/>
                  </a:lnTo>
                  <a:lnTo>
                    <a:pt x="2563" y="955"/>
                  </a:lnTo>
                  <a:lnTo>
                    <a:pt x="2521" y="897"/>
                  </a:lnTo>
                  <a:lnTo>
                    <a:pt x="2497" y="866"/>
                  </a:lnTo>
                  <a:lnTo>
                    <a:pt x="2472" y="834"/>
                  </a:lnTo>
                  <a:lnTo>
                    <a:pt x="2446" y="802"/>
                  </a:lnTo>
                  <a:lnTo>
                    <a:pt x="2419" y="769"/>
                  </a:lnTo>
                  <a:lnTo>
                    <a:pt x="2390" y="737"/>
                  </a:lnTo>
                  <a:lnTo>
                    <a:pt x="2360" y="705"/>
                  </a:lnTo>
                  <a:lnTo>
                    <a:pt x="2331" y="674"/>
                  </a:lnTo>
                  <a:lnTo>
                    <a:pt x="2298" y="642"/>
                  </a:lnTo>
                  <a:lnTo>
                    <a:pt x="2266" y="612"/>
                  </a:lnTo>
                  <a:lnTo>
                    <a:pt x="2231" y="582"/>
                  </a:lnTo>
                  <a:lnTo>
                    <a:pt x="2198" y="553"/>
                  </a:lnTo>
                  <a:lnTo>
                    <a:pt x="2162" y="527"/>
                  </a:lnTo>
                  <a:lnTo>
                    <a:pt x="2124" y="501"/>
                  </a:lnTo>
                  <a:lnTo>
                    <a:pt x="2087" y="479"/>
                  </a:lnTo>
                  <a:lnTo>
                    <a:pt x="2050" y="457"/>
                  </a:lnTo>
                  <a:lnTo>
                    <a:pt x="2011" y="438"/>
                  </a:lnTo>
                  <a:lnTo>
                    <a:pt x="1972" y="421"/>
                  </a:lnTo>
                  <a:lnTo>
                    <a:pt x="1932" y="407"/>
                  </a:lnTo>
                  <a:lnTo>
                    <a:pt x="1891" y="396"/>
                  </a:lnTo>
                  <a:lnTo>
                    <a:pt x="1850" y="388"/>
                  </a:lnTo>
                  <a:lnTo>
                    <a:pt x="1808" y="384"/>
                  </a:lnTo>
                  <a:lnTo>
                    <a:pt x="1766" y="382"/>
                  </a:lnTo>
                  <a:lnTo>
                    <a:pt x="1723" y="384"/>
                  </a:lnTo>
                  <a:lnTo>
                    <a:pt x="1680" y="390"/>
                  </a:lnTo>
                  <a:lnTo>
                    <a:pt x="1660" y="382"/>
                  </a:lnTo>
                  <a:lnTo>
                    <a:pt x="1622" y="370"/>
                  </a:lnTo>
                  <a:lnTo>
                    <a:pt x="1597" y="364"/>
                  </a:lnTo>
                  <a:lnTo>
                    <a:pt x="1568" y="356"/>
                  </a:lnTo>
                  <a:lnTo>
                    <a:pt x="1536" y="349"/>
                  </a:lnTo>
                  <a:lnTo>
                    <a:pt x="1500" y="341"/>
                  </a:lnTo>
                  <a:lnTo>
                    <a:pt x="1461" y="334"/>
                  </a:lnTo>
                  <a:lnTo>
                    <a:pt x="1420" y="328"/>
                  </a:lnTo>
                  <a:lnTo>
                    <a:pt x="1377" y="324"/>
                  </a:lnTo>
                  <a:lnTo>
                    <a:pt x="1331" y="320"/>
                  </a:lnTo>
                  <a:lnTo>
                    <a:pt x="1283" y="319"/>
                  </a:lnTo>
                  <a:lnTo>
                    <a:pt x="1232" y="319"/>
                  </a:lnTo>
                  <a:lnTo>
                    <a:pt x="1179" y="321"/>
                  </a:lnTo>
                  <a:lnTo>
                    <a:pt x="1127" y="326"/>
                  </a:lnTo>
                  <a:lnTo>
                    <a:pt x="1073" y="335"/>
                  </a:lnTo>
                  <a:lnTo>
                    <a:pt x="1017" y="346"/>
                  </a:lnTo>
                  <a:lnTo>
                    <a:pt x="961" y="360"/>
                  </a:lnTo>
                  <a:lnTo>
                    <a:pt x="904" y="379"/>
                  </a:lnTo>
                  <a:lnTo>
                    <a:pt x="847" y="401"/>
                  </a:lnTo>
                  <a:lnTo>
                    <a:pt x="790" y="428"/>
                  </a:lnTo>
                  <a:lnTo>
                    <a:pt x="732" y="459"/>
                  </a:lnTo>
                  <a:lnTo>
                    <a:pt x="677" y="495"/>
                  </a:lnTo>
                  <a:lnTo>
                    <a:pt x="619" y="536"/>
                  </a:lnTo>
                  <a:lnTo>
                    <a:pt x="565" y="583"/>
                  </a:lnTo>
                  <a:lnTo>
                    <a:pt x="510" y="635"/>
                  </a:lnTo>
                  <a:lnTo>
                    <a:pt x="458" y="694"/>
                  </a:lnTo>
                  <a:lnTo>
                    <a:pt x="406" y="759"/>
                  </a:lnTo>
                  <a:lnTo>
                    <a:pt x="356" y="830"/>
                  </a:lnTo>
                  <a:lnTo>
                    <a:pt x="309" y="908"/>
                  </a:lnTo>
                  <a:lnTo>
                    <a:pt x="263" y="994"/>
                  </a:lnTo>
                  <a:lnTo>
                    <a:pt x="226" y="973"/>
                  </a:lnTo>
                  <a:lnTo>
                    <a:pt x="180" y="946"/>
                  </a:lnTo>
                  <a:lnTo>
                    <a:pt x="134" y="918"/>
                  </a:lnTo>
                  <a:lnTo>
                    <a:pt x="97" y="896"/>
                  </a:lnTo>
                  <a:lnTo>
                    <a:pt x="115" y="867"/>
                  </a:lnTo>
                  <a:lnTo>
                    <a:pt x="140" y="830"/>
                  </a:lnTo>
                  <a:lnTo>
                    <a:pt x="171" y="787"/>
                  </a:lnTo>
                  <a:lnTo>
                    <a:pt x="208" y="738"/>
                  </a:lnTo>
                  <a:lnTo>
                    <a:pt x="252" y="684"/>
                  </a:lnTo>
                  <a:lnTo>
                    <a:pt x="302" y="627"/>
                  </a:lnTo>
                  <a:lnTo>
                    <a:pt x="328" y="597"/>
                  </a:lnTo>
                  <a:lnTo>
                    <a:pt x="356" y="567"/>
                  </a:lnTo>
                  <a:lnTo>
                    <a:pt x="386" y="536"/>
                  </a:lnTo>
                  <a:lnTo>
                    <a:pt x="417" y="506"/>
                  </a:lnTo>
                  <a:lnTo>
                    <a:pt x="449" y="475"/>
                  </a:lnTo>
                  <a:lnTo>
                    <a:pt x="483" y="444"/>
                  </a:lnTo>
                  <a:lnTo>
                    <a:pt x="518" y="415"/>
                  </a:lnTo>
                  <a:lnTo>
                    <a:pt x="554" y="385"/>
                  </a:lnTo>
                  <a:lnTo>
                    <a:pt x="592" y="355"/>
                  </a:lnTo>
                  <a:lnTo>
                    <a:pt x="631" y="326"/>
                  </a:lnTo>
                  <a:lnTo>
                    <a:pt x="672" y="299"/>
                  </a:lnTo>
                  <a:lnTo>
                    <a:pt x="713" y="272"/>
                  </a:lnTo>
                  <a:lnTo>
                    <a:pt x="756" y="246"/>
                  </a:lnTo>
                  <a:lnTo>
                    <a:pt x="800" y="221"/>
                  </a:lnTo>
                  <a:lnTo>
                    <a:pt x="845" y="199"/>
                  </a:lnTo>
                  <a:lnTo>
                    <a:pt x="893" y="176"/>
                  </a:lnTo>
                  <a:lnTo>
                    <a:pt x="940" y="156"/>
                  </a:lnTo>
                  <a:lnTo>
                    <a:pt x="989" y="138"/>
                  </a:lnTo>
                  <a:lnTo>
                    <a:pt x="1039" y="122"/>
                  </a:lnTo>
                  <a:lnTo>
                    <a:pt x="1091" y="10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5299200" y="5140440"/>
              <a:ext cx="128520" cy="412560"/>
            </a:xfrm>
            <a:custGeom>
              <a:avLst/>
              <a:gdLst/>
              <a:ahLst/>
              <a:rect l="l" t="t" r="r" b="b"/>
              <a:pathLst>
                <a:path w="328" h="1041">
                  <a:moveTo>
                    <a:pt x="134" y="1"/>
                  </a:moveTo>
                  <a:lnTo>
                    <a:pt x="132" y="8"/>
                  </a:lnTo>
                  <a:lnTo>
                    <a:pt x="125" y="26"/>
                  </a:lnTo>
                  <a:lnTo>
                    <a:pt x="116" y="55"/>
                  </a:lnTo>
                  <a:lnTo>
                    <a:pt x="103" y="95"/>
                  </a:lnTo>
                  <a:lnTo>
                    <a:pt x="88" y="143"/>
                  </a:lnTo>
                  <a:lnTo>
                    <a:pt x="73" y="199"/>
                  </a:lnTo>
                  <a:lnTo>
                    <a:pt x="57" y="261"/>
                  </a:lnTo>
                  <a:lnTo>
                    <a:pt x="42" y="329"/>
                  </a:lnTo>
                  <a:lnTo>
                    <a:pt x="35" y="365"/>
                  </a:lnTo>
                  <a:lnTo>
                    <a:pt x="29" y="401"/>
                  </a:lnTo>
                  <a:lnTo>
                    <a:pt x="22" y="439"/>
                  </a:lnTo>
                  <a:lnTo>
                    <a:pt x="16" y="477"/>
                  </a:lnTo>
                  <a:lnTo>
                    <a:pt x="11" y="516"/>
                  </a:lnTo>
                  <a:lnTo>
                    <a:pt x="8" y="555"/>
                  </a:lnTo>
                  <a:lnTo>
                    <a:pt x="4" y="596"/>
                  </a:lnTo>
                  <a:lnTo>
                    <a:pt x="1" y="635"/>
                  </a:lnTo>
                  <a:lnTo>
                    <a:pt x="0" y="675"/>
                  </a:lnTo>
                  <a:lnTo>
                    <a:pt x="0" y="715"/>
                  </a:lnTo>
                  <a:lnTo>
                    <a:pt x="1" y="755"/>
                  </a:lnTo>
                  <a:lnTo>
                    <a:pt x="4" y="794"/>
                  </a:lnTo>
                  <a:lnTo>
                    <a:pt x="8" y="833"/>
                  </a:lnTo>
                  <a:lnTo>
                    <a:pt x="12" y="871"/>
                  </a:lnTo>
                  <a:lnTo>
                    <a:pt x="20" y="908"/>
                  </a:lnTo>
                  <a:lnTo>
                    <a:pt x="30" y="944"/>
                  </a:lnTo>
                  <a:lnTo>
                    <a:pt x="56" y="1041"/>
                  </a:lnTo>
                  <a:lnTo>
                    <a:pt x="143" y="1041"/>
                  </a:lnTo>
                  <a:lnTo>
                    <a:pt x="143" y="1032"/>
                  </a:lnTo>
                  <a:lnTo>
                    <a:pt x="140" y="1006"/>
                  </a:lnTo>
                  <a:lnTo>
                    <a:pt x="138" y="965"/>
                  </a:lnTo>
                  <a:lnTo>
                    <a:pt x="137" y="913"/>
                  </a:lnTo>
                  <a:lnTo>
                    <a:pt x="134" y="849"/>
                  </a:lnTo>
                  <a:lnTo>
                    <a:pt x="134" y="777"/>
                  </a:lnTo>
                  <a:lnTo>
                    <a:pt x="135" y="699"/>
                  </a:lnTo>
                  <a:lnTo>
                    <a:pt x="140" y="616"/>
                  </a:lnTo>
                  <a:lnTo>
                    <a:pt x="143" y="572"/>
                  </a:lnTo>
                  <a:lnTo>
                    <a:pt x="147" y="530"/>
                  </a:lnTo>
                  <a:lnTo>
                    <a:pt x="152" y="487"/>
                  </a:lnTo>
                  <a:lnTo>
                    <a:pt x="158" y="443"/>
                  </a:lnTo>
                  <a:lnTo>
                    <a:pt x="164" y="401"/>
                  </a:lnTo>
                  <a:lnTo>
                    <a:pt x="171" y="359"/>
                  </a:lnTo>
                  <a:lnTo>
                    <a:pt x="181" y="318"/>
                  </a:lnTo>
                  <a:lnTo>
                    <a:pt x="191" y="278"/>
                  </a:lnTo>
                  <a:lnTo>
                    <a:pt x="202" y="240"/>
                  </a:lnTo>
                  <a:lnTo>
                    <a:pt x="216" y="202"/>
                  </a:lnTo>
                  <a:lnTo>
                    <a:pt x="230" y="168"/>
                  </a:lnTo>
                  <a:lnTo>
                    <a:pt x="246" y="134"/>
                  </a:lnTo>
                  <a:lnTo>
                    <a:pt x="265" y="104"/>
                  </a:lnTo>
                  <a:lnTo>
                    <a:pt x="283" y="77"/>
                  </a:lnTo>
                  <a:lnTo>
                    <a:pt x="304" y="52"/>
                  </a:lnTo>
                  <a:lnTo>
                    <a:pt x="328" y="30"/>
                  </a:lnTo>
                  <a:lnTo>
                    <a:pt x="320" y="29"/>
                  </a:lnTo>
                  <a:lnTo>
                    <a:pt x="302" y="24"/>
                  </a:lnTo>
                  <a:lnTo>
                    <a:pt x="276" y="19"/>
                  </a:lnTo>
                  <a:lnTo>
                    <a:pt x="245" y="13"/>
                  </a:lnTo>
                  <a:lnTo>
                    <a:pt x="211" y="6"/>
                  </a:lnTo>
                  <a:lnTo>
                    <a:pt x="179" y="1"/>
                  </a:lnTo>
                  <a:lnTo>
                    <a:pt x="165" y="0"/>
                  </a:lnTo>
                  <a:lnTo>
                    <a:pt x="153" y="0"/>
                  </a:lnTo>
                  <a:lnTo>
                    <a:pt x="143" y="0"/>
                  </a:lnTo>
                  <a:lnTo>
                    <a:pt x="134" y="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5284800" y="5126040"/>
              <a:ext cx="174600" cy="441360"/>
            </a:xfrm>
            <a:custGeom>
              <a:avLst/>
              <a:gdLst/>
              <a:ahLst/>
              <a:rect l="l" t="t" r="r" b="b"/>
              <a:pathLst>
                <a:path w="441" h="1113">
                  <a:moveTo>
                    <a:pt x="161" y="3"/>
                  </a:moveTo>
                  <a:lnTo>
                    <a:pt x="144" y="8"/>
                  </a:lnTo>
                  <a:lnTo>
                    <a:pt x="137" y="25"/>
                  </a:lnTo>
                  <a:lnTo>
                    <a:pt x="133" y="35"/>
                  </a:lnTo>
                  <a:lnTo>
                    <a:pt x="125" y="57"/>
                  </a:lnTo>
                  <a:lnTo>
                    <a:pt x="114" y="88"/>
                  </a:lnTo>
                  <a:lnTo>
                    <a:pt x="102" y="131"/>
                  </a:lnTo>
                  <a:lnTo>
                    <a:pt x="87" y="180"/>
                  </a:lnTo>
                  <a:lnTo>
                    <a:pt x="71" y="237"/>
                  </a:lnTo>
                  <a:lnTo>
                    <a:pt x="56" y="300"/>
                  </a:lnTo>
                  <a:lnTo>
                    <a:pt x="41" y="369"/>
                  </a:lnTo>
                  <a:lnTo>
                    <a:pt x="34" y="406"/>
                  </a:lnTo>
                  <a:lnTo>
                    <a:pt x="26" y="442"/>
                  </a:lnTo>
                  <a:lnTo>
                    <a:pt x="20" y="480"/>
                  </a:lnTo>
                  <a:lnTo>
                    <a:pt x="15" y="519"/>
                  </a:lnTo>
                  <a:lnTo>
                    <a:pt x="10" y="557"/>
                  </a:lnTo>
                  <a:lnTo>
                    <a:pt x="6" y="597"/>
                  </a:lnTo>
                  <a:lnTo>
                    <a:pt x="3" y="638"/>
                  </a:lnTo>
                  <a:lnTo>
                    <a:pt x="1" y="678"/>
                  </a:lnTo>
                  <a:lnTo>
                    <a:pt x="0" y="717"/>
                  </a:lnTo>
                  <a:lnTo>
                    <a:pt x="0" y="758"/>
                  </a:lnTo>
                  <a:lnTo>
                    <a:pt x="1" y="798"/>
                  </a:lnTo>
                  <a:lnTo>
                    <a:pt x="4" y="838"/>
                  </a:lnTo>
                  <a:lnTo>
                    <a:pt x="9" y="876"/>
                  </a:lnTo>
                  <a:lnTo>
                    <a:pt x="14" y="915"/>
                  </a:lnTo>
                  <a:lnTo>
                    <a:pt x="21" y="953"/>
                  </a:lnTo>
                  <a:lnTo>
                    <a:pt x="31" y="990"/>
                  </a:lnTo>
                  <a:lnTo>
                    <a:pt x="65" y="1113"/>
                  </a:lnTo>
                  <a:lnTo>
                    <a:pt x="219" y="1113"/>
                  </a:lnTo>
                  <a:lnTo>
                    <a:pt x="215" y="1073"/>
                  </a:lnTo>
                  <a:lnTo>
                    <a:pt x="214" y="1064"/>
                  </a:lnTo>
                  <a:lnTo>
                    <a:pt x="212" y="1037"/>
                  </a:lnTo>
                  <a:lnTo>
                    <a:pt x="210" y="998"/>
                  </a:lnTo>
                  <a:lnTo>
                    <a:pt x="207" y="946"/>
                  </a:lnTo>
                  <a:lnTo>
                    <a:pt x="206" y="882"/>
                  </a:lnTo>
                  <a:lnTo>
                    <a:pt x="206" y="813"/>
                  </a:lnTo>
                  <a:lnTo>
                    <a:pt x="207" y="736"/>
                  </a:lnTo>
                  <a:lnTo>
                    <a:pt x="211" y="655"/>
                  </a:lnTo>
                  <a:lnTo>
                    <a:pt x="214" y="613"/>
                  </a:lnTo>
                  <a:lnTo>
                    <a:pt x="217" y="572"/>
                  </a:lnTo>
                  <a:lnTo>
                    <a:pt x="222" y="530"/>
                  </a:lnTo>
                  <a:lnTo>
                    <a:pt x="227" y="489"/>
                  </a:lnTo>
                  <a:lnTo>
                    <a:pt x="233" y="447"/>
                  </a:lnTo>
                  <a:lnTo>
                    <a:pt x="241" y="407"/>
                  </a:lnTo>
                  <a:lnTo>
                    <a:pt x="250" y="367"/>
                  </a:lnTo>
                  <a:lnTo>
                    <a:pt x="260" y="329"/>
                  </a:lnTo>
                  <a:lnTo>
                    <a:pt x="270" y="292"/>
                  </a:lnTo>
                  <a:lnTo>
                    <a:pt x="282" y="257"/>
                  </a:lnTo>
                  <a:lnTo>
                    <a:pt x="296" y="224"/>
                  </a:lnTo>
                  <a:lnTo>
                    <a:pt x="310" y="193"/>
                  </a:lnTo>
                  <a:lnTo>
                    <a:pt x="327" y="163"/>
                  </a:lnTo>
                  <a:lnTo>
                    <a:pt x="345" y="137"/>
                  </a:lnTo>
                  <a:lnTo>
                    <a:pt x="365" y="114"/>
                  </a:lnTo>
                  <a:lnTo>
                    <a:pt x="386" y="93"/>
                  </a:lnTo>
                  <a:lnTo>
                    <a:pt x="441" y="49"/>
                  </a:lnTo>
                  <a:lnTo>
                    <a:pt x="371" y="31"/>
                  </a:lnTo>
                  <a:lnTo>
                    <a:pt x="350" y="26"/>
                  </a:lnTo>
                  <a:lnTo>
                    <a:pt x="323" y="20"/>
                  </a:lnTo>
                  <a:lnTo>
                    <a:pt x="293" y="14"/>
                  </a:lnTo>
                  <a:lnTo>
                    <a:pt x="262" y="9"/>
                  </a:lnTo>
                  <a:lnTo>
                    <a:pt x="232" y="4"/>
                  </a:lnTo>
                  <a:lnTo>
                    <a:pt x="204" y="1"/>
                  </a:lnTo>
                  <a:lnTo>
                    <a:pt x="191" y="0"/>
                  </a:lnTo>
                  <a:lnTo>
                    <a:pt x="180" y="0"/>
                  </a:lnTo>
                  <a:lnTo>
                    <a:pt x="169" y="1"/>
                  </a:lnTo>
                  <a:lnTo>
                    <a:pt x="161" y="3"/>
                  </a:lnTo>
                  <a:close/>
                  <a:moveTo>
                    <a:pt x="99" y="972"/>
                  </a:moveTo>
                  <a:lnTo>
                    <a:pt x="93" y="943"/>
                  </a:lnTo>
                  <a:lnTo>
                    <a:pt x="87" y="915"/>
                  </a:lnTo>
                  <a:lnTo>
                    <a:pt x="82" y="886"/>
                  </a:lnTo>
                  <a:lnTo>
                    <a:pt x="78" y="856"/>
                  </a:lnTo>
                  <a:lnTo>
                    <a:pt x="75" y="827"/>
                  </a:lnTo>
                  <a:lnTo>
                    <a:pt x="73" y="797"/>
                  </a:lnTo>
                  <a:lnTo>
                    <a:pt x="72" y="766"/>
                  </a:lnTo>
                  <a:lnTo>
                    <a:pt x="72" y="736"/>
                  </a:lnTo>
                  <a:lnTo>
                    <a:pt x="73" y="679"/>
                  </a:lnTo>
                  <a:lnTo>
                    <a:pt x="76" y="623"/>
                  </a:lnTo>
                  <a:lnTo>
                    <a:pt x="81" y="568"/>
                  </a:lnTo>
                  <a:lnTo>
                    <a:pt x="88" y="514"/>
                  </a:lnTo>
                  <a:lnTo>
                    <a:pt x="96" y="461"/>
                  </a:lnTo>
                  <a:lnTo>
                    <a:pt x="106" y="410"/>
                  </a:lnTo>
                  <a:lnTo>
                    <a:pt x="116" y="360"/>
                  </a:lnTo>
                  <a:lnTo>
                    <a:pt x="125" y="313"/>
                  </a:lnTo>
                  <a:lnTo>
                    <a:pt x="137" y="269"/>
                  </a:lnTo>
                  <a:lnTo>
                    <a:pt x="148" y="229"/>
                  </a:lnTo>
                  <a:lnTo>
                    <a:pt x="158" y="191"/>
                  </a:lnTo>
                  <a:lnTo>
                    <a:pt x="168" y="159"/>
                  </a:lnTo>
                  <a:lnTo>
                    <a:pt x="185" y="106"/>
                  </a:lnTo>
                  <a:lnTo>
                    <a:pt x="196" y="72"/>
                  </a:lnTo>
                  <a:lnTo>
                    <a:pt x="216" y="75"/>
                  </a:lnTo>
                  <a:lnTo>
                    <a:pt x="242" y="78"/>
                  </a:lnTo>
                  <a:lnTo>
                    <a:pt x="272" y="83"/>
                  </a:lnTo>
                  <a:lnTo>
                    <a:pt x="304" y="90"/>
                  </a:lnTo>
                  <a:lnTo>
                    <a:pt x="292" y="107"/>
                  </a:lnTo>
                  <a:lnTo>
                    <a:pt x="279" y="124"/>
                  </a:lnTo>
                  <a:lnTo>
                    <a:pt x="268" y="142"/>
                  </a:lnTo>
                  <a:lnTo>
                    <a:pt x="257" y="162"/>
                  </a:lnTo>
                  <a:lnTo>
                    <a:pt x="247" y="181"/>
                  </a:lnTo>
                  <a:lnTo>
                    <a:pt x="237" y="201"/>
                  </a:lnTo>
                  <a:lnTo>
                    <a:pt x="229" y="222"/>
                  </a:lnTo>
                  <a:lnTo>
                    <a:pt x="220" y="245"/>
                  </a:lnTo>
                  <a:lnTo>
                    <a:pt x="211" y="267"/>
                  </a:lnTo>
                  <a:lnTo>
                    <a:pt x="204" y="291"/>
                  </a:lnTo>
                  <a:lnTo>
                    <a:pt x="196" y="314"/>
                  </a:lnTo>
                  <a:lnTo>
                    <a:pt x="190" y="338"/>
                  </a:lnTo>
                  <a:lnTo>
                    <a:pt x="178" y="387"/>
                  </a:lnTo>
                  <a:lnTo>
                    <a:pt x="168" y="437"/>
                  </a:lnTo>
                  <a:lnTo>
                    <a:pt x="159" y="489"/>
                  </a:lnTo>
                  <a:lnTo>
                    <a:pt x="152" y="540"/>
                  </a:lnTo>
                  <a:lnTo>
                    <a:pt x="145" y="592"/>
                  </a:lnTo>
                  <a:lnTo>
                    <a:pt x="142" y="643"/>
                  </a:lnTo>
                  <a:lnTo>
                    <a:pt x="138" y="694"/>
                  </a:lnTo>
                  <a:lnTo>
                    <a:pt x="137" y="742"/>
                  </a:lnTo>
                  <a:lnTo>
                    <a:pt x="135" y="791"/>
                  </a:lnTo>
                  <a:lnTo>
                    <a:pt x="134" y="835"/>
                  </a:lnTo>
                  <a:lnTo>
                    <a:pt x="134" y="871"/>
                  </a:lnTo>
                  <a:lnTo>
                    <a:pt x="135" y="905"/>
                  </a:lnTo>
                  <a:lnTo>
                    <a:pt x="135" y="934"/>
                  </a:lnTo>
                  <a:lnTo>
                    <a:pt x="137" y="962"/>
                  </a:lnTo>
                  <a:lnTo>
                    <a:pt x="138" y="985"/>
                  </a:lnTo>
                  <a:lnTo>
                    <a:pt x="139" y="1006"/>
                  </a:lnTo>
                  <a:lnTo>
                    <a:pt x="140" y="1025"/>
                  </a:lnTo>
                  <a:lnTo>
                    <a:pt x="142" y="1041"/>
                  </a:lnTo>
                  <a:lnTo>
                    <a:pt x="129" y="1041"/>
                  </a:lnTo>
                  <a:lnTo>
                    <a:pt x="119" y="1041"/>
                  </a:lnTo>
                  <a:lnTo>
                    <a:pt x="113" y="1019"/>
                  </a:lnTo>
                  <a:lnTo>
                    <a:pt x="107" y="997"/>
                  </a:lnTo>
                  <a:lnTo>
                    <a:pt x="102" y="979"/>
                  </a:lnTo>
                  <a:lnTo>
                    <a:pt x="99" y="97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5342040" y="5146560"/>
              <a:ext cx="142920" cy="422280"/>
            </a:xfrm>
            <a:custGeom>
              <a:avLst/>
              <a:gdLst/>
              <a:ahLst/>
              <a:rect l="l" t="t" r="r" b="b"/>
              <a:pathLst>
                <a:path w="359" h="1062">
                  <a:moveTo>
                    <a:pt x="177" y="1"/>
                  </a:moveTo>
                  <a:lnTo>
                    <a:pt x="174" y="7"/>
                  </a:lnTo>
                  <a:lnTo>
                    <a:pt x="165" y="27"/>
                  </a:lnTo>
                  <a:lnTo>
                    <a:pt x="154" y="57"/>
                  </a:lnTo>
                  <a:lnTo>
                    <a:pt x="138" y="98"/>
                  </a:lnTo>
                  <a:lnTo>
                    <a:pt x="121" y="147"/>
                  </a:lnTo>
                  <a:lnTo>
                    <a:pt x="101" y="206"/>
                  </a:lnTo>
                  <a:lnTo>
                    <a:pt x="81" y="270"/>
                  </a:lnTo>
                  <a:lnTo>
                    <a:pt x="61" y="341"/>
                  </a:lnTo>
                  <a:lnTo>
                    <a:pt x="52" y="378"/>
                  </a:lnTo>
                  <a:lnTo>
                    <a:pt x="43" y="415"/>
                  </a:lnTo>
                  <a:lnTo>
                    <a:pt x="35" y="455"/>
                  </a:lnTo>
                  <a:lnTo>
                    <a:pt x="26" y="495"/>
                  </a:lnTo>
                  <a:lnTo>
                    <a:pt x="20" y="534"/>
                  </a:lnTo>
                  <a:lnTo>
                    <a:pt x="14" y="574"/>
                  </a:lnTo>
                  <a:lnTo>
                    <a:pt x="9" y="615"/>
                  </a:lnTo>
                  <a:lnTo>
                    <a:pt x="4" y="656"/>
                  </a:lnTo>
                  <a:lnTo>
                    <a:pt x="2" y="697"/>
                  </a:lnTo>
                  <a:lnTo>
                    <a:pt x="0" y="738"/>
                  </a:lnTo>
                  <a:lnTo>
                    <a:pt x="0" y="778"/>
                  </a:lnTo>
                  <a:lnTo>
                    <a:pt x="2" y="818"/>
                  </a:lnTo>
                  <a:lnTo>
                    <a:pt x="4" y="857"/>
                  </a:lnTo>
                  <a:lnTo>
                    <a:pt x="9" y="895"/>
                  </a:lnTo>
                  <a:lnTo>
                    <a:pt x="16" y="934"/>
                  </a:lnTo>
                  <a:lnTo>
                    <a:pt x="25" y="970"/>
                  </a:lnTo>
                  <a:lnTo>
                    <a:pt x="87" y="1062"/>
                  </a:lnTo>
                  <a:lnTo>
                    <a:pt x="175" y="1062"/>
                  </a:lnTo>
                  <a:lnTo>
                    <a:pt x="174" y="1053"/>
                  </a:lnTo>
                  <a:lnTo>
                    <a:pt x="172" y="1027"/>
                  </a:lnTo>
                  <a:lnTo>
                    <a:pt x="170" y="987"/>
                  </a:lnTo>
                  <a:lnTo>
                    <a:pt x="168" y="934"/>
                  </a:lnTo>
                  <a:lnTo>
                    <a:pt x="167" y="871"/>
                  </a:lnTo>
                  <a:lnTo>
                    <a:pt x="165" y="797"/>
                  </a:lnTo>
                  <a:lnTo>
                    <a:pt x="168" y="719"/>
                  </a:lnTo>
                  <a:lnTo>
                    <a:pt x="172" y="636"/>
                  </a:lnTo>
                  <a:lnTo>
                    <a:pt x="174" y="593"/>
                  </a:lnTo>
                  <a:lnTo>
                    <a:pt x="178" y="550"/>
                  </a:lnTo>
                  <a:lnTo>
                    <a:pt x="183" y="507"/>
                  </a:lnTo>
                  <a:lnTo>
                    <a:pt x="189" y="464"/>
                  </a:lnTo>
                  <a:lnTo>
                    <a:pt x="195" y="421"/>
                  </a:lnTo>
                  <a:lnTo>
                    <a:pt x="204" y="379"/>
                  </a:lnTo>
                  <a:lnTo>
                    <a:pt x="213" y="338"/>
                  </a:lnTo>
                  <a:lnTo>
                    <a:pt x="223" y="299"/>
                  </a:lnTo>
                  <a:lnTo>
                    <a:pt x="235" y="260"/>
                  </a:lnTo>
                  <a:lnTo>
                    <a:pt x="247" y="223"/>
                  </a:lnTo>
                  <a:lnTo>
                    <a:pt x="262" y="188"/>
                  </a:lnTo>
                  <a:lnTo>
                    <a:pt x="278" y="155"/>
                  </a:lnTo>
                  <a:lnTo>
                    <a:pt x="296" y="125"/>
                  </a:lnTo>
                  <a:lnTo>
                    <a:pt x="314" y="98"/>
                  </a:lnTo>
                  <a:lnTo>
                    <a:pt x="336" y="73"/>
                  </a:lnTo>
                  <a:lnTo>
                    <a:pt x="359" y="50"/>
                  </a:lnTo>
                  <a:lnTo>
                    <a:pt x="336" y="42"/>
                  </a:lnTo>
                  <a:lnTo>
                    <a:pt x="281" y="22"/>
                  </a:lnTo>
                  <a:lnTo>
                    <a:pt x="250" y="12"/>
                  </a:lnTo>
                  <a:lnTo>
                    <a:pt x="220" y="5"/>
                  </a:lnTo>
                  <a:lnTo>
                    <a:pt x="206" y="2"/>
                  </a:lnTo>
                  <a:lnTo>
                    <a:pt x="194" y="0"/>
                  </a:lnTo>
                  <a:lnTo>
                    <a:pt x="184" y="0"/>
                  </a:lnTo>
                  <a:lnTo>
                    <a:pt x="177" y="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5327640" y="5132520"/>
              <a:ext cx="184320" cy="450720"/>
            </a:xfrm>
            <a:custGeom>
              <a:avLst/>
              <a:gdLst/>
              <a:ahLst/>
              <a:rect l="l" t="t" r="r" b="b"/>
              <a:pathLst>
                <a:path w="463" h="1134">
                  <a:moveTo>
                    <a:pt x="204" y="2"/>
                  </a:moveTo>
                  <a:lnTo>
                    <a:pt x="187" y="7"/>
                  </a:lnTo>
                  <a:lnTo>
                    <a:pt x="180" y="22"/>
                  </a:lnTo>
                  <a:lnTo>
                    <a:pt x="175" y="33"/>
                  </a:lnTo>
                  <a:lnTo>
                    <a:pt x="165" y="55"/>
                  </a:lnTo>
                  <a:lnTo>
                    <a:pt x="153" y="89"/>
                  </a:lnTo>
                  <a:lnTo>
                    <a:pt x="137" y="132"/>
                  </a:lnTo>
                  <a:lnTo>
                    <a:pt x="118" y="184"/>
                  </a:lnTo>
                  <a:lnTo>
                    <a:pt x="98" y="244"/>
                  </a:lnTo>
                  <a:lnTo>
                    <a:pt x="79" y="310"/>
                  </a:lnTo>
                  <a:lnTo>
                    <a:pt x="59" y="381"/>
                  </a:lnTo>
                  <a:lnTo>
                    <a:pt x="50" y="418"/>
                  </a:lnTo>
                  <a:lnTo>
                    <a:pt x="41" y="456"/>
                  </a:lnTo>
                  <a:lnTo>
                    <a:pt x="33" y="496"/>
                  </a:lnTo>
                  <a:lnTo>
                    <a:pt x="25" y="536"/>
                  </a:lnTo>
                  <a:lnTo>
                    <a:pt x="19" y="575"/>
                  </a:lnTo>
                  <a:lnTo>
                    <a:pt x="13" y="616"/>
                  </a:lnTo>
                  <a:lnTo>
                    <a:pt x="8" y="657"/>
                  </a:lnTo>
                  <a:lnTo>
                    <a:pt x="4" y="698"/>
                  </a:lnTo>
                  <a:lnTo>
                    <a:pt x="2" y="739"/>
                  </a:lnTo>
                  <a:lnTo>
                    <a:pt x="0" y="780"/>
                  </a:lnTo>
                  <a:lnTo>
                    <a:pt x="0" y="821"/>
                  </a:lnTo>
                  <a:lnTo>
                    <a:pt x="2" y="861"/>
                  </a:lnTo>
                  <a:lnTo>
                    <a:pt x="5" y="900"/>
                  </a:lnTo>
                  <a:lnTo>
                    <a:pt x="10" y="940"/>
                  </a:lnTo>
                  <a:lnTo>
                    <a:pt x="18" y="979"/>
                  </a:lnTo>
                  <a:lnTo>
                    <a:pt x="26" y="1016"/>
                  </a:lnTo>
                  <a:lnTo>
                    <a:pt x="93" y="1117"/>
                  </a:lnTo>
                  <a:lnTo>
                    <a:pt x="103" y="1134"/>
                  </a:lnTo>
                  <a:lnTo>
                    <a:pt x="250" y="1134"/>
                  </a:lnTo>
                  <a:lnTo>
                    <a:pt x="246" y="1094"/>
                  </a:lnTo>
                  <a:lnTo>
                    <a:pt x="245" y="1084"/>
                  </a:lnTo>
                  <a:lnTo>
                    <a:pt x="244" y="1058"/>
                  </a:lnTo>
                  <a:lnTo>
                    <a:pt x="241" y="1018"/>
                  </a:lnTo>
                  <a:lnTo>
                    <a:pt x="240" y="966"/>
                  </a:lnTo>
                  <a:lnTo>
                    <a:pt x="237" y="904"/>
                  </a:lnTo>
                  <a:lnTo>
                    <a:pt x="237" y="833"/>
                  </a:lnTo>
                  <a:lnTo>
                    <a:pt x="239" y="756"/>
                  </a:lnTo>
                  <a:lnTo>
                    <a:pt x="242" y="676"/>
                  </a:lnTo>
                  <a:lnTo>
                    <a:pt x="246" y="634"/>
                  </a:lnTo>
                  <a:lnTo>
                    <a:pt x="250" y="593"/>
                  </a:lnTo>
                  <a:lnTo>
                    <a:pt x="254" y="550"/>
                  </a:lnTo>
                  <a:lnTo>
                    <a:pt x="259" y="510"/>
                  </a:lnTo>
                  <a:lnTo>
                    <a:pt x="265" y="469"/>
                  </a:lnTo>
                  <a:lnTo>
                    <a:pt x="272" y="428"/>
                  </a:lnTo>
                  <a:lnTo>
                    <a:pt x="281" y="388"/>
                  </a:lnTo>
                  <a:lnTo>
                    <a:pt x="291" y="349"/>
                  </a:lnTo>
                  <a:lnTo>
                    <a:pt x="302" y="312"/>
                  </a:lnTo>
                  <a:lnTo>
                    <a:pt x="313" y="278"/>
                  </a:lnTo>
                  <a:lnTo>
                    <a:pt x="327" y="244"/>
                  </a:lnTo>
                  <a:lnTo>
                    <a:pt x="342" y="213"/>
                  </a:lnTo>
                  <a:lnTo>
                    <a:pt x="359" y="184"/>
                  </a:lnTo>
                  <a:lnTo>
                    <a:pt x="377" y="157"/>
                  </a:lnTo>
                  <a:lnTo>
                    <a:pt x="396" y="135"/>
                  </a:lnTo>
                  <a:lnTo>
                    <a:pt x="418" y="114"/>
                  </a:lnTo>
                  <a:lnTo>
                    <a:pt x="463" y="77"/>
                  </a:lnTo>
                  <a:lnTo>
                    <a:pt x="409" y="54"/>
                  </a:lnTo>
                  <a:lnTo>
                    <a:pt x="384" y="44"/>
                  </a:lnTo>
                  <a:lnTo>
                    <a:pt x="357" y="34"/>
                  </a:lnTo>
                  <a:lnTo>
                    <a:pt x="328" y="24"/>
                  </a:lnTo>
                  <a:lnTo>
                    <a:pt x="298" y="14"/>
                  </a:lnTo>
                  <a:lnTo>
                    <a:pt x="271" y="7"/>
                  </a:lnTo>
                  <a:lnTo>
                    <a:pt x="244" y="2"/>
                  </a:lnTo>
                  <a:lnTo>
                    <a:pt x="233" y="1"/>
                  </a:lnTo>
                  <a:lnTo>
                    <a:pt x="221" y="0"/>
                  </a:lnTo>
                  <a:lnTo>
                    <a:pt x="211" y="1"/>
                  </a:lnTo>
                  <a:lnTo>
                    <a:pt x="204" y="2"/>
                  </a:lnTo>
                  <a:close/>
                  <a:moveTo>
                    <a:pt x="91" y="986"/>
                  </a:moveTo>
                  <a:lnTo>
                    <a:pt x="86" y="964"/>
                  </a:lnTo>
                  <a:lnTo>
                    <a:pt x="81" y="941"/>
                  </a:lnTo>
                  <a:lnTo>
                    <a:pt x="77" y="919"/>
                  </a:lnTo>
                  <a:lnTo>
                    <a:pt x="74" y="895"/>
                  </a:lnTo>
                  <a:lnTo>
                    <a:pt x="71" y="872"/>
                  </a:lnTo>
                  <a:lnTo>
                    <a:pt x="70" y="848"/>
                  </a:lnTo>
                  <a:lnTo>
                    <a:pt x="69" y="823"/>
                  </a:lnTo>
                  <a:lnTo>
                    <a:pt x="69" y="799"/>
                  </a:lnTo>
                  <a:lnTo>
                    <a:pt x="69" y="771"/>
                  </a:lnTo>
                  <a:lnTo>
                    <a:pt x="70" y="743"/>
                  </a:lnTo>
                  <a:lnTo>
                    <a:pt x="72" y="714"/>
                  </a:lnTo>
                  <a:lnTo>
                    <a:pt x="75" y="687"/>
                  </a:lnTo>
                  <a:lnTo>
                    <a:pt x="81" y="630"/>
                  </a:lnTo>
                  <a:lnTo>
                    <a:pt x="90" y="574"/>
                  </a:lnTo>
                  <a:lnTo>
                    <a:pt x="100" y="518"/>
                  </a:lnTo>
                  <a:lnTo>
                    <a:pt x="112" y="464"/>
                  </a:lnTo>
                  <a:lnTo>
                    <a:pt x="124" y="410"/>
                  </a:lnTo>
                  <a:lnTo>
                    <a:pt x="138" y="359"/>
                  </a:lnTo>
                  <a:lnTo>
                    <a:pt x="153" y="310"/>
                  </a:lnTo>
                  <a:lnTo>
                    <a:pt x="167" y="265"/>
                  </a:lnTo>
                  <a:lnTo>
                    <a:pt x="180" y="222"/>
                  </a:lnTo>
                  <a:lnTo>
                    <a:pt x="194" y="183"/>
                  </a:lnTo>
                  <a:lnTo>
                    <a:pt x="218" y="119"/>
                  </a:lnTo>
                  <a:lnTo>
                    <a:pt x="236" y="74"/>
                  </a:lnTo>
                  <a:lnTo>
                    <a:pt x="255" y="78"/>
                  </a:lnTo>
                  <a:lnTo>
                    <a:pt x="278" y="84"/>
                  </a:lnTo>
                  <a:lnTo>
                    <a:pt x="307" y="94"/>
                  </a:lnTo>
                  <a:lnTo>
                    <a:pt x="339" y="105"/>
                  </a:lnTo>
                  <a:lnTo>
                    <a:pt x="327" y="121"/>
                  </a:lnTo>
                  <a:lnTo>
                    <a:pt x="314" y="139"/>
                  </a:lnTo>
                  <a:lnTo>
                    <a:pt x="302" y="156"/>
                  </a:lnTo>
                  <a:lnTo>
                    <a:pt x="292" y="176"/>
                  </a:lnTo>
                  <a:lnTo>
                    <a:pt x="281" y="196"/>
                  </a:lnTo>
                  <a:lnTo>
                    <a:pt x="271" y="215"/>
                  </a:lnTo>
                  <a:lnTo>
                    <a:pt x="261" y="237"/>
                  </a:lnTo>
                  <a:lnTo>
                    <a:pt x="252" y="259"/>
                  </a:lnTo>
                  <a:lnTo>
                    <a:pt x="244" y="281"/>
                  </a:lnTo>
                  <a:lnTo>
                    <a:pt x="236" y="305"/>
                  </a:lnTo>
                  <a:lnTo>
                    <a:pt x="229" y="328"/>
                  </a:lnTo>
                  <a:lnTo>
                    <a:pt x="223" y="353"/>
                  </a:lnTo>
                  <a:lnTo>
                    <a:pt x="210" y="403"/>
                  </a:lnTo>
                  <a:lnTo>
                    <a:pt x="199" y="454"/>
                  </a:lnTo>
                  <a:lnTo>
                    <a:pt x="190" y="506"/>
                  </a:lnTo>
                  <a:lnTo>
                    <a:pt x="183" y="558"/>
                  </a:lnTo>
                  <a:lnTo>
                    <a:pt x="178" y="610"/>
                  </a:lnTo>
                  <a:lnTo>
                    <a:pt x="173" y="661"/>
                  </a:lnTo>
                  <a:lnTo>
                    <a:pt x="169" y="713"/>
                  </a:lnTo>
                  <a:lnTo>
                    <a:pt x="168" y="763"/>
                  </a:lnTo>
                  <a:lnTo>
                    <a:pt x="167" y="811"/>
                  </a:lnTo>
                  <a:lnTo>
                    <a:pt x="165" y="857"/>
                  </a:lnTo>
                  <a:lnTo>
                    <a:pt x="167" y="893"/>
                  </a:lnTo>
                  <a:lnTo>
                    <a:pt x="167" y="925"/>
                  </a:lnTo>
                  <a:lnTo>
                    <a:pt x="167" y="955"/>
                  </a:lnTo>
                  <a:lnTo>
                    <a:pt x="168" y="982"/>
                  </a:lnTo>
                  <a:lnTo>
                    <a:pt x="169" y="1006"/>
                  </a:lnTo>
                  <a:lnTo>
                    <a:pt x="170" y="1027"/>
                  </a:lnTo>
                  <a:lnTo>
                    <a:pt x="172" y="1046"/>
                  </a:lnTo>
                  <a:lnTo>
                    <a:pt x="173" y="1062"/>
                  </a:lnTo>
                  <a:lnTo>
                    <a:pt x="156" y="1062"/>
                  </a:lnTo>
                  <a:lnTo>
                    <a:pt x="142" y="1062"/>
                  </a:lnTo>
                  <a:lnTo>
                    <a:pt x="128" y="1041"/>
                  </a:lnTo>
                  <a:lnTo>
                    <a:pt x="111" y="1016"/>
                  </a:lnTo>
                  <a:lnTo>
                    <a:pt x="97" y="995"/>
                  </a:lnTo>
                  <a:lnTo>
                    <a:pt x="91" y="986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5397480" y="5162400"/>
              <a:ext cx="146160" cy="416160"/>
            </a:xfrm>
            <a:custGeom>
              <a:avLst/>
              <a:gdLst/>
              <a:ahLst/>
              <a:rect l="l" t="t" r="r" b="b"/>
              <a:pathLst>
                <a:path w="366" h="1048">
                  <a:moveTo>
                    <a:pt x="164" y="0"/>
                  </a:moveTo>
                  <a:lnTo>
                    <a:pt x="161" y="7"/>
                  </a:lnTo>
                  <a:lnTo>
                    <a:pt x="154" y="26"/>
                  </a:lnTo>
                  <a:lnTo>
                    <a:pt x="143" y="55"/>
                  </a:lnTo>
                  <a:lnTo>
                    <a:pt x="128" y="95"/>
                  </a:lnTo>
                  <a:lnTo>
                    <a:pt x="110" y="143"/>
                  </a:lnTo>
                  <a:lnTo>
                    <a:pt x="93" y="201"/>
                  </a:lnTo>
                  <a:lnTo>
                    <a:pt x="74" y="264"/>
                  </a:lnTo>
                  <a:lnTo>
                    <a:pt x="56" y="332"/>
                  </a:lnTo>
                  <a:lnTo>
                    <a:pt x="47" y="368"/>
                  </a:lnTo>
                  <a:lnTo>
                    <a:pt x="38" y="405"/>
                  </a:lnTo>
                  <a:lnTo>
                    <a:pt x="31" y="444"/>
                  </a:lnTo>
                  <a:lnTo>
                    <a:pt x="23" y="482"/>
                  </a:lnTo>
                  <a:lnTo>
                    <a:pt x="17" y="522"/>
                  </a:lnTo>
                  <a:lnTo>
                    <a:pt x="11" y="562"/>
                  </a:lnTo>
                  <a:lnTo>
                    <a:pt x="7" y="601"/>
                  </a:lnTo>
                  <a:lnTo>
                    <a:pt x="4" y="641"/>
                  </a:lnTo>
                  <a:lnTo>
                    <a:pt x="1" y="682"/>
                  </a:lnTo>
                  <a:lnTo>
                    <a:pt x="0" y="722"/>
                  </a:lnTo>
                  <a:lnTo>
                    <a:pt x="0" y="761"/>
                  </a:lnTo>
                  <a:lnTo>
                    <a:pt x="2" y="801"/>
                  </a:lnTo>
                  <a:lnTo>
                    <a:pt x="5" y="841"/>
                  </a:lnTo>
                  <a:lnTo>
                    <a:pt x="10" y="879"/>
                  </a:lnTo>
                  <a:lnTo>
                    <a:pt x="17" y="916"/>
                  </a:lnTo>
                  <a:lnTo>
                    <a:pt x="26" y="952"/>
                  </a:lnTo>
                  <a:lnTo>
                    <a:pt x="26" y="1048"/>
                  </a:lnTo>
                  <a:lnTo>
                    <a:pt x="172" y="1040"/>
                  </a:lnTo>
                  <a:lnTo>
                    <a:pt x="172" y="1032"/>
                  </a:lnTo>
                  <a:lnTo>
                    <a:pt x="171" y="1008"/>
                  </a:lnTo>
                  <a:lnTo>
                    <a:pt x="169" y="970"/>
                  </a:lnTo>
                  <a:lnTo>
                    <a:pt x="168" y="921"/>
                  </a:lnTo>
                  <a:lnTo>
                    <a:pt x="166" y="862"/>
                  </a:lnTo>
                  <a:lnTo>
                    <a:pt x="168" y="795"/>
                  </a:lnTo>
                  <a:lnTo>
                    <a:pt x="169" y="720"/>
                  </a:lnTo>
                  <a:lnTo>
                    <a:pt x="174" y="642"/>
                  </a:lnTo>
                  <a:lnTo>
                    <a:pt x="177" y="603"/>
                  </a:lnTo>
                  <a:lnTo>
                    <a:pt x="182" y="563"/>
                  </a:lnTo>
                  <a:lnTo>
                    <a:pt x="187" y="522"/>
                  </a:lnTo>
                  <a:lnTo>
                    <a:pt x="194" y="481"/>
                  </a:lnTo>
                  <a:lnTo>
                    <a:pt x="200" y="441"/>
                  </a:lnTo>
                  <a:lnTo>
                    <a:pt x="209" y="402"/>
                  </a:lnTo>
                  <a:lnTo>
                    <a:pt x="218" y="363"/>
                  </a:lnTo>
                  <a:lnTo>
                    <a:pt x="228" y="325"/>
                  </a:lnTo>
                  <a:lnTo>
                    <a:pt x="241" y="289"/>
                  </a:lnTo>
                  <a:lnTo>
                    <a:pt x="253" y="254"/>
                  </a:lnTo>
                  <a:lnTo>
                    <a:pt x="268" y="220"/>
                  </a:lnTo>
                  <a:lnTo>
                    <a:pt x="284" y="188"/>
                  </a:lnTo>
                  <a:lnTo>
                    <a:pt x="303" y="160"/>
                  </a:lnTo>
                  <a:lnTo>
                    <a:pt x="322" y="132"/>
                  </a:lnTo>
                  <a:lnTo>
                    <a:pt x="343" y="109"/>
                  </a:lnTo>
                  <a:lnTo>
                    <a:pt x="366" y="86"/>
                  </a:lnTo>
                  <a:lnTo>
                    <a:pt x="359" y="83"/>
                  </a:lnTo>
                  <a:lnTo>
                    <a:pt x="339" y="71"/>
                  </a:lnTo>
                  <a:lnTo>
                    <a:pt x="312" y="57"/>
                  </a:lnTo>
                  <a:lnTo>
                    <a:pt x="278" y="40"/>
                  </a:lnTo>
                  <a:lnTo>
                    <a:pt x="243" y="23"/>
                  </a:lnTo>
                  <a:lnTo>
                    <a:pt x="211" y="9"/>
                  </a:lnTo>
                  <a:lnTo>
                    <a:pt x="196" y="4"/>
                  </a:lnTo>
                  <a:lnTo>
                    <a:pt x="182" y="1"/>
                  </a:lnTo>
                  <a:lnTo>
                    <a:pt x="172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5383080" y="5149800"/>
              <a:ext cx="184320" cy="444600"/>
            </a:xfrm>
            <a:custGeom>
              <a:avLst/>
              <a:gdLst/>
              <a:ahLst/>
              <a:rect l="l" t="t" r="r" b="b"/>
              <a:pathLst>
                <a:path w="464" h="1120">
                  <a:moveTo>
                    <a:pt x="191" y="1"/>
                  </a:moveTo>
                  <a:lnTo>
                    <a:pt x="174" y="5"/>
                  </a:lnTo>
                  <a:lnTo>
                    <a:pt x="168" y="21"/>
                  </a:lnTo>
                  <a:lnTo>
                    <a:pt x="163" y="32"/>
                  </a:lnTo>
                  <a:lnTo>
                    <a:pt x="154" y="53"/>
                  </a:lnTo>
                  <a:lnTo>
                    <a:pt x="141" y="87"/>
                  </a:lnTo>
                  <a:lnTo>
                    <a:pt x="127" y="129"/>
                  </a:lnTo>
                  <a:lnTo>
                    <a:pt x="109" y="178"/>
                  </a:lnTo>
                  <a:lnTo>
                    <a:pt x="91" y="237"/>
                  </a:lnTo>
                  <a:lnTo>
                    <a:pt x="72" y="301"/>
                  </a:lnTo>
                  <a:lnTo>
                    <a:pt x="53" y="371"/>
                  </a:lnTo>
                  <a:lnTo>
                    <a:pt x="45" y="407"/>
                  </a:lnTo>
                  <a:lnTo>
                    <a:pt x="37" y="445"/>
                  </a:lnTo>
                  <a:lnTo>
                    <a:pt x="28" y="484"/>
                  </a:lnTo>
                  <a:lnTo>
                    <a:pt x="22" y="522"/>
                  </a:lnTo>
                  <a:lnTo>
                    <a:pt x="16" y="562"/>
                  </a:lnTo>
                  <a:lnTo>
                    <a:pt x="10" y="602"/>
                  </a:lnTo>
                  <a:lnTo>
                    <a:pt x="6" y="642"/>
                  </a:lnTo>
                  <a:lnTo>
                    <a:pt x="2" y="682"/>
                  </a:lnTo>
                  <a:lnTo>
                    <a:pt x="1" y="723"/>
                  </a:lnTo>
                  <a:lnTo>
                    <a:pt x="0" y="764"/>
                  </a:lnTo>
                  <a:lnTo>
                    <a:pt x="0" y="804"/>
                  </a:lnTo>
                  <a:lnTo>
                    <a:pt x="2" y="843"/>
                  </a:lnTo>
                  <a:lnTo>
                    <a:pt x="6" y="883"/>
                  </a:lnTo>
                  <a:lnTo>
                    <a:pt x="11" y="922"/>
                  </a:lnTo>
                  <a:lnTo>
                    <a:pt x="19" y="960"/>
                  </a:lnTo>
                  <a:lnTo>
                    <a:pt x="27" y="997"/>
                  </a:lnTo>
                  <a:lnTo>
                    <a:pt x="26" y="1083"/>
                  </a:lnTo>
                  <a:lnTo>
                    <a:pt x="26" y="1120"/>
                  </a:lnTo>
                  <a:lnTo>
                    <a:pt x="248" y="1109"/>
                  </a:lnTo>
                  <a:lnTo>
                    <a:pt x="245" y="1072"/>
                  </a:lnTo>
                  <a:lnTo>
                    <a:pt x="243" y="1063"/>
                  </a:lnTo>
                  <a:lnTo>
                    <a:pt x="242" y="1038"/>
                  </a:lnTo>
                  <a:lnTo>
                    <a:pt x="241" y="1001"/>
                  </a:lnTo>
                  <a:lnTo>
                    <a:pt x="240" y="953"/>
                  </a:lnTo>
                  <a:lnTo>
                    <a:pt x="238" y="894"/>
                  </a:lnTo>
                  <a:lnTo>
                    <a:pt x="238" y="829"/>
                  </a:lnTo>
                  <a:lnTo>
                    <a:pt x="241" y="758"/>
                  </a:lnTo>
                  <a:lnTo>
                    <a:pt x="246" y="682"/>
                  </a:lnTo>
                  <a:lnTo>
                    <a:pt x="248" y="644"/>
                  </a:lnTo>
                  <a:lnTo>
                    <a:pt x="253" y="604"/>
                  </a:lnTo>
                  <a:lnTo>
                    <a:pt x="258" y="566"/>
                  </a:lnTo>
                  <a:lnTo>
                    <a:pt x="263" y="526"/>
                  </a:lnTo>
                  <a:lnTo>
                    <a:pt x="271" y="487"/>
                  </a:lnTo>
                  <a:lnTo>
                    <a:pt x="278" y="449"/>
                  </a:lnTo>
                  <a:lnTo>
                    <a:pt x="287" y="412"/>
                  </a:lnTo>
                  <a:lnTo>
                    <a:pt x="297" y="376"/>
                  </a:lnTo>
                  <a:lnTo>
                    <a:pt x="308" y="341"/>
                  </a:lnTo>
                  <a:lnTo>
                    <a:pt x="320" y="307"/>
                  </a:lnTo>
                  <a:lnTo>
                    <a:pt x="334" y="275"/>
                  </a:lnTo>
                  <a:lnTo>
                    <a:pt x="349" y="245"/>
                  </a:lnTo>
                  <a:lnTo>
                    <a:pt x="366" y="218"/>
                  </a:lnTo>
                  <a:lnTo>
                    <a:pt x="384" y="192"/>
                  </a:lnTo>
                  <a:lnTo>
                    <a:pt x="403" y="170"/>
                  </a:lnTo>
                  <a:lnTo>
                    <a:pt x="425" y="149"/>
                  </a:lnTo>
                  <a:lnTo>
                    <a:pt x="464" y="116"/>
                  </a:lnTo>
                  <a:lnTo>
                    <a:pt x="420" y="92"/>
                  </a:lnTo>
                  <a:lnTo>
                    <a:pt x="377" y="67"/>
                  </a:lnTo>
                  <a:lnTo>
                    <a:pt x="339" y="47"/>
                  </a:lnTo>
                  <a:lnTo>
                    <a:pt x="304" y="30"/>
                  </a:lnTo>
                  <a:lnTo>
                    <a:pt x="273" y="17"/>
                  </a:lnTo>
                  <a:lnTo>
                    <a:pt x="246" y="7"/>
                  </a:lnTo>
                  <a:lnTo>
                    <a:pt x="223" y="1"/>
                  </a:lnTo>
                  <a:lnTo>
                    <a:pt x="213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91" y="1"/>
                  </a:lnTo>
                  <a:close/>
                  <a:moveTo>
                    <a:pt x="98" y="987"/>
                  </a:moveTo>
                  <a:lnTo>
                    <a:pt x="92" y="963"/>
                  </a:lnTo>
                  <a:lnTo>
                    <a:pt x="86" y="937"/>
                  </a:lnTo>
                  <a:lnTo>
                    <a:pt x="82" y="910"/>
                  </a:lnTo>
                  <a:lnTo>
                    <a:pt x="78" y="883"/>
                  </a:lnTo>
                  <a:lnTo>
                    <a:pt x="76" y="856"/>
                  </a:lnTo>
                  <a:lnTo>
                    <a:pt x="73" y="829"/>
                  </a:lnTo>
                  <a:lnTo>
                    <a:pt x="72" y="801"/>
                  </a:lnTo>
                  <a:lnTo>
                    <a:pt x="72" y="773"/>
                  </a:lnTo>
                  <a:lnTo>
                    <a:pt x="73" y="718"/>
                  </a:lnTo>
                  <a:lnTo>
                    <a:pt x="77" y="662"/>
                  </a:lnTo>
                  <a:lnTo>
                    <a:pt x="83" y="608"/>
                  </a:lnTo>
                  <a:lnTo>
                    <a:pt x="91" y="553"/>
                  </a:lnTo>
                  <a:lnTo>
                    <a:pt x="99" y="500"/>
                  </a:lnTo>
                  <a:lnTo>
                    <a:pt x="110" y="448"/>
                  </a:lnTo>
                  <a:lnTo>
                    <a:pt x="122" y="397"/>
                  </a:lnTo>
                  <a:lnTo>
                    <a:pt x="134" y="348"/>
                  </a:lnTo>
                  <a:lnTo>
                    <a:pt x="146" y="303"/>
                  </a:lnTo>
                  <a:lnTo>
                    <a:pt x="159" y="259"/>
                  </a:lnTo>
                  <a:lnTo>
                    <a:pt x="171" y="218"/>
                  </a:lnTo>
                  <a:lnTo>
                    <a:pt x="184" y="182"/>
                  </a:lnTo>
                  <a:lnTo>
                    <a:pt x="206" y="120"/>
                  </a:lnTo>
                  <a:lnTo>
                    <a:pt x="222" y="77"/>
                  </a:lnTo>
                  <a:lnTo>
                    <a:pt x="246" y="84"/>
                  </a:lnTo>
                  <a:lnTo>
                    <a:pt x="276" y="98"/>
                  </a:lnTo>
                  <a:lnTo>
                    <a:pt x="312" y="114"/>
                  </a:lnTo>
                  <a:lnTo>
                    <a:pt x="350" y="135"/>
                  </a:lnTo>
                  <a:lnTo>
                    <a:pt x="336" y="151"/>
                  </a:lnTo>
                  <a:lnTo>
                    <a:pt x="323" y="169"/>
                  </a:lnTo>
                  <a:lnTo>
                    <a:pt x="310" y="187"/>
                  </a:lnTo>
                  <a:lnTo>
                    <a:pt x="298" y="207"/>
                  </a:lnTo>
                  <a:lnTo>
                    <a:pt x="287" y="227"/>
                  </a:lnTo>
                  <a:lnTo>
                    <a:pt x="277" y="248"/>
                  </a:lnTo>
                  <a:lnTo>
                    <a:pt x="267" y="269"/>
                  </a:lnTo>
                  <a:lnTo>
                    <a:pt x="257" y="291"/>
                  </a:lnTo>
                  <a:lnTo>
                    <a:pt x="248" y="315"/>
                  </a:lnTo>
                  <a:lnTo>
                    <a:pt x="240" y="339"/>
                  </a:lnTo>
                  <a:lnTo>
                    <a:pt x="232" y="362"/>
                  </a:lnTo>
                  <a:lnTo>
                    <a:pt x="225" y="387"/>
                  </a:lnTo>
                  <a:lnTo>
                    <a:pt x="212" y="437"/>
                  </a:lnTo>
                  <a:lnTo>
                    <a:pt x="201" y="487"/>
                  </a:lnTo>
                  <a:lnTo>
                    <a:pt x="192" y="539"/>
                  </a:lnTo>
                  <a:lnTo>
                    <a:pt x="185" y="592"/>
                  </a:lnTo>
                  <a:lnTo>
                    <a:pt x="179" y="644"/>
                  </a:lnTo>
                  <a:lnTo>
                    <a:pt x="174" y="695"/>
                  </a:lnTo>
                  <a:lnTo>
                    <a:pt x="170" y="744"/>
                  </a:lnTo>
                  <a:lnTo>
                    <a:pt x="169" y="791"/>
                  </a:lnTo>
                  <a:lnTo>
                    <a:pt x="166" y="839"/>
                  </a:lnTo>
                  <a:lnTo>
                    <a:pt x="166" y="882"/>
                  </a:lnTo>
                  <a:lnTo>
                    <a:pt x="168" y="934"/>
                  </a:lnTo>
                  <a:lnTo>
                    <a:pt x="168" y="977"/>
                  </a:lnTo>
                  <a:lnTo>
                    <a:pt x="170" y="1013"/>
                  </a:lnTo>
                  <a:lnTo>
                    <a:pt x="171" y="1041"/>
                  </a:lnTo>
                  <a:lnTo>
                    <a:pt x="153" y="1042"/>
                  </a:lnTo>
                  <a:lnTo>
                    <a:pt x="135" y="1043"/>
                  </a:lnTo>
                  <a:lnTo>
                    <a:pt x="117" y="1044"/>
                  </a:lnTo>
                  <a:lnTo>
                    <a:pt x="98" y="1046"/>
                  </a:lnTo>
                  <a:lnTo>
                    <a:pt x="98" y="1025"/>
                  </a:lnTo>
                  <a:lnTo>
                    <a:pt x="98" y="1006"/>
                  </a:lnTo>
                  <a:lnTo>
                    <a:pt x="98" y="994"/>
                  </a:lnTo>
                  <a:lnTo>
                    <a:pt x="98" y="98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5451480" y="5181480"/>
              <a:ext cx="130320" cy="412920"/>
            </a:xfrm>
            <a:custGeom>
              <a:avLst/>
              <a:gdLst/>
              <a:ahLst/>
              <a:rect l="l" t="t" r="r" b="b"/>
              <a:pathLst>
                <a:path w="328" h="1040">
                  <a:moveTo>
                    <a:pt x="134" y="0"/>
                  </a:moveTo>
                  <a:lnTo>
                    <a:pt x="132" y="6"/>
                  </a:lnTo>
                  <a:lnTo>
                    <a:pt x="126" y="25"/>
                  </a:lnTo>
                  <a:lnTo>
                    <a:pt x="116" y="55"/>
                  </a:lnTo>
                  <a:lnTo>
                    <a:pt x="103" y="93"/>
                  </a:lnTo>
                  <a:lnTo>
                    <a:pt x="88" y="141"/>
                  </a:lnTo>
                  <a:lnTo>
                    <a:pt x="74" y="197"/>
                  </a:lnTo>
                  <a:lnTo>
                    <a:pt x="57" y="259"/>
                  </a:lnTo>
                  <a:lnTo>
                    <a:pt x="42" y="327"/>
                  </a:lnTo>
                  <a:lnTo>
                    <a:pt x="35" y="363"/>
                  </a:lnTo>
                  <a:lnTo>
                    <a:pt x="29" y="399"/>
                  </a:lnTo>
                  <a:lnTo>
                    <a:pt x="23" y="438"/>
                  </a:lnTo>
                  <a:lnTo>
                    <a:pt x="16" y="476"/>
                  </a:lnTo>
                  <a:lnTo>
                    <a:pt x="11" y="515"/>
                  </a:lnTo>
                  <a:lnTo>
                    <a:pt x="6" y="555"/>
                  </a:lnTo>
                  <a:lnTo>
                    <a:pt x="4" y="594"/>
                  </a:lnTo>
                  <a:lnTo>
                    <a:pt x="1" y="634"/>
                  </a:lnTo>
                  <a:lnTo>
                    <a:pt x="0" y="674"/>
                  </a:lnTo>
                  <a:lnTo>
                    <a:pt x="0" y="713"/>
                  </a:lnTo>
                  <a:lnTo>
                    <a:pt x="1" y="753"/>
                  </a:lnTo>
                  <a:lnTo>
                    <a:pt x="4" y="793"/>
                  </a:lnTo>
                  <a:lnTo>
                    <a:pt x="8" y="831"/>
                  </a:lnTo>
                  <a:lnTo>
                    <a:pt x="13" y="870"/>
                  </a:lnTo>
                  <a:lnTo>
                    <a:pt x="20" y="907"/>
                  </a:lnTo>
                  <a:lnTo>
                    <a:pt x="29" y="944"/>
                  </a:lnTo>
                  <a:lnTo>
                    <a:pt x="56" y="1040"/>
                  </a:lnTo>
                  <a:lnTo>
                    <a:pt x="143" y="1040"/>
                  </a:lnTo>
                  <a:lnTo>
                    <a:pt x="143" y="1032"/>
                  </a:lnTo>
                  <a:lnTo>
                    <a:pt x="141" y="1007"/>
                  </a:lnTo>
                  <a:lnTo>
                    <a:pt x="138" y="969"/>
                  </a:lnTo>
                  <a:lnTo>
                    <a:pt x="137" y="919"/>
                  </a:lnTo>
                  <a:lnTo>
                    <a:pt x="134" y="860"/>
                  </a:lnTo>
                  <a:lnTo>
                    <a:pt x="134" y="791"/>
                  </a:lnTo>
                  <a:lnTo>
                    <a:pt x="136" y="717"/>
                  </a:lnTo>
                  <a:lnTo>
                    <a:pt x="141" y="638"/>
                  </a:lnTo>
                  <a:lnTo>
                    <a:pt x="143" y="598"/>
                  </a:lnTo>
                  <a:lnTo>
                    <a:pt x="147" y="557"/>
                  </a:lnTo>
                  <a:lnTo>
                    <a:pt x="152" y="516"/>
                  </a:lnTo>
                  <a:lnTo>
                    <a:pt x="158" y="475"/>
                  </a:lnTo>
                  <a:lnTo>
                    <a:pt x="164" y="434"/>
                  </a:lnTo>
                  <a:lnTo>
                    <a:pt x="172" y="394"/>
                  </a:lnTo>
                  <a:lnTo>
                    <a:pt x="182" y="355"/>
                  </a:lnTo>
                  <a:lnTo>
                    <a:pt x="191" y="318"/>
                  </a:lnTo>
                  <a:lnTo>
                    <a:pt x="203" y="280"/>
                  </a:lnTo>
                  <a:lnTo>
                    <a:pt x="216" y="244"/>
                  </a:lnTo>
                  <a:lnTo>
                    <a:pt x="230" y="211"/>
                  </a:lnTo>
                  <a:lnTo>
                    <a:pt x="246" y="180"/>
                  </a:lnTo>
                  <a:lnTo>
                    <a:pt x="265" y="150"/>
                  </a:lnTo>
                  <a:lnTo>
                    <a:pt x="283" y="123"/>
                  </a:lnTo>
                  <a:lnTo>
                    <a:pt x="304" y="99"/>
                  </a:lnTo>
                  <a:lnTo>
                    <a:pt x="328" y="77"/>
                  </a:lnTo>
                  <a:lnTo>
                    <a:pt x="321" y="73"/>
                  </a:lnTo>
                  <a:lnTo>
                    <a:pt x="302" y="64"/>
                  </a:lnTo>
                  <a:lnTo>
                    <a:pt x="276" y="51"/>
                  </a:lnTo>
                  <a:lnTo>
                    <a:pt x="245" y="35"/>
                  </a:lnTo>
                  <a:lnTo>
                    <a:pt x="211" y="21"/>
                  </a:lnTo>
                  <a:lnTo>
                    <a:pt x="179" y="9"/>
                  </a:lnTo>
                  <a:lnTo>
                    <a:pt x="165" y="4"/>
                  </a:lnTo>
                  <a:lnTo>
                    <a:pt x="153" y="1"/>
                  </a:lnTo>
                  <a:lnTo>
                    <a:pt x="143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5437080" y="5167440"/>
              <a:ext cx="169920" cy="441360"/>
            </a:xfrm>
            <a:custGeom>
              <a:avLst/>
              <a:gdLst/>
              <a:ahLst/>
              <a:rect l="l" t="t" r="r" b="b"/>
              <a:pathLst>
                <a:path w="426" h="1112">
                  <a:moveTo>
                    <a:pt x="162" y="2"/>
                  </a:moveTo>
                  <a:lnTo>
                    <a:pt x="144" y="6"/>
                  </a:lnTo>
                  <a:lnTo>
                    <a:pt x="137" y="24"/>
                  </a:lnTo>
                  <a:lnTo>
                    <a:pt x="133" y="35"/>
                  </a:lnTo>
                  <a:lnTo>
                    <a:pt x="126" y="56"/>
                  </a:lnTo>
                  <a:lnTo>
                    <a:pt x="114" y="88"/>
                  </a:lnTo>
                  <a:lnTo>
                    <a:pt x="102" y="129"/>
                  </a:lnTo>
                  <a:lnTo>
                    <a:pt x="87" y="179"/>
                  </a:lnTo>
                  <a:lnTo>
                    <a:pt x="71" y="236"/>
                  </a:lnTo>
                  <a:lnTo>
                    <a:pt x="56" y="299"/>
                  </a:lnTo>
                  <a:lnTo>
                    <a:pt x="41" y="368"/>
                  </a:lnTo>
                  <a:lnTo>
                    <a:pt x="34" y="404"/>
                  </a:lnTo>
                  <a:lnTo>
                    <a:pt x="26" y="442"/>
                  </a:lnTo>
                  <a:lnTo>
                    <a:pt x="20" y="479"/>
                  </a:lnTo>
                  <a:lnTo>
                    <a:pt x="15" y="517"/>
                  </a:lnTo>
                  <a:lnTo>
                    <a:pt x="10" y="557"/>
                  </a:lnTo>
                  <a:lnTo>
                    <a:pt x="6" y="597"/>
                  </a:lnTo>
                  <a:lnTo>
                    <a:pt x="3" y="636"/>
                  </a:lnTo>
                  <a:lnTo>
                    <a:pt x="1" y="676"/>
                  </a:lnTo>
                  <a:lnTo>
                    <a:pt x="0" y="716"/>
                  </a:lnTo>
                  <a:lnTo>
                    <a:pt x="0" y="757"/>
                  </a:lnTo>
                  <a:lnTo>
                    <a:pt x="1" y="796"/>
                  </a:lnTo>
                  <a:lnTo>
                    <a:pt x="4" y="836"/>
                  </a:lnTo>
                  <a:lnTo>
                    <a:pt x="9" y="875"/>
                  </a:lnTo>
                  <a:lnTo>
                    <a:pt x="14" y="914"/>
                  </a:lnTo>
                  <a:lnTo>
                    <a:pt x="21" y="952"/>
                  </a:lnTo>
                  <a:lnTo>
                    <a:pt x="31" y="989"/>
                  </a:lnTo>
                  <a:lnTo>
                    <a:pt x="65" y="1112"/>
                  </a:lnTo>
                  <a:lnTo>
                    <a:pt x="219" y="1112"/>
                  </a:lnTo>
                  <a:lnTo>
                    <a:pt x="215" y="1073"/>
                  </a:lnTo>
                  <a:lnTo>
                    <a:pt x="214" y="1063"/>
                  </a:lnTo>
                  <a:lnTo>
                    <a:pt x="213" y="1038"/>
                  </a:lnTo>
                  <a:lnTo>
                    <a:pt x="210" y="1001"/>
                  </a:lnTo>
                  <a:lnTo>
                    <a:pt x="208" y="952"/>
                  </a:lnTo>
                  <a:lnTo>
                    <a:pt x="206" y="893"/>
                  </a:lnTo>
                  <a:lnTo>
                    <a:pt x="206" y="826"/>
                  </a:lnTo>
                  <a:lnTo>
                    <a:pt x="208" y="754"/>
                  </a:lnTo>
                  <a:lnTo>
                    <a:pt x="211" y="677"/>
                  </a:lnTo>
                  <a:lnTo>
                    <a:pt x="214" y="639"/>
                  </a:lnTo>
                  <a:lnTo>
                    <a:pt x="218" y="599"/>
                  </a:lnTo>
                  <a:lnTo>
                    <a:pt x="223" y="559"/>
                  </a:lnTo>
                  <a:lnTo>
                    <a:pt x="227" y="520"/>
                  </a:lnTo>
                  <a:lnTo>
                    <a:pt x="234" y="481"/>
                  </a:lnTo>
                  <a:lnTo>
                    <a:pt x="241" y="443"/>
                  </a:lnTo>
                  <a:lnTo>
                    <a:pt x="250" y="406"/>
                  </a:lnTo>
                  <a:lnTo>
                    <a:pt x="260" y="368"/>
                  </a:lnTo>
                  <a:lnTo>
                    <a:pt x="270" y="334"/>
                  </a:lnTo>
                  <a:lnTo>
                    <a:pt x="282" y="299"/>
                  </a:lnTo>
                  <a:lnTo>
                    <a:pt x="296" y="267"/>
                  </a:lnTo>
                  <a:lnTo>
                    <a:pt x="311" y="237"/>
                  </a:lnTo>
                  <a:lnTo>
                    <a:pt x="327" y="210"/>
                  </a:lnTo>
                  <a:lnTo>
                    <a:pt x="345" y="184"/>
                  </a:lnTo>
                  <a:lnTo>
                    <a:pt x="365" y="161"/>
                  </a:lnTo>
                  <a:lnTo>
                    <a:pt x="386" y="140"/>
                  </a:lnTo>
                  <a:lnTo>
                    <a:pt x="426" y="107"/>
                  </a:lnTo>
                  <a:lnTo>
                    <a:pt x="380" y="82"/>
                  </a:lnTo>
                  <a:lnTo>
                    <a:pt x="340" y="61"/>
                  </a:lnTo>
                  <a:lnTo>
                    <a:pt x="303" y="42"/>
                  </a:lnTo>
                  <a:lnTo>
                    <a:pt x="270" y="27"/>
                  </a:lnTo>
                  <a:lnTo>
                    <a:pt x="241" y="15"/>
                  </a:lnTo>
                  <a:lnTo>
                    <a:pt x="215" y="7"/>
                  </a:lnTo>
                  <a:lnTo>
                    <a:pt x="193" y="2"/>
                  </a:lnTo>
                  <a:lnTo>
                    <a:pt x="184" y="1"/>
                  </a:lnTo>
                  <a:lnTo>
                    <a:pt x="175" y="0"/>
                  </a:lnTo>
                  <a:lnTo>
                    <a:pt x="168" y="1"/>
                  </a:lnTo>
                  <a:lnTo>
                    <a:pt x="162" y="2"/>
                  </a:lnTo>
                  <a:close/>
                  <a:moveTo>
                    <a:pt x="100" y="970"/>
                  </a:moveTo>
                  <a:lnTo>
                    <a:pt x="92" y="943"/>
                  </a:lnTo>
                  <a:lnTo>
                    <a:pt x="87" y="914"/>
                  </a:lnTo>
                  <a:lnTo>
                    <a:pt x="82" y="885"/>
                  </a:lnTo>
                  <a:lnTo>
                    <a:pt x="78" y="856"/>
                  </a:lnTo>
                  <a:lnTo>
                    <a:pt x="75" y="826"/>
                  </a:lnTo>
                  <a:lnTo>
                    <a:pt x="73" y="795"/>
                  </a:lnTo>
                  <a:lnTo>
                    <a:pt x="72" y="765"/>
                  </a:lnTo>
                  <a:lnTo>
                    <a:pt x="71" y="734"/>
                  </a:lnTo>
                  <a:lnTo>
                    <a:pt x="72" y="680"/>
                  </a:lnTo>
                  <a:lnTo>
                    <a:pt x="76" y="625"/>
                  </a:lnTo>
                  <a:lnTo>
                    <a:pt x="81" y="572"/>
                  </a:lnTo>
                  <a:lnTo>
                    <a:pt x="87" y="519"/>
                  </a:lnTo>
                  <a:lnTo>
                    <a:pt x="95" y="466"/>
                  </a:lnTo>
                  <a:lnTo>
                    <a:pt x="105" y="417"/>
                  </a:lnTo>
                  <a:lnTo>
                    <a:pt x="113" y="368"/>
                  </a:lnTo>
                  <a:lnTo>
                    <a:pt x="124" y="323"/>
                  </a:lnTo>
                  <a:lnTo>
                    <a:pt x="134" y="279"/>
                  </a:lnTo>
                  <a:lnTo>
                    <a:pt x="144" y="238"/>
                  </a:lnTo>
                  <a:lnTo>
                    <a:pt x="155" y="201"/>
                  </a:lnTo>
                  <a:lnTo>
                    <a:pt x="165" y="167"/>
                  </a:lnTo>
                  <a:lnTo>
                    <a:pt x="183" y="113"/>
                  </a:lnTo>
                  <a:lnTo>
                    <a:pt x="194" y="77"/>
                  </a:lnTo>
                  <a:lnTo>
                    <a:pt x="216" y="84"/>
                  </a:lnTo>
                  <a:lnTo>
                    <a:pt x="244" y="95"/>
                  </a:lnTo>
                  <a:lnTo>
                    <a:pt x="276" y="109"/>
                  </a:lnTo>
                  <a:lnTo>
                    <a:pt x="311" y="126"/>
                  </a:lnTo>
                  <a:lnTo>
                    <a:pt x="297" y="143"/>
                  </a:lnTo>
                  <a:lnTo>
                    <a:pt x="285" y="160"/>
                  </a:lnTo>
                  <a:lnTo>
                    <a:pt x="273" y="177"/>
                  </a:lnTo>
                  <a:lnTo>
                    <a:pt x="262" y="196"/>
                  </a:lnTo>
                  <a:lnTo>
                    <a:pt x="251" y="215"/>
                  </a:lnTo>
                  <a:lnTo>
                    <a:pt x="241" y="234"/>
                  </a:lnTo>
                  <a:lnTo>
                    <a:pt x="231" y="256"/>
                  </a:lnTo>
                  <a:lnTo>
                    <a:pt x="223" y="277"/>
                  </a:lnTo>
                  <a:lnTo>
                    <a:pt x="214" y="298"/>
                  </a:lnTo>
                  <a:lnTo>
                    <a:pt x="206" y="320"/>
                  </a:lnTo>
                  <a:lnTo>
                    <a:pt x="199" y="344"/>
                  </a:lnTo>
                  <a:lnTo>
                    <a:pt x="191" y="367"/>
                  </a:lnTo>
                  <a:lnTo>
                    <a:pt x="179" y="414"/>
                  </a:lnTo>
                  <a:lnTo>
                    <a:pt x="169" y="463"/>
                  </a:lnTo>
                  <a:lnTo>
                    <a:pt x="159" y="512"/>
                  </a:lnTo>
                  <a:lnTo>
                    <a:pt x="152" y="563"/>
                  </a:lnTo>
                  <a:lnTo>
                    <a:pt x="147" y="613"/>
                  </a:lnTo>
                  <a:lnTo>
                    <a:pt x="142" y="662"/>
                  </a:lnTo>
                  <a:lnTo>
                    <a:pt x="138" y="711"/>
                  </a:lnTo>
                  <a:lnTo>
                    <a:pt x="136" y="758"/>
                  </a:lnTo>
                  <a:lnTo>
                    <a:pt x="134" y="804"/>
                  </a:lnTo>
                  <a:lnTo>
                    <a:pt x="134" y="849"/>
                  </a:lnTo>
                  <a:lnTo>
                    <a:pt x="134" y="882"/>
                  </a:lnTo>
                  <a:lnTo>
                    <a:pt x="136" y="912"/>
                  </a:lnTo>
                  <a:lnTo>
                    <a:pt x="136" y="939"/>
                  </a:lnTo>
                  <a:lnTo>
                    <a:pt x="137" y="965"/>
                  </a:lnTo>
                  <a:lnTo>
                    <a:pt x="138" y="988"/>
                  </a:lnTo>
                  <a:lnTo>
                    <a:pt x="139" y="1007"/>
                  </a:lnTo>
                  <a:lnTo>
                    <a:pt x="141" y="1025"/>
                  </a:lnTo>
                  <a:lnTo>
                    <a:pt x="141" y="1041"/>
                  </a:lnTo>
                  <a:lnTo>
                    <a:pt x="129" y="1041"/>
                  </a:lnTo>
                  <a:lnTo>
                    <a:pt x="119" y="1041"/>
                  </a:lnTo>
                  <a:lnTo>
                    <a:pt x="112" y="1017"/>
                  </a:lnTo>
                  <a:lnTo>
                    <a:pt x="106" y="995"/>
                  </a:lnTo>
                  <a:lnTo>
                    <a:pt x="102" y="978"/>
                  </a:lnTo>
                  <a:lnTo>
                    <a:pt x="100" y="97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5491080" y="5210280"/>
              <a:ext cx="163440" cy="412560"/>
            </a:xfrm>
            <a:custGeom>
              <a:avLst/>
              <a:gdLst/>
              <a:ahLst/>
              <a:rect l="l" t="t" r="r" b="b"/>
              <a:pathLst>
                <a:path w="411" h="1044">
                  <a:moveTo>
                    <a:pt x="176" y="0"/>
                  </a:moveTo>
                  <a:lnTo>
                    <a:pt x="173" y="6"/>
                  </a:lnTo>
                  <a:lnTo>
                    <a:pt x="167" y="25"/>
                  </a:lnTo>
                  <a:lnTo>
                    <a:pt x="156" y="52"/>
                  </a:lnTo>
                  <a:lnTo>
                    <a:pt x="141" y="91"/>
                  </a:lnTo>
                  <a:lnTo>
                    <a:pt x="125" y="138"/>
                  </a:lnTo>
                  <a:lnTo>
                    <a:pt x="106" y="192"/>
                  </a:lnTo>
                  <a:lnTo>
                    <a:pt x="88" y="253"/>
                  </a:lnTo>
                  <a:lnTo>
                    <a:pt x="69" y="319"/>
                  </a:lnTo>
                  <a:lnTo>
                    <a:pt x="50" y="391"/>
                  </a:lnTo>
                  <a:lnTo>
                    <a:pt x="34" y="465"/>
                  </a:lnTo>
                  <a:lnTo>
                    <a:pt x="27" y="504"/>
                  </a:lnTo>
                  <a:lnTo>
                    <a:pt x="21" y="544"/>
                  </a:lnTo>
                  <a:lnTo>
                    <a:pt x="14" y="582"/>
                  </a:lnTo>
                  <a:lnTo>
                    <a:pt x="10" y="622"/>
                  </a:lnTo>
                  <a:lnTo>
                    <a:pt x="6" y="663"/>
                  </a:lnTo>
                  <a:lnTo>
                    <a:pt x="2" y="702"/>
                  </a:lnTo>
                  <a:lnTo>
                    <a:pt x="1" y="742"/>
                  </a:lnTo>
                  <a:lnTo>
                    <a:pt x="0" y="782"/>
                  </a:lnTo>
                  <a:lnTo>
                    <a:pt x="1" y="820"/>
                  </a:lnTo>
                  <a:lnTo>
                    <a:pt x="3" y="860"/>
                  </a:lnTo>
                  <a:lnTo>
                    <a:pt x="7" y="897"/>
                  </a:lnTo>
                  <a:lnTo>
                    <a:pt x="13" y="934"/>
                  </a:lnTo>
                  <a:lnTo>
                    <a:pt x="29" y="1034"/>
                  </a:lnTo>
                  <a:lnTo>
                    <a:pt x="116" y="1044"/>
                  </a:lnTo>
                  <a:lnTo>
                    <a:pt x="118" y="1036"/>
                  </a:lnTo>
                  <a:lnTo>
                    <a:pt x="119" y="1013"/>
                  </a:lnTo>
                  <a:lnTo>
                    <a:pt x="120" y="977"/>
                  </a:lnTo>
                  <a:lnTo>
                    <a:pt x="124" y="928"/>
                  </a:lnTo>
                  <a:lnTo>
                    <a:pt x="130" y="871"/>
                  </a:lnTo>
                  <a:lnTo>
                    <a:pt x="137" y="807"/>
                  </a:lnTo>
                  <a:lnTo>
                    <a:pt x="149" y="736"/>
                  </a:lnTo>
                  <a:lnTo>
                    <a:pt x="161" y="661"/>
                  </a:lnTo>
                  <a:lnTo>
                    <a:pt x="168" y="623"/>
                  </a:lnTo>
                  <a:lnTo>
                    <a:pt x="177" y="585"/>
                  </a:lnTo>
                  <a:lnTo>
                    <a:pt x="187" y="546"/>
                  </a:lnTo>
                  <a:lnTo>
                    <a:pt x="197" y="508"/>
                  </a:lnTo>
                  <a:lnTo>
                    <a:pt x="209" y="469"/>
                  </a:lnTo>
                  <a:lnTo>
                    <a:pt x="221" y="432"/>
                  </a:lnTo>
                  <a:lnTo>
                    <a:pt x="234" y="396"/>
                  </a:lnTo>
                  <a:lnTo>
                    <a:pt x="249" y="360"/>
                  </a:lnTo>
                  <a:lnTo>
                    <a:pt x="265" y="326"/>
                  </a:lnTo>
                  <a:lnTo>
                    <a:pt x="281" y="293"/>
                  </a:lnTo>
                  <a:lnTo>
                    <a:pt x="300" y="263"/>
                  </a:lnTo>
                  <a:lnTo>
                    <a:pt x="320" y="233"/>
                  </a:lnTo>
                  <a:lnTo>
                    <a:pt x="340" y="207"/>
                  </a:lnTo>
                  <a:lnTo>
                    <a:pt x="362" y="183"/>
                  </a:lnTo>
                  <a:lnTo>
                    <a:pt x="386" y="161"/>
                  </a:lnTo>
                  <a:lnTo>
                    <a:pt x="411" y="143"/>
                  </a:lnTo>
                  <a:lnTo>
                    <a:pt x="402" y="137"/>
                  </a:lnTo>
                  <a:lnTo>
                    <a:pt x="378" y="121"/>
                  </a:lnTo>
                  <a:lnTo>
                    <a:pt x="346" y="97"/>
                  </a:lnTo>
                  <a:lnTo>
                    <a:pt x="308" y="70"/>
                  </a:lnTo>
                  <a:lnTo>
                    <a:pt x="267" y="44"/>
                  </a:lnTo>
                  <a:lnTo>
                    <a:pt x="228" y="20"/>
                  </a:lnTo>
                  <a:lnTo>
                    <a:pt x="212" y="11"/>
                  </a:lnTo>
                  <a:lnTo>
                    <a:pt x="197" y="5"/>
                  </a:lnTo>
                  <a:lnTo>
                    <a:pt x="185" y="1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5477040" y="5195880"/>
              <a:ext cx="201600" cy="442800"/>
            </a:xfrm>
            <a:custGeom>
              <a:avLst/>
              <a:gdLst/>
              <a:ahLst/>
              <a:rect l="l" t="t" r="r" b="b"/>
              <a:pathLst>
                <a:path w="508" h="1119">
                  <a:moveTo>
                    <a:pt x="206" y="1"/>
                  </a:moveTo>
                  <a:lnTo>
                    <a:pt x="186" y="4"/>
                  </a:lnTo>
                  <a:lnTo>
                    <a:pt x="179" y="23"/>
                  </a:lnTo>
                  <a:lnTo>
                    <a:pt x="175" y="32"/>
                  </a:lnTo>
                  <a:lnTo>
                    <a:pt x="166" y="54"/>
                  </a:lnTo>
                  <a:lnTo>
                    <a:pt x="154" y="85"/>
                  </a:lnTo>
                  <a:lnTo>
                    <a:pt x="139" y="124"/>
                  </a:lnTo>
                  <a:lnTo>
                    <a:pt x="122" y="173"/>
                  </a:lnTo>
                  <a:lnTo>
                    <a:pt x="104" y="228"/>
                  </a:lnTo>
                  <a:lnTo>
                    <a:pt x="84" y="291"/>
                  </a:lnTo>
                  <a:lnTo>
                    <a:pt x="66" y="357"/>
                  </a:lnTo>
                  <a:lnTo>
                    <a:pt x="48" y="429"/>
                  </a:lnTo>
                  <a:lnTo>
                    <a:pt x="32" y="505"/>
                  </a:lnTo>
                  <a:lnTo>
                    <a:pt x="25" y="544"/>
                  </a:lnTo>
                  <a:lnTo>
                    <a:pt x="18" y="582"/>
                  </a:lnTo>
                  <a:lnTo>
                    <a:pt x="12" y="622"/>
                  </a:lnTo>
                  <a:lnTo>
                    <a:pt x="7" y="661"/>
                  </a:lnTo>
                  <a:lnTo>
                    <a:pt x="4" y="702"/>
                  </a:lnTo>
                  <a:lnTo>
                    <a:pt x="1" y="742"/>
                  </a:lnTo>
                  <a:lnTo>
                    <a:pt x="0" y="782"/>
                  </a:lnTo>
                  <a:lnTo>
                    <a:pt x="0" y="822"/>
                  </a:lnTo>
                  <a:lnTo>
                    <a:pt x="0" y="861"/>
                  </a:lnTo>
                  <a:lnTo>
                    <a:pt x="2" y="901"/>
                  </a:lnTo>
                  <a:lnTo>
                    <a:pt x="7" y="939"/>
                  </a:lnTo>
                  <a:lnTo>
                    <a:pt x="12" y="977"/>
                  </a:lnTo>
                  <a:lnTo>
                    <a:pt x="33" y="1102"/>
                  </a:lnTo>
                  <a:lnTo>
                    <a:pt x="186" y="1119"/>
                  </a:lnTo>
                  <a:lnTo>
                    <a:pt x="187" y="1081"/>
                  </a:lnTo>
                  <a:lnTo>
                    <a:pt x="187" y="1072"/>
                  </a:lnTo>
                  <a:lnTo>
                    <a:pt x="189" y="1049"/>
                  </a:lnTo>
                  <a:lnTo>
                    <a:pt x="191" y="1013"/>
                  </a:lnTo>
                  <a:lnTo>
                    <a:pt x="195" y="965"/>
                  </a:lnTo>
                  <a:lnTo>
                    <a:pt x="201" y="910"/>
                  </a:lnTo>
                  <a:lnTo>
                    <a:pt x="208" y="846"/>
                  </a:lnTo>
                  <a:lnTo>
                    <a:pt x="218" y="778"/>
                  </a:lnTo>
                  <a:lnTo>
                    <a:pt x="231" y="705"/>
                  </a:lnTo>
                  <a:lnTo>
                    <a:pt x="238" y="669"/>
                  </a:lnTo>
                  <a:lnTo>
                    <a:pt x="247" y="632"/>
                  </a:lnTo>
                  <a:lnTo>
                    <a:pt x="256" y="594"/>
                  </a:lnTo>
                  <a:lnTo>
                    <a:pt x="266" y="557"/>
                  </a:lnTo>
                  <a:lnTo>
                    <a:pt x="277" y="520"/>
                  </a:lnTo>
                  <a:lnTo>
                    <a:pt x="288" y="484"/>
                  </a:lnTo>
                  <a:lnTo>
                    <a:pt x="300" y="449"/>
                  </a:lnTo>
                  <a:lnTo>
                    <a:pt x="314" y="416"/>
                  </a:lnTo>
                  <a:lnTo>
                    <a:pt x="329" y="382"/>
                  </a:lnTo>
                  <a:lnTo>
                    <a:pt x="345" y="351"/>
                  </a:lnTo>
                  <a:lnTo>
                    <a:pt x="362" y="322"/>
                  </a:lnTo>
                  <a:lnTo>
                    <a:pt x="380" y="294"/>
                  </a:lnTo>
                  <a:lnTo>
                    <a:pt x="400" y="269"/>
                  </a:lnTo>
                  <a:lnTo>
                    <a:pt x="420" y="246"/>
                  </a:lnTo>
                  <a:lnTo>
                    <a:pt x="442" y="226"/>
                  </a:lnTo>
                  <a:lnTo>
                    <a:pt x="465" y="209"/>
                  </a:lnTo>
                  <a:lnTo>
                    <a:pt x="508" y="181"/>
                  </a:lnTo>
                  <a:lnTo>
                    <a:pt x="467" y="150"/>
                  </a:lnTo>
                  <a:lnTo>
                    <a:pt x="429" y="123"/>
                  </a:lnTo>
                  <a:lnTo>
                    <a:pt x="396" y="98"/>
                  </a:lnTo>
                  <a:lnTo>
                    <a:pt x="366" y="78"/>
                  </a:lnTo>
                  <a:lnTo>
                    <a:pt x="339" y="61"/>
                  </a:lnTo>
                  <a:lnTo>
                    <a:pt x="315" y="46"/>
                  </a:lnTo>
                  <a:lnTo>
                    <a:pt x="295" y="34"/>
                  </a:lnTo>
                  <a:lnTo>
                    <a:pt x="278" y="24"/>
                  </a:lnTo>
                  <a:lnTo>
                    <a:pt x="262" y="16"/>
                  </a:lnTo>
                  <a:lnTo>
                    <a:pt x="249" y="10"/>
                  </a:lnTo>
                  <a:lnTo>
                    <a:pt x="238" y="6"/>
                  </a:lnTo>
                  <a:lnTo>
                    <a:pt x="230" y="4"/>
                  </a:lnTo>
                  <a:lnTo>
                    <a:pt x="222" y="1"/>
                  </a:lnTo>
                  <a:lnTo>
                    <a:pt x="212" y="0"/>
                  </a:lnTo>
                  <a:lnTo>
                    <a:pt x="206" y="1"/>
                  </a:lnTo>
                  <a:close/>
                  <a:moveTo>
                    <a:pt x="83" y="965"/>
                  </a:moveTo>
                  <a:lnTo>
                    <a:pt x="77" y="928"/>
                  </a:lnTo>
                  <a:lnTo>
                    <a:pt x="73" y="891"/>
                  </a:lnTo>
                  <a:lnTo>
                    <a:pt x="72" y="853"/>
                  </a:lnTo>
                  <a:lnTo>
                    <a:pt x="71" y="814"/>
                  </a:lnTo>
                  <a:lnTo>
                    <a:pt x="71" y="786"/>
                  </a:lnTo>
                  <a:lnTo>
                    <a:pt x="72" y="757"/>
                  </a:lnTo>
                  <a:lnTo>
                    <a:pt x="74" y="728"/>
                  </a:lnTo>
                  <a:lnTo>
                    <a:pt x="76" y="700"/>
                  </a:lnTo>
                  <a:lnTo>
                    <a:pt x="82" y="643"/>
                  </a:lnTo>
                  <a:lnTo>
                    <a:pt x="90" y="586"/>
                  </a:lnTo>
                  <a:lnTo>
                    <a:pt x="100" y="530"/>
                  </a:lnTo>
                  <a:lnTo>
                    <a:pt x="112" y="475"/>
                  </a:lnTo>
                  <a:lnTo>
                    <a:pt x="124" y="422"/>
                  </a:lnTo>
                  <a:lnTo>
                    <a:pt x="136" y="371"/>
                  </a:lnTo>
                  <a:lnTo>
                    <a:pt x="150" y="323"/>
                  </a:lnTo>
                  <a:lnTo>
                    <a:pt x="164" y="277"/>
                  </a:lnTo>
                  <a:lnTo>
                    <a:pt x="177" y="233"/>
                  </a:lnTo>
                  <a:lnTo>
                    <a:pt x="191" y="194"/>
                  </a:lnTo>
                  <a:lnTo>
                    <a:pt x="215" y="128"/>
                  </a:lnTo>
                  <a:lnTo>
                    <a:pt x="232" y="81"/>
                  </a:lnTo>
                  <a:lnTo>
                    <a:pt x="262" y="98"/>
                  </a:lnTo>
                  <a:lnTo>
                    <a:pt x="300" y="122"/>
                  </a:lnTo>
                  <a:lnTo>
                    <a:pt x="345" y="150"/>
                  </a:lnTo>
                  <a:lnTo>
                    <a:pt x="391" y="184"/>
                  </a:lnTo>
                  <a:lnTo>
                    <a:pt x="371" y="202"/>
                  </a:lnTo>
                  <a:lnTo>
                    <a:pt x="351" y="224"/>
                  </a:lnTo>
                  <a:lnTo>
                    <a:pt x="334" y="247"/>
                  </a:lnTo>
                  <a:lnTo>
                    <a:pt x="316" y="271"/>
                  </a:lnTo>
                  <a:lnTo>
                    <a:pt x="300" y="297"/>
                  </a:lnTo>
                  <a:lnTo>
                    <a:pt x="285" y="323"/>
                  </a:lnTo>
                  <a:lnTo>
                    <a:pt x="271" y="351"/>
                  </a:lnTo>
                  <a:lnTo>
                    <a:pt x="257" y="380"/>
                  </a:lnTo>
                  <a:lnTo>
                    <a:pt x="244" y="410"/>
                  </a:lnTo>
                  <a:lnTo>
                    <a:pt x="232" y="439"/>
                  </a:lnTo>
                  <a:lnTo>
                    <a:pt x="221" y="470"/>
                  </a:lnTo>
                  <a:lnTo>
                    <a:pt x="211" y="503"/>
                  </a:lnTo>
                  <a:lnTo>
                    <a:pt x="201" y="534"/>
                  </a:lnTo>
                  <a:lnTo>
                    <a:pt x="191" y="566"/>
                  </a:lnTo>
                  <a:lnTo>
                    <a:pt x="184" y="598"/>
                  </a:lnTo>
                  <a:lnTo>
                    <a:pt x="175" y="630"/>
                  </a:lnTo>
                  <a:lnTo>
                    <a:pt x="161" y="695"/>
                  </a:lnTo>
                  <a:lnTo>
                    <a:pt x="150" y="757"/>
                  </a:lnTo>
                  <a:lnTo>
                    <a:pt x="140" y="817"/>
                  </a:lnTo>
                  <a:lnTo>
                    <a:pt x="133" y="872"/>
                  </a:lnTo>
                  <a:lnTo>
                    <a:pt x="128" y="923"/>
                  </a:lnTo>
                  <a:lnTo>
                    <a:pt x="123" y="969"/>
                  </a:lnTo>
                  <a:lnTo>
                    <a:pt x="120" y="1009"/>
                  </a:lnTo>
                  <a:lnTo>
                    <a:pt x="118" y="1040"/>
                  </a:lnTo>
                  <a:lnTo>
                    <a:pt x="105" y="1039"/>
                  </a:lnTo>
                  <a:lnTo>
                    <a:pt x="95" y="1037"/>
                  </a:lnTo>
                  <a:lnTo>
                    <a:pt x="92" y="1014"/>
                  </a:lnTo>
                  <a:lnTo>
                    <a:pt x="87" y="990"/>
                  </a:lnTo>
                  <a:lnTo>
                    <a:pt x="84" y="972"/>
                  </a:lnTo>
                  <a:lnTo>
                    <a:pt x="83" y="96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5526000" y="5256360"/>
              <a:ext cx="181080" cy="404640"/>
            </a:xfrm>
            <a:custGeom>
              <a:avLst/>
              <a:gdLst/>
              <a:ahLst/>
              <a:rect l="l" t="t" r="r" b="b"/>
              <a:pathLst>
                <a:path w="455" h="1020">
                  <a:moveTo>
                    <a:pt x="282" y="0"/>
                  </a:moveTo>
                  <a:lnTo>
                    <a:pt x="278" y="6"/>
                  </a:lnTo>
                  <a:lnTo>
                    <a:pt x="268" y="23"/>
                  </a:lnTo>
                  <a:lnTo>
                    <a:pt x="253" y="49"/>
                  </a:lnTo>
                  <a:lnTo>
                    <a:pt x="233" y="85"/>
                  </a:lnTo>
                  <a:lnTo>
                    <a:pt x="210" y="128"/>
                  </a:lnTo>
                  <a:lnTo>
                    <a:pt x="185" y="180"/>
                  </a:lnTo>
                  <a:lnTo>
                    <a:pt x="157" y="237"/>
                  </a:lnTo>
                  <a:lnTo>
                    <a:pt x="130" y="301"/>
                  </a:lnTo>
                  <a:lnTo>
                    <a:pt x="116" y="334"/>
                  </a:lnTo>
                  <a:lnTo>
                    <a:pt x="103" y="368"/>
                  </a:lnTo>
                  <a:lnTo>
                    <a:pt x="89" y="403"/>
                  </a:lnTo>
                  <a:lnTo>
                    <a:pt x="77" y="439"/>
                  </a:lnTo>
                  <a:lnTo>
                    <a:pt x="64" y="477"/>
                  </a:lnTo>
                  <a:lnTo>
                    <a:pt x="53" y="514"/>
                  </a:lnTo>
                  <a:lnTo>
                    <a:pt x="42" y="552"/>
                  </a:lnTo>
                  <a:lnTo>
                    <a:pt x="32" y="591"/>
                  </a:lnTo>
                  <a:lnTo>
                    <a:pt x="23" y="629"/>
                  </a:lnTo>
                  <a:lnTo>
                    <a:pt x="16" y="669"/>
                  </a:lnTo>
                  <a:lnTo>
                    <a:pt x="10" y="707"/>
                  </a:lnTo>
                  <a:lnTo>
                    <a:pt x="5" y="747"/>
                  </a:lnTo>
                  <a:lnTo>
                    <a:pt x="1" y="786"/>
                  </a:lnTo>
                  <a:lnTo>
                    <a:pt x="0" y="824"/>
                  </a:lnTo>
                  <a:lnTo>
                    <a:pt x="0" y="863"/>
                  </a:lnTo>
                  <a:lnTo>
                    <a:pt x="2" y="901"/>
                  </a:lnTo>
                  <a:lnTo>
                    <a:pt x="10" y="1000"/>
                  </a:lnTo>
                  <a:lnTo>
                    <a:pt x="95" y="1020"/>
                  </a:lnTo>
                  <a:lnTo>
                    <a:pt x="97" y="1011"/>
                  </a:lnTo>
                  <a:lnTo>
                    <a:pt x="99" y="988"/>
                  </a:lnTo>
                  <a:lnTo>
                    <a:pt x="104" y="949"/>
                  </a:lnTo>
                  <a:lnTo>
                    <a:pt x="112" y="901"/>
                  </a:lnTo>
                  <a:lnTo>
                    <a:pt x="121" y="841"/>
                  </a:lnTo>
                  <a:lnTo>
                    <a:pt x="134" y="774"/>
                  </a:lnTo>
                  <a:lnTo>
                    <a:pt x="149" y="702"/>
                  </a:lnTo>
                  <a:lnTo>
                    <a:pt x="167" y="626"/>
                  </a:lnTo>
                  <a:lnTo>
                    <a:pt x="179" y="587"/>
                  </a:lnTo>
                  <a:lnTo>
                    <a:pt x="190" y="549"/>
                  </a:lnTo>
                  <a:lnTo>
                    <a:pt x="202" y="509"/>
                  </a:lnTo>
                  <a:lnTo>
                    <a:pt x="215" y="470"/>
                  </a:lnTo>
                  <a:lnTo>
                    <a:pt x="229" y="432"/>
                  </a:lnTo>
                  <a:lnTo>
                    <a:pt x="244" y="395"/>
                  </a:lnTo>
                  <a:lnTo>
                    <a:pt x="261" y="359"/>
                  </a:lnTo>
                  <a:lnTo>
                    <a:pt x="278" y="323"/>
                  </a:lnTo>
                  <a:lnTo>
                    <a:pt x="297" y="289"/>
                  </a:lnTo>
                  <a:lnTo>
                    <a:pt x="315" y="258"/>
                  </a:lnTo>
                  <a:lnTo>
                    <a:pt x="336" y="229"/>
                  </a:lnTo>
                  <a:lnTo>
                    <a:pt x="357" y="201"/>
                  </a:lnTo>
                  <a:lnTo>
                    <a:pt x="380" y="176"/>
                  </a:lnTo>
                  <a:lnTo>
                    <a:pt x="405" y="154"/>
                  </a:lnTo>
                  <a:lnTo>
                    <a:pt x="429" y="136"/>
                  </a:lnTo>
                  <a:lnTo>
                    <a:pt x="455" y="119"/>
                  </a:lnTo>
                  <a:lnTo>
                    <a:pt x="433" y="101"/>
                  </a:lnTo>
                  <a:lnTo>
                    <a:pt x="382" y="60"/>
                  </a:lnTo>
                  <a:lnTo>
                    <a:pt x="352" y="37"/>
                  </a:lnTo>
                  <a:lnTo>
                    <a:pt x="324" y="19"/>
                  </a:lnTo>
                  <a:lnTo>
                    <a:pt x="310" y="11"/>
                  </a:lnTo>
                  <a:lnTo>
                    <a:pt x="299" y="5"/>
                  </a:lnTo>
                  <a:lnTo>
                    <a:pt x="289" y="2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5511960" y="5241960"/>
              <a:ext cx="220680" cy="436680"/>
            </a:xfrm>
            <a:custGeom>
              <a:avLst/>
              <a:gdLst/>
              <a:ahLst/>
              <a:rect l="l" t="t" r="r" b="b"/>
              <a:pathLst>
                <a:path w="555" h="1100">
                  <a:moveTo>
                    <a:pt x="315" y="0"/>
                  </a:moveTo>
                  <a:lnTo>
                    <a:pt x="297" y="2"/>
                  </a:lnTo>
                  <a:lnTo>
                    <a:pt x="287" y="18"/>
                  </a:lnTo>
                  <a:lnTo>
                    <a:pt x="280" y="28"/>
                  </a:lnTo>
                  <a:lnTo>
                    <a:pt x="269" y="46"/>
                  </a:lnTo>
                  <a:lnTo>
                    <a:pt x="253" y="76"/>
                  </a:lnTo>
                  <a:lnTo>
                    <a:pt x="232" y="113"/>
                  </a:lnTo>
                  <a:lnTo>
                    <a:pt x="208" y="159"/>
                  </a:lnTo>
                  <a:lnTo>
                    <a:pt x="182" y="211"/>
                  </a:lnTo>
                  <a:lnTo>
                    <a:pt x="155" y="270"/>
                  </a:lnTo>
                  <a:lnTo>
                    <a:pt x="128" y="333"/>
                  </a:lnTo>
                  <a:lnTo>
                    <a:pt x="114" y="368"/>
                  </a:lnTo>
                  <a:lnTo>
                    <a:pt x="100" y="402"/>
                  </a:lnTo>
                  <a:lnTo>
                    <a:pt x="88" y="437"/>
                  </a:lnTo>
                  <a:lnTo>
                    <a:pt x="75" y="474"/>
                  </a:lnTo>
                  <a:lnTo>
                    <a:pt x="63" y="511"/>
                  </a:lnTo>
                  <a:lnTo>
                    <a:pt x="52" y="549"/>
                  </a:lnTo>
                  <a:lnTo>
                    <a:pt x="41" y="587"/>
                  </a:lnTo>
                  <a:lnTo>
                    <a:pt x="32" y="627"/>
                  </a:lnTo>
                  <a:lnTo>
                    <a:pt x="23" y="665"/>
                  </a:lnTo>
                  <a:lnTo>
                    <a:pt x="16" y="705"/>
                  </a:lnTo>
                  <a:lnTo>
                    <a:pt x="10" y="745"/>
                  </a:lnTo>
                  <a:lnTo>
                    <a:pt x="5" y="783"/>
                  </a:lnTo>
                  <a:lnTo>
                    <a:pt x="2" y="823"/>
                  </a:lnTo>
                  <a:lnTo>
                    <a:pt x="0" y="861"/>
                  </a:lnTo>
                  <a:lnTo>
                    <a:pt x="1" y="901"/>
                  </a:lnTo>
                  <a:lnTo>
                    <a:pt x="2" y="939"/>
                  </a:lnTo>
                  <a:lnTo>
                    <a:pt x="12" y="1066"/>
                  </a:lnTo>
                  <a:lnTo>
                    <a:pt x="164" y="1100"/>
                  </a:lnTo>
                  <a:lnTo>
                    <a:pt x="167" y="1060"/>
                  </a:lnTo>
                  <a:lnTo>
                    <a:pt x="169" y="1050"/>
                  </a:lnTo>
                  <a:lnTo>
                    <a:pt x="171" y="1025"/>
                  </a:lnTo>
                  <a:lnTo>
                    <a:pt x="176" y="988"/>
                  </a:lnTo>
                  <a:lnTo>
                    <a:pt x="184" y="939"/>
                  </a:lnTo>
                  <a:lnTo>
                    <a:pt x="192" y="882"/>
                  </a:lnTo>
                  <a:lnTo>
                    <a:pt x="205" y="817"/>
                  </a:lnTo>
                  <a:lnTo>
                    <a:pt x="220" y="747"/>
                  </a:lnTo>
                  <a:lnTo>
                    <a:pt x="237" y="673"/>
                  </a:lnTo>
                  <a:lnTo>
                    <a:pt x="248" y="636"/>
                  </a:lnTo>
                  <a:lnTo>
                    <a:pt x="258" y="597"/>
                  </a:lnTo>
                  <a:lnTo>
                    <a:pt x="270" y="560"/>
                  </a:lnTo>
                  <a:lnTo>
                    <a:pt x="283" y="523"/>
                  </a:lnTo>
                  <a:lnTo>
                    <a:pt x="297" y="485"/>
                  </a:lnTo>
                  <a:lnTo>
                    <a:pt x="310" y="449"/>
                  </a:lnTo>
                  <a:lnTo>
                    <a:pt x="326" y="415"/>
                  </a:lnTo>
                  <a:lnTo>
                    <a:pt x="342" y="381"/>
                  </a:lnTo>
                  <a:lnTo>
                    <a:pt x="359" y="349"/>
                  </a:lnTo>
                  <a:lnTo>
                    <a:pt x="377" y="319"/>
                  </a:lnTo>
                  <a:lnTo>
                    <a:pt x="396" y="291"/>
                  </a:lnTo>
                  <a:lnTo>
                    <a:pt x="417" y="265"/>
                  </a:lnTo>
                  <a:lnTo>
                    <a:pt x="438" y="241"/>
                  </a:lnTo>
                  <a:lnTo>
                    <a:pt x="460" y="220"/>
                  </a:lnTo>
                  <a:lnTo>
                    <a:pt x="484" y="201"/>
                  </a:lnTo>
                  <a:lnTo>
                    <a:pt x="509" y="186"/>
                  </a:lnTo>
                  <a:lnTo>
                    <a:pt x="555" y="163"/>
                  </a:lnTo>
                  <a:lnTo>
                    <a:pt x="515" y="128"/>
                  </a:lnTo>
                  <a:lnTo>
                    <a:pt x="479" y="98"/>
                  </a:lnTo>
                  <a:lnTo>
                    <a:pt x="447" y="72"/>
                  </a:lnTo>
                  <a:lnTo>
                    <a:pt x="417" y="50"/>
                  </a:lnTo>
                  <a:lnTo>
                    <a:pt x="391" y="31"/>
                  </a:lnTo>
                  <a:lnTo>
                    <a:pt x="367" y="18"/>
                  </a:lnTo>
                  <a:lnTo>
                    <a:pt x="347" y="8"/>
                  </a:lnTo>
                  <a:lnTo>
                    <a:pt x="337" y="5"/>
                  </a:lnTo>
                  <a:lnTo>
                    <a:pt x="330" y="3"/>
                  </a:lnTo>
                  <a:lnTo>
                    <a:pt x="323" y="2"/>
                  </a:lnTo>
                  <a:lnTo>
                    <a:pt x="315" y="0"/>
                  </a:lnTo>
                  <a:close/>
                  <a:moveTo>
                    <a:pt x="73" y="933"/>
                  </a:moveTo>
                  <a:lnTo>
                    <a:pt x="73" y="920"/>
                  </a:lnTo>
                  <a:lnTo>
                    <a:pt x="72" y="906"/>
                  </a:lnTo>
                  <a:lnTo>
                    <a:pt x="72" y="892"/>
                  </a:lnTo>
                  <a:lnTo>
                    <a:pt x="72" y="879"/>
                  </a:lnTo>
                  <a:lnTo>
                    <a:pt x="72" y="848"/>
                  </a:lnTo>
                  <a:lnTo>
                    <a:pt x="74" y="818"/>
                  </a:lnTo>
                  <a:lnTo>
                    <a:pt x="77" y="787"/>
                  </a:lnTo>
                  <a:lnTo>
                    <a:pt x="80" y="756"/>
                  </a:lnTo>
                  <a:lnTo>
                    <a:pt x="85" y="725"/>
                  </a:lnTo>
                  <a:lnTo>
                    <a:pt x="90" y="694"/>
                  </a:lnTo>
                  <a:lnTo>
                    <a:pt x="97" y="663"/>
                  </a:lnTo>
                  <a:lnTo>
                    <a:pt x="104" y="632"/>
                  </a:lnTo>
                  <a:lnTo>
                    <a:pt x="120" y="571"/>
                  </a:lnTo>
                  <a:lnTo>
                    <a:pt x="139" y="510"/>
                  </a:lnTo>
                  <a:lnTo>
                    <a:pt x="159" y="453"/>
                  </a:lnTo>
                  <a:lnTo>
                    <a:pt x="180" y="396"/>
                  </a:lnTo>
                  <a:lnTo>
                    <a:pt x="202" y="343"/>
                  </a:lnTo>
                  <a:lnTo>
                    <a:pt x="224" y="293"/>
                  </a:lnTo>
                  <a:lnTo>
                    <a:pt x="246" y="246"/>
                  </a:lnTo>
                  <a:lnTo>
                    <a:pt x="267" y="203"/>
                  </a:lnTo>
                  <a:lnTo>
                    <a:pt x="304" y="132"/>
                  </a:lnTo>
                  <a:lnTo>
                    <a:pt x="331" y="82"/>
                  </a:lnTo>
                  <a:lnTo>
                    <a:pt x="351" y="93"/>
                  </a:lnTo>
                  <a:lnTo>
                    <a:pt x="376" y="111"/>
                  </a:lnTo>
                  <a:lnTo>
                    <a:pt x="405" y="132"/>
                  </a:lnTo>
                  <a:lnTo>
                    <a:pt x="436" y="155"/>
                  </a:lnTo>
                  <a:lnTo>
                    <a:pt x="414" y="173"/>
                  </a:lnTo>
                  <a:lnTo>
                    <a:pt x="393" y="193"/>
                  </a:lnTo>
                  <a:lnTo>
                    <a:pt x="373" y="214"/>
                  </a:lnTo>
                  <a:lnTo>
                    <a:pt x="355" y="237"/>
                  </a:lnTo>
                  <a:lnTo>
                    <a:pt x="336" y="261"/>
                  </a:lnTo>
                  <a:lnTo>
                    <a:pt x="319" y="287"/>
                  </a:lnTo>
                  <a:lnTo>
                    <a:pt x="303" y="314"/>
                  </a:lnTo>
                  <a:lnTo>
                    <a:pt x="287" y="343"/>
                  </a:lnTo>
                  <a:lnTo>
                    <a:pt x="272" y="371"/>
                  </a:lnTo>
                  <a:lnTo>
                    <a:pt x="258" y="402"/>
                  </a:lnTo>
                  <a:lnTo>
                    <a:pt x="244" y="433"/>
                  </a:lnTo>
                  <a:lnTo>
                    <a:pt x="232" y="464"/>
                  </a:lnTo>
                  <a:lnTo>
                    <a:pt x="220" y="497"/>
                  </a:lnTo>
                  <a:lnTo>
                    <a:pt x="208" y="529"/>
                  </a:lnTo>
                  <a:lnTo>
                    <a:pt x="197" y="561"/>
                  </a:lnTo>
                  <a:lnTo>
                    <a:pt x="187" y="593"/>
                  </a:lnTo>
                  <a:lnTo>
                    <a:pt x="169" y="658"/>
                  </a:lnTo>
                  <a:lnTo>
                    <a:pt x="152" y="721"/>
                  </a:lnTo>
                  <a:lnTo>
                    <a:pt x="139" y="782"/>
                  </a:lnTo>
                  <a:lnTo>
                    <a:pt x="128" y="840"/>
                  </a:lnTo>
                  <a:lnTo>
                    <a:pt x="119" y="892"/>
                  </a:lnTo>
                  <a:lnTo>
                    <a:pt x="110" y="939"/>
                  </a:lnTo>
                  <a:lnTo>
                    <a:pt x="105" y="980"/>
                  </a:lnTo>
                  <a:lnTo>
                    <a:pt x="100" y="1013"/>
                  </a:lnTo>
                  <a:lnTo>
                    <a:pt x="89" y="1010"/>
                  </a:lnTo>
                  <a:lnTo>
                    <a:pt x="79" y="1008"/>
                  </a:lnTo>
                  <a:lnTo>
                    <a:pt x="78" y="984"/>
                  </a:lnTo>
                  <a:lnTo>
                    <a:pt x="75" y="959"/>
                  </a:lnTo>
                  <a:lnTo>
                    <a:pt x="74" y="941"/>
                  </a:lnTo>
                  <a:lnTo>
                    <a:pt x="73" y="93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5541840" y="5292720"/>
              <a:ext cx="217440" cy="390600"/>
            </a:xfrm>
            <a:custGeom>
              <a:avLst/>
              <a:gdLst/>
              <a:ahLst/>
              <a:rect l="l" t="t" r="r" b="b"/>
              <a:pathLst>
                <a:path w="551" h="983">
                  <a:moveTo>
                    <a:pt x="393" y="0"/>
                  </a:moveTo>
                  <a:lnTo>
                    <a:pt x="377" y="20"/>
                  </a:lnTo>
                  <a:lnTo>
                    <a:pt x="335" y="77"/>
                  </a:lnTo>
                  <a:lnTo>
                    <a:pt x="307" y="117"/>
                  </a:lnTo>
                  <a:lnTo>
                    <a:pt x="275" y="164"/>
                  </a:lnTo>
                  <a:lnTo>
                    <a:pt x="241" y="216"/>
                  </a:lnTo>
                  <a:lnTo>
                    <a:pt x="207" y="274"/>
                  </a:lnTo>
                  <a:lnTo>
                    <a:pt x="188" y="305"/>
                  </a:lnTo>
                  <a:lnTo>
                    <a:pt x="171" y="338"/>
                  </a:lnTo>
                  <a:lnTo>
                    <a:pt x="153" y="371"/>
                  </a:lnTo>
                  <a:lnTo>
                    <a:pt x="136" y="405"/>
                  </a:lnTo>
                  <a:lnTo>
                    <a:pt x="120" y="439"/>
                  </a:lnTo>
                  <a:lnTo>
                    <a:pt x="104" y="475"/>
                  </a:lnTo>
                  <a:lnTo>
                    <a:pt x="89" y="511"/>
                  </a:lnTo>
                  <a:lnTo>
                    <a:pt x="74" y="548"/>
                  </a:lnTo>
                  <a:lnTo>
                    <a:pt x="60" y="586"/>
                  </a:lnTo>
                  <a:lnTo>
                    <a:pt x="48" y="623"/>
                  </a:lnTo>
                  <a:lnTo>
                    <a:pt x="36" y="660"/>
                  </a:lnTo>
                  <a:lnTo>
                    <a:pt x="28" y="699"/>
                  </a:lnTo>
                  <a:lnTo>
                    <a:pt x="19" y="737"/>
                  </a:lnTo>
                  <a:lnTo>
                    <a:pt x="13" y="774"/>
                  </a:lnTo>
                  <a:lnTo>
                    <a:pt x="8" y="813"/>
                  </a:lnTo>
                  <a:lnTo>
                    <a:pt x="5" y="850"/>
                  </a:lnTo>
                  <a:lnTo>
                    <a:pt x="0" y="950"/>
                  </a:lnTo>
                  <a:lnTo>
                    <a:pt x="84" y="983"/>
                  </a:lnTo>
                  <a:lnTo>
                    <a:pt x="91" y="952"/>
                  </a:lnTo>
                  <a:lnTo>
                    <a:pt x="113" y="867"/>
                  </a:lnTo>
                  <a:lnTo>
                    <a:pt x="131" y="810"/>
                  </a:lnTo>
                  <a:lnTo>
                    <a:pt x="151" y="746"/>
                  </a:lnTo>
                  <a:lnTo>
                    <a:pt x="176" y="676"/>
                  </a:lnTo>
                  <a:lnTo>
                    <a:pt x="203" y="603"/>
                  </a:lnTo>
                  <a:lnTo>
                    <a:pt x="218" y="566"/>
                  </a:lnTo>
                  <a:lnTo>
                    <a:pt x="234" y="530"/>
                  </a:lnTo>
                  <a:lnTo>
                    <a:pt x="251" y="493"/>
                  </a:lnTo>
                  <a:lnTo>
                    <a:pt x="269" y="455"/>
                  </a:lnTo>
                  <a:lnTo>
                    <a:pt x="289" y="421"/>
                  </a:lnTo>
                  <a:lnTo>
                    <a:pt x="307" y="386"/>
                  </a:lnTo>
                  <a:lnTo>
                    <a:pt x="328" y="352"/>
                  </a:lnTo>
                  <a:lnTo>
                    <a:pt x="349" y="320"/>
                  </a:lnTo>
                  <a:lnTo>
                    <a:pt x="372" y="289"/>
                  </a:lnTo>
                  <a:lnTo>
                    <a:pt x="395" y="261"/>
                  </a:lnTo>
                  <a:lnTo>
                    <a:pt x="419" y="235"/>
                  </a:lnTo>
                  <a:lnTo>
                    <a:pt x="444" y="210"/>
                  </a:lnTo>
                  <a:lnTo>
                    <a:pt x="469" y="189"/>
                  </a:lnTo>
                  <a:lnTo>
                    <a:pt x="496" y="171"/>
                  </a:lnTo>
                  <a:lnTo>
                    <a:pt x="523" y="155"/>
                  </a:lnTo>
                  <a:lnTo>
                    <a:pt x="551" y="144"/>
                  </a:lnTo>
                  <a:lnTo>
                    <a:pt x="532" y="122"/>
                  </a:lnTo>
                  <a:lnTo>
                    <a:pt x="486" y="73"/>
                  </a:lnTo>
                  <a:lnTo>
                    <a:pt x="459" y="47"/>
                  </a:lnTo>
                  <a:lnTo>
                    <a:pt x="433" y="25"/>
                  </a:lnTo>
                  <a:lnTo>
                    <a:pt x="420" y="15"/>
                  </a:lnTo>
                  <a:lnTo>
                    <a:pt x="410" y="8"/>
                  </a:lnTo>
                  <a:lnTo>
                    <a:pt x="400" y="3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5527800" y="5278320"/>
              <a:ext cx="257040" cy="424080"/>
            </a:xfrm>
            <a:custGeom>
              <a:avLst/>
              <a:gdLst/>
              <a:ahLst/>
              <a:rect l="l" t="t" r="r" b="b"/>
              <a:pathLst>
                <a:path w="649" h="1068">
                  <a:moveTo>
                    <a:pt x="402" y="15"/>
                  </a:moveTo>
                  <a:lnTo>
                    <a:pt x="380" y="41"/>
                  </a:lnTo>
                  <a:lnTo>
                    <a:pt x="336" y="102"/>
                  </a:lnTo>
                  <a:lnTo>
                    <a:pt x="306" y="143"/>
                  </a:lnTo>
                  <a:lnTo>
                    <a:pt x="274" y="191"/>
                  </a:lnTo>
                  <a:lnTo>
                    <a:pt x="240" y="244"/>
                  </a:lnTo>
                  <a:lnTo>
                    <a:pt x="204" y="304"/>
                  </a:lnTo>
                  <a:lnTo>
                    <a:pt x="187" y="336"/>
                  </a:lnTo>
                  <a:lnTo>
                    <a:pt x="169" y="368"/>
                  </a:lnTo>
                  <a:lnTo>
                    <a:pt x="152" y="402"/>
                  </a:lnTo>
                  <a:lnTo>
                    <a:pt x="135" y="435"/>
                  </a:lnTo>
                  <a:lnTo>
                    <a:pt x="118" y="471"/>
                  </a:lnTo>
                  <a:lnTo>
                    <a:pt x="102" y="506"/>
                  </a:lnTo>
                  <a:lnTo>
                    <a:pt x="87" y="543"/>
                  </a:lnTo>
                  <a:lnTo>
                    <a:pt x="74" y="581"/>
                  </a:lnTo>
                  <a:lnTo>
                    <a:pt x="60" y="618"/>
                  </a:lnTo>
                  <a:lnTo>
                    <a:pt x="48" y="655"/>
                  </a:lnTo>
                  <a:lnTo>
                    <a:pt x="36" y="693"/>
                  </a:lnTo>
                  <a:lnTo>
                    <a:pt x="28" y="732"/>
                  </a:lnTo>
                  <a:lnTo>
                    <a:pt x="19" y="770"/>
                  </a:lnTo>
                  <a:lnTo>
                    <a:pt x="13" y="809"/>
                  </a:lnTo>
                  <a:lnTo>
                    <a:pt x="9" y="847"/>
                  </a:lnTo>
                  <a:lnTo>
                    <a:pt x="5" y="886"/>
                  </a:lnTo>
                  <a:lnTo>
                    <a:pt x="0" y="1012"/>
                  </a:lnTo>
                  <a:lnTo>
                    <a:pt x="146" y="1068"/>
                  </a:lnTo>
                  <a:lnTo>
                    <a:pt x="154" y="1028"/>
                  </a:lnTo>
                  <a:lnTo>
                    <a:pt x="162" y="995"/>
                  </a:lnTo>
                  <a:lnTo>
                    <a:pt x="184" y="912"/>
                  </a:lnTo>
                  <a:lnTo>
                    <a:pt x="202" y="856"/>
                  </a:lnTo>
                  <a:lnTo>
                    <a:pt x="221" y="794"/>
                  </a:lnTo>
                  <a:lnTo>
                    <a:pt x="245" y="726"/>
                  </a:lnTo>
                  <a:lnTo>
                    <a:pt x="271" y="655"/>
                  </a:lnTo>
                  <a:lnTo>
                    <a:pt x="286" y="620"/>
                  </a:lnTo>
                  <a:lnTo>
                    <a:pt x="301" y="584"/>
                  </a:lnTo>
                  <a:lnTo>
                    <a:pt x="317" y="548"/>
                  </a:lnTo>
                  <a:lnTo>
                    <a:pt x="334" y="514"/>
                  </a:lnTo>
                  <a:lnTo>
                    <a:pt x="352" y="479"/>
                  </a:lnTo>
                  <a:lnTo>
                    <a:pt x="371" y="445"/>
                  </a:lnTo>
                  <a:lnTo>
                    <a:pt x="390" y="413"/>
                  </a:lnTo>
                  <a:lnTo>
                    <a:pt x="410" y="382"/>
                  </a:lnTo>
                  <a:lnTo>
                    <a:pt x="431" y="352"/>
                  </a:lnTo>
                  <a:lnTo>
                    <a:pt x="454" y="325"/>
                  </a:lnTo>
                  <a:lnTo>
                    <a:pt x="476" y="300"/>
                  </a:lnTo>
                  <a:lnTo>
                    <a:pt x="498" y="278"/>
                  </a:lnTo>
                  <a:lnTo>
                    <a:pt x="523" y="257"/>
                  </a:lnTo>
                  <a:lnTo>
                    <a:pt x="547" y="239"/>
                  </a:lnTo>
                  <a:lnTo>
                    <a:pt x="573" y="226"/>
                  </a:lnTo>
                  <a:lnTo>
                    <a:pt x="599" y="214"/>
                  </a:lnTo>
                  <a:lnTo>
                    <a:pt x="649" y="197"/>
                  </a:lnTo>
                  <a:lnTo>
                    <a:pt x="614" y="157"/>
                  </a:lnTo>
                  <a:lnTo>
                    <a:pt x="583" y="123"/>
                  </a:lnTo>
                  <a:lnTo>
                    <a:pt x="553" y="92"/>
                  </a:lnTo>
                  <a:lnTo>
                    <a:pt x="527" y="66"/>
                  </a:lnTo>
                  <a:lnTo>
                    <a:pt x="503" y="43"/>
                  </a:lnTo>
                  <a:lnTo>
                    <a:pt x="481" y="26"/>
                  </a:lnTo>
                  <a:lnTo>
                    <a:pt x="462" y="14"/>
                  </a:lnTo>
                  <a:lnTo>
                    <a:pt x="454" y="9"/>
                  </a:lnTo>
                  <a:lnTo>
                    <a:pt x="446" y="6"/>
                  </a:lnTo>
                  <a:lnTo>
                    <a:pt x="439" y="4"/>
                  </a:lnTo>
                  <a:lnTo>
                    <a:pt x="433" y="2"/>
                  </a:lnTo>
                  <a:lnTo>
                    <a:pt x="414" y="0"/>
                  </a:lnTo>
                  <a:lnTo>
                    <a:pt x="402" y="15"/>
                  </a:lnTo>
                  <a:close/>
                  <a:moveTo>
                    <a:pt x="77" y="889"/>
                  </a:moveTo>
                  <a:lnTo>
                    <a:pt x="80" y="857"/>
                  </a:lnTo>
                  <a:lnTo>
                    <a:pt x="82" y="826"/>
                  </a:lnTo>
                  <a:lnTo>
                    <a:pt x="87" y="794"/>
                  </a:lnTo>
                  <a:lnTo>
                    <a:pt x="94" y="763"/>
                  </a:lnTo>
                  <a:lnTo>
                    <a:pt x="101" y="731"/>
                  </a:lnTo>
                  <a:lnTo>
                    <a:pt x="110" y="700"/>
                  </a:lnTo>
                  <a:lnTo>
                    <a:pt x="118" y="667"/>
                  </a:lnTo>
                  <a:lnTo>
                    <a:pt x="130" y="636"/>
                  </a:lnTo>
                  <a:lnTo>
                    <a:pt x="141" y="605"/>
                  </a:lnTo>
                  <a:lnTo>
                    <a:pt x="152" y="574"/>
                  </a:lnTo>
                  <a:lnTo>
                    <a:pt x="164" y="543"/>
                  </a:lnTo>
                  <a:lnTo>
                    <a:pt x="178" y="514"/>
                  </a:lnTo>
                  <a:lnTo>
                    <a:pt x="205" y="454"/>
                  </a:lnTo>
                  <a:lnTo>
                    <a:pt x="235" y="398"/>
                  </a:lnTo>
                  <a:lnTo>
                    <a:pt x="265" y="345"/>
                  </a:lnTo>
                  <a:lnTo>
                    <a:pt x="295" y="294"/>
                  </a:lnTo>
                  <a:lnTo>
                    <a:pt x="323" y="247"/>
                  </a:lnTo>
                  <a:lnTo>
                    <a:pt x="352" y="205"/>
                  </a:lnTo>
                  <a:lnTo>
                    <a:pt x="402" y="133"/>
                  </a:lnTo>
                  <a:lnTo>
                    <a:pt x="438" y="84"/>
                  </a:lnTo>
                  <a:lnTo>
                    <a:pt x="455" y="99"/>
                  </a:lnTo>
                  <a:lnTo>
                    <a:pt x="479" y="119"/>
                  </a:lnTo>
                  <a:lnTo>
                    <a:pt x="503" y="145"/>
                  </a:lnTo>
                  <a:lnTo>
                    <a:pt x="531" y="174"/>
                  </a:lnTo>
                  <a:lnTo>
                    <a:pt x="508" y="188"/>
                  </a:lnTo>
                  <a:lnTo>
                    <a:pt x="485" y="205"/>
                  </a:lnTo>
                  <a:lnTo>
                    <a:pt x="462" y="222"/>
                  </a:lnTo>
                  <a:lnTo>
                    <a:pt x="441" y="242"/>
                  </a:lnTo>
                  <a:lnTo>
                    <a:pt x="420" y="263"/>
                  </a:lnTo>
                  <a:lnTo>
                    <a:pt x="400" y="286"/>
                  </a:lnTo>
                  <a:lnTo>
                    <a:pt x="380" y="311"/>
                  </a:lnTo>
                  <a:lnTo>
                    <a:pt x="362" y="336"/>
                  </a:lnTo>
                  <a:lnTo>
                    <a:pt x="343" y="363"/>
                  </a:lnTo>
                  <a:lnTo>
                    <a:pt x="326" y="391"/>
                  </a:lnTo>
                  <a:lnTo>
                    <a:pt x="308" y="419"/>
                  </a:lnTo>
                  <a:lnTo>
                    <a:pt x="292" y="448"/>
                  </a:lnTo>
                  <a:lnTo>
                    <a:pt x="276" y="478"/>
                  </a:lnTo>
                  <a:lnTo>
                    <a:pt x="261" y="509"/>
                  </a:lnTo>
                  <a:lnTo>
                    <a:pt x="246" y="538"/>
                  </a:lnTo>
                  <a:lnTo>
                    <a:pt x="233" y="569"/>
                  </a:lnTo>
                  <a:lnTo>
                    <a:pt x="205" y="630"/>
                  </a:lnTo>
                  <a:lnTo>
                    <a:pt x="182" y="691"/>
                  </a:lnTo>
                  <a:lnTo>
                    <a:pt x="162" y="749"/>
                  </a:lnTo>
                  <a:lnTo>
                    <a:pt x="143" y="804"/>
                  </a:lnTo>
                  <a:lnTo>
                    <a:pt x="127" y="855"/>
                  </a:lnTo>
                  <a:lnTo>
                    <a:pt x="113" y="901"/>
                  </a:lnTo>
                  <a:lnTo>
                    <a:pt x="102" y="940"/>
                  </a:lnTo>
                  <a:lnTo>
                    <a:pt x="95" y="973"/>
                  </a:lnTo>
                  <a:lnTo>
                    <a:pt x="84" y="968"/>
                  </a:lnTo>
                  <a:lnTo>
                    <a:pt x="74" y="964"/>
                  </a:lnTo>
                  <a:lnTo>
                    <a:pt x="75" y="940"/>
                  </a:lnTo>
                  <a:lnTo>
                    <a:pt x="76" y="915"/>
                  </a:lnTo>
                  <a:lnTo>
                    <a:pt x="77" y="897"/>
                  </a:lnTo>
                  <a:lnTo>
                    <a:pt x="77" y="88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5540400" y="5343480"/>
              <a:ext cx="282600" cy="353880"/>
            </a:xfrm>
            <a:custGeom>
              <a:avLst/>
              <a:gdLst/>
              <a:ahLst/>
              <a:rect l="l" t="t" r="r" b="b"/>
              <a:pathLst>
                <a:path w="712" h="894">
                  <a:moveTo>
                    <a:pt x="560" y="0"/>
                  </a:moveTo>
                  <a:lnTo>
                    <a:pt x="535" y="17"/>
                  </a:lnTo>
                  <a:lnTo>
                    <a:pt x="484" y="49"/>
                  </a:lnTo>
                  <a:lnTo>
                    <a:pt x="450" y="74"/>
                  </a:lnTo>
                  <a:lnTo>
                    <a:pt x="413" y="102"/>
                  </a:lnTo>
                  <a:lnTo>
                    <a:pt x="393" y="119"/>
                  </a:lnTo>
                  <a:lnTo>
                    <a:pt x="372" y="137"/>
                  </a:lnTo>
                  <a:lnTo>
                    <a:pt x="351" y="157"/>
                  </a:lnTo>
                  <a:lnTo>
                    <a:pt x="330" y="178"/>
                  </a:lnTo>
                  <a:lnTo>
                    <a:pt x="309" y="200"/>
                  </a:lnTo>
                  <a:lnTo>
                    <a:pt x="286" y="225"/>
                  </a:lnTo>
                  <a:lnTo>
                    <a:pt x="264" y="250"/>
                  </a:lnTo>
                  <a:lnTo>
                    <a:pt x="243" y="277"/>
                  </a:lnTo>
                  <a:lnTo>
                    <a:pt x="221" y="307"/>
                  </a:lnTo>
                  <a:lnTo>
                    <a:pt x="199" y="338"/>
                  </a:lnTo>
                  <a:lnTo>
                    <a:pt x="178" y="370"/>
                  </a:lnTo>
                  <a:lnTo>
                    <a:pt x="157" y="405"/>
                  </a:lnTo>
                  <a:lnTo>
                    <a:pt x="137" y="441"/>
                  </a:lnTo>
                  <a:lnTo>
                    <a:pt x="117" y="478"/>
                  </a:lnTo>
                  <a:lnTo>
                    <a:pt x="99" y="518"/>
                  </a:lnTo>
                  <a:lnTo>
                    <a:pt x="81" y="560"/>
                  </a:lnTo>
                  <a:lnTo>
                    <a:pt x="64" y="603"/>
                  </a:lnTo>
                  <a:lnTo>
                    <a:pt x="49" y="649"/>
                  </a:lnTo>
                  <a:lnTo>
                    <a:pt x="36" y="698"/>
                  </a:lnTo>
                  <a:lnTo>
                    <a:pt x="22" y="747"/>
                  </a:lnTo>
                  <a:lnTo>
                    <a:pt x="0" y="844"/>
                  </a:lnTo>
                  <a:lnTo>
                    <a:pt x="74" y="894"/>
                  </a:lnTo>
                  <a:lnTo>
                    <a:pt x="89" y="864"/>
                  </a:lnTo>
                  <a:lnTo>
                    <a:pt x="129" y="785"/>
                  </a:lnTo>
                  <a:lnTo>
                    <a:pt x="158" y="731"/>
                  </a:lnTo>
                  <a:lnTo>
                    <a:pt x="192" y="673"/>
                  </a:lnTo>
                  <a:lnTo>
                    <a:pt x="230" y="608"/>
                  </a:lnTo>
                  <a:lnTo>
                    <a:pt x="274" y="543"/>
                  </a:lnTo>
                  <a:lnTo>
                    <a:pt x="296" y="509"/>
                  </a:lnTo>
                  <a:lnTo>
                    <a:pt x="321" y="476"/>
                  </a:lnTo>
                  <a:lnTo>
                    <a:pt x="345" y="442"/>
                  </a:lnTo>
                  <a:lnTo>
                    <a:pt x="371" y="410"/>
                  </a:lnTo>
                  <a:lnTo>
                    <a:pt x="397" y="379"/>
                  </a:lnTo>
                  <a:lnTo>
                    <a:pt x="423" y="349"/>
                  </a:lnTo>
                  <a:lnTo>
                    <a:pt x="450" y="320"/>
                  </a:lnTo>
                  <a:lnTo>
                    <a:pt x="479" y="293"/>
                  </a:lnTo>
                  <a:lnTo>
                    <a:pt x="506" y="267"/>
                  </a:lnTo>
                  <a:lnTo>
                    <a:pt x="535" y="244"/>
                  </a:lnTo>
                  <a:lnTo>
                    <a:pt x="565" y="224"/>
                  </a:lnTo>
                  <a:lnTo>
                    <a:pt x="593" y="205"/>
                  </a:lnTo>
                  <a:lnTo>
                    <a:pt x="623" y="190"/>
                  </a:lnTo>
                  <a:lnTo>
                    <a:pt x="653" y="178"/>
                  </a:lnTo>
                  <a:lnTo>
                    <a:pt x="682" y="169"/>
                  </a:lnTo>
                  <a:lnTo>
                    <a:pt x="712" y="163"/>
                  </a:lnTo>
                  <a:lnTo>
                    <a:pt x="692" y="139"/>
                  </a:lnTo>
                  <a:lnTo>
                    <a:pt x="649" y="86"/>
                  </a:lnTo>
                  <a:lnTo>
                    <a:pt x="623" y="57"/>
                  </a:lnTo>
                  <a:lnTo>
                    <a:pt x="598" y="31"/>
                  </a:lnTo>
                  <a:lnTo>
                    <a:pt x="586" y="20"/>
                  </a:lnTo>
                  <a:lnTo>
                    <a:pt x="576" y="12"/>
                  </a:lnTo>
                  <a:lnTo>
                    <a:pt x="567" y="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5580000" y="5388120"/>
              <a:ext cx="282600" cy="353880"/>
            </a:xfrm>
            <a:custGeom>
              <a:avLst/>
              <a:gdLst/>
              <a:ahLst/>
              <a:rect l="l" t="t" r="r" b="b"/>
              <a:pathLst>
                <a:path w="711" h="894">
                  <a:moveTo>
                    <a:pt x="560" y="0"/>
                  </a:moveTo>
                  <a:lnTo>
                    <a:pt x="540" y="16"/>
                  </a:lnTo>
                  <a:lnTo>
                    <a:pt x="488" y="62"/>
                  </a:lnTo>
                  <a:lnTo>
                    <a:pt x="454" y="96"/>
                  </a:lnTo>
                  <a:lnTo>
                    <a:pt x="414" y="134"/>
                  </a:lnTo>
                  <a:lnTo>
                    <a:pt x="372" y="179"/>
                  </a:lnTo>
                  <a:lnTo>
                    <a:pt x="326" y="227"/>
                  </a:lnTo>
                  <a:lnTo>
                    <a:pt x="303" y="255"/>
                  </a:lnTo>
                  <a:lnTo>
                    <a:pt x="280" y="282"/>
                  </a:lnTo>
                  <a:lnTo>
                    <a:pt x="256" y="310"/>
                  </a:lnTo>
                  <a:lnTo>
                    <a:pt x="234" y="340"/>
                  </a:lnTo>
                  <a:lnTo>
                    <a:pt x="210" y="370"/>
                  </a:lnTo>
                  <a:lnTo>
                    <a:pt x="188" y="401"/>
                  </a:lnTo>
                  <a:lnTo>
                    <a:pt x="167" y="433"/>
                  </a:lnTo>
                  <a:lnTo>
                    <a:pt x="146" y="466"/>
                  </a:lnTo>
                  <a:lnTo>
                    <a:pt x="126" y="499"/>
                  </a:lnTo>
                  <a:lnTo>
                    <a:pt x="107" y="534"/>
                  </a:lnTo>
                  <a:lnTo>
                    <a:pt x="88" y="569"/>
                  </a:lnTo>
                  <a:lnTo>
                    <a:pt x="72" y="603"/>
                  </a:lnTo>
                  <a:lnTo>
                    <a:pt x="57" y="638"/>
                  </a:lnTo>
                  <a:lnTo>
                    <a:pt x="44" y="674"/>
                  </a:lnTo>
                  <a:lnTo>
                    <a:pt x="33" y="710"/>
                  </a:lnTo>
                  <a:lnTo>
                    <a:pt x="23" y="747"/>
                  </a:lnTo>
                  <a:lnTo>
                    <a:pt x="0" y="844"/>
                  </a:lnTo>
                  <a:lnTo>
                    <a:pt x="75" y="894"/>
                  </a:lnTo>
                  <a:lnTo>
                    <a:pt x="88" y="863"/>
                  </a:lnTo>
                  <a:lnTo>
                    <a:pt x="129" y="781"/>
                  </a:lnTo>
                  <a:lnTo>
                    <a:pt x="158" y="725"/>
                  </a:lnTo>
                  <a:lnTo>
                    <a:pt x="193" y="664"/>
                  </a:lnTo>
                  <a:lnTo>
                    <a:pt x="231" y="597"/>
                  </a:lnTo>
                  <a:lnTo>
                    <a:pt x="274" y="528"/>
                  </a:lnTo>
                  <a:lnTo>
                    <a:pt x="297" y="493"/>
                  </a:lnTo>
                  <a:lnTo>
                    <a:pt x="321" y="459"/>
                  </a:lnTo>
                  <a:lnTo>
                    <a:pt x="344" y="425"/>
                  </a:lnTo>
                  <a:lnTo>
                    <a:pt x="370" y="391"/>
                  </a:lnTo>
                  <a:lnTo>
                    <a:pt x="396" y="359"/>
                  </a:lnTo>
                  <a:lnTo>
                    <a:pt x="423" y="328"/>
                  </a:lnTo>
                  <a:lnTo>
                    <a:pt x="450" y="297"/>
                  </a:lnTo>
                  <a:lnTo>
                    <a:pt x="477" y="270"/>
                  </a:lnTo>
                  <a:lnTo>
                    <a:pt x="506" y="243"/>
                  </a:lnTo>
                  <a:lnTo>
                    <a:pt x="534" y="219"/>
                  </a:lnTo>
                  <a:lnTo>
                    <a:pt x="563" y="198"/>
                  </a:lnTo>
                  <a:lnTo>
                    <a:pt x="593" y="178"/>
                  </a:lnTo>
                  <a:lnTo>
                    <a:pt x="622" y="163"/>
                  </a:lnTo>
                  <a:lnTo>
                    <a:pt x="651" y="150"/>
                  </a:lnTo>
                  <a:lnTo>
                    <a:pt x="681" y="140"/>
                  </a:lnTo>
                  <a:lnTo>
                    <a:pt x="711" y="136"/>
                  </a:lnTo>
                  <a:lnTo>
                    <a:pt x="692" y="116"/>
                  </a:lnTo>
                  <a:lnTo>
                    <a:pt x="649" y="72"/>
                  </a:lnTo>
                  <a:lnTo>
                    <a:pt x="622" y="49"/>
                  </a:lnTo>
                  <a:lnTo>
                    <a:pt x="598" y="26"/>
                  </a:lnTo>
                  <a:lnTo>
                    <a:pt x="586" y="18"/>
                  </a:lnTo>
                  <a:lnTo>
                    <a:pt x="577" y="10"/>
                  </a:lnTo>
                  <a:lnTo>
                    <a:pt x="568" y="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5621400" y="5425920"/>
              <a:ext cx="277920" cy="354240"/>
            </a:xfrm>
            <a:custGeom>
              <a:avLst/>
              <a:gdLst/>
              <a:ahLst/>
              <a:rect l="l" t="t" r="r" b="b"/>
              <a:pathLst>
                <a:path w="698" h="893">
                  <a:moveTo>
                    <a:pt x="566" y="0"/>
                  </a:moveTo>
                  <a:lnTo>
                    <a:pt x="545" y="15"/>
                  </a:lnTo>
                  <a:lnTo>
                    <a:pt x="490" y="58"/>
                  </a:lnTo>
                  <a:lnTo>
                    <a:pt x="453" y="89"/>
                  </a:lnTo>
                  <a:lnTo>
                    <a:pt x="411" y="127"/>
                  </a:lnTo>
                  <a:lnTo>
                    <a:pt x="365" y="169"/>
                  </a:lnTo>
                  <a:lnTo>
                    <a:pt x="318" y="216"/>
                  </a:lnTo>
                  <a:lnTo>
                    <a:pt x="293" y="241"/>
                  </a:lnTo>
                  <a:lnTo>
                    <a:pt x="268" y="268"/>
                  </a:lnTo>
                  <a:lnTo>
                    <a:pt x="243" y="295"/>
                  </a:lnTo>
                  <a:lnTo>
                    <a:pt x="219" y="324"/>
                  </a:lnTo>
                  <a:lnTo>
                    <a:pt x="195" y="352"/>
                  </a:lnTo>
                  <a:lnTo>
                    <a:pt x="171" y="383"/>
                  </a:lnTo>
                  <a:lnTo>
                    <a:pt x="149" y="414"/>
                  </a:lnTo>
                  <a:lnTo>
                    <a:pt x="126" y="447"/>
                  </a:lnTo>
                  <a:lnTo>
                    <a:pt x="105" y="479"/>
                  </a:lnTo>
                  <a:lnTo>
                    <a:pt x="85" y="512"/>
                  </a:lnTo>
                  <a:lnTo>
                    <a:pt x="67" y="546"/>
                  </a:lnTo>
                  <a:lnTo>
                    <a:pt x="51" y="581"/>
                  </a:lnTo>
                  <a:lnTo>
                    <a:pt x="34" y="615"/>
                  </a:lnTo>
                  <a:lnTo>
                    <a:pt x="21" y="651"/>
                  </a:lnTo>
                  <a:lnTo>
                    <a:pt x="10" y="687"/>
                  </a:lnTo>
                  <a:lnTo>
                    <a:pt x="0" y="723"/>
                  </a:lnTo>
                  <a:lnTo>
                    <a:pt x="6" y="844"/>
                  </a:lnTo>
                  <a:lnTo>
                    <a:pt x="80" y="893"/>
                  </a:lnTo>
                  <a:lnTo>
                    <a:pt x="94" y="865"/>
                  </a:lnTo>
                  <a:lnTo>
                    <a:pt x="133" y="788"/>
                  </a:lnTo>
                  <a:lnTo>
                    <a:pt x="160" y="737"/>
                  </a:lnTo>
                  <a:lnTo>
                    <a:pt x="192" y="680"/>
                  </a:lnTo>
                  <a:lnTo>
                    <a:pt x="228" y="619"/>
                  </a:lnTo>
                  <a:lnTo>
                    <a:pt x="269" y="555"/>
                  </a:lnTo>
                  <a:lnTo>
                    <a:pt x="291" y="522"/>
                  </a:lnTo>
                  <a:lnTo>
                    <a:pt x="314" y="490"/>
                  </a:lnTo>
                  <a:lnTo>
                    <a:pt x="337" y="459"/>
                  </a:lnTo>
                  <a:lnTo>
                    <a:pt x="362" y="428"/>
                  </a:lnTo>
                  <a:lnTo>
                    <a:pt x="387" y="397"/>
                  </a:lnTo>
                  <a:lnTo>
                    <a:pt x="413" y="369"/>
                  </a:lnTo>
                  <a:lnTo>
                    <a:pt x="439" y="340"/>
                  </a:lnTo>
                  <a:lnTo>
                    <a:pt x="467" y="314"/>
                  </a:lnTo>
                  <a:lnTo>
                    <a:pt x="494" y="290"/>
                  </a:lnTo>
                  <a:lnTo>
                    <a:pt x="522" y="268"/>
                  </a:lnTo>
                  <a:lnTo>
                    <a:pt x="551" y="247"/>
                  </a:lnTo>
                  <a:lnTo>
                    <a:pt x="580" y="230"/>
                  </a:lnTo>
                  <a:lnTo>
                    <a:pt x="608" y="215"/>
                  </a:lnTo>
                  <a:lnTo>
                    <a:pt x="638" y="204"/>
                  </a:lnTo>
                  <a:lnTo>
                    <a:pt x="668" y="195"/>
                  </a:lnTo>
                  <a:lnTo>
                    <a:pt x="698" y="189"/>
                  </a:lnTo>
                  <a:lnTo>
                    <a:pt x="693" y="181"/>
                  </a:lnTo>
                  <a:lnTo>
                    <a:pt x="681" y="161"/>
                  </a:lnTo>
                  <a:lnTo>
                    <a:pt x="664" y="133"/>
                  </a:lnTo>
                  <a:lnTo>
                    <a:pt x="644" y="99"/>
                  </a:lnTo>
                  <a:lnTo>
                    <a:pt x="622" y="65"/>
                  </a:lnTo>
                  <a:lnTo>
                    <a:pt x="601" y="35"/>
                  </a:lnTo>
                  <a:lnTo>
                    <a:pt x="591" y="22"/>
                  </a:lnTo>
                  <a:lnTo>
                    <a:pt x="581" y="11"/>
                  </a:lnTo>
                  <a:lnTo>
                    <a:pt x="573" y="4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5649840" y="5465880"/>
              <a:ext cx="281160" cy="355320"/>
            </a:xfrm>
            <a:custGeom>
              <a:avLst/>
              <a:gdLst/>
              <a:ahLst/>
              <a:rect l="l" t="t" r="r" b="b"/>
              <a:pathLst>
                <a:path w="706" h="893">
                  <a:moveTo>
                    <a:pt x="560" y="0"/>
                  </a:moveTo>
                  <a:lnTo>
                    <a:pt x="540" y="16"/>
                  </a:lnTo>
                  <a:lnTo>
                    <a:pt x="489" y="61"/>
                  </a:lnTo>
                  <a:lnTo>
                    <a:pt x="454" y="94"/>
                  </a:lnTo>
                  <a:lnTo>
                    <a:pt x="415" y="133"/>
                  </a:lnTo>
                  <a:lnTo>
                    <a:pt x="371" y="177"/>
                  </a:lnTo>
                  <a:lnTo>
                    <a:pt x="326" y="227"/>
                  </a:lnTo>
                  <a:lnTo>
                    <a:pt x="303" y="253"/>
                  </a:lnTo>
                  <a:lnTo>
                    <a:pt x="279" y="280"/>
                  </a:lnTo>
                  <a:lnTo>
                    <a:pt x="257" y="309"/>
                  </a:lnTo>
                  <a:lnTo>
                    <a:pt x="233" y="339"/>
                  </a:lnTo>
                  <a:lnTo>
                    <a:pt x="211" y="368"/>
                  </a:lnTo>
                  <a:lnTo>
                    <a:pt x="189" y="401"/>
                  </a:lnTo>
                  <a:lnTo>
                    <a:pt x="166" y="432"/>
                  </a:lnTo>
                  <a:lnTo>
                    <a:pt x="146" y="465"/>
                  </a:lnTo>
                  <a:lnTo>
                    <a:pt x="125" y="499"/>
                  </a:lnTo>
                  <a:lnTo>
                    <a:pt x="107" y="532"/>
                  </a:lnTo>
                  <a:lnTo>
                    <a:pt x="89" y="567"/>
                  </a:lnTo>
                  <a:lnTo>
                    <a:pt x="73" y="602"/>
                  </a:lnTo>
                  <a:lnTo>
                    <a:pt x="57" y="638"/>
                  </a:lnTo>
                  <a:lnTo>
                    <a:pt x="45" y="672"/>
                  </a:lnTo>
                  <a:lnTo>
                    <a:pt x="32" y="709"/>
                  </a:lnTo>
                  <a:lnTo>
                    <a:pt x="23" y="745"/>
                  </a:lnTo>
                  <a:lnTo>
                    <a:pt x="0" y="842"/>
                  </a:lnTo>
                  <a:lnTo>
                    <a:pt x="74" y="893"/>
                  </a:lnTo>
                  <a:lnTo>
                    <a:pt x="89" y="865"/>
                  </a:lnTo>
                  <a:lnTo>
                    <a:pt x="129" y="790"/>
                  </a:lnTo>
                  <a:lnTo>
                    <a:pt x="158" y="740"/>
                  </a:lnTo>
                  <a:lnTo>
                    <a:pt x="191" y="686"/>
                  </a:lnTo>
                  <a:lnTo>
                    <a:pt x="228" y="625"/>
                  </a:lnTo>
                  <a:lnTo>
                    <a:pt x="272" y="563"/>
                  </a:lnTo>
                  <a:lnTo>
                    <a:pt x="294" y="532"/>
                  </a:lnTo>
                  <a:lnTo>
                    <a:pt x="318" y="501"/>
                  </a:lnTo>
                  <a:lnTo>
                    <a:pt x="341" y="470"/>
                  </a:lnTo>
                  <a:lnTo>
                    <a:pt x="366" y="440"/>
                  </a:lnTo>
                  <a:lnTo>
                    <a:pt x="392" y="410"/>
                  </a:lnTo>
                  <a:lnTo>
                    <a:pt x="418" y="383"/>
                  </a:lnTo>
                  <a:lnTo>
                    <a:pt x="446" y="356"/>
                  </a:lnTo>
                  <a:lnTo>
                    <a:pt x="473" y="330"/>
                  </a:lnTo>
                  <a:lnTo>
                    <a:pt x="502" y="306"/>
                  </a:lnTo>
                  <a:lnTo>
                    <a:pt x="530" y="284"/>
                  </a:lnTo>
                  <a:lnTo>
                    <a:pt x="559" y="265"/>
                  </a:lnTo>
                  <a:lnTo>
                    <a:pt x="587" y="248"/>
                  </a:lnTo>
                  <a:lnTo>
                    <a:pt x="617" y="233"/>
                  </a:lnTo>
                  <a:lnTo>
                    <a:pt x="647" y="222"/>
                  </a:lnTo>
                  <a:lnTo>
                    <a:pt x="677" y="213"/>
                  </a:lnTo>
                  <a:lnTo>
                    <a:pt x="706" y="208"/>
                  </a:lnTo>
                  <a:lnTo>
                    <a:pt x="701" y="200"/>
                  </a:lnTo>
                  <a:lnTo>
                    <a:pt x="688" y="177"/>
                  </a:lnTo>
                  <a:lnTo>
                    <a:pt x="669" y="145"/>
                  </a:lnTo>
                  <a:lnTo>
                    <a:pt x="646" y="108"/>
                  </a:lnTo>
                  <a:lnTo>
                    <a:pt x="621" y="71"/>
                  </a:lnTo>
                  <a:lnTo>
                    <a:pt x="597" y="37"/>
                  </a:lnTo>
                  <a:lnTo>
                    <a:pt x="586" y="23"/>
                  </a:lnTo>
                  <a:lnTo>
                    <a:pt x="576" y="12"/>
                  </a:lnTo>
                  <a:lnTo>
                    <a:pt x="567" y="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5664240" y="5530680"/>
              <a:ext cx="297000" cy="331920"/>
            </a:xfrm>
            <a:custGeom>
              <a:avLst/>
              <a:gdLst/>
              <a:ahLst/>
              <a:rect l="l" t="t" r="r" b="b"/>
              <a:pathLst>
                <a:path w="749" h="834">
                  <a:moveTo>
                    <a:pt x="637" y="0"/>
                  </a:moveTo>
                  <a:lnTo>
                    <a:pt x="618" y="15"/>
                  </a:lnTo>
                  <a:lnTo>
                    <a:pt x="562" y="54"/>
                  </a:lnTo>
                  <a:lnTo>
                    <a:pt x="523" y="83"/>
                  </a:lnTo>
                  <a:lnTo>
                    <a:pt x="481" y="117"/>
                  </a:lnTo>
                  <a:lnTo>
                    <a:pt x="434" y="157"/>
                  </a:lnTo>
                  <a:lnTo>
                    <a:pt x="384" y="200"/>
                  </a:lnTo>
                  <a:lnTo>
                    <a:pt x="358" y="224"/>
                  </a:lnTo>
                  <a:lnTo>
                    <a:pt x="333" y="248"/>
                  </a:lnTo>
                  <a:lnTo>
                    <a:pt x="307" y="275"/>
                  </a:lnTo>
                  <a:lnTo>
                    <a:pt x="281" y="301"/>
                  </a:lnTo>
                  <a:lnTo>
                    <a:pt x="255" y="328"/>
                  </a:lnTo>
                  <a:lnTo>
                    <a:pt x="230" y="356"/>
                  </a:lnTo>
                  <a:lnTo>
                    <a:pt x="205" y="386"/>
                  </a:lnTo>
                  <a:lnTo>
                    <a:pt x="182" y="416"/>
                  </a:lnTo>
                  <a:lnTo>
                    <a:pt x="159" y="447"/>
                  </a:lnTo>
                  <a:lnTo>
                    <a:pt x="137" y="479"/>
                  </a:lnTo>
                  <a:lnTo>
                    <a:pt x="116" y="511"/>
                  </a:lnTo>
                  <a:lnTo>
                    <a:pt x="96" y="544"/>
                  </a:lnTo>
                  <a:lnTo>
                    <a:pt x="77" y="577"/>
                  </a:lnTo>
                  <a:lnTo>
                    <a:pt x="61" y="612"/>
                  </a:lnTo>
                  <a:lnTo>
                    <a:pt x="46" y="647"/>
                  </a:lnTo>
                  <a:lnTo>
                    <a:pt x="33" y="681"/>
                  </a:lnTo>
                  <a:lnTo>
                    <a:pt x="0" y="776"/>
                  </a:lnTo>
                  <a:lnTo>
                    <a:pt x="71" y="834"/>
                  </a:lnTo>
                  <a:lnTo>
                    <a:pt x="87" y="806"/>
                  </a:lnTo>
                  <a:lnTo>
                    <a:pt x="132" y="734"/>
                  </a:lnTo>
                  <a:lnTo>
                    <a:pt x="163" y="684"/>
                  </a:lnTo>
                  <a:lnTo>
                    <a:pt x="202" y="629"/>
                  </a:lnTo>
                  <a:lnTo>
                    <a:pt x="244" y="572"/>
                  </a:lnTo>
                  <a:lnTo>
                    <a:pt x="290" y="511"/>
                  </a:lnTo>
                  <a:lnTo>
                    <a:pt x="315" y="482"/>
                  </a:lnTo>
                  <a:lnTo>
                    <a:pt x="341" y="452"/>
                  </a:lnTo>
                  <a:lnTo>
                    <a:pt x="367" y="422"/>
                  </a:lnTo>
                  <a:lnTo>
                    <a:pt x="394" y="394"/>
                  </a:lnTo>
                  <a:lnTo>
                    <a:pt x="421" y="366"/>
                  </a:lnTo>
                  <a:lnTo>
                    <a:pt x="450" y="339"/>
                  </a:lnTo>
                  <a:lnTo>
                    <a:pt x="479" y="314"/>
                  </a:lnTo>
                  <a:lnTo>
                    <a:pt x="508" y="291"/>
                  </a:lnTo>
                  <a:lnTo>
                    <a:pt x="538" y="270"/>
                  </a:lnTo>
                  <a:lnTo>
                    <a:pt x="568" y="250"/>
                  </a:lnTo>
                  <a:lnTo>
                    <a:pt x="598" y="232"/>
                  </a:lnTo>
                  <a:lnTo>
                    <a:pt x="629" y="217"/>
                  </a:lnTo>
                  <a:lnTo>
                    <a:pt x="659" y="206"/>
                  </a:lnTo>
                  <a:lnTo>
                    <a:pt x="688" y="198"/>
                  </a:lnTo>
                  <a:lnTo>
                    <a:pt x="719" y="193"/>
                  </a:lnTo>
                  <a:lnTo>
                    <a:pt x="749" y="190"/>
                  </a:lnTo>
                  <a:lnTo>
                    <a:pt x="745" y="183"/>
                  </a:lnTo>
                  <a:lnTo>
                    <a:pt x="737" y="163"/>
                  </a:lnTo>
                  <a:lnTo>
                    <a:pt x="723" y="134"/>
                  </a:lnTo>
                  <a:lnTo>
                    <a:pt x="706" y="102"/>
                  </a:lnTo>
                  <a:lnTo>
                    <a:pt x="687" y="67"/>
                  </a:lnTo>
                  <a:lnTo>
                    <a:pt x="670" y="38"/>
                  </a:lnTo>
                  <a:lnTo>
                    <a:pt x="661" y="24"/>
                  </a:lnTo>
                  <a:lnTo>
                    <a:pt x="652" y="14"/>
                  </a:lnTo>
                  <a:lnTo>
                    <a:pt x="645" y="5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5661000" y="5583240"/>
              <a:ext cx="324000" cy="325440"/>
            </a:xfrm>
            <a:custGeom>
              <a:avLst/>
              <a:gdLst/>
              <a:ahLst/>
              <a:rect l="l" t="t" r="r" b="b"/>
              <a:pathLst>
                <a:path w="816" h="821">
                  <a:moveTo>
                    <a:pt x="715" y="0"/>
                  </a:moveTo>
                  <a:lnTo>
                    <a:pt x="694" y="13"/>
                  </a:lnTo>
                  <a:lnTo>
                    <a:pt x="636" y="53"/>
                  </a:lnTo>
                  <a:lnTo>
                    <a:pt x="597" y="82"/>
                  </a:lnTo>
                  <a:lnTo>
                    <a:pt x="553" y="115"/>
                  </a:lnTo>
                  <a:lnTo>
                    <a:pt x="504" y="154"/>
                  </a:lnTo>
                  <a:lnTo>
                    <a:pt x="452" y="197"/>
                  </a:lnTo>
                  <a:lnTo>
                    <a:pt x="397" y="246"/>
                  </a:lnTo>
                  <a:lnTo>
                    <a:pt x="343" y="296"/>
                  </a:lnTo>
                  <a:lnTo>
                    <a:pt x="315" y="324"/>
                  </a:lnTo>
                  <a:lnTo>
                    <a:pt x="289" y="352"/>
                  </a:lnTo>
                  <a:lnTo>
                    <a:pt x="262" y="381"/>
                  </a:lnTo>
                  <a:lnTo>
                    <a:pt x="236" y="409"/>
                  </a:lnTo>
                  <a:lnTo>
                    <a:pt x="211" y="440"/>
                  </a:lnTo>
                  <a:lnTo>
                    <a:pt x="186" y="470"/>
                  </a:lnTo>
                  <a:lnTo>
                    <a:pt x="164" y="502"/>
                  </a:lnTo>
                  <a:lnTo>
                    <a:pt x="142" y="533"/>
                  </a:lnTo>
                  <a:lnTo>
                    <a:pt x="120" y="566"/>
                  </a:lnTo>
                  <a:lnTo>
                    <a:pt x="101" y="599"/>
                  </a:lnTo>
                  <a:lnTo>
                    <a:pt x="83" y="633"/>
                  </a:lnTo>
                  <a:lnTo>
                    <a:pt x="67" y="666"/>
                  </a:lnTo>
                  <a:lnTo>
                    <a:pt x="0" y="741"/>
                  </a:lnTo>
                  <a:lnTo>
                    <a:pt x="89" y="821"/>
                  </a:lnTo>
                  <a:lnTo>
                    <a:pt x="108" y="793"/>
                  </a:lnTo>
                  <a:lnTo>
                    <a:pt x="158" y="718"/>
                  </a:lnTo>
                  <a:lnTo>
                    <a:pt x="194" y="669"/>
                  </a:lnTo>
                  <a:lnTo>
                    <a:pt x="236" y="614"/>
                  </a:lnTo>
                  <a:lnTo>
                    <a:pt x="282" y="556"/>
                  </a:lnTo>
                  <a:lnTo>
                    <a:pt x="334" y="495"/>
                  </a:lnTo>
                  <a:lnTo>
                    <a:pt x="360" y="465"/>
                  </a:lnTo>
                  <a:lnTo>
                    <a:pt x="389" y="435"/>
                  </a:lnTo>
                  <a:lnTo>
                    <a:pt x="417" y="407"/>
                  </a:lnTo>
                  <a:lnTo>
                    <a:pt x="446" y="378"/>
                  </a:lnTo>
                  <a:lnTo>
                    <a:pt x="476" y="351"/>
                  </a:lnTo>
                  <a:lnTo>
                    <a:pt x="507" y="325"/>
                  </a:lnTo>
                  <a:lnTo>
                    <a:pt x="538" y="301"/>
                  </a:lnTo>
                  <a:lnTo>
                    <a:pt x="569" y="279"/>
                  </a:lnTo>
                  <a:lnTo>
                    <a:pt x="600" y="258"/>
                  </a:lnTo>
                  <a:lnTo>
                    <a:pt x="631" y="241"/>
                  </a:lnTo>
                  <a:lnTo>
                    <a:pt x="662" y="226"/>
                  </a:lnTo>
                  <a:lnTo>
                    <a:pt x="693" y="213"/>
                  </a:lnTo>
                  <a:lnTo>
                    <a:pt x="724" y="203"/>
                  </a:lnTo>
                  <a:lnTo>
                    <a:pt x="755" y="197"/>
                  </a:lnTo>
                  <a:lnTo>
                    <a:pt x="786" y="195"/>
                  </a:lnTo>
                  <a:lnTo>
                    <a:pt x="816" y="196"/>
                  </a:lnTo>
                  <a:lnTo>
                    <a:pt x="813" y="188"/>
                  </a:lnTo>
                  <a:lnTo>
                    <a:pt x="805" y="169"/>
                  </a:lnTo>
                  <a:lnTo>
                    <a:pt x="792" y="139"/>
                  </a:lnTo>
                  <a:lnTo>
                    <a:pt x="777" y="105"/>
                  </a:lnTo>
                  <a:lnTo>
                    <a:pt x="760" y="71"/>
                  </a:lnTo>
                  <a:lnTo>
                    <a:pt x="744" y="38"/>
                  </a:lnTo>
                  <a:lnTo>
                    <a:pt x="735" y="25"/>
                  </a:lnTo>
                  <a:lnTo>
                    <a:pt x="728" y="13"/>
                  </a:lnTo>
                  <a:lnTo>
                    <a:pt x="721" y="5"/>
                  </a:lnTo>
                  <a:lnTo>
                    <a:pt x="715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5559480" y="5224320"/>
              <a:ext cx="88920" cy="100080"/>
            </a:xfrm>
            <a:custGeom>
              <a:avLst/>
              <a:gdLst/>
              <a:ahLst/>
              <a:rect l="l" t="t" r="r" b="b"/>
              <a:pathLst>
                <a:path w="225" h="249">
                  <a:moveTo>
                    <a:pt x="225" y="124"/>
                  </a:moveTo>
                  <a:lnTo>
                    <a:pt x="224" y="136"/>
                  </a:lnTo>
                  <a:lnTo>
                    <a:pt x="222" y="149"/>
                  </a:lnTo>
                  <a:lnTo>
                    <a:pt x="220" y="161"/>
                  </a:lnTo>
                  <a:lnTo>
                    <a:pt x="216" y="172"/>
                  </a:lnTo>
                  <a:lnTo>
                    <a:pt x="211" y="183"/>
                  </a:lnTo>
                  <a:lnTo>
                    <a:pt x="205" y="193"/>
                  </a:lnTo>
                  <a:lnTo>
                    <a:pt x="199" y="203"/>
                  </a:lnTo>
                  <a:lnTo>
                    <a:pt x="191" y="212"/>
                  </a:lnTo>
                  <a:lnTo>
                    <a:pt x="184" y="221"/>
                  </a:lnTo>
                  <a:lnTo>
                    <a:pt x="175" y="228"/>
                  </a:lnTo>
                  <a:lnTo>
                    <a:pt x="165" y="234"/>
                  </a:lnTo>
                  <a:lnTo>
                    <a:pt x="157" y="239"/>
                  </a:lnTo>
                  <a:lnTo>
                    <a:pt x="145" y="243"/>
                  </a:lnTo>
                  <a:lnTo>
                    <a:pt x="136" y="247"/>
                  </a:lnTo>
                  <a:lnTo>
                    <a:pt x="124" y="248"/>
                  </a:lnTo>
                  <a:lnTo>
                    <a:pt x="112" y="249"/>
                  </a:lnTo>
                  <a:lnTo>
                    <a:pt x="101" y="248"/>
                  </a:lnTo>
                  <a:lnTo>
                    <a:pt x="90" y="247"/>
                  </a:lnTo>
                  <a:lnTo>
                    <a:pt x="80" y="243"/>
                  </a:lnTo>
                  <a:lnTo>
                    <a:pt x="68" y="239"/>
                  </a:lnTo>
                  <a:lnTo>
                    <a:pt x="59" y="234"/>
                  </a:lnTo>
                  <a:lnTo>
                    <a:pt x="50" y="228"/>
                  </a:lnTo>
                  <a:lnTo>
                    <a:pt x="41" y="221"/>
                  </a:lnTo>
                  <a:lnTo>
                    <a:pt x="34" y="212"/>
                  </a:lnTo>
                  <a:lnTo>
                    <a:pt x="26" y="203"/>
                  </a:lnTo>
                  <a:lnTo>
                    <a:pt x="20" y="193"/>
                  </a:lnTo>
                  <a:lnTo>
                    <a:pt x="14" y="183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9"/>
                  </a:lnTo>
                  <a:lnTo>
                    <a:pt x="1" y="136"/>
                  </a:lnTo>
                  <a:lnTo>
                    <a:pt x="0" y="124"/>
                  </a:lnTo>
                  <a:lnTo>
                    <a:pt x="1" y="112"/>
                  </a:lnTo>
                  <a:lnTo>
                    <a:pt x="3" y="99"/>
                  </a:lnTo>
                  <a:lnTo>
                    <a:pt x="5" y="87"/>
                  </a:lnTo>
                  <a:lnTo>
                    <a:pt x="9" y="76"/>
                  </a:lnTo>
                  <a:lnTo>
                    <a:pt x="14" y="64"/>
                  </a:lnTo>
                  <a:lnTo>
                    <a:pt x="20" y="54"/>
                  </a:lnTo>
                  <a:lnTo>
                    <a:pt x="26" y="45"/>
                  </a:lnTo>
                  <a:lnTo>
                    <a:pt x="34" y="36"/>
                  </a:lnTo>
                  <a:lnTo>
                    <a:pt x="41" y="28"/>
                  </a:lnTo>
                  <a:lnTo>
                    <a:pt x="50" y="21"/>
                  </a:lnTo>
                  <a:lnTo>
                    <a:pt x="59" y="15"/>
                  </a:lnTo>
                  <a:lnTo>
                    <a:pt x="68" y="10"/>
                  </a:lnTo>
                  <a:lnTo>
                    <a:pt x="80" y="5"/>
                  </a:lnTo>
                  <a:lnTo>
                    <a:pt x="90" y="2"/>
                  </a:lnTo>
                  <a:lnTo>
                    <a:pt x="101" y="0"/>
                  </a:lnTo>
                  <a:lnTo>
                    <a:pt x="112" y="0"/>
                  </a:lnTo>
                  <a:lnTo>
                    <a:pt x="124" y="0"/>
                  </a:lnTo>
                  <a:lnTo>
                    <a:pt x="136" y="2"/>
                  </a:lnTo>
                  <a:lnTo>
                    <a:pt x="145" y="5"/>
                  </a:lnTo>
                  <a:lnTo>
                    <a:pt x="157" y="10"/>
                  </a:lnTo>
                  <a:lnTo>
                    <a:pt x="165" y="15"/>
                  </a:lnTo>
                  <a:lnTo>
                    <a:pt x="175" y="21"/>
                  </a:lnTo>
                  <a:lnTo>
                    <a:pt x="184" y="28"/>
                  </a:lnTo>
                  <a:lnTo>
                    <a:pt x="191" y="36"/>
                  </a:lnTo>
                  <a:lnTo>
                    <a:pt x="199" y="45"/>
                  </a:lnTo>
                  <a:lnTo>
                    <a:pt x="205" y="54"/>
                  </a:lnTo>
                  <a:lnTo>
                    <a:pt x="211" y="64"/>
                  </a:lnTo>
                  <a:lnTo>
                    <a:pt x="216" y="76"/>
                  </a:lnTo>
                  <a:lnTo>
                    <a:pt x="220" y="87"/>
                  </a:lnTo>
                  <a:lnTo>
                    <a:pt x="222" y="99"/>
                  </a:lnTo>
                  <a:lnTo>
                    <a:pt x="224" y="112"/>
                  </a:lnTo>
                  <a:lnTo>
                    <a:pt x="225" y="12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5575320" y="5229360"/>
              <a:ext cx="52200" cy="44280"/>
            </a:xfrm>
            <a:custGeom>
              <a:avLst/>
              <a:gdLst/>
              <a:ahLst/>
              <a:rect l="l" t="t" r="r" b="b"/>
              <a:pathLst>
                <a:path w="130" h="112">
                  <a:moveTo>
                    <a:pt x="130" y="55"/>
                  </a:moveTo>
                  <a:lnTo>
                    <a:pt x="130" y="62"/>
                  </a:lnTo>
                  <a:lnTo>
                    <a:pt x="129" y="68"/>
                  </a:lnTo>
                  <a:lnTo>
                    <a:pt x="128" y="73"/>
                  </a:lnTo>
                  <a:lnTo>
                    <a:pt x="125" y="78"/>
                  </a:lnTo>
                  <a:lnTo>
                    <a:pt x="119" y="88"/>
                  </a:lnTo>
                  <a:lnTo>
                    <a:pt x="112" y="95"/>
                  </a:lnTo>
                  <a:lnTo>
                    <a:pt x="102" y="103"/>
                  </a:lnTo>
                  <a:lnTo>
                    <a:pt x="91" y="107"/>
                  </a:lnTo>
                  <a:lnTo>
                    <a:pt x="78" y="111"/>
                  </a:lnTo>
                  <a:lnTo>
                    <a:pt x="66" y="112"/>
                  </a:lnTo>
                  <a:lnTo>
                    <a:pt x="52" y="111"/>
                  </a:lnTo>
                  <a:lnTo>
                    <a:pt x="40" y="107"/>
                  </a:lnTo>
                  <a:lnTo>
                    <a:pt x="28" y="103"/>
                  </a:lnTo>
                  <a:lnTo>
                    <a:pt x="20" y="95"/>
                  </a:lnTo>
                  <a:lnTo>
                    <a:pt x="11" y="88"/>
                  </a:lnTo>
                  <a:lnTo>
                    <a:pt x="5" y="78"/>
                  </a:lnTo>
                  <a:lnTo>
                    <a:pt x="2" y="73"/>
                  </a:lnTo>
                  <a:lnTo>
                    <a:pt x="1" y="68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2" y="39"/>
                  </a:lnTo>
                  <a:lnTo>
                    <a:pt x="5" y="34"/>
                  </a:lnTo>
                  <a:lnTo>
                    <a:pt x="11" y="24"/>
                  </a:lnTo>
                  <a:lnTo>
                    <a:pt x="20" y="17"/>
                  </a:lnTo>
                  <a:lnTo>
                    <a:pt x="28" y="9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6" y="0"/>
                  </a:lnTo>
                  <a:lnTo>
                    <a:pt x="78" y="1"/>
                  </a:lnTo>
                  <a:lnTo>
                    <a:pt x="91" y="5"/>
                  </a:lnTo>
                  <a:lnTo>
                    <a:pt x="102" y="9"/>
                  </a:lnTo>
                  <a:lnTo>
                    <a:pt x="112" y="17"/>
                  </a:lnTo>
                  <a:lnTo>
                    <a:pt x="119" y="24"/>
                  </a:lnTo>
                  <a:lnTo>
                    <a:pt x="125" y="34"/>
                  </a:lnTo>
                  <a:lnTo>
                    <a:pt x="128" y="39"/>
                  </a:lnTo>
                  <a:lnTo>
                    <a:pt x="129" y="44"/>
                  </a:lnTo>
                  <a:lnTo>
                    <a:pt x="130" y="50"/>
                  </a:lnTo>
                  <a:lnTo>
                    <a:pt x="130" y="5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5411880" y="5375160"/>
              <a:ext cx="88920" cy="98640"/>
            </a:xfrm>
            <a:custGeom>
              <a:avLst/>
              <a:gdLst/>
              <a:ahLst/>
              <a:rect l="l" t="t" r="r" b="b"/>
              <a:pathLst>
                <a:path w="223" h="250">
                  <a:moveTo>
                    <a:pt x="223" y="126"/>
                  </a:moveTo>
                  <a:lnTo>
                    <a:pt x="223" y="138"/>
                  </a:lnTo>
                  <a:lnTo>
                    <a:pt x="222" y="150"/>
                  </a:lnTo>
                  <a:lnTo>
                    <a:pt x="218" y="162"/>
                  </a:lnTo>
                  <a:lnTo>
                    <a:pt x="214" y="174"/>
                  </a:lnTo>
                  <a:lnTo>
                    <a:pt x="210" y="184"/>
                  </a:lnTo>
                  <a:lnTo>
                    <a:pt x="205" y="195"/>
                  </a:lnTo>
                  <a:lnTo>
                    <a:pt x="198" y="205"/>
                  </a:lnTo>
                  <a:lnTo>
                    <a:pt x="191" y="214"/>
                  </a:lnTo>
                  <a:lnTo>
                    <a:pt x="182" y="221"/>
                  </a:lnTo>
                  <a:lnTo>
                    <a:pt x="174" y="229"/>
                  </a:lnTo>
                  <a:lnTo>
                    <a:pt x="165" y="235"/>
                  </a:lnTo>
                  <a:lnTo>
                    <a:pt x="155" y="240"/>
                  </a:lnTo>
                  <a:lnTo>
                    <a:pt x="145" y="245"/>
                  </a:lnTo>
                  <a:lnTo>
                    <a:pt x="134" y="247"/>
                  </a:lnTo>
                  <a:lnTo>
                    <a:pt x="123" y="250"/>
                  </a:lnTo>
                  <a:lnTo>
                    <a:pt x="111" y="250"/>
                  </a:lnTo>
                  <a:lnTo>
                    <a:pt x="100" y="250"/>
                  </a:lnTo>
                  <a:lnTo>
                    <a:pt x="89" y="247"/>
                  </a:lnTo>
                  <a:lnTo>
                    <a:pt x="78" y="245"/>
                  </a:lnTo>
                  <a:lnTo>
                    <a:pt x="68" y="240"/>
                  </a:lnTo>
                  <a:lnTo>
                    <a:pt x="58" y="235"/>
                  </a:lnTo>
                  <a:lnTo>
                    <a:pt x="48" y="229"/>
                  </a:lnTo>
                  <a:lnTo>
                    <a:pt x="39" y="221"/>
                  </a:lnTo>
                  <a:lnTo>
                    <a:pt x="32" y="214"/>
                  </a:lnTo>
                  <a:lnTo>
                    <a:pt x="24" y="205"/>
                  </a:lnTo>
                  <a:lnTo>
                    <a:pt x="18" y="195"/>
                  </a:lnTo>
                  <a:lnTo>
                    <a:pt x="12" y="184"/>
                  </a:lnTo>
                  <a:lnTo>
                    <a:pt x="8" y="174"/>
                  </a:lnTo>
                  <a:lnTo>
                    <a:pt x="5" y="162"/>
                  </a:lnTo>
                  <a:lnTo>
                    <a:pt x="1" y="150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0" y="112"/>
                  </a:lnTo>
                  <a:lnTo>
                    <a:pt x="1" y="100"/>
                  </a:lnTo>
                  <a:lnTo>
                    <a:pt x="5" y="88"/>
                  </a:lnTo>
                  <a:lnTo>
                    <a:pt x="8" y="77"/>
                  </a:lnTo>
                  <a:lnTo>
                    <a:pt x="12" y="66"/>
                  </a:lnTo>
                  <a:lnTo>
                    <a:pt x="18" y="56"/>
                  </a:lnTo>
                  <a:lnTo>
                    <a:pt x="24" y="46"/>
                  </a:lnTo>
                  <a:lnTo>
                    <a:pt x="32" y="37"/>
                  </a:lnTo>
                  <a:lnTo>
                    <a:pt x="39" y="29"/>
                  </a:lnTo>
                  <a:lnTo>
                    <a:pt x="48" y="21"/>
                  </a:lnTo>
                  <a:lnTo>
                    <a:pt x="58" y="15"/>
                  </a:lnTo>
                  <a:lnTo>
                    <a:pt x="68" y="10"/>
                  </a:lnTo>
                  <a:lnTo>
                    <a:pt x="78" y="6"/>
                  </a:lnTo>
                  <a:lnTo>
                    <a:pt x="89" y="3"/>
                  </a:lnTo>
                  <a:lnTo>
                    <a:pt x="100" y="2"/>
                  </a:lnTo>
                  <a:lnTo>
                    <a:pt x="111" y="0"/>
                  </a:lnTo>
                  <a:lnTo>
                    <a:pt x="123" y="2"/>
                  </a:lnTo>
                  <a:lnTo>
                    <a:pt x="134" y="3"/>
                  </a:lnTo>
                  <a:lnTo>
                    <a:pt x="145" y="6"/>
                  </a:lnTo>
                  <a:lnTo>
                    <a:pt x="155" y="10"/>
                  </a:lnTo>
                  <a:lnTo>
                    <a:pt x="165" y="15"/>
                  </a:lnTo>
                  <a:lnTo>
                    <a:pt x="174" y="21"/>
                  </a:lnTo>
                  <a:lnTo>
                    <a:pt x="182" y="29"/>
                  </a:lnTo>
                  <a:lnTo>
                    <a:pt x="191" y="37"/>
                  </a:lnTo>
                  <a:lnTo>
                    <a:pt x="198" y="46"/>
                  </a:lnTo>
                  <a:lnTo>
                    <a:pt x="205" y="56"/>
                  </a:lnTo>
                  <a:lnTo>
                    <a:pt x="210" y="66"/>
                  </a:lnTo>
                  <a:lnTo>
                    <a:pt x="214" y="77"/>
                  </a:lnTo>
                  <a:lnTo>
                    <a:pt x="218" y="88"/>
                  </a:lnTo>
                  <a:lnTo>
                    <a:pt x="222" y="100"/>
                  </a:lnTo>
                  <a:lnTo>
                    <a:pt x="223" y="112"/>
                  </a:lnTo>
                  <a:lnTo>
                    <a:pt x="223" y="126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5427720" y="5380200"/>
              <a:ext cx="50760" cy="4284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31" y="56"/>
                  </a:moveTo>
                  <a:lnTo>
                    <a:pt x="131" y="62"/>
                  </a:lnTo>
                  <a:lnTo>
                    <a:pt x="130" y="67"/>
                  </a:lnTo>
                  <a:lnTo>
                    <a:pt x="127" y="72"/>
                  </a:lnTo>
                  <a:lnTo>
                    <a:pt x="126" y="77"/>
                  </a:lnTo>
                  <a:lnTo>
                    <a:pt x="120" y="87"/>
                  </a:lnTo>
                  <a:lnTo>
                    <a:pt x="111" y="96"/>
                  </a:lnTo>
                  <a:lnTo>
                    <a:pt x="102" y="102"/>
                  </a:lnTo>
                  <a:lnTo>
                    <a:pt x="91" y="108"/>
                  </a:lnTo>
                  <a:lnTo>
                    <a:pt x="79" y="111"/>
                  </a:lnTo>
                  <a:lnTo>
                    <a:pt x="65" y="112"/>
                  </a:lnTo>
                  <a:lnTo>
                    <a:pt x="53" y="111"/>
                  </a:lnTo>
                  <a:lnTo>
                    <a:pt x="40" y="108"/>
                  </a:lnTo>
                  <a:lnTo>
                    <a:pt x="29" y="102"/>
                  </a:lnTo>
                  <a:lnTo>
                    <a:pt x="19" y="96"/>
                  </a:lnTo>
                  <a:lnTo>
                    <a:pt x="12" y="87"/>
                  </a:lnTo>
                  <a:lnTo>
                    <a:pt x="5" y="77"/>
                  </a:lnTo>
                  <a:lnTo>
                    <a:pt x="3" y="72"/>
                  </a:lnTo>
                  <a:lnTo>
                    <a:pt x="2" y="67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2" y="45"/>
                  </a:lnTo>
                  <a:lnTo>
                    <a:pt x="3" y="39"/>
                  </a:lnTo>
                  <a:lnTo>
                    <a:pt x="5" y="34"/>
                  </a:lnTo>
                  <a:lnTo>
                    <a:pt x="12" y="25"/>
                  </a:lnTo>
                  <a:lnTo>
                    <a:pt x="19" y="16"/>
                  </a:lnTo>
                  <a:lnTo>
                    <a:pt x="29" y="9"/>
                  </a:lnTo>
                  <a:lnTo>
                    <a:pt x="40" y="4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1" y="4"/>
                  </a:lnTo>
                  <a:lnTo>
                    <a:pt x="102" y="9"/>
                  </a:lnTo>
                  <a:lnTo>
                    <a:pt x="111" y="16"/>
                  </a:lnTo>
                  <a:lnTo>
                    <a:pt x="120" y="25"/>
                  </a:lnTo>
                  <a:lnTo>
                    <a:pt x="126" y="34"/>
                  </a:lnTo>
                  <a:lnTo>
                    <a:pt x="127" y="39"/>
                  </a:lnTo>
                  <a:lnTo>
                    <a:pt x="130" y="45"/>
                  </a:lnTo>
                  <a:lnTo>
                    <a:pt x="131" y="50"/>
                  </a:lnTo>
                  <a:lnTo>
                    <a:pt x="131" y="56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5400720" y="5224320"/>
              <a:ext cx="65160" cy="74880"/>
            </a:xfrm>
            <a:custGeom>
              <a:avLst/>
              <a:gdLst/>
              <a:ahLst/>
              <a:rect l="l" t="t" r="r" b="b"/>
              <a:pathLst>
                <a:path w="166" h="185">
                  <a:moveTo>
                    <a:pt x="166" y="92"/>
                  </a:moveTo>
                  <a:lnTo>
                    <a:pt x="166" y="102"/>
                  </a:lnTo>
                  <a:lnTo>
                    <a:pt x="165" y="110"/>
                  </a:lnTo>
                  <a:lnTo>
                    <a:pt x="163" y="119"/>
                  </a:lnTo>
                  <a:lnTo>
                    <a:pt x="160" y="128"/>
                  </a:lnTo>
                  <a:lnTo>
                    <a:pt x="157" y="136"/>
                  </a:lnTo>
                  <a:lnTo>
                    <a:pt x="153" y="144"/>
                  </a:lnTo>
                  <a:lnTo>
                    <a:pt x="148" y="151"/>
                  </a:lnTo>
                  <a:lnTo>
                    <a:pt x="143" y="157"/>
                  </a:lnTo>
                  <a:lnTo>
                    <a:pt x="137" y="164"/>
                  </a:lnTo>
                  <a:lnTo>
                    <a:pt x="130" y="169"/>
                  </a:lnTo>
                  <a:lnTo>
                    <a:pt x="123" y="174"/>
                  </a:lnTo>
                  <a:lnTo>
                    <a:pt x="117" y="177"/>
                  </a:lnTo>
                  <a:lnTo>
                    <a:pt x="108" y="180"/>
                  </a:lnTo>
                  <a:lnTo>
                    <a:pt x="101" y="182"/>
                  </a:lnTo>
                  <a:lnTo>
                    <a:pt x="92" y="183"/>
                  </a:lnTo>
                  <a:lnTo>
                    <a:pt x="85" y="185"/>
                  </a:lnTo>
                  <a:lnTo>
                    <a:pt x="76" y="183"/>
                  </a:lnTo>
                  <a:lnTo>
                    <a:pt x="67" y="182"/>
                  </a:lnTo>
                  <a:lnTo>
                    <a:pt x="58" y="180"/>
                  </a:lnTo>
                  <a:lnTo>
                    <a:pt x="51" y="177"/>
                  </a:lnTo>
                  <a:lnTo>
                    <a:pt x="44" y="174"/>
                  </a:lnTo>
                  <a:lnTo>
                    <a:pt x="37" y="169"/>
                  </a:lnTo>
                  <a:lnTo>
                    <a:pt x="31" y="164"/>
                  </a:lnTo>
                  <a:lnTo>
                    <a:pt x="25" y="157"/>
                  </a:lnTo>
                  <a:lnTo>
                    <a:pt x="20" y="151"/>
                  </a:lnTo>
                  <a:lnTo>
                    <a:pt x="15" y="144"/>
                  </a:lnTo>
                  <a:lnTo>
                    <a:pt x="10" y="136"/>
                  </a:lnTo>
                  <a:lnTo>
                    <a:pt x="8" y="128"/>
                  </a:lnTo>
                  <a:lnTo>
                    <a:pt x="4" y="119"/>
                  </a:lnTo>
                  <a:lnTo>
                    <a:pt x="3" y="110"/>
                  </a:lnTo>
                  <a:lnTo>
                    <a:pt x="1" y="102"/>
                  </a:lnTo>
                  <a:lnTo>
                    <a:pt x="0" y="92"/>
                  </a:lnTo>
                  <a:lnTo>
                    <a:pt x="1" y="83"/>
                  </a:lnTo>
                  <a:lnTo>
                    <a:pt x="3" y="73"/>
                  </a:lnTo>
                  <a:lnTo>
                    <a:pt x="4" y="64"/>
                  </a:lnTo>
                  <a:lnTo>
                    <a:pt x="8" y="56"/>
                  </a:lnTo>
                  <a:lnTo>
                    <a:pt x="10" y="48"/>
                  </a:lnTo>
                  <a:lnTo>
                    <a:pt x="15" y="41"/>
                  </a:lnTo>
                  <a:lnTo>
                    <a:pt x="20" y="33"/>
                  </a:lnTo>
                  <a:lnTo>
                    <a:pt x="25" y="27"/>
                  </a:lnTo>
                  <a:lnTo>
                    <a:pt x="31" y="21"/>
                  </a:lnTo>
                  <a:lnTo>
                    <a:pt x="37" y="16"/>
                  </a:lnTo>
                  <a:lnTo>
                    <a:pt x="44" y="11"/>
                  </a:lnTo>
                  <a:lnTo>
                    <a:pt x="51" y="7"/>
                  </a:lnTo>
                  <a:lnTo>
                    <a:pt x="58" y="4"/>
                  </a:lnTo>
                  <a:lnTo>
                    <a:pt x="67" y="1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1" y="1"/>
                  </a:lnTo>
                  <a:lnTo>
                    <a:pt x="108" y="4"/>
                  </a:lnTo>
                  <a:lnTo>
                    <a:pt x="117" y="7"/>
                  </a:lnTo>
                  <a:lnTo>
                    <a:pt x="123" y="11"/>
                  </a:lnTo>
                  <a:lnTo>
                    <a:pt x="130" y="16"/>
                  </a:lnTo>
                  <a:lnTo>
                    <a:pt x="137" y="21"/>
                  </a:lnTo>
                  <a:lnTo>
                    <a:pt x="143" y="27"/>
                  </a:lnTo>
                  <a:lnTo>
                    <a:pt x="148" y="33"/>
                  </a:lnTo>
                  <a:lnTo>
                    <a:pt x="153" y="41"/>
                  </a:lnTo>
                  <a:lnTo>
                    <a:pt x="157" y="48"/>
                  </a:lnTo>
                  <a:lnTo>
                    <a:pt x="160" y="56"/>
                  </a:lnTo>
                  <a:lnTo>
                    <a:pt x="163" y="64"/>
                  </a:lnTo>
                  <a:lnTo>
                    <a:pt x="165" y="73"/>
                  </a:lnTo>
                  <a:lnTo>
                    <a:pt x="166" y="83"/>
                  </a:lnTo>
                  <a:lnTo>
                    <a:pt x="166" y="9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5411880" y="5227560"/>
              <a:ext cx="38160" cy="3348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97" y="42"/>
                  </a:moveTo>
                  <a:lnTo>
                    <a:pt x="96" y="51"/>
                  </a:lnTo>
                  <a:lnTo>
                    <a:pt x="93" y="58"/>
                  </a:lnTo>
                  <a:lnTo>
                    <a:pt x="88" y="66"/>
                  </a:lnTo>
                  <a:lnTo>
                    <a:pt x="83" y="72"/>
                  </a:lnTo>
                  <a:lnTo>
                    <a:pt x="76" y="77"/>
                  </a:lnTo>
                  <a:lnTo>
                    <a:pt x="67" y="81"/>
                  </a:lnTo>
                  <a:lnTo>
                    <a:pt x="58" y="83"/>
                  </a:lnTo>
                  <a:lnTo>
                    <a:pt x="48" y="83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1" y="77"/>
                  </a:lnTo>
                  <a:lnTo>
                    <a:pt x="15" y="72"/>
                  </a:lnTo>
                  <a:lnTo>
                    <a:pt x="9" y="66"/>
                  </a:lnTo>
                  <a:lnTo>
                    <a:pt x="4" y="58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34"/>
                  </a:lnTo>
                  <a:lnTo>
                    <a:pt x="4" y="26"/>
                  </a:lnTo>
                  <a:lnTo>
                    <a:pt x="9" y="19"/>
                  </a:lnTo>
                  <a:lnTo>
                    <a:pt x="15" y="12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7" y="4"/>
                  </a:lnTo>
                  <a:lnTo>
                    <a:pt x="76" y="8"/>
                  </a:lnTo>
                  <a:lnTo>
                    <a:pt x="83" y="12"/>
                  </a:lnTo>
                  <a:lnTo>
                    <a:pt x="88" y="19"/>
                  </a:lnTo>
                  <a:lnTo>
                    <a:pt x="93" y="26"/>
                  </a:lnTo>
                  <a:lnTo>
                    <a:pt x="96" y="34"/>
                  </a:lnTo>
                  <a:lnTo>
                    <a:pt x="97" y="4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5489640" y="5302080"/>
              <a:ext cx="66600" cy="73080"/>
            </a:xfrm>
            <a:custGeom>
              <a:avLst/>
              <a:gdLst/>
              <a:ahLst/>
              <a:rect l="l" t="t" r="r" b="b"/>
              <a:pathLst>
                <a:path w="166" h="185">
                  <a:moveTo>
                    <a:pt x="166" y="92"/>
                  </a:moveTo>
                  <a:lnTo>
                    <a:pt x="165" y="102"/>
                  </a:lnTo>
                  <a:lnTo>
                    <a:pt x="164" y="111"/>
                  </a:lnTo>
                  <a:lnTo>
                    <a:pt x="163" y="121"/>
                  </a:lnTo>
                  <a:lnTo>
                    <a:pt x="159" y="128"/>
                  </a:lnTo>
                  <a:lnTo>
                    <a:pt x="155" y="137"/>
                  </a:lnTo>
                  <a:lnTo>
                    <a:pt x="151" y="144"/>
                  </a:lnTo>
                  <a:lnTo>
                    <a:pt x="146" y="152"/>
                  </a:lnTo>
                  <a:lnTo>
                    <a:pt x="141" y="158"/>
                  </a:lnTo>
                  <a:lnTo>
                    <a:pt x="135" y="164"/>
                  </a:lnTo>
                  <a:lnTo>
                    <a:pt x="129" y="169"/>
                  </a:lnTo>
                  <a:lnTo>
                    <a:pt x="123" y="174"/>
                  </a:lnTo>
                  <a:lnTo>
                    <a:pt x="115" y="178"/>
                  </a:lnTo>
                  <a:lnTo>
                    <a:pt x="108" y="182"/>
                  </a:lnTo>
                  <a:lnTo>
                    <a:pt x="99" y="183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74" y="185"/>
                  </a:lnTo>
                  <a:lnTo>
                    <a:pt x="66" y="183"/>
                  </a:lnTo>
                  <a:lnTo>
                    <a:pt x="58" y="182"/>
                  </a:lnTo>
                  <a:lnTo>
                    <a:pt x="51" y="178"/>
                  </a:lnTo>
                  <a:lnTo>
                    <a:pt x="43" y="174"/>
                  </a:lnTo>
                  <a:lnTo>
                    <a:pt x="36" y="169"/>
                  </a:lnTo>
                  <a:lnTo>
                    <a:pt x="30" y="164"/>
                  </a:lnTo>
                  <a:lnTo>
                    <a:pt x="23" y="158"/>
                  </a:lnTo>
                  <a:lnTo>
                    <a:pt x="18" y="152"/>
                  </a:lnTo>
                  <a:lnTo>
                    <a:pt x="14" y="144"/>
                  </a:lnTo>
                  <a:lnTo>
                    <a:pt x="10" y="137"/>
                  </a:lnTo>
                  <a:lnTo>
                    <a:pt x="6" y="128"/>
                  </a:lnTo>
                  <a:lnTo>
                    <a:pt x="4" y="121"/>
                  </a:lnTo>
                  <a:lnTo>
                    <a:pt x="1" y="111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1" y="74"/>
                  </a:lnTo>
                  <a:lnTo>
                    <a:pt x="4" y="65"/>
                  </a:lnTo>
                  <a:lnTo>
                    <a:pt x="6" y="56"/>
                  </a:lnTo>
                  <a:lnTo>
                    <a:pt x="10" y="49"/>
                  </a:lnTo>
                  <a:lnTo>
                    <a:pt x="14" y="41"/>
                  </a:lnTo>
                  <a:lnTo>
                    <a:pt x="18" y="34"/>
                  </a:lnTo>
                  <a:lnTo>
                    <a:pt x="23" y="28"/>
                  </a:lnTo>
                  <a:lnTo>
                    <a:pt x="30" y="22"/>
                  </a:lnTo>
                  <a:lnTo>
                    <a:pt x="36" y="17"/>
                  </a:lnTo>
                  <a:lnTo>
                    <a:pt x="43" y="12"/>
                  </a:lnTo>
                  <a:lnTo>
                    <a:pt x="51" y="8"/>
                  </a:lnTo>
                  <a:lnTo>
                    <a:pt x="58" y="4"/>
                  </a:lnTo>
                  <a:lnTo>
                    <a:pt x="66" y="3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2" y="0"/>
                  </a:lnTo>
                  <a:lnTo>
                    <a:pt x="99" y="3"/>
                  </a:lnTo>
                  <a:lnTo>
                    <a:pt x="108" y="4"/>
                  </a:lnTo>
                  <a:lnTo>
                    <a:pt x="115" y="8"/>
                  </a:lnTo>
                  <a:lnTo>
                    <a:pt x="123" y="12"/>
                  </a:lnTo>
                  <a:lnTo>
                    <a:pt x="129" y="17"/>
                  </a:lnTo>
                  <a:lnTo>
                    <a:pt x="135" y="22"/>
                  </a:lnTo>
                  <a:lnTo>
                    <a:pt x="141" y="28"/>
                  </a:lnTo>
                  <a:lnTo>
                    <a:pt x="146" y="34"/>
                  </a:lnTo>
                  <a:lnTo>
                    <a:pt x="151" y="41"/>
                  </a:lnTo>
                  <a:lnTo>
                    <a:pt x="155" y="49"/>
                  </a:lnTo>
                  <a:lnTo>
                    <a:pt x="159" y="56"/>
                  </a:lnTo>
                  <a:lnTo>
                    <a:pt x="163" y="65"/>
                  </a:lnTo>
                  <a:lnTo>
                    <a:pt x="164" y="74"/>
                  </a:lnTo>
                  <a:lnTo>
                    <a:pt x="165" y="84"/>
                  </a:lnTo>
                  <a:lnTo>
                    <a:pt x="166" y="9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5500800" y="5305320"/>
              <a:ext cx="38160" cy="3168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97" y="41"/>
                  </a:moveTo>
                  <a:lnTo>
                    <a:pt x="97" y="49"/>
                  </a:lnTo>
                  <a:lnTo>
                    <a:pt x="94" y="57"/>
                  </a:lnTo>
                  <a:lnTo>
                    <a:pt x="90" y="64"/>
                  </a:lnTo>
                  <a:lnTo>
                    <a:pt x="84" y="71"/>
                  </a:lnTo>
                  <a:lnTo>
                    <a:pt x="76" y="76"/>
                  </a:lnTo>
                  <a:lnTo>
                    <a:pt x="69" y="79"/>
                  </a:lnTo>
                  <a:lnTo>
                    <a:pt x="59" y="82"/>
                  </a:lnTo>
                  <a:lnTo>
                    <a:pt x="49" y="83"/>
                  </a:lnTo>
                  <a:lnTo>
                    <a:pt x="40" y="82"/>
                  </a:lnTo>
                  <a:lnTo>
                    <a:pt x="30" y="79"/>
                  </a:lnTo>
                  <a:lnTo>
                    <a:pt x="23" y="76"/>
                  </a:lnTo>
                  <a:lnTo>
                    <a:pt x="15" y="71"/>
                  </a:lnTo>
                  <a:lnTo>
                    <a:pt x="9" y="64"/>
                  </a:lnTo>
                  <a:lnTo>
                    <a:pt x="5" y="57"/>
                  </a:lnTo>
                  <a:lnTo>
                    <a:pt x="2" y="49"/>
                  </a:lnTo>
                  <a:lnTo>
                    <a:pt x="0" y="41"/>
                  </a:lnTo>
                  <a:lnTo>
                    <a:pt x="2" y="32"/>
                  </a:lnTo>
                  <a:lnTo>
                    <a:pt x="5" y="25"/>
                  </a:lnTo>
                  <a:lnTo>
                    <a:pt x="9" y="17"/>
                  </a:lnTo>
                  <a:lnTo>
                    <a:pt x="15" y="11"/>
                  </a:lnTo>
                  <a:lnTo>
                    <a:pt x="23" y="6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9" y="2"/>
                  </a:lnTo>
                  <a:lnTo>
                    <a:pt x="76" y="6"/>
                  </a:lnTo>
                  <a:lnTo>
                    <a:pt x="84" y="11"/>
                  </a:lnTo>
                  <a:lnTo>
                    <a:pt x="90" y="17"/>
                  </a:lnTo>
                  <a:lnTo>
                    <a:pt x="94" y="25"/>
                  </a:lnTo>
                  <a:lnTo>
                    <a:pt x="97" y="32"/>
                  </a:lnTo>
                  <a:lnTo>
                    <a:pt x="97" y="4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5614920" y="5337000"/>
              <a:ext cx="66600" cy="74880"/>
            </a:xfrm>
            <a:custGeom>
              <a:avLst/>
              <a:gdLst/>
              <a:ahLst/>
              <a:rect l="l" t="t" r="r" b="b"/>
              <a:pathLst>
                <a:path w="166" h="185">
                  <a:moveTo>
                    <a:pt x="166" y="92"/>
                  </a:moveTo>
                  <a:lnTo>
                    <a:pt x="165" y="102"/>
                  </a:lnTo>
                  <a:lnTo>
                    <a:pt x="164" y="110"/>
                  </a:lnTo>
                  <a:lnTo>
                    <a:pt x="162" y="120"/>
                  </a:lnTo>
                  <a:lnTo>
                    <a:pt x="160" y="128"/>
                  </a:lnTo>
                  <a:lnTo>
                    <a:pt x="156" y="136"/>
                  </a:lnTo>
                  <a:lnTo>
                    <a:pt x="151" y="144"/>
                  </a:lnTo>
                  <a:lnTo>
                    <a:pt x="146" y="151"/>
                  </a:lnTo>
                  <a:lnTo>
                    <a:pt x="141" y="158"/>
                  </a:lnTo>
                  <a:lnTo>
                    <a:pt x="135" y="164"/>
                  </a:lnTo>
                  <a:lnTo>
                    <a:pt x="129" y="169"/>
                  </a:lnTo>
                  <a:lnTo>
                    <a:pt x="123" y="174"/>
                  </a:lnTo>
                  <a:lnTo>
                    <a:pt x="115" y="177"/>
                  </a:lnTo>
                  <a:lnTo>
                    <a:pt x="108" y="181"/>
                  </a:lnTo>
                  <a:lnTo>
                    <a:pt x="99" y="182"/>
                  </a:lnTo>
                  <a:lnTo>
                    <a:pt x="92" y="184"/>
                  </a:lnTo>
                  <a:lnTo>
                    <a:pt x="83" y="185"/>
                  </a:lnTo>
                  <a:lnTo>
                    <a:pt x="74" y="184"/>
                  </a:lnTo>
                  <a:lnTo>
                    <a:pt x="66" y="182"/>
                  </a:lnTo>
                  <a:lnTo>
                    <a:pt x="58" y="181"/>
                  </a:lnTo>
                  <a:lnTo>
                    <a:pt x="51" y="177"/>
                  </a:lnTo>
                  <a:lnTo>
                    <a:pt x="43" y="174"/>
                  </a:lnTo>
                  <a:lnTo>
                    <a:pt x="36" y="169"/>
                  </a:lnTo>
                  <a:lnTo>
                    <a:pt x="30" y="164"/>
                  </a:lnTo>
                  <a:lnTo>
                    <a:pt x="25" y="158"/>
                  </a:lnTo>
                  <a:lnTo>
                    <a:pt x="18" y="151"/>
                  </a:lnTo>
                  <a:lnTo>
                    <a:pt x="13" y="144"/>
                  </a:lnTo>
                  <a:lnTo>
                    <a:pt x="10" y="136"/>
                  </a:lnTo>
                  <a:lnTo>
                    <a:pt x="6" y="128"/>
                  </a:lnTo>
                  <a:lnTo>
                    <a:pt x="3" y="120"/>
                  </a:lnTo>
                  <a:lnTo>
                    <a:pt x="1" y="110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1" y="73"/>
                  </a:lnTo>
                  <a:lnTo>
                    <a:pt x="3" y="64"/>
                  </a:lnTo>
                  <a:lnTo>
                    <a:pt x="6" y="56"/>
                  </a:lnTo>
                  <a:lnTo>
                    <a:pt x="10" y="48"/>
                  </a:lnTo>
                  <a:lnTo>
                    <a:pt x="13" y="41"/>
                  </a:lnTo>
                  <a:lnTo>
                    <a:pt x="18" y="33"/>
                  </a:lnTo>
                  <a:lnTo>
                    <a:pt x="25" y="27"/>
                  </a:lnTo>
                  <a:lnTo>
                    <a:pt x="30" y="21"/>
                  </a:lnTo>
                  <a:lnTo>
                    <a:pt x="36" y="16"/>
                  </a:lnTo>
                  <a:lnTo>
                    <a:pt x="43" y="11"/>
                  </a:lnTo>
                  <a:lnTo>
                    <a:pt x="51" y="7"/>
                  </a:lnTo>
                  <a:lnTo>
                    <a:pt x="58" y="4"/>
                  </a:lnTo>
                  <a:lnTo>
                    <a:pt x="66" y="1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8" y="4"/>
                  </a:lnTo>
                  <a:lnTo>
                    <a:pt x="115" y="7"/>
                  </a:lnTo>
                  <a:lnTo>
                    <a:pt x="123" y="11"/>
                  </a:lnTo>
                  <a:lnTo>
                    <a:pt x="129" y="16"/>
                  </a:lnTo>
                  <a:lnTo>
                    <a:pt x="135" y="21"/>
                  </a:lnTo>
                  <a:lnTo>
                    <a:pt x="141" y="27"/>
                  </a:lnTo>
                  <a:lnTo>
                    <a:pt x="146" y="33"/>
                  </a:lnTo>
                  <a:lnTo>
                    <a:pt x="151" y="41"/>
                  </a:lnTo>
                  <a:lnTo>
                    <a:pt x="156" y="48"/>
                  </a:lnTo>
                  <a:lnTo>
                    <a:pt x="160" y="56"/>
                  </a:lnTo>
                  <a:lnTo>
                    <a:pt x="162" y="64"/>
                  </a:lnTo>
                  <a:lnTo>
                    <a:pt x="164" y="73"/>
                  </a:lnTo>
                  <a:lnTo>
                    <a:pt x="165" y="83"/>
                  </a:lnTo>
                  <a:lnTo>
                    <a:pt x="166" y="9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5627520" y="5340240"/>
              <a:ext cx="38160" cy="3348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96" y="41"/>
                  </a:moveTo>
                  <a:lnTo>
                    <a:pt x="95" y="50"/>
                  </a:lnTo>
                  <a:lnTo>
                    <a:pt x="91" y="57"/>
                  </a:lnTo>
                  <a:lnTo>
                    <a:pt x="88" y="65"/>
                  </a:lnTo>
                  <a:lnTo>
                    <a:pt x="81" y="71"/>
                  </a:lnTo>
                  <a:lnTo>
                    <a:pt x="74" y="76"/>
                  </a:lnTo>
                  <a:lnTo>
                    <a:pt x="67" y="80"/>
                  </a:lnTo>
                  <a:lnTo>
                    <a:pt x="57" y="82"/>
                  </a:lnTo>
                  <a:lnTo>
                    <a:pt x="48" y="82"/>
                  </a:lnTo>
                  <a:lnTo>
                    <a:pt x="38" y="82"/>
                  </a:lnTo>
                  <a:lnTo>
                    <a:pt x="28" y="80"/>
                  </a:lnTo>
                  <a:lnTo>
                    <a:pt x="21" y="76"/>
                  </a:lnTo>
                  <a:lnTo>
                    <a:pt x="13" y="71"/>
                  </a:lnTo>
                  <a:lnTo>
                    <a:pt x="7" y="65"/>
                  </a:lnTo>
                  <a:lnTo>
                    <a:pt x="3" y="57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3" y="12"/>
                  </a:lnTo>
                  <a:lnTo>
                    <a:pt x="21" y="7"/>
                  </a:lnTo>
                  <a:lnTo>
                    <a:pt x="28" y="3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81" y="12"/>
                  </a:lnTo>
                  <a:lnTo>
                    <a:pt x="88" y="18"/>
                  </a:lnTo>
                  <a:lnTo>
                    <a:pt x="91" y="25"/>
                  </a:lnTo>
                  <a:lnTo>
                    <a:pt x="95" y="33"/>
                  </a:lnTo>
                  <a:lnTo>
                    <a:pt x="96" y="4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5475240" y="5132520"/>
              <a:ext cx="77760" cy="87120"/>
            </a:xfrm>
            <a:custGeom>
              <a:avLst/>
              <a:gdLst/>
              <a:ahLst/>
              <a:rect l="l" t="t" r="r" b="b"/>
              <a:pathLst>
                <a:path w="197" h="220">
                  <a:moveTo>
                    <a:pt x="197" y="110"/>
                  </a:moveTo>
                  <a:lnTo>
                    <a:pt x="197" y="122"/>
                  </a:lnTo>
                  <a:lnTo>
                    <a:pt x="195" y="132"/>
                  </a:lnTo>
                  <a:lnTo>
                    <a:pt x="192" y="143"/>
                  </a:lnTo>
                  <a:lnTo>
                    <a:pt x="190" y="153"/>
                  </a:lnTo>
                  <a:lnTo>
                    <a:pt x="185" y="163"/>
                  </a:lnTo>
                  <a:lnTo>
                    <a:pt x="180" y="172"/>
                  </a:lnTo>
                  <a:lnTo>
                    <a:pt x="175" y="180"/>
                  </a:lnTo>
                  <a:lnTo>
                    <a:pt x="168" y="188"/>
                  </a:lnTo>
                  <a:lnTo>
                    <a:pt x="161" y="195"/>
                  </a:lnTo>
                  <a:lnTo>
                    <a:pt x="154" y="201"/>
                  </a:lnTo>
                  <a:lnTo>
                    <a:pt x="146" y="206"/>
                  </a:lnTo>
                  <a:lnTo>
                    <a:pt x="137" y="211"/>
                  </a:lnTo>
                  <a:lnTo>
                    <a:pt x="128" y="215"/>
                  </a:lnTo>
                  <a:lnTo>
                    <a:pt x="119" y="217"/>
                  </a:lnTo>
                  <a:lnTo>
                    <a:pt x="109" y="219"/>
                  </a:lnTo>
                  <a:lnTo>
                    <a:pt x="99" y="220"/>
                  </a:lnTo>
                  <a:lnTo>
                    <a:pt x="89" y="219"/>
                  </a:lnTo>
                  <a:lnTo>
                    <a:pt x="79" y="217"/>
                  </a:lnTo>
                  <a:lnTo>
                    <a:pt x="69" y="215"/>
                  </a:lnTo>
                  <a:lnTo>
                    <a:pt x="60" y="211"/>
                  </a:lnTo>
                  <a:lnTo>
                    <a:pt x="52" y="206"/>
                  </a:lnTo>
                  <a:lnTo>
                    <a:pt x="43" y="201"/>
                  </a:lnTo>
                  <a:lnTo>
                    <a:pt x="36" y="195"/>
                  </a:lnTo>
                  <a:lnTo>
                    <a:pt x="28" y="188"/>
                  </a:lnTo>
                  <a:lnTo>
                    <a:pt x="22" y="180"/>
                  </a:lnTo>
                  <a:lnTo>
                    <a:pt x="17" y="172"/>
                  </a:lnTo>
                  <a:lnTo>
                    <a:pt x="12" y="163"/>
                  </a:lnTo>
                  <a:lnTo>
                    <a:pt x="7" y="153"/>
                  </a:lnTo>
                  <a:lnTo>
                    <a:pt x="5" y="143"/>
                  </a:lnTo>
                  <a:lnTo>
                    <a:pt x="2" y="132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8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7" y="49"/>
                  </a:lnTo>
                  <a:lnTo>
                    <a:pt x="22" y="40"/>
                  </a:lnTo>
                  <a:lnTo>
                    <a:pt x="28" y="33"/>
                  </a:lnTo>
                  <a:lnTo>
                    <a:pt x="36" y="25"/>
                  </a:lnTo>
                  <a:lnTo>
                    <a:pt x="43" y="19"/>
                  </a:lnTo>
                  <a:lnTo>
                    <a:pt x="52" y="14"/>
                  </a:lnTo>
                  <a:lnTo>
                    <a:pt x="60" y="9"/>
                  </a:lnTo>
                  <a:lnTo>
                    <a:pt x="69" y="5"/>
                  </a:lnTo>
                  <a:lnTo>
                    <a:pt x="79" y="3"/>
                  </a:lnTo>
                  <a:lnTo>
                    <a:pt x="89" y="2"/>
                  </a:lnTo>
                  <a:lnTo>
                    <a:pt x="99" y="0"/>
                  </a:lnTo>
                  <a:lnTo>
                    <a:pt x="109" y="2"/>
                  </a:lnTo>
                  <a:lnTo>
                    <a:pt x="119" y="3"/>
                  </a:lnTo>
                  <a:lnTo>
                    <a:pt x="128" y="5"/>
                  </a:lnTo>
                  <a:lnTo>
                    <a:pt x="137" y="9"/>
                  </a:lnTo>
                  <a:lnTo>
                    <a:pt x="146" y="14"/>
                  </a:lnTo>
                  <a:lnTo>
                    <a:pt x="154" y="19"/>
                  </a:lnTo>
                  <a:lnTo>
                    <a:pt x="161" y="25"/>
                  </a:lnTo>
                  <a:lnTo>
                    <a:pt x="168" y="33"/>
                  </a:lnTo>
                  <a:lnTo>
                    <a:pt x="175" y="40"/>
                  </a:lnTo>
                  <a:lnTo>
                    <a:pt x="180" y="49"/>
                  </a:lnTo>
                  <a:lnTo>
                    <a:pt x="185" y="57"/>
                  </a:lnTo>
                  <a:lnTo>
                    <a:pt x="190" y="67"/>
                  </a:lnTo>
                  <a:lnTo>
                    <a:pt x="192" y="77"/>
                  </a:lnTo>
                  <a:lnTo>
                    <a:pt x="195" y="88"/>
                  </a:lnTo>
                  <a:lnTo>
                    <a:pt x="197" y="98"/>
                  </a:lnTo>
                  <a:lnTo>
                    <a:pt x="197" y="11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5487840" y="5135400"/>
              <a:ext cx="46080" cy="39960"/>
            </a:xfrm>
            <a:custGeom>
              <a:avLst/>
              <a:gdLst/>
              <a:ahLst/>
              <a:rect l="l" t="t" r="r" b="b"/>
              <a:pathLst>
                <a:path w="116" h="98">
                  <a:moveTo>
                    <a:pt x="116" y="50"/>
                  </a:moveTo>
                  <a:lnTo>
                    <a:pt x="115" y="60"/>
                  </a:lnTo>
                  <a:lnTo>
                    <a:pt x="111" y="68"/>
                  </a:lnTo>
                  <a:lnTo>
                    <a:pt x="106" y="77"/>
                  </a:lnTo>
                  <a:lnTo>
                    <a:pt x="98" y="84"/>
                  </a:lnTo>
                  <a:lnTo>
                    <a:pt x="90" y="91"/>
                  </a:lnTo>
                  <a:lnTo>
                    <a:pt x="81" y="94"/>
                  </a:lnTo>
                  <a:lnTo>
                    <a:pt x="70" y="98"/>
                  </a:lnTo>
                  <a:lnTo>
                    <a:pt x="59" y="98"/>
                  </a:lnTo>
                  <a:lnTo>
                    <a:pt x="46" y="98"/>
                  </a:lnTo>
                  <a:lnTo>
                    <a:pt x="36" y="94"/>
                  </a:lnTo>
                  <a:lnTo>
                    <a:pt x="26" y="91"/>
                  </a:lnTo>
                  <a:lnTo>
                    <a:pt x="18" y="84"/>
                  </a:lnTo>
                  <a:lnTo>
                    <a:pt x="10" y="77"/>
                  </a:lnTo>
                  <a:lnTo>
                    <a:pt x="5" y="68"/>
                  </a:lnTo>
                  <a:lnTo>
                    <a:pt x="2" y="60"/>
                  </a:lnTo>
                  <a:lnTo>
                    <a:pt x="0" y="50"/>
                  </a:lnTo>
                  <a:lnTo>
                    <a:pt x="2" y="40"/>
                  </a:lnTo>
                  <a:lnTo>
                    <a:pt x="5" y="30"/>
                  </a:lnTo>
                  <a:lnTo>
                    <a:pt x="10" y="21"/>
                  </a:lnTo>
                  <a:lnTo>
                    <a:pt x="18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46" y="1"/>
                  </a:lnTo>
                  <a:lnTo>
                    <a:pt x="59" y="0"/>
                  </a:lnTo>
                  <a:lnTo>
                    <a:pt x="70" y="1"/>
                  </a:lnTo>
                  <a:lnTo>
                    <a:pt x="81" y="4"/>
                  </a:lnTo>
                  <a:lnTo>
                    <a:pt x="90" y="9"/>
                  </a:lnTo>
                  <a:lnTo>
                    <a:pt x="98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5" y="40"/>
                  </a:lnTo>
                  <a:lnTo>
                    <a:pt x="116" y="5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5423040" y="5367240"/>
              <a:ext cx="385560" cy="301680"/>
            </a:xfrm>
            <a:custGeom>
              <a:avLst/>
              <a:gdLst/>
              <a:ahLst/>
              <a:rect l="l" t="t" r="r" b="b"/>
              <a:pathLst>
                <a:path w="971" h="759">
                  <a:moveTo>
                    <a:pt x="969" y="0"/>
                  </a:moveTo>
                  <a:lnTo>
                    <a:pt x="970" y="18"/>
                  </a:lnTo>
                  <a:lnTo>
                    <a:pt x="971" y="65"/>
                  </a:lnTo>
                  <a:lnTo>
                    <a:pt x="971" y="98"/>
                  </a:lnTo>
                  <a:lnTo>
                    <a:pt x="970" y="135"/>
                  </a:lnTo>
                  <a:lnTo>
                    <a:pt x="968" y="178"/>
                  </a:lnTo>
                  <a:lnTo>
                    <a:pt x="964" y="224"/>
                  </a:lnTo>
                  <a:lnTo>
                    <a:pt x="958" y="271"/>
                  </a:lnTo>
                  <a:lnTo>
                    <a:pt x="950" y="320"/>
                  </a:lnTo>
                  <a:lnTo>
                    <a:pt x="945" y="345"/>
                  </a:lnTo>
                  <a:lnTo>
                    <a:pt x="940" y="370"/>
                  </a:lnTo>
                  <a:lnTo>
                    <a:pt x="934" y="395"/>
                  </a:lnTo>
                  <a:lnTo>
                    <a:pt x="927" y="420"/>
                  </a:lnTo>
                  <a:lnTo>
                    <a:pt x="919" y="443"/>
                  </a:lnTo>
                  <a:lnTo>
                    <a:pt x="910" y="468"/>
                  </a:lnTo>
                  <a:lnTo>
                    <a:pt x="902" y="491"/>
                  </a:lnTo>
                  <a:lnTo>
                    <a:pt x="892" y="514"/>
                  </a:lnTo>
                  <a:lnTo>
                    <a:pt x="881" y="536"/>
                  </a:lnTo>
                  <a:lnTo>
                    <a:pt x="868" y="557"/>
                  </a:lnTo>
                  <a:lnTo>
                    <a:pt x="856" y="578"/>
                  </a:lnTo>
                  <a:lnTo>
                    <a:pt x="841" y="597"/>
                  </a:lnTo>
                  <a:lnTo>
                    <a:pt x="837" y="602"/>
                  </a:lnTo>
                  <a:lnTo>
                    <a:pt x="825" y="616"/>
                  </a:lnTo>
                  <a:lnTo>
                    <a:pt x="805" y="635"/>
                  </a:lnTo>
                  <a:lnTo>
                    <a:pt x="776" y="659"/>
                  </a:lnTo>
                  <a:lnTo>
                    <a:pt x="760" y="671"/>
                  </a:lnTo>
                  <a:lnTo>
                    <a:pt x="742" y="685"/>
                  </a:lnTo>
                  <a:lnTo>
                    <a:pt x="722" y="697"/>
                  </a:lnTo>
                  <a:lnTo>
                    <a:pt x="701" y="710"/>
                  </a:lnTo>
                  <a:lnTo>
                    <a:pt x="677" y="721"/>
                  </a:lnTo>
                  <a:lnTo>
                    <a:pt x="652" y="731"/>
                  </a:lnTo>
                  <a:lnTo>
                    <a:pt x="626" y="741"/>
                  </a:lnTo>
                  <a:lnTo>
                    <a:pt x="599" y="748"/>
                  </a:lnTo>
                  <a:lnTo>
                    <a:pt x="570" y="755"/>
                  </a:lnTo>
                  <a:lnTo>
                    <a:pt x="539" y="758"/>
                  </a:lnTo>
                  <a:lnTo>
                    <a:pt x="508" y="759"/>
                  </a:lnTo>
                  <a:lnTo>
                    <a:pt x="475" y="758"/>
                  </a:lnTo>
                  <a:lnTo>
                    <a:pt x="441" y="753"/>
                  </a:lnTo>
                  <a:lnTo>
                    <a:pt x="406" y="746"/>
                  </a:lnTo>
                  <a:lnTo>
                    <a:pt x="369" y="735"/>
                  </a:lnTo>
                  <a:lnTo>
                    <a:pt x="332" y="720"/>
                  </a:lnTo>
                  <a:lnTo>
                    <a:pt x="293" y="701"/>
                  </a:lnTo>
                  <a:lnTo>
                    <a:pt x="254" y="678"/>
                  </a:lnTo>
                  <a:lnTo>
                    <a:pt x="214" y="649"/>
                  </a:lnTo>
                  <a:lnTo>
                    <a:pt x="173" y="617"/>
                  </a:lnTo>
                  <a:lnTo>
                    <a:pt x="131" y="578"/>
                  </a:lnTo>
                  <a:lnTo>
                    <a:pt x="88" y="535"/>
                  </a:lnTo>
                  <a:lnTo>
                    <a:pt x="44" y="485"/>
                  </a:lnTo>
                  <a:lnTo>
                    <a:pt x="0" y="429"/>
                  </a:lnTo>
                  <a:lnTo>
                    <a:pt x="8" y="428"/>
                  </a:lnTo>
                  <a:lnTo>
                    <a:pt x="31" y="427"/>
                  </a:lnTo>
                  <a:lnTo>
                    <a:pt x="69" y="423"/>
                  </a:lnTo>
                  <a:lnTo>
                    <a:pt x="118" y="417"/>
                  </a:lnTo>
                  <a:lnTo>
                    <a:pt x="177" y="408"/>
                  </a:lnTo>
                  <a:lnTo>
                    <a:pt x="244" y="396"/>
                  </a:lnTo>
                  <a:lnTo>
                    <a:pt x="280" y="389"/>
                  </a:lnTo>
                  <a:lnTo>
                    <a:pt x="317" y="381"/>
                  </a:lnTo>
                  <a:lnTo>
                    <a:pt x="355" y="371"/>
                  </a:lnTo>
                  <a:lnTo>
                    <a:pt x="395" y="361"/>
                  </a:lnTo>
                  <a:lnTo>
                    <a:pt x="435" y="349"/>
                  </a:lnTo>
                  <a:lnTo>
                    <a:pt x="476" y="336"/>
                  </a:lnTo>
                  <a:lnTo>
                    <a:pt x="517" y="323"/>
                  </a:lnTo>
                  <a:lnTo>
                    <a:pt x="558" y="307"/>
                  </a:lnTo>
                  <a:lnTo>
                    <a:pt x="599" y="291"/>
                  </a:lnTo>
                  <a:lnTo>
                    <a:pt x="638" y="272"/>
                  </a:lnTo>
                  <a:lnTo>
                    <a:pt x="678" y="252"/>
                  </a:lnTo>
                  <a:lnTo>
                    <a:pt x="717" y="231"/>
                  </a:lnTo>
                  <a:lnTo>
                    <a:pt x="755" y="209"/>
                  </a:lnTo>
                  <a:lnTo>
                    <a:pt x="791" y="184"/>
                  </a:lnTo>
                  <a:lnTo>
                    <a:pt x="826" y="158"/>
                  </a:lnTo>
                  <a:lnTo>
                    <a:pt x="860" y="130"/>
                  </a:lnTo>
                  <a:lnTo>
                    <a:pt x="889" y="101"/>
                  </a:lnTo>
                  <a:lnTo>
                    <a:pt x="919" y="68"/>
                  </a:lnTo>
                  <a:lnTo>
                    <a:pt x="945" y="35"/>
                  </a:lnTo>
                  <a:lnTo>
                    <a:pt x="969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5408640" y="5353200"/>
              <a:ext cx="414360" cy="328320"/>
            </a:xfrm>
            <a:custGeom>
              <a:avLst/>
              <a:gdLst/>
              <a:ahLst/>
              <a:rect l="l" t="t" r="r" b="b"/>
              <a:pathLst>
                <a:path w="1043" h="830">
                  <a:moveTo>
                    <a:pt x="975" y="18"/>
                  </a:moveTo>
                  <a:lnTo>
                    <a:pt x="953" y="51"/>
                  </a:lnTo>
                  <a:lnTo>
                    <a:pt x="927" y="82"/>
                  </a:lnTo>
                  <a:lnTo>
                    <a:pt x="899" y="113"/>
                  </a:lnTo>
                  <a:lnTo>
                    <a:pt x="869" y="140"/>
                  </a:lnTo>
                  <a:lnTo>
                    <a:pt x="838" y="168"/>
                  </a:lnTo>
                  <a:lnTo>
                    <a:pt x="805" y="193"/>
                  </a:lnTo>
                  <a:lnTo>
                    <a:pt x="770" y="216"/>
                  </a:lnTo>
                  <a:lnTo>
                    <a:pt x="733" y="237"/>
                  </a:lnTo>
                  <a:lnTo>
                    <a:pt x="696" y="257"/>
                  </a:lnTo>
                  <a:lnTo>
                    <a:pt x="657" y="277"/>
                  </a:lnTo>
                  <a:lnTo>
                    <a:pt x="619" y="294"/>
                  </a:lnTo>
                  <a:lnTo>
                    <a:pt x="580" y="310"/>
                  </a:lnTo>
                  <a:lnTo>
                    <a:pt x="540" y="325"/>
                  </a:lnTo>
                  <a:lnTo>
                    <a:pt x="501" y="338"/>
                  </a:lnTo>
                  <a:lnTo>
                    <a:pt x="461" y="350"/>
                  </a:lnTo>
                  <a:lnTo>
                    <a:pt x="422" y="361"/>
                  </a:lnTo>
                  <a:lnTo>
                    <a:pt x="384" y="372"/>
                  </a:lnTo>
                  <a:lnTo>
                    <a:pt x="347" y="381"/>
                  </a:lnTo>
                  <a:lnTo>
                    <a:pt x="311" y="390"/>
                  </a:lnTo>
                  <a:lnTo>
                    <a:pt x="275" y="396"/>
                  </a:lnTo>
                  <a:lnTo>
                    <a:pt x="210" y="408"/>
                  </a:lnTo>
                  <a:lnTo>
                    <a:pt x="152" y="417"/>
                  </a:lnTo>
                  <a:lnTo>
                    <a:pt x="105" y="423"/>
                  </a:lnTo>
                  <a:lnTo>
                    <a:pt x="67" y="427"/>
                  </a:lnTo>
                  <a:lnTo>
                    <a:pt x="44" y="429"/>
                  </a:lnTo>
                  <a:lnTo>
                    <a:pt x="34" y="429"/>
                  </a:lnTo>
                  <a:lnTo>
                    <a:pt x="29" y="431"/>
                  </a:lnTo>
                  <a:lnTo>
                    <a:pt x="25" y="432"/>
                  </a:lnTo>
                  <a:lnTo>
                    <a:pt x="20" y="433"/>
                  </a:lnTo>
                  <a:lnTo>
                    <a:pt x="16" y="436"/>
                  </a:lnTo>
                  <a:lnTo>
                    <a:pt x="13" y="438"/>
                  </a:lnTo>
                  <a:lnTo>
                    <a:pt x="9" y="442"/>
                  </a:lnTo>
                  <a:lnTo>
                    <a:pt x="6" y="446"/>
                  </a:lnTo>
                  <a:lnTo>
                    <a:pt x="4" y="451"/>
                  </a:lnTo>
                  <a:lnTo>
                    <a:pt x="1" y="456"/>
                  </a:lnTo>
                  <a:lnTo>
                    <a:pt x="0" y="459"/>
                  </a:lnTo>
                  <a:lnTo>
                    <a:pt x="0" y="464"/>
                  </a:lnTo>
                  <a:lnTo>
                    <a:pt x="0" y="469"/>
                  </a:lnTo>
                  <a:lnTo>
                    <a:pt x="1" y="474"/>
                  </a:lnTo>
                  <a:lnTo>
                    <a:pt x="3" y="478"/>
                  </a:lnTo>
                  <a:lnTo>
                    <a:pt x="5" y="483"/>
                  </a:lnTo>
                  <a:lnTo>
                    <a:pt x="8" y="487"/>
                  </a:lnTo>
                  <a:lnTo>
                    <a:pt x="40" y="527"/>
                  </a:lnTo>
                  <a:lnTo>
                    <a:pt x="72" y="566"/>
                  </a:lnTo>
                  <a:lnTo>
                    <a:pt x="105" y="602"/>
                  </a:lnTo>
                  <a:lnTo>
                    <a:pt x="138" y="635"/>
                  </a:lnTo>
                  <a:lnTo>
                    <a:pt x="170" y="666"/>
                  </a:lnTo>
                  <a:lnTo>
                    <a:pt x="204" y="694"/>
                  </a:lnTo>
                  <a:lnTo>
                    <a:pt x="236" y="720"/>
                  </a:lnTo>
                  <a:lnTo>
                    <a:pt x="270" y="742"/>
                  </a:lnTo>
                  <a:lnTo>
                    <a:pt x="303" y="763"/>
                  </a:lnTo>
                  <a:lnTo>
                    <a:pt x="337" y="781"/>
                  </a:lnTo>
                  <a:lnTo>
                    <a:pt x="353" y="788"/>
                  </a:lnTo>
                  <a:lnTo>
                    <a:pt x="370" y="795"/>
                  </a:lnTo>
                  <a:lnTo>
                    <a:pt x="386" y="802"/>
                  </a:lnTo>
                  <a:lnTo>
                    <a:pt x="404" y="808"/>
                  </a:lnTo>
                  <a:lnTo>
                    <a:pt x="420" y="813"/>
                  </a:lnTo>
                  <a:lnTo>
                    <a:pt x="437" y="818"/>
                  </a:lnTo>
                  <a:lnTo>
                    <a:pt x="453" y="822"/>
                  </a:lnTo>
                  <a:lnTo>
                    <a:pt x="471" y="824"/>
                  </a:lnTo>
                  <a:lnTo>
                    <a:pt x="488" y="828"/>
                  </a:lnTo>
                  <a:lnTo>
                    <a:pt x="504" y="829"/>
                  </a:lnTo>
                  <a:lnTo>
                    <a:pt x="522" y="830"/>
                  </a:lnTo>
                  <a:lnTo>
                    <a:pt x="539" y="830"/>
                  </a:lnTo>
                  <a:lnTo>
                    <a:pt x="559" y="830"/>
                  </a:lnTo>
                  <a:lnTo>
                    <a:pt x="579" y="829"/>
                  </a:lnTo>
                  <a:lnTo>
                    <a:pt x="599" y="828"/>
                  </a:lnTo>
                  <a:lnTo>
                    <a:pt x="617" y="824"/>
                  </a:lnTo>
                  <a:lnTo>
                    <a:pt x="636" y="820"/>
                  </a:lnTo>
                  <a:lnTo>
                    <a:pt x="655" y="817"/>
                  </a:lnTo>
                  <a:lnTo>
                    <a:pt x="672" y="812"/>
                  </a:lnTo>
                  <a:lnTo>
                    <a:pt x="688" y="805"/>
                  </a:lnTo>
                  <a:lnTo>
                    <a:pt x="720" y="793"/>
                  </a:lnTo>
                  <a:lnTo>
                    <a:pt x="750" y="778"/>
                  </a:lnTo>
                  <a:lnTo>
                    <a:pt x="778" y="763"/>
                  </a:lnTo>
                  <a:lnTo>
                    <a:pt x="802" y="747"/>
                  </a:lnTo>
                  <a:lnTo>
                    <a:pt x="825" y="731"/>
                  </a:lnTo>
                  <a:lnTo>
                    <a:pt x="845" y="715"/>
                  </a:lnTo>
                  <a:lnTo>
                    <a:pt x="862" y="700"/>
                  </a:lnTo>
                  <a:lnTo>
                    <a:pt x="877" y="686"/>
                  </a:lnTo>
                  <a:lnTo>
                    <a:pt x="897" y="665"/>
                  </a:lnTo>
                  <a:lnTo>
                    <a:pt x="905" y="655"/>
                  </a:lnTo>
                  <a:lnTo>
                    <a:pt x="920" y="635"/>
                  </a:lnTo>
                  <a:lnTo>
                    <a:pt x="934" y="614"/>
                  </a:lnTo>
                  <a:lnTo>
                    <a:pt x="946" y="592"/>
                  </a:lnTo>
                  <a:lnTo>
                    <a:pt x="958" y="570"/>
                  </a:lnTo>
                  <a:lnTo>
                    <a:pt x="969" y="546"/>
                  </a:lnTo>
                  <a:lnTo>
                    <a:pt x="979" y="521"/>
                  </a:lnTo>
                  <a:lnTo>
                    <a:pt x="987" y="496"/>
                  </a:lnTo>
                  <a:lnTo>
                    <a:pt x="995" y="472"/>
                  </a:lnTo>
                  <a:lnTo>
                    <a:pt x="1002" y="447"/>
                  </a:lnTo>
                  <a:lnTo>
                    <a:pt x="1009" y="422"/>
                  </a:lnTo>
                  <a:lnTo>
                    <a:pt x="1015" y="396"/>
                  </a:lnTo>
                  <a:lnTo>
                    <a:pt x="1020" y="371"/>
                  </a:lnTo>
                  <a:lnTo>
                    <a:pt x="1028" y="320"/>
                  </a:lnTo>
                  <a:lnTo>
                    <a:pt x="1035" y="272"/>
                  </a:lnTo>
                  <a:lnTo>
                    <a:pt x="1038" y="226"/>
                  </a:lnTo>
                  <a:lnTo>
                    <a:pt x="1041" y="183"/>
                  </a:lnTo>
                  <a:lnTo>
                    <a:pt x="1042" y="143"/>
                  </a:lnTo>
                  <a:lnTo>
                    <a:pt x="1043" y="108"/>
                  </a:lnTo>
                  <a:lnTo>
                    <a:pt x="1042" y="56"/>
                  </a:lnTo>
                  <a:lnTo>
                    <a:pt x="1041" y="34"/>
                  </a:lnTo>
                  <a:lnTo>
                    <a:pt x="1040" y="27"/>
                  </a:lnTo>
                  <a:lnTo>
                    <a:pt x="1038" y="23"/>
                  </a:lnTo>
                  <a:lnTo>
                    <a:pt x="1036" y="18"/>
                  </a:lnTo>
                  <a:lnTo>
                    <a:pt x="1032" y="13"/>
                  </a:lnTo>
                  <a:lnTo>
                    <a:pt x="1028" y="9"/>
                  </a:lnTo>
                  <a:lnTo>
                    <a:pt x="1023" y="5"/>
                  </a:lnTo>
                  <a:lnTo>
                    <a:pt x="1018" y="3"/>
                  </a:lnTo>
                  <a:lnTo>
                    <a:pt x="1013" y="1"/>
                  </a:lnTo>
                  <a:lnTo>
                    <a:pt x="1007" y="0"/>
                  </a:lnTo>
                  <a:lnTo>
                    <a:pt x="1002" y="0"/>
                  </a:lnTo>
                  <a:lnTo>
                    <a:pt x="996" y="1"/>
                  </a:lnTo>
                  <a:lnTo>
                    <a:pt x="991" y="3"/>
                  </a:lnTo>
                  <a:lnTo>
                    <a:pt x="986" y="5"/>
                  </a:lnTo>
                  <a:lnTo>
                    <a:pt x="982" y="9"/>
                  </a:lnTo>
                  <a:lnTo>
                    <a:pt x="977" y="13"/>
                  </a:lnTo>
                  <a:lnTo>
                    <a:pt x="975" y="18"/>
                  </a:lnTo>
                  <a:close/>
                  <a:moveTo>
                    <a:pt x="970" y="133"/>
                  </a:moveTo>
                  <a:lnTo>
                    <a:pt x="969" y="184"/>
                  </a:lnTo>
                  <a:lnTo>
                    <a:pt x="965" y="242"/>
                  </a:lnTo>
                  <a:lnTo>
                    <a:pt x="961" y="273"/>
                  </a:lnTo>
                  <a:lnTo>
                    <a:pt x="958" y="304"/>
                  </a:lnTo>
                  <a:lnTo>
                    <a:pt x="953" y="336"/>
                  </a:lnTo>
                  <a:lnTo>
                    <a:pt x="948" y="370"/>
                  </a:lnTo>
                  <a:lnTo>
                    <a:pt x="940" y="402"/>
                  </a:lnTo>
                  <a:lnTo>
                    <a:pt x="932" y="436"/>
                  </a:lnTo>
                  <a:lnTo>
                    <a:pt x="922" y="468"/>
                  </a:lnTo>
                  <a:lnTo>
                    <a:pt x="910" y="499"/>
                  </a:lnTo>
                  <a:lnTo>
                    <a:pt x="898" y="529"/>
                  </a:lnTo>
                  <a:lnTo>
                    <a:pt x="883" y="559"/>
                  </a:lnTo>
                  <a:lnTo>
                    <a:pt x="876" y="572"/>
                  </a:lnTo>
                  <a:lnTo>
                    <a:pt x="867" y="586"/>
                  </a:lnTo>
                  <a:lnTo>
                    <a:pt x="858" y="599"/>
                  </a:lnTo>
                  <a:lnTo>
                    <a:pt x="850" y="612"/>
                  </a:lnTo>
                  <a:lnTo>
                    <a:pt x="843" y="618"/>
                  </a:lnTo>
                  <a:lnTo>
                    <a:pt x="826" y="635"/>
                  </a:lnTo>
                  <a:lnTo>
                    <a:pt x="815" y="647"/>
                  </a:lnTo>
                  <a:lnTo>
                    <a:pt x="800" y="659"/>
                  </a:lnTo>
                  <a:lnTo>
                    <a:pt x="783" y="673"/>
                  </a:lnTo>
                  <a:lnTo>
                    <a:pt x="764" y="686"/>
                  </a:lnTo>
                  <a:lnTo>
                    <a:pt x="743" y="701"/>
                  </a:lnTo>
                  <a:lnTo>
                    <a:pt x="719" y="714"/>
                  </a:lnTo>
                  <a:lnTo>
                    <a:pt x="693" y="726"/>
                  </a:lnTo>
                  <a:lnTo>
                    <a:pt x="666" y="737"/>
                  </a:lnTo>
                  <a:lnTo>
                    <a:pt x="651" y="742"/>
                  </a:lnTo>
                  <a:lnTo>
                    <a:pt x="636" y="747"/>
                  </a:lnTo>
                  <a:lnTo>
                    <a:pt x="621" y="751"/>
                  </a:lnTo>
                  <a:lnTo>
                    <a:pt x="606" y="753"/>
                  </a:lnTo>
                  <a:lnTo>
                    <a:pt x="589" y="757"/>
                  </a:lnTo>
                  <a:lnTo>
                    <a:pt x="573" y="758"/>
                  </a:lnTo>
                  <a:lnTo>
                    <a:pt x="557" y="760"/>
                  </a:lnTo>
                  <a:lnTo>
                    <a:pt x="539" y="760"/>
                  </a:lnTo>
                  <a:lnTo>
                    <a:pt x="512" y="758"/>
                  </a:lnTo>
                  <a:lnTo>
                    <a:pt x="484" y="755"/>
                  </a:lnTo>
                  <a:lnTo>
                    <a:pt x="458" y="748"/>
                  </a:lnTo>
                  <a:lnTo>
                    <a:pt x="431" y="741"/>
                  </a:lnTo>
                  <a:lnTo>
                    <a:pt x="404" y="731"/>
                  </a:lnTo>
                  <a:lnTo>
                    <a:pt x="378" y="720"/>
                  </a:lnTo>
                  <a:lnTo>
                    <a:pt x="350" y="706"/>
                  </a:lnTo>
                  <a:lnTo>
                    <a:pt x="323" y="690"/>
                  </a:lnTo>
                  <a:lnTo>
                    <a:pt x="297" y="673"/>
                  </a:lnTo>
                  <a:lnTo>
                    <a:pt x="270" y="653"/>
                  </a:lnTo>
                  <a:lnTo>
                    <a:pt x="242" y="632"/>
                  </a:lnTo>
                  <a:lnTo>
                    <a:pt x="216" y="608"/>
                  </a:lnTo>
                  <a:lnTo>
                    <a:pt x="189" y="582"/>
                  </a:lnTo>
                  <a:lnTo>
                    <a:pt x="162" y="555"/>
                  </a:lnTo>
                  <a:lnTo>
                    <a:pt x="136" y="525"/>
                  </a:lnTo>
                  <a:lnTo>
                    <a:pt x="108" y="494"/>
                  </a:lnTo>
                  <a:lnTo>
                    <a:pt x="144" y="490"/>
                  </a:lnTo>
                  <a:lnTo>
                    <a:pt x="185" y="484"/>
                  </a:lnTo>
                  <a:lnTo>
                    <a:pt x="231" y="477"/>
                  </a:lnTo>
                  <a:lnTo>
                    <a:pt x="282" y="468"/>
                  </a:lnTo>
                  <a:lnTo>
                    <a:pt x="337" y="457"/>
                  </a:lnTo>
                  <a:lnTo>
                    <a:pt x="395" y="442"/>
                  </a:lnTo>
                  <a:lnTo>
                    <a:pt x="455" y="426"/>
                  </a:lnTo>
                  <a:lnTo>
                    <a:pt x="516" y="407"/>
                  </a:lnTo>
                  <a:lnTo>
                    <a:pt x="547" y="396"/>
                  </a:lnTo>
                  <a:lnTo>
                    <a:pt x="578" y="385"/>
                  </a:lnTo>
                  <a:lnTo>
                    <a:pt x="609" y="372"/>
                  </a:lnTo>
                  <a:lnTo>
                    <a:pt x="640" y="360"/>
                  </a:lnTo>
                  <a:lnTo>
                    <a:pt x="671" y="346"/>
                  </a:lnTo>
                  <a:lnTo>
                    <a:pt x="701" y="331"/>
                  </a:lnTo>
                  <a:lnTo>
                    <a:pt x="730" y="315"/>
                  </a:lnTo>
                  <a:lnTo>
                    <a:pt x="760" y="299"/>
                  </a:lnTo>
                  <a:lnTo>
                    <a:pt x="790" y="282"/>
                  </a:lnTo>
                  <a:lnTo>
                    <a:pt x="819" y="263"/>
                  </a:lnTo>
                  <a:lnTo>
                    <a:pt x="846" y="245"/>
                  </a:lnTo>
                  <a:lnTo>
                    <a:pt x="873" y="225"/>
                  </a:lnTo>
                  <a:lnTo>
                    <a:pt x="899" y="202"/>
                  </a:lnTo>
                  <a:lnTo>
                    <a:pt x="924" y="180"/>
                  </a:lnTo>
                  <a:lnTo>
                    <a:pt x="948" y="157"/>
                  </a:lnTo>
                  <a:lnTo>
                    <a:pt x="970" y="13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5413320" y="5403960"/>
              <a:ext cx="385920" cy="271440"/>
            </a:xfrm>
            <a:custGeom>
              <a:avLst/>
              <a:gdLst/>
              <a:ahLst/>
              <a:rect l="l" t="t" r="r" b="b"/>
              <a:pathLst>
                <a:path w="972" h="686">
                  <a:moveTo>
                    <a:pt x="972" y="0"/>
                  </a:moveTo>
                  <a:lnTo>
                    <a:pt x="958" y="17"/>
                  </a:lnTo>
                  <a:lnTo>
                    <a:pt x="921" y="66"/>
                  </a:lnTo>
                  <a:lnTo>
                    <a:pt x="870" y="134"/>
                  </a:lnTo>
                  <a:lnTo>
                    <a:pt x="813" y="215"/>
                  </a:lnTo>
                  <a:lnTo>
                    <a:pt x="784" y="257"/>
                  </a:lnTo>
                  <a:lnTo>
                    <a:pt x="756" y="300"/>
                  </a:lnTo>
                  <a:lnTo>
                    <a:pt x="731" y="341"/>
                  </a:lnTo>
                  <a:lnTo>
                    <a:pt x="709" y="380"/>
                  </a:lnTo>
                  <a:lnTo>
                    <a:pt x="699" y="398"/>
                  </a:lnTo>
                  <a:lnTo>
                    <a:pt x="690" y="416"/>
                  </a:lnTo>
                  <a:lnTo>
                    <a:pt x="684" y="432"/>
                  </a:lnTo>
                  <a:lnTo>
                    <a:pt x="678" y="447"/>
                  </a:lnTo>
                  <a:lnTo>
                    <a:pt x="674" y="460"/>
                  </a:lnTo>
                  <a:lnTo>
                    <a:pt x="671" y="473"/>
                  </a:lnTo>
                  <a:lnTo>
                    <a:pt x="670" y="484"/>
                  </a:lnTo>
                  <a:lnTo>
                    <a:pt x="671" y="493"/>
                  </a:lnTo>
                  <a:lnTo>
                    <a:pt x="673" y="498"/>
                  </a:lnTo>
                  <a:lnTo>
                    <a:pt x="679" y="511"/>
                  </a:lnTo>
                  <a:lnTo>
                    <a:pt x="684" y="519"/>
                  </a:lnTo>
                  <a:lnTo>
                    <a:pt x="690" y="526"/>
                  </a:lnTo>
                  <a:lnTo>
                    <a:pt x="699" y="533"/>
                  </a:lnTo>
                  <a:lnTo>
                    <a:pt x="709" y="540"/>
                  </a:lnTo>
                  <a:lnTo>
                    <a:pt x="715" y="542"/>
                  </a:lnTo>
                  <a:lnTo>
                    <a:pt x="721" y="545"/>
                  </a:lnTo>
                  <a:lnTo>
                    <a:pt x="729" y="546"/>
                  </a:lnTo>
                  <a:lnTo>
                    <a:pt x="736" y="547"/>
                  </a:lnTo>
                  <a:lnTo>
                    <a:pt x="745" y="547"/>
                  </a:lnTo>
                  <a:lnTo>
                    <a:pt x="753" y="546"/>
                  </a:lnTo>
                  <a:lnTo>
                    <a:pt x="762" y="545"/>
                  </a:lnTo>
                  <a:lnTo>
                    <a:pt x="773" y="542"/>
                  </a:lnTo>
                  <a:lnTo>
                    <a:pt x="783" y="538"/>
                  </a:lnTo>
                  <a:lnTo>
                    <a:pt x="796" y="533"/>
                  </a:lnTo>
                  <a:lnTo>
                    <a:pt x="808" y="527"/>
                  </a:lnTo>
                  <a:lnTo>
                    <a:pt x="822" y="520"/>
                  </a:lnTo>
                  <a:lnTo>
                    <a:pt x="835" y="512"/>
                  </a:lnTo>
                  <a:lnTo>
                    <a:pt x="850" y="502"/>
                  </a:lnTo>
                  <a:lnTo>
                    <a:pt x="865" y="490"/>
                  </a:lnTo>
                  <a:lnTo>
                    <a:pt x="883" y="478"/>
                  </a:lnTo>
                  <a:lnTo>
                    <a:pt x="878" y="484"/>
                  </a:lnTo>
                  <a:lnTo>
                    <a:pt x="863" y="500"/>
                  </a:lnTo>
                  <a:lnTo>
                    <a:pt x="840" y="524"/>
                  </a:lnTo>
                  <a:lnTo>
                    <a:pt x="809" y="553"/>
                  </a:lnTo>
                  <a:lnTo>
                    <a:pt x="791" y="568"/>
                  </a:lnTo>
                  <a:lnTo>
                    <a:pt x="771" y="584"/>
                  </a:lnTo>
                  <a:lnTo>
                    <a:pt x="748" y="600"/>
                  </a:lnTo>
                  <a:lnTo>
                    <a:pt x="725" y="615"/>
                  </a:lnTo>
                  <a:lnTo>
                    <a:pt x="700" y="630"/>
                  </a:lnTo>
                  <a:lnTo>
                    <a:pt x="673" y="644"/>
                  </a:lnTo>
                  <a:lnTo>
                    <a:pt x="644" y="656"/>
                  </a:lnTo>
                  <a:lnTo>
                    <a:pt x="614" y="666"/>
                  </a:lnTo>
                  <a:lnTo>
                    <a:pt x="583" y="675"/>
                  </a:lnTo>
                  <a:lnTo>
                    <a:pt x="551" y="681"/>
                  </a:lnTo>
                  <a:lnTo>
                    <a:pt x="516" y="685"/>
                  </a:lnTo>
                  <a:lnTo>
                    <a:pt x="481" y="686"/>
                  </a:lnTo>
                  <a:lnTo>
                    <a:pt x="445" y="682"/>
                  </a:lnTo>
                  <a:lnTo>
                    <a:pt x="409" y="676"/>
                  </a:lnTo>
                  <a:lnTo>
                    <a:pt x="371" y="666"/>
                  </a:lnTo>
                  <a:lnTo>
                    <a:pt x="332" y="651"/>
                  </a:lnTo>
                  <a:lnTo>
                    <a:pt x="293" y="632"/>
                  </a:lnTo>
                  <a:lnTo>
                    <a:pt x="253" y="607"/>
                  </a:lnTo>
                  <a:lnTo>
                    <a:pt x="212" y="577"/>
                  </a:lnTo>
                  <a:lnTo>
                    <a:pt x="170" y="542"/>
                  </a:lnTo>
                  <a:lnTo>
                    <a:pt x="128" y="501"/>
                  </a:lnTo>
                  <a:lnTo>
                    <a:pt x="85" y="453"/>
                  </a:lnTo>
                  <a:lnTo>
                    <a:pt x="43" y="398"/>
                  </a:lnTo>
                  <a:lnTo>
                    <a:pt x="0" y="337"/>
                  </a:lnTo>
                  <a:lnTo>
                    <a:pt x="6" y="339"/>
                  </a:lnTo>
                  <a:lnTo>
                    <a:pt x="26" y="344"/>
                  </a:lnTo>
                  <a:lnTo>
                    <a:pt x="57" y="349"/>
                  </a:lnTo>
                  <a:lnTo>
                    <a:pt x="99" y="355"/>
                  </a:lnTo>
                  <a:lnTo>
                    <a:pt x="123" y="357"/>
                  </a:lnTo>
                  <a:lnTo>
                    <a:pt x="150" y="360"/>
                  </a:lnTo>
                  <a:lnTo>
                    <a:pt x="178" y="361"/>
                  </a:lnTo>
                  <a:lnTo>
                    <a:pt x="208" y="362"/>
                  </a:lnTo>
                  <a:lnTo>
                    <a:pt x="241" y="362"/>
                  </a:lnTo>
                  <a:lnTo>
                    <a:pt x="274" y="361"/>
                  </a:lnTo>
                  <a:lnTo>
                    <a:pt x="309" y="360"/>
                  </a:lnTo>
                  <a:lnTo>
                    <a:pt x="346" y="356"/>
                  </a:lnTo>
                  <a:lnTo>
                    <a:pt x="383" y="351"/>
                  </a:lnTo>
                  <a:lnTo>
                    <a:pt x="421" y="345"/>
                  </a:lnTo>
                  <a:lnTo>
                    <a:pt x="460" y="336"/>
                  </a:lnTo>
                  <a:lnTo>
                    <a:pt x="500" y="326"/>
                  </a:lnTo>
                  <a:lnTo>
                    <a:pt x="540" y="314"/>
                  </a:lnTo>
                  <a:lnTo>
                    <a:pt x="581" y="299"/>
                  </a:lnTo>
                  <a:lnTo>
                    <a:pt x="622" y="283"/>
                  </a:lnTo>
                  <a:lnTo>
                    <a:pt x="663" y="263"/>
                  </a:lnTo>
                  <a:lnTo>
                    <a:pt x="702" y="242"/>
                  </a:lnTo>
                  <a:lnTo>
                    <a:pt x="743" y="217"/>
                  </a:lnTo>
                  <a:lnTo>
                    <a:pt x="783" y="189"/>
                  </a:lnTo>
                  <a:lnTo>
                    <a:pt x="823" y="158"/>
                  </a:lnTo>
                  <a:lnTo>
                    <a:pt x="861" y="124"/>
                  </a:lnTo>
                  <a:lnTo>
                    <a:pt x="899" y="86"/>
                  </a:lnTo>
                  <a:lnTo>
                    <a:pt x="936" y="45"/>
                  </a:lnTo>
                  <a:lnTo>
                    <a:pt x="972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5408640" y="5310360"/>
              <a:ext cx="399960" cy="260280"/>
            </a:xfrm>
            <a:custGeom>
              <a:avLst/>
              <a:gdLst/>
              <a:ahLst/>
              <a:rect l="l" t="t" r="r" b="b"/>
              <a:pathLst>
                <a:path w="1005" h="652">
                  <a:moveTo>
                    <a:pt x="998" y="100"/>
                  </a:moveTo>
                  <a:lnTo>
                    <a:pt x="993" y="89"/>
                  </a:lnTo>
                  <a:lnTo>
                    <a:pt x="986" y="78"/>
                  </a:lnTo>
                  <a:lnTo>
                    <a:pt x="978" y="67"/>
                  </a:lnTo>
                  <a:lnTo>
                    <a:pt x="969" y="58"/>
                  </a:lnTo>
                  <a:lnTo>
                    <a:pt x="959" y="48"/>
                  </a:lnTo>
                  <a:lnTo>
                    <a:pt x="949" y="41"/>
                  </a:lnTo>
                  <a:lnTo>
                    <a:pt x="937" y="33"/>
                  </a:lnTo>
                  <a:lnTo>
                    <a:pt x="924" y="26"/>
                  </a:lnTo>
                  <a:lnTo>
                    <a:pt x="909" y="21"/>
                  </a:lnTo>
                  <a:lnTo>
                    <a:pt x="896" y="16"/>
                  </a:lnTo>
                  <a:lnTo>
                    <a:pt x="880" y="11"/>
                  </a:lnTo>
                  <a:lnTo>
                    <a:pt x="863" y="7"/>
                  </a:lnTo>
                  <a:lnTo>
                    <a:pt x="846" y="5"/>
                  </a:lnTo>
                  <a:lnTo>
                    <a:pt x="827" y="2"/>
                  </a:lnTo>
                  <a:lnTo>
                    <a:pt x="809" y="1"/>
                  </a:lnTo>
                  <a:lnTo>
                    <a:pt x="789" y="0"/>
                  </a:lnTo>
                  <a:lnTo>
                    <a:pt x="769" y="0"/>
                  </a:lnTo>
                  <a:lnTo>
                    <a:pt x="749" y="1"/>
                  </a:lnTo>
                  <a:lnTo>
                    <a:pt x="727" y="2"/>
                  </a:lnTo>
                  <a:lnTo>
                    <a:pt x="706" y="5"/>
                  </a:lnTo>
                  <a:lnTo>
                    <a:pt x="683" y="7"/>
                  </a:lnTo>
                  <a:lnTo>
                    <a:pt x="660" y="11"/>
                  </a:lnTo>
                  <a:lnTo>
                    <a:pt x="636" y="16"/>
                  </a:lnTo>
                  <a:lnTo>
                    <a:pt x="613" y="21"/>
                  </a:lnTo>
                  <a:lnTo>
                    <a:pt x="589" y="27"/>
                  </a:lnTo>
                  <a:lnTo>
                    <a:pt x="564" y="33"/>
                  </a:lnTo>
                  <a:lnTo>
                    <a:pt x="539" y="41"/>
                  </a:lnTo>
                  <a:lnTo>
                    <a:pt x="515" y="49"/>
                  </a:lnTo>
                  <a:lnTo>
                    <a:pt x="490" y="58"/>
                  </a:lnTo>
                  <a:lnTo>
                    <a:pt x="465" y="68"/>
                  </a:lnTo>
                  <a:lnTo>
                    <a:pt x="439" y="79"/>
                  </a:lnTo>
                  <a:lnTo>
                    <a:pt x="414" y="90"/>
                  </a:lnTo>
                  <a:lnTo>
                    <a:pt x="363" y="114"/>
                  </a:lnTo>
                  <a:lnTo>
                    <a:pt x="316" y="140"/>
                  </a:lnTo>
                  <a:lnTo>
                    <a:pt x="270" y="167"/>
                  </a:lnTo>
                  <a:lnTo>
                    <a:pt x="228" y="196"/>
                  </a:lnTo>
                  <a:lnTo>
                    <a:pt x="208" y="211"/>
                  </a:lnTo>
                  <a:lnTo>
                    <a:pt x="188" y="226"/>
                  </a:lnTo>
                  <a:lnTo>
                    <a:pt x="169" y="242"/>
                  </a:lnTo>
                  <a:lnTo>
                    <a:pt x="152" y="257"/>
                  </a:lnTo>
                  <a:lnTo>
                    <a:pt x="135" y="271"/>
                  </a:lnTo>
                  <a:lnTo>
                    <a:pt x="120" y="288"/>
                  </a:lnTo>
                  <a:lnTo>
                    <a:pt x="104" y="302"/>
                  </a:lnTo>
                  <a:lnTo>
                    <a:pt x="90" y="319"/>
                  </a:lnTo>
                  <a:lnTo>
                    <a:pt x="76" y="335"/>
                  </a:lnTo>
                  <a:lnTo>
                    <a:pt x="64" y="350"/>
                  </a:lnTo>
                  <a:lnTo>
                    <a:pt x="53" y="366"/>
                  </a:lnTo>
                  <a:lnTo>
                    <a:pt x="43" y="381"/>
                  </a:lnTo>
                  <a:lnTo>
                    <a:pt x="33" y="397"/>
                  </a:lnTo>
                  <a:lnTo>
                    <a:pt x="25" y="412"/>
                  </a:lnTo>
                  <a:lnTo>
                    <a:pt x="18" y="427"/>
                  </a:lnTo>
                  <a:lnTo>
                    <a:pt x="12" y="441"/>
                  </a:lnTo>
                  <a:lnTo>
                    <a:pt x="8" y="456"/>
                  </a:lnTo>
                  <a:lnTo>
                    <a:pt x="4" y="471"/>
                  </a:lnTo>
                  <a:lnTo>
                    <a:pt x="2" y="485"/>
                  </a:lnTo>
                  <a:lnTo>
                    <a:pt x="0" y="500"/>
                  </a:lnTo>
                  <a:lnTo>
                    <a:pt x="0" y="513"/>
                  </a:lnTo>
                  <a:lnTo>
                    <a:pt x="2" y="526"/>
                  </a:lnTo>
                  <a:lnTo>
                    <a:pt x="4" y="539"/>
                  </a:lnTo>
                  <a:lnTo>
                    <a:pt x="8" y="552"/>
                  </a:lnTo>
                  <a:lnTo>
                    <a:pt x="13" y="563"/>
                  </a:lnTo>
                  <a:lnTo>
                    <a:pt x="19" y="574"/>
                  </a:lnTo>
                  <a:lnTo>
                    <a:pt x="28" y="584"/>
                  </a:lnTo>
                  <a:lnTo>
                    <a:pt x="36" y="594"/>
                  </a:lnTo>
                  <a:lnTo>
                    <a:pt x="45" y="603"/>
                  </a:lnTo>
                  <a:lnTo>
                    <a:pt x="56" y="611"/>
                  </a:lnTo>
                  <a:lnTo>
                    <a:pt x="69" y="619"/>
                  </a:lnTo>
                  <a:lnTo>
                    <a:pt x="81" y="625"/>
                  </a:lnTo>
                  <a:lnTo>
                    <a:pt x="95" y="631"/>
                  </a:lnTo>
                  <a:lnTo>
                    <a:pt x="110" y="636"/>
                  </a:lnTo>
                  <a:lnTo>
                    <a:pt x="126" y="641"/>
                  </a:lnTo>
                  <a:lnTo>
                    <a:pt x="142" y="645"/>
                  </a:lnTo>
                  <a:lnTo>
                    <a:pt x="159" y="647"/>
                  </a:lnTo>
                  <a:lnTo>
                    <a:pt x="178" y="650"/>
                  </a:lnTo>
                  <a:lnTo>
                    <a:pt x="197" y="651"/>
                  </a:lnTo>
                  <a:lnTo>
                    <a:pt x="217" y="652"/>
                  </a:lnTo>
                  <a:lnTo>
                    <a:pt x="236" y="652"/>
                  </a:lnTo>
                  <a:lnTo>
                    <a:pt x="256" y="651"/>
                  </a:lnTo>
                  <a:lnTo>
                    <a:pt x="279" y="650"/>
                  </a:lnTo>
                  <a:lnTo>
                    <a:pt x="300" y="647"/>
                  </a:lnTo>
                  <a:lnTo>
                    <a:pt x="322" y="645"/>
                  </a:lnTo>
                  <a:lnTo>
                    <a:pt x="346" y="641"/>
                  </a:lnTo>
                  <a:lnTo>
                    <a:pt x="369" y="636"/>
                  </a:lnTo>
                  <a:lnTo>
                    <a:pt x="393" y="631"/>
                  </a:lnTo>
                  <a:lnTo>
                    <a:pt x="416" y="625"/>
                  </a:lnTo>
                  <a:lnTo>
                    <a:pt x="441" y="618"/>
                  </a:lnTo>
                  <a:lnTo>
                    <a:pt x="466" y="610"/>
                  </a:lnTo>
                  <a:lnTo>
                    <a:pt x="491" y="603"/>
                  </a:lnTo>
                  <a:lnTo>
                    <a:pt x="516" y="593"/>
                  </a:lnTo>
                  <a:lnTo>
                    <a:pt x="541" y="584"/>
                  </a:lnTo>
                  <a:lnTo>
                    <a:pt x="567" y="573"/>
                  </a:lnTo>
                  <a:lnTo>
                    <a:pt x="592" y="562"/>
                  </a:lnTo>
                  <a:lnTo>
                    <a:pt x="618" y="549"/>
                  </a:lnTo>
                  <a:lnTo>
                    <a:pt x="642" y="537"/>
                  </a:lnTo>
                  <a:lnTo>
                    <a:pt x="666" y="525"/>
                  </a:lnTo>
                  <a:lnTo>
                    <a:pt x="690" y="511"/>
                  </a:lnTo>
                  <a:lnTo>
                    <a:pt x="713" y="499"/>
                  </a:lnTo>
                  <a:lnTo>
                    <a:pt x="736" y="484"/>
                  </a:lnTo>
                  <a:lnTo>
                    <a:pt x="757" y="470"/>
                  </a:lnTo>
                  <a:lnTo>
                    <a:pt x="778" y="455"/>
                  </a:lnTo>
                  <a:lnTo>
                    <a:pt x="798" y="440"/>
                  </a:lnTo>
                  <a:lnTo>
                    <a:pt x="818" y="425"/>
                  </a:lnTo>
                  <a:lnTo>
                    <a:pt x="836" y="410"/>
                  </a:lnTo>
                  <a:lnTo>
                    <a:pt x="854" y="396"/>
                  </a:lnTo>
                  <a:lnTo>
                    <a:pt x="870" y="379"/>
                  </a:lnTo>
                  <a:lnTo>
                    <a:pt x="886" y="365"/>
                  </a:lnTo>
                  <a:lnTo>
                    <a:pt x="902" y="348"/>
                  </a:lnTo>
                  <a:lnTo>
                    <a:pt x="916" y="333"/>
                  </a:lnTo>
                  <a:lnTo>
                    <a:pt x="929" y="317"/>
                  </a:lnTo>
                  <a:lnTo>
                    <a:pt x="942" y="302"/>
                  </a:lnTo>
                  <a:lnTo>
                    <a:pt x="953" y="286"/>
                  </a:lnTo>
                  <a:lnTo>
                    <a:pt x="963" y="270"/>
                  </a:lnTo>
                  <a:lnTo>
                    <a:pt x="973" y="255"/>
                  </a:lnTo>
                  <a:lnTo>
                    <a:pt x="980" y="240"/>
                  </a:lnTo>
                  <a:lnTo>
                    <a:pt x="988" y="226"/>
                  </a:lnTo>
                  <a:lnTo>
                    <a:pt x="994" y="209"/>
                  </a:lnTo>
                  <a:lnTo>
                    <a:pt x="999" y="196"/>
                  </a:lnTo>
                  <a:lnTo>
                    <a:pt x="1001" y="181"/>
                  </a:lnTo>
                  <a:lnTo>
                    <a:pt x="1004" y="166"/>
                  </a:lnTo>
                  <a:lnTo>
                    <a:pt x="1005" y="152"/>
                  </a:lnTo>
                  <a:lnTo>
                    <a:pt x="1005" y="139"/>
                  </a:lnTo>
                  <a:lnTo>
                    <a:pt x="1004" y="126"/>
                  </a:lnTo>
                  <a:lnTo>
                    <a:pt x="1001" y="113"/>
                  </a:lnTo>
                  <a:lnTo>
                    <a:pt x="998" y="10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5394240" y="5295960"/>
              <a:ext cx="428760" cy="288720"/>
            </a:xfrm>
            <a:custGeom>
              <a:avLst/>
              <a:gdLst/>
              <a:ahLst/>
              <a:rect l="l" t="t" r="r" b="b"/>
              <a:pathLst>
                <a:path w="1077" h="724">
                  <a:moveTo>
                    <a:pt x="435" y="94"/>
                  </a:moveTo>
                  <a:lnTo>
                    <a:pt x="408" y="106"/>
                  </a:lnTo>
                  <a:lnTo>
                    <a:pt x="380" y="120"/>
                  </a:lnTo>
                  <a:lnTo>
                    <a:pt x="354" y="134"/>
                  </a:lnTo>
                  <a:lnTo>
                    <a:pt x="330" y="147"/>
                  </a:lnTo>
                  <a:lnTo>
                    <a:pt x="305" y="162"/>
                  </a:lnTo>
                  <a:lnTo>
                    <a:pt x="281" y="177"/>
                  </a:lnTo>
                  <a:lnTo>
                    <a:pt x="259" y="192"/>
                  </a:lnTo>
                  <a:lnTo>
                    <a:pt x="236" y="208"/>
                  </a:lnTo>
                  <a:lnTo>
                    <a:pt x="215" y="224"/>
                  </a:lnTo>
                  <a:lnTo>
                    <a:pt x="194" y="240"/>
                  </a:lnTo>
                  <a:lnTo>
                    <a:pt x="174" y="257"/>
                  </a:lnTo>
                  <a:lnTo>
                    <a:pt x="156" y="273"/>
                  </a:lnTo>
                  <a:lnTo>
                    <a:pt x="138" y="290"/>
                  </a:lnTo>
                  <a:lnTo>
                    <a:pt x="122" y="307"/>
                  </a:lnTo>
                  <a:lnTo>
                    <a:pt x="106" y="324"/>
                  </a:lnTo>
                  <a:lnTo>
                    <a:pt x="91" y="341"/>
                  </a:lnTo>
                  <a:lnTo>
                    <a:pt x="77" y="358"/>
                  </a:lnTo>
                  <a:lnTo>
                    <a:pt x="65" y="376"/>
                  </a:lnTo>
                  <a:lnTo>
                    <a:pt x="53" y="392"/>
                  </a:lnTo>
                  <a:lnTo>
                    <a:pt x="43" y="409"/>
                  </a:lnTo>
                  <a:lnTo>
                    <a:pt x="33" y="427"/>
                  </a:lnTo>
                  <a:lnTo>
                    <a:pt x="24" y="443"/>
                  </a:lnTo>
                  <a:lnTo>
                    <a:pt x="18" y="460"/>
                  </a:lnTo>
                  <a:lnTo>
                    <a:pt x="12" y="476"/>
                  </a:lnTo>
                  <a:lnTo>
                    <a:pt x="7" y="494"/>
                  </a:lnTo>
                  <a:lnTo>
                    <a:pt x="3" y="510"/>
                  </a:lnTo>
                  <a:lnTo>
                    <a:pt x="2" y="525"/>
                  </a:lnTo>
                  <a:lnTo>
                    <a:pt x="0" y="541"/>
                  </a:lnTo>
                  <a:lnTo>
                    <a:pt x="0" y="556"/>
                  </a:lnTo>
                  <a:lnTo>
                    <a:pt x="3" y="570"/>
                  </a:lnTo>
                  <a:lnTo>
                    <a:pt x="5" y="585"/>
                  </a:lnTo>
                  <a:lnTo>
                    <a:pt x="10" y="600"/>
                  </a:lnTo>
                  <a:lnTo>
                    <a:pt x="18" y="616"/>
                  </a:lnTo>
                  <a:lnTo>
                    <a:pt x="27" y="631"/>
                  </a:lnTo>
                  <a:lnTo>
                    <a:pt x="36" y="645"/>
                  </a:lnTo>
                  <a:lnTo>
                    <a:pt x="49" y="657"/>
                  </a:lnTo>
                  <a:lnTo>
                    <a:pt x="63" y="670"/>
                  </a:lnTo>
                  <a:lnTo>
                    <a:pt x="79" y="681"/>
                  </a:lnTo>
                  <a:lnTo>
                    <a:pt x="95" y="690"/>
                  </a:lnTo>
                  <a:lnTo>
                    <a:pt x="113" y="698"/>
                  </a:lnTo>
                  <a:lnTo>
                    <a:pt x="137" y="707"/>
                  </a:lnTo>
                  <a:lnTo>
                    <a:pt x="163" y="714"/>
                  </a:lnTo>
                  <a:lnTo>
                    <a:pt x="190" y="719"/>
                  </a:lnTo>
                  <a:lnTo>
                    <a:pt x="219" y="722"/>
                  </a:lnTo>
                  <a:lnTo>
                    <a:pt x="250" y="724"/>
                  </a:lnTo>
                  <a:lnTo>
                    <a:pt x="281" y="723"/>
                  </a:lnTo>
                  <a:lnTo>
                    <a:pt x="315" y="722"/>
                  </a:lnTo>
                  <a:lnTo>
                    <a:pt x="348" y="718"/>
                  </a:lnTo>
                  <a:lnTo>
                    <a:pt x="383" y="713"/>
                  </a:lnTo>
                  <a:lnTo>
                    <a:pt x="419" y="706"/>
                  </a:lnTo>
                  <a:lnTo>
                    <a:pt x="455" y="697"/>
                  </a:lnTo>
                  <a:lnTo>
                    <a:pt x="491" y="687"/>
                  </a:lnTo>
                  <a:lnTo>
                    <a:pt x="529" y="675"/>
                  </a:lnTo>
                  <a:lnTo>
                    <a:pt x="567" y="662"/>
                  </a:lnTo>
                  <a:lnTo>
                    <a:pt x="605" y="646"/>
                  </a:lnTo>
                  <a:lnTo>
                    <a:pt x="642" y="630"/>
                  </a:lnTo>
                  <a:lnTo>
                    <a:pt x="670" y="618"/>
                  </a:lnTo>
                  <a:lnTo>
                    <a:pt x="697" y="604"/>
                  </a:lnTo>
                  <a:lnTo>
                    <a:pt x="723" y="590"/>
                  </a:lnTo>
                  <a:lnTo>
                    <a:pt x="748" y="575"/>
                  </a:lnTo>
                  <a:lnTo>
                    <a:pt x="773" y="562"/>
                  </a:lnTo>
                  <a:lnTo>
                    <a:pt x="796" y="547"/>
                  </a:lnTo>
                  <a:lnTo>
                    <a:pt x="819" y="531"/>
                  </a:lnTo>
                  <a:lnTo>
                    <a:pt x="841" y="516"/>
                  </a:lnTo>
                  <a:lnTo>
                    <a:pt x="862" y="500"/>
                  </a:lnTo>
                  <a:lnTo>
                    <a:pt x="883" y="484"/>
                  </a:lnTo>
                  <a:lnTo>
                    <a:pt x="903" y="468"/>
                  </a:lnTo>
                  <a:lnTo>
                    <a:pt x="922" y="450"/>
                  </a:lnTo>
                  <a:lnTo>
                    <a:pt x="939" y="434"/>
                  </a:lnTo>
                  <a:lnTo>
                    <a:pt x="955" y="417"/>
                  </a:lnTo>
                  <a:lnTo>
                    <a:pt x="971" y="399"/>
                  </a:lnTo>
                  <a:lnTo>
                    <a:pt x="986" y="383"/>
                  </a:lnTo>
                  <a:lnTo>
                    <a:pt x="1000" y="366"/>
                  </a:lnTo>
                  <a:lnTo>
                    <a:pt x="1012" y="348"/>
                  </a:lnTo>
                  <a:lnTo>
                    <a:pt x="1025" y="331"/>
                  </a:lnTo>
                  <a:lnTo>
                    <a:pt x="1035" y="315"/>
                  </a:lnTo>
                  <a:lnTo>
                    <a:pt x="1045" y="298"/>
                  </a:lnTo>
                  <a:lnTo>
                    <a:pt x="1053" y="280"/>
                  </a:lnTo>
                  <a:lnTo>
                    <a:pt x="1060" y="264"/>
                  </a:lnTo>
                  <a:lnTo>
                    <a:pt x="1066" y="247"/>
                  </a:lnTo>
                  <a:lnTo>
                    <a:pt x="1071" y="231"/>
                  </a:lnTo>
                  <a:lnTo>
                    <a:pt x="1075" y="214"/>
                  </a:lnTo>
                  <a:lnTo>
                    <a:pt x="1076" y="198"/>
                  </a:lnTo>
                  <a:lnTo>
                    <a:pt x="1077" y="183"/>
                  </a:lnTo>
                  <a:lnTo>
                    <a:pt x="1077" y="167"/>
                  </a:lnTo>
                  <a:lnTo>
                    <a:pt x="1075" y="152"/>
                  </a:lnTo>
                  <a:lnTo>
                    <a:pt x="1072" y="137"/>
                  </a:lnTo>
                  <a:lnTo>
                    <a:pt x="1067" y="124"/>
                  </a:lnTo>
                  <a:lnTo>
                    <a:pt x="1067" y="124"/>
                  </a:lnTo>
                  <a:lnTo>
                    <a:pt x="1060" y="108"/>
                  </a:lnTo>
                  <a:lnTo>
                    <a:pt x="1051" y="93"/>
                  </a:lnTo>
                  <a:lnTo>
                    <a:pt x="1041" y="79"/>
                  </a:lnTo>
                  <a:lnTo>
                    <a:pt x="1029" y="66"/>
                  </a:lnTo>
                  <a:lnTo>
                    <a:pt x="1015" y="54"/>
                  </a:lnTo>
                  <a:lnTo>
                    <a:pt x="999" y="43"/>
                  </a:lnTo>
                  <a:lnTo>
                    <a:pt x="983" y="33"/>
                  </a:lnTo>
                  <a:lnTo>
                    <a:pt x="964" y="25"/>
                  </a:lnTo>
                  <a:lnTo>
                    <a:pt x="939" y="17"/>
                  </a:lnTo>
                  <a:lnTo>
                    <a:pt x="914" y="10"/>
                  </a:lnTo>
                  <a:lnTo>
                    <a:pt x="887" y="5"/>
                  </a:lnTo>
                  <a:lnTo>
                    <a:pt x="858" y="1"/>
                  </a:lnTo>
                  <a:lnTo>
                    <a:pt x="827" y="0"/>
                  </a:lnTo>
                  <a:lnTo>
                    <a:pt x="796" y="0"/>
                  </a:lnTo>
                  <a:lnTo>
                    <a:pt x="763" y="2"/>
                  </a:lnTo>
                  <a:lnTo>
                    <a:pt x="729" y="6"/>
                  </a:lnTo>
                  <a:lnTo>
                    <a:pt x="695" y="11"/>
                  </a:lnTo>
                  <a:lnTo>
                    <a:pt x="659" y="18"/>
                  </a:lnTo>
                  <a:lnTo>
                    <a:pt x="623" y="27"/>
                  </a:lnTo>
                  <a:lnTo>
                    <a:pt x="587" y="37"/>
                  </a:lnTo>
                  <a:lnTo>
                    <a:pt x="548" y="48"/>
                  </a:lnTo>
                  <a:lnTo>
                    <a:pt x="511" y="62"/>
                  </a:lnTo>
                  <a:lnTo>
                    <a:pt x="472" y="77"/>
                  </a:lnTo>
                  <a:lnTo>
                    <a:pt x="435" y="94"/>
                  </a:lnTo>
                  <a:close/>
                  <a:moveTo>
                    <a:pt x="141" y="633"/>
                  </a:moveTo>
                  <a:lnTo>
                    <a:pt x="130" y="628"/>
                  </a:lnTo>
                  <a:lnTo>
                    <a:pt x="118" y="621"/>
                  </a:lnTo>
                  <a:lnTo>
                    <a:pt x="108" y="615"/>
                  </a:lnTo>
                  <a:lnTo>
                    <a:pt x="101" y="608"/>
                  </a:lnTo>
                  <a:lnTo>
                    <a:pt x="92" y="600"/>
                  </a:lnTo>
                  <a:lnTo>
                    <a:pt x="86" y="593"/>
                  </a:lnTo>
                  <a:lnTo>
                    <a:pt x="81" y="584"/>
                  </a:lnTo>
                  <a:lnTo>
                    <a:pt x="77" y="574"/>
                  </a:lnTo>
                  <a:lnTo>
                    <a:pt x="75" y="566"/>
                  </a:lnTo>
                  <a:lnTo>
                    <a:pt x="72" y="556"/>
                  </a:lnTo>
                  <a:lnTo>
                    <a:pt x="71" y="544"/>
                  </a:lnTo>
                  <a:lnTo>
                    <a:pt x="72" y="533"/>
                  </a:lnTo>
                  <a:lnTo>
                    <a:pt x="74" y="522"/>
                  </a:lnTo>
                  <a:lnTo>
                    <a:pt x="75" y="511"/>
                  </a:lnTo>
                  <a:lnTo>
                    <a:pt x="79" y="499"/>
                  </a:lnTo>
                  <a:lnTo>
                    <a:pt x="82" y="486"/>
                  </a:lnTo>
                  <a:lnTo>
                    <a:pt x="89" y="472"/>
                  </a:lnTo>
                  <a:lnTo>
                    <a:pt x="95" y="460"/>
                  </a:lnTo>
                  <a:lnTo>
                    <a:pt x="102" y="446"/>
                  </a:lnTo>
                  <a:lnTo>
                    <a:pt x="110" y="433"/>
                  </a:lnTo>
                  <a:lnTo>
                    <a:pt x="120" y="419"/>
                  </a:lnTo>
                  <a:lnTo>
                    <a:pt x="130" y="405"/>
                  </a:lnTo>
                  <a:lnTo>
                    <a:pt x="141" y="392"/>
                  </a:lnTo>
                  <a:lnTo>
                    <a:pt x="153" y="377"/>
                  </a:lnTo>
                  <a:lnTo>
                    <a:pt x="179" y="348"/>
                  </a:lnTo>
                  <a:lnTo>
                    <a:pt x="210" y="320"/>
                  </a:lnTo>
                  <a:lnTo>
                    <a:pt x="244" y="291"/>
                  </a:lnTo>
                  <a:lnTo>
                    <a:pt x="281" y="263"/>
                  </a:lnTo>
                  <a:lnTo>
                    <a:pt x="322" y="235"/>
                  </a:lnTo>
                  <a:lnTo>
                    <a:pt x="367" y="208"/>
                  </a:lnTo>
                  <a:lnTo>
                    <a:pt x="389" y="196"/>
                  </a:lnTo>
                  <a:lnTo>
                    <a:pt x="414" y="183"/>
                  </a:lnTo>
                  <a:lnTo>
                    <a:pt x="439" y="171"/>
                  </a:lnTo>
                  <a:lnTo>
                    <a:pt x="465" y="159"/>
                  </a:lnTo>
                  <a:lnTo>
                    <a:pt x="498" y="144"/>
                  </a:lnTo>
                  <a:lnTo>
                    <a:pt x="533" y="130"/>
                  </a:lnTo>
                  <a:lnTo>
                    <a:pt x="567" y="118"/>
                  </a:lnTo>
                  <a:lnTo>
                    <a:pt x="601" y="106"/>
                  </a:lnTo>
                  <a:lnTo>
                    <a:pt x="634" y="98"/>
                  </a:lnTo>
                  <a:lnTo>
                    <a:pt x="667" y="89"/>
                  </a:lnTo>
                  <a:lnTo>
                    <a:pt x="700" y="83"/>
                  </a:lnTo>
                  <a:lnTo>
                    <a:pt x="731" y="78"/>
                  </a:lnTo>
                  <a:lnTo>
                    <a:pt x="760" y="74"/>
                  </a:lnTo>
                  <a:lnTo>
                    <a:pt x="790" y="72"/>
                  </a:lnTo>
                  <a:lnTo>
                    <a:pt x="818" y="70"/>
                  </a:lnTo>
                  <a:lnTo>
                    <a:pt x="845" y="72"/>
                  </a:lnTo>
                  <a:lnTo>
                    <a:pt x="870" y="74"/>
                  </a:lnTo>
                  <a:lnTo>
                    <a:pt x="894" y="78"/>
                  </a:lnTo>
                  <a:lnTo>
                    <a:pt x="917" y="84"/>
                  </a:lnTo>
                  <a:lnTo>
                    <a:pt x="937" y="90"/>
                  </a:lnTo>
                  <a:lnTo>
                    <a:pt x="948" y="97"/>
                  </a:lnTo>
                  <a:lnTo>
                    <a:pt x="959" y="103"/>
                  </a:lnTo>
                  <a:lnTo>
                    <a:pt x="969" y="109"/>
                  </a:lnTo>
                  <a:lnTo>
                    <a:pt x="978" y="115"/>
                  </a:lnTo>
                  <a:lnTo>
                    <a:pt x="984" y="124"/>
                  </a:lnTo>
                  <a:lnTo>
                    <a:pt x="991" y="131"/>
                  </a:lnTo>
                  <a:lnTo>
                    <a:pt x="996" y="140"/>
                  </a:lnTo>
                  <a:lnTo>
                    <a:pt x="1000" y="149"/>
                  </a:lnTo>
                  <a:lnTo>
                    <a:pt x="1003" y="157"/>
                  </a:lnTo>
                  <a:lnTo>
                    <a:pt x="1005" y="165"/>
                  </a:lnTo>
                  <a:lnTo>
                    <a:pt x="1006" y="173"/>
                  </a:lnTo>
                  <a:lnTo>
                    <a:pt x="1006" y="182"/>
                  </a:lnTo>
                  <a:lnTo>
                    <a:pt x="1005" y="192"/>
                  </a:lnTo>
                  <a:lnTo>
                    <a:pt x="1004" y="202"/>
                  </a:lnTo>
                  <a:lnTo>
                    <a:pt x="1003" y="213"/>
                  </a:lnTo>
                  <a:lnTo>
                    <a:pt x="999" y="224"/>
                  </a:lnTo>
                  <a:lnTo>
                    <a:pt x="995" y="235"/>
                  </a:lnTo>
                  <a:lnTo>
                    <a:pt x="991" y="247"/>
                  </a:lnTo>
                  <a:lnTo>
                    <a:pt x="985" y="258"/>
                  </a:lnTo>
                  <a:lnTo>
                    <a:pt x="980" y="270"/>
                  </a:lnTo>
                  <a:lnTo>
                    <a:pt x="965" y="294"/>
                  </a:lnTo>
                  <a:lnTo>
                    <a:pt x="948" y="319"/>
                  </a:lnTo>
                  <a:lnTo>
                    <a:pt x="927" y="345"/>
                  </a:lnTo>
                  <a:lnTo>
                    <a:pt x="903" y="371"/>
                  </a:lnTo>
                  <a:lnTo>
                    <a:pt x="876" y="396"/>
                  </a:lnTo>
                  <a:lnTo>
                    <a:pt x="847" y="422"/>
                  </a:lnTo>
                  <a:lnTo>
                    <a:pt x="815" y="448"/>
                  </a:lnTo>
                  <a:lnTo>
                    <a:pt x="780" y="472"/>
                  </a:lnTo>
                  <a:lnTo>
                    <a:pt x="742" y="496"/>
                  </a:lnTo>
                  <a:lnTo>
                    <a:pt x="702" y="521"/>
                  </a:lnTo>
                  <a:lnTo>
                    <a:pt x="659" y="543"/>
                  </a:lnTo>
                  <a:lnTo>
                    <a:pt x="613" y="566"/>
                  </a:lnTo>
                  <a:lnTo>
                    <a:pt x="579" y="580"/>
                  </a:lnTo>
                  <a:lnTo>
                    <a:pt x="544" y="594"/>
                  </a:lnTo>
                  <a:lnTo>
                    <a:pt x="511" y="606"/>
                  </a:lnTo>
                  <a:lnTo>
                    <a:pt x="476" y="618"/>
                  </a:lnTo>
                  <a:lnTo>
                    <a:pt x="444" y="626"/>
                  </a:lnTo>
                  <a:lnTo>
                    <a:pt x="410" y="635"/>
                  </a:lnTo>
                  <a:lnTo>
                    <a:pt x="378" y="641"/>
                  </a:lnTo>
                  <a:lnTo>
                    <a:pt x="347" y="646"/>
                  </a:lnTo>
                  <a:lnTo>
                    <a:pt x="317" y="650"/>
                  </a:lnTo>
                  <a:lnTo>
                    <a:pt x="287" y="652"/>
                  </a:lnTo>
                  <a:lnTo>
                    <a:pt x="260" y="652"/>
                  </a:lnTo>
                  <a:lnTo>
                    <a:pt x="233" y="652"/>
                  </a:lnTo>
                  <a:lnTo>
                    <a:pt x="207" y="650"/>
                  </a:lnTo>
                  <a:lnTo>
                    <a:pt x="183" y="645"/>
                  </a:lnTo>
                  <a:lnTo>
                    <a:pt x="161" y="640"/>
                  </a:lnTo>
                  <a:lnTo>
                    <a:pt x="141" y="63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5492880" y="5353200"/>
              <a:ext cx="244440" cy="160200"/>
            </a:xfrm>
            <a:custGeom>
              <a:avLst/>
              <a:gdLst/>
              <a:ahLst/>
              <a:rect l="l" t="t" r="r" b="b"/>
              <a:pathLst>
                <a:path w="615" h="404">
                  <a:moveTo>
                    <a:pt x="610" y="64"/>
                  </a:moveTo>
                  <a:lnTo>
                    <a:pt x="608" y="56"/>
                  </a:lnTo>
                  <a:lnTo>
                    <a:pt x="603" y="50"/>
                  </a:lnTo>
                  <a:lnTo>
                    <a:pt x="599" y="43"/>
                  </a:lnTo>
                  <a:lnTo>
                    <a:pt x="593" y="36"/>
                  </a:lnTo>
                  <a:lnTo>
                    <a:pt x="587" y="31"/>
                  </a:lnTo>
                  <a:lnTo>
                    <a:pt x="581" y="26"/>
                  </a:lnTo>
                  <a:lnTo>
                    <a:pt x="573" y="22"/>
                  </a:lnTo>
                  <a:lnTo>
                    <a:pt x="566" y="18"/>
                  </a:lnTo>
                  <a:lnTo>
                    <a:pt x="547" y="10"/>
                  </a:lnTo>
                  <a:lnTo>
                    <a:pt x="527" y="5"/>
                  </a:lnTo>
                  <a:lnTo>
                    <a:pt x="506" y="2"/>
                  </a:lnTo>
                  <a:lnTo>
                    <a:pt x="483" y="0"/>
                  </a:lnTo>
                  <a:lnTo>
                    <a:pt x="458" y="0"/>
                  </a:lnTo>
                  <a:lnTo>
                    <a:pt x="430" y="3"/>
                  </a:lnTo>
                  <a:lnTo>
                    <a:pt x="403" y="7"/>
                  </a:lnTo>
                  <a:lnTo>
                    <a:pt x="375" y="13"/>
                  </a:lnTo>
                  <a:lnTo>
                    <a:pt x="345" y="20"/>
                  </a:lnTo>
                  <a:lnTo>
                    <a:pt x="314" y="30"/>
                  </a:lnTo>
                  <a:lnTo>
                    <a:pt x="283" y="41"/>
                  </a:lnTo>
                  <a:lnTo>
                    <a:pt x="252" y="55"/>
                  </a:lnTo>
                  <a:lnTo>
                    <a:pt x="221" y="70"/>
                  </a:lnTo>
                  <a:lnTo>
                    <a:pt x="192" y="86"/>
                  </a:lnTo>
                  <a:lnTo>
                    <a:pt x="165" y="102"/>
                  </a:lnTo>
                  <a:lnTo>
                    <a:pt x="139" y="120"/>
                  </a:lnTo>
                  <a:lnTo>
                    <a:pt x="114" y="138"/>
                  </a:lnTo>
                  <a:lnTo>
                    <a:pt x="91" y="157"/>
                  </a:lnTo>
                  <a:lnTo>
                    <a:pt x="72" y="177"/>
                  </a:lnTo>
                  <a:lnTo>
                    <a:pt x="54" y="195"/>
                  </a:lnTo>
                  <a:lnTo>
                    <a:pt x="38" y="215"/>
                  </a:lnTo>
                  <a:lnTo>
                    <a:pt x="24" y="234"/>
                  </a:lnTo>
                  <a:lnTo>
                    <a:pt x="14" y="254"/>
                  </a:lnTo>
                  <a:lnTo>
                    <a:pt x="7" y="272"/>
                  </a:lnTo>
                  <a:lnTo>
                    <a:pt x="3" y="281"/>
                  </a:lnTo>
                  <a:lnTo>
                    <a:pt x="1" y="291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0" y="317"/>
                  </a:lnTo>
                  <a:lnTo>
                    <a:pt x="1" y="324"/>
                  </a:lnTo>
                  <a:lnTo>
                    <a:pt x="2" y="333"/>
                  </a:lnTo>
                  <a:lnTo>
                    <a:pt x="5" y="340"/>
                  </a:lnTo>
                  <a:lnTo>
                    <a:pt x="7" y="348"/>
                  </a:lnTo>
                  <a:lnTo>
                    <a:pt x="12" y="355"/>
                  </a:lnTo>
                  <a:lnTo>
                    <a:pt x="17" y="361"/>
                  </a:lnTo>
                  <a:lnTo>
                    <a:pt x="22" y="368"/>
                  </a:lnTo>
                  <a:lnTo>
                    <a:pt x="28" y="373"/>
                  </a:lnTo>
                  <a:lnTo>
                    <a:pt x="34" y="378"/>
                  </a:lnTo>
                  <a:lnTo>
                    <a:pt x="42" y="383"/>
                  </a:lnTo>
                  <a:lnTo>
                    <a:pt x="50" y="386"/>
                  </a:lnTo>
                  <a:lnTo>
                    <a:pt x="58" y="391"/>
                  </a:lnTo>
                  <a:lnTo>
                    <a:pt x="68" y="394"/>
                  </a:lnTo>
                  <a:lnTo>
                    <a:pt x="77" y="397"/>
                  </a:lnTo>
                  <a:lnTo>
                    <a:pt x="88" y="399"/>
                  </a:lnTo>
                  <a:lnTo>
                    <a:pt x="109" y="402"/>
                  </a:lnTo>
                  <a:lnTo>
                    <a:pt x="132" y="404"/>
                  </a:lnTo>
                  <a:lnTo>
                    <a:pt x="157" y="404"/>
                  </a:lnTo>
                  <a:lnTo>
                    <a:pt x="185" y="401"/>
                  </a:lnTo>
                  <a:lnTo>
                    <a:pt x="212" y="397"/>
                  </a:lnTo>
                  <a:lnTo>
                    <a:pt x="240" y="391"/>
                  </a:lnTo>
                  <a:lnTo>
                    <a:pt x="270" y="384"/>
                  </a:lnTo>
                  <a:lnTo>
                    <a:pt x="301" y="374"/>
                  </a:lnTo>
                  <a:lnTo>
                    <a:pt x="332" y="363"/>
                  </a:lnTo>
                  <a:lnTo>
                    <a:pt x="363" y="349"/>
                  </a:lnTo>
                  <a:lnTo>
                    <a:pt x="394" y="334"/>
                  </a:lnTo>
                  <a:lnTo>
                    <a:pt x="423" y="318"/>
                  </a:lnTo>
                  <a:lnTo>
                    <a:pt x="452" y="302"/>
                  </a:lnTo>
                  <a:lnTo>
                    <a:pt x="478" y="285"/>
                  </a:lnTo>
                  <a:lnTo>
                    <a:pt x="501" y="266"/>
                  </a:lnTo>
                  <a:lnTo>
                    <a:pt x="524" y="247"/>
                  </a:lnTo>
                  <a:lnTo>
                    <a:pt x="543" y="227"/>
                  </a:lnTo>
                  <a:lnTo>
                    <a:pt x="562" y="209"/>
                  </a:lnTo>
                  <a:lnTo>
                    <a:pt x="577" y="189"/>
                  </a:lnTo>
                  <a:lnTo>
                    <a:pt x="591" y="170"/>
                  </a:lnTo>
                  <a:lnTo>
                    <a:pt x="601" y="151"/>
                  </a:lnTo>
                  <a:lnTo>
                    <a:pt x="609" y="132"/>
                  </a:lnTo>
                  <a:lnTo>
                    <a:pt x="612" y="123"/>
                  </a:lnTo>
                  <a:lnTo>
                    <a:pt x="614" y="115"/>
                  </a:lnTo>
                  <a:lnTo>
                    <a:pt x="615" y="105"/>
                  </a:lnTo>
                  <a:lnTo>
                    <a:pt x="615" y="96"/>
                  </a:lnTo>
                  <a:lnTo>
                    <a:pt x="615" y="89"/>
                  </a:lnTo>
                  <a:lnTo>
                    <a:pt x="615" y="80"/>
                  </a:lnTo>
                  <a:lnTo>
                    <a:pt x="613" y="71"/>
                  </a:lnTo>
                  <a:lnTo>
                    <a:pt x="610" y="6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4383000" y="5560920"/>
              <a:ext cx="1711440" cy="346320"/>
            </a:xfrm>
            <a:custGeom>
              <a:avLst/>
              <a:gdLst/>
              <a:ahLst/>
              <a:rect l="l" t="t" r="r" b="b"/>
              <a:pathLst>
                <a:path w="4314" h="870">
                  <a:moveTo>
                    <a:pt x="0" y="39"/>
                  </a:moveTo>
                  <a:lnTo>
                    <a:pt x="42" y="37"/>
                  </a:lnTo>
                  <a:lnTo>
                    <a:pt x="163" y="35"/>
                  </a:lnTo>
                  <a:lnTo>
                    <a:pt x="352" y="31"/>
                  </a:lnTo>
                  <a:lnTo>
                    <a:pt x="599" y="26"/>
                  </a:lnTo>
                  <a:lnTo>
                    <a:pt x="893" y="21"/>
                  </a:lnTo>
                  <a:lnTo>
                    <a:pt x="1224" y="15"/>
                  </a:lnTo>
                  <a:lnTo>
                    <a:pt x="1582" y="10"/>
                  </a:lnTo>
                  <a:lnTo>
                    <a:pt x="1957" y="6"/>
                  </a:lnTo>
                  <a:lnTo>
                    <a:pt x="2338" y="3"/>
                  </a:lnTo>
                  <a:lnTo>
                    <a:pt x="2715" y="0"/>
                  </a:lnTo>
                  <a:lnTo>
                    <a:pt x="3077" y="0"/>
                  </a:lnTo>
                  <a:lnTo>
                    <a:pt x="3415" y="1"/>
                  </a:lnTo>
                  <a:lnTo>
                    <a:pt x="3571" y="4"/>
                  </a:lnTo>
                  <a:lnTo>
                    <a:pt x="3718" y="6"/>
                  </a:lnTo>
                  <a:lnTo>
                    <a:pt x="3853" y="10"/>
                  </a:lnTo>
                  <a:lnTo>
                    <a:pt x="3975" y="14"/>
                  </a:lnTo>
                  <a:lnTo>
                    <a:pt x="4084" y="19"/>
                  </a:lnTo>
                  <a:lnTo>
                    <a:pt x="4177" y="24"/>
                  </a:lnTo>
                  <a:lnTo>
                    <a:pt x="4254" y="31"/>
                  </a:lnTo>
                  <a:lnTo>
                    <a:pt x="4314" y="39"/>
                  </a:lnTo>
                  <a:lnTo>
                    <a:pt x="4297" y="68"/>
                  </a:lnTo>
                  <a:lnTo>
                    <a:pt x="4248" y="148"/>
                  </a:lnTo>
                  <a:lnTo>
                    <a:pt x="4212" y="202"/>
                  </a:lnTo>
                  <a:lnTo>
                    <a:pt x="4170" y="265"/>
                  </a:lnTo>
                  <a:lnTo>
                    <a:pt x="4146" y="297"/>
                  </a:lnTo>
                  <a:lnTo>
                    <a:pt x="4121" y="330"/>
                  </a:lnTo>
                  <a:lnTo>
                    <a:pt x="4095" y="365"/>
                  </a:lnTo>
                  <a:lnTo>
                    <a:pt x="4067" y="400"/>
                  </a:lnTo>
                  <a:lnTo>
                    <a:pt x="4038" y="436"/>
                  </a:lnTo>
                  <a:lnTo>
                    <a:pt x="4007" y="472"/>
                  </a:lnTo>
                  <a:lnTo>
                    <a:pt x="3975" y="508"/>
                  </a:lnTo>
                  <a:lnTo>
                    <a:pt x="3943" y="542"/>
                  </a:lnTo>
                  <a:lnTo>
                    <a:pt x="3908" y="577"/>
                  </a:lnTo>
                  <a:lnTo>
                    <a:pt x="3872" y="612"/>
                  </a:lnTo>
                  <a:lnTo>
                    <a:pt x="3836" y="644"/>
                  </a:lnTo>
                  <a:lnTo>
                    <a:pt x="3799" y="676"/>
                  </a:lnTo>
                  <a:lnTo>
                    <a:pt x="3760" y="707"/>
                  </a:lnTo>
                  <a:lnTo>
                    <a:pt x="3720" y="736"/>
                  </a:lnTo>
                  <a:lnTo>
                    <a:pt x="3679" y="762"/>
                  </a:lnTo>
                  <a:lnTo>
                    <a:pt x="3638" y="787"/>
                  </a:lnTo>
                  <a:lnTo>
                    <a:pt x="3596" y="809"/>
                  </a:lnTo>
                  <a:lnTo>
                    <a:pt x="3554" y="829"/>
                  </a:lnTo>
                  <a:lnTo>
                    <a:pt x="3511" y="846"/>
                  </a:lnTo>
                  <a:lnTo>
                    <a:pt x="3466" y="860"/>
                  </a:lnTo>
                  <a:lnTo>
                    <a:pt x="3442" y="860"/>
                  </a:lnTo>
                  <a:lnTo>
                    <a:pt x="3373" y="861"/>
                  </a:lnTo>
                  <a:lnTo>
                    <a:pt x="3265" y="863"/>
                  </a:lnTo>
                  <a:lnTo>
                    <a:pt x="3123" y="865"/>
                  </a:lnTo>
                  <a:lnTo>
                    <a:pt x="2954" y="867"/>
                  </a:lnTo>
                  <a:lnTo>
                    <a:pt x="2764" y="869"/>
                  </a:lnTo>
                  <a:lnTo>
                    <a:pt x="2558" y="870"/>
                  </a:lnTo>
                  <a:lnTo>
                    <a:pt x="2343" y="870"/>
                  </a:lnTo>
                  <a:lnTo>
                    <a:pt x="2125" y="870"/>
                  </a:lnTo>
                  <a:lnTo>
                    <a:pt x="1909" y="867"/>
                  </a:lnTo>
                  <a:lnTo>
                    <a:pt x="1700" y="865"/>
                  </a:lnTo>
                  <a:lnTo>
                    <a:pt x="1505" y="860"/>
                  </a:lnTo>
                  <a:lnTo>
                    <a:pt x="1414" y="856"/>
                  </a:lnTo>
                  <a:lnTo>
                    <a:pt x="1330" y="853"/>
                  </a:lnTo>
                  <a:lnTo>
                    <a:pt x="1252" y="848"/>
                  </a:lnTo>
                  <a:lnTo>
                    <a:pt x="1181" y="843"/>
                  </a:lnTo>
                  <a:lnTo>
                    <a:pt x="1119" y="838"/>
                  </a:lnTo>
                  <a:lnTo>
                    <a:pt x="1064" y="832"/>
                  </a:lnTo>
                  <a:lnTo>
                    <a:pt x="1020" y="824"/>
                  </a:lnTo>
                  <a:lnTo>
                    <a:pt x="985" y="817"/>
                  </a:lnTo>
                  <a:lnTo>
                    <a:pt x="976" y="813"/>
                  </a:lnTo>
                  <a:lnTo>
                    <a:pt x="951" y="803"/>
                  </a:lnTo>
                  <a:lnTo>
                    <a:pt x="912" y="786"/>
                  </a:lnTo>
                  <a:lnTo>
                    <a:pt x="861" y="762"/>
                  </a:lnTo>
                  <a:lnTo>
                    <a:pt x="800" y="732"/>
                  </a:lnTo>
                  <a:lnTo>
                    <a:pt x="730" y="695"/>
                  </a:lnTo>
                  <a:lnTo>
                    <a:pt x="693" y="675"/>
                  </a:lnTo>
                  <a:lnTo>
                    <a:pt x="653" y="654"/>
                  </a:lnTo>
                  <a:lnTo>
                    <a:pt x="614" y="631"/>
                  </a:lnTo>
                  <a:lnTo>
                    <a:pt x="574" y="606"/>
                  </a:lnTo>
                  <a:lnTo>
                    <a:pt x="532" y="580"/>
                  </a:lnTo>
                  <a:lnTo>
                    <a:pt x="491" y="552"/>
                  </a:lnTo>
                  <a:lnTo>
                    <a:pt x="448" y="524"/>
                  </a:lnTo>
                  <a:lnTo>
                    <a:pt x="406" y="494"/>
                  </a:lnTo>
                  <a:lnTo>
                    <a:pt x="365" y="462"/>
                  </a:lnTo>
                  <a:lnTo>
                    <a:pt x="324" y="430"/>
                  </a:lnTo>
                  <a:lnTo>
                    <a:pt x="283" y="396"/>
                  </a:lnTo>
                  <a:lnTo>
                    <a:pt x="245" y="360"/>
                  </a:lnTo>
                  <a:lnTo>
                    <a:pt x="207" y="324"/>
                  </a:lnTo>
                  <a:lnTo>
                    <a:pt x="170" y="287"/>
                  </a:lnTo>
                  <a:lnTo>
                    <a:pt x="137" y="248"/>
                  </a:lnTo>
                  <a:lnTo>
                    <a:pt x="104" y="209"/>
                  </a:lnTo>
                  <a:lnTo>
                    <a:pt x="73" y="168"/>
                  </a:lnTo>
                  <a:lnTo>
                    <a:pt x="46" y="126"/>
                  </a:lnTo>
                  <a:lnTo>
                    <a:pt x="21" y="8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4361040" y="5546880"/>
              <a:ext cx="1755720" cy="374400"/>
            </a:xfrm>
            <a:custGeom>
              <a:avLst/>
              <a:gdLst/>
              <a:ahLst/>
              <a:rect l="l" t="t" r="r" b="b"/>
              <a:pathLst>
                <a:path w="4425" h="942">
                  <a:moveTo>
                    <a:pt x="55" y="39"/>
                  </a:moveTo>
                  <a:lnTo>
                    <a:pt x="0" y="40"/>
                  </a:lnTo>
                  <a:lnTo>
                    <a:pt x="23" y="90"/>
                  </a:lnTo>
                  <a:lnTo>
                    <a:pt x="45" y="134"/>
                  </a:lnTo>
                  <a:lnTo>
                    <a:pt x="70" y="178"/>
                  </a:lnTo>
                  <a:lnTo>
                    <a:pt x="98" y="220"/>
                  </a:lnTo>
                  <a:lnTo>
                    <a:pt x="128" y="262"/>
                  </a:lnTo>
                  <a:lnTo>
                    <a:pt x="160" y="302"/>
                  </a:lnTo>
                  <a:lnTo>
                    <a:pt x="195" y="341"/>
                  </a:lnTo>
                  <a:lnTo>
                    <a:pt x="231" y="379"/>
                  </a:lnTo>
                  <a:lnTo>
                    <a:pt x="268" y="416"/>
                  </a:lnTo>
                  <a:lnTo>
                    <a:pt x="307" y="451"/>
                  </a:lnTo>
                  <a:lnTo>
                    <a:pt x="347" y="485"/>
                  </a:lnTo>
                  <a:lnTo>
                    <a:pt x="388" y="519"/>
                  </a:lnTo>
                  <a:lnTo>
                    <a:pt x="429" y="550"/>
                  </a:lnTo>
                  <a:lnTo>
                    <a:pt x="471" y="581"/>
                  </a:lnTo>
                  <a:lnTo>
                    <a:pt x="513" y="609"/>
                  </a:lnTo>
                  <a:lnTo>
                    <a:pt x="554" y="638"/>
                  </a:lnTo>
                  <a:lnTo>
                    <a:pt x="596" y="664"/>
                  </a:lnTo>
                  <a:lnTo>
                    <a:pt x="636" y="689"/>
                  </a:lnTo>
                  <a:lnTo>
                    <a:pt x="677" y="712"/>
                  </a:lnTo>
                  <a:lnTo>
                    <a:pt x="715" y="735"/>
                  </a:lnTo>
                  <a:lnTo>
                    <a:pt x="754" y="756"/>
                  </a:lnTo>
                  <a:lnTo>
                    <a:pt x="825" y="793"/>
                  </a:lnTo>
                  <a:lnTo>
                    <a:pt x="888" y="824"/>
                  </a:lnTo>
                  <a:lnTo>
                    <a:pt x="941" y="849"/>
                  </a:lnTo>
                  <a:lnTo>
                    <a:pt x="984" y="868"/>
                  </a:lnTo>
                  <a:lnTo>
                    <a:pt x="1014" y="880"/>
                  </a:lnTo>
                  <a:lnTo>
                    <a:pt x="1027" y="886"/>
                  </a:lnTo>
                  <a:lnTo>
                    <a:pt x="1062" y="894"/>
                  </a:lnTo>
                  <a:lnTo>
                    <a:pt x="1107" y="901"/>
                  </a:lnTo>
                  <a:lnTo>
                    <a:pt x="1161" y="907"/>
                  </a:lnTo>
                  <a:lnTo>
                    <a:pt x="1223" y="913"/>
                  </a:lnTo>
                  <a:lnTo>
                    <a:pt x="1293" y="918"/>
                  </a:lnTo>
                  <a:lnTo>
                    <a:pt x="1369" y="922"/>
                  </a:lnTo>
                  <a:lnTo>
                    <a:pt x="1452" y="927"/>
                  </a:lnTo>
                  <a:lnTo>
                    <a:pt x="1540" y="930"/>
                  </a:lnTo>
                  <a:lnTo>
                    <a:pt x="1730" y="936"/>
                  </a:lnTo>
                  <a:lnTo>
                    <a:pt x="1935" y="939"/>
                  </a:lnTo>
                  <a:lnTo>
                    <a:pt x="2147" y="942"/>
                  </a:lnTo>
                  <a:lnTo>
                    <a:pt x="2362" y="942"/>
                  </a:lnTo>
                  <a:lnTo>
                    <a:pt x="2574" y="942"/>
                  </a:lnTo>
                  <a:lnTo>
                    <a:pt x="2779" y="941"/>
                  </a:lnTo>
                  <a:lnTo>
                    <a:pt x="2969" y="939"/>
                  </a:lnTo>
                  <a:lnTo>
                    <a:pt x="3141" y="937"/>
                  </a:lnTo>
                  <a:lnTo>
                    <a:pt x="3287" y="936"/>
                  </a:lnTo>
                  <a:lnTo>
                    <a:pt x="3404" y="933"/>
                  </a:lnTo>
                  <a:lnTo>
                    <a:pt x="3483" y="932"/>
                  </a:lnTo>
                  <a:lnTo>
                    <a:pt x="3523" y="931"/>
                  </a:lnTo>
                  <a:lnTo>
                    <a:pt x="3569" y="917"/>
                  </a:lnTo>
                  <a:lnTo>
                    <a:pt x="3614" y="900"/>
                  </a:lnTo>
                  <a:lnTo>
                    <a:pt x="3657" y="880"/>
                  </a:lnTo>
                  <a:lnTo>
                    <a:pt x="3701" y="858"/>
                  </a:lnTo>
                  <a:lnTo>
                    <a:pt x="3743" y="834"/>
                  </a:lnTo>
                  <a:lnTo>
                    <a:pt x="3785" y="807"/>
                  </a:lnTo>
                  <a:lnTo>
                    <a:pt x="3826" y="778"/>
                  </a:lnTo>
                  <a:lnTo>
                    <a:pt x="3865" y="747"/>
                  </a:lnTo>
                  <a:lnTo>
                    <a:pt x="3903" y="716"/>
                  </a:lnTo>
                  <a:lnTo>
                    <a:pt x="3942" y="683"/>
                  </a:lnTo>
                  <a:lnTo>
                    <a:pt x="3978" y="649"/>
                  </a:lnTo>
                  <a:lnTo>
                    <a:pt x="4012" y="614"/>
                  </a:lnTo>
                  <a:lnTo>
                    <a:pt x="4046" y="580"/>
                  </a:lnTo>
                  <a:lnTo>
                    <a:pt x="4079" y="544"/>
                  </a:lnTo>
                  <a:lnTo>
                    <a:pt x="4110" y="508"/>
                  </a:lnTo>
                  <a:lnTo>
                    <a:pt x="4140" y="472"/>
                  </a:lnTo>
                  <a:lnTo>
                    <a:pt x="4169" y="437"/>
                  </a:lnTo>
                  <a:lnTo>
                    <a:pt x="4196" y="402"/>
                  </a:lnTo>
                  <a:lnTo>
                    <a:pt x="4221" y="368"/>
                  </a:lnTo>
                  <a:lnTo>
                    <a:pt x="4246" y="334"/>
                  </a:lnTo>
                  <a:lnTo>
                    <a:pt x="4289" y="272"/>
                  </a:lnTo>
                  <a:lnTo>
                    <a:pt x="4327" y="216"/>
                  </a:lnTo>
                  <a:lnTo>
                    <a:pt x="4356" y="168"/>
                  </a:lnTo>
                  <a:lnTo>
                    <a:pt x="4379" y="131"/>
                  </a:lnTo>
                  <a:lnTo>
                    <a:pt x="4394" y="104"/>
                  </a:lnTo>
                  <a:lnTo>
                    <a:pt x="4401" y="91"/>
                  </a:lnTo>
                  <a:lnTo>
                    <a:pt x="4425" y="47"/>
                  </a:lnTo>
                  <a:lnTo>
                    <a:pt x="4375" y="39"/>
                  </a:lnTo>
                  <a:lnTo>
                    <a:pt x="4317" y="31"/>
                  </a:lnTo>
                  <a:lnTo>
                    <a:pt x="4241" y="25"/>
                  </a:lnTo>
                  <a:lnTo>
                    <a:pt x="4150" y="19"/>
                  </a:lnTo>
                  <a:lnTo>
                    <a:pt x="4043" y="14"/>
                  </a:lnTo>
                  <a:lnTo>
                    <a:pt x="3924" y="10"/>
                  </a:lnTo>
                  <a:lnTo>
                    <a:pt x="3794" y="6"/>
                  </a:lnTo>
                  <a:lnTo>
                    <a:pt x="3651" y="4"/>
                  </a:lnTo>
                  <a:lnTo>
                    <a:pt x="3498" y="3"/>
                  </a:lnTo>
                  <a:lnTo>
                    <a:pt x="3169" y="0"/>
                  </a:lnTo>
                  <a:lnTo>
                    <a:pt x="2817" y="0"/>
                  </a:lnTo>
                  <a:lnTo>
                    <a:pt x="2448" y="3"/>
                  </a:lnTo>
                  <a:lnTo>
                    <a:pt x="2074" y="5"/>
                  </a:lnTo>
                  <a:lnTo>
                    <a:pt x="1705" y="10"/>
                  </a:lnTo>
                  <a:lnTo>
                    <a:pt x="1350" y="15"/>
                  </a:lnTo>
                  <a:lnTo>
                    <a:pt x="1018" y="20"/>
                  </a:lnTo>
                  <a:lnTo>
                    <a:pt x="720" y="25"/>
                  </a:lnTo>
                  <a:lnTo>
                    <a:pt x="466" y="30"/>
                  </a:lnTo>
                  <a:lnTo>
                    <a:pt x="263" y="34"/>
                  </a:lnTo>
                  <a:lnTo>
                    <a:pt x="123" y="37"/>
                  </a:lnTo>
                  <a:lnTo>
                    <a:pt x="55" y="39"/>
                  </a:lnTo>
                  <a:close/>
                  <a:moveTo>
                    <a:pt x="4310" y="104"/>
                  </a:moveTo>
                  <a:lnTo>
                    <a:pt x="4290" y="137"/>
                  </a:lnTo>
                  <a:lnTo>
                    <a:pt x="4266" y="176"/>
                  </a:lnTo>
                  <a:lnTo>
                    <a:pt x="4236" y="222"/>
                  </a:lnTo>
                  <a:lnTo>
                    <a:pt x="4201" y="272"/>
                  </a:lnTo>
                  <a:lnTo>
                    <a:pt x="4163" y="327"/>
                  </a:lnTo>
                  <a:lnTo>
                    <a:pt x="4119" y="384"/>
                  </a:lnTo>
                  <a:lnTo>
                    <a:pt x="4097" y="412"/>
                  </a:lnTo>
                  <a:lnTo>
                    <a:pt x="4072" y="442"/>
                  </a:lnTo>
                  <a:lnTo>
                    <a:pt x="4047" y="470"/>
                  </a:lnTo>
                  <a:lnTo>
                    <a:pt x="4022" y="500"/>
                  </a:lnTo>
                  <a:lnTo>
                    <a:pt x="3995" y="530"/>
                  </a:lnTo>
                  <a:lnTo>
                    <a:pt x="3968" y="559"/>
                  </a:lnTo>
                  <a:lnTo>
                    <a:pt x="3939" y="587"/>
                  </a:lnTo>
                  <a:lnTo>
                    <a:pt x="3911" y="616"/>
                  </a:lnTo>
                  <a:lnTo>
                    <a:pt x="3881" y="643"/>
                  </a:lnTo>
                  <a:lnTo>
                    <a:pt x="3850" y="670"/>
                  </a:lnTo>
                  <a:lnTo>
                    <a:pt x="3819" y="695"/>
                  </a:lnTo>
                  <a:lnTo>
                    <a:pt x="3788" y="720"/>
                  </a:lnTo>
                  <a:lnTo>
                    <a:pt x="3754" y="743"/>
                  </a:lnTo>
                  <a:lnTo>
                    <a:pt x="3722" y="766"/>
                  </a:lnTo>
                  <a:lnTo>
                    <a:pt x="3688" y="786"/>
                  </a:lnTo>
                  <a:lnTo>
                    <a:pt x="3653" y="804"/>
                  </a:lnTo>
                  <a:lnTo>
                    <a:pt x="3619" y="822"/>
                  </a:lnTo>
                  <a:lnTo>
                    <a:pt x="3584" y="837"/>
                  </a:lnTo>
                  <a:lnTo>
                    <a:pt x="3549" y="850"/>
                  </a:lnTo>
                  <a:lnTo>
                    <a:pt x="3513" y="861"/>
                  </a:lnTo>
                  <a:lnTo>
                    <a:pt x="3487" y="861"/>
                  </a:lnTo>
                  <a:lnTo>
                    <a:pt x="3416" y="863"/>
                  </a:lnTo>
                  <a:lnTo>
                    <a:pt x="3307" y="864"/>
                  </a:lnTo>
                  <a:lnTo>
                    <a:pt x="3165" y="866"/>
                  </a:lnTo>
                  <a:lnTo>
                    <a:pt x="2998" y="868"/>
                  </a:lnTo>
                  <a:lnTo>
                    <a:pt x="2809" y="869"/>
                  </a:lnTo>
                  <a:lnTo>
                    <a:pt x="2604" y="870"/>
                  </a:lnTo>
                  <a:lnTo>
                    <a:pt x="2392" y="871"/>
                  </a:lnTo>
                  <a:lnTo>
                    <a:pt x="2175" y="870"/>
                  </a:lnTo>
                  <a:lnTo>
                    <a:pt x="1961" y="869"/>
                  </a:lnTo>
                  <a:lnTo>
                    <a:pt x="1755" y="865"/>
                  </a:lnTo>
                  <a:lnTo>
                    <a:pt x="1562" y="860"/>
                  </a:lnTo>
                  <a:lnTo>
                    <a:pt x="1473" y="856"/>
                  </a:lnTo>
                  <a:lnTo>
                    <a:pt x="1390" y="853"/>
                  </a:lnTo>
                  <a:lnTo>
                    <a:pt x="1313" y="849"/>
                  </a:lnTo>
                  <a:lnTo>
                    <a:pt x="1243" y="844"/>
                  </a:lnTo>
                  <a:lnTo>
                    <a:pt x="1181" y="839"/>
                  </a:lnTo>
                  <a:lnTo>
                    <a:pt x="1128" y="833"/>
                  </a:lnTo>
                  <a:lnTo>
                    <a:pt x="1084" y="825"/>
                  </a:lnTo>
                  <a:lnTo>
                    <a:pt x="1050" y="818"/>
                  </a:lnTo>
                  <a:lnTo>
                    <a:pt x="1041" y="814"/>
                  </a:lnTo>
                  <a:lnTo>
                    <a:pt x="1018" y="804"/>
                  </a:lnTo>
                  <a:lnTo>
                    <a:pt x="982" y="788"/>
                  </a:lnTo>
                  <a:lnTo>
                    <a:pt x="937" y="767"/>
                  </a:lnTo>
                  <a:lnTo>
                    <a:pt x="879" y="738"/>
                  </a:lnTo>
                  <a:lnTo>
                    <a:pt x="816" y="706"/>
                  </a:lnTo>
                  <a:lnTo>
                    <a:pt x="747" y="667"/>
                  </a:lnTo>
                  <a:lnTo>
                    <a:pt x="672" y="623"/>
                  </a:lnTo>
                  <a:lnTo>
                    <a:pt x="634" y="600"/>
                  </a:lnTo>
                  <a:lnTo>
                    <a:pt x="595" y="575"/>
                  </a:lnTo>
                  <a:lnTo>
                    <a:pt x="555" y="549"/>
                  </a:lnTo>
                  <a:lnTo>
                    <a:pt x="517" y="521"/>
                  </a:lnTo>
                  <a:lnTo>
                    <a:pt x="477" y="493"/>
                  </a:lnTo>
                  <a:lnTo>
                    <a:pt x="439" y="463"/>
                  </a:lnTo>
                  <a:lnTo>
                    <a:pt x="401" y="432"/>
                  </a:lnTo>
                  <a:lnTo>
                    <a:pt x="364" y="400"/>
                  </a:lnTo>
                  <a:lnTo>
                    <a:pt x="327" y="368"/>
                  </a:lnTo>
                  <a:lnTo>
                    <a:pt x="292" y="333"/>
                  </a:lnTo>
                  <a:lnTo>
                    <a:pt x="259" y="298"/>
                  </a:lnTo>
                  <a:lnTo>
                    <a:pt x="226" y="262"/>
                  </a:lnTo>
                  <a:lnTo>
                    <a:pt x="196" y="225"/>
                  </a:lnTo>
                  <a:lnTo>
                    <a:pt x="168" y="188"/>
                  </a:lnTo>
                  <a:lnTo>
                    <a:pt x="142" y="148"/>
                  </a:lnTo>
                  <a:lnTo>
                    <a:pt x="118" y="108"/>
                  </a:lnTo>
                  <a:lnTo>
                    <a:pt x="236" y="106"/>
                  </a:lnTo>
                  <a:lnTo>
                    <a:pt x="408" y="103"/>
                  </a:lnTo>
                  <a:lnTo>
                    <a:pt x="627" y="98"/>
                  </a:lnTo>
                  <a:lnTo>
                    <a:pt x="886" y="95"/>
                  </a:lnTo>
                  <a:lnTo>
                    <a:pt x="1176" y="90"/>
                  </a:lnTo>
                  <a:lnTo>
                    <a:pt x="1490" y="85"/>
                  </a:lnTo>
                  <a:lnTo>
                    <a:pt x="1822" y="80"/>
                  </a:lnTo>
                  <a:lnTo>
                    <a:pt x="2162" y="77"/>
                  </a:lnTo>
                  <a:lnTo>
                    <a:pt x="2505" y="73"/>
                  </a:lnTo>
                  <a:lnTo>
                    <a:pt x="2841" y="72"/>
                  </a:lnTo>
                  <a:lnTo>
                    <a:pt x="3164" y="72"/>
                  </a:lnTo>
                  <a:lnTo>
                    <a:pt x="3466" y="75"/>
                  </a:lnTo>
                  <a:lnTo>
                    <a:pt x="3606" y="76"/>
                  </a:lnTo>
                  <a:lnTo>
                    <a:pt x="3739" y="78"/>
                  </a:lnTo>
                  <a:lnTo>
                    <a:pt x="3862" y="81"/>
                  </a:lnTo>
                  <a:lnTo>
                    <a:pt x="3975" y="85"/>
                  </a:lnTo>
                  <a:lnTo>
                    <a:pt x="4078" y="88"/>
                  </a:lnTo>
                  <a:lnTo>
                    <a:pt x="4169" y="93"/>
                  </a:lnTo>
                  <a:lnTo>
                    <a:pt x="4246" y="98"/>
                  </a:lnTo>
                  <a:lnTo>
                    <a:pt x="4310" y="10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73600" y="5884920"/>
              <a:ext cx="984240" cy="1206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4759200" y="5870520"/>
              <a:ext cx="1013040" cy="149400"/>
            </a:xfrm>
            <a:custGeom>
              <a:avLst/>
              <a:gdLst/>
              <a:ahLst/>
              <a:rect l="l" t="t" r="r" b="b"/>
              <a:pathLst>
                <a:path w="2553" h="373">
                  <a:moveTo>
                    <a:pt x="2517" y="0"/>
                  </a:moveTo>
                  <a:lnTo>
                    <a:pt x="0" y="0"/>
                  </a:lnTo>
                  <a:lnTo>
                    <a:pt x="0" y="373"/>
                  </a:lnTo>
                  <a:lnTo>
                    <a:pt x="2553" y="373"/>
                  </a:lnTo>
                  <a:lnTo>
                    <a:pt x="2553" y="0"/>
                  </a:lnTo>
                  <a:lnTo>
                    <a:pt x="2517" y="0"/>
                  </a:lnTo>
                  <a:close/>
                  <a:moveTo>
                    <a:pt x="2482" y="72"/>
                  </a:moveTo>
                  <a:lnTo>
                    <a:pt x="2482" y="93"/>
                  </a:lnTo>
                  <a:lnTo>
                    <a:pt x="2482" y="121"/>
                  </a:lnTo>
                  <a:lnTo>
                    <a:pt x="2482" y="152"/>
                  </a:lnTo>
                  <a:lnTo>
                    <a:pt x="2482" y="187"/>
                  </a:lnTo>
                  <a:lnTo>
                    <a:pt x="2482" y="220"/>
                  </a:lnTo>
                  <a:lnTo>
                    <a:pt x="2482" y="253"/>
                  </a:lnTo>
                  <a:lnTo>
                    <a:pt x="2482" y="280"/>
                  </a:lnTo>
                  <a:lnTo>
                    <a:pt x="2482" y="302"/>
                  </a:lnTo>
                  <a:lnTo>
                    <a:pt x="2444" y="302"/>
                  </a:lnTo>
                  <a:lnTo>
                    <a:pt x="2362" y="302"/>
                  </a:lnTo>
                  <a:lnTo>
                    <a:pt x="2240" y="302"/>
                  </a:lnTo>
                  <a:lnTo>
                    <a:pt x="2086" y="302"/>
                  </a:lnTo>
                  <a:lnTo>
                    <a:pt x="1906" y="302"/>
                  </a:lnTo>
                  <a:lnTo>
                    <a:pt x="1707" y="302"/>
                  </a:lnTo>
                  <a:lnTo>
                    <a:pt x="1495" y="302"/>
                  </a:lnTo>
                  <a:lnTo>
                    <a:pt x="1276" y="302"/>
                  </a:lnTo>
                  <a:lnTo>
                    <a:pt x="1058" y="302"/>
                  </a:lnTo>
                  <a:lnTo>
                    <a:pt x="845" y="302"/>
                  </a:lnTo>
                  <a:lnTo>
                    <a:pt x="647" y="302"/>
                  </a:lnTo>
                  <a:lnTo>
                    <a:pt x="467" y="302"/>
                  </a:lnTo>
                  <a:lnTo>
                    <a:pt x="313" y="302"/>
                  </a:lnTo>
                  <a:lnTo>
                    <a:pt x="191" y="302"/>
                  </a:lnTo>
                  <a:lnTo>
                    <a:pt x="109" y="302"/>
                  </a:lnTo>
                  <a:lnTo>
                    <a:pt x="71" y="302"/>
                  </a:lnTo>
                  <a:lnTo>
                    <a:pt x="71" y="280"/>
                  </a:lnTo>
                  <a:lnTo>
                    <a:pt x="71" y="253"/>
                  </a:lnTo>
                  <a:lnTo>
                    <a:pt x="71" y="220"/>
                  </a:lnTo>
                  <a:lnTo>
                    <a:pt x="71" y="187"/>
                  </a:lnTo>
                  <a:lnTo>
                    <a:pt x="71" y="152"/>
                  </a:lnTo>
                  <a:lnTo>
                    <a:pt x="71" y="121"/>
                  </a:lnTo>
                  <a:lnTo>
                    <a:pt x="71" y="93"/>
                  </a:lnTo>
                  <a:lnTo>
                    <a:pt x="71" y="72"/>
                  </a:lnTo>
                  <a:lnTo>
                    <a:pt x="109" y="72"/>
                  </a:lnTo>
                  <a:lnTo>
                    <a:pt x="191" y="72"/>
                  </a:lnTo>
                  <a:lnTo>
                    <a:pt x="313" y="72"/>
                  </a:lnTo>
                  <a:lnTo>
                    <a:pt x="467" y="72"/>
                  </a:lnTo>
                  <a:lnTo>
                    <a:pt x="647" y="72"/>
                  </a:lnTo>
                  <a:lnTo>
                    <a:pt x="845" y="72"/>
                  </a:lnTo>
                  <a:lnTo>
                    <a:pt x="1058" y="72"/>
                  </a:lnTo>
                  <a:lnTo>
                    <a:pt x="1276" y="72"/>
                  </a:lnTo>
                  <a:lnTo>
                    <a:pt x="1495" y="72"/>
                  </a:lnTo>
                  <a:lnTo>
                    <a:pt x="1707" y="72"/>
                  </a:lnTo>
                  <a:lnTo>
                    <a:pt x="1906" y="72"/>
                  </a:lnTo>
                  <a:lnTo>
                    <a:pt x="2086" y="72"/>
                  </a:lnTo>
                  <a:lnTo>
                    <a:pt x="2240" y="72"/>
                  </a:lnTo>
                  <a:lnTo>
                    <a:pt x="2362" y="72"/>
                  </a:lnTo>
                  <a:lnTo>
                    <a:pt x="2444" y="72"/>
                  </a:lnTo>
                  <a:lnTo>
                    <a:pt x="2482" y="7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4406760" y="5584680"/>
              <a:ext cx="1663920" cy="277920"/>
            </a:xfrm>
            <a:custGeom>
              <a:avLst/>
              <a:gdLst/>
              <a:ahLst/>
              <a:rect l="l" t="t" r="r" b="b"/>
              <a:pathLst>
                <a:path w="4193" h="704">
                  <a:moveTo>
                    <a:pt x="0" y="0"/>
                  </a:moveTo>
                  <a:lnTo>
                    <a:pt x="1399" y="40"/>
                  </a:lnTo>
                  <a:lnTo>
                    <a:pt x="1433" y="61"/>
                  </a:lnTo>
                  <a:lnTo>
                    <a:pt x="1525" y="117"/>
                  </a:lnTo>
                  <a:lnTo>
                    <a:pt x="1586" y="155"/>
                  </a:lnTo>
                  <a:lnTo>
                    <a:pt x="1653" y="199"/>
                  </a:lnTo>
                  <a:lnTo>
                    <a:pt x="1727" y="246"/>
                  </a:lnTo>
                  <a:lnTo>
                    <a:pt x="1801" y="297"/>
                  </a:lnTo>
                  <a:lnTo>
                    <a:pt x="1874" y="348"/>
                  </a:lnTo>
                  <a:lnTo>
                    <a:pt x="1946" y="401"/>
                  </a:lnTo>
                  <a:lnTo>
                    <a:pt x="1981" y="427"/>
                  </a:lnTo>
                  <a:lnTo>
                    <a:pt x="2013" y="452"/>
                  </a:lnTo>
                  <a:lnTo>
                    <a:pt x="2043" y="478"/>
                  </a:lnTo>
                  <a:lnTo>
                    <a:pt x="2072" y="502"/>
                  </a:lnTo>
                  <a:lnTo>
                    <a:pt x="2098" y="525"/>
                  </a:lnTo>
                  <a:lnTo>
                    <a:pt x="2121" y="549"/>
                  </a:lnTo>
                  <a:lnTo>
                    <a:pt x="2143" y="570"/>
                  </a:lnTo>
                  <a:lnTo>
                    <a:pt x="2159" y="591"/>
                  </a:lnTo>
                  <a:lnTo>
                    <a:pt x="2172" y="610"/>
                  </a:lnTo>
                  <a:lnTo>
                    <a:pt x="2181" y="627"/>
                  </a:lnTo>
                  <a:lnTo>
                    <a:pt x="2187" y="643"/>
                  </a:lnTo>
                  <a:lnTo>
                    <a:pt x="2187" y="657"/>
                  </a:lnTo>
                  <a:lnTo>
                    <a:pt x="2185" y="704"/>
                  </a:lnTo>
                  <a:lnTo>
                    <a:pt x="3423" y="704"/>
                  </a:lnTo>
                  <a:lnTo>
                    <a:pt x="3448" y="693"/>
                  </a:lnTo>
                  <a:lnTo>
                    <a:pt x="3513" y="660"/>
                  </a:lnTo>
                  <a:lnTo>
                    <a:pt x="3558" y="636"/>
                  </a:lnTo>
                  <a:lnTo>
                    <a:pt x="3609" y="606"/>
                  </a:lnTo>
                  <a:lnTo>
                    <a:pt x="3666" y="571"/>
                  </a:lnTo>
                  <a:lnTo>
                    <a:pt x="3727" y="530"/>
                  </a:lnTo>
                  <a:lnTo>
                    <a:pt x="3758" y="508"/>
                  </a:lnTo>
                  <a:lnTo>
                    <a:pt x="3790" y="484"/>
                  </a:lnTo>
                  <a:lnTo>
                    <a:pt x="3821" y="458"/>
                  </a:lnTo>
                  <a:lnTo>
                    <a:pt x="3854" y="432"/>
                  </a:lnTo>
                  <a:lnTo>
                    <a:pt x="3886" y="405"/>
                  </a:lnTo>
                  <a:lnTo>
                    <a:pt x="3918" y="375"/>
                  </a:lnTo>
                  <a:lnTo>
                    <a:pt x="3950" y="345"/>
                  </a:lnTo>
                  <a:lnTo>
                    <a:pt x="3982" y="313"/>
                  </a:lnTo>
                  <a:lnTo>
                    <a:pt x="4011" y="281"/>
                  </a:lnTo>
                  <a:lnTo>
                    <a:pt x="4041" y="246"/>
                  </a:lnTo>
                  <a:lnTo>
                    <a:pt x="4070" y="210"/>
                  </a:lnTo>
                  <a:lnTo>
                    <a:pt x="4097" y="173"/>
                  </a:lnTo>
                  <a:lnTo>
                    <a:pt x="4124" y="134"/>
                  </a:lnTo>
                  <a:lnTo>
                    <a:pt x="4148" y="95"/>
                  </a:lnTo>
                  <a:lnTo>
                    <a:pt x="4172" y="54"/>
                  </a:lnTo>
                  <a:lnTo>
                    <a:pt x="419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4800600" y="5891040"/>
              <a:ext cx="954000" cy="108000"/>
            </a:xfrm>
            <a:custGeom>
              <a:avLst/>
              <a:gdLst/>
              <a:ahLst/>
              <a:rect l="l" t="t" r="r" b="b"/>
              <a:pathLst>
                <a:path w="2405" h="272">
                  <a:moveTo>
                    <a:pt x="1189" y="37"/>
                  </a:moveTo>
                  <a:lnTo>
                    <a:pt x="1179" y="39"/>
                  </a:lnTo>
                  <a:lnTo>
                    <a:pt x="1152" y="47"/>
                  </a:lnTo>
                  <a:lnTo>
                    <a:pt x="1109" y="59"/>
                  </a:lnTo>
                  <a:lnTo>
                    <a:pt x="1051" y="74"/>
                  </a:lnTo>
                  <a:lnTo>
                    <a:pt x="983" y="91"/>
                  </a:lnTo>
                  <a:lnTo>
                    <a:pt x="906" y="111"/>
                  </a:lnTo>
                  <a:lnTo>
                    <a:pt x="822" y="131"/>
                  </a:lnTo>
                  <a:lnTo>
                    <a:pt x="734" y="152"/>
                  </a:lnTo>
                  <a:lnTo>
                    <a:pt x="643" y="172"/>
                  </a:lnTo>
                  <a:lnTo>
                    <a:pt x="552" y="192"/>
                  </a:lnTo>
                  <a:lnTo>
                    <a:pt x="463" y="208"/>
                  </a:lnTo>
                  <a:lnTo>
                    <a:pt x="378" y="223"/>
                  </a:lnTo>
                  <a:lnTo>
                    <a:pt x="339" y="229"/>
                  </a:lnTo>
                  <a:lnTo>
                    <a:pt x="300" y="234"/>
                  </a:lnTo>
                  <a:lnTo>
                    <a:pt x="264" y="238"/>
                  </a:lnTo>
                  <a:lnTo>
                    <a:pt x="231" y="240"/>
                  </a:lnTo>
                  <a:lnTo>
                    <a:pt x="201" y="241"/>
                  </a:lnTo>
                  <a:lnTo>
                    <a:pt x="172" y="241"/>
                  </a:lnTo>
                  <a:lnTo>
                    <a:pt x="149" y="240"/>
                  </a:lnTo>
                  <a:lnTo>
                    <a:pt x="128" y="236"/>
                  </a:lnTo>
                  <a:lnTo>
                    <a:pt x="0" y="263"/>
                  </a:lnTo>
                  <a:lnTo>
                    <a:pt x="2396" y="272"/>
                  </a:lnTo>
                  <a:lnTo>
                    <a:pt x="2405" y="0"/>
                  </a:lnTo>
                  <a:lnTo>
                    <a:pt x="1189" y="3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6143760" y="5111640"/>
              <a:ext cx="1242720" cy="515880"/>
            </a:xfrm>
            <a:custGeom>
              <a:avLst/>
              <a:gdLst/>
              <a:ahLst/>
              <a:rect l="l" t="t" r="r" b="b"/>
              <a:pathLst>
                <a:path w="3133" h="1303">
                  <a:moveTo>
                    <a:pt x="0" y="1134"/>
                  </a:moveTo>
                  <a:lnTo>
                    <a:pt x="12" y="1116"/>
                  </a:lnTo>
                  <a:lnTo>
                    <a:pt x="47" y="1061"/>
                  </a:lnTo>
                  <a:lnTo>
                    <a:pt x="72" y="1024"/>
                  </a:lnTo>
                  <a:lnTo>
                    <a:pt x="103" y="980"/>
                  </a:lnTo>
                  <a:lnTo>
                    <a:pt x="139" y="931"/>
                  </a:lnTo>
                  <a:lnTo>
                    <a:pt x="181" y="877"/>
                  </a:lnTo>
                  <a:lnTo>
                    <a:pt x="227" y="819"/>
                  </a:lnTo>
                  <a:lnTo>
                    <a:pt x="277" y="758"/>
                  </a:lnTo>
                  <a:lnTo>
                    <a:pt x="332" y="695"/>
                  </a:lnTo>
                  <a:lnTo>
                    <a:pt x="392" y="631"/>
                  </a:lnTo>
                  <a:lnTo>
                    <a:pt x="457" y="566"/>
                  </a:lnTo>
                  <a:lnTo>
                    <a:pt x="525" y="500"/>
                  </a:lnTo>
                  <a:lnTo>
                    <a:pt x="598" y="436"/>
                  </a:lnTo>
                  <a:lnTo>
                    <a:pt x="675" y="372"/>
                  </a:lnTo>
                  <a:lnTo>
                    <a:pt x="755" y="312"/>
                  </a:lnTo>
                  <a:lnTo>
                    <a:pt x="839" y="255"/>
                  </a:lnTo>
                  <a:lnTo>
                    <a:pt x="926" y="201"/>
                  </a:lnTo>
                  <a:lnTo>
                    <a:pt x="1018" y="152"/>
                  </a:lnTo>
                  <a:lnTo>
                    <a:pt x="1112" y="108"/>
                  </a:lnTo>
                  <a:lnTo>
                    <a:pt x="1209" y="71"/>
                  </a:lnTo>
                  <a:lnTo>
                    <a:pt x="1310" y="41"/>
                  </a:lnTo>
                  <a:lnTo>
                    <a:pt x="1413" y="19"/>
                  </a:lnTo>
                  <a:lnTo>
                    <a:pt x="1518" y="5"/>
                  </a:lnTo>
                  <a:lnTo>
                    <a:pt x="1628" y="0"/>
                  </a:lnTo>
                  <a:lnTo>
                    <a:pt x="1738" y="6"/>
                  </a:lnTo>
                  <a:lnTo>
                    <a:pt x="1851" y="24"/>
                  </a:lnTo>
                  <a:lnTo>
                    <a:pt x="1967" y="52"/>
                  </a:lnTo>
                  <a:lnTo>
                    <a:pt x="2085" y="93"/>
                  </a:lnTo>
                  <a:lnTo>
                    <a:pt x="2204" y="147"/>
                  </a:lnTo>
                  <a:lnTo>
                    <a:pt x="2324" y="215"/>
                  </a:lnTo>
                  <a:lnTo>
                    <a:pt x="2334" y="224"/>
                  </a:lnTo>
                  <a:lnTo>
                    <a:pt x="2360" y="247"/>
                  </a:lnTo>
                  <a:lnTo>
                    <a:pt x="2402" y="284"/>
                  </a:lnTo>
                  <a:lnTo>
                    <a:pt x="2456" y="333"/>
                  </a:lnTo>
                  <a:lnTo>
                    <a:pt x="2519" y="391"/>
                  </a:lnTo>
                  <a:lnTo>
                    <a:pt x="2590" y="459"/>
                  </a:lnTo>
                  <a:lnTo>
                    <a:pt x="2666" y="534"/>
                  </a:lnTo>
                  <a:lnTo>
                    <a:pt x="2743" y="613"/>
                  </a:lnTo>
                  <a:lnTo>
                    <a:pt x="2781" y="654"/>
                  </a:lnTo>
                  <a:lnTo>
                    <a:pt x="2820" y="696"/>
                  </a:lnTo>
                  <a:lnTo>
                    <a:pt x="2857" y="740"/>
                  </a:lnTo>
                  <a:lnTo>
                    <a:pt x="2894" y="782"/>
                  </a:lnTo>
                  <a:lnTo>
                    <a:pt x="2929" y="825"/>
                  </a:lnTo>
                  <a:lnTo>
                    <a:pt x="2962" y="869"/>
                  </a:lnTo>
                  <a:lnTo>
                    <a:pt x="2994" y="911"/>
                  </a:lnTo>
                  <a:lnTo>
                    <a:pt x="3022" y="953"/>
                  </a:lnTo>
                  <a:lnTo>
                    <a:pt x="3048" y="994"/>
                  </a:lnTo>
                  <a:lnTo>
                    <a:pt x="3072" y="1035"/>
                  </a:lnTo>
                  <a:lnTo>
                    <a:pt x="3092" y="1073"/>
                  </a:lnTo>
                  <a:lnTo>
                    <a:pt x="3109" y="1112"/>
                  </a:lnTo>
                  <a:lnTo>
                    <a:pt x="3121" y="1148"/>
                  </a:lnTo>
                  <a:lnTo>
                    <a:pt x="3129" y="1183"/>
                  </a:lnTo>
                  <a:lnTo>
                    <a:pt x="3133" y="1216"/>
                  </a:lnTo>
                  <a:lnTo>
                    <a:pt x="3131" y="1246"/>
                  </a:lnTo>
                  <a:lnTo>
                    <a:pt x="2975" y="1224"/>
                  </a:lnTo>
                  <a:lnTo>
                    <a:pt x="2967" y="1211"/>
                  </a:lnTo>
                  <a:lnTo>
                    <a:pt x="2948" y="1176"/>
                  </a:lnTo>
                  <a:lnTo>
                    <a:pt x="2914" y="1123"/>
                  </a:lnTo>
                  <a:lnTo>
                    <a:pt x="2871" y="1054"/>
                  </a:lnTo>
                  <a:lnTo>
                    <a:pt x="2817" y="973"/>
                  </a:lnTo>
                  <a:lnTo>
                    <a:pt x="2754" y="882"/>
                  </a:lnTo>
                  <a:lnTo>
                    <a:pt x="2719" y="835"/>
                  </a:lnTo>
                  <a:lnTo>
                    <a:pt x="2683" y="787"/>
                  </a:lnTo>
                  <a:lnTo>
                    <a:pt x="2645" y="738"/>
                  </a:lnTo>
                  <a:lnTo>
                    <a:pt x="2605" y="689"/>
                  </a:lnTo>
                  <a:lnTo>
                    <a:pt x="2564" y="640"/>
                  </a:lnTo>
                  <a:lnTo>
                    <a:pt x="2520" y="592"/>
                  </a:lnTo>
                  <a:lnTo>
                    <a:pt x="2477" y="546"/>
                  </a:lnTo>
                  <a:lnTo>
                    <a:pt x="2432" y="500"/>
                  </a:lnTo>
                  <a:lnTo>
                    <a:pt x="2386" y="458"/>
                  </a:lnTo>
                  <a:lnTo>
                    <a:pt x="2339" y="417"/>
                  </a:lnTo>
                  <a:lnTo>
                    <a:pt x="2291" y="380"/>
                  </a:lnTo>
                  <a:lnTo>
                    <a:pt x="2243" y="345"/>
                  </a:lnTo>
                  <a:lnTo>
                    <a:pt x="2194" y="314"/>
                  </a:lnTo>
                  <a:lnTo>
                    <a:pt x="2145" y="287"/>
                  </a:lnTo>
                  <a:lnTo>
                    <a:pt x="2096" y="266"/>
                  </a:lnTo>
                  <a:lnTo>
                    <a:pt x="2047" y="248"/>
                  </a:lnTo>
                  <a:lnTo>
                    <a:pt x="1998" y="236"/>
                  </a:lnTo>
                  <a:lnTo>
                    <a:pt x="1948" y="231"/>
                  </a:lnTo>
                  <a:lnTo>
                    <a:pt x="1900" y="231"/>
                  </a:lnTo>
                  <a:lnTo>
                    <a:pt x="1851" y="238"/>
                  </a:lnTo>
                  <a:lnTo>
                    <a:pt x="1839" y="238"/>
                  </a:lnTo>
                  <a:lnTo>
                    <a:pt x="1801" y="242"/>
                  </a:lnTo>
                  <a:lnTo>
                    <a:pt x="1744" y="250"/>
                  </a:lnTo>
                  <a:lnTo>
                    <a:pt x="1667" y="262"/>
                  </a:lnTo>
                  <a:lnTo>
                    <a:pt x="1623" y="272"/>
                  </a:lnTo>
                  <a:lnTo>
                    <a:pt x="1574" y="282"/>
                  </a:lnTo>
                  <a:lnTo>
                    <a:pt x="1523" y="294"/>
                  </a:lnTo>
                  <a:lnTo>
                    <a:pt x="1469" y="309"/>
                  </a:lnTo>
                  <a:lnTo>
                    <a:pt x="1410" y="327"/>
                  </a:lnTo>
                  <a:lnTo>
                    <a:pt x="1351" y="345"/>
                  </a:lnTo>
                  <a:lnTo>
                    <a:pt x="1290" y="368"/>
                  </a:lnTo>
                  <a:lnTo>
                    <a:pt x="1227" y="392"/>
                  </a:lnTo>
                  <a:lnTo>
                    <a:pt x="1161" y="421"/>
                  </a:lnTo>
                  <a:lnTo>
                    <a:pt x="1095" y="451"/>
                  </a:lnTo>
                  <a:lnTo>
                    <a:pt x="1029" y="485"/>
                  </a:lnTo>
                  <a:lnTo>
                    <a:pt x="962" y="523"/>
                  </a:lnTo>
                  <a:lnTo>
                    <a:pt x="895" y="565"/>
                  </a:lnTo>
                  <a:lnTo>
                    <a:pt x="828" y="609"/>
                  </a:lnTo>
                  <a:lnTo>
                    <a:pt x="762" y="658"/>
                  </a:lnTo>
                  <a:lnTo>
                    <a:pt x="696" y="711"/>
                  </a:lnTo>
                  <a:lnTo>
                    <a:pt x="632" y="768"/>
                  </a:lnTo>
                  <a:lnTo>
                    <a:pt x="570" y="830"/>
                  </a:lnTo>
                  <a:lnTo>
                    <a:pt x="509" y="896"/>
                  </a:lnTo>
                  <a:lnTo>
                    <a:pt x="450" y="968"/>
                  </a:lnTo>
                  <a:lnTo>
                    <a:pt x="395" y="1044"/>
                  </a:lnTo>
                  <a:lnTo>
                    <a:pt x="342" y="1124"/>
                  </a:lnTo>
                  <a:lnTo>
                    <a:pt x="293" y="1211"/>
                  </a:lnTo>
                  <a:lnTo>
                    <a:pt x="246" y="1303"/>
                  </a:lnTo>
                  <a:lnTo>
                    <a:pt x="0" y="113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6124680" y="5097600"/>
              <a:ext cx="1276200" cy="552240"/>
            </a:xfrm>
            <a:custGeom>
              <a:avLst/>
              <a:gdLst/>
              <a:ahLst/>
              <a:rect l="l" t="t" r="r" b="b"/>
              <a:pathLst>
                <a:path w="3217" h="1390">
                  <a:moveTo>
                    <a:pt x="1366" y="36"/>
                  </a:moveTo>
                  <a:lnTo>
                    <a:pt x="1293" y="57"/>
                  </a:lnTo>
                  <a:lnTo>
                    <a:pt x="1220" y="80"/>
                  </a:lnTo>
                  <a:lnTo>
                    <a:pt x="1150" y="107"/>
                  </a:lnTo>
                  <a:lnTo>
                    <a:pt x="1081" y="138"/>
                  </a:lnTo>
                  <a:lnTo>
                    <a:pt x="1014" y="172"/>
                  </a:lnTo>
                  <a:lnTo>
                    <a:pt x="948" y="208"/>
                  </a:lnTo>
                  <a:lnTo>
                    <a:pt x="885" y="246"/>
                  </a:lnTo>
                  <a:lnTo>
                    <a:pt x="824" y="287"/>
                  </a:lnTo>
                  <a:lnTo>
                    <a:pt x="763" y="330"/>
                  </a:lnTo>
                  <a:lnTo>
                    <a:pt x="706" y="373"/>
                  </a:lnTo>
                  <a:lnTo>
                    <a:pt x="650" y="418"/>
                  </a:lnTo>
                  <a:lnTo>
                    <a:pt x="595" y="464"/>
                  </a:lnTo>
                  <a:lnTo>
                    <a:pt x="544" y="511"/>
                  </a:lnTo>
                  <a:lnTo>
                    <a:pt x="495" y="558"/>
                  </a:lnTo>
                  <a:lnTo>
                    <a:pt x="447" y="605"/>
                  </a:lnTo>
                  <a:lnTo>
                    <a:pt x="402" y="652"/>
                  </a:lnTo>
                  <a:lnTo>
                    <a:pt x="359" y="698"/>
                  </a:lnTo>
                  <a:lnTo>
                    <a:pt x="318" y="744"/>
                  </a:lnTo>
                  <a:lnTo>
                    <a:pt x="280" y="789"/>
                  </a:lnTo>
                  <a:lnTo>
                    <a:pt x="244" y="832"/>
                  </a:lnTo>
                  <a:lnTo>
                    <a:pt x="210" y="874"/>
                  </a:lnTo>
                  <a:lnTo>
                    <a:pt x="179" y="914"/>
                  </a:lnTo>
                  <a:lnTo>
                    <a:pt x="152" y="952"/>
                  </a:lnTo>
                  <a:lnTo>
                    <a:pt x="126" y="987"/>
                  </a:lnTo>
                  <a:lnTo>
                    <a:pt x="82" y="1050"/>
                  </a:lnTo>
                  <a:lnTo>
                    <a:pt x="49" y="1099"/>
                  </a:lnTo>
                  <a:lnTo>
                    <a:pt x="28" y="1134"/>
                  </a:lnTo>
                  <a:lnTo>
                    <a:pt x="18" y="1150"/>
                  </a:lnTo>
                  <a:lnTo>
                    <a:pt x="0" y="1178"/>
                  </a:lnTo>
                  <a:lnTo>
                    <a:pt x="308" y="1390"/>
                  </a:lnTo>
                  <a:lnTo>
                    <a:pt x="326" y="1352"/>
                  </a:lnTo>
                  <a:lnTo>
                    <a:pt x="371" y="1264"/>
                  </a:lnTo>
                  <a:lnTo>
                    <a:pt x="419" y="1179"/>
                  </a:lnTo>
                  <a:lnTo>
                    <a:pt x="471" y="1101"/>
                  </a:lnTo>
                  <a:lnTo>
                    <a:pt x="524" y="1027"/>
                  </a:lnTo>
                  <a:lnTo>
                    <a:pt x="582" y="957"/>
                  </a:lnTo>
                  <a:lnTo>
                    <a:pt x="641" y="893"/>
                  </a:lnTo>
                  <a:lnTo>
                    <a:pt x="702" y="833"/>
                  </a:lnTo>
                  <a:lnTo>
                    <a:pt x="764" y="777"/>
                  </a:lnTo>
                  <a:lnTo>
                    <a:pt x="827" y="725"/>
                  </a:lnTo>
                  <a:lnTo>
                    <a:pt x="892" y="677"/>
                  </a:lnTo>
                  <a:lnTo>
                    <a:pt x="958" y="634"/>
                  </a:lnTo>
                  <a:lnTo>
                    <a:pt x="1022" y="593"/>
                  </a:lnTo>
                  <a:lnTo>
                    <a:pt x="1088" y="555"/>
                  </a:lnTo>
                  <a:lnTo>
                    <a:pt x="1153" y="522"/>
                  </a:lnTo>
                  <a:lnTo>
                    <a:pt x="1217" y="491"/>
                  </a:lnTo>
                  <a:lnTo>
                    <a:pt x="1282" y="464"/>
                  </a:lnTo>
                  <a:lnTo>
                    <a:pt x="1343" y="439"/>
                  </a:lnTo>
                  <a:lnTo>
                    <a:pt x="1404" y="418"/>
                  </a:lnTo>
                  <a:lnTo>
                    <a:pt x="1462" y="398"/>
                  </a:lnTo>
                  <a:lnTo>
                    <a:pt x="1519" y="380"/>
                  </a:lnTo>
                  <a:lnTo>
                    <a:pt x="1573" y="367"/>
                  </a:lnTo>
                  <a:lnTo>
                    <a:pt x="1623" y="353"/>
                  </a:lnTo>
                  <a:lnTo>
                    <a:pt x="1671" y="343"/>
                  </a:lnTo>
                  <a:lnTo>
                    <a:pt x="1715" y="333"/>
                  </a:lnTo>
                  <a:lnTo>
                    <a:pt x="1791" y="321"/>
                  </a:lnTo>
                  <a:lnTo>
                    <a:pt x="1849" y="312"/>
                  </a:lnTo>
                  <a:lnTo>
                    <a:pt x="1887" y="308"/>
                  </a:lnTo>
                  <a:lnTo>
                    <a:pt x="1902" y="307"/>
                  </a:lnTo>
                  <a:lnTo>
                    <a:pt x="1948" y="301"/>
                  </a:lnTo>
                  <a:lnTo>
                    <a:pt x="1993" y="301"/>
                  </a:lnTo>
                  <a:lnTo>
                    <a:pt x="2041" y="307"/>
                  </a:lnTo>
                  <a:lnTo>
                    <a:pt x="2088" y="318"/>
                  </a:lnTo>
                  <a:lnTo>
                    <a:pt x="2135" y="335"/>
                  </a:lnTo>
                  <a:lnTo>
                    <a:pt x="2182" y="357"/>
                  </a:lnTo>
                  <a:lnTo>
                    <a:pt x="2229" y="383"/>
                  </a:lnTo>
                  <a:lnTo>
                    <a:pt x="2275" y="413"/>
                  </a:lnTo>
                  <a:lnTo>
                    <a:pt x="2323" y="446"/>
                  </a:lnTo>
                  <a:lnTo>
                    <a:pt x="2368" y="483"/>
                  </a:lnTo>
                  <a:lnTo>
                    <a:pt x="2413" y="523"/>
                  </a:lnTo>
                  <a:lnTo>
                    <a:pt x="2458" y="564"/>
                  </a:lnTo>
                  <a:lnTo>
                    <a:pt x="2501" y="609"/>
                  </a:lnTo>
                  <a:lnTo>
                    <a:pt x="2545" y="653"/>
                  </a:lnTo>
                  <a:lnTo>
                    <a:pt x="2586" y="701"/>
                  </a:lnTo>
                  <a:lnTo>
                    <a:pt x="2627" y="748"/>
                  </a:lnTo>
                  <a:lnTo>
                    <a:pt x="2665" y="795"/>
                  </a:lnTo>
                  <a:lnTo>
                    <a:pt x="2703" y="843"/>
                  </a:lnTo>
                  <a:lnTo>
                    <a:pt x="2739" y="890"/>
                  </a:lnTo>
                  <a:lnTo>
                    <a:pt x="2772" y="936"/>
                  </a:lnTo>
                  <a:lnTo>
                    <a:pt x="2834" y="1024"/>
                  </a:lnTo>
                  <a:lnTo>
                    <a:pt x="2886" y="1105"/>
                  </a:lnTo>
                  <a:lnTo>
                    <a:pt x="2930" y="1173"/>
                  </a:lnTo>
                  <a:lnTo>
                    <a:pt x="2962" y="1227"/>
                  </a:lnTo>
                  <a:lnTo>
                    <a:pt x="2983" y="1261"/>
                  </a:lnTo>
                  <a:lnTo>
                    <a:pt x="2991" y="1275"/>
                  </a:lnTo>
                  <a:lnTo>
                    <a:pt x="2999" y="1291"/>
                  </a:lnTo>
                  <a:lnTo>
                    <a:pt x="3210" y="1321"/>
                  </a:lnTo>
                  <a:lnTo>
                    <a:pt x="3215" y="1285"/>
                  </a:lnTo>
                  <a:lnTo>
                    <a:pt x="3217" y="1254"/>
                  </a:lnTo>
                  <a:lnTo>
                    <a:pt x="3214" y="1220"/>
                  </a:lnTo>
                  <a:lnTo>
                    <a:pt x="3207" y="1186"/>
                  </a:lnTo>
                  <a:lnTo>
                    <a:pt x="3195" y="1150"/>
                  </a:lnTo>
                  <a:lnTo>
                    <a:pt x="3181" y="1111"/>
                  </a:lnTo>
                  <a:lnTo>
                    <a:pt x="3162" y="1073"/>
                  </a:lnTo>
                  <a:lnTo>
                    <a:pt x="3141" y="1033"/>
                  </a:lnTo>
                  <a:lnTo>
                    <a:pt x="3117" y="992"/>
                  </a:lnTo>
                  <a:lnTo>
                    <a:pt x="3090" y="951"/>
                  </a:lnTo>
                  <a:lnTo>
                    <a:pt x="3061" y="910"/>
                  </a:lnTo>
                  <a:lnTo>
                    <a:pt x="3030" y="868"/>
                  </a:lnTo>
                  <a:lnTo>
                    <a:pt x="2997" y="826"/>
                  </a:lnTo>
                  <a:lnTo>
                    <a:pt x="2962" y="784"/>
                  </a:lnTo>
                  <a:lnTo>
                    <a:pt x="2927" y="743"/>
                  </a:lnTo>
                  <a:lnTo>
                    <a:pt x="2891" y="701"/>
                  </a:lnTo>
                  <a:lnTo>
                    <a:pt x="2854" y="660"/>
                  </a:lnTo>
                  <a:lnTo>
                    <a:pt x="2778" y="581"/>
                  </a:lnTo>
                  <a:lnTo>
                    <a:pt x="2704" y="506"/>
                  </a:lnTo>
                  <a:lnTo>
                    <a:pt x="2633" y="436"/>
                  </a:lnTo>
                  <a:lnTo>
                    <a:pt x="2566" y="374"/>
                  </a:lnTo>
                  <a:lnTo>
                    <a:pt x="2508" y="321"/>
                  </a:lnTo>
                  <a:lnTo>
                    <a:pt x="2458" y="276"/>
                  </a:lnTo>
                  <a:lnTo>
                    <a:pt x="2419" y="243"/>
                  </a:lnTo>
                  <a:lnTo>
                    <a:pt x="2396" y="223"/>
                  </a:lnTo>
                  <a:lnTo>
                    <a:pt x="2364" y="203"/>
                  </a:lnTo>
                  <a:lnTo>
                    <a:pt x="2332" y="184"/>
                  </a:lnTo>
                  <a:lnTo>
                    <a:pt x="2300" y="167"/>
                  </a:lnTo>
                  <a:lnTo>
                    <a:pt x="2269" y="151"/>
                  </a:lnTo>
                  <a:lnTo>
                    <a:pt x="2237" y="135"/>
                  </a:lnTo>
                  <a:lnTo>
                    <a:pt x="2205" y="120"/>
                  </a:lnTo>
                  <a:lnTo>
                    <a:pt x="2174" y="106"/>
                  </a:lnTo>
                  <a:lnTo>
                    <a:pt x="2141" y="93"/>
                  </a:lnTo>
                  <a:lnTo>
                    <a:pt x="2109" y="80"/>
                  </a:lnTo>
                  <a:lnTo>
                    <a:pt x="2077" y="69"/>
                  </a:lnTo>
                  <a:lnTo>
                    <a:pt x="2046" y="59"/>
                  </a:lnTo>
                  <a:lnTo>
                    <a:pt x="2013" y="49"/>
                  </a:lnTo>
                  <a:lnTo>
                    <a:pt x="1981" y="40"/>
                  </a:lnTo>
                  <a:lnTo>
                    <a:pt x="1949" y="32"/>
                  </a:lnTo>
                  <a:lnTo>
                    <a:pt x="1916" y="26"/>
                  </a:lnTo>
                  <a:lnTo>
                    <a:pt x="1884" y="19"/>
                  </a:lnTo>
                  <a:lnTo>
                    <a:pt x="1852" y="13"/>
                  </a:lnTo>
                  <a:lnTo>
                    <a:pt x="1820" y="9"/>
                  </a:lnTo>
                  <a:lnTo>
                    <a:pt x="1787" y="6"/>
                  </a:lnTo>
                  <a:lnTo>
                    <a:pt x="1756" y="2"/>
                  </a:lnTo>
                  <a:lnTo>
                    <a:pt x="1723" y="1"/>
                  </a:lnTo>
                  <a:lnTo>
                    <a:pt x="1690" y="0"/>
                  </a:lnTo>
                  <a:lnTo>
                    <a:pt x="1658" y="0"/>
                  </a:lnTo>
                  <a:lnTo>
                    <a:pt x="1626" y="0"/>
                  </a:lnTo>
                  <a:lnTo>
                    <a:pt x="1594" y="2"/>
                  </a:lnTo>
                  <a:lnTo>
                    <a:pt x="1561" y="3"/>
                  </a:lnTo>
                  <a:lnTo>
                    <a:pt x="1529" y="7"/>
                  </a:lnTo>
                  <a:lnTo>
                    <a:pt x="1497" y="11"/>
                  </a:lnTo>
                  <a:lnTo>
                    <a:pt x="1464" y="16"/>
                  </a:lnTo>
                  <a:lnTo>
                    <a:pt x="1431" y="22"/>
                  </a:lnTo>
                  <a:lnTo>
                    <a:pt x="1399" y="28"/>
                  </a:lnTo>
                  <a:lnTo>
                    <a:pt x="1366" y="36"/>
                  </a:lnTo>
                  <a:close/>
                  <a:moveTo>
                    <a:pt x="1384" y="105"/>
                  </a:moveTo>
                  <a:lnTo>
                    <a:pt x="1415" y="99"/>
                  </a:lnTo>
                  <a:lnTo>
                    <a:pt x="1445" y="91"/>
                  </a:lnTo>
                  <a:lnTo>
                    <a:pt x="1476" y="86"/>
                  </a:lnTo>
                  <a:lnTo>
                    <a:pt x="1507" y="81"/>
                  </a:lnTo>
                  <a:lnTo>
                    <a:pt x="1537" y="78"/>
                  </a:lnTo>
                  <a:lnTo>
                    <a:pt x="1568" y="75"/>
                  </a:lnTo>
                  <a:lnTo>
                    <a:pt x="1599" y="73"/>
                  </a:lnTo>
                  <a:lnTo>
                    <a:pt x="1630" y="71"/>
                  </a:lnTo>
                  <a:lnTo>
                    <a:pt x="1659" y="70"/>
                  </a:lnTo>
                  <a:lnTo>
                    <a:pt x="1690" y="71"/>
                  </a:lnTo>
                  <a:lnTo>
                    <a:pt x="1720" y="71"/>
                  </a:lnTo>
                  <a:lnTo>
                    <a:pt x="1751" y="74"/>
                  </a:lnTo>
                  <a:lnTo>
                    <a:pt x="1782" y="76"/>
                  </a:lnTo>
                  <a:lnTo>
                    <a:pt x="1812" y="80"/>
                  </a:lnTo>
                  <a:lnTo>
                    <a:pt x="1843" y="84"/>
                  </a:lnTo>
                  <a:lnTo>
                    <a:pt x="1873" y="89"/>
                  </a:lnTo>
                  <a:lnTo>
                    <a:pt x="1904" y="95"/>
                  </a:lnTo>
                  <a:lnTo>
                    <a:pt x="1934" y="101"/>
                  </a:lnTo>
                  <a:lnTo>
                    <a:pt x="1964" y="109"/>
                  </a:lnTo>
                  <a:lnTo>
                    <a:pt x="1995" y="117"/>
                  </a:lnTo>
                  <a:lnTo>
                    <a:pt x="2025" y="126"/>
                  </a:lnTo>
                  <a:lnTo>
                    <a:pt x="2054" y="136"/>
                  </a:lnTo>
                  <a:lnTo>
                    <a:pt x="2085" y="147"/>
                  </a:lnTo>
                  <a:lnTo>
                    <a:pt x="2115" y="158"/>
                  </a:lnTo>
                  <a:lnTo>
                    <a:pt x="2145" y="171"/>
                  </a:lnTo>
                  <a:lnTo>
                    <a:pt x="2175" y="184"/>
                  </a:lnTo>
                  <a:lnTo>
                    <a:pt x="2205" y="198"/>
                  </a:lnTo>
                  <a:lnTo>
                    <a:pt x="2234" y="213"/>
                  </a:lnTo>
                  <a:lnTo>
                    <a:pt x="2264" y="229"/>
                  </a:lnTo>
                  <a:lnTo>
                    <a:pt x="2294" y="245"/>
                  </a:lnTo>
                  <a:lnTo>
                    <a:pt x="2324" y="261"/>
                  </a:lnTo>
                  <a:lnTo>
                    <a:pt x="2354" y="280"/>
                  </a:lnTo>
                  <a:lnTo>
                    <a:pt x="2398" y="318"/>
                  </a:lnTo>
                  <a:lnTo>
                    <a:pt x="2449" y="363"/>
                  </a:lnTo>
                  <a:lnTo>
                    <a:pt x="2505" y="415"/>
                  </a:lnTo>
                  <a:lnTo>
                    <a:pt x="2565" y="471"/>
                  </a:lnTo>
                  <a:lnTo>
                    <a:pt x="2628" y="532"/>
                  </a:lnTo>
                  <a:lnTo>
                    <a:pt x="2691" y="596"/>
                  </a:lnTo>
                  <a:lnTo>
                    <a:pt x="2756" y="663"/>
                  </a:lnTo>
                  <a:lnTo>
                    <a:pt x="2819" y="732"/>
                  </a:lnTo>
                  <a:lnTo>
                    <a:pt x="2850" y="766"/>
                  </a:lnTo>
                  <a:lnTo>
                    <a:pt x="2881" y="801"/>
                  </a:lnTo>
                  <a:lnTo>
                    <a:pt x="2910" y="836"/>
                  </a:lnTo>
                  <a:lnTo>
                    <a:pt x="2938" y="870"/>
                  </a:lnTo>
                  <a:lnTo>
                    <a:pt x="2966" y="905"/>
                  </a:lnTo>
                  <a:lnTo>
                    <a:pt x="2992" y="940"/>
                  </a:lnTo>
                  <a:lnTo>
                    <a:pt x="3015" y="973"/>
                  </a:lnTo>
                  <a:lnTo>
                    <a:pt x="3039" y="1006"/>
                  </a:lnTo>
                  <a:lnTo>
                    <a:pt x="3059" y="1039"/>
                  </a:lnTo>
                  <a:lnTo>
                    <a:pt x="3079" y="1070"/>
                  </a:lnTo>
                  <a:lnTo>
                    <a:pt x="3095" y="1101"/>
                  </a:lnTo>
                  <a:lnTo>
                    <a:pt x="3110" y="1131"/>
                  </a:lnTo>
                  <a:lnTo>
                    <a:pt x="3121" y="1160"/>
                  </a:lnTo>
                  <a:lnTo>
                    <a:pt x="3131" y="1188"/>
                  </a:lnTo>
                  <a:lnTo>
                    <a:pt x="3137" y="1214"/>
                  </a:lnTo>
                  <a:lnTo>
                    <a:pt x="3141" y="1239"/>
                  </a:lnTo>
                  <a:lnTo>
                    <a:pt x="3112" y="1234"/>
                  </a:lnTo>
                  <a:lnTo>
                    <a:pt x="3085" y="1230"/>
                  </a:lnTo>
                  <a:lnTo>
                    <a:pt x="3063" y="1228"/>
                  </a:lnTo>
                  <a:lnTo>
                    <a:pt x="3044" y="1225"/>
                  </a:lnTo>
                  <a:lnTo>
                    <a:pt x="3027" y="1196"/>
                  </a:lnTo>
                  <a:lnTo>
                    <a:pt x="2998" y="1147"/>
                  </a:lnTo>
                  <a:lnTo>
                    <a:pt x="2960" y="1084"/>
                  </a:lnTo>
                  <a:lnTo>
                    <a:pt x="2911" y="1009"/>
                  </a:lnTo>
                  <a:lnTo>
                    <a:pt x="2884" y="969"/>
                  </a:lnTo>
                  <a:lnTo>
                    <a:pt x="2854" y="925"/>
                  </a:lnTo>
                  <a:lnTo>
                    <a:pt x="2822" y="882"/>
                  </a:lnTo>
                  <a:lnTo>
                    <a:pt x="2788" y="836"/>
                  </a:lnTo>
                  <a:lnTo>
                    <a:pt x="2753" y="789"/>
                  </a:lnTo>
                  <a:lnTo>
                    <a:pt x="2716" y="743"/>
                  </a:lnTo>
                  <a:lnTo>
                    <a:pt x="2678" y="696"/>
                  </a:lnTo>
                  <a:lnTo>
                    <a:pt x="2638" y="648"/>
                  </a:lnTo>
                  <a:lnTo>
                    <a:pt x="2597" y="602"/>
                  </a:lnTo>
                  <a:lnTo>
                    <a:pt x="2555" y="558"/>
                  </a:lnTo>
                  <a:lnTo>
                    <a:pt x="2511" y="514"/>
                  </a:lnTo>
                  <a:lnTo>
                    <a:pt x="2467" y="472"/>
                  </a:lnTo>
                  <a:lnTo>
                    <a:pt x="2421" y="433"/>
                  </a:lnTo>
                  <a:lnTo>
                    <a:pt x="2375" y="395"/>
                  </a:lnTo>
                  <a:lnTo>
                    <a:pt x="2328" y="361"/>
                  </a:lnTo>
                  <a:lnTo>
                    <a:pt x="2280" y="330"/>
                  </a:lnTo>
                  <a:lnTo>
                    <a:pt x="2232" y="301"/>
                  </a:lnTo>
                  <a:lnTo>
                    <a:pt x="2185" y="277"/>
                  </a:lnTo>
                  <a:lnTo>
                    <a:pt x="2135" y="258"/>
                  </a:lnTo>
                  <a:lnTo>
                    <a:pt x="2087" y="243"/>
                  </a:lnTo>
                  <a:lnTo>
                    <a:pt x="2038" y="233"/>
                  </a:lnTo>
                  <a:lnTo>
                    <a:pt x="1989" y="229"/>
                  </a:lnTo>
                  <a:lnTo>
                    <a:pt x="1940" y="230"/>
                  </a:lnTo>
                  <a:lnTo>
                    <a:pt x="1892" y="236"/>
                  </a:lnTo>
                  <a:lnTo>
                    <a:pt x="1892" y="236"/>
                  </a:lnTo>
                  <a:lnTo>
                    <a:pt x="1878" y="238"/>
                  </a:lnTo>
                  <a:lnTo>
                    <a:pt x="1841" y="243"/>
                  </a:lnTo>
                  <a:lnTo>
                    <a:pt x="1782" y="250"/>
                  </a:lnTo>
                  <a:lnTo>
                    <a:pt x="1705" y="264"/>
                  </a:lnTo>
                  <a:lnTo>
                    <a:pt x="1661" y="272"/>
                  </a:lnTo>
                  <a:lnTo>
                    <a:pt x="1612" y="284"/>
                  </a:lnTo>
                  <a:lnTo>
                    <a:pt x="1561" y="297"/>
                  </a:lnTo>
                  <a:lnTo>
                    <a:pt x="1507" y="312"/>
                  </a:lnTo>
                  <a:lnTo>
                    <a:pt x="1451" y="328"/>
                  </a:lnTo>
                  <a:lnTo>
                    <a:pt x="1391" y="348"/>
                  </a:lnTo>
                  <a:lnTo>
                    <a:pt x="1329" y="370"/>
                  </a:lnTo>
                  <a:lnTo>
                    <a:pt x="1267" y="395"/>
                  </a:lnTo>
                  <a:lnTo>
                    <a:pt x="1202" y="424"/>
                  </a:lnTo>
                  <a:lnTo>
                    <a:pt x="1137" y="454"/>
                  </a:lnTo>
                  <a:lnTo>
                    <a:pt x="1071" y="488"/>
                  </a:lnTo>
                  <a:lnTo>
                    <a:pt x="1004" y="526"/>
                  </a:lnTo>
                  <a:lnTo>
                    <a:pt x="937" y="567"/>
                  </a:lnTo>
                  <a:lnTo>
                    <a:pt x="870" y="610"/>
                  </a:lnTo>
                  <a:lnTo>
                    <a:pt x="804" y="658"/>
                  </a:lnTo>
                  <a:lnTo>
                    <a:pt x="738" y="710"/>
                  </a:lnTo>
                  <a:lnTo>
                    <a:pt x="675" y="766"/>
                  </a:lnTo>
                  <a:lnTo>
                    <a:pt x="611" y="827"/>
                  </a:lnTo>
                  <a:lnTo>
                    <a:pt x="551" y="892"/>
                  </a:lnTo>
                  <a:lnTo>
                    <a:pt x="492" y="961"/>
                  </a:lnTo>
                  <a:lnTo>
                    <a:pt x="435" y="1036"/>
                  </a:lnTo>
                  <a:lnTo>
                    <a:pt x="382" y="1114"/>
                  </a:lnTo>
                  <a:lnTo>
                    <a:pt x="331" y="1198"/>
                  </a:lnTo>
                  <a:lnTo>
                    <a:pt x="284" y="1286"/>
                  </a:lnTo>
                  <a:lnTo>
                    <a:pt x="243" y="1258"/>
                  </a:lnTo>
                  <a:lnTo>
                    <a:pt x="189" y="1222"/>
                  </a:lnTo>
                  <a:lnTo>
                    <a:pt x="136" y="1186"/>
                  </a:lnTo>
                  <a:lnTo>
                    <a:pt x="96" y="1158"/>
                  </a:lnTo>
                  <a:lnTo>
                    <a:pt x="117" y="1126"/>
                  </a:lnTo>
                  <a:lnTo>
                    <a:pt x="147" y="1081"/>
                  </a:lnTo>
                  <a:lnTo>
                    <a:pt x="187" y="1026"/>
                  </a:lnTo>
                  <a:lnTo>
                    <a:pt x="235" y="961"/>
                  </a:lnTo>
                  <a:lnTo>
                    <a:pt x="262" y="926"/>
                  </a:lnTo>
                  <a:lnTo>
                    <a:pt x="291" y="889"/>
                  </a:lnTo>
                  <a:lnTo>
                    <a:pt x="323" y="851"/>
                  </a:lnTo>
                  <a:lnTo>
                    <a:pt x="357" y="811"/>
                  </a:lnTo>
                  <a:lnTo>
                    <a:pt x="392" y="771"/>
                  </a:lnTo>
                  <a:lnTo>
                    <a:pt x="429" y="729"/>
                  </a:lnTo>
                  <a:lnTo>
                    <a:pt x="469" y="688"/>
                  </a:lnTo>
                  <a:lnTo>
                    <a:pt x="510" y="646"/>
                  </a:lnTo>
                  <a:lnTo>
                    <a:pt x="552" y="604"/>
                  </a:lnTo>
                  <a:lnTo>
                    <a:pt x="597" y="562"/>
                  </a:lnTo>
                  <a:lnTo>
                    <a:pt x="642" y="519"/>
                  </a:lnTo>
                  <a:lnTo>
                    <a:pt x="691" y="478"/>
                  </a:lnTo>
                  <a:lnTo>
                    <a:pt x="741" y="437"/>
                  </a:lnTo>
                  <a:lnTo>
                    <a:pt x="791" y="398"/>
                  </a:lnTo>
                  <a:lnTo>
                    <a:pt x="845" y="361"/>
                  </a:lnTo>
                  <a:lnTo>
                    <a:pt x="898" y="323"/>
                  </a:lnTo>
                  <a:lnTo>
                    <a:pt x="954" y="287"/>
                  </a:lnTo>
                  <a:lnTo>
                    <a:pt x="1012" y="255"/>
                  </a:lnTo>
                  <a:lnTo>
                    <a:pt x="1071" y="223"/>
                  </a:lnTo>
                  <a:lnTo>
                    <a:pt x="1130" y="194"/>
                  </a:lnTo>
                  <a:lnTo>
                    <a:pt x="1191" y="168"/>
                  </a:lnTo>
                  <a:lnTo>
                    <a:pt x="1255" y="143"/>
                  </a:lnTo>
                  <a:lnTo>
                    <a:pt x="1318" y="124"/>
                  </a:lnTo>
                  <a:lnTo>
                    <a:pt x="1384" y="10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6167520" y="5183280"/>
              <a:ext cx="1243080" cy="493560"/>
            </a:xfrm>
            <a:custGeom>
              <a:avLst/>
              <a:gdLst/>
              <a:ahLst/>
              <a:rect l="l" t="t" r="r" b="b"/>
              <a:pathLst>
                <a:path w="3133" h="1246">
                  <a:moveTo>
                    <a:pt x="0" y="1133"/>
                  </a:moveTo>
                  <a:lnTo>
                    <a:pt x="11" y="1114"/>
                  </a:lnTo>
                  <a:lnTo>
                    <a:pt x="46" y="1061"/>
                  </a:lnTo>
                  <a:lnTo>
                    <a:pt x="72" y="1024"/>
                  </a:lnTo>
                  <a:lnTo>
                    <a:pt x="103" y="979"/>
                  </a:lnTo>
                  <a:lnTo>
                    <a:pt x="139" y="931"/>
                  </a:lnTo>
                  <a:lnTo>
                    <a:pt x="180" y="876"/>
                  </a:lnTo>
                  <a:lnTo>
                    <a:pt x="226" y="819"/>
                  </a:lnTo>
                  <a:lnTo>
                    <a:pt x="277" y="758"/>
                  </a:lnTo>
                  <a:lnTo>
                    <a:pt x="333" y="695"/>
                  </a:lnTo>
                  <a:lnTo>
                    <a:pt x="393" y="630"/>
                  </a:lnTo>
                  <a:lnTo>
                    <a:pt x="457" y="565"/>
                  </a:lnTo>
                  <a:lnTo>
                    <a:pt x="526" y="499"/>
                  </a:lnTo>
                  <a:lnTo>
                    <a:pt x="598" y="434"/>
                  </a:lnTo>
                  <a:lnTo>
                    <a:pt x="675" y="371"/>
                  </a:lnTo>
                  <a:lnTo>
                    <a:pt x="755" y="312"/>
                  </a:lnTo>
                  <a:lnTo>
                    <a:pt x="838" y="253"/>
                  </a:lnTo>
                  <a:lnTo>
                    <a:pt x="927" y="200"/>
                  </a:lnTo>
                  <a:lnTo>
                    <a:pt x="1017" y="152"/>
                  </a:lnTo>
                  <a:lnTo>
                    <a:pt x="1112" y="108"/>
                  </a:lnTo>
                  <a:lnTo>
                    <a:pt x="1208" y="71"/>
                  </a:lnTo>
                  <a:lnTo>
                    <a:pt x="1309" y="40"/>
                  </a:lnTo>
                  <a:lnTo>
                    <a:pt x="1412" y="18"/>
                  </a:lnTo>
                  <a:lnTo>
                    <a:pt x="1519" y="4"/>
                  </a:lnTo>
                  <a:lnTo>
                    <a:pt x="1627" y="0"/>
                  </a:lnTo>
                  <a:lnTo>
                    <a:pt x="1737" y="6"/>
                  </a:lnTo>
                  <a:lnTo>
                    <a:pt x="1852" y="22"/>
                  </a:lnTo>
                  <a:lnTo>
                    <a:pt x="1966" y="51"/>
                  </a:lnTo>
                  <a:lnTo>
                    <a:pt x="2084" y="92"/>
                  </a:lnTo>
                  <a:lnTo>
                    <a:pt x="2203" y="147"/>
                  </a:lnTo>
                  <a:lnTo>
                    <a:pt x="2325" y="215"/>
                  </a:lnTo>
                  <a:lnTo>
                    <a:pt x="2334" y="223"/>
                  </a:lnTo>
                  <a:lnTo>
                    <a:pt x="2361" y="246"/>
                  </a:lnTo>
                  <a:lnTo>
                    <a:pt x="2402" y="283"/>
                  </a:lnTo>
                  <a:lnTo>
                    <a:pt x="2456" y="331"/>
                  </a:lnTo>
                  <a:lnTo>
                    <a:pt x="2520" y="391"/>
                  </a:lnTo>
                  <a:lnTo>
                    <a:pt x="2591" y="458"/>
                  </a:lnTo>
                  <a:lnTo>
                    <a:pt x="2665" y="532"/>
                  </a:lnTo>
                  <a:lnTo>
                    <a:pt x="2743" y="612"/>
                  </a:lnTo>
                  <a:lnTo>
                    <a:pt x="2782" y="654"/>
                  </a:lnTo>
                  <a:lnTo>
                    <a:pt x="2820" y="696"/>
                  </a:lnTo>
                  <a:lnTo>
                    <a:pt x="2858" y="738"/>
                  </a:lnTo>
                  <a:lnTo>
                    <a:pt x="2894" y="782"/>
                  </a:lnTo>
                  <a:lnTo>
                    <a:pt x="2928" y="824"/>
                  </a:lnTo>
                  <a:lnTo>
                    <a:pt x="2962" y="867"/>
                  </a:lnTo>
                  <a:lnTo>
                    <a:pt x="2993" y="910"/>
                  </a:lnTo>
                  <a:lnTo>
                    <a:pt x="3023" y="952"/>
                  </a:lnTo>
                  <a:lnTo>
                    <a:pt x="3049" y="994"/>
                  </a:lnTo>
                  <a:lnTo>
                    <a:pt x="3072" y="1034"/>
                  </a:lnTo>
                  <a:lnTo>
                    <a:pt x="3092" y="1073"/>
                  </a:lnTo>
                  <a:lnTo>
                    <a:pt x="3108" y="1111"/>
                  </a:lnTo>
                  <a:lnTo>
                    <a:pt x="3121" y="1148"/>
                  </a:lnTo>
                  <a:lnTo>
                    <a:pt x="3129" y="1183"/>
                  </a:lnTo>
                  <a:lnTo>
                    <a:pt x="3133" y="1215"/>
                  </a:lnTo>
                  <a:lnTo>
                    <a:pt x="3132" y="1246"/>
                  </a:lnTo>
                  <a:lnTo>
                    <a:pt x="2974" y="1223"/>
                  </a:lnTo>
                  <a:lnTo>
                    <a:pt x="2967" y="1211"/>
                  </a:lnTo>
                  <a:lnTo>
                    <a:pt x="2947" y="1176"/>
                  </a:lnTo>
                  <a:lnTo>
                    <a:pt x="2915" y="1123"/>
                  </a:lnTo>
                  <a:lnTo>
                    <a:pt x="2871" y="1054"/>
                  </a:lnTo>
                  <a:lnTo>
                    <a:pt x="2845" y="1014"/>
                  </a:lnTo>
                  <a:lnTo>
                    <a:pt x="2817" y="972"/>
                  </a:lnTo>
                  <a:lnTo>
                    <a:pt x="2787" y="928"/>
                  </a:lnTo>
                  <a:lnTo>
                    <a:pt x="2754" y="881"/>
                  </a:lnTo>
                  <a:lnTo>
                    <a:pt x="2720" y="834"/>
                  </a:lnTo>
                  <a:lnTo>
                    <a:pt x="2684" y="786"/>
                  </a:lnTo>
                  <a:lnTo>
                    <a:pt x="2645" y="737"/>
                  </a:lnTo>
                  <a:lnTo>
                    <a:pt x="2605" y="688"/>
                  </a:lnTo>
                  <a:lnTo>
                    <a:pt x="2563" y="639"/>
                  </a:lnTo>
                  <a:lnTo>
                    <a:pt x="2521" y="592"/>
                  </a:lnTo>
                  <a:lnTo>
                    <a:pt x="2478" y="545"/>
                  </a:lnTo>
                  <a:lnTo>
                    <a:pt x="2432" y="500"/>
                  </a:lnTo>
                  <a:lnTo>
                    <a:pt x="2386" y="457"/>
                  </a:lnTo>
                  <a:lnTo>
                    <a:pt x="2338" y="416"/>
                  </a:lnTo>
                  <a:lnTo>
                    <a:pt x="2291" y="379"/>
                  </a:lnTo>
                  <a:lnTo>
                    <a:pt x="2243" y="344"/>
                  </a:lnTo>
                  <a:lnTo>
                    <a:pt x="2194" y="313"/>
                  </a:lnTo>
                  <a:lnTo>
                    <a:pt x="2145" y="287"/>
                  </a:lnTo>
                  <a:lnTo>
                    <a:pt x="2096" y="264"/>
                  </a:lnTo>
                  <a:lnTo>
                    <a:pt x="2047" y="247"/>
                  </a:lnTo>
                  <a:lnTo>
                    <a:pt x="1997" y="236"/>
                  </a:lnTo>
                  <a:lnTo>
                    <a:pt x="1949" y="230"/>
                  </a:lnTo>
                  <a:lnTo>
                    <a:pt x="1900" y="230"/>
                  </a:lnTo>
                  <a:lnTo>
                    <a:pt x="1852" y="237"/>
                  </a:lnTo>
                  <a:lnTo>
                    <a:pt x="1841" y="236"/>
                  </a:lnTo>
                  <a:lnTo>
                    <a:pt x="1807" y="233"/>
                  </a:lnTo>
                  <a:lnTo>
                    <a:pt x="1782" y="232"/>
                  </a:lnTo>
                  <a:lnTo>
                    <a:pt x="1754" y="231"/>
                  </a:lnTo>
                  <a:lnTo>
                    <a:pt x="1721" y="231"/>
                  </a:lnTo>
                  <a:lnTo>
                    <a:pt x="1684" y="232"/>
                  </a:lnTo>
                  <a:lnTo>
                    <a:pt x="1643" y="233"/>
                  </a:lnTo>
                  <a:lnTo>
                    <a:pt x="1600" y="237"/>
                  </a:lnTo>
                  <a:lnTo>
                    <a:pt x="1552" y="241"/>
                  </a:lnTo>
                  <a:lnTo>
                    <a:pt x="1503" y="248"/>
                  </a:lnTo>
                  <a:lnTo>
                    <a:pt x="1451" y="256"/>
                  </a:lnTo>
                  <a:lnTo>
                    <a:pt x="1396" y="267"/>
                  </a:lnTo>
                  <a:lnTo>
                    <a:pt x="1339" y="281"/>
                  </a:lnTo>
                  <a:lnTo>
                    <a:pt x="1281" y="295"/>
                  </a:lnTo>
                  <a:lnTo>
                    <a:pt x="1221" y="315"/>
                  </a:lnTo>
                  <a:lnTo>
                    <a:pt x="1160" y="336"/>
                  </a:lnTo>
                  <a:lnTo>
                    <a:pt x="1098" y="362"/>
                  </a:lnTo>
                  <a:lnTo>
                    <a:pt x="1036" y="391"/>
                  </a:lnTo>
                  <a:lnTo>
                    <a:pt x="974" y="424"/>
                  </a:lnTo>
                  <a:lnTo>
                    <a:pt x="912" y="462"/>
                  </a:lnTo>
                  <a:lnTo>
                    <a:pt x="850" y="503"/>
                  </a:lnTo>
                  <a:lnTo>
                    <a:pt x="788" y="549"/>
                  </a:lnTo>
                  <a:lnTo>
                    <a:pt x="728" y="599"/>
                  </a:lnTo>
                  <a:lnTo>
                    <a:pt x="668" y="655"/>
                  </a:lnTo>
                  <a:lnTo>
                    <a:pt x="610" y="717"/>
                  </a:lnTo>
                  <a:lnTo>
                    <a:pt x="554" y="784"/>
                  </a:lnTo>
                  <a:lnTo>
                    <a:pt x="501" y="856"/>
                  </a:lnTo>
                  <a:lnTo>
                    <a:pt x="450" y="934"/>
                  </a:lnTo>
                  <a:lnTo>
                    <a:pt x="400" y="1020"/>
                  </a:lnTo>
                  <a:lnTo>
                    <a:pt x="354" y="1111"/>
                  </a:lnTo>
                  <a:lnTo>
                    <a:pt x="0" y="113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6140520" y="5168880"/>
              <a:ext cx="1284120" cy="523800"/>
            </a:xfrm>
            <a:custGeom>
              <a:avLst/>
              <a:gdLst/>
              <a:ahLst/>
              <a:rect l="l" t="t" r="r" b="b"/>
              <a:pathLst>
                <a:path w="3235" h="1322">
                  <a:moveTo>
                    <a:pt x="1384" y="37"/>
                  </a:moveTo>
                  <a:lnTo>
                    <a:pt x="1310" y="57"/>
                  </a:lnTo>
                  <a:lnTo>
                    <a:pt x="1238" y="82"/>
                  </a:lnTo>
                  <a:lnTo>
                    <a:pt x="1168" y="109"/>
                  </a:lnTo>
                  <a:lnTo>
                    <a:pt x="1099" y="139"/>
                  </a:lnTo>
                  <a:lnTo>
                    <a:pt x="1031" y="173"/>
                  </a:lnTo>
                  <a:lnTo>
                    <a:pt x="967" y="209"/>
                  </a:lnTo>
                  <a:lnTo>
                    <a:pt x="903" y="247"/>
                  </a:lnTo>
                  <a:lnTo>
                    <a:pt x="841" y="288"/>
                  </a:lnTo>
                  <a:lnTo>
                    <a:pt x="782" y="330"/>
                  </a:lnTo>
                  <a:lnTo>
                    <a:pt x="723" y="375"/>
                  </a:lnTo>
                  <a:lnTo>
                    <a:pt x="667" y="420"/>
                  </a:lnTo>
                  <a:lnTo>
                    <a:pt x="614" y="465"/>
                  </a:lnTo>
                  <a:lnTo>
                    <a:pt x="562" y="513"/>
                  </a:lnTo>
                  <a:lnTo>
                    <a:pt x="512" y="558"/>
                  </a:lnTo>
                  <a:lnTo>
                    <a:pt x="465" y="606"/>
                  </a:lnTo>
                  <a:lnTo>
                    <a:pt x="420" y="653"/>
                  </a:lnTo>
                  <a:lnTo>
                    <a:pt x="377" y="700"/>
                  </a:lnTo>
                  <a:lnTo>
                    <a:pt x="337" y="746"/>
                  </a:lnTo>
                  <a:lnTo>
                    <a:pt x="298" y="791"/>
                  </a:lnTo>
                  <a:lnTo>
                    <a:pt x="262" y="834"/>
                  </a:lnTo>
                  <a:lnTo>
                    <a:pt x="229" y="876"/>
                  </a:lnTo>
                  <a:lnTo>
                    <a:pt x="198" y="916"/>
                  </a:lnTo>
                  <a:lnTo>
                    <a:pt x="169" y="953"/>
                  </a:lnTo>
                  <a:lnTo>
                    <a:pt x="143" y="989"/>
                  </a:lnTo>
                  <a:lnTo>
                    <a:pt x="100" y="1051"/>
                  </a:lnTo>
                  <a:lnTo>
                    <a:pt x="68" y="1101"/>
                  </a:lnTo>
                  <a:lnTo>
                    <a:pt x="45" y="1134"/>
                  </a:lnTo>
                  <a:lnTo>
                    <a:pt x="35" y="1152"/>
                  </a:lnTo>
                  <a:lnTo>
                    <a:pt x="0" y="1210"/>
                  </a:lnTo>
                  <a:lnTo>
                    <a:pt x="444" y="1181"/>
                  </a:lnTo>
                  <a:lnTo>
                    <a:pt x="452" y="1161"/>
                  </a:lnTo>
                  <a:lnTo>
                    <a:pt x="497" y="1075"/>
                  </a:lnTo>
                  <a:lnTo>
                    <a:pt x="544" y="993"/>
                  </a:lnTo>
                  <a:lnTo>
                    <a:pt x="594" y="916"/>
                  </a:lnTo>
                  <a:lnTo>
                    <a:pt x="646" y="846"/>
                  </a:lnTo>
                  <a:lnTo>
                    <a:pt x="700" y="782"/>
                  </a:lnTo>
                  <a:lnTo>
                    <a:pt x="755" y="722"/>
                  </a:lnTo>
                  <a:lnTo>
                    <a:pt x="814" y="668"/>
                  </a:lnTo>
                  <a:lnTo>
                    <a:pt x="872" y="618"/>
                  </a:lnTo>
                  <a:lnTo>
                    <a:pt x="932" y="573"/>
                  </a:lnTo>
                  <a:lnTo>
                    <a:pt x="991" y="534"/>
                  </a:lnTo>
                  <a:lnTo>
                    <a:pt x="1052" y="496"/>
                  </a:lnTo>
                  <a:lnTo>
                    <a:pt x="1113" y="464"/>
                  </a:lnTo>
                  <a:lnTo>
                    <a:pt x="1173" y="436"/>
                  </a:lnTo>
                  <a:lnTo>
                    <a:pt x="1232" y="411"/>
                  </a:lnTo>
                  <a:lnTo>
                    <a:pt x="1292" y="389"/>
                  </a:lnTo>
                  <a:lnTo>
                    <a:pt x="1350" y="370"/>
                  </a:lnTo>
                  <a:lnTo>
                    <a:pt x="1407" y="355"/>
                  </a:lnTo>
                  <a:lnTo>
                    <a:pt x="1462" y="341"/>
                  </a:lnTo>
                  <a:lnTo>
                    <a:pt x="1515" y="330"/>
                  </a:lnTo>
                  <a:lnTo>
                    <a:pt x="1566" y="322"/>
                  </a:lnTo>
                  <a:lnTo>
                    <a:pt x="1616" y="315"/>
                  </a:lnTo>
                  <a:lnTo>
                    <a:pt x="1662" y="310"/>
                  </a:lnTo>
                  <a:lnTo>
                    <a:pt x="1705" y="307"/>
                  </a:lnTo>
                  <a:lnTo>
                    <a:pt x="1745" y="304"/>
                  </a:lnTo>
                  <a:lnTo>
                    <a:pt x="1781" y="304"/>
                  </a:lnTo>
                  <a:lnTo>
                    <a:pt x="1813" y="304"/>
                  </a:lnTo>
                  <a:lnTo>
                    <a:pt x="1842" y="304"/>
                  </a:lnTo>
                  <a:lnTo>
                    <a:pt x="1866" y="305"/>
                  </a:lnTo>
                  <a:lnTo>
                    <a:pt x="1900" y="308"/>
                  </a:lnTo>
                  <a:lnTo>
                    <a:pt x="1913" y="309"/>
                  </a:lnTo>
                  <a:lnTo>
                    <a:pt x="1960" y="302"/>
                  </a:lnTo>
                  <a:lnTo>
                    <a:pt x="2006" y="302"/>
                  </a:lnTo>
                  <a:lnTo>
                    <a:pt x="2054" y="308"/>
                  </a:lnTo>
                  <a:lnTo>
                    <a:pt x="2101" y="319"/>
                  </a:lnTo>
                  <a:lnTo>
                    <a:pt x="2149" y="336"/>
                  </a:lnTo>
                  <a:lnTo>
                    <a:pt x="2197" y="358"/>
                  </a:lnTo>
                  <a:lnTo>
                    <a:pt x="2244" y="384"/>
                  </a:lnTo>
                  <a:lnTo>
                    <a:pt x="2291" y="413"/>
                  </a:lnTo>
                  <a:lnTo>
                    <a:pt x="2339" y="447"/>
                  </a:lnTo>
                  <a:lnTo>
                    <a:pt x="2385" y="484"/>
                  </a:lnTo>
                  <a:lnTo>
                    <a:pt x="2431" y="524"/>
                  </a:lnTo>
                  <a:lnTo>
                    <a:pt x="2475" y="566"/>
                  </a:lnTo>
                  <a:lnTo>
                    <a:pt x="2519" y="609"/>
                  </a:lnTo>
                  <a:lnTo>
                    <a:pt x="2561" y="655"/>
                  </a:lnTo>
                  <a:lnTo>
                    <a:pt x="2603" y="701"/>
                  </a:lnTo>
                  <a:lnTo>
                    <a:pt x="2644" y="748"/>
                  </a:lnTo>
                  <a:lnTo>
                    <a:pt x="2683" y="797"/>
                  </a:lnTo>
                  <a:lnTo>
                    <a:pt x="2720" y="844"/>
                  </a:lnTo>
                  <a:lnTo>
                    <a:pt x="2756" y="891"/>
                  </a:lnTo>
                  <a:lnTo>
                    <a:pt x="2789" y="938"/>
                  </a:lnTo>
                  <a:lnTo>
                    <a:pt x="2852" y="1026"/>
                  </a:lnTo>
                  <a:lnTo>
                    <a:pt x="2905" y="1106"/>
                  </a:lnTo>
                  <a:lnTo>
                    <a:pt x="2948" y="1174"/>
                  </a:lnTo>
                  <a:lnTo>
                    <a:pt x="2981" y="1227"/>
                  </a:lnTo>
                  <a:lnTo>
                    <a:pt x="3002" y="1262"/>
                  </a:lnTo>
                  <a:lnTo>
                    <a:pt x="3009" y="1277"/>
                  </a:lnTo>
                  <a:lnTo>
                    <a:pt x="3018" y="1292"/>
                  </a:lnTo>
                  <a:lnTo>
                    <a:pt x="3229" y="1322"/>
                  </a:lnTo>
                  <a:lnTo>
                    <a:pt x="3234" y="1286"/>
                  </a:lnTo>
                  <a:lnTo>
                    <a:pt x="3235" y="1255"/>
                  </a:lnTo>
                  <a:lnTo>
                    <a:pt x="3231" y="1221"/>
                  </a:lnTo>
                  <a:lnTo>
                    <a:pt x="3224" y="1186"/>
                  </a:lnTo>
                  <a:lnTo>
                    <a:pt x="3214" y="1150"/>
                  </a:lnTo>
                  <a:lnTo>
                    <a:pt x="3199" y="1113"/>
                  </a:lnTo>
                  <a:lnTo>
                    <a:pt x="3181" y="1075"/>
                  </a:lnTo>
                  <a:lnTo>
                    <a:pt x="3159" y="1035"/>
                  </a:lnTo>
                  <a:lnTo>
                    <a:pt x="3135" y="994"/>
                  </a:lnTo>
                  <a:lnTo>
                    <a:pt x="3109" y="953"/>
                  </a:lnTo>
                  <a:lnTo>
                    <a:pt x="3079" y="911"/>
                  </a:lnTo>
                  <a:lnTo>
                    <a:pt x="3048" y="869"/>
                  </a:lnTo>
                  <a:lnTo>
                    <a:pt x="3015" y="828"/>
                  </a:lnTo>
                  <a:lnTo>
                    <a:pt x="2981" y="786"/>
                  </a:lnTo>
                  <a:lnTo>
                    <a:pt x="2945" y="743"/>
                  </a:lnTo>
                  <a:lnTo>
                    <a:pt x="2909" y="702"/>
                  </a:lnTo>
                  <a:lnTo>
                    <a:pt x="2871" y="661"/>
                  </a:lnTo>
                  <a:lnTo>
                    <a:pt x="2797" y="582"/>
                  </a:lnTo>
                  <a:lnTo>
                    <a:pt x="2722" y="508"/>
                  </a:lnTo>
                  <a:lnTo>
                    <a:pt x="2650" y="438"/>
                  </a:lnTo>
                  <a:lnTo>
                    <a:pt x="2585" y="376"/>
                  </a:lnTo>
                  <a:lnTo>
                    <a:pt x="2525" y="322"/>
                  </a:lnTo>
                  <a:lnTo>
                    <a:pt x="2475" y="277"/>
                  </a:lnTo>
                  <a:lnTo>
                    <a:pt x="2438" y="245"/>
                  </a:lnTo>
                  <a:lnTo>
                    <a:pt x="2413" y="224"/>
                  </a:lnTo>
                  <a:lnTo>
                    <a:pt x="2382" y="205"/>
                  </a:lnTo>
                  <a:lnTo>
                    <a:pt x="2350" y="186"/>
                  </a:lnTo>
                  <a:lnTo>
                    <a:pt x="2319" y="169"/>
                  </a:lnTo>
                  <a:lnTo>
                    <a:pt x="2287" y="152"/>
                  </a:lnTo>
                  <a:lnTo>
                    <a:pt x="2254" y="137"/>
                  </a:lnTo>
                  <a:lnTo>
                    <a:pt x="2223" y="122"/>
                  </a:lnTo>
                  <a:lnTo>
                    <a:pt x="2191" y="107"/>
                  </a:lnTo>
                  <a:lnTo>
                    <a:pt x="2160" y="94"/>
                  </a:lnTo>
                  <a:lnTo>
                    <a:pt x="2128" y="82"/>
                  </a:lnTo>
                  <a:lnTo>
                    <a:pt x="2095" y="71"/>
                  </a:lnTo>
                  <a:lnTo>
                    <a:pt x="2063" y="60"/>
                  </a:lnTo>
                  <a:lnTo>
                    <a:pt x="2031" y="50"/>
                  </a:lnTo>
                  <a:lnTo>
                    <a:pt x="2000" y="41"/>
                  </a:lnTo>
                  <a:lnTo>
                    <a:pt x="1967" y="34"/>
                  </a:lnTo>
                  <a:lnTo>
                    <a:pt x="1935" y="26"/>
                  </a:lnTo>
                  <a:lnTo>
                    <a:pt x="1903" y="20"/>
                  </a:lnTo>
                  <a:lnTo>
                    <a:pt x="1871" y="15"/>
                  </a:lnTo>
                  <a:lnTo>
                    <a:pt x="1838" y="10"/>
                  </a:lnTo>
                  <a:lnTo>
                    <a:pt x="1806" y="6"/>
                  </a:lnTo>
                  <a:lnTo>
                    <a:pt x="1774" y="4"/>
                  </a:lnTo>
                  <a:lnTo>
                    <a:pt x="1741" y="1"/>
                  </a:lnTo>
                  <a:lnTo>
                    <a:pt x="1709" y="0"/>
                  </a:lnTo>
                  <a:lnTo>
                    <a:pt x="1677" y="0"/>
                  </a:lnTo>
                  <a:lnTo>
                    <a:pt x="1645" y="1"/>
                  </a:lnTo>
                  <a:lnTo>
                    <a:pt x="1612" y="3"/>
                  </a:lnTo>
                  <a:lnTo>
                    <a:pt x="1579" y="5"/>
                  </a:lnTo>
                  <a:lnTo>
                    <a:pt x="1546" y="9"/>
                  </a:lnTo>
                  <a:lnTo>
                    <a:pt x="1514" y="13"/>
                  </a:lnTo>
                  <a:lnTo>
                    <a:pt x="1482" y="18"/>
                  </a:lnTo>
                  <a:lnTo>
                    <a:pt x="1450" y="24"/>
                  </a:lnTo>
                  <a:lnTo>
                    <a:pt x="1417" y="30"/>
                  </a:lnTo>
                  <a:lnTo>
                    <a:pt x="1384" y="37"/>
                  </a:lnTo>
                  <a:close/>
                  <a:moveTo>
                    <a:pt x="1401" y="107"/>
                  </a:moveTo>
                  <a:lnTo>
                    <a:pt x="1432" y="99"/>
                  </a:lnTo>
                  <a:lnTo>
                    <a:pt x="1463" y="93"/>
                  </a:lnTo>
                  <a:lnTo>
                    <a:pt x="1493" y="88"/>
                  </a:lnTo>
                  <a:lnTo>
                    <a:pt x="1524" y="83"/>
                  </a:lnTo>
                  <a:lnTo>
                    <a:pt x="1555" y="80"/>
                  </a:lnTo>
                  <a:lnTo>
                    <a:pt x="1586" y="76"/>
                  </a:lnTo>
                  <a:lnTo>
                    <a:pt x="1616" y="73"/>
                  </a:lnTo>
                  <a:lnTo>
                    <a:pt x="1647" y="72"/>
                  </a:lnTo>
                  <a:lnTo>
                    <a:pt x="1678" y="72"/>
                  </a:lnTo>
                  <a:lnTo>
                    <a:pt x="1708" y="72"/>
                  </a:lnTo>
                  <a:lnTo>
                    <a:pt x="1739" y="73"/>
                  </a:lnTo>
                  <a:lnTo>
                    <a:pt x="1769" y="75"/>
                  </a:lnTo>
                  <a:lnTo>
                    <a:pt x="1800" y="77"/>
                  </a:lnTo>
                  <a:lnTo>
                    <a:pt x="1831" y="81"/>
                  </a:lnTo>
                  <a:lnTo>
                    <a:pt x="1861" y="86"/>
                  </a:lnTo>
                  <a:lnTo>
                    <a:pt x="1892" y="91"/>
                  </a:lnTo>
                  <a:lnTo>
                    <a:pt x="1921" y="96"/>
                  </a:lnTo>
                  <a:lnTo>
                    <a:pt x="1951" y="103"/>
                  </a:lnTo>
                  <a:lnTo>
                    <a:pt x="1982" y="111"/>
                  </a:lnTo>
                  <a:lnTo>
                    <a:pt x="2012" y="118"/>
                  </a:lnTo>
                  <a:lnTo>
                    <a:pt x="2042" y="128"/>
                  </a:lnTo>
                  <a:lnTo>
                    <a:pt x="2073" y="138"/>
                  </a:lnTo>
                  <a:lnTo>
                    <a:pt x="2103" y="148"/>
                  </a:lnTo>
                  <a:lnTo>
                    <a:pt x="2133" y="160"/>
                  </a:lnTo>
                  <a:lnTo>
                    <a:pt x="2162" y="173"/>
                  </a:lnTo>
                  <a:lnTo>
                    <a:pt x="2193" y="185"/>
                  </a:lnTo>
                  <a:lnTo>
                    <a:pt x="2223" y="200"/>
                  </a:lnTo>
                  <a:lnTo>
                    <a:pt x="2253" y="214"/>
                  </a:lnTo>
                  <a:lnTo>
                    <a:pt x="2283" y="230"/>
                  </a:lnTo>
                  <a:lnTo>
                    <a:pt x="2313" y="246"/>
                  </a:lnTo>
                  <a:lnTo>
                    <a:pt x="2342" y="263"/>
                  </a:lnTo>
                  <a:lnTo>
                    <a:pt x="2372" y="281"/>
                  </a:lnTo>
                  <a:lnTo>
                    <a:pt x="2416" y="319"/>
                  </a:lnTo>
                  <a:lnTo>
                    <a:pt x="2467" y="365"/>
                  </a:lnTo>
                  <a:lnTo>
                    <a:pt x="2522" y="416"/>
                  </a:lnTo>
                  <a:lnTo>
                    <a:pt x="2583" y="473"/>
                  </a:lnTo>
                  <a:lnTo>
                    <a:pt x="2645" y="534"/>
                  </a:lnTo>
                  <a:lnTo>
                    <a:pt x="2710" y="597"/>
                  </a:lnTo>
                  <a:lnTo>
                    <a:pt x="2775" y="664"/>
                  </a:lnTo>
                  <a:lnTo>
                    <a:pt x="2838" y="733"/>
                  </a:lnTo>
                  <a:lnTo>
                    <a:pt x="2869" y="768"/>
                  </a:lnTo>
                  <a:lnTo>
                    <a:pt x="2899" y="803"/>
                  </a:lnTo>
                  <a:lnTo>
                    <a:pt x="2928" y="838"/>
                  </a:lnTo>
                  <a:lnTo>
                    <a:pt x="2957" y="872"/>
                  </a:lnTo>
                  <a:lnTo>
                    <a:pt x="2984" y="907"/>
                  </a:lnTo>
                  <a:lnTo>
                    <a:pt x="3009" y="941"/>
                  </a:lnTo>
                  <a:lnTo>
                    <a:pt x="3034" y="974"/>
                  </a:lnTo>
                  <a:lnTo>
                    <a:pt x="3056" y="1008"/>
                  </a:lnTo>
                  <a:lnTo>
                    <a:pt x="3078" y="1040"/>
                  </a:lnTo>
                  <a:lnTo>
                    <a:pt x="3096" y="1072"/>
                  </a:lnTo>
                  <a:lnTo>
                    <a:pt x="3114" y="1103"/>
                  </a:lnTo>
                  <a:lnTo>
                    <a:pt x="3127" y="1133"/>
                  </a:lnTo>
                  <a:lnTo>
                    <a:pt x="3140" y="1161"/>
                  </a:lnTo>
                  <a:lnTo>
                    <a:pt x="3150" y="1189"/>
                  </a:lnTo>
                  <a:lnTo>
                    <a:pt x="3156" y="1215"/>
                  </a:lnTo>
                  <a:lnTo>
                    <a:pt x="3159" y="1240"/>
                  </a:lnTo>
                  <a:lnTo>
                    <a:pt x="3131" y="1236"/>
                  </a:lnTo>
                  <a:lnTo>
                    <a:pt x="3104" y="1232"/>
                  </a:lnTo>
                  <a:lnTo>
                    <a:pt x="3080" y="1228"/>
                  </a:lnTo>
                  <a:lnTo>
                    <a:pt x="3063" y="1226"/>
                  </a:lnTo>
                  <a:lnTo>
                    <a:pt x="3045" y="1196"/>
                  </a:lnTo>
                  <a:lnTo>
                    <a:pt x="3017" y="1148"/>
                  </a:lnTo>
                  <a:lnTo>
                    <a:pt x="2978" y="1086"/>
                  </a:lnTo>
                  <a:lnTo>
                    <a:pt x="2930" y="1010"/>
                  </a:lnTo>
                  <a:lnTo>
                    <a:pt x="2901" y="969"/>
                  </a:lnTo>
                  <a:lnTo>
                    <a:pt x="2871" y="927"/>
                  </a:lnTo>
                  <a:lnTo>
                    <a:pt x="2840" y="882"/>
                  </a:lnTo>
                  <a:lnTo>
                    <a:pt x="2807" y="836"/>
                  </a:lnTo>
                  <a:lnTo>
                    <a:pt x="2772" y="791"/>
                  </a:lnTo>
                  <a:lnTo>
                    <a:pt x="2735" y="743"/>
                  </a:lnTo>
                  <a:lnTo>
                    <a:pt x="2696" y="696"/>
                  </a:lnTo>
                  <a:lnTo>
                    <a:pt x="2657" y="650"/>
                  </a:lnTo>
                  <a:lnTo>
                    <a:pt x="2616" y="604"/>
                  </a:lnTo>
                  <a:lnTo>
                    <a:pt x="2573" y="558"/>
                  </a:lnTo>
                  <a:lnTo>
                    <a:pt x="2529" y="515"/>
                  </a:lnTo>
                  <a:lnTo>
                    <a:pt x="2485" y="473"/>
                  </a:lnTo>
                  <a:lnTo>
                    <a:pt x="2439" y="433"/>
                  </a:lnTo>
                  <a:lnTo>
                    <a:pt x="2393" y="396"/>
                  </a:lnTo>
                  <a:lnTo>
                    <a:pt x="2346" y="361"/>
                  </a:lnTo>
                  <a:lnTo>
                    <a:pt x="2299" y="330"/>
                  </a:lnTo>
                  <a:lnTo>
                    <a:pt x="2250" y="303"/>
                  </a:lnTo>
                  <a:lnTo>
                    <a:pt x="2202" y="278"/>
                  </a:lnTo>
                  <a:lnTo>
                    <a:pt x="2154" y="259"/>
                  </a:lnTo>
                  <a:lnTo>
                    <a:pt x="2105" y="245"/>
                  </a:lnTo>
                  <a:lnTo>
                    <a:pt x="2056" y="235"/>
                  </a:lnTo>
                  <a:lnTo>
                    <a:pt x="2007" y="230"/>
                  </a:lnTo>
                  <a:lnTo>
                    <a:pt x="1959" y="231"/>
                  </a:lnTo>
                  <a:lnTo>
                    <a:pt x="1910" y="238"/>
                  </a:lnTo>
                  <a:lnTo>
                    <a:pt x="1899" y="237"/>
                  </a:lnTo>
                  <a:lnTo>
                    <a:pt x="1866" y="235"/>
                  </a:lnTo>
                  <a:lnTo>
                    <a:pt x="1841" y="233"/>
                  </a:lnTo>
                  <a:lnTo>
                    <a:pt x="1812" y="233"/>
                  </a:lnTo>
                  <a:lnTo>
                    <a:pt x="1780" y="233"/>
                  </a:lnTo>
                  <a:lnTo>
                    <a:pt x="1743" y="233"/>
                  </a:lnTo>
                  <a:lnTo>
                    <a:pt x="1702" y="236"/>
                  </a:lnTo>
                  <a:lnTo>
                    <a:pt x="1658" y="240"/>
                  </a:lnTo>
                  <a:lnTo>
                    <a:pt x="1611" y="245"/>
                  </a:lnTo>
                  <a:lnTo>
                    <a:pt x="1560" y="251"/>
                  </a:lnTo>
                  <a:lnTo>
                    <a:pt x="1508" y="259"/>
                  </a:lnTo>
                  <a:lnTo>
                    <a:pt x="1452" y="271"/>
                  </a:lnTo>
                  <a:lnTo>
                    <a:pt x="1395" y="284"/>
                  </a:lnTo>
                  <a:lnTo>
                    <a:pt x="1337" y="300"/>
                  </a:lnTo>
                  <a:lnTo>
                    <a:pt x="1277" y="320"/>
                  </a:lnTo>
                  <a:lnTo>
                    <a:pt x="1215" y="343"/>
                  </a:lnTo>
                  <a:lnTo>
                    <a:pt x="1153" y="367"/>
                  </a:lnTo>
                  <a:lnTo>
                    <a:pt x="1091" y="397"/>
                  </a:lnTo>
                  <a:lnTo>
                    <a:pt x="1027" y="431"/>
                  </a:lnTo>
                  <a:lnTo>
                    <a:pt x="964" y="468"/>
                  </a:lnTo>
                  <a:lnTo>
                    <a:pt x="902" y="509"/>
                  </a:lnTo>
                  <a:lnTo>
                    <a:pt x="840" y="555"/>
                  </a:lnTo>
                  <a:lnTo>
                    <a:pt x="779" y="606"/>
                  </a:lnTo>
                  <a:lnTo>
                    <a:pt x="718" y="661"/>
                  </a:lnTo>
                  <a:lnTo>
                    <a:pt x="660" y="722"/>
                  </a:lnTo>
                  <a:lnTo>
                    <a:pt x="603" y="788"/>
                  </a:lnTo>
                  <a:lnTo>
                    <a:pt x="548" y="860"/>
                  </a:lnTo>
                  <a:lnTo>
                    <a:pt x="496" y="938"/>
                  </a:lnTo>
                  <a:lnTo>
                    <a:pt x="446" y="1023"/>
                  </a:lnTo>
                  <a:lnTo>
                    <a:pt x="399" y="1112"/>
                  </a:lnTo>
                  <a:lnTo>
                    <a:pt x="384" y="1113"/>
                  </a:lnTo>
                  <a:lnTo>
                    <a:pt x="359" y="1116"/>
                  </a:lnTo>
                  <a:lnTo>
                    <a:pt x="326" y="1117"/>
                  </a:lnTo>
                  <a:lnTo>
                    <a:pt x="289" y="1119"/>
                  </a:lnTo>
                  <a:lnTo>
                    <a:pt x="249" y="1122"/>
                  </a:lnTo>
                  <a:lnTo>
                    <a:pt x="208" y="1124"/>
                  </a:lnTo>
                  <a:lnTo>
                    <a:pt x="169" y="1127"/>
                  </a:lnTo>
                  <a:lnTo>
                    <a:pt x="135" y="1129"/>
                  </a:lnTo>
                  <a:lnTo>
                    <a:pt x="163" y="1087"/>
                  </a:lnTo>
                  <a:lnTo>
                    <a:pt x="199" y="1035"/>
                  </a:lnTo>
                  <a:lnTo>
                    <a:pt x="244" y="975"/>
                  </a:lnTo>
                  <a:lnTo>
                    <a:pt x="296" y="908"/>
                  </a:lnTo>
                  <a:lnTo>
                    <a:pt x="323" y="874"/>
                  </a:lnTo>
                  <a:lnTo>
                    <a:pt x="354" y="838"/>
                  </a:lnTo>
                  <a:lnTo>
                    <a:pt x="387" y="799"/>
                  </a:lnTo>
                  <a:lnTo>
                    <a:pt x="420" y="762"/>
                  </a:lnTo>
                  <a:lnTo>
                    <a:pt x="455" y="722"/>
                  </a:lnTo>
                  <a:lnTo>
                    <a:pt x="492" y="684"/>
                  </a:lnTo>
                  <a:lnTo>
                    <a:pt x="531" y="644"/>
                  </a:lnTo>
                  <a:lnTo>
                    <a:pt x="572" y="604"/>
                  </a:lnTo>
                  <a:lnTo>
                    <a:pt x="613" y="565"/>
                  </a:lnTo>
                  <a:lnTo>
                    <a:pt x="656" y="525"/>
                  </a:lnTo>
                  <a:lnTo>
                    <a:pt x="701" y="487"/>
                  </a:lnTo>
                  <a:lnTo>
                    <a:pt x="747" y="448"/>
                  </a:lnTo>
                  <a:lnTo>
                    <a:pt x="795" y="411"/>
                  </a:lnTo>
                  <a:lnTo>
                    <a:pt x="844" y="375"/>
                  </a:lnTo>
                  <a:lnTo>
                    <a:pt x="895" y="340"/>
                  </a:lnTo>
                  <a:lnTo>
                    <a:pt x="945" y="307"/>
                  </a:lnTo>
                  <a:lnTo>
                    <a:pt x="999" y="274"/>
                  </a:lnTo>
                  <a:lnTo>
                    <a:pt x="1052" y="243"/>
                  </a:lnTo>
                  <a:lnTo>
                    <a:pt x="1108" y="215"/>
                  </a:lnTo>
                  <a:lnTo>
                    <a:pt x="1164" y="189"/>
                  </a:lnTo>
                  <a:lnTo>
                    <a:pt x="1222" y="164"/>
                  </a:lnTo>
                  <a:lnTo>
                    <a:pt x="1281" y="142"/>
                  </a:lnTo>
                  <a:lnTo>
                    <a:pt x="1340" y="123"/>
                  </a:lnTo>
                  <a:lnTo>
                    <a:pt x="1401" y="10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6211800" y="5245200"/>
              <a:ext cx="1198800" cy="511200"/>
            </a:xfrm>
            <a:custGeom>
              <a:avLst/>
              <a:gdLst/>
              <a:ahLst/>
              <a:rect l="l" t="t" r="r" b="b"/>
              <a:pathLst>
                <a:path w="3020" h="1289">
                  <a:moveTo>
                    <a:pt x="0" y="1030"/>
                  </a:moveTo>
                  <a:lnTo>
                    <a:pt x="11" y="1012"/>
                  </a:lnTo>
                  <a:lnTo>
                    <a:pt x="44" y="961"/>
                  </a:lnTo>
                  <a:lnTo>
                    <a:pt x="66" y="927"/>
                  </a:lnTo>
                  <a:lnTo>
                    <a:pt x="95" y="886"/>
                  </a:lnTo>
                  <a:lnTo>
                    <a:pt x="128" y="841"/>
                  </a:lnTo>
                  <a:lnTo>
                    <a:pt x="167" y="790"/>
                  </a:lnTo>
                  <a:lnTo>
                    <a:pt x="210" y="737"/>
                  </a:lnTo>
                  <a:lnTo>
                    <a:pt x="257" y="681"/>
                  </a:lnTo>
                  <a:lnTo>
                    <a:pt x="308" y="623"/>
                  </a:lnTo>
                  <a:lnTo>
                    <a:pt x="365" y="562"/>
                  </a:lnTo>
                  <a:lnTo>
                    <a:pt x="425" y="502"/>
                  </a:lnTo>
                  <a:lnTo>
                    <a:pt x="490" y="441"/>
                  </a:lnTo>
                  <a:lnTo>
                    <a:pt x="558" y="383"/>
                  </a:lnTo>
                  <a:lnTo>
                    <a:pt x="630" y="325"/>
                  </a:lnTo>
                  <a:lnTo>
                    <a:pt x="707" y="270"/>
                  </a:lnTo>
                  <a:lnTo>
                    <a:pt x="786" y="217"/>
                  </a:lnTo>
                  <a:lnTo>
                    <a:pt x="869" y="170"/>
                  </a:lnTo>
                  <a:lnTo>
                    <a:pt x="956" y="125"/>
                  </a:lnTo>
                  <a:lnTo>
                    <a:pt x="1047" y="87"/>
                  </a:lnTo>
                  <a:lnTo>
                    <a:pt x="1141" y="54"/>
                  </a:lnTo>
                  <a:lnTo>
                    <a:pt x="1238" y="28"/>
                  </a:lnTo>
                  <a:lnTo>
                    <a:pt x="1338" y="11"/>
                  </a:lnTo>
                  <a:lnTo>
                    <a:pt x="1441" y="1"/>
                  </a:lnTo>
                  <a:lnTo>
                    <a:pt x="1546" y="0"/>
                  </a:lnTo>
                  <a:lnTo>
                    <a:pt x="1654" y="8"/>
                  </a:lnTo>
                  <a:lnTo>
                    <a:pt x="1766" y="28"/>
                  </a:lnTo>
                  <a:lnTo>
                    <a:pt x="1880" y="59"/>
                  </a:lnTo>
                  <a:lnTo>
                    <a:pt x="1996" y="101"/>
                  </a:lnTo>
                  <a:lnTo>
                    <a:pt x="2115" y="156"/>
                  </a:lnTo>
                  <a:lnTo>
                    <a:pt x="2235" y="226"/>
                  </a:lnTo>
                  <a:lnTo>
                    <a:pt x="2244" y="234"/>
                  </a:lnTo>
                  <a:lnTo>
                    <a:pt x="2270" y="258"/>
                  </a:lnTo>
                  <a:lnTo>
                    <a:pt x="2311" y="296"/>
                  </a:lnTo>
                  <a:lnTo>
                    <a:pt x="2363" y="347"/>
                  </a:lnTo>
                  <a:lnTo>
                    <a:pt x="2425" y="409"/>
                  </a:lnTo>
                  <a:lnTo>
                    <a:pt x="2494" y="479"/>
                  </a:lnTo>
                  <a:lnTo>
                    <a:pt x="2567" y="557"/>
                  </a:lnTo>
                  <a:lnTo>
                    <a:pt x="2641" y="640"/>
                  </a:lnTo>
                  <a:lnTo>
                    <a:pt x="2680" y="682"/>
                  </a:lnTo>
                  <a:lnTo>
                    <a:pt x="2717" y="726"/>
                  </a:lnTo>
                  <a:lnTo>
                    <a:pt x="2753" y="770"/>
                  </a:lnTo>
                  <a:lnTo>
                    <a:pt x="2788" y="815"/>
                  </a:lnTo>
                  <a:lnTo>
                    <a:pt x="2823" y="860"/>
                  </a:lnTo>
                  <a:lnTo>
                    <a:pt x="2855" y="903"/>
                  </a:lnTo>
                  <a:lnTo>
                    <a:pt x="2885" y="948"/>
                  </a:lnTo>
                  <a:lnTo>
                    <a:pt x="2913" y="990"/>
                  </a:lnTo>
                  <a:lnTo>
                    <a:pt x="2938" y="1033"/>
                  </a:lnTo>
                  <a:lnTo>
                    <a:pt x="2962" y="1074"/>
                  </a:lnTo>
                  <a:lnTo>
                    <a:pt x="2980" y="1115"/>
                  </a:lnTo>
                  <a:lnTo>
                    <a:pt x="2997" y="1154"/>
                  </a:lnTo>
                  <a:lnTo>
                    <a:pt x="3009" y="1191"/>
                  </a:lnTo>
                  <a:lnTo>
                    <a:pt x="3016" y="1226"/>
                  </a:lnTo>
                  <a:lnTo>
                    <a:pt x="3020" y="1258"/>
                  </a:lnTo>
                  <a:lnTo>
                    <a:pt x="3019" y="1289"/>
                  </a:lnTo>
                  <a:lnTo>
                    <a:pt x="2861" y="1266"/>
                  </a:lnTo>
                  <a:lnTo>
                    <a:pt x="2854" y="1254"/>
                  </a:lnTo>
                  <a:lnTo>
                    <a:pt x="2834" y="1219"/>
                  </a:lnTo>
                  <a:lnTo>
                    <a:pt x="2802" y="1166"/>
                  </a:lnTo>
                  <a:lnTo>
                    <a:pt x="2758" y="1097"/>
                  </a:lnTo>
                  <a:lnTo>
                    <a:pt x="2732" y="1058"/>
                  </a:lnTo>
                  <a:lnTo>
                    <a:pt x="2704" y="1016"/>
                  </a:lnTo>
                  <a:lnTo>
                    <a:pt x="2674" y="971"/>
                  </a:lnTo>
                  <a:lnTo>
                    <a:pt x="2641" y="925"/>
                  </a:lnTo>
                  <a:lnTo>
                    <a:pt x="2607" y="878"/>
                  </a:lnTo>
                  <a:lnTo>
                    <a:pt x="2571" y="830"/>
                  </a:lnTo>
                  <a:lnTo>
                    <a:pt x="2532" y="780"/>
                  </a:lnTo>
                  <a:lnTo>
                    <a:pt x="2492" y="732"/>
                  </a:lnTo>
                  <a:lnTo>
                    <a:pt x="2450" y="683"/>
                  </a:lnTo>
                  <a:lnTo>
                    <a:pt x="2408" y="635"/>
                  </a:lnTo>
                  <a:lnTo>
                    <a:pt x="2365" y="589"/>
                  </a:lnTo>
                  <a:lnTo>
                    <a:pt x="2319" y="543"/>
                  </a:lnTo>
                  <a:lnTo>
                    <a:pt x="2273" y="501"/>
                  </a:lnTo>
                  <a:lnTo>
                    <a:pt x="2225" y="460"/>
                  </a:lnTo>
                  <a:lnTo>
                    <a:pt x="2178" y="422"/>
                  </a:lnTo>
                  <a:lnTo>
                    <a:pt x="2130" y="388"/>
                  </a:lnTo>
                  <a:lnTo>
                    <a:pt x="2081" y="357"/>
                  </a:lnTo>
                  <a:lnTo>
                    <a:pt x="2032" y="330"/>
                  </a:lnTo>
                  <a:lnTo>
                    <a:pt x="1983" y="309"/>
                  </a:lnTo>
                  <a:lnTo>
                    <a:pt x="1934" y="291"/>
                  </a:lnTo>
                  <a:lnTo>
                    <a:pt x="1884" y="279"/>
                  </a:lnTo>
                  <a:lnTo>
                    <a:pt x="1836" y="274"/>
                  </a:lnTo>
                  <a:lnTo>
                    <a:pt x="1787" y="274"/>
                  </a:lnTo>
                  <a:lnTo>
                    <a:pt x="1739" y="281"/>
                  </a:lnTo>
                  <a:lnTo>
                    <a:pt x="1728" y="280"/>
                  </a:lnTo>
                  <a:lnTo>
                    <a:pt x="1694" y="278"/>
                  </a:lnTo>
                  <a:lnTo>
                    <a:pt x="1669" y="276"/>
                  </a:lnTo>
                  <a:lnTo>
                    <a:pt x="1641" y="275"/>
                  </a:lnTo>
                  <a:lnTo>
                    <a:pt x="1608" y="275"/>
                  </a:lnTo>
                  <a:lnTo>
                    <a:pt x="1571" y="275"/>
                  </a:lnTo>
                  <a:lnTo>
                    <a:pt x="1530" y="278"/>
                  </a:lnTo>
                  <a:lnTo>
                    <a:pt x="1487" y="280"/>
                  </a:lnTo>
                  <a:lnTo>
                    <a:pt x="1439" y="285"/>
                  </a:lnTo>
                  <a:lnTo>
                    <a:pt x="1390" y="291"/>
                  </a:lnTo>
                  <a:lnTo>
                    <a:pt x="1338" y="300"/>
                  </a:lnTo>
                  <a:lnTo>
                    <a:pt x="1283" y="311"/>
                  </a:lnTo>
                  <a:lnTo>
                    <a:pt x="1226" y="324"/>
                  </a:lnTo>
                  <a:lnTo>
                    <a:pt x="1168" y="340"/>
                  </a:lnTo>
                  <a:lnTo>
                    <a:pt x="1108" y="358"/>
                  </a:lnTo>
                  <a:lnTo>
                    <a:pt x="1047" y="381"/>
                  </a:lnTo>
                  <a:lnTo>
                    <a:pt x="985" y="405"/>
                  </a:lnTo>
                  <a:lnTo>
                    <a:pt x="923" y="435"/>
                  </a:lnTo>
                  <a:lnTo>
                    <a:pt x="861" y="469"/>
                  </a:lnTo>
                  <a:lnTo>
                    <a:pt x="799" y="505"/>
                  </a:lnTo>
                  <a:lnTo>
                    <a:pt x="737" y="547"/>
                  </a:lnTo>
                  <a:lnTo>
                    <a:pt x="675" y="593"/>
                  </a:lnTo>
                  <a:lnTo>
                    <a:pt x="615" y="644"/>
                  </a:lnTo>
                  <a:lnTo>
                    <a:pt x="555" y="699"/>
                  </a:lnTo>
                  <a:lnTo>
                    <a:pt x="497" y="760"/>
                  </a:lnTo>
                  <a:lnTo>
                    <a:pt x="441" y="827"/>
                  </a:lnTo>
                  <a:lnTo>
                    <a:pt x="388" y="900"/>
                  </a:lnTo>
                  <a:lnTo>
                    <a:pt x="337" y="979"/>
                  </a:lnTo>
                  <a:lnTo>
                    <a:pt x="287" y="1063"/>
                  </a:lnTo>
                  <a:lnTo>
                    <a:pt x="241" y="1155"/>
                  </a:lnTo>
                  <a:lnTo>
                    <a:pt x="0" y="103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6192720" y="5230800"/>
              <a:ext cx="1231920" cy="542880"/>
            </a:xfrm>
            <a:custGeom>
              <a:avLst/>
              <a:gdLst/>
              <a:ahLst/>
              <a:rect l="l" t="t" r="r" b="b"/>
              <a:pathLst>
                <a:path w="3105" h="1366">
                  <a:moveTo>
                    <a:pt x="1248" y="37"/>
                  </a:moveTo>
                  <a:lnTo>
                    <a:pt x="1179" y="57"/>
                  </a:lnTo>
                  <a:lnTo>
                    <a:pt x="1111" y="79"/>
                  </a:lnTo>
                  <a:lnTo>
                    <a:pt x="1046" y="104"/>
                  </a:lnTo>
                  <a:lnTo>
                    <a:pt x="982" y="133"/>
                  </a:lnTo>
                  <a:lnTo>
                    <a:pt x="920" y="164"/>
                  </a:lnTo>
                  <a:lnTo>
                    <a:pt x="860" y="197"/>
                  </a:lnTo>
                  <a:lnTo>
                    <a:pt x="802" y="232"/>
                  </a:lnTo>
                  <a:lnTo>
                    <a:pt x="745" y="269"/>
                  </a:lnTo>
                  <a:lnTo>
                    <a:pt x="690" y="307"/>
                  </a:lnTo>
                  <a:lnTo>
                    <a:pt x="637" y="347"/>
                  </a:lnTo>
                  <a:lnTo>
                    <a:pt x="586" y="388"/>
                  </a:lnTo>
                  <a:lnTo>
                    <a:pt x="537" y="430"/>
                  </a:lnTo>
                  <a:lnTo>
                    <a:pt x="490" y="472"/>
                  </a:lnTo>
                  <a:lnTo>
                    <a:pt x="445" y="515"/>
                  </a:lnTo>
                  <a:lnTo>
                    <a:pt x="402" y="557"/>
                  </a:lnTo>
                  <a:lnTo>
                    <a:pt x="362" y="599"/>
                  </a:lnTo>
                  <a:lnTo>
                    <a:pt x="322" y="641"/>
                  </a:lnTo>
                  <a:lnTo>
                    <a:pt x="286" y="682"/>
                  </a:lnTo>
                  <a:lnTo>
                    <a:pt x="252" y="723"/>
                  </a:lnTo>
                  <a:lnTo>
                    <a:pt x="221" y="762"/>
                  </a:lnTo>
                  <a:lnTo>
                    <a:pt x="190" y="800"/>
                  </a:lnTo>
                  <a:lnTo>
                    <a:pt x="162" y="836"/>
                  </a:lnTo>
                  <a:lnTo>
                    <a:pt x="137" y="869"/>
                  </a:lnTo>
                  <a:lnTo>
                    <a:pt x="114" y="902"/>
                  </a:lnTo>
                  <a:lnTo>
                    <a:pt x="75" y="958"/>
                  </a:lnTo>
                  <a:lnTo>
                    <a:pt x="47" y="1002"/>
                  </a:lnTo>
                  <a:lnTo>
                    <a:pt x="27" y="1033"/>
                  </a:lnTo>
                  <a:lnTo>
                    <a:pt x="18" y="1048"/>
                  </a:lnTo>
                  <a:lnTo>
                    <a:pt x="0" y="1080"/>
                  </a:lnTo>
                  <a:lnTo>
                    <a:pt x="308" y="1239"/>
                  </a:lnTo>
                  <a:lnTo>
                    <a:pt x="322" y="1206"/>
                  </a:lnTo>
                  <a:lnTo>
                    <a:pt x="367" y="1118"/>
                  </a:lnTo>
                  <a:lnTo>
                    <a:pt x="414" y="1036"/>
                  </a:lnTo>
                  <a:lnTo>
                    <a:pt x="464" y="960"/>
                  </a:lnTo>
                  <a:lnTo>
                    <a:pt x="516" y="891"/>
                  </a:lnTo>
                  <a:lnTo>
                    <a:pt x="570" y="825"/>
                  </a:lnTo>
                  <a:lnTo>
                    <a:pt x="625" y="766"/>
                  </a:lnTo>
                  <a:lnTo>
                    <a:pt x="684" y="712"/>
                  </a:lnTo>
                  <a:lnTo>
                    <a:pt x="742" y="662"/>
                  </a:lnTo>
                  <a:lnTo>
                    <a:pt x="802" y="618"/>
                  </a:lnTo>
                  <a:lnTo>
                    <a:pt x="861" y="577"/>
                  </a:lnTo>
                  <a:lnTo>
                    <a:pt x="922" y="541"/>
                  </a:lnTo>
                  <a:lnTo>
                    <a:pt x="983" y="508"/>
                  </a:lnTo>
                  <a:lnTo>
                    <a:pt x="1043" y="480"/>
                  </a:lnTo>
                  <a:lnTo>
                    <a:pt x="1102" y="455"/>
                  </a:lnTo>
                  <a:lnTo>
                    <a:pt x="1162" y="433"/>
                  </a:lnTo>
                  <a:lnTo>
                    <a:pt x="1220" y="414"/>
                  </a:lnTo>
                  <a:lnTo>
                    <a:pt x="1277" y="398"/>
                  </a:lnTo>
                  <a:lnTo>
                    <a:pt x="1332" y="384"/>
                  </a:lnTo>
                  <a:lnTo>
                    <a:pt x="1385" y="374"/>
                  </a:lnTo>
                  <a:lnTo>
                    <a:pt x="1436" y="366"/>
                  </a:lnTo>
                  <a:lnTo>
                    <a:pt x="1486" y="358"/>
                  </a:lnTo>
                  <a:lnTo>
                    <a:pt x="1532" y="353"/>
                  </a:lnTo>
                  <a:lnTo>
                    <a:pt x="1575" y="351"/>
                  </a:lnTo>
                  <a:lnTo>
                    <a:pt x="1615" y="348"/>
                  </a:lnTo>
                  <a:lnTo>
                    <a:pt x="1651" y="347"/>
                  </a:lnTo>
                  <a:lnTo>
                    <a:pt x="1683" y="347"/>
                  </a:lnTo>
                  <a:lnTo>
                    <a:pt x="1712" y="348"/>
                  </a:lnTo>
                  <a:lnTo>
                    <a:pt x="1736" y="348"/>
                  </a:lnTo>
                  <a:lnTo>
                    <a:pt x="1770" y="351"/>
                  </a:lnTo>
                  <a:lnTo>
                    <a:pt x="1783" y="352"/>
                  </a:lnTo>
                  <a:lnTo>
                    <a:pt x="1830" y="346"/>
                  </a:lnTo>
                  <a:lnTo>
                    <a:pt x="1876" y="346"/>
                  </a:lnTo>
                  <a:lnTo>
                    <a:pt x="1924" y="352"/>
                  </a:lnTo>
                  <a:lnTo>
                    <a:pt x="1971" y="363"/>
                  </a:lnTo>
                  <a:lnTo>
                    <a:pt x="2019" y="379"/>
                  </a:lnTo>
                  <a:lnTo>
                    <a:pt x="2067" y="402"/>
                  </a:lnTo>
                  <a:lnTo>
                    <a:pt x="2114" y="428"/>
                  </a:lnTo>
                  <a:lnTo>
                    <a:pt x="2161" y="458"/>
                  </a:lnTo>
                  <a:lnTo>
                    <a:pt x="2209" y="491"/>
                  </a:lnTo>
                  <a:lnTo>
                    <a:pt x="2255" y="528"/>
                  </a:lnTo>
                  <a:lnTo>
                    <a:pt x="2301" y="567"/>
                  </a:lnTo>
                  <a:lnTo>
                    <a:pt x="2345" y="609"/>
                  </a:lnTo>
                  <a:lnTo>
                    <a:pt x="2389" y="654"/>
                  </a:lnTo>
                  <a:lnTo>
                    <a:pt x="2431" y="698"/>
                  </a:lnTo>
                  <a:lnTo>
                    <a:pt x="2473" y="745"/>
                  </a:lnTo>
                  <a:lnTo>
                    <a:pt x="2514" y="793"/>
                  </a:lnTo>
                  <a:lnTo>
                    <a:pt x="2553" y="840"/>
                  </a:lnTo>
                  <a:lnTo>
                    <a:pt x="2590" y="888"/>
                  </a:lnTo>
                  <a:lnTo>
                    <a:pt x="2626" y="935"/>
                  </a:lnTo>
                  <a:lnTo>
                    <a:pt x="2659" y="981"/>
                  </a:lnTo>
                  <a:lnTo>
                    <a:pt x="2722" y="1069"/>
                  </a:lnTo>
                  <a:lnTo>
                    <a:pt x="2775" y="1150"/>
                  </a:lnTo>
                  <a:lnTo>
                    <a:pt x="2818" y="1218"/>
                  </a:lnTo>
                  <a:lnTo>
                    <a:pt x="2851" y="1271"/>
                  </a:lnTo>
                  <a:lnTo>
                    <a:pt x="2872" y="1306"/>
                  </a:lnTo>
                  <a:lnTo>
                    <a:pt x="2879" y="1320"/>
                  </a:lnTo>
                  <a:lnTo>
                    <a:pt x="2888" y="1335"/>
                  </a:lnTo>
                  <a:lnTo>
                    <a:pt x="3099" y="1366"/>
                  </a:lnTo>
                  <a:lnTo>
                    <a:pt x="3104" y="1330"/>
                  </a:lnTo>
                  <a:lnTo>
                    <a:pt x="3105" y="1299"/>
                  </a:lnTo>
                  <a:lnTo>
                    <a:pt x="3103" y="1265"/>
                  </a:lnTo>
                  <a:lnTo>
                    <a:pt x="3095" y="1229"/>
                  </a:lnTo>
                  <a:lnTo>
                    <a:pt x="3084" y="1193"/>
                  </a:lnTo>
                  <a:lnTo>
                    <a:pt x="3070" y="1155"/>
                  </a:lnTo>
                  <a:lnTo>
                    <a:pt x="3052" y="1115"/>
                  </a:lnTo>
                  <a:lnTo>
                    <a:pt x="3032" y="1074"/>
                  </a:lnTo>
                  <a:lnTo>
                    <a:pt x="3008" y="1033"/>
                  </a:lnTo>
                  <a:lnTo>
                    <a:pt x="2982" y="991"/>
                  </a:lnTo>
                  <a:lnTo>
                    <a:pt x="2954" y="949"/>
                  </a:lnTo>
                  <a:lnTo>
                    <a:pt x="2924" y="905"/>
                  </a:lnTo>
                  <a:lnTo>
                    <a:pt x="2893" y="862"/>
                  </a:lnTo>
                  <a:lnTo>
                    <a:pt x="2859" y="819"/>
                  </a:lnTo>
                  <a:lnTo>
                    <a:pt x="2825" y="775"/>
                  </a:lnTo>
                  <a:lnTo>
                    <a:pt x="2790" y="733"/>
                  </a:lnTo>
                  <a:lnTo>
                    <a:pt x="2754" y="691"/>
                  </a:lnTo>
                  <a:lnTo>
                    <a:pt x="2681" y="608"/>
                  </a:lnTo>
                  <a:lnTo>
                    <a:pt x="2609" y="531"/>
                  </a:lnTo>
                  <a:lnTo>
                    <a:pt x="2539" y="459"/>
                  </a:lnTo>
                  <a:lnTo>
                    <a:pt x="2474" y="393"/>
                  </a:lnTo>
                  <a:lnTo>
                    <a:pt x="2417" y="337"/>
                  </a:lnTo>
                  <a:lnTo>
                    <a:pt x="2369" y="291"/>
                  </a:lnTo>
                  <a:lnTo>
                    <a:pt x="2332" y="257"/>
                  </a:lnTo>
                  <a:lnTo>
                    <a:pt x="2308" y="235"/>
                  </a:lnTo>
                  <a:lnTo>
                    <a:pt x="2276" y="214"/>
                  </a:lnTo>
                  <a:lnTo>
                    <a:pt x="2242" y="196"/>
                  </a:lnTo>
                  <a:lnTo>
                    <a:pt x="2209" y="177"/>
                  </a:lnTo>
                  <a:lnTo>
                    <a:pt x="2175" y="160"/>
                  </a:lnTo>
                  <a:lnTo>
                    <a:pt x="2143" y="144"/>
                  </a:lnTo>
                  <a:lnTo>
                    <a:pt x="2109" y="128"/>
                  </a:lnTo>
                  <a:lnTo>
                    <a:pt x="2076" y="113"/>
                  </a:lnTo>
                  <a:lnTo>
                    <a:pt x="2042" y="99"/>
                  </a:lnTo>
                  <a:lnTo>
                    <a:pt x="2010" y="87"/>
                  </a:lnTo>
                  <a:lnTo>
                    <a:pt x="1976" y="74"/>
                  </a:lnTo>
                  <a:lnTo>
                    <a:pt x="1943" y="63"/>
                  </a:lnTo>
                  <a:lnTo>
                    <a:pt x="1911" y="53"/>
                  </a:lnTo>
                  <a:lnTo>
                    <a:pt x="1877" y="43"/>
                  </a:lnTo>
                  <a:lnTo>
                    <a:pt x="1844" y="34"/>
                  </a:lnTo>
                  <a:lnTo>
                    <a:pt x="1810" y="27"/>
                  </a:lnTo>
                  <a:lnTo>
                    <a:pt x="1778" y="21"/>
                  </a:lnTo>
                  <a:lnTo>
                    <a:pt x="1744" y="15"/>
                  </a:lnTo>
                  <a:lnTo>
                    <a:pt x="1711" y="10"/>
                  </a:lnTo>
                  <a:lnTo>
                    <a:pt x="1677" y="6"/>
                  </a:lnTo>
                  <a:lnTo>
                    <a:pt x="1645" y="3"/>
                  </a:lnTo>
                  <a:lnTo>
                    <a:pt x="1611" y="1"/>
                  </a:lnTo>
                  <a:lnTo>
                    <a:pt x="1578" y="0"/>
                  </a:lnTo>
                  <a:lnTo>
                    <a:pt x="1546" y="0"/>
                  </a:lnTo>
                  <a:lnTo>
                    <a:pt x="1512" y="0"/>
                  </a:lnTo>
                  <a:lnTo>
                    <a:pt x="1479" y="2"/>
                  </a:lnTo>
                  <a:lnTo>
                    <a:pt x="1446" y="5"/>
                  </a:lnTo>
                  <a:lnTo>
                    <a:pt x="1413" y="7"/>
                  </a:lnTo>
                  <a:lnTo>
                    <a:pt x="1379" y="12"/>
                  </a:lnTo>
                  <a:lnTo>
                    <a:pt x="1347" y="17"/>
                  </a:lnTo>
                  <a:lnTo>
                    <a:pt x="1313" y="23"/>
                  </a:lnTo>
                  <a:lnTo>
                    <a:pt x="1281" y="30"/>
                  </a:lnTo>
                  <a:lnTo>
                    <a:pt x="1248" y="37"/>
                  </a:lnTo>
                  <a:close/>
                  <a:moveTo>
                    <a:pt x="1265" y="106"/>
                  </a:moveTo>
                  <a:lnTo>
                    <a:pt x="1296" y="99"/>
                  </a:lnTo>
                  <a:lnTo>
                    <a:pt x="1327" y="93"/>
                  </a:lnTo>
                  <a:lnTo>
                    <a:pt x="1358" y="87"/>
                  </a:lnTo>
                  <a:lnTo>
                    <a:pt x="1390" y="82"/>
                  </a:lnTo>
                  <a:lnTo>
                    <a:pt x="1421" y="78"/>
                  </a:lnTo>
                  <a:lnTo>
                    <a:pt x="1452" y="75"/>
                  </a:lnTo>
                  <a:lnTo>
                    <a:pt x="1483" y="73"/>
                  </a:lnTo>
                  <a:lnTo>
                    <a:pt x="1515" y="72"/>
                  </a:lnTo>
                  <a:lnTo>
                    <a:pt x="1547" y="70"/>
                  </a:lnTo>
                  <a:lnTo>
                    <a:pt x="1578" y="72"/>
                  </a:lnTo>
                  <a:lnTo>
                    <a:pt x="1609" y="73"/>
                  </a:lnTo>
                  <a:lnTo>
                    <a:pt x="1640" y="74"/>
                  </a:lnTo>
                  <a:lnTo>
                    <a:pt x="1671" y="78"/>
                  </a:lnTo>
                  <a:lnTo>
                    <a:pt x="1703" y="80"/>
                  </a:lnTo>
                  <a:lnTo>
                    <a:pt x="1734" y="85"/>
                  </a:lnTo>
                  <a:lnTo>
                    <a:pt x="1765" y="90"/>
                  </a:lnTo>
                  <a:lnTo>
                    <a:pt x="1796" y="97"/>
                  </a:lnTo>
                  <a:lnTo>
                    <a:pt x="1829" y="104"/>
                  </a:lnTo>
                  <a:lnTo>
                    <a:pt x="1860" y="113"/>
                  </a:lnTo>
                  <a:lnTo>
                    <a:pt x="1891" y="121"/>
                  </a:lnTo>
                  <a:lnTo>
                    <a:pt x="1922" y="130"/>
                  </a:lnTo>
                  <a:lnTo>
                    <a:pt x="1954" y="141"/>
                  </a:lnTo>
                  <a:lnTo>
                    <a:pt x="1985" y="152"/>
                  </a:lnTo>
                  <a:lnTo>
                    <a:pt x="2016" y="165"/>
                  </a:lnTo>
                  <a:lnTo>
                    <a:pt x="2047" y="177"/>
                  </a:lnTo>
                  <a:lnTo>
                    <a:pt x="2078" y="191"/>
                  </a:lnTo>
                  <a:lnTo>
                    <a:pt x="2109" y="206"/>
                  </a:lnTo>
                  <a:lnTo>
                    <a:pt x="2142" y="222"/>
                  </a:lnTo>
                  <a:lnTo>
                    <a:pt x="2173" y="238"/>
                  </a:lnTo>
                  <a:lnTo>
                    <a:pt x="2204" y="255"/>
                  </a:lnTo>
                  <a:lnTo>
                    <a:pt x="2235" y="273"/>
                  </a:lnTo>
                  <a:lnTo>
                    <a:pt x="2266" y="291"/>
                  </a:lnTo>
                  <a:lnTo>
                    <a:pt x="2308" y="331"/>
                  </a:lnTo>
                  <a:lnTo>
                    <a:pt x="2358" y="378"/>
                  </a:lnTo>
                  <a:lnTo>
                    <a:pt x="2412" y="433"/>
                  </a:lnTo>
                  <a:lnTo>
                    <a:pt x="2471" y="491"/>
                  </a:lnTo>
                  <a:lnTo>
                    <a:pt x="2532" y="554"/>
                  </a:lnTo>
                  <a:lnTo>
                    <a:pt x="2594" y="621"/>
                  </a:lnTo>
                  <a:lnTo>
                    <a:pt x="2657" y="691"/>
                  </a:lnTo>
                  <a:lnTo>
                    <a:pt x="2718" y="763"/>
                  </a:lnTo>
                  <a:lnTo>
                    <a:pt x="2777" y="835"/>
                  </a:lnTo>
                  <a:lnTo>
                    <a:pt x="2833" y="907"/>
                  </a:lnTo>
                  <a:lnTo>
                    <a:pt x="2859" y="941"/>
                  </a:lnTo>
                  <a:lnTo>
                    <a:pt x="2885" y="977"/>
                  </a:lnTo>
                  <a:lnTo>
                    <a:pt x="2909" y="1012"/>
                  </a:lnTo>
                  <a:lnTo>
                    <a:pt x="2930" y="1046"/>
                  </a:lnTo>
                  <a:lnTo>
                    <a:pt x="2951" y="1079"/>
                  </a:lnTo>
                  <a:lnTo>
                    <a:pt x="2969" y="1113"/>
                  </a:lnTo>
                  <a:lnTo>
                    <a:pt x="2985" y="1144"/>
                  </a:lnTo>
                  <a:lnTo>
                    <a:pt x="3000" y="1175"/>
                  </a:lnTo>
                  <a:lnTo>
                    <a:pt x="3011" y="1203"/>
                  </a:lnTo>
                  <a:lnTo>
                    <a:pt x="3020" y="1232"/>
                  </a:lnTo>
                  <a:lnTo>
                    <a:pt x="3026" y="1259"/>
                  </a:lnTo>
                  <a:lnTo>
                    <a:pt x="3029" y="1284"/>
                  </a:lnTo>
                  <a:lnTo>
                    <a:pt x="3001" y="1279"/>
                  </a:lnTo>
                  <a:lnTo>
                    <a:pt x="2974" y="1275"/>
                  </a:lnTo>
                  <a:lnTo>
                    <a:pt x="2950" y="1273"/>
                  </a:lnTo>
                  <a:lnTo>
                    <a:pt x="2933" y="1270"/>
                  </a:lnTo>
                  <a:lnTo>
                    <a:pt x="2915" y="1239"/>
                  </a:lnTo>
                  <a:lnTo>
                    <a:pt x="2887" y="1192"/>
                  </a:lnTo>
                  <a:lnTo>
                    <a:pt x="2848" y="1129"/>
                  </a:lnTo>
                  <a:lnTo>
                    <a:pt x="2800" y="1054"/>
                  </a:lnTo>
                  <a:lnTo>
                    <a:pt x="2771" y="1013"/>
                  </a:lnTo>
                  <a:lnTo>
                    <a:pt x="2741" y="970"/>
                  </a:lnTo>
                  <a:lnTo>
                    <a:pt x="2710" y="927"/>
                  </a:lnTo>
                  <a:lnTo>
                    <a:pt x="2677" y="881"/>
                  </a:lnTo>
                  <a:lnTo>
                    <a:pt x="2642" y="833"/>
                  </a:lnTo>
                  <a:lnTo>
                    <a:pt x="2605" y="788"/>
                  </a:lnTo>
                  <a:lnTo>
                    <a:pt x="2566" y="740"/>
                  </a:lnTo>
                  <a:lnTo>
                    <a:pt x="2527" y="693"/>
                  </a:lnTo>
                  <a:lnTo>
                    <a:pt x="2486" y="647"/>
                  </a:lnTo>
                  <a:lnTo>
                    <a:pt x="2443" y="603"/>
                  </a:lnTo>
                  <a:lnTo>
                    <a:pt x="2399" y="559"/>
                  </a:lnTo>
                  <a:lnTo>
                    <a:pt x="2355" y="517"/>
                  </a:lnTo>
                  <a:lnTo>
                    <a:pt x="2309" y="477"/>
                  </a:lnTo>
                  <a:lnTo>
                    <a:pt x="2263" y="440"/>
                  </a:lnTo>
                  <a:lnTo>
                    <a:pt x="2216" y="405"/>
                  </a:lnTo>
                  <a:lnTo>
                    <a:pt x="2169" y="373"/>
                  </a:lnTo>
                  <a:lnTo>
                    <a:pt x="2120" y="346"/>
                  </a:lnTo>
                  <a:lnTo>
                    <a:pt x="2072" y="322"/>
                  </a:lnTo>
                  <a:lnTo>
                    <a:pt x="2024" y="302"/>
                  </a:lnTo>
                  <a:lnTo>
                    <a:pt x="1975" y="288"/>
                  </a:lnTo>
                  <a:lnTo>
                    <a:pt x="1926" y="278"/>
                  </a:lnTo>
                  <a:lnTo>
                    <a:pt x="1877" y="274"/>
                  </a:lnTo>
                  <a:lnTo>
                    <a:pt x="1829" y="275"/>
                  </a:lnTo>
                  <a:lnTo>
                    <a:pt x="1780" y="281"/>
                  </a:lnTo>
                  <a:lnTo>
                    <a:pt x="1769" y="280"/>
                  </a:lnTo>
                  <a:lnTo>
                    <a:pt x="1736" y="278"/>
                  </a:lnTo>
                  <a:lnTo>
                    <a:pt x="1712" y="278"/>
                  </a:lnTo>
                  <a:lnTo>
                    <a:pt x="1683" y="276"/>
                  </a:lnTo>
                  <a:lnTo>
                    <a:pt x="1651" y="276"/>
                  </a:lnTo>
                  <a:lnTo>
                    <a:pt x="1614" y="278"/>
                  </a:lnTo>
                  <a:lnTo>
                    <a:pt x="1574" y="280"/>
                  </a:lnTo>
                  <a:lnTo>
                    <a:pt x="1529" y="283"/>
                  </a:lnTo>
                  <a:lnTo>
                    <a:pt x="1483" y="288"/>
                  </a:lnTo>
                  <a:lnTo>
                    <a:pt x="1434" y="295"/>
                  </a:lnTo>
                  <a:lnTo>
                    <a:pt x="1380" y="304"/>
                  </a:lnTo>
                  <a:lnTo>
                    <a:pt x="1326" y="315"/>
                  </a:lnTo>
                  <a:lnTo>
                    <a:pt x="1270" y="327"/>
                  </a:lnTo>
                  <a:lnTo>
                    <a:pt x="1212" y="343"/>
                  </a:lnTo>
                  <a:lnTo>
                    <a:pt x="1152" y="362"/>
                  </a:lnTo>
                  <a:lnTo>
                    <a:pt x="1091" y="384"/>
                  </a:lnTo>
                  <a:lnTo>
                    <a:pt x="1029" y="410"/>
                  </a:lnTo>
                  <a:lnTo>
                    <a:pt x="967" y="439"/>
                  </a:lnTo>
                  <a:lnTo>
                    <a:pt x="904" y="471"/>
                  </a:lnTo>
                  <a:lnTo>
                    <a:pt x="841" y="508"/>
                  </a:lnTo>
                  <a:lnTo>
                    <a:pt x="779" y="549"/>
                  </a:lnTo>
                  <a:lnTo>
                    <a:pt x="717" y="594"/>
                  </a:lnTo>
                  <a:lnTo>
                    <a:pt x="656" y="644"/>
                  </a:lnTo>
                  <a:lnTo>
                    <a:pt x="596" y="700"/>
                  </a:lnTo>
                  <a:lnTo>
                    <a:pt x="537" y="759"/>
                  </a:lnTo>
                  <a:lnTo>
                    <a:pt x="481" y="825"/>
                  </a:lnTo>
                  <a:lnTo>
                    <a:pt x="427" y="896"/>
                  </a:lnTo>
                  <a:lnTo>
                    <a:pt x="373" y="972"/>
                  </a:lnTo>
                  <a:lnTo>
                    <a:pt x="324" y="1054"/>
                  </a:lnTo>
                  <a:lnTo>
                    <a:pt x="276" y="1144"/>
                  </a:lnTo>
                  <a:lnTo>
                    <a:pt x="239" y="1124"/>
                  </a:lnTo>
                  <a:lnTo>
                    <a:pt x="190" y="1098"/>
                  </a:lnTo>
                  <a:lnTo>
                    <a:pt x="140" y="1073"/>
                  </a:lnTo>
                  <a:lnTo>
                    <a:pt x="100" y="1052"/>
                  </a:lnTo>
                  <a:lnTo>
                    <a:pt x="121" y="1020"/>
                  </a:lnTo>
                  <a:lnTo>
                    <a:pt x="150" y="976"/>
                  </a:lnTo>
                  <a:lnTo>
                    <a:pt x="187" y="925"/>
                  </a:lnTo>
                  <a:lnTo>
                    <a:pt x="231" y="866"/>
                  </a:lnTo>
                  <a:lnTo>
                    <a:pt x="255" y="833"/>
                  </a:lnTo>
                  <a:lnTo>
                    <a:pt x="281" y="801"/>
                  </a:lnTo>
                  <a:lnTo>
                    <a:pt x="310" y="766"/>
                  </a:lnTo>
                  <a:lnTo>
                    <a:pt x="341" y="732"/>
                  </a:lnTo>
                  <a:lnTo>
                    <a:pt x="372" y="696"/>
                  </a:lnTo>
                  <a:lnTo>
                    <a:pt x="406" y="659"/>
                  </a:lnTo>
                  <a:lnTo>
                    <a:pt x="440" y="623"/>
                  </a:lnTo>
                  <a:lnTo>
                    <a:pt x="478" y="585"/>
                  </a:lnTo>
                  <a:lnTo>
                    <a:pt x="516" y="548"/>
                  </a:lnTo>
                  <a:lnTo>
                    <a:pt x="556" y="511"/>
                  </a:lnTo>
                  <a:lnTo>
                    <a:pt x="598" y="474"/>
                  </a:lnTo>
                  <a:lnTo>
                    <a:pt x="640" y="438"/>
                  </a:lnTo>
                  <a:lnTo>
                    <a:pt x="685" y="402"/>
                  </a:lnTo>
                  <a:lnTo>
                    <a:pt x="731" y="367"/>
                  </a:lnTo>
                  <a:lnTo>
                    <a:pt x="778" y="333"/>
                  </a:lnTo>
                  <a:lnTo>
                    <a:pt x="828" y="301"/>
                  </a:lnTo>
                  <a:lnTo>
                    <a:pt x="878" y="270"/>
                  </a:lnTo>
                  <a:lnTo>
                    <a:pt x="928" y="240"/>
                  </a:lnTo>
                  <a:lnTo>
                    <a:pt x="982" y="213"/>
                  </a:lnTo>
                  <a:lnTo>
                    <a:pt x="1036" y="187"/>
                  </a:lnTo>
                  <a:lnTo>
                    <a:pt x="1091" y="164"/>
                  </a:lnTo>
                  <a:lnTo>
                    <a:pt x="1148" y="141"/>
                  </a:lnTo>
                  <a:lnTo>
                    <a:pt x="1207" y="123"/>
                  </a:lnTo>
                  <a:lnTo>
                    <a:pt x="1265" y="106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6240600" y="5332320"/>
              <a:ext cx="1157040" cy="495360"/>
            </a:xfrm>
            <a:custGeom>
              <a:avLst/>
              <a:gdLst/>
              <a:ahLst/>
              <a:rect l="l" t="t" r="r" b="b"/>
              <a:pathLst>
                <a:path w="2913" h="1250">
                  <a:moveTo>
                    <a:pt x="0" y="907"/>
                  </a:moveTo>
                  <a:lnTo>
                    <a:pt x="11" y="891"/>
                  </a:lnTo>
                  <a:lnTo>
                    <a:pt x="40" y="845"/>
                  </a:lnTo>
                  <a:lnTo>
                    <a:pt x="64" y="814"/>
                  </a:lnTo>
                  <a:lnTo>
                    <a:pt x="91" y="777"/>
                  </a:lnTo>
                  <a:lnTo>
                    <a:pt x="124" y="735"/>
                  </a:lnTo>
                  <a:lnTo>
                    <a:pt x="161" y="690"/>
                  </a:lnTo>
                  <a:lnTo>
                    <a:pt x="202" y="642"/>
                  </a:lnTo>
                  <a:lnTo>
                    <a:pt x="248" y="591"/>
                  </a:lnTo>
                  <a:lnTo>
                    <a:pt x="298" y="538"/>
                  </a:lnTo>
                  <a:lnTo>
                    <a:pt x="352" y="484"/>
                  </a:lnTo>
                  <a:lnTo>
                    <a:pt x="411" y="430"/>
                  </a:lnTo>
                  <a:lnTo>
                    <a:pt x="474" y="376"/>
                  </a:lnTo>
                  <a:lnTo>
                    <a:pt x="540" y="323"/>
                  </a:lnTo>
                  <a:lnTo>
                    <a:pt x="610" y="272"/>
                  </a:lnTo>
                  <a:lnTo>
                    <a:pt x="685" y="222"/>
                  </a:lnTo>
                  <a:lnTo>
                    <a:pt x="763" y="178"/>
                  </a:lnTo>
                  <a:lnTo>
                    <a:pt x="845" y="136"/>
                  </a:lnTo>
                  <a:lnTo>
                    <a:pt x="930" y="97"/>
                  </a:lnTo>
                  <a:lnTo>
                    <a:pt x="1019" y="65"/>
                  </a:lnTo>
                  <a:lnTo>
                    <a:pt x="1111" y="39"/>
                  </a:lnTo>
                  <a:lnTo>
                    <a:pt x="1207" y="18"/>
                  </a:lnTo>
                  <a:lnTo>
                    <a:pt x="1305" y="5"/>
                  </a:lnTo>
                  <a:lnTo>
                    <a:pt x="1406" y="0"/>
                  </a:lnTo>
                  <a:lnTo>
                    <a:pt x="1511" y="3"/>
                  </a:lnTo>
                  <a:lnTo>
                    <a:pt x="1619" y="15"/>
                  </a:lnTo>
                  <a:lnTo>
                    <a:pt x="1729" y="38"/>
                  </a:lnTo>
                  <a:lnTo>
                    <a:pt x="1842" y="71"/>
                  </a:lnTo>
                  <a:lnTo>
                    <a:pt x="1958" y="116"/>
                  </a:lnTo>
                  <a:lnTo>
                    <a:pt x="2076" y="172"/>
                  </a:lnTo>
                  <a:lnTo>
                    <a:pt x="2196" y="241"/>
                  </a:lnTo>
                  <a:lnTo>
                    <a:pt x="2228" y="265"/>
                  </a:lnTo>
                  <a:lnTo>
                    <a:pt x="2314" y="332"/>
                  </a:lnTo>
                  <a:lnTo>
                    <a:pt x="2370" y="378"/>
                  </a:lnTo>
                  <a:lnTo>
                    <a:pt x="2433" y="431"/>
                  </a:lnTo>
                  <a:lnTo>
                    <a:pt x="2500" y="490"/>
                  </a:lnTo>
                  <a:lnTo>
                    <a:pt x="2569" y="555"/>
                  </a:lnTo>
                  <a:lnTo>
                    <a:pt x="2603" y="588"/>
                  </a:lnTo>
                  <a:lnTo>
                    <a:pt x="2637" y="623"/>
                  </a:lnTo>
                  <a:lnTo>
                    <a:pt x="2671" y="658"/>
                  </a:lnTo>
                  <a:lnTo>
                    <a:pt x="2703" y="693"/>
                  </a:lnTo>
                  <a:lnTo>
                    <a:pt x="2734" y="729"/>
                  </a:lnTo>
                  <a:lnTo>
                    <a:pt x="2764" y="765"/>
                  </a:lnTo>
                  <a:lnTo>
                    <a:pt x="2791" y="801"/>
                  </a:lnTo>
                  <a:lnTo>
                    <a:pt x="2817" y="837"/>
                  </a:lnTo>
                  <a:lnTo>
                    <a:pt x="2839" y="873"/>
                  </a:lnTo>
                  <a:lnTo>
                    <a:pt x="2861" y="909"/>
                  </a:lnTo>
                  <a:lnTo>
                    <a:pt x="2878" y="943"/>
                  </a:lnTo>
                  <a:lnTo>
                    <a:pt x="2893" y="977"/>
                  </a:lnTo>
                  <a:lnTo>
                    <a:pt x="2903" y="1010"/>
                  </a:lnTo>
                  <a:lnTo>
                    <a:pt x="2910" y="1043"/>
                  </a:lnTo>
                  <a:lnTo>
                    <a:pt x="2913" y="1074"/>
                  </a:lnTo>
                  <a:lnTo>
                    <a:pt x="2911" y="1105"/>
                  </a:lnTo>
                  <a:lnTo>
                    <a:pt x="2847" y="1250"/>
                  </a:lnTo>
                  <a:lnTo>
                    <a:pt x="2839" y="1237"/>
                  </a:lnTo>
                  <a:lnTo>
                    <a:pt x="2820" y="1203"/>
                  </a:lnTo>
                  <a:lnTo>
                    <a:pt x="2787" y="1149"/>
                  </a:lnTo>
                  <a:lnTo>
                    <a:pt x="2744" y="1080"/>
                  </a:lnTo>
                  <a:lnTo>
                    <a:pt x="2689" y="998"/>
                  </a:lnTo>
                  <a:lnTo>
                    <a:pt x="2626" y="907"/>
                  </a:lnTo>
                  <a:lnTo>
                    <a:pt x="2592" y="860"/>
                  </a:lnTo>
                  <a:lnTo>
                    <a:pt x="2555" y="812"/>
                  </a:lnTo>
                  <a:lnTo>
                    <a:pt x="2517" y="763"/>
                  </a:lnTo>
                  <a:lnTo>
                    <a:pt x="2477" y="714"/>
                  </a:lnTo>
                  <a:lnTo>
                    <a:pt x="2436" y="665"/>
                  </a:lnTo>
                  <a:lnTo>
                    <a:pt x="2394" y="618"/>
                  </a:lnTo>
                  <a:lnTo>
                    <a:pt x="2349" y="571"/>
                  </a:lnTo>
                  <a:lnTo>
                    <a:pt x="2304" y="526"/>
                  </a:lnTo>
                  <a:lnTo>
                    <a:pt x="2258" y="483"/>
                  </a:lnTo>
                  <a:lnTo>
                    <a:pt x="2211" y="442"/>
                  </a:lnTo>
                  <a:lnTo>
                    <a:pt x="2164" y="405"/>
                  </a:lnTo>
                  <a:lnTo>
                    <a:pt x="2115" y="370"/>
                  </a:lnTo>
                  <a:lnTo>
                    <a:pt x="2067" y="339"/>
                  </a:lnTo>
                  <a:lnTo>
                    <a:pt x="2017" y="313"/>
                  </a:lnTo>
                  <a:lnTo>
                    <a:pt x="1969" y="291"/>
                  </a:lnTo>
                  <a:lnTo>
                    <a:pt x="1919" y="273"/>
                  </a:lnTo>
                  <a:lnTo>
                    <a:pt x="1870" y="262"/>
                  </a:lnTo>
                  <a:lnTo>
                    <a:pt x="1821" y="256"/>
                  </a:lnTo>
                  <a:lnTo>
                    <a:pt x="1771" y="256"/>
                  </a:lnTo>
                  <a:lnTo>
                    <a:pt x="1724" y="263"/>
                  </a:lnTo>
                  <a:lnTo>
                    <a:pt x="1712" y="262"/>
                  </a:lnTo>
                  <a:lnTo>
                    <a:pt x="1678" y="260"/>
                  </a:lnTo>
                  <a:lnTo>
                    <a:pt x="1655" y="258"/>
                  </a:lnTo>
                  <a:lnTo>
                    <a:pt x="1626" y="257"/>
                  </a:lnTo>
                  <a:lnTo>
                    <a:pt x="1593" y="257"/>
                  </a:lnTo>
                  <a:lnTo>
                    <a:pt x="1557" y="258"/>
                  </a:lnTo>
                  <a:lnTo>
                    <a:pt x="1516" y="260"/>
                  </a:lnTo>
                  <a:lnTo>
                    <a:pt x="1472" y="263"/>
                  </a:lnTo>
                  <a:lnTo>
                    <a:pt x="1425" y="268"/>
                  </a:lnTo>
                  <a:lnTo>
                    <a:pt x="1374" y="275"/>
                  </a:lnTo>
                  <a:lnTo>
                    <a:pt x="1322" y="283"/>
                  </a:lnTo>
                  <a:lnTo>
                    <a:pt x="1267" y="293"/>
                  </a:lnTo>
                  <a:lnTo>
                    <a:pt x="1210" y="307"/>
                  </a:lnTo>
                  <a:lnTo>
                    <a:pt x="1153" y="322"/>
                  </a:lnTo>
                  <a:lnTo>
                    <a:pt x="1092" y="342"/>
                  </a:lnTo>
                  <a:lnTo>
                    <a:pt x="1031" y="363"/>
                  </a:lnTo>
                  <a:lnTo>
                    <a:pt x="971" y="389"/>
                  </a:lnTo>
                  <a:lnTo>
                    <a:pt x="908" y="417"/>
                  </a:lnTo>
                  <a:lnTo>
                    <a:pt x="845" y="451"/>
                  </a:lnTo>
                  <a:lnTo>
                    <a:pt x="783" y="488"/>
                  </a:lnTo>
                  <a:lnTo>
                    <a:pt x="721" y="529"/>
                  </a:lnTo>
                  <a:lnTo>
                    <a:pt x="660" y="575"/>
                  </a:lnTo>
                  <a:lnTo>
                    <a:pt x="599" y="627"/>
                  </a:lnTo>
                  <a:lnTo>
                    <a:pt x="541" y="683"/>
                  </a:lnTo>
                  <a:lnTo>
                    <a:pt x="483" y="744"/>
                  </a:lnTo>
                  <a:lnTo>
                    <a:pt x="427" y="811"/>
                  </a:lnTo>
                  <a:lnTo>
                    <a:pt x="373" y="882"/>
                  </a:lnTo>
                  <a:lnTo>
                    <a:pt x="321" y="961"/>
                  </a:lnTo>
                  <a:lnTo>
                    <a:pt x="273" y="1046"/>
                  </a:lnTo>
                  <a:lnTo>
                    <a:pt x="227" y="1137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6222960" y="5318280"/>
              <a:ext cx="1187640" cy="541080"/>
            </a:xfrm>
            <a:custGeom>
              <a:avLst/>
              <a:gdLst/>
              <a:ahLst/>
              <a:rect l="l" t="t" r="r" b="b"/>
              <a:pathLst>
                <a:path w="2991" h="1365">
                  <a:moveTo>
                    <a:pt x="1163" y="35"/>
                  </a:moveTo>
                  <a:lnTo>
                    <a:pt x="1099" y="52"/>
                  </a:lnTo>
                  <a:lnTo>
                    <a:pt x="1035" y="74"/>
                  </a:lnTo>
                  <a:lnTo>
                    <a:pt x="973" y="96"/>
                  </a:lnTo>
                  <a:lnTo>
                    <a:pt x="913" y="121"/>
                  </a:lnTo>
                  <a:lnTo>
                    <a:pt x="854" y="148"/>
                  </a:lnTo>
                  <a:lnTo>
                    <a:pt x="798" y="178"/>
                  </a:lnTo>
                  <a:lnTo>
                    <a:pt x="742" y="209"/>
                  </a:lnTo>
                  <a:lnTo>
                    <a:pt x="690" y="241"/>
                  </a:lnTo>
                  <a:lnTo>
                    <a:pt x="638" y="276"/>
                  </a:lnTo>
                  <a:lnTo>
                    <a:pt x="588" y="311"/>
                  </a:lnTo>
                  <a:lnTo>
                    <a:pt x="541" y="347"/>
                  </a:lnTo>
                  <a:lnTo>
                    <a:pt x="495" y="382"/>
                  </a:lnTo>
                  <a:lnTo>
                    <a:pt x="452" y="420"/>
                  </a:lnTo>
                  <a:lnTo>
                    <a:pt x="410" y="457"/>
                  </a:lnTo>
                  <a:lnTo>
                    <a:pt x="370" y="495"/>
                  </a:lnTo>
                  <a:lnTo>
                    <a:pt x="333" y="533"/>
                  </a:lnTo>
                  <a:lnTo>
                    <a:pt x="297" y="569"/>
                  </a:lnTo>
                  <a:lnTo>
                    <a:pt x="262" y="605"/>
                  </a:lnTo>
                  <a:lnTo>
                    <a:pt x="231" y="641"/>
                  </a:lnTo>
                  <a:lnTo>
                    <a:pt x="201" y="675"/>
                  </a:lnTo>
                  <a:lnTo>
                    <a:pt x="148" y="740"/>
                  </a:lnTo>
                  <a:lnTo>
                    <a:pt x="103" y="797"/>
                  </a:lnTo>
                  <a:lnTo>
                    <a:pt x="67" y="847"/>
                  </a:lnTo>
                  <a:lnTo>
                    <a:pt x="41" y="885"/>
                  </a:lnTo>
                  <a:lnTo>
                    <a:pt x="22" y="912"/>
                  </a:lnTo>
                  <a:lnTo>
                    <a:pt x="15" y="925"/>
                  </a:lnTo>
                  <a:lnTo>
                    <a:pt x="0" y="948"/>
                  </a:lnTo>
                  <a:lnTo>
                    <a:pt x="282" y="1235"/>
                  </a:lnTo>
                  <a:lnTo>
                    <a:pt x="304" y="1188"/>
                  </a:lnTo>
                  <a:lnTo>
                    <a:pt x="349" y="1101"/>
                  </a:lnTo>
                  <a:lnTo>
                    <a:pt x="396" y="1019"/>
                  </a:lnTo>
                  <a:lnTo>
                    <a:pt x="446" y="943"/>
                  </a:lnTo>
                  <a:lnTo>
                    <a:pt x="497" y="873"/>
                  </a:lnTo>
                  <a:lnTo>
                    <a:pt x="551" y="808"/>
                  </a:lnTo>
                  <a:lnTo>
                    <a:pt x="607" y="748"/>
                  </a:lnTo>
                  <a:lnTo>
                    <a:pt x="664" y="694"/>
                  </a:lnTo>
                  <a:lnTo>
                    <a:pt x="723" y="644"/>
                  </a:lnTo>
                  <a:lnTo>
                    <a:pt x="782" y="600"/>
                  </a:lnTo>
                  <a:lnTo>
                    <a:pt x="843" y="560"/>
                  </a:lnTo>
                  <a:lnTo>
                    <a:pt x="903" y="523"/>
                  </a:lnTo>
                  <a:lnTo>
                    <a:pt x="963" y="490"/>
                  </a:lnTo>
                  <a:lnTo>
                    <a:pt x="1024" y="462"/>
                  </a:lnTo>
                  <a:lnTo>
                    <a:pt x="1084" y="437"/>
                  </a:lnTo>
                  <a:lnTo>
                    <a:pt x="1143" y="416"/>
                  </a:lnTo>
                  <a:lnTo>
                    <a:pt x="1201" y="396"/>
                  </a:lnTo>
                  <a:lnTo>
                    <a:pt x="1258" y="381"/>
                  </a:lnTo>
                  <a:lnTo>
                    <a:pt x="1314" y="368"/>
                  </a:lnTo>
                  <a:lnTo>
                    <a:pt x="1367" y="356"/>
                  </a:lnTo>
                  <a:lnTo>
                    <a:pt x="1418" y="348"/>
                  </a:lnTo>
                  <a:lnTo>
                    <a:pt x="1466" y="342"/>
                  </a:lnTo>
                  <a:lnTo>
                    <a:pt x="1512" y="337"/>
                  </a:lnTo>
                  <a:lnTo>
                    <a:pt x="1556" y="333"/>
                  </a:lnTo>
                  <a:lnTo>
                    <a:pt x="1595" y="332"/>
                  </a:lnTo>
                  <a:lnTo>
                    <a:pt x="1633" y="330"/>
                  </a:lnTo>
                  <a:lnTo>
                    <a:pt x="1665" y="330"/>
                  </a:lnTo>
                  <a:lnTo>
                    <a:pt x="1694" y="330"/>
                  </a:lnTo>
                  <a:lnTo>
                    <a:pt x="1717" y="332"/>
                  </a:lnTo>
                  <a:lnTo>
                    <a:pt x="1751" y="334"/>
                  </a:lnTo>
                  <a:lnTo>
                    <a:pt x="1764" y="335"/>
                  </a:lnTo>
                  <a:lnTo>
                    <a:pt x="1810" y="328"/>
                  </a:lnTo>
                  <a:lnTo>
                    <a:pt x="1857" y="328"/>
                  </a:lnTo>
                  <a:lnTo>
                    <a:pt x="1905" y="334"/>
                  </a:lnTo>
                  <a:lnTo>
                    <a:pt x="1953" y="345"/>
                  </a:lnTo>
                  <a:lnTo>
                    <a:pt x="2000" y="363"/>
                  </a:lnTo>
                  <a:lnTo>
                    <a:pt x="2047" y="384"/>
                  </a:lnTo>
                  <a:lnTo>
                    <a:pt x="2095" y="410"/>
                  </a:lnTo>
                  <a:lnTo>
                    <a:pt x="2143" y="440"/>
                  </a:lnTo>
                  <a:lnTo>
                    <a:pt x="2189" y="473"/>
                  </a:lnTo>
                  <a:lnTo>
                    <a:pt x="2235" y="510"/>
                  </a:lnTo>
                  <a:lnTo>
                    <a:pt x="2281" y="550"/>
                  </a:lnTo>
                  <a:lnTo>
                    <a:pt x="2326" y="592"/>
                  </a:lnTo>
                  <a:lnTo>
                    <a:pt x="2370" y="636"/>
                  </a:lnTo>
                  <a:lnTo>
                    <a:pt x="2413" y="681"/>
                  </a:lnTo>
                  <a:lnTo>
                    <a:pt x="2455" y="727"/>
                  </a:lnTo>
                  <a:lnTo>
                    <a:pt x="2494" y="775"/>
                  </a:lnTo>
                  <a:lnTo>
                    <a:pt x="2534" y="823"/>
                  </a:lnTo>
                  <a:lnTo>
                    <a:pt x="2571" y="870"/>
                  </a:lnTo>
                  <a:lnTo>
                    <a:pt x="2606" y="917"/>
                  </a:lnTo>
                  <a:lnTo>
                    <a:pt x="2641" y="964"/>
                  </a:lnTo>
                  <a:lnTo>
                    <a:pt x="2703" y="1052"/>
                  </a:lnTo>
                  <a:lnTo>
                    <a:pt x="2755" y="1132"/>
                  </a:lnTo>
                  <a:lnTo>
                    <a:pt x="2799" y="1200"/>
                  </a:lnTo>
                  <a:lnTo>
                    <a:pt x="2832" y="1253"/>
                  </a:lnTo>
                  <a:lnTo>
                    <a:pt x="2852" y="1288"/>
                  </a:lnTo>
                  <a:lnTo>
                    <a:pt x="2861" y="1302"/>
                  </a:lnTo>
                  <a:lnTo>
                    <a:pt x="2896" y="1365"/>
                  </a:lnTo>
                  <a:lnTo>
                    <a:pt x="2989" y="1154"/>
                  </a:lnTo>
                  <a:lnTo>
                    <a:pt x="2991" y="1122"/>
                  </a:lnTo>
                  <a:lnTo>
                    <a:pt x="2989" y="1088"/>
                  </a:lnTo>
                  <a:lnTo>
                    <a:pt x="2983" y="1054"/>
                  </a:lnTo>
                  <a:lnTo>
                    <a:pt x="2973" y="1019"/>
                  </a:lnTo>
                  <a:lnTo>
                    <a:pt x="2958" y="983"/>
                  </a:lnTo>
                  <a:lnTo>
                    <a:pt x="2942" y="946"/>
                  </a:lnTo>
                  <a:lnTo>
                    <a:pt x="2922" y="910"/>
                  </a:lnTo>
                  <a:lnTo>
                    <a:pt x="2899" y="873"/>
                  </a:lnTo>
                  <a:lnTo>
                    <a:pt x="2874" y="835"/>
                  </a:lnTo>
                  <a:lnTo>
                    <a:pt x="2847" y="798"/>
                  </a:lnTo>
                  <a:lnTo>
                    <a:pt x="2817" y="761"/>
                  </a:lnTo>
                  <a:lnTo>
                    <a:pt x="2788" y="724"/>
                  </a:lnTo>
                  <a:lnTo>
                    <a:pt x="2755" y="688"/>
                  </a:lnTo>
                  <a:lnTo>
                    <a:pt x="2722" y="652"/>
                  </a:lnTo>
                  <a:lnTo>
                    <a:pt x="2688" y="617"/>
                  </a:lnTo>
                  <a:lnTo>
                    <a:pt x="2655" y="582"/>
                  </a:lnTo>
                  <a:lnTo>
                    <a:pt x="2620" y="549"/>
                  </a:lnTo>
                  <a:lnTo>
                    <a:pt x="2585" y="516"/>
                  </a:lnTo>
                  <a:lnTo>
                    <a:pt x="2552" y="485"/>
                  </a:lnTo>
                  <a:lnTo>
                    <a:pt x="2518" y="456"/>
                  </a:lnTo>
                  <a:lnTo>
                    <a:pt x="2454" y="400"/>
                  </a:lnTo>
                  <a:lnTo>
                    <a:pt x="2395" y="351"/>
                  </a:lnTo>
                  <a:lnTo>
                    <a:pt x="2345" y="312"/>
                  </a:lnTo>
                  <a:lnTo>
                    <a:pt x="2305" y="280"/>
                  </a:lnTo>
                  <a:lnTo>
                    <a:pt x="2276" y="258"/>
                  </a:lnTo>
                  <a:lnTo>
                    <a:pt x="2262" y="248"/>
                  </a:lnTo>
                  <a:lnTo>
                    <a:pt x="2228" y="227"/>
                  </a:lnTo>
                  <a:lnTo>
                    <a:pt x="2194" y="208"/>
                  </a:lnTo>
                  <a:lnTo>
                    <a:pt x="2159" y="188"/>
                  </a:lnTo>
                  <a:lnTo>
                    <a:pt x="2124" y="170"/>
                  </a:lnTo>
                  <a:lnTo>
                    <a:pt x="2090" y="153"/>
                  </a:lnTo>
                  <a:lnTo>
                    <a:pt x="2056" y="137"/>
                  </a:lnTo>
                  <a:lnTo>
                    <a:pt x="2021" y="121"/>
                  </a:lnTo>
                  <a:lnTo>
                    <a:pt x="1987" y="107"/>
                  </a:lnTo>
                  <a:lnTo>
                    <a:pt x="1952" y="93"/>
                  </a:lnTo>
                  <a:lnTo>
                    <a:pt x="1918" y="81"/>
                  </a:lnTo>
                  <a:lnTo>
                    <a:pt x="1884" y="69"/>
                  </a:lnTo>
                  <a:lnTo>
                    <a:pt x="1849" y="57"/>
                  </a:lnTo>
                  <a:lnTo>
                    <a:pt x="1814" y="47"/>
                  </a:lnTo>
                  <a:lnTo>
                    <a:pt x="1780" y="39"/>
                  </a:lnTo>
                  <a:lnTo>
                    <a:pt x="1746" y="31"/>
                  </a:lnTo>
                  <a:lnTo>
                    <a:pt x="1711" y="24"/>
                  </a:lnTo>
                  <a:lnTo>
                    <a:pt x="1676" y="18"/>
                  </a:lnTo>
                  <a:lnTo>
                    <a:pt x="1643" y="13"/>
                  </a:lnTo>
                  <a:lnTo>
                    <a:pt x="1608" y="8"/>
                  </a:lnTo>
                  <a:lnTo>
                    <a:pt x="1573" y="5"/>
                  </a:lnTo>
                  <a:lnTo>
                    <a:pt x="1540" y="3"/>
                  </a:lnTo>
                  <a:lnTo>
                    <a:pt x="1505" y="0"/>
                  </a:lnTo>
                  <a:lnTo>
                    <a:pt x="1471" y="0"/>
                  </a:lnTo>
                  <a:lnTo>
                    <a:pt x="1437" y="0"/>
                  </a:lnTo>
                  <a:lnTo>
                    <a:pt x="1402" y="2"/>
                  </a:lnTo>
                  <a:lnTo>
                    <a:pt x="1368" y="4"/>
                  </a:lnTo>
                  <a:lnTo>
                    <a:pt x="1333" y="7"/>
                  </a:lnTo>
                  <a:lnTo>
                    <a:pt x="1300" y="10"/>
                  </a:lnTo>
                  <a:lnTo>
                    <a:pt x="1265" y="15"/>
                  </a:lnTo>
                  <a:lnTo>
                    <a:pt x="1232" y="21"/>
                  </a:lnTo>
                  <a:lnTo>
                    <a:pt x="1197" y="28"/>
                  </a:lnTo>
                  <a:lnTo>
                    <a:pt x="1163" y="35"/>
                  </a:lnTo>
                  <a:close/>
                  <a:moveTo>
                    <a:pt x="1181" y="105"/>
                  </a:moveTo>
                  <a:lnTo>
                    <a:pt x="1213" y="97"/>
                  </a:lnTo>
                  <a:lnTo>
                    <a:pt x="1245" y="91"/>
                  </a:lnTo>
                  <a:lnTo>
                    <a:pt x="1278" y="86"/>
                  </a:lnTo>
                  <a:lnTo>
                    <a:pt x="1310" y="81"/>
                  </a:lnTo>
                  <a:lnTo>
                    <a:pt x="1342" y="77"/>
                  </a:lnTo>
                  <a:lnTo>
                    <a:pt x="1374" y="75"/>
                  </a:lnTo>
                  <a:lnTo>
                    <a:pt x="1407" y="72"/>
                  </a:lnTo>
                  <a:lnTo>
                    <a:pt x="1439" y="71"/>
                  </a:lnTo>
                  <a:lnTo>
                    <a:pt x="1471" y="71"/>
                  </a:lnTo>
                  <a:lnTo>
                    <a:pt x="1504" y="72"/>
                  </a:lnTo>
                  <a:lnTo>
                    <a:pt x="1537" y="74"/>
                  </a:lnTo>
                  <a:lnTo>
                    <a:pt x="1569" y="76"/>
                  </a:lnTo>
                  <a:lnTo>
                    <a:pt x="1602" y="80"/>
                  </a:lnTo>
                  <a:lnTo>
                    <a:pt x="1634" y="83"/>
                  </a:lnTo>
                  <a:lnTo>
                    <a:pt x="1667" y="88"/>
                  </a:lnTo>
                  <a:lnTo>
                    <a:pt x="1700" y="95"/>
                  </a:lnTo>
                  <a:lnTo>
                    <a:pt x="1732" y="101"/>
                  </a:lnTo>
                  <a:lnTo>
                    <a:pt x="1764" y="108"/>
                  </a:lnTo>
                  <a:lnTo>
                    <a:pt x="1798" y="117"/>
                  </a:lnTo>
                  <a:lnTo>
                    <a:pt x="1830" y="127"/>
                  </a:lnTo>
                  <a:lnTo>
                    <a:pt x="1862" y="137"/>
                  </a:lnTo>
                  <a:lnTo>
                    <a:pt x="1896" y="148"/>
                  </a:lnTo>
                  <a:lnTo>
                    <a:pt x="1928" y="160"/>
                  </a:lnTo>
                  <a:lnTo>
                    <a:pt x="1961" y="173"/>
                  </a:lnTo>
                  <a:lnTo>
                    <a:pt x="1994" y="186"/>
                  </a:lnTo>
                  <a:lnTo>
                    <a:pt x="2026" y="201"/>
                  </a:lnTo>
                  <a:lnTo>
                    <a:pt x="2059" y="217"/>
                  </a:lnTo>
                  <a:lnTo>
                    <a:pt x="2092" y="234"/>
                  </a:lnTo>
                  <a:lnTo>
                    <a:pt x="2124" y="251"/>
                  </a:lnTo>
                  <a:lnTo>
                    <a:pt x="2157" y="268"/>
                  </a:lnTo>
                  <a:lnTo>
                    <a:pt x="2190" y="287"/>
                  </a:lnTo>
                  <a:lnTo>
                    <a:pt x="2223" y="307"/>
                  </a:lnTo>
                  <a:lnTo>
                    <a:pt x="2264" y="338"/>
                  </a:lnTo>
                  <a:lnTo>
                    <a:pt x="2309" y="374"/>
                  </a:lnTo>
                  <a:lnTo>
                    <a:pt x="2360" y="415"/>
                  </a:lnTo>
                  <a:lnTo>
                    <a:pt x="2415" y="459"/>
                  </a:lnTo>
                  <a:lnTo>
                    <a:pt x="2472" y="509"/>
                  </a:lnTo>
                  <a:lnTo>
                    <a:pt x="2531" y="561"/>
                  </a:lnTo>
                  <a:lnTo>
                    <a:pt x="2589" y="617"/>
                  </a:lnTo>
                  <a:lnTo>
                    <a:pt x="2647" y="674"/>
                  </a:lnTo>
                  <a:lnTo>
                    <a:pt x="2675" y="703"/>
                  </a:lnTo>
                  <a:lnTo>
                    <a:pt x="2702" y="731"/>
                  </a:lnTo>
                  <a:lnTo>
                    <a:pt x="2728" y="761"/>
                  </a:lnTo>
                  <a:lnTo>
                    <a:pt x="2753" y="791"/>
                  </a:lnTo>
                  <a:lnTo>
                    <a:pt x="2778" y="819"/>
                  </a:lnTo>
                  <a:lnTo>
                    <a:pt x="2800" y="849"/>
                  </a:lnTo>
                  <a:lnTo>
                    <a:pt x="2821" y="878"/>
                  </a:lnTo>
                  <a:lnTo>
                    <a:pt x="2841" y="906"/>
                  </a:lnTo>
                  <a:lnTo>
                    <a:pt x="2858" y="935"/>
                  </a:lnTo>
                  <a:lnTo>
                    <a:pt x="2874" y="962"/>
                  </a:lnTo>
                  <a:lnTo>
                    <a:pt x="2889" y="989"/>
                  </a:lnTo>
                  <a:lnTo>
                    <a:pt x="2901" y="1016"/>
                  </a:lnTo>
                  <a:lnTo>
                    <a:pt x="2910" y="1043"/>
                  </a:lnTo>
                  <a:lnTo>
                    <a:pt x="2917" y="1067"/>
                  </a:lnTo>
                  <a:lnTo>
                    <a:pt x="2922" y="1092"/>
                  </a:lnTo>
                  <a:lnTo>
                    <a:pt x="2923" y="1114"/>
                  </a:lnTo>
                  <a:lnTo>
                    <a:pt x="2922" y="1126"/>
                  </a:lnTo>
                  <a:lnTo>
                    <a:pt x="2922" y="1136"/>
                  </a:lnTo>
                  <a:lnTo>
                    <a:pt x="2918" y="1142"/>
                  </a:lnTo>
                  <a:lnTo>
                    <a:pt x="2910" y="1158"/>
                  </a:lnTo>
                  <a:lnTo>
                    <a:pt x="2901" y="1181"/>
                  </a:lnTo>
                  <a:lnTo>
                    <a:pt x="2888" y="1208"/>
                  </a:lnTo>
                  <a:lnTo>
                    <a:pt x="2857" y="1158"/>
                  </a:lnTo>
                  <a:lnTo>
                    <a:pt x="2819" y="1097"/>
                  </a:lnTo>
                  <a:lnTo>
                    <a:pt x="2773" y="1026"/>
                  </a:lnTo>
                  <a:lnTo>
                    <a:pt x="2719" y="948"/>
                  </a:lnTo>
                  <a:lnTo>
                    <a:pt x="2689" y="907"/>
                  </a:lnTo>
                  <a:lnTo>
                    <a:pt x="2660" y="866"/>
                  </a:lnTo>
                  <a:lnTo>
                    <a:pt x="2627" y="823"/>
                  </a:lnTo>
                  <a:lnTo>
                    <a:pt x="2594" y="781"/>
                  </a:lnTo>
                  <a:lnTo>
                    <a:pt x="2559" y="737"/>
                  </a:lnTo>
                  <a:lnTo>
                    <a:pt x="2523" y="695"/>
                  </a:lnTo>
                  <a:lnTo>
                    <a:pt x="2486" y="653"/>
                  </a:lnTo>
                  <a:lnTo>
                    <a:pt x="2447" y="611"/>
                  </a:lnTo>
                  <a:lnTo>
                    <a:pt x="2409" y="570"/>
                  </a:lnTo>
                  <a:lnTo>
                    <a:pt x="2369" y="531"/>
                  </a:lnTo>
                  <a:lnTo>
                    <a:pt x="2328" y="493"/>
                  </a:lnTo>
                  <a:lnTo>
                    <a:pt x="2286" y="457"/>
                  </a:lnTo>
                  <a:lnTo>
                    <a:pt x="2244" y="423"/>
                  </a:lnTo>
                  <a:lnTo>
                    <a:pt x="2201" y="391"/>
                  </a:lnTo>
                  <a:lnTo>
                    <a:pt x="2158" y="363"/>
                  </a:lnTo>
                  <a:lnTo>
                    <a:pt x="2115" y="337"/>
                  </a:lnTo>
                  <a:lnTo>
                    <a:pt x="2071" y="313"/>
                  </a:lnTo>
                  <a:lnTo>
                    <a:pt x="2026" y="294"/>
                  </a:lnTo>
                  <a:lnTo>
                    <a:pt x="1982" y="278"/>
                  </a:lnTo>
                  <a:lnTo>
                    <a:pt x="1938" y="266"/>
                  </a:lnTo>
                  <a:lnTo>
                    <a:pt x="1893" y="258"/>
                  </a:lnTo>
                  <a:lnTo>
                    <a:pt x="1849" y="256"/>
                  </a:lnTo>
                  <a:lnTo>
                    <a:pt x="1805" y="258"/>
                  </a:lnTo>
                  <a:lnTo>
                    <a:pt x="1761" y="265"/>
                  </a:lnTo>
                  <a:lnTo>
                    <a:pt x="1749" y="263"/>
                  </a:lnTo>
                  <a:lnTo>
                    <a:pt x="1717" y="261"/>
                  </a:lnTo>
                  <a:lnTo>
                    <a:pt x="1694" y="260"/>
                  </a:lnTo>
                  <a:lnTo>
                    <a:pt x="1665" y="260"/>
                  </a:lnTo>
                  <a:lnTo>
                    <a:pt x="1633" y="260"/>
                  </a:lnTo>
                  <a:lnTo>
                    <a:pt x="1597" y="261"/>
                  </a:lnTo>
                  <a:lnTo>
                    <a:pt x="1557" y="262"/>
                  </a:lnTo>
                  <a:lnTo>
                    <a:pt x="1514" y="266"/>
                  </a:lnTo>
                  <a:lnTo>
                    <a:pt x="1466" y="271"/>
                  </a:lnTo>
                  <a:lnTo>
                    <a:pt x="1417" y="277"/>
                  </a:lnTo>
                  <a:lnTo>
                    <a:pt x="1365" y="286"/>
                  </a:lnTo>
                  <a:lnTo>
                    <a:pt x="1311" y="297"/>
                  </a:lnTo>
                  <a:lnTo>
                    <a:pt x="1254" y="311"/>
                  </a:lnTo>
                  <a:lnTo>
                    <a:pt x="1197" y="325"/>
                  </a:lnTo>
                  <a:lnTo>
                    <a:pt x="1137" y="344"/>
                  </a:lnTo>
                  <a:lnTo>
                    <a:pt x="1076" y="366"/>
                  </a:lnTo>
                  <a:lnTo>
                    <a:pt x="1014" y="391"/>
                  </a:lnTo>
                  <a:lnTo>
                    <a:pt x="952" y="420"/>
                  </a:lnTo>
                  <a:lnTo>
                    <a:pt x="890" y="452"/>
                  </a:lnTo>
                  <a:lnTo>
                    <a:pt x="828" y="488"/>
                  </a:lnTo>
                  <a:lnTo>
                    <a:pt x="766" y="529"/>
                  </a:lnTo>
                  <a:lnTo>
                    <a:pt x="704" y="574"/>
                  </a:lnTo>
                  <a:lnTo>
                    <a:pt x="643" y="622"/>
                  </a:lnTo>
                  <a:lnTo>
                    <a:pt x="583" y="677"/>
                  </a:lnTo>
                  <a:lnTo>
                    <a:pt x="525" y="736"/>
                  </a:lnTo>
                  <a:lnTo>
                    <a:pt x="469" y="801"/>
                  </a:lnTo>
                  <a:lnTo>
                    <a:pt x="415" y="870"/>
                  </a:lnTo>
                  <a:lnTo>
                    <a:pt x="361" y="946"/>
                  </a:lnTo>
                  <a:lnTo>
                    <a:pt x="311" y="1028"/>
                  </a:lnTo>
                  <a:lnTo>
                    <a:pt x="264" y="1114"/>
                  </a:lnTo>
                  <a:lnTo>
                    <a:pt x="223" y="1074"/>
                  </a:lnTo>
                  <a:lnTo>
                    <a:pt x="172" y="1021"/>
                  </a:lnTo>
                  <a:lnTo>
                    <a:pt x="124" y="972"/>
                  </a:lnTo>
                  <a:lnTo>
                    <a:pt x="90" y="938"/>
                  </a:lnTo>
                  <a:lnTo>
                    <a:pt x="108" y="914"/>
                  </a:lnTo>
                  <a:lnTo>
                    <a:pt x="133" y="878"/>
                  </a:lnTo>
                  <a:lnTo>
                    <a:pt x="165" y="834"/>
                  </a:lnTo>
                  <a:lnTo>
                    <a:pt x="205" y="783"/>
                  </a:lnTo>
                  <a:lnTo>
                    <a:pt x="252" y="726"/>
                  </a:lnTo>
                  <a:lnTo>
                    <a:pt x="305" y="665"/>
                  </a:lnTo>
                  <a:lnTo>
                    <a:pt x="334" y="634"/>
                  </a:lnTo>
                  <a:lnTo>
                    <a:pt x="365" y="602"/>
                  </a:lnTo>
                  <a:lnTo>
                    <a:pt x="398" y="569"/>
                  </a:lnTo>
                  <a:lnTo>
                    <a:pt x="432" y="536"/>
                  </a:lnTo>
                  <a:lnTo>
                    <a:pt x="468" y="503"/>
                  </a:lnTo>
                  <a:lnTo>
                    <a:pt x="505" y="469"/>
                  </a:lnTo>
                  <a:lnTo>
                    <a:pt x="545" y="437"/>
                  </a:lnTo>
                  <a:lnTo>
                    <a:pt x="585" y="405"/>
                  </a:lnTo>
                  <a:lnTo>
                    <a:pt x="627" y="373"/>
                  </a:lnTo>
                  <a:lnTo>
                    <a:pt x="670" y="342"/>
                  </a:lnTo>
                  <a:lnTo>
                    <a:pt x="715" y="311"/>
                  </a:lnTo>
                  <a:lnTo>
                    <a:pt x="761" y="282"/>
                  </a:lnTo>
                  <a:lnTo>
                    <a:pt x="809" y="253"/>
                  </a:lnTo>
                  <a:lnTo>
                    <a:pt x="858" y="227"/>
                  </a:lnTo>
                  <a:lnTo>
                    <a:pt x="909" y="201"/>
                  </a:lnTo>
                  <a:lnTo>
                    <a:pt x="961" y="178"/>
                  </a:lnTo>
                  <a:lnTo>
                    <a:pt x="1013" y="157"/>
                  </a:lnTo>
                  <a:lnTo>
                    <a:pt x="1068" y="137"/>
                  </a:lnTo>
                  <a:lnTo>
                    <a:pt x="1124" y="119"/>
                  </a:lnTo>
                  <a:lnTo>
                    <a:pt x="1181" y="10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6283440" y="5410080"/>
              <a:ext cx="1090440" cy="447840"/>
            </a:xfrm>
            <a:custGeom>
              <a:avLst/>
              <a:gdLst/>
              <a:ahLst/>
              <a:rect l="l" t="t" r="r" b="b"/>
              <a:pathLst>
                <a:path w="2749" h="1126">
                  <a:moveTo>
                    <a:pt x="0" y="872"/>
                  </a:moveTo>
                  <a:lnTo>
                    <a:pt x="9" y="856"/>
                  </a:lnTo>
                  <a:lnTo>
                    <a:pt x="37" y="812"/>
                  </a:lnTo>
                  <a:lnTo>
                    <a:pt x="58" y="781"/>
                  </a:lnTo>
                  <a:lnTo>
                    <a:pt x="83" y="745"/>
                  </a:lnTo>
                  <a:lnTo>
                    <a:pt x="113" y="704"/>
                  </a:lnTo>
                  <a:lnTo>
                    <a:pt x="147" y="661"/>
                  </a:lnTo>
                  <a:lnTo>
                    <a:pt x="185" y="614"/>
                  </a:lnTo>
                  <a:lnTo>
                    <a:pt x="229" y="564"/>
                  </a:lnTo>
                  <a:lnTo>
                    <a:pt x="274" y="513"/>
                  </a:lnTo>
                  <a:lnTo>
                    <a:pt x="325" y="461"/>
                  </a:lnTo>
                  <a:lnTo>
                    <a:pt x="380" y="409"/>
                  </a:lnTo>
                  <a:lnTo>
                    <a:pt x="440" y="357"/>
                  </a:lnTo>
                  <a:lnTo>
                    <a:pt x="502" y="306"/>
                  </a:lnTo>
                  <a:lnTo>
                    <a:pt x="569" y="256"/>
                  </a:lnTo>
                  <a:lnTo>
                    <a:pt x="640" y="209"/>
                  </a:lnTo>
                  <a:lnTo>
                    <a:pt x="713" y="166"/>
                  </a:lnTo>
                  <a:lnTo>
                    <a:pt x="791" y="125"/>
                  </a:lnTo>
                  <a:lnTo>
                    <a:pt x="873" y="89"/>
                  </a:lnTo>
                  <a:lnTo>
                    <a:pt x="957" y="59"/>
                  </a:lnTo>
                  <a:lnTo>
                    <a:pt x="1047" y="33"/>
                  </a:lnTo>
                  <a:lnTo>
                    <a:pt x="1139" y="14"/>
                  </a:lnTo>
                  <a:lnTo>
                    <a:pt x="1234" y="3"/>
                  </a:lnTo>
                  <a:lnTo>
                    <a:pt x="1332" y="0"/>
                  </a:lnTo>
                  <a:lnTo>
                    <a:pt x="1436" y="3"/>
                  </a:lnTo>
                  <a:lnTo>
                    <a:pt x="1540" y="18"/>
                  </a:lnTo>
                  <a:lnTo>
                    <a:pt x="1649" y="41"/>
                  </a:lnTo>
                  <a:lnTo>
                    <a:pt x="1760" y="75"/>
                  </a:lnTo>
                  <a:lnTo>
                    <a:pt x="1875" y="120"/>
                  </a:lnTo>
                  <a:lnTo>
                    <a:pt x="1992" y="177"/>
                  </a:lnTo>
                  <a:lnTo>
                    <a:pt x="2112" y="245"/>
                  </a:lnTo>
                  <a:lnTo>
                    <a:pt x="2151" y="276"/>
                  </a:lnTo>
                  <a:lnTo>
                    <a:pt x="2188" y="306"/>
                  </a:lnTo>
                  <a:lnTo>
                    <a:pt x="2225" y="333"/>
                  </a:lnTo>
                  <a:lnTo>
                    <a:pt x="2263" y="359"/>
                  </a:lnTo>
                  <a:lnTo>
                    <a:pt x="2333" y="408"/>
                  </a:lnTo>
                  <a:lnTo>
                    <a:pt x="2402" y="450"/>
                  </a:lnTo>
                  <a:lnTo>
                    <a:pt x="2466" y="490"/>
                  </a:lnTo>
                  <a:lnTo>
                    <a:pt x="2526" y="526"/>
                  </a:lnTo>
                  <a:lnTo>
                    <a:pt x="2553" y="543"/>
                  </a:lnTo>
                  <a:lnTo>
                    <a:pt x="2579" y="560"/>
                  </a:lnTo>
                  <a:lnTo>
                    <a:pt x="2604" y="578"/>
                  </a:lnTo>
                  <a:lnTo>
                    <a:pt x="2628" y="595"/>
                  </a:lnTo>
                  <a:lnTo>
                    <a:pt x="2649" y="611"/>
                  </a:lnTo>
                  <a:lnTo>
                    <a:pt x="2669" y="630"/>
                  </a:lnTo>
                  <a:lnTo>
                    <a:pt x="2686" y="647"/>
                  </a:lnTo>
                  <a:lnTo>
                    <a:pt x="2702" y="666"/>
                  </a:lnTo>
                  <a:lnTo>
                    <a:pt x="2715" y="684"/>
                  </a:lnTo>
                  <a:lnTo>
                    <a:pt x="2727" y="706"/>
                  </a:lnTo>
                  <a:lnTo>
                    <a:pt x="2736" y="725"/>
                  </a:lnTo>
                  <a:lnTo>
                    <a:pt x="2743" y="748"/>
                  </a:lnTo>
                  <a:lnTo>
                    <a:pt x="2747" y="771"/>
                  </a:lnTo>
                  <a:lnTo>
                    <a:pt x="2749" y="796"/>
                  </a:lnTo>
                  <a:lnTo>
                    <a:pt x="2748" y="822"/>
                  </a:lnTo>
                  <a:lnTo>
                    <a:pt x="2744" y="849"/>
                  </a:lnTo>
                  <a:lnTo>
                    <a:pt x="2738" y="879"/>
                  </a:lnTo>
                  <a:lnTo>
                    <a:pt x="2729" y="912"/>
                  </a:lnTo>
                  <a:lnTo>
                    <a:pt x="2717" y="945"/>
                  </a:lnTo>
                  <a:lnTo>
                    <a:pt x="2702" y="981"/>
                  </a:lnTo>
                  <a:lnTo>
                    <a:pt x="2603" y="1126"/>
                  </a:lnTo>
                  <a:lnTo>
                    <a:pt x="2598" y="1117"/>
                  </a:lnTo>
                  <a:lnTo>
                    <a:pt x="2582" y="1090"/>
                  </a:lnTo>
                  <a:lnTo>
                    <a:pt x="2557" y="1049"/>
                  </a:lnTo>
                  <a:lnTo>
                    <a:pt x="2522" y="996"/>
                  </a:lnTo>
                  <a:lnTo>
                    <a:pt x="2480" y="934"/>
                  </a:lnTo>
                  <a:lnTo>
                    <a:pt x="2429" y="864"/>
                  </a:lnTo>
                  <a:lnTo>
                    <a:pt x="2402" y="828"/>
                  </a:lnTo>
                  <a:lnTo>
                    <a:pt x="2372" y="791"/>
                  </a:lnTo>
                  <a:lnTo>
                    <a:pt x="2341" y="754"/>
                  </a:lnTo>
                  <a:lnTo>
                    <a:pt x="2307" y="717"/>
                  </a:lnTo>
                  <a:lnTo>
                    <a:pt x="2272" y="680"/>
                  </a:lnTo>
                  <a:lnTo>
                    <a:pt x="2236" y="644"/>
                  </a:lnTo>
                  <a:lnTo>
                    <a:pt x="2199" y="608"/>
                  </a:lnTo>
                  <a:lnTo>
                    <a:pt x="2161" y="574"/>
                  </a:lnTo>
                  <a:lnTo>
                    <a:pt x="2121" y="542"/>
                  </a:lnTo>
                  <a:lnTo>
                    <a:pt x="2081" y="512"/>
                  </a:lnTo>
                  <a:lnTo>
                    <a:pt x="2039" y="483"/>
                  </a:lnTo>
                  <a:lnTo>
                    <a:pt x="1996" y="459"/>
                  </a:lnTo>
                  <a:lnTo>
                    <a:pt x="1952" y="436"/>
                  </a:lnTo>
                  <a:lnTo>
                    <a:pt x="1907" y="416"/>
                  </a:lnTo>
                  <a:lnTo>
                    <a:pt x="1863" y="402"/>
                  </a:lnTo>
                  <a:lnTo>
                    <a:pt x="1817" y="390"/>
                  </a:lnTo>
                  <a:lnTo>
                    <a:pt x="1770" y="383"/>
                  </a:lnTo>
                  <a:lnTo>
                    <a:pt x="1722" y="380"/>
                  </a:lnTo>
                  <a:lnTo>
                    <a:pt x="1675" y="383"/>
                  </a:lnTo>
                  <a:lnTo>
                    <a:pt x="1628" y="390"/>
                  </a:lnTo>
                  <a:lnTo>
                    <a:pt x="1617" y="387"/>
                  </a:lnTo>
                  <a:lnTo>
                    <a:pt x="1587" y="376"/>
                  </a:lnTo>
                  <a:lnTo>
                    <a:pt x="1565" y="368"/>
                  </a:lnTo>
                  <a:lnTo>
                    <a:pt x="1539" y="361"/>
                  </a:lnTo>
                  <a:lnTo>
                    <a:pt x="1509" y="353"/>
                  </a:lnTo>
                  <a:lnTo>
                    <a:pt x="1475" y="345"/>
                  </a:lnTo>
                  <a:lnTo>
                    <a:pt x="1438" y="337"/>
                  </a:lnTo>
                  <a:lnTo>
                    <a:pt x="1398" y="331"/>
                  </a:lnTo>
                  <a:lnTo>
                    <a:pt x="1355" y="325"/>
                  </a:lnTo>
                  <a:lnTo>
                    <a:pt x="1310" y="320"/>
                  </a:lnTo>
                  <a:lnTo>
                    <a:pt x="1262" y="317"/>
                  </a:lnTo>
                  <a:lnTo>
                    <a:pt x="1212" y="316"/>
                  </a:lnTo>
                  <a:lnTo>
                    <a:pt x="1160" y="317"/>
                  </a:lnTo>
                  <a:lnTo>
                    <a:pt x="1105" y="321"/>
                  </a:lnTo>
                  <a:lnTo>
                    <a:pt x="1051" y="328"/>
                  </a:lnTo>
                  <a:lnTo>
                    <a:pt x="995" y="338"/>
                  </a:lnTo>
                  <a:lnTo>
                    <a:pt x="938" y="352"/>
                  </a:lnTo>
                  <a:lnTo>
                    <a:pt x="879" y="369"/>
                  </a:lnTo>
                  <a:lnTo>
                    <a:pt x="821" y="392"/>
                  </a:lnTo>
                  <a:lnTo>
                    <a:pt x="763" y="418"/>
                  </a:lnTo>
                  <a:lnTo>
                    <a:pt x="704" y="449"/>
                  </a:lnTo>
                  <a:lnTo>
                    <a:pt x="647" y="486"/>
                  </a:lnTo>
                  <a:lnTo>
                    <a:pt x="590" y="528"/>
                  </a:lnTo>
                  <a:lnTo>
                    <a:pt x="534" y="577"/>
                  </a:lnTo>
                  <a:lnTo>
                    <a:pt x="478" y="631"/>
                  </a:lnTo>
                  <a:lnTo>
                    <a:pt x="425" y="692"/>
                  </a:lnTo>
                  <a:lnTo>
                    <a:pt x="373" y="760"/>
                  </a:lnTo>
                  <a:lnTo>
                    <a:pt x="323" y="835"/>
                  </a:lnTo>
                  <a:lnTo>
                    <a:pt x="274" y="918"/>
                  </a:lnTo>
                  <a:lnTo>
                    <a:pt x="229" y="1007"/>
                  </a:lnTo>
                  <a:lnTo>
                    <a:pt x="0" y="87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6264360" y="5396040"/>
              <a:ext cx="1122120" cy="488880"/>
            </a:xfrm>
            <a:custGeom>
              <a:avLst/>
              <a:gdLst/>
              <a:ahLst/>
              <a:rect l="l" t="t" r="r" b="b"/>
              <a:pathLst>
                <a:path w="2831" h="1232">
                  <a:moveTo>
                    <a:pt x="1073" y="38"/>
                  </a:moveTo>
                  <a:lnTo>
                    <a:pt x="1012" y="55"/>
                  </a:lnTo>
                  <a:lnTo>
                    <a:pt x="952" y="75"/>
                  </a:lnTo>
                  <a:lnTo>
                    <a:pt x="894" y="98"/>
                  </a:lnTo>
                  <a:lnTo>
                    <a:pt x="838" y="122"/>
                  </a:lnTo>
                  <a:lnTo>
                    <a:pt x="783" y="149"/>
                  </a:lnTo>
                  <a:lnTo>
                    <a:pt x="731" y="177"/>
                  </a:lnTo>
                  <a:lnTo>
                    <a:pt x="680" y="207"/>
                  </a:lnTo>
                  <a:lnTo>
                    <a:pt x="630" y="239"/>
                  </a:lnTo>
                  <a:lnTo>
                    <a:pt x="583" y="271"/>
                  </a:lnTo>
                  <a:lnTo>
                    <a:pt x="537" y="305"/>
                  </a:lnTo>
                  <a:lnTo>
                    <a:pt x="494" y="340"/>
                  </a:lnTo>
                  <a:lnTo>
                    <a:pt x="452" y="374"/>
                  </a:lnTo>
                  <a:lnTo>
                    <a:pt x="412" y="410"/>
                  </a:lnTo>
                  <a:lnTo>
                    <a:pt x="373" y="446"/>
                  </a:lnTo>
                  <a:lnTo>
                    <a:pt x="337" y="481"/>
                  </a:lnTo>
                  <a:lnTo>
                    <a:pt x="303" y="517"/>
                  </a:lnTo>
                  <a:lnTo>
                    <a:pt x="270" y="552"/>
                  </a:lnTo>
                  <a:lnTo>
                    <a:pt x="239" y="586"/>
                  </a:lnTo>
                  <a:lnTo>
                    <a:pt x="211" y="620"/>
                  </a:lnTo>
                  <a:lnTo>
                    <a:pt x="183" y="653"/>
                  </a:lnTo>
                  <a:lnTo>
                    <a:pt x="135" y="714"/>
                  </a:lnTo>
                  <a:lnTo>
                    <a:pt x="95" y="769"/>
                  </a:lnTo>
                  <a:lnTo>
                    <a:pt x="63" y="816"/>
                  </a:lnTo>
                  <a:lnTo>
                    <a:pt x="39" y="853"/>
                  </a:lnTo>
                  <a:lnTo>
                    <a:pt x="24" y="878"/>
                  </a:lnTo>
                  <a:lnTo>
                    <a:pt x="17" y="890"/>
                  </a:lnTo>
                  <a:lnTo>
                    <a:pt x="0" y="920"/>
                  </a:lnTo>
                  <a:lnTo>
                    <a:pt x="293" y="1094"/>
                  </a:lnTo>
                  <a:lnTo>
                    <a:pt x="310" y="1059"/>
                  </a:lnTo>
                  <a:lnTo>
                    <a:pt x="354" y="972"/>
                  </a:lnTo>
                  <a:lnTo>
                    <a:pt x="398" y="893"/>
                  </a:lnTo>
                  <a:lnTo>
                    <a:pt x="447" y="821"/>
                  </a:lnTo>
                  <a:lnTo>
                    <a:pt x="496" y="755"/>
                  </a:lnTo>
                  <a:lnTo>
                    <a:pt x="547" y="697"/>
                  </a:lnTo>
                  <a:lnTo>
                    <a:pt x="599" y="644"/>
                  </a:lnTo>
                  <a:lnTo>
                    <a:pt x="653" y="598"/>
                  </a:lnTo>
                  <a:lnTo>
                    <a:pt x="706" y="555"/>
                  </a:lnTo>
                  <a:lnTo>
                    <a:pt x="761" y="521"/>
                  </a:lnTo>
                  <a:lnTo>
                    <a:pt x="815" y="490"/>
                  </a:lnTo>
                  <a:lnTo>
                    <a:pt x="871" y="464"/>
                  </a:lnTo>
                  <a:lnTo>
                    <a:pt x="926" y="441"/>
                  </a:lnTo>
                  <a:lnTo>
                    <a:pt x="981" y="424"/>
                  </a:lnTo>
                  <a:lnTo>
                    <a:pt x="1035" y="409"/>
                  </a:lnTo>
                  <a:lnTo>
                    <a:pt x="1089" y="399"/>
                  </a:lnTo>
                  <a:lnTo>
                    <a:pt x="1142" y="392"/>
                  </a:lnTo>
                  <a:lnTo>
                    <a:pt x="1193" y="387"/>
                  </a:lnTo>
                  <a:lnTo>
                    <a:pt x="1243" y="385"/>
                  </a:lnTo>
                  <a:lnTo>
                    <a:pt x="1291" y="385"/>
                  </a:lnTo>
                  <a:lnTo>
                    <a:pt x="1337" y="388"/>
                  </a:lnTo>
                  <a:lnTo>
                    <a:pt x="1382" y="392"/>
                  </a:lnTo>
                  <a:lnTo>
                    <a:pt x="1423" y="397"/>
                  </a:lnTo>
                  <a:lnTo>
                    <a:pt x="1462" y="404"/>
                  </a:lnTo>
                  <a:lnTo>
                    <a:pt x="1498" y="410"/>
                  </a:lnTo>
                  <a:lnTo>
                    <a:pt x="1532" y="419"/>
                  </a:lnTo>
                  <a:lnTo>
                    <a:pt x="1562" y="426"/>
                  </a:lnTo>
                  <a:lnTo>
                    <a:pt x="1589" y="434"/>
                  </a:lnTo>
                  <a:lnTo>
                    <a:pt x="1611" y="441"/>
                  </a:lnTo>
                  <a:lnTo>
                    <a:pt x="1645" y="452"/>
                  </a:lnTo>
                  <a:lnTo>
                    <a:pt x="1662" y="459"/>
                  </a:lnTo>
                  <a:lnTo>
                    <a:pt x="1672" y="464"/>
                  </a:lnTo>
                  <a:lnTo>
                    <a:pt x="1683" y="461"/>
                  </a:lnTo>
                  <a:lnTo>
                    <a:pt x="1728" y="454"/>
                  </a:lnTo>
                  <a:lnTo>
                    <a:pt x="1773" y="452"/>
                  </a:lnTo>
                  <a:lnTo>
                    <a:pt x="1818" y="455"/>
                  </a:lnTo>
                  <a:lnTo>
                    <a:pt x="1861" y="461"/>
                  </a:lnTo>
                  <a:lnTo>
                    <a:pt x="1904" y="472"/>
                  </a:lnTo>
                  <a:lnTo>
                    <a:pt x="1948" y="487"/>
                  </a:lnTo>
                  <a:lnTo>
                    <a:pt x="1990" y="506"/>
                  </a:lnTo>
                  <a:lnTo>
                    <a:pt x="2031" y="528"/>
                  </a:lnTo>
                  <a:lnTo>
                    <a:pt x="2072" y="553"/>
                  </a:lnTo>
                  <a:lnTo>
                    <a:pt x="2112" y="580"/>
                  </a:lnTo>
                  <a:lnTo>
                    <a:pt x="2152" y="609"/>
                  </a:lnTo>
                  <a:lnTo>
                    <a:pt x="2189" y="640"/>
                  </a:lnTo>
                  <a:lnTo>
                    <a:pt x="2226" y="673"/>
                  </a:lnTo>
                  <a:lnTo>
                    <a:pt x="2262" y="707"/>
                  </a:lnTo>
                  <a:lnTo>
                    <a:pt x="2297" y="743"/>
                  </a:lnTo>
                  <a:lnTo>
                    <a:pt x="2330" y="778"/>
                  </a:lnTo>
                  <a:lnTo>
                    <a:pt x="2361" y="814"/>
                  </a:lnTo>
                  <a:lnTo>
                    <a:pt x="2392" y="851"/>
                  </a:lnTo>
                  <a:lnTo>
                    <a:pt x="2421" y="885"/>
                  </a:lnTo>
                  <a:lnTo>
                    <a:pt x="2448" y="921"/>
                  </a:lnTo>
                  <a:lnTo>
                    <a:pt x="2497" y="988"/>
                  </a:lnTo>
                  <a:lnTo>
                    <a:pt x="2539" y="1049"/>
                  </a:lnTo>
                  <a:lnTo>
                    <a:pt x="2573" y="1101"/>
                  </a:lnTo>
                  <a:lnTo>
                    <a:pt x="2597" y="1142"/>
                  </a:lnTo>
                  <a:lnTo>
                    <a:pt x="2614" y="1170"/>
                  </a:lnTo>
                  <a:lnTo>
                    <a:pt x="2620" y="1180"/>
                  </a:lnTo>
                  <a:lnTo>
                    <a:pt x="2648" y="1232"/>
                  </a:lnTo>
                  <a:lnTo>
                    <a:pt x="2779" y="1037"/>
                  </a:lnTo>
                  <a:lnTo>
                    <a:pt x="2791" y="1008"/>
                  </a:lnTo>
                  <a:lnTo>
                    <a:pt x="2802" y="981"/>
                  </a:lnTo>
                  <a:lnTo>
                    <a:pt x="2811" y="955"/>
                  </a:lnTo>
                  <a:lnTo>
                    <a:pt x="2818" y="930"/>
                  </a:lnTo>
                  <a:lnTo>
                    <a:pt x="2823" y="907"/>
                  </a:lnTo>
                  <a:lnTo>
                    <a:pt x="2827" y="884"/>
                  </a:lnTo>
                  <a:lnTo>
                    <a:pt x="2830" y="862"/>
                  </a:lnTo>
                  <a:lnTo>
                    <a:pt x="2831" y="841"/>
                  </a:lnTo>
                  <a:lnTo>
                    <a:pt x="2831" y="821"/>
                  </a:lnTo>
                  <a:lnTo>
                    <a:pt x="2828" y="802"/>
                  </a:lnTo>
                  <a:lnTo>
                    <a:pt x="2826" y="784"/>
                  </a:lnTo>
                  <a:lnTo>
                    <a:pt x="2821" y="765"/>
                  </a:lnTo>
                  <a:lnTo>
                    <a:pt x="2816" y="749"/>
                  </a:lnTo>
                  <a:lnTo>
                    <a:pt x="2808" y="732"/>
                  </a:lnTo>
                  <a:lnTo>
                    <a:pt x="2801" y="716"/>
                  </a:lnTo>
                  <a:lnTo>
                    <a:pt x="2791" y="701"/>
                  </a:lnTo>
                  <a:lnTo>
                    <a:pt x="2781" y="686"/>
                  </a:lnTo>
                  <a:lnTo>
                    <a:pt x="2770" y="671"/>
                  </a:lnTo>
                  <a:lnTo>
                    <a:pt x="2758" y="657"/>
                  </a:lnTo>
                  <a:lnTo>
                    <a:pt x="2744" y="644"/>
                  </a:lnTo>
                  <a:lnTo>
                    <a:pt x="2729" y="630"/>
                  </a:lnTo>
                  <a:lnTo>
                    <a:pt x="2714" y="617"/>
                  </a:lnTo>
                  <a:lnTo>
                    <a:pt x="2699" y="604"/>
                  </a:lnTo>
                  <a:lnTo>
                    <a:pt x="2682" y="591"/>
                  </a:lnTo>
                  <a:lnTo>
                    <a:pt x="2647" y="567"/>
                  </a:lnTo>
                  <a:lnTo>
                    <a:pt x="2609" y="542"/>
                  </a:lnTo>
                  <a:lnTo>
                    <a:pt x="2569" y="517"/>
                  </a:lnTo>
                  <a:lnTo>
                    <a:pt x="2527" y="491"/>
                  </a:lnTo>
                  <a:lnTo>
                    <a:pt x="2487" y="467"/>
                  </a:lnTo>
                  <a:lnTo>
                    <a:pt x="2446" y="443"/>
                  </a:lnTo>
                  <a:lnTo>
                    <a:pt x="2405" y="416"/>
                  </a:lnTo>
                  <a:lnTo>
                    <a:pt x="2363" y="388"/>
                  </a:lnTo>
                  <a:lnTo>
                    <a:pt x="2319" y="358"/>
                  </a:lnTo>
                  <a:lnTo>
                    <a:pt x="2275" y="326"/>
                  </a:lnTo>
                  <a:lnTo>
                    <a:pt x="2230" y="291"/>
                  </a:lnTo>
                  <a:lnTo>
                    <a:pt x="2184" y="254"/>
                  </a:lnTo>
                  <a:lnTo>
                    <a:pt x="2148" y="233"/>
                  </a:lnTo>
                  <a:lnTo>
                    <a:pt x="2113" y="212"/>
                  </a:lnTo>
                  <a:lnTo>
                    <a:pt x="2077" y="192"/>
                  </a:lnTo>
                  <a:lnTo>
                    <a:pt x="2042" y="173"/>
                  </a:lnTo>
                  <a:lnTo>
                    <a:pt x="2006" y="156"/>
                  </a:lnTo>
                  <a:lnTo>
                    <a:pt x="1972" y="139"/>
                  </a:lnTo>
                  <a:lnTo>
                    <a:pt x="1936" y="124"/>
                  </a:lnTo>
                  <a:lnTo>
                    <a:pt x="1901" y="108"/>
                  </a:lnTo>
                  <a:lnTo>
                    <a:pt x="1865" y="94"/>
                  </a:lnTo>
                  <a:lnTo>
                    <a:pt x="1830" y="82"/>
                  </a:lnTo>
                  <a:lnTo>
                    <a:pt x="1795" y="69"/>
                  </a:lnTo>
                  <a:lnTo>
                    <a:pt x="1760" y="58"/>
                  </a:lnTo>
                  <a:lnTo>
                    <a:pt x="1726" y="48"/>
                  </a:lnTo>
                  <a:lnTo>
                    <a:pt x="1690" y="39"/>
                  </a:lnTo>
                  <a:lnTo>
                    <a:pt x="1655" y="31"/>
                  </a:lnTo>
                  <a:lnTo>
                    <a:pt x="1620" y="23"/>
                  </a:lnTo>
                  <a:lnTo>
                    <a:pt x="1585" y="17"/>
                  </a:lnTo>
                  <a:lnTo>
                    <a:pt x="1551" y="12"/>
                  </a:lnTo>
                  <a:lnTo>
                    <a:pt x="1517" y="7"/>
                  </a:lnTo>
                  <a:lnTo>
                    <a:pt x="1482" y="5"/>
                  </a:lnTo>
                  <a:lnTo>
                    <a:pt x="1448" y="2"/>
                  </a:lnTo>
                  <a:lnTo>
                    <a:pt x="1413" y="1"/>
                  </a:lnTo>
                  <a:lnTo>
                    <a:pt x="1379" y="0"/>
                  </a:lnTo>
                  <a:lnTo>
                    <a:pt x="1344" y="0"/>
                  </a:lnTo>
                  <a:lnTo>
                    <a:pt x="1310" y="2"/>
                  </a:lnTo>
                  <a:lnTo>
                    <a:pt x="1276" y="5"/>
                  </a:lnTo>
                  <a:lnTo>
                    <a:pt x="1243" y="7"/>
                  </a:lnTo>
                  <a:lnTo>
                    <a:pt x="1208" y="12"/>
                  </a:lnTo>
                  <a:lnTo>
                    <a:pt x="1174" y="17"/>
                  </a:lnTo>
                  <a:lnTo>
                    <a:pt x="1141" y="23"/>
                  </a:lnTo>
                  <a:lnTo>
                    <a:pt x="1106" y="31"/>
                  </a:lnTo>
                  <a:lnTo>
                    <a:pt x="1073" y="38"/>
                  </a:lnTo>
                  <a:close/>
                  <a:moveTo>
                    <a:pt x="1091" y="108"/>
                  </a:moveTo>
                  <a:lnTo>
                    <a:pt x="1122" y="100"/>
                  </a:lnTo>
                  <a:lnTo>
                    <a:pt x="1154" y="93"/>
                  </a:lnTo>
                  <a:lnTo>
                    <a:pt x="1187" y="86"/>
                  </a:lnTo>
                  <a:lnTo>
                    <a:pt x="1219" y="82"/>
                  </a:lnTo>
                  <a:lnTo>
                    <a:pt x="1251" y="78"/>
                  </a:lnTo>
                  <a:lnTo>
                    <a:pt x="1284" y="75"/>
                  </a:lnTo>
                  <a:lnTo>
                    <a:pt x="1316" y="73"/>
                  </a:lnTo>
                  <a:lnTo>
                    <a:pt x="1348" y="72"/>
                  </a:lnTo>
                  <a:lnTo>
                    <a:pt x="1380" y="72"/>
                  </a:lnTo>
                  <a:lnTo>
                    <a:pt x="1413" y="72"/>
                  </a:lnTo>
                  <a:lnTo>
                    <a:pt x="1445" y="73"/>
                  </a:lnTo>
                  <a:lnTo>
                    <a:pt x="1479" y="75"/>
                  </a:lnTo>
                  <a:lnTo>
                    <a:pt x="1511" y="79"/>
                  </a:lnTo>
                  <a:lnTo>
                    <a:pt x="1543" y="83"/>
                  </a:lnTo>
                  <a:lnTo>
                    <a:pt x="1577" y="88"/>
                  </a:lnTo>
                  <a:lnTo>
                    <a:pt x="1609" y="94"/>
                  </a:lnTo>
                  <a:lnTo>
                    <a:pt x="1642" y="101"/>
                  </a:lnTo>
                  <a:lnTo>
                    <a:pt x="1675" y="109"/>
                  </a:lnTo>
                  <a:lnTo>
                    <a:pt x="1708" y="117"/>
                  </a:lnTo>
                  <a:lnTo>
                    <a:pt x="1742" y="126"/>
                  </a:lnTo>
                  <a:lnTo>
                    <a:pt x="1774" y="137"/>
                  </a:lnTo>
                  <a:lnTo>
                    <a:pt x="1808" y="149"/>
                  </a:lnTo>
                  <a:lnTo>
                    <a:pt x="1841" y="161"/>
                  </a:lnTo>
                  <a:lnTo>
                    <a:pt x="1875" y="175"/>
                  </a:lnTo>
                  <a:lnTo>
                    <a:pt x="1908" y="188"/>
                  </a:lnTo>
                  <a:lnTo>
                    <a:pt x="1940" y="203"/>
                  </a:lnTo>
                  <a:lnTo>
                    <a:pt x="1974" y="219"/>
                  </a:lnTo>
                  <a:lnTo>
                    <a:pt x="2008" y="235"/>
                  </a:lnTo>
                  <a:lnTo>
                    <a:pt x="2041" y="254"/>
                  </a:lnTo>
                  <a:lnTo>
                    <a:pt x="2075" y="273"/>
                  </a:lnTo>
                  <a:lnTo>
                    <a:pt x="2108" y="291"/>
                  </a:lnTo>
                  <a:lnTo>
                    <a:pt x="2142" y="312"/>
                  </a:lnTo>
                  <a:lnTo>
                    <a:pt x="2188" y="349"/>
                  </a:lnTo>
                  <a:lnTo>
                    <a:pt x="2234" y="385"/>
                  </a:lnTo>
                  <a:lnTo>
                    <a:pt x="2279" y="418"/>
                  </a:lnTo>
                  <a:lnTo>
                    <a:pt x="2324" y="449"/>
                  </a:lnTo>
                  <a:lnTo>
                    <a:pt x="2368" y="477"/>
                  </a:lnTo>
                  <a:lnTo>
                    <a:pt x="2410" y="503"/>
                  </a:lnTo>
                  <a:lnTo>
                    <a:pt x="2451" y="528"/>
                  </a:lnTo>
                  <a:lnTo>
                    <a:pt x="2489" y="552"/>
                  </a:lnTo>
                  <a:lnTo>
                    <a:pt x="2550" y="589"/>
                  </a:lnTo>
                  <a:lnTo>
                    <a:pt x="2604" y="622"/>
                  </a:lnTo>
                  <a:lnTo>
                    <a:pt x="2627" y="640"/>
                  </a:lnTo>
                  <a:lnTo>
                    <a:pt x="2650" y="656"/>
                  </a:lnTo>
                  <a:lnTo>
                    <a:pt x="2671" y="672"/>
                  </a:lnTo>
                  <a:lnTo>
                    <a:pt x="2689" y="688"/>
                  </a:lnTo>
                  <a:lnTo>
                    <a:pt x="2705" y="704"/>
                  </a:lnTo>
                  <a:lnTo>
                    <a:pt x="2720" y="722"/>
                  </a:lnTo>
                  <a:lnTo>
                    <a:pt x="2733" y="739"/>
                  </a:lnTo>
                  <a:lnTo>
                    <a:pt x="2743" y="756"/>
                  </a:lnTo>
                  <a:lnTo>
                    <a:pt x="2751" y="775"/>
                  </a:lnTo>
                  <a:lnTo>
                    <a:pt x="2756" y="795"/>
                  </a:lnTo>
                  <a:lnTo>
                    <a:pt x="2760" y="816"/>
                  </a:lnTo>
                  <a:lnTo>
                    <a:pt x="2761" y="837"/>
                  </a:lnTo>
                  <a:lnTo>
                    <a:pt x="2761" y="854"/>
                  </a:lnTo>
                  <a:lnTo>
                    <a:pt x="2759" y="873"/>
                  </a:lnTo>
                  <a:lnTo>
                    <a:pt x="2755" y="892"/>
                  </a:lnTo>
                  <a:lnTo>
                    <a:pt x="2750" y="912"/>
                  </a:lnTo>
                  <a:lnTo>
                    <a:pt x="2744" y="933"/>
                  </a:lnTo>
                  <a:lnTo>
                    <a:pt x="2736" y="955"/>
                  </a:lnTo>
                  <a:lnTo>
                    <a:pt x="2728" y="977"/>
                  </a:lnTo>
                  <a:lnTo>
                    <a:pt x="2717" y="1002"/>
                  </a:lnTo>
                  <a:lnTo>
                    <a:pt x="2712" y="1011"/>
                  </a:lnTo>
                  <a:lnTo>
                    <a:pt x="2695" y="1033"/>
                  </a:lnTo>
                  <a:lnTo>
                    <a:pt x="2676" y="1063"/>
                  </a:lnTo>
                  <a:lnTo>
                    <a:pt x="2653" y="1095"/>
                  </a:lnTo>
                  <a:lnTo>
                    <a:pt x="2630" y="1057"/>
                  </a:lnTo>
                  <a:lnTo>
                    <a:pt x="2599" y="1010"/>
                  </a:lnTo>
                  <a:lnTo>
                    <a:pt x="2563" y="956"/>
                  </a:lnTo>
                  <a:lnTo>
                    <a:pt x="2520" y="897"/>
                  </a:lnTo>
                  <a:lnTo>
                    <a:pt x="2497" y="866"/>
                  </a:lnTo>
                  <a:lnTo>
                    <a:pt x="2472" y="835"/>
                  </a:lnTo>
                  <a:lnTo>
                    <a:pt x="2446" y="802"/>
                  </a:lnTo>
                  <a:lnTo>
                    <a:pt x="2419" y="770"/>
                  </a:lnTo>
                  <a:lnTo>
                    <a:pt x="2390" y="738"/>
                  </a:lnTo>
                  <a:lnTo>
                    <a:pt x="2361" y="706"/>
                  </a:lnTo>
                  <a:lnTo>
                    <a:pt x="2330" y="673"/>
                  </a:lnTo>
                  <a:lnTo>
                    <a:pt x="2298" y="642"/>
                  </a:lnTo>
                  <a:lnTo>
                    <a:pt x="2266" y="611"/>
                  </a:lnTo>
                  <a:lnTo>
                    <a:pt x="2232" y="582"/>
                  </a:lnTo>
                  <a:lnTo>
                    <a:pt x="2198" y="554"/>
                  </a:lnTo>
                  <a:lnTo>
                    <a:pt x="2162" y="527"/>
                  </a:lnTo>
                  <a:lnTo>
                    <a:pt x="2126" y="502"/>
                  </a:lnTo>
                  <a:lnTo>
                    <a:pt x="2088" y="479"/>
                  </a:lnTo>
                  <a:lnTo>
                    <a:pt x="2050" y="457"/>
                  </a:lnTo>
                  <a:lnTo>
                    <a:pt x="2011" y="438"/>
                  </a:lnTo>
                  <a:lnTo>
                    <a:pt x="1972" y="421"/>
                  </a:lnTo>
                  <a:lnTo>
                    <a:pt x="1932" y="407"/>
                  </a:lnTo>
                  <a:lnTo>
                    <a:pt x="1891" y="395"/>
                  </a:lnTo>
                  <a:lnTo>
                    <a:pt x="1850" y="388"/>
                  </a:lnTo>
                  <a:lnTo>
                    <a:pt x="1808" y="383"/>
                  </a:lnTo>
                  <a:lnTo>
                    <a:pt x="1765" y="382"/>
                  </a:lnTo>
                  <a:lnTo>
                    <a:pt x="1723" y="384"/>
                  </a:lnTo>
                  <a:lnTo>
                    <a:pt x="1681" y="390"/>
                  </a:lnTo>
                  <a:lnTo>
                    <a:pt x="1660" y="383"/>
                  </a:lnTo>
                  <a:lnTo>
                    <a:pt x="1621" y="371"/>
                  </a:lnTo>
                  <a:lnTo>
                    <a:pt x="1597" y="363"/>
                  </a:lnTo>
                  <a:lnTo>
                    <a:pt x="1568" y="356"/>
                  </a:lnTo>
                  <a:lnTo>
                    <a:pt x="1536" y="348"/>
                  </a:lnTo>
                  <a:lnTo>
                    <a:pt x="1500" y="341"/>
                  </a:lnTo>
                  <a:lnTo>
                    <a:pt x="1461" y="335"/>
                  </a:lnTo>
                  <a:lnTo>
                    <a:pt x="1420" y="328"/>
                  </a:lnTo>
                  <a:lnTo>
                    <a:pt x="1377" y="323"/>
                  </a:lnTo>
                  <a:lnTo>
                    <a:pt x="1331" y="320"/>
                  </a:lnTo>
                  <a:lnTo>
                    <a:pt x="1282" y="318"/>
                  </a:lnTo>
                  <a:lnTo>
                    <a:pt x="1231" y="318"/>
                  </a:lnTo>
                  <a:lnTo>
                    <a:pt x="1181" y="321"/>
                  </a:lnTo>
                  <a:lnTo>
                    <a:pt x="1127" y="326"/>
                  </a:lnTo>
                  <a:lnTo>
                    <a:pt x="1073" y="335"/>
                  </a:lnTo>
                  <a:lnTo>
                    <a:pt x="1017" y="346"/>
                  </a:lnTo>
                  <a:lnTo>
                    <a:pt x="961" y="361"/>
                  </a:lnTo>
                  <a:lnTo>
                    <a:pt x="904" y="378"/>
                  </a:lnTo>
                  <a:lnTo>
                    <a:pt x="847" y="400"/>
                  </a:lnTo>
                  <a:lnTo>
                    <a:pt x="789" y="428"/>
                  </a:lnTo>
                  <a:lnTo>
                    <a:pt x="732" y="459"/>
                  </a:lnTo>
                  <a:lnTo>
                    <a:pt x="676" y="495"/>
                  </a:lnTo>
                  <a:lnTo>
                    <a:pt x="621" y="537"/>
                  </a:lnTo>
                  <a:lnTo>
                    <a:pt x="565" y="583"/>
                  </a:lnTo>
                  <a:lnTo>
                    <a:pt x="511" y="636"/>
                  </a:lnTo>
                  <a:lnTo>
                    <a:pt x="458" y="694"/>
                  </a:lnTo>
                  <a:lnTo>
                    <a:pt x="407" y="759"/>
                  </a:lnTo>
                  <a:lnTo>
                    <a:pt x="357" y="831"/>
                  </a:lnTo>
                  <a:lnTo>
                    <a:pt x="309" y="909"/>
                  </a:lnTo>
                  <a:lnTo>
                    <a:pt x="264" y="995"/>
                  </a:lnTo>
                  <a:lnTo>
                    <a:pt x="227" y="972"/>
                  </a:lnTo>
                  <a:lnTo>
                    <a:pt x="180" y="945"/>
                  </a:lnTo>
                  <a:lnTo>
                    <a:pt x="134" y="918"/>
                  </a:lnTo>
                  <a:lnTo>
                    <a:pt x="98" y="895"/>
                  </a:lnTo>
                  <a:lnTo>
                    <a:pt x="115" y="867"/>
                  </a:lnTo>
                  <a:lnTo>
                    <a:pt x="140" y="831"/>
                  </a:lnTo>
                  <a:lnTo>
                    <a:pt x="172" y="787"/>
                  </a:lnTo>
                  <a:lnTo>
                    <a:pt x="209" y="738"/>
                  </a:lnTo>
                  <a:lnTo>
                    <a:pt x="252" y="684"/>
                  </a:lnTo>
                  <a:lnTo>
                    <a:pt x="301" y="626"/>
                  </a:lnTo>
                  <a:lnTo>
                    <a:pt x="327" y="596"/>
                  </a:lnTo>
                  <a:lnTo>
                    <a:pt x="356" y="567"/>
                  </a:lnTo>
                  <a:lnTo>
                    <a:pt x="386" y="537"/>
                  </a:lnTo>
                  <a:lnTo>
                    <a:pt x="417" y="506"/>
                  </a:lnTo>
                  <a:lnTo>
                    <a:pt x="449" y="475"/>
                  </a:lnTo>
                  <a:lnTo>
                    <a:pt x="483" y="445"/>
                  </a:lnTo>
                  <a:lnTo>
                    <a:pt x="517" y="414"/>
                  </a:lnTo>
                  <a:lnTo>
                    <a:pt x="555" y="384"/>
                  </a:lnTo>
                  <a:lnTo>
                    <a:pt x="592" y="356"/>
                  </a:lnTo>
                  <a:lnTo>
                    <a:pt x="632" y="326"/>
                  </a:lnTo>
                  <a:lnTo>
                    <a:pt x="671" y="299"/>
                  </a:lnTo>
                  <a:lnTo>
                    <a:pt x="714" y="271"/>
                  </a:lnTo>
                  <a:lnTo>
                    <a:pt x="756" y="247"/>
                  </a:lnTo>
                  <a:lnTo>
                    <a:pt x="801" y="222"/>
                  </a:lnTo>
                  <a:lnTo>
                    <a:pt x="845" y="198"/>
                  </a:lnTo>
                  <a:lnTo>
                    <a:pt x="892" y="176"/>
                  </a:lnTo>
                  <a:lnTo>
                    <a:pt x="940" y="156"/>
                  </a:lnTo>
                  <a:lnTo>
                    <a:pt x="989" y="137"/>
                  </a:lnTo>
                  <a:lnTo>
                    <a:pt x="1039" y="121"/>
                  </a:lnTo>
                  <a:lnTo>
                    <a:pt x="1091" y="10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6951600" y="5114880"/>
              <a:ext cx="130320" cy="412920"/>
            </a:xfrm>
            <a:custGeom>
              <a:avLst/>
              <a:gdLst/>
              <a:ahLst/>
              <a:rect l="l" t="t" r="r" b="b"/>
              <a:pathLst>
                <a:path w="328" h="1041">
                  <a:moveTo>
                    <a:pt x="135" y="1"/>
                  </a:moveTo>
                  <a:lnTo>
                    <a:pt x="133" y="7"/>
                  </a:lnTo>
                  <a:lnTo>
                    <a:pt x="125" y="26"/>
                  </a:lnTo>
                  <a:lnTo>
                    <a:pt x="115" y="56"/>
                  </a:lnTo>
                  <a:lnTo>
                    <a:pt x="103" y="94"/>
                  </a:lnTo>
                  <a:lnTo>
                    <a:pt x="89" y="142"/>
                  </a:lnTo>
                  <a:lnTo>
                    <a:pt x="73" y="198"/>
                  </a:lnTo>
                  <a:lnTo>
                    <a:pt x="58" y="260"/>
                  </a:lnTo>
                  <a:lnTo>
                    <a:pt x="42" y="328"/>
                  </a:lnTo>
                  <a:lnTo>
                    <a:pt x="35" y="364"/>
                  </a:lnTo>
                  <a:lnTo>
                    <a:pt x="28" y="400"/>
                  </a:lnTo>
                  <a:lnTo>
                    <a:pt x="22" y="439"/>
                  </a:lnTo>
                  <a:lnTo>
                    <a:pt x="16" y="477"/>
                  </a:lnTo>
                  <a:lnTo>
                    <a:pt x="11" y="516"/>
                  </a:lnTo>
                  <a:lnTo>
                    <a:pt x="7" y="556"/>
                  </a:lnTo>
                  <a:lnTo>
                    <a:pt x="4" y="595"/>
                  </a:lnTo>
                  <a:lnTo>
                    <a:pt x="1" y="635"/>
                  </a:lnTo>
                  <a:lnTo>
                    <a:pt x="0" y="675"/>
                  </a:lnTo>
                  <a:lnTo>
                    <a:pt x="0" y="714"/>
                  </a:lnTo>
                  <a:lnTo>
                    <a:pt x="1" y="754"/>
                  </a:lnTo>
                  <a:lnTo>
                    <a:pt x="4" y="794"/>
                  </a:lnTo>
                  <a:lnTo>
                    <a:pt x="7" y="832"/>
                  </a:lnTo>
                  <a:lnTo>
                    <a:pt x="14" y="871"/>
                  </a:lnTo>
                  <a:lnTo>
                    <a:pt x="21" y="908"/>
                  </a:lnTo>
                  <a:lnTo>
                    <a:pt x="30" y="945"/>
                  </a:lnTo>
                  <a:lnTo>
                    <a:pt x="56" y="1041"/>
                  </a:lnTo>
                  <a:lnTo>
                    <a:pt x="144" y="1041"/>
                  </a:lnTo>
                  <a:lnTo>
                    <a:pt x="143" y="1032"/>
                  </a:lnTo>
                  <a:lnTo>
                    <a:pt x="141" y="1006"/>
                  </a:lnTo>
                  <a:lnTo>
                    <a:pt x="139" y="966"/>
                  </a:lnTo>
                  <a:lnTo>
                    <a:pt x="136" y="913"/>
                  </a:lnTo>
                  <a:lnTo>
                    <a:pt x="135" y="850"/>
                  </a:lnTo>
                  <a:lnTo>
                    <a:pt x="135" y="776"/>
                  </a:lnTo>
                  <a:lnTo>
                    <a:pt x="136" y="698"/>
                  </a:lnTo>
                  <a:lnTo>
                    <a:pt x="140" y="615"/>
                  </a:lnTo>
                  <a:lnTo>
                    <a:pt x="143" y="573"/>
                  </a:lnTo>
                  <a:lnTo>
                    <a:pt x="148" y="529"/>
                  </a:lnTo>
                  <a:lnTo>
                    <a:pt x="151" y="486"/>
                  </a:lnTo>
                  <a:lnTo>
                    <a:pt x="158" y="443"/>
                  </a:lnTo>
                  <a:lnTo>
                    <a:pt x="164" y="400"/>
                  </a:lnTo>
                  <a:lnTo>
                    <a:pt x="172" y="358"/>
                  </a:lnTo>
                  <a:lnTo>
                    <a:pt x="181" y="317"/>
                  </a:lnTo>
                  <a:lnTo>
                    <a:pt x="191" y="278"/>
                  </a:lnTo>
                  <a:lnTo>
                    <a:pt x="204" y="239"/>
                  </a:lnTo>
                  <a:lnTo>
                    <a:pt x="216" y="202"/>
                  </a:lnTo>
                  <a:lnTo>
                    <a:pt x="231" y="167"/>
                  </a:lnTo>
                  <a:lnTo>
                    <a:pt x="247" y="135"/>
                  </a:lnTo>
                  <a:lnTo>
                    <a:pt x="264" y="104"/>
                  </a:lnTo>
                  <a:lnTo>
                    <a:pt x="283" y="77"/>
                  </a:lnTo>
                  <a:lnTo>
                    <a:pt x="304" y="52"/>
                  </a:lnTo>
                  <a:lnTo>
                    <a:pt x="328" y="29"/>
                  </a:lnTo>
                  <a:lnTo>
                    <a:pt x="320" y="28"/>
                  </a:lnTo>
                  <a:lnTo>
                    <a:pt x="303" y="25"/>
                  </a:lnTo>
                  <a:lnTo>
                    <a:pt x="276" y="18"/>
                  </a:lnTo>
                  <a:lnTo>
                    <a:pt x="245" y="12"/>
                  </a:lnTo>
                  <a:lnTo>
                    <a:pt x="211" y="6"/>
                  </a:lnTo>
                  <a:lnTo>
                    <a:pt x="180" y="2"/>
                  </a:lnTo>
                  <a:lnTo>
                    <a:pt x="165" y="0"/>
                  </a:lnTo>
                  <a:lnTo>
                    <a:pt x="153" y="0"/>
                  </a:lnTo>
                  <a:lnTo>
                    <a:pt x="143" y="0"/>
                  </a:lnTo>
                  <a:lnTo>
                    <a:pt x="135" y="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6937200" y="5100480"/>
              <a:ext cx="174960" cy="441360"/>
            </a:xfrm>
            <a:custGeom>
              <a:avLst/>
              <a:gdLst/>
              <a:ahLst/>
              <a:rect l="l" t="t" r="r" b="b"/>
              <a:pathLst>
                <a:path w="441" h="1113">
                  <a:moveTo>
                    <a:pt x="161" y="2"/>
                  </a:moveTo>
                  <a:lnTo>
                    <a:pt x="144" y="7"/>
                  </a:lnTo>
                  <a:lnTo>
                    <a:pt x="138" y="25"/>
                  </a:lnTo>
                  <a:lnTo>
                    <a:pt x="134" y="34"/>
                  </a:lnTo>
                  <a:lnTo>
                    <a:pt x="125" y="57"/>
                  </a:lnTo>
                  <a:lnTo>
                    <a:pt x="115" y="89"/>
                  </a:lnTo>
                  <a:lnTo>
                    <a:pt x="102" y="130"/>
                  </a:lnTo>
                  <a:lnTo>
                    <a:pt x="87" y="180"/>
                  </a:lnTo>
                  <a:lnTo>
                    <a:pt x="72" y="237"/>
                  </a:lnTo>
                  <a:lnTo>
                    <a:pt x="56" y="300"/>
                  </a:lnTo>
                  <a:lnTo>
                    <a:pt x="41" y="369"/>
                  </a:lnTo>
                  <a:lnTo>
                    <a:pt x="33" y="405"/>
                  </a:lnTo>
                  <a:lnTo>
                    <a:pt x="27" y="443"/>
                  </a:lnTo>
                  <a:lnTo>
                    <a:pt x="21" y="480"/>
                  </a:lnTo>
                  <a:lnTo>
                    <a:pt x="15" y="518"/>
                  </a:lnTo>
                  <a:lnTo>
                    <a:pt x="10" y="558"/>
                  </a:lnTo>
                  <a:lnTo>
                    <a:pt x="6" y="598"/>
                  </a:lnTo>
                  <a:lnTo>
                    <a:pt x="4" y="637"/>
                  </a:lnTo>
                  <a:lnTo>
                    <a:pt x="1" y="677"/>
                  </a:lnTo>
                  <a:lnTo>
                    <a:pt x="0" y="717"/>
                  </a:lnTo>
                  <a:lnTo>
                    <a:pt x="0" y="758"/>
                  </a:lnTo>
                  <a:lnTo>
                    <a:pt x="1" y="797"/>
                  </a:lnTo>
                  <a:lnTo>
                    <a:pt x="5" y="837"/>
                  </a:lnTo>
                  <a:lnTo>
                    <a:pt x="9" y="877"/>
                  </a:lnTo>
                  <a:lnTo>
                    <a:pt x="15" y="915"/>
                  </a:lnTo>
                  <a:lnTo>
                    <a:pt x="22" y="953"/>
                  </a:lnTo>
                  <a:lnTo>
                    <a:pt x="31" y="990"/>
                  </a:lnTo>
                  <a:lnTo>
                    <a:pt x="64" y="1113"/>
                  </a:lnTo>
                  <a:lnTo>
                    <a:pt x="218" y="1113"/>
                  </a:lnTo>
                  <a:lnTo>
                    <a:pt x="215" y="1074"/>
                  </a:lnTo>
                  <a:lnTo>
                    <a:pt x="215" y="1064"/>
                  </a:lnTo>
                  <a:lnTo>
                    <a:pt x="212" y="1037"/>
                  </a:lnTo>
                  <a:lnTo>
                    <a:pt x="210" y="997"/>
                  </a:lnTo>
                  <a:lnTo>
                    <a:pt x="208" y="945"/>
                  </a:lnTo>
                  <a:lnTo>
                    <a:pt x="207" y="883"/>
                  </a:lnTo>
                  <a:lnTo>
                    <a:pt x="206" y="812"/>
                  </a:lnTo>
                  <a:lnTo>
                    <a:pt x="207" y="735"/>
                  </a:lnTo>
                  <a:lnTo>
                    <a:pt x="211" y="655"/>
                  </a:lnTo>
                  <a:lnTo>
                    <a:pt x="215" y="614"/>
                  </a:lnTo>
                  <a:lnTo>
                    <a:pt x="218" y="572"/>
                  </a:lnTo>
                  <a:lnTo>
                    <a:pt x="222" y="530"/>
                  </a:lnTo>
                  <a:lnTo>
                    <a:pt x="227" y="489"/>
                  </a:lnTo>
                  <a:lnTo>
                    <a:pt x="235" y="448"/>
                  </a:lnTo>
                  <a:lnTo>
                    <a:pt x="241" y="407"/>
                  </a:lnTo>
                  <a:lnTo>
                    <a:pt x="249" y="367"/>
                  </a:lnTo>
                  <a:lnTo>
                    <a:pt x="259" y="329"/>
                  </a:lnTo>
                  <a:lnTo>
                    <a:pt x="271" y="293"/>
                  </a:lnTo>
                  <a:lnTo>
                    <a:pt x="283" y="257"/>
                  </a:lnTo>
                  <a:lnTo>
                    <a:pt x="295" y="223"/>
                  </a:lnTo>
                  <a:lnTo>
                    <a:pt x="310" y="192"/>
                  </a:lnTo>
                  <a:lnTo>
                    <a:pt x="328" y="163"/>
                  </a:lnTo>
                  <a:lnTo>
                    <a:pt x="345" y="137"/>
                  </a:lnTo>
                  <a:lnTo>
                    <a:pt x="365" y="114"/>
                  </a:lnTo>
                  <a:lnTo>
                    <a:pt x="386" y="94"/>
                  </a:lnTo>
                  <a:lnTo>
                    <a:pt x="441" y="48"/>
                  </a:lnTo>
                  <a:lnTo>
                    <a:pt x="372" y="32"/>
                  </a:lnTo>
                  <a:lnTo>
                    <a:pt x="350" y="26"/>
                  </a:lnTo>
                  <a:lnTo>
                    <a:pt x="324" y="21"/>
                  </a:lnTo>
                  <a:lnTo>
                    <a:pt x="294" y="15"/>
                  </a:lnTo>
                  <a:lnTo>
                    <a:pt x="263" y="8"/>
                  </a:lnTo>
                  <a:lnTo>
                    <a:pt x="232" y="3"/>
                  </a:lnTo>
                  <a:lnTo>
                    <a:pt x="204" y="1"/>
                  </a:lnTo>
                  <a:lnTo>
                    <a:pt x="191" y="0"/>
                  </a:lnTo>
                  <a:lnTo>
                    <a:pt x="180" y="0"/>
                  </a:lnTo>
                  <a:lnTo>
                    <a:pt x="170" y="1"/>
                  </a:lnTo>
                  <a:lnTo>
                    <a:pt x="161" y="2"/>
                  </a:lnTo>
                  <a:close/>
                  <a:moveTo>
                    <a:pt x="100" y="971"/>
                  </a:moveTo>
                  <a:lnTo>
                    <a:pt x="93" y="944"/>
                  </a:lnTo>
                  <a:lnTo>
                    <a:pt x="87" y="915"/>
                  </a:lnTo>
                  <a:lnTo>
                    <a:pt x="82" y="886"/>
                  </a:lnTo>
                  <a:lnTo>
                    <a:pt x="78" y="856"/>
                  </a:lnTo>
                  <a:lnTo>
                    <a:pt x="76" y="826"/>
                  </a:lnTo>
                  <a:lnTo>
                    <a:pt x="73" y="796"/>
                  </a:lnTo>
                  <a:lnTo>
                    <a:pt x="72" y="766"/>
                  </a:lnTo>
                  <a:lnTo>
                    <a:pt x="72" y="735"/>
                  </a:lnTo>
                  <a:lnTo>
                    <a:pt x="73" y="680"/>
                  </a:lnTo>
                  <a:lnTo>
                    <a:pt x="76" y="623"/>
                  </a:lnTo>
                  <a:lnTo>
                    <a:pt x="82" y="568"/>
                  </a:lnTo>
                  <a:lnTo>
                    <a:pt x="88" y="513"/>
                  </a:lnTo>
                  <a:lnTo>
                    <a:pt x="97" y="460"/>
                  </a:lnTo>
                  <a:lnTo>
                    <a:pt x="105" y="409"/>
                  </a:lnTo>
                  <a:lnTo>
                    <a:pt x="115" y="360"/>
                  </a:lnTo>
                  <a:lnTo>
                    <a:pt x="127" y="314"/>
                  </a:lnTo>
                  <a:lnTo>
                    <a:pt x="136" y="269"/>
                  </a:lnTo>
                  <a:lnTo>
                    <a:pt x="148" y="228"/>
                  </a:lnTo>
                  <a:lnTo>
                    <a:pt x="158" y="191"/>
                  </a:lnTo>
                  <a:lnTo>
                    <a:pt x="168" y="159"/>
                  </a:lnTo>
                  <a:lnTo>
                    <a:pt x="185" y="105"/>
                  </a:lnTo>
                  <a:lnTo>
                    <a:pt x="196" y="72"/>
                  </a:lnTo>
                  <a:lnTo>
                    <a:pt x="217" y="74"/>
                  </a:lnTo>
                  <a:lnTo>
                    <a:pt x="242" y="78"/>
                  </a:lnTo>
                  <a:lnTo>
                    <a:pt x="272" y="83"/>
                  </a:lnTo>
                  <a:lnTo>
                    <a:pt x="304" y="90"/>
                  </a:lnTo>
                  <a:lnTo>
                    <a:pt x="292" y="106"/>
                  </a:lnTo>
                  <a:lnTo>
                    <a:pt x="279" y="124"/>
                  </a:lnTo>
                  <a:lnTo>
                    <a:pt x="268" y="142"/>
                  </a:lnTo>
                  <a:lnTo>
                    <a:pt x="257" y="161"/>
                  </a:lnTo>
                  <a:lnTo>
                    <a:pt x="247" y="181"/>
                  </a:lnTo>
                  <a:lnTo>
                    <a:pt x="237" y="201"/>
                  </a:lnTo>
                  <a:lnTo>
                    <a:pt x="228" y="223"/>
                  </a:lnTo>
                  <a:lnTo>
                    <a:pt x="220" y="244"/>
                  </a:lnTo>
                  <a:lnTo>
                    <a:pt x="211" y="266"/>
                  </a:lnTo>
                  <a:lnTo>
                    <a:pt x="204" y="290"/>
                  </a:lnTo>
                  <a:lnTo>
                    <a:pt x="196" y="314"/>
                  </a:lnTo>
                  <a:lnTo>
                    <a:pt x="190" y="337"/>
                  </a:lnTo>
                  <a:lnTo>
                    <a:pt x="177" y="387"/>
                  </a:lnTo>
                  <a:lnTo>
                    <a:pt x="168" y="438"/>
                  </a:lnTo>
                  <a:lnTo>
                    <a:pt x="159" y="489"/>
                  </a:lnTo>
                  <a:lnTo>
                    <a:pt x="151" y="539"/>
                  </a:lnTo>
                  <a:lnTo>
                    <a:pt x="146" y="592"/>
                  </a:lnTo>
                  <a:lnTo>
                    <a:pt x="141" y="642"/>
                  </a:lnTo>
                  <a:lnTo>
                    <a:pt x="139" y="693"/>
                  </a:lnTo>
                  <a:lnTo>
                    <a:pt x="136" y="742"/>
                  </a:lnTo>
                  <a:lnTo>
                    <a:pt x="135" y="790"/>
                  </a:lnTo>
                  <a:lnTo>
                    <a:pt x="135" y="835"/>
                  </a:lnTo>
                  <a:lnTo>
                    <a:pt x="135" y="872"/>
                  </a:lnTo>
                  <a:lnTo>
                    <a:pt x="135" y="904"/>
                  </a:lnTo>
                  <a:lnTo>
                    <a:pt x="136" y="934"/>
                  </a:lnTo>
                  <a:lnTo>
                    <a:pt x="136" y="961"/>
                  </a:lnTo>
                  <a:lnTo>
                    <a:pt x="138" y="985"/>
                  </a:lnTo>
                  <a:lnTo>
                    <a:pt x="139" y="1007"/>
                  </a:lnTo>
                  <a:lnTo>
                    <a:pt x="140" y="1026"/>
                  </a:lnTo>
                  <a:lnTo>
                    <a:pt x="141" y="1041"/>
                  </a:lnTo>
                  <a:lnTo>
                    <a:pt x="130" y="1041"/>
                  </a:lnTo>
                  <a:lnTo>
                    <a:pt x="119" y="1041"/>
                  </a:lnTo>
                  <a:lnTo>
                    <a:pt x="113" y="1018"/>
                  </a:lnTo>
                  <a:lnTo>
                    <a:pt x="107" y="996"/>
                  </a:lnTo>
                  <a:lnTo>
                    <a:pt x="102" y="979"/>
                  </a:lnTo>
                  <a:lnTo>
                    <a:pt x="100" y="97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6994440" y="5121360"/>
              <a:ext cx="142920" cy="422280"/>
            </a:xfrm>
            <a:custGeom>
              <a:avLst/>
              <a:gdLst/>
              <a:ahLst/>
              <a:rect l="l" t="t" r="r" b="b"/>
              <a:pathLst>
                <a:path w="359" h="1062">
                  <a:moveTo>
                    <a:pt x="176" y="1"/>
                  </a:moveTo>
                  <a:lnTo>
                    <a:pt x="174" y="8"/>
                  </a:lnTo>
                  <a:lnTo>
                    <a:pt x="167" y="27"/>
                  </a:lnTo>
                  <a:lnTo>
                    <a:pt x="154" y="57"/>
                  </a:lnTo>
                  <a:lnTo>
                    <a:pt x="138" y="98"/>
                  </a:lnTo>
                  <a:lnTo>
                    <a:pt x="121" y="149"/>
                  </a:lnTo>
                  <a:lnTo>
                    <a:pt x="101" y="206"/>
                  </a:lnTo>
                  <a:lnTo>
                    <a:pt x="81" y="272"/>
                  </a:lnTo>
                  <a:lnTo>
                    <a:pt x="62" y="341"/>
                  </a:lnTo>
                  <a:lnTo>
                    <a:pt x="52" y="378"/>
                  </a:lnTo>
                  <a:lnTo>
                    <a:pt x="44" y="417"/>
                  </a:lnTo>
                  <a:lnTo>
                    <a:pt x="35" y="455"/>
                  </a:lnTo>
                  <a:lnTo>
                    <a:pt x="27" y="495"/>
                  </a:lnTo>
                  <a:lnTo>
                    <a:pt x="20" y="535"/>
                  </a:lnTo>
                  <a:lnTo>
                    <a:pt x="14" y="576"/>
                  </a:lnTo>
                  <a:lnTo>
                    <a:pt x="9" y="617"/>
                  </a:lnTo>
                  <a:lnTo>
                    <a:pt x="5" y="656"/>
                  </a:lnTo>
                  <a:lnTo>
                    <a:pt x="1" y="697"/>
                  </a:lnTo>
                  <a:lnTo>
                    <a:pt x="0" y="738"/>
                  </a:lnTo>
                  <a:lnTo>
                    <a:pt x="0" y="779"/>
                  </a:lnTo>
                  <a:lnTo>
                    <a:pt x="1" y="819"/>
                  </a:lnTo>
                  <a:lnTo>
                    <a:pt x="5" y="857"/>
                  </a:lnTo>
                  <a:lnTo>
                    <a:pt x="10" y="897"/>
                  </a:lnTo>
                  <a:lnTo>
                    <a:pt x="16" y="934"/>
                  </a:lnTo>
                  <a:lnTo>
                    <a:pt x="25" y="970"/>
                  </a:lnTo>
                  <a:lnTo>
                    <a:pt x="87" y="1062"/>
                  </a:lnTo>
                  <a:lnTo>
                    <a:pt x="175" y="1062"/>
                  </a:lnTo>
                  <a:lnTo>
                    <a:pt x="174" y="1053"/>
                  </a:lnTo>
                  <a:lnTo>
                    <a:pt x="173" y="1027"/>
                  </a:lnTo>
                  <a:lnTo>
                    <a:pt x="170" y="988"/>
                  </a:lnTo>
                  <a:lnTo>
                    <a:pt x="168" y="934"/>
                  </a:lnTo>
                  <a:lnTo>
                    <a:pt x="167" y="871"/>
                  </a:lnTo>
                  <a:lnTo>
                    <a:pt x="167" y="799"/>
                  </a:lnTo>
                  <a:lnTo>
                    <a:pt x="168" y="720"/>
                  </a:lnTo>
                  <a:lnTo>
                    <a:pt x="172" y="637"/>
                  </a:lnTo>
                  <a:lnTo>
                    <a:pt x="174" y="594"/>
                  </a:lnTo>
                  <a:lnTo>
                    <a:pt x="179" y="551"/>
                  </a:lnTo>
                  <a:lnTo>
                    <a:pt x="183" y="508"/>
                  </a:lnTo>
                  <a:lnTo>
                    <a:pt x="189" y="464"/>
                  </a:lnTo>
                  <a:lnTo>
                    <a:pt x="195" y="422"/>
                  </a:lnTo>
                  <a:lnTo>
                    <a:pt x="204" y="380"/>
                  </a:lnTo>
                  <a:lnTo>
                    <a:pt x="212" y="339"/>
                  </a:lnTo>
                  <a:lnTo>
                    <a:pt x="222" y="299"/>
                  </a:lnTo>
                  <a:lnTo>
                    <a:pt x="235" y="261"/>
                  </a:lnTo>
                  <a:lnTo>
                    <a:pt x="247" y="223"/>
                  </a:lnTo>
                  <a:lnTo>
                    <a:pt x="262" y="189"/>
                  </a:lnTo>
                  <a:lnTo>
                    <a:pt x="278" y="156"/>
                  </a:lnTo>
                  <a:lnTo>
                    <a:pt x="296" y="125"/>
                  </a:lnTo>
                  <a:lnTo>
                    <a:pt x="316" y="98"/>
                  </a:lnTo>
                  <a:lnTo>
                    <a:pt x="337" y="73"/>
                  </a:lnTo>
                  <a:lnTo>
                    <a:pt x="359" y="51"/>
                  </a:lnTo>
                  <a:lnTo>
                    <a:pt x="335" y="42"/>
                  </a:lnTo>
                  <a:lnTo>
                    <a:pt x="281" y="22"/>
                  </a:lnTo>
                  <a:lnTo>
                    <a:pt x="250" y="12"/>
                  </a:lnTo>
                  <a:lnTo>
                    <a:pt x="220" y="5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5" y="0"/>
                  </a:lnTo>
                  <a:lnTo>
                    <a:pt x="176" y="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6980400" y="5106960"/>
              <a:ext cx="183960" cy="450720"/>
            </a:xfrm>
            <a:custGeom>
              <a:avLst/>
              <a:gdLst/>
              <a:ahLst/>
              <a:rect l="l" t="t" r="r" b="b"/>
              <a:pathLst>
                <a:path w="463" h="1133">
                  <a:moveTo>
                    <a:pt x="204" y="2"/>
                  </a:moveTo>
                  <a:lnTo>
                    <a:pt x="188" y="7"/>
                  </a:lnTo>
                  <a:lnTo>
                    <a:pt x="180" y="21"/>
                  </a:lnTo>
                  <a:lnTo>
                    <a:pt x="175" y="33"/>
                  </a:lnTo>
                  <a:lnTo>
                    <a:pt x="167" y="55"/>
                  </a:lnTo>
                  <a:lnTo>
                    <a:pt x="153" y="88"/>
                  </a:lnTo>
                  <a:lnTo>
                    <a:pt x="137" y="132"/>
                  </a:lnTo>
                  <a:lnTo>
                    <a:pt x="118" y="184"/>
                  </a:lnTo>
                  <a:lnTo>
                    <a:pt x="98" y="244"/>
                  </a:lnTo>
                  <a:lnTo>
                    <a:pt x="78" y="309"/>
                  </a:lnTo>
                  <a:lnTo>
                    <a:pt x="60" y="380"/>
                  </a:lnTo>
                  <a:lnTo>
                    <a:pt x="50" y="417"/>
                  </a:lnTo>
                  <a:lnTo>
                    <a:pt x="41" y="456"/>
                  </a:lnTo>
                  <a:lnTo>
                    <a:pt x="32" y="495"/>
                  </a:lnTo>
                  <a:lnTo>
                    <a:pt x="25" y="535"/>
                  </a:lnTo>
                  <a:lnTo>
                    <a:pt x="19" y="575"/>
                  </a:lnTo>
                  <a:lnTo>
                    <a:pt x="13" y="616"/>
                  </a:lnTo>
                  <a:lnTo>
                    <a:pt x="8" y="657"/>
                  </a:lnTo>
                  <a:lnTo>
                    <a:pt x="4" y="698"/>
                  </a:lnTo>
                  <a:lnTo>
                    <a:pt x="1" y="739"/>
                  </a:lnTo>
                  <a:lnTo>
                    <a:pt x="0" y="779"/>
                  </a:lnTo>
                  <a:lnTo>
                    <a:pt x="0" y="820"/>
                  </a:lnTo>
                  <a:lnTo>
                    <a:pt x="3" y="861"/>
                  </a:lnTo>
                  <a:lnTo>
                    <a:pt x="5" y="901"/>
                  </a:lnTo>
                  <a:lnTo>
                    <a:pt x="10" y="940"/>
                  </a:lnTo>
                  <a:lnTo>
                    <a:pt x="18" y="978"/>
                  </a:lnTo>
                  <a:lnTo>
                    <a:pt x="26" y="1015"/>
                  </a:lnTo>
                  <a:lnTo>
                    <a:pt x="93" y="1117"/>
                  </a:lnTo>
                  <a:lnTo>
                    <a:pt x="104" y="1133"/>
                  </a:lnTo>
                  <a:lnTo>
                    <a:pt x="250" y="1133"/>
                  </a:lnTo>
                  <a:lnTo>
                    <a:pt x="246" y="1095"/>
                  </a:lnTo>
                  <a:lnTo>
                    <a:pt x="246" y="1085"/>
                  </a:lnTo>
                  <a:lnTo>
                    <a:pt x="244" y="1059"/>
                  </a:lnTo>
                  <a:lnTo>
                    <a:pt x="241" y="1018"/>
                  </a:lnTo>
                  <a:lnTo>
                    <a:pt x="240" y="966"/>
                  </a:lnTo>
                  <a:lnTo>
                    <a:pt x="239" y="904"/>
                  </a:lnTo>
                  <a:lnTo>
                    <a:pt x="237" y="833"/>
                  </a:lnTo>
                  <a:lnTo>
                    <a:pt x="240" y="756"/>
                  </a:lnTo>
                  <a:lnTo>
                    <a:pt x="244" y="675"/>
                  </a:lnTo>
                  <a:lnTo>
                    <a:pt x="246" y="634"/>
                  </a:lnTo>
                  <a:lnTo>
                    <a:pt x="250" y="592"/>
                  </a:lnTo>
                  <a:lnTo>
                    <a:pt x="253" y="550"/>
                  </a:lnTo>
                  <a:lnTo>
                    <a:pt x="260" y="509"/>
                  </a:lnTo>
                  <a:lnTo>
                    <a:pt x="266" y="468"/>
                  </a:lnTo>
                  <a:lnTo>
                    <a:pt x="273" y="427"/>
                  </a:lnTo>
                  <a:lnTo>
                    <a:pt x="281" y="387"/>
                  </a:lnTo>
                  <a:lnTo>
                    <a:pt x="291" y="349"/>
                  </a:lnTo>
                  <a:lnTo>
                    <a:pt x="302" y="313"/>
                  </a:lnTo>
                  <a:lnTo>
                    <a:pt x="314" y="277"/>
                  </a:lnTo>
                  <a:lnTo>
                    <a:pt x="328" y="244"/>
                  </a:lnTo>
                  <a:lnTo>
                    <a:pt x="343" y="212"/>
                  </a:lnTo>
                  <a:lnTo>
                    <a:pt x="359" y="184"/>
                  </a:lnTo>
                  <a:lnTo>
                    <a:pt x="376" y="158"/>
                  </a:lnTo>
                  <a:lnTo>
                    <a:pt x="396" y="134"/>
                  </a:lnTo>
                  <a:lnTo>
                    <a:pt x="419" y="113"/>
                  </a:lnTo>
                  <a:lnTo>
                    <a:pt x="463" y="76"/>
                  </a:lnTo>
                  <a:lnTo>
                    <a:pt x="409" y="54"/>
                  </a:lnTo>
                  <a:lnTo>
                    <a:pt x="384" y="44"/>
                  </a:lnTo>
                  <a:lnTo>
                    <a:pt x="358" y="34"/>
                  </a:lnTo>
                  <a:lnTo>
                    <a:pt x="328" y="24"/>
                  </a:lnTo>
                  <a:lnTo>
                    <a:pt x="299" y="14"/>
                  </a:lnTo>
                  <a:lnTo>
                    <a:pt x="271" y="7"/>
                  </a:lnTo>
                  <a:lnTo>
                    <a:pt x="245" y="2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11" y="0"/>
                  </a:lnTo>
                  <a:lnTo>
                    <a:pt x="204" y="2"/>
                  </a:lnTo>
                  <a:close/>
                  <a:moveTo>
                    <a:pt x="91" y="985"/>
                  </a:moveTo>
                  <a:lnTo>
                    <a:pt x="86" y="964"/>
                  </a:lnTo>
                  <a:lnTo>
                    <a:pt x="81" y="942"/>
                  </a:lnTo>
                  <a:lnTo>
                    <a:pt x="77" y="918"/>
                  </a:lnTo>
                  <a:lnTo>
                    <a:pt x="73" y="895"/>
                  </a:lnTo>
                  <a:lnTo>
                    <a:pt x="72" y="871"/>
                  </a:lnTo>
                  <a:lnTo>
                    <a:pt x="70" y="848"/>
                  </a:lnTo>
                  <a:lnTo>
                    <a:pt x="70" y="824"/>
                  </a:lnTo>
                  <a:lnTo>
                    <a:pt x="68" y="799"/>
                  </a:lnTo>
                  <a:lnTo>
                    <a:pt x="70" y="771"/>
                  </a:lnTo>
                  <a:lnTo>
                    <a:pt x="70" y="744"/>
                  </a:lnTo>
                  <a:lnTo>
                    <a:pt x="72" y="715"/>
                  </a:lnTo>
                  <a:lnTo>
                    <a:pt x="75" y="686"/>
                  </a:lnTo>
                  <a:lnTo>
                    <a:pt x="81" y="631"/>
                  </a:lnTo>
                  <a:lnTo>
                    <a:pt x="90" y="574"/>
                  </a:lnTo>
                  <a:lnTo>
                    <a:pt x="101" y="518"/>
                  </a:lnTo>
                  <a:lnTo>
                    <a:pt x="112" y="463"/>
                  </a:lnTo>
                  <a:lnTo>
                    <a:pt x="126" y="410"/>
                  </a:lnTo>
                  <a:lnTo>
                    <a:pt x="139" y="359"/>
                  </a:lnTo>
                  <a:lnTo>
                    <a:pt x="153" y="311"/>
                  </a:lnTo>
                  <a:lnTo>
                    <a:pt x="167" y="265"/>
                  </a:lnTo>
                  <a:lnTo>
                    <a:pt x="181" y="222"/>
                  </a:lnTo>
                  <a:lnTo>
                    <a:pt x="195" y="183"/>
                  </a:lnTo>
                  <a:lnTo>
                    <a:pt x="219" y="118"/>
                  </a:lnTo>
                  <a:lnTo>
                    <a:pt x="236" y="74"/>
                  </a:lnTo>
                  <a:lnTo>
                    <a:pt x="255" y="77"/>
                  </a:lnTo>
                  <a:lnTo>
                    <a:pt x="280" y="83"/>
                  </a:lnTo>
                  <a:lnTo>
                    <a:pt x="308" y="93"/>
                  </a:lnTo>
                  <a:lnTo>
                    <a:pt x="340" y="105"/>
                  </a:lnTo>
                  <a:lnTo>
                    <a:pt x="327" y="121"/>
                  </a:lnTo>
                  <a:lnTo>
                    <a:pt x="314" y="138"/>
                  </a:lnTo>
                  <a:lnTo>
                    <a:pt x="303" y="157"/>
                  </a:lnTo>
                  <a:lnTo>
                    <a:pt x="292" y="175"/>
                  </a:lnTo>
                  <a:lnTo>
                    <a:pt x="281" y="195"/>
                  </a:lnTo>
                  <a:lnTo>
                    <a:pt x="271" y="215"/>
                  </a:lnTo>
                  <a:lnTo>
                    <a:pt x="262" y="237"/>
                  </a:lnTo>
                  <a:lnTo>
                    <a:pt x="252" y="258"/>
                  </a:lnTo>
                  <a:lnTo>
                    <a:pt x="245" y="282"/>
                  </a:lnTo>
                  <a:lnTo>
                    <a:pt x="236" y="304"/>
                  </a:lnTo>
                  <a:lnTo>
                    <a:pt x="229" y="329"/>
                  </a:lnTo>
                  <a:lnTo>
                    <a:pt x="222" y="353"/>
                  </a:lnTo>
                  <a:lnTo>
                    <a:pt x="210" y="402"/>
                  </a:lnTo>
                  <a:lnTo>
                    <a:pt x="200" y="453"/>
                  </a:lnTo>
                  <a:lnTo>
                    <a:pt x="190" y="505"/>
                  </a:lnTo>
                  <a:lnTo>
                    <a:pt x="184" y="557"/>
                  </a:lnTo>
                  <a:lnTo>
                    <a:pt x="178" y="610"/>
                  </a:lnTo>
                  <a:lnTo>
                    <a:pt x="173" y="662"/>
                  </a:lnTo>
                  <a:lnTo>
                    <a:pt x="170" y="712"/>
                  </a:lnTo>
                  <a:lnTo>
                    <a:pt x="168" y="762"/>
                  </a:lnTo>
                  <a:lnTo>
                    <a:pt x="167" y="811"/>
                  </a:lnTo>
                  <a:lnTo>
                    <a:pt x="167" y="856"/>
                  </a:lnTo>
                  <a:lnTo>
                    <a:pt x="167" y="892"/>
                  </a:lnTo>
                  <a:lnTo>
                    <a:pt x="167" y="925"/>
                  </a:lnTo>
                  <a:lnTo>
                    <a:pt x="168" y="954"/>
                  </a:lnTo>
                  <a:lnTo>
                    <a:pt x="168" y="982"/>
                  </a:lnTo>
                  <a:lnTo>
                    <a:pt x="169" y="1007"/>
                  </a:lnTo>
                  <a:lnTo>
                    <a:pt x="170" y="1028"/>
                  </a:lnTo>
                  <a:lnTo>
                    <a:pt x="172" y="1046"/>
                  </a:lnTo>
                  <a:lnTo>
                    <a:pt x="173" y="1062"/>
                  </a:lnTo>
                  <a:lnTo>
                    <a:pt x="155" y="1062"/>
                  </a:lnTo>
                  <a:lnTo>
                    <a:pt x="142" y="1062"/>
                  </a:lnTo>
                  <a:lnTo>
                    <a:pt x="128" y="1041"/>
                  </a:lnTo>
                  <a:lnTo>
                    <a:pt x="111" y="1015"/>
                  </a:lnTo>
                  <a:lnTo>
                    <a:pt x="97" y="995"/>
                  </a:lnTo>
                  <a:lnTo>
                    <a:pt x="91" y="98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7050240" y="5137200"/>
              <a:ext cx="145800" cy="415800"/>
            </a:xfrm>
            <a:custGeom>
              <a:avLst/>
              <a:gdLst/>
              <a:ahLst/>
              <a:rect l="l" t="t" r="r" b="b"/>
              <a:pathLst>
                <a:path w="366" h="1048">
                  <a:moveTo>
                    <a:pt x="165" y="1"/>
                  </a:moveTo>
                  <a:lnTo>
                    <a:pt x="161" y="7"/>
                  </a:lnTo>
                  <a:lnTo>
                    <a:pt x="154" y="26"/>
                  </a:lnTo>
                  <a:lnTo>
                    <a:pt x="143" y="56"/>
                  </a:lnTo>
                  <a:lnTo>
                    <a:pt x="128" y="96"/>
                  </a:lnTo>
                  <a:lnTo>
                    <a:pt x="111" y="144"/>
                  </a:lnTo>
                  <a:lnTo>
                    <a:pt x="93" y="201"/>
                  </a:lnTo>
                  <a:lnTo>
                    <a:pt x="74" y="264"/>
                  </a:lnTo>
                  <a:lnTo>
                    <a:pt x="56" y="333"/>
                  </a:lnTo>
                  <a:lnTo>
                    <a:pt x="47" y="369"/>
                  </a:lnTo>
                  <a:lnTo>
                    <a:pt x="38" y="406"/>
                  </a:lnTo>
                  <a:lnTo>
                    <a:pt x="31" y="444"/>
                  </a:lnTo>
                  <a:lnTo>
                    <a:pt x="23" y="483"/>
                  </a:lnTo>
                  <a:lnTo>
                    <a:pt x="17" y="522"/>
                  </a:lnTo>
                  <a:lnTo>
                    <a:pt x="12" y="562"/>
                  </a:lnTo>
                  <a:lnTo>
                    <a:pt x="7" y="602"/>
                  </a:lnTo>
                  <a:lnTo>
                    <a:pt x="3" y="643"/>
                  </a:lnTo>
                  <a:lnTo>
                    <a:pt x="1" y="682"/>
                  </a:lnTo>
                  <a:lnTo>
                    <a:pt x="0" y="723"/>
                  </a:lnTo>
                  <a:lnTo>
                    <a:pt x="0" y="763"/>
                  </a:lnTo>
                  <a:lnTo>
                    <a:pt x="2" y="803"/>
                  </a:lnTo>
                  <a:lnTo>
                    <a:pt x="5" y="841"/>
                  </a:lnTo>
                  <a:lnTo>
                    <a:pt x="11" y="880"/>
                  </a:lnTo>
                  <a:lnTo>
                    <a:pt x="17" y="917"/>
                  </a:lnTo>
                  <a:lnTo>
                    <a:pt x="26" y="954"/>
                  </a:lnTo>
                  <a:lnTo>
                    <a:pt x="26" y="1048"/>
                  </a:lnTo>
                  <a:lnTo>
                    <a:pt x="174" y="1041"/>
                  </a:lnTo>
                  <a:lnTo>
                    <a:pt x="172" y="1032"/>
                  </a:lnTo>
                  <a:lnTo>
                    <a:pt x="171" y="1009"/>
                  </a:lnTo>
                  <a:lnTo>
                    <a:pt x="169" y="971"/>
                  </a:lnTo>
                  <a:lnTo>
                    <a:pt x="167" y="922"/>
                  </a:lnTo>
                  <a:lnTo>
                    <a:pt x="166" y="862"/>
                  </a:lnTo>
                  <a:lnTo>
                    <a:pt x="167" y="795"/>
                  </a:lnTo>
                  <a:lnTo>
                    <a:pt x="170" y="721"/>
                  </a:lnTo>
                  <a:lnTo>
                    <a:pt x="175" y="644"/>
                  </a:lnTo>
                  <a:lnTo>
                    <a:pt x="177" y="604"/>
                  </a:lnTo>
                  <a:lnTo>
                    <a:pt x="182" y="563"/>
                  </a:lnTo>
                  <a:lnTo>
                    <a:pt x="187" y="522"/>
                  </a:lnTo>
                  <a:lnTo>
                    <a:pt x="193" y="483"/>
                  </a:lnTo>
                  <a:lnTo>
                    <a:pt x="201" y="442"/>
                  </a:lnTo>
                  <a:lnTo>
                    <a:pt x="208" y="402"/>
                  </a:lnTo>
                  <a:lnTo>
                    <a:pt x="218" y="364"/>
                  </a:lnTo>
                  <a:lnTo>
                    <a:pt x="228" y="326"/>
                  </a:lnTo>
                  <a:lnTo>
                    <a:pt x="241" y="289"/>
                  </a:lnTo>
                  <a:lnTo>
                    <a:pt x="254" y="254"/>
                  </a:lnTo>
                  <a:lnTo>
                    <a:pt x="268" y="221"/>
                  </a:lnTo>
                  <a:lnTo>
                    <a:pt x="285" y="190"/>
                  </a:lnTo>
                  <a:lnTo>
                    <a:pt x="303" y="160"/>
                  </a:lnTo>
                  <a:lnTo>
                    <a:pt x="323" y="133"/>
                  </a:lnTo>
                  <a:lnTo>
                    <a:pt x="344" y="109"/>
                  </a:lnTo>
                  <a:lnTo>
                    <a:pt x="366" y="88"/>
                  </a:lnTo>
                  <a:lnTo>
                    <a:pt x="359" y="83"/>
                  </a:lnTo>
                  <a:lnTo>
                    <a:pt x="340" y="73"/>
                  </a:lnTo>
                  <a:lnTo>
                    <a:pt x="311" y="57"/>
                  </a:lnTo>
                  <a:lnTo>
                    <a:pt x="278" y="41"/>
                  </a:lnTo>
                  <a:lnTo>
                    <a:pt x="243" y="24"/>
                  </a:lnTo>
                  <a:lnTo>
                    <a:pt x="211" y="10"/>
                  </a:lnTo>
                  <a:lnTo>
                    <a:pt x="196" y="5"/>
                  </a:lnTo>
                  <a:lnTo>
                    <a:pt x="183" y="2"/>
                  </a:lnTo>
                  <a:lnTo>
                    <a:pt x="172" y="0"/>
                  </a:lnTo>
                  <a:lnTo>
                    <a:pt x="165" y="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7035840" y="5124600"/>
              <a:ext cx="185760" cy="444240"/>
            </a:xfrm>
            <a:custGeom>
              <a:avLst/>
              <a:gdLst/>
              <a:ahLst/>
              <a:rect l="l" t="t" r="r" b="b"/>
              <a:pathLst>
                <a:path w="464" h="1121">
                  <a:moveTo>
                    <a:pt x="191" y="2"/>
                  </a:moveTo>
                  <a:lnTo>
                    <a:pt x="175" y="6"/>
                  </a:lnTo>
                  <a:lnTo>
                    <a:pt x="167" y="21"/>
                  </a:lnTo>
                  <a:lnTo>
                    <a:pt x="164" y="33"/>
                  </a:lnTo>
                  <a:lnTo>
                    <a:pt x="154" y="55"/>
                  </a:lnTo>
                  <a:lnTo>
                    <a:pt x="141" y="87"/>
                  </a:lnTo>
                  <a:lnTo>
                    <a:pt x="126" y="129"/>
                  </a:lnTo>
                  <a:lnTo>
                    <a:pt x="109" y="180"/>
                  </a:lnTo>
                  <a:lnTo>
                    <a:pt x="90" y="237"/>
                  </a:lnTo>
                  <a:lnTo>
                    <a:pt x="72" y="302"/>
                  </a:lnTo>
                  <a:lnTo>
                    <a:pt x="53" y="371"/>
                  </a:lnTo>
                  <a:lnTo>
                    <a:pt x="44" y="408"/>
                  </a:lnTo>
                  <a:lnTo>
                    <a:pt x="37" y="446"/>
                  </a:lnTo>
                  <a:lnTo>
                    <a:pt x="30" y="484"/>
                  </a:lnTo>
                  <a:lnTo>
                    <a:pt x="22" y="523"/>
                  </a:lnTo>
                  <a:lnTo>
                    <a:pt x="16" y="562"/>
                  </a:lnTo>
                  <a:lnTo>
                    <a:pt x="11" y="602"/>
                  </a:lnTo>
                  <a:lnTo>
                    <a:pt x="6" y="643"/>
                  </a:lnTo>
                  <a:lnTo>
                    <a:pt x="3" y="683"/>
                  </a:lnTo>
                  <a:lnTo>
                    <a:pt x="1" y="724"/>
                  </a:lnTo>
                  <a:lnTo>
                    <a:pt x="0" y="765"/>
                  </a:lnTo>
                  <a:lnTo>
                    <a:pt x="1" y="804"/>
                  </a:lnTo>
                  <a:lnTo>
                    <a:pt x="2" y="844"/>
                  </a:lnTo>
                  <a:lnTo>
                    <a:pt x="6" y="884"/>
                  </a:lnTo>
                  <a:lnTo>
                    <a:pt x="11" y="922"/>
                  </a:lnTo>
                  <a:lnTo>
                    <a:pt x="18" y="961"/>
                  </a:lnTo>
                  <a:lnTo>
                    <a:pt x="28" y="998"/>
                  </a:lnTo>
                  <a:lnTo>
                    <a:pt x="27" y="1083"/>
                  </a:lnTo>
                  <a:lnTo>
                    <a:pt x="27" y="1121"/>
                  </a:lnTo>
                  <a:lnTo>
                    <a:pt x="248" y="1109"/>
                  </a:lnTo>
                  <a:lnTo>
                    <a:pt x="244" y="1072"/>
                  </a:lnTo>
                  <a:lnTo>
                    <a:pt x="244" y="1064"/>
                  </a:lnTo>
                  <a:lnTo>
                    <a:pt x="243" y="1039"/>
                  </a:lnTo>
                  <a:lnTo>
                    <a:pt x="241" y="1002"/>
                  </a:lnTo>
                  <a:lnTo>
                    <a:pt x="239" y="953"/>
                  </a:lnTo>
                  <a:lnTo>
                    <a:pt x="238" y="895"/>
                  </a:lnTo>
                  <a:lnTo>
                    <a:pt x="239" y="830"/>
                  </a:lnTo>
                  <a:lnTo>
                    <a:pt x="241" y="758"/>
                  </a:lnTo>
                  <a:lnTo>
                    <a:pt x="246" y="683"/>
                  </a:lnTo>
                  <a:lnTo>
                    <a:pt x="249" y="644"/>
                  </a:lnTo>
                  <a:lnTo>
                    <a:pt x="253" y="604"/>
                  </a:lnTo>
                  <a:lnTo>
                    <a:pt x="258" y="566"/>
                  </a:lnTo>
                  <a:lnTo>
                    <a:pt x="264" y="526"/>
                  </a:lnTo>
                  <a:lnTo>
                    <a:pt x="270" y="488"/>
                  </a:lnTo>
                  <a:lnTo>
                    <a:pt x="278" y="451"/>
                  </a:lnTo>
                  <a:lnTo>
                    <a:pt x="287" y="413"/>
                  </a:lnTo>
                  <a:lnTo>
                    <a:pt x="296" y="376"/>
                  </a:lnTo>
                  <a:lnTo>
                    <a:pt x="308" y="341"/>
                  </a:lnTo>
                  <a:lnTo>
                    <a:pt x="320" y="308"/>
                  </a:lnTo>
                  <a:lnTo>
                    <a:pt x="334" y="276"/>
                  </a:lnTo>
                  <a:lnTo>
                    <a:pt x="349" y="246"/>
                  </a:lnTo>
                  <a:lnTo>
                    <a:pt x="366" y="219"/>
                  </a:lnTo>
                  <a:lnTo>
                    <a:pt x="383" y="193"/>
                  </a:lnTo>
                  <a:lnTo>
                    <a:pt x="403" y="170"/>
                  </a:lnTo>
                  <a:lnTo>
                    <a:pt x="426" y="150"/>
                  </a:lnTo>
                  <a:lnTo>
                    <a:pt x="464" y="117"/>
                  </a:lnTo>
                  <a:lnTo>
                    <a:pt x="421" y="92"/>
                  </a:lnTo>
                  <a:lnTo>
                    <a:pt x="377" y="67"/>
                  </a:lnTo>
                  <a:lnTo>
                    <a:pt x="339" y="47"/>
                  </a:lnTo>
                  <a:lnTo>
                    <a:pt x="304" y="30"/>
                  </a:lnTo>
                  <a:lnTo>
                    <a:pt x="273" y="18"/>
                  </a:lnTo>
                  <a:lnTo>
                    <a:pt x="247" y="8"/>
                  </a:lnTo>
                  <a:lnTo>
                    <a:pt x="224" y="3"/>
                  </a:lnTo>
                  <a:lnTo>
                    <a:pt x="215" y="0"/>
                  </a:lnTo>
                  <a:lnTo>
                    <a:pt x="206" y="0"/>
                  </a:lnTo>
                  <a:lnTo>
                    <a:pt x="197" y="0"/>
                  </a:lnTo>
                  <a:lnTo>
                    <a:pt x="191" y="2"/>
                  </a:lnTo>
                  <a:close/>
                  <a:moveTo>
                    <a:pt x="98" y="989"/>
                  </a:moveTo>
                  <a:lnTo>
                    <a:pt x="92" y="963"/>
                  </a:lnTo>
                  <a:lnTo>
                    <a:pt x="87" y="937"/>
                  </a:lnTo>
                  <a:lnTo>
                    <a:pt x="82" y="911"/>
                  </a:lnTo>
                  <a:lnTo>
                    <a:pt x="78" y="884"/>
                  </a:lnTo>
                  <a:lnTo>
                    <a:pt x="75" y="856"/>
                  </a:lnTo>
                  <a:lnTo>
                    <a:pt x="74" y="829"/>
                  </a:lnTo>
                  <a:lnTo>
                    <a:pt x="73" y="802"/>
                  </a:lnTo>
                  <a:lnTo>
                    <a:pt x="72" y="773"/>
                  </a:lnTo>
                  <a:lnTo>
                    <a:pt x="73" y="719"/>
                  </a:lnTo>
                  <a:lnTo>
                    <a:pt x="77" y="664"/>
                  </a:lnTo>
                  <a:lnTo>
                    <a:pt x="83" y="608"/>
                  </a:lnTo>
                  <a:lnTo>
                    <a:pt x="90" y="554"/>
                  </a:lnTo>
                  <a:lnTo>
                    <a:pt x="100" y="500"/>
                  </a:lnTo>
                  <a:lnTo>
                    <a:pt x="110" y="448"/>
                  </a:lnTo>
                  <a:lnTo>
                    <a:pt x="121" y="397"/>
                  </a:lnTo>
                  <a:lnTo>
                    <a:pt x="134" y="349"/>
                  </a:lnTo>
                  <a:lnTo>
                    <a:pt x="146" y="303"/>
                  </a:lnTo>
                  <a:lnTo>
                    <a:pt x="160" y="260"/>
                  </a:lnTo>
                  <a:lnTo>
                    <a:pt x="172" y="220"/>
                  </a:lnTo>
                  <a:lnTo>
                    <a:pt x="183" y="183"/>
                  </a:lnTo>
                  <a:lnTo>
                    <a:pt x="206" y="121"/>
                  </a:lnTo>
                  <a:lnTo>
                    <a:pt x="222" y="77"/>
                  </a:lnTo>
                  <a:lnTo>
                    <a:pt x="246" y="85"/>
                  </a:lnTo>
                  <a:lnTo>
                    <a:pt x="277" y="98"/>
                  </a:lnTo>
                  <a:lnTo>
                    <a:pt x="311" y="116"/>
                  </a:lnTo>
                  <a:lnTo>
                    <a:pt x="350" y="136"/>
                  </a:lnTo>
                  <a:lnTo>
                    <a:pt x="336" y="152"/>
                  </a:lnTo>
                  <a:lnTo>
                    <a:pt x="323" y="170"/>
                  </a:lnTo>
                  <a:lnTo>
                    <a:pt x="310" y="188"/>
                  </a:lnTo>
                  <a:lnTo>
                    <a:pt x="299" y="207"/>
                  </a:lnTo>
                  <a:lnTo>
                    <a:pt x="288" y="227"/>
                  </a:lnTo>
                  <a:lnTo>
                    <a:pt x="277" y="248"/>
                  </a:lnTo>
                  <a:lnTo>
                    <a:pt x="267" y="271"/>
                  </a:lnTo>
                  <a:lnTo>
                    <a:pt x="257" y="293"/>
                  </a:lnTo>
                  <a:lnTo>
                    <a:pt x="248" y="315"/>
                  </a:lnTo>
                  <a:lnTo>
                    <a:pt x="241" y="339"/>
                  </a:lnTo>
                  <a:lnTo>
                    <a:pt x="232" y="363"/>
                  </a:lnTo>
                  <a:lnTo>
                    <a:pt x="226" y="387"/>
                  </a:lnTo>
                  <a:lnTo>
                    <a:pt x="212" y="437"/>
                  </a:lnTo>
                  <a:lnTo>
                    <a:pt x="201" y="488"/>
                  </a:lnTo>
                  <a:lnTo>
                    <a:pt x="192" y="540"/>
                  </a:lnTo>
                  <a:lnTo>
                    <a:pt x="185" y="592"/>
                  </a:lnTo>
                  <a:lnTo>
                    <a:pt x="179" y="644"/>
                  </a:lnTo>
                  <a:lnTo>
                    <a:pt x="174" y="695"/>
                  </a:lnTo>
                  <a:lnTo>
                    <a:pt x="171" y="745"/>
                  </a:lnTo>
                  <a:lnTo>
                    <a:pt x="169" y="793"/>
                  </a:lnTo>
                  <a:lnTo>
                    <a:pt x="167" y="839"/>
                  </a:lnTo>
                  <a:lnTo>
                    <a:pt x="167" y="882"/>
                  </a:lnTo>
                  <a:lnTo>
                    <a:pt x="167" y="935"/>
                  </a:lnTo>
                  <a:lnTo>
                    <a:pt x="169" y="978"/>
                  </a:lnTo>
                  <a:lnTo>
                    <a:pt x="170" y="1014"/>
                  </a:lnTo>
                  <a:lnTo>
                    <a:pt x="171" y="1042"/>
                  </a:lnTo>
                  <a:lnTo>
                    <a:pt x="152" y="1044"/>
                  </a:lnTo>
                  <a:lnTo>
                    <a:pt x="135" y="1044"/>
                  </a:lnTo>
                  <a:lnTo>
                    <a:pt x="118" y="1045"/>
                  </a:lnTo>
                  <a:lnTo>
                    <a:pt x="98" y="1046"/>
                  </a:lnTo>
                  <a:lnTo>
                    <a:pt x="98" y="1025"/>
                  </a:lnTo>
                  <a:lnTo>
                    <a:pt x="98" y="1008"/>
                  </a:lnTo>
                  <a:lnTo>
                    <a:pt x="98" y="994"/>
                  </a:lnTo>
                  <a:lnTo>
                    <a:pt x="98" y="98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7104240" y="5156280"/>
              <a:ext cx="129960" cy="414360"/>
            </a:xfrm>
            <a:custGeom>
              <a:avLst/>
              <a:gdLst/>
              <a:ahLst/>
              <a:rect l="l" t="t" r="r" b="b"/>
              <a:pathLst>
                <a:path w="328" h="1041">
                  <a:moveTo>
                    <a:pt x="135" y="2"/>
                  </a:moveTo>
                  <a:lnTo>
                    <a:pt x="133" y="8"/>
                  </a:lnTo>
                  <a:lnTo>
                    <a:pt x="125" y="26"/>
                  </a:lnTo>
                  <a:lnTo>
                    <a:pt x="116" y="55"/>
                  </a:lnTo>
                  <a:lnTo>
                    <a:pt x="103" y="95"/>
                  </a:lnTo>
                  <a:lnTo>
                    <a:pt x="89" y="142"/>
                  </a:lnTo>
                  <a:lnTo>
                    <a:pt x="73" y="198"/>
                  </a:lnTo>
                  <a:lnTo>
                    <a:pt x="58" y="261"/>
                  </a:lnTo>
                  <a:lnTo>
                    <a:pt x="42" y="328"/>
                  </a:lnTo>
                  <a:lnTo>
                    <a:pt x="35" y="364"/>
                  </a:lnTo>
                  <a:lnTo>
                    <a:pt x="29" y="401"/>
                  </a:lnTo>
                  <a:lnTo>
                    <a:pt x="22" y="438"/>
                  </a:lnTo>
                  <a:lnTo>
                    <a:pt x="16" y="477"/>
                  </a:lnTo>
                  <a:lnTo>
                    <a:pt x="11" y="515"/>
                  </a:lnTo>
                  <a:lnTo>
                    <a:pt x="8" y="555"/>
                  </a:lnTo>
                  <a:lnTo>
                    <a:pt x="4" y="595"/>
                  </a:lnTo>
                  <a:lnTo>
                    <a:pt x="1" y="634"/>
                  </a:lnTo>
                  <a:lnTo>
                    <a:pt x="0" y="674"/>
                  </a:lnTo>
                  <a:lnTo>
                    <a:pt x="0" y="714"/>
                  </a:lnTo>
                  <a:lnTo>
                    <a:pt x="1" y="754"/>
                  </a:lnTo>
                  <a:lnTo>
                    <a:pt x="4" y="793"/>
                  </a:lnTo>
                  <a:lnTo>
                    <a:pt x="8" y="832"/>
                  </a:lnTo>
                  <a:lnTo>
                    <a:pt x="12" y="870"/>
                  </a:lnTo>
                  <a:lnTo>
                    <a:pt x="20" y="907"/>
                  </a:lnTo>
                  <a:lnTo>
                    <a:pt x="30" y="945"/>
                  </a:lnTo>
                  <a:lnTo>
                    <a:pt x="56" y="1041"/>
                  </a:lnTo>
                  <a:lnTo>
                    <a:pt x="144" y="1041"/>
                  </a:lnTo>
                  <a:lnTo>
                    <a:pt x="143" y="1033"/>
                  </a:lnTo>
                  <a:lnTo>
                    <a:pt x="140" y="1008"/>
                  </a:lnTo>
                  <a:lnTo>
                    <a:pt x="139" y="971"/>
                  </a:lnTo>
                  <a:lnTo>
                    <a:pt x="137" y="920"/>
                  </a:lnTo>
                  <a:lnTo>
                    <a:pt x="135" y="860"/>
                  </a:lnTo>
                  <a:lnTo>
                    <a:pt x="134" y="792"/>
                  </a:lnTo>
                  <a:lnTo>
                    <a:pt x="137" y="718"/>
                  </a:lnTo>
                  <a:lnTo>
                    <a:pt x="140" y="639"/>
                  </a:lnTo>
                  <a:lnTo>
                    <a:pt x="143" y="598"/>
                  </a:lnTo>
                  <a:lnTo>
                    <a:pt x="147" y="557"/>
                  </a:lnTo>
                  <a:lnTo>
                    <a:pt x="152" y="517"/>
                  </a:lnTo>
                  <a:lnTo>
                    <a:pt x="158" y="476"/>
                  </a:lnTo>
                  <a:lnTo>
                    <a:pt x="164" y="436"/>
                  </a:lnTo>
                  <a:lnTo>
                    <a:pt x="173" y="395"/>
                  </a:lnTo>
                  <a:lnTo>
                    <a:pt x="181" y="356"/>
                  </a:lnTo>
                  <a:lnTo>
                    <a:pt x="191" y="318"/>
                  </a:lnTo>
                  <a:lnTo>
                    <a:pt x="204" y="281"/>
                  </a:lnTo>
                  <a:lnTo>
                    <a:pt x="216" y="246"/>
                  </a:lnTo>
                  <a:lnTo>
                    <a:pt x="231" y="211"/>
                  </a:lnTo>
                  <a:lnTo>
                    <a:pt x="247" y="180"/>
                  </a:lnTo>
                  <a:lnTo>
                    <a:pt x="265" y="151"/>
                  </a:lnTo>
                  <a:lnTo>
                    <a:pt x="283" y="123"/>
                  </a:lnTo>
                  <a:lnTo>
                    <a:pt x="304" y="100"/>
                  </a:lnTo>
                  <a:lnTo>
                    <a:pt x="328" y="79"/>
                  </a:lnTo>
                  <a:lnTo>
                    <a:pt x="320" y="75"/>
                  </a:lnTo>
                  <a:lnTo>
                    <a:pt x="303" y="65"/>
                  </a:lnTo>
                  <a:lnTo>
                    <a:pt x="276" y="51"/>
                  </a:lnTo>
                  <a:lnTo>
                    <a:pt x="245" y="36"/>
                  </a:lnTo>
                  <a:lnTo>
                    <a:pt x="211" y="21"/>
                  </a:lnTo>
                  <a:lnTo>
                    <a:pt x="180" y="9"/>
                  </a:lnTo>
                  <a:lnTo>
                    <a:pt x="165" y="4"/>
                  </a:lnTo>
                  <a:lnTo>
                    <a:pt x="153" y="2"/>
                  </a:lnTo>
                  <a:lnTo>
                    <a:pt x="143" y="0"/>
                  </a:lnTo>
                  <a:lnTo>
                    <a:pt x="135" y="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7089840" y="5143320"/>
              <a:ext cx="169920" cy="439920"/>
            </a:xfrm>
            <a:custGeom>
              <a:avLst/>
              <a:gdLst/>
              <a:ahLst/>
              <a:rect l="l" t="t" r="r" b="b"/>
              <a:pathLst>
                <a:path w="427" h="1110">
                  <a:moveTo>
                    <a:pt x="161" y="1"/>
                  </a:moveTo>
                  <a:lnTo>
                    <a:pt x="144" y="6"/>
                  </a:lnTo>
                  <a:lnTo>
                    <a:pt x="138" y="22"/>
                  </a:lnTo>
                  <a:lnTo>
                    <a:pt x="134" y="33"/>
                  </a:lnTo>
                  <a:lnTo>
                    <a:pt x="125" y="54"/>
                  </a:lnTo>
                  <a:lnTo>
                    <a:pt x="116" y="87"/>
                  </a:lnTo>
                  <a:lnTo>
                    <a:pt x="102" y="127"/>
                  </a:lnTo>
                  <a:lnTo>
                    <a:pt x="87" y="178"/>
                  </a:lnTo>
                  <a:lnTo>
                    <a:pt x="72" y="235"/>
                  </a:lnTo>
                  <a:lnTo>
                    <a:pt x="56" y="299"/>
                  </a:lnTo>
                  <a:lnTo>
                    <a:pt x="41" y="367"/>
                  </a:lnTo>
                  <a:lnTo>
                    <a:pt x="34" y="403"/>
                  </a:lnTo>
                  <a:lnTo>
                    <a:pt x="27" y="440"/>
                  </a:lnTo>
                  <a:lnTo>
                    <a:pt x="21" y="477"/>
                  </a:lnTo>
                  <a:lnTo>
                    <a:pt x="15" y="516"/>
                  </a:lnTo>
                  <a:lnTo>
                    <a:pt x="10" y="555"/>
                  </a:lnTo>
                  <a:lnTo>
                    <a:pt x="6" y="595"/>
                  </a:lnTo>
                  <a:lnTo>
                    <a:pt x="4" y="635"/>
                  </a:lnTo>
                  <a:lnTo>
                    <a:pt x="1" y="675"/>
                  </a:lnTo>
                  <a:lnTo>
                    <a:pt x="0" y="716"/>
                  </a:lnTo>
                  <a:lnTo>
                    <a:pt x="0" y="755"/>
                  </a:lnTo>
                  <a:lnTo>
                    <a:pt x="1" y="795"/>
                  </a:lnTo>
                  <a:lnTo>
                    <a:pt x="4" y="835"/>
                  </a:lnTo>
                  <a:lnTo>
                    <a:pt x="9" y="874"/>
                  </a:lnTo>
                  <a:lnTo>
                    <a:pt x="14" y="913"/>
                  </a:lnTo>
                  <a:lnTo>
                    <a:pt x="21" y="951"/>
                  </a:lnTo>
                  <a:lnTo>
                    <a:pt x="31" y="987"/>
                  </a:lnTo>
                  <a:lnTo>
                    <a:pt x="65" y="1110"/>
                  </a:lnTo>
                  <a:lnTo>
                    <a:pt x="219" y="1110"/>
                  </a:lnTo>
                  <a:lnTo>
                    <a:pt x="215" y="1072"/>
                  </a:lnTo>
                  <a:lnTo>
                    <a:pt x="214" y="1062"/>
                  </a:lnTo>
                  <a:lnTo>
                    <a:pt x="212" y="1037"/>
                  </a:lnTo>
                  <a:lnTo>
                    <a:pt x="210" y="1000"/>
                  </a:lnTo>
                  <a:lnTo>
                    <a:pt x="209" y="950"/>
                  </a:lnTo>
                  <a:lnTo>
                    <a:pt x="206" y="892"/>
                  </a:lnTo>
                  <a:lnTo>
                    <a:pt x="206" y="826"/>
                  </a:lnTo>
                  <a:lnTo>
                    <a:pt x="207" y="753"/>
                  </a:lnTo>
                  <a:lnTo>
                    <a:pt x="211" y="677"/>
                  </a:lnTo>
                  <a:lnTo>
                    <a:pt x="215" y="637"/>
                  </a:lnTo>
                  <a:lnTo>
                    <a:pt x="219" y="598"/>
                  </a:lnTo>
                  <a:lnTo>
                    <a:pt x="222" y="559"/>
                  </a:lnTo>
                  <a:lnTo>
                    <a:pt x="227" y="520"/>
                  </a:lnTo>
                  <a:lnTo>
                    <a:pt x="235" y="480"/>
                  </a:lnTo>
                  <a:lnTo>
                    <a:pt x="241" y="441"/>
                  </a:lnTo>
                  <a:lnTo>
                    <a:pt x="250" y="404"/>
                  </a:lnTo>
                  <a:lnTo>
                    <a:pt x="260" y="367"/>
                  </a:lnTo>
                  <a:lnTo>
                    <a:pt x="271" y="332"/>
                  </a:lnTo>
                  <a:lnTo>
                    <a:pt x="283" y="299"/>
                  </a:lnTo>
                  <a:lnTo>
                    <a:pt x="296" y="266"/>
                  </a:lnTo>
                  <a:lnTo>
                    <a:pt x="310" y="235"/>
                  </a:lnTo>
                  <a:lnTo>
                    <a:pt x="328" y="208"/>
                  </a:lnTo>
                  <a:lnTo>
                    <a:pt x="345" y="182"/>
                  </a:lnTo>
                  <a:lnTo>
                    <a:pt x="365" y="160"/>
                  </a:lnTo>
                  <a:lnTo>
                    <a:pt x="386" y="140"/>
                  </a:lnTo>
                  <a:lnTo>
                    <a:pt x="427" y="106"/>
                  </a:lnTo>
                  <a:lnTo>
                    <a:pt x="381" y="80"/>
                  </a:lnTo>
                  <a:lnTo>
                    <a:pt x="340" y="59"/>
                  </a:lnTo>
                  <a:lnTo>
                    <a:pt x="303" y="41"/>
                  </a:lnTo>
                  <a:lnTo>
                    <a:pt x="271" y="26"/>
                  </a:lnTo>
                  <a:lnTo>
                    <a:pt x="241" y="15"/>
                  </a:lnTo>
                  <a:lnTo>
                    <a:pt x="215" y="6"/>
                  </a:lnTo>
                  <a:lnTo>
                    <a:pt x="194" y="1"/>
                  </a:lnTo>
                  <a:lnTo>
                    <a:pt x="184" y="0"/>
                  </a:lnTo>
                  <a:lnTo>
                    <a:pt x="175" y="0"/>
                  </a:lnTo>
                  <a:lnTo>
                    <a:pt x="168" y="0"/>
                  </a:lnTo>
                  <a:lnTo>
                    <a:pt x="161" y="1"/>
                  </a:lnTo>
                  <a:close/>
                  <a:moveTo>
                    <a:pt x="99" y="969"/>
                  </a:moveTo>
                  <a:lnTo>
                    <a:pt x="93" y="941"/>
                  </a:lnTo>
                  <a:lnTo>
                    <a:pt x="87" y="913"/>
                  </a:lnTo>
                  <a:lnTo>
                    <a:pt x="82" y="884"/>
                  </a:lnTo>
                  <a:lnTo>
                    <a:pt x="78" y="855"/>
                  </a:lnTo>
                  <a:lnTo>
                    <a:pt x="76" y="825"/>
                  </a:lnTo>
                  <a:lnTo>
                    <a:pt x="73" y="795"/>
                  </a:lnTo>
                  <a:lnTo>
                    <a:pt x="72" y="764"/>
                  </a:lnTo>
                  <a:lnTo>
                    <a:pt x="72" y="734"/>
                  </a:lnTo>
                  <a:lnTo>
                    <a:pt x="73" y="678"/>
                  </a:lnTo>
                  <a:lnTo>
                    <a:pt x="76" y="624"/>
                  </a:lnTo>
                  <a:lnTo>
                    <a:pt x="81" y="570"/>
                  </a:lnTo>
                  <a:lnTo>
                    <a:pt x="87" y="517"/>
                  </a:lnTo>
                  <a:lnTo>
                    <a:pt x="96" y="465"/>
                  </a:lnTo>
                  <a:lnTo>
                    <a:pt x="104" y="415"/>
                  </a:lnTo>
                  <a:lnTo>
                    <a:pt x="114" y="367"/>
                  </a:lnTo>
                  <a:lnTo>
                    <a:pt x="124" y="321"/>
                  </a:lnTo>
                  <a:lnTo>
                    <a:pt x="134" y="278"/>
                  </a:lnTo>
                  <a:lnTo>
                    <a:pt x="145" y="237"/>
                  </a:lnTo>
                  <a:lnTo>
                    <a:pt x="155" y="201"/>
                  </a:lnTo>
                  <a:lnTo>
                    <a:pt x="165" y="167"/>
                  </a:lnTo>
                  <a:lnTo>
                    <a:pt x="183" y="111"/>
                  </a:lnTo>
                  <a:lnTo>
                    <a:pt x="195" y="75"/>
                  </a:lnTo>
                  <a:lnTo>
                    <a:pt x="216" y="83"/>
                  </a:lnTo>
                  <a:lnTo>
                    <a:pt x="245" y="94"/>
                  </a:lnTo>
                  <a:lnTo>
                    <a:pt x="276" y="109"/>
                  </a:lnTo>
                  <a:lnTo>
                    <a:pt x="310" y="125"/>
                  </a:lnTo>
                  <a:lnTo>
                    <a:pt x="298" y="141"/>
                  </a:lnTo>
                  <a:lnTo>
                    <a:pt x="286" y="158"/>
                  </a:lnTo>
                  <a:lnTo>
                    <a:pt x="273" y="176"/>
                  </a:lnTo>
                  <a:lnTo>
                    <a:pt x="262" y="194"/>
                  </a:lnTo>
                  <a:lnTo>
                    <a:pt x="251" y="213"/>
                  </a:lnTo>
                  <a:lnTo>
                    <a:pt x="241" y="233"/>
                  </a:lnTo>
                  <a:lnTo>
                    <a:pt x="231" y="254"/>
                  </a:lnTo>
                  <a:lnTo>
                    <a:pt x="222" y="275"/>
                  </a:lnTo>
                  <a:lnTo>
                    <a:pt x="214" y="297"/>
                  </a:lnTo>
                  <a:lnTo>
                    <a:pt x="206" y="320"/>
                  </a:lnTo>
                  <a:lnTo>
                    <a:pt x="199" y="342"/>
                  </a:lnTo>
                  <a:lnTo>
                    <a:pt x="191" y="366"/>
                  </a:lnTo>
                  <a:lnTo>
                    <a:pt x="179" y="413"/>
                  </a:lnTo>
                  <a:lnTo>
                    <a:pt x="169" y="462"/>
                  </a:lnTo>
                  <a:lnTo>
                    <a:pt x="159" y="512"/>
                  </a:lnTo>
                  <a:lnTo>
                    <a:pt x="153" y="562"/>
                  </a:lnTo>
                  <a:lnTo>
                    <a:pt x="147" y="611"/>
                  </a:lnTo>
                  <a:lnTo>
                    <a:pt x="142" y="661"/>
                  </a:lnTo>
                  <a:lnTo>
                    <a:pt x="138" y="709"/>
                  </a:lnTo>
                  <a:lnTo>
                    <a:pt x="137" y="758"/>
                  </a:lnTo>
                  <a:lnTo>
                    <a:pt x="135" y="804"/>
                  </a:lnTo>
                  <a:lnTo>
                    <a:pt x="134" y="847"/>
                  </a:lnTo>
                  <a:lnTo>
                    <a:pt x="134" y="881"/>
                  </a:lnTo>
                  <a:lnTo>
                    <a:pt x="135" y="910"/>
                  </a:lnTo>
                  <a:lnTo>
                    <a:pt x="135" y="939"/>
                  </a:lnTo>
                  <a:lnTo>
                    <a:pt x="137" y="964"/>
                  </a:lnTo>
                  <a:lnTo>
                    <a:pt x="138" y="986"/>
                  </a:lnTo>
                  <a:lnTo>
                    <a:pt x="139" y="1006"/>
                  </a:lnTo>
                  <a:lnTo>
                    <a:pt x="140" y="1023"/>
                  </a:lnTo>
                  <a:lnTo>
                    <a:pt x="142" y="1039"/>
                  </a:lnTo>
                  <a:lnTo>
                    <a:pt x="129" y="1039"/>
                  </a:lnTo>
                  <a:lnTo>
                    <a:pt x="119" y="1039"/>
                  </a:lnTo>
                  <a:lnTo>
                    <a:pt x="113" y="1017"/>
                  </a:lnTo>
                  <a:lnTo>
                    <a:pt x="107" y="993"/>
                  </a:lnTo>
                  <a:lnTo>
                    <a:pt x="102" y="976"/>
                  </a:lnTo>
                  <a:lnTo>
                    <a:pt x="99" y="969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7143840" y="5183280"/>
              <a:ext cx="163440" cy="414360"/>
            </a:xfrm>
            <a:custGeom>
              <a:avLst/>
              <a:gdLst/>
              <a:ahLst/>
              <a:rect l="l" t="t" r="r" b="b"/>
              <a:pathLst>
                <a:path w="409" h="1043">
                  <a:moveTo>
                    <a:pt x="176" y="0"/>
                  </a:moveTo>
                  <a:lnTo>
                    <a:pt x="173" y="6"/>
                  </a:lnTo>
                  <a:lnTo>
                    <a:pt x="166" y="24"/>
                  </a:lnTo>
                  <a:lnTo>
                    <a:pt x="155" y="53"/>
                  </a:lnTo>
                  <a:lnTo>
                    <a:pt x="140" y="90"/>
                  </a:lnTo>
                  <a:lnTo>
                    <a:pt x="124" y="137"/>
                  </a:lnTo>
                  <a:lnTo>
                    <a:pt x="106" y="192"/>
                  </a:lnTo>
                  <a:lnTo>
                    <a:pt x="87" y="253"/>
                  </a:lnTo>
                  <a:lnTo>
                    <a:pt x="68" y="320"/>
                  </a:lnTo>
                  <a:lnTo>
                    <a:pt x="59" y="354"/>
                  </a:lnTo>
                  <a:lnTo>
                    <a:pt x="51" y="390"/>
                  </a:lnTo>
                  <a:lnTo>
                    <a:pt x="42" y="428"/>
                  </a:lnTo>
                  <a:lnTo>
                    <a:pt x="33" y="465"/>
                  </a:lnTo>
                  <a:lnTo>
                    <a:pt x="26" y="503"/>
                  </a:lnTo>
                  <a:lnTo>
                    <a:pt x="20" y="543"/>
                  </a:lnTo>
                  <a:lnTo>
                    <a:pt x="13" y="583"/>
                  </a:lnTo>
                  <a:lnTo>
                    <a:pt x="8" y="622"/>
                  </a:lnTo>
                  <a:lnTo>
                    <a:pt x="5" y="662"/>
                  </a:lnTo>
                  <a:lnTo>
                    <a:pt x="1" y="702"/>
                  </a:lnTo>
                  <a:lnTo>
                    <a:pt x="0" y="742"/>
                  </a:lnTo>
                  <a:lnTo>
                    <a:pt x="0" y="781"/>
                  </a:lnTo>
                  <a:lnTo>
                    <a:pt x="0" y="821"/>
                  </a:lnTo>
                  <a:lnTo>
                    <a:pt x="2" y="859"/>
                  </a:lnTo>
                  <a:lnTo>
                    <a:pt x="6" y="898"/>
                  </a:lnTo>
                  <a:lnTo>
                    <a:pt x="12" y="935"/>
                  </a:lnTo>
                  <a:lnTo>
                    <a:pt x="28" y="1033"/>
                  </a:lnTo>
                  <a:lnTo>
                    <a:pt x="116" y="1043"/>
                  </a:lnTo>
                  <a:lnTo>
                    <a:pt x="116" y="1036"/>
                  </a:lnTo>
                  <a:lnTo>
                    <a:pt x="118" y="1012"/>
                  </a:lnTo>
                  <a:lnTo>
                    <a:pt x="120" y="976"/>
                  </a:lnTo>
                  <a:lnTo>
                    <a:pt x="124" y="928"/>
                  </a:lnTo>
                  <a:lnTo>
                    <a:pt x="129" y="871"/>
                  </a:lnTo>
                  <a:lnTo>
                    <a:pt x="136" y="806"/>
                  </a:lnTo>
                  <a:lnTo>
                    <a:pt x="147" y="735"/>
                  </a:lnTo>
                  <a:lnTo>
                    <a:pt x="160" y="661"/>
                  </a:lnTo>
                  <a:lnTo>
                    <a:pt x="169" y="622"/>
                  </a:lnTo>
                  <a:lnTo>
                    <a:pt x="177" y="584"/>
                  </a:lnTo>
                  <a:lnTo>
                    <a:pt x="186" y="546"/>
                  </a:lnTo>
                  <a:lnTo>
                    <a:pt x="197" y="507"/>
                  </a:lnTo>
                  <a:lnTo>
                    <a:pt x="208" y="470"/>
                  </a:lnTo>
                  <a:lnTo>
                    <a:pt x="221" y="433"/>
                  </a:lnTo>
                  <a:lnTo>
                    <a:pt x="234" y="395"/>
                  </a:lnTo>
                  <a:lnTo>
                    <a:pt x="248" y="361"/>
                  </a:lnTo>
                  <a:lnTo>
                    <a:pt x="264" y="326"/>
                  </a:lnTo>
                  <a:lnTo>
                    <a:pt x="282" y="294"/>
                  </a:lnTo>
                  <a:lnTo>
                    <a:pt x="299" y="263"/>
                  </a:lnTo>
                  <a:lnTo>
                    <a:pt x="319" y="234"/>
                  </a:lnTo>
                  <a:lnTo>
                    <a:pt x="339" y="207"/>
                  </a:lnTo>
                  <a:lnTo>
                    <a:pt x="361" y="183"/>
                  </a:lnTo>
                  <a:lnTo>
                    <a:pt x="385" y="161"/>
                  </a:lnTo>
                  <a:lnTo>
                    <a:pt x="409" y="142"/>
                  </a:lnTo>
                  <a:lnTo>
                    <a:pt x="401" y="136"/>
                  </a:lnTo>
                  <a:lnTo>
                    <a:pt x="378" y="120"/>
                  </a:lnTo>
                  <a:lnTo>
                    <a:pt x="345" y="96"/>
                  </a:lnTo>
                  <a:lnTo>
                    <a:pt x="306" y="69"/>
                  </a:lnTo>
                  <a:lnTo>
                    <a:pt x="265" y="43"/>
                  </a:lnTo>
                  <a:lnTo>
                    <a:pt x="227" y="19"/>
                  </a:lnTo>
                  <a:lnTo>
                    <a:pt x="211" y="11"/>
                  </a:lnTo>
                  <a:lnTo>
                    <a:pt x="196" y="5"/>
                  </a:lnTo>
                  <a:lnTo>
                    <a:pt x="185" y="1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7129440" y="5170320"/>
              <a:ext cx="201600" cy="443160"/>
            </a:xfrm>
            <a:custGeom>
              <a:avLst/>
              <a:gdLst/>
              <a:ahLst/>
              <a:rect l="l" t="t" r="r" b="b"/>
              <a:pathLst>
                <a:path w="508" h="1118">
                  <a:moveTo>
                    <a:pt x="206" y="0"/>
                  </a:moveTo>
                  <a:lnTo>
                    <a:pt x="187" y="4"/>
                  </a:lnTo>
                  <a:lnTo>
                    <a:pt x="178" y="21"/>
                  </a:lnTo>
                  <a:lnTo>
                    <a:pt x="175" y="31"/>
                  </a:lnTo>
                  <a:lnTo>
                    <a:pt x="166" y="52"/>
                  </a:lnTo>
                  <a:lnTo>
                    <a:pt x="154" y="83"/>
                  </a:lnTo>
                  <a:lnTo>
                    <a:pt x="139" y="124"/>
                  </a:lnTo>
                  <a:lnTo>
                    <a:pt x="123" y="172"/>
                  </a:lnTo>
                  <a:lnTo>
                    <a:pt x="104" y="227"/>
                  </a:lnTo>
                  <a:lnTo>
                    <a:pt x="85" y="289"/>
                  </a:lnTo>
                  <a:lnTo>
                    <a:pt x="67" y="356"/>
                  </a:lnTo>
                  <a:lnTo>
                    <a:pt x="48" y="428"/>
                  </a:lnTo>
                  <a:lnTo>
                    <a:pt x="32" y="504"/>
                  </a:lnTo>
                  <a:lnTo>
                    <a:pt x="24" y="542"/>
                  </a:lnTo>
                  <a:lnTo>
                    <a:pt x="18" y="582"/>
                  </a:lnTo>
                  <a:lnTo>
                    <a:pt x="13" y="620"/>
                  </a:lnTo>
                  <a:lnTo>
                    <a:pt x="8" y="661"/>
                  </a:lnTo>
                  <a:lnTo>
                    <a:pt x="5" y="701"/>
                  </a:lnTo>
                  <a:lnTo>
                    <a:pt x="1" y="741"/>
                  </a:lnTo>
                  <a:lnTo>
                    <a:pt x="0" y="780"/>
                  </a:lnTo>
                  <a:lnTo>
                    <a:pt x="0" y="820"/>
                  </a:lnTo>
                  <a:lnTo>
                    <a:pt x="1" y="860"/>
                  </a:lnTo>
                  <a:lnTo>
                    <a:pt x="3" y="899"/>
                  </a:lnTo>
                  <a:lnTo>
                    <a:pt x="7" y="938"/>
                  </a:lnTo>
                  <a:lnTo>
                    <a:pt x="12" y="976"/>
                  </a:lnTo>
                  <a:lnTo>
                    <a:pt x="34" y="1100"/>
                  </a:lnTo>
                  <a:lnTo>
                    <a:pt x="187" y="1118"/>
                  </a:lnTo>
                  <a:lnTo>
                    <a:pt x="187" y="1079"/>
                  </a:lnTo>
                  <a:lnTo>
                    <a:pt x="188" y="1071"/>
                  </a:lnTo>
                  <a:lnTo>
                    <a:pt x="190" y="1047"/>
                  </a:lnTo>
                  <a:lnTo>
                    <a:pt x="191" y="1011"/>
                  </a:lnTo>
                  <a:lnTo>
                    <a:pt x="196" y="964"/>
                  </a:lnTo>
                  <a:lnTo>
                    <a:pt x="201" y="908"/>
                  </a:lnTo>
                  <a:lnTo>
                    <a:pt x="208" y="845"/>
                  </a:lnTo>
                  <a:lnTo>
                    <a:pt x="218" y="777"/>
                  </a:lnTo>
                  <a:lnTo>
                    <a:pt x="231" y="705"/>
                  </a:lnTo>
                  <a:lnTo>
                    <a:pt x="238" y="667"/>
                  </a:lnTo>
                  <a:lnTo>
                    <a:pt x="247" y="630"/>
                  </a:lnTo>
                  <a:lnTo>
                    <a:pt x="255" y="593"/>
                  </a:lnTo>
                  <a:lnTo>
                    <a:pt x="265" y="556"/>
                  </a:lnTo>
                  <a:lnTo>
                    <a:pt x="277" y="520"/>
                  </a:lnTo>
                  <a:lnTo>
                    <a:pt x="288" y="484"/>
                  </a:lnTo>
                  <a:lnTo>
                    <a:pt x="300" y="448"/>
                  </a:lnTo>
                  <a:lnTo>
                    <a:pt x="315" y="414"/>
                  </a:lnTo>
                  <a:lnTo>
                    <a:pt x="329" y="381"/>
                  </a:lnTo>
                  <a:lnTo>
                    <a:pt x="345" y="350"/>
                  </a:lnTo>
                  <a:lnTo>
                    <a:pt x="362" y="321"/>
                  </a:lnTo>
                  <a:lnTo>
                    <a:pt x="381" y="293"/>
                  </a:lnTo>
                  <a:lnTo>
                    <a:pt x="399" y="268"/>
                  </a:lnTo>
                  <a:lnTo>
                    <a:pt x="421" y="246"/>
                  </a:lnTo>
                  <a:lnTo>
                    <a:pt x="442" y="224"/>
                  </a:lnTo>
                  <a:lnTo>
                    <a:pt x="465" y="207"/>
                  </a:lnTo>
                  <a:lnTo>
                    <a:pt x="508" y="180"/>
                  </a:lnTo>
                  <a:lnTo>
                    <a:pt x="467" y="149"/>
                  </a:lnTo>
                  <a:lnTo>
                    <a:pt x="429" y="121"/>
                  </a:lnTo>
                  <a:lnTo>
                    <a:pt x="396" y="98"/>
                  </a:lnTo>
                  <a:lnTo>
                    <a:pt x="366" y="77"/>
                  </a:lnTo>
                  <a:lnTo>
                    <a:pt x="340" y="59"/>
                  </a:lnTo>
                  <a:lnTo>
                    <a:pt x="316" y="45"/>
                  </a:lnTo>
                  <a:lnTo>
                    <a:pt x="295" y="32"/>
                  </a:lnTo>
                  <a:lnTo>
                    <a:pt x="278" y="22"/>
                  </a:lnTo>
                  <a:lnTo>
                    <a:pt x="263" y="15"/>
                  </a:lnTo>
                  <a:lnTo>
                    <a:pt x="249" y="9"/>
                  </a:lnTo>
                  <a:lnTo>
                    <a:pt x="239" y="5"/>
                  </a:lnTo>
                  <a:lnTo>
                    <a:pt x="229" y="2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6" y="0"/>
                  </a:lnTo>
                  <a:close/>
                  <a:moveTo>
                    <a:pt x="83" y="964"/>
                  </a:moveTo>
                  <a:lnTo>
                    <a:pt x="78" y="927"/>
                  </a:lnTo>
                  <a:lnTo>
                    <a:pt x="74" y="889"/>
                  </a:lnTo>
                  <a:lnTo>
                    <a:pt x="72" y="852"/>
                  </a:lnTo>
                  <a:lnTo>
                    <a:pt x="70" y="813"/>
                  </a:lnTo>
                  <a:lnTo>
                    <a:pt x="72" y="785"/>
                  </a:lnTo>
                  <a:lnTo>
                    <a:pt x="73" y="757"/>
                  </a:lnTo>
                  <a:lnTo>
                    <a:pt x="74" y="728"/>
                  </a:lnTo>
                  <a:lnTo>
                    <a:pt x="77" y="700"/>
                  </a:lnTo>
                  <a:lnTo>
                    <a:pt x="83" y="641"/>
                  </a:lnTo>
                  <a:lnTo>
                    <a:pt x="90" y="586"/>
                  </a:lnTo>
                  <a:lnTo>
                    <a:pt x="100" y="530"/>
                  </a:lnTo>
                  <a:lnTo>
                    <a:pt x="111" y="474"/>
                  </a:lnTo>
                  <a:lnTo>
                    <a:pt x="124" y="422"/>
                  </a:lnTo>
                  <a:lnTo>
                    <a:pt x="137" y="370"/>
                  </a:lnTo>
                  <a:lnTo>
                    <a:pt x="151" y="321"/>
                  </a:lnTo>
                  <a:lnTo>
                    <a:pt x="165" y="275"/>
                  </a:lnTo>
                  <a:lnTo>
                    <a:pt x="177" y="232"/>
                  </a:lnTo>
                  <a:lnTo>
                    <a:pt x="191" y="193"/>
                  </a:lnTo>
                  <a:lnTo>
                    <a:pt x="214" y="126"/>
                  </a:lnTo>
                  <a:lnTo>
                    <a:pt x="232" y="79"/>
                  </a:lnTo>
                  <a:lnTo>
                    <a:pt x="263" y="97"/>
                  </a:lnTo>
                  <a:lnTo>
                    <a:pt x="301" y="120"/>
                  </a:lnTo>
                  <a:lnTo>
                    <a:pt x="345" y="150"/>
                  </a:lnTo>
                  <a:lnTo>
                    <a:pt x="391" y="182"/>
                  </a:lnTo>
                  <a:lnTo>
                    <a:pt x="371" y="202"/>
                  </a:lnTo>
                  <a:lnTo>
                    <a:pt x="352" y="223"/>
                  </a:lnTo>
                  <a:lnTo>
                    <a:pt x="334" y="246"/>
                  </a:lnTo>
                  <a:lnTo>
                    <a:pt x="316" y="269"/>
                  </a:lnTo>
                  <a:lnTo>
                    <a:pt x="300" y="295"/>
                  </a:lnTo>
                  <a:lnTo>
                    <a:pt x="285" y="321"/>
                  </a:lnTo>
                  <a:lnTo>
                    <a:pt x="270" y="350"/>
                  </a:lnTo>
                  <a:lnTo>
                    <a:pt x="257" y="378"/>
                  </a:lnTo>
                  <a:lnTo>
                    <a:pt x="244" y="408"/>
                  </a:lnTo>
                  <a:lnTo>
                    <a:pt x="232" y="438"/>
                  </a:lnTo>
                  <a:lnTo>
                    <a:pt x="221" y="470"/>
                  </a:lnTo>
                  <a:lnTo>
                    <a:pt x="211" y="501"/>
                  </a:lnTo>
                  <a:lnTo>
                    <a:pt x="201" y="533"/>
                  </a:lnTo>
                  <a:lnTo>
                    <a:pt x="192" y="564"/>
                  </a:lnTo>
                  <a:lnTo>
                    <a:pt x="183" y="597"/>
                  </a:lnTo>
                  <a:lnTo>
                    <a:pt x="176" y="629"/>
                  </a:lnTo>
                  <a:lnTo>
                    <a:pt x="161" y="693"/>
                  </a:lnTo>
                  <a:lnTo>
                    <a:pt x="150" y="755"/>
                  </a:lnTo>
                  <a:lnTo>
                    <a:pt x="141" y="815"/>
                  </a:lnTo>
                  <a:lnTo>
                    <a:pt x="134" y="871"/>
                  </a:lnTo>
                  <a:lnTo>
                    <a:pt x="128" y="922"/>
                  </a:lnTo>
                  <a:lnTo>
                    <a:pt x="123" y="968"/>
                  </a:lnTo>
                  <a:lnTo>
                    <a:pt x="120" y="1007"/>
                  </a:lnTo>
                  <a:lnTo>
                    <a:pt x="118" y="1038"/>
                  </a:lnTo>
                  <a:lnTo>
                    <a:pt x="106" y="1037"/>
                  </a:lnTo>
                  <a:lnTo>
                    <a:pt x="95" y="1036"/>
                  </a:lnTo>
                  <a:lnTo>
                    <a:pt x="92" y="1012"/>
                  </a:lnTo>
                  <a:lnTo>
                    <a:pt x="88" y="989"/>
                  </a:lnTo>
                  <a:lnTo>
                    <a:pt x="84" y="971"/>
                  </a:lnTo>
                  <a:lnTo>
                    <a:pt x="83" y="96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7178760" y="5230800"/>
              <a:ext cx="180720" cy="405000"/>
            </a:xfrm>
            <a:custGeom>
              <a:avLst/>
              <a:gdLst/>
              <a:ahLst/>
              <a:rect l="l" t="t" r="r" b="b"/>
              <a:pathLst>
                <a:path w="457" h="1020">
                  <a:moveTo>
                    <a:pt x="281" y="0"/>
                  </a:moveTo>
                  <a:lnTo>
                    <a:pt x="278" y="6"/>
                  </a:lnTo>
                  <a:lnTo>
                    <a:pt x="268" y="22"/>
                  </a:lnTo>
                  <a:lnTo>
                    <a:pt x="253" y="49"/>
                  </a:lnTo>
                  <a:lnTo>
                    <a:pt x="233" y="84"/>
                  </a:lnTo>
                  <a:lnTo>
                    <a:pt x="211" y="129"/>
                  </a:lnTo>
                  <a:lnTo>
                    <a:pt x="185" y="180"/>
                  </a:lnTo>
                  <a:lnTo>
                    <a:pt x="157" y="237"/>
                  </a:lnTo>
                  <a:lnTo>
                    <a:pt x="130" y="300"/>
                  </a:lnTo>
                  <a:lnTo>
                    <a:pt x="116" y="333"/>
                  </a:lnTo>
                  <a:lnTo>
                    <a:pt x="103" y="368"/>
                  </a:lnTo>
                  <a:lnTo>
                    <a:pt x="89" y="403"/>
                  </a:lnTo>
                  <a:lnTo>
                    <a:pt x="77" y="439"/>
                  </a:lnTo>
                  <a:lnTo>
                    <a:pt x="64" y="476"/>
                  </a:lnTo>
                  <a:lnTo>
                    <a:pt x="53" y="515"/>
                  </a:lnTo>
                  <a:lnTo>
                    <a:pt x="42" y="552"/>
                  </a:lnTo>
                  <a:lnTo>
                    <a:pt x="33" y="590"/>
                  </a:lnTo>
                  <a:lnTo>
                    <a:pt x="24" y="630"/>
                  </a:lnTo>
                  <a:lnTo>
                    <a:pt x="16" y="668"/>
                  </a:lnTo>
                  <a:lnTo>
                    <a:pt x="10" y="707"/>
                  </a:lnTo>
                  <a:lnTo>
                    <a:pt x="6" y="747"/>
                  </a:lnTo>
                  <a:lnTo>
                    <a:pt x="2" y="785"/>
                  </a:lnTo>
                  <a:lnTo>
                    <a:pt x="0" y="824"/>
                  </a:lnTo>
                  <a:lnTo>
                    <a:pt x="1" y="862"/>
                  </a:lnTo>
                  <a:lnTo>
                    <a:pt x="2" y="900"/>
                  </a:lnTo>
                  <a:lnTo>
                    <a:pt x="10" y="1000"/>
                  </a:lnTo>
                  <a:lnTo>
                    <a:pt x="96" y="1020"/>
                  </a:lnTo>
                  <a:lnTo>
                    <a:pt x="96" y="1011"/>
                  </a:lnTo>
                  <a:lnTo>
                    <a:pt x="100" y="987"/>
                  </a:lnTo>
                  <a:lnTo>
                    <a:pt x="104" y="950"/>
                  </a:lnTo>
                  <a:lnTo>
                    <a:pt x="111" y="900"/>
                  </a:lnTo>
                  <a:lnTo>
                    <a:pt x="121" y="841"/>
                  </a:lnTo>
                  <a:lnTo>
                    <a:pt x="134" y="774"/>
                  </a:lnTo>
                  <a:lnTo>
                    <a:pt x="149" y="702"/>
                  </a:lnTo>
                  <a:lnTo>
                    <a:pt x="167" y="626"/>
                  </a:lnTo>
                  <a:lnTo>
                    <a:pt x="178" y="587"/>
                  </a:lnTo>
                  <a:lnTo>
                    <a:pt x="190" y="548"/>
                  </a:lnTo>
                  <a:lnTo>
                    <a:pt x="202" y="508"/>
                  </a:lnTo>
                  <a:lnTo>
                    <a:pt x="216" y="470"/>
                  </a:lnTo>
                  <a:lnTo>
                    <a:pt x="229" y="432"/>
                  </a:lnTo>
                  <a:lnTo>
                    <a:pt x="244" y="394"/>
                  </a:lnTo>
                  <a:lnTo>
                    <a:pt x="260" y="358"/>
                  </a:lnTo>
                  <a:lnTo>
                    <a:pt x="278" y="324"/>
                  </a:lnTo>
                  <a:lnTo>
                    <a:pt x="296" y="290"/>
                  </a:lnTo>
                  <a:lnTo>
                    <a:pt x="315" y="258"/>
                  </a:lnTo>
                  <a:lnTo>
                    <a:pt x="336" y="228"/>
                  </a:lnTo>
                  <a:lnTo>
                    <a:pt x="357" y="201"/>
                  </a:lnTo>
                  <a:lnTo>
                    <a:pt x="381" y="176"/>
                  </a:lnTo>
                  <a:lnTo>
                    <a:pt x="404" y="154"/>
                  </a:lnTo>
                  <a:lnTo>
                    <a:pt x="429" y="135"/>
                  </a:lnTo>
                  <a:lnTo>
                    <a:pt x="457" y="119"/>
                  </a:lnTo>
                  <a:lnTo>
                    <a:pt x="434" y="100"/>
                  </a:lnTo>
                  <a:lnTo>
                    <a:pt x="382" y="59"/>
                  </a:lnTo>
                  <a:lnTo>
                    <a:pt x="352" y="37"/>
                  </a:lnTo>
                  <a:lnTo>
                    <a:pt x="324" y="18"/>
                  </a:lnTo>
                  <a:lnTo>
                    <a:pt x="311" y="11"/>
                  </a:lnTo>
                  <a:lnTo>
                    <a:pt x="299" y="5"/>
                  </a:lnTo>
                  <a:lnTo>
                    <a:pt x="289" y="1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7164360" y="5218200"/>
              <a:ext cx="220680" cy="434880"/>
            </a:xfrm>
            <a:custGeom>
              <a:avLst/>
              <a:gdLst/>
              <a:ahLst/>
              <a:rect l="l" t="t" r="r" b="b"/>
              <a:pathLst>
                <a:path w="554" h="1098">
                  <a:moveTo>
                    <a:pt x="315" y="0"/>
                  </a:moveTo>
                  <a:lnTo>
                    <a:pt x="295" y="0"/>
                  </a:lnTo>
                  <a:lnTo>
                    <a:pt x="285" y="16"/>
                  </a:lnTo>
                  <a:lnTo>
                    <a:pt x="280" y="26"/>
                  </a:lnTo>
                  <a:lnTo>
                    <a:pt x="269" y="46"/>
                  </a:lnTo>
                  <a:lnTo>
                    <a:pt x="252" y="74"/>
                  </a:lnTo>
                  <a:lnTo>
                    <a:pt x="232" y="112"/>
                  </a:lnTo>
                  <a:lnTo>
                    <a:pt x="208" y="158"/>
                  </a:lnTo>
                  <a:lnTo>
                    <a:pt x="182" y="210"/>
                  </a:lnTo>
                  <a:lnTo>
                    <a:pt x="155" y="268"/>
                  </a:lnTo>
                  <a:lnTo>
                    <a:pt x="126" y="333"/>
                  </a:lnTo>
                  <a:lnTo>
                    <a:pt x="113" y="366"/>
                  </a:lnTo>
                  <a:lnTo>
                    <a:pt x="100" y="401"/>
                  </a:lnTo>
                  <a:lnTo>
                    <a:pt x="87" y="437"/>
                  </a:lnTo>
                  <a:lnTo>
                    <a:pt x="74" y="473"/>
                  </a:lnTo>
                  <a:lnTo>
                    <a:pt x="62" y="510"/>
                  </a:lnTo>
                  <a:lnTo>
                    <a:pt x="51" y="548"/>
                  </a:lnTo>
                  <a:lnTo>
                    <a:pt x="41" y="587"/>
                  </a:lnTo>
                  <a:lnTo>
                    <a:pt x="31" y="625"/>
                  </a:lnTo>
                  <a:lnTo>
                    <a:pt x="22" y="664"/>
                  </a:lnTo>
                  <a:lnTo>
                    <a:pt x="15" y="703"/>
                  </a:lnTo>
                  <a:lnTo>
                    <a:pt x="8" y="743"/>
                  </a:lnTo>
                  <a:lnTo>
                    <a:pt x="5" y="783"/>
                  </a:lnTo>
                  <a:lnTo>
                    <a:pt x="1" y="821"/>
                  </a:lnTo>
                  <a:lnTo>
                    <a:pt x="0" y="861"/>
                  </a:lnTo>
                  <a:lnTo>
                    <a:pt x="0" y="900"/>
                  </a:lnTo>
                  <a:lnTo>
                    <a:pt x="1" y="938"/>
                  </a:lnTo>
                  <a:lnTo>
                    <a:pt x="11" y="1065"/>
                  </a:lnTo>
                  <a:lnTo>
                    <a:pt x="162" y="1098"/>
                  </a:lnTo>
                  <a:lnTo>
                    <a:pt x="166" y="1058"/>
                  </a:lnTo>
                  <a:lnTo>
                    <a:pt x="167" y="1048"/>
                  </a:lnTo>
                  <a:lnTo>
                    <a:pt x="170" y="1025"/>
                  </a:lnTo>
                  <a:lnTo>
                    <a:pt x="175" y="986"/>
                  </a:lnTo>
                  <a:lnTo>
                    <a:pt x="182" y="938"/>
                  </a:lnTo>
                  <a:lnTo>
                    <a:pt x="192" y="881"/>
                  </a:lnTo>
                  <a:lnTo>
                    <a:pt x="203" y="815"/>
                  </a:lnTo>
                  <a:lnTo>
                    <a:pt x="218" y="746"/>
                  </a:lnTo>
                  <a:lnTo>
                    <a:pt x="237" y="671"/>
                  </a:lnTo>
                  <a:lnTo>
                    <a:pt x="247" y="634"/>
                  </a:lnTo>
                  <a:lnTo>
                    <a:pt x="258" y="597"/>
                  </a:lnTo>
                  <a:lnTo>
                    <a:pt x="269" y="558"/>
                  </a:lnTo>
                  <a:lnTo>
                    <a:pt x="282" y="521"/>
                  </a:lnTo>
                  <a:lnTo>
                    <a:pt x="295" y="484"/>
                  </a:lnTo>
                  <a:lnTo>
                    <a:pt x="310" y="448"/>
                  </a:lnTo>
                  <a:lnTo>
                    <a:pt x="325" y="413"/>
                  </a:lnTo>
                  <a:lnTo>
                    <a:pt x="341" y="380"/>
                  </a:lnTo>
                  <a:lnTo>
                    <a:pt x="359" y="347"/>
                  </a:lnTo>
                  <a:lnTo>
                    <a:pt x="376" y="318"/>
                  </a:lnTo>
                  <a:lnTo>
                    <a:pt x="396" y="289"/>
                  </a:lnTo>
                  <a:lnTo>
                    <a:pt x="416" y="263"/>
                  </a:lnTo>
                  <a:lnTo>
                    <a:pt x="437" y="239"/>
                  </a:lnTo>
                  <a:lnTo>
                    <a:pt x="459" y="218"/>
                  </a:lnTo>
                  <a:lnTo>
                    <a:pt x="483" y="200"/>
                  </a:lnTo>
                  <a:lnTo>
                    <a:pt x="508" y="186"/>
                  </a:lnTo>
                  <a:lnTo>
                    <a:pt x="554" y="161"/>
                  </a:lnTo>
                  <a:lnTo>
                    <a:pt x="514" y="127"/>
                  </a:lnTo>
                  <a:lnTo>
                    <a:pt x="479" y="97"/>
                  </a:lnTo>
                  <a:lnTo>
                    <a:pt x="446" y="71"/>
                  </a:lnTo>
                  <a:lnTo>
                    <a:pt x="416" y="48"/>
                  </a:lnTo>
                  <a:lnTo>
                    <a:pt x="390" y="31"/>
                  </a:lnTo>
                  <a:lnTo>
                    <a:pt x="366" y="17"/>
                  </a:lnTo>
                  <a:lnTo>
                    <a:pt x="346" y="7"/>
                  </a:lnTo>
                  <a:lnTo>
                    <a:pt x="338" y="4"/>
                  </a:lnTo>
                  <a:lnTo>
                    <a:pt x="329" y="1"/>
                  </a:lnTo>
                  <a:lnTo>
                    <a:pt x="321" y="0"/>
                  </a:lnTo>
                  <a:lnTo>
                    <a:pt x="315" y="0"/>
                  </a:lnTo>
                  <a:close/>
                  <a:moveTo>
                    <a:pt x="73" y="933"/>
                  </a:moveTo>
                  <a:lnTo>
                    <a:pt x="72" y="919"/>
                  </a:lnTo>
                  <a:lnTo>
                    <a:pt x="71" y="906"/>
                  </a:lnTo>
                  <a:lnTo>
                    <a:pt x="71" y="891"/>
                  </a:lnTo>
                  <a:lnTo>
                    <a:pt x="71" y="877"/>
                  </a:lnTo>
                  <a:lnTo>
                    <a:pt x="72" y="847"/>
                  </a:lnTo>
                  <a:lnTo>
                    <a:pt x="73" y="816"/>
                  </a:lnTo>
                  <a:lnTo>
                    <a:pt x="76" y="785"/>
                  </a:lnTo>
                  <a:lnTo>
                    <a:pt x="79" y="754"/>
                  </a:lnTo>
                  <a:lnTo>
                    <a:pt x="84" y="723"/>
                  </a:lnTo>
                  <a:lnTo>
                    <a:pt x="89" y="692"/>
                  </a:lnTo>
                  <a:lnTo>
                    <a:pt x="97" y="661"/>
                  </a:lnTo>
                  <a:lnTo>
                    <a:pt x="103" y="630"/>
                  </a:lnTo>
                  <a:lnTo>
                    <a:pt x="119" y="569"/>
                  </a:lnTo>
                  <a:lnTo>
                    <a:pt x="138" y="510"/>
                  </a:lnTo>
                  <a:lnTo>
                    <a:pt x="158" y="452"/>
                  </a:lnTo>
                  <a:lnTo>
                    <a:pt x="180" y="395"/>
                  </a:lnTo>
                  <a:lnTo>
                    <a:pt x="201" y="341"/>
                  </a:lnTo>
                  <a:lnTo>
                    <a:pt x="223" y="292"/>
                  </a:lnTo>
                  <a:lnTo>
                    <a:pt x="246" y="244"/>
                  </a:lnTo>
                  <a:lnTo>
                    <a:pt x="266" y="202"/>
                  </a:lnTo>
                  <a:lnTo>
                    <a:pt x="303" y="130"/>
                  </a:lnTo>
                  <a:lnTo>
                    <a:pt x="331" y="81"/>
                  </a:lnTo>
                  <a:lnTo>
                    <a:pt x="351" y="92"/>
                  </a:lnTo>
                  <a:lnTo>
                    <a:pt x="376" y="109"/>
                  </a:lnTo>
                  <a:lnTo>
                    <a:pt x="403" y="130"/>
                  </a:lnTo>
                  <a:lnTo>
                    <a:pt x="434" y="155"/>
                  </a:lnTo>
                  <a:lnTo>
                    <a:pt x="413" y="172"/>
                  </a:lnTo>
                  <a:lnTo>
                    <a:pt x="392" y="191"/>
                  </a:lnTo>
                  <a:lnTo>
                    <a:pt x="372" y="213"/>
                  </a:lnTo>
                  <a:lnTo>
                    <a:pt x="354" y="236"/>
                  </a:lnTo>
                  <a:lnTo>
                    <a:pt x="336" y="261"/>
                  </a:lnTo>
                  <a:lnTo>
                    <a:pt x="319" y="287"/>
                  </a:lnTo>
                  <a:lnTo>
                    <a:pt x="302" y="313"/>
                  </a:lnTo>
                  <a:lnTo>
                    <a:pt x="287" y="341"/>
                  </a:lnTo>
                  <a:lnTo>
                    <a:pt x="272" y="371"/>
                  </a:lnTo>
                  <a:lnTo>
                    <a:pt x="257" y="401"/>
                  </a:lnTo>
                  <a:lnTo>
                    <a:pt x="243" y="432"/>
                  </a:lnTo>
                  <a:lnTo>
                    <a:pt x="231" y="463"/>
                  </a:lnTo>
                  <a:lnTo>
                    <a:pt x="218" y="495"/>
                  </a:lnTo>
                  <a:lnTo>
                    <a:pt x="207" y="527"/>
                  </a:lnTo>
                  <a:lnTo>
                    <a:pt x="196" y="560"/>
                  </a:lnTo>
                  <a:lnTo>
                    <a:pt x="186" y="592"/>
                  </a:lnTo>
                  <a:lnTo>
                    <a:pt x="169" y="656"/>
                  </a:lnTo>
                  <a:lnTo>
                    <a:pt x="153" y="721"/>
                  </a:lnTo>
                  <a:lnTo>
                    <a:pt x="139" y="782"/>
                  </a:lnTo>
                  <a:lnTo>
                    <a:pt x="126" y="839"/>
                  </a:lnTo>
                  <a:lnTo>
                    <a:pt x="118" y="891"/>
                  </a:lnTo>
                  <a:lnTo>
                    <a:pt x="110" y="938"/>
                  </a:lnTo>
                  <a:lnTo>
                    <a:pt x="104" y="979"/>
                  </a:lnTo>
                  <a:lnTo>
                    <a:pt x="100" y="1011"/>
                  </a:lnTo>
                  <a:lnTo>
                    <a:pt x="89" y="1009"/>
                  </a:lnTo>
                  <a:lnTo>
                    <a:pt x="78" y="1006"/>
                  </a:lnTo>
                  <a:lnTo>
                    <a:pt x="77" y="983"/>
                  </a:lnTo>
                  <a:lnTo>
                    <a:pt x="74" y="959"/>
                  </a:lnTo>
                  <a:lnTo>
                    <a:pt x="73" y="940"/>
                  </a:lnTo>
                  <a:lnTo>
                    <a:pt x="73" y="93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7194600" y="5267160"/>
              <a:ext cx="218880" cy="390600"/>
            </a:xfrm>
            <a:custGeom>
              <a:avLst/>
              <a:gdLst/>
              <a:ahLst/>
              <a:rect l="l" t="t" r="r" b="b"/>
              <a:pathLst>
                <a:path w="550" h="983">
                  <a:moveTo>
                    <a:pt x="391" y="0"/>
                  </a:moveTo>
                  <a:lnTo>
                    <a:pt x="375" y="21"/>
                  </a:lnTo>
                  <a:lnTo>
                    <a:pt x="332" y="76"/>
                  </a:lnTo>
                  <a:lnTo>
                    <a:pt x="305" y="116"/>
                  </a:lnTo>
                  <a:lnTo>
                    <a:pt x="273" y="163"/>
                  </a:lnTo>
                  <a:lnTo>
                    <a:pt x="239" y="217"/>
                  </a:lnTo>
                  <a:lnTo>
                    <a:pt x="204" y="275"/>
                  </a:lnTo>
                  <a:lnTo>
                    <a:pt x="186" y="306"/>
                  </a:lnTo>
                  <a:lnTo>
                    <a:pt x="168" y="338"/>
                  </a:lnTo>
                  <a:lnTo>
                    <a:pt x="151" y="371"/>
                  </a:lnTo>
                  <a:lnTo>
                    <a:pt x="134" y="405"/>
                  </a:lnTo>
                  <a:lnTo>
                    <a:pt x="118" y="440"/>
                  </a:lnTo>
                  <a:lnTo>
                    <a:pt x="101" y="475"/>
                  </a:lnTo>
                  <a:lnTo>
                    <a:pt x="86" y="511"/>
                  </a:lnTo>
                  <a:lnTo>
                    <a:pt x="72" y="548"/>
                  </a:lnTo>
                  <a:lnTo>
                    <a:pt x="58" y="585"/>
                  </a:lnTo>
                  <a:lnTo>
                    <a:pt x="45" y="622"/>
                  </a:lnTo>
                  <a:lnTo>
                    <a:pt x="36" y="661"/>
                  </a:lnTo>
                  <a:lnTo>
                    <a:pt x="26" y="698"/>
                  </a:lnTo>
                  <a:lnTo>
                    <a:pt x="17" y="737"/>
                  </a:lnTo>
                  <a:lnTo>
                    <a:pt x="11" y="775"/>
                  </a:lnTo>
                  <a:lnTo>
                    <a:pt x="6" y="812"/>
                  </a:lnTo>
                  <a:lnTo>
                    <a:pt x="3" y="851"/>
                  </a:lnTo>
                  <a:lnTo>
                    <a:pt x="0" y="951"/>
                  </a:lnTo>
                  <a:lnTo>
                    <a:pt x="82" y="983"/>
                  </a:lnTo>
                  <a:lnTo>
                    <a:pt x="89" y="951"/>
                  </a:lnTo>
                  <a:lnTo>
                    <a:pt x="111" y="867"/>
                  </a:lnTo>
                  <a:lnTo>
                    <a:pt x="129" y="810"/>
                  </a:lnTo>
                  <a:lnTo>
                    <a:pt x="150" y="745"/>
                  </a:lnTo>
                  <a:lnTo>
                    <a:pt x="173" y="676"/>
                  </a:lnTo>
                  <a:lnTo>
                    <a:pt x="201" y="603"/>
                  </a:lnTo>
                  <a:lnTo>
                    <a:pt x="217" y="567"/>
                  </a:lnTo>
                  <a:lnTo>
                    <a:pt x="233" y="529"/>
                  </a:lnTo>
                  <a:lnTo>
                    <a:pt x="249" y="492"/>
                  </a:lnTo>
                  <a:lnTo>
                    <a:pt x="268" y="456"/>
                  </a:lnTo>
                  <a:lnTo>
                    <a:pt x="286" y="420"/>
                  </a:lnTo>
                  <a:lnTo>
                    <a:pt x="306" y="385"/>
                  </a:lnTo>
                  <a:lnTo>
                    <a:pt x="326" y="352"/>
                  </a:lnTo>
                  <a:lnTo>
                    <a:pt x="347" y="320"/>
                  </a:lnTo>
                  <a:lnTo>
                    <a:pt x="370" y="289"/>
                  </a:lnTo>
                  <a:lnTo>
                    <a:pt x="393" y="260"/>
                  </a:lnTo>
                  <a:lnTo>
                    <a:pt x="417" y="234"/>
                  </a:lnTo>
                  <a:lnTo>
                    <a:pt x="442" y="210"/>
                  </a:lnTo>
                  <a:lnTo>
                    <a:pt x="468" y="189"/>
                  </a:lnTo>
                  <a:lnTo>
                    <a:pt x="494" y="171"/>
                  </a:lnTo>
                  <a:lnTo>
                    <a:pt x="521" y="156"/>
                  </a:lnTo>
                  <a:lnTo>
                    <a:pt x="550" y="143"/>
                  </a:lnTo>
                  <a:lnTo>
                    <a:pt x="530" y="121"/>
                  </a:lnTo>
                  <a:lnTo>
                    <a:pt x="484" y="73"/>
                  </a:lnTo>
                  <a:lnTo>
                    <a:pt x="457" y="47"/>
                  </a:lnTo>
                  <a:lnTo>
                    <a:pt x="430" y="24"/>
                  </a:lnTo>
                  <a:lnTo>
                    <a:pt x="419" y="14"/>
                  </a:lnTo>
                  <a:lnTo>
                    <a:pt x="408" y="7"/>
                  </a:lnTo>
                  <a:lnTo>
                    <a:pt x="398" y="2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7180200" y="5253120"/>
              <a:ext cx="257400" cy="423720"/>
            </a:xfrm>
            <a:custGeom>
              <a:avLst/>
              <a:gdLst/>
              <a:ahLst/>
              <a:rect l="l" t="t" r="r" b="b"/>
              <a:pathLst>
                <a:path w="648" h="1070">
                  <a:moveTo>
                    <a:pt x="401" y="15"/>
                  </a:moveTo>
                  <a:lnTo>
                    <a:pt x="380" y="41"/>
                  </a:lnTo>
                  <a:lnTo>
                    <a:pt x="336" y="102"/>
                  </a:lnTo>
                  <a:lnTo>
                    <a:pt x="307" y="143"/>
                  </a:lnTo>
                  <a:lnTo>
                    <a:pt x="275" y="191"/>
                  </a:lnTo>
                  <a:lnTo>
                    <a:pt x="240" y="246"/>
                  </a:lnTo>
                  <a:lnTo>
                    <a:pt x="205" y="304"/>
                  </a:lnTo>
                  <a:lnTo>
                    <a:pt x="187" y="337"/>
                  </a:lnTo>
                  <a:lnTo>
                    <a:pt x="169" y="369"/>
                  </a:lnTo>
                  <a:lnTo>
                    <a:pt x="152" y="402"/>
                  </a:lnTo>
                  <a:lnTo>
                    <a:pt x="136" y="436"/>
                  </a:lnTo>
                  <a:lnTo>
                    <a:pt x="118" y="472"/>
                  </a:lnTo>
                  <a:lnTo>
                    <a:pt x="102" y="508"/>
                  </a:lnTo>
                  <a:lnTo>
                    <a:pt x="87" y="544"/>
                  </a:lnTo>
                  <a:lnTo>
                    <a:pt x="74" y="581"/>
                  </a:lnTo>
                  <a:lnTo>
                    <a:pt x="60" y="618"/>
                  </a:lnTo>
                  <a:lnTo>
                    <a:pt x="47" y="657"/>
                  </a:lnTo>
                  <a:lnTo>
                    <a:pt x="38" y="694"/>
                  </a:lnTo>
                  <a:lnTo>
                    <a:pt x="28" y="732"/>
                  </a:lnTo>
                  <a:lnTo>
                    <a:pt x="20" y="771"/>
                  </a:lnTo>
                  <a:lnTo>
                    <a:pt x="13" y="809"/>
                  </a:lnTo>
                  <a:lnTo>
                    <a:pt x="9" y="848"/>
                  </a:lnTo>
                  <a:lnTo>
                    <a:pt x="7" y="886"/>
                  </a:lnTo>
                  <a:lnTo>
                    <a:pt x="0" y="1013"/>
                  </a:lnTo>
                  <a:lnTo>
                    <a:pt x="146" y="1070"/>
                  </a:lnTo>
                  <a:lnTo>
                    <a:pt x="154" y="1029"/>
                  </a:lnTo>
                  <a:lnTo>
                    <a:pt x="163" y="995"/>
                  </a:lnTo>
                  <a:lnTo>
                    <a:pt x="185" y="912"/>
                  </a:lnTo>
                  <a:lnTo>
                    <a:pt x="201" y="856"/>
                  </a:lnTo>
                  <a:lnTo>
                    <a:pt x="221" y="794"/>
                  </a:lnTo>
                  <a:lnTo>
                    <a:pt x="245" y="726"/>
                  </a:lnTo>
                  <a:lnTo>
                    <a:pt x="271" y="657"/>
                  </a:lnTo>
                  <a:lnTo>
                    <a:pt x="286" y="621"/>
                  </a:lnTo>
                  <a:lnTo>
                    <a:pt x="302" y="585"/>
                  </a:lnTo>
                  <a:lnTo>
                    <a:pt x="318" y="549"/>
                  </a:lnTo>
                  <a:lnTo>
                    <a:pt x="334" y="514"/>
                  </a:lnTo>
                  <a:lnTo>
                    <a:pt x="353" y="479"/>
                  </a:lnTo>
                  <a:lnTo>
                    <a:pt x="372" y="446"/>
                  </a:lnTo>
                  <a:lnTo>
                    <a:pt x="390" y="413"/>
                  </a:lnTo>
                  <a:lnTo>
                    <a:pt x="410" y="382"/>
                  </a:lnTo>
                  <a:lnTo>
                    <a:pt x="431" y="354"/>
                  </a:lnTo>
                  <a:lnTo>
                    <a:pt x="454" y="327"/>
                  </a:lnTo>
                  <a:lnTo>
                    <a:pt x="476" y="301"/>
                  </a:lnTo>
                  <a:lnTo>
                    <a:pt x="498" y="278"/>
                  </a:lnTo>
                  <a:lnTo>
                    <a:pt x="523" y="258"/>
                  </a:lnTo>
                  <a:lnTo>
                    <a:pt x="548" y="241"/>
                  </a:lnTo>
                  <a:lnTo>
                    <a:pt x="573" y="226"/>
                  </a:lnTo>
                  <a:lnTo>
                    <a:pt x="599" y="215"/>
                  </a:lnTo>
                  <a:lnTo>
                    <a:pt x="648" y="198"/>
                  </a:lnTo>
                  <a:lnTo>
                    <a:pt x="614" y="158"/>
                  </a:lnTo>
                  <a:lnTo>
                    <a:pt x="583" y="123"/>
                  </a:lnTo>
                  <a:lnTo>
                    <a:pt x="554" y="92"/>
                  </a:lnTo>
                  <a:lnTo>
                    <a:pt x="527" y="66"/>
                  </a:lnTo>
                  <a:lnTo>
                    <a:pt x="503" y="45"/>
                  </a:lnTo>
                  <a:lnTo>
                    <a:pt x="482" y="28"/>
                  </a:lnTo>
                  <a:lnTo>
                    <a:pt x="462" y="14"/>
                  </a:lnTo>
                  <a:lnTo>
                    <a:pt x="455" y="10"/>
                  </a:lnTo>
                  <a:lnTo>
                    <a:pt x="446" y="7"/>
                  </a:lnTo>
                  <a:lnTo>
                    <a:pt x="440" y="4"/>
                  </a:lnTo>
                  <a:lnTo>
                    <a:pt x="432" y="3"/>
                  </a:lnTo>
                  <a:lnTo>
                    <a:pt x="414" y="0"/>
                  </a:lnTo>
                  <a:lnTo>
                    <a:pt x="401" y="15"/>
                  </a:lnTo>
                  <a:close/>
                  <a:moveTo>
                    <a:pt x="77" y="890"/>
                  </a:moveTo>
                  <a:lnTo>
                    <a:pt x="80" y="859"/>
                  </a:lnTo>
                  <a:lnTo>
                    <a:pt x="82" y="827"/>
                  </a:lnTo>
                  <a:lnTo>
                    <a:pt x="87" y="796"/>
                  </a:lnTo>
                  <a:lnTo>
                    <a:pt x="93" y="763"/>
                  </a:lnTo>
                  <a:lnTo>
                    <a:pt x="101" y="732"/>
                  </a:lnTo>
                  <a:lnTo>
                    <a:pt x="110" y="700"/>
                  </a:lnTo>
                  <a:lnTo>
                    <a:pt x="120" y="668"/>
                  </a:lnTo>
                  <a:lnTo>
                    <a:pt x="129" y="637"/>
                  </a:lnTo>
                  <a:lnTo>
                    <a:pt x="141" y="606"/>
                  </a:lnTo>
                  <a:lnTo>
                    <a:pt x="153" y="575"/>
                  </a:lnTo>
                  <a:lnTo>
                    <a:pt x="165" y="544"/>
                  </a:lnTo>
                  <a:lnTo>
                    <a:pt x="178" y="514"/>
                  </a:lnTo>
                  <a:lnTo>
                    <a:pt x="206" y="456"/>
                  </a:lnTo>
                  <a:lnTo>
                    <a:pt x="235" y="399"/>
                  </a:lnTo>
                  <a:lnTo>
                    <a:pt x="265" y="345"/>
                  </a:lnTo>
                  <a:lnTo>
                    <a:pt x="295" y="294"/>
                  </a:lnTo>
                  <a:lnTo>
                    <a:pt x="324" y="247"/>
                  </a:lnTo>
                  <a:lnTo>
                    <a:pt x="352" y="205"/>
                  </a:lnTo>
                  <a:lnTo>
                    <a:pt x="401" y="134"/>
                  </a:lnTo>
                  <a:lnTo>
                    <a:pt x="437" y="85"/>
                  </a:lnTo>
                  <a:lnTo>
                    <a:pt x="456" y="100"/>
                  </a:lnTo>
                  <a:lnTo>
                    <a:pt x="478" y="121"/>
                  </a:lnTo>
                  <a:lnTo>
                    <a:pt x="503" y="146"/>
                  </a:lnTo>
                  <a:lnTo>
                    <a:pt x="532" y="174"/>
                  </a:lnTo>
                  <a:lnTo>
                    <a:pt x="508" y="189"/>
                  </a:lnTo>
                  <a:lnTo>
                    <a:pt x="486" y="205"/>
                  </a:lnTo>
                  <a:lnTo>
                    <a:pt x="463" y="222"/>
                  </a:lnTo>
                  <a:lnTo>
                    <a:pt x="441" y="242"/>
                  </a:lnTo>
                  <a:lnTo>
                    <a:pt x="421" y="265"/>
                  </a:lnTo>
                  <a:lnTo>
                    <a:pt x="400" y="287"/>
                  </a:lnTo>
                  <a:lnTo>
                    <a:pt x="380" y="312"/>
                  </a:lnTo>
                  <a:lnTo>
                    <a:pt x="362" y="337"/>
                  </a:lnTo>
                  <a:lnTo>
                    <a:pt x="343" y="364"/>
                  </a:lnTo>
                  <a:lnTo>
                    <a:pt x="326" y="391"/>
                  </a:lnTo>
                  <a:lnTo>
                    <a:pt x="308" y="420"/>
                  </a:lnTo>
                  <a:lnTo>
                    <a:pt x="292" y="449"/>
                  </a:lnTo>
                  <a:lnTo>
                    <a:pt x="276" y="479"/>
                  </a:lnTo>
                  <a:lnTo>
                    <a:pt x="261" y="509"/>
                  </a:lnTo>
                  <a:lnTo>
                    <a:pt x="246" y="540"/>
                  </a:lnTo>
                  <a:lnTo>
                    <a:pt x="233" y="570"/>
                  </a:lnTo>
                  <a:lnTo>
                    <a:pt x="206" y="632"/>
                  </a:lnTo>
                  <a:lnTo>
                    <a:pt x="183" y="691"/>
                  </a:lnTo>
                  <a:lnTo>
                    <a:pt x="162" y="750"/>
                  </a:lnTo>
                  <a:lnTo>
                    <a:pt x="143" y="804"/>
                  </a:lnTo>
                  <a:lnTo>
                    <a:pt x="127" y="855"/>
                  </a:lnTo>
                  <a:lnTo>
                    <a:pt x="113" y="901"/>
                  </a:lnTo>
                  <a:lnTo>
                    <a:pt x="102" y="941"/>
                  </a:lnTo>
                  <a:lnTo>
                    <a:pt x="95" y="973"/>
                  </a:lnTo>
                  <a:lnTo>
                    <a:pt x="83" y="968"/>
                  </a:lnTo>
                  <a:lnTo>
                    <a:pt x="74" y="964"/>
                  </a:lnTo>
                  <a:lnTo>
                    <a:pt x="75" y="941"/>
                  </a:lnTo>
                  <a:lnTo>
                    <a:pt x="76" y="916"/>
                  </a:lnTo>
                  <a:lnTo>
                    <a:pt x="77" y="897"/>
                  </a:lnTo>
                  <a:lnTo>
                    <a:pt x="77" y="89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7192800" y="5316480"/>
              <a:ext cx="282600" cy="355680"/>
            </a:xfrm>
            <a:custGeom>
              <a:avLst/>
              <a:gdLst/>
              <a:ahLst/>
              <a:rect l="l" t="t" r="r" b="b"/>
              <a:pathLst>
                <a:path w="713" h="893">
                  <a:moveTo>
                    <a:pt x="560" y="0"/>
                  </a:moveTo>
                  <a:lnTo>
                    <a:pt x="536" y="16"/>
                  </a:lnTo>
                  <a:lnTo>
                    <a:pt x="485" y="48"/>
                  </a:lnTo>
                  <a:lnTo>
                    <a:pt x="451" y="73"/>
                  </a:lnTo>
                  <a:lnTo>
                    <a:pt x="414" y="102"/>
                  </a:lnTo>
                  <a:lnTo>
                    <a:pt x="394" y="119"/>
                  </a:lnTo>
                  <a:lnTo>
                    <a:pt x="374" y="136"/>
                  </a:lnTo>
                  <a:lnTo>
                    <a:pt x="353" y="156"/>
                  </a:lnTo>
                  <a:lnTo>
                    <a:pt x="331" y="177"/>
                  </a:lnTo>
                  <a:lnTo>
                    <a:pt x="310" y="200"/>
                  </a:lnTo>
                  <a:lnTo>
                    <a:pt x="287" y="224"/>
                  </a:lnTo>
                  <a:lnTo>
                    <a:pt x="265" y="250"/>
                  </a:lnTo>
                  <a:lnTo>
                    <a:pt x="244" y="278"/>
                  </a:lnTo>
                  <a:lnTo>
                    <a:pt x="221" y="306"/>
                  </a:lnTo>
                  <a:lnTo>
                    <a:pt x="200" y="337"/>
                  </a:lnTo>
                  <a:lnTo>
                    <a:pt x="179" y="370"/>
                  </a:lnTo>
                  <a:lnTo>
                    <a:pt x="158" y="404"/>
                  </a:lnTo>
                  <a:lnTo>
                    <a:pt x="138" y="440"/>
                  </a:lnTo>
                  <a:lnTo>
                    <a:pt x="118" y="479"/>
                  </a:lnTo>
                  <a:lnTo>
                    <a:pt x="100" y="518"/>
                  </a:lnTo>
                  <a:lnTo>
                    <a:pt x="82" y="559"/>
                  </a:lnTo>
                  <a:lnTo>
                    <a:pt x="66" y="604"/>
                  </a:lnTo>
                  <a:lnTo>
                    <a:pt x="50" y="649"/>
                  </a:lnTo>
                  <a:lnTo>
                    <a:pt x="36" y="697"/>
                  </a:lnTo>
                  <a:lnTo>
                    <a:pt x="23" y="747"/>
                  </a:lnTo>
                  <a:lnTo>
                    <a:pt x="0" y="844"/>
                  </a:lnTo>
                  <a:lnTo>
                    <a:pt x="75" y="893"/>
                  </a:lnTo>
                  <a:lnTo>
                    <a:pt x="90" y="863"/>
                  </a:lnTo>
                  <a:lnTo>
                    <a:pt x="131" y="785"/>
                  </a:lnTo>
                  <a:lnTo>
                    <a:pt x="159" y="732"/>
                  </a:lnTo>
                  <a:lnTo>
                    <a:pt x="193" y="672"/>
                  </a:lnTo>
                  <a:lnTo>
                    <a:pt x="233" y="608"/>
                  </a:lnTo>
                  <a:lnTo>
                    <a:pt x="275" y="542"/>
                  </a:lnTo>
                  <a:lnTo>
                    <a:pt x="298" y="509"/>
                  </a:lnTo>
                  <a:lnTo>
                    <a:pt x="322" y="475"/>
                  </a:lnTo>
                  <a:lnTo>
                    <a:pt x="347" y="443"/>
                  </a:lnTo>
                  <a:lnTo>
                    <a:pt x="372" y="411"/>
                  </a:lnTo>
                  <a:lnTo>
                    <a:pt x="398" y="378"/>
                  </a:lnTo>
                  <a:lnTo>
                    <a:pt x="424" y="349"/>
                  </a:lnTo>
                  <a:lnTo>
                    <a:pt x="451" y="320"/>
                  </a:lnTo>
                  <a:lnTo>
                    <a:pt x="480" y="293"/>
                  </a:lnTo>
                  <a:lnTo>
                    <a:pt x="508" y="267"/>
                  </a:lnTo>
                  <a:lnTo>
                    <a:pt x="537" y="244"/>
                  </a:lnTo>
                  <a:lnTo>
                    <a:pt x="565" y="223"/>
                  </a:lnTo>
                  <a:lnTo>
                    <a:pt x="595" y="205"/>
                  </a:lnTo>
                  <a:lnTo>
                    <a:pt x="624" y="190"/>
                  </a:lnTo>
                  <a:lnTo>
                    <a:pt x="654" y="177"/>
                  </a:lnTo>
                  <a:lnTo>
                    <a:pt x="683" y="169"/>
                  </a:lnTo>
                  <a:lnTo>
                    <a:pt x="713" y="164"/>
                  </a:lnTo>
                  <a:lnTo>
                    <a:pt x="694" y="139"/>
                  </a:lnTo>
                  <a:lnTo>
                    <a:pt x="650" y="87"/>
                  </a:lnTo>
                  <a:lnTo>
                    <a:pt x="624" y="57"/>
                  </a:lnTo>
                  <a:lnTo>
                    <a:pt x="599" y="31"/>
                  </a:lnTo>
                  <a:lnTo>
                    <a:pt x="588" y="20"/>
                  </a:lnTo>
                  <a:lnTo>
                    <a:pt x="577" y="11"/>
                  </a:lnTo>
                  <a:lnTo>
                    <a:pt x="568" y="5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7232760" y="5362560"/>
              <a:ext cx="282600" cy="353880"/>
            </a:xfrm>
            <a:custGeom>
              <a:avLst/>
              <a:gdLst/>
              <a:ahLst/>
              <a:rect l="l" t="t" r="r" b="b"/>
              <a:pathLst>
                <a:path w="712" h="893">
                  <a:moveTo>
                    <a:pt x="560" y="0"/>
                  </a:moveTo>
                  <a:lnTo>
                    <a:pt x="540" y="16"/>
                  </a:lnTo>
                  <a:lnTo>
                    <a:pt x="489" y="61"/>
                  </a:lnTo>
                  <a:lnTo>
                    <a:pt x="453" y="94"/>
                  </a:lnTo>
                  <a:lnTo>
                    <a:pt x="415" y="133"/>
                  </a:lnTo>
                  <a:lnTo>
                    <a:pt x="371" y="177"/>
                  </a:lnTo>
                  <a:lnTo>
                    <a:pt x="327" y="227"/>
                  </a:lnTo>
                  <a:lnTo>
                    <a:pt x="303" y="253"/>
                  </a:lnTo>
                  <a:lnTo>
                    <a:pt x="280" y="280"/>
                  </a:lnTo>
                  <a:lnTo>
                    <a:pt x="256" y="309"/>
                  </a:lnTo>
                  <a:lnTo>
                    <a:pt x="234" y="339"/>
                  </a:lnTo>
                  <a:lnTo>
                    <a:pt x="211" y="369"/>
                  </a:lnTo>
                  <a:lnTo>
                    <a:pt x="189" y="400"/>
                  </a:lnTo>
                  <a:lnTo>
                    <a:pt x="167" y="432"/>
                  </a:lnTo>
                  <a:lnTo>
                    <a:pt x="145" y="465"/>
                  </a:lnTo>
                  <a:lnTo>
                    <a:pt x="126" y="499"/>
                  </a:lnTo>
                  <a:lnTo>
                    <a:pt x="107" y="532"/>
                  </a:lnTo>
                  <a:lnTo>
                    <a:pt x="90" y="567"/>
                  </a:lnTo>
                  <a:lnTo>
                    <a:pt x="72" y="602"/>
                  </a:lnTo>
                  <a:lnTo>
                    <a:pt x="57" y="638"/>
                  </a:lnTo>
                  <a:lnTo>
                    <a:pt x="44" y="672"/>
                  </a:lnTo>
                  <a:lnTo>
                    <a:pt x="32" y="710"/>
                  </a:lnTo>
                  <a:lnTo>
                    <a:pt x="23" y="746"/>
                  </a:lnTo>
                  <a:lnTo>
                    <a:pt x="0" y="842"/>
                  </a:lnTo>
                  <a:lnTo>
                    <a:pt x="75" y="893"/>
                  </a:lnTo>
                  <a:lnTo>
                    <a:pt x="90" y="861"/>
                  </a:lnTo>
                  <a:lnTo>
                    <a:pt x="129" y="779"/>
                  </a:lnTo>
                  <a:lnTo>
                    <a:pt x="159" y="725"/>
                  </a:lnTo>
                  <a:lnTo>
                    <a:pt x="193" y="663"/>
                  </a:lnTo>
                  <a:lnTo>
                    <a:pt x="231" y="596"/>
                  </a:lnTo>
                  <a:lnTo>
                    <a:pt x="273" y="527"/>
                  </a:lnTo>
                  <a:lnTo>
                    <a:pt x="297" y="493"/>
                  </a:lnTo>
                  <a:lnTo>
                    <a:pt x="321" y="458"/>
                  </a:lnTo>
                  <a:lnTo>
                    <a:pt x="345" y="423"/>
                  </a:lnTo>
                  <a:lnTo>
                    <a:pt x="370" y="390"/>
                  </a:lnTo>
                  <a:lnTo>
                    <a:pt x="396" y="357"/>
                  </a:lnTo>
                  <a:lnTo>
                    <a:pt x="422" y="326"/>
                  </a:lnTo>
                  <a:lnTo>
                    <a:pt x="450" y="297"/>
                  </a:lnTo>
                  <a:lnTo>
                    <a:pt x="478" y="268"/>
                  </a:lnTo>
                  <a:lnTo>
                    <a:pt x="506" y="242"/>
                  </a:lnTo>
                  <a:lnTo>
                    <a:pt x="534" y="217"/>
                  </a:lnTo>
                  <a:lnTo>
                    <a:pt x="564" y="196"/>
                  </a:lnTo>
                  <a:lnTo>
                    <a:pt x="592" y="177"/>
                  </a:lnTo>
                  <a:lnTo>
                    <a:pt x="622" y="161"/>
                  </a:lnTo>
                  <a:lnTo>
                    <a:pt x="652" y="149"/>
                  </a:lnTo>
                  <a:lnTo>
                    <a:pt x="682" y="139"/>
                  </a:lnTo>
                  <a:lnTo>
                    <a:pt x="712" y="134"/>
                  </a:lnTo>
                  <a:lnTo>
                    <a:pt x="692" y="115"/>
                  </a:lnTo>
                  <a:lnTo>
                    <a:pt x="648" y="71"/>
                  </a:lnTo>
                  <a:lnTo>
                    <a:pt x="622" y="47"/>
                  </a:lnTo>
                  <a:lnTo>
                    <a:pt x="599" y="26"/>
                  </a:lnTo>
                  <a:lnTo>
                    <a:pt x="586" y="16"/>
                  </a:lnTo>
                  <a:lnTo>
                    <a:pt x="576" y="9"/>
                  </a:lnTo>
                  <a:lnTo>
                    <a:pt x="568" y="2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7273800" y="5400720"/>
              <a:ext cx="277920" cy="353880"/>
            </a:xfrm>
            <a:custGeom>
              <a:avLst/>
              <a:gdLst/>
              <a:ahLst/>
              <a:rect l="l" t="t" r="r" b="b"/>
              <a:pathLst>
                <a:path w="698" h="893">
                  <a:moveTo>
                    <a:pt x="567" y="0"/>
                  </a:moveTo>
                  <a:lnTo>
                    <a:pt x="546" y="14"/>
                  </a:lnTo>
                  <a:lnTo>
                    <a:pt x="491" y="58"/>
                  </a:lnTo>
                  <a:lnTo>
                    <a:pt x="454" y="89"/>
                  </a:lnTo>
                  <a:lnTo>
                    <a:pt x="411" y="126"/>
                  </a:lnTo>
                  <a:lnTo>
                    <a:pt x="367" y="168"/>
                  </a:lnTo>
                  <a:lnTo>
                    <a:pt x="318" y="215"/>
                  </a:lnTo>
                  <a:lnTo>
                    <a:pt x="294" y="241"/>
                  </a:lnTo>
                  <a:lnTo>
                    <a:pt x="269" y="268"/>
                  </a:lnTo>
                  <a:lnTo>
                    <a:pt x="245" y="295"/>
                  </a:lnTo>
                  <a:lnTo>
                    <a:pt x="220" y="323"/>
                  </a:lnTo>
                  <a:lnTo>
                    <a:pt x="197" y="353"/>
                  </a:lnTo>
                  <a:lnTo>
                    <a:pt x="173" y="383"/>
                  </a:lnTo>
                  <a:lnTo>
                    <a:pt x="149" y="414"/>
                  </a:lnTo>
                  <a:lnTo>
                    <a:pt x="128" y="446"/>
                  </a:lnTo>
                  <a:lnTo>
                    <a:pt x="107" y="478"/>
                  </a:lnTo>
                  <a:lnTo>
                    <a:pt x="87" y="512"/>
                  </a:lnTo>
                  <a:lnTo>
                    <a:pt x="69" y="545"/>
                  </a:lnTo>
                  <a:lnTo>
                    <a:pt x="51" y="580"/>
                  </a:lnTo>
                  <a:lnTo>
                    <a:pt x="35" y="615"/>
                  </a:lnTo>
                  <a:lnTo>
                    <a:pt x="22" y="651"/>
                  </a:lnTo>
                  <a:lnTo>
                    <a:pt x="10" y="687"/>
                  </a:lnTo>
                  <a:lnTo>
                    <a:pt x="0" y="723"/>
                  </a:lnTo>
                  <a:lnTo>
                    <a:pt x="7" y="843"/>
                  </a:lnTo>
                  <a:lnTo>
                    <a:pt x="82" y="893"/>
                  </a:lnTo>
                  <a:lnTo>
                    <a:pt x="95" y="864"/>
                  </a:lnTo>
                  <a:lnTo>
                    <a:pt x="133" y="789"/>
                  </a:lnTo>
                  <a:lnTo>
                    <a:pt x="161" y="738"/>
                  </a:lnTo>
                  <a:lnTo>
                    <a:pt x="193" y="679"/>
                  </a:lnTo>
                  <a:lnTo>
                    <a:pt x="230" y="619"/>
                  </a:lnTo>
                  <a:lnTo>
                    <a:pt x="271" y="554"/>
                  </a:lnTo>
                  <a:lnTo>
                    <a:pt x="292" y="522"/>
                  </a:lnTo>
                  <a:lnTo>
                    <a:pt x="316" y="491"/>
                  </a:lnTo>
                  <a:lnTo>
                    <a:pt x="339" y="459"/>
                  </a:lnTo>
                  <a:lnTo>
                    <a:pt x="363" y="428"/>
                  </a:lnTo>
                  <a:lnTo>
                    <a:pt x="389" y="398"/>
                  </a:lnTo>
                  <a:lnTo>
                    <a:pt x="414" y="368"/>
                  </a:lnTo>
                  <a:lnTo>
                    <a:pt x="441" y="341"/>
                  </a:lnTo>
                  <a:lnTo>
                    <a:pt x="467" y="315"/>
                  </a:lnTo>
                  <a:lnTo>
                    <a:pt x="495" y="290"/>
                  </a:lnTo>
                  <a:lnTo>
                    <a:pt x="523" y="268"/>
                  </a:lnTo>
                  <a:lnTo>
                    <a:pt x="552" y="248"/>
                  </a:lnTo>
                  <a:lnTo>
                    <a:pt x="580" y="229"/>
                  </a:lnTo>
                  <a:lnTo>
                    <a:pt x="609" y="214"/>
                  </a:lnTo>
                  <a:lnTo>
                    <a:pt x="639" y="203"/>
                  </a:lnTo>
                  <a:lnTo>
                    <a:pt x="669" y="194"/>
                  </a:lnTo>
                  <a:lnTo>
                    <a:pt x="698" y="189"/>
                  </a:lnTo>
                  <a:lnTo>
                    <a:pt x="693" y="182"/>
                  </a:lnTo>
                  <a:lnTo>
                    <a:pt x="682" y="161"/>
                  </a:lnTo>
                  <a:lnTo>
                    <a:pt x="666" y="132"/>
                  </a:lnTo>
                  <a:lnTo>
                    <a:pt x="645" y="99"/>
                  </a:lnTo>
                  <a:lnTo>
                    <a:pt x="624" y="65"/>
                  </a:lnTo>
                  <a:lnTo>
                    <a:pt x="601" y="34"/>
                  </a:lnTo>
                  <a:lnTo>
                    <a:pt x="592" y="22"/>
                  </a:lnTo>
                  <a:lnTo>
                    <a:pt x="583" y="12"/>
                  </a:lnTo>
                  <a:lnTo>
                    <a:pt x="574" y="5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7304040" y="5440320"/>
              <a:ext cx="279360" cy="355680"/>
            </a:xfrm>
            <a:custGeom>
              <a:avLst/>
              <a:gdLst/>
              <a:ahLst/>
              <a:rect l="l" t="t" r="r" b="b"/>
              <a:pathLst>
                <a:path w="706" h="894">
                  <a:moveTo>
                    <a:pt x="560" y="0"/>
                  </a:moveTo>
                  <a:lnTo>
                    <a:pt x="540" y="16"/>
                  </a:lnTo>
                  <a:lnTo>
                    <a:pt x="489" y="62"/>
                  </a:lnTo>
                  <a:lnTo>
                    <a:pt x="454" y="95"/>
                  </a:lnTo>
                  <a:lnTo>
                    <a:pt x="414" y="133"/>
                  </a:lnTo>
                  <a:lnTo>
                    <a:pt x="371" y="178"/>
                  </a:lnTo>
                  <a:lnTo>
                    <a:pt x="326" y="227"/>
                  </a:lnTo>
                  <a:lnTo>
                    <a:pt x="303" y="253"/>
                  </a:lnTo>
                  <a:lnTo>
                    <a:pt x="279" y="281"/>
                  </a:lnTo>
                  <a:lnTo>
                    <a:pt x="257" y="309"/>
                  </a:lnTo>
                  <a:lnTo>
                    <a:pt x="233" y="339"/>
                  </a:lnTo>
                  <a:lnTo>
                    <a:pt x="211" y="370"/>
                  </a:lnTo>
                  <a:lnTo>
                    <a:pt x="188" y="401"/>
                  </a:lnTo>
                  <a:lnTo>
                    <a:pt x="167" y="433"/>
                  </a:lnTo>
                  <a:lnTo>
                    <a:pt x="146" y="466"/>
                  </a:lnTo>
                  <a:lnTo>
                    <a:pt x="126" y="499"/>
                  </a:lnTo>
                  <a:lnTo>
                    <a:pt x="107" y="533"/>
                  </a:lnTo>
                  <a:lnTo>
                    <a:pt x="89" y="567"/>
                  </a:lnTo>
                  <a:lnTo>
                    <a:pt x="73" y="602"/>
                  </a:lnTo>
                  <a:lnTo>
                    <a:pt x="58" y="638"/>
                  </a:lnTo>
                  <a:lnTo>
                    <a:pt x="44" y="674"/>
                  </a:lnTo>
                  <a:lnTo>
                    <a:pt x="33" y="710"/>
                  </a:lnTo>
                  <a:lnTo>
                    <a:pt x="23" y="746"/>
                  </a:lnTo>
                  <a:lnTo>
                    <a:pt x="0" y="843"/>
                  </a:lnTo>
                  <a:lnTo>
                    <a:pt x="75" y="894"/>
                  </a:lnTo>
                  <a:lnTo>
                    <a:pt x="89" y="865"/>
                  </a:lnTo>
                  <a:lnTo>
                    <a:pt x="129" y="792"/>
                  </a:lnTo>
                  <a:lnTo>
                    <a:pt x="157" y="742"/>
                  </a:lnTo>
                  <a:lnTo>
                    <a:pt x="191" y="686"/>
                  </a:lnTo>
                  <a:lnTo>
                    <a:pt x="229" y="627"/>
                  </a:lnTo>
                  <a:lnTo>
                    <a:pt x="272" y="565"/>
                  </a:lnTo>
                  <a:lnTo>
                    <a:pt x="294" y="534"/>
                  </a:lnTo>
                  <a:lnTo>
                    <a:pt x="318" y="502"/>
                  </a:lnTo>
                  <a:lnTo>
                    <a:pt x="341" y="472"/>
                  </a:lnTo>
                  <a:lnTo>
                    <a:pt x="367" y="441"/>
                  </a:lnTo>
                  <a:lnTo>
                    <a:pt x="392" y="412"/>
                  </a:lnTo>
                  <a:lnTo>
                    <a:pt x="419" y="384"/>
                  </a:lnTo>
                  <a:lnTo>
                    <a:pt x="446" y="356"/>
                  </a:lnTo>
                  <a:lnTo>
                    <a:pt x="473" y="330"/>
                  </a:lnTo>
                  <a:lnTo>
                    <a:pt x="501" y="307"/>
                  </a:lnTo>
                  <a:lnTo>
                    <a:pt x="530" y="286"/>
                  </a:lnTo>
                  <a:lnTo>
                    <a:pt x="559" y="266"/>
                  </a:lnTo>
                  <a:lnTo>
                    <a:pt x="588" y="248"/>
                  </a:lnTo>
                  <a:lnTo>
                    <a:pt x="617" y="234"/>
                  </a:lnTo>
                  <a:lnTo>
                    <a:pt x="647" y="222"/>
                  </a:lnTo>
                  <a:lnTo>
                    <a:pt x="676" y="214"/>
                  </a:lnTo>
                  <a:lnTo>
                    <a:pt x="706" y="209"/>
                  </a:lnTo>
                  <a:lnTo>
                    <a:pt x="701" y="200"/>
                  </a:lnTo>
                  <a:lnTo>
                    <a:pt x="688" y="178"/>
                  </a:lnTo>
                  <a:lnTo>
                    <a:pt x="669" y="145"/>
                  </a:lnTo>
                  <a:lnTo>
                    <a:pt x="645" y="108"/>
                  </a:lnTo>
                  <a:lnTo>
                    <a:pt x="622" y="71"/>
                  </a:lnTo>
                  <a:lnTo>
                    <a:pt x="597" y="38"/>
                  </a:lnTo>
                  <a:lnTo>
                    <a:pt x="586" y="24"/>
                  </a:lnTo>
                  <a:lnTo>
                    <a:pt x="576" y="13"/>
                  </a:lnTo>
                  <a:lnTo>
                    <a:pt x="567" y="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7316640" y="5505480"/>
              <a:ext cx="297000" cy="330120"/>
            </a:xfrm>
            <a:custGeom>
              <a:avLst/>
              <a:gdLst/>
              <a:ahLst/>
              <a:rect l="l" t="t" r="r" b="b"/>
              <a:pathLst>
                <a:path w="747" h="833">
                  <a:moveTo>
                    <a:pt x="637" y="0"/>
                  </a:moveTo>
                  <a:lnTo>
                    <a:pt x="615" y="14"/>
                  </a:lnTo>
                  <a:lnTo>
                    <a:pt x="560" y="53"/>
                  </a:lnTo>
                  <a:lnTo>
                    <a:pt x="521" y="82"/>
                  </a:lnTo>
                  <a:lnTo>
                    <a:pt x="479" y="115"/>
                  </a:lnTo>
                  <a:lnTo>
                    <a:pt x="432" y="155"/>
                  </a:lnTo>
                  <a:lnTo>
                    <a:pt x="382" y="199"/>
                  </a:lnTo>
                  <a:lnTo>
                    <a:pt x="356" y="222"/>
                  </a:lnTo>
                  <a:lnTo>
                    <a:pt x="331" y="247"/>
                  </a:lnTo>
                  <a:lnTo>
                    <a:pt x="305" y="273"/>
                  </a:lnTo>
                  <a:lnTo>
                    <a:pt x="279" y="299"/>
                  </a:lnTo>
                  <a:lnTo>
                    <a:pt x="254" y="328"/>
                  </a:lnTo>
                  <a:lnTo>
                    <a:pt x="228" y="355"/>
                  </a:lnTo>
                  <a:lnTo>
                    <a:pt x="204" y="385"/>
                  </a:lnTo>
                  <a:lnTo>
                    <a:pt x="180" y="414"/>
                  </a:lnTo>
                  <a:lnTo>
                    <a:pt x="157" y="445"/>
                  </a:lnTo>
                  <a:lnTo>
                    <a:pt x="135" y="478"/>
                  </a:lnTo>
                  <a:lnTo>
                    <a:pt x="114" y="510"/>
                  </a:lnTo>
                  <a:lnTo>
                    <a:pt x="94" y="542"/>
                  </a:lnTo>
                  <a:lnTo>
                    <a:pt x="76" y="577"/>
                  </a:lnTo>
                  <a:lnTo>
                    <a:pt x="59" y="610"/>
                  </a:lnTo>
                  <a:lnTo>
                    <a:pt x="44" y="645"/>
                  </a:lnTo>
                  <a:lnTo>
                    <a:pt x="32" y="680"/>
                  </a:lnTo>
                  <a:lnTo>
                    <a:pt x="0" y="774"/>
                  </a:lnTo>
                  <a:lnTo>
                    <a:pt x="69" y="833"/>
                  </a:lnTo>
                  <a:lnTo>
                    <a:pt x="85" y="805"/>
                  </a:lnTo>
                  <a:lnTo>
                    <a:pt x="130" y="732"/>
                  </a:lnTo>
                  <a:lnTo>
                    <a:pt x="162" y="684"/>
                  </a:lnTo>
                  <a:lnTo>
                    <a:pt x="199" y="629"/>
                  </a:lnTo>
                  <a:lnTo>
                    <a:pt x="242" y="571"/>
                  </a:lnTo>
                  <a:lnTo>
                    <a:pt x="288" y="510"/>
                  </a:lnTo>
                  <a:lnTo>
                    <a:pt x="312" y="480"/>
                  </a:lnTo>
                  <a:lnTo>
                    <a:pt x="339" y="450"/>
                  </a:lnTo>
                  <a:lnTo>
                    <a:pt x="365" y="421"/>
                  </a:lnTo>
                  <a:lnTo>
                    <a:pt x="392" y="392"/>
                  </a:lnTo>
                  <a:lnTo>
                    <a:pt x="419" y="365"/>
                  </a:lnTo>
                  <a:lnTo>
                    <a:pt x="448" y="339"/>
                  </a:lnTo>
                  <a:lnTo>
                    <a:pt x="478" y="313"/>
                  </a:lnTo>
                  <a:lnTo>
                    <a:pt x="506" y="289"/>
                  </a:lnTo>
                  <a:lnTo>
                    <a:pt x="536" y="268"/>
                  </a:lnTo>
                  <a:lnTo>
                    <a:pt x="566" y="248"/>
                  </a:lnTo>
                  <a:lnTo>
                    <a:pt x="596" y="231"/>
                  </a:lnTo>
                  <a:lnTo>
                    <a:pt x="627" y="217"/>
                  </a:lnTo>
                  <a:lnTo>
                    <a:pt x="656" y="205"/>
                  </a:lnTo>
                  <a:lnTo>
                    <a:pt x="686" y="196"/>
                  </a:lnTo>
                  <a:lnTo>
                    <a:pt x="717" y="191"/>
                  </a:lnTo>
                  <a:lnTo>
                    <a:pt x="747" y="190"/>
                  </a:lnTo>
                  <a:lnTo>
                    <a:pt x="743" y="182"/>
                  </a:lnTo>
                  <a:lnTo>
                    <a:pt x="735" y="161"/>
                  </a:lnTo>
                  <a:lnTo>
                    <a:pt x="721" y="134"/>
                  </a:lnTo>
                  <a:lnTo>
                    <a:pt x="704" y="101"/>
                  </a:lnTo>
                  <a:lnTo>
                    <a:pt x="686" y="67"/>
                  </a:lnTo>
                  <a:lnTo>
                    <a:pt x="668" y="36"/>
                  </a:lnTo>
                  <a:lnTo>
                    <a:pt x="659" y="24"/>
                  </a:lnTo>
                  <a:lnTo>
                    <a:pt x="650" y="12"/>
                  </a:lnTo>
                  <a:lnTo>
                    <a:pt x="643" y="5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7313760" y="5557680"/>
              <a:ext cx="323640" cy="325440"/>
            </a:xfrm>
            <a:custGeom>
              <a:avLst/>
              <a:gdLst/>
              <a:ahLst/>
              <a:rect l="l" t="t" r="r" b="b"/>
              <a:pathLst>
                <a:path w="816" h="822">
                  <a:moveTo>
                    <a:pt x="715" y="0"/>
                  </a:moveTo>
                  <a:lnTo>
                    <a:pt x="694" y="14"/>
                  </a:lnTo>
                  <a:lnTo>
                    <a:pt x="637" y="54"/>
                  </a:lnTo>
                  <a:lnTo>
                    <a:pt x="597" y="82"/>
                  </a:lnTo>
                  <a:lnTo>
                    <a:pt x="552" y="116"/>
                  </a:lnTo>
                  <a:lnTo>
                    <a:pt x="504" y="155"/>
                  </a:lnTo>
                  <a:lnTo>
                    <a:pt x="452" y="199"/>
                  </a:lnTo>
                  <a:lnTo>
                    <a:pt x="398" y="246"/>
                  </a:lnTo>
                  <a:lnTo>
                    <a:pt x="344" y="298"/>
                  </a:lnTo>
                  <a:lnTo>
                    <a:pt x="316" y="324"/>
                  </a:lnTo>
                  <a:lnTo>
                    <a:pt x="289" y="353"/>
                  </a:lnTo>
                  <a:lnTo>
                    <a:pt x="263" y="381"/>
                  </a:lnTo>
                  <a:lnTo>
                    <a:pt x="237" y="411"/>
                  </a:lnTo>
                  <a:lnTo>
                    <a:pt x="211" y="441"/>
                  </a:lnTo>
                  <a:lnTo>
                    <a:pt x="187" y="472"/>
                  </a:lnTo>
                  <a:lnTo>
                    <a:pt x="164" y="503"/>
                  </a:lnTo>
                  <a:lnTo>
                    <a:pt x="141" y="535"/>
                  </a:lnTo>
                  <a:lnTo>
                    <a:pt x="120" y="567"/>
                  </a:lnTo>
                  <a:lnTo>
                    <a:pt x="100" y="600"/>
                  </a:lnTo>
                  <a:lnTo>
                    <a:pt x="83" y="633"/>
                  </a:lnTo>
                  <a:lnTo>
                    <a:pt x="67" y="667"/>
                  </a:lnTo>
                  <a:lnTo>
                    <a:pt x="0" y="741"/>
                  </a:lnTo>
                  <a:lnTo>
                    <a:pt x="89" y="822"/>
                  </a:lnTo>
                  <a:lnTo>
                    <a:pt x="108" y="794"/>
                  </a:lnTo>
                  <a:lnTo>
                    <a:pt x="159" y="720"/>
                  </a:lnTo>
                  <a:lnTo>
                    <a:pt x="194" y="670"/>
                  </a:lnTo>
                  <a:lnTo>
                    <a:pt x="236" y="614"/>
                  </a:lnTo>
                  <a:lnTo>
                    <a:pt x="283" y="556"/>
                  </a:lnTo>
                  <a:lnTo>
                    <a:pt x="334" y="497"/>
                  </a:lnTo>
                  <a:lnTo>
                    <a:pt x="361" y="466"/>
                  </a:lnTo>
                  <a:lnTo>
                    <a:pt x="388" y="436"/>
                  </a:lnTo>
                  <a:lnTo>
                    <a:pt x="417" y="407"/>
                  </a:lnTo>
                  <a:lnTo>
                    <a:pt x="447" y="379"/>
                  </a:lnTo>
                  <a:lnTo>
                    <a:pt x="477" y="351"/>
                  </a:lnTo>
                  <a:lnTo>
                    <a:pt x="506" y="325"/>
                  </a:lnTo>
                  <a:lnTo>
                    <a:pt x="537" y="302"/>
                  </a:lnTo>
                  <a:lnTo>
                    <a:pt x="569" y="279"/>
                  </a:lnTo>
                  <a:lnTo>
                    <a:pt x="600" y="260"/>
                  </a:lnTo>
                  <a:lnTo>
                    <a:pt x="631" y="241"/>
                  </a:lnTo>
                  <a:lnTo>
                    <a:pt x="662" y="226"/>
                  </a:lnTo>
                  <a:lnTo>
                    <a:pt x="694" y="214"/>
                  </a:lnTo>
                  <a:lnTo>
                    <a:pt x="725" y="204"/>
                  </a:lnTo>
                  <a:lnTo>
                    <a:pt x="756" y="198"/>
                  </a:lnTo>
                  <a:lnTo>
                    <a:pt x="786" y="195"/>
                  </a:lnTo>
                  <a:lnTo>
                    <a:pt x="816" y="196"/>
                  </a:lnTo>
                  <a:lnTo>
                    <a:pt x="813" y="189"/>
                  </a:lnTo>
                  <a:lnTo>
                    <a:pt x="804" y="169"/>
                  </a:lnTo>
                  <a:lnTo>
                    <a:pt x="792" y="139"/>
                  </a:lnTo>
                  <a:lnTo>
                    <a:pt x="777" y="106"/>
                  </a:lnTo>
                  <a:lnTo>
                    <a:pt x="761" y="71"/>
                  </a:lnTo>
                  <a:lnTo>
                    <a:pt x="744" y="39"/>
                  </a:lnTo>
                  <a:lnTo>
                    <a:pt x="736" y="25"/>
                  </a:lnTo>
                  <a:lnTo>
                    <a:pt x="729" y="14"/>
                  </a:lnTo>
                  <a:lnTo>
                    <a:pt x="721" y="5"/>
                  </a:lnTo>
                  <a:lnTo>
                    <a:pt x="715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7211880" y="5199120"/>
              <a:ext cx="88920" cy="100080"/>
            </a:xfrm>
            <a:custGeom>
              <a:avLst/>
              <a:gdLst/>
              <a:ahLst/>
              <a:rect l="l" t="t" r="r" b="b"/>
              <a:pathLst>
                <a:path w="225" h="250">
                  <a:moveTo>
                    <a:pt x="225" y="124"/>
                  </a:moveTo>
                  <a:lnTo>
                    <a:pt x="225" y="138"/>
                  </a:lnTo>
                  <a:lnTo>
                    <a:pt x="222" y="150"/>
                  </a:lnTo>
                  <a:lnTo>
                    <a:pt x="220" y="162"/>
                  </a:lnTo>
                  <a:lnTo>
                    <a:pt x="216" y="173"/>
                  </a:lnTo>
                  <a:lnTo>
                    <a:pt x="211" y="184"/>
                  </a:lnTo>
                  <a:lnTo>
                    <a:pt x="206" y="195"/>
                  </a:lnTo>
                  <a:lnTo>
                    <a:pt x="199" y="204"/>
                  </a:lnTo>
                  <a:lnTo>
                    <a:pt x="192" y="213"/>
                  </a:lnTo>
                  <a:lnTo>
                    <a:pt x="184" y="221"/>
                  </a:lnTo>
                  <a:lnTo>
                    <a:pt x="175" y="229"/>
                  </a:lnTo>
                  <a:lnTo>
                    <a:pt x="166" y="235"/>
                  </a:lnTo>
                  <a:lnTo>
                    <a:pt x="156" y="240"/>
                  </a:lnTo>
                  <a:lnTo>
                    <a:pt x="145" y="244"/>
                  </a:lnTo>
                  <a:lnTo>
                    <a:pt x="135" y="247"/>
                  </a:lnTo>
                  <a:lnTo>
                    <a:pt x="124" y="248"/>
                  </a:lnTo>
                  <a:lnTo>
                    <a:pt x="113" y="250"/>
                  </a:lnTo>
                  <a:lnTo>
                    <a:pt x="101" y="248"/>
                  </a:lnTo>
                  <a:lnTo>
                    <a:pt x="89" y="247"/>
                  </a:lnTo>
                  <a:lnTo>
                    <a:pt x="79" y="244"/>
                  </a:lnTo>
                  <a:lnTo>
                    <a:pt x="68" y="240"/>
                  </a:lnTo>
                  <a:lnTo>
                    <a:pt x="60" y="235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4" y="213"/>
                  </a:lnTo>
                  <a:lnTo>
                    <a:pt x="26" y="204"/>
                  </a:lnTo>
                  <a:lnTo>
                    <a:pt x="20" y="195"/>
                  </a:lnTo>
                  <a:lnTo>
                    <a:pt x="14" y="184"/>
                  </a:lnTo>
                  <a:lnTo>
                    <a:pt x="9" y="173"/>
                  </a:lnTo>
                  <a:lnTo>
                    <a:pt x="5" y="162"/>
                  </a:lnTo>
                  <a:lnTo>
                    <a:pt x="2" y="150"/>
                  </a:lnTo>
                  <a:lnTo>
                    <a:pt x="1" y="138"/>
                  </a:lnTo>
                  <a:lnTo>
                    <a:pt x="0" y="124"/>
                  </a:lnTo>
                  <a:lnTo>
                    <a:pt x="1" y="112"/>
                  </a:lnTo>
                  <a:lnTo>
                    <a:pt x="2" y="100"/>
                  </a:lnTo>
                  <a:lnTo>
                    <a:pt x="5" y="88"/>
                  </a:lnTo>
                  <a:lnTo>
                    <a:pt x="9" y="76"/>
                  </a:lnTo>
                  <a:lnTo>
                    <a:pt x="14" y="66"/>
                  </a:lnTo>
                  <a:lnTo>
                    <a:pt x="20" y="55"/>
                  </a:lnTo>
                  <a:lnTo>
                    <a:pt x="26" y="46"/>
                  </a:lnTo>
                  <a:lnTo>
                    <a:pt x="34" y="36"/>
                  </a:lnTo>
                  <a:lnTo>
                    <a:pt x="41" y="29"/>
                  </a:lnTo>
                  <a:lnTo>
                    <a:pt x="50" y="21"/>
                  </a:lnTo>
                  <a:lnTo>
                    <a:pt x="60" y="15"/>
                  </a:lnTo>
                  <a:lnTo>
                    <a:pt x="68" y="10"/>
                  </a:lnTo>
                  <a:lnTo>
                    <a:pt x="79" y="7"/>
                  </a:lnTo>
                  <a:lnTo>
                    <a:pt x="89" y="3"/>
                  </a:lnTo>
                  <a:lnTo>
                    <a:pt x="101" y="2"/>
                  </a:lnTo>
                  <a:lnTo>
                    <a:pt x="113" y="0"/>
                  </a:lnTo>
                  <a:lnTo>
                    <a:pt x="124" y="2"/>
                  </a:lnTo>
                  <a:lnTo>
                    <a:pt x="135" y="3"/>
                  </a:lnTo>
                  <a:lnTo>
                    <a:pt x="145" y="7"/>
                  </a:lnTo>
                  <a:lnTo>
                    <a:pt x="156" y="10"/>
                  </a:lnTo>
                  <a:lnTo>
                    <a:pt x="166" y="15"/>
                  </a:lnTo>
                  <a:lnTo>
                    <a:pt x="175" y="21"/>
                  </a:lnTo>
                  <a:lnTo>
                    <a:pt x="184" y="29"/>
                  </a:lnTo>
                  <a:lnTo>
                    <a:pt x="192" y="36"/>
                  </a:lnTo>
                  <a:lnTo>
                    <a:pt x="199" y="46"/>
                  </a:lnTo>
                  <a:lnTo>
                    <a:pt x="206" y="55"/>
                  </a:lnTo>
                  <a:lnTo>
                    <a:pt x="211" y="66"/>
                  </a:lnTo>
                  <a:lnTo>
                    <a:pt x="216" y="76"/>
                  </a:lnTo>
                  <a:lnTo>
                    <a:pt x="220" y="88"/>
                  </a:lnTo>
                  <a:lnTo>
                    <a:pt x="222" y="100"/>
                  </a:lnTo>
                  <a:lnTo>
                    <a:pt x="225" y="112"/>
                  </a:lnTo>
                  <a:lnTo>
                    <a:pt x="225" y="12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7227720" y="5203800"/>
              <a:ext cx="52560" cy="44640"/>
            </a:xfrm>
            <a:custGeom>
              <a:avLst/>
              <a:gdLst/>
              <a:ahLst/>
              <a:rect l="l" t="t" r="r" b="b"/>
              <a:pathLst>
                <a:path w="131" h="113">
                  <a:moveTo>
                    <a:pt x="131" y="57"/>
                  </a:moveTo>
                  <a:lnTo>
                    <a:pt x="130" y="62"/>
                  </a:lnTo>
                  <a:lnTo>
                    <a:pt x="129" y="68"/>
                  </a:lnTo>
                  <a:lnTo>
                    <a:pt x="128" y="73"/>
                  </a:lnTo>
                  <a:lnTo>
                    <a:pt x="125" y="78"/>
                  </a:lnTo>
                  <a:lnTo>
                    <a:pt x="119" y="88"/>
                  </a:lnTo>
                  <a:lnTo>
                    <a:pt x="112" y="97"/>
                  </a:lnTo>
                  <a:lnTo>
                    <a:pt x="102" y="103"/>
                  </a:lnTo>
                  <a:lnTo>
                    <a:pt x="90" y="108"/>
                  </a:lnTo>
                  <a:lnTo>
                    <a:pt x="79" y="112"/>
                  </a:lnTo>
                  <a:lnTo>
                    <a:pt x="66" y="113"/>
                  </a:lnTo>
                  <a:lnTo>
                    <a:pt x="52" y="112"/>
                  </a:lnTo>
                  <a:lnTo>
                    <a:pt x="39" y="108"/>
                  </a:lnTo>
                  <a:lnTo>
                    <a:pt x="28" y="103"/>
                  </a:lnTo>
                  <a:lnTo>
                    <a:pt x="20" y="97"/>
                  </a:lnTo>
                  <a:lnTo>
                    <a:pt x="11" y="88"/>
                  </a:lnTo>
                  <a:lnTo>
                    <a:pt x="5" y="78"/>
                  </a:lnTo>
                  <a:lnTo>
                    <a:pt x="3" y="73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0" y="57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3" y="40"/>
                  </a:lnTo>
                  <a:lnTo>
                    <a:pt x="5" y="35"/>
                  </a:lnTo>
                  <a:lnTo>
                    <a:pt x="11" y="25"/>
                  </a:lnTo>
                  <a:lnTo>
                    <a:pt x="20" y="17"/>
                  </a:lnTo>
                  <a:lnTo>
                    <a:pt x="28" y="10"/>
                  </a:lnTo>
                  <a:lnTo>
                    <a:pt x="39" y="5"/>
                  </a:lnTo>
                  <a:lnTo>
                    <a:pt x="52" y="1"/>
                  </a:lnTo>
                  <a:lnTo>
                    <a:pt x="66" y="0"/>
                  </a:lnTo>
                  <a:lnTo>
                    <a:pt x="79" y="1"/>
                  </a:lnTo>
                  <a:lnTo>
                    <a:pt x="90" y="5"/>
                  </a:lnTo>
                  <a:lnTo>
                    <a:pt x="102" y="10"/>
                  </a:lnTo>
                  <a:lnTo>
                    <a:pt x="112" y="17"/>
                  </a:lnTo>
                  <a:lnTo>
                    <a:pt x="119" y="25"/>
                  </a:lnTo>
                  <a:lnTo>
                    <a:pt x="125" y="35"/>
                  </a:lnTo>
                  <a:lnTo>
                    <a:pt x="128" y="40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1" y="57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7064280" y="5349960"/>
              <a:ext cx="88920" cy="98280"/>
            </a:xfrm>
            <a:custGeom>
              <a:avLst/>
              <a:gdLst/>
              <a:ahLst/>
              <a:rect l="l" t="t" r="r" b="b"/>
              <a:pathLst>
                <a:path w="225" h="249">
                  <a:moveTo>
                    <a:pt x="225" y="125"/>
                  </a:moveTo>
                  <a:lnTo>
                    <a:pt x="224" y="137"/>
                  </a:lnTo>
                  <a:lnTo>
                    <a:pt x="223" y="150"/>
                  </a:lnTo>
                  <a:lnTo>
                    <a:pt x="219" y="162"/>
                  </a:lnTo>
                  <a:lnTo>
                    <a:pt x="215" y="173"/>
                  </a:lnTo>
                  <a:lnTo>
                    <a:pt x="212" y="185"/>
                  </a:lnTo>
                  <a:lnTo>
                    <a:pt x="205" y="195"/>
                  </a:lnTo>
                  <a:lnTo>
                    <a:pt x="199" y="204"/>
                  </a:lnTo>
                  <a:lnTo>
                    <a:pt x="192" y="213"/>
                  </a:lnTo>
                  <a:lnTo>
                    <a:pt x="184" y="221"/>
                  </a:lnTo>
                  <a:lnTo>
                    <a:pt x="176" y="228"/>
                  </a:lnTo>
                  <a:lnTo>
                    <a:pt x="166" y="234"/>
                  </a:lnTo>
                  <a:lnTo>
                    <a:pt x="156" y="239"/>
                  </a:lnTo>
                  <a:lnTo>
                    <a:pt x="146" y="244"/>
                  </a:lnTo>
                  <a:lnTo>
                    <a:pt x="135" y="247"/>
                  </a:lnTo>
                  <a:lnTo>
                    <a:pt x="123" y="249"/>
                  </a:lnTo>
                  <a:lnTo>
                    <a:pt x="112" y="249"/>
                  </a:lnTo>
                  <a:lnTo>
                    <a:pt x="101" y="249"/>
                  </a:lnTo>
                  <a:lnTo>
                    <a:pt x="90" y="247"/>
                  </a:lnTo>
                  <a:lnTo>
                    <a:pt x="79" y="244"/>
                  </a:lnTo>
                  <a:lnTo>
                    <a:pt x="69" y="239"/>
                  </a:lnTo>
                  <a:lnTo>
                    <a:pt x="59" y="234"/>
                  </a:lnTo>
                  <a:lnTo>
                    <a:pt x="50" y="228"/>
                  </a:lnTo>
                  <a:lnTo>
                    <a:pt x="41" y="221"/>
                  </a:lnTo>
                  <a:lnTo>
                    <a:pt x="33" y="213"/>
                  </a:lnTo>
                  <a:lnTo>
                    <a:pt x="25" y="204"/>
                  </a:lnTo>
                  <a:lnTo>
                    <a:pt x="19" y="195"/>
                  </a:lnTo>
                  <a:lnTo>
                    <a:pt x="14" y="185"/>
                  </a:lnTo>
                  <a:lnTo>
                    <a:pt x="9" y="173"/>
                  </a:lnTo>
                  <a:lnTo>
                    <a:pt x="5" y="162"/>
                  </a:lnTo>
                  <a:lnTo>
                    <a:pt x="3" y="150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3"/>
                  </a:lnTo>
                  <a:lnTo>
                    <a:pt x="3" y="100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4" y="66"/>
                  </a:lnTo>
                  <a:lnTo>
                    <a:pt x="19" y="56"/>
                  </a:lnTo>
                  <a:lnTo>
                    <a:pt x="25" y="46"/>
                  </a:lnTo>
                  <a:lnTo>
                    <a:pt x="33" y="37"/>
                  </a:lnTo>
                  <a:lnTo>
                    <a:pt x="41" y="28"/>
                  </a:lnTo>
                  <a:lnTo>
                    <a:pt x="50" y="22"/>
                  </a:lnTo>
                  <a:lnTo>
                    <a:pt x="59" y="16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90" y="3"/>
                  </a:lnTo>
                  <a:lnTo>
                    <a:pt x="101" y="1"/>
                  </a:lnTo>
                  <a:lnTo>
                    <a:pt x="112" y="0"/>
                  </a:lnTo>
                  <a:lnTo>
                    <a:pt x="123" y="1"/>
                  </a:lnTo>
                  <a:lnTo>
                    <a:pt x="135" y="3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6" y="16"/>
                  </a:lnTo>
                  <a:lnTo>
                    <a:pt x="176" y="22"/>
                  </a:lnTo>
                  <a:lnTo>
                    <a:pt x="184" y="28"/>
                  </a:lnTo>
                  <a:lnTo>
                    <a:pt x="192" y="37"/>
                  </a:lnTo>
                  <a:lnTo>
                    <a:pt x="199" y="46"/>
                  </a:lnTo>
                  <a:lnTo>
                    <a:pt x="205" y="56"/>
                  </a:lnTo>
                  <a:lnTo>
                    <a:pt x="212" y="66"/>
                  </a:lnTo>
                  <a:lnTo>
                    <a:pt x="215" y="77"/>
                  </a:lnTo>
                  <a:lnTo>
                    <a:pt x="219" y="88"/>
                  </a:lnTo>
                  <a:lnTo>
                    <a:pt x="223" y="100"/>
                  </a:lnTo>
                  <a:lnTo>
                    <a:pt x="224" y="113"/>
                  </a:lnTo>
                  <a:lnTo>
                    <a:pt x="225" y="12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7080120" y="5353200"/>
              <a:ext cx="52560" cy="44280"/>
            </a:xfrm>
            <a:custGeom>
              <a:avLst/>
              <a:gdLst/>
              <a:ahLst/>
              <a:rect l="l" t="t" r="r" b="b"/>
              <a:pathLst>
                <a:path w="131" h="111">
                  <a:moveTo>
                    <a:pt x="131" y="56"/>
                  </a:moveTo>
                  <a:lnTo>
                    <a:pt x="131" y="62"/>
                  </a:lnTo>
                  <a:lnTo>
                    <a:pt x="129" y="67"/>
                  </a:lnTo>
                  <a:lnTo>
                    <a:pt x="128" y="73"/>
                  </a:lnTo>
                  <a:lnTo>
                    <a:pt x="126" y="78"/>
                  </a:lnTo>
                  <a:lnTo>
                    <a:pt x="119" y="87"/>
                  </a:lnTo>
                  <a:lnTo>
                    <a:pt x="112" y="95"/>
                  </a:lnTo>
                  <a:lnTo>
                    <a:pt x="102" y="103"/>
                  </a:lnTo>
                  <a:lnTo>
                    <a:pt x="91" y="108"/>
                  </a:lnTo>
                  <a:lnTo>
                    <a:pt x="78" y="110"/>
                  </a:lnTo>
                  <a:lnTo>
                    <a:pt x="66" y="111"/>
                  </a:lnTo>
                  <a:lnTo>
                    <a:pt x="52" y="110"/>
                  </a:lnTo>
                  <a:lnTo>
                    <a:pt x="40" y="108"/>
                  </a:lnTo>
                  <a:lnTo>
                    <a:pt x="29" y="103"/>
                  </a:lnTo>
                  <a:lnTo>
                    <a:pt x="19" y="95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3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3" y="39"/>
                  </a:lnTo>
                  <a:lnTo>
                    <a:pt x="5" y="34"/>
                  </a:lnTo>
                  <a:lnTo>
                    <a:pt x="11" y="24"/>
                  </a:lnTo>
                  <a:lnTo>
                    <a:pt x="19" y="16"/>
                  </a:lnTo>
                  <a:lnTo>
                    <a:pt x="29" y="10"/>
                  </a:lnTo>
                  <a:lnTo>
                    <a:pt x="40" y="3"/>
                  </a:lnTo>
                  <a:lnTo>
                    <a:pt x="52" y="1"/>
                  </a:lnTo>
                  <a:lnTo>
                    <a:pt x="66" y="0"/>
                  </a:lnTo>
                  <a:lnTo>
                    <a:pt x="78" y="1"/>
                  </a:lnTo>
                  <a:lnTo>
                    <a:pt x="91" y="3"/>
                  </a:lnTo>
                  <a:lnTo>
                    <a:pt x="102" y="10"/>
                  </a:lnTo>
                  <a:lnTo>
                    <a:pt x="112" y="16"/>
                  </a:lnTo>
                  <a:lnTo>
                    <a:pt x="119" y="24"/>
                  </a:lnTo>
                  <a:lnTo>
                    <a:pt x="126" y="34"/>
                  </a:lnTo>
                  <a:lnTo>
                    <a:pt x="128" y="39"/>
                  </a:lnTo>
                  <a:lnTo>
                    <a:pt x="129" y="44"/>
                  </a:lnTo>
                  <a:lnTo>
                    <a:pt x="131" y="49"/>
                  </a:lnTo>
                  <a:lnTo>
                    <a:pt x="131" y="56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7053120" y="5199120"/>
              <a:ext cx="66960" cy="74520"/>
            </a:xfrm>
            <a:custGeom>
              <a:avLst/>
              <a:gdLst/>
              <a:ahLst/>
              <a:rect l="l" t="t" r="r" b="b"/>
              <a:pathLst>
                <a:path w="167" h="185">
                  <a:moveTo>
                    <a:pt x="167" y="92"/>
                  </a:moveTo>
                  <a:lnTo>
                    <a:pt x="165" y="102"/>
                  </a:lnTo>
                  <a:lnTo>
                    <a:pt x="164" y="111"/>
                  </a:lnTo>
                  <a:lnTo>
                    <a:pt x="163" y="121"/>
                  </a:lnTo>
                  <a:lnTo>
                    <a:pt x="159" y="128"/>
                  </a:lnTo>
                  <a:lnTo>
                    <a:pt x="155" y="137"/>
                  </a:lnTo>
                  <a:lnTo>
                    <a:pt x="152" y="144"/>
                  </a:lnTo>
                  <a:lnTo>
                    <a:pt x="147" y="152"/>
                  </a:lnTo>
                  <a:lnTo>
                    <a:pt x="142" y="158"/>
                  </a:lnTo>
                  <a:lnTo>
                    <a:pt x="136" y="164"/>
                  </a:lnTo>
                  <a:lnTo>
                    <a:pt x="129" y="169"/>
                  </a:lnTo>
                  <a:lnTo>
                    <a:pt x="123" y="174"/>
                  </a:lnTo>
                  <a:lnTo>
                    <a:pt x="116" y="178"/>
                  </a:lnTo>
                  <a:lnTo>
                    <a:pt x="108" y="181"/>
                  </a:lnTo>
                  <a:lnTo>
                    <a:pt x="100" y="183"/>
                  </a:lnTo>
                  <a:lnTo>
                    <a:pt x="91" y="184"/>
                  </a:lnTo>
                  <a:lnTo>
                    <a:pt x="83" y="185"/>
                  </a:lnTo>
                  <a:lnTo>
                    <a:pt x="75" y="184"/>
                  </a:lnTo>
                  <a:lnTo>
                    <a:pt x="66" y="183"/>
                  </a:lnTo>
                  <a:lnTo>
                    <a:pt x="59" y="181"/>
                  </a:lnTo>
                  <a:lnTo>
                    <a:pt x="51" y="178"/>
                  </a:lnTo>
                  <a:lnTo>
                    <a:pt x="44" y="174"/>
                  </a:lnTo>
                  <a:lnTo>
                    <a:pt x="36" y="169"/>
                  </a:lnTo>
                  <a:lnTo>
                    <a:pt x="30" y="164"/>
                  </a:lnTo>
                  <a:lnTo>
                    <a:pt x="24" y="158"/>
                  </a:lnTo>
                  <a:lnTo>
                    <a:pt x="19" y="152"/>
                  </a:lnTo>
                  <a:lnTo>
                    <a:pt x="14" y="144"/>
                  </a:lnTo>
                  <a:lnTo>
                    <a:pt x="10" y="137"/>
                  </a:lnTo>
                  <a:lnTo>
                    <a:pt x="6" y="128"/>
                  </a:lnTo>
                  <a:lnTo>
                    <a:pt x="4" y="121"/>
                  </a:lnTo>
                  <a:lnTo>
                    <a:pt x="1" y="111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1" y="74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49"/>
                  </a:lnTo>
                  <a:lnTo>
                    <a:pt x="14" y="41"/>
                  </a:lnTo>
                  <a:lnTo>
                    <a:pt x="19" y="34"/>
                  </a:lnTo>
                  <a:lnTo>
                    <a:pt x="24" y="28"/>
                  </a:lnTo>
                  <a:lnTo>
                    <a:pt x="30" y="21"/>
                  </a:lnTo>
                  <a:lnTo>
                    <a:pt x="36" y="16"/>
                  </a:lnTo>
                  <a:lnTo>
                    <a:pt x="44" y="12"/>
                  </a:lnTo>
                  <a:lnTo>
                    <a:pt x="51" y="8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100" y="3"/>
                  </a:lnTo>
                  <a:lnTo>
                    <a:pt x="108" y="4"/>
                  </a:lnTo>
                  <a:lnTo>
                    <a:pt x="116" y="8"/>
                  </a:lnTo>
                  <a:lnTo>
                    <a:pt x="123" y="12"/>
                  </a:lnTo>
                  <a:lnTo>
                    <a:pt x="129" y="16"/>
                  </a:lnTo>
                  <a:lnTo>
                    <a:pt x="136" y="21"/>
                  </a:lnTo>
                  <a:lnTo>
                    <a:pt x="142" y="28"/>
                  </a:lnTo>
                  <a:lnTo>
                    <a:pt x="147" y="34"/>
                  </a:lnTo>
                  <a:lnTo>
                    <a:pt x="152" y="41"/>
                  </a:lnTo>
                  <a:lnTo>
                    <a:pt x="155" y="49"/>
                  </a:lnTo>
                  <a:lnTo>
                    <a:pt x="159" y="57"/>
                  </a:lnTo>
                  <a:lnTo>
                    <a:pt x="163" y="65"/>
                  </a:lnTo>
                  <a:lnTo>
                    <a:pt x="164" y="74"/>
                  </a:lnTo>
                  <a:lnTo>
                    <a:pt x="165" y="83"/>
                  </a:lnTo>
                  <a:lnTo>
                    <a:pt x="167" y="9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7064280" y="5202360"/>
              <a:ext cx="39960" cy="3312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97" y="42"/>
                  </a:moveTo>
                  <a:lnTo>
                    <a:pt x="95" y="50"/>
                  </a:lnTo>
                  <a:lnTo>
                    <a:pt x="93" y="58"/>
                  </a:lnTo>
                  <a:lnTo>
                    <a:pt x="89" y="65"/>
                  </a:lnTo>
                  <a:lnTo>
                    <a:pt x="83" y="72"/>
                  </a:lnTo>
                  <a:lnTo>
                    <a:pt x="75" y="76"/>
                  </a:lnTo>
                  <a:lnTo>
                    <a:pt x="68" y="80"/>
                  </a:lnTo>
                  <a:lnTo>
                    <a:pt x="58" y="83"/>
                  </a:lnTo>
                  <a:lnTo>
                    <a:pt x="48" y="84"/>
                  </a:lnTo>
                  <a:lnTo>
                    <a:pt x="39" y="83"/>
                  </a:lnTo>
                  <a:lnTo>
                    <a:pt x="30" y="80"/>
                  </a:lnTo>
                  <a:lnTo>
                    <a:pt x="22" y="76"/>
                  </a:lnTo>
                  <a:lnTo>
                    <a:pt x="15" y="72"/>
                  </a:lnTo>
                  <a:lnTo>
                    <a:pt x="8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6"/>
                  </a:lnTo>
                  <a:lnTo>
                    <a:pt x="8" y="18"/>
                  </a:lnTo>
                  <a:lnTo>
                    <a:pt x="15" y="12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8" y="3"/>
                  </a:lnTo>
                  <a:lnTo>
                    <a:pt x="75" y="7"/>
                  </a:lnTo>
                  <a:lnTo>
                    <a:pt x="83" y="12"/>
                  </a:lnTo>
                  <a:lnTo>
                    <a:pt x="89" y="18"/>
                  </a:lnTo>
                  <a:lnTo>
                    <a:pt x="93" y="26"/>
                  </a:lnTo>
                  <a:lnTo>
                    <a:pt x="95" y="33"/>
                  </a:lnTo>
                  <a:lnTo>
                    <a:pt x="97" y="4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7142040" y="5276880"/>
              <a:ext cx="66960" cy="73080"/>
            </a:xfrm>
            <a:custGeom>
              <a:avLst/>
              <a:gdLst/>
              <a:ahLst/>
              <a:rect l="l" t="t" r="r" b="b"/>
              <a:pathLst>
                <a:path w="166" h="185">
                  <a:moveTo>
                    <a:pt x="166" y="93"/>
                  </a:moveTo>
                  <a:lnTo>
                    <a:pt x="165" y="102"/>
                  </a:lnTo>
                  <a:lnTo>
                    <a:pt x="164" y="112"/>
                  </a:lnTo>
                  <a:lnTo>
                    <a:pt x="162" y="120"/>
                  </a:lnTo>
                  <a:lnTo>
                    <a:pt x="160" y="129"/>
                  </a:lnTo>
                  <a:lnTo>
                    <a:pt x="156" y="136"/>
                  </a:lnTo>
                  <a:lnTo>
                    <a:pt x="151" y="144"/>
                  </a:lnTo>
                  <a:lnTo>
                    <a:pt x="146" y="151"/>
                  </a:lnTo>
                  <a:lnTo>
                    <a:pt x="141" y="157"/>
                  </a:lnTo>
                  <a:lnTo>
                    <a:pt x="135" y="164"/>
                  </a:lnTo>
                  <a:lnTo>
                    <a:pt x="129" y="169"/>
                  </a:lnTo>
                  <a:lnTo>
                    <a:pt x="123" y="174"/>
                  </a:lnTo>
                  <a:lnTo>
                    <a:pt x="115" y="177"/>
                  </a:lnTo>
                  <a:lnTo>
                    <a:pt x="108" y="181"/>
                  </a:lnTo>
                  <a:lnTo>
                    <a:pt x="99" y="184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74" y="185"/>
                  </a:lnTo>
                  <a:lnTo>
                    <a:pt x="65" y="184"/>
                  </a:lnTo>
                  <a:lnTo>
                    <a:pt x="58" y="181"/>
                  </a:lnTo>
                  <a:lnTo>
                    <a:pt x="51" y="177"/>
                  </a:lnTo>
                  <a:lnTo>
                    <a:pt x="43" y="174"/>
                  </a:lnTo>
                  <a:lnTo>
                    <a:pt x="36" y="169"/>
                  </a:lnTo>
                  <a:lnTo>
                    <a:pt x="29" y="164"/>
                  </a:lnTo>
                  <a:lnTo>
                    <a:pt x="25" y="157"/>
                  </a:lnTo>
                  <a:lnTo>
                    <a:pt x="18" y="151"/>
                  </a:lnTo>
                  <a:lnTo>
                    <a:pt x="13" y="144"/>
                  </a:lnTo>
                  <a:lnTo>
                    <a:pt x="10" y="136"/>
                  </a:lnTo>
                  <a:lnTo>
                    <a:pt x="6" y="129"/>
                  </a:lnTo>
                  <a:lnTo>
                    <a:pt x="3" y="120"/>
                  </a:lnTo>
                  <a:lnTo>
                    <a:pt x="1" y="112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3"/>
                  </a:lnTo>
                  <a:lnTo>
                    <a:pt x="1" y="74"/>
                  </a:lnTo>
                  <a:lnTo>
                    <a:pt x="3" y="66"/>
                  </a:lnTo>
                  <a:lnTo>
                    <a:pt x="6" y="57"/>
                  </a:lnTo>
                  <a:lnTo>
                    <a:pt x="10" y="48"/>
                  </a:lnTo>
                  <a:lnTo>
                    <a:pt x="13" y="41"/>
                  </a:lnTo>
                  <a:lnTo>
                    <a:pt x="18" y="33"/>
                  </a:lnTo>
                  <a:lnTo>
                    <a:pt x="25" y="27"/>
                  </a:lnTo>
                  <a:lnTo>
                    <a:pt x="29" y="21"/>
                  </a:lnTo>
                  <a:lnTo>
                    <a:pt x="36" y="16"/>
                  </a:lnTo>
                  <a:lnTo>
                    <a:pt x="43" y="11"/>
                  </a:lnTo>
                  <a:lnTo>
                    <a:pt x="51" y="7"/>
                  </a:lnTo>
                  <a:lnTo>
                    <a:pt x="58" y="5"/>
                  </a:lnTo>
                  <a:lnTo>
                    <a:pt x="65" y="2"/>
                  </a:lnTo>
                  <a:lnTo>
                    <a:pt x="74" y="1"/>
                  </a:lnTo>
                  <a:lnTo>
                    <a:pt x="83" y="0"/>
                  </a:lnTo>
                  <a:lnTo>
                    <a:pt x="92" y="1"/>
                  </a:lnTo>
                  <a:lnTo>
                    <a:pt x="99" y="2"/>
                  </a:lnTo>
                  <a:lnTo>
                    <a:pt x="108" y="5"/>
                  </a:lnTo>
                  <a:lnTo>
                    <a:pt x="115" y="7"/>
                  </a:lnTo>
                  <a:lnTo>
                    <a:pt x="123" y="11"/>
                  </a:lnTo>
                  <a:lnTo>
                    <a:pt x="129" y="16"/>
                  </a:lnTo>
                  <a:lnTo>
                    <a:pt x="135" y="21"/>
                  </a:lnTo>
                  <a:lnTo>
                    <a:pt x="141" y="27"/>
                  </a:lnTo>
                  <a:lnTo>
                    <a:pt x="146" y="33"/>
                  </a:lnTo>
                  <a:lnTo>
                    <a:pt x="151" y="41"/>
                  </a:lnTo>
                  <a:lnTo>
                    <a:pt x="156" y="48"/>
                  </a:lnTo>
                  <a:lnTo>
                    <a:pt x="160" y="57"/>
                  </a:lnTo>
                  <a:lnTo>
                    <a:pt x="162" y="66"/>
                  </a:lnTo>
                  <a:lnTo>
                    <a:pt x="164" y="74"/>
                  </a:lnTo>
                  <a:lnTo>
                    <a:pt x="165" y="83"/>
                  </a:lnTo>
                  <a:lnTo>
                    <a:pt x="166" y="93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7155000" y="5280120"/>
              <a:ext cx="37800" cy="3168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97" y="41"/>
                  </a:moveTo>
                  <a:lnTo>
                    <a:pt x="96" y="50"/>
                  </a:lnTo>
                  <a:lnTo>
                    <a:pt x="92" y="57"/>
                  </a:lnTo>
                  <a:lnTo>
                    <a:pt x="89" y="65"/>
                  </a:lnTo>
                  <a:lnTo>
                    <a:pt x="82" y="71"/>
                  </a:lnTo>
                  <a:lnTo>
                    <a:pt x="75" y="76"/>
                  </a:lnTo>
                  <a:lnTo>
                    <a:pt x="68" y="80"/>
                  </a:lnTo>
                  <a:lnTo>
                    <a:pt x="58" y="82"/>
                  </a:lnTo>
                  <a:lnTo>
                    <a:pt x="49" y="83"/>
                  </a:lnTo>
                  <a:lnTo>
                    <a:pt x="39" y="82"/>
                  </a:lnTo>
                  <a:lnTo>
                    <a:pt x="29" y="80"/>
                  </a:lnTo>
                  <a:lnTo>
                    <a:pt x="22" y="76"/>
                  </a:lnTo>
                  <a:lnTo>
                    <a:pt x="14" y="71"/>
                  </a:lnTo>
                  <a:lnTo>
                    <a:pt x="8" y="65"/>
                  </a:lnTo>
                  <a:lnTo>
                    <a:pt x="4" y="57"/>
                  </a:lnTo>
                  <a:lnTo>
                    <a:pt x="2" y="50"/>
                  </a:lnTo>
                  <a:lnTo>
                    <a:pt x="0" y="41"/>
                  </a:lnTo>
                  <a:lnTo>
                    <a:pt x="2" y="34"/>
                  </a:lnTo>
                  <a:lnTo>
                    <a:pt x="4" y="25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2" y="8"/>
                  </a:lnTo>
                  <a:lnTo>
                    <a:pt x="29" y="4"/>
                  </a:lnTo>
                  <a:lnTo>
                    <a:pt x="39" y="2"/>
                  </a:lnTo>
                  <a:lnTo>
                    <a:pt x="49" y="0"/>
                  </a:lnTo>
                  <a:lnTo>
                    <a:pt x="58" y="2"/>
                  </a:lnTo>
                  <a:lnTo>
                    <a:pt x="68" y="4"/>
                  </a:lnTo>
                  <a:lnTo>
                    <a:pt x="75" y="8"/>
                  </a:lnTo>
                  <a:lnTo>
                    <a:pt x="82" y="13"/>
                  </a:lnTo>
                  <a:lnTo>
                    <a:pt x="89" y="19"/>
                  </a:lnTo>
                  <a:lnTo>
                    <a:pt x="92" y="25"/>
                  </a:lnTo>
                  <a:lnTo>
                    <a:pt x="96" y="34"/>
                  </a:lnTo>
                  <a:lnTo>
                    <a:pt x="97" y="4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7269120" y="5311800"/>
              <a:ext cx="65160" cy="74520"/>
            </a:xfrm>
            <a:custGeom>
              <a:avLst/>
              <a:gdLst/>
              <a:ahLst/>
              <a:rect l="l" t="t" r="r" b="b"/>
              <a:pathLst>
                <a:path w="166" h="185">
                  <a:moveTo>
                    <a:pt x="166" y="94"/>
                  </a:moveTo>
                  <a:lnTo>
                    <a:pt x="166" y="102"/>
                  </a:lnTo>
                  <a:lnTo>
                    <a:pt x="165" y="112"/>
                  </a:lnTo>
                  <a:lnTo>
                    <a:pt x="162" y="121"/>
                  </a:lnTo>
                  <a:lnTo>
                    <a:pt x="160" y="129"/>
                  </a:lnTo>
                  <a:lnTo>
                    <a:pt x="156" y="137"/>
                  </a:lnTo>
                  <a:lnTo>
                    <a:pt x="151" y="144"/>
                  </a:lnTo>
                  <a:lnTo>
                    <a:pt x="147" y="152"/>
                  </a:lnTo>
                  <a:lnTo>
                    <a:pt x="141" y="158"/>
                  </a:lnTo>
                  <a:lnTo>
                    <a:pt x="136" y="164"/>
                  </a:lnTo>
                  <a:lnTo>
                    <a:pt x="129" y="169"/>
                  </a:lnTo>
                  <a:lnTo>
                    <a:pt x="123" y="174"/>
                  </a:lnTo>
                  <a:lnTo>
                    <a:pt x="115" y="178"/>
                  </a:lnTo>
                  <a:lnTo>
                    <a:pt x="108" y="182"/>
                  </a:lnTo>
                  <a:lnTo>
                    <a:pt x="100" y="184"/>
                  </a:lnTo>
                  <a:lnTo>
                    <a:pt x="91" y="185"/>
                  </a:lnTo>
                  <a:lnTo>
                    <a:pt x="83" y="185"/>
                  </a:lnTo>
                  <a:lnTo>
                    <a:pt x="74" y="185"/>
                  </a:lnTo>
                  <a:lnTo>
                    <a:pt x="67" y="184"/>
                  </a:lnTo>
                  <a:lnTo>
                    <a:pt x="58" y="182"/>
                  </a:lnTo>
                  <a:lnTo>
                    <a:pt x="50" y="178"/>
                  </a:lnTo>
                  <a:lnTo>
                    <a:pt x="43" y="174"/>
                  </a:lnTo>
                  <a:lnTo>
                    <a:pt x="37" y="169"/>
                  </a:lnTo>
                  <a:lnTo>
                    <a:pt x="29" y="164"/>
                  </a:lnTo>
                  <a:lnTo>
                    <a:pt x="24" y="158"/>
                  </a:lnTo>
                  <a:lnTo>
                    <a:pt x="18" y="152"/>
                  </a:lnTo>
                  <a:lnTo>
                    <a:pt x="14" y="144"/>
                  </a:lnTo>
                  <a:lnTo>
                    <a:pt x="10" y="137"/>
                  </a:lnTo>
                  <a:lnTo>
                    <a:pt x="6" y="129"/>
                  </a:lnTo>
                  <a:lnTo>
                    <a:pt x="3" y="121"/>
                  </a:lnTo>
                  <a:lnTo>
                    <a:pt x="2" y="112"/>
                  </a:lnTo>
                  <a:lnTo>
                    <a:pt x="1" y="102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2" y="75"/>
                  </a:lnTo>
                  <a:lnTo>
                    <a:pt x="3" y="66"/>
                  </a:lnTo>
                  <a:lnTo>
                    <a:pt x="6" y="58"/>
                  </a:lnTo>
                  <a:lnTo>
                    <a:pt x="10" y="49"/>
                  </a:lnTo>
                  <a:lnTo>
                    <a:pt x="14" y="41"/>
                  </a:lnTo>
                  <a:lnTo>
                    <a:pt x="18" y="34"/>
                  </a:lnTo>
                  <a:lnTo>
                    <a:pt x="24" y="28"/>
                  </a:lnTo>
                  <a:lnTo>
                    <a:pt x="29" y="22"/>
                  </a:lnTo>
                  <a:lnTo>
                    <a:pt x="37" y="17"/>
                  </a:lnTo>
                  <a:lnTo>
                    <a:pt x="43" y="12"/>
                  </a:lnTo>
                  <a:lnTo>
                    <a:pt x="50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3" y="0"/>
                  </a:lnTo>
                  <a:lnTo>
                    <a:pt x="91" y="2"/>
                  </a:lnTo>
                  <a:lnTo>
                    <a:pt x="100" y="3"/>
                  </a:lnTo>
                  <a:lnTo>
                    <a:pt x="108" y="5"/>
                  </a:lnTo>
                  <a:lnTo>
                    <a:pt x="115" y="8"/>
                  </a:lnTo>
                  <a:lnTo>
                    <a:pt x="123" y="12"/>
                  </a:lnTo>
                  <a:lnTo>
                    <a:pt x="129" y="17"/>
                  </a:lnTo>
                  <a:lnTo>
                    <a:pt x="136" y="22"/>
                  </a:lnTo>
                  <a:lnTo>
                    <a:pt x="141" y="28"/>
                  </a:lnTo>
                  <a:lnTo>
                    <a:pt x="147" y="34"/>
                  </a:lnTo>
                  <a:lnTo>
                    <a:pt x="151" y="41"/>
                  </a:lnTo>
                  <a:lnTo>
                    <a:pt x="156" y="49"/>
                  </a:lnTo>
                  <a:lnTo>
                    <a:pt x="160" y="58"/>
                  </a:lnTo>
                  <a:lnTo>
                    <a:pt x="162" y="66"/>
                  </a:lnTo>
                  <a:lnTo>
                    <a:pt x="165" y="75"/>
                  </a:lnTo>
                  <a:lnTo>
                    <a:pt x="166" y="84"/>
                  </a:lnTo>
                  <a:lnTo>
                    <a:pt x="166" y="94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未知"/>
          <p:cNvSpPr/>
          <p:nvPr/>
        </p:nvSpPr>
        <p:spPr>
          <a:xfrm>
            <a:off x="7280280" y="5315040"/>
            <a:ext cx="38160" cy="33120"/>
          </a:xfrm>
          <a:custGeom>
            <a:avLst/>
            <a:gdLst/>
            <a:ahLst/>
            <a:rect l="l" t="t" r="r" b="b"/>
            <a:pathLst>
              <a:path w="97" h="83">
                <a:moveTo>
                  <a:pt x="97" y="41"/>
                </a:moveTo>
                <a:lnTo>
                  <a:pt x="96" y="50"/>
                </a:lnTo>
                <a:lnTo>
                  <a:pt x="94" y="57"/>
                </a:lnTo>
                <a:lnTo>
                  <a:pt x="89" y="64"/>
                </a:lnTo>
                <a:lnTo>
                  <a:pt x="82" y="71"/>
                </a:lnTo>
                <a:lnTo>
                  <a:pt x="76" y="76"/>
                </a:lnTo>
                <a:lnTo>
                  <a:pt x="67" y="79"/>
                </a:lnTo>
                <a:lnTo>
                  <a:pt x="59" y="82"/>
                </a:lnTo>
                <a:lnTo>
                  <a:pt x="49" y="83"/>
                </a:lnTo>
                <a:lnTo>
                  <a:pt x="39" y="82"/>
                </a:lnTo>
                <a:lnTo>
                  <a:pt x="30" y="79"/>
                </a:lnTo>
                <a:lnTo>
                  <a:pt x="21" y="76"/>
                </a:lnTo>
                <a:lnTo>
                  <a:pt x="14" y="71"/>
                </a:lnTo>
                <a:lnTo>
                  <a:pt x="9" y="64"/>
                </a:lnTo>
                <a:lnTo>
                  <a:pt x="4" y="57"/>
                </a:lnTo>
                <a:lnTo>
                  <a:pt x="2" y="50"/>
                </a:lnTo>
                <a:lnTo>
                  <a:pt x="0" y="41"/>
                </a:lnTo>
                <a:lnTo>
                  <a:pt x="2" y="33"/>
                </a:lnTo>
                <a:lnTo>
                  <a:pt x="4" y="25"/>
                </a:lnTo>
                <a:lnTo>
                  <a:pt x="9" y="19"/>
                </a:lnTo>
                <a:lnTo>
                  <a:pt x="14" y="12"/>
                </a:lnTo>
                <a:lnTo>
                  <a:pt x="21" y="7"/>
                </a:lnTo>
                <a:lnTo>
                  <a:pt x="30" y="2"/>
                </a:lnTo>
                <a:lnTo>
                  <a:pt x="39" y="1"/>
                </a:lnTo>
                <a:lnTo>
                  <a:pt x="49" y="0"/>
                </a:lnTo>
                <a:lnTo>
                  <a:pt x="59" y="1"/>
                </a:lnTo>
                <a:lnTo>
                  <a:pt x="67" y="2"/>
                </a:lnTo>
                <a:lnTo>
                  <a:pt x="76" y="7"/>
                </a:lnTo>
                <a:lnTo>
                  <a:pt x="82" y="12"/>
                </a:lnTo>
                <a:lnTo>
                  <a:pt x="89" y="19"/>
                </a:lnTo>
                <a:lnTo>
                  <a:pt x="94" y="25"/>
                </a:lnTo>
                <a:lnTo>
                  <a:pt x="96" y="33"/>
                </a:lnTo>
                <a:lnTo>
                  <a:pt x="97" y="41"/>
                </a:lnTo>
                <a:close/>
              </a:path>
            </a:pathLst>
          </a:custGeom>
          <a:solidFill>
            <a:srgbClr val="c3d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未知"/>
          <p:cNvSpPr/>
          <p:nvPr/>
        </p:nvSpPr>
        <p:spPr>
          <a:xfrm>
            <a:off x="7128000" y="5106960"/>
            <a:ext cx="77760" cy="87480"/>
          </a:xfrm>
          <a:custGeom>
            <a:avLst/>
            <a:gdLst/>
            <a:ahLst/>
            <a:rect l="l" t="t" r="r" b="b"/>
            <a:pathLst>
              <a:path w="198" h="219">
                <a:moveTo>
                  <a:pt x="198" y="110"/>
                </a:moveTo>
                <a:lnTo>
                  <a:pt x="198" y="121"/>
                </a:lnTo>
                <a:lnTo>
                  <a:pt x="197" y="133"/>
                </a:lnTo>
                <a:lnTo>
                  <a:pt x="194" y="143"/>
                </a:lnTo>
                <a:lnTo>
                  <a:pt x="190" y="152"/>
                </a:lnTo>
                <a:lnTo>
                  <a:pt x="187" y="162"/>
                </a:lnTo>
                <a:lnTo>
                  <a:pt x="182" y="171"/>
                </a:lnTo>
                <a:lnTo>
                  <a:pt x="176" y="180"/>
                </a:lnTo>
                <a:lnTo>
                  <a:pt x="169" y="187"/>
                </a:lnTo>
                <a:lnTo>
                  <a:pt x="162" y="195"/>
                </a:lnTo>
                <a:lnTo>
                  <a:pt x="154" y="201"/>
                </a:lnTo>
                <a:lnTo>
                  <a:pt x="147" y="207"/>
                </a:lnTo>
                <a:lnTo>
                  <a:pt x="138" y="211"/>
                </a:lnTo>
                <a:lnTo>
                  <a:pt x="128" y="214"/>
                </a:lnTo>
                <a:lnTo>
                  <a:pt x="120" y="217"/>
                </a:lnTo>
                <a:lnTo>
                  <a:pt x="110" y="219"/>
                </a:lnTo>
                <a:lnTo>
                  <a:pt x="100" y="219"/>
                </a:lnTo>
                <a:lnTo>
                  <a:pt x="90" y="219"/>
                </a:lnTo>
                <a:lnTo>
                  <a:pt x="80" y="217"/>
                </a:lnTo>
                <a:lnTo>
                  <a:pt x="70" y="214"/>
                </a:lnTo>
                <a:lnTo>
                  <a:pt x="61" y="211"/>
                </a:lnTo>
                <a:lnTo>
                  <a:pt x="53" y="207"/>
                </a:lnTo>
                <a:lnTo>
                  <a:pt x="44" y="201"/>
                </a:lnTo>
                <a:lnTo>
                  <a:pt x="36" y="195"/>
                </a:lnTo>
                <a:lnTo>
                  <a:pt x="30" y="187"/>
                </a:lnTo>
                <a:lnTo>
                  <a:pt x="23" y="180"/>
                </a:lnTo>
                <a:lnTo>
                  <a:pt x="18" y="171"/>
                </a:lnTo>
                <a:lnTo>
                  <a:pt x="13" y="162"/>
                </a:lnTo>
                <a:lnTo>
                  <a:pt x="9" y="152"/>
                </a:lnTo>
                <a:lnTo>
                  <a:pt x="5" y="143"/>
                </a:lnTo>
                <a:lnTo>
                  <a:pt x="3" y="133"/>
                </a:lnTo>
                <a:lnTo>
                  <a:pt x="2" y="121"/>
                </a:lnTo>
                <a:lnTo>
                  <a:pt x="0" y="110"/>
                </a:lnTo>
                <a:lnTo>
                  <a:pt x="2" y="99"/>
                </a:lnTo>
                <a:lnTo>
                  <a:pt x="3" y="88"/>
                </a:lnTo>
                <a:lnTo>
                  <a:pt x="5" y="78"/>
                </a:lnTo>
                <a:lnTo>
                  <a:pt x="9" y="67"/>
                </a:lnTo>
                <a:lnTo>
                  <a:pt x="13" y="58"/>
                </a:lnTo>
                <a:lnTo>
                  <a:pt x="18" y="48"/>
                </a:lnTo>
                <a:lnTo>
                  <a:pt x="23" y="41"/>
                </a:lnTo>
                <a:lnTo>
                  <a:pt x="30" y="32"/>
                </a:lnTo>
                <a:lnTo>
                  <a:pt x="36" y="26"/>
                </a:lnTo>
                <a:lnTo>
                  <a:pt x="44" y="20"/>
                </a:lnTo>
                <a:lnTo>
                  <a:pt x="53" y="14"/>
                </a:lnTo>
                <a:lnTo>
                  <a:pt x="61" y="9"/>
                </a:lnTo>
                <a:lnTo>
                  <a:pt x="70" y="6"/>
                </a:lnTo>
                <a:lnTo>
                  <a:pt x="80" y="2"/>
                </a:lnTo>
                <a:lnTo>
                  <a:pt x="90" y="1"/>
                </a:lnTo>
                <a:lnTo>
                  <a:pt x="100" y="0"/>
                </a:lnTo>
                <a:lnTo>
                  <a:pt x="110" y="1"/>
                </a:lnTo>
                <a:lnTo>
                  <a:pt x="120" y="2"/>
                </a:lnTo>
                <a:lnTo>
                  <a:pt x="128" y="6"/>
                </a:lnTo>
                <a:lnTo>
                  <a:pt x="138" y="9"/>
                </a:lnTo>
                <a:lnTo>
                  <a:pt x="147" y="14"/>
                </a:lnTo>
                <a:lnTo>
                  <a:pt x="154" y="20"/>
                </a:lnTo>
                <a:lnTo>
                  <a:pt x="162" y="26"/>
                </a:lnTo>
                <a:lnTo>
                  <a:pt x="169" y="32"/>
                </a:lnTo>
                <a:lnTo>
                  <a:pt x="176" y="41"/>
                </a:lnTo>
                <a:lnTo>
                  <a:pt x="182" y="48"/>
                </a:lnTo>
                <a:lnTo>
                  <a:pt x="187" y="58"/>
                </a:lnTo>
                <a:lnTo>
                  <a:pt x="190" y="67"/>
                </a:lnTo>
                <a:lnTo>
                  <a:pt x="194" y="78"/>
                </a:lnTo>
                <a:lnTo>
                  <a:pt x="197" y="88"/>
                </a:lnTo>
                <a:lnTo>
                  <a:pt x="198" y="99"/>
                </a:lnTo>
                <a:lnTo>
                  <a:pt x="198" y="110"/>
                </a:lnTo>
                <a:close/>
              </a:path>
            </a:pathLst>
          </a:custGeom>
          <a:solidFill>
            <a:srgbClr val="61a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未知"/>
          <p:cNvSpPr/>
          <p:nvPr/>
        </p:nvSpPr>
        <p:spPr>
          <a:xfrm>
            <a:off x="7142040" y="5110200"/>
            <a:ext cx="44640" cy="39600"/>
          </a:xfrm>
          <a:custGeom>
            <a:avLst/>
            <a:gdLst/>
            <a:ahLst/>
            <a:rect l="l" t="t" r="r" b="b"/>
            <a:pathLst>
              <a:path w="115" h="99">
                <a:moveTo>
                  <a:pt x="115" y="49"/>
                </a:moveTo>
                <a:lnTo>
                  <a:pt x="113" y="59"/>
                </a:lnTo>
                <a:lnTo>
                  <a:pt x="110" y="68"/>
                </a:lnTo>
                <a:lnTo>
                  <a:pt x="105" y="76"/>
                </a:lnTo>
                <a:lnTo>
                  <a:pt x="99" y="84"/>
                </a:lnTo>
                <a:lnTo>
                  <a:pt x="90" y="90"/>
                </a:lnTo>
                <a:lnTo>
                  <a:pt x="80" y="94"/>
                </a:lnTo>
                <a:lnTo>
                  <a:pt x="69" y="98"/>
                </a:lnTo>
                <a:lnTo>
                  <a:pt x="58" y="99"/>
                </a:lnTo>
                <a:lnTo>
                  <a:pt x="46" y="98"/>
                </a:lnTo>
                <a:lnTo>
                  <a:pt x="35" y="94"/>
                </a:lnTo>
                <a:lnTo>
                  <a:pt x="25" y="90"/>
                </a:lnTo>
                <a:lnTo>
                  <a:pt x="17" y="84"/>
                </a:lnTo>
                <a:lnTo>
                  <a:pt x="10" y="76"/>
                </a:lnTo>
                <a:lnTo>
                  <a:pt x="4" y="68"/>
                </a:lnTo>
                <a:lnTo>
                  <a:pt x="2" y="59"/>
                </a:lnTo>
                <a:lnTo>
                  <a:pt x="0" y="49"/>
                </a:lnTo>
                <a:lnTo>
                  <a:pt x="2" y="39"/>
                </a:lnTo>
                <a:lnTo>
                  <a:pt x="4" y="29"/>
                </a:lnTo>
                <a:lnTo>
                  <a:pt x="10" y="22"/>
                </a:lnTo>
                <a:lnTo>
                  <a:pt x="17" y="14"/>
                </a:lnTo>
                <a:lnTo>
                  <a:pt x="25" y="8"/>
                </a:lnTo>
                <a:lnTo>
                  <a:pt x="35" y="3"/>
                </a:lnTo>
                <a:lnTo>
                  <a:pt x="46" y="1"/>
                </a:lnTo>
                <a:lnTo>
                  <a:pt x="58" y="0"/>
                </a:lnTo>
                <a:lnTo>
                  <a:pt x="69" y="1"/>
                </a:lnTo>
                <a:lnTo>
                  <a:pt x="80" y="3"/>
                </a:lnTo>
                <a:lnTo>
                  <a:pt x="90" y="8"/>
                </a:lnTo>
                <a:lnTo>
                  <a:pt x="99" y="14"/>
                </a:lnTo>
                <a:lnTo>
                  <a:pt x="105" y="22"/>
                </a:lnTo>
                <a:lnTo>
                  <a:pt x="110" y="29"/>
                </a:lnTo>
                <a:lnTo>
                  <a:pt x="113" y="39"/>
                </a:lnTo>
                <a:lnTo>
                  <a:pt x="115" y="49"/>
                </a:lnTo>
                <a:close/>
              </a:path>
            </a:pathLst>
          </a:custGeom>
          <a:solidFill>
            <a:srgbClr val="c3d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未知"/>
          <p:cNvSpPr/>
          <p:nvPr/>
        </p:nvSpPr>
        <p:spPr>
          <a:xfrm>
            <a:off x="7075440" y="5342040"/>
            <a:ext cx="385920" cy="299880"/>
          </a:xfrm>
          <a:custGeom>
            <a:avLst/>
            <a:gdLst/>
            <a:ahLst/>
            <a:rect l="l" t="t" r="r" b="b"/>
            <a:pathLst>
              <a:path w="971" h="759">
                <a:moveTo>
                  <a:pt x="969" y="0"/>
                </a:moveTo>
                <a:lnTo>
                  <a:pt x="970" y="17"/>
                </a:lnTo>
                <a:lnTo>
                  <a:pt x="971" y="64"/>
                </a:lnTo>
                <a:lnTo>
                  <a:pt x="971" y="98"/>
                </a:lnTo>
                <a:lnTo>
                  <a:pt x="970" y="136"/>
                </a:lnTo>
                <a:lnTo>
                  <a:pt x="967" y="177"/>
                </a:lnTo>
                <a:lnTo>
                  <a:pt x="964" y="223"/>
                </a:lnTo>
                <a:lnTo>
                  <a:pt x="959" y="270"/>
                </a:lnTo>
                <a:lnTo>
                  <a:pt x="950" y="320"/>
                </a:lnTo>
                <a:lnTo>
                  <a:pt x="945" y="345"/>
                </a:lnTo>
                <a:lnTo>
                  <a:pt x="940" y="369"/>
                </a:lnTo>
                <a:lnTo>
                  <a:pt x="934" y="394"/>
                </a:lnTo>
                <a:lnTo>
                  <a:pt x="928" y="419"/>
                </a:lnTo>
                <a:lnTo>
                  <a:pt x="919" y="444"/>
                </a:lnTo>
                <a:lnTo>
                  <a:pt x="911" y="467"/>
                </a:lnTo>
                <a:lnTo>
                  <a:pt x="902" y="491"/>
                </a:lnTo>
                <a:lnTo>
                  <a:pt x="892" y="513"/>
                </a:lnTo>
                <a:lnTo>
                  <a:pt x="880" y="536"/>
                </a:lnTo>
                <a:lnTo>
                  <a:pt x="868" y="557"/>
                </a:lnTo>
                <a:lnTo>
                  <a:pt x="856" y="578"/>
                </a:lnTo>
                <a:lnTo>
                  <a:pt x="842" y="598"/>
                </a:lnTo>
                <a:lnTo>
                  <a:pt x="837" y="603"/>
                </a:lnTo>
                <a:lnTo>
                  <a:pt x="825" y="616"/>
                </a:lnTo>
                <a:lnTo>
                  <a:pt x="805" y="635"/>
                </a:lnTo>
                <a:lnTo>
                  <a:pt x="776" y="658"/>
                </a:lnTo>
                <a:lnTo>
                  <a:pt x="760" y="672"/>
                </a:lnTo>
                <a:lnTo>
                  <a:pt x="741" y="685"/>
                </a:lnTo>
                <a:lnTo>
                  <a:pt x="722" y="697"/>
                </a:lnTo>
                <a:lnTo>
                  <a:pt x="700" y="709"/>
                </a:lnTo>
                <a:lnTo>
                  <a:pt x="677" y="721"/>
                </a:lnTo>
                <a:lnTo>
                  <a:pt x="653" y="732"/>
                </a:lnTo>
                <a:lnTo>
                  <a:pt x="626" y="740"/>
                </a:lnTo>
                <a:lnTo>
                  <a:pt x="599" y="748"/>
                </a:lnTo>
                <a:lnTo>
                  <a:pt x="570" y="754"/>
                </a:lnTo>
                <a:lnTo>
                  <a:pt x="540" y="758"/>
                </a:lnTo>
                <a:lnTo>
                  <a:pt x="508" y="759"/>
                </a:lnTo>
                <a:lnTo>
                  <a:pt x="476" y="758"/>
                </a:lnTo>
                <a:lnTo>
                  <a:pt x="441" y="753"/>
                </a:lnTo>
                <a:lnTo>
                  <a:pt x="406" y="745"/>
                </a:lnTo>
                <a:lnTo>
                  <a:pt x="370" y="734"/>
                </a:lnTo>
                <a:lnTo>
                  <a:pt x="332" y="719"/>
                </a:lnTo>
                <a:lnTo>
                  <a:pt x="293" y="701"/>
                </a:lnTo>
                <a:lnTo>
                  <a:pt x="255" y="677"/>
                </a:lnTo>
                <a:lnTo>
                  <a:pt x="214" y="650"/>
                </a:lnTo>
                <a:lnTo>
                  <a:pt x="173" y="616"/>
                </a:lnTo>
                <a:lnTo>
                  <a:pt x="130" y="578"/>
                </a:lnTo>
                <a:lnTo>
                  <a:pt x="88" y="534"/>
                </a:lnTo>
                <a:lnTo>
                  <a:pt x="45" y="485"/>
                </a:lnTo>
                <a:lnTo>
                  <a:pt x="0" y="429"/>
                </a:lnTo>
                <a:lnTo>
                  <a:pt x="9" y="429"/>
                </a:lnTo>
                <a:lnTo>
                  <a:pt x="32" y="426"/>
                </a:lnTo>
                <a:lnTo>
                  <a:pt x="70" y="423"/>
                </a:lnTo>
                <a:lnTo>
                  <a:pt x="118" y="417"/>
                </a:lnTo>
                <a:lnTo>
                  <a:pt x="176" y="408"/>
                </a:lnTo>
                <a:lnTo>
                  <a:pt x="243" y="395"/>
                </a:lnTo>
                <a:lnTo>
                  <a:pt x="279" y="389"/>
                </a:lnTo>
                <a:lnTo>
                  <a:pt x="317" y="381"/>
                </a:lnTo>
                <a:lnTo>
                  <a:pt x="355" y="371"/>
                </a:lnTo>
                <a:lnTo>
                  <a:pt x="395" y="361"/>
                </a:lnTo>
                <a:lnTo>
                  <a:pt x="435" y="350"/>
                </a:lnTo>
                <a:lnTo>
                  <a:pt x="476" y="336"/>
                </a:lnTo>
                <a:lnTo>
                  <a:pt x="517" y="322"/>
                </a:lnTo>
                <a:lnTo>
                  <a:pt x="558" y="307"/>
                </a:lnTo>
                <a:lnTo>
                  <a:pt x="599" y="290"/>
                </a:lnTo>
                <a:lnTo>
                  <a:pt x="638" y="271"/>
                </a:lnTo>
                <a:lnTo>
                  <a:pt x="678" y="253"/>
                </a:lnTo>
                <a:lnTo>
                  <a:pt x="717" y="232"/>
                </a:lnTo>
                <a:lnTo>
                  <a:pt x="755" y="208"/>
                </a:lnTo>
                <a:lnTo>
                  <a:pt x="791" y="185"/>
                </a:lnTo>
                <a:lnTo>
                  <a:pt x="826" y="158"/>
                </a:lnTo>
                <a:lnTo>
                  <a:pt x="859" y="130"/>
                </a:lnTo>
                <a:lnTo>
                  <a:pt x="890" y="100"/>
                </a:lnTo>
                <a:lnTo>
                  <a:pt x="919" y="69"/>
                </a:lnTo>
                <a:lnTo>
                  <a:pt x="945" y="36"/>
                </a:lnTo>
                <a:lnTo>
                  <a:pt x="9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未知"/>
          <p:cNvSpPr/>
          <p:nvPr/>
        </p:nvSpPr>
        <p:spPr>
          <a:xfrm>
            <a:off x="7061040" y="5327640"/>
            <a:ext cx="414360" cy="328680"/>
          </a:xfrm>
          <a:custGeom>
            <a:avLst/>
            <a:gdLst/>
            <a:ahLst/>
            <a:rect l="l" t="t" r="r" b="b"/>
            <a:pathLst>
              <a:path w="1043" h="831">
                <a:moveTo>
                  <a:pt x="975" y="17"/>
                </a:moveTo>
                <a:lnTo>
                  <a:pt x="952" y="51"/>
                </a:lnTo>
                <a:lnTo>
                  <a:pt x="926" y="83"/>
                </a:lnTo>
                <a:lnTo>
                  <a:pt x="899" y="113"/>
                </a:lnTo>
                <a:lnTo>
                  <a:pt x="869" y="141"/>
                </a:lnTo>
                <a:lnTo>
                  <a:pt x="838" y="167"/>
                </a:lnTo>
                <a:lnTo>
                  <a:pt x="805" y="192"/>
                </a:lnTo>
                <a:lnTo>
                  <a:pt x="770" y="216"/>
                </a:lnTo>
                <a:lnTo>
                  <a:pt x="734" y="237"/>
                </a:lnTo>
                <a:lnTo>
                  <a:pt x="695" y="258"/>
                </a:lnTo>
                <a:lnTo>
                  <a:pt x="658" y="276"/>
                </a:lnTo>
                <a:lnTo>
                  <a:pt x="618" y="294"/>
                </a:lnTo>
                <a:lnTo>
                  <a:pt x="580" y="310"/>
                </a:lnTo>
                <a:lnTo>
                  <a:pt x="540" y="325"/>
                </a:lnTo>
                <a:lnTo>
                  <a:pt x="500" y="338"/>
                </a:lnTo>
                <a:lnTo>
                  <a:pt x="461" y="351"/>
                </a:lnTo>
                <a:lnTo>
                  <a:pt x="422" y="362"/>
                </a:lnTo>
                <a:lnTo>
                  <a:pt x="384" y="372"/>
                </a:lnTo>
                <a:lnTo>
                  <a:pt x="346" y="381"/>
                </a:lnTo>
                <a:lnTo>
                  <a:pt x="310" y="389"/>
                </a:lnTo>
                <a:lnTo>
                  <a:pt x="276" y="397"/>
                </a:lnTo>
                <a:lnTo>
                  <a:pt x="210" y="408"/>
                </a:lnTo>
                <a:lnTo>
                  <a:pt x="153" y="417"/>
                </a:lnTo>
                <a:lnTo>
                  <a:pt x="104" y="423"/>
                </a:lnTo>
                <a:lnTo>
                  <a:pt x="67" y="426"/>
                </a:lnTo>
                <a:lnTo>
                  <a:pt x="43" y="429"/>
                </a:lnTo>
                <a:lnTo>
                  <a:pt x="35" y="429"/>
                </a:lnTo>
                <a:lnTo>
                  <a:pt x="30" y="430"/>
                </a:lnTo>
                <a:lnTo>
                  <a:pt x="25" y="431"/>
                </a:lnTo>
                <a:lnTo>
                  <a:pt x="20" y="433"/>
                </a:lnTo>
                <a:lnTo>
                  <a:pt x="16" y="435"/>
                </a:lnTo>
                <a:lnTo>
                  <a:pt x="12" y="439"/>
                </a:lnTo>
                <a:lnTo>
                  <a:pt x="9" y="441"/>
                </a:lnTo>
                <a:lnTo>
                  <a:pt x="6" y="446"/>
                </a:lnTo>
                <a:lnTo>
                  <a:pt x="4" y="450"/>
                </a:lnTo>
                <a:lnTo>
                  <a:pt x="3" y="455"/>
                </a:lnTo>
                <a:lnTo>
                  <a:pt x="1" y="460"/>
                </a:lnTo>
                <a:lnTo>
                  <a:pt x="0" y="464"/>
                </a:lnTo>
                <a:lnTo>
                  <a:pt x="0" y="469"/>
                </a:lnTo>
                <a:lnTo>
                  <a:pt x="1" y="474"/>
                </a:lnTo>
                <a:lnTo>
                  <a:pt x="3" y="479"/>
                </a:lnTo>
                <a:lnTo>
                  <a:pt x="5" y="482"/>
                </a:lnTo>
                <a:lnTo>
                  <a:pt x="7" y="486"/>
                </a:lnTo>
                <a:lnTo>
                  <a:pt x="40" y="528"/>
                </a:lnTo>
                <a:lnTo>
                  <a:pt x="72" y="567"/>
                </a:lnTo>
                <a:lnTo>
                  <a:pt x="104" y="603"/>
                </a:lnTo>
                <a:lnTo>
                  <a:pt x="138" y="635"/>
                </a:lnTo>
                <a:lnTo>
                  <a:pt x="170" y="666"/>
                </a:lnTo>
                <a:lnTo>
                  <a:pt x="204" y="694"/>
                </a:lnTo>
                <a:lnTo>
                  <a:pt x="236" y="719"/>
                </a:lnTo>
                <a:lnTo>
                  <a:pt x="269" y="743"/>
                </a:lnTo>
                <a:lnTo>
                  <a:pt x="303" y="763"/>
                </a:lnTo>
                <a:lnTo>
                  <a:pt x="337" y="780"/>
                </a:lnTo>
                <a:lnTo>
                  <a:pt x="353" y="789"/>
                </a:lnTo>
                <a:lnTo>
                  <a:pt x="370" y="795"/>
                </a:lnTo>
                <a:lnTo>
                  <a:pt x="386" y="802"/>
                </a:lnTo>
                <a:lnTo>
                  <a:pt x="404" y="807"/>
                </a:lnTo>
                <a:lnTo>
                  <a:pt x="420" y="812"/>
                </a:lnTo>
                <a:lnTo>
                  <a:pt x="437" y="817"/>
                </a:lnTo>
                <a:lnTo>
                  <a:pt x="455" y="821"/>
                </a:lnTo>
                <a:lnTo>
                  <a:pt x="471" y="825"/>
                </a:lnTo>
                <a:lnTo>
                  <a:pt x="488" y="827"/>
                </a:lnTo>
                <a:lnTo>
                  <a:pt x="505" y="828"/>
                </a:lnTo>
                <a:lnTo>
                  <a:pt x="522" y="830"/>
                </a:lnTo>
                <a:lnTo>
                  <a:pt x="539" y="831"/>
                </a:lnTo>
                <a:lnTo>
                  <a:pt x="559" y="830"/>
                </a:lnTo>
                <a:lnTo>
                  <a:pt x="579" y="828"/>
                </a:lnTo>
                <a:lnTo>
                  <a:pt x="599" y="827"/>
                </a:lnTo>
                <a:lnTo>
                  <a:pt x="618" y="824"/>
                </a:lnTo>
                <a:lnTo>
                  <a:pt x="636" y="821"/>
                </a:lnTo>
                <a:lnTo>
                  <a:pt x="654" y="816"/>
                </a:lnTo>
                <a:lnTo>
                  <a:pt x="672" y="811"/>
                </a:lnTo>
                <a:lnTo>
                  <a:pt x="689" y="805"/>
                </a:lnTo>
                <a:lnTo>
                  <a:pt x="721" y="792"/>
                </a:lnTo>
                <a:lnTo>
                  <a:pt x="751" y="779"/>
                </a:lnTo>
                <a:lnTo>
                  <a:pt x="779" y="763"/>
                </a:lnTo>
                <a:lnTo>
                  <a:pt x="803" y="747"/>
                </a:lnTo>
                <a:lnTo>
                  <a:pt x="826" y="730"/>
                </a:lnTo>
                <a:lnTo>
                  <a:pt x="846" y="714"/>
                </a:lnTo>
                <a:lnTo>
                  <a:pt x="862" y="699"/>
                </a:lnTo>
                <a:lnTo>
                  <a:pt x="877" y="686"/>
                </a:lnTo>
                <a:lnTo>
                  <a:pt x="897" y="665"/>
                </a:lnTo>
                <a:lnTo>
                  <a:pt x="905" y="655"/>
                </a:lnTo>
                <a:lnTo>
                  <a:pt x="920" y="635"/>
                </a:lnTo>
                <a:lnTo>
                  <a:pt x="934" y="614"/>
                </a:lnTo>
                <a:lnTo>
                  <a:pt x="946" y="591"/>
                </a:lnTo>
                <a:lnTo>
                  <a:pt x="957" y="569"/>
                </a:lnTo>
                <a:lnTo>
                  <a:pt x="969" y="546"/>
                </a:lnTo>
                <a:lnTo>
                  <a:pt x="979" y="521"/>
                </a:lnTo>
                <a:lnTo>
                  <a:pt x="987" y="497"/>
                </a:lnTo>
                <a:lnTo>
                  <a:pt x="995" y="472"/>
                </a:lnTo>
                <a:lnTo>
                  <a:pt x="1002" y="446"/>
                </a:lnTo>
                <a:lnTo>
                  <a:pt x="1010" y="422"/>
                </a:lnTo>
                <a:lnTo>
                  <a:pt x="1015" y="395"/>
                </a:lnTo>
                <a:lnTo>
                  <a:pt x="1020" y="371"/>
                </a:lnTo>
                <a:lnTo>
                  <a:pt x="1028" y="321"/>
                </a:lnTo>
                <a:lnTo>
                  <a:pt x="1034" y="271"/>
                </a:lnTo>
                <a:lnTo>
                  <a:pt x="1038" y="225"/>
                </a:lnTo>
                <a:lnTo>
                  <a:pt x="1042" y="182"/>
                </a:lnTo>
                <a:lnTo>
                  <a:pt x="1043" y="142"/>
                </a:lnTo>
                <a:lnTo>
                  <a:pt x="1043" y="108"/>
                </a:lnTo>
                <a:lnTo>
                  <a:pt x="1042" y="56"/>
                </a:lnTo>
                <a:lnTo>
                  <a:pt x="1041" y="33"/>
                </a:lnTo>
                <a:lnTo>
                  <a:pt x="1039" y="27"/>
                </a:lnTo>
                <a:lnTo>
                  <a:pt x="1038" y="22"/>
                </a:lnTo>
                <a:lnTo>
                  <a:pt x="1036" y="17"/>
                </a:lnTo>
                <a:lnTo>
                  <a:pt x="1032" y="12"/>
                </a:lnTo>
                <a:lnTo>
                  <a:pt x="1028" y="8"/>
                </a:lnTo>
                <a:lnTo>
                  <a:pt x="1024" y="6"/>
                </a:lnTo>
                <a:lnTo>
                  <a:pt x="1020" y="3"/>
                </a:lnTo>
                <a:lnTo>
                  <a:pt x="1013" y="1"/>
                </a:lnTo>
                <a:lnTo>
                  <a:pt x="1008" y="0"/>
                </a:lnTo>
                <a:lnTo>
                  <a:pt x="1002" y="0"/>
                </a:lnTo>
                <a:lnTo>
                  <a:pt x="997" y="1"/>
                </a:lnTo>
                <a:lnTo>
                  <a:pt x="991" y="2"/>
                </a:lnTo>
                <a:lnTo>
                  <a:pt x="986" y="5"/>
                </a:lnTo>
                <a:lnTo>
                  <a:pt x="982" y="8"/>
                </a:lnTo>
                <a:lnTo>
                  <a:pt x="979" y="12"/>
                </a:lnTo>
                <a:lnTo>
                  <a:pt x="975" y="17"/>
                </a:lnTo>
                <a:close/>
                <a:moveTo>
                  <a:pt x="971" y="132"/>
                </a:moveTo>
                <a:lnTo>
                  <a:pt x="969" y="183"/>
                </a:lnTo>
                <a:lnTo>
                  <a:pt x="965" y="242"/>
                </a:lnTo>
                <a:lnTo>
                  <a:pt x="962" y="273"/>
                </a:lnTo>
                <a:lnTo>
                  <a:pt x="959" y="305"/>
                </a:lnTo>
                <a:lnTo>
                  <a:pt x="954" y="337"/>
                </a:lnTo>
                <a:lnTo>
                  <a:pt x="947" y="369"/>
                </a:lnTo>
                <a:lnTo>
                  <a:pt x="940" y="403"/>
                </a:lnTo>
                <a:lnTo>
                  <a:pt x="931" y="435"/>
                </a:lnTo>
                <a:lnTo>
                  <a:pt x="921" y="467"/>
                </a:lnTo>
                <a:lnTo>
                  <a:pt x="910" y="498"/>
                </a:lnTo>
                <a:lnTo>
                  <a:pt x="898" y="529"/>
                </a:lnTo>
                <a:lnTo>
                  <a:pt x="883" y="558"/>
                </a:lnTo>
                <a:lnTo>
                  <a:pt x="875" y="573"/>
                </a:lnTo>
                <a:lnTo>
                  <a:pt x="867" y="585"/>
                </a:lnTo>
                <a:lnTo>
                  <a:pt x="858" y="599"/>
                </a:lnTo>
                <a:lnTo>
                  <a:pt x="849" y="611"/>
                </a:lnTo>
                <a:lnTo>
                  <a:pt x="843" y="618"/>
                </a:lnTo>
                <a:lnTo>
                  <a:pt x="827" y="635"/>
                </a:lnTo>
                <a:lnTo>
                  <a:pt x="815" y="647"/>
                </a:lnTo>
                <a:lnTo>
                  <a:pt x="800" y="660"/>
                </a:lnTo>
                <a:lnTo>
                  <a:pt x="782" y="673"/>
                </a:lnTo>
                <a:lnTo>
                  <a:pt x="764" y="687"/>
                </a:lnTo>
                <a:lnTo>
                  <a:pt x="743" y="701"/>
                </a:lnTo>
                <a:lnTo>
                  <a:pt x="719" y="714"/>
                </a:lnTo>
                <a:lnTo>
                  <a:pt x="693" y="727"/>
                </a:lnTo>
                <a:lnTo>
                  <a:pt x="666" y="738"/>
                </a:lnTo>
                <a:lnTo>
                  <a:pt x="652" y="743"/>
                </a:lnTo>
                <a:lnTo>
                  <a:pt x="637" y="747"/>
                </a:lnTo>
                <a:lnTo>
                  <a:pt x="621" y="750"/>
                </a:lnTo>
                <a:lnTo>
                  <a:pt x="606" y="754"/>
                </a:lnTo>
                <a:lnTo>
                  <a:pt x="590" y="757"/>
                </a:lnTo>
                <a:lnTo>
                  <a:pt x="572" y="758"/>
                </a:lnTo>
                <a:lnTo>
                  <a:pt x="556" y="759"/>
                </a:lnTo>
                <a:lnTo>
                  <a:pt x="539" y="759"/>
                </a:lnTo>
                <a:lnTo>
                  <a:pt x="512" y="758"/>
                </a:lnTo>
                <a:lnTo>
                  <a:pt x="486" y="754"/>
                </a:lnTo>
                <a:lnTo>
                  <a:pt x="458" y="749"/>
                </a:lnTo>
                <a:lnTo>
                  <a:pt x="431" y="740"/>
                </a:lnTo>
                <a:lnTo>
                  <a:pt x="405" y="732"/>
                </a:lnTo>
                <a:lnTo>
                  <a:pt x="378" y="719"/>
                </a:lnTo>
                <a:lnTo>
                  <a:pt x="350" y="706"/>
                </a:lnTo>
                <a:lnTo>
                  <a:pt x="324" y="690"/>
                </a:lnTo>
                <a:lnTo>
                  <a:pt x="297" y="672"/>
                </a:lnTo>
                <a:lnTo>
                  <a:pt x="269" y="652"/>
                </a:lnTo>
                <a:lnTo>
                  <a:pt x="242" y="631"/>
                </a:lnTo>
                <a:lnTo>
                  <a:pt x="216" y="608"/>
                </a:lnTo>
                <a:lnTo>
                  <a:pt x="189" y="582"/>
                </a:lnTo>
                <a:lnTo>
                  <a:pt x="161" y="554"/>
                </a:lnTo>
                <a:lnTo>
                  <a:pt x="135" y="526"/>
                </a:lnTo>
                <a:lnTo>
                  <a:pt x="108" y="493"/>
                </a:lnTo>
                <a:lnTo>
                  <a:pt x="144" y="490"/>
                </a:lnTo>
                <a:lnTo>
                  <a:pt x="185" y="485"/>
                </a:lnTo>
                <a:lnTo>
                  <a:pt x="232" y="477"/>
                </a:lnTo>
                <a:lnTo>
                  <a:pt x="283" y="467"/>
                </a:lnTo>
                <a:lnTo>
                  <a:pt x="338" y="456"/>
                </a:lnTo>
                <a:lnTo>
                  <a:pt x="395" y="443"/>
                </a:lnTo>
                <a:lnTo>
                  <a:pt x="455" y="426"/>
                </a:lnTo>
                <a:lnTo>
                  <a:pt x="515" y="407"/>
                </a:lnTo>
                <a:lnTo>
                  <a:pt x="546" y="397"/>
                </a:lnTo>
                <a:lnTo>
                  <a:pt x="577" y="384"/>
                </a:lnTo>
                <a:lnTo>
                  <a:pt x="608" y="373"/>
                </a:lnTo>
                <a:lnTo>
                  <a:pt x="640" y="359"/>
                </a:lnTo>
                <a:lnTo>
                  <a:pt x="671" y="346"/>
                </a:lnTo>
                <a:lnTo>
                  <a:pt x="700" y="331"/>
                </a:lnTo>
                <a:lnTo>
                  <a:pt x="731" y="316"/>
                </a:lnTo>
                <a:lnTo>
                  <a:pt x="760" y="299"/>
                </a:lnTo>
                <a:lnTo>
                  <a:pt x="790" y="281"/>
                </a:lnTo>
                <a:lnTo>
                  <a:pt x="818" y="264"/>
                </a:lnTo>
                <a:lnTo>
                  <a:pt x="846" y="244"/>
                </a:lnTo>
                <a:lnTo>
                  <a:pt x="873" y="224"/>
                </a:lnTo>
                <a:lnTo>
                  <a:pt x="899" y="203"/>
                </a:lnTo>
                <a:lnTo>
                  <a:pt x="924" y="180"/>
                </a:lnTo>
                <a:lnTo>
                  <a:pt x="947" y="157"/>
                </a:lnTo>
                <a:lnTo>
                  <a:pt x="971" y="13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未知"/>
          <p:cNvSpPr/>
          <p:nvPr/>
        </p:nvSpPr>
        <p:spPr>
          <a:xfrm>
            <a:off x="7066080" y="5378400"/>
            <a:ext cx="385560" cy="271440"/>
          </a:xfrm>
          <a:custGeom>
            <a:avLst/>
            <a:gdLst/>
            <a:ahLst/>
            <a:rect l="l" t="t" r="r" b="b"/>
            <a:pathLst>
              <a:path w="973" h="687">
                <a:moveTo>
                  <a:pt x="973" y="0"/>
                </a:moveTo>
                <a:lnTo>
                  <a:pt x="959" y="19"/>
                </a:lnTo>
                <a:lnTo>
                  <a:pt x="923" y="66"/>
                </a:lnTo>
                <a:lnTo>
                  <a:pt x="872" y="134"/>
                </a:lnTo>
                <a:lnTo>
                  <a:pt x="814" y="215"/>
                </a:lnTo>
                <a:lnTo>
                  <a:pt x="785" y="259"/>
                </a:lnTo>
                <a:lnTo>
                  <a:pt x="757" y="301"/>
                </a:lnTo>
                <a:lnTo>
                  <a:pt x="732" y="342"/>
                </a:lnTo>
                <a:lnTo>
                  <a:pt x="709" y="380"/>
                </a:lnTo>
                <a:lnTo>
                  <a:pt x="700" y="399"/>
                </a:lnTo>
                <a:lnTo>
                  <a:pt x="692" y="416"/>
                </a:lnTo>
                <a:lnTo>
                  <a:pt x="685" y="432"/>
                </a:lnTo>
                <a:lnTo>
                  <a:pt x="678" y="448"/>
                </a:lnTo>
                <a:lnTo>
                  <a:pt x="675" y="462"/>
                </a:lnTo>
                <a:lnTo>
                  <a:pt x="672" y="473"/>
                </a:lnTo>
                <a:lnTo>
                  <a:pt x="671" y="484"/>
                </a:lnTo>
                <a:lnTo>
                  <a:pt x="672" y="493"/>
                </a:lnTo>
                <a:lnTo>
                  <a:pt x="673" y="498"/>
                </a:lnTo>
                <a:lnTo>
                  <a:pt x="680" y="512"/>
                </a:lnTo>
                <a:lnTo>
                  <a:pt x="685" y="519"/>
                </a:lnTo>
                <a:lnTo>
                  <a:pt x="691" y="527"/>
                </a:lnTo>
                <a:lnTo>
                  <a:pt x="700" y="534"/>
                </a:lnTo>
                <a:lnTo>
                  <a:pt x="709" y="540"/>
                </a:lnTo>
                <a:lnTo>
                  <a:pt x="716" y="544"/>
                </a:lnTo>
                <a:lnTo>
                  <a:pt x="722" y="545"/>
                </a:lnTo>
                <a:lnTo>
                  <a:pt x="729" y="546"/>
                </a:lnTo>
                <a:lnTo>
                  <a:pt x="737" y="548"/>
                </a:lnTo>
                <a:lnTo>
                  <a:pt x="746" y="548"/>
                </a:lnTo>
                <a:lnTo>
                  <a:pt x="754" y="546"/>
                </a:lnTo>
                <a:lnTo>
                  <a:pt x="764" y="545"/>
                </a:lnTo>
                <a:lnTo>
                  <a:pt x="774" y="543"/>
                </a:lnTo>
                <a:lnTo>
                  <a:pt x="785" y="539"/>
                </a:lnTo>
                <a:lnTo>
                  <a:pt x="796" y="534"/>
                </a:lnTo>
                <a:lnTo>
                  <a:pt x="809" y="529"/>
                </a:lnTo>
                <a:lnTo>
                  <a:pt x="822" y="522"/>
                </a:lnTo>
                <a:lnTo>
                  <a:pt x="836" y="513"/>
                </a:lnTo>
                <a:lnTo>
                  <a:pt x="851" y="503"/>
                </a:lnTo>
                <a:lnTo>
                  <a:pt x="867" y="492"/>
                </a:lnTo>
                <a:lnTo>
                  <a:pt x="883" y="478"/>
                </a:lnTo>
                <a:lnTo>
                  <a:pt x="878" y="484"/>
                </a:lnTo>
                <a:lnTo>
                  <a:pt x="865" y="500"/>
                </a:lnTo>
                <a:lnTo>
                  <a:pt x="841" y="525"/>
                </a:lnTo>
                <a:lnTo>
                  <a:pt x="810" y="554"/>
                </a:lnTo>
                <a:lnTo>
                  <a:pt x="791" y="570"/>
                </a:lnTo>
                <a:lnTo>
                  <a:pt x="772" y="585"/>
                </a:lnTo>
                <a:lnTo>
                  <a:pt x="749" y="601"/>
                </a:lnTo>
                <a:lnTo>
                  <a:pt x="726" y="616"/>
                </a:lnTo>
                <a:lnTo>
                  <a:pt x="701" y="631"/>
                </a:lnTo>
                <a:lnTo>
                  <a:pt x="673" y="644"/>
                </a:lnTo>
                <a:lnTo>
                  <a:pt x="645" y="657"/>
                </a:lnTo>
                <a:lnTo>
                  <a:pt x="615" y="668"/>
                </a:lnTo>
                <a:lnTo>
                  <a:pt x="584" y="677"/>
                </a:lnTo>
                <a:lnTo>
                  <a:pt x="552" y="683"/>
                </a:lnTo>
                <a:lnTo>
                  <a:pt x="518" y="687"/>
                </a:lnTo>
                <a:lnTo>
                  <a:pt x="483" y="687"/>
                </a:lnTo>
                <a:lnTo>
                  <a:pt x="447" y="684"/>
                </a:lnTo>
                <a:lnTo>
                  <a:pt x="410" y="677"/>
                </a:lnTo>
                <a:lnTo>
                  <a:pt x="372" y="667"/>
                </a:lnTo>
                <a:lnTo>
                  <a:pt x="333" y="652"/>
                </a:lnTo>
                <a:lnTo>
                  <a:pt x="294" y="632"/>
                </a:lnTo>
                <a:lnTo>
                  <a:pt x="254" y="608"/>
                </a:lnTo>
                <a:lnTo>
                  <a:pt x="213" y="579"/>
                </a:lnTo>
                <a:lnTo>
                  <a:pt x="171" y="543"/>
                </a:lnTo>
                <a:lnTo>
                  <a:pt x="128" y="502"/>
                </a:lnTo>
                <a:lnTo>
                  <a:pt x="86" y="453"/>
                </a:lnTo>
                <a:lnTo>
                  <a:pt x="44" y="400"/>
                </a:lnTo>
                <a:lnTo>
                  <a:pt x="0" y="338"/>
                </a:lnTo>
                <a:lnTo>
                  <a:pt x="7" y="340"/>
                </a:lnTo>
                <a:lnTo>
                  <a:pt x="27" y="344"/>
                </a:lnTo>
                <a:lnTo>
                  <a:pt x="58" y="350"/>
                </a:lnTo>
                <a:lnTo>
                  <a:pt x="100" y="355"/>
                </a:lnTo>
                <a:lnTo>
                  <a:pt x="125" y="358"/>
                </a:lnTo>
                <a:lnTo>
                  <a:pt x="151" y="360"/>
                </a:lnTo>
                <a:lnTo>
                  <a:pt x="179" y="363"/>
                </a:lnTo>
                <a:lnTo>
                  <a:pt x="209" y="363"/>
                </a:lnTo>
                <a:lnTo>
                  <a:pt x="241" y="363"/>
                </a:lnTo>
                <a:lnTo>
                  <a:pt x="275" y="363"/>
                </a:lnTo>
                <a:lnTo>
                  <a:pt x="310" y="360"/>
                </a:lnTo>
                <a:lnTo>
                  <a:pt x="347" y="357"/>
                </a:lnTo>
                <a:lnTo>
                  <a:pt x="384" y="352"/>
                </a:lnTo>
                <a:lnTo>
                  <a:pt x="423" y="345"/>
                </a:lnTo>
                <a:lnTo>
                  <a:pt x="461" y="337"/>
                </a:lnTo>
                <a:lnTo>
                  <a:pt x="501" y="327"/>
                </a:lnTo>
                <a:lnTo>
                  <a:pt x="541" y="314"/>
                </a:lnTo>
                <a:lnTo>
                  <a:pt x="582" y="301"/>
                </a:lnTo>
                <a:lnTo>
                  <a:pt x="623" y="283"/>
                </a:lnTo>
                <a:lnTo>
                  <a:pt x="664" y="264"/>
                </a:lnTo>
                <a:lnTo>
                  <a:pt x="705" y="242"/>
                </a:lnTo>
                <a:lnTo>
                  <a:pt x="744" y="218"/>
                </a:lnTo>
                <a:lnTo>
                  <a:pt x="784" y="189"/>
                </a:lnTo>
                <a:lnTo>
                  <a:pt x="824" y="158"/>
                </a:lnTo>
                <a:lnTo>
                  <a:pt x="862" y="125"/>
                </a:lnTo>
                <a:lnTo>
                  <a:pt x="901" y="87"/>
                </a:lnTo>
                <a:lnTo>
                  <a:pt x="937" y="46"/>
                </a:lnTo>
                <a:lnTo>
                  <a:pt x="973" y="0"/>
                </a:lnTo>
                <a:close/>
              </a:path>
            </a:pathLst>
          </a:custGeom>
          <a:solidFill>
            <a:srgbClr val="dee2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未知"/>
          <p:cNvSpPr/>
          <p:nvPr/>
        </p:nvSpPr>
        <p:spPr>
          <a:xfrm>
            <a:off x="7236000" y="5229360"/>
            <a:ext cx="398160" cy="258480"/>
          </a:xfrm>
          <a:custGeom>
            <a:avLst/>
            <a:gdLst/>
            <a:ahLst/>
            <a:rect l="l" t="t" r="r" b="b"/>
            <a:pathLst>
              <a:path w="1006" h="653">
                <a:moveTo>
                  <a:pt x="997" y="101"/>
                </a:moveTo>
                <a:lnTo>
                  <a:pt x="992" y="90"/>
                </a:lnTo>
                <a:lnTo>
                  <a:pt x="986" y="78"/>
                </a:lnTo>
                <a:lnTo>
                  <a:pt x="979" y="68"/>
                </a:lnTo>
                <a:lnTo>
                  <a:pt x="970" y="59"/>
                </a:lnTo>
                <a:lnTo>
                  <a:pt x="960" y="50"/>
                </a:lnTo>
                <a:lnTo>
                  <a:pt x="949" y="41"/>
                </a:lnTo>
                <a:lnTo>
                  <a:pt x="937" y="34"/>
                </a:lnTo>
                <a:lnTo>
                  <a:pt x="924" y="28"/>
                </a:lnTo>
                <a:lnTo>
                  <a:pt x="910" y="21"/>
                </a:lnTo>
                <a:lnTo>
                  <a:pt x="896" y="16"/>
                </a:lnTo>
                <a:lnTo>
                  <a:pt x="879" y="11"/>
                </a:lnTo>
                <a:lnTo>
                  <a:pt x="863" y="8"/>
                </a:lnTo>
                <a:lnTo>
                  <a:pt x="846" y="5"/>
                </a:lnTo>
                <a:lnTo>
                  <a:pt x="827" y="3"/>
                </a:lnTo>
                <a:lnTo>
                  <a:pt x="809" y="1"/>
                </a:lnTo>
                <a:lnTo>
                  <a:pt x="790" y="0"/>
                </a:lnTo>
                <a:lnTo>
                  <a:pt x="769" y="0"/>
                </a:lnTo>
                <a:lnTo>
                  <a:pt x="749" y="1"/>
                </a:lnTo>
                <a:lnTo>
                  <a:pt x="728" y="3"/>
                </a:lnTo>
                <a:lnTo>
                  <a:pt x="706" y="5"/>
                </a:lnTo>
                <a:lnTo>
                  <a:pt x="683" y="8"/>
                </a:lnTo>
                <a:lnTo>
                  <a:pt x="660" y="11"/>
                </a:lnTo>
                <a:lnTo>
                  <a:pt x="637" y="16"/>
                </a:lnTo>
                <a:lnTo>
                  <a:pt x="614" y="21"/>
                </a:lnTo>
                <a:lnTo>
                  <a:pt x="589" y="28"/>
                </a:lnTo>
                <a:lnTo>
                  <a:pt x="565" y="35"/>
                </a:lnTo>
                <a:lnTo>
                  <a:pt x="540" y="42"/>
                </a:lnTo>
                <a:lnTo>
                  <a:pt x="516" y="50"/>
                </a:lnTo>
                <a:lnTo>
                  <a:pt x="490" y="60"/>
                </a:lnTo>
                <a:lnTo>
                  <a:pt x="465" y="68"/>
                </a:lnTo>
                <a:lnTo>
                  <a:pt x="439" y="80"/>
                </a:lnTo>
                <a:lnTo>
                  <a:pt x="414" y="91"/>
                </a:lnTo>
                <a:lnTo>
                  <a:pt x="388" y="103"/>
                </a:lnTo>
                <a:lnTo>
                  <a:pt x="363" y="116"/>
                </a:lnTo>
                <a:lnTo>
                  <a:pt x="339" y="128"/>
                </a:lnTo>
                <a:lnTo>
                  <a:pt x="316" y="140"/>
                </a:lnTo>
                <a:lnTo>
                  <a:pt x="271" y="169"/>
                </a:lnTo>
                <a:lnTo>
                  <a:pt x="228" y="197"/>
                </a:lnTo>
                <a:lnTo>
                  <a:pt x="208" y="212"/>
                </a:lnTo>
                <a:lnTo>
                  <a:pt x="189" y="227"/>
                </a:lnTo>
                <a:lnTo>
                  <a:pt x="170" y="242"/>
                </a:lnTo>
                <a:lnTo>
                  <a:pt x="152" y="257"/>
                </a:lnTo>
                <a:lnTo>
                  <a:pt x="136" y="273"/>
                </a:lnTo>
                <a:lnTo>
                  <a:pt x="119" y="288"/>
                </a:lnTo>
                <a:lnTo>
                  <a:pt x="105" y="304"/>
                </a:lnTo>
                <a:lnTo>
                  <a:pt x="90" y="319"/>
                </a:lnTo>
                <a:lnTo>
                  <a:pt x="76" y="335"/>
                </a:lnTo>
                <a:lnTo>
                  <a:pt x="65" y="350"/>
                </a:lnTo>
                <a:lnTo>
                  <a:pt x="52" y="366"/>
                </a:lnTo>
                <a:lnTo>
                  <a:pt x="42" y="382"/>
                </a:lnTo>
                <a:lnTo>
                  <a:pt x="34" y="397"/>
                </a:lnTo>
                <a:lnTo>
                  <a:pt x="25" y="412"/>
                </a:lnTo>
                <a:lnTo>
                  <a:pt x="18" y="428"/>
                </a:lnTo>
                <a:lnTo>
                  <a:pt x="13" y="443"/>
                </a:lnTo>
                <a:lnTo>
                  <a:pt x="8" y="457"/>
                </a:lnTo>
                <a:lnTo>
                  <a:pt x="4" y="472"/>
                </a:lnTo>
                <a:lnTo>
                  <a:pt x="2" y="487"/>
                </a:lnTo>
                <a:lnTo>
                  <a:pt x="0" y="500"/>
                </a:lnTo>
                <a:lnTo>
                  <a:pt x="0" y="514"/>
                </a:lnTo>
                <a:lnTo>
                  <a:pt x="2" y="528"/>
                </a:lnTo>
                <a:lnTo>
                  <a:pt x="4" y="540"/>
                </a:lnTo>
                <a:lnTo>
                  <a:pt x="8" y="552"/>
                </a:lnTo>
                <a:lnTo>
                  <a:pt x="13" y="564"/>
                </a:lnTo>
                <a:lnTo>
                  <a:pt x="20" y="575"/>
                </a:lnTo>
                <a:lnTo>
                  <a:pt x="28" y="586"/>
                </a:lnTo>
                <a:lnTo>
                  <a:pt x="36" y="595"/>
                </a:lnTo>
                <a:lnTo>
                  <a:pt x="46" y="604"/>
                </a:lnTo>
                <a:lnTo>
                  <a:pt x="57" y="612"/>
                </a:lnTo>
                <a:lnTo>
                  <a:pt x="69" y="619"/>
                </a:lnTo>
                <a:lnTo>
                  <a:pt x="82" y="627"/>
                </a:lnTo>
                <a:lnTo>
                  <a:pt x="96" y="632"/>
                </a:lnTo>
                <a:lnTo>
                  <a:pt x="111" y="638"/>
                </a:lnTo>
                <a:lnTo>
                  <a:pt x="126" y="642"/>
                </a:lnTo>
                <a:lnTo>
                  <a:pt x="142" y="645"/>
                </a:lnTo>
                <a:lnTo>
                  <a:pt x="159" y="649"/>
                </a:lnTo>
                <a:lnTo>
                  <a:pt x="178" y="650"/>
                </a:lnTo>
                <a:lnTo>
                  <a:pt x="196" y="652"/>
                </a:lnTo>
                <a:lnTo>
                  <a:pt x="216" y="653"/>
                </a:lnTo>
                <a:lnTo>
                  <a:pt x="236" y="653"/>
                </a:lnTo>
                <a:lnTo>
                  <a:pt x="257" y="652"/>
                </a:lnTo>
                <a:lnTo>
                  <a:pt x="278" y="650"/>
                </a:lnTo>
                <a:lnTo>
                  <a:pt x="301" y="648"/>
                </a:lnTo>
                <a:lnTo>
                  <a:pt x="322" y="645"/>
                </a:lnTo>
                <a:lnTo>
                  <a:pt x="345" y="642"/>
                </a:lnTo>
                <a:lnTo>
                  <a:pt x="369" y="637"/>
                </a:lnTo>
                <a:lnTo>
                  <a:pt x="393" y="632"/>
                </a:lnTo>
                <a:lnTo>
                  <a:pt x="416" y="626"/>
                </a:lnTo>
                <a:lnTo>
                  <a:pt x="441" y="619"/>
                </a:lnTo>
                <a:lnTo>
                  <a:pt x="466" y="612"/>
                </a:lnTo>
                <a:lnTo>
                  <a:pt x="491" y="603"/>
                </a:lnTo>
                <a:lnTo>
                  <a:pt x="516" y="595"/>
                </a:lnTo>
                <a:lnTo>
                  <a:pt x="542" y="585"/>
                </a:lnTo>
                <a:lnTo>
                  <a:pt x="567" y="573"/>
                </a:lnTo>
                <a:lnTo>
                  <a:pt x="593" y="562"/>
                </a:lnTo>
                <a:lnTo>
                  <a:pt x="617" y="551"/>
                </a:lnTo>
                <a:lnTo>
                  <a:pt x="642" y="539"/>
                </a:lnTo>
                <a:lnTo>
                  <a:pt x="666" y="525"/>
                </a:lnTo>
                <a:lnTo>
                  <a:pt x="689" y="513"/>
                </a:lnTo>
                <a:lnTo>
                  <a:pt x="713" y="499"/>
                </a:lnTo>
                <a:lnTo>
                  <a:pt x="735" y="485"/>
                </a:lnTo>
                <a:lnTo>
                  <a:pt x="757" y="470"/>
                </a:lnTo>
                <a:lnTo>
                  <a:pt x="778" y="456"/>
                </a:lnTo>
                <a:lnTo>
                  <a:pt x="797" y="442"/>
                </a:lnTo>
                <a:lnTo>
                  <a:pt x="817" y="427"/>
                </a:lnTo>
                <a:lnTo>
                  <a:pt x="836" y="411"/>
                </a:lnTo>
                <a:lnTo>
                  <a:pt x="853" y="396"/>
                </a:lnTo>
                <a:lnTo>
                  <a:pt x="871" y="381"/>
                </a:lnTo>
                <a:lnTo>
                  <a:pt x="887" y="365"/>
                </a:lnTo>
                <a:lnTo>
                  <a:pt x="902" y="350"/>
                </a:lnTo>
                <a:lnTo>
                  <a:pt x="915" y="334"/>
                </a:lnTo>
                <a:lnTo>
                  <a:pt x="929" y="318"/>
                </a:lnTo>
                <a:lnTo>
                  <a:pt x="942" y="303"/>
                </a:lnTo>
                <a:lnTo>
                  <a:pt x="953" y="287"/>
                </a:lnTo>
                <a:lnTo>
                  <a:pt x="963" y="272"/>
                </a:lnTo>
                <a:lnTo>
                  <a:pt x="973" y="256"/>
                </a:lnTo>
                <a:lnTo>
                  <a:pt x="980" y="241"/>
                </a:lnTo>
                <a:lnTo>
                  <a:pt x="987" y="226"/>
                </a:lnTo>
                <a:lnTo>
                  <a:pt x="994" y="211"/>
                </a:lnTo>
                <a:lnTo>
                  <a:pt x="999" y="196"/>
                </a:lnTo>
                <a:lnTo>
                  <a:pt x="1002" y="181"/>
                </a:lnTo>
                <a:lnTo>
                  <a:pt x="1005" y="168"/>
                </a:lnTo>
                <a:lnTo>
                  <a:pt x="1006" y="153"/>
                </a:lnTo>
                <a:lnTo>
                  <a:pt x="1006" y="139"/>
                </a:lnTo>
                <a:lnTo>
                  <a:pt x="1004" y="127"/>
                </a:lnTo>
                <a:lnTo>
                  <a:pt x="1001" y="113"/>
                </a:lnTo>
                <a:lnTo>
                  <a:pt x="997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未知"/>
          <p:cNvSpPr/>
          <p:nvPr/>
        </p:nvSpPr>
        <p:spPr>
          <a:xfrm>
            <a:off x="7048440" y="5270400"/>
            <a:ext cx="426960" cy="287280"/>
          </a:xfrm>
          <a:custGeom>
            <a:avLst/>
            <a:gdLst/>
            <a:ahLst/>
            <a:rect l="l" t="t" r="r" b="b"/>
            <a:pathLst>
              <a:path w="1077" h="725">
                <a:moveTo>
                  <a:pt x="435" y="95"/>
                </a:moveTo>
                <a:lnTo>
                  <a:pt x="408" y="107"/>
                </a:lnTo>
                <a:lnTo>
                  <a:pt x="381" y="121"/>
                </a:lnTo>
                <a:lnTo>
                  <a:pt x="355" y="134"/>
                </a:lnTo>
                <a:lnTo>
                  <a:pt x="329" y="148"/>
                </a:lnTo>
                <a:lnTo>
                  <a:pt x="306" y="163"/>
                </a:lnTo>
                <a:lnTo>
                  <a:pt x="281" y="178"/>
                </a:lnTo>
                <a:lnTo>
                  <a:pt x="259" y="194"/>
                </a:lnTo>
                <a:lnTo>
                  <a:pt x="236" y="209"/>
                </a:lnTo>
                <a:lnTo>
                  <a:pt x="215" y="225"/>
                </a:lnTo>
                <a:lnTo>
                  <a:pt x="195" y="241"/>
                </a:lnTo>
                <a:lnTo>
                  <a:pt x="175" y="257"/>
                </a:lnTo>
                <a:lnTo>
                  <a:pt x="157" y="274"/>
                </a:lnTo>
                <a:lnTo>
                  <a:pt x="138" y="291"/>
                </a:lnTo>
                <a:lnTo>
                  <a:pt x="122" y="308"/>
                </a:lnTo>
                <a:lnTo>
                  <a:pt x="106" y="324"/>
                </a:lnTo>
                <a:lnTo>
                  <a:pt x="91" y="341"/>
                </a:lnTo>
                <a:lnTo>
                  <a:pt x="77" y="359"/>
                </a:lnTo>
                <a:lnTo>
                  <a:pt x="65" y="376"/>
                </a:lnTo>
                <a:lnTo>
                  <a:pt x="52" y="394"/>
                </a:lnTo>
                <a:lnTo>
                  <a:pt x="42" y="410"/>
                </a:lnTo>
                <a:lnTo>
                  <a:pt x="33" y="427"/>
                </a:lnTo>
                <a:lnTo>
                  <a:pt x="25" y="444"/>
                </a:lnTo>
                <a:lnTo>
                  <a:pt x="18" y="461"/>
                </a:lnTo>
                <a:lnTo>
                  <a:pt x="11" y="477"/>
                </a:lnTo>
                <a:lnTo>
                  <a:pt x="6" y="494"/>
                </a:lnTo>
                <a:lnTo>
                  <a:pt x="4" y="510"/>
                </a:lnTo>
                <a:lnTo>
                  <a:pt x="2" y="526"/>
                </a:lnTo>
                <a:lnTo>
                  <a:pt x="0" y="541"/>
                </a:lnTo>
                <a:lnTo>
                  <a:pt x="2" y="557"/>
                </a:lnTo>
                <a:lnTo>
                  <a:pt x="3" y="572"/>
                </a:lnTo>
                <a:lnTo>
                  <a:pt x="6" y="587"/>
                </a:lnTo>
                <a:lnTo>
                  <a:pt x="10" y="601"/>
                </a:lnTo>
                <a:lnTo>
                  <a:pt x="18" y="617"/>
                </a:lnTo>
                <a:lnTo>
                  <a:pt x="26" y="632"/>
                </a:lnTo>
                <a:lnTo>
                  <a:pt x="38" y="645"/>
                </a:lnTo>
                <a:lnTo>
                  <a:pt x="50" y="659"/>
                </a:lnTo>
                <a:lnTo>
                  <a:pt x="64" y="670"/>
                </a:lnTo>
                <a:lnTo>
                  <a:pt x="78" y="681"/>
                </a:lnTo>
                <a:lnTo>
                  <a:pt x="96" y="691"/>
                </a:lnTo>
                <a:lnTo>
                  <a:pt x="113" y="700"/>
                </a:lnTo>
                <a:lnTo>
                  <a:pt x="138" y="707"/>
                </a:lnTo>
                <a:lnTo>
                  <a:pt x="163" y="715"/>
                </a:lnTo>
                <a:lnTo>
                  <a:pt x="191" y="720"/>
                </a:lnTo>
                <a:lnTo>
                  <a:pt x="220" y="724"/>
                </a:lnTo>
                <a:lnTo>
                  <a:pt x="250" y="725"/>
                </a:lnTo>
                <a:lnTo>
                  <a:pt x="282" y="725"/>
                </a:lnTo>
                <a:lnTo>
                  <a:pt x="314" y="722"/>
                </a:lnTo>
                <a:lnTo>
                  <a:pt x="348" y="719"/>
                </a:lnTo>
                <a:lnTo>
                  <a:pt x="383" y="714"/>
                </a:lnTo>
                <a:lnTo>
                  <a:pt x="419" y="706"/>
                </a:lnTo>
                <a:lnTo>
                  <a:pt x="455" y="699"/>
                </a:lnTo>
                <a:lnTo>
                  <a:pt x="492" y="688"/>
                </a:lnTo>
                <a:lnTo>
                  <a:pt x="529" y="676"/>
                </a:lnTo>
                <a:lnTo>
                  <a:pt x="567" y="663"/>
                </a:lnTo>
                <a:lnTo>
                  <a:pt x="605" y="648"/>
                </a:lnTo>
                <a:lnTo>
                  <a:pt x="643" y="631"/>
                </a:lnTo>
                <a:lnTo>
                  <a:pt x="691" y="608"/>
                </a:lnTo>
                <a:lnTo>
                  <a:pt x="735" y="583"/>
                </a:lnTo>
                <a:lnTo>
                  <a:pt x="779" y="559"/>
                </a:lnTo>
                <a:lnTo>
                  <a:pt x="820" y="531"/>
                </a:lnTo>
                <a:lnTo>
                  <a:pt x="858" y="504"/>
                </a:lnTo>
                <a:lnTo>
                  <a:pt x="894" y="475"/>
                </a:lnTo>
                <a:lnTo>
                  <a:pt x="927" y="446"/>
                </a:lnTo>
                <a:lnTo>
                  <a:pt x="958" y="416"/>
                </a:lnTo>
                <a:lnTo>
                  <a:pt x="971" y="401"/>
                </a:lnTo>
                <a:lnTo>
                  <a:pt x="984" y="386"/>
                </a:lnTo>
                <a:lnTo>
                  <a:pt x="996" y="371"/>
                </a:lnTo>
                <a:lnTo>
                  <a:pt x="1007" y="356"/>
                </a:lnTo>
                <a:lnTo>
                  <a:pt x="1019" y="341"/>
                </a:lnTo>
                <a:lnTo>
                  <a:pt x="1028" y="327"/>
                </a:lnTo>
                <a:lnTo>
                  <a:pt x="1037" y="312"/>
                </a:lnTo>
                <a:lnTo>
                  <a:pt x="1046" y="297"/>
                </a:lnTo>
                <a:lnTo>
                  <a:pt x="1053" y="282"/>
                </a:lnTo>
                <a:lnTo>
                  <a:pt x="1059" y="267"/>
                </a:lnTo>
                <a:lnTo>
                  <a:pt x="1064" y="252"/>
                </a:lnTo>
                <a:lnTo>
                  <a:pt x="1069" y="237"/>
                </a:lnTo>
                <a:lnTo>
                  <a:pt x="1073" y="224"/>
                </a:lnTo>
                <a:lnTo>
                  <a:pt x="1076" y="209"/>
                </a:lnTo>
                <a:lnTo>
                  <a:pt x="1077" y="195"/>
                </a:lnTo>
                <a:lnTo>
                  <a:pt x="1077" y="181"/>
                </a:lnTo>
                <a:lnTo>
                  <a:pt x="1077" y="166"/>
                </a:lnTo>
                <a:lnTo>
                  <a:pt x="1074" y="153"/>
                </a:lnTo>
                <a:lnTo>
                  <a:pt x="1072" y="138"/>
                </a:lnTo>
                <a:lnTo>
                  <a:pt x="1067" y="124"/>
                </a:lnTo>
                <a:lnTo>
                  <a:pt x="1059" y="108"/>
                </a:lnTo>
                <a:lnTo>
                  <a:pt x="1051" y="93"/>
                </a:lnTo>
                <a:lnTo>
                  <a:pt x="1041" y="80"/>
                </a:lnTo>
                <a:lnTo>
                  <a:pt x="1028" y="67"/>
                </a:lnTo>
                <a:lnTo>
                  <a:pt x="1015" y="55"/>
                </a:lnTo>
                <a:lnTo>
                  <a:pt x="999" y="44"/>
                </a:lnTo>
                <a:lnTo>
                  <a:pt x="982" y="35"/>
                </a:lnTo>
                <a:lnTo>
                  <a:pt x="964" y="26"/>
                </a:lnTo>
                <a:lnTo>
                  <a:pt x="940" y="18"/>
                </a:lnTo>
                <a:lnTo>
                  <a:pt x="914" y="10"/>
                </a:lnTo>
                <a:lnTo>
                  <a:pt x="887" y="5"/>
                </a:lnTo>
                <a:lnTo>
                  <a:pt x="858" y="3"/>
                </a:lnTo>
                <a:lnTo>
                  <a:pt x="827" y="0"/>
                </a:lnTo>
                <a:lnTo>
                  <a:pt x="796" y="1"/>
                </a:lnTo>
                <a:lnTo>
                  <a:pt x="764" y="3"/>
                </a:lnTo>
                <a:lnTo>
                  <a:pt x="729" y="6"/>
                </a:lnTo>
                <a:lnTo>
                  <a:pt x="694" y="11"/>
                </a:lnTo>
                <a:lnTo>
                  <a:pt x="660" y="19"/>
                </a:lnTo>
                <a:lnTo>
                  <a:pt x="622" y="28"/>
                </a:lnTo>
                <a:lnTo>
                  <a:pt x="586" y="37"/>
                </a:lnTo>
                <a:lnTo>
                  <a:pt x="549" y="50"/>
                </a:lnTo>
                <a:lnTo>
                  <a:pt x="511" y="62"/>
                </a:lnTo>
                <a:lnTo>
                  <a:pt x="473" y="77"/>
                </a:lnTo>
                <a:lnTo>
                  <a:pt x="435" y="95"/>
                </a:lnTo>
                <a:close/>
                <a:moveTo>
                  <a:pt x="141" y="633"/>
                </a:moveTo>
                <a:lnTo>
                  <a:pt x="129" y="628"/>
                </a:lnTo>
                <a:lnTo>
                  <a:pt x="118" y="622"/>
                </a:lnTo>
                <a:lnTo>
                  <a:pt x="110" y="616"/>
                </a:lnTo>
                <a:lnTo>
                  <a:pt x="101" y="609"/>
                </a:lnTo>
                <a:lnTo>
                  <a:pt x="93" y="601"/>
                </a:lnTo>
                <a:lnTo>
                  <a:pt x="87" y="593"/>
                </a:lnTo>
                <a:lnTo>
                  <a:pt x="81" y="585"/>
                </a:lnTo>
                <a:lnTo>
                  <a:pt x="77" y="576"/>
                </a:lnTo>
                <a:lnTo>
                  <a:pt x="75" y="566"/>
                </a:lnTo>
                <a:lnTo>
                  <a:pt x="72" y="556"/>
                </a:lnTo>
                <a:lnTo>
                  <a:pt x="72" y="545"/>
                </a:lnTo>
                <a:lnTo>
                  <a:pt x="72" y="535"/>
                </a:lnTo>
                <a:lnTo>
                  <a:pt x="74" y="523"/>
                </a:lnTo>
                <a:lnTo>
                  <a:pt x="76" y="511"/>
                </a:lnTo>
                <a:lnTo>
                  <a:pt x="78" y="499"/>
                </a:lnTo>
                <a:lnTo>
                  <a:pt x="83" y="487"/>
                </a:lnTo>
                <a:lnTo>
                  <a:pt x="88" y="474"/>
                </a:lnTo>
                <a:lnTo>
                  <a:pt x="95" y="461"/>
                </a:lnTo>
                <a:lnTo>
                  <a:pt x="102" y="447"/>
                </a:lnTo>
                <a:lnTo>
                  <a:pt x="111" y="433"/>
                </a:lnTo>
                <a:lnTo>
                  <a:pt x="119" y="420"/>
                </a:lnTo>
                <a:lnTo>
                  <a:pt x="129" y="406"/>
                </a:lnTo>
                <a:lnTo>
                  <a:pt x="141" y="392"/>
                </a:lnTo>
                <a:lnTo>
                  <a:pt x="153" y="377"/>
                </a:lnTo>
                <a:lnTo>
                  <a:pt x="179" y="349"/>
                </a:lnTo>
                <a:lnTo>
                  <a:pt x="210" y="320"/>
                </a:lnTo>
                <a:lnTo>
                  <a:pt x="244" y="292"/>
                </a:lnTo>
                <a:lnTo>
                  <a:pt x="282" y="263"/>
                </a:lnTo>
                <a:lnTo>
                  <a:pt x="322" y="236"/>
                </a:lnTo>
                <a:lnTo>
                  <a:pt x="367" y="210"/>
                </a:lnTo>
                <a:lnTo>
                  <a:pt x="390" y="196"/>
                </a:lnTo>
                <a:lnTo>
                  <a:pt x="414" y="184"/>
                </a:lnTo>
                <a:lnTo>
                  <a:pt x="439" y="171"/>
                </a:lnTo>
                <a:lnTo>
                  <a:pt x="465" y="159"/>
                </a:lnTo>
                <a:lnTo>
                  <a:pt x="498" y="144"/>
                </a:lnTo>
                <a:lnTo>
                  <a:pt x="533" y="131"/>
                </a:lnTo>
                <a:lnTo>
                  <a:pt x="568" y="118"/>
                </a:lnTo>
                <a:lnTo>
                  <a:pt x="601" y="107"/>
                </a:lnTo>
                <a:lnTo>
                  <a:pt x="635" y="98"/>
                </a:lnTo>
                <a:lnTo>
                  <a:pt x="667" y="90"/>
                </a:lnTo>
                <a:lnTo>
                  <a:pt x="699" y="83"/>
                </a:lnTo>
                <a:lnTo>
                  <a:pt x="730" y="78"/>
                </a:lnTo>
                <a:lnTo>
                  <a:pt x="761" y="75"/>
                </a:lnTo>
                <a:lnTo>
                  <a:pt x="790" y="72"/>
                </a:lnTo>
                <a:lnTo>
                  <a:pt x="819" y="72"/>
                </a:lnTo>
                <a:lnTo>
                  <a:pt x="845" y="72"/>
                </a:lnTo>
                <a:lnTo>
                  <a:pt x="871" y="75"/>
                </a:lnTo>
                <a:lnTo>
                  <a:pt x="894" y="80"/>
                </a:lnTo>
                <a:lnTo>
                  <a:pt x="917" y="85"/>
                </a:lnTo>
                <a:lnTo>
                  <a:pt x="937" y="92"/>
                </a:lnTo>
                <a:lnTo>
                  <a:pt x="949" y="97"/>
                </a:lnTo>
                <a:lnTo>
                  <a:pt x="959" y="103"/>
                </a:lnTo>
                <a:lnTo>
                  <a:pt x="969" y="109"/>
                </a:lnTo>
                <a:lnTo>
                  <a:pt x="978" y="117"/>
                </a:lnTo>
                <a:lnTo>
                  <a:pt x="985" y="124"/>
                </a:lnTo>
                <a:lnTo>
                  <a:pt x="991" y="132"/>
                </a:lnTo>
                <a:lnTo>
                  <a:pt x="996" y="140"/>
                </a:lnTo>
                <a:lnTo>
                  <a:pt x="1000" y="150"/>
                </a:lnTo>
                <a:lnTo>
                  <a:pt x="1004" y="159"/>
                </a:lnTo>
                <a:lnTo>
                  <a:pt x="1005" y="169"/>
                </a:lnTo>
                <a:lnTo>
                  <a:pt x="1006" y="180"/>
                </a:lnTo>
                <a:lnTo>
                  <a:pt x="1006" y="191"/>
                </a:lnTo>
                <a:lnTo>
                  <a:pt x="1005" y="202"/>
                </a:lnTo>
                <a:lnTo>
                  <a:pt x="1002" y="214"/>
                </a:lnTo>
                <a:lnTo>
                  <a:pt x="999" y="226"/>
                </a:lnTo>
                <a:lnTo>
                  <a:pt x="995" y="238"/>
                </a:lnTo>
                <a:lnTo>
                  <a:pt x="989" y="252"/>
                </a:lnTo>
                <a:lnTo>
                  <a:pt x="982" y="265"/>
                </a:lnTo>
                <a:lnTo>
                  <a:pt x="975" y="278"/>
                </a:lnTo>
                <a:lnTo>
                  <a:pt x="968" y="292"/>
                </a:lnTo>
                <a:lnTo>
                  <a:pt x="958" y="305"/>
                </a:lnTo>
                <a:lnTo>
                  <a:pt x="948" y="319"/>
                </a:lnTo>
                <a:lnTo>
                  <a:pt x="937" y="333"/>
                </a:lnTo>
                <a:lnTo>
                  <a:pt x="925" y="348"/>
                </a:lnTo>
                <a:lnTo>
                  <a:pt x="898" y="376"/>
                </a:lnTo>
                <a:lnTo>
                  <a:pt x="867" y="405"/>
                </a:lnTo>
                <a:lnTo>
                  <a:pt x="833" y="433"/>
                </a:lnTo>
                <a:lnTo>
                  <a:pt x="796" y="462"/>
                </a:lnTo>
                <a:lnTo>
                  <a:pt x="755" y="489"/>
                </a:lnTo>
                <a:lnTo>
                  <a:pt x="711" y="516"/>
                </a:lnTo>
                <a:lnTo>
                  <a:pt x="688" y="529"/>
                </a:lnTo>
                <a:lnTo>
                  <a:pt x="663" y="541"/>
                </a:lnTo>
                <a:lnTo>
                  <a:pt x="639" y="554"/>
                </a:lnTo>
                <a:lnTo>
                  <a:pt x="614" y="566"/>
                </a:lnTo>
                <a:lnTo>
                  <a:pt x="579" y="581"/>
                </a:lnTo>
                <a:lnTo>
                  <a:pt x="544" y="595"/>
                </a:lnTo>
                <a:lnTo>
                  <a:pt x="511" y="607"/>
                </a:lnTo>
                <a:lnTo>
                  <a:pt x="477" y="618"/>
                </a:lnTo>
                <a:lnTo>
                  <a:pt x="444" y="627"/>
                </a:lnTo>
                <a:lnTo>
                  <a:pt x="410" y="635"/>
                </a:lnTo>
                <a:lnTo>
                  <a:pt x="379" y="642"/>
                </a:lnTo>
                <a:lnTo>
                  <a:pt x="347" y="647"/>
                </a:lnTo>
                <a:lnTo>
                  <a:pt x="317" y="650"/>
                </a:lnTo>
                <a:lnTo>
                  <a:pt x="287" y="653"/>
                </a:lnTo>
                <a:lnTo>
                  <a:pt x="260" y="654"/>
                </a:lnTo>
                <a:lnTo>
                  <a:pt x="232" y="653"/>
                </a:lnTo>
                <a:lnTo>
                  <a:pt x="208" y="650"/>
                </a:lnTo>
                <a:lnTo>
                  <a:pt x="184" y="647"/>
                </a:lnTo>
                <a:lnTo>
                  <a:pt x="162" y="640"/>
                </a:lnTo>
                <a:lnTo>
                  <a:pt x="141" y="633"/>
                </a:lnTo>
                <a:lnTo>
                  <a:pt x="1067" y="124"/>
                </a:lnTo>
                <a:lnTo>
                  <a:pt x="141" y="63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未知"/>
          <p:cNvSpPr/>
          <p:nvPr/>
        </p:nvSpPr>
        <p:spPr>
          <a:xfrm>
            <a:off x="7145280" y="5327640"/>
            <a:ext cx="246240" cy="160200"/>
          </a:xfrm>
          <a:custGeom>
            <a:avLst/>
            <a:gdLst/>
            <a:ahLst/>
            <a:rect l="l" t="t" r="r" b="b"/>
            <a:pathLst>
              <a:path w="618" h="404">
                <a:moveTo>
                  <a:pt x="613" y="63"/>
                </a:moveTo>
                <a:lnTo>
                  <a:pt x="609" y="56"/>
                </a:lnTo>
                <a:lnTo>
                  <a:pt x="605" y="50"/>
                </a:lnTo>
                <a:lnTo>
                  <a:pt x="600" y="43"/>
                </a:lnTo>
                <a:lnTo>
                  <a:pt x="595" y="37"/>
                </a:lnTo>
                <a:lnTo>
                  <a:pt x="589" y="31"/>
                </a:lnTo>
                <a:lnTo>
                  <a:pt x="582" y="26"/>
                </a:lnTo>
                <a:lnTo>
                  <a:pt x="574" y="21"/>
                </a:lnTo>
                <a:lnTo>
                  <a:pt x="567" y="17"/>
                </a:lnTo>
                <a:lnTo>
                  <a:pt x="549" y="10"/>
                </a:lnTo>
                <a:lnTo>
                  <a:pt x="529" y="5"/>
                </a:lnTo>
                <a:lnTo>
                  <a:pt x="507" y="1"/>
                </a:lnTo>
                <a:lnTo>
                  <a:pt x="483" y="0"/>
                </a:lnTo>
                <a:lnTo>
                  <a:pt x="459" y="0"/>
                </a:lnTo>
                <a:lnTo>
                  <a:pt x="433" y="2"/>
                </a:lnTo>
                <a:lnTo>
                  <a:pt x="404" y="6"/>
                </a:lnTo>
                <a:lnTo>
                  <a:pt x="375" y="12"/>
                </a:lnTo>
                <a:lnTo>
                  <a:pt x="346" y="20"/>
                </a:lnTo>
                <a:lnTo>
                  <a:pt x="316" y="30"/>
                </a:lnTo>
                <a:lnTo>
                  <a:pt x="285" y="41"/>
                </a:lnTo>
                <a:lnTo>
                  <a:pt x="254" y="55"/>
                </a:lnTo>
                <a:lnTo>
                  <a:pt x="223" y="69"/>
                </a:lnTo>
                <a:lnTo>
                  <a:pt x="193" y="86"/>
                </a:lnTo>
                <a:lnTo>
                  <a:pt x="166" y="103"/>
                </a:lnTo>
                <a:lnTo>
                  <a:pt x="139" y="120"/>
                </a:lnTo>
                <a:lnTo>
                  <a:pt x="115" y="139"/>
                </a:lnTo>
                <a:lnTo>
                  <a:pt x="94" y="157"/>
                </a:lnTo>
                <a:lnTo>
                  <a:pt x="72" y="176"/>
                </a:lnTo>
                <a:lnTo>
                  <a:pt x="55" y="196"/>
                </a:lnTo>
                <a:lnTo>
                  <a:pt x="39" y="215"/>
                </a:lnTo>
                <a:lnTo>
                  <a:pt x="26" y="234"/>
                </a:lnTo>
                <a:lnTo>
                  <a:pt x="15" y="253"/>
                </a:lnTo>
                <a:lnTo>
                  <a:pt x="8" y="272"/>
                </a:lnTo>
                <a:lnTo>
                  <a:pt x="4" y="282"/>
                </a:lnTo>
                <a:lnTo>
                  <a:pt x="3" y="290"/>
                </a:lnTo>
                <a:lnTo>
                  <a:pt x="0" y="299"/>
                </a:lnTo>
                <a:lnTo>
                  <a:pt x="0" y="308"/>
                </a:lnTo>
                <a:lnTo>
                  <a:pt x="0" y="316"/>
                </a:lnTo>
                <a:lnTo>
                  <a:pt x="2" y="324"/>
                </a:lnTo>
                <a:lnTo>
                  <a:pt x="3" y="332"/>
                </a:lnTo>
                <a:lnTo>
                  <a:pt x="5" y="340"/>
                </a:lnTo>
                <a:lnTo>
                  <a:pt x="9" y="347"/>
                </a:lnTo>
                <a:lnTo>
                  <a:pt x="13" y="355"/>
                </a:lnTo>
                <a:lnTo>
                  <a:pt x="18" y="361"/>
                </a:lnTo>
                <a:lnTo>
                  <a:pt x="23" y="367"/>
                </a:lnTo>
                <a:lnTo>
                  <a:pt x="29" y="372"/>
                </a:lnTo>
                <a:lnTo>
                  <a:pt x="35" y="378"/>
                </a:lnTo>
                <a:lnTo>
                  <a:pt x="43" y="382"/>
                </a:lnTo>
                <a:lnTo>
                  <a:pt x="51" y="387"/>
                </a:lnTo>
                <a:lnTo>
                  <a:pt x="60" y="391"/>
                </a:lnTo>
                <a:lnTo>
                  <a:pt x="69" y="393"/>
                </a:lnTo>
                <a:lnTo>
                  <a:pt x="79" y="397"/>
                </a:lnTo>
                <a:lnTo>
                  <a:pt x="89" y="399"/>
                </a:lnTo>
                <a:lnTo>
                  <a:pt x="110" y="402"/>
                </a:lnTo>
                <a:lnTo>
                  <a:pt x="133" y="404"/>
                </a:lnTo>
                <a:lnTo>
                  <a:pt x="159" y="403"/>
                </a:lnTo>
                <a:lnTo>
                  <a:pt x="185" y="402"/>
                </a:lnTo>
                <a:lnTo>
                  <a:pt x="213" y="397"/>
                </a:lnTo>
                <a:lnTo>
                  <a:pt x="243" y="392"/>
                </a:lnTo>
                <a:lnTo>
                  <a:pt x="272" y="383"/>
                </a:lnTo>
                <a:lnTo>
                  <a:pt x="302" y="375"/>
                </a:lnTo>
                <a:lnTo>
                  <a:pt x="333" y="362"/>
                </a:lnTo>
                <a:lnTo>
                  <a:pt x="364" y="349"/>
                </a:lnTo>
                <a:lnTo>
                  <a:pt x="395" y="335"/>
                </a:lnTo>
                <a:lnTo>
                  <a:pt x="425" y="319"/>
                </a:lnTo>
                <a:lnTo>
                  <a:pt x="452" y="301"/>
                </a:lnTo>
                <a:lnTo>
                  <a:pt x="478" y="284"/>
                </a:lnTo>
                <a:lnTo>
                  <a:pt x="502" y="265"/>
                </a:lnTo>
                <a:lnTo>
                  <a:pt x="524" y="247"/>
                </a:lnTo>
                <a:lnTo>
                  <a:pt x="544" y="228"/>
                </a:lnTo>
                <a:lnTo>
                  <a:pt x="563" y="208"/>
                </a:lnTo>
                <a:lnTo>
                  <a:pt x="578" y="189"/>
                </a:lnTo>
                <a:lnTo>
                  <a:pt x="591" y="170"/>
                </a:lnTo>
                <a:lnTo>
                  <a:pt x="601" y="150"/>
                </a:lnTo>
                <a:lnTo>
                  <a:pt x="610" y="131"/>
                </a:lnTo>
                <a:lnTo>
                  <a:pt x="613" y="123"/>
                </a:lnTo>
                <a:lnTo>
                  <a:pt x="615" y="114"/>
                </a:lnTo>
                <a:lnTo>
                  <a:pt x="616" y="105"/>
                </a:lnTo>
                <a:lnTo>
                  <a:pt x="618" y="97"/>
                </a:lnTo>
                <a:lnTo>
                  <a:pt x="618" y="88"/>
                </a:lnTo>
                <a:lnTo>
                  <a:pt x="616" y="79"/>
                </a:lnTo>
                <a:lnTo>
                  <a:pt x="615" y="72"/>
                </a:lnTo>
                <a:lnTo>
                  <a:pt x="613" y="63"/>
                </a:lnTo>
                <a:close/>
              </a:path>
            </a:pathLst>
          </a:custGeom>
          <a:solidFill>
            <a:srgbClr val="f7c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未知"/>
          <p:cNvSpPr/>
          <p:nvPr/>
        </p:nvSpPr>
        <p:spPr>
          <a:xfrm>
            <a:off x="6035760" y="5535720"/>
            <a:ext cx="1712880" cy="345960"/>
          </a:xfrm>
          <a:custGeom>
            <a:avLst/>
            <a:gdLst/>
            <a:ahLst/>
            <a:rect l="l" t="t" r="r" b="b"/>
            <a:pathLst>
              <a:path w="4314" h="871">
                <a:moveTo>
                  <a:pt x="0" y="38"/>
                </a:moveTo>
                <a:lnTo>
                  <a:pt x="42" y="37"/>
                </a:lnTo>
                <a:lnTo>
                  <a:pt x="164" y="34"/>
                </a:lnTo>
                <a:lnTo>
                  <a:pt x="353" y="31"/>
                </a:lnTo>
                <a:lnTo>
                  <a:pt x="598" y="26"/>
                </a:lnTo>
                <a:lnTo>
                  <a:pt x="893" y="21"/>
                </a:lnTo>
                <a:lnTo>
                  <a:pt x="1224" y="16"/>
                </a:lnTo>
                <a:lnTo>
                  <a:pt x="1582" y="11"/>
                </a:lnTo>
                <a:lnTo>
                  <a:pt x="1957" y="6"/>
                </a:lnTo>
                <a:lnTo>
                  <a:pt x="2338" y="2"/>
                </a:lnTo>
                <a:lnTo>
                  <a:pt x="2714" y="0"/>
                </a:lnTo>
                <a:lnTo>
                  <a:pt x="3077" y="0"/>
                </a:lnTo>
                <a:lnTo>
                  <a:pt x="3415" y="2"/>
                </a:lnTo>
                <a:lnTo>
                  <a:pt x="3571" y="3"/>
                </a:lnTo>
                <a:lnTo>
                  <a:pt x="3718" y="6"/>
                </a:lnTo>
                <a:lnTo>
                  <a:pt x="3853" y="10"/>
                </a:lnTo>
                <a:lnTo>
                  <a:pt x="3976" y="13"/>
                </a:lnTo>
                <a:lnTo>
                  <a:pt x="4084" y="18"/>
                </a:lnTo>
                <a:lnTo>
                  <a:pt x="4177" y="25"/>
                </a:lnTo>
                <a:lnTo>
                  <a:pt x="4254" y="31"/>
                </a:lnTo>
                <a:lnTo>
                  <a:pt x="4314" y="38"/>
                </a:lnTo>
                <a:lnTo>
                  <a:pt x="4296" y="68"/>
                </a:lnTo>
                <a:lnTo>
                  <a:pt x="4248" y="149"/>
                </a:lnTo>
                <a:lnTo>
                  <a:pt x="4212" y="203"/>
                </a:lnTo>
                <a:lnTo>
                  <a:pt x="4170" y="264"/>
                </a:lnTo>
                <a:lnTo>
                  <a:pt x="4146" y="296"/>
                </a:lnTo>
                <a:lnTo>
                  <a:pt x="4121" y="330"/>
                </a:lnTo>
                <a:lnTo>
                  <a:pt x="4095" y="365"/>
                </a:lnTo>
                <a:lnTo>
                  <a:pt x="4067" y="400"/>
                </a:lnTo>
                <a:lnTo>
                  <a:pt x="4038" y="435"/>
                </a:lnTo>
                <a:lnTo>
                  <a:pt x="4007" y="471"/>
                </a:lnTo>
                <a:lnTo>
                  <a:pt x="3975" y="507"/>
                </a:lnTo>
                <a:lnTo>
                  <a:pt x="3943" y="543"/>
                </a:lnTo>
                <a:lnTo>
                  <a:pt x="3908" y="578"/>
                </a:lnTo>
                <a:lnTo>
                  <a:pt x="3872" y="611"/>
                </a:lnTo>
                <a:lnTo>
                  <a:pt x="3836" y="645"/>
                </a:lnTo>
                <a:lnTo>
                  <a:pt x="3798" y="676"/>
                </a:lnTo>
                <a:lnTo>
                  <a:pt x="3760" y="707"/>
                </a:lnTo>
                <a:lnTo>
                  <a:pt x="3720" y="735"/>
                </a:lnTo>
                <a:lnTo>
                  <a:pt x="3679" y="763"/>
                </a:lnTo>
                <a:lnTo>
                  <a:pt x="3638" y="786"/>
                </a:lnTo>
                <a:lnTo>
                  <a:pt x="3596" y="809"/>
                </a:lnTo>
                <a:lnTo>
                  <a:pt x="3554" y="829"/>
                </a:lnTo>
                <a:lnTo>
                  <a:pt x="3510" y="846"/>
                </a:lnTo>
                <a:lnTo>
                  <a:pt x="3467" y="860"/>
                </a:lnTo>
                <a:lnTo>
                  <a:pt x="3442" y="860"/>
                </a:lnTo>
                <a:lnTo>
                  <a:pt x="3373" y="861"/>
                </a:lnTo>
                <a:lnTo>
                  <a:pt x="3265" y="863"/>
                </a:lnTo>
                <a:lnTo>
                  <a:pt x="3123" y="865"/>
                </a:lnTo>
                <a:lnTo>
                  <a:pt x="2954" y="867"/>
                </a:lnTo>
                <a:lnTo>
                  <a:pt x="2764" y="868"/>
                </a:lnTo>
                <a:lnTo>
                  <a:pt x="2559" y="869"/>
                </a:lnTo>
                <a:lnTo>
                  <a:pt x="2343" y="871"/>
                </a:lnTo>
                <a:lnTo>
                  <a:pt x="2125" y="869"/>
                </a:lnTo>
                <a:lnTo>
                  <a:pt x="1909" y="868"/>
                </a:lnTo>
                <a:lnTo>
                  <a:pt x="1700" y="865"/>
                </a:lnTo>
                <a:lnTo>
                  <a:pt x="1505" y="860"/>
                </a:lnTo>
                <a:lnTo>
                  <a:pt x="1416" y="856"/>
                </a:lnTo>
                <a:lnTo>
                  <a:pt x="1331" y="852"/>
                </a:lnTo>
                <a:lnTo>
                  <a:pt x="1253" y="848"/>
                </a:lnTo>
                <a:lnTo>
                  <a:pt x="1182" y="843"/>
                </a:lnTo>
                <a:lnTo>
                  <a:pt x="1119" y="837"/>
                </a:lnTo>
                <a:lnTo>
                  <a:pt x="1064" y="831"/>
                </a:lnTo>
                <a:lnTo>
                  <a:pt x="1019" y="824"/>
                </a:lnTo>
                <a:lnTo>
                  <a:pt x="985" y="816"/>
                </a:lnTo>
                <a:lnTo>
                  <a:pt x="976" y="812"/>
                </a:lnTo>
                <a:lnTo>
                  <a:pt x="951" y="802"/>
                </a:lnTo>
                <a:lnTo>
                  <a:pt x="913" y="785"/>
                </a:lnTo>
                <a:lnTo>
                  <a:pt x="862" y="762"/>
                </a:lnTo>
                <a:lnTo>
                  <a:pt x="800" y="732"/>
                </a:lnTo>
                <a:lnTo>
                  <a:pt x="730" y="696"/>
                </a:lnTo>
                <a:lnTo>
                  <a:pt x="693" y="675"/>
                </a:lnTo>
                <a:lnTo>
                  <a:pt x="654" y="654"/>
                </a:lnTo>
                <a:lnTo>
                  <a:pt x="615" y="630"/>
                </a:lnTo>
                <a:lnTo>
                  <a:pt x="574" y="605"/>
                </a:lnTo>
                <a:lnTo>
                  <a:pt x="531" y="579"/>
                </a:lnTo>
                <a:lnTo>
                  <a:pt x="490" y="552"/>
                </a:lnTo>
                <a:lnTo>
                  <a:pt x="448" y="523"/>
                </a:lnTo>
                <a:lnTo>
                  <a:pt x="406" y="494"/>
                </a:lnTo>
                <a:lnTo>
                  <a:pt x="365" y="463"/>
                </a:lnTo>
                <a:lnTo>
                  <a:pt x="324" y="429"/>
                </a:lnTo>
                <a:lnTo>
                  <a:pt x="284" y="396"/>
                </a:lnTo>
                <a:lnTo>
                  <a:pt x="245" y="361"/>
                </a:lnTo>
                <a:lnTo>
                  <a:pt x="207" y="324"/>
                </a:lnTo>
                <a:lnTo>
                  <a:pt x="171" y="286"/>
                </a:lnTo>
                <a:lnTo>
                  <a:pt x="137" y="248"/>
                </a:lnTo>
                <a:lnTo>
                  <a:pt x="104" y="208"/>
                </a:lnTo>
                <a:lnTo>
                  <a:pt x="74" y="167"/>
                </a:lnTo>
                <a:lnTo>
                  <a:pt x="46" y="125"/>
                </a:lnTo>
                <a:lnTo>
                  <a:pt x="21" y="83"/>
                </a:lnTo>
                <a:lnTo>
                  <a:pt x="0" y="38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未知"/>
          <p:cNvSpPr/>
          <p:nvPr/>
        </p:nvSpPr>
        <p:spPr>
          <a:xfrm>
            <a:off x="6014880" y="5521320"/>
            <a:ext cx="1754280" cy="374760"/>
          </a:xfrm>
          <a:custGeom>
            <a:avLst/>
            <a:gdLst/>
            <a:ahLst/>
            <a:rect l="l" t="t" r="r" b="b"/>
            <a:pathLst>
              <a:path w="4423" h="941">
                <a:moveTo>
                  <a:pt x="54" y="38"/>
                </a:moveTo>
                <a:lnTo>
                  <a:pt x="0" y="39"/>
                </a:lnTo>
                <a:lnTo>
                  <a:pt x="23" y="89"/>
                </a:lnTo>
                <a:lnTo>
                  <a:pt x="44" y="134"/>
                </a:lnTo>
                <a:lnTo>
                  <a:pt x="70" y="177"/>
                </a:lnTo>
                <a:lnTo>
                  <a:pt x="97" y="219"/>
                </a:lnTo>
                <a:lnTo>
                  <a:pt x="127" y="262"/>
                </a:lnTo>
                <a:lnTo>
                  <a:pt x="159" y="301"/>
                </a:lnTo>
                <a:lnTo>
                  <a:pt x="194" y="341"/>
                </a:lnTo>
                <a:lnTo>
                  <a:pt x="230" y="378"/>
                </a:lnTo>
                <a:lnTo>
                  <a:pt x="267" y="415"/>
                </a:lnTo>
                <a:lnTo>
                  <a:pt x="306" y="451"/>
                </a:lnTo>
                <a:lnTo>
                  <a:pt x="346" y="485"/>
                </a:lnTo>
                <a:lnTo>
                  <a:pt x="387" y="518"/>
                </a:lnTo>
                <a:lnTo>
                  <a:pt x="429" y="549"/>
                </a:lnTo>
                <a:lnTo>
                  <a:pt x="470" y="580"/>
                </a:lnTo>
                <a:lnTo>
                  <a:pt x="512" y="609"/>
                </a:lnTo>
                <a:lnTo>
                  <a:pt x="553" y="637"/>
                </a:lnTo>
                <a:lnTo>
                  <a:pt x="595" y="664"/>
                </a:lnTo>
                <a:lnTo>
                  <a:pt x="636" y="688"/>
                </a:lnTo>
                <a:lnTo>
                  <a:pt x="676" y="712"/>
                </a:lnTo>
                <a:lnTo>
                  <a:pt x="714" y="734"/>
                </a:lnTo>
                <a:lnTo>
                  <a:pt x="753" y="755"/>
                </a:lnTo>
                <a:lnTo>
                  <a:pt x="824" y="793"/>
                </a:lnTo>
                <a:lnTo>
                  <a:pt x="887" y="824"/>
                </a:lnTo>
                <a:lnTo>
                  <a:pt x="940" y="848"/>
                </a:lnTo>
                <a:lnTo>
                  <a:pt x="984" y="867"/>
                </a:lnTo>
                <a:lnTo>
                  <a:pt x="1012" y="879"/>
                </a:lnTo>
                <a:lnTo>
                  <a:pt x="1026" y="886"/>
                </a:lnTo>
                <a:lnTo>
                  <a:pt x="1062" y="893"/>
                </a:lnTo>
                <a:lnTo>
                  <a:pt x="1107" y="901"/>
                </a:lnTo>
                <a:lnTo>
                  <a:pt x="1160" y="907"/>
                </a:lnTo>
                <a:lnTo>
                  <a:pt x="1222" y="913"/>
                </a:lnTo>
                <a:lnTo>
                  <a:pt x="1292" y="918"/>
                </a:lnTo>
                <a:lnTo>
                  <a:pt x="1367" y="923"/>
                </a:lnTo>
                <a:lnTo>
                  <a:pt x="1451" y="927"/>
                </a:lnTo>
                <a:lnTo>
                  <a:pt x="1539" y="930"/>
                </a:lnTo>
                <a:lnTo>
                  <a:pt x="1729" y="935"/>
                </a:lnTo>
                <a:lnTo>
                  <a:pt x="1934" y="939"/>
                </a:lnTo>
                <a:lnTo>
                  <a:pt x="2146" y="941"/>
                </a:lnTo>
                <a:lnTo>
                  <a:pt x="2361" y="941"/>
                </a:lnTo>
                <a:lnTo>
                  <a:pt x="2573" y="941"/>
                </a:lnTo>
                <a:lnTo>
                  <a:pt x="2778" y="940"/>
                </a:lnTo>
                <a:lnTo>
                  <a:pt x="2968" y="939"/>
                </a:lnTo>
                <a:lnTo>
                  <a:pt x="3139" y="936"/>
                </a:lnTo>
                <a:lnTo>
                  <a:pt x="3286" y="935"/>
                </a:lnTo>
                <a:lnTo>
                  <a:pt x="3403" y="933"/>
                </a:lnTo>
                <a:lnTo>
                  <a:pt x="3483" y="932"/>
                </a:lnTo>
                <a:lnTo>
                  <a:pt x="3522" y="932"/>
                </a:lnTo>
                <a:lnTo>
                  <a:pt x="3568" y="917"/>
                </a:lnTo>
                <a:lnTo>
                  <a:pt x="3613" y="901"/>
                </a:lnTo>
                <a:lnTo>
                  <a:pt x="3657" y="881"/>
                </a:lnTo>
                <a:lnTo>
                  <a:pt x="3701" y="858"/>
                </a:lnTo>
                <a:lnTo>
                  <a:pt x="3743" y="834"/>
                </a:lnTo>
                <a:lnTo>
                  <a:pt x="3784" y="806"/>
                </a:lnTo>
                <a:lnTo>
                  <a:pt x="3825" y="778"/>
                </a:lnTo>
                <a:lnTo>
                  <a:pt x="3865" y="748"/>
                </a:lnTo>
                <a:lnTo>
                  <a:pt x="3903" y="716"/>
                </a:lnTo>
                <a:lnTo>
                  <a:pt x="3940" y="683"/>
                </a:lnTo>
                <a:lnTo>
                  <a:pt x="3976" y="649"/>
                </a:lnTo>
                <a:lnTo>
                  <a:pt x="4011" y="614"/>
                </a:lnTo>
                <a:lnTo>
                  <a:pt x="4045" y="579"/>
                </a:lnTo>
                <a:lnTo>
                  <a:pt x="4078" y="543"/>
                </a:lnTo>
                <a:lnTo>
                  <a:pt x="4109" y="507"/>
                </a:lnTo>
                <a:lnTo>
                  <a:pt x="4139" y="472"/>
                </a:lnTo>
                <a:lnTo>
                  <a:pt x="4168" y="436"/>
                </a:lnTo>
                <a:lnTo>
                  <a:pt x="4195" y="402"/>
                </a:lnTo>
                <a:lnTo>
                  <a:pt x="4221" y="367"/>
                </a:lnTo>
                <a:lnTo>
                  <a:pt x="4245" y="335"/>
                </a:lnTo>
                <a:lnTo>
                  <a:pt x="4288" y="271"/>
                </a:lnTo>
                <a:lnTo>
                  <a:pt x="4325" y="216"/>
                </a:lnTo>
                <a:lnTo>
                  <a:pt x="4355" y="168"/>
                </a:lnTo>
                <a:lnTo>
                  <a:pt x="4377" y="130"/>
                </a:lnTo>
                <a:lnTo>
                  <a:pt x="4392" y="104"/>
                </a:lnTo>
                <a:lnTo>
                  <a:pt x="4400" y="92"/>
                </a:lnTo>
                <a:lnTo>
                  <a:pt x="4423" y="47"/>
                </a:lnTo>
                <a:lnTo>
                  <a:pt x="4374" y="39"/>
                </a:lnTo>
                <a:lnTo>
                  <a:pt x="4315" y="32"/>
                </a:lnTo>
                <a:lnTo>
                  <a:pt x="4241" y="25"/>
                </a:lnTo>
                <a:lnTo>
                  <a:pt x="4149" y="20"/>
                </a:lnTo>
                <a:lnTo>
                  <a:pt x="4043" y="15"/>
                </a:lnTo>
                <a:lnTo>
                  <a:pt x="3924" y="10"/>
                </a:lnTo>
                <a:lnTo>
                  <a:pt x="3793" y="7"/>
                </a:lnTo>
                <a:lnTo>
                  <a:pt x="3650" y="5"/>
                </a:lnTo>
                <a:lnTo>
                  <a:pt x="3498" y="2"/>
                </a:lnTo>
                <a:lnTo>
                  <a:pt x="3169" y="0"/>
                </a:lnTo>
                <a:lnTo>
                  <a:pt x="2815" y="0"/>
                </a:lnTo>
                <a:lnTo>
                  <a:pt x="2447" y="2"/>
                </a:lnTo>
                <a:lnTo>
                  <a:pt x="2074" y="5"/>
                </a:lnTo>
                <a:lnTo>
                  <a:pt x="1704" y="10"/>
                </a:lnTo>
                <a:lnTo>
                  <a:pt x="1349" y="15"/>
                </a:lnTo>
                <a:lnTo>
                  <a:pt x="1017" y="20"/>
                </a:lnTo>
                <a:lnTo>
                  <a:pt x="719" y="25"/>
                </a:lnTo>
                <a:lnTo>
                  <a:pt x="465" y="30"/>
                </a:lnTo>
                <a:lnTo>
                  <a:pt x="262" y="34"/>
                </a:lnTo>
                <a:lnTo>
                  <a:pt x="122" y="37"/>
                </a:lnTo>
                <a:lnTo>
                  <a:pt x="54" y="38"/>
                </a:lnTo>
                <a:close/>
                <a:moveTo>
                  <a:pt x="4309" y="104"/>
                </a:moveTo>
                <a:lnTo>
                  <a:pt x="4289" y="137"/>
                </a:lnTo>
                <a:lnTo>
                  <a:pt x="4264" y="176"/>
                </a:lnTo>
                <a:lnTo>
                  <a:pt x="4235" y="222"/>
                </a:lnTo>
                <a:lnTo>
                  <a:pt x="4201" y="273"/>
                </a:lnTo>
                <a:lnTo>
                  <a:pt x="4161" y="326"/>
                </a:lnTo>
                <a:lnTo>
                  <a:pt x="4118" y="383"/>
                </a:lnTo>
                <a:lnTo>
                  <a:pt x="4096" y="412"/>
                </a:lnTo>
                <a:lnTo>
                  <a:pt x="4072" y="441"/>
                </a:lnTo>
                <a:lnTo>
                  <a:pt x="4047" y="471"/>
                </a:lnTo>
                <a:lnTo>
                  <a:pt x="4021" y="500"/>
                </a:lnTo>
                <a:lnTo>
                  <a:pt x="3994" y="530"/>
                </a:lnTo>
                <a:lnTo>
                  <a:pt x="3966" y="558"/>
                </a:lnTo>
                <a:lnTo>
                  <a:pt x="3938" y="588"/>
                </a:lnTo>
                <a:lnTo>
                  <a:pt x="3909" y="615"/>
                </a:lnTo>
                <a:lnTo>
                  <a:pt x="3880" y="642"/>
                </a:lnTo>
                <a:lnTo>
                  <a:pt x="3849" y="670"/>
                </a:lnTo>
                <a:lnTo>
                  <a:pt x="3817" y="696"/>
                </a:lnTo>
                <a:lnTo>
                  <a:pt x="3786" y="719"/>
                </a:lnTo>
                <a:lnTo>
                  <a:pt x="3754" y="743"/>
                </a:lnTo>
                <a:lnTo>
                  <a:pt x="3721" y="765"/>
                </a:lnTo>
                <a:lnTo>
                  <a:pt x="3687" y="785"/>
                </a:lnTo>
                <a:lnTo>
                  <a:pt x="3654" y="805"/>
                </a:lnTo>
                <a:lnTo>
                  <a:pt x="3619" y="821"/>
                </a:lnTo>
                <a:lnTo>
                  <a:pt x="3583" y="837"/>
                </a:lnTo>
                <a:lnTo>
                  <a:pt x="3548" y="850"/>
                </a:lnTo>
                <a:lnTo>
                  <a:pt x="3512" y="861"/>
                </a:lnTo>
                <a:lnTo>
                  <a:pt x="3486" y="861"/>
                </a:lnTo>
                <a:lnTo>
                  <a:pt x="3415" y="862"/>
                </a:lnTo>
                <a:lnTo>
                  <a:pt x="3306" y="865"/>
                </a:lnTo>
                <a:lnTo>
                  <a:pt x="3164" y="866"/>
                </a:lnTo>
                <a:lnTo>
                  <a:pt x="2997" y="867"/>
                </a:lnTo>
                <a:lnTo>
                  <a:pt x="2808" y="869"/>
                </a:lnTo>
                <a:lnTo>
                  <a:pt x="2604" y="871"/>
                </a:lnTo>
                <a:lnTo>
                  <a:pt x="2391" y="871"/>
                </a:lnTo>
                <a:lnTo>
                  <a:pt x="2173" y="869"/>
                </a:lnTo>
                <a:lnTo>
                  <a:pt x="1960" y="868"/>
                </a:lnTo>
                <a:lnTo>
                  <a:pt x="1754" y="865"/>
                </a:lnTo>
                <a:lnTo>
                  <a:pt x="1561" y="860"/>
                </a:lnTo>
                <a:lnTo>
                  <a:pt x="1472" y="857"/>
                </a:lnTo>
                <a:lnTo>
                  <a:pt x="1389" y="853"/>
                </a:lnTo>
                <a:lnTo>
                  <a:pt x="1312" y="848"/>
                </a:lnTo>
                <a:lnTo>
                  <a:pt x="1242" y="843"/>
                </a:lnTo>
                <a:lnTo>
                  <a:pt x="1180" y="838"/>
                </a:lnTo>
                <a:lnTo>
                  <a:pt x="1127" y="832"/>
                </a:lnTo>
                <a:lnTo>
                  <a:pt x="1083" y="825"/>
                </a:lnTo>
                <a:lnTo>
                  <a:pt x="1050" y="817"/>
                </a:lnTo>
                <a:lnTo>
                  <a:pt x="1041" y="815"/>
                </a:lnTo>
                <a:lnTo>
                  <a:pt x="1017" y="805"/>
                </a:lnTo>
                <a:lnTo>
                  <a:pt x="983" y="789"/>
                </a:lnTo>
                <a:lnTo>
                  <a:pt x="935" y="767"/>
                </a:lnTo>
                <a:lnTo>
                  <a:pt x="879" y="739"/>
                </a:lnTo>
                <a:lnTo>
                  <a:pt x="815" y="706"/>
                </a:lnTo>
                <a:lnTo>
                  <a:pt x="745" y="667"/>
                </a:lnTo>
                <a:lnTo>
                  <a:pt x="671" y="623"/>
                </a:lnTo>
                <a:lnTo>
                  <a:pt x="632" y="599"/>
                </a:lnTo>
                <a:lnTo>
                  <a:pt x="594" y="574"/>
                </a:lnTo>
                <a:lnTo>
                  <a:pt x="554" y="548"/>
                </a:lnTo>
                <a:lnTo>
                  <a:pt x="516" y="521"/>
                </a:lnTo>
                <a:lnTo>
                  <a:pt x="477" y="492"/>
                </a:lnTo>
                <a:lnTo>
                  <a:pt x="437" y="463"/>
                </a:lnTo>
                <a:lnTo>
                  <a:pt x="400" y="432"/>
                </a:lnTo>
                <a:lnTo>
                  <a:pt x="363" y="399"/>
                </a:lnTo>
                <a:lnTo>
                  <a:pt x="327" y="367"/>
                </a:lnTo>
                <a:lnTo>
                  <a:pt x="291" y="332"/>
                </a:lnTo>
                <a:lnTo>
                  <a:pt x="257" y="298"/>
                </a:lnTo>
                <a:lnTo>
                  <a:pt x="225" y="262"/>
                </a:lnTo>
                <a:lnTo>
                  <a:pt x="195" y="224"/>
                </a:lnTo>
                <a:lnTo>
                  <a:pt x="167" y="187"/>
                </a:lnTo>
                <a:lnTo>
                  <a:pt x="141" y="149"/>
                </a:lnTo>
                <a:lnTo>
                  <a:pt x="117" y="109"/>
                </a:lnTo>
                <a:lnTo>
                  <a:pt x="235" y="106"/>
                </a:lnTo>
                <a:lnTo>
                  <a:pt x="406" y="103"/>
                </a:lnTo>
                <a:lnTo>
                  <a:pt x="626" y="99"/>
                </a:lnTo>
                <a:lnTo>
                  <a:pt x="884" y="94"/>
                </a:lnTo>
                <a:lnTo>
                  <a:pt x="1175" y="89"/>
                </a:lnTo>
                <a:lnTo>
                  <a:pt x="1489" y="84"/>
                </a:lnTo>
                <a:lnTo>
                  <a:pt x="1821" y="80"/>
                </a:lnTo>
                <a:lnTo>
                  <a:pt x="2162" y="77"/>
                </a:lnTo>
                <a:lnTo>
                  <a:pt x="2504" y="74"/>
                </a:lnTo>
                <a:lnTo>
                  <a:pt x="2840" y="72"/>
                </a:lnTo>
                <a:lnTo>
                  <a:pt x="3163" y="73"/>
                </a:lnTo>
                <a:lnTo>
                  <a:pt x="3465" y="74"/>
                </a:lnTo>
                <a:lnTo>
                  <a:pt x="3605" y="75"/>
                </a:lnTo>
                <a:lnTo>
                  <a:pt x="3738" y="78"/>
                </a:lnTo>
                <a:lnTo>
                  <a:pt x="3861" y="80"/>
                </a:lnTo>
                <a:lnTo>
                  <a:pt x="3975" y="84"/>
                </a:lnTo>
                <a:lnTo>
                  <a:pt x="4077" y="88"/>
                </a:lnTo>
                <a:lnTo>
                  <a:pt x="4168" y="93"/>
                </a:lnTo>
                <a:lnTo>
                  <a:pt x="4246" y="98"/>
                </a:lnTo>
                <a:lnTo>
                  <a:pt x="4309" y="10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26360" y="5859360"/>
            <a:ext cx="985680" cy="120600"/>
          </a:xfrm>
          <a:prstGeom prst="rect">
            <a:avLst/>
          </a:prstGeom>
          <a:solidFill>
            <a:srgbClr val="f2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未知"/>
          <p:cNvSpPr/>
          <p:nvPr/>
        </p:nvSpPr>
        <p:spPr>
          <a:xfrm>
            <a:off x="6411960" y="5845320"/>
            <a:ext cx="1014480" cy="149040"/>
          </a:xfrm>
          <a:custGeom>
            <a:avLst/>
            <a:gdLst/>
            <a:ahLst/>
            <a:rect l="l" t="t" r="r" b="b"/>
            <a:pathLst>
              <a:path w="2553" h="375">
                <a:moveTo>
                  <a:pt x="2518" y="0"/>
                </a:moveTo>
                <a:lnTo>
                  <a:pt x="0" y="0"/>
                </a:lnTo>
                <a:lnTo>
                  <a:pt x="0" y="375"/>
                </a:lnTo>
                <a:lnTo>
                  <a:pt x="2553" y="375"/>
                </a:lnTo>
                <a:lnTo>
                  <a:pt x="2553" y="0"/>
                </a:lnTo>
                <a:lnTo>
                  <a:pt x="2518" y="0"/>
                </a:lnTo>
                <a:close/>
                <a:moveTo>
                  <a:pt x="2482" y="72"/>
                </a:moveTo>
                <a:lnTo>
                  <a:pt x="2482" y="93"/>
                </a:lnTo>
                <a:lnTo>
                  <a:pt x="2482" y="122"/>
                </a:lnTo>
                <a:lnTo>
                  <a:pt x="2482" y="154"/>
                </a:lnTo>
                <a:lnTo>
                  <a:pt x="2482" y="187"/>
                </a:lnTo>
                <a:lnTo>
                  <a:pt x="2482" y="221"/>
                </a:lnTo>
                <a:lnTo>
                  <a:pt x="2482" y="253"/>
                </a:lnTo>
                <a:lnTo>
                  <a:pt x="2482" y="282"/>
                </a:lnTo>
                <a:lnTo>
                  <a:pt x="2482" y="303"/>
                </a:lnTo>
                <a:lnTo>
                  <a:pt x="2445" y="303"/>
                </a:lnTo>
                <a:lnTo>
                  <a:pt x="2361" y="303"/>
                </a:lnTo>
                <a:lnTo>
                  <a:pt x="2240" y="303"/>
                </a:lnTo>
                <a:lnTo>
                  <a:pt x="2086" y="303"/>
                </a:lnTo>
                <a:lnTo>
                  <a:pt x="1906" y="303"/>
                </a:lnTo>
                <a:lnTo>
                  <a:pt x="1707" y="303"/>
                </a:lnTo>
                <a:lnTo>
                  <a:pt x="1495" y="303"/>
                </a:lnTo>
                <a:lnTo>
                  <a:pt x="1276" y="303"/>
                </a:lnTo>
                <a:lnTo>
                  <a:pt x="1058" y="303"/>
                </a:lnTo>
                <a:lnTo>
                  <a:pt x="847" y="303"/>
                </a:lnTo>
                <a:lnTo>
                  <a:pt x="647" y="303"/>
                </a:lnTo>
                <a:lnTo>
                  <a:pt x="468" y="303"/>
                </a:lnTo>
                <a:lnTo>
                  <a:pt x="314" y="303"/>
                </a:lnTo>
                <a:lnTo>
                  <a:pt x="192" y="303"/>
                </a:lnTo>
                <a:lnTo>
                  <a:pt x="109" y="303"/>
                </a:lnTo>
                <a:lnTo>
                  <a:pt x="72" y="303"/>
                </a:lnTo>
                <a:lnTo>
                  <a:pt x="72" y="282"/>
                </a:lnTo>
                <a:lnTo>
                  <a:pt x="72" y="253"/>
                </a:lnTo>
                <a:lnTo>
                  <a:pt x="72" y="221"/>
                </a:lnTo>
                <a:lnTo>
                  <a:pt x="72" y="187"/>
                </a:lnTo>
                <a:lnTo>
                  <a:pt x="72" y="154"/>
                </a:lnTo>
                <a:lnTo>
                  <a:pt x="72" y="122"/>
                </a:lnTo>
                <a:lnTo>
                  <a:pt x="72" y="93"/>
                </a:lnTo>
                <a:lnTo>
                  <a:pt x="72" y="72"/>
                </a:lnTo>
                <a:lnTo>
                  <a:pt x="109" y="72"/>
                </a:lnTo>
                <a:lnTo>
                  <a:pt x="192" y="72"/>
                </a:lnTo>
                <a:lnTo>
                  <a:pt x="314" y="72"/>
                </a:lnTo>
                <a:lnTo>
                  <a:pt x="468" y="72"/>
                </a:lnTo>
                <a:lnTo>
                  <a:pt x="647" y="72"/>
                </a:lnTo>
                <a:lnTo>
                  <a:pt x="847" y="72"/>
                </a:lnTo>
                <a:lnTo>
                  <a:pt x="1058" y="72"/>
                </a:lnTo>
                <a:lnTo>
                  <a:pt x="1276" y="72"/>
                </a:lnTo>
                <a:lnTo>
                  <a:pt x="1495" y="72"/>
                </a:lnTo>
                <a:lnTo>
                  <a:pt x="1707" y="72"/>
                </a:lnTo>
                <a:lnTo>
                  <a:pt x="1906" y="72"/>
                </a:lnTo>
                <a:lnTo>
                  <a:pt x="2086" y="72"/>
                </a:lnTo>
                <a:lnTo>
                  <a:pt x="2240" y="72"/>
                </a:lnTo>
                <a:lnTo>
                  <a:pt x="2361" y="72"/>
                </a:lnTo>
                <a:lnTo>
                  <a:pt x="2445" y="72"/>
                </a:lnTo>
                <a:lnTo>
                  <a:pt x="2482" y="72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6059520" y="5557680"/>
            <a:ext cx="1663560" cy="281160"/>
          </a:xfrm>
          <a:custGeom>
            <a:avLst/>
            <a:gdLst/>
            <a:ahLst/>
            <a:rect l="l" t="t" r="r" b="b"/>
            <a:pathLst>
              <a:path w="4192" h="705">
                <a:moveTo>
                  <a:pt x="0" y="0"/>
                </a:moveTo>
                <a:lnTo>
                  <a:pt x="1400" y="40"/>
                </a:lnTo>
                <a:lnTo>
                  <a:pt x="1435" y="61"/>
                </a:lnTo>
                <a:lnTo>
                  <a:pt x="1525" y="116"/>
                </a:lnTo>
                <a:lnTo>
                  <a:pt x="1586" y="155"/>
                </a:lnTo>
                <a:lnTo>
                  <a:pt x="1654" y="198"/>
                </a:lnTo>
                <a:lnTo>
                  <a:pt x="1726" y="245"/>
                </a:lnTo>
                <a:lnTo>
                  <a:pt x="1801" y="296"/>
                </a:lnTo>
                <a:lnTo>
                  <a:pt x="1875" y="348"/>
                </a:lnTo>
                <a:lnTo>
                  <a:pt x="1946" y="401"/>
                </a:lnTo>
                <a:lnTo>
                  <a:pt x="1981" y="427"/>
                </a:lnTo>
                <a:lnTo>
                  <a:pt x="2013" y="453"/>
                </a:lnTo>
                <a:lnTo>
                  <a:pt x="2044" y="477"/>
                </a:lnTo>
                <a:lnTo>
                  <a:pt x="2073" y="501"/>
                </a:lnTo>
                <a:lnTo>
                  <a:pt x="2099" y="526"/>
                </a:lnTo>
                <a:lnTo>
                  <a:pt x="2121" y="548"/>
                </a:lnTo>
                <a:lnTo>
                  <a:pt x="2142" y="569"/>
                </a:lnTo>
                <a:lnTo>
                  <a:pt x="2158" y="590"/>
                </a:lnTo>
                <a:lnTo>
                  <a:pt x="2172" y="609"/>
                </a:lnTo>
                <a:lnTo>
                  <a:pt x="2182" y="626"/>
                </a:lnTo>
                <a:lnTo>
                  <a:pt x="2187" y="642"/>
                </a:lnTo>
                <a:lnTo>
                  <a:pt x="2187" y="656"/>
                </a:lnTo>
                <a:lnTo>
                  <a:pt x="2186" y="705"/>
                </a:lnTo>
                <a:lnTo>
                  <a:pt x="3424" y="705"/>
                </a:lnTo>
                <a:lnTo>
                  <a:pt x="3447" y="693"/>
                </a:lnTo>
                <a:lnTo>
                  <a:pt x="3513" y="660"/>
                </a:lnTo>
                <a:lnTo>
                  <a:pt x="3558" y="635"/>
                </a:lnTo>
                <a:lnTo>
                  <a:pt x="3610" y="605"/>
                </a:lnTo>
                <a:lnTo>
                  <a:pt x="3666" y="571"/>
                </a:lnTo>
                <a:lnTo>
                  <a:pt x="3727" y="530"/>
                </a:lnTo>
                <a:lnTo>
                  <a:pt x="3758" y="507"/>
                </a:lnTo>
                <a:lnTo>
                  <a:pt x="3790" y="484"/>
                </a:lnTo>
                <a:lnTo>
                  <a:pt x="3822" y="459"/>
                </a:lnTo>
                <a:lnTo>
                  <a:pt x="3855" y="432"/>
                </a:lnTo>
                <a:lnTo>
                  <a:pt x="3886" y="404"/>
                </a:lnTo>
                <a:lnTo>
                  <a:pt x="3918" y="376"/>
                </a:lnTo>
                <a:lnTo>
                  <a:pt x="3950" y="345"/>
                </a:lnTo>
                <a:lnTo>
                  <a:pt x="3981" y="314"/>
                </a:lnTo>
                <a:lnTo>
                  <a:pt x="4011" y="280"/>
                </a:lnTo>
                <a:lnTo>
                  <a:pt x="4041" y="245"/>
                </a:lnTo>
                <a:lnTo>
                  <a:pt x="4070" y="209"/>
                </a:lnTo>
                <a:lnTo>
                  <a:pt x="4098" y="174"/>
                </a:lnTo>
                <a:lnTo>
                  <a:pt x="4124" y="135"/>
                </a:lnTo>
                <a:lnTo>
                  <a:pt x="4149" y="95"/>
                </a:lnTo>
                <a:lnTo>
                  <a:pt x="4171" y="54"/>
                </a:lnTo>
                <a:lnTo>
                  <a:pt x="4192" y="12"/>
                </a:lnTo>
                <a:lnTo>
                  <a:pt x="0" y="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6453360" y="5865840"/>
            <a:ext cx="954000" cy="108000"/>
          </a:xfrm>
          <a:custGeom>
            <a:avLst/>
            <a:gdLst/>
            <a:ahLst/>
            <a:rect l="l" t="t" r="r" b="b"/>
            <a:pathLst>
              <a:path w="2406" h="273">
                <a:moveTo>
                  <a:pt x="1190" y="37"/>
                </a:moveTo>
                <a:lnTo>
                  <a:pt x="1180" y="40"/>
                </a:lnTo>
                <a:lnTo>
                  <a:pt x="1153" y="47"/>
                </a:lnTo>
                <a:lnTo>
                  <a:pt x="1109" y="60"/>
                </a:lnTo>
                <a:lnTo>
                  <a:pt x="1052" y="74"/>
                </a:lnTo>
                <a:lnTo>
                  <a:pt x="984" y="92"/>
                </a:lnTo>
                <a:lnTo>
                  <a:pt x="907" y="112"/>
                </a:lnTo>
                <a:lnTo>
                  <a:pt x="824" y="132"/>
                </a:lnTo>
                <a:lnTo>
                  <a:pt x="734" y="153"/>
                </a:lnTo>
                <a:lnTo>
                  <a:pt x="644" y="174"/>
                </a:lnTo>
                <a:lnTo>
                  <a:pt x="553" y="192"/>
                </a:lnTo>
                <a:lnTo>
                  <a:pt x="464" y="210"/>
                </a:lnTo>
                <a:lnTo>
                  <a:pt x="379" y="223"/>
                </a:lnTo>
                <a:lnTo>
                  <a:pt x="339" y="230"/>
                </a:lnTo>
                <a:lnTo>
                  <a:pt x="301" y="234"/>
                </a:lnTo>
                <a:lnTo>
                  <a:pt x="265" y="238"/>
                </a:lnTo>
                <a:lnTo>
                  <a:pt x="231" y="241"/>
                </a:lnTo>
                <a:lnTo>
                  <a:pt x="202" y="242"/>
                </a:lnTo>
                <a:lnTo>
                  <a:pt x="173" y="242"/>
                </a:lnTo>
                <a:lnTo>
                  <a:pt x="149" y="241"/>
                </a:lnTo>
                <a:lnTo>
                  <a:pt x="128" y="237"/>
                </a:lnTo>
                <a:lnTo>
                  <a:pt x="0" y="263"/>
                </a:lnTo>
                <a:lnTo>
                  <a:pt x="2397" y="273"/>
                </a:lnTo>
                <a:lnTo>
                  <a:pt x="2406" y="0"/>
                </a:lnTo>
                <a:lnTo>
                  <a:pt x="1190" y="37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330120" y="4853160"/>
            <a:ext cx="671760" cy="799920"/>
          </a:xfrm>
          <a:custGeom>
            <a:avLst/>
            <a:gdLst/>
            <a:ahLst/>
            <a:rect l="l" t="t" r="r" b="b"/>
            <a:pathLst>
              <a:path w="1692" h="2017">
                <a:moveTo>
                  <a:pt x="1423" y="455"/>
                </a:moveTo>
                <a:lnTo>
                  <a:pt x="1420" y="449"/>
                </a:lnTo>
                <a:lnTo>
                  <a:pt x="1415" y="443"/>
                </a:lnTo>
                <a:lnTo>
                  <a:pt x="1409" y="436"/>
                </a:lnTo>
                <a:lnTo>
                  <a:pt x="1402" y="431"/>
                </a:lnTo>
                <a:lnTo>
                  <a:pt x="1393" y="426"/>
                </a:lnTo>
                <a:lnTo>
                  <a:pt x="1384" y="421"/>
                </a:lnTo>
                <a:lnTo>
                  <a:pt x="1373" y="418"/>
                </a:lnTo>
                <a:lnTo>
                  <a:pt x="1362" y="414"/>
                </a:lnTo>
                <a:lnTo>
                  <a:pt x="1338" y="408"/>
                </a:lnTo>
                <a:lnTo>
                  <a:pt x="1312" y="404"/>
                </a:lnTo>
                <a:lnTo>
                  <a:pt x="1284" y="400"/>
                </a:lnTo>
                <a:lnTo>
                  <a:pt x="1256" y="398"/>
                </a:lnTo>
                <a:lnTo>
                  <a:pt x="1201" y="397"/>
                </a:lnTo>
                <a:lnTo>
                  <a:pt x="1155" y="397"/>
                </a:lnTo>
                <a:lnTo>
                  <a:pt x="1121" y="398"/>
                </a:lnTo>
                <a:lnTo>
                  <a:pt x="1109" y="398"/>
                </a:lnTo>
                <a:lnTo>
                  <a:pt x="1095" y="398"/>
                </a:lnTo>
                <a:lnTo>
                  <a:pt x="1081" y="397"/>
                </a:lnTo>
                <a:lnTo>
                  <a:pt x="1070" y="394"/>
                </a:lnTo>
                <a:lnTo>
                  <a:pt x="1059" y="392"/>
                </a:lnTo>
                <a:lnTo>
                  <a:pt x="1049" y="388"/>
                </a:lnTo>
                <a:lnTo>
                  <a:pt x="1040" y="383"/>
                </a:lnTo>
                <a:lnTo>
                  <a:pt x="1033" y="378"/>
                </a:lnTo>
                <a:lnTo>
                  <a:pt x="1025" y="373"/>
                </a:lnTo>
                <a:lnTo>
                  <a:pt x="1020" y="367"/>
                </a:lnTo>
                <a:lnTo>
                  <a:pt x="1014" y="361"/>
                </a:lnTo>
                <a:lnTo>
                  <a:pt x="1011" y="353"/>
                </a:lnTo>
                <a:lnTo>
                  <a:pt x="1007" y="346"/>
                </a:lnTo>
                <a:lnTo>
                  <a:pt x="1001" y="331"/>
                </a:lnTo>
                <a:lnTo>
                  <a:pt x="998" y="316"/>
                </a:lnTo>
                <a:lnTo>
                  <a:pt x="997" y="300"/>
                </a:lnTo>
                <a:lnTo>
                  <a:pt x="997" y="285"/>
                </a:lnTo>
                <a:lnTo>
                  <a:pt x="998" y="270"/>
                </a:lnTo>
                <a:lnTo>
                  <a:pt x="999" y="258"/>
                </a:lnTo>
                <a:lnTo>
                  <a:pt x="1004" y="238"/>
                </a:lnTo>
                <a:lnTo>
                  <a:pt x="1006" y="232"/>
                </a:lnTo>
                <a:lnTo>
                  <a:pt x="1038" y="1"/>
                </a:lnTo>
                <a:lnTo>
                  <a:pt x="982" y="0"/>
                </a:lnTo>
                <a:lnTo>
                  <a:pt x="921" y="1"/>
                </a:lnTo>
                <a:lnTo>
                  <a:pt x="859" y="3"/>
                </a:lnTo>
                <a:lnTo>
                  <a:pt x="794" y="7"/>
                </a:lnTo>
                <a:lnTo>
                  <a:pt x="730" y="13"/>
                </a:lnTo>
                <a:lnTo>
                  <a:pt x="667" y="21"/>
                </a:lnTo>
                <a:lnTo>
                  <a:pt x="604" y="28"/>
                </a:lnTo>
                <a:lnTo>
                  <a:pt x="544" y="36"/>
                </a:lnTo>
                <a:lnTo>
                  <a:pt x="434" y="53"/>
                </a:lnTo>
                <a:lnTo>
                  <a:pt x="347" y="67"/>
                </a:lnTo>
                <a:lnTo>
                  <a:pt x="289" y="78"/>
                </a:lnTo>
                <a:lnTo>
                  <a:pt x="268" y="82"/>
                </a:lnTo>
                <a:lnTo>
                  <a:pt x="239" y="103"/>
                </a:lnTo>
                <a:lnTo>
                  <a:pt x="215" y="124"/>
                </a:lnTo>
                <a:lnTo>
                  <a:pt x="193" y="146"/>
                </a:lnTo>
                <a:lnTo>
                  <a:pt x="175" y="167"/>
                </a:lnTo>
                <a:lnTo>
                  <a:pt x="159" y="189"/>
                </a:lnTo>
                <a:lnTo>
                  <a:pt x="145" y="212"/>
                </a:lnTo>
                <a:lnTo>
                  <a:pt x="135" y="234"/>
                </a:lnTo>
                <a:lnTo>
                  <a:pt x="126" y="256"/>
                </a:lnTo>
                <a:lnTo>
                  <a:pt x="121" y="278"/>
                </a:lnTo>
                <a:lnTo>
                  <a:pt x="116" y="300"/>
                </a:lnTo>
                <a:lnTo>
                  <a:pt x="115" y="321"/>
                </a:lnTo>
                <a:lnTo>
                  <a:pt x="115" y="342"/>
                </a:lnTo>
                <a:lnTo>
                  <a:pt x="116" y="363"/>
                </a:lnTo>
                <a:lnTo>
                  <a:pt x="119" y="384"/>
                </a:lnTo>
                <a:lnTo>
                  <a:pt x="123" y="404"/>
                </a:lnTo>
                <a:lnTo>
                  <a:pt x="129" y="423"/>
                </a:lnTo>
                <a:lnTo>
                  <a:pt x="134" y="443"/>
                </a:lnTo>
                <a:lnTo>
                  <a:pt x="141" y="460"/>
                </a:lnTo>
                <a:lnTo>
                  <a:pt x="149" y="477"/>
                </a:lnTo>
                <a:lnTo>
                  <a:pt x="156" y="493"/>
                </a:lnTo>
                <a:lnTo>
                  <a:pt x="174" y="523"/>
                </a:lnTo>
                <a:lnTo>
                  <a:pt x="190" y="549"/>
                </a:lnTo>
                <a:lnTo>
                  <a:pt x="217" y="585"/>
                </a:lnTo>
                <a:lnTo>
                  <a:pt x="229" y="599"/>
                </a:lnTo>
                <a:lnTo>
                  <a:pt x="227" y="601"/>
                </a:lnTo>
                <a:lnTo>
                  <a:pt x="226" y="603"/>
                </a:lnTo>
                <a:lnTo>
                  <a:pt x="215" y="601"/>
                </a:lnTo>
                <a:lnTo>
                  <a:pt x="184" y="646"/>
                </a:lnTo>
                <a:lnTo>
                  <a:pt x="155" y="691"/>
                </a:lnTo>
                <a:lnTo>
                  <a:pt x="130" y="738"/>
                </a:lnTo>
                <a:lnTo>
                  <a:pt x="107" y="786"/>
                </a:lnTo>
                <a:lnTo>
                  <a:pt x="87" y="835"/>
                </a:lnTo>
                <a:lnTo>
                  <a:pt x="69" y="884"/>
                </a:lnTo>
                <a:lnTo>
                  <a:pt x="54" y="935"/>
                </a:lnTo>
                <a:lnTo>
                  <a:pt x="41" y="986"/>
                </a:lnTo>
                <a:lnTo>
                  <a:pt x="30" y="1036"/>
                </a:lnTo>
                <a:lnTo>
                  <a:pt x="21" y="1087"/>
                </a:lnTo>
                <a:lnTo>
                  <a:pt x="13" y="1137"/>
                </a:lnTo>
                <a:lnTo>
                  <a:pt x="7" y="1187"/>
                </a:lnTo>
                <a:lnTo>
                  <a:pt x="3" y="1237"/>
                </a:lnTo>
                <a:lnTo>
                  <a:pt x="1" y="1285"/>
                </a:lnTo>
                <a:lnTo>
                  <a:pt x="0" y="1333"/>
                </a:lnTo>
                <a:lnTo>
                  <a:pt x="0" y="1379"/>
                </a:lnTo>
                <a:lnTo>
                  <a:pt x="0" y="1425"/>
                </a:lnTo>
                <a:lnTo>
                  <a:pt x="2" y="1469"/>
                </a:lnTo>
                <a:lnTo>
                  <a:pt x="5" y="1511"/>
                </a:lnTo>
                <a:lnTo>
                  <a:pt x="7" y="1551"/>
                </a:lnTo>
                <a:lnTo>
                  <a:pt x="15" y="1624"/>
                </a:lnTo>
                <a:lnTo>
                  <a:pt x="23" y="1687"/>
                </a:lnTo>
                <a:lnTo>
                  <a:pt x="32" y="1739"/>
                </a:lnTo>
                <a:lnTo>
                  <a:pt x="39" y="1779"/>
                </a:lnTo>
                <a:lnTo>
                  <a:pt x="44" y="1804"/>
                </a:lnTo>
                <a:lnTo>
                  <a:pt x="47" y="1812"/>
                </a:lnTo>
                <a:lnTo>
                  <a:pt x="52" y="1828"/>
                </a:lnTo>
                <a:lnTo>
                  <a:pt x="59" y="1842"/>
                </a:lnTo>
                <a:lnTo>
                  <a:pt x="66" y="1856"/>
                </a:lnTo>
                <a:lnTo>
                  <a:pt x="73" y="1868"/>
                </a:lnTo>
                <a:lnTo>
                  <a:pt x="82" y="1878"/>
                </a:lnTo>
                <a:lnTo>
                  <a:pt x="90" y="1887"/>
                </a:lnTo>
                <a:lnTo>
                  <a:pt x="99" y="1895"/>
                </a:lnTo>
                <a:lnTo>
                  <a:pt x="109" y="1902"/>
                </a:lnTo>
                <a:lnTo>
                  <a:pt x="119" y="1908"/>
                </a:lnTo>
                <a:lnTo>
                  <a:pt x="129" y="1912"/>
                </a:lnTo>
                <a:lnTo>
                  <a:pt x="139" y="1915"/>
                </a:lnTo>
                <a:lnTo>
                  <a:pt x="149" y="1918"/>
                </a:lnTo>
                <a:lnTo>
                  <a:pt x="159" y="1920"/>
                </a:lnTo>
                <a:lnTo>
                  <a:pt x="170" y="1921"/>
                </a:lnTo>
                <a:lnTo>
                  <a:pt x="180" y="1921"/>
                </a:lnTo>
                <a:lnTo>
                  <a:pt x="190" y="1921"/>
                </a:lnTo>
                <a:lnTo>
                  <a:pt x="210" y="1920"/>
                </a:lnTo>
                <a:lnTo>
                  <a:pt x="229" y="1918"/>
                </a:lnTo>
                <a:lnTo>
                  <a:pt x="247" y="1913"/>
                </a:lnTo>
                <a:lnTo>
                  <a:pt x="262" y="1908"/>
                </a:lnTo>
                <a:lnTo>
                  <a:pt x="284" y="1899"/>
                </a:lnTo>
                <a:lnTo>
                  <a:pt x="292" y="1895"/>
                </a:lnTo>
                <a:lnTo>
                  <a:pt x="311" y="1914"/>
                </a:lnTo>
                <a:lnTo>
                  <a:pt x="331" y="1931"/>
                </a:lnTo>
                <a:lnTo>
                  <a:pt x="350" y="1946"/>
                </a:lnTo>
                <a:lnTo>
                  <a:pt x="369" y="1960"/>
                </a:lnTo>
                <a:lnTo>
                  <a:pt x="386" y="1971"/>
                </a:lnTo>
                <a:lnTo>
                  <a:pt x="402" y="1981"/>
                </a:lnTo>
                <a:lnTo>
                  <a:pt x="418" y="1990"/>
                </a:lnTo>
                <a:lnTo>
                  <a:pt x="433" y="1997"/>
                </a:lnTo>
                <a:lnTo>
                  <a:pt x="448" y="2003"/>
                </a:lnTo>
                <a:lnTo>
                  <a:pt x="463" y="2008"/>
                </a:lnTo>
                <a:lnTo>
                  <a:pt x="477" y="2012"/>
                </a:lnTo>
                <a:lnTo>
                  <a:pt x="489" y="2015"/>
                </a:lnTo>
                <a:lnTo>
                  <a:pt x="501" y="2016"/>
                </a:lnTo>
                <a:lnTo>
                  <a:pt x="513" y="2017"/>
                </a:lnTo>
                <a:lnTo>
                  <a:pt x="524" y="2017"/>
                </a:lnTo>
                <a:lnTo>
                  <a:pt x="534" y="2017"/>
                </a:lnTo>
                <a:lnTo>
                  <a:pt x="554" y="2013"/>
                </a:lnTo>
                <a:lnTo>
                  <a:pt x="570" y="2008"/>
                </a:lnTo>
                <a:lnTo>
                  <a:pt x="583" y="2002"/>
                </a:lnTo>
                <a:lnTo>
                  <a:pt x="595" y="1996"/>
                </a:lnTo>
                <a:lnTo>
                  <a:pt x="609" y="1985"/>
                </a:lnTo>
                <a:lnTo>
                  <a:pt x="614" y="1980"/>
                </a:lnTo>
                <a:lnTo>
                  <a:pt x="638" y="1988"/>
                </a:lnTo>
                <a:lnTo>
                  <a:pt x="662" y="1996"/>
                </a:lnTo>
                <a:lnTo>
                  <a:pt x="683" y="2001"/>
                </a:lnTo>
                <a:lnTo>
                  <a:pt x="704" y="2003"/>
                </a:lnTo>
                <a:lnTo>
                  <a:pt x="722" y="2006"/>
                </a:lnTo>
                <a:lnTo>
                  <a:pt x="741" y="2006"/>
                </a:lnTo>
                <a:lnTo>
                  <a:pt x="758" y="2005"/>
                </a:lnTo>
                <a:lnTo>
                  <a:pt x="775" y="2002"/>
                </a:lnTo>
                <a:lnTo>
                  <a:pt x="789" y="1998"/>
                </a:lnTo>
                <a:lnTo>
                  <a:pt x="803" y="1993"/>
                </a:lnTo>
                <a:lnTo>
                  <a:pt x="817" y="1988"/>
                </a:lnTo>
                <a:lnTo>
                  <a:pt x="828" y="1981"/>
                </a:lnTo>
                <a:lnTo>
                  <a:pt x="839" y="1975"/>
                </a:lnTo>
                <a:lnTo>
                  <a:pt x="850" y="1966"/>
                </a:lnTo>
                <a:lnTo>
                  <a:pt x="859" y="1957"/>
                </a:lnTo>
                <a:lnTo>
                  <a:pt x="868" y="1949"/>
                </a:lnTo>
                <a:lnTo>
                  <a:pt x="875" y="1940"/>
                </a:lnTo>
                <a:lnTo>
                  <a:pt x="883" y="1930"/>
                </a:lnTo>
                <a:lnTo>
                  <a:pt x="889" y="1921"/>
                </a:lnTo>
                <a:lnTo>
                  <a:pt x="895" y="1912"/>
                </a:lnTo>
                <a:lnTo>
                  <a:pt x="904" y="1893"/>
                </a:lnTo>
                <a:lnTo>
                  <a:pt x="911" y="1877"/>
                </a:lnTo>
                <a:lnTo>
                  <a:pt x="920" y="1850"/>
                </a:lnTo>
                <a:lnTo>
                  <a:pt x="922" y="1840"/>
                </a:lnTo>
                <a:lnTo>
                  <a:pt x="965" y="1850"/>
                </a:lnTo>
                <a:lnTo>
                  <a:pt x="1004" y="1857"/>
                </a:lnTo>
                <a:lnTo>
                  <a:pt x="1040" y="1862"/>
                </a:lnTo>
                <a:lnTo>
                  <a:pt x="1074" y="1864"/>
                </a:lnTo>
                <a:lnTo>
                  <a:pt x="1105" y="1866"/>
                </a:lnTo>
                <a:lnTo>
                  <a:pt x="1133" y="1864"/>
                </a:lnTo>
                <a:lnTo>
                  <a:pt x="1160" y="1862"/>
                </a:lnTo>
                <a:lnTo>
                  <a:pt x="1183" y="1857"/>
                </a:lnTo>
                <a:lnTo>
                  <a:pt x="1204" y="1851"/>
                </a:lnTo>
                <a:lnTo>
                  <a:pt x="1224" y="1843"/>
                </a:lnTo>
                <a:lnTo>
                  <a:pt x="1241" y="1836"/>
                </a:lnTo>
                <a:lnTo>
                  <a:pt x="1256" y="1826"/>
                </a:lnTo>
                <a:lnTo>
                  <a:pt x="1270" y="1815"/>
                </a:lnTo>
                <a:lnTo>
                  <a:pt x="1282" y="1804"/>
                </a:lnTo>
                <a:lnTo>
                  <a:pt x="1292" y="1792"/>
                </a:lnTo>
                <a:lnTo>
                  <a:pt x="1301" y="1780"/>
                </a:lnTo>
                <a:lnTo>
                  <a:pt x="1309" y="1766"/>
                </a:lnTo>
                <a:lnTo>
                  <a:pt x="1315" y="1754"/>
                </a:lnTo>
                <a:lnTo>
                  <a:pt x="1320" y="1740"/>
                </a:lnTo>
                <a:lnTo>
                  <a:pt x="1323" y="1728"/>
                </a:lnTo>
                <a:lnTo>
                  <a:pt x="1328" y="1703"/>
                </a:lnTo>
                <a:lnTo>
                  <a:pt x="1331" y="1680"/>
                </a:lnTo>
                <a:lnTo>
                  <a:pt x="1330" y="1644"/>
                </a:lnTo>
                <a:lnTo>
                  <a:pt x="1328" y="1630"/>
                </a:lnTo>
                <a:lnTo>
                  <a:pt x="1153" y="1563"/>
                </a:lnTo>
                <a:lnTo>
                  <a:pt x="1133" y="1548"/>
                </a:lnTo>
                <a:lnTo>
                  <a:pt x="1114" y="1531"/>
                </a:lnTo>
                <a:lnTo>
                  <a:pt x="1095" y="1512"/>
                </a:lnTo>
                <a:lnTo>
                  <a:pt x="1075" y="1493"/>
                </a:lnTo>
                <a:lnTo>
                  <a:pt x="1055" y="1472"/>
                </a:lnTo>
                <a:lnTo>
                  <a:pt x="1035" y="1451"/>
                </a:lnTo>
                <a:lnTo>
                  <a:pt x="1015" y="1429"/>
                </a:lnTo>
                <a:lnTo>
                  <a:pt x="994" y="1405"/>
                </a:lnTo>
                <a:lnTo>
                  <a:pt x="987" y="1377"/>
                </a:lnTo>
                <a:lnTo>
                  <a:pt x="982" y="1348"/>
                </a:lnTo>
                <a:lnTo>
                  <a:pt x="977" y="1320"/>
                </a:lnTo>
                <a:lnTo>
                  <a:pt x="976" y="1291"/>
                </a:lnTo>
                <a:lnTo>
                  <a:pt x="975" y="1263"/>
                </a:lnTo>
                <a:lnTo>
                  <a:pt x="975" y="1234"/>
                </a:lnTo>
                <a:lnTo>
                  <a:pt x="975" y="1208"/>
                </a:lnTo>
                <a:lnTo>
                  <a:pt x="977" y="1183"/>
                </a:lnTo>
                <a:lnTo>
                  <a:pt x="981" y="1137"/>
                </a:lnTo>
                <a:lnTo>
                  <a:pt x="987" y="1103"/>
                </a:lnTo>
                <a:lnTo>
                  <a:pt x="991" y="1079"/>
                </a:lnTo>
                <a:lnTo>
                  <a:pt x="993" y="1070"/>
                </a:lnTo>
                <a:lnTo>
                  <a:pt x="992" y="1053"/>
                </a:lnTo>
                <a:lnTo>
                  <a:pt x="993" y="1034"/>
                </a:lnTo>
                <a:lnTo>
                  <a:pt x="996" y="1017"/>
                </a:lnTo>
                <a:lnTo>
                  <a:pt x="1001" y="1001"/>
                </a:lnTo>
                <a:lnTo>
                  <a:pt x="1007" y="984"/>
                </a:lnTo>
                <a:lnTo>
                  <a:pt x="1015" y="967"/>
                </a:lnTo>
                <a:lnTo>
                  <a:pt x="1024" y="951"/>
                </a:lnTo>
                <a:lnTo>
                  <a:pt x="1034" y="936"/>
                </a:lnTo>
                <a:lnTo>
                  <a:pt x="1045" y="921"/>
                </a:lnTo>
                <a:lnTo>
                  <a:pt x="1058" y="907"/>
                </a:lnTo>
                <a:lnTo>
                  <a:pt x="1071" y="893"/>
                </a:lnTo>
                <a:lnTo>
                  <a:pt x="1085" y="879"/>
                </a:lnTo>
                <a:lnTo>
                  <a:pt x="1114" y="854"/>
                </a:lnTo>
                <a:lnTo>
                  <a:pt x="1145" y="831"/>
                </a:lnTo>
                <a:lnTo>
                  <a:pt x="1176" y="810"/>
                </a:lnTo>
                <a:lnTo>
                  <a:pt x="1205" y="791"/>
                </a:lnTo>
                <a:lnTo>
                  <a:pt x="1233" y="775"/>
                </a:lnTo>
                <a:lnTo>
                  <a:pt x="1258" y="761"/>
                </a:lnTo>
                <a:lnTo>
                  <a:pt x="1296" y="743"/>
                </a:lnTo>
                <a:lnTo>
                  <a:pt x="1310" y="737"/>
                </a:lnTo>
                <a:lnTo>
                  <a:pt x="1328" y="760"/>
                </a:lnTo>
                <a:lnTo>
                  <a:pt x="1347" y="780"/>
                </a:lnTo>
                <a:lnTo>
                  <a:pt x="1364" y="799"/>
                </a:lnTo>
                <a:lnTo>
                  <a:pt x="1383" y="816"/>
                </a:lnTo>
                <a:lnTo>
                  <a:pt x="1400" y="830"/>
                </a:lnTo>
                <a:lnTo>
                  <a:pt x="1418" y="842"/>
                </a:lnTo>
                <a:lnTo>
                  <a:pt x="1435" y="853"/>
                </a:lnTo>
                <a:lnTo>
                  <a:pt x="1453" y="862"/>
                </a:lnTo>
                <a:lnTo>
                  <a:pt x="1469" y="869"/>
                </a:lnTo>
                <a:lnTo>
                  <a:pt x="1485" y="874"/>
                </a:lnTo>
                <a:lnTo>
                  <a:pt x="1501" y="879"/>
                </a:lnTo>
                <a:lnTo>
                  <a:pt x="1517" y="882"/>
                </a:lnTo>
                <a:lnTo>
                  <a:pt x="1532" y="884"/>
                </a:lnTo>
                <a:lnTo>
                  <a:pt x="1547" y="884"/>
                </a:lnTo>
                <a:lnTo>
                  <a:pt x="1561" y="884"/>
                </a:lnTo>
                <a:lnTo>
                  <a:pt x="1574" y="883"/>
                </a:lnTo>
                <a:lnTo>
                  <a:pt x="1588" y="882"/>
                </a:lnTo>
                <a:lnTo>
                  <a:pt x="1600" y="879"/>
                </a:lnTo>
                <a:lnTo>
                  <a:pt x="1612" y="876"/>
                </a:lnTo>
                <a:lnTo>
                  <a:pt x="1623" y="872"/>
                </a:lnTo>
                <a:lnTo>
                  <a:pt x="1643" y="864"/>
                </a:lnTo>
                <a:lnTo>
                  <a:pt x="1660" y="856"/>
                </a:lnTo>
                <a:lnTo>
                  <a:pt x="1684" y="841"/>
                </a:lnTo>
                <a:lnTo>
                  <a:pt x="1692" y="835"/>
                </a:lnTo>
                <a:lnTo>
                  <a:pt x="1682" y="821"/>
                </a:lnTo>
                <a:lnTo>
                  <a:pt x="1654" y="785"/>
                </a:lnTo>
                <a:lnTo>
                  <a:pt x="1614" y="734"/>
                </a:lnTo>
                <a:lnTo>
                  <a:pt x="1568" y="673"/>
                </a:lnTo>
                <a:lnTo>
                  <a:pt x="1521" y="609"/>
                </a:lnTo>
                <a:lnTo>
                  <a:pt x="1477" y="547"/>
                </a:lnTo>
                <a:lnTo>
                  <a:pt x="1459" y="518"/>
                </a:lnTo>
                <a:lnTo>
                  <a:pt x="1443" y="493"/>
                </a:lnTo>
                <a:lnTo>
                  <a:pt x="1430" y="472"/>
                </a:lnTo>
                <a:lnTo>
                  <a:pt x="1423" y="455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312840" y="4835520"/>
            <a:ext cx="704880" cy="835200"/>
          </a:xfrm>
          <a:custGeom>
            <a:avLst/>
            <a:gdLst/>
            <a:ahLst/>
            <a:rect l="l" t="t" r="r" b="b"/>
            <a:pathLst>
              <a:path w="1778" h="2104">
                <a:moveTo>
                  <a:pt x="304" y="83"/>
                </a:moveTo>
                <a:lnTo>
                  <a:pt x="296" y="86"/>
                </a:lnTo>
                <a:lnTo>
                  <a:pt x="288" y="91"/>
                </a:lnTo>
                <a:lnTo>
                  <a:pt x="268" y="103"/>
                </a:lnTo>
                <a:lnTo>
                  <a:pt x="251" y="118"/>
                </a:lnTo>
                <a:lnTo>
                  <a:pt x="235" y="132"/>
                </a:lnTo>
                <a:lnTo>
                  <a:pt x="219" y="147"/>
                </a:lnTo>
                <a:lnTo>
                  <a:pt x="205" y="162"/>
                </a:lnTo>
                <a:lnTo>
                  <a:pt x="191" y="176"/>
                </a:lnTo>
                <a:lnTo>
                  <a:pt x="179" y="193"/>
                </a:lnTo>
                <a:lnTo>
                  <a:pt x="168" y="209"/>
                </a:lnTo>
                <a:lnTo>
                  <a:pt x="158" y="225"/>
                </a:lnTo>
                <a:lnTo>
                  <a:pt x="149" y="241"/>
                </a:lnTo>
                <a:lnTo>
                  <a:pt x="141" y="258"/>
                </a:lnTo>
                <a:lnTo>
                  <a:pt x="134" y="274"/>
                </a:lnTo>
                <a:lnTo>
                  <a:pt x="128" y="293"/>
                </a:lnTo>
                <a:lnTo>
                  <a:pt x="123" y="310"/>
                </a:lnTo>
                <a:lnTo>
                  <a:pt x="119" y="328"/>
                </a:lnTo>
                <a:lnTo>
                  <a:pt x="117" y="346"/>
                </a:lnTo>
                <a:lnTo>
                  <a:pt x="116" y="363"/>
                </a:lnTo>
                <a:lnTo>
                  <a:pt x="116" y="379"/>
                </a:lnTo>
                <a:lnTo>
                  <a:pt x="117" y="400"/>
                </a:lnTo>
                <a:lnTo>
                  <a:pt x="118" y="421"/>
                </a:lnTo>
                <a:lnTo>
                  <a:pt x="122" y="441"/>
                </a:lnTo>
                <a:lnTo>
                  <a:pt x="126" y="461"/>
                </a:lnTo>
                <a:lnTo>
                  <a:pt x="131" y="479"/>
                </a:lnTo>
                <a:lnTo>
                  <a:pt x="137" y="498"/>
                </a:lnTo>
                <a:lnTo>
                  <a:pt x="144" y="515"/>
                </a:lnTo>
                <a:lnTo>
                  <a:pt x="151" y="532"/>
                </a:lnTo>
                <a:lnTo>
                  <a:pt x="167" y="565"/>
                </a:lnTo>
                <a:lnTo>
                  <a:pt x="183" y="593"/>
                </a:lnTo>
                <a:lnTo>
                  <a:pt x="199" y="617"/>
                </a:lnTo>
                <a:lnTo>
                  <a:pt x="214" y="638"/>
                </a:lnTo>
                <a:lnTo>
                  <a:pt x="199" y="660"/>
                </a:lnTo>
                <a:lnTo>
                  <a:pt x="184" y="683"/>
                </a:lnTo>
                <a:lnTo>
                  <a:pt x="169" y="705"/>
                </a:lnTo>
                <a:lnTo>
                  <a:pt x="157" y="729"/>
                </a:lnTo>
                <a:lnTo>
                  <a:pt x="143" y="751"/>
                </a:lnTo>
                <a:lnTo>
                  <a:pt x="132" y="774"/>
                </a:lnTo>
                <a:lnTo>
                  <a:pt x="119" y="799"/>
                </a:lnTo>
                <a:lnTo>
                  <a:pt x="110" y="823"/>
                </a:lnTo>
                <a:lnTo>
                  <a:pt x="90" y="871"/>
                </a:lnTo>
                <a:lnTo>
                  <a:pt x="72" y="921"/>
                </a:lnTo>
                <a:lnTo>
                  <a:pt x="56" y="970"/>
                </a:lnTo>
                <a:lnTo>
                  <a:pt x="44" y="1020"/>
                </a:lnTo>
                <a:lnTo>
                  <a:pt x="33" y="1070"/>
                </a:lnTo>
                <a:lnTo>
                  <a:pt x="23" y="1119"/>
                </a:lnTo>
                <a:lnTo>
                  <a:pt x="15" y="1169"/>
                </a:lnTo>
                <a:lnTo>
                  <a:pt x="9" y="1219"/>
                </a:lnTo>
                <a:lnTo>
                  <a:pt x="5" y="1267"/>
                </a:lnTo>
                <a:lnTo>
                  <a:pt x="2" y="1315"/>
                </a:lnTo>
                <a:lnTo>
                  <a:pt x="0" y="1363"/>
                </a:lnTo>
                <a:lnTo>
                  <a:pt x="0" y="1408"/>
                </a:lnTo>
                <a:lnTo>
                  <a:pt x="0" y="1454"/>
                </a:lnTo>
                <a:lnTo>
                  <a:pt x="2" y="1499"/>
                </a:lnTo>
                <a:lnTo>
                  <a:pt x="4" y="1541"/>
                </a:lnTo>
                <a:lnTo>
                  <a:pt x="6" y="1582"/>
                </a:lnTo>
                <a:lnTo>
                  <a:pt x="14" y="1658"/>
                </a:lnTo>
                <a:lnTo>
                  <a:pt x="23" y="1725"/>
                </a:lnTo>
                <a:lnTo>
                  <a:pt x="31" y="1779"/>
                </a:lnTo>
                <a:lnTo>
                  <a:pt x="40" y="1823"/>
                </a:lnTo>
                <a:lnTo>
                  <a:pt x="46" y="1851"/>
                </a:lnTo>
                <a:lnTo>
                  <a:pt x="49" y="1866"/>
                </a:lnTo>
                <a:lnTo>
                  <a:pt x="57" y="1890"/>
                </a:lnTo>
                <a:lnTo>
                  <a:pt x="67" y="1911"/>
                </a:lnTo>
                <a:lnTo>
                  <a:pt x="78" y="1930"/>
                </a:lnTo>
                <a:lnTo>
                  <a:pt x="91" y="1947"/>
                </a:lnTo>
                <a:lnTo>
                  <a:pt x="97" y="1954"/>
                </a:lnTo>
                <a:lnTo>
                  <a:pt x="105" y="1962"/>
                </a:lnTo>
                <a:lnTo>
                  <a:pt x="112" y="1969"/>
                </a:lnTo>
                <a:lnTo>
                  <a:pt x="119" y="1975"/>
                </a:lnTo>
                <a:lnTo>
                  <a:pt x="128" y="1980"/>
                </a:lnTo>
                <a:lnTo>
                  <a:pt x="137" y="1987"/>
                </a:lnTo>
                <a:lnTo>
                  <a:pt x="146" y="1990"/>
                </a:lnTo>
                <a:lnTo>
                  <a:pt x="154" y="1995"/>
                </a:lnTo>
                <a:lnTo>
                  <a:pt x="168" y="2000"/>
                </a:lnTo>
                <a:lnTo>
                  <a:pt x="180" y="2004"/>
                </a:lnTo>
                <a:lnTo>
                  <a:pt x="194" y="2006"/>
                </a:lnTo>
                <a:lnTo>
                  <a:pt x="206" y="2008"/>
                </a:lnTo>
                <a:lnTo>
                  <a:pt x="219" y="2009"/>
                </a:lnTo>
                <a:lnTo>
                  <a:pt x="231" y="2009"/>
                </a:lnTo>
                <a:lnTo>
                  <a:pt x="244" y="2009"/>
                </a:lnTo>
                <a:lnTo>
                  <a:pt x="255" y="2008"/>
                </a:lnTo>
                <a:lnTo>
                  <a:pt x="277" y="2004"/>
                </a:lnTo>
                <a:lnTo>
                  <a:pt x="297" y="1999"/>
                </a:lnTo>
                <a:lnTo>
                  <a:pt x="314" y="1994"/>
                </a:lnTo>
                <a:lnTo>
                  <a:pt x="329" y="1988"/>
                </a:lnTo>
                <a:lnTo>
                  <a:pt x="345" y="2003"/>
                </a:lnTo>
                <a:lnTo>
                  <a:pt x="362" y="2015"/>
                </a:lnTo>
                <a:lnTo>
                  <a:pt x="378" y="2028"/>
                </a:lnTo>
                <a:lnTo>
                  <a:pt x="394" y="2040"/>
                </a:lnTo>
                <a:lnTo>
                  <a:pt x="410" y="2050"/>
                </a:lnTo>
                <a:lnTo>
                  <a:pt x="425" y="2060"/>
                </a:lnTo>
                <a:lnTo>
                  <a:pt x="441" y="2068"/>
                </a:lnTo>
                <a:lnTo>
                  <a:pt x="456" y="2076"/>
                </a:lnTo>
                <a:lnTo>
                  <a:pt x="471" y="2083"/>
                </a:lnTo>
                <a:lnTo>
                  <a:pt x="487" y="2090"/>
                </a:lnTo>
                <a:lnTo>
                  <a:pt x="502" y="2095"/>
                </a:lnTo>
                <a:lnTo>
                  <a:pt x="517" y="2098"/>
                </a:lnTo>
                <a:lnTo>
                  <a:pt x="530" y="2101"/>
                </a:lnTo>
                <a:lnTo>
                  <a:pt x="545" y="2103"/>
                </a:lnTo>
                <a:lnTo>
                  <a:pt x="559" y="2104"/>
                </a:lnTo>
                <a:lnTo>
                  <a:pt x="574" y="2103"/>
                </a:lnTo>
                <a:lnTo>
                  <a:pt x="591" y="2102"/>
                </a:lnTo>
                <a:lnTo>
                  <a:pt x="606" y="2099"/>
                </a:lnTo>
                <a:lnTo>
                  <a:pt x="621" y="2096"/>
                </a:lnTo>
                <a:lnTo>
                  <a:pt x="632" y="2091"/>
                </a:lnTo>
                <a:lnTo>
                  <a:pt x="643" y="2086"/>
                </a:lnTo>
                <a:lnTo>
                  <a:pt x="653" y="2081"/>
                </a:lnTo>
                <a:lnTo>
                  <a:pt x="662" y="2075"/>
                </a:lnTo>
                <a:lnTo>
                  <a:pt x="670" y="2070"/>
                </a:lnTo>
                <a:lnTo>
                  <a:pt x="701" y="2078"/>
                </a:lnTo>
                <a:lnTo>
                  <a:pt x="730" y="2085"/>
                </a:lnTo>
                <a:lnTo>
                  <a:pt x="745" y="2087"/>
                </a:lnTo>
                <a:lnTo>
                  <a:pt x="760" y="2090"/>
                </a:lnTo>
                <a:lnTo>
                  <a:pt x="775" y="2090"/>
                </a:lnTo>
                <a:lnTo>
                  <a:pt x="789" y="2090"/>
                </a:lnTo>
                <a:lnTo>
                  <a:pt x="802" y="2090"/>
                </a:lnTo>
                <a:lnTo>
                  <a:pt x="816" y="2088"/>
                </a:lnTo>
                <a:lnTo>
                  <a:pt x="829" y="2087"/>
                </a:lnTo>
                <a:lnTo>
                  <a:pt x="842" y="2083"/>
                </a:lnTo>
                <a:lnTo>
                  <a:pt x="855" y="2081"/>
                </a:lnTo>
                <a:lnTo>
                  <a:pt x="867" y="2076"/>
                </a:lnTo>
                <a:lnTo>
                  <a:pt x="878" y="2071"/>
                </a:lnTo>
                <a:lnTo>
                  <a:pt x="889" y="2065"/>
                </a:lnTo>
                <a:lnTo>
                  <a:pt x="901" y="2059"/>
                </a:lnTo>
                <a:lnTo>
                  <a:pt x="912" y="2051"/>
                </a:lnTo>
                <a:lnTo>
                  <a:pt x="922" y="2042"/>
                </a:lnTo>
                <a:lnTo>
                  <a:pt x="930" y="2035"/>
                </a:lnTo>
                <a:lnTo>
                  <a:pt x="948" y="2018"/>
                </a:lnTo>
                <a:lnTo>
                  <a:pt x="961" y="1999"/>
                </a:lnTo>
                <a:lnTo>
                  <a:pt x="973" y="1982"/>
                </a:lnTo>
                <a:lnTo>
                  <a:pt x="982" y="1964"/>
                </a:lnTo>
                <a:lnTo>
                  <a:pt x="990" y="1947"/>
                </a:lnTo>
                <a:lnTo>
                  <a:pt x="996" y="1931"/>
                </a:lnTo>
                <a:lnTo>
                  <a:pt x="1026" y="1937"/>
                </a:lnTo>
                <a:lnTo>
                  <a:pt x="1055" y="1942"/>
                </a:lnTo>
                <a:lnTo>
                  <a:pt x="1082" y="1946"/>
                </a:lnTo>
                <a:lnTo>
                  <a:pt x="1109" y="1948"/>
                </a:lnTo>
                <a:lnTo>
                  <a:pt x="1134" y="1949"/>
                </a:lnTo>
                <a:lnTo>
                  <a:pt x="1159" y="1949"/>
                </a:lnTo>
                <a:lnTo>
                  <a:pt x="1184" y="1948"/>
                </a:lnTo>
                <a:lnTo>
                  <a:pt x="1206" y="1946"/>
                </a:lnTo>
                <a:lnTo>
                  <a:pt x="1227" y="1943"/>
                </a:lnTo>
                <a:lnTo>
                  <a:pt x="1248" y="1938"/>
                </a:lnTo>
                <a:lnTo>
                  <a:pt x="1268" y="1933"/>
                </a:lnTo>
                <a:lnTo>
                  <a:pt x="1287" y="1926"/>
                </a:lnTo>
                <a:lnTo>
                  <a:pt x="1303" y="1917"/>
                </a:lnTo>
                <a:lnTo>
                  <a:pt x="1320" y="1908"/>
                </a:lnTo>
                <a:lnTo>
                  <a:pt x="1335" y="1897"/>
                </a:lnTo>
                <a:lnTo>
                  <a:pt x="1349" y="1886"/>
                </a:lnTo>
                <a:lnTo>
                  <a:pt x="1359" y="1875"/>
                </a:lnTo>
                <a:lnTo>
                  <a:pt x="1369" y="1864"/>
                </a:lnTo>
                <a:lnTo>
                  <a:pt x="1376" y="1853"/>
                </a:lnTo>
                <a:lnTo>
                  <a:pt x="1384" y="1841"/>
                </a:lnTo>
                <a:lnTo>
                  <a:pt x="1391" y="1830"/>
                </a:lnTo>
                <a:lnTo>
                  <a:pt x="1396" y="1818"/>
                </a:lnTo>
                <a:lnTo>
                  <a:pt x="1401" y="1807"/>
                </a:lnTo>
                <a:lnTo>
                  <a:pt x="1405" y="1794"/>
                </a:lnTo>
                <a:lnTo>
                  <a:pt x="1411" y="1772"/>
                </a:lnTo>
                <a:lnTo>
                  <a:pt x="1415" y="1750"/>
                </a:lnTo>
                <a:lnTo>
                  <a:pt x="1417" y="1730"/>
                </a:lnTo>
                <a:lnTo>
                  <a:pt x="1417" y="1710"/>
                </a:lnTo>
                <a:lnTo>
                  <a:pt x="1417" y="1693"/>
                </a:lnTo>
                <a:lnTo>
                  <a:pt x="1416" y="1679"/>
                </a:lnTo>
                <a:lnTo>
                  <a:pt x="1415" y="1670"/>
                </a:lnTo>
                <a:lnTo>
                  <a:pt x="1415" y="1665"/>
                </a:lnTo>
                <a:lnTo>
                  <a:pt x="1412" y="1660"/>
                </a:lnTo>
                <a:lnTo>
                  <a:pt x="1411" y="1655"/>
                </a:lnTo>
                <a:lnTo>
                  <a:pt x="1408" y="1650"/>
                </a:lnTo>
                <a:lnTo>
                  <a:pt x="1405" y="1647"/>
                </a:lnTo>
                <a:lnTo>
                  <a:pt x="1401" y="1643"/>
                </a:lnTo>
                <a:lnTo>
                  <a:pt x="1397" y="1639"/>
                </a:lnTo>
                <a:lnTo>
                  <a:pt x="1392" y="1637"/>
                </a:lnTo>
                <a:lnTo>
                  <a:pt x="1387" y="1634"/>
                </a:lnTo>
                <a:lnTo>
                  <a:pt x="1360" y="1623"/>
                </a:lnTo>
                <a:lnTo>
                  <a:pt x="1300" y="1601"/>
                </a:lnTo>
                <a:lnTo>
                  <a:pt x="1241" y="1578"/>
                </a:lnTo>
                <a:lnTo>
                  <a:pt x="1212" y="1567"/>
                </a:lnTo>
                <a:lnTo>
                  <a:pt x="1212" y="1567"/>
                </a:lnTo>
                <a:lnTo>
                  <a:pt x="1213" y="1567"/>
                </a:lnTo>
                <a:lnTo>
                  <a:pt x="1195" y="1546"/>
                </a:lnTo>
                <a:lnTo>
                  <a:pt x="1153" y="1504"/>
                </a:lnTo>
                <a:lnTo>
                  <a:pt x="1108" y="1458"/>
                </a:lnTo>
                <a:lnTo>
                  <a:pt x="1079" y="1428"/>
                </a:lnTo>
                <a:lnTo>
                  <a:pt x="1074" y="1412"/>
                </a:lnTo>
                <a:lnTo>
                  <a:pt x="1071" y="1395"/>
                </a:lnTo>
                <a:lnTo>
                  <a:pt x="1067" y="1379"/>
                </a:lnTo>
                <a:lnTo>
                  <a:pt x="1064" y="1361"/>
                </a:lnTo>
                <a:lnTo>
                  <a:pt x="1062" y="1327"/>
                </a:lnTo>
                <a:lnTo>
                  <a:pt x="1061" y="1292"/>
                </a:lnTo>
                <a:lnTo>
                  <a:pt x="1062" y="1260"/>
                </a:lnTo>
                <a:lnTo>
                  <a:pt x="1063" y="1229"/>
                </a:lnTo>
                <a:lnTo>
                  <a:pt x="1066" y="1200"/>
                </a:lnTo>
                <a:lnTo>
                  <a:pt x="1069" y="1175"/>
                </a:lnTo>
                <a:lnTo>
                  <a:pt x="1076" y="1138"/>
                </a:lnTo>
                <a:lnTo>
                  <a:pt x="1078" y="1124"/>
                </a:lnTo>
                <a:lnTo>
                  <a:pt x="1078" y="1118"/>
                </a:lnTo>
                <a:lnTo>
                  <a:pt x="1078" y="1113"/>
                </a:lnTo>
                <a:lnTo>
                  <a:pt x="1078" y="1101"/>
                </a:lnTo>
                <a:lnTo>
                  <a:pt x="1079" y="1088"/>
                </a:lnTo>
                <a:lnTo>
                  <a:pt x="1082" y="1077"/>
                </a:lnTo>
                <a:lnTo>
                  <a:pt x="1086" y="1065"/>
                </a:lnTo>
                <a:lnTo>
                  <a:pt x="1089" y="1054"/>
                </a:lnTo>
                <a:lnTo>
                  <a:pt x="1094" y="1042"/>
                </a:lnTo>
                <a:lnTo>
                  <a:pt x="1100" y="1031"/>
                </a:lnTo>
                <a:lnTo>
                  <a:pt x="1107" y="1020"/>
                </a:lnTo>
                <a:lnTo>
                  <a:pt x="1122" y="998"/>
                </a:lnTo>
                <a:lnTo>
                  <a:pt x="1139" y="978"/>
                </a:lnTo>
                <a:lnTo>
                  <a:pt x="1158" y="958"/>
                </a:lnTo>
                <a:lnTo>
                  <a:pt x="1177" y="939"/>
                </a:lnTo>
                <a:lnTo>
                  <a:pt x="1199" y="922"/>
                </a:lnTo>
                <a:lnTo>
                  <a:pt x="1221" y="905"/>
                </a:lnTo>
                <a:lnTo>
                  <a:pt x="1243" y="890"/>
                </a:lnTo>
                <a:lnTo>
                  <a:pt x="1266" y="876"/>
                </a:lnTo>
                <a:lnTo>
                  <a:pt x="1287" y="863"/>
                </a:lnTo>
                <a:lnTo>
                  <a:pt x="1308" y="851"/>
                </a:lnTo>
                <a:lnTo>
                  <a:pt x="1328" y="841"/>
                </a:lnTo>
                <a:lnTo>
                  <a:pt x="1346" y="831"/>
                </a:lnTo>
                <a:lnTo>
                  <a:pt x="1372" y="860"/>
                </a:lnTo>
                <a:lnTo>
                  <a:pt x="1398" y="886"/>
                </a:lnTo>
                <a:lnTo>
                  <a:pt x="1412" y="897"/>
                </a:lnTo>
                <a:lnTo>
                  <a:pt x="1425" y="908"/>
                </a:lnTo>
                <a:lnTo>
                  <a:pt x="1438" y="918"/>
                </a:lnTo>
                <a:lnTo>
                  <a:pt x="1452" y="927"/>
                </a:lnTo>
                <a:lnTo>
                  <a:pt x="1466" y="936"/>
                </a:lnTo>
                <a:lnTo>
                  <a:pt x="1480" y="943"/>
                </a:lnTo>
                <a:lnTo>
                  <a:pt x="1494" y="951"/>
                </a:lnTo>
                <a:lnTo>
                  <a:pt x="1508" y="956"/>
                </a:lnTo>
                <a:lnTo>
                  <a:pt x="1523" y="961"/>
                </a:lnTo>
                <a:lnTo>
                  <a:pt x="1538" y="965"/>
                </a:lnTo>
                <a:lnTo>
                  <a:pt x="1552" y="968"/>
                </a:lnTo>
                <a:lnTo>
                  <a:pt x="1567" y="970"/>
                </a:lnTo>
                <a:lnTo>
                  <a:pt x="1587" y="972"/>
                </a:lnTo>
                <a:lnTo>
                  <a:pt x="1608" y="970"/>
                </a:lnTo>
                <a:lnTo>
                  <a:pt x="1627" y="969"/>
                </a:lnTo>
                <a:lnTo>
                  <a:pt x="1646" y="967"/>
                </a:lnTo>
                <a:lnTo>
                  <a:pt x="1663" y="962"/>
                </a:lnTo>
                <a:lnTo>
                  <a:pt x="1679" y="957"/>
                </a:lnTo>
                <a:lnTo>
                  <a:pt x="1694" y="952"/>
                </a:lnTo>
                <a:lnTo>
                  <a:pt x="1708" y="946"/>
                </a:lnTo>
                <a:lnTo>
                  <a:pt x="1730" y="933"/>
                </a:lnTo>
                <a:lnTo>
                  <a:pt x="1749" y="922"/>
                </a:lnTo>
                <a:lnTo>
                  <a:pt x="1760" y="915"/>
                </a:lnTo>
                <a:lnTo>
                  <a:pt x="1765" y="910"/>
                </a:lnTo>
                <a:lnTo>
                  <a:pt x="1770" y="905"/>
                </a:lnTo>
                <a:lnTo>
                  <a:pt x="1775" y="897"/>
                </a:lnTo>
                <a:lnTo>
                  <a:pt x="1777" y="890"/>
                </a:lnTo>
                <a:lnTo>
                  <a:pt x="1778" y="882"/>
                </a:lnTo>
                <a:lnTo>
                  <a:pt x="1778" y="874"/>
                </a:lnTo>
                <a:lnTo>
                  <a:pt x="1777" y="866"/>
                </a:lnTo>
                <a:lnTo>
                  <a:pt x="1775" y="859"/>
                </a:lnTo>
                <a:lnTo>
                  <a:pt x="1770" y="851"/>
                </a:lnTo>
                <a:lnTo>
                  <a:pt x="1733" y="804"/>
                </a:lnTo>
                <a:lnTo>
                  <a:pt x="1693" y="753"/>
                </a:lnTo>
                <a:lnTo>
                  <a:pt x="1652" y="699"/>
                </a:lnTo>
                <a:lnTo>
                  <a:pt x="1611" y="644"/>
                </a:lnTo>
                <a:lnTo>
                  <a:pt x="1575" y="593"/>
                </a:lnTo>
                <a:lnTo>
                  <a:pt x="1544" y="547"/>
                </a:lnTo>
                <a:lnTo>
                  <a:pt x="1530" y="528"/>
                </a:lnTo>
                <a:lnTo>
                  <a:pt x="1520" y="510"/>
                </a:lnTo>
                <a:lnTo>
                  <a:pt x="1513" y="495"/>
                </a:lnTo>
                <a:lnTo>
                  <a:pt x="1508" y="484"/>
                </a:lnTo>
                <a:lnTo>
                  <a:pt x="1504" y="477"/>
                </a:lnTo>
                <a:lnTo>
                  <a:pt x="1499" y="468"/>
                </a:lnTo>
                <a:lnTo>
                  <a:pt x="1494" y="462"/>
                </a:lnTo>
                <a:lnTo>
                  <a:pt x="1488" y="454"/>
                </a:lnTo>
                <a:lnTo>
                  <a:pt x="1480" y="448"/>
                </a:lnTo>
                <a:lnTo>
                  <a:pt x="1472" y="442"/>
                </a:lnTo>
                <a:lnTo>
                  <a:pt x="1463" y="437"/>
                </a:lnTo>
                <a:lnTo>
                  <a:pt x="1454" y="432"/>
                </a:lnTo>
                <a:lnTo>
                  <a:pt x="1433" y="422"/>
                </a:lnTo>
                <a:lnTo>
                  <a:pt x="1411" y="415"/>
                </a:lnTo>
                <a:lnTo>
                  <a:pt x="1387" y="410"/>
                </a:lnTo>
                <a:lnTo>
                  <a:pt x="1361" y="405"/>
                </a:lnTo>
                <a:lnTo>
                  <a:pt x="1334" y="401"/>
                </a:lnTo>
                <a:lnTo>
                  <a:pt x="1307" y="398"/>
                </a:lnTo>
                <a:lnTo>
                  <a:pt x="1279" y="397"/>
                </a:lnTo>
                <a:lnTo>
                  <a:pt x="1252" y="396"/>
                </a:lnTo>
                <a:lnTo>
                  <a:pt x="1199" y="397"/>
                </a:lnTo>
                <a:lnTo>
                  <a:pt x="1150" y="400"/>
                </a:lnTo>
                <a:lnTo>
                  <a:pt x="1140" y="400"/>
                </a:lnTo>
                <a:lnTo>
                  <a:pt x="1132" y="398"/>
                </a:lnTo>
                <a:lnTo>
                  <a:pt x="1123" y="397"/>
                </a:lnTo>
                <a:lnTo>
                  <a:pt x="1115" y="395"/>
                </a:lnTo>
                <a:lnTo>
                  <a:pt x="1109" y="392"/>
                </a:lnTo>
                <a:lnTo>
                  <a:pt x="1103" y="389"/>
                </a:lnTo>
                <a:lnTo>
                  <a:pt x="1098" y="385"/>
                </a:lnTo>
                <a:lnTo>
                  <a:pt x="1094" y="380"/>
                </a:lnTo>
                <a:lnTo>
                  <a:pt x="1091" y="375"/>
                </a:lnTo>
                <a:lnTo>
                  <a:pt x="1088" y="370"/>
                </a:lnTo>
                <a:lnTo>
                  <a:pt x="1087" y="364"/>
                </a:lnTo>
                <a:lnTo>
                  <a:pt x="1084" y="358"/>
                </a:lnTo>
                <a:lnTo>
                  <a:pt x="1083" y="344"/>
                </a:lnTo>
                <a:lnTo>
                  <a:pt x="1083" y="330"/>
                </a:lnTo>
                <a:lnTo>
                  <a:pt x="1084" y="318"/>
                </a:lnTo>
                <a:lnTo>
                  <a:pt x="1087" y="305"/>
                </a:lnTo>
                <a:lnTo>
                  <a:pt x="1088" y="296"/>
                </a:lnTo>
                <a:lnTo>
                  <a:pt x="1091" y="288"/>
                </a:lnTo>
                <a:lnTo>
                  <a:pt x="1124" y="51"/>
                </a:lnTo>
                <a:lnTo>
                  <a:pt x="1125" y="42"/>
                </a:lnTo>
                <a:lnTo>
                  <a:pt x="1123" y="34"/>
                </a:lnTo>
                <a:lnTo>
                  <a:pt x="1120" y="25"/>
                </a:lnTo>
                <a:lnTo>
                  <a:pt x="1115" y="18"/>
                </a:lnTo>
                <a:lnTo>
                  <a:pt x="1109" y="11"/>
                </a:lnTo>
                <a:lnTo>
                  <a:pt x="1102" y="6"/>
                </a:lnTo>
                <a:lnTo>
                  <a:pt x="1093" y="4"/>
                </a:lnTo>
                <a:lnTo>
                  <a:pt x="1084" y="1"/>
                </a:lnTo>
                <a:lnTo>
                  <a:pt x="1027" y="0"/>
                </a:lnTo>
                <a:lnTo>
                  <a:pt x="968" y="1"/>
                </a:lnTo>
                <a:lnTo>
                  <a:pt x="904" y="4"/>
                </a:lnTo>
                <a:lnTo>
                  <a:pt x="841" y="9"/>
                </a:lnTo>
                <a:lnTo>
                  <a:pt x="778" y="14"/>
                </a:lnTo>
                <a:lnTo>
                  <a:pt x="713" y="21"/>
                </a:lnTo>
                <a:lnTo>
                  <a:pt x="651" y="29"/>
                </a:lnTo>
                <a:lnTo>
                  <a:pt x="591" y="36"/>
                </a:lnTo>
                <a:lnTo>
                  <a:pt x="482" y="52"/>
                </a:lnTo>
                <a:lnTo>
                  <a:pt x="393" y="67"/>
                </a:lnTo>
                <a:lnTo>
                  <a:pt x="331" y="78"/>
                </a:lnTo>
                <a:lnTo>
                  <a:pt x="304" y="83"/>
                </a:lnTo>
                <a:close/>
                <a:moveTo>
                  <a:pt x="1033" y="87"/>
                </a:moveTo>
                <a:lnTo>
                  <a:pt x="1026" y="140"/>
                </a:lnTo>
                <a:lnTo>
                  <a:pt x="1017" y="200"/>
                </a:lnTo>
                <a:lnTo>
                  <a:pt x="1010" y="250"/>
                </a:lnTo>
                <a:lnTo>
                  <a:pt x="1007" y="269"/>
                </a:lnTo>
                <a:lnTo>
                  <a:pt x="1005" y="276"/>
                </a:lnTo>
                <a:lnTo>
                  <a:pt x="1002" y="289"/>
                </a:lnTo>
                <a:lnTo>
                  <a:pt x="999" y="310"/>
                </a:lnTo>
                <a:lnTo>
                  <a:pt x="997" y="336"/>
                </a:lnTo>
                <a:lnTo>
                  <a:pt x="997" y="348"/>
                </a:lnTo>
                <a:lnTo>
                  <a:pt x="999" y="360"/>
                </a:lnTo>
                <a:lnTo>
                  <a:pt x="1000" y="372"/>
                </a:lnTo>
                <a:lnTo>
                  <a:pt x="1004" y="384"/>
                </a:lnTo>
                <a:lnTo>
                  <a:pt x="1006" y="396"/>
                </a:lnTo>
                <a:lnTo>
                  <a:pt x="1011" y="408"/>
                </a:lnTo>
                <a:lnTo>
                  <a:pt x="1017" y="420"/>
                </a:lnTo>
                <a:lnTo>
                  <a:pt x="1025" y="431"/>
                </a:lnTo>
                <a:lnTo>
                  <a:pt x="1032" y="441"/>
                </a:lnTo>
                <a:lnTo>
                  <a:pt x="1042" y="449"/>
                </a:lnTo>
                <a:lnTo>
                  <a:pt x="1055" y="459"/>
                </a:lnTo>
                <a:lnTo>
                  <a:pt x="1069" y="468"/>
                </a:lnTo>
                <a:lnTo>
                  <a:pt x="1077" y="472"/>
                </a:lnTo>
                <a:lnTo>
                  <a:pt x="1086" y="475"/>
                </a:lnTo>
                <a:lnTo>
                  <a:pt x="1095" y="478"/>
                </a:lnTo>
                <a:lnTo>
                  <a:pt x="1105" y="480"/>
                </a:lnTo>
                <a:lnTo>
                  <a:pt x="1117" y="483"/>
                </a:lnTo>
                <a:lnTo>
                  <a:pt x="1128" y="484"/>
                </a:lnTo>
                <a:lnTo>
                  <a:pt x="1140" y="484"/>
                </a:lnTo>
                <a:lnTo>
                  <a:pt x="1154" y="485"/>
                </a:lnTo>
                <a:lnTo>
                  <a:pt x="1201" y="483"/>
                </a:lnTo>
                <a:lnTo>
                  <a:pt x="1247" y="483"/>
                </a:lnTo>
                <a:lnTo>
                  <a:pt x="1292" y="484"/>
                </a:lnTo>
                <a:lnTo>
                  <a:pt x="1331" y="488"/>
                </a:lnTo>
                <a:lnTo>
                  <a:pt x="1366" y="493"/>
                </a:lnTo>
                <a:lnTo>
                  <a:pt x="1395" y="499"/>
                </a:lnTo>
                <a:lnTo>
                  <a:pt x="1406" y="503"/>
                </a:lnTo>
                <a:lnTo>
                  <a:pt x="1416" y="506"/>
                </a:lnTo>
                <a:lnTo>
                  <a:pt x="1422" y="510"/>
                </a:lnTo>
                <a:lnTo>
                  <a:pt x="1427" y="515"/>
                </a:lnTo>
                <a:lnTo>
                  <a:pt x="1427" y="515"/>
                </a:lnTo>
                <a:lnTo>
                  <a:pt x="1427" y="515"/>
                </a:lnTo>
                <a:lnTo>
                  <a:pt x="1427" y="515"/>
                </a:lnTo>
                <a:lnTo>
                  <a:pt x="1427" y="514"/>
                </a:lnTo>
                <a:lnTo>
                  <a:pt x="1433" y="529"/>
                </a:lnTo>
                <a:lnTo>
                  <a:pt x="1442" y="545"/>
                </a:lnTo>
                <a:lnTo>
                  <a:pt x="1453" y="565"/>
                </a:lnTo>
                <a:lnTo>
                  <a:pt x="1467" y="586"/>
                </a:lnTo>
                <a:lnTo>
                  <a:pt x="1499" y="634"/>
                </a:lnTo>
                <a:lnTo>
                  <a:pt x="1535" y="685"/>
                </a:lnTo>
                <a:lnTo>
                  <a:pt x="1574" y="737"/>
                </a:lnTo>
                <a:lnTo>
                  <a:pt x="1611" y="787"/>
                </a:lnTo>
                <a:lnTo>
                  <a:pt x="1644" y="831"/>
                </a:lnTo>
                <a:lnTo>
                  <a:pt x="1673" y="866"/>
                </a:lnTo>
                <a:lnTo>
                  <a:pt x="1663" y="871"/>
                </a:lnTo>
                <a:lnTo>
                  <a:pt x="1653" y="875"/>
                </a:lnTo>
                <a:lnTo>
                  <a:pt x="1642" y="879"/>
                </a:lnTo>
                <a:lnTo>
                  <a:pt x="1629" y="881"/>
                </a:lnTo>
                <a:lnTo>
                  <a:pt x="1617" y="884"/>
                </a:lnTo>
                <a:lnTo>
                  <a:pt x="1603" y="886"/>
                </a:lnTo>
                <a:lnTo>
                  <a:pt x="1590" y="886"/>
                </a:lnTo>
                <a:lnTo>
                  <a:pt x="1575" y="885"/>
                </a:lnTo>
                <a:lnTo>
                  <a:pt x="1562" y="884"/>
                </a:lnTo>
                <a:lnTo>
                  <a:pt x="1551" y="880"/>
                </a:lnTo>
                <a:lnTo>
                  <a:pt x="1539" y="877"/>
                </a:lnTo>
                <a:lnTo>
                  <a:pt x="1526" y="872"/>
                </a:lnTo>
                <a:lnTo>
                  <a:pt x="1515" y="867"/>
                </a:lnTo>
                <a:lnTo>
                  <a:pt x="1503" y="861"/>
                </a:lnTo>
                <a:lnTo>
                  <a:pt x="1492" y="854"/>
                </a:lnTo>
                <a:lnTo>
                  <a:pt x="1479" y="846"/>
                </a:lnTo>
                <a:lnTo>
                  <a:pt x="1468" y="838"/>
                </a:lnTo>
                <a:lnTo>
                  <a:pt x="1457" y="829"/>
                </a:lnTo>
                <a:lnTo>
                  <a:pt x="1444" y="819"/>
                </a:lnTo>
                <a:lnTo>
                  <a:pt x="1433" y="808"/>
                </a:lnTo>
                <a:lnTo>
                  <a:pt x="1411" y="783"/>
                </a:lnTo>
                <a:lnTo>
                  <a:pt x="1389" y="755"/>
                </a:lnTo>
                <a:lnTo>
                  <a:pt x="1384" y="750"/>
                </a:lnTo>
                <a:lnTo>
                  <a:pt x="1379" y="745"/>
                </a:lnTo>
                <a:lnTo>
                  <a:pt x="1372" y="741"/>
                </a:lnTo>
                <a:lnTo>
                  <a:pt x="1366" y="740"/>
                </a:lnTo>
                <a:lnTo>
                  <a:pt x="1359" y="738"/>
                </a:lnTo>
                <a:lnTo>
                  <a:pt x="1351" y="737"/>
                </a:lnTo>
                <a:lnTo>
                  <a:pt x="1345" y="738"/>
                </a:lnTo>
                <a:lnTo>
                  <a:pt x="1338" y="741"/>
                </a:lnTo>
                <a:lnTo>
                  <a:pt x="1318" y="750"/>
                </a:lnTo>
                <a:lnTo>
                  <a:pt x="1274" y="771"/>
                </a:lnTo>
                <a:lnTo>
                  <a:pt x="1247" y="787"/>
                </a:lnTo>
                <a:lnTo>
                  <a:pt x="1217" y="804"/>
                </a:lnTo>
                <a:lnTo>
                  <a:pt x="1185" y="825"/>
                </a:lnTo>
                <a:lnTo>
                  <a:pt x="1153" y="849"/>
                </a:lnTo>
                <a:lnTo>
                  <a:pt x="1136" y="861"/>
                </a:lnTo>
                <a:lnTo>
                  <a:pt x="1120" y="874"/>
                </a:lnTo>
                <a:lnTo>
                  <a:pt x="1104" y="889"/>
                </a:lnTo>
                <a:lnTo>
                  <a:pt x="1089" y="902"/>
                </a:lnTo>
                <a:lnTo>
                  <a:pt x="1076" y="918"/>
                </a:lnTo>
                <a:lnTo>
                  <a:pt x="1061" y="933"/>
                </a:lnTo>
                <a:lnTo>
                  <a:pt x="1048" y="949"/>
                </a:lnTo>
                <a:lnTo>
                  <a:pt x="1037" y="967"/>
                </a:lnTo>
                <a:lnTo>
                  <a:pt x="1026" y="984"/>
                </a:lnTo>
                <a:lnTo>
                  <a:pt x="1016" y="1001"/>
                </a:lnTo>
                <a:lnTo>
                  <a:pt x="1009" y="1020"/>
                </a:lnTo>
                <a:lnTo>
                  <a:pt x="1002" y="1039"/>
                </a:lnTo>
                <a:lnTo>
                  <a:pt x="997" y="1057"/>
                </a:lnTo>
                <a:lnTo>
                  <a:pt x="994" y="1077"/>
                </a:lnTo>
                <a:lnTo>
                  <a:pt x="992" y="1098"/>
                </a:lnTo>
                <a:lnTo>
                  <a:pt x="994" y="1118"/>
                </a:lnTo>
                <a:lnTo>
                  <a:pt x="991" y="1131"/>
                </a:lnTo>
                <a:lnTo>
                  <a:pt x="984" y="1166"/>
                </a:lnTo>
                <a:lnTo>
                  <a:pt x="981" y="1193"/>
                </a:lnTo>
                <a:lnTo>
                  <a:pt x="978" y="1222"/>
                </a:lnTo>
                <a:lnTo>
                  <a:pt x="976" y="1256"/>
                </a:lnTo>
                <a:lnTo>
                  <a:pt x="975" y="1292"/>
                </a:lnTo>
                <a:lnTo>
                  <a:pt x="975" y="1312"/>
                </a:lnTo>
                <a:lnTo>
                  <a:pt x="976" y="1333"/>
                </a:lnTo>
                <a:lnTo>
                  <a:pt x="978" y="1355"/>
                </a:lnTo>
                <a:lnTo>
                  <a:pt x="980" y="1376"/>
                </a:lnTo>
                <a:lnTo>
                  <a:pt x="982" y="1397"/>
                </a:lnTo>
                <a:lnTo>
                  <a:pt x="987" y="1420"/>
                </a:lnTo>
                <a:lnTo>
                  <a:pt x="992" y="1441"/>
                </a:lnTo>
                <a:lnTo>
                  <a:pt x="999" y="1462"/>
                </a:lnTo>
                <a:lnTo>
                  <a:pt x="1000" y="1467"/>
                </a:lnTo>
                <a:lnTo>
                  <a:pt x="1001" y="1469"/>
                </a:lnTo>
                <a:lnTo>
                  <a:pt x="1004" y="1473"/>
                </a:lnTo>
                <a:lnTo>
                  <a:pt x="1006" y="1477"/>
                </a:lnTo>
                <a:lnTo>
                  <a:pt x="1171" y="1642"/>
                </a:lnTo>
                <a:lnTo>
                  <a:pt x="1191" y="1649"/>
                </a:lnTo>
                <a:lnTo>
                  <a:pt x="1237" y="1666"/>
                </a:lnTo>
                <a:lnTo>
                  <a:pt x="1290" y="1688"/>
                </a:lnTo>
                <a:lnTo>
                  <a:pt x="1331" y="1704"/>
                </a:lnTo>
                <a:lnTo>
                  <a:pt x="1331" y="1707"/>
                </a:lnTo>
                <a:lnTo>
                  <a:pt x="1333" y="1711"/>
                </a:lnTo>
                <a:lnTo>
                  <a:pt x="1331" y="1722"/>
                </a:lnTo>
                <a:lnTo>
                  <a:pt x="1330" y="1736"/>
                </a:lnTo>
                <a:lnTo>
                  <a:pt x="1328" y="1751"/>
                </a:lnTo>
                <a:lnTo>
                  <a:pt x="1324" y="1766"/>
                </a:lnTo>
                <a:lnTo>
                  <a:pt x="1319" y="1782"/>
                </a:lnTo>
                <a:lnTo>
                  <a:pt x="1312" y="1797"/>
                </a:lnTo>
                <a:lnTo>
                  <a:pt x="1307" y="1803"/>
                </a:lnTo>
                <a:lnTo>
                  <a:pt x="1302" y="1810"/>
                </a:lnTo>
                <a:lnTo>
                  <a:pt x="1295" y="1818"/>
                </a:lnTo>
                <a:lnTo>
                  <a:pt x="1289" y="1824"/>
                </a:lnTo>
                <a:lnTo>
                  <a:pt x="1279" y="1833"/>
                </a:lnTo>
                <a:lnTo>
                  <a:pt x="1267" y="1840"/>
                </a:lnTo>
                <a:lnTo>
                  <a:pt x="1253" y="1848"/>
                </a:lnTo>
                <a:lnTo>
                  <a:pt x="1240" y="1854"/>
                </a:lnTo>
                <a:lnTo>
                  <a:pt x="1223" y="1858"/>
                </a:lnTo>
                <a:lnTo>
                  <a:pt x="1206" y="1861"/>
                </a:lnTo>
                <a:lnTo>
                  <a:pt x="1189" y="1865"/>
                </a:lnTo>
                <a:lnTo>
                  <a:pt x="1169" y="1866"/>
                </a:lnTo>
                <a:lnTo>
                  <a:pt x="1149" y="1867"/>
                </a:lnTo>
                <a:lnTo>
                  <a:pt x="1128" y="1866"/>
                </a:lnTo>
                <a:lnTo>
                  <a:pt x="1105" y="1865"/>
                </a:lnTo>
                <a:lnTo>
                  <a:pt x="1082" y="1863"/>
                </a:lnTo>
                <a:lnTo>
                  <a:pt x="1057" y="1859"/>
                </a:lnTo>
                <a:lnTo>
                  <a:pt x="1031" y="1855"/>
                </a:lnTo>
                <a:lnTo>
                  <a:pt x="1005" y="1849"/>
                </a:lnTo>
                <a:lnTo>
                  <a:pt x="976" y="1843"/>
                </a:lnTo>
                <a:lnTo>
                  <a:pt x="968" y="1841"/>
                </a:lnTo>
                <a:lnTo>
                  <a:pt x="959" y="1841"/>
                </a:lnTo>
                <a:lnTo>
                  <a:pt x="950" y="1844"/>
                </a:lnTo>
                <a:lnTo>
                  <a:pt x="943" y="1848"/>
                </a:lnTo>
                <a:lnTo>
                  <a:pt x="937" y="1854"/>
                </a:lnTo>
                <a:lnTo>
                  <a:pt x="930" y="1860"/>
                </a:lnTo>
                <a:lnTo>
                  <a:pt x="927" y="1867"/>
                </a:lnTo>
                <a:lnTo>
                  <a:pt x="924" y="1876"/>
                </a:lnTo>
                <a:lnTo>
                  <a:pt x="920" y="1890"/>
                </a:lnTo>
                <a:lnTo>
                  <a:pt x="908" y="1921"/>
                </a:lnTo>
                <a:lnTo>
                  <a:pt x="904" y="1931"/>
                </a:lnTo>
                <a:lnTo>
                  <a:pt x="898" y="1939"/>
                </a:lnTo>
                <a:lnTo>
                  <a:pt x="892" y="1949"/>
                </a:lnTo>
                <a:lnTo>
                  <a:pt x="886" y="1958"/>
                </a:lnTo>
                <a:lnTo>
                  <a:pt x="877" y="1968"/>
                </a:lnTo>
                <a:lnTo>
                  <a:pt x="868" y="1975"/>
                </a:lnTo>
                <a:lnTo>
                  <a:pt x="858" y="1984"/>
                </a:lnTo>
                <a:lnTo>
                  <a:pt x="847" y="1990"/>
                </a:lnTo>
                <a:lnTo>
                  <a:pt x="838" y="1995"/>
                </a:lnTo>
                <a:lnTo>
                  <a:pt x="830" y="1999"/>
                </a:lnTo>
                <a:lnTo>
                  <a:pt x="821" y="2001"/>
                </a:lnTo>
                <a:lnTo>
                  <a:pt x="812" y="2004"/>
                </a:lnTo>
                <a:lnTo>
                  <a:pt x="802" y="2005"/>
                </a:lnTo>
                <a:lnTo>
                  <a:pt x="793" y="2006"/>
                </a:lnTo>
                <a:lnTo>
                  <a:pt x="781" y="2008"/>
                </a:lnTo>
                <a:lnTo>
                  <a:pt x="771" y="2006"/>
                </a:lnTo>
                <a:lnTo>
                  <a:pt x="749" y="2005"/>
                </a:lnTo>
                <a:lnTo>
                  <a:pt x="725" y="2000"/>
                </a:lnTo>
                <a:lnTo>
                  <a:pt x="701" y="1993"/>
                </a:lnTo>
                <a:lnTo>
                  <a:pt x="673" y="1984"/>
                </a:lnTo>
                <a:lnTo>
                  <a:pt x="667" y="1982"/>
                </a:lnTo>
                <a:lnTo>
                  <a:pt x="661" y="1982"/>
                </a:lnTo>
                <a:lnTo>
                  <a:pt x="655" y="1982"/>
                </a:lnTo>
                <a:lnTo>
                  <a:pt x="648" y="1983"/>
                </a:lnTo>
                <a:lnTo>
                  <a:pt x="642" y="1984"/>
                </a:lnTo>
                <a:lnTo>
                  <a:pt x="636" y="1988"/>
                </a:lnTo>
                <a:lnTo>
                  <a:pt x="630" y="1992"/>
                </a:lnTo>
                <a:lnTo>
                  <a:pt x="626" y="1995"/>
                </a:lnTo>
                <a:lnTo>
                  <a:pt x="621" y="1999"/>
                </a:lnTo>
                <a:lnTo>
                  <a:pt x="610" y="2006"/>
                </a:lnTo>
                <a:lnTo>
                  <a:pt x="603" y="2011"/>
                </a:lnTo>
                <a:lnTo>
                  <a:pt x="593" y="2014"/>
                </a:lnTo>
                <a:lnTo>
                  <a:pt x="580" y="2018"/>
                </a:lnTo>
                <a:lnTo>
                  <a:pt x="567" y="2019"/>
                </a:lnTo>
                <a:lnTo>
                  <a:pt x="550" y="2018"/>
                </a:lnTo>
                <a:lnTo>
                  <a:pt x="532" y="2015"/>
                </a:lnTo>
                <a:lnTo>
                  <a:pt x="522" y="2013"/>
                </a:lnTo>
                <a:lnTo>
                  <a:pt x="511" y="2009"/>
                </a:lnTo>
                <a:lnTo>
                  <a:pt x="499" y="2004"/>
                </a:lnTo>
                <a:lnTo>
                  <a:pt x="487" y="1999"/>
                </a:lnTo>
                <a:lnTo>
                  <a:pt x="475" y="1993"/>
                </a:lnTo>
                <a:lnTo>
                  <a:pt x="461" y="1984"/>
                </a:lnTo>
                <a:lnTo>
                  <a:pt x="447" y="1975"/>
                </a:lnTo>
                <a:lnTo>
                  <a:pt x="432" y="1965"/>
                </a:lnTo>
                <a:lnTo>
                  <a:pt x="416" y="1953"/>
                </a:lnTo>
                <a:lnTo>
                  <a:pt x="400" y="1941"/>
                </a:lnTo>
                <a:lnTo>
                  <a:pt x="383" y="1926"/>
                </a:lnTo>
                <a:lnTo>
                  <a:pt x="365" y="1908"/>
                </a:lnTo>
                <a:lnTo>
                  <a:pt x="360" y="1905"/>
                </a:lnTo>
                <a:lnTo>
                  <a:pt x="354" y="1901"/>
                </a:lnTo>
                <a:lnTo>
                  <a:pt x="348" y="1898"/>
                </a:lnTo>
                <a:lnTo>
                  <a:pt x="342" y="1897"/>
                </a:lnTo>
                <a:lnTo>
                  <a:pt x="336" y="1897"/>
                </a:lnTo>
                <a:lnTo>
                  <a:pt x="329" y="1897"/>
                </a:lnTo>
                <a:lnTo>
                  <a:pt x="322" y="1900"/>
                </a:lnTo>
                <a:lnTo>
                  <a:pt x="316" y="1902"/>
                </a:lnTo>
                <a:lnTo>
                  <a:pt x="307" y="1906"/>
                </a:lnTo>
                <a:lnTo>
                  <a:pt x="293" y="1911"/>
                </a:lnTo>
                <a:lnTo>
                  <a:pt x="278" y="1916"/>
                </a:lnTo>
                <a:lnTo>
                  <a:pt x="261" y="1920"/>
                </a:lnTo>
                <a:lnTo>
                  <a:pt x="242" y="1922"/>
                </a:lnTo>
                <a:lnTo>
                  <a:pt x="224" y="1923"/>
                </a:lnTo>
                <a:lnTo>
                  <a:pt x="214" y="1922"/>
                </a:lnTo>
                <a:lnTo>
                  <a:pt x="205" y="1921"/>
                </a:lnTo>
                <a:lnTo>
                  <a:pt x="196" y="1918"/>
                </a:lnTo>
                <a:lnTo>
                  <a:pt x="188" y="1916"/>
                </a:lnTo>
                <a:lnTo>
                  <a:pt x="178" y="1911"/>
                </a:lnTo>
                <a:lnTo>
                  <a:pt x="169" y="1905"/>
                </a:lnTo>
                <a:lnTo>
                  <a:pt x="162" y="1898"/>
                </a:lnTo>
                <a:lnTo>
                  <a:pt x="154" y="1890"/>
                </a:lnTo>
                <a:lnTo>
                  <a:pt x="148" y="1880"/>
                </a:lnTo>
                <a:lnTo>
                  <a:pt x="142" y="1869"/>
                </a:lnTo>
                <a:lnTo>
                  <a:pt x="137" y="1856"/>
                </a:lnTo>
                <a:lnTo>
                  <a:pt x="132" y="1843"/>
                </a:lnTo>
                <a:lnTo>
                  <a:pt x="129" y="1834"/>
                </a:lnTo>
                <a:lnTo>
                  <a:pt x="124" y="1809"/>
                </a:lnTo>
                <a:lnTo>
                  <a:pt x="117" y="1769"/>
                </a:lnTo>
                <a:lnTo>
                  <a:pt x="110" y="1716"/>
                </a:lnTo>
                <a:lnTo>
                  <a:pt x="101" y="1653"/>
                </a:lnTo>
                <a:lnTo>
                  <a:pt x="93" y="1580"/>
                </a:lnTo>
                <a:lnTo>
                  <a:pt x="91" y="1540"/>
                </a:lnTo>
                <a:lnTo>
                  <a:pt x="88" y="1498"/>
                </a:lnTo>
                <a:lnTo>
                  <a:pt x="87" y="1454"/>
                </a:lnTo>
                <a:lnTo>
                  <a:pt x="87" y="1410"/>
                </a:lnTo>
                <a:lnTo>
                  <a:pt x="87" y="1365"/>
                </a:lnTo>
                <a:lnTo>
                  <a:pt x="88" y="1319"/>
                </a:lnTo>
                <a:lnTo>
                  <a:pt x="92" y="1273"/>
                </a:lnTo>
                <a:lnTo>
                  <a:pt x="96" y="1226"/>
                </a:lnTo>
                <a:lnTo>
                  <a:pt x="101" y="1178"/>
                </a:lnTo>
                <a:lnTo>
                  <a:pt x="108" y="1131"/>
                </a:lnTo>
                <a:lnTo>
                  <a:pt x="117" y="1082"/>
                </a:lnTo>
                <a:lnTo>
                  <a:pt x="128" y="1034"/>
                </a:lnTo>
                <a:lnTo>
                  <a:pt x="141" y="985"/>
                </a:lnTo>
                <a:lnTo>
                  <a:pt x="155" y="938"/>
                </a:lnTo>
                <a:lnTo>
                  <a:pt x="172" y="891"/>
                </a:lnTo>
                <a:lnTo>
                  <a:pt x="191" y="845"/>
                </a:lnTo>
                <a:lnTo>
                  <a:pt x="201" y="823"/>
                </a:lnTo>
                <a:lnTo>
                  <a:pt x="213" y="800"/>
                </a:lnTo>
                <a:lnTo>
                  <a:pt x="225" y="778"/>
                </a:lnTo>
                <a:lnTo>
                  <a:pt x="237" y="756"/>
                </a:lnTo>
                <a:lnTo>
                  <a:pt x="250" y="733"/>
                </a:lnTo>
                <a:lnTo>
                  <a:pt x="264" y="712"/>
                </a:lnTo>
                <a:lnTo>
                  <a:pt x="278" y="691"/>
                </a:lnTo>
                <a:lnTo>
                  <a:pt x="293" y="671"/>
                </a:lnTo>
                <a:lnTo>
                  <a:pt x="300" y="662"/>
                </a:lnTo>
                <a:lnTo>
                  <a:pt x="304" y="652"/>
                </a:lnTo>
                <a:lnTo>
                  <a:pt x="308" y="640"/>
                </a:lnTo>
                <a:lnTo>
                  <a:pt x="311" y="631"/>
                </a:lnTo>
                <a:lnTo>
                  <a:pt x="309" y="626"/>
                </a:lnTo>
                <a:lnTo>
                  <a:pt x="308" y="622"/>
                </a:lnTo>
                <a:lnTo>
                  <a:pt x="307" y="617"/>
                </a:lnTo>
                <a:lnTo>
                  <a:pt x="304" y="613"/>
                </a:lnTo>
                <a:lnTo>
                  <a:pt x="300" y="608"/>
                </a:lnTo>
                <a:lnTo>
                  <a:pt x="287" y="593"/>
                </a:lnTo>
                <a:lnTo>
                  <a:pt x="271" y="571"/>
                </a:lnTo>
                <a:lnTo>
                  <a:pt x="252" y="542"/>
                </a:lnTo>
                <a:lnTo>
                  <a:pt x="242" y="525"/>
                </a:lnTo>
                <a:lnTo>
                  <a:pt x="234" y="508"/>
                </a:lnTo>
                <a:lnTo>
                  <a:pt x="225" y="488"/>
                </a:lnTo>
                <a:lnTo>
                  <a:pt x="218" y="468"/>
                </a:lnTo>
                <a:lnTo>
                  <a:pt x="211" y="447"/>
                </a:lnTo>
                <a:lnTo>
                  <a:pt x="206" y="425"/>
                </a:lnTo>
                <a:lnTo>
                  <a:pt x="203" y="402"/>
                </a:lnTo>
                <a:lnTo>
                  <a:pt x="201" y="379"/>
                </a:lnTo>
                <a:lnTo>
                  <a:pt x="201" y="366"/>
                </a:lnTo>
                <a:lnTo>
                  <a:pt x="203" y="355"/>
                </a:lnTo>
                <a:lnTo>
                  <a:pt x="205" y="341"/>
                </a:lnTo>
                <a:lnTo>
                  <a:pt x="208" y="329"/>
                </a:lnTo>
                <a:lnTo>
                  <a:pt x="211" y="315"/>
                </a:lnTo>
                <a:lnTo>
                  <a:pt x="215" y="303"/>
                </a:lnTo>
                <a:lnTo>
                  <a:pt x="220" y="291"/>
                </a:lnTo>
                <a:lnTo>
                  <a:pt x="226" y="278"/>
                </a:lnTo>
                <a:lnTo>
                  <a:pt x="234" y="266"/>
                </a:lnTo>
                <a:lnTo>
                  <a:pt x="241" y="255"/>
                </a:lnTo>
                <a:lnTo>
                  <a:pt x="250" y="242"/>
                </a:lnTo>
                <a:lnTo>
                  <a:pt x="259" y="231"/>
                </a:lnTo>
                <a:lnTo>
                  <a:pt x="268" y="220"/>
                </a:lnTo>
                <a:lnTo>
                  <a:pt x="280" y="209"/>
                </a:lnTo>
                <a:lnTo>
                  <a:pt x="292" y="198"/>
                </a:lnTo>
                <a:lnTo>
                  <a:pt x="304" y="186"/>
                </a:lnTo>
                <a:lnTo>
                  <a:pt x="318" y="175"/>
                </a:lnTo>
                <a:lnTo>
                  <a:pt x="332" y="165"/>
                </a:lnTo>
                <a:lnTo>
                  <a:pt x="368" y="159"/>
                </a:lnTo>
                <a:lnTo>
                  <a:pt x="427" y="148"/>
                </a:lnTo>
                <a:lnTo>
                  <a:pt x="508" y="135"/>
                </a:lnTo>
                <a:lnTo>
                  <a:pt x="604" y="121"/>
                </a:lnTo>
                <a:lnTo>
                  <a:pt x="656" y="114"/>
                </a:lnTo>
                <a:lnTo>
                  <a:pt x="709" y="108"/>
                </a:lnTo>
                <a:lnTo>
                  <a:pt x="764" y="102"/>
                </a:lnTo>
                <a:lnTo>
                  <a:pt x="820" y="97"/>
                </a:lnTo>
                <a:lnTo>
                  <a:pt x="874" y="92"/>
                </a:lnTo>
                <a:lnTo>
                  <a:pt x="929" y="88"/>
                </a:lnTo>
                <a:lnTo>
                  <a:pt x="982" y="87"/>
                </a:lnTo>
                <a:lnTo>
                  <a:pt x="1033" y="8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1876320" y="4805280"/>
            <a:ext cx="671760" cy="825480"/>
          </a:xfrm>
          <a:custGeom>
            <a:avLst/>
            <a:gdLst/>
            <a:ahLst/>
            <a:rect l="l" t="t" r="r" b="b"/>
            <a:pathLst>
              <a:path w="1693" h="2081">
                <a:moveTo>
                  <a:pt x="534" y="228"/>
                </a:moveTo>
                <a:lnTo>
                  <a:pt x="541" y="223"/>
                </a:lnTo>
                <a:lnTo>
                  <a:pt x="548" y="219"/>
                </a:lnTo>
                <a:lnTo>
                  <a:pt x="555" y="217"/>
                </a:lnTo>
                <a:lnTo>
                  <a:pt x="564" y="215"/>
                </a:lnTo>
                <a:lnTo>
                  <a:pt x="573" y="215"/>
                </a:lnTo>
                <a:lnTo>
                  <a:pt x="583" y="215"/>
                </a:lnTo>
                <a:lnTo>
                  <a:pt x="593" y="217"/>
                </a:lnTo>
                <a:lnTo>
                  <a:pt x="604" y="219"/>
                </a:lnTo>
                <a:lnTo>
                  <a:pt x="626" y="224"/>
                </a:lnTo>
                <a:lnTo>
                  <a:pt x="650" y="232"/>
                </a:lnTo>
                <a:lnTo>
                  <a:pt x="675" y="241"/>
                </a:lnTo>
                <a:lnTo>
                  <a:pt x="698" y="251"/>
                </a:lnTo>
                <a:lnTo>
                  <a:pt x="744" y="274"/>
                </a:lnTo>
                <a:lnTo>
                  <a:pt x="783" y="295"/>
                </a:lnTo>
                <a:lnTo>
                  <a:pt x="809" y="311"/>
                </a:lnTo>
                <a:lnTo>
                  <a:pt x="819" y="317"/>
                </a:lnTo>
                <a:lnTo>
                  <a:pt x="830" y="323"/>
                </a:lnTo>
                <a:lnTo>
                  <a:pt x="841" y="327"/>
                </a:lnTo>
                <a:lnTo>
                  <a:pt x="852" y="331"/>
                </a:lnTo>
                <a:lnTo>
                  <a:pt x="862" y="333"/>
                </a:lnTo>
                <a:lnTo>
                  <a:pt x="872" y="335"/>
                </a:lnTo>
                <a:lnTo>
                  <a:pt x="881" y="335"/>
                </a:lnTo>
                <a:lnTo>
                  <a:pt x="889" y="333"/>
                </a:lnTo>
                <a:lnTo>
                  <a:pt x="898" y="332"/>
                </a:lnTo>
                <a:lnTo>
                  <a:pt x="906" y="330"/>
                </a:lnTo>
                <a:lnTo>
                  <a:pt x="913" y="326"/>
                </a:lnTo>
                <a:lnTo>
                  <a:pt x="920" y="322"/>
                </a:lnTo>
                <a:lnTo>
                  <a:pt x="927" y="317"/>
                </a:lnTo>
                <a:lnTo>
                  <a:pt x="938" y="306"/>
                </a:lnTo>
                <a:lnTo>
                  <a:pt x="949" y="294"/>
                </a:lnTo>
                <a:lnTo>
                  <a:pt x="956" y="280"/>
                </a:lnTo>
                <a:lnTo>
                  <a:pt x="964" y="268"/>
                </a:lnTo>
                <a:lnTo>
                  <a:pt x="970" y="254"/>
                </a:lnTo>
                <a:lnTo>
                  <a:pt x="975" y="241"/>
                </a:lnTo>
                <a:lnTo>
                  <a:pt x="980" y="223"/>
                </a:lnTo>
                <a:lnTo>
                  <a:pt x="983" y="217"/>
                </a:lnTo>
                <a:lnTo>
                  <a:pt x="1066" y="0"/>
                </a:lnTo>
                <a:lnTo>
                  <a:pt x="1113" y="23"/>
                </a:lnTo>
                <a:lnTo>
                  <a:pt x="1161" y="50"/>
                </a:lnTo>
                <a:lnTo>
                  <a:pt x="1211" y="81"/>
                </a:lnTo>
                <a:lnTo>
                  <a:pt x="1262" y="114"/>
                </a:lnTo>
                <a:lnTo>
                  <a:pt x="1312" y="147"/>
                </a:lnTo>
                <a:lnTo>
                  <a:pt x="1360" y="182"/>
                </a:lnTo>
                <a:lnTo>
                  <a:pt x="1407" y="217"/>
                </a:lnTo>
                <a:lnTo>
                  <a:pt x="1452" y="250"/>
                </a:lnTo>
                <a:lnTo>
                  <a:pt x="1534" y="312"/>
                </a:lnTo>
                <a:lnTo>
                  <a:pt x="1597" y="364"/>
                </a:lnTo>
                <a:lnTo>
                  <a:pt x="1641" y="399"/>
                </a:lnTo>
                <a:lnTo>
                  <a:pt x="1656" y="411"/>
                </a:lnTo>
                <a:lnTo>
                  <a:pt x="1668" y="444"/>
                </a:lnTo>
                <a:lnTo>
                  <a:pt x="1678" y="473"/>
                </a:lnTo>
                <a:lnTo>
                  <a:pt x="1685" y="502"/>
                </a:lnTo>
                <a:lnTo>
                  <a:pt x="1690" y="529"/>
                </a:lnTo>
                <a:lnTo>
                  <a:pt x="1693" y="555"/>
                </a:lnTo>
                <a:lnTo>
                  <a:pt x="1693" y="581"/>
                </a:lnTo>
                <a:lnTo>
                  <a:pt x="1692" y="605"/>
                </a:lnTo>
                <a:lnTo>
                  <a:pt x="1687" y="629"/>
                </a:lnTo>
                <a:lnTo>
                  <a:pt x="1682" y="650"/>
                </a:lnTo>
                <a:lnTo>
                  <a:pt x="1674" y="671"/>
                </a:lnTo>
                <a:lnTo>
                  <a:pt x="1666" y="691"/>
                </a:lnTo>
                <a:lnTo>
                  <a:pt x="1656" y="709"/>
                </a:lnTo>
                <a:lnTo>
                  <a:pt x="1644" y="728"/>
                </a:lnTo>
                <a:lnTo>
                  <a:pt x="1632" y="744"/>
                </a:lnTo>
                <a:lnTo>
                  <a:pt x="1620" y="760"/>
                </a:lnTo>
                <a:lnTo>
                  <a:pt x="1606" y="774"/>
                </a:lnTo>
                <a:lnTo>
                  <a:pt x="1592" y="789"/>
                </a:lnTo>
                <a:lnTo>
                  <a:pt x="1577" y="801"/>
                </a:lnTo>
                <a:lnTo>
                  <a:pt x="1564" y="812"/>
                </a:lnTo>
                <a:lnTo>
                  <a:pt x="1549" y="823"/>
                </a:lnTo>
                <a:lnTo>
                  <a:pt x="1521" y="842"/>
                </a:lnTo>
                <a:lnTo>
                  <a:pt x="1495" y="857"/>
                </a:lnTo>
                <a:lnTo>
                  <a:pt x="1456" y="877"/>
                </a:lnTo>
                <a:lnTo>
                  <a:pt x="1440" y="884"/>
                </a:lnTo>
                <a:lnTo>
                  <a:pt x="1440" y="887"/>
                </a:lnTo>
                <a:lnTo>
                  <a:pt x="1441" y="889"/>
                </a:lnTo>
                <a:lnTo>
                  <a:pt x="1449" y="893"/>
                </a:lnTo>
                <a:lnTo>
                  <a:pt x="1454" y="945"/>
                </a:lnTo>
                <a:lnTo>
                  <a:pt x="1456" y="998"/>
                </a:lnTo>
                <a:lnTo>
                  <a:pt x="1454" y="1050"/>
                </a:lnTo>
                <a:lnTo>
                  <a:pt x="1449" y="1103"/>
                </a:lnTo>
                <a:lnTo>
                  <a:pt x="1442" y="1155"/>
                </a:lnTo>
                <a:lnTo>
                  <a:pt x="1433" y="1206"/>
                </a:lnTo>
                <a:lnTo>
                  <a:pt x="1421" y="1256"/>
                </a:lnTo>
                <a:lnTo>
                  <a:pt x="1408" y="1307"/>
                </a:lnTo>
                <a:lnTo>
                  <a:pt x="1392" y="1357"/>
                </a:lnTo>
                <a:lnTo>
                  <a:pt x="1376" y="1405"/>
                </a:lnTo>
                <a:lnTo>
                  <a:pt x="1358" y="1452"/>
                </a:lnTo>
                <a:lnTo>
                  <a:pt x="1338" y="1498"/>
                </a:lnTo>
                <a:lnTo>
                  <a:pt x="1318" y="1544"/>
                </a:lnTo>
                <a:lnTo>
                  <a:pt x="1297" y="1588"/>
                </a:lnTo>
                <a:lnTo>
                  <a:pt x="1274" y="1631"/>
                </a:lnTo>
                <a:lnTo>
                  <a:pt x="1253" y="1672"/>
                </a:lnTo>
                <a:lnTo>
                  <a:pt x="1231" y="1710"/>
                </a:lnTo>
                <a:lnTo>
                  <a:pt x="1209" y="1749"/>
                </a:lnTo>
                <a:lnTo>
                  <a:pt x="1186" y="1784"/>
                </a:lnTo>
                <a:lnTo>
                  <a:pt x="1164" y="1818"/>
                </a:lnTo>
                <a:lnTo>
                  <a:pt x="1123" y="1879"/>
                </a:lnTo>
                <a:lnTo>
                  <a:pt x="1086" y="1931"/>
                </a:lnTo>
                <a:lnTo>
                  <a:pt x="1053" y="1973"/>
                </a:lnTo>
                <a:lnTo>
                  <a:pt x="1030" y="2005"/>
                </a:lnTo>
                <a:lnTo>
                  <a:pt x="1014" y="2023"/>
                </a:lnTo>
                <a:lnTo>
                  <a:pt x="1007" y="2029"/>
                </a:lnTo>
                <a:lnTo>
                  <a:pt x="995" y="2042"/>
                </a:lnTo>
                <a:lnTo>
                  <a:pt x="983" y="2052"/>
                </a:lnTo>
                <a:lnTo>
                  <a:pt x="970" y="2060"/>
                </a:lnTo>
                <a:lnTo>
                  <a:pt x="959" y="2067"/>
                </a:lnTo>
                <a:lnTo>
                  <a:pt x="948" y="2073"/>
                </a:lnTo>
                <a:lnTo>
                  <a:pt x="935" y="2076"/>
                </a:lnTo>
                <a:lnTo>
                  <a:pt x="924" y="2080"/>
                </a:lnTo>
                <a:lnTo>
                  <a:pt x="914" y="2081"/>
                </a:lnTo>
                <a:lnTo>
                  <a:pt x="903" y="2081"/>
                </a:lnTo>
                <a:lnTo>
                  <a:pt x="893" y="2081"/>
                </a:lnTo>
                <a:lnTo>
                  <a:pt x="883" y="2080"/>
                </a:lnTo>
                <a:lnTo>
                  <a:pt x="873" y="2078"/>
                </a:lnTo>
                <a:lnTo>
                  <a:pt x="863" y="2075"/>
                </a:lnTo>
                <a:lnTo>
                  <a:pt x="855" y="2072"/>
                </a:lnTo>
                <a:lnTo>
                  <a:pt x="846" y="2068"/>
                </a:lnTo>
                <a:lnTo>
                  <a:pt x="837" y="2063"/>
                </a:lnTo>
                <a:lnTo>
                  <a:pt x="822" y="2053"/>
                </a:lnTo>
                <a:lnTo>
                  <a:pt x="809" y="2042"/>
                </a:lnTo>
                <a:lnTo>
                  <a:pt x="796" y="2031"/>
                </a:lnTo>
                <a:lnTo>
                  <a:pt x="786" y="2019"/>
                </a:lnTo>
                <a:lnTo>
                  <a:pt x="773" y="2002"/>
                </a:lnTo>
                <a:lnTo>
                  <a:pt x="768" y="1995"/>
                </a:lnTo>
                <a:lnTo>
                  <a:pt x="742" y="2002"/>
                </a:lnTo>
                <a:lnTo>
                  <a:pt x="718" y="2008"/>
                </a:lnTo>
                <a:lnTo>
                  <a:pt x="696" y="2013"/>
                </a:lnTo>
                <a:lnTo>
                  <a:pt x="675" y="2017"/>
                </a:lnTo>
                <a:lnTo>
                  <a:pt x="655" y="2019"/>
                </a:lnTo>
                <a:lnTo>
                  <a:pt x="636" y="2021"/>
                </a:lnTo>
                <a:lnTo>
                  <a:pt x="619" y="2022"/>
                </a:lnTo>
                <a:lnTo>
                  <a:pt x="603" y="2021"/>
                </a:lnTo>
                <a:lnTo>
                  <a:pt x="588" y="2019"/>
                </a:lnTo>
                <a:lnTo>
                  <a:pt x="574" y="2018"/>
                </a:lnTo>
                <a:lnTo>
                  <a:pt x="562" y="2014"/>
                </a:lnTo>
                <a:lnTo>
                  <a:pt x="549" y="2012"/>
                </a:lnTo>
                <a:lnTo>
                  <a:pt x="539" y="2008"/>
                </a:lnTo>
                <a:lnTo>
                  <a:pt x="529" y="2003"/>
                </a:lnTo>
                <a:lnTo>
                  <a:pt x="519" y="1998"/>
                </a:lnTo>
                <a:lnTo>
                  <a:pt x="512" y="1993"/>
                </a:lnTo>
                <a:lnTo>
                  <a:pt x="498" y="1982"/>
                </a:lnTo>
                <a:lnTo>
                  <a:pt x="487" y="1971"/>
                </a:lnTo>
                <a:lnTo>
                  <a:pt x="478" y="1960"/>
                </a:lnTo>
                <a:lnTo>
                  <a:pt x="472" y="1949"/>
                </a:lnTo>
                <a:lnTo>
                  <a:pt x="466" y="1933"/>
                </a:lnTo>
                <a:lnTo>
                  <a:pt x="465" y="1925"/>
                </a:lnTo>
                <a:lnTo>
                  <a:pt x="440" y="1923"/>
                </a:lnTo>
                <a:lnTo>
                  <a:pt x="419" y="1918"/>
                </a:lnTo>
                <a:lnTo>
                  <a:pt x="398" y="1913"/>
                </a:lnTo>
                <a:lnTo>
                  <a:pt x="380" y="1906"/>
                </a:lnTo>
                <a:lnTo>
                  <a:pt x="363" y="1900"/>
                </a:lnTo>
                <a:lnTo>
                  <a:pt x="348" y="1892"/>
                </a:lnTo>
                <a:lnTo>
                  <a:pt x="334" y="1883"/>
                </a:lnTo>
                <a:lnTo>
                  <a:pt x="323" y="1874"/>
                </a:lnTo>
                <a:lnTo>
                  <a:pt x="312" y="1864"/>
                </a:lnTo>
                <a:lnTo>
                  <a:pt x="303" y="1854"/>
                </a:lnTo>
                <a:lnTo>
                  <a:pt x="296" y="1843"/>
                </a:lnTo>
                <a:lnTo>
                  <a:pt x="288" y="1832"/>
                </a:lnTo>
                <a:lnTo>
                  <a:pt x="283" y="1821"/>
                </a:lnTo>
                <a:lnTo>
                  <a:pt x="278" y="1810"/>
                </a:lnTo>
                <a:lnTo>
                  <a:pt x="275" y="1797"/>
                </a:lnTo>
                <a:lnTo>
                  <a:pt x="272" y="1786"/>
                </a:lnTo>
                <a:lnTo>
                  <a:pt x="269" y="1763"/>
                </a:lnTo>
                <a:lnTo>
                  <a:pt x="269" y="1741"/>
                </a:lnTo>
                <a:lnTo>
                  <a:pt x="270" y="1720"/>
                </a:lnTo>
                <a:lnTo>
                  <a:pt x="271" y="1703"/>
                </a:lnTo>
                <a:lnTo>
                  <a:pt x="277" y="1676"/>
                </a:lnTo>
                <a:lnTo>
                  <a:pt x="281" y="1666"/>
                </a:lnTo>
                <a:lnTo>
                  <a:pt x="241" y="1656"/>
                </a:lnTo>
                <a:lnTo>
                  <a:pt x="205" y="1645"/>
                </a:lnTo>
                <a:lnTo>
                  <a:pt x="173" y="1634"/>
                </a:lnTo>
                <a:lnTo>
                  <a:pt x="144" y="1620"/>
                </a:lnTo>
                <a:lnTo>
                  <a:pt x="118" y="1607"/>
                </a:lnTo>
                <a:lnTo>
                  <a:pt x="96" y="1594"/>
                </a:lnTo>
                <a:lnTo>
                  <a:pt x="76" y="1580"/>
                </a:lnTo>
                <a:lnTo>
                  <a:pt x="59" y="1565"/>
                </a:lnTo>
                <a:lnTo>
                  <a:pt x="44" y="1550"/>
                </a:lnTo>
                <a:lnTo>
                  <a:pt x="33" y="1536"/>
                </a:lnTo>
                <a:lnTo>
                  <a:pt x="21" y="1521"/>
                </a:lnTo>
                <a:lnTo>
                  <a:pt x="14" y="1505"/>
                </a:lnTo>
                <a:lnTo>
                  <a:pt x="8" y="1490"/>
                </a:lnTo>
                <a:lnTo>
                  <a:pt x="4" y="1475"/>
                </a:lnTo>
                <a:lnTo>
                  <a:pt x="2" y="1460"/>
                </a:lnTo>
                <a:lnTo>
                  <a:pt x="0" y="1445"/>
                </a:lnTo>
                <a:lnTo>
                  <a:pt x="0" y="1430"/>
                </a:lnTo>
                <a:lnTo>
                  <a:pt x="2" y="1416"/>
                </a:lnTo>
                <a:lnTo>
                  <a:pt x="4" y="1403"/>
                </a:lnTo>
                <a:lnTo>
                  <a:pt x="7" y="1389"/>
                </a:lnTo>
                <a:lnTo>
                  <a:pt x="15" y="1366"/>
                </a:lnTo>
                <a:lnTo>
                  <a:pt x="24" y="1343"/>
                </a:lnTo>
                <a:lnTo>
                  <a:pt x="41" y="1312"/>
                </a:lnTo>
                <a:lnTo>
                  <a:pt x="50" y="1301"/>
                </a:lnTo>
                <a:lnTo>
                  <a:pt x="224" y="1321"/>
                </a:lnTo>
                <a:lnTo>
                  <a:pt x="247" y="1316"/>
                </a:lnTo>
                <a:lnTo>
                  <a:pt x="272" y="1310"/>
                </a:lnTo>
                <a:lnTo>
                  <a:pt x="296" y="1302"/>
                </a:lnTo>
                <a:lnTo>
                  <a:pt x="322" y="1294"/>
                </a:lnTo>
                <a:lnTo>
                  <a:pt x="348" y="1285"/>
                </a:lnTo>
                <a:lnTo>
                  <a:pt x="374" y="1274"/>
                </a:lnTo>
                <a:lnTo>
                  <a:pt x="401" y="1264"/>
                </a:lnTo>
                <a:lnTo>
                  <a:pt x="429" y="1251"/>
                </a:lnTo>
                <a:lnTo>
                  <a:pt x="449" y="1230"/>
                </a:lnTo>
                <a:lnTo>
                  <a:pt x="467" y="1208"/>
                </a:lnTo>
                <a:lnTo>
                  <a:pt x="483" y="1184"/>
                </a:lnTo>
                <a:lnTo>
                  <a:pt x="500" y="1161"/>
                </a:lnTo>
                <a:lnTo>
                  <a:pt x="514" y="1136"/>
                </a:lnTo>
                <a:lnTo>
                  <a:pt x="528" y="1111"/>
                </a:lnTo>
                <a:lnTo>
                  <a:pt x="539" y="1088"/>
                </a:lnTo>
                <a:lnTo>
                  <a:pt x="550" y="1065"/>
                </a:lnTo>
                <a:lnTo>
                  <a:pt x="568" y="1023"/>
                </a:lnTo>
                <a:lnTo>
                  <a:pt x="581" y="990"/>
                </a:lnTo>
                <a:lnTo>
                  <a:pt x="589" y="967"/>
                </a:lnTo>
                <a:lnTo>
                  <a:pt x="591" y="959"/>
                </a:lnTo>
                <a:lnTo>
                  <a:pt x="600" y="944"/>
                </a:lnTo>
                <a:lnTo>
                  <a:pt x="608" y="928"/>
                </a:lnTo>
                <a:lnTo>
                  <a:pt x="614" y="910"/>
                </a:lnTo>
                <a:lnTo>
                  <a:pt x="617" y="894"/>
                </a:lnTo>
                <a:lnTo>
                  <a:pt x="621" y="877"/>
                </a:lnTo>
                <a:lnTo>
                  <a:pt x="622" y="858"/>
                </a:lnTo>
                <a:lnTo>
                  <a:pt x="622" y="841"/>
                </a:lnTo>
                <a:lnTo>
                  <a:pt x="621" y="822"/>
                </a:lnTo>
                <a:lnTo>
                  <a:pt x="619" y="805"/>
                </a:lnTo>
                <a:lnTo>
                  <a:pt x="616" y="786"/>
                </a:lnTo>
                <a:lnTo>
                  <a:pt x="613" y="769"/>
                </a:lnTo>
                <a:lnTo>
                  <a:pt x="608" y="750"/>
                </a:lnTo>
                <a:lnTo>
                  <a:pt x="596" y="715"/>
                </a:lnTo>
                <a:lnTo>
                  <a:pt x="583" y="681"/>
                </a:lnTo>
                <a:lnTo>
                  <a:pt x="568" y="648"/>
                </a:lnTo>
                <a:lnTo>
                  <a:pt x="552" y="619"/>
                </a:lnTo>
                <a:lnTo>
                  <a:pt x="537" y="593"/>
                </a:lnTo>
                <a:lnTo>
                  <a:pt x="523" y="569"/>
                </a:lnTo>
                <a:lnTo>
                  <a:pt x="501" y="537"/>
                </a:lnTo>
                <a:lnTo>
                  <a:pt x="492" y="524"/>
                </a:lnTo>
                <a:lnTo>
                  <a:pt x="466" y="537"/>
                </a:lnTo>
                <a:lnTo>
                  <a:pt x="441" y="547"/>
                </a:lnTo>
                <a:lnTo>
                  <a:pt x="418" y="555"/>
                </a:lnTo>
                <a:lnTo>
                  <a:pt x="395" y="562"/>
                </a:lnTo>
                <a:lnTo>
                  <a:pt x="374" y="567"/>
                </a:lnTo>
                <a:lnTo>
                  <a:pt x="353" y="570"/>
                </a:lnTo>
                <a:lnTo>
                  <a:pt x="334" y="572"/>
                </a:lnTo>
                <a:lnTo>
                  <a:pt x="316" y="572"/>
                </a:lnTo>
                <a:lnTo>
                  <a:pt x="300" y="570"/>
                </a:lnTo>
                <a:lnTo>
                  <a:pt x="283" y="568"/>
                </a:lnTo>
                <a:lnTo>
                  <a:pt x="267" y="565"/>
                </a:lnTo>
                <a:lnTo>
                  <a:pt x="254" y="560"/>
                </a:lnTo>
                <a:lnTo>
                  <a:pt x="240" y="555"/>
                </a:lnTo>
                <a:lnTo>
                  <a:pt x="229" y="550"/>
                </a:lnTo>
                <a:lnTo>
                  <a:pt x="216" y="543"/>
                </a:lnTo>
                <a:lnTo>
                  <a:pt x="206" y="537"/>
                </a:lnTo>
                <a:lnTo>
                  <a:pt x="197" y="529"/>
                </a:lnTo>
                <a:lnTo>
                  <a:pt x="188" y="521"/>
                </a:lnTo>
                <a:lnTo>
                  <a:pt x="179" y="513"/>
                </a:lnTo>
                <a:lnTo>
                  <a:pt x="172" y="505"/>
                </a:lnTo>
                <a:lnTo>
                  <a:pt x="159" y="490"/>
                </a:lnTo>
                <a:lnTo>
                  <a:pt x="149" y="473"/>
                </a:lnTo>
                <a:lnTo>
                  <a:pt x="137" y="450"/>
                </a:lnTo>
                <a:lnTo>
                  <a:pt x="133" y="441"/>
                </a:lnTo>
                <a:lnTo>
                  <a:pt x="148" y="434"/>
                </a:lnTo>
                <a:lnTo>
                  <a:pt x="188" y="415"/>
                </a:lnTo>
                <a:lnTo>
                  <a:pt x="245" y="388"/>
                </a:lnTo>
                <a:lnTo>
                  <a:pt x="312" y="354"/>
                </a:lnTo>
                <a:lnTo>
                  <a:pt x="382" y="320"/>
                </a:lnTo>
                <a:lnTo>
                  <a:pt x="447" y="284"/>
                </a:lnTo>
                <a:lnTo>
                  <a:pt x="476" y="268"/>
                </a:lnTo>
                <a:lnTo>
                  <a:pt x="501" y="253"/>
                </a:lnTo>
                <a:lnTo>
                  <a:pt x="521" y="239"/>
                </a:lnTo>
                <a:lnTo>
                  <a:pt x="534" y="228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1859040" y="4788000"/>
            <a:ext cx="706320" cy="860400"/>
          </a:xfrm>
          <a:custGeom>
            <a:avLst/>
            <a:gdLst/>
            <a:ahLst/>
            <a:rect l="l" t="t" r="r" b="b"/>
            <a:pathLst>
              <a:path w="1779" h="2168">
                <a:moveTo>
                  <a:pt x="1094" y="3"/>
                </a:moveTo>
                <a:lnTo>
                  <a:pt x="1085" y="7"/>
                </a:lnTo>
                <a:lnTo>
                  <a:pt x="1079" y="13"/>
                </a:lnTo>
                <a:lnTo>
                  <a:pt x="1074" y="19"/>
                </a:lnTo>
                <a:lnTo>
                  <a:pt x="1069" y="26"/>
                </a:lnTo>
                <a:lnTo>
                  <a:pt x="986" y="244"/>
                </a:lnTo>
                <a:lnTo>
                  <a:pt x="982" y="253"/>
                </a:lnTo>
                <a:lnTo>
                  <a:pt x="980" y="266"/>
                </a:lnTo>
                <a:lnTo>
                  <a:pt x="975" y="278"/>
                </a:lnTo>
                <a:lnTo>
                  <a:pt x="968" y="292"/>
                </a:lnTo>
                <a:lnTo>
                  <a:pt x="961" y="304"/>
                </a:lnTo>
                <a:lnTo>
                  <a:pt x="954" y="316"/>
                </a:lnTo>
                <a:lnTo>
                  <a:pt x="949" y="320"/>
                </a:lnTo>
                <a:lnTo>
                  <a:pt x="945" y="325"/>
                </a:lnTo>
                <a:lnTo>
                  <a:pt x="940" y="329"/>
                </a:lnTo>
                <a:lnTo>
                  <a:pt x="934" y="332"/>
                </a:lnTo>
                <a:lnTo>
                  <a:pt x="929" y="334"/>
                </a:lnTo>
                <a:lnTo>
                  <a:pt x="919" y="335"/>
                </a:lnTo>
                <a:lnTo>
                  <a:pt x="911" y="334"/>
                </a:lnTo>
                <a:lnTo>
                  <a:pt x="904" y="332"/>
                </a:lnTo>
                <a:lnTo>
                  <a:pt x="894" y="328"/>
                </a:lnTo>
                <a:lnTo>
                  <a:pt x="883" y="323"/>
                </a:lnTo>
                <a:lnTo>
                  <a:pt x="850" y="303"/>
                </a:lnTo>
                <a:lnTo>
                  <a:pt x="810" y="280"/>
                </a:lnTo>
                <a:lnTo>
                  <a:pt x="787" y="268"/>
                </a:lnTo>
                <a:lnTo>
                  <a:pt x="764" y="257"/>
                </a:lnTo>
                <a:lnTo>
                  <a:pt x="740" y="246"/>
                </a:lnTo>
                <a:lnTo>
                  <a:pt x="716" y="237"/>
                </a:lnTo>
                <a:lnTo>
                  <a:pt x="692" y="229"/>
                </a:lnTo>
                <a:lnTo>
                  <a:pt x="668" y="222"/>
                </a:lnTo>
                <a:lnTo>
                  <a:pt x="644" y="219"/>
                </a:lnTo>
                <a:lnTo>
                  <a:pt x="622" y="216"/>
                </a:lnTo>
                <a:lnTo>
                  <a:pt x="611" y="216"/>
                </a:lnTo>
                <a:lnTo>
                  <a:pt x="601" y="217"/>
                </a:lnTo>
                <a:lnTo>
                  <a:pt x="591" y="219"/>
                </a:lnTo>
                <a:lnTo>
                  <a:pt x="581" y="221"/>
                </a:lnTo>
                <a:lnTo>
                  <a:pt x="572" y="224"/>
                </a:lnTo>
                <a:lnTo>
                  <a:pt x="564" y="229"/>
                </a:lnTo>
                <a:lnTo>
                  <a:pt x="556" y="234"/>
                </a:lnTo>
                <a:lnTo>
                  <a:pt x="549" y="239"/>
                </a:lnTo>
                <a:lnTo>
                  <a:pt x="549" y="239"/>
                </a:lnTo>
                <a:lnTo>
                  <a:pt x="539" y="247"/>
                </a:lnTo>
                <a:lnTo>
                  <a:pt x="525" y="256"/>
                </a:lnTo>
                <a:lnTo>
                  <a:pt x="509" y="267"/>
                </a:lnTo>
                <a:lnTo>
                  <a:pt x="489" y="278"/>
                </a:lnTo>
                <a:lnTo>
                  <a:pt x="442" y="304"/>
                </a:lnTo>
                <a:lnTo>
                  <a:pt x="387" y="333"/>
                </a:lnTo>
                <a:lnTo>
                  <a:pt x="329" y="363"/>
                </a:lnTo>
                <a:lnTo>
                  <a:pt x="269" y="392"/>
                </a:lnTo>
                <a:lnTo>
                  <a:pt x="211" y="421"/>
                </a:lnTo>
                <a:lnTo>
                  <a:pt x="159" y="445"/>
                </a:lnTo>
                <a:lnTo>
                  <a:pt x="151" y="449"/>
                </a:lnTo>
                <a:lnTo>
                  <a:pt x="146" y="454"/>
                </a:lnTo>
                <a:lnTo>
                  <a:pt x="141" y="461"/>
                </a:lnTo>
                <a:lnTo>
                  <a:pt x="138" y="467"/>
                </a:lnTo>
                <a:lnTo>
                  <a:pt x="135" y="474"/>
                </a:lnTo>
                <a:lnTo>
                  <a:pt x="134" y="482"/>
                </a:lnTo>
                <a:lnTo>
                  <a:pt x="134" y="489"/>
                </a:lnTo>
                <a:lnTo>
                  <a:pt x="136" y="497"/>
                </a:lnTo>
                <a:lnTo>
                  <a:pt x="138" y="503"/>
                </a:lnTo>
                <a:lnTo>
                  <a:pt x="144" y="515"/>
                </a:lnTo>
                <a:lnTo>
                  <a:pt x="153" y="533"/>
                </a:lnTo>
                <a:lnTo>
                  <a:pt x="166" y="554"/>
                </a:lnTo>
                <a:lnTo>
                  <a:pt x="174" y="566"/>
                </a:lnTo>
                <a:lnTo>
                  <a:pt x="184" y="577"/>
                </a:lnTo>
                <a:lnTo>
                  <a:pt x="195" y="588"/>
                </a:lnTo>
                <a:lnTo>
                  <a:pt x="207" y="600"/>
                </a:lnTo>
                <a:lnTo>
                  <a:pt x="221" y="611"/>
                </a:lnTo>
                <a:lnTo>
                  <a:pt x="236" y="622"/>
                </a:lnTo>
                <a:lnTo>
                  <a:pt x="252" y="631"/>
                </a:lnTo>
                <a:lnTo>
                  <a:pt x="269" y="639"/>
                </a:lnTo>
                <a:lnTo>
                  <a:pt x="283" y="644"/>
                </a:lnTo>
                <a:lnTo>
                  <a:pt x="297" y="648"/>
                </a:lnTo>
                <a:lnTo>
                  <a:pt x="310" y="650"/>
                </a:lnTo>
                <a:lnTo>
                  <a:pt x="324" y="653"/>
                </a:lnTo>
                <a:lnTo>
                  <a:pt x="339" y="654"/>
                </a:lnTo>
                <a:lnTo>
                  <a:pt x="354" y="654"/>
                </a:lnTo>
                <a:lnTo>
                  <a:pt x="369" y="654"/>
                </a:lnTo>
                <a:lnTo>
                  <a:pt x="384" y="653"/>
                </a:lnTo>
                <a:lnTo>
                  <a:pt x="398" y="650"/>
                </a:lnTo>
                <a:lnTo>
                  <a:pt x="415" y="648"/>
                </a:lnTo>
                <a:lnTo>
                  <a:pt x="431" y="644"/>
                </a:lnTo>
                <a:lnTo>
                  <a:pt x="447" y="641"/>
                </a:lnTo>
                <a:lnTo>
                  <a:pt x="480" y="629"/>
                </a:lnTo>
                <a:lnTo>
                  <a:pt x="515" y="617"/>
                </a:lnTo>
                <a:lnTo>
                  <a:pt x="531" y="642"/>
                </a:lnTo>
                <a:lnTo>
                  <a:pt x="550" y="672"/>
                </a:lnTo>
                <a:lnTo>
                  <a:pt x="567" y="704"/>
                </a:lnTo>
                <a:lnTo>
                  <a:pt x="585" y="739"/>
                </a:lnTo>
                <a:lnTo>
                  <a:pt x="592" y="757"/>
                </a:lnTo>
                <a:lnTo>
                  <a:pt x="600" y="776"/>
                </a:lnTo>
                <a:lnTo>
                  <a:pt x="606" y="796"/>
                </a:lnTo>
                <a:lnTo>
                  <a:pt x="612" y="814"/>
                </a:lnTo>
                <a:lnTo>
                  <a:pt x="616" y="834"/>
                </a:lnTo>
                <a:lnTo>
                  <a:pt x="620" y="853"/>
                </a:lnTo>
                <a:lnTo>
                  <a:pt x="622" y="871"/>
                </a:lnTo>
                <a:lnTo>
                  <a:pt x="622" y="891"/>
                </a:lnTo>
                <a:lnTo>
                  <a:pt x="622" y="902"/>
                </a:lnTo>
                <a:lnTo>
                  <a:pt x="621" y="915"/>
                </a:lnTo>
                <a:lnTo>
                  <a:pt x="620" y="926"/>
                </a:lnTo>
                <a:lnTo>
                  <a:pt x="617" y="937"/>
                </a:lnTo>
                <a:lnTo>
                  <a:pt x="613" y="948"/>
                </a:lnTo>
                <a:lnTo>
                  <a:pt x="610" y="958"/>
                </a:lnTo>
                <a:lnTo>
                  <a:pt x="605" y="968"/>
                </a:lnTo>
                <a:lnTo>
                  <a:pt x="598" y="978"/>
                </a:lnTo>
                <a:lnTo>
                  <a:pt x="595" y="990"/>
                </a:lnTo>
                <a:lnTo>
                  <a:pt x="586" y="1014"/>
                </a:lnTo>
                <a:lnTo>
                  <a:pt x="572" y="1049"/>
                </a:lnTo>
                <a:lnTo>
                  <a:pt x="555" y="1088"/>
                </a:lnTo>
                <a:lnTo>
                  <a:pt x="545" y="1111"/>
                </a:lnTo>
                <a:lnTo>
                  <a:pt x="534" y="1133"/>
                </a:lnTo>
                <a:lnTo>
                  <a:pt x="520" y="1157"/>
                </a:lnTo>
                <a:lnTo>
                  <a:pt x="508" y="1179"/>
                </a:lnTo>
                <a:lnTo>
                  <a:pt x="493" y="1201"/>
                </a:lnTo>
                <a:lnTo>
                  <a:pt x="477" y="1224"/>
                </a:lnTo>
                <a:lnTo>
                  <a:pt x="461" y="1245"/>
                </a:lnTo>
                <a:lnTo>
                  <a:pt x="442" y="1263"/>
                </a:lnTo>
                <a:lnTo>
                  <a:pt x="412" y="1272"/>
                </a:lnTo>
                <a:lnTo>
                  <a:pt x="350" y="1292"/>
                </a:lnTo>
                <a:lnTo>
                  <a:pt x="288" y="1312"/>
                </a:lnTo>
                <a:lnTo>
                  <a:pt x="259" y="1322"/>
                </a:lnTo>
                <a:lnTo>
                  <a:pt x="98" y="1302"/>
                </a:lnTo>
                <a:lnTo>
                  <a:pt x="92" y="1302"/>
                </a:lnTo>
                <a:lnTo>
                  <a:pt x="87" y="1302"/>
                </a:lnTo>
                <a:lnTo>
                  <a:pt x="82" y="1303"/>
                </a:lnTo>
                <a:lnTo>
                  <a:pt x="77" y="1304"/>
                </a:lnTo>
                <a:lnTo>
                  <a:pt x="72" y="1307"/>
                </a:lnTo>
                <a:lnTo>
                  <a:pt x="67" y="1311"/>
                </a:lnTo>
                <a:lnTo>
                  <a:pt x="63" y="1313"/>
                </a:lnTo>
                <a:lnTo>
                  <a:pt x="59" y="1318"/>
                </a:lnTo>
                <a:lnTo>
                  <a:pt x="56" y="1322"/>
                </a:lnTo>
                <a:lnTo>
                  <a:pt x="48" y="1332"/>
                </a:lnTo>
                <a:lnTo>
                  <a:pt x="40" y="1348"/>
                </a:lnTo>
                <a:lnTo>
                  <a:pt x="28" y="1368"/>
                </a:lnTo>
                <a:lnTo>
                  <a:pt x="23" y="1379"/>
                </a:lnTo>
                <a:lnTo>
                  <a:pt x="19" y="1391"/>
                </a:lnTo>
                <a:lnTo>
                  <a:pt x="14" y="1405"/>
                </a:lnTo>
                <a:lnTo>
                  <a:pt x="9" y="1418"/>
                </a:lnTo>
                <a:lnTo>
                  <a:pt x="5" y="1433"/>
                </a:lnTo>
                <a:lnTo>
                  <a:pt x="2" y="1449"/>
                </a:lnTo>
                <a:lnTo>
                  <a:pt x="1" y="1466"/>
                </a:lnTo>
                <a:lnTo>
                  <a:pt x="0" y="1482"/>
                </a:lnTo>
                <a:lnTo>
                  <a:pt x="1" y="1498"/>
                </a:lnTo>
                <a:lnTo>
                  <a:pt x="2" y="1514"/>
                </a:lnTo>
                <a:lnTo>
                  <a:pt x="6" y="1531"/>
                </a:lnTo>
                <a:lnTo>
                  <a:pt x="11" y="1548"/>
                </a:lnTo>
                <a:lnTo>
                  <a:pt x="17" y="1564"/>
                </a:lnTo>
                <a:lnTo>
                  <a:pt x="25" y="1579"/>
                </a:lnTo>
                <a:lnTo>
                  <a:pt x="35" y="1593"/>
                </a:lnTo>
                <a:lnTo>
                  <a:pt x="45" y="1607"/>
                </a:lnTo>
                <a:lnTo>
                  <a:pt x="57" y="1621"/>
                </a:lnTo>
                <a:lnTo>
                  <a:pt x="71" y="1634"/>
                </a:lnTo>
                <a:lnTo>
                  <a:pt x="86" y="1647"/>
                </a:lnTo>
                <a:lnTo>
                  <a:pt x="102" y="1658"/>
                </a:lnTo>
                <a:lnTo>
                  <a:pt x="119" y="1669"/>
                </a:lnTo>
                <a:lnTo>
                  <a:pt x="138" y="1680"/>
                </a:lnTo>
                <a:lnTo>
                  <a:pt x="158" y="1690"/>
                </a:lnTo>
                <a:lnTo>
                  <a:pt x="179" y="1700"/>
                </a:lnTo>
                <a:lnTo>
                  <a:pt x="200" y="1710"/>
                </a:lnTo>
                <a:lnTo>
                  <a:pt x="223" y="1719"/>
                </a:lnTo>
                <a:lnTo>
                  <a:pt x="248" y="1727"/>
                </a:lnTo>
                <a:lnTo>
                  <a:pt x="274" y="1735"/>
                </a:lnTo>
                <a:lnTo>
                  <a:pt x="272" y="1746"/>
                </a:lnTo>
                <a:lnTo>
                  <a:pt x="271" y="1758"/>
                </a:lnTo>
                <a:lnTo>
                  <a:pt x="269" y="1772"/>
                </a:lnTo>
                <a:lnTo>
                  <a:pt x="268" y="1787"/>
                </a:lnTo>
                <a:lnTo>
                  <a:pt x="269" y="1801"/>
                </a:lnTo>
                <a:lnTo>
                  <a:pt x="271" y="1816"/>
                </a:lnTo>
                <a:lnTo>
                  <a:pt x="272" y="1830"/>
                </a:lnTo>
                <a:lnTo>
                  <a:pt x="276" y="1845"/>
                </a:lnTo>
                <a:lnTo>
                  <a:pt x="279" y="1861"/>
                </a:lnTo>
                <a:lnTo>
                  <a:pt x="285" y="1876"/>
                </a:lnTo>
                <a:lnTo>
                  <a:pt x="292" y="1891"/>
                </a:lnTo>
                <a:lnTo>
                  <a:pt x="300" y="1906"/>
                </a:lnTo>
                <a:lnTo>
                  <a:pt x="308" y="1916"/>
                </a:lnTo>
                <a:lnTo>
                  <a:pt x="315" y="1925"/>
                </a:lnTo>
                <a:lnTo>
                  <a:pt x="323" y="1933"/>
                </a:lnTo>
                <a:lnTo>
                  <a:pt x="331" y="1942"/>
                </a:lnTo>
                <a:lnTo>
                  <a:pt x="340" y="1949"/>
                </a:lnTo>
                <a:lnTo>
                  <a:pt x="350" y="1957"/>
                </a:lnTo>
                <a:lnTo>
                  <a:pt x="360" y="1963"/>
                </a:lnTo>
                <a:lnTo>
                  <a:pt x="371" y="1969"/>
                </a:lnTo>
                <a:lnTo>
                  <a:pt x="382" y="1976"/>
                </a:lnTo>
                <a:lnTo>
                  <a:pt x="394" y="1981"/>
                </a:lnTo>
                <a:lnTo>
                  <a:pt x="406" y="1985"/>
                </a:lnTo>
                <a:lnTo>
                  <a:pt x="420" y="1990"/>
                </a:lnTo>
                <a:lnTo>
                  <a:pt x="447" y="1998"/>
                </a:lnTo>
                <a:lnTo>
                  <a:pt x="475" y="2003"/>
                </a:lnTo>
                <a:lnTo>
                  <a:pt x="479" y="2012"/>
                </a:lnTo>
                <a:lnTo>
                  <a:pt x="483" y="2020"/>
                </a:lnTo>
                <a:lnTo>
                  <a:pt x="489" y="2030"/>
                </a:lnTo>
                <a:lnTo>
                  <a:pt x="495" y="2039"/>
                </a:lnTo>
                <a:lnTo>
                  <a:pt x="504" y="2049"/>
                </a:lnTo>
                <a:lnTo>
                  <a:pt x="513" y="2057"/>
                </a:lnTo>
                <a:lnTo>
                  <a:pt x="525" y="2067"/>
                </a:lnTo>
                <a:lnTo>
                  <a:pt x="539" y="2076"/>
                </a:lnTo>
                <a:lnTo>
                  <a:pt x="550" y="2082"/>
                </a:lnTo>
                <a:lnTo>
                  <a:pt x="562" y="2088"/>
                </a:lnTo>
                <a:lnTo>
                  <a:pt x="575" y="2093"/>
                </a:lnTo>
                <a:lnTo>
                  <a:pt x="588" y="2097"/>
                </a:lnTo>
                <a:lnTo>
                  <a:pt x="602" y="2101"/>
                </a:lnTo>
                <a:lnTo>
                  <a:pt x="617" y="2102"/>
                </a:lnTo>
                <a:lnTo>
                  <a:pt x="632" y="2105"/>
                </a:lnTo>
                <a:lnTo>
                  <a:pt x="648" y="2105"/>
                </a:lnTo>
                <a:lnTo>
                  <a:pt x="664" y="2105"/>
                </a:lnTo>
                <a:lnTo>
                  <a:pt x="682" y="2105"/>
                </a:lnTo>
                <a:lnTo>
                  <a:pt x="699" y="2102"/>
                </a:lnTo>
                <a:lnTo>
                  <a:pt x="718" y="2100"/>
                </a:lnTo>
                <a:lnTo>
                  <a:pt x="755" y="2093"/>
                </a:lnTo>
                <a:lnTo>
                  <a:pt x="795" y="2083"/>
                </a:lnTo>
                <a:lnTo>
                  <a:pt x="803" y="2095"/>
                </a:lnTo>
                <a:lnTo>
                  <a:pt x="814" y="2107"/>
                </a:lnTo>
                <a:lnTo>
                  <a:pt x="827" y="2121"/>
                </a:lnTo>
                <a:lnTo>
                  <a:pt x="843" y="2133"/>
                </a:lnTo>
                <a:lnTo>
                  <a:pt x="852" y="2139"/>
                </a:lnTo>
                <a:lnTo>
                  <a:pt x="860" y="2144"/>
                </a:lnTo>
                <a:lnTo>
                  <a:pt x="870" y="2149"/>
                </a:lnTo>
                <a:lnTo>
                  <a:pt x="880" y="2154"/>
                </a:lnTo>
                <a:lnTo>
                  <a:pt x="891" y="2159"/>
                </a:lnTo>
                <a:lnTo>
                  <a:pt x="904" y="2162"/>
                </a:lnTo>
                <a:lnTo>
                  <a:pt x="916" y="2165"/>
                </a:lnTo>
                <a:lnTo>
                  <a:pt x="929" y="2167"/>
                </a:lnTo>
                <a:lnTo>
                  <a:pt x="939" y="2168"/>
                </a:lnTo>
                <a:lnTo>
                  <a:pt x="949" y="2168"/>
                </a:lnTo>
                <a:lnTo>
                  <a:pt x="959" y="2167"/>
                </a:lnTo>
                <a:lnTo>
                  <a:pt x="968" y="2165"/>
                </a:lnTo>
                <a:lnTo>
                  <a:pt x="978" y="2164"/>
                </a:lnTo>
                <a:lnTo>
                  <a:pt x="988" y="2162"/>
                </a:lnTo>
                <a:lnTo>
                  <a:pt x="997" y="2159"/>
                </a:lnTo>
                <a:lnTo>
                  <a:pt x="1007" y="2155"/>
                </a:lnTo>
                <a:lnTo>
                  <a:pt x="1026" y="2146"/>
                </a:lnTo>
                <a:lnTo>
                  <a:pt x="1044" y="2134"/>
                </a:lnTo>
                <a:lnTo>
                  <a:pt x="1063" y="2119"/>
                </a:lnTo>
                <a:lnTo>
                  <a:pt x="1081" y="2103"/>
                </a:lnTo>
                <a:lnTo>
                  <a:pt x="1090" y="2092"/>
                </a:lnTo>
                <a:lnTo>
                  <a:pt x="1106" y="2072"/>
                </a:lnTo>
                <a:lnTo>
                  <a:pt x="1131" y="2041"/>
                </a:lnTo>
                <a:lnTo>
                  <a:pt x="1162" y="2002"/>
                </a:lnTo>
                <a:lnTo>
                  <a:pt x="1197" y="1953"/>
                </a:lnTo>
                <a:lnTo>
                  <a:pt x="1237" y="1896"/>
                </a:lnTo>
                <a:lnTo>
                  <a:pt x="1257" y="1865"/>
                </a:lnTo>
                <a:lnTo>
                  <a:pt x="1278" y="1833"/>
                </a:lnTo>
                <a:lnTo>
                  <a:pt x="1299" y="1798"/>
                </a:lnTo>
                <a:lnTo>
                  <a:pt x="1320" y="1762"/>
                </a:lnTo>
                <a:lnTo>
                  <a:pt x="1340" y="1724"/>
                </a:lnTo>
                <a:lnTo>
                  <a:pt x="1361" y="1685"/>
                </a:lnTo>
                <a:lnTo>
                  <a:pt x="1382" y="1646"/>
                </a:lnTo>
                <a:lnTo>
                  <a:pt x="1402" y="1603"/>
                </a:lnTo>
                <a:lnTo>
                  <a:pt x="1420" y="1561"/>
                </a:lnTo>
                <a:lnTo>
                  <a:pt x="1439" y="1516"/>
                </a:lnTo>
                <a:lnTo>
                  <a:pt x="1456" y="1472"/>
                </a:lnTo>
                <a:lnTo>
                  <a:pt x="1473" y="1426"/>
                </a:lnTo>
                <a:lnTo>
                  <a:pt x="1487" y="1380"/>
                </a:lnTo>
                <a:lnTo>
                  <a:pt x="1501" y="1333"/>
                </a:lnTo>
                <a:lnTo>
                  <a:pt x="1512" y="1284"/>
                </a:lnTo>
                <a:lnTo>
                  <a:pt x="1522" y="1236"/>
                </a:lnTo>
                <a:lnTo>
                  <a:pt x="1531" y="1186"/>
                </a:lnTo>
                <a:lnTo>
                  <a:pt x="1537" y="1137"/>
                </a:lnTo>
                <a:lnTo>
                  <a:pt x="1540" y="1087"/>
                </a:lnTo>
                <a:lnTo>
                  <a:pt x="1542" y="1038"/>
                </a:lnTo>
                <a:lnTo>
                  <a:pt x="1541" y="1015"/>
                </a:lnTo>
                <a:lnTo>
                  <a:pt x="1540" y="993"/>
                </a:lnTo>
                <a:lnTo>
                  <a:pt x="1538" y="972"/>
                </a:lnTo>
                <a:lnTo>
                  <a:pt x="1537" y="949"/>
                </a:lnTo>
                <a:lnTo>
                  <a:pt x="1561" y="937"/>
                </a:lnTo>
                <a:lnTo>
                  <a:pt x="1588" y="920"/>
                </a:lnTo>
                <a:lnTo>
                  <a:pt x="1603" y="911"/>
                </a:lnTo>
                <a:lnTo>
                  <a:pt x="1619" y="900"/>
                </a:lnTo>
                <a:lnTo>
                  <a:pt x="1634" y="889"/>
                </a:lnTo>
                <a:lnTo>
                  <a:pt x="1649" y="875"/>
                </a:lnTo>
                <a:lnTo>
                  <a:pt x="1665" y="863"/>
                </a:lnTo>
                <a:lnTo>
                  <a:pt x="1680" y="848"/>
                </a:lnTo>
                <a:lnTo>
                  <a:pt x="1694" y="832"/>
                </a:lnTo>
                <a:lnTo>
                  <a:pt x="1709" y="814"/>
                </a:lnTo>
                <a:lnTo>
                  <a:pt x="1721" y="797"/>
                </a:lnTo>
                <a:lnTo>
                  <a:pt x="1733" y="777"/>
                </a:lnTo>
                <a:lnTo>
                  <a:pt x="1745" y="757"/>
                </a:lnTo>
                <a:lnTo>
                  <a:pt x="1754" y="735"/>
                </a:lnTo>
                <a:lnTo>
                  <a:pt x="1761" y="720"/>
                </a:lnTo>
                <a:lnTo>
                  <a:pt x="1766" y="705"/>
                </a:lnTo>
                <a:lnTo>
                  <a:pt x="1769" y="690"/>
                </a:lnTo>
                <a:lnTo>
                  <a:pt x="1773" y="675"/>
                </a:lnTo>
                <a:lnTo>
                  <a:pt x="1776" y="659"/>
                </a:lnTo>
                <a:lnTo>
                  <a:pt x="1778" y="644"/>
                </a:lnTo>
                <a:lnTo>
                  <a:pt x="1779" y="628"/>
                </a:lnTo>
                <a:lnTo>
                  <a:pt x="1779" y="612"/>
                </a:lnTo>
                <a:lnTo>
                  <a:pt x="1779" y="591"/>
                </a:lnTo>
                <a:lnTo>
                  <a:pt x="1777" y="570"/>
                </a:lnTo>
                <a:lnTo>
                  <a:pt x="1773" y="549"/>
                </a:lnTo>
                <a:lnTo>
                  <a:pt x="1769" y="526"/>
                </a:lnTo>
                <a:lnTo>
                  <a:pt x="1763" y="504"/>
                </a:lnTo>
                <a:lnTo>
                  <a:pt x="1756" y="483"/>
                </a:lnTo>
                <a:lnTo>
                  <a:pt x="1747" y="459"/>
                </a:lnTo>
                <a:lnTo>
                  <a:pt x="1737" y="437"/>
                </a:lnTo>
                <a:lnTo>
                  <a:pt x="1732" y="430"/>
                </a:lnTo>
                <a:lnTo>
                  <a:pt x="1726" y="422"/>
                </a:lnTo>
                <a:lnTo>
                  <a:pt x="1706" y="406"/>
                </a:lnTo>
                <a:lnTo>
                  <a:pt x="1661" y="369"/>
                </a:lnTo>
                <a:lnTo>
                  <a:pt x="1596" y="316"/>
                </a:lnTo>
                <a:lnTo>
                  <a:pt x="1514" y="253"/>
                </a:lnTo>
                <a:lnTo>
                  <a:pt x="1469" y="220"/>
                </a:lnTo>
                <a:lnTo>
                  <a:pt x="1422" y="185"/>
                </a:lnTo>
                <a:lnTo>
                  <a:pt x="1373" y="152"/>
                </a:lnTo>
                <a:lnTo>
                  <a:pt x="1324" y="118"/>
                </a:lnTo>
                <a:lnTo>
                  <a:pt x="1274" y="86"/>
                </a:lnTo>
                <a:lnTo>
                  <a:pt x="1224" y="55"/>
                </a:lnTo>
                <a:lnTo>
                  <a:pt x="1175" y="28"/>
                </a:lnTo>
                <a:lnTo>
                  <a:pt x="1127" y="4"/>
                </a:lnTo>
                <a:lnTo>
                  <a:pt x="1120" y="0"/>
                </a:lnTo>
                <a:lnTo>
                  <a:pt x="1111" y="0"/>
                </a:lnTo>
                <a:lnTo>
                  <a:pt x="1103" y="0"/>
                </a:lnTo>
                <a:lnTo>
                  <a:pt x="1094" y="3"/>
                </a:lnTo>
                <a:close/>
                <a:moveTo>
                  <a:pt x="970" y="410"/>
                </a:moveTo>
                <a:lnTo>
                  <a:pt x="983" y="402"/>
                </a:lnTo>
                <a:lnTo>
                  <a:pt x="995" y="395"/>
                </a:lnTo>
                <a:lnTo>
                  <a:pt x="1006" y="385"/>
                </a:lnTo>
                <a:lnTo>
                  <a:pt x="1016" y="375"/>
                </a:lnTo>
                <a:lnTo>
                  <a:pt x="1024" y="364"/>
                </a:lnTo>
                <a:lnTo>
                  <a:pt x="1032" y="353"/>
                </a:lnTo>
                <a:lnTo>
                  <a:pt x="1039" y="342"/>
                </a:lnTo>
                <a:lnTo>
                  <a:pt x="1045" y="330"/>
                </a:lnTo>
                <a:lnTo>
                  <a:pt x="1054" y="309"/>
                </a:lnTo>
                <a:lnTo>
                  <a:pt x="1062" y="289"/>
                </a:lnTo>
                <a:lnTo>
                  <a:pt x="1065" y="276"/>
                </a:lnTo>
                <a:lnTo>
                  <a:pt x="1068" y="268"/>
                </a:lnTo>
                <a:lnTo>
                  <a:pt x="1074" y="250"/>
                </a:lnTo>
                <a:lnTo>
                  <a:pt x="1091" y="206"/>
                </a:lnTo>
                <a:lnTo>
                  <a:pt x="1112" y="152"/>
                </a:lnTo>
                <a:lnTo>
                  <a:pt x="1131" y="103"/>
                </a:lnTo>
                <a:lnTo>
                  <a:pt x="1172" y="126"/>
                </a:lnTo>
                <a:lnTo>
                  <a:pt x="1214" y="150"/>
                </a:lnTo>
                <a:lnTo>
                  <a:pt x="1257" y="178"/>
                </a:lnTo>
                <a:lnTo>
                  <a:pt x="1299" y="205"/>
                </a:lnTo>
                <a:lnTo>
                  <a:pt x="1382" y="263"/>
                </a:lnTo>
                <a:lnTo>
                  <a:pt x="1460" y="320"/>
                </a:lnTo>
                <a:lnTo>
                  <a:pt x="1531" y="375"/>
                </a:lnTo>
                <a:lnTo>
                  <a:pt x="1591" y="421"/>
                </a:lnTo>
                <a:lnTo>
                  <a:pt x="1634" y="458"/>
                </a:lnTo>
                <a:lnTo>
                  <a:pt x="1661" y="479"/>
                </a:lnTo>
                <a:lnTo>
                  <a:pt x="1669" y="497"/>
                </a:lnTo>
                <a:lnTo>
                  <a:pt x="1675" y="514"/>
                </a:lnTo>
                <a:lnTo>
                  <a:pt x="1680" y="531"/>
                </a:lnTo>
                <a:lnTo>
                  <a:pt x="1685" y="548"/>
                </a:lnTo>
                <a:lnTo>
                  <a:pt x="1689" y="565"/>
                </a:lnTo>
                <a:lnTo>
                  <a:pt x="1691" y="581"/>
                </a:lnTo>
                <a:lnTo>
                  <a:pt x="1692" y="597"/>
                </a:lnTo>
                <a:lnTo>
                  <a:pt x="1694" y="612"/>
                </a:lnTo>
                <a:lnTo>
                  <a:pt x="1692" y="636"/>
                </a:lnTo>
                <a:lnTo>
                  <a:pt x="1689" y="658"/>
                </a:lnTo>
                <a:lnTo>
                  <a:pt x="1684" y="680"/>
                </a:lnTo>
                <a:lnTo>
                  <a:pt x="1676" y="701"/>
                </a:lnTo>
                <a:lnTo>
                  <a:pt x="1665" y="725"/>
                </a:lnTo>
                <a:lnTo>
                  <a:pt x="1651" y="746"/>
                </a:lnTo>
                <a:lnTo>
                  <a:pt x="1638" y="766"/>
                </a:lnTo>
                <a:lnTo>
                  <a:pt x="1622" y="784"/>
                </a:lnTo>
                <a:lnTo>
                  <a:pt x="1604" y="801"/>
                </a:lnTo>
                <a:lnTo>
                  <a:pt x="1588" y="816"/>
                </a:lnTo>
                <a:lnTo>
                  <a:pt x="1571" y="829"/>
                </a:lnTo>
                <a:lnTo>
                  <a:pt x="1553" y="842"/>
                </a:lnTo>
                <a:lnTo>
                  <a:pt x="1521" y="861"/>
                </a:lnTo>
                <a:lnTo>
                  <a:pt x="1494" y="875"/>
                </a:lnTo>
                <a:lnTo>
                  <a:pt x="1475" y="884"/>
                </a:lnTo>
                <a:lnTo>
                  <a:pt x="1468" y="886"/>
                </a:lnTo>
                <a:lnTo>
                  <a:pt x="1463" y="889"/>
                </a:lnTo>
                <a:lnTo>
                  <a:pt x="1459" y="892"/>
                </a:lnTo>
                <a:lnTo>
                  <a:pt x="1456" y="897"/>
                </a:lnTo>
                <a:lnTo>
                  <a:pt x="1454" y="902"/>
                </a:lnTo>
                <a:lnTo>
                  <a:pt x="1450" y="914"/>
                </a:lnTo>
                <a:lnTo>
                  <a:pt x="1450" y="927"/>
                </a:lnTo>
                <a:lnTo>
                  <a:pt x="1450" y="933"/>
                </a:lnTo>
                <a:lnTo>
                  <a:pt x="1450" y="941"/>
                </a:lnTo>
                <a:lnTo>
                  <a:pt x="1453" y="964"/>
                </a:lnTo>
                <a:lnTo>
                  <a:pt x="1454" y="988"/>
                </a:lnTo>
                <a:lnTo>
                  <a:pt x="1455" y="1012"/>
                </a:lnTo>
                <a:lnTo>
                  <a:pt x="1455" y="1035"/>
                </a:lnTo>
                <a:lnTo>
                  <a:pt x="1454" y="1082"/>
                </a:lnTo>
                <a:lnTo>
                  <a:pt x="1450" y="1129"/>
                </a:lnTo>
                <a:lnTo>
                  <a:pt x="1445" y="1177"/>
                </a:lnTo>
                <a:lnTo>
                  <a:pt x="1437" y="1224"/>
                </a:lnTo>
                <a:lnTo>
                  <a:pt x="1428" y="1270"/>
                </a:lnTo>
                <a:lnTo>
                  <a:pt x="1415" y="1316"/>
                </a:lnTo>
                <a:lnTo>
                  <a:pt x="1403" y="1361"/>
                </a:lnTo>
                <a:lnTo>
                  <a:pt x="1388" y="1405"/>
                </a:lnTo>
                <a:lnTo>
                  <a:pt x="1372" y="1449"/>
                </a:lnTo>
                <a:lnTo>
                  <a:pt x="1355" y="1492"/>
                </a:lnTo>
                <a:lnTo>
                  <a:pt x="1337" y="1534"/>
                </a:lnTo>
                <a:lnTo>
                  <a:pt x="1319" y="1575"/>
                </a:lnTo>
                <a:lnTo>
                  <a:pt x="1299" y="1616"/>
                </a:lnTo>
                <a:lnTo>
                  <a:pt x="1279" y="1654"/>
                </a:lnTo>
                <a:lnTo>
                  <a:pt x="1259" y="1691"/>
                </a:lnTo>
                <a:lnTo>
                  <a:pt x="1239" y="1727"/>
                </a:lnTo>
                <a:lnTo>
                  <a:pt x="1198" y="1796"/>
                </a:lnTo>
                <a:lnTo>
                  <a:pt x="1158" y="1856"/>
                </a:lnTo>
                <a:lnTo>
                  <a:pt x="1121" y="1910"/>
                </a:lnTo>
                <a:lnTo>
                  <a:pt x="1089" y="1956"/>
                </a:lnTo>
                <a:lnTo>
                  <a:pt x="1060" y="1993"/>
                </a:lnTo>
                <a:lnTo>
                  <a:pt x="1038" y="2020"/>
                </a:lnTo>
                <a:lnTo>
                  <a:pt x="1024" y="2038"/>
                </a:lnTo>
                <a:lnTo>
                  <a:pt x="1018" y="2045"/>
                </a:lnTo>
                <a:lnTo>
                  <a:pt x="1008" y="2054"/>
                </a:lnTo>
                <a:lnTo>
                  <a:pt x="998" y="2062"/>
                </a:lnTo>
                <a:lnTo>
                  <a:pt x="988" y="2069"/>
                </a:lnTo>
                <a:lnTo>
                  <a:pt x="978" y="2074"/>
                </a:lnTo>
                <a:lnTo>
                  <a:pt x="968" y="2079"/>
                </a:lnTo>
                <a:lnTo>
                  <a:pt x="959" y="2081"/>
                </a:lnTo>
                <a:lnTo>
                  <a:pt x="949" y="2082"/>
                </a:lnTo>
                <a:lnTo>
                  <a:pt x="939" y="2081"/>
                </a:lnTo>
                <a:lnTo>
                  <a:pt x="930" y="2080"/>
                </a:lnTo>
                <a:lnTo>
                  <a:pt x="923" y="2079"/>
                </a:lnTo>
                <a:lnTo>
                  <a:pt x="915" y="2075"/>
                </a:lnTo>
                <a:lnTo>
                  <a:pt x="908" y="2072"/>
                </a:lnTo>
                <a:lnTo>
                  <a:pt x="893" y="2064"/>
                </a:lnTo>
                <a:lnTo>
                  <a:pt x="880" y="2052"/>
                </a:lnTo>
                <a:lnTo>
                  <a:pt x="869" y="2043"/>
                </a:lnTo>
                <a:lnTo>
                  <a:pt x="859" y="2031"/>
                </a:lnTo>
                <a:lnTo>
                  <a:pt x="852" y="2023"/>
                </a:lnTo>
                <a:lnTo>
                  <a:pt x="847" y="2015"/>
                </a:lnTo>
                <a:lnTo>
                  <a:pt x="842" y="2009"/>
                </a:lnTo>
                <a:lnTo>
                  <a:pt x="837" y="2004"/>
                </a:lnTo>
                <a:lnTo>
                  <a:pt x="831" y="2000"/>
                </a:lnTo>
                <a:lnTo>
                  <a:pt x="824" y="1998"/>
                </a:lnTo>
                <a:lnTo>
                  <a:pt x="818" y="1995"/>
                </a:lnTo>
                <a:lnTo>
                  <a:pt x="812" y="1995"/>
                </a:lnTo>
                <a:lnTo>
                  <a:pt x="805" y="1995"/>
                </a:lnTo>
                <a:lnTo>
                  <a:pt x="797" y="1997"/>
                </a:lnTo>
                <a:lnTo>
                  <a:pt x="776" y="2004"/>
                </a:lnTo>
                <a:lnTo>
                  <a:pt x="755" y="2009"/>
                </a:lnTo>
                <a:lnTo>
                  <a:pt x="735" y="2014"/>
                </a:lnTo>
                <a:lnTo>
                  <a:pt x="718" y="2016"/>
                </a:lnTo>
                <a:lnTo>
                  <a:pt x="700" y="2019"/>
                </a:lnTo>
                <a:lnTo>
                  <a:pt x="685" y="2021"/>
                </a:lnTo>
                <a:lnTo>
                  <a:pt x="670" y="2021"/>
                </a:lnTo>
                <a:lnTo>
                  <a:pt x="657" y="2021"/>
                </a:lnTo>
                <a:lnTo>
                  <a:pt x="644" y="2021"/>
                </a:lnTo>
                <a:lnTo>
                  <a:pt x="633" y="2020"/>
                </a:lnTo>
                <a:lnTo>
                  <a:pt x="623" y="2019"/>
                </a:lnTo>
                <a:lnTo>
                  <a:pt x="615" y="2016"/>
                </a:lnTo>
                <a:lnTo>
                  <a:pt x="598" y="2012"/>
                </a:lnTo>
                <a:lnTo>
                  <a:pt x="585" y="2004"/>
                </a:lnTo>
                <a:lnTo>
                  <a:pt x="575" y="1998"/>
                </a:lnTo>
                <a:lnTo>
                  <a:pt x="567" y="1990"/>
                </a:lnTo>
                <a:lnTo>
                  <a:pt x="561" y="1983"/>
                </a:lnTo>
                <a:lnTo>
                  <a:pt x="556" y="1977"/>
                </a:lnTo>
                <a:lnTo>
                  <a:pt x="551" y="1966"/>
                </a:lnTo>
                <a:lnTo>
                  <a:pt x="550" y="1961"/>
                </a:lnTo>
                <a:lnTo>
                  <a:pt x="547" y="1954"/>
                </a:lnTo>
                <a:lnTo>
                  <a:pt x="545" y="1948"/>
                </a:lnTo>
                <a:lnTo>
                  <a:pt x="541" y="1942"/>
                </a:lnTo>
                <a:lnTo>
                  <a:pt x="536" y="1937"/>
                </a:lnTo>
                <a:lnTo>
                  <a:pt x="531" y="1933"/>
                </a:lnTo>
                <a:lnTo>
                  <a:pt x="525" y="1930"/>
                </a:lnTo>
                <a:lnTo>
                  <a:pt x="519" y="1927"/>
                </a:lnTo>
                <a:lnTo>
                  <a:pt x="511" y="1926"/>
                </a:lnTo>
                <a:lnTo>
                  <a:pt x="487" y="1922"/>
                </a:lnTo>
                <a:lnTo>
                  <a:pt x="464" y="1918"/>
                </a:lnTo>
                <a:lnTo>
                  <a:pt x="444" y="1912"/>
                </a:lnTo>
                <a:lnTo>
                  <a:pt x="426" y="1905"/>
                </a:lnTo>
                <a:lnTo>
                  <a:pt x="410" y="1896"/>
                </a:lnTo>
                <a:lnTo>
                  <a:pt x="395" y="1885"/>
                </a:lnTo>
                <a:lnTo>
                  <a:pt x="389" y="1880"/>
                </a:lnTo>
                <a:lnTo>
                  <a:pt x="384" y="1874"/>
                </a:lnTo>
                <a:lnTo>
                  <a:pt x="377" y="1868"/>
                </a:lnTo>
                <a:lnTo>
                  <a:pt x="374" y="1861"/>
                </a:lnTo>
                <a:lnTo>
                  <a:pt x="369" y="1851"/>
                </a:lnTo>
                <a:lnTo>
                  <a:pt x="364" y="1843"/>
                </a:lnTo>
                <a:lnTo>
                  <a:pt x="360" y="1834"/>
                </a:lnTo>
                <a:lnTo>
                  <a:pt x="358" y="1824"/>
                </a:lnTo>
                <a:lnTo>
                  <a:pt x="355" y="1806"/>
                </a:lnTo>
                <a:lnTo>
                  <a:pt x="354" y="1787"/>
                </a:lnTo>
                <a:lnTo>
                  <a:pt x="355" y="1762"/>
                </a:lnTo>
                <a:lnTo>
                  <a:pt x="359" y="1742"/>
                </a:lnTo>
                <a:lnTo>
                  <a:pt x="362" y="1729"/>
                </a:lnTo>
                <a:lnTo>
                  <a:pt x="364" y="1722"/>
                </a:lnTo>
                <a:lnTo>
                  <a:pt x="365" y="1716"/>
                </a:lnTo>
                <a:lnTo>
                  <a:pt x="366" y="1709"/>
                </a:lnTo>
                <a:lnTo>
                  <a:pt x="366" y="1704"/>
                </a:lnTo>
                <a:lnTo>
                  <a:pt x="365" y="1699"/>
                </a:lnTo>
                <a:lnTo>
                  <a:pt x="364" y="1693"/>
                </a:lnTo>
                <a:lnTo>
                  <a:pt x="361" y="1688"/>
                </a:lnTo>
                <a:lnTo>
                  <a:pt x="356" y="1682"/>
                </a:lnTo>
                <a:lnTo>
                  <a:pt x="349" y="1675"/>
                </a:lnTo>
                <a:lnTo>
                  <a:pt x="341" y="1670"/>
                </a:lnTo>
                <a:lnTo>
                  <a:pt x="333" y="1667"/>
                </a:lnTo>
                <a:lnTo>
                  <a:pt x="309" y="1662"/>
                </a:lnTo>
                <a:lnTo>
                  <a:pt x="285" y="1654"/>
                </a:lnTo>
                <a:lnTo>
                  <a:pt x="263" y="1648"/>
                </a:lnTo>
                <a:lnTo>
                  <a:pt x="242" y="1639"/>
                </a:lnTo>
                <a:lnTo>
                  <a:pt x="222" y="1632"/>
                </a:lnTo>
                <a:lnTo>
                  <a:pt x="204" y="1623"/>
                </a:lnTo>
                <a:lnTo>
                  <a:pt x="186" y="1615"/>
                </a:lnTo>
                <a:lnTo>
                  <a:pt x="170" y="1606"/>
                </a:lnTo>
                <a:lnTo>
                  <a:pt x="156" y="1597"/>
                </a:lnTo>
                <a:lnTo>
                  <a:pt x="143" y="1587"/>
                </a:lnTo>
                <a:lnTo>
                  <a:pt x="130" y="1576"/>
                </a:lnTo>
                <a:lnTo>
                  <a:pt x="120" y="1566"/>
                </a:lnTo>
                <a:lnTo>
                  <a:pt x="112" y="1555"/>
                </a:lnTo>
                <a:lnTo>
                  <a:pt x="104" y="1544"/>
                </a:lnTo>
                <a:lnTo>
                  <a:pt x="97" y="1533"/>
                </a:lnTo>
                <a:lnTo>
                  <a:pt x="93" y="1520"/>
                </a:lnTo>
                <a:lnTo>
                  <a:pt x="89" y="1510"/>
                </a:lnTo>
                <a:lnTo>
                  <a:pt x="88" y="1502"/>
                </a:lnTo>
                <a:lnTo>
                  <a:pt x="87" y="1492"/>
                </a:lnTo>
                <a:lnTo>
                  <a:pt x="86" y="1482"/>
                </a:lnTo>
                <a:lnTo>
                  <a:pt x="87" y="1467"/>
                </a:lnTo>
                <a:lnTo>
                  <a:pt x="89" y="1452"/>
                </a:lnTo>
                <a:lnTo>
                  <a:pt x="92" y="1438"/>
                </a:lnTo>
                <a:lnTo>
                  <a:pt x="95" y="1427"/>
                </a:lnTo>
                <a:lnTo>
                  <a:pt x="105" y="1406"/>
                </a:lnTo>
                <a:lnTo>
                  <a:pt x="115" y="1390"/>
                </a:lnTo>
                <a:lnTo>
                  <a:pt x="154" y="1394"/>
                </a:lnTo>
                <a:lnTo>
                  <a:pt x="204" y="1400"/>
                </a:lnTo>
                <a:lnTo>
                  <a:pt x="245" y="1404"/>
                </a:lnTo>
                <a:lnTo>
                  <a:pt x="263" y="1406"/>
                </a:lnTo>
                <a:lnTo>
                  <a:pt x="277" y="1402"/>
                </a:lnTo>
                <a:lnTo>
                  <a:pt x="304" y="1395"/>
                </a:lnTo>
                <a:lnTo>
                  <a:pt x="340" y="1382"/>
                </a:lnTo>
                <a:lnTo>
                  <a:pt x="381" y="1370"/>
                </a:lnTo>
                <a:lnTo>
                  <a:pt x="421" y="1356"/>
                </a:lnTo>
                <a:lnTo>
                  <a:pt x="456" y="1345"/>
                </a:lnTo>
                <a:lnTo>
                  <a:pt x="480" y="1337"/>
                </a:lnTo>
                <a:lnTo>
                  <a:pt x="489" y="1334"/>
                </a:lnTo>
                <a:lnTo>
                  <a:pt x="513" y="1311"/>
                </a:lnTo>
                <a:lnTo>
                  <a:pt x="534" y="1284"/>
                </a:lnTo>
                <a:lnTo>
                  <a:pt x="554" y="1260"/>
                </a:lnTo>
                <a:lnTo>
                  <a:pt x="571" y="1232"/>
                </a:lnTo>
                <a:lnTo>
                  <a:pt x="588" y="1206"/>
                </a:lnTo>
                <a:lnTo>
                  <a:pt x="603" y="1180"/>
                </a:lnTo>
                <a:lnTo>
                  <a:pt x="617" y="1155"/>
                </a:lnTo>
                <a:lnTo>
                  <a:pt x="629" y="1131"/>
                </a:lnTo>
                <a:lnTo>
                  <a:pt x="649" y="1086"/>
                </a:lnTo>
                <a:lnTo>
                  <a:pt x="663" y="1050"/>
                </a:lnTo>
                <a:lnTo>
                  <a:pt x="672" y="1025"/>
                </a:lnTo>
                <a:lnTo>
                  <a:pt x="675" y="1014"/>
                </a:lnTo>
                <a:lnTo>
                  <a:pt x="685" y="998"/>
                </a:lnTo>
                <a:lnTo>
                  <a:pt x="694" y="981"/>
                </a:lnTo>
                <a:lnTo>
                  <a:pt x="700" y="963"/>
                </a:lnTo>
                <a:lnTo>
                  <a:pt x="705" y="945"/>
                </a:lnTo>
                <a:lnTo>
                  <a:pt x="708" y="926"/>
                </a:lnTo>
                <a:lnTo>
                  <a:pt x="710" y="907"/>
                </a:lnTo>
                <a:lnTo>
                  <a:pt x="710" y="887"/>
                </a:lnTo>
                <a:lnTo>
                  <a:pt x="710" y="869"/>
                </a:lnTo>
                <a:lnTo>
                  <a:pt x="708" y="849"/>
                </a:lnTo>
                <a:lnTo>
                  <a:pt x="705" y="830"/>
                </a:lnTo>
                <a:lnTo>
                  <a:pt x="700" y="811"/>
                </a:lnTo>
                <a:lnTo>
                  <a:pt x="697" y="792"/>
                </a:lnTo>
                <a:lnTo>
                  <a:pt x="684" y="753"/>
                </a:lnTo>
                <a:lnTo>
                  <a:pt x="670" y="717"/>
                </a:lnTo>
                <a:lnTo>
                  <a:pt x="654" y="683"/>
                </a:lnTo>
                <a:lnTo>
                  <a:pt x="638" y="650"/>
                </a:lnTo>
                <a:lnTo>
                  <a:pt x="622" y="622"/>
                </a:lnTo>
                <a:lnTo>
                  <a:pt x="606" y="596"/>
                </a:lnTo>
                <a:lnTo>
                  <a:pt x="581" y="559"/>
                </a:lnTo>
                <a:lnTo>
                  <a:pt x="570" y="541"/>
                </a:lnTo>
                <a:lnTo>
                  <a:pt x="564" y="536"/>
                </a:lnTo>
                <a:lnTo>
                  <a:pt x="559" y="531"/>
                </a:lnTo>
                <a:lnTo>
                  <a:pt x="551" y="528"/>
                </a:lnTo>
                <a:lnTo>
                  <a:pt x="545" y="526"/>
                </a:lnTo>
                <a:lnTo>
                  <a:pt x="538" y="525"/>
                </a:lnTo>
                <a:lnTo>
                  <a:pt x="530" y="525"/>
                </a:lnTo>
                <a:lnTo>
                  <a:pt x="523" y="526"/>
                </a:lnTo>
                <a:lnTo>
                  <a:pt x="516" y="529"/>
                </a:lnTo>
                <a:lnTo>
                  <a:pt x="484" y="544"/>
                </a:lnTo>
                <a:lnTo>
                  <a:pt x="454" y="556"/>
                </a:lnTo>
                <a:lnTo>
                  <a:pt x="439" y="560"/>
                </a:lnTo>
                <a:lnTo>
                  <a:pt x="426" y="564"/>
                </a:lnTo>
                <a:lnTo>
                  <a:pt x="412" y="567"/>
                </a:lnTo>
                <a:lnTo>
                  <a:pt x="398" y="570"/>
                </a:lnTo>
                <a:lnTo>
                  <a:pt x="385" y="571"/>
                </a:lnTo>
                <a:lnTo>
                  <a:pt x="372" y="572"/>
                </a:lnTo>
                <a:lnTo>
                  <a:pt x="360" y="572"/>
                </a:lnTo>
                <a:lnTo>
                  <a:pt x="348" y="571"/>
                </a:lnTo>
                <a:lnTo>
                  <a:pt x="336" y="570"/>
                </a:lnTo>
                <a:lnTo>
                  <a:pt x="325" y="567"/>
                </a:lnTo>
                <a:lnTo>
                  <a:pt x="314" y="565"/>
                </a:lnTo>
                <a:lnTo>
                  <a:pt x="304" y="560"/>
                </a:lnTo>
                <a:lnTo>
                  <a:pt x="292" y="555"/>
                </a:lnTo>
                <a:lnTo>
                  <a:pt x="281" y="549"/>
                </a:lnTo>
                <a:lnTo>
                  <a:pt x="271" y="541"/>
                </a:lnTo>
                <a:lnTo>
                  <a:pt x="262" y="534"/>
                </a:lnTo>
                <a:lnTo>
                  <a:pt x="253" y="526"/>
                </a:lnTo>
                <a:lnTo>
                  <a:pt x="247" y="519"/>
                </a:lnTo>
                <a:lnTo>
                  <a:pt x="241" y="512"/>
                </a:lnTo>
                <a:lnTo>
                  <a:pt x="236" y="503"/>
                </a:lnTo>
                <a:lnTo>
                  <a:pt x="274" y="484"/>
                </a:lnTo>
                <a:lnTo>
                  <a:pt x="324" y="461"/>
                </a:lnTo>
                <a:lnTo>
                  <a:pt x="379" y="435"/>
                </a:lnTo>
                <a:lnTo>
                  <a:pt x="434" y="405"/>
                </a:lnTo>
                <a:lnTo>
                  <a:pt x="489" y="376"/>
                </a:lnTo>
                <a:lnTo>
                  <a:pt x="539" y="348"/>
                </a:lnTo>
                <a:lnTo>
                  <a:pt x="560" y="335"/>
                </a:lnTo>
                <a:lnTo>
                  <a:pt x="580" y="323"/>
                </a:lnTo>
                <a:lnTo>
                  <a:pt x="595" y="312"/>
                </a:lnTo>
                <a:lnTo>
                  <a:pt x="607" y="302"/>
                </a:lnTo>
                <a:lnTo>
                  <a:pt x="606" y="302"/>
                </a:lnTo>
                <a:lnTo>
                  <a:pt x="606" y="302"/>
                </a:lnTo>
                <a:lnTo>
                  <a:pt x="606" y="302"/>
                </a:lnTo>
                <a:lnTo>
                  <a:pt x="606" y="302"/>
                </a:lnTo>
                <a:lnTo>
                  <a:pt x="606" y="303"/>
                </a:lnTo>
                <a:lnTo>
                  <a:pt x="606" y="303"/>
                </a:lnTo>
                <a:lnTo>
                  <a:pt x="606" y="303"/>
                </a:lnTo>
                <a:lnTo>
                  <a:pt x="607" y="302"/>
                </a:lnTo>
                <a:lnTo>
                  <a:pt x="612" y="301"/>
                </a:lnTo>
                <a:lnTo>
                  <a:pt x="620" y="301"/>
                </a:lnTo>
                <a:lnTo>
                  <a:pt x="629" y="302"/>
                </a:lnTo>
                <a:lnTo>
                  <a:pt x="639" y="303"/>
                </a:lnTo>
                <a:lnTo>
                  <a:pt x="665" y="311"/>
                </a:lnTo>
                <a:lnTo>
                  <a:pt x="697" y="322"/>
                </a:lnTo>
                <a:lnTo>
                  <a:pt x="730" y="337"/>
                </a:lnTo>
                <a:lnTo>
                  <a:pt x="766" y="354"/>
                </a:lnTo>
                <a:lnTo>
                  <a:pt x="802" y="374"/>
                </a:lnTo>
                <a:lnTo>
                  <a:pt x="838" y="396"/>
                </a:lnTo>
                <a:lnTo>
                  <a:pt x="849" y="402"/>
                </a:lnTo>
                <a:lnTo>
                  <a:pt x="860" y="407"/>
                </a:lnTo>
                <a:lnTo>
                  <a:pt x="870" y="411"/>
                </a:lnTo>
                <a:lnTo>
                  <a:pt x="880" y="415"/>
                </a:lnTo>
                <a:lnTo>
                  <a:pt x="899" y="418"/>
                </a:lnTo>
                <a:lnTo>
                  <a:pt x="916" y="420"/>
                </a:lnTo>
                <a:lnTo>
                  <a:pt x="932" y="420"/>
                </a:lnTo>
                <a:lnTo>
                  <a:pt x="946" y="417"/>
                </a:lnTo>
                <a:lnTo>
                  <a:pt x="959" y="414"/>
                </a:lnTo>
                <a:lnTo>
                  <a:pt x="970" y="410"/>
                </a:lnTo>
                <a:close/>
                <a:moveTo>
                  <a:pt x="1536" y="931"/>
                </a:moveTo>
                <a:lnTo>
                  <a:pt x="1536" y="932"/>
                </a:lnTo>
                <a:lnTo>
                  <a:pt x="1536" y="933"/>
                </a:lnTo>
                <a:lnTo>
                  <a:pt x="1536" y="932"/>
                </a:lnTo>
                <a:lnTo>
                  <a:pt x="1536" y="93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1781280" y="3747960"/>
            <a:ext cx="1216080" cy="1371600"/>
          </a:xfrm>
          <a:custGeom>
            <a:avLst/>
            <a:gdLst/>
            <a:ahLst/>
            <a:rect l="l" t="t" r="r" b="b"/>
            <a:pathLst>
              <a:path w="3066" h="3458">
                <a:moveTo>
                  <a:pt x="520" y="4"/>
                </a:moveTo>
                <a:lnTo>
                  <a:pt x="513" y="8"/>
                </a:lnTo>
                <a:lnTo>
                  <a:pt x="489" y="25"/>
                </a:lnTo>
                <a:lnTo>
                  <a:pt x="453" y="49"/>
                </a:lnTo>
                <a:lnTo>
                  <a:pt x="408" y="83"/>
                </a:lnTo>
                <a:lnTo>
                  <a:pt x="356" y="123"/>
                </a:lnTo>
                <a:lnTo>
                  <a:pt x="299" y="171"/>
                </a:lnTo>
                <a:lnTo>
                  <a:pt x="269" y="197"/>
                </a:lnTo>
                <a:lnTo>
                  <a:pt x="241" y="224"/>
                </a:lnTo>
                <a:lnTo>
                  <a:pt x="211" y="253"/>
                </a:lnTo>
                <a:lnTo>
                  <a:pt x="183" y="283"/>
                </a:lnTo>
                <a:lnTo>
                  <a:pt x="155" y="312"/>
                </a:lnTo>
                <a:lnTo>
                  <a:pt x="129" y="345"/>
                </a:lnTo>
                <a:lnTo>
                  <a:pt x="104" y="377"/>
                </a:lnTo>
                <a:lnTo>
                  <a:pt x="80" y="410"/>
                </a:lnTo>
                <a:lnTo>
                  <a:pt x="59" y="444"/>
                </a:lnTo>
                <a:lnTo>
                  <a:pt x="42" y="479"/>
                </a:lnTo>
                <a:lnTo>
                  <a:pt x="26" y="513"/>
                </a:lnTo>
                <a:lnTo>
                  <a:pt x="13" y="548"/>
                </a:lnTo>
                <a:lnTo>
                  <a:pt x="5" y="583"/>
                </a:lnTo>
                <a:lnTo>
                  <a:pt x="0" y="619"/>
                </a:lnTo>
                <a:lnTo>
                  <a:pt x="0" y="654"/>
                </a:lnTo>
                <a:lnTo>
                  <a:pt x="3" y="688"/>
                </a:lnTo>
                <a:lnTo>
                  <a:pt x="12" y="723"/>
                </a:lnTo>
                <a:lnTo>
                  <a:pt x="26" y="758"/>
                </a:lnTo>
                <a:lnTo>
                  <a:pt x="44" y="791"/>
                </a:lnTo>
                <a:lnTo>
                  <a:pt x="69" y="825"/>
                </a:lnTo>
                <a:lnTo>
                  <a:pt x="82" y="837"/>
                </a:lnTo>
                <a:lnTo>
                  <a:pt x="118" y="873"/>
                </a:lnTo>
                <a:lnTo>
                  <a:pt x="174" y="930"/>
                </a:lnTo>
                <a:lnTo>
                  <a:pt x="247" y="1004"/>
                </a:lnTo>
                <a:lnTo>
                  <a:pt x="334" y="1089"/>
                </a:lnTo>
                <a:lnTo>
                  <a:pt x="432" y="1186"/>
                </a:lnTo>
                <a:lnTo>
                  <a:pt x="537" y="1290"/>
                </a:lnTo>
                <a:lnTo>
                  <a:pt x="649" y="1397"/>
                </a:lnTo>
                <a:lnTo>
                  <a:pt x="762" y="1504"/>
                </a:lnTo>
                <a:lnTo>
                  <a:pt x="874" y="1608"/>
                </a:lnTo>
                <a:lnTo>
                  <a:pt x="929" y="1657"/>
                </a:lnTo>
                <a:lnTo>
                  <a:pt x="982" y="1704"/>
                </a:lnTo>
                <a:lnTo>
                  <a:pt x="1034" y="1749"/>
                </a:lnTo>
                <a:lnTo>
                  <a:pt x="1084" y="1791"/>
                </a:lnTo>
                <a:lnTo>
                  <a:pt x="1131" y="1831"/>
                </a:lnTo>
                <a:lnTo>
                  <a:pt x="1174" y="1866"/>
                </a:lnTo>
                <a:lnTo>
                  <a:pt x="1215" y="1897"/>
                </a:lnTo>
                <a:lnTo>
                  <a:pt x="1253" y="1923"/>
                </a:lnTo>
                <a:lnTo>
                  <a:pt x="1286" y="1945"/>
                </a:lnTo>
                <a:lnTo>
                  <a:pt x="1315" y="1961"/>
                </a:lnTo>
                <a:lnTo>
                  <a:pt x="1340" y="1971"/>
                </a:lnTo>
                <a:lnTo>
                  <a:pt x="1358" y="1975"/>
                </a:lnTo>
                <a:lnTo>
                  <a:pt x="1367" y="1968"/>
                </a:lnTo>
                <a:lnTo>
                  <a:pt x="1389" y="1946"/>
                </a:lnTo>
                <a:lnTo>
                  <a:pt x="1423" y="1918"/>
                </a:lnTo>
                <a:lnTo>
                  <a:pt x="1465" y="1886"/>
                </a:lnTo>
                <a:lnTo>
                  <a:pt x="1487" y="1868"/>
                </a:lnTo>
                <a:lnTo>
                  <a:pt x="1511" y="1852"/>
                </a:lnTo>
                <a:lnTo>
                  <a:pt x="1536" y="1837"/>
                </a:lnTo>
                <a:lnTo>
                  <a:pt x="1561" y="1824"/>
                </a:lnTo>
                <a:lnTo>
                  <a:pt x="1584" y="1812"/>
                </a:lnTo>
                <a:lnTo>
                  <a:pt x="1608" y="1804"/>
                </a:lnTo>
                <a:lnTo>
                  <a:pt x="1619" y="1801"/>
                </a:lnTo>
                <a:lnTo>
                  <a:pt x="1629" y="1799"/>
                </a:lnTo>
                <a:lnTo>
                  <a:pt x="1640" y="1798"/>
                </a:lnTo>
                <a:lnTo>
                  <a:pt x="1650" y="1796"/>
                </a:lnTo>
                <a:lnTo>
                  <a:pt x="1371" y="1966"/>
                </a:lnTo>
                <a:lnTo>
                  <a:pt x="1354" y="1974"/>
                </a:lnTo>
                <a:lnTo>
                  <a:pt x="1343" y="1979"/>
                </a:lnTo>
                <a:lnTo>
                  <a:pt x="1337" y="1981"/>
                </a:lnTo>
                <a:lnTo>
                  <a:pt x="1336" y="1984"/>
                </a:lnTo>
                <a:lnTo>
                  <a:pt x="1340" y="1984"/>
                </a:lnTo>
                <a:lnTo>
                  <a:pt x="1348" y="1984"/>
                </a:lnTo>
                <a:lnTo>
                  <a:pt x="1361" y="1981"/>
                </a:lnTo>
                <a:lnTo>
                  <a:pt x="1377" y="1979"/>
                </a:lnTo>
                <a:lnTo>
                  <a:pt x="1419" y="1972"/>
                </a:lnTo>
                <a:lnTo>
                  <a:pt x="1471" y="1963"/>
                </a:lnTo>
                <a:lnTo>
                  <a:pt x="1533" y="1951"/>
                </a:lnTo>
                <a:lnTo>
                  <a:pt x="1600" y="1939"/>
                </a:lnTo>
                <a:lnTo>
                  <a:pt x="1672" y="1928"/>
                </a:lnTo>
                <a:lnTo>
                  <a:pt x="1744" y="1918"/>
                </a:lnTo>
                <a:lnTo>
                  <a:pt x="1779" y="1914"/>
                </a:lnTo>
                <a:lnTo>
                  <a:pt x="1814" y="1910"/>
                </a:lnTo>
                <a:lnTo>
                  <a:pt x="1847" y="1908"/>
                </a:lnTo>
                <a:lnTo>
                  <a:pt x="1881" y="1905"/>
                </a:lnTo>
                <a:lnTo>
                  <a:pt x="1911" y="1905"/>
                </a:lnTo>
                <a:lnTo>
                  <a:pt x="1939" y="1905"/>
                </a:lnTo>
                <a:lnTo>
                  <a:pt x="1967" y="1907"/>
                </a:lnTo>
                <a:lnTo>
                  <a:pt x="1990" y="1909"/>
                </a:lnTo>
                <a:lnTo>
                  <a:pt x="2011" y="1914"/>
                </a:lnTo>
                <a:lnTo>
                  <a:pt x="2029" y="1919"/>
                </a:lnTo>
                <a:lnTo>
                  <a:pt x="2042" y="1927"/>
                </a:lnTo>
                <a:lnTo>
                  <a:pt x="2052" y="1937"/>
                </a:lnTo>
                <a:lnTo>
                  <a:pt x="2045" y="1937"/>
                </a:lnTo>
                <a:lnTo>
                  <a:pt x="2024" y="1935"/>
                </a:lnTo>
                <a:lnTo>
                  <a:pt x="1990" y="1935"/>
                </a:lnTo>
                <a:lnTo>
                  <a:pt x="1947" y="1935"/>
                </a:lnTo>
                <a:lnTo>
                  <a:pt x="1893" y="1937"/>
                </a:lnTo>
                <a:lnTo>
                  <a:pt x="1833" y="1939"/>
                </a:lnTo>
                <a:lnTo>
                  <a:pt x="1767" y="1941"/>
                </a:lnTo>
                <a:lnTo>
                  <a:pt x="1696" y="1946"/>
                </a:lnTo>
                <a:lnTo>
                  <a:pt x="1621" y="1954"/>
                </a:lnTo>
                <a:lnTo>
                  <a:pt x="1547" y="1964"/>
                </a:lnTo>
                <a:lnTo>
                  <a:pt x="1510" y="1970"/>
                </a:lnTo>
                <a:lnTo>
                  <a:pt x="1472" y="1976"/>
                </a:lnTo>
                <a:lnTo>
                  <a:pt x="1435" y="1984"/>
                </a:lnTo>
                <a:lnTo>
                  <a:pt x="1399" y="1992"/>
                </a:lnTo>
                <a:lnTo>
                  <a:pt x="1364" y="2001"/>
                </a:lnTo>
                <a:lnTo>
                  <a:pt x="1330" y="2011"/>
                </a:lnTo>
                <a:lnTo>
                  <a:pt x="1297" y="2022"/>
                </a:lnTo>
                <a:lnTo>
                  <a:pt x="1266" y="2033"/>
                </a:lnTo>
                <a:lnTo>
                  <a:pt x="1236" y="2047"/>
                </a:lnTo>
                <a:lnTo>
                  <a:pt x="1208" y="2061"/>
                </a:lnTo>
                <a:lnTo>
                  <a:pt x="1183" y="2075"/>
                </a:lnTo>
                <a:lnTo>
                  <a:pt x="1159" y="2092"/>
                </a:lnTo>
                <a:lnTo>
                  <a:pt x="1181" y="2093"/>
                </a:lnTo>
                <a:lnTo>
                  <a:pt x="1240" y="2099"/>
                </a:lnTo>
                <a:lnTo>
                  <a:pt x="1281" y="2103"/>
                </a:lnTo>
                <a:lnTo>
                  <a:pt x="1327" y="2109"/>
                </a:lnTo>
                <a:lnTo>
                  <a:pt x="1377" y="2118"/>
                </a:lnTo>
                <a:lnTo>
                  <a:pt x="1429" y="2128"/>
                </a:lnTo>
                <a:lnTo>
                  <a:pt x="1482" y="2140"/>
                </a:lnTo>
                <a:lnTo>
                  <a:pt x="1536" y="2155"/>
                </a:lnTo>
                <a:lnTo>
                  <a:pt x="1562" y="2164"/>
                </a:lnTo>
                <a:lnTo>
                  <a:pt x="1588" y="2172"/>
                </a:lnTo>
                <a:lnTo>
                  <a:pt x="1613" y="2182"/>
                </a:lnTo>
                <a:lnTo>
                  <a:pt x="1638" y="2193"/>
                </a:lnTo>
                <a:lnTo>
                  <a:pt x="1660" y="2204"/>
                </a:lnTo>
                <a:lnTo>
                  <a:pt x="1682" y="2217"/>
                </a:lnTo>
                <a:lnTo>
                  <a:pt x="1703" y="2231"/>
                </a:lnTo>
                <a:lnTo>
                  <a:pt x="1722" y="2244"/>
                </a:lnTo>
                <a:lnTo>
                  <a:pt x="1739" y="2259"/>
                </a:lnTo>
                <a:lnTo>
                  <a:pt x="1754" y="2275"/>
                </a:lnTo>
                <a:lnTo>
                  <a:pt x="1768" y="2293"/>
                </a:lnTo>
                <a:lnTo>
                  <a:pt x="1779" y="2310"/>
                </a:lnTo>
                <a:lnTo>
                  <a:pt x="1762" y="2299"/>
                </a:lnTo>
                <a:lnTo>
                  <a:pt x="1716" y="2270"/>
                </a:lnTo>
                <a:lnTo>
                  <a:pt x="1683" y="2252"/>
                </a:lnTo>
                <a:lnTo>
                  <a:pt x="1646" y="2232"/>
                </a:lnTo>
                <a:lnTo>
                  <a:pt x="1605" y="2211"/>
                </a:lnTo>
                <a:lnTo>
                  <a:pt x="1563" y="2190"/>
                </a:lnTo>
                <a:lnTo>
                  <a:pt x="1517" y="2170"/>
                </a:lnTo>
                <a:lnTo>
                  <a:pt x="1472" y="2152"/>
                </a:lnTo>
                <a:lnTo>
                  <a:pt x="1449" y="2145"/>
                </a:lnTo>
                <a:lnTo>
                  <a:pt x="1426" y="2137"/>
                </a:lnTo>
                <a:lnTo>
                  <a:pt x="1403" y="2131"/>
                </a:lnTo>
                <a:lnTo>
                  <a:pt x="1382" y="2126"/>
                </a:lnTo>
                <a:lnTo>
                  <a:pt x="1359" y="2121"/>
                </a:lnTo>
                <a:lnTo>
                  <a:pt x="1338" y="2119"/>
                </a:lnTo>
                <a:lnTo>
                  <a:pt x="1318" y="2118"/>
                </a:lnTo>
                <a:lnTo>
                  <a:pt x="1299" y="2118"/>
                </a:lnTo>
                <a:lnTo>
                  <a:pt x="1280" y="2119"/>
                </a:lnTo>
                <a:lnTo>
                  <a:pt x="1263" y="2123"/>
                </a:lnTo>
                <a:lnTo>
                  <a:pt x="1246" y="2128"/>
                </a:lnTo>
                <a:lnTo>
                  <a:pt x="1230" y="2135"/>
                </a:lnTo>
                <a:lnTo>
                  <a:pt x="783" y="2687"/>
                </a:lnTo>
                <a:lnTo>
                  <a:pt x="751" y="2690"/>
                </a:lnTo>
                <a:lnTo>
                  <a:pt x="731" y="2691"/>
                </a:lnTo>
                <a:lnTo>
                  <a:pt x="722" y="2692"/>
                </a:lnTo>
                <a:lnTo>
                  <a:pt x="722" y="2693"/>
                </a:lnTo>
                <a:lnTo>
                  <a:pt x="751" y="2696"/>
                </a:lnTo>
                <a:lnTo>
                  <a:pt x="811" y="2700"/>
                </a:lnTo>
                <a:lnTo>
                  <a:pt x="895" y="2707"/>
                </a:lnTo>
                <a:lnTo>
                  <a:pt x="1001" y="2718"/>
                </a:lnTo>
                <a:lnTo>
                  <a:pt x="1058" y="2726"/>
                </a:lnTo>
                <a:lnTo>
                  <a:pt x="1119" y="2734"/>
                </a:lnTo>
                <a:lnTo>
                  <a:pt x="1182" y="2745"/>
                </a:lnTo>
                <a:lnTo>
                  <a:pt x="1246" y="2758"/>
                </a:lnTo>
                <a:lnTo>
                  <a:pt x="1311" y="2773"/>
                </a:lnTo>
                <a:lnTo>
                  <a:pt x="1376" y="2790"/>
                </a:lnTo>
                <a:lnTo>
                  <a:pt x="1439" y="2811"/>
                </a:lnTo>
                <a:lnTo>
                  <a:pt x="1501" y="2834"/>
                </a:lnTo>
                <a:lnTo>
                  <a:pt x="1562" y="2858"/>
                </a:lnTo>
                <a:lnTo>
                  <a:pt x="1618" y="2888"/>
                </a:lnTo>
                <a:lnTo>
                  <a:pt x="1671" y="2919"/>
                </a:lnTo>
                <a:lnTo>
                  <a:pt x="1721" y="2955"/>
                </a:lnTo>
                <a:lnTo>
                  <a:pt x="1764" y="2994"/>
                </a:lnTo>
                <a:lnTo>
                  <a:pt x="1803" y="3037"/>
                </a:lnTo>
                <a:lnTo>
                  <a:pt x="1834" y="3083"/>
                </a:lnTo>
                <a:lnTo>
                  <a:pt x="1857" y="3134"/>
                </a:lnTo>
                <a:lnTo>
                  <a:pt x="1873" y="3190"/>
                </a:lnTo>
                <a:lnTo>
                  <a:pt x="1881" y="3249"/>
                </a:lnTo>
                <a:lnTo>
                  <a:pt x="1878" y="3314"/>
                </a:lnTo>
                <a:lnTo>
                  <a:pt x="1866" y="3383"/>
                </a:lnTo>
                <a:lnTo>
                  <a:pt x="1876" y="3393"/>
                </a:lnTo>
                <a:lnTo>
                  <a:pt x="1903" y="3415"/>
                </a:lnTo>
                <a:lnTo>
                  <a:pt x="1913" y="3422"/>
                </a:lnTo>
                <a:lnTo>
                  <a:pt x="1923" y="3428"/>
                </a:lnTo>
                <a:lnTo>
                  <a:pt x="1936" y="3434"/>
                </a:lnTo>
                <a:lnTo>
                  <a:pt x="1948" y="3440"/>
                </a:lnTo>
                <a:lnTo>
                  <a:pt x="1960" y="3445"/>
                </a:lnTo>
                <a:lnTo>
                  <a:pt x="1975" y="3450"/>
                </a:lnTo>
                <a:lnTo>
                  <a:pt x="1990" y="3454"/>
                </a:lnTo>
                <a:lnTo>
                  <a:pt x="2006" y="3456"/>
                </a:lnTo>
                <a:lnTo>
                  <a:pt x="2022" y="3458"/>
                </a:lnTo>
                <a:lnTo>
                  <a:pt x="2040" y="3458"/>
                </a:lnTo>
                <a:lnTo>
                  <a:pt x="2059" y="3455"/>
                </a:lnTo>
                <a:lnTo>
                  <a:pt x="2077" y="3453"/>
                </a:lnTo>
                <a:lnTo>
                  <a:pt x="2097" y="3446"/>
                </a:lnTo>
                <a:lnTo>
                  <a:pt x="2117" y="3439"/>
                </a:lnTo>
                <a:lnTo>
                  <a:pt x="2138" y="3430"/>
                </a:lnTo>
                <a:lnTo>
                  <a:pt x="2159" y="3418"/>
                </a:lnTo>
                <a:lnTo>
                  <a:pt x="2181" y="3404"/>
                </a:lnTo>
                <a:lnTo>
                  <a:pt x="2204" y="3387"/>
                </a:lnTo>
                <a:lnTo>
                  <a:pt x="2227" y="3366"/>
                </a:lnTo>
                <a:lnTo>
                  <a:pt x="2251" y="3343"/>
                </a:lnTo>
                <a:lnTo>
                  <a:pt x="2275" y="3316"/>
                </a:lnTo>
                <a:lnTo>
                  <a:pt x="2299" y="3286"/>
                </a:lnTo>
                <a:lnTo>
                  <a:pt x="2324" y="3253"/>
                </a:lnTo>
                <a:lnTo>
                  <a:pt x="2349" y="3216"/>
                </a:lnTo>
                <a:lnTo>
                  <a:pt x="2385" y="2965"/>
                </a:lnTo>
                <a:lnTo>
                  <a:pt x="2374" y="3192"/>
                </a:lnTo>
                <a:lnTo>
                  <a:pt x="2386" y="3195"/>
                </a:lnTo>
                <a:lnTo>
                  <a:pt x="2421" y="3201"/>
                </a:lnTo>
                <a:lnTo>
                  <a:pt x="2443" y="3203"/>
                </a:lnTo>
                <a:lnTo>
                  <a:pt x="2471" y="3206"/>
                </a:lnTo>
                <a:lnTo>
                  <a:pt x="2499" y="3206"/>
                </a:lnTo>
                <a:lnTo>
                  <a:pt x="2530" y="3206"/>
                </a:lnTo>
                <a:lnTo>
                  <a:pt x="2561" y="3203"/>
                </a:lnTo>
                <a:lnTo>
                  <a:pt x="2592" y="3198"/>
                </a:lnTo>
                <a:lnTo>
                  <a:pt x="2609" y="3195"/>
                </a:lnTo>
                <a:lnTo>
                  <a:pt x="2624" y="3191"/>
                </a:lnTo>
                <a:lnTo>
                  <a:pt x="2638" y="3186"/>
                </a:lnTo>
                <a:lnTo>
                  <a:pt x="2653" y="3180"/>
                </a:lnTo>
                <a:lnTo>
                  <a:pt x="2667" y="3172"/>
                </a:lnTo>
                <a:lnTo>
                  <a:pt x="2681" y="3165"/>
                </a:lnTo>
                <a:lnTo>
                  <a:pt x="2693" y="3156"/>
                </a:lnTo>
                <a:lnTo>
                  <a:pt x="2705" y="3146"/>
                </a:lnTo>
                <a:lnTo>
                  <a:pt x="2717" y="3135"/>
                </a:lnTo>
                <a:lnTo>
                  <a:pt x="2727" y="3123"/>
                </a:lnTo>
                <a:lnTo>
                  <a:pt x="2735" y="3109"/>
                </a:lnTo>
                <a:lnTo>
                  <a:pt x="2743" y="3094"/>
                </a:lnTo>
                <a:lnTo>
                  <a:pt x="2753" y="3079"/>
                </a:lnTo>
                <a:lnTo>
                  <a:pt x="2780" y="3036"/>
                </a:lnTo>
                <a:lnTo>
                  <a:pt x="2799" y="3004"/>
                </a:lnTo>
                <a:lnTo>
                  <a:pt x="2820" y="2966"/>
                </a:lnTo>
                <a:lnTo>
                  <a:pt x="2843" y="2923"/>
                </a:lnTo>
                <a:lnTo>
                  <a:pt x="2867" y="2874"/>
                </a:lnTo>
                <a:lnTo>
                  <a:pt x="2893" y="2821"/>
                </a:lnTo>
                <a:lnTo>
                  <a:pt x="2918" y="2763"/>
                </a:lnTo>
                <a:lnTo>
                  <a:pt x="2944" y="2701"/>
                </a:lnTo>
                <a:lnTo>
                  <a:pt x="2967" y="2634"/>
                </a:lnTo>
                <a:lnTo>
                  <a:pt x="2991" y="2564"/>
                </a:lnTo>
                <a:lnTo>
                  <a:pt x="3012" y="2491"/>
                </a:lnTo>
                <a:lnTo>
                  <a:pt x="3030" y="2414"/>
                </a:lnTo>
                <a:lnTo>
                  <a:pt x="3046" y="2335"/>
                </a:lnTo>
                <a:lnTo>
                  <a:pt x="3057" y="2254"/>
                </a:lnTo>
                <a:lnTo>
                  <a:pt x="3063" y="2171"/>
                </a:lnTo>
                <a:lnTo>
                  <a:pt x="3066" y="2087"/>
                </a:lnTo>
                <a:lnTo>
                  <a:pt x="3062" y="2001"/>
                </a:lnTo>
                <a:lnTo>
                  <a:pt x="3053" y="1914"/>
                </a:lnTo>
                <a:lnTo>
                  <a:pt x="3037" y="1827"/>
                </a:lnTo>
                <a:lnTo>
                  <a:pt x="3013" y="1739"/>
                </a:lnTo>
                <a:lnTo>
                  <a:pt x="2984" y="1652"/>
                </a:lnTo>
                <a:lnTo>
                  <a:pt x="2944" y="1566"/>
                </a:lnTo>
                <a:lnTo>
                  <a:pt x="2895" y="1480"/>
                </a:lnTo>
                <a:lnTo>
                  <a:pt x="2838" y="1396"/>
                </a:lnTo>
                <a:lnTo>
                  <a:pt x="2770" y="1312"/>
                </a:lnTo>
                <a:lnTo>
                  <a:pt x="2692" y="1231"/>
                </a:lnTo>
                <a:lnTo>
                  <a:pt x="2602" y="1152"/>
                </a:lnTo>
                <a:lnTo>
                  <a:pt x="2501" y="1075"/>
                </a:lnTo>
                <a:lnTo>
                  <a:pt x="2388" y="1002"/>
                </a:lnTo>
                <a:lnTo>
                  <a:pt x="2373" y="991"/>
                </a:lnTo>
                <a:lnTo>
                  <a:pt x="2332" y="956"/>
                </a:lnTo>
                <a:lnTo>
                  <a:pt x="2267" y="904"/>
                </a:lnTo>
                <a:lnTo>
                  <a:pt x="2181" y="836"/>
                </a:lnTo>
                <a:lnTo>
                  <a:pt x="2077" y="755"/>
                </a:lnTo>
                <a:lnTo>
                  <a:pt x="1957" y="666"/>
                </a:lnTo>
                <a:lnTo>
                  <a:pt x="1892" y="619"/>
                </a:lnTo>
                <a:lnTo>
                  <a:pt x="1825" y="572"/>
                </a:lnTo>
                <a:lnTo>
                  <a:pt x="1754" y="523"/>
                </a:lnTo>
                <a:lnTo>
                  <a:pt x="1682" y="474"/>
                </a:lnTo>
                <a:lnTo>
                  <a:pt x="1608" y="425"/>
                </a:lnTo>
                <a:lnTo>
                  <a:pt x="1532" y="378"/>
                </a:lnTo>
                <a:lnTo>
                  <a:pt x="1456" y="331"/>
                </a:lnTo>
                <a:lnTo>
                  <a:pt x="1378" y="286"/>
                </a:lnTo>
                <a:lnTo>
                  <a:pt x="1301" y="243"/>
                </a:lnTo>
                <a:lnTo>
                  <a:pt x="1223" y="201"/>
                </a:lnTo>
                <a:lnTo>
                  <a:pt x="1146" y="162"/>
                </a:lnTo>
                <a:lnTo>
                  <a:pt x="1069" y="128"/>
                </a:lnTo>
                <a:lnTo>
                  <a:pt x="993" y="95"/>
                </a:lnTo>
                <a:lnTo>
                  <a:pt x="919" y="67"/>
                </a:lnTo>
                <a:lnTo>
                  <a:pt x="845" y="43"/>
                </a:lnTo>
                <a:lnTo>
                  <a:pt x="776" y="25"/>
                </a:lnTo>
                <a:lnTo>
                  <a:pt x="707" y="11"/>
                </a:lnTo>
                <a:lnTo>
                  <a:pt x="642" y="2"/>
                </a:lnTo>
                <a:lnTo>
                  <a:pt x="580" y="0"/>
                </a:lnTo>
                <a:lnTo>
                  <a:pt x="520" y="4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未知"/>
          <p:cNvSpPr/>
          <p:nvPr/>
        </p:nvSpPr>
        <p:spPr>
          <a:xfrm>
            <a:off x="1763640" y="3730680"/>
            <a:ext cx="1251000" cy="1406520"/>
          </a:xfrm>
          <a:custGeom>
            <a:avLst/>
            <a:gdLst/>
            <a:ahLst/>
            <a:rect l="l" t="t" r="r" b="b"/>
            <a:pathLst>
              <a:path w="3153" h="3544">
                <a:moveTo>
                  <a:pt x="559" y="5"/>
                </a:moveTo>
                <a:lnTo>
                  <a:pt x="550" y="8"/>
                </a:lnTo>
                <a:lnTo>
                  <a:pt x="542" y="12"/>
                </a:lnTo>
                <a:lnTo>
                  <a:pt x="514" y="29"/>
                </a:lnTo>
                <a:lnTo>
                  <a:pt x="456" y="70"/>
                </a:lnTo>
                <a:lnTo>
                  <a:pt x="417" y="98"/>
                </a:lnTo>
                <a:lnTo>
                  <a:pt x="375" y="132"/>
                </a:lnTo>
                <a:lnTo>
                  <a:pt x="331" y="169"/>
                </a:lnTo>
                <a:lnTo>
                  <a:pt x="283" y="210"/>
                </a:lnTo>
                <a:lnTo>
                  <a:pt x="260" y="232"/>
                </a:lnTo>
                <a:lnTo>
                  <a:pt x="236" y="255"/>
                </a:lnTo>
                <a:lnTo>
                  <a:pt x="214" y="278"/>
                </a:lnTo>
                <a:lnTo>
                  <a:pt x="190" y="303"/>
                </a:lnTo>
                <a:lnTo>
                  <a:pt x="168" y="328"/>
                </a:lnTo>
                <a:lnTo>
                  <a:pt x="147" y="354"/>
                </a:lnTo>
                <a:lnTo>
                  <a:pt x="126" y="380"/>
                </a:lnTo>
                <a:lnTo>
                  <a:pt x="106" y="406"/>
                </a:lnTo>
                <a:lnTo>
                  <a:pt x="87" y="433"/>
                </a:lnTo>
                <a:lnTo>
                  <a:pt x="70" y="462"/>
                </a:lnTo>
                <a:lnTo>
                  <a:pt x="55" y="489"/>
                </a:lnTo>
                <a:lnTo>
                  <a:pt x="41" y="518"/>
                </a:lnTo>
                <a:lnTo>
                  <a:pt x="29" y="546"/>
                </a:lnTo>
                <a:lnTo>
                  <a:pt x="19" y="576"/>
                </a:lnTo>
                <a:lnTo>
                  <a:pt x="10" y="605"/>
                </a:lnTo>
                <a:lnTo>
                  <a:pt x="4" y="634"/>
                </a:lnTo>
                <a:lnTo>
                  <a:pt x="3" y="648"/>
                </a:lnTo>
                <a:lnTo>
                  <a:pt x="1" y="660"/>
                </a:lnTo>
                <a:lnTo>
                  <a:pt x="0" y="674"/>
                </a:lnTo>
                <a:lnTo>
                  <a:pt x="0" y="686"/>
                </a:lnTo>
                <a:lnTo>
                  <a:pt x="0" y="700"/>
                </a:lnTo>
                <a:lnTo>
                  <a:pt x="1" y="715"/>
                </a:lnTo>
                <a:lnTo>
                  <a:pt x="3" y="729"/>
                </a:lnTo>
                <a:lnTo>
                  <a:pt x="5" y="742"/>
                </a:lnTo>
                <a:lnTo>
                  <a:pt x="8" y="756"/>
                </a:lnTo>
                <a:lnTo>
                  <a:pt x="11" y="770"/>
                </a:lnTo>
                <a:lnTo>
                  <a:pt x="16" y="783"/>
                </a:lnTo>
                <a:lnTo>
                  <a:pt x="20" y="796"/>
                </a:lnTo>
                <a:lnTo>
                  <a:pt x="26" y="809"/>
                </a:lnTo>
                <a:lnTo>
                  <a:pt x="31" y="822"/>
                </a:lnTo>
                <a:lnTo>
                  <a:pt x="39" y="835"/>
                </a:lnTo>
                <a:lnTo>
                  <a:pt x="46" y="848"/>
                </a:lnTo>
                <a:lnTo>
                  <a:pt x="62" y="873"/>
                </a:lnTo>
                <a:lnTo>
                  <a:pt x="81" y="896"/>
                </a:lnTo>
                <a:lnTo>
                  <a:pt x="121" y="936"/>
                </a:lnTo>
                <a:lnTo>
                  <a:pt x="173" y="989"/>
                </a:lnTo>
                <a:lnTo>
                  <a:pt x="236" y="1054"/>
                </a:lnTo>
                <a:lnTo>
                  <a:pt x="311" y="1127"/>
                </a:lnTo>
                <a:lnTo>
                  <a:pt x="391" y="1208"/>
                </a:lnTo>
                <a:lnTo>
                  <a:pt x="478" y="1293"/>
                </a:lnTo>
                <a:lnTo>
                  <a:pt x="571" y="1382"/>
                </a:lnTo>
                <a:lnTo>
                  <a:pt x="666" y="1474"/>
                </a:lnTo>
                <a:lnTo>
                  <a:pt x="761" y="1565"/>
                </a:lnTo>
                <a:lnTo>
                  <a:pt x="858" y="1653"/>
                </a:lnTo>
                <a:lnTo>
                  <a:pt x="951" y="1737"/>
                </a:lnTo>
                <a:lnTo>
                  <a:pt x="1041" y="1815"/>
                </a:lnTo>
                <a:lnTo>
                  <a:pt x="1084" y="1851"/>
                </a:lnTo>
                <a:lnTo>
                  <a:pt x="1125" y="1885"/>
                </a:lnTo>
                <a:lnTo>
                  <a:pt x="1165" y="1917"/>
                </a:lnTo>
                <a:lnTo>
                  <a:pt x="1202" y="1946"/>
                </a:lnTo>
                <a:lnTo>
                  <a:pt x="1238" y="1972"/>
                </a:lnTo>
                <a:lnTo>
                  <a:pt x="1271" y="1995"/>
                </a:lnTo>
                <a:lnTo>
                  <a:pt x="1302" y="2014"/>
                </a:lnTo>
                <a:lnTo>
                  <a:pt x="1329" y="2030"/>
                </a:lnTo>
                <a:lnTo>
                  <a:pt x="1287" y="2046"/>
                </a:lnTo>
                <a:lnTo>
                  <a:pt x="1247" y="2062"/>
                </a:lnTo>
                <a:lnTo>
                  <a:pt x="1228" y="2071"/>
                </a:lnTo>
                <a:lnTo>
                  <a:pt x="1210" y="2081"/>
                </a:lnTo>
                <a:lnTo>
                  <a:pt x="1192" y="2091"/>
                </a:lnTo>
                <a:lnTo>
                  <a:pt x="1177" y="2102"/>
                </a:lnTo>
                <a:lnTo>
                  <a:pt x="1170" y="2108"/>
                </a:lnTo>
                <a:lnTo>
                  <a:pt x="1165" y="2117"/>
                </a:lnTo>
                <a:lnTo>
                  <a:pt x="1161" y="2126"/>
                </a:lnTo>
                <a:lnTo>
                  <a:pt x="1160" y="2136"/>
                </a:lnTo>
                <a:lnTo>
                  <a:pt x="1160" y="2142"/>
                </a:lnTo>
                <a:lnTo>
                  <a:pt x="1163" y="2148"/>
                </a:lnTo>
                <a:lnTo>
                  <a:pt x="1165" y="2155"/>
                </a:lnTo>
                <a:lnTo>
                  <a:pt x="1167" y="2160"/>
                </a:lnTo>
                <a:lnTo>
                  <a:pt x="1172" y="2165"/>
                </a:lnTo>
                <a:lnTo>
                  <a:pt x="1176" y="2170"/>
                </a:lnTo>
                <a:lnTo>
                  <a:pt x="1182" y="2173"/>
                </a:lnTo>
                <a:lnTo>
                  <a:pt x="1189" y="2177"/>
                </a:lnTo>
                <a:lnTo>
                  <a:pt x="1195" y="2178"/>
                </a:lnTo>
                <a:lnTo>
                  <a:pt x="1201" y="2179"/>
                </a:lnTo>
                <a:lnTo>
                  <a:pt x="1211" y="2180"/>
                </a:lnTo>
                <a:lnTo>
                  <a:pt x="1222" y="2180"/>
                </a:lnTo>
                <a:lnTo>
                  <a:pt x="1190" y="2220"/>
                </a:lnTo>
                <a:lnTo>
                  <a:pt x="1136" y="2284"/>
                </a:lnTo>
                <a:lnTo>
                  <a:pt x="1071" y="2365"/>
                </a:lnTo>
                <a:lnTo>
                  <a:pt x="1000" y="2452"/>
                </a:lnTo>
                <a:lnTo>
                  <a:pt x="930" y="2536"/>
                </a:lnTo>
                <a:lnTo>
                  <a:pt x="869" y="2611"/>
                </a:lnTo>
                <a:lnTo>
                  <a:pt x="826" y="2665"/>
                </a:lnTo>
                <a:lnTo>
                  <a:pt x="805" y="2691"/>
                </a:lnTo>
                <a:lnTo>
                  <a:pt x="785" y="2693"/>
                </a:lnTo>
                <a:lnTo>
                  <a:pt x="769" y="2695"/>
                </a:lnTo>
                <a:lnTo>
                  <a:pt x="754" y="2698"/>
                </a:lnTo>
                <a:lnTo>
                  <a:pt x="743" y="2703"/>
                </a:lnTo>
                <a:lnTo>
                  <a:pt x="738" y="2705"/>
                </a:lnTo>
                <a:lnTo>
                  <a:pt x="734" y="2708"/>
                </a:lnTo>
                <a:lnTo>
                  <a:pt x="730" y="2711"/>
                </a:lnTo>
                <a:lnTo>
                  <a:pt x="728" y="2715"/>
                </a:lnTo>
                <a:lnTo>
                  <a:pt x="725" y="2720"/>
                </a:lnTo>
                <a:lnTo>
                  <a:pt x="724" y="2725"/>
                </a:lnTo>
                <a:lnTo>
                  <a:pt x="723" y="2730"/>
                </a:lnTo>
                <a:lnTo>
                  <a:pt x="723" y="2737"/>
                </a:lnTo>
                <a:lnTo>
                  <a:pt x="723" y="2737"/>
                </a:lnTo>
                <a:lnTo>
                  <a:pt x="723" y="2737"/>
                </a:lnTo>
                <a:lnTo>
                  <a:pt x="723" y="2745"/>
                </a:lnTo>
                <a:lnTo>
                  <a:pt x="724" y="2751"/>
                </a:lnTo>
                <a:lnTo>
                  <a:pt x="725" y="2757"/>
                </a:lnTo>
                <a:lnTo>
                  <a:pt x="728" y="2761"/>
                </a:lnTo>
                <a:lnTo>
                  <a:pt x="732" y="2766"/>
                </a:lnTo>
                <a:lnTo>
                  <a:pt x="735" y="2770"/>
                </a:lnTo>
                <a:lnTo>
                  <a:pt x="740" y="2772"/>
                </a:lnTo>
                <a:lnTo>
                  <a:pt x="745" y="2775"/>
                </a:lnTo>
                <a:lnTo>
                  <a:pt x="758" y="2778"/>
                </a:lnTo>
                <a:lnTo>
                  <a:pt x="771" y="2781"/>
                </a:lnTo>
                <a:lnTo>
                  <a:pt x="789" y="2782"/>
                </a:lnTo>
                <a:lnTo>
                  <a:pt x="807" y="2783"/>
                </a:lnTo>
                <a:lnTo>
                  <a:pt x="868" y="2788"/>
                </a:lnTo>
                <a:lnTo>
                  <a:pt x="928" y="2793"/>
                </a:lnTo>
                <a:lnTo>
                  <a:pt x="984" y="2798"/>
                </a:lnTo>
                <a:lnTo>
                  <a:pt x="1038" y="2804"/>
                </a:lnTo>
                <a:lnTo>
                  <a:pt x="1089" y="2812"/>
                </a:lnTo>
                <a:lnTo>
                  <a:pt x="1140" y="2819"/>
                </a:lnTo>
                <a:lnTo>
                  <a:pt x="1187" y="2827"/>
                </a:lnTo>
                <a:lnTo>
                  <a:pt x="1233" y="2835"/>
                </a:lnTo>
                <a:lnTo>
                  <a:pt x="1276" y="2844"/>
                </a:lnTo>
                <a:lnTo>
                  <a:pt x="1318" y="2853"/>
                </a:lnTo>
                <a:lnTo>
                  <a:pt x="1357" y="2863"/>
                </a:lnTo>
                <a:lnTo>
                  <a:pt x="1395" y="2873"/>
                </a:lnTo>
                <a:lnTo>
                  <a:pt x="1431" y="2884"/>
                </a:lnTo>
                <a:lnTo>
                  <a:pt x="1464" y="2894"/>
                </a:lnTo>
                <a:lnTo>
                  <a:pt x="1497" y="2905"/>
                </a:lnTo>
                <a:lnTo>
                  <a:pt x="1526" y="2917"/>
                </a:lnTo>
                <a:lnTo>
                  <a:pt x="1556" y="2928"/>
                </a:lnTo>
                <a:lnTo>
                  <a:pt x="1582" y="2940"/>
                </a:lnTo>
                <a:lnTo>
                  <a:pt x="1608" y="2952"/>
                </a:lnTo>
                <a:lnTo>
                  <a:pt x="1632" y="2964"/>
                </a:lnTo>
                <a:lnTo>
                  <a:pt x="1655" y="2977"/>
                </a:lnTo>
                <a:lnTo>
                  <a:pt x="1677" y="2989"/>
                </a:lnTo>
                <a:lnTo>
                  <a:pt x="1695" y="3002"/>
                </a:lnTo>
                <a:lnTo>
                  <a:pt x="1714" y="3015"/>
                </a:lnTo>
                <a:lnTo>
                  <a:pt x="1731" y="3028"/>
                </a:lnTo>
                <a:lnTo>
                  <a:pt x="1747" y="3040"/>
                </a:lnTo>
                <a:lnTo>
                  <a:pt x="1762" y="3052"/>
                </a:lnTo>
                <a:lnTo>
                  <a:pt x="1775" y="3065"/>
                </a:lnTo>
                <a:lnTo>
                  <a:pt x="1787" y="3077"/>
                </a:lnTo>
                <a:lnTo>
                  <a:pt x="1798" y="3090"/>
                </a:lnTo>
                <a:lnTo>
                  <a:pt x="1809" y="3102"/>
                </a:lnTo>
                <a:lnTo>
                  <a:pt x="1818" y="3114"/>
                </a:lnTo>
                <a:lnTo>
                  <a:pt x="1833" y="3137"/>
                </a:lnTo>
                <a:lnTo>
                  <a:pt x="1847" y="3159"/>
                </a:lnTo>
                <a:lnTo>
                  <a:pt x="1858" y="3183"/>
                </a:lnTo>
                <a:lnTo>
                  <a:pt x="1867" y="3208"/>
                </a:lnTo>
                <a:lnTo>
                  <a:pt x="1874" y="3231"/>
                </a:lnTo>
                <a:lnTo>
                  <a:pt x="1879" y="3257"/>
                </a:lnTo>
                <a:lnTo>
                  <a:pt x="1881" y="3283"/>
                </a:lnTo>
                <a:lnTo>
                  <a:pt x="1883" y="3311"/>
                </a:lnTo>
                <a:lnTo>
                  <a:pt x="1881" y="3335"/>
                </a:lnTo>
                <a:lnTo>
                  <a:pt x="1879" y="3363"/>
                </a:lnTo>
                <a:lnTo>
                  <a:pt x="1875" y="3389"/>
                </a:lnTo>
                <a:lnTo>
                  <a:pt x="1869" y="3417"/>
                </a:lnTo>
                <a:lnTo>
                  <a:pt x="1868" y="3422"/>
                </a:lnTo>
                <a:lnTo>
                  <a:pt x="1868" y="3427"/>
                </a:lnTo>
                <a:lnTo>
                  <a:pt x="1868" y="3435"/>
                </a:lnTo>
                <a:lnTo>
                  <a:pt x="1870" y="3442"/>
                </a:lnTo>
                <a:lnTo>
                  <a:pt x="1873" y="3448"/>
                </a:lnTo>
                <a:lnTo>
                  <a:pt x="1878" y="3454"/>
                </a:lnTo>
                <a:lnTo>
                  <a:pt x="1883" y="3459"/>
                </a:lnTo>
                <a:lnTo>
                  <a:pt x="1894" y="3472"/>
                </a:lnTo>
                <a:lnTo>
                  <a:pt x="1913" y="3487"/>
                </a:lnTo>
                <a:lnTo>
                  <a:pt x="1937" y="3504"/>
                </a:lnTo>
                <a:lnTo>
                  <a:pt x="1951" y="3512"/>
                </a:lnTo>
                <a:lnTo>
                  <a:pt x="1967" y="3520"/>
                </a:lnTo>
                <a:lnTo>
                  <a:pt x="1985" y="3528"/>
                </a:lnTo>
                <a:lnTo>
                  <a:pt x="2003" y="3534"/>
                </a:lnTo>
                <a:lnTo>
                  <a:pt x="2023" y="3539"/>
                </a:lnTo>
                <a:lnTo>
                  <a:pt x="2044" y="3543"/>
                </a:lnTo>
                <a:lnTo>
                  <a:pt x="2066" y="3544"/>
                </a:lnTo>
                <a:lnTo>
                  <a:pt x="2090" y="3544"/>
                </a:lnTo>
                <a:lnTo>
                  <a:pt x="2112" y="3541"/>
                </a:lnTo>
                <a:lnTo>
                  <a:pt x="2134" y="3538"/>
                </a:lnTo>
                <a:lnTo>
                  <a:pt x="2156" y="3531"/>
                </a:lnTo>
                <a:lnTo>
                  <a:pt x="2177" y="3523"/>
                </a:lnTo>
                <a:lnTo>
                  <a:pt x="2199" y="3514"/>
                </a:lnTo>
                <a:lnTo>
                  <a:pt x="2220" y="3502"/>
                </a:lnTo>
                <a:lnTo>
                  <a:pt x="2242" y="3488"/>
                </a:lnTo>
                <a:lnTo>
                  <a:pt x="2264" y="3473"/>
                </a:lnTo>
                <a:lnTo>
                  <a:pt x="2285" y="3456"/>
                </a:lnTo>
                <a:lnTo>
                  <a:pt x="2306" y="3437"/>
                </a:lnTo>
                <a:lnTo>
                  <a:pt x="2326" y="3416"/>
                </a:lnTo>
                <a:lnTo>
                  <a:pt x="2347" y="3392"/>
                </a:lnTo>
                <a:lnTo>
                  <a:pt x="2368" y="3369"/>
                </a:lnTo>
                <a:lnTo>
                  <a:pt x="2388" y="3342"/>
                </a:lnTo>
                <a:lnTo>
                  <a:pt x="2409" y="3314"/>
                </a:lnTo>
                <a:lnTo>
                  <a:pt x="2429" y="3283"/>
                </a:lnTo>
                <a:lnTo>
                  <a:pt x="2429" y="3283"/>
                </a:lnTo>
                <a:lnTo>
                  <a:pt x="2430" y="3282"/>
                </a:lnTo>
                <a:lnTo>
                  <a:pt x="2461" y="3287"/>
                </a:lnTo>
                <a:lnTo>
                  <a:pt x="2507" y="3292"/>
                </a:lnTo>
                <a:lnTo>
                  <a:pt x="2533" y="3293"/>
                </a:lnTo>
                <a:lnTo>
                  <a:pt x="2562" y="3293"/>
                </a:lnTo>
                <a:lnTo>
                  <a:pt x="2592" y="3292"/>
                </a:lnTo>
                <a:lnTo>
                  <a:pt x="2622" y="3289"/>
                </a:lnTo>
                <a:lnTo>
                  <a:pt x="2636" y="3287"/>
                </a:lnTo>
                <a:lnTo>
                  <a:pt x="2651" y="3284"/>
                </a:lnTo>
                <a:lnTo>
                  <a:pt x="2668" y="3281"/>
                </a:lnTo>
                <a:lnTo>
                  <a:pt x="2682" y="3276"/>
                </a:lnTo>
                <a:lnTo>
                  <a:pt x="2696" y="3271"/>
                </a:lnTo>
                <a:lnTo>
                  <a:pt x="2711" y="3266"/>
                </a:lnTo>
                <a:lnTo>
                  <a:pt x="2726" y="3258"/>
                </a:lnTo>
                <a:lnTo>
                  <a:pt x="2740" y="3251"/>
                </a:lnTo>
                <a:lnTo>
                  <a:pt x="2752" y="3242"/>
                </a:lnTo>
                <a:lnTo>
                  <a:pt x="2764" y="3234"/>
                </a:lnTo>
                <a:lnTo>
                  <a:pt x="2777" y="3224"/>
                </a:lnTo>
                <a:lnTo>
                  <a:pt x="2788" y="3213"/>
                </a:lnTo>
                <a:lnTo>
                  <a:pt x="2799" y="3200"/>
                </a:lnTo>
                <a:lnTo>
                  <a:pt x="2809" y="3186"/>
                </a:lnTo>
                <a:lnTo>
                  <a:pt x="2818" y="3172"/>
                </a:lnTo>
                <a:lnTo>
                  <a:pt x="2826" y="3155"/>
                </a:lnTo>
                <a:lnTo>
                  <a:pt x="2833" y="3146"/>
                </a:lnTo>
                <a:lnTo>
                  <a:pt x="2849" y="3122"/>
                </a:lnTo>
                <a:lnTo>
                  <a:pt x="2871" y="3086"/>
                </a:lnTo>
                <a:lnTo>
                  <a:pt x="2898" y="3038"/>
                </a:lnTo>
                <a:lnTo>
                  <a:pt x="2930" y="2979"/>
                </a:lnTo>
                <a:lnTo>
                  <a:pt x="2963" y="2911"/>
                </a:lnTo>
                <a:lnTo>
                  <a:pt x="2980" y="2874"/>
                </a:lnTo>
                <a:lnTo>
                  <a:pt x="2998" y="2834"/>
                </a:lnTo>
                <a:lnTo>
                  <a:pt x="3016" y="2793"/>
                </a:lnTo>
                <a:lnTo>
                  <a:pt x="3033" y="2748"/>
                </a:lnTo>
                <a:lnTo>
                  <a:pt x="3050" y="2704"/>
                </a:lnTo>
                <a:lnTo>
                  <a:pt x="3066" y="2657"/>
                </a:lnTo>
                <a:lnTo>
                  <a:pt x="3081" y="2607"/>
                </a:lnTo>
                <a:lnTo>
                  <a:pt x="3095" y="2557"/>
                </a:lnTo>
                <a:lnTo>
                  <a:pt x="3108" y="2505"/>
                </a:lnTo>
                <a:lnTo>
                  <a:pt x="3119" y="2452"/>
                </a:lnTo>
                <a:lnTo>
                  <a:pt x="3131" y="2397"/>
                </a:lnTo>
                <a:lnTo>
                  <a:pt x="3139" y="2343"/>
                </a:lnTo>
                <a:lnTo>
                  <a:pt x="3146" y="2286"/>
                </a:lnTo>
                <a:lnTo>
                  <a:pt x="3151" y="2229"/>
                </a:lnTo>
                <a:lnTo>
                  <a:pt x="3153" y="2170"/>
                </a:lnTo>
                <a:lnTo>
                  <a:pt x="3153" y="2111"/>
                </a:lnTo>
                <a:lnTo>
                  <a:pt x="3151" y="2051"/>
                </a:lnTo>
                <a:lnTo>
                  <a:pt x="3144" y="1992"/>
                </a:lnTo>
                <a:lnTo>
                  <a:pt x="3137" y="1931"/>
                </a:lnTo>
                <a:lnTo>
                  <a:pt x="3124" y="1870"/>
                </a:lnTo>
                <a:lnTo>
                  <a:pt x="3117" y="1838"/>
                </a:lnTo>
                <a:lnTo>
                  <a:pt x="3110" y="1806"/>
                </a:lnTo>
                <a:lnTo>
                  <a:pt x="3100" y="1775"/>
                </a:lnTo>
                <a:lnTo>
                  <a:pt x="3090" y="1742"/>
                </a:lnTo>
                <a:lnTo>
                  <a:pt x="3079" y="1711"/>
                </a:lnTo>
                <a:lnTo>
                  <a:pt x="3067" y="1680"/>
                </a:lnTo>
                <a:lnTo>
                  <a:pt x="3054" y="1650"/>
                </a:lnTo>
                <a:lnTo>
                  <a:pt x="3040" y="1619"/>
                </a:lnTo>
                <a:lnTo>
                  <a:pt x="3026" y="1590"/>
                </a:lnTo>
                <a:lnTo>
                  <a:pt x="3010" y="1561"/>
                </a:lnTo>
                <a:lnTo>
                  <a:pt x="2994" y="1531"/>
                </a:lnTo>
                <a:lnTo>
                  <a:pt x="2977" y="1503"/>
                </a:lnTo>
                <a:lnTo>
                  <a:pt x="2959" y="1476"/>
                </a:lnTo>
                <a:lnTo>
                  <a:pt x="2941" y="1447"/>
                </a:lnTo>
                <a:lnTo>
                  <a:pt x="2921" y="1420"/>
                </a:lnTo>
                <a:lnTo>
                  <a:pt x="2900" y="1392"/>
                </a:lnTo>
                <a:lnTo>
                  <a:pt x="2879" y="1365"/>
                </a:lnTo>
                <a:lnTo>
                  <a:pt x="2856" y="1339"/>
                </a:lnTo>
                <a:lnTo>
                  <a:pt x="2833" y="1313"/>
                </a:lnTo>
                <a:lnTo>
                  <a:pt x="2809" y="1287"/>
                </a:lnTo>
                <a:lnTo>
                  <a:pt x="2784" y="1262"/>
                </a:lnTo>
                <a:lnTo>
                  <a:pt x="2758" y="1237"/>
                </a:lnTo>
                <a:lnTo>
                  <a:pt x="2731" y="1213"/>
                </a:lnTo>
                <a:lnTo>
                  <a:pt x="2704" y="1189"/>
                </a:lnTo>
                <a:lnTo>
                  <a:pt x="2675" y="1165"/>
                </a:lnTo>
                <a:lnTo>
                  <a:pt x="2646" y="1142"/>
                </a:lnTo>
                <a:lnTo>
                  <a:pt x="2617" y="1118"/>
                </a:lnTo>
                <a:lnTo>
                  <a:pt x="2586" y="1096"/>
                </a:lnTo>
                <a:lnTo>
                  <a:pt x="2553" y="1074"/>
                </a:lnTo>
                <a:lnTo>
                  <a:pt x="2521" y="1052"/>
                </a:lnTo>
                <a:lnTo>
                  <a:pt x="2487" y="1031"/>
                </a:lnTo>
                <a:lnTo>
                  <a:pt x="2454" y="1010"/>
                </a:lnTo>
                <a:lnTo>
                  <a:pt x="2432" y="992"/>
                </a:lnTo>
                <a:lnTo>
                  <a:pt x="2384" y="952"/>
                </a:lnTo>
                <a:lnTo>
                  <a:pt x="2315" y="895"/>
                </a:lnTo>
                <a:lnTo>
                  <a:pt x="2225" y="825"/>
                </a:lnTo>
                <a:lnTo>
                  <a:pt x="2119" y="744"/>
                </a:lnTo>
                <a:lnTo>
                  <a:pt x="1997" y="654"/>
                </a:lnTo>
                <a:lnTo>
                  <a:pt x="1932" y="607"/>
                </a:lnTo>
                <a:lnTo>
                  <a:pt x="1864" y="559"/>
                </a:lnTo>
                <a:lnTo>
                  <a:pt x="1793" y="512"/>
                </a:lnTo>
                <a:lnTo>
                  <a:pt x="1721" y="463"/>
                </a:lnTo>
                <a:lnTo>
                  <a:pt x="1648" y="416"/>
                </a:lnTo>
                <a:lnTo>
                  <a:pt x="1572" y="369"/>
                </a:lnTo>
                <a:lnTo>
                  <a:pt x="1495" y="323"/>
                </a:lnTo>
                <a:lnTo>
                  <a:pt x="1418" y="278"/>
                </a:lnTo>
                <a:lnTo>
                  <a:pt x="1341" y="236"/>
                </a:lnTo>
                <a:lnTo>
                  <a:pt x="1264" y="195"/>
                </a:lnTo>
                <a:lnTo>
                  <a:pt x="1187" y="158"/>
                </a:lnTo>
                <a:lnTo>
                  <a:pt x="1110" y="123"/>
                </a:lnTo>
                <a:lnTo>
                  <a:pt x="1035" y="92"/>
                </a:lnTo>
                <a:lnTo>
                  <a:pt x="960" y="65"/>
                </a:lnTo>
                <a:lnTo>
                  <a:pt x="887" y="43"/>
                </a:lnTo>
                <a:lnTo>
                  <a:pt x="816" y="24"/>
                </a:lnTo>
                <a:lnTo>
                  <a:pt x="748" y="10"/>
                </a:lnTo>
                <a:lnTo>
                  <a:pt x="682" y="3"/>
                </a:lnTo>
                <a:lnTo>
                  <a:pt x="619" y="0"/>
                </a:lnTo>
                <a:lnTo>
                  <a:pt x="559" y="5"/>
                </a:lnTo>
                <a:close/>
                <a:moveTo>
                  <a:pt x="2403" y="1079"/>
                </a:moveTo>
                <a:lnTo>
                  <a:pt x="2437" y="1100"/>
                </a:lnTo>
                <a:lnTo>
                  <a:pt x="2469" y="1119"/>
                </a:lnTo>
                <a:lnTo>
                  <a:pt x="2500" y="1141"/>
                </a:lnTo>
                <a:lnTo>
                  <a:pt x="2530" y="1162"/>
                </a:lnTo>
                <a:lnTo>
                  <a:pt x="2559" y="1183"/>
                </a:lnTo>
                <a:lnTo>
                  <a:pt x="2588" y="1205"/>
                </a:lnTo>
                <a:lnTo>
                  <a:pt x="2615" y="1227"/>
                </a:lnTo>
                <a:lnTo>
                  <a:pt x="2643" y="1250"/>
                </a:lnTo>
                <a:lnTo>
                  <a:pt x="2669" y="1272"/>
                </a:lnTo>
                <a:lnTo>
                  <a:pt x="2695" y="1296"/>
                </a:lnTo>
                <a:lnTo>
                  <a:pt x="2718" y="1319"/>
                </a:lnTo>
                <a:lnTo>
                  <a:pt x="2743" y="1343"/>
                </a:lnTo>
                <a:lnTo>
                  <a:pt x="2766" y="1368"/>
                </a:lnTo>
                <a:lnTo>
                  <a:pt x="2788" y="1391"/>
                </a:lnTo>
                <a:lnTo>
                  <a:pt x="2809" y="1416"/>
                </a:lnTo>
                <a:lnTo>
                  <a:pt x="2829" y="1442"/>
                </a:lnTo>
                <a:lnTo>
                  <a:pt x="2849" y="1467"/>
                </a:lnTo>
                <a:lnTo>
                  <a:pt x="2867" y="1493"/>
                </a:lnTo>
                <a:lnTo>
                  <a:pt x="2885" y="1519"/>
                </a:lnTo>
                <a:lnTo>
                  <a:pt x="2902" y="1545"/>
                </a:lnTo>
                <a:lnTo>
                  <a:pt x="2918" y="1572"/>
                </a:lnTo>
                <a:lnTo>
                  <a:pt x="2933" y="1600"/>
                </a:lnTo>
                <a:lnTo>
                  <a:pt x="2948" y="1627"/>
                </a:lnTo>
                <a:lnTo>
                  <a:pt x="2962" y="1654"/>
                </a:lnTo>
                <a:lnTo>
                  <a:pt x="2974" y="1683"/>
                </a:lnTo>
                <a:lnTo>
                  <a:pt x="2987" y="1711"/>
                </a:lnTo>
                <a:lnTo>
                  <a:pt x="2998" y="1740"/>
                </a:lnTo>
                <a:lnTo>
                  <a:pt x="3008" y="1768"/>
                </a:lnTo>
                <a:lnTo>
                  <a:pt x="3018" y="1798"/>
                </a:lnTo>
                <a:lnTo>
                  <a:pt x="3026" y="1828"/>
                </a:lnTo>
                <a:lnTo>
                  <a:pt x="3034" y="1858"/>
                </a:lnTo>
                <a:lnTo>
                  <a:pt x="3041" y="1889"/>
                </a:lnTo>
                <a:lnTo>
                  <a:pt x="3051" y="1946"/>
                </a:lnTo>
                <a:lnTo>
                  <a:pt x="3060" y="2003"/>
                </a:lnTo>
                <a:lnTo>
                  <a:pt x="3065" y="2060"/>
                </a:lnTo>
                <a:lnTo>
                  <a:pt x="3066" y="2116"/>
                </a:lnTo>
                <a:lnTo>
                  <a:pt x="3066" y="2173"/>
                </a:lnTo>
                <a:lnTo>
                  <a:pt x="3064" y="2227"/>
                </a:lnTo>
                <a:lnTo>
                  <a:pt x="3059" y="2283"/>
                </a:lnTo>
                <a:lnTo>
                  <a:pt x="3052" y="2337"/>
                </a:lnTo>
                <a:lnTo>
                  <a:pt x="3044" y="2390"/>
                </a:lnTo>
                <a:lnTo>
                  <a:pt x="3033" y="2442"/>
                </a:lnTo>
                <a:lnTo>
                  <a:pt x="3021" y="2493"/>
                </a:lnTo>
                <a:lnTo>
                  <a:pt x="3009" y="2543"/>
                </a:lnTo>
                <a:lnTo>
                  <a:pt x="2994" y="2591"/>
                </a:lnTo>
                <a:lnTo>
                  <a:pt x="2979" y="2638"/>
                </a:lnTo>
                <a:lnTo>
                  <a:pt x="2963" y="2684"/>
                </a:lnTo>
                <a:lnTo>
                  <a:pt x="2947" y="2727"/>
                </a:lnTo>
                <a:lnTo>
                  <a:pt x="2931" y="2770"/>
                </a:lnTo>
                <a:lnTo>
                  <a:pt x="2913" y="2811"/>
                </a:lnTo>
                <a:lnTo>
                  <a:pt x="2897" y="2848"/>
                </a:lnTo>
                <a:lnTo>
                  <a:pt x="2880" y="2884"/>
                </a:lnTo>
                <a:lnTo>
                  <a:pt x="2848" y="2949"/>
                </a:lnTo>
                <a:lnTo>
                  <a:pt x="2818" y="3005"/>
                </a:lnTo>
                <a:lnTo>
                  <a:pt x="2792" y="3050"/>
                </a:lnTo>
                <a:lnTo>
                  <a:pt x="2771" y="3085"/>
                </a:lnTo>
                <a:lnTo>
                  <a:pt x="2757" y="3106"/>
                </a:lnTo>
                <a:lnTo>
                  <a:pt x="2752" y="3113"/>
                </a:lnTo>
                <a:lnTo>
                  <a:pt x="2747" y="3123"/>
                </a:lnTo>
                <a:lnTo>
                  <a:pt x="2741" y="3132"/>
                </a:lnTo>
                <a:lnTo>
                  <a:pt x="2735" y="3141"/>
                </a:lnTo>
                <a:lnTo>
                  <a:pt x="2728" y="3148"/>
                </a:lnTo>
                <a:lnTo>
                  <a:pt x="2721" y="3155"/>
                </a:lnTo>
                <a:lnTo>
                  <a:pt x="2713" y="3162"/>
                </a:lnTo>
                <a:lnTo>
                  <a:pt x="2705" y="3168"/>
                </a:lnTo>
                <a:lnTo>
                  <a:pt x="2696" y="3174"/>
                </a:lnTo>
                <a:lnTo>
                  <a:pt x="2677" y="3183"/>
                </a:lnTo>
                <a:lnTo>
                  <a:pt x="2658" y="3190"/>
                </a:lnTo>
                <a:lnTo>
                  <a:pt x="2638" y="3196"/>
                </a:lnTo>
                <a:lnTo>
                  <a:pt x="2617" y="3200"/>
                </a:lnTo>
                <a:lnTo>
                  <a:pt x="2594" y="3204"/>
                </a:lnTo>
                <a:lnTo>
                  <a:pt x="2573" y="3205"/>
                </a:lnTo>
                <a:lnTo>
                  <a:pt x="2552" y="3206"/>
                </a:lnTo>
                <a:lnTo>
                  <a:pt x="2532" y="3206"/>
                </a:lnTo>
                <a:lnTo>
                  <a:pt x="2494" y="3204"/>
                </a:lnTo>
                <a:lnTo>
                  <a:pt x="2463" y="3200"/>
                </a:lnTo>
                <a:lnTo>
                  <a:pt x="2464" y="3178"/>
                </a:lnTo>
                <a:lnTo>
                  <a:pt x="2465" y="3149"/>
                </a:lnTo>
                <a:lnTo>
                  <a:pt x="2466" y="3117"/>
                </a:lnTo>
                <a:lnTo>
                  <a:pt x="2468" y="3086"/>
                </a:lnTo>
                <a:lnTo>
                  <a:pt x="2469" y="3056"/>
                </a:lnTo>
                <a:lnTo>
                  <a:pt x="2470" y="3033"/>
                </a:lnTo>
                <a:lnTo>
                  <a:pt x="2471" y="3015"/>
                </a:lnTo>
                <a:lnTo>
                  <a:pt x="2471" y="3009"/>
                </a:lnTo>
                <a:lnTo>
                  <a:pt x="2471" y="3002"/>
                </a:lnTo>
                <a:lnTo>
                  <a:pt x="2469" y="2994"/>
                </a:lnTo>
                <a:lnTo>
                  <a:pt x="2465" y="2987"/>
                </a:lnTo>
                <a:lnTo>
                  <a:pt x="2460" y="2981"/>
                </a:lnTo>
                <a:lnTo>
                  <a:pt x="2455" y="2976"/>
                </a:lnTo>
                <a:lnTo>
                  <a:pt x="2448" y="2971"/>
                </a:lnTo>
                <a:lnTo>
                  <a:pt x="2442" y="2968"/>
                </a:lnTo>
                <a:lnTo>
                  <a:pt x="2433" y="2967"/>
                </a:lnTo>
                <a:lnTo>
                  <a:pt x="2424" y="2967"/>
                </a:lnTo>
                <a:lnTo>
                  <a:pt x="2417" y="2968"/>
                </a:lnTo>
                <a:lnTo>
                  <a:pt x="2409" y="2972"/>
                </a:lnTo>
                <a:lnTo>
                  <a:pt x="2403" y="2976"/>
                </a:lnTo>
                <a:lnTo>
                  <a:pt x="2397" y="2982"/>
                </a:lnTo>
                <a:lnTo>
                  <a:pt x="2392" y="2988"/>
                </a:lnTo>
                <a:lnTo>
                  <a:pt x="2388" y="2995"/>
                </a:lnTo>
                <a:lnTo>
                  <a:pt x="2387" y="3003"/>
                </a:lnTo>
                <a:lnTo>
                  <a:pt x="2386" y="3013"/>
                </a:lnTo>
                <a:lnTo>
                  <a:pt x="2382" y="3038"/>
                </a:lnTo>
                <a:lnTo>
                  <a:pt x="2377" y="3074"/>
                </a:lnTo>
                <a:lnTo>
                  <a:pt x="2371" y="3114"/>
                </a:lnTo>
                <a:lnTo>
                  <a:pt x="2365" y="3158"/>
                </a:lnTo>
                <a:lnTo>
                  <a:pt x="2360" y="3196"/>
                </a:lnTo>
                <a:lnTo>
                  <a:pt x="2355" y="3226"/>
                </a:lnTo>
                <a:lnTo>
                  <a:pt x="2352" y="3242"/>
                </a:lnTo>
                <a:lnTo>
                  <a:pt x="2336" y="3267"/>
                </a:lnTo>
                <a:lnTo>
                  <a:pt x="2320" y="3291"/>
                </a:lnTo>
                <a:lnTo>
                  <a:pt x="2302" y="3312"/>
                </a:lnTo>
                <a:lnTo>
                  <a:pt x="2285" y="3332"/>
                </a:lnTo>
                <a:lnTo>
                  <a:pt x="2269" y="3351"/>
                </a:lnTo>
                <a:lnTo>
                  <a:pt x="2252" y="3368"/>
                </a:lnTo>
                <a:lnTo>
                  <a:pt x="2235" y="3384"/>
                </a:lnTo>
                <a:lnTo>
                  <a:pt x="2218" y="3399"/>
                </a:lnTo>
                <a:lnTo>
                  <a:pt x="2202" y="3411"/>
                </a:lnTo>
                <a:lnTo>
                  <a:pt x="2184" y="3422"/>
                </a:lnTo>
                <a:lnTo>
                  <a:pt x="2168" y="3432"/>
                </a:lnTo>
                <a:lnTo>
                  <a:pt x="2151" y="3441"/>
                </a:lnTo>
                <a:lnTo>
                  <a:pt x="2135" y="3447"/>
                </a:lnTo>
                <a:lnTo>
                  <a:pt x="2119" y="3453"/>
                </a:lnTo>
                <a:lnTo>
                  <a:pt x="2103" y="3456"/>
                </a:lnTo>
                <a:lnTo>
                  <a:pt x="2086" y="3458"/>
                </a:lnTo>
                <a:lnTo>
                  <a:pt x="2073" y="3458"/>
                </a:lnTo>
                <a:lnTo>
                  <a:pt x="2060" y="3458"/>
                </a:lnTo>
                <a:lnTo>
                  <a:pt x="2049" y="3457"/>
                </a:lnTo>
                <a:lnTo>
                  <a:pt x="2038" y="3454"/>
                </a:lnTo>
                <a:lnTo>
                  <a:pt x="2027" y="3452"/>
                </a:lnTo>
                <a:lnTo>
                  <a:pt x="2017" y="3449"/>
                </a:lnTo>
                <a:lnTo>
                  <a:pt x="2008" y="3446"/>
                </a:lnTo>
                <a:lnTo>
                  <a:pt x="1999" y="3442"/>
                </a:lnTo>
                <a:lnTo>
                  <a:pt x="1985" y="3433"/>
                </a:lnTo>
                <a:lnTo>
                  <a:pt x="1972" y="3425"/>
                </a:lnTo>
                <a:lnTo>
                  <a:pt x="1962" y="3416"/>
                </a:lnTo>
                <a:lnTo>
                  <a:pt x="1956" y="3410"/>
                </a:lnTo>
                <a:lnTo>
                  <a:pt x="1960" y="3385"/>
                </a:lnTo>
                <a:lnTo>
                  <a:pt x="1965" y="3359"/>
                </a:lnTo>
                <a:lnTo>
                  <a:pt x="1967" y="3334"/>
                </a:lnTo>
                <a:lnTo>
                  <a:pt x="1968" y="3311"/>
                </a:lnTo>
                <a:lnTo>
                  <a:pt x="1968" y="3293"/>
                </a:lnTo>
                <a:lnTo>
                  <a:pt x="1967" y="3277"/>
                </a:lnTo>
                <a:lnTo>
                  <a:pt x="1966" y="3261"/>
                </a:lnTo>
                <a:lnTo>
                  <a:pt x="1963" y="3244"/>
                </a:lnTo>
                <a:lnTo>
                  <a:pt x="1960" y="3227"/>
                </a:lnTo>
                <a:lnTo>
                  <a:pt x="1957" y="3211"/>
                </a:lnTo>
                <a:lnTo>
                  <a:pt x="1952" y="3196"/>
                </a:lnTo>
                <a:lnTo>
                  <a:pt x="1949" y="3180"/>
                </a:lnTo>
                <a:lnTo>
                  <a:pt x="1942" y="3165"/>
                </a:lnTo>
                <a:lnTo>
                  <a:pt x="1936" y="3150"/>
                </a:lnTo>
                <a:lnTo>
                  <a:pt x="1930" y="3136"/>
                </a:lnTo>
                <a:lnTo>
                  <a:pt x="1922" y="3121"/>
                </a:lnTo>
                <a:lnTo>
                  <a:pt x="1906" y="3092"/>
                </a:lnTo>
                <a:lnTo>
                  <a:pt x="1888" y="3064"/>
                </a:lnTo>
                <a:lnTo>
                  <a:pt x="1873" y="3045"/>
                </a:lnTo>
                <a:lnTo>
                  <a:pt x="1858" y="3028"/>
                </a:lnTo>
                <a:lnTo>
                  <a:pt x="1842" y="3010"/>
                </a:lnTo>
                <a:lnTo>
                  <a:pt x="1824" y="2994"/>
                </a:lnTo>
                <a:lnTo>
                  <a:pt x="1806" y="2978"/>
                </a:lnTo>
                <a:lnTo>
                  <a:pt x="1786" y="2962"/>
                </a:lnTo>
                <a:lnTo>
                  <a:pt x="1766" y="2947"/>
                </a:lnTo>
                <a:lnTo>
                  <a:pt x="1744" y="2932"/>
                </a:lnTo>
                <a:lnTo>
                  <a:pt x="1721" y="2917"/>
                </a:lnTo>
                <a:lnTo>
                  <a:pt x="1696" y="2904"/>
                </a:lnTo>
                <a:lnTo>
                  <a:pt x="1672" y="2890"/>
                </a:lnTo>
                <a:lnTo>
                  <a:pt x="1646" y="2876"/>
                </a:lnTo>
                <a:lnTo>
                  <a:pt x="1618" y="2864"/>
                </a:lnTo>
                <a:lnTo>
                  <a:pt x="1590" y="2851"/>
                </a:lnTo>
                <a:lnTo>
                  <a:pt x="1560" y="2840"/>
                </a:lnTo>
                <a:lnTo>
                  <a:pt x="1530" y="2828"/>
                </a:lnTo>
                <a:lnTo>
                  <a:pt x="1499" y="2818"/>
                </a:lnTo>
                <a:lnTo>
                  <a:pt x="1465" y="2807"/>
                </a:lnTo>
                <a:lnTo>
                  <a:pt x="1432" y="2797"/>
                </a:lnTo>
                <a:lnTo>
                  <a:pt x="1397" y="2788"/>
                </a:lnTo>
                <a:lnTo>
                  <a:pt x="1361" y="2778"/>
                </a:lnTo>
                <a:lnTo>
                  <a:pt x="1325" y="2770"/>
                </a:lnTo>
                <a:lnTo>
                  <a:pt x="1287" y="2762"/>
                </a:lnTo>
                <a:lnTo>
                  <a:pt x="1248" y="2753"/>
                </a:lnTo>
                <a:lnTo>
                  <a:pt x="1167" y="2740"/>
                </a:lnTo>
                <a:lnTo>
                  <a:pt x="1083" y="2727"/>
                </a:lnTo>
                <a:lnTo>
                  <a:pt x="994" y="2717"/>
                </a:lnTo>
                <a:lnTo>
                  <a:pt x="900" y="2708"/>
                </a:lnTo>
                <a:lnTo>
                  <a:pt x="938" y="2663"/>
                </a:lnTo>
                <a:lnTo>
                  <a:pt x="992" y="2595"/>
                </a:lnTo>
                <a:lnTo>
                  <a:pt x="1059" y="2513"/>
                </a:lnTo>
                <a:lnTo>
                  <a:pt x="1129" y="2426"/>
                </a:lnTo>
                <a:lnTo>
                  <a:pt x="1197" y="2343"/>
                </a:lnTo>
                <a:lnTo>
                  <a:pt x="1254" y="2273"/>
                </a:lnTo>
                <a:lnTo>
                  <a:pt x="1293" y="2224"/>
                </a:lnTo>
                <a:lnTo>
                  <a:pt x="1308" y="2206"/>
                </a:lnTo>
                <a:lnTo>
                  <a:pt x="1316" y="2203"/>
                </a:lnTo>
                <a:lnTo>
                  <a:pt x="1325" y="2200"/>
                </a:lnTo>
                <a:lnTo>
                  <a:pt x="1336" y="2199"/>
                </a:lnTo>
                <a:lnTo>
                  <a:pt x="1348" y="2198"/>
                </a:lnTo>
                <a:lnTo>
                  <a:pt x="1359" y="2198"/>
                </a:lnTo>
                <a:lnTo>
                  <a:pt x="1372" y="2199"/>
                </a:lnTo>
                <a:lnTo>
                  <a:pt x="1385" y="2200"/>
                </a:lnTo>
                <a:lnTo>
                  <a:pt x="1400" y="2203"/>
                </a:lnTo>
                <a:lnTo>
                  <a:pt x="1429" y="2210"/>
                </a:lnTo>
                <a:lnTo>
                  <a:pt x="1462" y="2220"/>
                </a:lnTo>
                <a:lnTo>
                  <a:pt x="1495" y="2232"/>
                </a:lnTo>
                <a:lnTo>
                  <a:pt x="1531" y="2246"/>
                </a:lnTo>
                <a:lnTo>
                  <a:pt x="1566" y="2261"/>
                </a:lnTo>
                <a:lnTo>
                  <a:pt x="1602" y="2278"/>
                </a:lnTo>
                <a:lnTo>
                  <a:pt x="1638" y="2296"/>
                </a:lnTo>
                <a:lnTo>
                  <a:pt x="1674" y="2314"/>
                </a:lnTo>
                <a:lnTo>
                  <a:pt x="1708" y="2334"/>
                </a:lnTo>
                <a:lnTo>
                  <a:pt x="1740" y="2353"/>
                </a:lnTo>
                <a:lnTo>
                  <a:pt x="1771" y="2371"/>
                </a:lnTo>
                <a:lnTo>
                  <a:pt x="1800" y="2390"/>
                </a:lnTo>
                <a:lnTo>
                  <a:pt x="1806" y="2394"/>
                </a:lnTo>
                <a:lnTo>
                  <a:pt x="1813" y="2395"/>
                </a:lnTo>
                <a:lnTo>
                  <a:pt x="1819" y="2396"/>
                </a:lnTo>
                <a:lnTo>
                  <a:pt x="1827" y="2396"/>
                </a:lnTo>
                <a:lnTo>
                  <a:pt x="1833" y="2396"/>
                </a:lnTo>
                <a:lnTo>
                  <a:pt x="1840" y="2394"/>
                </a:lnTo>
                <a:lnTo>
                  <a:pt x="1847" y="2390"/>
                </a:lnTo>
                <a:lnTo>
                  <a:pt x="1853" y="2385"/>
                </a:lnTo>
                <a:lnTo>
                  <a:pt x="1858" y="2379"/>
                </a:lnTo>
                <a:lnTo>
                  <a:pt x="1863" y="2371"/>
                </a:lnTo>
                <a:lnTo>
                  <a:pt x="1865" y="2363"/>
                </a:lnTo>
                <a:lnTo>
                  <a:pt x="1867" y="2354"/>
                </a:lnTo>
                <a:lnTo>
                  <a:pt x="1865" y="2349"/>
                </a:lnTo>
                <a:lnTo>
                  <a:pt x="1865" y="2344"/>
                </a:lnTo>
                <a:lnTo>
                  <a:pt x="1863" y="2339"/>
                </a:lnTo>
                <a:lnTo>
                  <a:pt x="1860" y="2334"/>
                </a:lnTo>
                <a:lnTo>
                  <a:pt x="1853" y="2320"/>
                </a:lnTo>
                <a:lnTo>
                  <a:pt x="1844" y="2308"/>
                </a:lnTo>
                <a:lnTo>
                  <a:pt x="1834" y="2296"/>
                </a:lnTo>
                <a:lnTo>
                  <a:pt x="1824" y="2283"/>
                </a:lnTo>
                <a:lnTo>
                  <a:pt x="1812" y="2272"/>
                </a:lnTo>
                <a:lnTo>
                  <a:pt x="1800" y="2261"/>
                </a:lnTo>
                <a:lnTo>
                  <a:pt x="1787" y="2251"/>
                </a:lnTo>
                <a:lnTo>
                  <a:pt x="1773" y="2241"/>
                </a:lnTo>
                <a:lnTo>
                  <a:pt x="1745" y="2222"/>
                </a:lnTo>
                <a:lnTo>
                  <a:pt x="1714" y="2205"/>
                </a:lnTo>
                <a:lnTo>
                  <a:pt x="1680" y="2190"/>
                </a:lnTo>
                <a:lnTo>
                  <a:pt x="1646" y="2175"/>
                </a:lnTo>
                <a:lnTo>
                  <a:pt x="1611" y="2163"/>
                </a:lnTo>
                <a:lnTo>
                  <a:pt x="1575" y="2152"/>
                </a:lnTo>
                <a:lnTo>
                  <a:pt x="1538" y="2142"/>
                </a:lnTo>
                <a:lnTo>
                  <a:pt x="1501" y="2133"/>
                </a:lnTo>
                <a:lnTo>
                  <a:pt x="1465" y="2126"/>
                </a:lnTo>
                <a:lnTo>
                  <a:pt x="1429" y="2119"/>
                </a:lnTo>
                <a:lnTo>
                  <a:pt x="1396" y="2113"/>
                </a:lnTo>
                <a:lnTo>
                  <a:pt x="1364" y="2108"/>
                </a:lnTo>
                <a:lnTo>
                  <a:pt x="1390" y="2100"/>
                </a:lnTo>
                <a:lnTo>
                  <a:pt x="1417" y="2092"/>
                </a:lnTo>
                <a:lnTo>
                  <a:pt x="1444" y="2085"/>
                </a:lnTo>
                <a:lnTo>
                  <a:pt x="1474" y="2077"/>
                </a:lnTo>
                <a:lnTo>
                  <a:pt x="1533" y="2065"/>
                </a:lnTo>
                <a:lnTo>
                  <a:pt x="1593" y="2054"/>
                </a:lnTo>
                <a:lnTo>
                  <a:pt x="1654" y="2046"/>
                </a:lnTo>
                <a:lnTo>
                  <a:pt x="1715" y="2039"/>
                </a:lnTo>
                <a:lnTo>
                  <a:pt x="1773" y="2034"/>
                </a:lnTo>
                <a:lnTo>
                  <a:pt x="1831" y="2029"/>
                </a:lnTo>
                <a:lnTo>
                  <a:pt x="1934" y="2024"/>
                </a:lnTo>
                <a:lnTo>
                  <a:pt x="2017" y="2023"/>
                </a:lnTo>
                <a:lnTo>
                  <a:pt x="2074" y="2023"/>
                </a:lnTo>
                <a:lnTo>
                  <a:pt x="2095" y="2023"/>
                </a:lnTo>
                <a:lnTo>
                  <a:pt x="2101" y="2023"/>
                </a:lnTo>
                <a:lnTo>
                  <a:pt x="2107" y="2021"/>
                </a:lnTo>
                <a:lnTo>
                  <a:pt x="2112" y="2020"/>
                </a:lnTo>
                <a:lnTo>
                  <a:pt x="2119" y="2018"/>
                </a:lnTo>
                <a:lnTo>
                  <a:pt x="2124" y="2014"/>
                </a:lnTo>
                <a:lnTo>
                  <a:pt x="2127" y="2010"/>
                </a:lnTo>
                <a:lnTo>
                  <a:pt x="2131" y="2005"/>
                </a:lnTo>
                <a:lnTo>
                  <a:pt x="2135" y="2000"/>
                </a:lnTo>
                <a:lnTo>
                  <a:pt x="2137" y="1994"/>
                </a:lnTo>
                <a:lnTo>
                  <a:pt x="2139" y="1988"/>
                </a:lnTo>
                <a:lnTo>
                  <a:pt x="2140" y="1982"/>
                </a:lnTo>
                <a:lnTo>
                  <a:pt x="2140" y="1977"/>
                </a:lnTo>
                <a:lnTo>
                  <a:pt x="2139" y="1971"/>
                </a:lnTo>
                <a:lnTo>
                  <a:pt x="2136" y="1964"/>
                </a:lnTo>
                <a:lnTo>
                  <a:pt x="2134" y="1959"/>
                </a:lnTo>
                <a:lnTo>
                  <a:pt x="2130" y="1954"/>
                </a:lnTo>
                <a:lnTo>
                  <a:pt x="2125" y="1948"/>
                </a:lnTo>
                <a:lnTo>
                  <a:pt x="2119" y="1942"/>
                </a:lnTo>
                <a:lnTo>
                  <a:pt x="2112" y="1937"/>
                </a:lnTo>
                <a:lnTo>
                  <a:pt x="2104" y="1932"/>
                </a:lnTo>
                <a:lnTo>
                  <a:pt x="2096" y="1928"/>
                </a:lnTo>
                <a:lnTo>
                  <a:pt x="2086" y="1925"/>
                </a:lnTo>
                <a:lnTo>
                  <a:pt x="2076" y="1921"/>
                </a:lnTo>
                <a:lnTo>
                  <a:pt x="2066" y="1917"/>
                </a:lnTo>
                <a:lnTo>
                  <a:pt x="2043" y="1912"/>
                </a:lnTo>
                <a:lnTo>
                  <a:pt x="2017" y="1910"/>
                </a:lnTo>
                <a:lnTo>
                  <a:pt x="1987" y="1907"/>
                </a:lnTo>
                <a:lnTo>
                  <a:pt x="1955" y="1907"/>
                </a:lnTo>
                <a:lnTo>
                  <a:pt x="1920" y="1909"/>
                </a:lnTo>
                <a:lnTo>
                  <a:pt x="1883" y="1911"/>
                </a:lnTo>
                <a:lnTo>
                  <a:pt x="1842" y="1915"/>
                </a:lnTo>
                <a:lnTo>
                  <a:pt x="1798" y="1920"/>
                </a:lnTo>
                <a:lnTo>
                  <a:pt x="1703" y="1933"/>
                </a:lnTo>
                <a:lnTo>
                  <a:pt x="1596" y="1949"/>
                </a:lnTo>
                <a:lnTo>
                  <a:pt x="1639" y="1923"/>
                </a:lnTo>
                <a:lnTo>
                  <a:pt x="1678" y="1900"/>
                </a:lnTo>
                <a:lnTo>
                  <a:pt x="1705" y="1884"/>
                </a:lnTo>
                <a:lnTo>
                  <a:pt x="1716" y="1878"/>
                </a:lnTo>
                <a:lnTo>
                  <a:pt x="1721" y="1874"/>
                </a:lnTo>
                <a:lnTo>
                  <a:pt x="1725" y="1870"/>
                </a:lnTo>
                <a:lnTo>
                  <a:pt x="1729" y="1866"/>
                </a:lnTo>
                <a:lnTo>
                  <a:pt x="1731" y="1861"/>
                </a:lnTo>
                <a:lnTo>
                  <a:pt x="1734" y="1856"/>
                </a:lnTo>
                <a:lnTo>
                  <a:pt x="1735" y="1851"/>
                </a:lnTo>
                <a:lnTo>
                  <a:pt x="1736" y="1847"/>
                </a:lnTo>
                <a:lnTo>
                  <a:pt x="1736" y="1840"/>
                </a:lnTo>
                <a:lnTo>
                  <a:pt x="1736" y="1835"/>
                </a:lnTo>
                <a:lnTo>
                  <a:pt x="1735" y="1829"/>
                </a:lnTo>
                <a:lnTo>
                  <a:pt x="1732" y="1823"/>
                </a:lnTo>
                <a:lnTo>
                  <a:pt x="1730" y="1817"/>
                </a:lnTo>
                <a:lnTo>
                  <a:pt x="1725" y="1812"/>
                </a:lnTo>
                <a:lnTo>
                  <a:pt x="1720" y="1807"/>
                </a:lnTo>
                <a:lnTo>
                  <a:pt x="1715" y="1803"/>
                </a:lnTo>
                <a:lnTo>
                  <a:pt x="1709" y="1801"/>
                </a:lnTo>
                <a:lnTo>
                  <a:pt x="1701" y="1799"/>
                </a:lnTo>
                <a:lnTo>
                  <a:pt x="1695" y="1798"/>
                </a:lnTo>
                <a:lnTo>
                  <a:pt x="1684" y="1798"/>
                </a:lnTo>
                <a:lnTo>
                  <a:pt x="1674" y="1799"/>
                </a:lnTo>
                <a:lnTo>
                  <a:pt x="1664" y="1801"/>
                </a:lnTo>
                <a:lnTo>
                  <a:pt x="1653" y="1803"/>
                </a:lnTo>
                <a:lnTo>
                  <a:pt x="1632" y="1809"/>
                </a:lnTo>
                <a:lnTo>
                  <a:pt x="1610" y="1818"/>
                </a:lnTo>
                <a:lnTo>
                  <a:pt x="1587" y="1828"/>
                </a:lnTo>
                <a:lnTo>
                  <a:pt x="1565" y="1840"/>
                </a:lnTo>
                <a:lnTo>
                  <a:pt x="1544" y="1853"/>
                </a:lnTo>
                <a:lnTo>
                  <a:pt x="1521" y="1866"/>
                </a:lnTo>
                <a:lnTo>
                  <a:pt x="1482" y="1896"/>
                </a:lnTo>
                <a:lnTo>
                  <a:pt x="1444" y="1925"/>
                </a:lnTo>
                <a:lnTo>
                  <a:pt x="1415" y="1951"/>
                </a:lnTo>
                <a:lnTo>
                  <a:pt x="1392" y="1971"/>
                </a:lnTo>
                <a:lnTo>
                  <a:pt x="1379" y="1966"/>
                </a:lnTo>
                <a:lnTo>
                  <a:pt x="1364" y="1958"/>
                </a:lnTo>
                <a:lnTo>
                  <a:pt x="1345" y="1948"/>
                </a:lnTo>
                <a:lnTo>
                  <a:pt x="1325" y="1935"/>
                </a:lnTo>
                <a:lnTo>
                  <a:pt x="1302" y="1918"/>
                </a:lnTo>
                <a:lnTo>
                  <a:pt x="1277" y="1900"/>
                </a:lnTo>
                <a:lnTo>
                  <a:pt x="1249" y="1879"/>
                </a:lnTo>
                <a:lnTo>
                  <a:pt x="1220" y="1855"/>
                </a:lnTo>
                <a:lnTo>
                  <a:pt x="1155" y="1802"/>
                </a:lnTo>
                <a:lnTo>
                  <a:pt x="1083" y="1740"/>
                </a:lnTo>
                <a:lnTo>
                  <a:pt x="1004" y="1670"/>
                </a:lnTo>
                <a:lnTo>
                  <a:pt x="920" y="1595"/>
                </a:lnTo>
                <a:lnTo>
                  <a:pt x="831" y="1513"/>
                </a:lnTo>
                <a:lnTo>
                  <a:pt x="739" y="1426"/>
                </a:lnTo>
                <a:lnTo>
                  <a:pt x="643" y="1334"/>
                </a:lnTo>
                <a:lnTo>
                  <a:pt x="544" y="1239"/>
                </a:lnTo>
                <a:lnTo>
                  <a:pt x="445" y="1141"/>
                </a:lnTo>
                <a:lnTo>
                  <a:pt x="344" y="1041"/>
                </a:lnTo>
                <a:lnTo>
                  <a:pt x="244" y="940"/>
                </a:lnTo>
                <a:lnTo>
                  <a:pt x="144" y="838"/>
                </a:lnTo>
                <a:lnTo>
                  <a:pt x="131" y="822"/>
                </a:lnTo>
                <a:lnTo>
                  <a:pt x="119" y="803"/>
                </a:lnTo>
                <a:lnTo>
                  <a:pt x="108" y="786"/>
                </a:lnTo>
                <a:lnTo>
                  <a:pt x="101" y="766"/>
                </a:lnTo>
                <a:lnTo>
                  <a:pt x="95" y="747"/>
                </a:lnTo>
                <a:lnTo>
                  <a:pt x="90" y="727"/>
                </a:lnTo>
                <a:lnTo>
                  <a:pt x="87" y="708"/>
                </a:lnTo>
                <a:lnTo>
                  <a:pt x="86" y="686"/>
                </a:lnTo>
                <a:lnTo>
                  <a:pt x="86" y="677"/>
                </a:lnTo>
                <a:lnTo>
                  <a:pt x="87" y="667"/>
                </a:lnTo>
                <a:lnTo>
                  <a:pt x="87" y="657"/>
                </a:lnTo>
                <a:lnTo>
                  <a:pt x="90" y="647"/>
                </a:lnTo>
                <a:lnTo>
                  <a:pt x="93" y="623"/>
                </a:lnTo>
                <a:lnTo>
                  <a:pt x="101" y="598"/>
                </a:lnTo>
                <a:lnTo>
                  <a:pt x="109" y="574"/>
                </a:lnTo>
                <a:lnTo>
                  <a:pt x="119" y="550"/>
                </a:lnTo>
                <a:lnTo>
                  <a:pt x="132" y="525"/>
                </a:lnTo>
                <a:lnTo>
                  <a:pt x="146" y="502"/>
                </a:lnTo>
                <a:lnTo>
                  <a:pt x="160" y="478"/>
                </a:lnTo>
                <a:lnTo>
                  <a:pt x="177" y="454"/>
                </a:lnTo>
                <a:lnTo>
                  <a:pt x="193" y="431"/>
                </a:lnTo>
                <a:lnTo>
                  <a:pt x="211" y="409"/>
                </a:lnTo>
                <a:lnTo>
                  <a:pt x="230" y="386"/>
                </a:lnTo>
                <a:lnTo>
                  <a:pt x="250" y="364"/>
                </a:lnTo>
                <a:lnTo>
                  <a:pt x="290" y="322"/>
                </a:lnTo>
                <a:lnTo>
                  <a:pt x="332" y="282"/>
                </a:lnTo>
                <a:lnTo>
                  <a:pt x="373" y="245"/>
                </a:lnTo>
                <a:lnTo>
                  <a:pt x="414" y="210"/>
                </a:lnTo>
                <a:lnTo>
                  <a:pt x="452" y="179"/>
                </a:lnTo>
                <a:lnTo>
                  <a:pt x="488" y="153"/>
                </a:lnTo>
                <a:lnTo>
                  <a:pt x="547" y="111"/>
                </a:lnTo>
                <a:lnTo>
                  <a:pt x="579" y="90"/>
                </a:lnTo>
                <a:lnTo>
                  <a:pt x="635" y="87"/>
                </a:lnTo>
                <a:lnTo>
                  <a:pt x="696" y="90"/>
                </a:lnTo>
                <a:lnTo>
                  <a:pt x="759" y="100"/>
                </a:lnTo>
                <a:lnTo>
                  <a:pt x="825" y="113"/>
                </a:lnTo>
                <a:lnTo>
                  <a:pt x="893" y="133"/>
                </a:lnTo>
                <a:lnTo>
                  <a:pt x="964" y="157"/>
                </a:lnTo>
                <a:lnTo>
                  <a:pt x="1036" y="185"/>
                </a:lnTo>
                <a:lnTo>
                  <a:pt x="1109" y="216"/>
                </a:lnTo>
                <a:lnTo>
                  <a:pt x="1184" y="251"/>
                </a:lnTo>
                <a:lnTo>
                  <a:pt x="1259" y="289"/>
                </a:lnTo>
                <a:lnTo>
                  <a:pt x="1335" y="329"/>
                </a:lnTo>
                <a:lnTo>
                  <a:pt x="1411" y="373"/>
                </a:lnTo>
                <a:lnTo>
                  <a:pt x="1485" y="417"/>
                </a:lnTo>
                <a:lnTo>
                  <a:pt x="1560" y="463"/>
                </a:lnTo>
                <a:lnTo>
                  <a:pt x="1634" y="509"/>
                </a:lnTo>
                <a:lnTo>
                  <a:pt x="1706" y="557"/>
                </a:lnTo>
                <a:lnTo>
                  <a:pt x="1777" y="605"/>
                </a:lnTo>
                <a:lnTo>
                  <a:pt x="1845" y="652"/>
                </a:lnTo>
                <a:lnTo>
                  <a:pt x="1911" y="699"/>
                </a:lnTo>
                <a:lnTo>
                  <a:pt x="1975" y="745"/>
                </a:lnTo>
                <a:lnTo>
                  <a:pt x="2093" y="833"/>
                </a:lnTo>
                <a:lnTo>
                  <a:pt x="2196" y="911"/>
                </a:lnTo>
                <a:lnTo>
                  <a:pt x="2281" y="978"/>
                </a:lnTo>
                <a:lnTo>
                  <a:pt x="2346" y="1031"/>
                </a:lnTo>
                <a:lnTo>
                  <a:pt x="2387" y="1066"/>
                </a:lnTo>
                <a:lnTo>
                  <a:pt x="2403" y="107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未知"/>
          <p:cNvSpPr/>
          <p:nvPr/>
        </p:nvSpPr>
        <p:spPr>
          <a:xfrm>
            <a:off x="1087560" y="3716280"/>
            <a:ext cx="981000" cy="1432080"/>
          </a:xfrm>
          <a:custGeom>
            <a:avLst/>
            <a:gdLst/>
            <a:ahLst/>
            <a:rect l="l" t="t" r="r" b="b"/>
            <a:pathLst>
              <a:path w="2468" h="3607">
                <a:moveTo>
                  <a:pt x="2132" y="136"/>
                </a:moveTo>
                <a:lnTo>
                  <a:pt x="2136" y="139"/>
                </a:lnTo>
                <a:lnTo>
                  <a:pt x="2143" y="154"/>
                </a:lnTo>
                <a:lnTo>
                  <a:pt x="2148" y="163"/>
                </a:lnTo>
                <a:lnTo>
                  <a:pt x="2154" y="175"/>
                </a:lnTo>
                <a:lnTo>
                  <a:pt x="2159" y="189"/>
                </a:lnTo>
                <a:lnTo>
                  <a:pt x="2164" y="204"/>
                </a:lnTo>
                <a:lnTo>
                  <a:pt x="2168" y="220"/>
                </a:lnTo>
                <a:lnTo>
                  <a:pt x="2172" y="237"/>
                </a:lnTo>
                <a:lnTo>
                  <a:pt x="2173" y="256"/>
                </a:lnTo>
                <a:lnTo>
                  <a:pt x="2173" y="276"/>
                </a:lnTo>
                <a:lnTo>
                  <a:pt x="2170" y="297"/>
                </a:lnTo>
                <a:lnTo>
                  <a:pt x="2167" y="318"/>
                </a:lnTo>
                <a:lnTo>
                  <a:pt x="2159" y="340"/>
                </a:lnTo>
                <a:lnTo>
                  <a:pt x="2149" y="363"/>
                </a:lnTo>
                <a:lnTo>
                  <a:pt x="2136" y="386"/>
                </a:lnTo>
                <a:lnTo>
                  <a:pt x="2119" y="410"/>
                </a:lnTo>
                <a:lnTo>
                  <a:pt x="2098" y="433"/>
                </a:lnTo>
                <a:lnTo>
                  <a:pt x="2072" y="456"/>
                </a:lnTo>
                <a:lnTo>
                  <a:pt x="2042" y="479"/>
                </a:lnTo>
                <a:lnTo>
                  <a:pt x="2008" y="502"/>
                </a:lnTo>
                <a:lnTo>
                  <a:pt x="1968" y="524"/>
                </a:lnTo>
                <a:lnTo>
                  <a:pt x="1922" y="546"/>
                </a:lnTo>
                <a:lnTo>
                  <a:pt x="1871" y="567"/>
                </a:lnTo>
                <a:lnTo>
                  <a:pt x="1813" y="587"/>
                </a:lnTo>
                <a:lnTo>
                  <a:pt x="1748" y="607"/>
                </a:lnTo>
                <a:lnTo>
                  <a:pt x="1677" y="626"/>
                </a:lnTo>
                <a:lnTo>
                  <a:pt x="1598" y="642"/>
                </a:lnTo>
                <a:lnTo>
                  <a:pt x="1512" y="658"/>
                </a:lnTo>
                <a:lnTo>
                  <a:pt x="1418" y="672"/>
                </a:lnTo>
                <a:lnTo>
                  <a:pt x="1316" y="684"/>
                </a:lnTo>
                <a:lnTo>
                  <a:pt x="1340" y="684"/>
                </a:lnTo>
                <a:lnTo>
                  <a:pt x="1404" y="682"/>
                </a:lnTo>
                <a:lnTo>
                  <a:pt x="1449" y="678"/>
                </a:lnTo>
                <a:lnTo>
                  <a:pt x="1500" y="673"/>
                </a:lnTo>
                <a:lnTo>
                  <a:pt x="1557" y="665"/>
                </a:lnTo>
                <a:lnTo>
                  <a:pt x="1619" y="657"/>
                </a:lnTo>
                <a:lnTo>
                  <a:pt x="1650" y="651"/>
                </a:lnTo>
                <a:lnTo>
                  <a:pt x="1684" y="644"/>
                </a:lnTo>
                <a:lnTo>
                  <a:pt x="1716" y="637"/>
                </a:lnTo>
                <a:lnTo>
                  <a:pt x="1749" y="629"/>
                </a:lnTo>
                <a:lnTo>
                  <a:pt x="1784" y="621"/>
                </a:lnTo>
                <a:lnTo>
                  <a:pt x="1818" y="611"/>
                </a:lnTo>
                <a:lnTo>
                  <a:pt x="1851" y="601"/>
                </a:lnTo>
                <a:lnTo>
                  <a:pt x="1885" y="590"/>
                </a:lnTo>
                <a:lnTo>
                  <a:pt x="1918" y="577"/>
                </a:lnTo>
                <a:lnTo>
                  <a:pt x="1951" y="564"/>
                </a:lnTo>
                <a:lnTo>
                  <a:pt x="1983" y="550"/>
                </a:lnTo>
                <a:lnTo>
                  <a:pt x="2015" y="534"/>
                </a:lnTo>
                <a:lnTo>
                  <a:pt x="2045" y="518"/>
                </a:lnTo>
                <a:lnTo>
                  <a:pt x="2075" y="499"/>
                </a:lnTo>
                <a:lnTo>
                  <a:pt x="2102" y="481"/>
                </a:lnTo>
                <a:lnTo>
                  <a:pt x="2129" y="459"/>
                </a:lnTo>
                <a:lnTo>
                  <a:pt x="2138" y="469"/>
                </a:lnTo>
                <a:lnTo>
                  <a:pt x="2159" y="493"/>
                </a:lnTo>
                <a:lnTo>
                  <a:pt x="2173" y="510"/>
                </a:lnTo>
                <a:lnTo>
                  <a:pt x="2188" y="529"/>
                </a:lnTo>
                <a:lnTo>
                  <a:pt x="2203" y="550"/>
                </a:lnTo>
                <a:lnTo>
                  <a:pt x="2218" y="574"/>
                </a:lnTo>
                <a:lnTo>
                  <a:pt x="2230" y="597"/>
                </a:lnTo>
                <a:lnTo>
                  <a:pt x="2242" y="622"/>
                </a:lnTo>
                <a:lnTo>
                  <a:pt x="2246" y="634"/>
                </a:lnTo>
                <a:lnTo>
                  <a:pt x="2250" y="647"/>
                </a:lnTo>
                <a:lnTo>
                  <a:pt x="2254" y="659"/>
                </a:lnTo>
                <a:lnTo>
                  <a:pt x="2255" y="672"/>
                </a:lnTo>
                <a:lnTo>
                  <a:pt x="2256" y="684"/>
                </a:lnTo>
                <a:lnTo>
                  <a:pt x="2256" y="695"/>
                </a:lnTo>
                <a:lnTo>
                  <a:pt x="2255" y="708"/>
                </a:lnTo>
                <a:lnTo>
                  <a:pt x="2252" y="719"/>
                </a:lnTo>
                <a:lnTo>
                  <a:pt x="2247" y="729"/>
                </a:lnTo>
                <a:lnTo>
                  <a:pt x="2242" y="740"/>
                </a:lnTo>
                <a:lnTo>
                  <a:pt x="2235" y="750"/>
                </a:lnTo>
                <a:lnTo>
                  <a:pt x="2225" y="758"/>
                </a:lnTo>
                <a:lnTo>
                  <a:pt x="2209" y="770"/>
                </a:lnTo>
                <a:lnTo>
                  <a:pt x="2163" y="799"/>
                </a:lnTo>
                <a:lnTo>
                  <a:pt x="2129" y="819"/>
                </a:lnTo>
                <a:lnTo>
                  <a:pt x="2090" y="842"/>
                </a:lnTo>
                <a:lnTo>
                  <a:pt x="2045" y="865"/>
                </a:lnTo>
                <a:lnTo>
                  <a:pt x="1995" y="891"/>
                </a:lnTo>
                <a:lnTo>
                  <a:pt x="1942" y="916"/>
                </a:lnTo>
                <a:lnTo>
                  <a:pt x="1884" y="942"/>
                </a:lnTo>
                <a:lnTo>
                  <a:pt x="1852" y="954"/>
                </a:lnTo>
                <a:lnTo>
                  <a:pt x="1821" y="966"/>
                </a:lnTo>
                <a:lnTo>
                  <a:pt x="1789" y="977"/>
                </a:lnTo>
                <a:lnTo>
                  <a:pt x="1757" y="988"/>
                </a:lnTo>
                <a:lnTo>
                  <a:pt x="1723" y="999"/>
                </a:lnTo>
                <a:lnTo>
                  <a:pt x="1690" y="1008"/>
                </a:lnTo>
                <a:lnTo>
                  <a:pt x="1655" y="1018"/>
                </a:lnTo>
                <a:lnTo>
                  <a:pt x="1620" y="1025"/>
                </a:lnTo>
                <a:lnTo>
                  <a:pt x="1585" y="1033"/>
                </a:lnTo>
                <a:lnTo>
                  <a:pt x="1549" y="1039"/>
                </a:lnTo>
                <a:lnTo>
                  <a:pt x="1513" y="1044"/>
                </a:lnTo>
                <a:lnTo>
                  <a:pt x="1477" y="1046"/>
                </a:lnTo>
                <a:lnTo>
                  <a:pt x="1500" y="1046"/>
                </a:lnTo>
                <a:lnTo>
                  <a:pt x="1561" y="1040"/>
                </a:lnTo>
                <a:lnTo>
                  <a:pt x="1602" y="1035"/>
                </a:lnTo>
                <a:lnTo>
                  <a:pt x="1650" y="1028"/>
                </a:lnTo>
                <a:lnTo>
                  <a:pt x="1703" y="1018"/>
                </a:lnTo>
                <a:lnTo>
                  <a:pt x="1762" y="1005"/>
                </a:lnTo>
                <a:lnTo>
                  <a:pt x="1792" y="998"/>
                </a:lnTo>
                <a:lnTo>
                  <a:pt x="1823" y="989"/>
                </a:lnTo>
                <a:lnTo>
                  <a:pt x="1854" y="979"/>
                </a:lnTo>
                <a:lnTo>
                  <a:pt x="1885" y="968"/>
                </a:lnTo>
                <a:lnTo>
                  <a:pt x="1917" y="957"/>
                </a:lnTo>
                <a:lnTo>
                  <a:pt x="1949" y="945"/>
                </a:lnTo>
                <a:lnTo>
                  <a:pt x="1980" y="931"/>
                </a:lnTo>
                <a:lnTo>
                  <a:pt x="2013" y="916"/>
                </a:lnTo>
                <a:lnTo>
                  <a:pt x="2044" y="900"/>
                </a:lnTo>
                <a:lnTo>
                  <a:pt x="2075" y="881"/>
                </a:lnTo>
                <a:lnTo>
                  <a:pt x="2106" y="863"/>
                </a:lnTo>
                <a:lnTo>
                  <a:pt x="2136" y="843"/>
                </a:lnTo>
                <a:lnTo>
                  <a:pt x="2164" y="820"/>
                </a:lnTo>
                <a:lnTo>
                  <a:pt x="2193" y="798"/>
                </a:lnTo>
                <a:lnTo>
                  <a:pt x="2220" y="773"/>
                </a:lnTo>
                <a:lnTo>
                  <a:pt x="2245" y="747"/>
                </a:lnTo>
                <a:lnTo>
                  <a:pt x="2251" y="756"/>
                </a:lnTo>
                <a:lnTo>
                  <a:pt x="2268" y="781"/>
                </a:lnTo>
                <a:lnTo>
                  <a:pt x="2293" y="820"/>
                </a:lnTo>
                <a:lnTo>
                  <a:pt x="2323" y="874"/>
                </a:lnTo>
                <a:lnTo>
                  <a:pt x="2339" y="905"/>
                </a:lnTo>
                <a:lnTo>
                  <a:pt x="2357" y="940"/>
                </a:lnTo>
                <a:lnTo>
                  <a:pt x="2373" y="976"/>
                </a:lnTo>
                <a:lnTo>
                  <a:pt x="2389" y="1015"/>
                </a:lnTo>
                <a:lnTo>
                  <a:pt x="2405" y="1056"/>
                </a:lnTo>
                <a:lnTo>
                  <a:pt x="2420" y="1101"/>
                </a:lnTo>
                <a:lnTo>
                  <a:pt x="2434" y="1146"/>
                </a:lnTo>
                <a:lnTo>
                  <a:pt x="2445" y="1193"/>
                </a:lnTo>
                <a:lnTo>
                  <a:pt x="2455" y="1242"/>
                </a:lnTo>
                <a:lnTo>
                  <a:pt x="2462" y="1292"/>
                </a:lnTo>
                <a:lnTo>
                  <a:pt x="2467" y="1344"/>
                </a:lnTo>
                <a:lnTo>
                  <a:pt x="2468" y="1396"/>
                </a:lnTo>
                <a:lnTo>
                  <a:pt x="2467" y="1450"/>
                </a:lnTo>
                <a:lnTo>
                  <a:pt x="2462" y="1503"/>
                </a:lnTo>
                <a:lnTo>
                  <a:pt x="2453" y="1557"/>
                </a:lnTo>
                <a:lnTo>
                  <a:pt x="2440" y="1612"/>
                </a:lnTo>
                <a:lnTo>
                  <a:pt x="2422" y="1667"/>
                </a:lnTo>
                <a:lnTo>
                  <a:pt x="2399" y="1722"/>
                </a:lnTo>
                <a:lnTo>
                  <a:pt x="2372" y="1777"/>
                </a:lnTo>
                <a:lnTo>
                  <a:pt x="2338" y="1830"/>
                </a:lnTo>
                <a:lnTo>
                  <a:pt x="2298" y="1884"/>
                </a:lnTo>
                <a:lnTo>
                  <a:pt x="2252" y="1937"/>
                </a:lnTo>
                <a:lnTo>
                  <a:pt x="2199" y="1989"/>
                </a:lnTo>
                <a:lnTo>
                  <a:pt x="2139" y="2039"/>
                </a:lnTo>
                <a:lnTo>
                  <a:pt x="2396" y="1825"/>
                </a:lnTo>
                <a:lnTo>
                  <a:pt x="2399" y="1833"/>
                </a:lnTo>
                <a:lnTo>
                  <a:pt x="2404" y="1851"/>
                </a:lnTo>
                <a:lnTo>
                  <a:pt x="2411" y="1883"/>
                </a:lnTo>
                <a:lnTo>
                  <a:pt x="2419" y="1923"/>
                </a:lnTo>
                <a:lnTo>
                  <a:pt x="2422" y="1948"/>
                </a:lnTo>
                <a:lnTo>
                  <a:pt x="2425" y="1976"/>
                </a:lnTo>
                <a:lnTo>
                  <a:pt x="2426" y="2004"/>
                </a:lnTo>
                <a:lnTo>
                  <a:pt x="2427" y="2035"/>
                </a:lnTo>
                <a:lnTo>
                  <a:pt x="2427" y="2069"/>
                </a:lnTo>
                <a:lnTo>
                  <a:pt x="2426" y="2103"/>
                </a:lnTo>
                <a:lnTo>
                  <a:pt x="2422" y="2139"/>
                </a:lnTo>
                <a:lnTo>
                  <a:pt x="2417" y="2178"/>
                </a:lnTo>
                <a:lnTo>
                  <a:pt x="2410" y="2217"/>
                </a:lnTo>
                <a:lnTo>
                  <a:pt x="2401" y="2258"/>
                </a:lnTo>
                <a:lnTo>
                  <a:pt x="2390" y="2301"/>
                </a:lnTo>
                <a:lnTo>
                  <a:pt x="2375" y="2344"/>
                </a:lnTo>
                <a:lnTo>
                  <a:pt x="2358" y="2389"/>
                </a:lnTo>
                <a:lnTo>
                  <a:pt x="2338" y="2435"/>
                </a:lnTo>
                <a:lnTo>
                  <a:pt x="2314" y="2481"/>
                </a:lnTo>
                <a:lnTo>
                  <a:pt x="2288" y="2528"/>
                </a:lnTo>
                <a:lnTo>
                  <a:pt x="2257" y="2576"/>
                </a:lnTo>
                <a:lnTo>
                  <a:pt x="2224" y="2623"/>
                </a:lnTo>
                <a:lnTo>
                  <a:pt x="2185" y="2672"/>
                </a:lnTo>
                <a:lnTo>
                  <a:pt x="2143" y="2720"/>
                </a:lnTo>
                <a:lnTo>
                  <a:pt x="2096" y="2768"/>
                </a:lnTo>
                <a:lnTo>
                  <a:pt x="2044" y="2818"/>
                </a:lnTo>
                <a:lnTo>
                  <a:pt x="1988" y="2866"/>
                </a:lnTo>
                <a:lnTo>
                  <a:pt x="1927" y="2914"/>
                </a:lnTo>
                <a:lnTo>
                  <a:pt x="1908" y="2932"/>
                </a:lnTo>
                <a:lnTo>
                  <a:pt x="1862" y="2982"/>
                </a:lnTo>
                <a:lnTo>
                  <a:pt x="1833" y="3017"/>
                </a:lnTo>
                <a:lnTo>
                  <a:pt x="1799" y="3057"/>
                </a:lnTo>
                <a:lnTo>
                  <a:pt x="1766" y="3103"/>
                </a:lnTo>
                <a:lnTo>
                  <a:pt x="1731" y="3153"/>
                </a:lnTo>
                <a:lnTo>
                  <a:pt x="1713" y="3179"/>
                </a:lnTo>
                <a:lnTo>
                  <a:pt x="1696" y="3206"/>
                </a:lnTo>
                <a:lnTo>
                  <a:pt x="1680" y="3234"/>
                </a:lnTo>
                <a:lnTo>
                  <a:pt x="1665" y="3262"/>
                </a:lnTo>
                <a:lnTo>
                  <a:pt x="1651" y="3291"/>
                </a:lnTo>
                <a:lnTo>
                  <a:pt x="1638" y="3319"/>
                </a:lnTo>
                <a:lnTo>
                  <a:pt x="1625" y="3349"/>
                </a:lnTo>
                <a:lnTo>
                  <a:pt x="1615" y="3378"/>
                </a:lnTo>
                <a:lnTo>
                  <a:pt x="1607" y="3407"/>
                </a:lnTo>
                <a:lnTo>
                  <a:pt x="1600" y="3437"/>
                </a:lnTo>
                <a:lnTo>
                  <a:pt x="1595" y="3466"/>
                </a:lnTo>
                <a:lnTo>
                  <a:pt x="1592" y="3495"/>
                </a:lnTo>
                <a:lnTo>
                  <a:pt x="1592" y="3524"/>
                </a:lnTo>
                <a:lnTo>
                  <a:pt x="1594" y="3552"/>
                </a:lnTo>
                <a:lnTo>
                  <a:pt x="1598" y="3580"/>
                </a:lnTo>
                <a:lnTo>
                  <a:pt x="1607" y="3607"/>
                </a:lnTo>
                <a:lnTo>
                  <a:pt x="1597" y="3597"/>
                </a:lnTo>
                <a:lnTo>
                  <a:pt x="1571" y="3565"/>
                </a:lnTo>
                <a:lnTo>
                  <a:pt x="1530" y="3514"/>
                </a:lnTo>
                <a:lnTo>
                  <a:pt x="1477" y="3445"/>
                </a:lnTo>
                <a:lnTo>
                  <a:pt x="1448" y="3405"/>
                </a:lnTo>
                <a:lnTo>
                  <a:pt x="1415" y="3361"/>
                </a:lnTo>
                <a:lnTo>
                  <a:pt x="1382" y="3314"/>
                </a:lnTo>
                <a:lnTo>
                  <a:pt x="1347" y="3263"/>
                </a:lnTo>
                <a:lnTo>
                  <a:pt x="1311" y="3210"/>
                </a:lnTo>
                <a:lnTo>
                  <a:pt x="1275" y="3154"/>
                </a:lnTo>
                <a:lnTo>
                  <a:pt x="1238" y="3095"/>
                </a:lnTo>
                <a:lnTo>
                  <a:pt x="1202" y="3034"/>
                </a:lnTo>
                <a:lnTo>
                  <a:pt x="1165" y="2971"/>
                </a:lnTo>
                <a:lnTo>
                  <a:pt x="1129" y="2906"/>
                </a:lnTo>
                <a:lnTo>
                  <a:pt x="1094" y="2840"/>
                </a:lnTo>
                <a:lnTo>
                  <a:pt x="1060" y="2772"/>
                </a:lnTo>
                <a:lnTo>
                  <a:pt x="1028" y="2703"/>
                </a:lnTo>
                <a:lnTo>
                  <a:pt x="997" y="2633"/>
                </a:lnTo>
                <a:lnTo>
                  <a:pt x="970" y="2562"/>
                </a:lnTo>
                <a:lnTo>
                  <a:pt x="944" y="2492"/>
                </a:lnTo>
                <a:lnTo>
                  <a:pt x="921" y="2420"/>
                </a:lnTo>
                <a:lnTo>
                  <a:pt x="901" y="2349"/>
                </a:lnTo>
                <a:lnTo>
                  <a:pt x="885" y="2277"/>
                </a:lnTo>
                <a:lnTo>
                  <a:pt x="873" y="2206"/>
                </a:lnTo>
                <a:lnTo>
                  <a:pt x="865" y="2137"/>
                </a:lnTo>
                <a:lnTo>
                  <a:pt x="862" y="2067"/>
                </a:lnTo>
                <a:lnTo>
                  <a:pt x="863" y="1999"/>
                </a:lnTo>
                <a:lnTo>
                  <a:pt x="869" y="1932"/>
                </a:lnTo>
                <a:lnTo>
                  <a:pt x="859" y="1928"/>
                </a:lnTo>
                <a:lnTo>
                  <a:pt x="831" y="1918"/>
                </a:lnTo>
                <a:lnTo>
                  <a:pt x="787" y="1901"/>
                </a:lnTo>
                <a:lnTo>
                  <a:pt x="731" y="1878"/>
                </a:lnTo>
                <a:lnTo>
                  <a:pt x="699" y="1863"/>
                </a:lnTo>
                <a:lnTo>
                  <a:pt x="664" y="1845"/>
                </a:lnTo>
                <a:lnTo>
                  <a:pt x="628" y="1828"/>
                </a:lnTo>
                <a:lnTo>
                  <a:pt x="590" y="1807"/>
                </a:lnTo>
                <a:lnTo>
                  <a:pt x="550" y="1784"/>
                </a:lnTo>
                <a:lnTo>
                  <a:pt x="510" y="1761"/>
                </a:lnTo>
                <a:lnTo>
                  <a:pt x="469" y="1735"/>
                </a:lnTo>
                <a:lnTo>
                  <a:pt x="428" y="1708"/>
                </a:lnTo>
                <a:lnTo>
                  <a:pt x="387" y="1678"/>
                </a:lnTo>
                <a:lnTo>
                  <a:pt x="347" y="1646"/>
                </a:lnTo>
                <a:lnTo>
                  <a:pt x="306" y="1612"/>
                </a:lnTo>
                <a:lnTo>
                  <a:pt x="268" y="1577"/>
                </a:lnTo>
                <a:lnTo>
                  <a:pt x="231" y="1539"/>
                </a:lnTo>
                <a:lnTo>
                  <a:pt x="195" y="1500"/>
                </a:lnTo>
                <a:lnTo>
                  <a:pt x="161" y="1458"/>
                </a:lnTo>
                <a:lnTo>
                  <a:pt x="130" y="1415"/>
                </a:lnTo>
                <a:lnTo>
                  <a:pt x="102" y="1369"/>
                </a:lnTo>
                <a:lnTo>
                  <a:pt x="76" y="1322"/>
                </a:lnTo>
                <a:lnTo>
                  <a:pt x="53" y="1272"/>
                </a:lnTo>
                <a:lnTo>
                  <a:pt x="35" y="1221"/>
                </a:lnTo>
                <a:lnTo>
                  <a:pt x="21" y="1167"/>
                </a:lnTo>
                <a:lnTo>
                  <a:pt x="10" y="1111"/>
                </a:lnTo>
                <a:lnTo>
                  <a:pt x="5" y="1054"/>
                </a:lnTo>
                <a:lnTo>
                  <a:pt x="4" y="993"/>
                </a:lnTo>
                <a:lnTo>
                  <a:pt x="4" y="987"/>
                </a:lnTo>
                <a:lnTo>
                  <a:pt x="2" y="969"/>
                </a:lnTo>
                <a:lnTo>
                  <a:pt x="1" y="943"/>
                </a:lnTo>
                <a:lnTo>
                  <a:pt x="0" y="911"/>
                </a:lnTo>
                <a:lnTo>
                  <a:pt x="1" y="874"/>
                </a:lnTo>
                <a:lnTo>
                  <a:pt x="4" y="834"/>
                </a:lnTo>
                <a:lnTo>
                  <a:pt x="6" y="814"/>
                </a:lnTo>
                <a:lnTo>
                  <a:pt x="10" y="794"/>
                </a:lnTo>
                <a:lnTo>
                  <a:pt x="13" y="776"/>
                </a:lnTo>
                <a:lnTo>
                  <a:pt x="18" y="757"/>
                </a:lnTo>
                <a:lnTo>
                  <a:pt x="25" y="740"/>
                </a:lnTo>
                <a:lnTo>
                  <a:pt x="32" y="725"/>
                </a:lnTo>
                <a:lnTo>
                  <a:pt x="41" y="710"/>
                </a:lnTo>
                <a:lnTo>
                  <a:pt x="52" y="698"/>
                </a:lnTo>
                <a:lnTo>
                  <a:pt x="63" y="688"/>
                </a:lnTo>
                <a:lnTo>
                  <a:pt x="77" y="680"/>
                </a:lnTo>
                <a:lnTo>
                  <a:pt x="92" y="675"/>
                </a:lnTo>
                <a:lnTo>
                  <a:pt x="108" y="674"/>
                </a:lnTo>
                <a:lnTo>
                  <a:pt x="126" y="675"/>
                </a:lnTo>
                <a:lnTo>
                  <a:pt x="146" y="680"/>
                </a:lnTo>
                <a:lnTo>
                  <a:pt x="169" y="689"/>
                </a:lnTo>
                <a:lnTo>
                  <a:pt x="193" y="703"/>
                </a:lnTo>
                <a:lnTo>
                  <a:pt x="220" y="720"/>
                </a:lnTo>
                <a:lnTo>
                  <a:pt x="248" y="742"/>
                </a:lnTo>
                <a:lnTo>
                  <a:pt x="280" y="770"/>
                </a:lnTo>
                <a:lnTo>
                  <a:pt x="314" y="802"/>
                </a:lnTo>
                <a:lnTo>
                  <a:pt x="308" y="796"/>
                </a:lnTo>
                <a:lnTo>
                  <a:pt x="293" y="778"/>
                </a:lnTo>
                <a:lnTo>
                  <a:pt x="272" y="753"/>
                </a:lnTo>
                <a:lnTo>
                  <a:pt x="244" y="721"/>
                </a:lnTo>
                <a:lnTo>
                  <a:pt x="216" y="683"/>
                </a:lnTo>
                <a:lnTo>
                  <a:pt x="187" y="642"/>
                </a:lnTo>
                <a:lnTo>
                  <a:pt x="174" y="621"/>
                </a:lnTo>
                <a:lnTo>
                  <a:pt x="160" y="600"/>
                </a:lnTo>
                <a:lnTo>
                  <a:pt x="149" y="579"/>
                </a:lnTo>
                <a:lnTo>
                  <a:pt x="139" y="557"/>
                </a:lnTo>
                <a:lnTo>
                  <a:pt x="130" y="536"/>
                </a:lnTo>
                <a:lnTo>
                  <a:pt x="124" y="518"/>
                </a:lnTo>
                <a:lnTo>
                  <a:pt x="120" y="499"/>
                </a:lnTo>
                <a:lnTo>
                  <a:pt x="119" y="481"/>
                </a:lnTo>
                <a:lnTo>
                  <a:pt x="121" y="466"/>
                </a:lnTo>
                <a:lnTo>
                  <a:pt x="126" y="451"/>
                </a:lnTo>
                <a:lnTo>
                  <a:pt x="134" y="438"/>
                </a:lnTo>
                <a:lnTo>
                  <a:pt x="148" y="428"/>
                </a:lnTo>
                <a:lnTo>
                  <a:pt x="164" y="420"/>
                </a:lnTo>
                <a:lnTo>
                  <a:pt x="185" y="415"/>
                </a:lnTo>
                <a:lnTo>
                  <a:pt x="210" y="412"/>
                </a:lnTo>
                <a:lnTo>
                  <a:pt x="241" y="412"/>
                </a:lnTo>
                <a:lnTo>
                  <a:pt x="277" y="416"/>
                </a:lnTo>
                <a:lnTo>
                  <a:pt x="319" y="423"/>
                </a:lnTo>
                <a:lnTo>
                  <a:pt x="366" y="435"/>
                </a:lnTo>
                <a:lnTo>
                  <a:pt x="421" y="450"/>
                </a:lnTo>
                <a:lnTo>
                  <a:pt x="406" y="446"/>
                </a:lnTo>
                <a:lnTo>
                  <a:pt x="367" y="433"/>
                </a:lnTo>
                <a:lnTo>
                  <a:pt x="343" y="425"/>
                </a:lnTo>
                <a:lnTo>
                  <a:pt x="315" y="414"/>
                </a:lnTo>
                <a:lnTo>
                  <a:pt x="287" y="399"/>
                </a:lnTo>
                <a:lnTo>
                  <a:pt x="258" y="383"/>
                </a:lnTo>
                <a:lnTo>
                  <a:pt x="244" y="374"/>
                </a:lnTo>
                <a:lnTo>
                  <a:pt x="231" y="363"/>
                </a:lnTo>
                <a:lnTo>
                  <a:pt x="217" y="353"/>
                </a:lnTo>
                <a:lnTo>
                  <a:pt x="206" y="340"/>
                </a:lnTo>
                <a:lnTo>
                  <a:pt x="195" y="329"/>
                </a:lnTo>
                <a:lnTo>
                  <a:pt x="185" y="316"/>
                </a:lnTo>
                <a:lnTo>
                  <a:pt x="176" y="302"/>
                </a:lnTo>
                <a:lnTo>
                  <a:pt x="169" y="287"/>
                </a:lnTo>
                <a:lnTo>
                  <a:pt x="162" y="272"/>
                </a:lnTo>
                <a:lnTo>
                  <a:pt x="157" y="256"/>
                </a:lnTo>
                <a:lnTo>
                  <a:pt x="155" y="239"/>
                </a:lnTo>
                <a:lnTo>
                  <a:pt x="155" y="220"/>
                </a:lnTo>
                <a:lnTo>
                  <a:pt x="156" y="201"/>
                </a:lnTo>
                <a:lnTo>
                  <a:pt x="160" y="182"/>
                </a:lnTo>
                <a:lnTo>
                  <a:pt x="166" y="162"/>
                </a:lnTo>
                <a:lnTo>
                  <a:pt x="175" y="139"/>
                </a:lnTo>
                <a:lnTo>
                  <a:pt x="218" y="0"/>
                </a:lnTo>
                <a:lnTo>
                  <a:pt x="223" y="9"/>
                </a:lnTo>
                <a:lnTo>
                  <a:pt x="243" y="33"/>
                </a:lnTo>
                <a:lnTo>
                  <a:pt x="257" y="49"/>
                </a:lnTo>
                <a:lnTo>
                  <a:pt x="274" y="67"/>
                </a:lnTo>
                <a:lnTo>
                  <a:pt x="295" y="87"/>
                </a:lnTo>
                <a:lnTo>
                  <a:pt x="320" y="110"/>
                </a:lnTo>
                <a:lnTo>
                  <a:pt x="349" y="133"/>
                </a:lnTo>
                <a:lnTo>
                  <a:pt x="381" y="158"/>
                </a:lnTo>
                <a:lnTo>
                  <a:pt x="416" y="183"/>
                </a:lnTo>
                <a:lnTo>
                  <a:pt x="456" y="209"/>
                </a:lnTo>
                <a:lnTo>
                  <a:pt x="498" y="234"/>
                </a:lnTo>
                <a:lnTo>
                  <a:pt x="545" y="257"/>
                </a:lnTo>
                <a:lnTo>
                  <a:pt x="596" y="281"/>
                </a:lnTo>
                <a:lnTo>
                  <a:pt x="652" y="302"/>
                </a:lnTo>
                <a:lnTo>
                  <a:pt x="710" y="322"/>
                </a:lnTo>
                <a:lnTo>
                  <a:pt x="773" y="340"/>
                </a:lnTo>
                <a:lnTo>
                  <a:pt x="840" y="355"/>
                </a:lnTo>
                <a:lnTo>
                  <a:pt x="912" y="368"/>
                </a:lnTo>
                <a:lnTo>
                  <a:pt x="988" y="376"/>
                </a:lnTo>
                <a:lnTo>
                  <a:pt x="1069" y="381"/>
                </a:lnTo>
                <a:lnTo>
                  <a:pt x="1155" y="381"/>
                </a:lnTo>
                <a:lnTo>
                  <a:pt x="1244" y="378"/>
                </a:lnTo>
                <a:lnTo>
                  <a:pt x="1338" y="369"/>
                </a:lnTo>
                <a:lnTo>
                  <a:pt x="1436" y="355"/>
                </a:lnTo>
                <a:lnTo>
                  <a:pt x="1541" y="335"/>
                </a:lnTo>
                <a:lnTo>
                  <a:pt x="1649" y="309"/>
                </a:lnTo>
                <a:lnTo>
                  <a:pt x="1762" y="276"/>
                </a:lnTo>
                <a:lnTo>
                  <a:pt x="1880" y="236"/>
                </a:lnTo>
                <a:lnTo>
                  <a:pt x="2004" y="190"/>
                </a:lnTo>
                <a:lnTo>
                  <a:pt x="2132" y="136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未知"/>
          <p:cNvSpPr/>
          <p:nvPr/>
        </p:nvSpPr>
        <p:spPr>
          <a:xfrm>
            <a:off x="1073160" y="3701880"/>
            <a:ext cx="1008000" cy="1460520"/>
          </a:xfrm>
          <a:custGeom>
            <a:avLst/>
            <a:gdLst/>
            <a:ahLst/>
            <a:rect l="l" t="t" r="r" b="b"/>
            <a:pathLst>
              <a:path w="2539" h="3677">
                <a:moveTo>
                  <a:pt x="248" y="0"/>
                </a:moveTo>
                <a:lnTo>
                  <a:pt x="243" y="1"/>
                </a:lnTo>
                <a:lnTo>
                  <a:pt x="238" y="2"/>
                </a:lnTo>
                <a:lnTo>
                  <a:pt x="234" y="5"/>
                </a:lnTo>
                <a:lnTo>
                  <a:pt x="231" y="8"/>
                </a:lnTo>
                <a:lnTo>
                  <a:pt x="227" y="12"/>
                </a:lnTo>
                <a:lnTo>
                  <a:pt x="225" y="16"/>
                </a:lnTo>
                <a:lnTo>
                  <a:pt x="222" y="19"/>
                </a:lnTo>
                <a:lnTo>
                  <a:pt x="220" y="24"/>
                </a:lnTo>
                <a:lnTo>
                  <a:pt x="177" y="163"/>
                </a:lnTo>
                <a:lnTo>
                  <a:pt x="171" y="175"/>
                </a:lnTo>
                <a:lnTo>
                  <a:pt x="167" y="187"/>
                </a:lnTo>
                <a:lnTo>
                  <a:pt x="164" y="199"/>
                </a:lnTo>
                <a:lnTo>
                  <a:pt x="160" y="211"/>
                </a:lnTo>
                <a:lnTo>
                  <a:pt x="157" y="223"/>
                </a:lnTo>
                <a:lnTo>
                  <a:pt x="156" y="234"/>
                </a:lnTo>
                <a:lnTo>
                  <a:pt x="155" y="247"/>
                </a:lnTo>
                <a:lnTo>
                  <a:pt x="155" y="258"/>
                </a:lnTo>
                <a:lnTo>
                  <a:pt x="155" y="269"/>
                </a:lnTo>
                <a:lnTo>
                  <a:pt x="156" y="280"/>
                </a:lnTo>
                <a:lnTo>
                  <a:pt x="157" y="291"/>
                </a:lnTo>
                <a:lnTo>
                  <a:pt x="160" y="301"/>
                </a:lnTo>
                <a:lnTo>
                  <a:pt x="162" y="312"/>
                </a:lnTo>
                <a:lnTo>
                  <a:pt x="166" y="323"/>
                </a:lnTo>
                <a:lnTo>
                  <a:pt x="171" y="333"/>
                </a:lnTo>
                <a:lnTo>
                  <a:pt x="176" y="343"/>
                </a:lnTo>
                <a:lnTo>
                  <a:pt x="181" y="354"/>
                </a:lnTo>
                <a:lnTo>
                  <a:pt x="187" y="363"/>
                </a:lnTo>
                <a:lnTo>
                  <a:pt x="195" y="373"/>
                </a:lnTo>
                <a:lnTo>
                  <a:pt x="202" y="382"/>
                </a:lnTo>
                <a:lnTo>
                  <a:pt x="218" y="398"/>
                </a:lnTo>
                <a:lnTo>
                  <a:pt x="234" y="414"/>
                </a:lnTo>
                <a:lnTo>
                  <a:pt x="218" y="415"/>
                </a:lnTo>
                <a:lnTo>
                  <a:pt x="202" y="419"/>
                </a:lnTo>
                <a:lnTo>
                  <a:pt x="187" y="423"/>
                </a:lnTo>
                <a:lnTo>
                  <a:pt x="174" y="428"/>
                </a:lnTo>
                <a:lnTo>
                  <a:pt x="161" y="435"/>
                </a:lnTo>
                <a:lnTo>
                  <a:pt x="151" y="443"/>
                </a:lnTo>
                <a:lnTo>
                  <a:pt x="141" y="451"/>
                </a:lnTo>
                <a:lnTo>
                  <a:pt x="134" y="461"/>
                </a:lnTo>
                <a:lnTo>
                  <a:pt x="128" y="474"/>
                </a:lnTo>
                <a:lnTo>
                  <a:pt x="123" y="487"/>
                </a:lnTo>
                <a:lnTo>
                  <a:pt x="120" y="501"/>
                </a:lnTo>
                <a:lnTo>
                  <a:pt x="120" y="516"/>
                </a:lnTo>
                <a:lnTo>
                  <a:pt x="120" y="526"/>
                </a:lnTo>
                <a:lnTo>
                  <a:pt x="121" y="536"/>
                </a:lnTo>
                <a:lnTo>
                  <a:pt x="123" y="546"/>
                </a:lnTo>
                <a:lnTo>
                  <a:pt x="125" y="555"/>
                </a:lnTo>
                <a:lnTo>
                  <a:pt x="131" y="577"/>
                </a:lnTo>
                <a:lnTo>
                  <a:pt x="140" y="599"/>
                </a:lnTo>
                <a:lnTo>
                  <a:pt x="150" y="620"/>
                </a:lnTo>
                <a:lnTo>
                  <a:pt x="161" y="642"/>
                </a:lnTo>
                <a:lnTo>
                  <a:pt x="175" y="665"/>
                </a:lnTo>
                <a:lnTo>
                  <a:pt x="189" y="687"/>
                </a:lnTo>
                <a:lnTo>
                  <a:pt x="162" y="681"/>
                </a:lnTo>
                <a:lnTo>
                  <a:pt x="139" y="677"/>
                </a:lnTo>
                <a:lnTo>
                  <a:pt x="128" y="676"/>
                </a:lnTo>
                <a:lnTo>
                  <a:pt x="116" y="677"/>
                </a:lnTo>
                <a:lnTo>
                  <a:pt x="105" y="680"/>
                </a:lnTo>
                <a:lnTo>
                  <a:pt x="95" y="683"/>
                </a:lnTo>
                <a:lnTo>
                  <a:pt x="80" y="692"/>
                </a:lnTo>
                <a:lnTo>
                  <a:pt x="68" y="702"/>
                </a:lnTo>
                <a:lnTo>
                  <a:pt x="57" y="713"/>
                </a:lnTo>
                <a:lnTo>
                  <a:pt x="46" y="727"/>
                </a:lnTo>
                <a:lnTo>
                  <a:pt x="37" y="742"/>
                </a:lnTo>
                <a:lnTo>
                  <a:pt x="30" y="756"/>
                </a:lnTo>
                <a:lnTo>
                  <a:pt x="23" y="774"/>
                </a:lnTo>
                <a:lnTo>
                  <a:pt x="17" y="791"/>
                </a:lnTo>
                <a:lnTo>
                  <a:pt x="12" y="810"/>
                </a:lnTo>
                <a:lnTo>
                  <a:pt x="8" y="828"/>
                </a:lnTo>
                <a:lnTo>
                  <a:pt x="6" y="847"/>
                </a:lnTo>
                <a:lnTo>
                  <a:pt x="3" y="866"/>
                </a:lnTo>
                <a:lnTo>
                  <a:pt x="0" y="903"/>
                </a:lnTo>
                <a:lnTo>
                  <a:pt x="0" y="939"/>
                </a:lnTo>
                <a:lnTo>
                  <a:pt x="0" y="969"/>
                </a:lnTo>
                <a:lnTo>
                  <a:pt x="1" y="995"/>
                </a:lnTo>
                <a:lnTo>
                  <a:pt x="3" y="1017"/>
                </a:lnTo>
                <a:lnTo>
                  <a:pt x="5" y="1032"/>
                </a:lnTo>
                <a:lnTo>
                  <a:pt x="5" y="1044"/>
                </a:lnTo>
                <a:lnTo>
                  <a:pt x="5" y="1057"/>
                </a:lnTo>
                <a:lnTo>
                  <a:pt x="6" y="1113"/>
                </a:lnTo>
                <a:lnTo>
                  <a:pt x="12" y="1166"/>
                </a:lnTo>
                <a:lnTo>
                  <a:pt x="22" y="1218"/>
                </a:lnTo>
                <a:lnTo>
                  <a:pt x="36" y="1268"/>
                </a:lnTo>
                <a:lnTo>
                  <a:pt x="53" y="1316"/>
                </a:lnTo>
                <a:lnTo>
                  <a:pt x="73" y="1363"/>
                </a:lnTo>
                <a:lnTo>
                  <a:pt x="95" y="1408"/>
                </a:lnTo>
                <a:lnTo>
                  <a:pt x="120" y="1450"/>
                </a:lnTo>
                <a:lnTo>
                  <a:pt x="149" y="1492"/>
                </a:lnTo>
                <a:lnTo>
                  <a:pt x="179" y="1532"/>
                </a:lnTo>
                <a:lnTo>
                  <a:pt x="210" y="1569"/>
                </a:lnTo>
                <a:lnTo>
                  <a:pt x="243" y="1605"/>
                </a:lnTo>
                <a:lnTo>
                  <a:pt x="278" y="1640"/>
                </a:lnTo>
                <a:lnTo>
                  <a:pt x="314" y="1672"/>
                </a:lnTo>
                <a:lnTo>
                  <a:pt x="350" y="1703"/>
                </a:lnTo>
                <a:lnTo>
                  <a:pt x="387" y="1733"/>
                </a:lnTo>
                <a:lnTo>
                  <a:pt x="424" y="1760"/>
                </a:lnTo>
                <a:lnTo>
                  <a:pt x="463" y="1786"/>
                </a:lnTo>
                <a:lnTo>
                  <a:pt x="500" y="1811"/>
                </a:lnTo>
                <a:lnTo>
                  <a:pt x="537" y="1835"/>
                </a:lnTo>
                <a:lnTo>
                  <a:pt x="573" y="1856"/>
                </a:lnTo>
                <a:lnTo>
                  <a:pt x="609" y="1876"/>
                </a:lnTo>
                <a:lnTo>
                  <a:pt x="644" y="1894"/>
                </a:lnTo>
                <a:lnTo>
                  <a:pt x="678" y="1910"/>
                </a:lnTo>
                <a:lnTo>
                  <a:pt x="740" y="1939"/>
                </a:lnTo>
                <a:lnTo>
                  <a:pt x="793" y="1962"/>
                </a:lnTo>
                <a:lnTo>
                  <a:pt x="837" y="1980"/>
                </a:lnTo>
                <a:lnTo>
                  <a:pt x="868" y="1991"/>
                </a:lnTo>
                <a:lnTo>
                  <a:pt x="865" y="2015"/>
                </a:lnTo>
                <a:lnTo>
                  <a:pt x="864" y="2037"/>
                </a:lnTo>
                <a:lnTo>
                  <a:pt x="862" y="2060"/>
                </a:lnTo>
                <a:lnTo>
                  <a:pt x="862" y="2084"/>
                </a:lnTo>
                <a:lnTo>
                  <a:pt x="864" y="2150"/>
                </a:lnTo>
                <a:lnTo>
                  <a:pt x="870" y="2217"/>
                </a:lnTo>
                <a:lnTo>
                  <a:pt x="879" y="2283"/>
                </a:lnTo>
                <a:lnTo>
                  <a:pt x="893" y="2350"/>
                </a:lnTo>
                <a:lnTo>
                  <a:pt x="909" y="2418"/>
                </a:lnTo>
                <a:lnTo>
                  <a:pt x="929" y="2485"/>
                </a:lnTo>
                <a:lnTo>
                  <a:pt x="950" y="2552"/>
                </a:lnTo>
                <a:lnTo>
                  <a:pt x="975" y="2619"/>
                </a:lnTo>
                <a:lnTo>
                  <a:pt x="1001" y="2686"/>
                </a:lnTo>
                <a:lnTo>
                  <a:pt x="1029" y="2751"/>
                </a:lnTo>
                <a:lnTo>
                  <a:pt x="1060" y="2816"/>
                </a:lnTo>
                <a:lnTo>
                  <a:pt x="1091" y="2879"/>
                </a:lnTo>
                <a:lnTo>
                  <a:pt x="1124" y="2943"/>
                </a:lnTo>
                <a:lnTo>
                  <a:pt x="1157" y="3003"/>
                </a:lnTo>
                <a:lnTo>
                  <a:pt x="1192" y="3063"/>
                </a:lnTo>
                <a:lnTo>
                  <a:pt x="1227" y="3121"/>
                </a:lnTo>
                <a:lnTo>
                  <a:pt x="1260" y="3177"/>
                </a:lnTo>
                <a:lnTo>
                  <a:pt x="1295" y="3230"/>
                </a:lnTo>
                <a:lnTo>
                  <a:pt x="1328" y="3283"/>
                </a:lnTo>
                <a:lnTo>
                  <a:pt x="1362" y="3331"/>
                </a:lnTo>
                <a:lnTo>
                  <a:pt x="1425" y="3421"/>
                </a:lnTo>
                <a:lnTo>
                  <a:pt x="1484" y="3500"/>
                </a:lnTo>
                <a:lnTo>
                  <a:pt x="1533" y="3564"/>
                </a:lnTo>
                <a:lnTo>
                  <a:pt x="1573" y="3615"/>
                </a:lnTo>
                <a:lnTo>
                  <a:pt x="1602" y="3649"/>
                </a:lnTo>
                <a:lnTo>
                  <a:pt x="1615" y="3665"/>
                </a:lnTo>
                <a:lnTo>
                  <a:pt x="1619" y="3670"/>
                </a:lnTo>
                <a:lnTo>
                  <a:pt x="1624" y="3673"/>
                </a:lnTo>
                <a:lnTo>
                  <a:pt x="1630" y="3676"/>
                </a:lnTo>
                <a:lnTo>
                  <a:pt x="1636" y="3677"/>
                </a:lnTo>
                <a:lnTo>
                  <a:pt x="1641" y="3677"/>
                </a:lnTo>
                <a:lnTo>
                  <a:pt x="1648" y="3677"/>
                </a:lnTo>
                <a:lnTo>
                  <a:pt x="1654" y="3676"/>
                </a:lnTo>
                <a:lnTo>
                  <a:pt x="1660" y="3673"/>
                </a:lnTo>
                <a:lnTo>
                  <a:pt x="1664" y="3670"/>
                </a:lnTo>
                <a:lnTo>
                  <a:pt x="1667" y="3667"/>
                </a:lnTo>
                <a:lnTo>
                  <a:pt x="1670" y="3663"/>
                </a:lnTo>
                <a:lnTo>
                  <a:pt x="1672" y="3660"/>
                </a:lnTo>
                <a:lnTo>
                  <a:pt x="1676" y="3651"/>
                </a:lnTo>
                <a:lnTo>
                  <a:pt x="1677" y="3641"/>
                </a:lnTo>
                <a:lnTo>
                  <a:pt x="1677" y="3636"/>
                </a:lnTo>
                <a:lnTo>
                  <a:pt x="1676" y="3630"/>
                </a:lnTo>
                <a:lnTo>
                  <a:pt x="1670" y="3610"/>
                </a:lnTo>
                <a:lnTo>
                  <a:pt x="1666" y="3590"/>
                </a:lnTo>
                <a:lnTo>
                  <a:pt x="1664" y="3569"/>
                </a:lnTo>
                <a:lnTo>
                  <a:pt x="1664" y="3548"/>
                </a:lnTo>
                <a:lnTo>
                  <a:pt x="1664" y="3524"/>
                </a:lnTo>
                <a:lnTo>
                  <a:pt x="1666" y="3500"/>
                </a:lnTo>
                <a:lnTo>
                  <a:pt x="1671" y="3475"/>
                </a:lnTo>
                <a:lnTo>
                  <a:pt x="1677" y="3450"/>
                </a:lnTo>
                <a:lnTo>
                  <a:pt x="1684" y="3425"/>
                </a:lnTo>
                <a:lnTo>
                  <a:pt x="1692" y="3400"/>
                </a:lnTo>
                <a:lnTo>
                  <a:pt x="1702" y="3376"/>
                </a:lnTo>
                <a:lnTo>
                  <a:pt x="1713" y="3351"/>
                </a:lnTo>
                <a:lnTo>
                  <a:pt x="1725" y="3327"/>
                </a:lnTo>
                <a:lnTo>
                  <a:pt x="1737" y="3302"/>
                </a:lnTo>
                <a:lnTo>
                  <a:pt x="1751" y="3279"/>
                </a:lnTo>
                <a:lnTo>
                  <a:pt x="1764" y="3255"/>
                </a:lnTo>
                <a:lnTo>
                  <a:pt x="1794" y="3209"/>
                </a:lnTo>
                <a:lnTo>
                  <a:pt x="1824" y="3166"/>
                </a:lnTo>
                <a:lnTo>
                  <a:pt x="1854" y="3126"/>
                </a:lnTo>
                <a:lnTo>
                  <a:pt x="1884" y="3089"/>
                </a:lnTo>
                <a:lnTo>
                  <a:pt x="1911" y="3057"/>
                </a:lnTo>
                <a:lnTo>
                  <a:pt x="1936" y="3029"/>
                </a:lnTo>
                <a:lnTo>
                  <a:pt x="1973" y="2988"/>
                </a:lnTo>
                <a:lnTo>
                  <a:pt x="1988" y="2974"/>
                </a:lnTo>
                <a:lnTo>
                  <a:pt x="2026" y="2944"/>
                </a:lnTo>
                <a:lnTo>
                  <a:pt x="2064" y="2913"/>
                </a:lnTo>
                <a:lnTo>
                  <a:pt x="2098" y="2883"/>
                </a:lnTo>
                <a:lnTo>
                  <a:pt x="2132" y="2852"/>
                </a:lnTo>
                <a:lnTo>
                  <a:pt x="2164" y="2822"/>
                </a:lnTo>
                <a:lnTo>
                  <a:pt x="2194" y="2791"/>
                </a:lnTo>
                <a:lnTo>
                  <a:pt x="2221" y="2760"/>
                </a:lnTo>
                <a:lnTo>
                  <a:pt x="2247" y="2729"/>
                </a:lnTo>
                <a:lnTo>
                  <a:pt x="2272" y="2699"/>
                </a:lnTo>
                <a:lnTo>
                  <a:pt x="2296" y="2668"/>
                </a:lnTo>
                <a:lnTo>
                  <a:pt x="2317" y="2639"/>
                </a:lnTo>
                <a:lnTo>
                  <a:pt x="2337" y="2608"/>
                </a:lnTo>
                <a:lnTo>
                  <a:pt x="2355" y="2578"/>
                </a:lnTo>
                <a:lnTo>
                  <a:pt x="2373" y="2548"/>
                </a:lnTo>
                <a:lnTo>
                  <a:pt x="2389" y="2518"/>
                </a:lnTo>
                <a:lnTo>
                  <a:pt x="2404" y="2488"/>
                </a:lnTo>
                <a:lnTo>
                  <a:pt x="2416" y="2460"/>
                </a:lnTo>
                <a:lnTo>
                  <a:pt x="2429" y="2431"/>
                </a:lnTo>
                <a:lnTo>
                  <a:pt x="2440" y="2403"/>
                </a:lnTo>
                <a:lnTo>
                  <a:pt x="2450" y="2374"/>
                </a:lnTo>
                <a:lnTo>
                  <a:pt x="2458" y="2347"/>
                </a:lnTo>
                <a:lnTo>
                  <a:pt x="2466" y="2320"/>
                </a:lnTo>
                <a:lnTo>
                  <a:pt x="2472" y="2292"/>
                </a:lnTo>
                <a:lnTo>
                  <a:pt x="2478" y="2266"/>
                </a:lnTo>
                <a:lnTo>
                  <a:pt x="2483" y="2240"/>
                </a:lnTo>
                <a:lnTo>
                  <a:pt x="2487" y="2216"/>
                </a:lnTo>
                <a:lnTo>
                  <a:pt x="2491" y="2191"/>
                </a:lnTo>
                <a:lnTo>
                  <a:pt x="2493" y="2167"/>
                </a:lnTo>
                <a:lnTo>
                  <a:pt x="2497" y="2121"/>
                </a:lnTo>
                <a:lnTo>
                  <a:pt x="2498" y="2077"/>
                </a:lnTo>
                <a:lnTo>
                  <a:pt x="2497" y="2028"/>
                </a:lnTo>
                <a:lnTo>
                  <a:pt x="2493" y="1984"/>
                </a:lnTo>
                <a:lnTo>
                  <a:pt x="2488" y="1944"/>
                </a:lnTo>
                <a:lnTo>
                  <a:pt x="2482" y="1912"/>
                </a:lnTo>
                <a:lnTo>
                  <a:pt x="2476" y="1884"/>
                </a:lnTo>
                <a:lnTo>
                  <a:pt x="2471" y="1864"/>
                </a:lnTo>
                <a:lnTo>
                  <a:pt x="2467" y="1852"/>
                </a:lnTo>
                <a:lnTo>
                  <a:pt x="2466" y="1847"/>
                </a:lnTo>
                <a:lnTo>
                  <a:pt x="2462" y="1840"/>
                </a:lnTo>
                <a:lnTo>
                  <a:pt x="2456" y="1833"/>
                </a:lnTo>
                <a:lnTo>
                  <a:pt x="2450" y="1828"/>
                </a:lnTo>
                <a:lnTo>
                  <a:pt x="2441" y="1826"/>
                </a:lnTo>
                <a:lnTo>
                  <a:pt x="2437" y="1825"/>
                </a:lnTo>
                <a:lnTo>
                  <a:pt x="2435" y="1825"/>
                </a:lnTo>
                <a:lnTo>
                  <a:pt x="2447" y="1800"/>
                </a:lnTo>
                <a:lnTo>
                  <a:pt x="2460" y="1776"/>
                </a:lnTo>
                <a:lnTo>
                  <a:pt x="2471" y="1751"/>
                </a:lnTo>
                <a:lnTo>
                  <a:pt x="2481" y="1727"/>
                </a:lnTo>
                <a:lnTo>
                  <a:pt x="2491" y="1703"/>
                </a:lnTo>
                <a:lnTo>
                  <a:pt x="2499" y="1678"/>
                </a:lnTo>
                <a:lnTo>
                  <a:pt x="2507" y="1653"/>
                </a:lnTo>
                <a:lnTo>
                  <a:pt x="2513" y="1630"/>
                </a:lnTo>
                <a:lnTo>
                  <a:pt x="2519" y="1605"/>
                </a:lnTo>
                <a:lnTo>
                  <a:pt x="2524" y="1582"/>
                </a:lnTo>
                <a:lnTo>
                  <a:pt x="2529" y="1557"/>
                </a:lnTo>
                <a:lnTo>
                  <a:pt x="2533" y="1533"/>
                </a:lnTo>
                <a:lnTo>
                  <a:pt x="2535" y="1508"/>
                </a:lnTo>
                <a:lnTo>
                  <a:pt x="2538" y="1485"/>
                </a:lnTo>
                <a:lnTo>
                  <a:pt x="2539" y="1461"/>
                </a:lnTo>
                <a:lnTo>
                  <a:pt x="2539" y="1438"/>
                </a:lnTo>
                <a:lnTo>
                  <a:pt x="2538" y="1404"/>
                </a:lnTo>
                <a:lnTo>
                  <a:pt x="2537" y="1371"/>
                </a:lnTo>
                <a:lnTo>
                  <a:pt x="2533" y="1337"/>
                </a:lnTo>
                <a:lnTo>
                  <a:pt x="2529" y="1305"/>
                </a:lnTo>
                <a:lnTo>
                  <a:pt x="2524" y="1274"/>
                </a:lnTo>
                <a:lnTo>
                  <a:pt x="2518" y="1242"/>
                </a:lnTo>
                <a:lnTo>
                  <a:pt x="2512" y="1212"/>
                </a:lnTo>
                <a:lnTo>
                  <a:pt x="2504" y="1181"/>
                </a:lnTo>
                <a:lnTo>
                  <a:pt x="2497" y="1152"/>
                </a:lnTo>
                <a:lnTo>
                  <a:pt x="2488" y="1122"/>
                </a:lnTo>
                <a:lnTo>
                  <a:pt x="2478" y="1095"/>
                </a:lnTo>
                <a:lnTo>
                  <a:pt x="2468" y="1068"/>
                </a:lnTo>
                <a:lnTo>
                  <a:pt x="2449" y="1016"/>
                </a:lnTo>
                <a:lnTo>
                  <a:pt x="2429" y="969"/>
                </a:lnTo>
                <a:lnTo>
                  <a:pt x="2408" y="924"/>
                </a:lnTo>
                <a:lnTo>
                  <a:pt x="2386" y="885"/>
                </a:lnTo>
                <a:lnTo>
                  <a:pt x="2368" y="851"/>
                </a:lnTo>
                <a:lnTo>
                  <a:pt x="2350" y="821"/>
                </a:lnTo>
                <a:lnTo>
                  <a:pt x="2323" y="779"/>
                </a:lnTo>
                <a:lnTo>
                  <a:pt x="2312" y="761"/>
                </a:lnTo>
                <a:lnTo>
                  <a:pt x="2323" y="737"/>
                </a:lnTo>
                <a:lnTo>
                  <a:pt x="2328" y="725"/>
                </a:lnTo>
                <a:lnTo>
                  <a:pt x="2328" y="724"/>
                </a:lnTo>
                <a:lnTo>
                  <a:pt x="2328" y="722"/>
                </a:lnTo>
                <a:lnTo>
                  <a:pt x="2327" y="701"/>
                </a:lnTo>
                <a:lnTo>
                  <a:pt x="2323" y="680"/>
                </a:lnTo>
                <a:lnTo>
                  <a:pt x="2317" y="658"/>
                </a:lnTo>
                <a:lnTo>
                  <a:pt x="2308" y="637"/>
                </a:lnTo>
                <a:lnTo>
                  <a:pt x="2299" y="616"/>
                </a:lnTo>
                <a:lnTo>
                  <a:pt x="2288" y="596"/>
                </a:lnTo>
                <a:lnTo>
                  <a:pt x="2277" y="577"/>
                </a:lnTo>
                <a:lnTo>
                  <a:pt x="2265" y="558"/>
                </a:lnTo>
                <a:lnTo>
                  <a:pt x="2240" y="526"/>
                </a:lnTo>
                <a:lnTo>
                  <a:pt x="2218" y="498"/>
                </a:lnTo>
                <a:lnTo>
                  <a:pt x="2200" y="479"/>
                </a:lnTo>
                <a:lnTo>
                  <a:pt x="2190" y="469"/>
                </a:lnTo>
                <a:lnTo>
                  <a:pt x="2183" y="464"/>
                </a:lnTo>
                <a:lnTo>
                  <a:pt x="2174" y="462"/>
                </a:lnTo>
                <a:lnTo>
                  <a:pt x="2188" y="446"/>
                </a:lnTo>
                <a:lnTo>
                  <a:pt x="2201" y="431"/>
                </a:lnTo>
                <a:lnTo>
                  <a:pt x="2209" y="423"/>
                </a:lnTo>
                <a:lnTo>
                  <a:pt x="2215" y="415"/>
                </a:lnTo>
                <a:lnTo>
                  <a:pt x="2220" y="407"/>
                </a:lnTo>
                <a:lnTo>
                  <a:pt x="2225" y="398"/>
                </a:lnTo>
                <a:lnTo>
                  <a:pt x="2230" y="385"/>
                </a:lnTo>
                <a:lnTo>
                  <a:pt x="2234" y="373"/>
                </a:lnTo>
                <a:lnTo>
                  <a:pt x="2237" y="361"/>
                </a:lnTo>
                <a:lnTo>
                  <a:pt x="2240" y="348"/>
                </a:lnTo>
                <a:lnTo>
                  <a:pt x="2244" y="323"/>
                </a:lnTo>
                <a:lnTo>
                  <a:pt x="2245" y="300"/>
                </a:lnTo>
                <a:lnTo>
                  <a:pt x="2245" y="285"/>
                </a:lnTo>
                <a:lnTo>
                  <a:pt x="2244" y="269"/>
                </a:lnTo>
                <a:lnTo>
                  <a:pt x="2241" y="254"/>
                </a:lnTo>
                <a:lnTo>
                  <a:pt x="2237" y="240"/>
                </a:lnTo>
                <a:lnTo>
                  <a:pt x="2230" y="216"/>
                </a:lnTo>
                <a:lnTo>
                  <a:pt x="2221" y="193"/>
                </a:lnTo>
                <a:lnTo>
                  <a:pt x="2205" y="161"/>
                </a:lnTo>
                <a:lnTo>
                  <a:pt x="2196" y="147"/>
                </a:lnTo>
                <a:lnTo>
                  <a:pt x="2193" y="144"/>
                </a:lnTo>
                <a:lnTo>
                  <a:pt x="2188" y="140"/>
                </a:lnTo>
                <a:lnTo>
                  <a:pt x="2183" y="136"/>
                </a:lnTo>
                <a:lnTo>
                  <a:pt x="2177" y="135"/>
                </a:lnTo>
                <a:lnTo>
                  <a:pt x="2170" y="134"/>
                </a:lnTo>
                <a:lnTo>
                  <a:pt x="2165" y="134"/>
                </a:lnTo>
                <a:lnTo>
                  <a:pt x="2159" y="135"/>
                </a:lnTo>
                <a:lnTo>
                  <a:pt x="2153" y="136"/>
                </a:lnTo>
                <a:lnTo>
                  <a:pt x="2029" y="189"/>
                </a:lnTo>
                <a:lnTo>
                  <a:pt x="1910" y="235"/>
                </a:lnTo>
                <a:lnTo>
                  <a:pt x="1795" y="274"/>
                </a:lnTo>
                <a:lnTo>
                  <a:pt x="1686" y="305"/>
                </a:lnTo>
                <a:lnTo>
                  <a:pt x="1581" y="331"/>
                </a:lnTo>
                <a:lnTo>
                  <a:pt x="1480" y="351"/>
                </a:lnTo>
                <a:lnTo>
                  <a:pt x="1384" y="364"/>
                </a:lnTo>
                <a:lnTo>
                  <a:pt x="1292" y="373"/>
                </a:lnTo>
                <a:lnTo>
                  <a:pt x="1206" y="378"/>
                </a:lnTo>
                <a:lnTo>
                  <a:pt x="1122" y="378"/>
                </a:lnTo>
                <a:lnTo>
                  <a:pt x="1044" y="373"/>
                </a:lnTo>
                <a:lnTo>
                  <a:pt x="970" y="366"/>
                </a:lnTo>
                <a:lnTo>
                  <a:pt x="900" y="354"/>
                </a:lnTo>
                <a:lnTo>
                  <a:pt x="834" y="341"/>
                </a:lnTo>
                <a:lnTo>
                  <a:pt x="772" y="323"/>
                </a:lnTo>
                <a:lnTo>
                  <a:pt x="714" y="305"/>
                </a:lnTo>
                <a:lnTo>
                  <a:pt x="660" y="285"/>
                </a:lnTo>
                <a:lnTo>
                  <a:pt x="609" y="263"/>
                </a:lnTo>
                <a:lnTo>
                  <a:pt x="564" y="239"/>
                </a:lnTo>
                <a:lnTo>
                  <a:pt x="521" y="216"/>
                </a:lnTo>
                <a:lnTo>
                  <a:pt x="483" y="192"/>
                </a:lnTo>
                <a:lnTo>
                  <a:pt x="447" y="168"/>
                </a:lnTo>
                <a:lnTo>
                  <a:pt x="416" y="145"/>
                </a:lnTo>
                <a:lnTo>
                  <a:pt x="387" y="122"/>
                </a:lnTo>
                <a:lnTo>
                  <a:pt x="364" y="100"/>
                </a:lnTo>
                <a:lnTo>
                  <a:pt x="342" y="80"/>
                </a:lnTo>
                <a:lnTo>
                  <a:pt x="324" y="63"/>
                </a:lnTo>
                <a:lnTo>
                  <a:pt x="310" y="47"/>
                </a:lnTo>
                <a:lnTo>
                  <a:pt x="290" y="24"/>
                </a:lnTo>
                <a:lnTo>
                  <a:pt x="283" y="15"/>
                </a:lnTo>
                <a:lnTo>
                  <a:pt x="280" y="11"/>
                </a:lnTo>
                <a:lnTo>
                  <a:pt x="277" y="7"/>
                </a:lnTo>
                <a:lnTo>
                  <a:pt x="272" y="5"/>
                </a:lnTo>
                <a:lnTo>
                  <a:pt x="268" y="2"/>
                </a:lnTo>
                <a:lnTo>
                  <a:pt x="263" y="1"/>
                </a:lnTo>
                <a:lnTo>
                  <a:pt x="258" y="0"/>
                </a:lnTo>
                <a:lnTo>
                  <a:pt x="253" y="0"/>
                </a:lnTo>
                <a:lnTo>
                  <a:pt x="248" y="0"/>
                </a:lnTo>
                <a:close/>
                <a:moveTo>
                  <a:pt x="869" y="1966"/>
                </a:moveTo>
                <a:lnTo>
                  <a:pt x="869" y="1964"/>
                </a:lnTo>
                <a:lnTo>
                  <a:pt x="870" y="1961"/>
                </a:lnTo>
                <a:lnTo>
                  <a:pt x="869" y="1964"/>
                </a:lnTo>
                <a:lnTo>
                  <a:pt x="869" y="1966"/>
                </a:lnTo>
                <a:lnTo>
                  <a:pt x="869" y="1966"/>
                </a:lnTo>
                <a:close/>
                <a:moveTo>
                  <a:pt x="239" y="311"/>
                </a:moveTo>
                <a:lnTo>
                  <a:pt x="233" y="299"/>
                </a:lnTo>
                <a:lnTo>
                  <a:pt x="229" y="285"/>
                </a:lnTo>
                <a:lnTo>
                  <a:pt x="227" y="273"/>
                </a:lnTo>
                <a:lnTo>
                  <a:pt x="227" y="258"/>
                </a:lnTo>
                <a:lnTo>
                  <a:pt x="227" y="242"/>
                </a:lnTo>
                <a:lnTo>
                  <a:pt x="231" y="224"/>
                </a:lnTo>
                <a:lnTo>
                  <a:pt x="236" y="207"/>
                </a:lnTo>
                <a:lnTo>
                  <a:pt x="243" y="188"/>
                </a:lnTo>
                <a:lnTo>
                  <a:pt x="246" y="181"/>
                </a:lnTo>
                <a:lnTo>
                  <a:pt x="252" y="162"/>
                </a:lnTo>
                <a:lnTo>
                  <a:pt x="259" y="136"/>
                </a:lnTo>
                <a:lnTo>
                  <a:pt x="269" y="106"/>
                </a:lnTo>
                <a:lnTo>
                  <a:pt x="284" y="122"/>
                </a:lnTo>
                <a:lnTo>
                  <a:pt x="302" y="140"/>
                </a:lnTo>
                <a:lnTo>
                  <a:pt x="321" y="158"/>
                </a:lnTo>
                <a:lnTo>
                  <a:pt x="345" y="178"/>
                </a:lnTo>
                <a:lnTo>
                  <a:pt x="370" y="198"/>
                </a:lnTo>
                <a:lnTo>
                  <a:pt x="398" y="219"/>
                </a:lnTo>
                <a:lnTo>
                  <a:pt x="428" y="242"/>
                </a:lnTo>
                <a:lnTo>
                  <a:pt x="462" y="263"/>
                </a:lnTo>
                <a:lnTo>
                  <a:pt x="498" y="284"/>
                </a:lnTo>
                <a:lnTo>
                  <a:pt x="536" y="305"/>
                </a:lnTo>
                <a:lnTo>
                  <a:pt x="577" y="326"/>
                </a:lnTo>
                <a:lnTo>
                  <a:pt x="622" y="346"/>
                </a:lnTo>
                <a:lnTo>
                  <a:pt x="669" y="364"/>
                </a:lnTo>
                <a:lnTo>
                  <a:pt x="719" y="382"/>
                </a:lnTo>
                <a:lnTo>
                  <a:pt x="772" y="398"/>
                </a:lnTo>
                <a:lnTo>
                  <a:pt x="828" y="412"/>
                </a:lnTo>
                <a:lnTo>
                  <a:pt x="886" y="424"/>
                </a:lnTo>
                <a:lnTo>
                  <a:pt x="948" y="434"/>
                </a:lnTo>
                <a:lnTo>
                  <a:pt x="1013" y="441"/>
                </a:lnTo>
                <a:lnTo>
                  <a:pt x="1081" y="446"/>
                </a:lnTo>
                <a:lnTo>
                  <a:pt x="1152" y="449"/>
                </a:lnTo>
                <a:lnTo>
                  <a:pt x="1227" y="448"/>
                </a:lnTo>
                <a:lnTo>
                  <a:pt x="1305" y="443"/>
                </a:lnTo>
                <a:lnTo>
                  <a:pt x="1386" y="435"/>
                </a:lnTo>
                <a:lnTo>
                  <a:pt x="1469" y="423"/>
                </a:lnTo>
                <a:lnTo>
                  <a:pt x="1557" y="407"/>
                </a:lnTo>
                <a:lnTo>
                  <a:pt x="1648" y="387"/>
                </a:lnTo>
                <a:lnTo>
                  <a:pt x="1742" y="362"/>
                </a:lnTo>
                <a:lnTo>
                  <a:pt x="1839" y="333"/>
                </a:lnTo>
                <a:lnTo>
                  <a:pt x="1939" y="299"/>
                </a:lnTo>
                <a:lnTo>
                  <a:pt x="2044" y="259"/>
                </a:lnTo>
                <a:lnTo>
                  <a:pt x="2152" y="214"/>
                </a:lnTo>
                <a:lnTo>
                  <a:pt x="2159" y="229"/>
                </a:lnTo>
                <a:lnTo>
                  <a:pt x="2167" y="249"/>
                </a:lnTo>
                <a:lnTo>
                  <a:pt x="2169" y="260"/>
                </a:lnTo>
                <a:lnTo>
                  <a:pt x="2172" y="273"/>
                </a:lnTo>
                <a:lnTo>
                  <a:pt x="2173" y="286"/>
                </a:lnTo>
                <a:lnTo>
                  <a:pt x="2174" y="300"/>
                </a:lnTo>
                <a:lnTo>
                  <a:pt x="2173" y="317"/>
                </a:lnTo>
                <a:lnTo>
                  <a:pt x="2170" y="335"/>
                </a:lnTo>
                <a:lnTo>
                  <a:pt x="2165" y="352"/>
                </a:lnTo>
                <a:lnTo>
                  <a:pt x="2159" y="371"/>
                </a:lnTo>
                <a:lnTo>
                  <a:pt x="2154" y="382"/>
                </a:lnTo>
                <a:lnTo>
                  <a:pt x="2148" y="392"/>
                </a:lnTo>
                <a:lnTo>
                  <a:pt x="2142" y="402"/>
                </a:lnTo>
                <a:lnTo>
                  <a:pt x="2134" y="413"/>
                </a:lnTo>
                <a:lnTo>
                  <a:pt x="2126" y="424"/>
                </a:lnTo>
                <a:lnTo>
                  <a:pt x="2116" y="434"/>
                </a:lnTo>
                <a:lnTo>
                  <a:pt x="2106" y="445"/>
                </a:lnTo>
                <a:lnTo>
                  <a:pt x="2095" y="456"/>
                </a:lnTo>
                <a:lnTo>
                  <a:pt x="2081" y="467"/>
                </a:lnTo>
                <a:lnTo>
                  <a:pt x="2067" y="479"/>
                </a:lnTo>
                <a:lnTo>
                  <a:pt x="2052" y="488"/>
                </a:lnTo>
                <a:lnTo>
                  <a:pt x="2035" y="500"/>
                </a:lnTo>
                <a:lnTo>
                  <a:pt x="2018" y="511"/>
                </a:lnTo>
                <a:lnTo>
                  <a:pt x="1998" y="522"/>
                </a:lnTo>
                <a:lnTo>
                  <a:pt x="1977" y="533"/>
                </a:lnTo>
                <a:lnTo>
                  <a:pt x="1954" y="543"/>
                </a:lnTo>
                <a:lnTo>
                  <a:pt x="1931" y="554"/>
                </a:lnTo>
                <a:lnTo>
                  <a:pt x="1905" y="564"/>
                </a:lnTo>
                <a:lnTo>
                  <a:pt x="1877" y="574"/>
                </a:lnTo>
                <a:lnTo>
                  <a:pt x="1849" y="584"/>
                </a:lnTo>
                <a:lnTo>
                  <a:pt x="1818" y="594"/>
                </a:lnTo>
                <a:lnTo>
                  <a:pt x="1785" y="604"/>
                </a:lnTo>
                <a:lnTo>
                  <a:pt x="1751" y="614"/>
                </a:lnTo>
                <a:lnTo>
                  <a:pt x="1715" y="622"/>
                </a:lnTo>
                <a:lnTo>
                  <a:pt x="1676" y="631"/>
                </a:lnTo>
                <a:lnTo>
                  <a:pt x="1636" y="640"/>
                </a:lnTo>
                <a:lnTo>
                  <a:pt x="1593" y="649"/>
                </a:lnTo>
                <a:lnTo>
                  <a:pt x="1548" y="656"/>
                </a:lnTo>
                <a:lnTo>
                  <a:pt x="1502" y="663"/>
                </a:lnTo>
                <a:lnTo>
                  <a:pt x="1453" y="670"/>
                </a:lnTo>
                <a:lnTo>
                  <a:pt x="1402" y="677"/>
                </a:lnTo>
                <a:lnTo>
                  <a:pt x="1348" y="683"/>
                </a:lnTo>
                <a:lnTo>
                  <a:pt x="1341" y="685"/>
                </a:lnTo>
                <a:lnTo>
                  <a:pt x="1336" y="687"/>
                </a:lnTo>
                <a:lnTo>
                  <a:pt x="1330" y="691"/>
                </a:lnTo>
                <a:lnTo>
                  <a:pt x="1325" y="694"/>
                </a:lnTo>
                <a:lnTo>
                  <a:pt x="1321" y="699"/>
                </a:lnTo>
                <a:lnTo>
                  <a:pt x="1319" y="706"/>
                </a:lnTo>
                <a:lnTo>
                  <a:pt x="1317" y="712"/>
                </a:lnTo>
                <a:lnTo>
                  <a:pt x="1316" y="718"/>
                </a:lnTo>
                <a:lnTo>
                  <a:pt x="1316" y="719"/>
                </a:lnTo>
                <a:lnTo>
                  <a:pt x="1316" y="720"/>
                </a:lnTo>
                <a:lnTo>
                  <a:pt x="1317" y="728"/>
                </a:lnTo>
                <a:lnTo>
                  <a:pt x="1320" y="734"/>
                </a:lnTo>
                <a:lnTo>
                  <a:pt x="1323" y="739"/>
                </a:lnTo>
                <a:lnTo>
                  <a:pt x="1327" y="744"/>
                </a:lnTo>
                <a:lnTo>
                  <a:pt x="1332" y="749"/>
                </a:lnTo>
                <a:lnTo>
                  <a:pt x="1338" y="751"/>
                </a:lnTo>
                <a:lnTo>
                  <a:pt x="1345" y="754"/>
                </a:lnTo>
                <a:lnTo>
                  <a:pt x="1352" y="754"/>
                </a:lnTo>
                <a:lnTo>
                  <a:pt x="1381" y="754"/>
                </a:lnTo>
                <a:lnTo>
                  <a:pt x="1446" y="750"/>
                </a:lnTo>
                <a:lnTo>
                  <a:pt x="1490" y="747"/>
                </a:lnTo>
                <a:lnTo>
                  <a:pt x="1540" y="742"/>
                </a:lnTo>
                <a:lnTo>
                  <a:pt x="1595" y="735"/>
                </a:lnTo>
                <a:lnTo>
                  <a:pt x="1654" y="725"/>
                </a:lnTo>
                <a:lnTo>
                  <a:pt x="1717" y="714"/>
                </a:lnTo>
                <a:lnTo>
                  <a:pt x="1782" y="701"/>
                </a:lnTo>
                <a:lnTo>
                  <a:pt x="1814" y="692"/>
                </a:lnTo>
                <a:lnTo>
                  <a:pt x="1846" y="683"/>
                </a:lnTo>
                <a:lnTo>
                  <a:pt x="1880" y="673"/>
                </a:lnTo>
                <a:lnTo>
                  <a:pt x="1913" y="662"/>
                </a:lnTo>
                <a:lnTo>
                  <a:pt x="1946" y="651"/>
                </a:lnTo>
                <a:lnTo>
                  <a:pt x="1978" y="639"/>
                </a:lnTo>
                <a:lnTo>
                  <a:pt x="2009" y="625"/>
                </a:lnTo>
                <a:lnTo>
                  <a:pt x="2041" y="610"/>
                </a:lnTo>
                <a:lnTo>
                  <a:pt x="2071" y="594"/>
                </a:lnTo>
                <a:lnTo>
                  <a:pt x="2101" y="578"/>
                </a:lnTo>
                <a:lnTo>
                  <a:pt x="2131" y="560"/>
                </a:lnTo>
                <a:lnTo>
                  <a:pt x="2158" y="541"/>
                </a:lnTo>
                <a:lnTo>
                  <a:pt x="2173" y="558"/>
                </a:lnTo>
                <a:lnTo>
                  <a:pt x="2189" y="578"/>
                </a:lnTo>
                <a:lnTo>
                  <a:pt x="2206" y="600"/>
                </a:lnTo>
                <a:lnTo>
                  <a:pt x="2221" y="624"/>
                </a:lnTo>
                <a:lnTo>
                  <a:pt x="2229" y="636"/>
                </a:lnTo>
                <a:lnTo>
                  <a:pt x="2235" y="649"/>
                </a:lnTo>
                <a:lnTo>
                  <a:pt x="2241" y="661"/>
                </a:lnTo>
                <a:lnTo>
                  <a:pt x="2246" y="673"/>
                </a:lnTo>
                <a:lnTo>
                  <a:pt x="2251" y="686"/>
                </a:lnTo>
                <a:lnTo>
                  <a:pt x="2254" y="698"/>
                </a:lnTo>
                <a:lnTo>
                  <a:pt x="2256" y="709"/>
                </a:lnTo>
                <a:lnTo>
                  <a:pt x="2257" y="722"/>
                </a:lnTo>
                <a:lnTo>
                  <a:pt x="2257" y="723"/>
                </a:lnTo>
                <a:lnTo>
                  <a:pt x="2257" y="724"/>
                </a:lnTo>
                <a:lnTo>
                  <a:pt x="2237" y="766"/>
                </a:lnTo>
                <a:lnTo>
                  <a:pt x="2221" y="778"/>
                </a:lnTo>
                <a:lnTo>
                  <a:pt x="2175" y="806"/>
                </a:lnTo>
                <a:lnTo>
                  <a:pt x="2143" y="825"/>
                </a:lnTo>
                <a:lnTo>
                  <a:pt x="2105" y="847"/>
                </a:lnTo>
                <a:lnTo>
                  <a:pt x="2061" y="869"/>
                </a:lnTo>
                <a:lnTo>
                  <a:pt x="2013" y="894"/>
                </a:lnTo>
                <a:lnTo>
                  <a:pt x="1959" y="919"/>
                </a:lnTo>
                <a:lnTo>
                  <a:pt x="1903" y="944"/>
                </a:lnTo>
                <a:lnTo>
                  <a:pt x="1874" y="955"/>
                </a:lnTo>
                <a:lnTo>
                  <a:pt x="1843" y="967"/>
                </a:lnTo>
                <a:lnTo>
                  <a:pt x="1811" y="979"/>
                </a:lnTo>
                <a:lnTo>
                  <a:pt x="1780" y="988"/>
                </a:lnTo>
                <a:lnTo>
                  <a:pt x="1748" y="998"/>
                </a:lnTo>
                <a:lnTo>
                  <a:pt x="1715" y="1008"/>
                </a:lnTo>
                <a:lnTo>
                  <a:pt x="1682" y="1017"/>
                </a:lnTo>
                <a:lnTo>
                  <a:pt x="1649" y="1024"/>
                </a:lnTo>
                <a:lnTo>
                  <a:pt x="1614" y="1032"/>
                </a:lnTo>
                <a:lnTo>
                  <a:pt x="1581" y="1037"/>
                </a:lnTo>
                <a:lnTo>
                  <a:pt x="1546" y="1042"/>
                </a:lnTo>
                <a:lnTo>
                  <a:pt x="1511" y="1046"/>
                </a:lnTo>
                <a:lnTo>
                  <a:pt x="1504" y="1047"/>
                </a:lnTo>
                <a:lnTo>
                  <a:pt x="1497" y="1049"/>
                </a:lnTo>
                <a:lnTo>
                  <a:pt x="1492" y="1052"/>
                </a:lnTo>
                <a:lnTo>
                  <a:pt x="1487" y="1057"/>
                </a:lnTo>
                <a:lnTo>
                  <a:pt x="1484" y="1062"/>
                </a:lnTo>
                <a:lnTo>
                  <a:pt x="1481" y="1068"/>
                </a:lnTo>
                <a:lnTo>
                  <a:pt x="1479" y="1074"/>
                </a:lnTo>
                <a:lnTo>
                  <a:pt x="1479" y="1080"/>
                </a:lnTo>
                <a:lnTo>
                  <a:pt x="1479" y="1082"/>
                </a:lnTo>
                <a:lnTo>
                  <a:pt x="1479" y="1083"/>
                </a:lnTo>
                <a:lnTo>
                  <a:pt x="1479" y="1090"/>
                </a:lnTo>
                <a:lnTo>
                  <a:pt x="1481" y="1096"/>
                </a:lnTo>
                <a:lnTo>
                  <a:pt x="1485" y="1101"/>
                </a:lnTo>
                <a:lnTo>
                  <a:pt x="1490" y="1106"/>
                </a:lnTo>
                <a:lnTo>
                  <a:pt x="1495" y="1111"/>
                </a:lnTo>
                <a:lnTo>
                  <a:pt x="1501" y="1114"/>
                </a:lnTo>
                <a:lnTo>
                  <a:pt x="1507" y="1116"/>
                </a:lnTo>
                <a:lnTo>
                  <a:pt x="1515" y="1116"/>
                </a:lnTo>
                <a:lnTo>
                  <a:pt x="1542" y="1115"/>
                </a:lnTo>
                <a:lnTo>
                  <a:pt x="1603" y="1110"/>
                </a:lnTo>
                <a:lnTo>
                  <a:pt x="1644" y="1104"/>
                </a:lnTo>
                <a:lnTo>
                  <a:pt x="1690" y="1096"/>
                </a:lnTo>
                <a:lnTo>
                  <a:pt x="1742" y="1088"/>
                </a:lnTo>
                <a:lnTo>
                  <a:pt x="1798" y="1074"/>
                </a:lnTo>
                <a:lnTo>
                  <a:pt x="1826" y="1068"/>
                </a:lnTo>
                <a:lnTo>
                  <a:pt x="1856" y="1059"/>
                </a:lnTo>
                <a:lnTo>
                  <a:pt x="1886" y="1051"/>
                </a:lnTo>
                <a:lnTo>
                  <a:pt x="1917" y="1041"/>
                </a:lnTo>
                <a:lnTo>
                  <a:pt x="1947" y="1029"/>
                </a:lnTo>
                <a:lnTo>
                  <a:pt x="1978" y="1017"/>
                </a:lnTo>
                <a:lnTo>
                  <a:pt x="2009" y="1005"/>
                </a:lnTo>
                <a:lnTo>
                  <a:pt x="2041" y="991"/>
                </a:lnTo>
                <a:lnTo>
                  <a:pt x="2071" y="975"/>
                </a:lnTo>
                <a:lnTo>
                  <a:pt x="2102" y="959"/>
                </a:lnTo>
                <a:lnTo>
                  <a:pt x="2132" y="941"/>
                </a:lnTo>
                <a:lnTo>
                  <a:pt x="2162" y="923"/>
                </a:lnTo>
                <a:lnTo>
                  <a:pt x="2191" y="903"/>
                </a:lnTo>
                <a:lnTo>
                  <a:pt x="2220" y="882"/>
                </a:lnTo>
                <a:lnTo>
                  <a:pt x="2247" y="858"/>
                </a:lnTo>
                <a:lnTo>
                  <a:pt x="2275" y="835"/>
                </a:lnTo>
                <a:lnTo>
                  <a:pt x="2297" y="869"/>
                </a:lnTo>
                <a:lnTo>
                  <a:pt x="2326" y="919"/>
                </a:lnTo>
                <a:lnTo>
                  <a:pt x="2342" y="949"/>
                </a:lnTo>
                <a:lnTo>
                  <a:pt x="2358" y="981"/>
                </a:lnTo>
                <a:lnTo>
                  <a:pt x="2375" y="1016"/>
                </a:lnTo>
                <a:lnTo>
                  <a:pt x="2391" y="1053"/>
                </a:lnTo>
                <a:lnTo>
                  <a:pt x="2408" y="1094"/>
                </a:lnTo>
                <a:lnTo>
                  <a:pt x="2422" y="1136"/>
                </a:lnTo>
                <a:lnTo>
                  <a:pt x="2435" y="1181"/>
                </a:lnTo>
                <a:lnTo>
                  <a:pt x="2447" y="1228"/>
                </a:lnTo>
                <a:lnTo>
                  <a:pt x="2452" y="1253"/>
                </a:lnTo>
                <a:lnTo>
                  <a:pt x="2457" y="1276"/>
                </a:lnTo>
                <a:lnTo>
                  <a:pt x="2461" y="1302"/>
                </a:lnTo>
                <a:lnTo>
                  <a:pt x="2465" y="1327"/>
                </a:lnTo>
                <a:lnTo>
                  <a:pt x="2467" y="1353"/>
                </a:lnTo>
                <a:lnTo>
                  <a:pt x="2470" y="1379"/>
                </a:lnTo>
                <a:lnTo>
                  <a:pt x="2471" y="1405"/>
                </a:lnTo>
                <a:lnTo>
                  <a:pt x="2471" y="1431"/>
                </a:lnTo>
                <a:lnTo>
                  <a:pt x="2470" y="1470"/>
                </a:lnTo>
                <a:lnTo>
                  <a:pt x="2467" y="1508"/>
                </a:lnTo>
                <a:lnTo>
                  <a:pt x="2462" y="1547"/>
                </a:lnTo>
                <a:lnTo>
                  <a:pt x="2456" y="1586"/>
                </a:lnTo>
                <a:lnTo>
                  <a:pt x="2446" y="1625"/>
                </a:lnTo>
                <a:lnTo>
                  <a:pt x="2434" y="1665"/>
                </a:lnTo>
                <a:lnTo>
                  <a:pt x="2427" y="1683"/>
                </a:lnTo>
                <a:lnTo>
                  <a:pt x="2420" y="1703"/>
                </a:lnTo>
                <a:lnTo>
                  <a:pt x="2411" y="1723"/>
                </a:lnTo>
                <a:lnTo>
                  <a:pt x="2403" y="1743"/>
                </a:lnTo>
                <a:lnTo>
                  <a:pt x="2393" y="1761"/>
                </a:lnTo>
                <a:lnTo>
                  <a:pt x="2383" y="1781"/>
                </a:lnTo>
                <a:lnTo>
                  <a:pt x="2372" y="1801"/>
                </a:lnTo>
                <a:lnTo>
                  <a:pt x="2360" y="1820"/>
                </a:lnTo>
                <a:lnTo>
                  <a:pt x="2348" y="1840"/>
                </a:lnTo>
                <a:lnTo>
                  <a:pt x="2334" y="1858"/>
                </a:lnTo>
                <a:lnTo>
                  <a:pt x="2321" y="1878"/>
                </a:lnTo>
                <a:lnTo>
                  <a:pt x="2306" y="1897"/>
                </a:lnTo>
                <a:lnTo>
                  <a:pt x="2290" y="1917"/>
                </a:lnTo>
                <a:lnTo>
                  <a:pt x="2272" y="1935"/>
                </a:lnTo>
                <a:lnTo>
                  <a:pt x="2255" y="1954"/>
                </a:lnTo>
                <a:lnTo>
                  <a:pt x="2236" y="1972"/>
                </a:lnTo>
                <a:lnTo>
                  <a:pt x="2218" y="1991"/>
                </a:lnTo>
                <a:lnTo>
                  <a:pt x="2198" y="2010"/>
                </a:lnTo>
                <a:lnTo>
                  <a:pt x="2175" y="2027"/>
                </a:lnTo>
                <a:lnTo>
                  <a:pt x="2154" y="2046"/>
                </a:lnTo>
                <a:lnTo>
                  <a:pt x="2153" y="2046"/>
                </a:lnTo>
                <a:lnTo>
                  <a:pt x="2148" y="2052"/>
                </a:lnTo>
                <a:lnTo>
                  <a:pt x="2143" y="2058"/>
                </a:lnTo>
                <a:lnTo>
                  <a:pt x="2141" y="2065"/>
                </a:lnTo>
                <a:lnTo>
                  <a:pt x="2141" y="2073"/>
                </a:lnTo>
                <a:lnTo>
                  <a:pt x="2141" y="2079"/>
                </a:lnTo>
                <a:lnTo>
                  <a:pt x="2142" y="2085"/>
                </a:lnTo>
                <a:lnTo>
                  <a:pt x="2144" y="2090"/>
                </a:lnTo>
                <a:lnTo>
                  <a:pt x="2148" y="2095"/>
                </a:lnTo>
                <a:lnTo>
                  <a:pt x="2153" y="2101"/>
                </a:lnTo>
                <a:lnTo>
                  <a:pt x="2159" y="2105"/>
                </a:lnTo>
                <a:lnTo>
                  <a:pt x="2165" y="2108"/>
                </a:lnTo>
                <a:lnTo>
                  <a:pt x="2172" y="2109"/>
                </a:lnTo>
                <a:lnTo>
                  <a:pt x="2179" y="2109"/>
                </a:lnTo>
                <a:lnTo>
                  <a:pt x="2185" y="2108"/>
                </a:lnTo>
                <a:lnTo>
                  <a:pt x="2191" y="2105"/>
                </a:lnTo>
                <a:lnTo>
                  <a:pt x="2198" y="2101"/>
                </a:lnTo>
                <a:lnTo>
                  <a:pt x="2199" y="2101"/>
                </a:lnTo>
                <a:lnTo>
                  <a:pt x="2199" y="2100"/>
                </a:lnTo>
                <a:lnTo>
                  <a:pt x="2199" y="2100"/>
                </a:lnTo>
                <a:lnTo>
                  <a:pt x="2205" y="2095"/>
                </a:lnTo>
                <a:lnTo>
                  <a:pt x="2224" y="2080"/>
                </a:lnTo>
                <a:lnTo>
                  <a:pt x="2251" y="2058"/>
                </a:lnTo>
                <a:lnTo>
                  <a:pt x="2283" y="2031"/>
                </a:lnTo>
                <a:lnTo>
                  <a:pt x="2318" y="2001"/>
                </a:lnTo>
                <a:lnTo>
                  <a:pt x="2354" y="1971"/>
                </a:lnTo>
                <a:lnTo>
                  <a:pt x="2386" y="1945"/>
                </a:lnTo>
                <a:lnTo>
                  <a:pt x="2412" y="1923"/>
                </a:lnTo>
                <a:lnTo>
                  <a:pt x="2419" y="1952"/>
                </a:lnTo>
                <a:lnTo>
                  <a:pt x="2424" y="1988"/>
                </a:lnTo>
                <a:lnTo>
                  <a:pt x="2426" y="2010"/>
                </a:lnTo>
                <a:lnTo>
                  <a:pt x="2429" y="2032"/>
                </a:lnTo>
                <a:lnTo>
                  <a:pt x="2429" y="2055"/>
                </a:lnTo>
                <a:lnTo>
                  <a:pt x="2430" y="2082"/>
                </a:lnTo>
                <a:lnTo>
                  <a:pt x="2429" y="2121"/>
                </a:lnTo>
                <a:lnTo>
                  <a:pt x="2425" y="2165"/>
                </a:lnTo>
                <a:lnTo>
                  <a:pt x="2422" y="2187"/>
                </a:lnTo>
                <a:lnTo>
                  <a:pt x="2420" y="2209"/>
                </a:lnTo>
                <a:lnTo>
                  <a:pt x="2415" y="2233"/>
                </a:lnTo>
                <a:lnTo>
                  <a:pt x="2411" y="2256"/>
                </a:lnTo>
                <a:lnTo>
                  <a:pt x="2405" y="2280"/>
                </a:lnTo>
                <a:lnTo>
                  <a:pt x="2399" y="2305"/>
                </a:lnTo>
                <a:lnTo>
                  <a:pt x="2391" y="2331"/>
                </a:lnTo>
                <a:lnTo>
                  <a:pt x="2383" y="2356"/>
                </a:lnTo>
                <a:lnTo>
                  <a:pt x="2374" y="2382"/>
                </a:lnTo>
                <a:lnTo>
                  <a:pt x="2363" y="2409"/>
                </a:lnTo>
                <a:lnTo>
                  <a:pt x="2352" y="2435"/>
                </a:lnTo>
                <a:lnTo>
                  <a:pt x="2339" y="2462"/>
                </a:lnTo>
                <a:lnTo>
                  <a:pt x="2324" y="2490"/>
                </a:lnTo>
                <a:lnTo>
                  <a:pt x="2309" y="2518"/>
                </a:lnTo>
                <a:lnTo>
                  <a:pt x="2293" y="2546"/>
                </a:lnTo>
                <a:lnTo>
                  <a:pt x="2276" y="2574"/>
                </a:lnTo>
                <a:lnTo>
                  <a:pt x="2256" y="2603"/>
                </a:lnTo>
                <a:lnTo>
                  <a:pt x="2236" y="2631"/>
                </a:lnTo>
                <a:lnTo>
                  <a:pt x="2214" y="2660"/>
                </a:lnTo>
                <a:lnTo>
                  <a:pt x="2190" y="2688"/>
                </a:lnTo>
                <a:lnTo>
                  <a:pt x="2165" y="2717"/>
                </a:lnTo>
                <a:lnTo>
                  <a:pt x="2138" y="2745"/>
                </a:lnTo>
                <a:lnTo>
                  <a:pt x="2110" y="2775"/>
                </a:lnTo>
                <a:lnTo>
                  <a:pt x="2080" y="2804"/>
                </a:lnTo>
                <a:lnTo>
                  <a:pt x="2047" y="2833"/>
                </a:lnTo>
                <a:lnTo>
                  <a:pt x="2014" y="2862"/>
                </a:lnTo>
                <a:lnTo>
                  <a:pt x="1978" y="2890"/>
                </a:lnTo>
                <a:lnTo>
                  <a:pt x="1941" y="2919"/>
                </a:lnTo>
                <a:lnTo>
                  <a:pt x="1922" y="2939"/>
                </a:lnTo>
                <a:lnTo>
                  <a:pt x="1881" y="2982"/>
                </a:lnTo>
                <a:lnTo>
                  <a:pt x="1856" y="3011"/>
                </a:lnTo>
                <a:lnTo>
                  <a:pt x="1828" y="3046"/>
                </a:lnTo>
                <a:lnTo>
                  <a:pt x="1798" y="3083"/>
                </a:lnTo>
                <a:lnTo>
                  <a:pt x="1768" y="3124"/>
                </a:lnTo>
                <a:lnTo>
                  <a:pt x="1737" y="3168"/>
                </a:lnTo>
                <a:lnTo>
                  <a:pt x="1707" y="3216"/>
                </a:lnTo>
                <a:lnTo>
                  <a:pt x="1692" y="3239"/>
                </a:lnTo>
                <a:lnTo>
                  <a:pt x="1679" y="3264"/>
                </a:lnTo>
                <a:lnTo>
                  <a:pt x="1666" y="3290"/>
                </a:lnTo>
                <a:lnTo>
                  <a:pt x="1654" y="3315"/>
                </a:lnTo>
                <a:lnTo>
                  <a:pt x="1643" y="3341"/>
                </a:lnTo>
                <a:lnTo>
                  <a:pt x="1631" y="3367"/>
                </a:lnTo>
                <a:lnTo>
                  <a:pt x="1623" y="3393"/>
                </a:lnTo>
                <a:lnTo>
                  <a:pt x="1614" y="3420"/>
                </a:lnTo>
                <a:lnTo>
                  <a:pt x="1607" y="3446"/>
                </a:lnTo>
                <a:lnTo>
                  <a:pt x="1602" y="3472"/>
                </a:lnTo>
                <a:lnTo>
                  <a:pt x="1598" y="3500"/>
                </a:lnTo>
                <a:lnTo>
                  <a:pt x="1595" y="3526"/>
                </a:lnTo>
                <a:lnTo>
                  <a:pt x="1557" y="3477"/>
                </a:lnTo>
                <a:lnTo>
                  <a:pt x="1515" y="3419"/>
                </a:lnTo>
                <a:lnTo>
                  <a:pt x="1466" y="3352"/>
                </a:lnTo>
                <a:lnTo>
                  <a:pt x="1414" y="3279"/>
                </a:lnTo>
                <a:lnTo>
                  <a:pt x="1361" y="3197"/>
                </a:lnTo>
                <a:lnTo>
                  <a:pt x="1305" y="3110"/>
                </a:lnTo>
                <a:lnTo>
                  <a:pt x="1278" y="3065"/>
                </a:lnTo>
                <a:lnTo>
                  <a:pt x="1250" y="3018"/>
                </a:lnTo>
                <a:lnTo>
                  <a:pt x="1223" y="2970"/>
                </a:lnTo>
                <a:lnTo>
                  <a:pt x="1196" y="2921"/>
                </a:lnTo>
                <a:lnTo>
                  <a:pt x="1170" y="2872"/>
                </a:lnTo>
                <a:lnTo>
                  <a:pt x="1143" y="2821"/>
                </a:lnTo>
                <a:lnTo>
                  <a:pt x="1119" y="2770"/>
                </a:lnTo>
                <a:lnTo>
                  <a:pt x="1094" y="2718"/>
                </a:lnTo>
                <a:lnTo>
                  <a:pt x="1071" y="2666"/>
                </a:lnTo>
                <a:lnTo>
                  <a:pt x="1050" y="2613"/>
                </a:lnTo>
                <a:lnTo>
                  <a:pt x="1029" y="2559"/>
                </a:lnTo>
                <a:lnTo>
                  <a:pt x="1011" y="2506"/>
                </a:lnTo>
                <a:lnTo>
                  <a:pt x="993" y="2452"/>
                </a:lnTo>
                <a:lnTo>
                  <a:pt x="978" y="2399"/>
                </a:lnTo>
                <a:lnTo>
                  <a:pt x="965" y="2346"/>
                </a:lnTo>
                <a:lnTo>
                  <a:pt x="953" y="2292"/>
                </a:lnTo>
                <a:lnTo>
                  <a:pt x="945" y="2239"/>
                </a:lnTo>
                <a:lnTo>
                  <a:pt x="939" y="2187"/>
                </a:lnTo>
                <a:lnTo>
                  <a:pt x="935" y="2135"/>
                </a:lnTo>
                <a:lnTo>
                  <a:pt x="934" y="2084"/>
                </a:lnTo>
                <a:lnTo>
                  <a:pt x="934" y="2055"/>
                </a:lnTo>
                <a:lnTo>
                  <a:pt x="935" y="2027"/>
                </a:lnTo>
                <a:lnTo>
                  <a:pt x="937" y="1998"/>
                </a:lnTo>
                <a:lnTo>
                  <a:pt x="940" y="1971"/>
                </a:lnTo>
                <a:lnTo>
                  <a:pt x="941" y="1969"/>
                </a:lnTo>
                <a:lnTo>
                  <a:pt x="941" y="1966"/>
                </a:lnTo>
                <a:lnTo>
                  <a:pt x="940" y="1961"/>
                </a:lnTo>
                <a:lnTo>
                  <a:pt x="939" y="1955"/>
                </a:lnTo>
                <a:lnTo>
                  <a:pt x="937" y="1950"/>
                </a:lnTo>
                <a:lnTo>
                  <a:pt x="934" y="1945"/>
                </a:lnTo>
                <a:lnTo>
                  <a:pt x="930" y="1941"/>
                </a:lnTo>
                <a:lnTo>
                  <a:pt x="926" y="1938"/>
                </a:lnTo>
                <a:lnTo>
                  <a:pt x="921" y="1935"/>
                </a:lnTo>
                <a:lnTo>
                  <a:pt x="916" y="1933"/>
                </a:lnTo>
                <a:lnTo>
                  <a:pt x="905" y="1929"/>
                </a:lnTo>
                <a:lnTo>
                  <a:pt x="878" y="1919"/>
                </a:lnTo>
                <a:lnTo>
                  <a:pt x="835" y="1902"/>
                </a:lnTo>
                <a:lnTo>
                  <a:pt x="781" y="1878"/>
                </a:lnTo>
                <a:lnTo>
                  <a:pt x="750" y="1864"/>
                </a:lnTo>
                <a:lnTo>
                  <a:pt x="718" y="1848"/>
                </a:lnTo>
                <a:lnTo>
                  <a:pt x="683" y="1830"/>
                </a:lnTo>
                <a:lnTo>
                  <a:pt x="647" y="1811"/>
                </a:lnTo>
                <a:lnTo>
                  <a:pt x="608" y="1790"/>
                </a:lnTo>
                <a:lnTo>
                  <a:pt x="571" y="1766"/>
                </a:lnTo>
                <a:lnTo>
                  <a:pt x="531" y="1743"/>
                </a:lnTo>
                <a:lnTo>
                  <a:pt x="493" y="1716"/>
                </a:lnTo>
                <a:lnTo>
                  <a:pt x="453" y="1688"/>
                </a:lnTo>
                <a:lnTo>
                  <a:pt x="415" y="1658"/>
                </a:lnTo>
                <a:lnTo>
                  <a:pt x="376" y="1626"/>
                </a:lnTo>
                <a:lnTo>
                  <a:pt x="339" y="1593"/>
                </a:lnTo>
                <a:lnTo>
                  <a:pt x="303" y="1558"/>
                </a:lnTo>
                <a:lnTo>
                  <a:pt x="268" y="1521"/>
                </a:lnTo>
                <a:lnTo>
                  <a:pt x="236" y="1482"/>
                </a:lnTo>
                <a:lnTo>
                  <a:pt x="206" y="1441"/>
                </a:lnTo>
                <a:lnTo>
                  <a:pt x="177" y="1399"/>
                </a:lnTo>
                <a:lnTo>
                  <a:pt x="153" y="1354"/>
                </a:lnTo>
                <a:lnTo>
                  <a:pt x="130" y="1309"/>
                </a:lnTo>
                <a:lnTo>
                  <a:pt x="112" y="1260"/>
                </a:lnTo>
                <a:lnTo>
                  <a:pt x="95" y="1211"/>
                </a:lnTo>
                <a:lnTo>
                  <a:pt x="84" y="1160"/>
                </a:lnTo>
                <a:lnTo>
                  <a:pt x="78" y="1105"/>
                </a:lnTo>
                <a:lnTo>
                  <a:pt x="76" y="1051"/>
                </a:lnTo>
                <a:lnTo>
                  <a:pt x="76" y="1039"/>
                </a:lnTo>
                <a:lnTo>
                  <a:pt x="76" y="1028"/>
                </a:lnTo>
                <a:lnTo>
                  <a:pt x="74" y="1008"/>
                </a:lnTo>
                <a:lnTo>
                  <a:pt x="73" y="988"/>
                </a:lnTo>
                <a:lnTo>
                  <a:pt x="72" y="966"/>
                </a:lnTo>
                <a:lnTo>
                  <a:pt x="72" y="945"/>
                </a:lnTo>
                <a:lnTo>
                  <a:pt x="72" y="912"/>
                </a:lnTo>
                <a:lnTo>
                  <a:pt x="74" y="879"/>
                </a:lnTo>
                <a:lnTo>
                  <a:pt x="78" y="848"/>
                </a:lnTo>
                <a:lnTo>
                  <a:pt x="83" y="821"/>
                </a:lnTo>
                <a:lnTo>
                  <a:pt x="87" y="807"/>
                </a:lnTo>
                <a:lnTo>
                  <a:pt x="90" y="795"/>
                </a:lnTo>
                <a:lnTo>
                  <a:pt x="95" y="784"/>
                </a:lnTo>
                <a:lnTo>
                  <a:pt x="100" y="774"/>
                </a:lnTo>
                <a:lnTo>
                  <a:pt x="105" y="765"/>
                </a:lnTo>
                <a:lnTo>
                  <a:pt x="112" y="758"/>
                </a:lnTo>
                <a:lnTo>
                  <a:pt x="119" y="751"/>
                </a:lnTo>
                <a:lnTo>
                  <a:pt x="126" y="748"/>
                </a:lnTo>
                <a:lnTo>
                  <a:pt x="134" y="745"/>
                </a:lnTo>
                <a:lnTo>
                  <a:pt x="146" y="744"/>
                </a:lnTo>
                <a:lnTo>
                  <a:pt x="154" y="744"/>
                </a:lnTo>
                <a:lnTo>
                  <a:pt x="162" y="747"/>
                </a:lnTo>
                <a:lnTo>
                  <a:pt x="172" y="749"/>
                </a:lnTo>
                <a:lnTo>
                  <a:pt x="184" y="753"/>
                </a:lnTo>
                <a:lnTo>
                  <a:pt x="196" y="759"/>
                </a:lnTo>
                <a:lnTo>
                  <a:pt x="211" y="766"/>
                </a:lnTo>
                <a:lnTo>
                  <a:pt x="226" y="776"/>
                </a:lnTo>
                <a:lnTo>
                  <a:pt x="242" y="787"/>
                </a:lnTo>
                <a:lnTo>
                  <a:pt x="261" y="802"/>
                </a:lnTo>
                <a:lnTo>
                  <a:pt x="280" y="818"/>
                </a:lnTo>
                <a:lnTo>
                  <a:pt x="302" y="838"/>
                </a:lnTo>
                <a:lnTo>
                  <a:pt x="325" y="861"/>
                </a:lnTo>
                <a:lnTo>
                  <a:pt x="330" y="866"/>
                </a:lnTo>
                <a:lnTo>
                  <a:pt x="336" y="868"/>
                </a:lnTo>
                <a:lnTo>
                  <a:pt x="342" y="871"/>
                </a:lnTo>
                <a:lnTo>
                  <a:pt x="350" y="871"/>
                </a:lnTo>
                <a:lnTo>
                  <a:pt x="356" y="871"/>
                </a:lnTo>
                <a:lnTo>
                  <a:pt x="362" y="868"/>
                </a:lnTo>
                <a:lnTo>
                  <a:pt x="369" y="866"/>
                </a:lnTo>
                <a:lnTo>
                  <a:pt x="375" y="861"/>
                </a:lnTo>
                <a:lnTo>
                  <a:pt x="380" y="856"/>
                </a:lnTo>
                <a:lnTo>
                  <a:pt x="382" y="850"/>
                </a:lnTo>
                <a:lnTo>
                  <a:pt x="385" y="843"/>
                </a:lnTo>
                <a:lnTo>
                  <a:pt x="386" y="836"/>
                </a:lnTo>
                <a:lnTo>
                  <a:pt x="385" y="830"/>
                </a:lnTo>
                <a:lnTo>
                  <a:pt x="383" y="823"/>
                </a:lnTo>
                <a:lnTo>
                  <a:pt x="380" y="816"/>
                </a:lnTo>
                <a:lnTo>
                  <a:pt x="376" y="811"/>
                </a:lnTo>
                <a:lnTo>
                  <a:pt x="355" y="789"/>
                </a:lnTo>
                <a:lnTo>
                  <a:pt x="335" y="766"/>
                </a:lnTo>
                <a:lnTo>
                  <a:pt x="316" y="743"/>
                </a:lnTo>
                <a:lnTo>
                  <a:pt x="298" y="719"/>
                </a:lnTo>
                <a:lnTo>
                  <a:pt x="280" y="696"/>
                </a:lnTo>
                <a:lnTo>
                  <a:pt x="263" y="673"/>
                </a:lnTo>
                <a:lnTo>
                  <a:pt x="248" y="650"/>
                </a:lnTo>
                <a:lnTo>
                  <a:pt x="234" y="627"/>
                </a:lnTo>
                <a:lnTo>
                  <a:pt x="222" y="606"/>
                </a:lnTo>
                <a:lnTo>
                  <a:pt x="212" y="586"/>
                </a:lnTo>
                <a:lnTo>
                  <a:pt x="203" y="567"/>
                </a:lnTo>
                <a:lnTo>
                  <a:pt x="196" y="549"/>
                </a:lnTo>
                <a:lnTo>
                  <a:pt x="192" y="534"/>
                </a:lnTo>
                <a:lnTo>
                  <a:pt x="190" y="519"/>
                </a:lnTo>
                <a:lnTo>
                  <a:pt x="190" y="515"/>
                </a:lnTo>
                <a:lnTo>
                  <a:pt x="191" y="508"/>
                </a:lnTo>
                <a:lnTo>
                  <a:pt x="192" y="503"/>
                </a:lnTo>
                <a:lnTo>
                  <a:pt x="195" y="500"/>
                </a:lnTo>
                <a:lnTo>
                  <a:pt x="198" y="495"/>
                </a:lnTo>
                <a:lnTo>
                  <a:pt x="206" y="490"/>
                </a:lnTo>
                <a:lnTo>
                  <a:pt x="212" y="487"/>
                </a:lnTo>
                <a:lnTo>
                  <a:pt x="221" y="485"/>
                </a:lnTo>
                <a:lnTo>
                  <a:pt x="231" y="484"/>
                </a:lnTo>
                <a:lnTo>
                  <a:pt x="243" y="482"/>
                </a:lnTo>
                <a:lnTo>
                  <a:pt x="258" y="481"/>
                </a:lnTo>
                <a:lnTo>
                  <a:pt x="275" y="482"/>
                </a:lnTo>
                <a:lnTo>
                  <a:pt x="295" y="484"/>
                </a:lnTo>
                <a:lnTo>
                  <a:pt x="319" y="487"/>
                </a:lnTo>
                <a:lnTo>
                  <a:pt x="345" y="492"/>
                </a:lnTo>
                <a:lnTo>
                  <a:pt x="375" y="498"/>
                </a:lnTo>
                <a:lnTo>
                  <a:pt x="408" y="507"/>
                </a:lnTo>
                <a:lnTo>
                  <a:pt x="447" y="517"/>
                </a:lnTo>
                <a:lnTo>
                  <a:pt x="447" y="517"/>
                </a:lnTo>
                <a:lnTo>
                  <a:pt x="448" y="518"/>
                </a:lnTo>
                <a:lnTo>
                  <a:pt x="449" y="518"/>
                </a:lnTo>
                <a:lnTo>
                  <a:pt x="455" y="519"/>
                </a:lnTo>
                <a:lnTo>
                  <a:pt x="463" y="518"/>
                </a:lnTo>
                <a:lnTo>
                  <a:pt x="469" y="517"/>
                </a:lnTo>
                <a:lnTo>
                  <a:pt x="475" y="513"/>
                </a:lnTo>
                <a:lnTo>
                  <a:pt x="480" y="510"/>
                </a:lnTo>
                <a:lnTo>
                  <a:pt x="485" y="505"/>
                </a:lnTo>
                <a:lnTo>
                  <a:pt x="489" y="498"/>
                </a:lnTo>
                <a:lnTo>
                  <a:pt x="492" y="492"/>
                </a:lnTo>
                <a:lnTo>
                  <a:pt x="492" y="487"/>
                </a:lnTo>
                <a:lnTo>
                  <a:pt x="493" y="484"/>
                </a:lnTo>
                <a:lnTo>
                  <a:pt x="492" y="477"/>
                </a:lnTo>
                <a:lnTo>
                  <a:pt x="490" y="472"/>
                </a:lnTo>
                <a:lnTo>
                  <a:pt x="488" y="467"/>
                </a:lnTo>
                <a:lnTo>
                  <a:pt x="485" y="462"/>
                </a:lnTo>
                <a:lnTo>
                  <a:pt x="482" y="457"/>
                </a:lnTo>
                <a:lnTo>
                  <a:pt x="477" y="454"/>
                </a:lnTo>
                <a:lnTo>
                  <a:pt x="472" y="451"/>
                </a:lnTo>
                <a:lnTo>
                  <a:pt x="467" y="449"/>
                </a:lnTo>
                <a:lnTo>
                  <a:pt x="464" y="449"/>
                </a:lnTo>
                <a:lnTo>
                  <a:pt x="462" y="449"/>
                </a:lnTo>
                <a:lnTo>
                  <a:pt x="463" y="449"/>
                </a:lnTo>
                <a:lnTo>
                  <a:pt x="464" y="449"/>
                </a:lnTo>
                <a:lnTo>
                  <a:pt x="455" y="446"/>
                </a:lnTo>
                <a:lnTo>
                  <a:pt x="434" y="440"/>
                </a:lnTo>
                <a:lnTo>
                  <a:pt x="405" y="431"/>
                </a:lnTo>
                <a:lnTo>
                  <a:pt x="370" y="417"/>
                </a:lnTo>
                <a:lnTo>
                  <a:pt x="350" y="408"/>
                </a:lnTo>
                <a:lnTo>
                  <a:pt x="331" y="398"/>
                </a:lnTo>
                <a:lnTo>
                  <a:pt x="313" y="387"/>
                </a:lnTo>
                <a:lnTo>
                  <a:pt x="295" y="374"/>
                </a:lnTo>
                <a:lnTo>
                  <a:pt x="278" y="361"/>
                </a:lnTo>
                <a:lnTo>
                  <a:pt x="263" y="346"/>
                </a:lnTo>
                <a:lnTo>
                  <a:pt x="256" y="337"/>
                </a:lnTo>
                <a:lnTo>
                  <a:pt x="249" y="330"/>
                </a:lnTo>
                <a:lnTo>
                  <a:pt x="244" y="321"/>
                </a:lnTo>
                <a:lnTo>
                  <a:pt x="239" y="311"/>
                </a:lnTo>
                <a:close/>
                <a:moveTo>
                  <a:pt x="1607" y="3641"/>
                </a:moveTo>
                <a:lnTo>
                  <a:pt x="1607" y="3641"/>
                </a:lnTo>
                <a:lnTo>
                  <a:pt x="1608" y="3647"/>
                </a:lnTo>
                <a:lnTo>
                  <a:pt x="1608" y="3653"/>
                </a:lnTo>
                <a:lnTo>
                  <a:pt x="1607" y="3647"/>
                </a:lnTo>
                <a:lnTo>
                  <a:pt x="1607" y="364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2492280"/>
            <a:ext cx="34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看起来像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524720" y="1557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628720" y="1052280"/>
            <a:ext cx="6368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es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！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's a cook!</a:t>
            </a:r>
            <a:endParaRPr b="1" lang="en-US" sz="4000" spc="-1" strike="noStrike">
              <a:solidFill>
                <a:srgbClr val="018666"/>
              </a:solidFill>
              <a:latin typeface="幼圆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0" y="720720"/>
            <a:ext cx="7885080" cy="6137280"/>
            <a:chOff x="0" y="720720"/>
            <a:chExt cx="7885080" cy="6137280"/>
          </a:xfrm>
        </p:grpSpPr>
        <p:sp>
          <p:nvSpPr>
            <p:cNvPr id="419" name="未知"/>
            <p:cNvSpPr/>
            <p:nvPr/>
          </p:nvSpPr>
          <p:spPr>
            <a:xfrm>
              <a:off x="444600" y="4068720"/>
              <a:ext cx="2111400" cy="2030400"/>
            </a:xfrm>
            <a:custGeom>
              <a:avLst/>
              <a:gdLst/>
              <a:ahLst/>
              <a:rect l="l" t="t" r="r" b="b"/>
              <a:pathLst>
                <a:path w="5322" h="5115">
                  <a:moveTo>
                    <a:pt x="627" y="721"/>
                  </a:moveTo>
                  <a:lnTo>
                    <a:pt x="617" y="750"/>
                  </a:lnTo>
                  <a:lnTo>
                    <a:pt x="591" y="836"/>
                  </a:lnTo>
                  <a:lnTo>
                    <a:pt x="550" y="972"/>
                  </a:lnTo>
                  <a:lnTo>
                    <a:pt x="499" y="1154"/>
                  </a:lnTo>
                  <a:lnTo>
                    <a:pt x="470" y="1260"/>
                  </a:lnTo>
                  <a:lnTo>
                    <a:pt x="439" y="1376"/>
                  </a:lnTo>
                  <a:lnTo>
                    <a:pt x="407" y="1501"/>
                  </a:lnTo>
                  <a:lnTo>
                    <a:pt x="374" y="1634"/>
                  </a:lnTo>
                  <a:lnTo>
                    <a:pt x="340" y="1773"/>
                  </a:lnTo>
                  <a:lnTo>
                    <a:pt x="307" y="1920"/>
                  </a:lnTo>
                  <a:lnTo>
                    <a:pt x="272" y="2073"/>
                  </a:lnTo>
                  <a:lnTo>
                    <a:pt x="238" y="2232"/>
                  </a:lnTo>
                  <a:lnTo>
                    <a:pt x="206" y="2395"/>
                  </a:lnTo>
                  <a:lnTo>
                    <a:pt x="175" y="2563"/>
                  </a:lnTo>
                  <a:lnTo>
                    <a:pt x="144" y="2735"/>
                  </a:lnTo>
                  <a:lnTo>
                    <a:pt x="117" y="2909"/>
                  </a:lnTo>
                  <a:lnTo>
                    <a:pt x="90" y="3087"/>
                  </a:lnTo>
                  <a:lnTo>
                    <a:pt x="67" y="3264"/>
                  </a:lnTo>
                  <a:lnTo>
                    <a:pt x="46" y="3444"/>
                  </a:lnTo>
                  <a:lnTo>
                    <a:pt x="28" y="3624"/>
                  </a:lnTo>
                  <a:lnTo>
                    <a:pt x="16" y="3802"/>
                  </a:lnTo>
                  <a:lnTo>
                    <a:pt x="6" y="3981"/>
                  </a:lnTo>
                  <a:lnTo>
                    <a:pt x="1" y="4159"/>
                  </a:lnTo>
                  <a:lnTo>
                    <a:pt x="0" y="4332"/>
                  </a:lnTo>
                  <a:lnTo>
                    <a:pt x="5" y="4505"/>
                  </a:lnTo>
                  <a:lnTo>
                    <a:pt x="15" y="4672"/>
                  </a:lnTo>
                  <a:lnTo>
                    <a:pt x="31" y="4836"/>
                  </a:lnTo>
                  <a:lnTo>
                    <a:pt x="53" y="4996"/>
                  </a:lnTo>
                  <a:lnTo>
                    <a:pt x="102" y="4998"/>
                  </a:lnTo>
                  <a:lnTo>
                    <a:pt x="241" y="5008"/>
                  </a:lnTo>
                  <a:lnTo>
                    <a:pt x="458" y="5023"/>
                  </a:lnTo>
                  <a:lnTo>
                    <a:pt x="744" y="5041"/>
                  </a:lnTo>
                  <a:lnTo>
                    <a:pt x="908" y="5049"/>
                  </a:lnTo>
                  <a:lnTo>
                    <a:pt x="1085" y="5058"/>
                  </a:lnTo>
                  <a:lnTo>
                    <a:pt x="1273" y="5068"/>
                  </a:lnTo>
                  <a:lnTo>
                    <a:pt x="1471" y="5077"/>
                  </a:lnTo>
                  <a:lnTo>
                    <a:pt x="1677" y="5085"/>
                  </a:lnTo>
                  <a:lnTo>
                    <a:pt x="1891" y="5093"/>
                  </a:lnTo>
                  <a:lnTo>
                    <a:pt x="2111" y="5100"/>
                  </a:lnTo>
                  <a:lnTo>
                    <a:pt x="2333" y="5106"/>
                  </a:lnTo>
                  <a:lnTo>
                    <a:pt x="2559" y="5110"/>
                  </a:lnTo>
                  <a:lnTo>
                    <a:pt x="2786" y="5114"/>
                  </a:lnTo>
                  <a:lnTo>
                    <a:pt x="3014" y="5115"/>
                  </a:lnTo>
                  <a:lnTo>
                    <a:pt x="3240" y="5115"/>
                  </a:lnTo>
                  <a:lnTo>
                    <a:pt x="3463" y="5113"/>
                  </a:lnTo>
                  <a:lnTo>
                    <a:pt x="3682" y="5108"/>
                  </a:lnTo>
                  <a:lnTo>
                    <a:pt x="3894" y="5100"/>
                  </a:lnTo>
                  <a:lnTo>
                    <a:pt x="4100" y="5090"/>
                  </a:lnTo>
                  <a:lnTo>
                    <a:pt x="4298" y="5078"/>
                  </a:lnTo>
                  <a:lnTo>
                    <a:pt x="4485" y="5063"/>
                  </a:lnTo>
                  <a:lnTo>
                    <a:pt x="4661" y="5043"/>
                  </a:lnTo>
                  <a:lnTo>
                    <a:pt x="4824" y="5021"/>
                  </a:lnTo>
                  <a:lnTo>
                    <a:pt x="4973" y="4995"/>
                  </a:lnTo>
                  <a:lnTo>
                    <a:pt x="5107" y="4965"/>
                  </a:lnTo>
                  <a:lnTo>
                    <a:pt x="5223" y="4931"/>
                  </a:lnTo>
                  <a:lnTo>
                    <a:pt x="5322" y="4893"/>
                  </a:lnTo>
                  <a:lnTo>
                    <a:pt x="5318" y="4858"/>
                  </a:lnTo>
                  <a:lnTo>
                    <a:pt x="5308" y="4758"/>
                  </a:lnTo>
                  <a:lnTo>
                    <a:pt x="5291" y="4599"/>
                  </a:lnTo>
                  <a:lnTo>
                    <a:pt x="5270" y="4392"/>
                  </a:lnTo>
                  <a:lnTo>
                    <a:pt x="5242" y="4142"/>
                  </a:lnTo>
                  <a:lnTo>
                    <a:pt x="5210" y="3858"/>
                  </a:lnTo>
                  <a:lnTo>
                    <a:pt x="5173" y="3549"/>
                  </a:lnTo>
                  <a:lnTo>
                    <a:pt x="5133" y="3221"/>
                  </a:lnTo>
                  <a:lnTo>
                    <a:pt x="5112" y="3053"/>
                  </a:lnTo>
                  <a:lnTo>
                    <a:pt x="5090" y="2883"/>
                  </a:lnTo>
                  <a:lnTo>
                    <a:pt x="5066" y="2712"/>
                  </a:lnTo>
                  <a:lnTo>
                    <a:pt x="5043" y="2542"/>
                  </a:lnTo>
                  <a:lnTo>
                    <a:pt x="5018" y="2373"/>
                  </a:lnTo>
                  <a:lnTo>
                    <a:pt x="4993" y="2207"/>
                  </a:lnTo>
                  <a:lnTo>
                    <a:pt x="4967" y="2043"/>
                  </a:lnTo>
                  <a:lnTo>
                    <a:pt x="4941" y="1884"/>
                  </a:lnTo>
                  <a:lnTo>
                    <a:pt x="4915" y="1730"/>
                  </a:lnTo>
                  <a:lnTo>
                    <a:pt x="4887" y="1583"/>
                  </a:lnTo>
                  <a:lnTo>
                    <a:pt x="4861" y="1443"/>
                  </a:lnTo>
                  <a:lnTo>
                    <a:pt x="4834" y="1310"/>
                  </a:lnTo>
                  <a:lnTo>
                    <a:pt x="4805" y="1187"/>
                  </a:lnTo>
                  <a:lnTo>
                    <a:pt x="4778" y="1074"/>
                  </a:lnTo>
                  <a:lnTo>
                    <a:pt x="4751" y="972"/>
                  </a:lnTo>
                  <a:lnTo>
                    <a:pt x="4722" y="882"/>
                  </a:lnTo>
                  <a:lnTo>
                    <a:pt x="4399" y="424"/>
                  </a:lnTo>
                  <a:lnTo>
                    <a:pt x="4362" y="412"/>
                  </a:lnTo>
                  <a:lnTo>
                    <a:pt x="4255" y="378"/>
                  </a:lnTo>
                  <a:lnTo>
                    <a:pt x="4178" y="356"/>
                  </a:lnTo>
                  <a:lnTo>
                    <a:pt x="4088" y="330"/>
                  </a:lnTo>
                  <a:lnTo>
                    <a:pt x="3985" y="301"/>
                  </a:lnTo>
                  <a:lnTo>
                    <a:pt x="3870" y="270"/>
                  </a:lnTo>
                  <a:lnTo>
                    <a:pt x="3745" y="238"/>
                  </a:lnTo>
                  <a:lnTo>
                    <a:pt x="3611" y="206"/>
                  </a:lnTo>
                  <a:lnTo>
                    <a:pt x="3468" y="173"/>
                  </a:lnTo>
                  <a:lnTo>
                    <a:pt x="3319" y="142"/>
                  </a:lnTo>
                  <a:lnTo>
                    <a:pt x="3164" y="111"/>
                  </a:lnTo>
                  <a:lnTo>
                    <a:pt x="3004" y="84"/>
                  </a:lnTo>
                  <a:lnTo>
                    <a:pt x="2841" y="59"/>
                  </a:lnTo>
                  <a:lnTo>
                    <a:pt x="2675" y="37"/>
                  </a:lnTo>
                  <a:lnTo>
                    <a:pt x="2507" y="20"/>
                  </a:lnTo>
                  <a:lnTo>
                    <a:pt x="2341" y="7"/>
                  </a:lnTo>
                  <a:lnTo>
                    <a:pt x="2174" y="1"/>
                  </a:lnTo>
                  <a:lnTo>
                    <a:pt x="2010" y="0"/>
                  </a:lnTo>
                  <a:lnTo>
                    <a:pt x="1849" y="6"/>
                  </a:lnTo>
                  <a:lnTo>
                    <a:pt x="1692" y="20"/>
                  </a:lnTo>
                  <a:lnTo>
                    <a:pt x="1542" y="42"/>
                  </a:lnTo>
                  <a:lnTo>
                    <a:pt x="1398" y="72"/>
                  </a:lnTo>
                  <a:lnTo>
                    <a:pt x="1261" y="113"/>
                  </a:lnTo>
                  <a:lnTo>
                    <a:pt x="1135" y="163"/>
                  </a:lnTo>
                  <a:lnTo>
                    <a:pt x="1018" y="226"/>
                  </a:lnTo>
                  <a:lnTo>
                    <a:pt x="913" y="299"/>
                  </a:lnTo>
                  <a:lnTo>
                    <a:pt x="819" y="383"/>
                  </a:lnTo>
                  <a:lnTo>
                    <a:pt x="740" y="482"/>
                  </a:lnTo>
                  <a:lnTo>
                    <a:pt x="675" y="594"/>
                  </a:lnTo>
                  <a:lnTo>
                    <a:pt x="627" y="7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430200" y="4054320"/>
              <a:ext cx="2141640" cy="2059200"/>
            </a:xfrm>
            <a:custGeom>
              <a:avLst/>
              <a:gdLst/>
              <a:ahLst/>
              <a:rect l="l" t="t" r="r" b="b"/>
              <a:pathLst>
                <a:path w="5394" h="5190">
                  <a:moveTo>
                    <a:pt x="1104" y="194"/>
                  </a:moveTo>
                  <a:lnTo>
                    <a:pt x="1059" y="218"/>
                  </a:lnTo>
                  <a:lnTo>
                    <a:pt x="1017" y="244"/>
                  </a:lnTo>
                  <a:lnTo>
                    <a:pt x="976" y="271"/>
                  </a:lnTo>
                  <a:lnTo>
                    <a:pt x="938" y="300"/>
                  </a:lnTo>
                  <a:lnTo>
                    <a:pt x="900" y="329"/>
                  </a:lnTo>
                  <a:lnTo>
                    <a:pt x="866" y="360"/>
                  </a:lnTo>
                  <a:lnTo>
                    <a:pt x="833" y="393"/>
                  </a:lnTo>
                  <a:lnTo>
                    <a:pt x="802" y="427"/>
                  </a:lnTo>
                  <a:lnTo>
                    <a:pt x="774" y="462"/>
                  </a:lnTo>
                  <a:lnTo>
                    <a:pt x="746" y="499"/>
                  </a:lnTo>
                  <a:lnTo>
                    <a:pt x="722" y="538"/>
                  </a:lnTo>
                  <a:lnTo>
                    <a:pt x="698" y="576"/>
                  </a:lnTo>
                  <a:lnTo>
                    <a:pt x="678" y="617"/>
                  </a:lnTo>
                  <a:lnTo>
                    <a:pt x="659" y="659"/>
                  </a:lnTo>
                  <a:lnTo>
                    <a:pt x="642" y="704"/>
                  </a:lnTo>
                  <a:lnTo>
                    <a:pt x="627" y="749"/>
                  </a:lnTo>
                  <a:lnTo>
                    <a:pt x="627" y="747"/>
                  </a:lnTo>
                  <a:lnTo>
                    <a:pt x="617" y="782"/>
                  </a:lnTo>
                  <a:lnTo>
                    <a:pt x="590" y="871"/>
                  </a:lnTo>
                  <a:lnTo>
                    <a:pt x="549" y="1012"/>
                  </a:lnTo>
                  <a:lnTo>
                    <a:pt x="497" y="1197"/>
                  </a:lnTo>
                  <a:lnTo>
                    <a:pt x="467" y="1303"/>
                  </a:lnTo>
                  <a:lnTo>
                    <a:pt x="436" y="1421"/>
                  </a:lnTo>
                  <a:lnTo>
                    <a:pt x="405" y="1546"/>
                  </a:lnTo>
                  <a:lnTo>
                    <a:pt x="371" y="1679"/>
                  </a:lnTo>
                  <a:lnTo>
                    <a:pt x="338" y="1821"/>
                  </a:lnTo>
                  <a:lnTo>
                    <a:pt x="304" y="1968"/>
                  </a:lnTo>
                  <a:lnTo>
                    <a:pt x="270" y="2122"/>
                  </a:lnTo>
                  <a:lnTo>
                    <a:pt x="236" y="2281"/>
                  </a:lnTo>
                  <a:lnTo>
                    <a:pt x="204" y="2445"/>
                  </a:lnTo>
                  <a:lnTo>
                    <a:pt x="173" y="2613"/>
                  </a:lnTo>
                  <a:lnTo>
                    <a:pt x="143" y="2785"/>
                  </a:lnTo>
                  <a:lnTo>
                    <a:pt x="114" y="2960"/>
                  </a:lnTo>
                  <a:lnTo>
                    <a:pt x="89" y="3136"/>
                  </a:lnTo>
                  <a:lnTo>
                    <a:pt x="66" y="3314"/>
                  </a:lnTo>
                  <a:lnTo>
                    <a:pt x="46" y="3493"/>
                  </a:lnTo>
                  <a:lnTo>
                    <a:pt x="29" y="3673"/>
                  </a:lnTo>
                  <a:lnTo>
                    <a:pt x="15" y="3852"/>
                  </a:lnTo>
                  <a:lnTo>
                    <a:pt x="6" y="4029"/>
                  </a:lnTo>
                  <a:lnTo>
                    <a:pt x="0" y="4205"/>
                  </a:lnTo>
                  <a:lnTo>
                    <a:pt x="0" y="4380"/>
                  </a:lnTo>
                  <a:lnTo>
                    <a:pt x="5" y="4550"/>
                  </a:lnTo>
                  <a:lnTo>
                    <a:pt x="15" y="4718"/>
                  </a:lnTo>
                  <a:lnTo>
                    <a:pt x="31" y="4881"/>
                  </a:lnTo>
                  <a:lnTo>
                    <a:pt x="53" y="5039"/>
                  </a:lnTo>
                  <a:lnTo>
                    <a:pt x="57" y="5067"/>
                  </a:lnTo>
                  <a:lnTo>
                    <a:pt x="86" y="5069"/>
                  </a:lnTo>
                  <a:lnTo>
                    <a:pt x="164" y="5075"/>
                  </a:lnTo>
                  <a:lnTo>
                    <a:pt x="324" y="5086"/>
                  </a:lnTo>
                  <a:lnTo>
                    <a:pt x="559" y="5101"/>
                  </a:lnTo>
                  <a:lnTo>
                    <a:pt x="853" y="5118"/>
                  </a:lnTo>
                  <a:lnTo>
                    <a:pt x="1021" y="5128"/>
                  </a:lnTo>
                  <a:lnTo>
                    <a:pt x="1201" y="5137"/>
                  </a:lnTo>
                  <a:lnTo>
                    <a:pt x="1390" y="5146"/>
                  </a:lnTo>
                  <a:lnTo>
                    <a:pt x="1587" y="5154"/>
                  </a:lnTo>
                  <a:lnTo>
                    <a:pt x="1793" y="5163"/>
                  </a:lnTo>
                  <a:lnTo>
                    <a:pt x="2005" y="5170"/>
                  </a:lnTo>
                  <a:lnTo>
                    <a:pt x="2222" y="5177"/>
                  </a:lnTo>
                  <a:lnTo>
                    <a:pt x="2441" y="5183"/>
                  </a:lnTo>
                  <a:lnTo>
                    <a:pt x="2665" y="5187"/>
                  </a:lnTo>
                  <a:lnTo>
                    <a:pt x="2887" y="5189"/>
                  </a:lnTo>
                  <a:lnTo>
                    <a:pt x="3111" y="5190"/>
                  </a:lnTo>
                  <a:lnTo>
                    <a:pt x="3332" y="5189"/>
                  </a:lnTo>
                  <a:lnTo>
                    <a:pt x="3550" y="5187"/>
                  </a:lnTo>
                  <a:lnTo>
                    <a:pt x="3764" y="5182"/>
                  </a:lnTo>
                  <a:lnTo>
                    <a:pt x="3972" y="5174"/>
                  </a:lnTo>
                  <a:lnTo>
                    <a:pt x="4174" y="5163"/>
                  </a:lnTo>
                  <a:lnTo>
                    <a:pt x="4366" y="5151"/>
                  </a:lnTo>
                  <a:lnTo>
                    <a:pt x="4549" y="5134"/>
                  </a:lnTo>
                  <a:lnTo>
                    <a:pt x="4721" y="5115"/>
                  </a:lnTo>
                  <a:lnTo>
                    <a:pt x="4881" y="5092"/>
                  </a:lnTo>
                  <a:lnTo>
                    <a:pt x="5028" y="5066"/>
                  </a:lnTo>
                  <a:lnTo>
                    <a:pt x="5158" y="5035"/>
                  </a:lnTo>
                  <a:lnTo>
                    <a:pt x="5274" y="5002"/>
                  </a:lnTo>
                  <a:lnTo>
                    <a:pt x="5371" y="4963"/>
                  </a:lnTo>
                  <a:lnTo>
                    <a:pt x="5394" y="4953"/>
                  </a:lnTo>
                  <a:lnTo>
                    <a:pt x="5392" y="4927"/>
                  </a:lnTo>
                  <a:lnTo>
                    <a:pt x="5388" y="4888"/>
                  </a:lnTo>
                  <a:lnTo>
                    <a:pt x="5377" y="4782"/>
                  </a:lnTo>
                  <a:lnTo>
                    <a:pt x="5361" y="4621"/>
                  </a:lnTo>
                  <a:lnTo>
                    <a:pt x="5338" y="4411"/>
                  </a:lnTo>
                  <a:lnTo>
                    <a:pt x="5311" y="4159"/>
                  </a:lnTo>
                  <a:lnTo>
                    <a:pt x="5277" y="3875"/>
                  </a:lnTo>
                  <a:lnTo>
                    <a:pt x="5241" y="3565"/>
                  </a:lnTo>
                  <a:lnTo>
                    <a:pt x="5200" y="3237"/>
                  </a:lnTo>
                  <a:lnTo>
                    <a:pt x="5179" y="3070"/>
                  </a:lnTo>
                  <a:lnTo>
                    <a:pt x="5157" y="2900"/>
                  </a:lnTo>
                  <a:lnTo>
                    <a:pt x="5133" y="2730"/>
                  </a:lnTo>
                  <a:lnTo>
                    <a:pt x="5110" y="2560"/>
                  </a:lnTo>
                  <a:lnTo>
                    <a:pt x="5085" y="2391"/>
                  </a:lnTo>
                  <a:lnTo>
                    <a:pt x="5060" y="2226"/>
                  </a:lnTo>
                  <a:lnTo>
                    <a:pt x="5035" y="2063"/>
                  </a:lnTo>
                  <a:lnTo>
                    <a:pt x="5009" y="1905"/>
                  </a:lnTo>
                  <a:lnTo>
                    <a:pt x="4982" y="1751"/>
                  </a:lnTo>
                  <a:lnTo>
                    <a:pt x="4956" y="1605"/>
                  </a:lnTo>
                  <a:lnTo>
                    <a:pt x="4929" y="1466"/>
                  </a:lnTo>
                  <a:lnTo>
                    <a:pt x="4901" y="1334"/>
                  </a:lnTo>
                  <a:lnTo>
                    <a:pt x="4874" y="1211"/>
                  </a:lnTo>
                  <a:lnTo>
                    <a:pt x="4847" y="1100"/>
                  </a:lnTo>
                  <a:lnTo>
                    <a:pt x="4819" y="998"/>
                  </a:lnTo>
                  <a:lnTo>
                    <a:pt x="4792" y="909"/>
                  </a:lnTo>
                  <a:lnTo>
                    <a:pt x="4457" y="432"/>
                  </a:lnTo>
                  <a:lnTo>
                    <a:pt x="4446" y="429"/>
                  </a:lnTo>
                  <a:lnTo>
                    <a:pt x="4405" y="415"/>
                  </a:lnTo>
                  <a:lnTo>
                    <a:pt x="4318" y="388"/>
                  </a:lnTo>
                  <a:lnTo>
                    <a:pt x="4191" y="349"/>
                  </a:lnTo>
                  <a:lnTo>
                    <a:pt x="4030" y="303"/>
                  </a:lnTo>
                  <a:lnTo>
                    <a:pt x="3938" y="278"/>
                  </a:lnTo>
                  <a:lnTo>
                    <a:pt x="3838" y="252"/>
                  </a:lnTo>
                  <a:lnTo>
                    <a:pt x="3733" y="226"/>
                  </a:lnTo>
                  <a:lnTo>
                    <a:pt x="3621" y="199"/>
                  </a:lnTo>
                  <a:lnTo>
                    <a:pt x="3504" y="173"/>
                  </a:lnTo>
                  <a:lnTo>
                    <a:pt x="3383" y="147"/>
                  </a:lnTo>
                  <a:lnTo>
                    <a:pt x="3257" y="122"/>
                  </a:lnTo>
                  <a:lnTo>
                    <a:pt x="3129" y="99"/>
                  </a:lnTo>
                  <a:lnTo>
                    <a:pt x="2998" y="77"/>
                  </a:lnTo>
                  <a:lnTo>
                    <a:pt x="2864" y="58"/>
                  </a:lnTo>
                  <a:lnTo>
                    <a:pt x="2729" y="40"/>
                  </a:lnTo>
                  <a:lnTo>
                    <a:pt x="2593" y="25"/>
                  </a:lnTo>
                  <a:lnTo>
                    <a:pt x="2456" y="13"/>
                  </a:lnTo>
                  <a:lnTo>
                    <a:pt x="2320" y="5"/>
                  </a:lnTo>
                  <a:lnTo>
                    <a:pt x="2184" y="0"/>
                  </a:lnTo>
                  <a:lnTo>
                    <a:pt x="2051" y="0"/>
                  </a:lnTo>
                  <a:lnTo>
                    <a:pt x="1919" y="5"/>
                  </a:lnTo>
                  <a:lnTo>
                    <a:pt x="1789" y="14"/>
                  </a:lnTo>
                  <a:lnTo>
                    <a:pt x="1664" y="29"/>
                  </a:lnTo>
                  <a:lnTo>
                    <a:pt x="1541" y="49"/>
                  </a:lnTo>
                  <a:lnTo>
                    <a:pt x="1424" y="75"/>
                  </a:lnTo>
                  <a:lnTo>
                    <a:pt x="1311" y="108"/>
                  </a:lnTo>
                  <a:lnTo>
                    <a:pt x="1205" y="147"/>
                  </a:lnTo>
                  <a:lnTo>
                    <a:pt x="1104" y="194"/>
                  </a:lnTo>
                  <a:close/>
                  <a:moveTo>
                    <a:pt x="71" y="4304"/>
                  </a:moveTo>
                  <a:lnTo>
                    <a:pt x="73" y="4156"/>
                  </a:lnTo>
                  <a:lnTo>
                    <a:pt x="78" y="4004"/>
                  </a:lnTo>
                  <a:lnTo>
                    <a:pt x="86" y="3852"/>
                  </a:lnTo>
                  <a:lnTo>
                    <a:pt x="97" y="3699"/>
                  </a:lnTo>
                  <a:lnTo>
                    <a:pt x="112" y="3545"/>
                  </a:lnTo>
                  <a:lnTo>
                    <a:pt x="128" y="3393"/>
                  </a:lnTo>
                  <a:lnTo>
                    <a:pt x="147" y="3240"/>
                  </a:lnTo>
                  <a:lnTo>
                    <a:pt x="168" y="3087"/>
                  </a:lnTo>
                  <a:lnTo>
                    <a:pt x="190" y="2936"/>
                  </a:lnTo>
                  <a:lnTo>
                    <a:pt x="215" y="2787"/>
                  </a:lnTo>
                  <a:lnTo>
                    <a:pt x="240" y="2641"/>
                  </a:lnTo>
                  <a:lnTo>
                    <a:pt x="267" y="2496"/>
                  </a:lnTo>
                  <a:lnTo>
                    <a:pt x="294" y="2354"/>
                  </a:lnTo>
                  <a:lnTo>
                    <a:pt x="323" y="2216"/>
                  </a:lnTo>
                  <a:lnTo>
                    <a:pt x="351" y="2082"/>
                  </a:lnTo>
                  <a:lnTo>
                    <a:pt x="380" y="1952"/>
                  </a:lnTo>
                  <a:lnTo>
                    <a:pt x="410" y="1826"/>
                  </a:lnTo>
                  <a:lnTo>
                    <a:pt x="438" y="1705"/>
                  </a:lnTo>
                  <a:lnTo>
                    <a:pt x="467" y="1590"/>
                  </a:lnTo>
                  <a:lnTo>
                    <a:pt x="494" y="1481"/>
                  </a:lnTo>
                  <a:lnTo>
                    <a:pt x="548" y="1281"/>
                  </a:lnTo>
                  <a:lnTo>
                    <a:pt x="595" y="1108"/>
                  </a:lnTo>
                  <a:lnTo>
                    <a:pt x="635" y="968"/>
                  </a:lnTo>
                  <a:lnTo>
                    <a:pt x="667" y="863"/>
                  </a:lnTo>
                  <a:lnTo>
                    <a:pt x="687" y="796"/>
                  </a:lnTo>
                  <a:lnTo>
                    <a:pt x="695" y="770"/>
                  </a:lnTo>
                  <a:lnTo>
                    <a:pt x="695" y="768"/>
                  </a:lnTo>
                  <a:lnTo>
                    <a:pt x="709" y="728"/>
                  </a:lnTo>
                  <a:lnTo>
                    <a:pt x="725" y="688"/>
                  </a:lnTo>
                  <a:lnTo>
                    <a:pt x="743" y="648"/>
                  </a:lnTo>
                  <a:lnTo>
                    <a:pt x="761" y="611"/>
                  </a:lnTo>
                  <a:lnTo>
                    <a:pt x="782" y="575"/>
                  </a:lnTo>
                  <a:lnTo>
                    <a:pt x="806" y="539"/>
                  </a:lnTo>
                  <a:lnTo>
                    <a:pt x="831" y="505"/>
                  </a:lnTo>
                  <a:lnTo>
                    <a:pt x="857" y="472"/>
                  </a:lnTo>
                  <a:lnTo>
                    <a:pt x="885" y="441"/>
                  </a:lnTo>
                  <a:lnTo>
                    <a:pt x="915" y="411"/>
                  </a:lnTo>
                  <a:lnTo>
                    <a:pt x="948" y="383"/>
                  </a:lnTo>
                  <a:lnTo>
                    <a:pt x="982" y="354"/>
                  </a:lnTo>
                  <a:lnTo>
                    <a:pt x="1018" y="328"/>
                  </a:lnTo>
                  <a:lnTo>
                    <a:pt x="1056" y="303"/>
                  </a:lnTo>
                  <a:lnTo>
                    <a:pt x="1095" y="280"/>
                  </a:lnTo>
                  <a:lnTo>
                    <a:pt x="1136" y="257"/>
                  </a:lnTo>
                  <a:lnTo>
                    <a:pt x="1233" y="213"/>
                  </a:lnTo>
                  <a:lnTo>
                    <a:pt x="1336" y="175"/>
                  </a:lnTo>
                  <a:lnTo>
                    <a:pt x="1444" y="144"/>
                  </a:lnTo>
                  <a:lnTo>
                    <a:pt x="1558" y="120"/>
                  </a:lnTo>
                  <a:lnTo>
                    <a:pt x="1678" y="100"/>
                  </a:lnTo>
                  <a:lnTo>
                    <a:pt x="1801" y="86"/>
                  </a:lnTo>
                  <a:lnTo>
                    <a:pt x="1926" y="77"/>
                  </a:lnTo>
                  <a:lnTo>
                    <a:pt x="2055" y="74"/>
                  </a:lnTo>
                  <a:lnTo>
                    <a:pt x="2186" y="74"/>
                  </a:lnTo>
                  <a:lnTo>
                    <a:pt x="2318" y="79"/>
                  </a:lnTo>
                  <a:lnTo>
                    <a:pt x="2451" y="87"/>
                  </a:lnTo>
                  <a:lnTo>
                    <a:pt x="2585" y="99"/>
                  </a:lnTo>
                  <a:lnTo>
                    <a:pt x="2719" y="113"/>
                  </a:lnTo>
                  <a:lnTo>
                    <a:pt x="2851" y="131"/>
                  </a:lnTo>
                  <a:lnTo>
                    <a:pt x="2983" y="149"/>
                  </a:lnTo>
                  <a:lnTo>
                    <a:pt x="3112" y="172"/>
                  </a:lnTo>
                  <a:lnTo>
                    <a:pt x="3239" y="194"/>
                  </a:lnTo>
                  <a:lnTo>
                    <a:pt x="3363" y="219"/>
                  </a:lnTo>
                  <a:lnTo>
                    <a:pt x="3482" y="244"/>
                  </a:lnTo>
                  <a:lnTo>
                    <a:pt x="3597" y="270"/>
                  </a:lnTo>
                  <a:lnTo>
                    <a:pt x="3707" y="296"/>
                  </a:lnTo>
                  <a:lnTo>
                    <a:pt x="3811" y="322"/>
                  </a:lnTo>
                  <a:lnTo>
                    <a:pt x="3909" y="347"/>
                  </a:lnTo>
                  <a:lnTo>
                    <a:pt x="4001" y="370"/>
                  </a:lnTo>
                  <a:lnTo>
                    <a:pt x="4160" y="416"/>
                  </a:lnTo>
                  <a:lnTo>
                    <a:pt x="4285" y="452"/>
                  </a:lnTo>
                  <a:lnTo>
                    <a:pt x="4371" y="479"/>
                  </a:lnTo>
                  <a:lnTo>
                    <a:pt x="4412" y="493"/>
                  </a:lnTo>
                  <a:lnTo>
                    <a:pt x="4429" y="518"/>
                  </a:lnTo>
                  <a:lnTo>
                    <a:pt x="4467" y="571"/>
                  </a:lnTo>
                  <a:lnTo>
                    <a:pt x="4518" y="643"/>
                  </a:lnTo>
                  <a:lnTo>
                    <a:pt x="4575" y="724"/>
                  </a:lnTo>
                  <a:lnTo>
                    <a:pt x="4632" y="804"/>
                  </a:lnTo>
                  <a:lnTo>
                    <a:pt x="4681" y="874"/>
                  </a:lnTo>
                  <a:lnTo>
                    <a:pt x="4715" y="922"/>
                  </a:lnTo>
                  <a:lnTo>
                    <a:pt x="4729" y="941"/>
                  </a:lnTo>
                  <a:lnTo>
                    <a:pt x="4755" y="1024"/>
                  </a:lnTo>
                  <a:lnTo>
                    <a:pt x="4780" y="1118"/>
                  </a:lnTo>
                  <a:lnTo>
                    <a:pt x="4806" y="1224"/>
                  </a:lnTo>
                  <a:lnTo>
                    <a:pt x="4832" y="1338"/>
                  </a:lnTo>
                  <a:lnTo>
                    <a:pt x="4858" y="1461"/>
                  </a:lnTo>
                  <a:lnTo>
                    <a:pt x="4883" y="1591"/>
                  </a:lnTo>
                  <a:lnTo>
                    <a:pt x="4907" y="1729"/>
                  </a:lnTo>
                  <a:lnTo>
                    <a:pt x="4932" y="1873"/>
                  </a:lnTo>
                  <a:lnTo>
                    <a:pt x="4957" y="2020"/>
                  </a:lnTo>
                  <a:lnTo>
                    <a:pt x="4982" y="2173"/>
                  </a:lnTo>
                  <a:lnTo>
                    <a:pt x="5006" y="2329"/>
                  </a:lnTo>
                  <a:lnTo>
                    <a:pt x="5029" y="2488"/>
                  </a:lnTo>
                  <a:lnTo>
                    <a:pt x="5074" y="2811"/>
                  </a:lnTo>
                  <a:lnTo>
                    <a:pt x="5116" y="3133"/>
                  </a:lnTo>
                  <a:lnTo>
                    <a:pt x="5156" y="3450"/>
                  </a:lnTo>
                  <a:lnTo>
                    <a:pt x="5192" y="3752"/>
                  </a:lnTo>
                  <a:lnTo>
                    <a:pt x="5225" y="4034"/>
                  </a:lnTo>
                  <a:lnTo>
                    <a:pt x="5254" y="4290"/>
                  </a:lnTo>
                  <a:lnTo>
                    <a:pt x="5277" y="4512"/>
                  </a:lnTo>
                  <a:lnTo>
                    <a:pt x="5296" y="4693"/>
                  </a:lnTo>
                  <a:lnTo>
                    <a:pt x="5310" y="4827"/>
                  </a:lnTo>
                  <a:lnTo>
                    <a:pt x="5318" y="4907"/>
                  </a:lnTo>
                  <a:lnTo>
                    <a:pt x="5223" y="4942"/>
                  </a:lnTo>
                  <a:lnTo>
                    <a:pt x="5111" y="4973"/>
                  </a:lnTo>
                  <a:lnTo>
                    <a:pt x="4984" y="5000"/>
                  </a:lnTo>
                  <a:lnTo>
                    <a:pt x="4844" y="5024"/>
                  </a:lnTo>
                  <a:lnTo>
                    <a:pt x="4691" y="5045"/>
                  </a:lnTo>
                  <a:lnTo>
                    <a:pt x="4527" y="5064"/>
                  </a:lnTo>
                  <a:lnTo>
                    <a:pt x="4352" y="5079"/>
                  </a:lnTo>
                  <a:lnTo>
                    <a:pt x="4169" y="5090"/>
                  </a:lnTo>
                  <a:lnTo>
                    <a:pt x="3976" y="5100"/>
                  </a:lnTo>
                  <a:lnTo>
                    <a:pt x="3777" y="5107"/>
                  </a:lnTo>
                  <a:lnTo>
                    <a:pt x="3573" y="5112"/>
                  </a:lnTo>
                  <a:lnTo>
                    <a:pt x="3365" y="5116"/>
                  </a:lnTo>
                  <a:lnTo>
                    <a:pt x="3153" y="5117"/>
                  </a:lnTo>
                  <a:lnTo>
                    <a:pt x="2939" y="5116"/>
                  </a:lnTo>
                  <a:lnTo>
                    <a:pt x="2724" y="5113"/>
                  </a:lnTo>
                  <a:lnTo>
                    <a:pt x="2511" y="5110"/>
                  </a:lnTo>
                  <a:lnTo>
                    <a:pt x="2299" y="5106"/>
                  </a:lnTo>
                  <a:lnTo>
                    <a:pt x="2089" y="5100"/>
                  </a:lnTo>
                  <a:lnTo>
                    <a:pt x="1884" y="5094"/>
                  </a:lnTo>
                  <a:lnTo>
                    <a:pt x="1684" y="5086"/>
                  </a:lnTo>
                  <a:lnTo>
                    <a:pt x="1489" y="5077"/>
                  </a:lnTo>
                  <a:lnTo>
                    <a:pt x="1303" y="5069"/>
                  </a:lnTo>
                  <a:lnTo>
                    <a:pt x="1125" y="5060"/>
                  </a:lnTo>
                  <a:lnTo>
                    <a:pt x="957" y="5051"/>
                  </a:lnTo>
                  <a:lnTo>
                    <a:pt x="658" y="5035"/>
                  </a:lnTo>
                  <a:lnTo>
                    <a:pt x="411" y="5020"/>
                  </a:lnTo>
                  <a:lnTo>
                    <a:pt x="229" y="5008"/>
                  </a:lnTo>
                  <a:lnTo>
                    <a:pt x="120" y="5000"/>
                  </a:lnTo>
                  <a:lnTo>
                    <a:pt x="108" y="4917"/>
                  </a:lnTo>
                  <a:lnTo>
                    <a:pt x="98" y="4833"/>
                  </a:lnTo>
                  <a:lnTo>
                    <a:pt x="89" y="4749"/>
                  </a:lnTo>
                  <a:lnTo>
                    <a:pt x="83" y="4662"/>
                  </a:lnTo>
                  <a:lnTo>
                    <a:pt x="78" y="4574"/>
                  </a:lnTo>
                  <a:lnTo>
                    <a:pt x="75" y="4484"/>
                  </a:lnTo>
                  <a:lnTo>
                    <a:pt x="72" y="4395"/>
                  </a:lnTo>
                  <a:lnTo>
                    <a:pt x="71" y="43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25560" y="5956200"/>
              <a:ext cx="7845120" cy="347760"/>
            </a:xfrm>
            <a:custGeom>
              <a:avLst/>
              <a:gdLst/>
              <a:ahLst/>
              <a:rect l="l" t="t" r="r" b="b"/>
              <a:pathLst>
                <a:path w="19767" h="873">
                  <a:moveTo>
                    <a:pt x="506" y="33"/>
                  </a:moveTo>
                  <a:lnTo>
                    <a:pt x="692" y="37"/>
                  </a:lnTo>
                  <a:lnTo>
                    <a:pt x="1221" y="44"/>
                  </a:lnTo>
                  <a:lnTo>
                    <a:pt x="2047" y="57"/>
                  </a:lnTo>
                  <a:lnTo>
                    <a:pt x="3126" y="71"/>
                  </a:lnTo>
                  <a:lnTo>
                    <a:pt x="4414" y="88"/>
                  </a:lnTo>
                  <a:lnTo>
                    <a:pt x="5864" y="104"/>
                  </a:lnTo>
                  <a:lnTo>
                    <a:pt x="6637" y="111"/>
                  </a:lnTo>
                  <a:lnTo>
                    <a:pt x="7434" y="119"/>
                  </a:lnTo>
                  <a:lnTo>
                    <a:pt x="8250" y="126"/>
                  </a:lnTo>
                  <a:lnTo>
                    <a:pt x="9078" y="132"/>
                  </a:lnTo>
                  <a:lnTo>
                    <a:pt x="9914" y="137"/>
                  </a:lnTo>
                  <a:lnTo>
                    <a:pt x="10752" y="141"/>
                  </a:lnTo>
                  <a:lnTo>
                    <a:pt x="11585" y="143"/>
                  </a:lnTo>
                  <a:lnTo>
                    <a:pt x="12410" y="146"/>
                  </a:lnTo>
                  <a:lnTo>
                    <a:pt x="13219" y="146"/>
                  </a:lnTo>
                  <a:lnTo>
                    <a:pt x="14008" y="143"/>
                  </a:lnTo>
                  <a:lnTo>
                    <a:pt x="14770" y="140"/>
                  </a:lnTo>
                  <a:lnTo>
                    <a:pt x="15502" y="135"/>
                  </a:lnTo>
                  <a:lnTo>
                    <a:pt x="16194" y="127"/>
                  </a:lnTo>
                  <a:lnTo>
                    <a:pt x="16845" y="117"/>
                  </a:lnTo>
                  <a:lnTo>
                    <a:pt x="17447" y="104"/>
                  </a:lnTo>
                  <a:lnTo>
                    <a:pt x="17996" y="89"/>
                  </a:lnTo>
                  <a:lnTo>
                    <a:pt x="18484" y="71"/>
                  </a:lnTo>
                  <a:lnTo>
                    <a:pt x="18908" y="50"/>
                  </a:lnTo>
                  <a:lnTo>
                    <a:pt x="19259" y="27"/>
                  </a:lnTo>
                  <a:lnTo>
                    <a:pt x="19535" y="0"/>
                  </a:lnTo>
                  <a:lnTo>
                    <a:pt x="19545" y="8"/>
                  </a:lnTo>
                  <a:lnTo>
                    <a:pt x="19567" y="32"/>
                  </a:lnTo>
                  <a:lnTo>
                    <a:pt x="19583" y="49"/>
                  </a:lnTo>
                  <a:lnTo>
                    <a:pt x="19601" y="69"/>
                  </a:lnTo>
                  <a:lnTo>
                    <a:pt x="19620" y="91"/>
                  </a:lnTo>
                  <a:lnTo>
                    <a:pt x="19640" y="117"/>
                  </a:lnTo>
                  <a:lnTo>
                    <a:pt x="19660" y="145"/>
                  </a:lnTo>
                  <a:lnTo>
                    <a:pt x="19681" y="173"/>
                  </a:lnTo>
                  <a:lnTo>
                    <a:pt x="19700" y="205"/>
                  </a:lnTo>
                  <a:lnTo>
                    <a:pt x="19719" y="238"/>
                  </a:lnTo>
                  <a:lnTo>
                    <a:pt x="19733" y="271"/>
                  </a:lnTo>
                  <a:lnTo>
                    <a:pt x="19747" y="305"/>
                  </a:lnTo>
                  <a:lnTo>
                    <a:pt x="19758" y="341"/>
                  </a:lnTo>
                  <a:lnTo>
                    <a:pt x="19765" y="375"/>
                  </a:lnTo>
                  <a:lnTo>
                    <a:pt x="19767" y="410"/>
                  </a:lnTo>
                  <a:lnTo>
                    <a:pt x="19766" y="445"/>
                  </a:lnTo>
                  <a:lnTo>
                    <a:pt x="19758" y="480"/>
                  </a:lnTo>
                  <a:lnTo>
                    <a:pt x="19745" y="513"/>
                  </a:lnTo>
                  <a:lnTo>
                    <a:pt x="19725" y="545"/>
                  </a:lnTo>
                  <a:lnTo>
                    <a:pt x="19697" y="576"/>
                  </a:lnTo>
                  <a:lnTo>
                    <a:pt x="19664" y="606"/>
                  </a:lnTo>
                  <a:lnTo>
                    <a:pt x="19622" y="634"/>
                  </a:lnTo>
                  <a:lnTo>
                    <a:pt x="19571" y="660"/>
                  </a:lnTo>
                  <a:lnTo>
                    <a:pt x="19510" y="682"/>
                  </a:lnTo>
                  <a:lnTo>
                    <a:pt x="19440" y="702"/>
                  </a:lnTo>
                  <a:lnTo>
                    <a:pt x="19360" y="719"/>
                  </a:lnTo>
                  <a:lnTo>
                    <a:pt x="19269" y="733"/>
                  </a:lnTo>
                  <a:lnTo>
                    <a:pt x="19166" y="743"/>
                  </a:lnTo>
                  <a:lnTo>
                    <a:pt x="19050" y="749"/>
                  </a:lnTo>
                  <a:lnTo>
                    <a:pt x="18924" y="751"/>
                  </a:lnTo>
                  <a:lnTo>
                    <a:pt x="18734" y="754"/>
                  </a:lnTo>
                  <a:lnTo>
                    <a:pt x="18196" y="763"/>
                  </a:lnTo>
                  <a:lnTo>
                    <a:pt x="17357" y="775"/>
                  </a:lnTo>
                  <a:lnTo>
                    <a:pt x="16262" y="790"/>
                  </a:lnTo>
                  <a:lnTo>
                    <a:pt x="14959" y="806"/>
                  </a:lnTo>
                  <a:lnTo>
                    <a:pt x="13494" y="823"/>
                  </a:lnTo>
                  <a:lnTo>
                    <a:pt x="12716" y="832"/>
                  </a:lnTo>
                  <a:lnTo>
                    <a:pt x="11915" y="839"/>
                  </a:lnTo>
                  <a:lnTo>
                    <a:pt x="11097" y="847"/>
                  </a:lnTo>
                  <a:lnTo>
                    <a:pt x="10268" y="854"/>
                  </a:lnTo>
                  <a:lnTo>
                    <a:pt x="9432" y="859"/>
                  </a:lnTo>
                  <a:lnTo>
                    <a:pt x="8599" y="864"/>
                  </a:lnTo>
                  <a:lnTo>
                    <a:pt x="7770" y="869"/>
                  </a:lnTo>
                  <a:lnTo>
                    <a:pt x="6955" y="872"/>
                  </a:lnTo>
                  <a:lnTo>
                    <a:pt x="6156" y="873"/>
                  </a:lnTo>
                  <a:lnTo>
                    <a:pt x="5383" y="873"/>
                  </a:lnTo>
                  <a:lnTo>
                    <a:pt x="4638" y="870"/>
                  </a:lnTo>
                  <a:lnTo>
                    <a:pt x="3928" y="867"/>
                  </a:lnTo>
                  <a:lnTo>
                    <a:pt x="3262" y="861"/>
                  </a:lnTo>
                  <a:lnTo>
                    <a:pt x="2641" y="853"/>
                  </a:lnTo>
                  <a:lnTo>
                    <a:pt x="2073" y="842"/>
                  </a:lnTo>
                  <a:lnTo>
                    <a:pt x="1564" y="830"/>
                  </a:lnTo>
                  <a:lnTo>
                    <a:pt x="1121" y="815"/>
                  </a:lnTo>
                  <a:lnTo>
                    <a:pt x="747" y="796"/>
                  </a:lnTo>
                  <a:lnTo>
                    <a:pt x="450" y="775"/>
                  </a:lnTo>
                  <a:lnTo>
                    <a:pt x="234" y="751"/>
                  </a:lnTo>
                  <a:lnTo>
                    <a:pt x="227" y="745"/>
                  </a:lnTo>
                  <a:lnTo>
                    <a:pt x="207" y="729"/>
                  </a:lnTo>
                  <a:lnTo>
                    <a:pt x="178" y="703"/>
                  </a:lnTo>
                  <a:lnTo>
                    <a:pt x="144" y="668"/>
                  </a:lnTo>
                  <a:lnTo>
                    <a:pt x="125" y="648"/>
                  </a:lnTo>
                  <a:lnTo>
                    <a:pt x="106" y="626"/>
                  </a:lnTo>
                  <a:lnTo>
                    <a:pt x="88" y="603"/>
                  </a:lnTo>
                  <a:lnTo>
                    <a:pt x="70" y="578"/>
                  </a:lnTo>
                  <a:lnTo>
                    <a:pt x="53" y="553"/>
                  </a:lnTo>
                  <a:lnTo>
                    <a:pt x="38" y="526"/>
                  </a:lnTo>
                  <a:lnTo>
                    <a:pt x="24" y="498"/>
                  </a:lnTo>
                  <a:lnTo>
                    <a:pt x="13" y="470"/>
                  </a:lnTo>
                  <a:lnTo>
                    <a:pt x="6" y="440"/>
                  </a:lnTo>
                  <a:lnTo>
                    <a:pt x="1" y="410"/>
                  </a:lnTo>
                  <a:lnTo>
                    <a:pt x="0" y="380"/>
                  </a:lnTo>
                  <a:lnTo>
                    <a:pt x="2" y="351"/>
                  </a:lnTo>
                  <a:lnTo>
                    <a:pt x="10" y="321"/>
                  </a:lnTo>
                  <a:lnTo>
                    <a:pt x="22" y="291"/>
                  </a:lnTo>
                  <a:lnTo>
                    <a:pt x="39" y="261"/>
                  </a:lnTo>
                  <a:lnTo>
                    <a:pt x="63" y="233"/>
                  </a:lnTo>
                  <a:lnTo>
                    <a:pt x="91" y="204"/>
                  </a:lnTo>
                  <a:lnTo>
                    <a:pt x="129" y="176"/>
                  </a:lnTo>
                  <a:lnTo>
                    <a:pt x="171" y="150"/>
                  </a:lnTo>
                  <a:lnTo>
                    <a:pt x="222" y="124"/>
                  </a:lnTo>
                  <a:lnTo>
                    <a:pt x="280" y="99"/>
                  </a:lnTo>
                  <a:lnTo>
                    <a:pt x="347" y="75"/>
                  </a:lnTo>
                  <a:lnTo>
                    <a:pt x="422" y="54"/>
                  </a:lnTo>
                  <a:lnTo>
                    <a:pt x="506" y="33"/>
                  </a:lnTo>
                  <a:close/>
                </a:path>
              </a:pathLst>
            </a:custGeom>
            <a:solidFill>
              <a:srgbClr val="bb7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11160" y="5942160"/>
              <a:ext cx="7873920" cy="374400"/>
            </a:xfrm>
            <a:custGeom>
              <a:avLst/>
              <a:gdLst/>
              <a:ahLst/>
              <a:rect l="l" t="t" r="r" b="b"/>
              <a:pathLst>
                <a:path w="19839" h="946">
                  <a:moveTo>
                    <a:pt x="19567" y="2"/>
                  </a:moveTo>
                  <a:lnTo>
                    <a:pt x="19294" y="29"/>
                  </a:lnTo>
                  <a:lnTo>
                    <a:pt x="18946" y="52"/>
                  </a:lnTo>
                  <a:lnTo>
                    <a:pt x="18526" y="74"/>
                  </a:lnTo>
                  <a:lnTo>
                    <a:pt x="18043" y="91"/>
                  </a:lnTo>
                  <a:lnTo>
                    <a:pt x="17501" y="106"/>
                  </a:lnTo>
                  <a:lnTo>
                    <a:pt x="16904" y="118"/>
                  </a:lnTo>
                  <a:lnTo>
                    <a:pt x="16258" y="128"/>
                  </a:lnTo>
                  <a:lnTo>
                    <a:pt x="15570" y="136"/>
                  </a:lnTo>
                  <a:lnTo>
                    <a:pt x="14845" y="142"/>
                  </a:lnTo>
                  <a:lnTo>
                    <a:pt x="14087" y="145"/>
                  </a:lnTo>
                  <a:lnTo>
                    <a:pt x="13304" y="147"/>
                  </a:lnTo>
                  <a:lnTo>
                    <a:pt x="12500" y="147"/>
                  </a:lnTo>
                  <a:lnTo>
                    <a:pt x="11681" y="145"/>
                  </a:lnTo>
                  <a:lnTo>
                    <a:pt x="10851" y="143"/>
                  </a:lnTo>
                  <a:lnTo>
                    <a:pt x="10018" y="139"/>
                  </a:lnTo>
                  <a:lnTo>
                    <a:pt x="9186" y="134"/>
                  </a:lnTo>
                  <a:lnTo>
                    <a:pt x="8360" y="128"/>
                  </a:lnTo>
                  <a:lnTo>
                    <a:pt x="7547" y="122"/>
                  </a:lnTo>
                  <a:lnTo>
                    <a:pt x="6752" y="114"/>
                  </a:lnTo>
                  <a:lnTo>
                    <a:pt x="5980" y="107"/>
                  </a:lnTo>
                  <a:lnTo>
                    <a:pt x="4528" y="91"/>
                  </a:lnTo>
                  <a:lnTo>
                    <a:pt x="3236" y="75"/>
                  </a:lnTo>
                  <a:lnTo>
                    <a:pt x="2148" y="60"/>
                  </a:lnTo>
                  <a:lnTo>
                    <a:pt x="1306" y="47"/>
                  </a:lnTo>
                  <a:lnTo>
                    <a:pt x="757" y="40"/>
                  </a:lnTo>
                  <a:lnTo>
                    <a:pt x="543" y="36"/>
                  </a:lnTo>
                  <a:lnTo>
                    <a:pt x="538" y="36"/>
                  </a:lnTo>
                  <a:lnTo>
                    <a:pt x="535" y="36"/>
                  </a:lnTo>
                  <a:lnTo>
                    <a:pt x="478" y="50"/>
                  </a:lnTo>
                  <a:lnTo>
                    <a:pt x="423" y="65"/>
                  </a:lnTo>
                  <a:lnTo>
                    <a:pt x="371" y="80"/>
                  </a:lnTo>
                  <a:lnTo>
                    <a:pt x="322" y="96"/>
                  </a:lnTo>
                  <a:lnTo>
                    <a:pt x="278" y="113"/>
                  </a:lnTo>
                  <a:lnTo>
                    <a:pt x="237" y="132"/>
                  </a:lnTo>
                  <a:lnTo>
                    <a:pt x="198" y="152"/>
                  </a:lnTo>
                  <a:lnTo>
                    <a:pt x="163" y="172"/>
                  </a:lnTo>
                  <a:lnTo>
                    <a:pt x="147" y="183"/>
                  </a:lnTo>
                  <a:lnTo>
                    <a:pt x="132" y="193"/>
                  </a:lnTo>
                  <a:lnTo>
                    <a:pt x="118" y="204"/>
                  </a:lnTo>
                  <a:lnTo>
                    <a:pt x="104" y="216"/>
                  </a:lnTo>
                  <a:lnTo>
                    <a:pt x="91" y="227"/>
                  </a:lnTo>
                  <a:lnTo>
                    <a:pt x="79" y="239"/>
                  </a:lnTo>
                  <a:lnTo>
                    <a:pt x="68" y="251"/>
                  </a:lnTo>
                  <a:lnTo>
                    <a:pt x="58" y="263"/>
                  </a:lnTo>
                  <a:lnTo>
                    <a:pt x="48" y="276"/>
                  </a:lnTo>
                  <a:lnTo>
                    <a:pt x="39" y="288"/>
                  </a:lnTo>
                  <a:lnTo>
                    <a:pt x="32" y="302"/>
                  </a:lnTo>
                  <a:lnTo>
                    <a:pt x="26" y="314"/>
                  </a:lnTo>
                  <a:lnTo>
                    <a:pt x="19" y="328"/>
                  </a:lnTo>
                  <a:lnTo>
                    <a:pt x="13" y="342"/>
                  </a:lnTo>
                  <a:lnTo>
                    <a:pt x="9" y="356"/>
                  </a:lnTo>
                  <a:lnTo>
                    <a:pt x="6" y="370"/>
                  </a:lnTo>
                  <a:lnTo>
                    <a:pt x="2" y="391"/>
                  </a:lnTo>
                  <a:lnTo>
                    <a:pt x="0" y="412"/>
                  </a:lnTo>
                  <a:lnTo>
                    <a:pt x="0" y="433"/>
                  </a:lnTo>
                  <a:lnTo>
                    <a:pt x="2" y="453"/>
                  </a:lnTo>
                  <a:lnTo>
                    <a:pt x="5" y="474"/>
                  </a:lnTo>
                  <a:lnTo>
                    <a:pt x="8" y="494"/>
                  </a:lnTo>
                  <a:lnTo>
                    <a:pt x="14" y="514"/>
                  </a:lnTo>
                  <a:lnTo>
                    <a:pt x="21" y="533"/>
                  </a:lnTo>
                  <a:lnTo>
                    <a:pt x="29" y="552"/>
                  </a:lnTo>
                  <a:lnTo>
                    <a:pt x="38" y="571"/>
                  </a:lnTo>
                  <a:lnTo>
                    <a:pt x="48" y="590"/>
                  </a:lnTo>
                  <a:lnTo>
                    <a:pt x="58" y="608"/>
                  </a:lnTo>
                  <a:lnTo>
                    <a:pt x="69" y="626"/>
                  </a:lnTo>
                  <a:lnTo>
                    <a:pt x="80" y="642"/>
                  </a:lnTo>
                  <a:lnTo>
                    <a:pt x="93" y="659"/>
                  </a:lnTo>
                  <a:lnTo>
                    <a:pt x="104" y="674"/>
                  </a:lnTo>
                  <a:lnTo>
                    <a:pt x="129" y="704"/>
                  </a:lnTo>
                  <a:lnTo>
                    <a:pt x="154" y="731"/>
                  </a:lnTo>
                  <a:lnTo>
                    <a:pt x="177" y="755"/>
                  </a:lnTo>
                  <a:lnTo>
                    <a:pt x="199" y="776"/>
                  </a:lnTo>
                  <a:lnTo>
                    <a:pt x="233" y="806"/>
                  </a:lnTo>
                  <a:lnTo>
                    <a:pt x="249" y="818"/>
                  </a:lnTo>
                  <a:lnTo>
                    <a:pt x="257" y="823"/>
                  </a:lnTo>
                  <a:lnTo>
                    <a:pt x="265" y="824"/>
                  </a:lnTo>
                  <a:lnTo>
                    <a:pt x="479" y="849"/>
                  </a:lnTo>
                  <a:lnTo>
                    <a:pt x="773" y="869"/>
                  </a:lnTo>
                  <a:lnTo>
                    <a:pt x="1143" y="887"/>
                  </a:lnTo>
                  <a:lnTo>
                    <a:pt x="1584" y="902"/>
                  </a:lnTo>
                  <a:lnTo>
                    <a:pt x="2088" y="915"/>
                  </a:lnTo>
                  <a:lnTo>
                    <a:pt x="2651" y="926"/>
                  </a:lnTo>
                  <a:lnTo>
                    <a:pt x="3267" y="933"/>
                  </a:lnTo>
                  <a:lnTo>
                    <a:pt x="3930" y="940"/>
                  </a:lnTo>
                  <a:lnTo>
                    <a:pt x="4633" y="943"/>
                  </a:lnTo>
                  <a:lnTo>
                    <a:pt x="5373" y="946"/>
                  </a:lnTo>
                  <a:lnTo>
                    <a:pt x="6141" y="946"/>
                  </a:lnTo>
                  <a:lnTo>
                    <a:pt x="6935" y="944"/>
                  </a:lnTo>
                  <a:lnTo>
                    <a:pt x="7746" y="942"/>
                  </a:lnTo>
                  <a:lnTo>
                    <a:pt x="8569" y="938"/>
                  </a:lnTo>
                  <a:lnTo>
                    <a:pt x="9400" y="933"/>
                  </a:lnTo>
                  <a:lnTo>
                    <a:pt x="10232" y="927"/>
                  </a:lnTo>
                  <a:lnTo>
                    <a:pt x="11057" y="921"/>
                  </a:lnTo>
                  <a:lnTo>
                    <a:pt x="11873" y="913"/>
                  </a:lnTo>
                  <a:lnTo>
                    <a:pt x="12673" y="906"/>
                  </a:lnTo>
                  <a:lnTo>
                    <a:pt x="13450" y="897"/>
                  </a:lnTo>
                  <a:lnTo>
                    <a:pt x="14915" y="881"/>
                  </a:lnTo>
                  <a:lnTo>
                    <a:pt x="16223" y="864"/>
                  </a:lnTo>
                  <a:lnTo>
                    <a:pt x="17328" y="849"/>
                  </a:lnTo>
                  <a:lnTo>
                    <a:pt x="18183" y="837"/>
                  </a:lnTo>
                  <a:lnTo>
                    <a:pt x="18743" y="828"/>
                  </a:lnTo>
                  <a:lnTo>
                    <a:pt x="18960" y="825"/>
                  </a:lnTo>
                  <a:lnTo>
                    <a:pt x="19052" y="824"/>
                  </a:lnTo>
                  <a:lnTo>
                    <a:pt x="19137" y="820"/>
                  </a:lnTo>
                  <a:lnTo>
                    <a:pt x="19178" y="818"/>
                  </a:lnTo>
                  <a:lnTo>
                    <a:pt x="19219" y="815"/>
                  </a:lnTo>
                  <a:lnTo>
                    <a:pt x="19258" y="812"/>
                  </a:lnTo>
                  <a:lnTo>
                    <a:pt x="19295" y="808"/>
                  </a:lnTo>
                  <a:lnTo>
                    <a:pt x="19331" y="803"/>
                  </a:lnTo>
                  <a:lnTo>
                    <a:pt x="19367" y="798"/>
                  </a:lnTo>
                  <a:lnTo>
                    <a:pt x="19401" y="792"/>
                  </a:lnTo>
                  <a:lnTo>
                    <a:pt x="19433" y="786"/>
                  </a:lnTo>
                  <a:lnTo>
                    <a:pt x="19464" y="778"/>
                  </a:lnTo>
                  <a:lnTo>
                    <a:pt x="19494" y="772"/>
                  </a:lnTo>
                  <a:lnTo>
                    <a:pt x="19524" y="763"/>
                  </a:lnTo>
                  <a:lnTo>
                    <a:pt x="19551" y="755"/>
                  </a:lnTo>
                  <a:lnTo>
                    <a:pt x="19577" y="746"/>
                  </a:lnTo>
                  <a:lnTo>
                    <a:pt x="19602" y="736"/>
                  </a:lnTo>
                  <a:lnTo>
                    <a:pt x="19627" y="726"/>
                  </a:lnTo>
                  <a:lnTo>
                    <a:pt x="19649" y="716"/>
                  </a:lnTo>
                  <a:lnTo>
                    <a:pt x="19670" y="705"/>
                  </a:lnTo>
                  <a:lnTo>
                    <a:pt x="19690" y="693"/>
                  </a:lnTo>
                  <a:lnTo>
                    <a:pt x="19709" y="681"/>
                  </a:lnTo>
                  <a:lnTo>
                    <a:pt x="19726" y="668"/>
                  </a:lnTo>
                  <a:lnTo>
                    <a:pt x="19743" y="655"/>
                  </a:lnTo>
                  <a:lnTo>
                    <a:pt x="19758" y="641"/>
                  </a:lnTo>
                  <a:lnTo>
                    <a:pt x="19772" y="627"/>
                  </a:lnTo>
                  <a:lnTo>
                    <a:pt x="19784" y="612"/>
                  </a:lnTo>
                  <a:lnTo>
                    <a:pt x="19796" y="596"/>
                  </a:lnTo>
                  <a:lnTo>
                    <a:pt x="19805" y="581"/>
                  </a:lnTo>
                  <a:lnTo>
                    <a:pt x="19814" y="564"/>
                  </a:lnTo>
                  <a:lnTo>
                    <a:pt x="19822" y="546"/>
                  </a:lnTo>
                  <a:lnTo>
                    <a:pt x="19829" y="524"/>
                  </a:lnTo>
                  <a:lnTo>
                    <a:pt x="19834" y="502"/>
                  </a:lnTo>
                  <a:lnTo>
                    <a:pt x="19838" y="479"/>
                  </a:lnTo>
                  <a:lnTo>
                    <a:pt x="19839" y="456"/>
                  </a:lnTo>
                  <a:lnTo>
                    <a:pt x="19838" y="433"/>
                  </a:lnTo>
                  <a:lnTo>
                    <a:pt x="19837" y="410"/>
                  </a:lnTo>
                  <a:lnTo>
                    <a:pt x="19833" y="387"/>
                  </a:lnTo>
                  <a:lnTo>
                    <a:pt x="19828" y="365"/>
                  </a:lnTo>
                  <a:lnTo>
                    <a:pt x="19820" y="342"/>
                  </a:lnTo>
                  <a:lnTo>
                    <a:pt x="19813" y="319"/>
                  </a:lnTo>
                  <a:lnTo>
                    <a:pt x="19804" y="298"/>
                  </a:lnTo>
                  <a:lnTo>
                    <a:pt x="19794" y="276"/>
                  </a:lnTo>
                  <a:lnTo>
                    <a:pt x="19783" y="255"/>
                  </a:lnTo>
                  <a:lnTo>
                    <a:pt x="19772" y="234"/>
                  </a:lnTo>
                  <a:lnTo>
                    <a:pt x="19761" y="214"/>
                  </a:lnTo>
                  <a:lnTo>
                    <a:pt x="19748" y="194"/>
                  </a:lnTo>
                  <a:lnTo>
                    <a:pt x="19722" y="158"/>
                  </a:lnTo>
                  <a:lnTo>
                    <a:pt x="19697" y="123"/>
                  </a:lnTo>
                  <a:lnTo>
                    <a:pt x="19673" y="93"/>
                  </a:lnTo>
                  <a:lnTo>
                    <a:pt x="19649" y="66"/>
                  </a:lnTo>
                  <a:lnTo>
                    <a:pt x="19613" y="28"/>
                  </a:lnTo>
                  <a:lnTo>
                    <a:pt x="19596" y="11"/>
                  </a:lnTo>
                  <a:lnTo>
                    <a:pt x="19583" y="0"/>
                  </a:lnTo>
                  <a:lnTo>
                    <a:pt x="19567" y="2"/>
                  </a:lnTo>
                  <a:close/>
                  <a:moveTo>
                    <a:pt x="19558" y="75"/>
                  </a:moveTo>
                  <a:lnTo>
                    <a:pt x="19576" y="92"/>
                  </a:lnTo>
                  <a:lnTo>
                    <a:pt x="19603" y="122"/>
                  </a:lnTo>
                  <a:lnTo>
                    <a:pt x="19620" y="142"/>
                  </a:lnTo>
                  <a:lnTo>
                    <a:pt x="19638" y="163"/>
                  </a:lnTo>
                  <a:lnTo>
                    <a:pt x="19656" y="185"/>
                  </a:lnTo>
                  <a:lnTo>
                    <a:pt x="19674" y="211"/>
                  </a:lnTo>
                  <a:lnTo>
                    <a:pt x="19692" y="237"/>
                  </a:lnTo>
                  <a:lnTo>
                    <a:pt x="19710" y="266"/>
                  </a:lnTo>
                  <a:lnTo>
                    <a:pt x="19725" y="296"/>
                  </a:lnTo>
                  <a:lnTo>
                    <a:pt x="19740" y="325"/>
                  </a:lnTo>
                  <a:lnTo>
                    <a:pt x="19746" y="340"/>
                  </a:lnTo>
                  <a:lnTo>
                    <a:pt x="19751" y="356"/>
                  </a:lnTo>
                  <a:lnTo>
                    <a:pt x="19756" y="371"/>
                  </a:lnTo>
                  <a:lnTo>
                    <a:pt x="19760" y="387"/>
                  </a:lnTo>
                  <a:lnTo>
                    <a:pt x="19763" y="404"/>
                  </a:lnTo>
                  <a:lnTo>
                    <a:pt x="19766" y="418"/>
                  </a:lnTo>
                  <a:lnTo>
                    <a:pt x="19767" y="435"/>
                  </a:lnTo>
                  <a:lnTo>
                    <a:pt x="19768" y="449"/>
                  </a:lnTo>
                  <a:lnTo>
                    <a:pt x="19767" y="468"/>
                  </a:lnTo>
                  <a:lnTo>
                    <a:pt x="19764" y="487"/>
                  </a:lnTo>
                  <a:lnTo>
                    <a:pt x="19761" y="504"/>
                  </a:lnTo>
                  <a:lnTo>
                    <a:pt x="19755" y="521"/>
                  </a:lnTo>
                  <a:lnTo>
                    <a:pt x="19751" y="531"/>
                  </a:lnTo>
                  <a:lnTo>
                    <a:pt x="19746" y="541"/>
                  </a:lnTo>
                  <a:lnTo>
                    <a:pt x="19740" y="551"/>
                  </a:lnTo>
                  <a:lnTo>
                    <a:pt x="19732" y="561"/>
                  </a:lnTo>
                  <a:lnTo>
                    <a:pt x="19725" y="572"/>
                  </a:lnTo>
                  <a:lnTo>
                    <a:pt x="19716" y="582"/>
                  </a:lnTo>
                  <a:lnTo>
                    <a:pt x="19706" y="592"/>
                  </a:lnTo>
                  <a:lnTo>
                    <a:pt x="19695" y="602"/>
                  </a:lnTo>
                  <a:lnTo>
                    <a:pt x="19683" y="612"/>
                  </a:lnTo>
                  <a:lnTo>
                    <a:pt x="19669" y="622"/>
                  </a:lnTo>
                  <a:lnTo>
                    <a:pt x="19654" y="632"/>
                  </a:lnTo>
                  <a:lnTo>
                    <a:pt x="19638" y="642"/>
                  </a:lnTo>
                  <a:lnTo>
                    <a:pt x="19620" y="650"/>
                  </a:lnTo>
                  <a:lnTo>
                    <a:pt x="19602" y="660"/>
                  </a:lnTo>
                  <a:lnTo>
                    <a:pt x="19582" y="669"/>
                  </a:lnTo>
                  <a:lnTo>
                    <a:pt x="19560" y="678"/>
                  </a:lnTo>
                  <a:lnTo>
                    <a:pt x="19536" y="685"/>
                  </a:lnTo>
                  <a:lnTo>
                    <a:pt x="19511" y="694"/>
                  </a:lnTo>
                  <a:lnTo>
                    <a:pt x="19485" y="701"/>
                  </a:lnTo>
                  <a:lnTo>
                    <a:pt x="19457" y="708"/>
                  </a:lnTo>
                  <a:lnTo>
                    <a:pt x="19425" y="715"/>
                  </a:lnTo>
                  <a:lnTo>
                    <a:pt x="19393" y="721"/>
                  </a:lnTo>
                  <a:lnTo>
                    <a:pt x="19360" y="727"/>
                  </a:lnTo>
                  <a:lnTo>
                    <a:pt x="19324" y="732"/>
                  </a:lnTo>
                  <a:lnTo>
                    <a:pt x="19285" y="737"/>
                  </a:lnTo>
                  <a:lnTo>
                    <a:pt x="19245" y="741"/>
                  </a:lnTo>
                  <a:lnTo>
                    <a:pt x="19203" y="745"/>
                  </a:lnTo>
                  <a:lnTo>
                    <a:pt x="19160" y="748"/>
                  </a:lnTo>
                  <a:lnTo>
                    <a:pt x="19113" y="751"/>
                  </a:lnTo>
                  <a:lnTo>
                    <a:pt x="19064" y="752"/>
                  </a:lnTo>
                  <a:lnTo>
                    <a:pt x="19013" y="753"/>
                  </a:lnTo>
                  <a:lnTo>
                    <a:pt x="18960" y="753"/>
                  </a:lnTo>
                  <a:lnTo>
                    <a:pt x="18743" y="757"/>
                  </a:lnTo>
                  <a:lnTo>
                    <a:pt x="18185" y="766"/>
                  </a:lnTo>
                  <a:lnTo>
                    <a:pt x="17332" y="778"/>
                  </a:lnTo>
                  <a:lnTo>
                    <a:pt x="16232" y="793"/>
                  </a:lnTo>
                  <a:lnTo>
                    <a:pt x="14927" y="809"/>
                  </a:lnTo>
                  <a:lnTo>
                    <a:pt x="13465" y="825"/>
                  </a:lnTo>
                  <a:lnTo>
                    <a:pt x="12690" y="834"/>
                  </a:lnTo>
                  <a:lnTo>
                    <a:pt x="11893" y="842"/>
                  </a:lnTo>
                  <a:lnTo>
                    <a:pt x="11078" y="849"/>
                  </a:lnTo>
                  <a:lnTo>
                    <a:pt x="10254" y="856"/>
                  </a:lnTo>
                  <a:lnTo>
                    <a:pt x="9424" y="861"/>
                  </a:lnTo>
                  <a:lnTo>
                    <a:pt x="8596" y="866"/>
                  </a:lnTo>
                  <a:lnTo>
                    <a:pt x="7774" y="870"/>
                  </a:lnTo>
                  <a:lnTo>
                    <a:pt x="6963" y="873"/>
                  </a:lnTo>
                  <a:lnTo>
                    <a:pt x="6172" y="875"/>
                  </a:lnTo>
                  <a:lnTo>
                    <a:pt x="5404" y="874"/>
                  </a:lnTo>
                  <a:lnTo>
                    <a:pt x="4665" y="873"/>
                  </a:lnTo>
                  <a:lnTo>
                    <a:pt x="3961" y="869"/>
                  </a:lnTo>
                  <a:lnTo>
                    <a:pt x="3299" y="863"/>
                  </a:lnTo>
                  <a:lnTo>
                    <a:pt x="2682" y="855"/>
                  </a:lnTo>
                  <a:lnTo>
                    <a:pt x="2118" y="845"/>
                  </a:lnTo>
                  <a:lnTo>
                    <a:pt x="1613" y="832"/>
                  </a:lnTo>
                  <a:lnTo>
                    <a:pt x="1171" y="817"/>
                  </a:lnTo>
                  <a:lnTo>
                    <a:pt x="799" y="799"/>
                  </a:lnTo>
                  <a:lnTo>
                    <a:pt x="501" y="778"/>
                  </a:lnTo>
                  <a:lnTo>
                    <a:pt x="285" y="755"/>
                  </a:lnTo>
                  <a:lnTo>
                    <a:pt x="270" y="742"/>
                  </a:lnTo>
                  <a:lnTo>
                    <a:pt x="243" y="719"/>
                  </a:lnTo>
                  <a:lnTo>
                    <a:pt x="227" y="704"/>
                  </a:lnTo>
                  <a:lnTo>
                    <a:pt x="208" y="685"/>
                  </a:lnTo>
                  <a:lnTo>
                    <a:pt x="190" y="665"/>
                  </a:lnTo>
                  <a:lnTo>
                    <a:pt x="171" y="643"/>
                  </a:lnTo>
                  <a:lnTo>
                    <a:pt x="151" y="619"/>
                  </a:lnTo>
                  <a:lnTo>
                    <a:pt x="134" y="595"/>
                  </a:lnTo>
                  <a:lnTo>
                    <a:pt x="116" y="569"/>
                  </a:lnTo>
                  <a:lnTo>
                    <a:pt x="101" y="541"/>
                  </a:lnTo>
                  <a:lnTo>
                    <a:pt x="95" y="528"/>
                  </a:lnTo>
                  <a:lnTo>
                    <a:pt x="89" y="513"/>
                  </a:lnTo>
                  <a:lnTo>
                    <a:pt x="84" y="498"/>
                  </a:lnTo>
                  <a:lnTo>
                    <a:pt x="79" y="484"/>
                  </a:lnTo>
                  <a:lnTo>
                    <a:pt x="75" y="469"/>
                  </a:lnTo>
                  <a:lnTo>
                    <a:pt x="73" y="454"/>
                  </a:lnTo>
                  <a:lnTo>
                    <a:pt x="72" y="440"/>
                  </a:lnTo>
                  <a:lnTo>
                    <a:pt x="72" y="425"/>
                  </a:lnTo>
                  <a:lnTo>
                    <a:pt x="72" y="415"/>
                  </a:lnTo>
                  <a:lnTo>
                    <a:pt x="72" y="405"/>
                  </a:lnTo>
                  <a:lnTo>
                    <a:pt x="74" y="395"/>
                  </a:lnTo>
                  <a:lnTo>
                    <a:pt x="75" y="385"/>
                  </a:lnTo>
                  <a:lnTo>
                    <a:pt x="78" y="374"/>
                  </a:lnTo>
                  <a:lnTo>
                    <a:pt x="82" y="363"/>
                  </a:lnTo>
                  <a:lnTo>
                    <a:pt x="86" y="353"/>
                  </a:lnTo>
                  <a:lnTo>
                    <a:pt x="91" y="342"/>
                  </a:lnTo>
                  <a:lnTo>
                    <a:pt x="98" y="330"/>
                  </a:lnTo>
                  <a:lnTo>
                    <a:pt x="105" y="320"/>
                  </a:lnTo>
                  <a:lnTo>
                    <a:pt x="113" y="309"/>
                  </a:lnTo>
                  <a:lnTo>
                    <a:pt x="121" y="299"/>
                  </a:lnTo>
                  <a:lnTo>
                    <a:pt x="130" y="289"/>
                  </a:lnTo>
                  <a:lnTo>
                    <a:pt x="140" y="279"/>
                  </a:lnTo>
                  <a:lnTo>
                    <a:pt x="151" y="270"/>
                  </a:lnTo>
                  <a:lnTo>
                    <a:pt x="162" y="261"/>
                  </a:lnTo>
                  <a:lnTo>
                    <a:pt x="187" y="242"/>
                  </a:lnTo>
                  <a:lnTo>
                    <a:pt x="216" y="224"/>
                  </a:lnTo>
                  <a:lnTo>
                    <a:pt x="247" y="206"/>
                  </a:lnTo>
                  <a:lnTo>
                    <a:pt x="281" y="190"/>
                  </a:lnTo>
                  <a:lnTo>
                    <a:pt x="319" y="175"/>
                  </a:lnTo>
                  <a:lnTo>
                    <a:pt x="358" y="159"/>
                  </a:lnTo>
                  <a:lnTo>
                    <a:pt x="401" y="145"/>
                  </a:lnTo>
                  <a:lnTo>
                    <a:pt x="447" y="132"/>
                  </a:lnTo>
                  <a:lnTo>
                    <a:pt x="495" y="119"/>
                  </a:lnTo>
                  <a:lnTo>
                    <a:pt x="547" y="107"/>
                  </a:lnTo>
                  <a:lnTo>
                    <a:pt x="778" y="111"/>
                  </a:lnTo>
                  <a:lnTo>
                    <a:pt x="1338" y="119"/>
                  </a:lnTo>
                  <a:lnTo>
                    <a:pt x="2186" y="132"/>
                  </a:lnTo>
                  <a:lnTo>
                    <a:pt x="3277" y="147"/>
                  </a:lnTo>
                  <a:lnTo>
                    <a:pt x="4567" y="163"/>
                  </a:lnTo>
                  <a:lnTo>
                    <a:pt x="6015" y="178"/>
                  </a:lnTo>
                  <a:lnTo>
                    <a:pt x="6783" y="186"/>
                  </a:lnTo>
                  <a:lnTo>
                    <a:pt x="7575" y="193"/>
                  </a:lnTo>
                  <a:lnTo>
                    <a:pt x="8384" y="200"/>
                  </a:lnTo>
                  <a:lnTo>
                    <a:pt x="9205" y="205"/>
                  </a:lnTo>
                  <a:lnTo>
                    <a:pt x="10033" y="210"/>
                  </a:lnTo>
                  <a:lnTo>
                    <a:pt x="10862" y="214"/>
                  </a:lnTo>
                  <a:lnTo>
                    <a:pt x="11687" y="217"/>
                  </a:lnTo>
                  <a:lnTo>
                    <a:pt x="12501" y="219"/>
                  </a:lnTo>
                  <a:lnTo>
                    <a:pt x="13302" y="219"/>
                  </a:lnTo>
                  <a:lnTo>
                    <a:pt x="14081" y="216"/>
                  </a:lnTo>
                  <a:lnTo>
                    <a:pt x="14835" y="212"/>
                  </a:lnTo>
                  <a:lnTo>
                    <a:pt x="15557" y="208"/>
                  </a:lnTo>
                  <a:lnTo>
                    <a:pt x="16243" y="200"/>
                  </a:lnTo>
                  <a:lnTo>
                    <a:pt x="16886" y="190"/>
                  </a:lnTo>
                  <a:lnTo>
                    <a:pt x="17482" y="178"/>
                  </a:lnTo>
                  <a:lnTo>
                    <a:pt x="18025" y="163"/>
                  </a:lnTo>
                  <a:lnTo>
                    <a:pt x="18509" y="145"/>
                  </a:lnTo>
                  <a:lnTo>
                    <a:pt x="18930" y="124"/>
                  </a:lnTo>
                  <a:lnTo>
                    <a:pt x="19281" y="101"/>
                  </a:lnTo>
                  <a:lnTo>
                    <a:pt x="19558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1370160" y="3705120"/>
              <a:ext cx="477720" cy="119160"/>
            </a:xfrm>
            <a:custGeom>
              <a:avLst/>
              <a:gdLst/>
              <a:ahLst/>
              <a:rect l="l" t="t" r="r" b="b"/>
              <a:pathLst>
                <a:path w="1205" h="301">
                  <a:moveTo>
                    <a:pt x="1081" y="23"/>
                  </a:moveTo>
                  <a:lnTo>
                    <a:pt x="1067" y="40"/>
                  </a:lnTo>
                  <a:lnTo>
                    <a:pt x="1053" y="53"/>
                  </a:lnTo>
                  <a:lnTo>
                    <a:pt x="1040" y="67"/>
                  </a:lnTo>
                  <a:lnTo>
                    <a:pt x="1026" y="79"/>
                  </a:lnTo>
                  <a:lnTo>
                    <a:pt x="1012" y="90"/>
                  </a:lnTo>
                  <a:lnTo>
                    <a:pt x="999" y="102"/>
                  </a:lnTo>
                  <a:lnTo>
                    <a:pt x="985" y="110"/>
                  </a:lnTo>
                  <a:lnTo>
                    <a:pt x="971" y="119"/>
                  </a:lnTo>
                  <a:lnTo>
                    <a:pt x="958" y="126"/>
                  </a:lnTo>
                  <a:lnTo>
                    <a:pt x="944" y="134"/>
                  </a:lnTo>
                  <a:lnTo>
                    <a:pt x="932" y="139"/>
                  </a:lnTo>
                  <a:lnTo>
                    <a:pt x="918" y="144"/>
                  </a:lnTo>
                  <a:lnTo>
                    <a:pt x="904" y="147"/>
                  </a:lnTo>
                  <a:lnTo>
                    <a:pt x="892" y="150"/>
                  </a:lnTo>
                  <a:lnTo>
                    <a:pt x="878" y="152"/>
                  </a:lnTo>
                  <a:lnTo>
                    <a:pt x="866" y="152"/>
                  </a:lnTo>
                  <a:lnTo>
                    <a:pt x="851" y="152"/>
                  </a:lnTo>
                  <a:lnTo>
                    <a:pt x="837" y="151"/>
                  </a:lnTo>
                  <a:lnTo>
                    <a:pt x="824" y="149"/>
                  </a:lnTo>
                  <a:lnTo>
                    <a:pt x="811" y="145"/>
                  </a:lnTo>
                  <a:lnTo>
                    <a:pt x="799" y="141"/>
                  </a:lnTo>
                  <a:lnTo>
                    <a:pt x="789" y="136"/>
                  </a:lnTo>
                  <a:lnTo>
                    <a:pt x="778" y="131"/>
                  </a:lnTo>
                  <a:lnTo>
                    <a:pt x="769" y="126"/>
                  </a:lnTo>
                  <a:lnTo>
                    <a:pt x="753" y="115"/>
                  </a:lnTo>
                  <a:lnTo>
                    <a:pt x="742" y="107"/>
                  </a:lnTo>
                  <a:lnTo>
                    <a:pt x="734" y="100"/>
                  </a:lnTo>
                  <a:lnTo>
                    <a:pt x="732" y="98"/>
                  </a:lnTo>
                  <a:lnTo>
                    <a:pt x="722" y="89"/>
                  </a:lnTo>
                  <a:lnTo>
                    <a:pt x="712" y="83"/>
                  </a:lnTo>
                  <a:lnTo>
                    <a:pt x="701" y="79"/>
                  </a:lnTo>
                  <a:lnTo>
                    <a:pt x="689" y="76"/>
                  </a:lnTo>
                  <a:lnTo>
                    <a:pt x="678" y="76"/>
                  </a:lnTo>
                  <a:lnTo>
                    <a:pt x="666" y="77"/>
                  </a:lnTo>
                  <a:lnTo>
                    <a:pt x="655" y="79"/>
                  </a:lnTo>
                  <a:lnTo>
                    <a:pt x="644" y="84"/>
                  </a:lnTo>
                  <a:lnTo>
                    <a:pt x="612" y="102"/>
                  </a:lnTo>
                  <a:lnTo>
                    <a:pt x="583" y="116"/>
                  </a:lnTo>
                  <a:lnTo>
                    <a:pt x="554" y="129"/>
                  </a:lnTo>
                  <a:lnTo>
                    <a:pt x="526" y="139"/>
                  </a:lnTo>
                  <a:lnTo>
                    <a:pt x="499" y="147"/>
                  </a:lnTo>
                  <a:lnTo>
                    <a:pt x="473" y="154"/>
                  </a:lnTo>
                  <a:lnTo>
                    <a:pt x="449" y="159"/>
                  </a:lnTo>
                  <a:lnTo>
                    <a:pt x="425" y="162"/>
                  </a:lnTo>
                  <a:lnTo>
                    <a:pt x="401" y="164"/>
                  </a:lnTo>
                  <a:lnTo>
                    <a:pt x="379" y="164"/>
                  </a:lnTo>
                  <a:lnTo>
                    <a:pt x="359" y="162"/>
                  </a:lnTo>
                  <a:lnTo>
                    <a:pt x="339" y="160"/>
                  </a:lnTo>
                  <a:lnTo>
                    <a:pt x="319" y="157"/>
                  </a:lnTo>
                  <a:lnTo>
                    <a:pt x="302" y="152"/>
                  </a:lnTo>
                  <a:lnTo>
                    <a:pt x="285" y="147"/>
                  </a:lnTo>
                  <a:lnTo>
                    <a:pt x="269" y="141"/>
                  </a:lnTo>
                  <a:lnTo>
                    <a:pt x="254" y="134"/>
                  </a:lnTo>
                  <a:lnTo>
                    <a:pt x="239" y="126"/>
                  </a:lnTo>
                  <a:lnTo>
                    <a:pt x="225" y="119"/>
                  </a:lnTo>
                  <a:lnTo>
                    <a:pt x="213" y="112"/>
                  </a:lnTo>
                  <a:lnTo>
                    <a:pt x="190" y="94"/>
                  </a:lnTo>
                  <a:lnTo>
                    <a:pt x="172" y="78"/>
                  </a:lnTo>
                  <a:lnTo>
                    <a:pt x="157" y="63"/>
                  </a:lnTo>
                  <a:lnTo>
                    <a:pt x="146" y="49"/>
                  </a:lnTo>
                  <a:lnTo>
                    <a:pt x="137" y="38"/>
                  </a:lnTo>
                  <a:lnTo>
                    <a:pt x="132" y="32"/>
                  </a:lnTo>
                  <a:lnTo>
                    <a:pt x="128" y="26"/>
                  </a:lnTo>
                  <a:lnTo>
                    <a:pt x="123" y="21"/>
                  </a:lnTo>
                  <a:lnTo>
                    <a:pt x="118" y="16"/>
                  </a:lnTo>
                  <a:lnTo>
                    <a:pt x="112" y="12"/>
                  </a:lnTo>
                  <a:lnTo>
                    <a:pt x="106" y="9"/>
                  </a:lnTo>
                  <a:lnTo>
                    <a:pt x="100" y="5"/>
                  </a:lnTo>
                  <a:lnTo>
                    <a:pt x="93" y="2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2" y="2"/>
                  </a:lnTo>
                  <a:lnTo>
                    <a:pt x="46" y="5"/>
                  </a:lnTo>
                  <a:lnTo>
                    <a:pt x="40" y="7"/>
                  </a:lnTo>
                  <a:lnTo>
                    <a:pt x="34" y="11"/>
                  </a:lnTo>
                  <a:lnTo>
                    <a:pt x="28" y="15"/>
                  </a:lnTo>
                  <a:lnTo>
                    <a:pt x="23" y="20"/>
                  </a:lnTo>
                  <a:lnTo>
                    <a:pt x="18" y="25"/>
                  </a:lnTo>
                  <a:lnTo>
                    <a:pt x="13" y="31"/>
                  </a:lnTo>
                  <a:lnTo>
                    <a:pt x="10" y="36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3" y="56"/>
                  </a:lnTo>
                  <a:lnTo>
                    <a:pt x="2" y="62"/>
                  </a:lnTo>
                  <a:lnTo>
                    <a:pt x="0" y="69"/>
                  </a:lnTo>
                  <a:lnTo>
                    <a:pt x="2" y="76"/>
                  </a:lnTo>
                  <a:lnTo>
                    <a:pt x="2" y="83"/>
                  </a:lnTo>
                  <a:lnTo>
                    <a:pt x="3" y="89"/>
                  </a:lnTo>
                  <a:lnTo>
                    <a:pt x="5" y="95"/>
                  </a:lnTo>
                  <a:lnTo>
                    <a:pt x="8" y="103"/>
                  </a:lnTo>
                  <a:lnTo>
                    <a:pt x="11" y="109"/>
                  </a:lnTo>
                  <a:lnTo>
                    <a:pt x="15" y="113"/>
                  </a:lnTo>
                  <a:lnTo>
                    <a:pt x="23" y="124"/>
                  </a:lnTo>
                  <a:lnTo>
                    <a:pt x="36" y="140"/>
                  </a:lnTo>
                  <a:lnTo>
                    <a:pt x="55" y="160"/>
                  </a:lnTo>
                  <a:lnTo>
                    <a:pt x="79" y="181"/>
                  </a:lnTo>
                  <a:lnTo>
                    <a:pt x="107" y="205"/>
                  </a:lnTo>
                  <a:lnTo>
                    <a:pt x="123" y="217"/>
                  </a:lnTo>
                  <a:lnTo>
                    <a:pt x="141" y="228"/>
                  </a:lnTo>
                  <a:lnTo>
                    <a:pt x="159" y="241"/>
                  </a:lnTo>
                  <a:lnTo>
                    <a:pt x="180" y="250"/>
                  </a:lnTo>
                  <a:lnTo>
                    <a:pt x="201" y="262"/>
                  </a:lnTo>
                  <a:lnTo>
                    <a:pt x="224" y="270"/>
                  </a:lnTo>
                  <a:lnTo>
                    <a:pt x="247" y="279"/>
                  </a:lnTo>
                  <a:lnTo>
                    <a:pt x="272" y="286"/>
                  </a:lnTo>
                  <a:lnTo>
                    <a:pt x="298" y="293"/>
                  </a:lnTo>
                  <a:lnTo>
                    <a:pt x="326" y="296"/>
                  </a:lnTo>
                  <a:lnTo>
                    <a:pt x="354" y="300"/>
                  </a:lnTo>
                  <a:lnTo>
                    <a:pt x="384" y="301"/>
                  </a:lnTo>
                  <a:lnTo>
                    <a:pt x="416" y="300"/>
                  </a:lnTo>
                  <a:lnTo>
                    <a:pt x="449" y="298"/>
                  </a:lnTo>
                  <a:lnTo>
                    <a:pt x="482" y="293"/>
                  </a:lnTo>
                  <a:lnTo>
                    <a:pt x="517" y="285"/>
                  </a:lnTo>
                  <a:lnTo>
                    <a:pt x="553" y="275"/>
                  </a:lnTo>
                  <a:lnTo>
                    <a:pt x="590" y="263"/>
                  </a:lnTo>
                  <a:lnTo>
                    <a:pt x="629" y="247"/>
                  </a:lnTo>
                  <a:lnTo>
                    <a:pt x="668" y="228"/>
                  </a:lnTo>
                  <a:lnTo>
                    <a:pt x="685" y="241"/>
                  </a:lnTo>
                  <a:lnTo>
                    <a:pt x="703" y="252"/>
                  </a:lnTo>
                  <a:lnTo>
                    <a:pt x="724" y="263"/>
                  </a:lnTo>
                  <a:lnTo>
                    <a:pt x="748" y="274"/>
                  </a:lnTo>
                  <a:lnTo>
                    <a:pt x="760" y="278"/>
                  </a:lnTo>
                  <a:lnTo>
                    <a:pt x="774" y="283"/>
                  </a:lnTo>
                  <a:lnTo>
                    <a:pt x="788" y="286"/>
                  </a:lnTo>
                  <a:lnTo>
                    <a:pt x="802" y="290"/>
                  </a:lnTo>
                  <a:lnTo>
                    <a:pt x="817" y="293"/>
                  </a:lnTo>
                  <a:lnTo>
                    <a:pt x="832" y="294"/>
                  </a:lnTo>
                  <a:lnTo>
                    <a:pt x="848" y="295"/>
                  </a:lnTo>
                  <a:lnTo>
                    <a:pt x="866" y="295"/>
                  </a:lnTo>
                  <a:lnTo>
                    <a:pt x="887" y="294"/>
                  </a:lnTo>
                  <a:lnTo>
                    <a:pt x="908" y="293"/>
                  </a:lnTo>
                  <a:lnTo>
                    <a:pt x="928" y="289"/>
                  </a:lnTo>
                  <a:lnTo>
                    <a:pt x="949" y="284"/>
                  </a:lnTo>
                  <a:lnTo>
                    <a:pt x="970" y="277"/>
                  </a:lnTo>
                  <a:lnTo>
                    <a:pt x="990" y="269"/>
                  </a:lnTo>
                  <a:lnTo>
                    <a:pt x="1010" y="260"/>
                  </a:lnTo>
                  <a:lnTo>
                    <a:pt x="1031" y="249"/>
                  </a:lnTo>
                  <a:lnTo>
                    <a:pt x="1051" y="238"/>
                  </a:lnTo>
                  <a:lnTo>
                    <a:pt x="1071" y="224"/>
                  </a:lnTo>
                  <a:lnTo>
                    <a:pt x="1091" y="210"/>
                  </a:lnTo>
                  <a:lnTo>
                    <a:pt x="1110" y="195"/>
                  </a:lnTo>
                  <a:lnTo>
                    <a:pt x="1130" y="177"/>
                  </a:lnTo>
                  <a:lnTo>
                    <a:pt x="1149" y="159"/>
                  </a:lnTo>
                  <a:lnTo>
                    <a:pt x="1169" y="139"/>
                  </a:lnTo>
                  <a:lnTo>
                    <a:pt x="1187" y="118"/>
                  </a:lnTo>
                  <a:lnTo>
                    <a:pt x="1192" y="112"/>
                  </a:lnTo>
                  <a:lnTo>
                    <a:pt x="1196" y="105"/>
                  </a:lnTo>
                  <a:lnTo>
                    <a:pt x="1200" y="99"/>
                  </a:lnTo>
                  <a:lnTo>
                    <a:pt x="1202" y="93"/>
                  </a:lnTo>
                  <a:lnTo>
                    <a:pt x="1204" y="87"/>
                  </a:lnTo>
                  <a:lnTo>
                    <a:pt x="1205" y="79"/>
                  </a:lnTo>
                  <a:lnTo>
                    <a:pt x="1205" y="73"/>
                  </a:lnTo>
                  <a:lnTo>
                    <a:pt x="1205" y="66"/>
                  </a:lnTo>
                  <a:lnTo>
                    <a:pt x="1205" y="59"/>
                  </a:lnTo>
                  <a:lnTo>
                    <a:pt x="1204" y="52"/>
                  </a:lnTo>
                  <a:lnTo>
                    <a:pt x="1201" y="46"/>
                  </a:lnTo>
                  <a:lnTo>
                    <a:pt x="1199" y="40"/>
                  </a:lnTo>
                  <a:lnTo>
                    <a:pt x="1195" y="33"/>
                  </a:lnTo>
                  <a:lnTo>
                    <a:pt x="1191" y="27"/>
                  </a:lnTo>
                  <a:lnTo>
                    <a:pt x="1186" y="22"/>
                  </a:lnTo>
                  <a:lnTo>
                    <a:pt x="1181" y="17"/>
                  </a:lnTo>
                  <a:lnTo>
                    <a:pt x="1175" y="12"/>
                  </a:lnTo>
                  <a:lnTo>
                    <a:pt x="1169" y="9"/>
                  </a:lnTo>
                  <a:lnTo>
                    <a:pt x="1163" y="5"/>
                  </a:lnTo>
                  <a:lnTo>
                    <a:pt x="1156" y="2"/>
                  </a:lnTo>
                  <a:lnTo>
                    <a:pt x="1150" y="1"/>
                  </a:lnTo>
                  <a:lnTo>
                    <a:pt x="1143" y="0"/>
                  </a:lnTo>
                  <a:lnTo>
                    <a:pt x="1137" y="0"/>
                  </a:lnTo>
                  <a:lnTo>
                    <a:pt x="1129" y="0"/>
                  </a:lnTo>
                  <a:lnTo>
                    <a:pt x="1123" y="0"/>
                  </a:lnTo>
                  <a:lnTo>
                    <a:pt x="1115" y="1"/>
                  </a:lnTo>
                  <a:lnTo>
                    <a:pt x="1109" y="4"/>
                  </a:lnTo>
                  <a:lnTo>
                    <a:pt x="1103" y="6"/>
                  </a:lnTo>
                  <a:lnTo>
                    <a:pt x="1097" y="10"/>
                  </a:lnTo>
                  <a:lnTo>
                    <a:pt x="1091" y="13"/>
                  </a:lnTo>
                  <a:lnTo>
                    <a:pt x="1086" y="18"/>
                  </a:lnTo>
                  <a:lnTo>
                    <a:pt x="108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1927080" y="2671920"/>
              <a:ext cx="187560" cy="258480"/>
            </a:xfrm>
            <a:custGeom>
              <a:avLst/>
              <a:gdLst/>
              <a:ahLst/>
              <a:rect l="l" t="t" r="r" b="b"/>
              <a:pathLst>
                <a:path w="469" h="652">
                  <a:moveTo>
                    <a:pt x="0" y="340"/>
                  </a:moveTo>
                  <a:lnTo>
                    <a:pt x="8" y="320"/>
                  </a:lnTo>
                  <a:lnTo>
                    <a:pt x="33" y="267"/>
                  </a:lnTo>
                  <a:lnTo>
                    <a:pt x="52" y="232"/>
                  </a:lnTo>
                  <a:lnTo>
                    <a:pt x="73" y="195"/>
                  </a:lnTo>
                  <a:lnTo>
                    <a:pt x="85" y="176"/>
                  </a:lnTo>
                  <a:lnTo>
                    <a:pt x="98" y="156"/>
                  </a:lnTo>
                  <a:lnTo>
                    <a:pt x="110" y="138"/>
                  </a:lnTo>
                  <a:lnTo>
                    <a:pt x="125" y="119"/>
                  </a:lnTo>
                  <a:lnTo>
                    <a:pt x="140" y="100"/>
                  </a:lnTo>
                  <a:lnTo>
                    <a:pt x="155" y="83"/>
                  </a:lnTo>
                  <a:lnTo>
                    <a:pt x="171" y="67"/>
                  </a:lnTo>
                  <a:lnTo>
                    <a:pt x="187" y="52"/>
                  </a:lnTo>
                  <a:lnTo>
                    <a:pt x="203" y="38"/>
                  </a:lnTo>
                  <a:lnTo>
                    <a:pt x="222" y="27"/>
                  </a:lnTo>
                  <a:lnTo>
                    <a:pt x="239" y="16"/>
                  </a:lnTo>
                  <a:lnTo>
                    <a:pt x="258" y="9"/>
                  </a:lnTo>
                  <a:lnTo>
                    <a:pt x="277" y="2"/>
                  </a:lnTo>
                  <a:lnTo>
                    <a:pt x="295" y="0"/>
                  </a:lnTo>
                  <a:lnTo>
                    <a:pt x="315" y="0"/>
                  </a:lnTo>
                  <a:lnTo>
                    <a:pt x="335" y="2"/>
                  </a:lnTo>
                  <a:lnTo>
                    <a:pt x="355" y="7"/>
                  </a:lnTo>
                  <a:lnTo>
                    <a:pt x="376" y="17"/>
                  </a:lnTo>
                  <a:lnTo>
                    <a:pt x="396" y="30"/>
                  </a:lnTo>
                  <a:lnTo>
                    <a:pt x="417" y="47"/>
                  </a:lnTo>
                  <a:lnTo>
                    <a:pt x="419" y="51"/>
                  </a:lnTo>
                  <a:lnTo>
                    <a:pt x="426" y="63"/>
                  </a:lnTo>
                  <a:lnTo>
                    <a:pt x="436" y="82"/>
                  </a:lnTo>
                  <a:lnTo>
                    <a:pt x="446" y="108"/>
                  </a:lnTo>
                  <a:lnTo>
                    <a:pt x="450" y="123"/>
                  </a:lnTo>
                  <a:lnTo>
                    <a:pt x="455" y="140"/>
                  </a:lnTo>
                  <a:lnTo>
                    <a:pt x="460" y="157"/>
                  </a:lnTo>
                  <a:lnTo>
                    <a:pt x="464" y="176"/>
                  </a:lnTo>
                  <a:lnTo>
                    <a:pt x="467" y="196"/>
                  </a:lnTo>
                  <a:lnTo>
                    <a:pt x="469" y="217"/>
                  </a:lnTo>
                  <a:lnTo>
                    <a:pt x="469" y="238"/>
                  </a:lnTo>
                  <a:lnTo>
                    <a:pt x="469" y="260"/>
                  </a:lnTo>
                  <a:lnTo>
                    <a:pt x="467" y="284"/>
                  </a:lnTo>
                  <a:lnTo>
                    <a:pt x="463" y="308"/>
                  </a:lnTo>
                  <a:lnTo>
                    <a:pt x="457" y="332"/>
                  </a:lnTo>
                  <a:lnTo>
                    <a:pt x="448" y="357"/>
                  </a:lnTo>
                  <a:lnTo>
                    <a:pt x="437" y="382"/>
                  </a:lnTo>
                  <a:lnTo>
                    <a:pt x="424" y="407"/>
                  </a:lnTo>
                  <a:lnTo>
                    <a:pt x="408" y="433"/>
                  </a:lnTo>
                  <a:lnTo>
                    <a:pt x="390" y="458"/>
                  </a:lnTo>
                  <a:lnTo>
                    <a:pt x="367" y="484"/>
                  </a:lnTo>
                  <a:lnTo>
                    <a:pt x="342" y="509"/>
                  </a:lnTo>
                  <a:lnTo>
                    <a:pt x="314" y="535"/>
                  </a:lnTo>
                  <a:lnTo>
                    <a:pt x="282" y="558"/>
                  </a:lnTo>
                  <a:lnTo>
                    <a:pt x="244" y="583"/>
                  </a:lnTo>
                  <a:lnTo>
                    <a:pt x="205" y="607"/>
                  </a:lnTo>
                  <a:lnTo>
                    <a:pt x="160" y="630"/>
                  </a:lnTo>
                  <a:lnTo>
                    <a:pt x="111" y="652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efc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1913040" y="2657520"/>
              <a:ext cx="215640" cy="291960"/>
            </a:xfrm>
            <a:custGeom>
              <a:avLst/>
              <a:gdLst/>
              <a:ahLst/>
              <a:rect l="l" t="t" r="r" b="b"/>
              <a:pathLst>
                <a:path w="544" h="737">
                  <a:moveTo>
                    <a:pt x="307" y="5"/>
                  </a:moveTo>
                  <a:lnTo>
                    <a:pt x="291" y="9"/>
                  </a:lnTo>
                  <a:lnTo>
                    <a:pt x="275" y="15"/>
                  </a:lnTo>
                  <a:lnTo>
                    <a:pt x="260" y="22"/>
                  </a:lnTo>
                  <a:lnTo>
                    <a:pt x="244" y="31"/>
                  </a:lnTo>
                  <a:lnTo>
                    <a:pt x="229" y="41"/>
                  </a:lnTo>
                  <a:lnTo>
                    <a:pt x="215" y="52"/>
                  </a:lnTo>
                  <a:lnTo>
                    <a:pt x="200" y="63"/>
                  </a:lnTo>
                  <a:lnTo>
                    <a:pt x="186" y="76"/>
                  </a:lnTo>
                  <a:lnTo>
                    <a:pt x="174" y="89"/>
                  </a:lnTo>
                  <a:lnTo>
                    <a:pt x="160" y="103"/>
                  </a:lnTo>
                  <a:lnTo>
                    <a:pt x="148" y="118"/>
                  </a:lnTo>
                  <a:lnTo>
                    <a:pt x="137" y="133"/>
                  </a:lnTo>
                  <a:lnTo>
                    <a:pt x="113" y="164"/>
                  </a:lnTo>
                  <a:lnTo>
                    <a:pt x="93" y="195"/>
                  </a:lnTo>
                  <a:lnTo>
                    <a:pt x="73" y="226"/>
                  </a:lnTo>
                  <a:lnTo>
                    <a:pt x="57" y="254"/>
                  </a:lnTo>
                  <a:lnTo>
                    <a:pt x="42" y="283"/>
                  </a:lnTo>
                  <a:lnTo>
                    <a:pt x="30" y="308"/>
                  </a:lnTo>
                  <a:lnTo>
                    <a:pt x="13" y="346"/>
                  </a:lnTo>
                  <a:lnTo>
                    <a:pt x="5" y="363"/>
                  </a:lnTo>
                  <a:lnTo>
                    <a:pt x="0" y="376"/>
                  </a:lnTo>
                  <a:lnTo>
                    <a:pt x="129" y="737"/>
                  </a:lnTo>
                  <a:lnTo>
                    <a:pt x="164" y="722"/>
                  </a:lnTo>
                  <a:lnTo>
                    <a:pt x="200" y="705"/>
                  </a:lnTo>
                  <a:lnTo>
                    <a:pt x="235" y="687"/>
                  </a:lnTo>
                  <a:lnTo>
                    <a:pt x="268" y="670"/>
                  </a:lnTo>
                  <a:lnTo>
                    <a:pt x="299" y="651"/>
                  </a:lnTo>
                  <a:lnTo>
                    <a:pt x="329" y="633"/>
                  </a:lnTo>
                  <a:lnTo>
                    <a:pt x="357" y="613"/>
                  </a:lnTo>
                  <a:lnTo>
                    <a:pt x="381" y="592"/>
                  </a:lnTo>
                  <a:lnTo>
                    <a:pt x="406" y="571"/>
                  </a:lnTo>
                  <a:lnTo>
                    <a:pt x="427" y="550"/>
                  </a:lnTo>
                  <a:lnTo>
                    <a:pt x="447" y="527"/>
                  </a:lnTo>
                  <a:lnTo>
                    <a:pt x="466" y="505"/>
                  </a:lnTo>
                  <a:lnTo>
                    <a:pt x="482" y="481"/>
                  </a:lnTo>
                  <a:lnTo>
                    <a:pt x="497" y="456"/>
                  </a:lnTo>
                  <a:lnTo>
                    <a:pt x="509" y="432"/>
                  </a:lnTo>
                  <a:lnTo>
                    <a:pt x="521" y="407"/>
                  </a:lnTo>
                  <a:lnTo>
                    <a:pt x="529" y="381"/>
                  </a:lnTo>
                  <a:lnTo>
                    <a:pt x="533" y="365"/>
                  </a:lnTo>
                  <a:lnTo>
                    <a:pt x="537" y="350"/>
                  </a:lnTo>
                  <a:lnTo>
                    <a:pt x="539" y="334"/>
                  </a:lnTo>
                  <a:lnTo>
                    <a:pt x="542" y="319"/>
                  </a:lnTo>
                  <a:lnTo>
                    <a:pt x="544" y="289"/>
                  </a:lnTo>
                  <a:lnTo>
                    <a:pt x="544" y="260"/>
                  </a:lnTo>
                  <a:lnTo>
                    <a:pt x="542" y="233"/>
                  </a:lnTo>
                  <a:lnTo>
                    <a:pt x="539" y="207"/>
                  </a:lnTo>
                  <a:lnTo>
                    <a:pt x="534" y="184"/>
                  </a:lnTo>
                  <a:lnTo>
                    <a:pt x="528" y="160"/>
                  </a:lnTo>
                  <a:lnTo>
                    <a:pt x="522" y="140"/>
                  </a:lnTo>
                  <a:lnTo>
                    <a:pt x="514" y="121"/>
                  </a:lnTo>
                  <a:lnTo>
                    <a:pt x="508" y="105"/>
                  </a:lnTo>
                  <a:lnTo>
                    <a:pt x="501" y="92"/>
                  </a:lnTo>
                  <a:lnTo>
                    <a:pt x="491" y="72"/>
                  </a:lnTo>
                  <a:lnTo>
                    <a:pt x="486" y="63"/>
                  </a:lnTo>
                  <a:lnTo>
                    <a:pt x="475" y="53"/>
                  </a:lnTo>
                  <a:lnTo>
                    <a:pt x="463" y="45"/>
                  </a:lnTo>
                  <a:lnTo>
                    <a:pt x="452" y="36"/>
                  </a:lnTo>
                  <a:lnTo>
                    <a:pt x="441" y="28"/>
                  </a:lnTo>
                  <a:lnTo>
                    <a:pt x="430" y="22"/>
                  </a:lnTo>
                  <a:lnTo>
                    <a:pt x="419" y="16"/>
                  </a:lnTo>
                  <a:lnTo>
                    <a:pt x="408" y="11"/>
                  </a:lnTo>
                  <a:lnTo>
                    <a:pt x="396" y="7"/>
                  </a:lnTo>
                  <a:lnTo>
                    <a:pt x="385" y="5"/>
                  </a:lnTo>
                  <a:lnTo>
                    <a:pt x="374" y="2"/>
                  </a:lnTo>
                  <a:lnTo>
                    <a:pt x="363" y="0"/>
                  </a:lnTo>
                  <a:lnTo>
                    <a:pt x="352" y="0"/>
                  </a:lnTo>
                  <a:lnTo>
                    <a:pt x="340" y="0"/>
                  </a:lnTo>
                  <a:lnTo>
                    <a:pt x="329" y="0"/>
                  </a:lnTo>
                  <a:lnTo>
                    <a:pt x="318" y="2"/>
                  </a:lnTo>
                  <a:lnTo>
                    <a:pt x="307" y="5"/>
                  </a:lnTo>
                  <a:close/>
                  <a:moveTo>
                    <a:pt x="323" y="73"/>
                  </a:moveTo>
                  <a:lnTo>
                    <a:pt x="337" y="72"/>
                  </a:lnTo>
                  <a:lnTo>
                    <a:pt x="350" y="71"/>
                  </a:lnTo>
                  <a:lnTo>
                    <a:pt x="364" y="73"/>
                  </a:lnTo>
                  <a:lnTo>
                    <a:pt x="378" y="76"/>
                  </a:lnTo>
                  <a:lnTo>
                    <a:pt x="391" y="82"/>
                  </a:lnTo>
                  <a:lnTo>
                    <a:pt x="405" y="89"/>
                  </a:lnTo>
                  <a:lnTo>
                    <a:pt x="419" y="98"/>
                  </a:lnTo>
                  <a:lnTo>
                    <a:pt x="432" y="109"/>
                  </a:lnTo>
                  <a:lnTo>
                    <a:pt x="439" y="123"/>
                  </a:lnTo>
                  <a:lnTo>
                    <a:pt x="452" y="157"/>
                  </a:lnTo>
                  <a:lnTo>
                    <a:pt x="460" y="181"/>
                  </a:lnTo>
                  <a:lnTo>
                    <a:pt x="467" y="210"/>
                  </a:lnTo>
                  <a:lnTo>
                    <a:pt x="470" y="224"/>
                  </a:lnTo>
                  <a:lnTo>
                    <a:pt x="471" y="241"/>
                  </a:lnTo>
                  <a:lnTo>
                    <a:pt x="472" y="257"/>
                  </a:lnTo>
                  <a:lnTo>
                    <a:pt x="473" y="274"/>
                  </a:lnTo>
                  <a:lnTo>
                    <a:pt x="472" y="295"/>
                  </a:lnTo>
                  <a:lnTo>
                    <a:pt x="470" y="316"/>
                  </a:lnTo>
                  <a:lnTo>
                    <a:pt x="466" y="339"/>
                  </a:lnTo>
                  <a:lnTo>
                    <a:pt x="460" y="361"/>
                  </a:lnTo>
                  <a:lnTo>
                    <a:pt x="453" y="382"/>
                  </a:lnTo>
                  <a:lnTo>
                    <a:pt x="445" y="402"/>
                  </a:lnTo>
                  <a:lnTo>
                    <a:pt x="435" y="420"/>
                  </a:lnTo>
                  <a:lnTo>
                    <a:pt x="422" y="439"/>
                  </a:lnTo>
                  <a:lnTo>
                    <a:pt x="409" y="458"/>
                  </a:lnTo>
                  <a:lnTo>
                    <a:pt x="394" y="476"/>
                  </a:lnTo>
                  <a:lnTo>
                    <a:pt x="378" y="494"/>
                  </a:lnTo>
                  <a:lnTo>
                    <a:pt x="360" y="511"/>
                  </a:lnTo>
                  <a:lnTo>
                    <a:pt x="342" y="528"/>
                  </a:lnTo>
                  <a:lnTo>
                    <a:pt x="321" y="545"/>
                  </a:lnTo>
                  <a:lnTo>
                    <a:pt x="298" y="561"/>
                  </a:lnTo>
                  <a:lnTo>
                    <a:pt x="276" y="577"/>
                  </a:lnTo>
                  <a:lnTo>
                    <a:pt x="251" y="592"/>
                  </a:lnTo>
                  <a:lnTo>
                    <a:pt x="225" y="607"/>
                  </a:lnTo>
                  <a:lnTo>
                    <a:pt x="198" y="621"/>
                  </a:lnTo>
                  <a:lnTo>
                    <a:pt x="169" y="635"/>
                  </a:lnTo>
                  <a:lnTo>
                    <a:pt x="159" y="609"/>
                  </a:lnTo>
                  <a:lnTo>
                    <a:pt x="147" y="573"/>
                  </a:lnTo>
                  <a:lnTo>
                    <a:pt x="133" y="535"/>
                  </a:lnTo>
                  <a:lnTo>
                    <a:pt x="118" y="492"/>
                  </a:lnTo>
                  <a:lnTo>
                    <a:pt x="105" y="454"/>
                  </a:lnTo>
                  <a:lnTo>
                    <a:pt x="92" y="419"/>
                  </a:lnTo>
                  <a:lnTo>
                    <a:pt x="82" y="393"/>
                  </a:lnTo>
                  <a:lnTo>
                    <a:pt x="77" y="378"/>
                  </a:lnTo>
                  <a:lnTo>
                    <a:pt x="93" y="341"/>
                  </a:lnTo>
                  <a:lnTo>
                    <a:pt x="114" y="299"/>
                  </a:lnTo>
                  <a:lnTo>
                    <a:pt x="128" y="275"/>
                  </a:lnTo>
                  <a:lnTo>
                    <a:pt x="142" y="252"/>
                  </a:lnTo>
                  <a:lnTo>
                    <a:pt x="157" y="227"/>
                  </a:lnTo>
                  <a:lnTo>
                    <a:pt x="172" y="203"/>
                  </a:lnTo>
                  <a:lnTo>
                    <a:pt x="189" y="181"/>
                  </a:lnTo>
                  <a:lnTo>
                    <a:pt x="206" y="159"/>
                  </a:lnTo>
                  <a:lnTo>
                    <a:pt x="225" y="139"/>
                  </a:lnTo>
                  <a:lnTo>
                    <a:pt x="244" y="120"/>
                  </a:lnTo>
                  <a:lnTo>
                    <a:pt x="262" y="104"/>
                  </a:lnTo>
                  <a:lnTo>
                    <a:pt x="282" y="90"/>
                  </a:lnTo>
                  <a:lnTo>
                    <a:pt x="292" y="85"/>
                  </a:lnTo>
                  <a:lnTo>
                    <a:pt x="303" y="81"/>
                  </a:lnTo>
                  <a:lnTo>
                    <a:pt x="313" y="77"/>
                  </a:lnTo>
                  <a:lnTo>
                    <a:pt x="323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1071720" y="2297160"/>
              <a:ext cx="984240" cy="1574640"/>
            </a:xfrm>
            <a:custGeom>
              <a:avLst/>
              <a:gdLst/>
              <a:ahLst/>
              <a:rect l="l" t="t" r="r" b="b"/>
              <a:pathLst>
                <a:path w="2481" h="3969">
                  <a:moveTo>
                    <a:pt x="372" y="306"/>
                  </a:moveTo>
                  <a:lnTo>
                    <a:pt x="372" y="314"/>
                  </a:lnTo>
                  <a:lnTo>
                    <a:pt x="372" y="333"/>
                  </a:lnTo>
                  <a:lnTo>
                    <a:pt x="372" y="366"/>
                  </a:lnTo>
                  <a:lnTo>
                    <a:pt x="372" y="409"/>
                  </a:lnTo>
                  <a:lnTo>
                    <a:pt x="370" y="460"/>
                  </a:lnTo>
                  <a:lnTo>
                    <a:pt x="368" y="518"/>
                  </a:lnTo>
                  <a:lnTo>
                    <a:pt x="364" y="583"/>
                  </a:lnTo>
                  <a:lnTo>
                    <a:pt x="359" y="652"/>
                  </a:lnTo>
                  <a:lnTo>
                    <a:pt x="350" y="724"/>
                  </a:lnTo>
                  <a:lnTo>
                    <a:pt x="341" y="797"/>
                  </a:lnTo>
                  <a:lnTo>
                    <a:pt x="334" y="833"/>
                  </a:lnTo>
                  <a:lnTo>
                    <a:pt x="328" y="871"/>
                  </a:lnTo>
                  <a:lnTo>
                    <a:pt x="321" y="907"/>
                  </a:lnTo>
                  <a:lnTo>
                    <a:pt x="312" y="941"/>
                  </a:lnTo>
                  <a:lnTo>
                    <a:pt x="303" y="976"/>
                  </a:lnTo>
                  <a:lnTo>
                    <a:pt x="292" y="1011"/>
                  </a:lnTo>
                  <a:lnTo>
                    <a:pt x="281" y="1043"/>
                  </a:lnTo>
                  <a:lnTo>
                    <a:pt x="270" y="1074"/>
                  </a:lnTo>
                  <a:lnTo>
                    <a:pt x="256" y="1104"/>
                  </a:lnTo>
                  <a:lnTo>
                    <a:pt x="242" y="1132"/>
                  </a:lnTo>
                  <a:lnTo>
                    <a:pt x="228" y="1159"/>
                  </a:lnTo>
                  <a:lnTo>
                    <a:pt x="211" y="1183"/>
                  </a:lnTo>
                  <a:lnTo>
                    <a:pt x="199" y="1197"/>
                  </a:lnTo>
                  <a:lnTo>
                    <a:pt x="169" y="1238"/>
                  </a:lnTo>
                  <a:lnTo>
                    <a:pt x="151" y="1268"/>
                  </a:lnTo>
                  <a:lnTo>
                    <a:pt x="129" y="1302"/>
                  </a:lnTo>
                  <a:lnTo>
                    <a:pt x="120" y="1322"/>
                  </a:lnTo>
                  <a:lnTo>
                    <a:pt x="110" y="1343"/>
                  </a:lnTo>
                  <a:lnTo>
                    <a:pt x="100" y="1366"/>
                  </a:lnTo>
                  <a:lnTo>
                    <a:pt x="90" y="1389"/>
                  </a:lnTo>
                  <a:lnTo>
                    <a:pt x="81" y="1413"/>
                  </a:lnTo>
                  <a:lnTo>
                    <a:pt x="72" y="1439"/>
                  </a:lnTo>
                  <a:lnTo>
                    <a:pt x="65" y="1466"/>
                  </a:lnTo>
                  <a:lnTo>
                    <a:pt x="59" y="1493"/>
                  </a:lnTo>
                  <a:lnTo>
                    <a:pt x="52" y="1522"/>
                  </a:lnTo>
                  <a:lnTo>
                    <a:pt x="48" y="1552"/>
                  </a:lnTo>
                  <a:lnTo>
                    <a:pt x="45" y="1583"/>
                  </a:lnTo>
                  <a:lnTo>
                    <a:pt x="43" y="1614"/>
                  </a:lnTo>
                  <a:lnTo>
                    <a:pt x="43" y="1647"/>
                  </a:lnTo>
                  <a:lnTo>
                    <a:pt x="44" y="1680"/>
                  </a:lnTo>
                  <a:lnTo>
                    <a:pt x="48" y="1714"/>
                  </a:lnTo>
                  <a:lnTo>
                    <a:pt x="52" y="1749"/>
                  </a:lnTo>
                  <a:lnTo>
                    <a:pt x="60" y="1784"/>
                  </a:lnTo>
                  <a:lnTo>
                    <a:pt x="70" y="1820"/>
                  </a:lnTo>
                  <a:lnTo>
                    <a:pt x="82" y="1856"/>
                  </a:lnTo>
                  <a:lnTo>
                    <a:pt x="97" y="1893"/>
                  </a:lnTo>
                  <a:lnTo>
                    <a:pt x="100" y="1915"/>
                  </a:lnTo>
                  <a:lnTo>
                    <a:pt x="105" y="1979"/>
                  </a:lnTo>
                  <a:lnTo>
                    <a:pt x="107" y="2022"/>
                  </a:lnTo>
                  <a:lnTo>
                    <a:pt x="110" y="2072"/>
                  </a:lnTo>
                  <a:lnTo>
                    <a:pt x="112" y="2129"/>
                  </a:lnTo>
                  <a:lnTo>
                    <a:pt x="112" y="2190"/>
                  </a:lnTo>
                  <a:lnTo>
                    <a:pt x="112" y="2254"/>
                  </a:lnTo>
                  <a:lnTo>
                    <a:pt x="111" y="2322"/>
                  </a:lnTo>
                  <a:lnTo>
                    <a:pt x="107" y="2391"/>
                  </a:lnTo>
                  <a:lnTo>
                    <a:pt x="101" y="2461"/>
                  </a:lnTo>
                  <a:lnTo>
                    <a:pt x="97" y="2496"/>
                  </a:lnTo>
                  <a:lnTo>
                    <a:pt x="93" y="2531"/>
                  </a:lnTo>
                  <a:lnTo>
                    <a:pt x="87" y="2564"/>
                  </a:lnTo>
                  <a:lnTo>
                    <a:pt x="82" y="2599"/>
                  </a:lnTo>
                  <a:lnTo>
                    <a:pt x="75" y="2632"/>
                  </a:lnTo>
                  <a:lnTo>
                    <a:pt x="67" y="2665"/>
                  </a:lnTo>
                  <a:lnTo>
                    <a:pt x="59" y="2696"/>
                  </a:lnTo>
                  <a:lnTo>
                    <a:pt x="50" y="2727"/>
                  </a:lnTo>
                  <a:lnTo>
                    <a:pt x="46" y="2735"/>
                  </a:lnTo>
                  <a:lnTo>
                    <a:pt x="38" y="2758"/>
                  </a:lnTo>
                  <a:lnTo>
                    <a:pt x="33" y="2775"/>
                  </a:lnTo>
                  <a:lnTo>
                    <a:pt x="26" y="2795"/>
                  </a:lnTo>
                  <a:lnTo>
                    <a:pt x="20" y="2819"/>
                  </a:lnTo>
                  <a:lnTo>
                    <a:pt x="15" y="2845"/>
                  </a:lnTo>
                  <a:lnTo>
                    <a:pt x="10" y="2874"/>
                  </a:lnTo>
                  <a:lnTo>
                    <a:pt x="5" y="2905"/>
                  </a:lnTo>
                  <a:lnTo>
                    <a:pt x="2" y="2939"/>
                  </a:lnTo>
                  <a:lnTo>
                    <a:pt x="0" y="2975"/>
                  </a:lnTo>
                  <a:lnTo>
                    <a:pt x="0" y="3013"/>
                  </a:lnTo>
                  <a:lnTo>
                    <a:pt x="2" y="3053"/>
                  </a:lnTo>
                  <a:lnTo>
                    <a:pt x="7" y="3095"/>
                  </a:lnTo>
                  <a:lnTo>
                    <a:pt x="13" y="3137"/>
                  </a:lnTo>
                  <a:lnTo>
                    <a:pt x="23" y="3182"/>
                  </a:lnTo>
                  <a:lnTo>
                    <a:pt x="35" y="3228"/>
                  </a:lnTo>
                  <a:lnTo>
                    <a:pt x="52" y="3274"/>
                  </a:lnTo>
                  <a:lnTo>
                    <a:pt x="72" y="3321"/>
                  </a:lnTo>
                  <a:lnTo>
                    <a:pt x="97" y="3369"/>
                  </a:lnTo>
                  <a:lnTo>
                    <a:pt x="126" y="3418"/>
                  </a:lnTo>
                  <a:lnTo>
                    <a:pt x="159" y="3466"/>
                  </a:lnTo>
                  <a:lnTo>
                    <a:pt x="198" y="3515"/>
                  </a:lnTo>
                  <a:lnTo>
                    <a:pt x="241" y="3563"/>
                  </a:lnTo>
                  <a:lnTo>
                    <a:pt x="291" y="3611"/>
                  </a:lnTo>
                  <a:lnTo>
                    <a:pt x="347" y="3659"/>
                  </a:lnTo>
                  <a:lnTo>
                    <a:pt x="408" y="3706"/>
                  </a:lnTo>
                  <a:lnTo>
                    <a:pt x="476" y="3752"/>
                  </a:lnTo>
                  <a:lnTo>
                    <a:pt x="552" y="3796"/>
                  </a:lnTo>
                  <a:lnTo>
                    <a:pt x="634" y="3840"/>
                  </a:lnTo>
                  <a:lnTo>
                    <a:pt x="723" y="3883"/>
                  </a:lnTo>
                  <a:lnTo>
                    <a:pt x="737" y="3887"/>
                  </a:lnTo>
                  <a:lnTo>
                    <a:pt x="775" y="3895"/>
                  </a:lnTo>
                  <a:lnTo>
                    <a:pt x="836" y="3909"/>
                  </a:lnTo>
                  <a:lnTo>
                    <a:pt x="917" y="3924"/>
                  </a:lnTo>
                  <a:lnTo>
                    <a:pt x="964" y="3933"/>
                  </a:lnTo>
                  <a:lnTo>
                    <a:pt x="1015" y="3940"/>
                  </a:lnTo>
                  <a:lnTo>
                    <a:pt x="1069" y="3948"/>
                  </a:lnTo>
                  <a:lnTo>
                    <a:pt x="1127" y="3954"/>
                  </a:lnTo>
                  <a:lnTo>
                    <a:pt x="1187" y="3960"/>
                  </a:lnTo>
                  <a:lnTo>
                    <a:pt x="1250" y="3965"/>
                  </a:lnTo>
                  <a:lnTo>
                    <a:pt x="1315" y="3967"/>
                  </a:lnTo>
                  <a:lnTo>
                    <a:pt x="1382" y="3969"/>
                  </a:lnTo>
                  <a:lnTo>
                    <a:pt x="1451" y="3969"/>
                  </a:lnTo>
                  <a:lnTo>
                    <a:pt x="1519" y="3966"/>
                  </a:lnTo>
                  <a:lnTo>
                    <a:pt x="1590" y="3961"/>
                  </a:lnTo>
                  <a:lnTo>
                    <a:pt x="1661" y="3954"/>
                  </a:lnTo>
                  <a:lnTo>
                    <a:pt x="1730" y="3944"/>
                  </a:lnTo>
                  <a:lnTo>
                    <a:pt x="1801" y="3931"/>
                  </a:lnTo>
                  <a:lnTo>
                    <a:pt x="1870" y="3915"/>
                  </a:lnTo>
                  <a:lnTo>
                    <a:pt x="1939" y="3894"/>
                  </a:lnTo>
                  <a:lnTo>
                    <a:pt x="2006" y="3871"/>
                  </a:lnTo>
                  <a:lnTo>
                    <a:pt x="2072" y="3843"/>
                  </a:lnTo>
                  <a:lnTo>
                    <a:pt x="2135" y="3811"/>
                  </a:lnTo>
                  <a:lnTo>
                    <a:pt x="2197" y="3775"/>
                  </a:lnTo>
                  <a:lnTo>
                    <a:pt x="2255" y="3734"/>
                  </a:lnTo>
                  <a:lnTo>
                    <a:pt x="2310" y="3687"/>
                  </a:lnTo>
                  <a:lnTo>
                    <a:pt x="2362" y="3636"/>
                  </a:lnTo>
                  <a:lnTo>
                    <a:pt x="2411" y="3579"/>
                  </a:lnTo>
                  <a:lnTo>
                    <a:pt x="2413" y="3575"/>
                  </a:lnTo>
                  <a:lnTo>
                    <a:pt x="2418" y="3562"/>
                  </a:lnTo>
                  <a:lnTo>
                    <a:pt x="2425" y="3541"/>
                  </a:lnTo>
                  <a:lnTo>
                    <a:pt x="2434" y="3512"/>
                  </a:lnTo>
                  <a:lnTo>
                    <a:pt x="2444" y="3475"/>
                  </a:lnTo>
                  <a:lnTo>
                    <a:pt x="2455" y="3430"/>
                  </a:lnTo>
                  <a:lnTo>
                    <a:pt x="2464" y="3378"/>
                  </a:lnTo>
                  <a:lnTo>
                    <a:pt x="2473" y="3320"/>
                  </a:lnTo>
                  <a:lnTo>
                    <a:pt x="2475" y="3289"/>
                  </a:lnTo>
                  <a:lnTo>
                    <a:pt x="2478" y="3255"/>
                  </a:lnTo>
                  <a:lnTo>
                    <a:pt x="2480" y="3221"/>
                  </a:lnTo>
                  <a:lnTo>
                    <a:pt x="2481" y="3185"/>
                  </a:lnTo>
                  <a:lnTo>
                    <a:pt x="2481" y="3146"/>
                  </a:lnTo>
                  <a:lnTo>
                    <a:pt x="2480" y="3106"/>
                  </a:lnTo>
                  <a:lnTo>
                    <a:pt x="2478" y="3067"/>
                  </a:lnTo>
                  <a:lnTo>
                    <a:pt x="2475" y="3025"/>
                  </a:lnTo>
                  <a:lnTo>
                    <a:pt x="2470" y="2981"/>
                  </a:lnTo>
                  <a:lnTo>
                    <a:pt x="2464" y="2935"/>
                  </a:lnTo>
                  <a:lnTo>
                    <a:pt x="2457" y="2889"/>
                  </a:lnTo>
                  <a:lnTo>
                    <a:pt x="2447" y="2842"/>
                  </a:lnTo>
                  <a:lnTo>
                    <a:pt x="2435" y="2794"/>
                  </a:lnTo>
                  <a:lnTo>
                    <a:pt x="2423" y="2744"/>
                  </a:lnTo>
                  <a:lnTo>
                    <a:pt x="2408" y="2693"/>
                  </a:lnTo>
                  <a:lnTo>
                    <a:pt x="2392" y="2641"/>
                  </a:lnTo>
                  <a:lnTo>
                    <a:pt x="2383" y="2621"/>
                  </a:lnTo>
                  <a:lnTo>
                    <a:pt x="2361" y="2565"/>
                  </a:lnTo>
                  <a:lnTo>
                    <a:pt x="2347" y="2526"/>
                  </a:lnTo>
                  <a:lnTo>
                    <a:pt x="2332" y="2480"/>
                  </a:lnTo>
                  <a:lnTo>
                    <a:pt x="2317" y="2428"/>
                  </a:lnTo>
                  <a:lnTo>
                    <a:pt x="2303" y="2371"/>
                  </a:lnTo>
                  <a:lnTo>
                    <a:pt x="2296" y="2341"/>
                  </a:lnTo>
                  <a:lnTo>
                    <a:pt x="2290" y="2310"/>
                  </a:lnTo>
                  <a:lnTo>
                    <a:pt x="2284" y="2278"/>
                  </a:lnTo>
                  <a:lnTo>
                    <a:pt x="2279" y="2245"/>
                  </a:lnTo>
                  <a:lnTo>
                    <a:pt x="2275" y="2212"/>
                  </a:lnTo>
                  <a:lnTo>
                    <a:pt x="2271" y="2178"/>
                  </a:lnTo>
                  <a:lnTo>
                    <a:pt x="2269" y="2145"/>
                  </a:lnTo>
                  <a:lnTo>
                    <a:pt x="2268" y="2110"/>
                  </a:lnTo>
                  <a:lnTo>
                    <a:pt x="2268" y="2075"/>
                  </a:lnTo>
                  <a:lnTo>
                    <a:pt x="2269" y="2041"/>
                  </a:lnTo>
                  <a:lnTo>
                    <a:pt x="2270" y="2006"/>
                  </a:lnTo>
                  <a:lnTo>
                    <a:pt x="2275" y="1971"/>
                  </a:lnTo>
                  <a:lnTo>
                    <a:pt x="2280" y="1938"/>
                  </a:lnTo>
                  <a:lnTo>
                    <a:pt x="2288" y="1903"/>
                  </a:lnTo>
                  <a:lnTo>
                    <a:pt x="2296" y="1869"/>
                  </a:lnTo>
                  <a:lnTo>
                    <a:pt x="2306" y="1836"/>
                  </a:lnTo>
                  <a:lnTo>
                    <a:pt x="2310" y="1819"/>
                  </a:lnTo>
                  <a:lnTo>
                    <a:pt x="2316" y="1770"/>
                  </a:lnTo>
                  <a:lnTo>
                    <a:pt x="2317" y="1737"/>
                  </a:lnTo>
                  <a:lnTo>
                    <a:pt x="2317" y="1696"/>
                  </a:lnTo>
                  <a:lnTo>
                    <a:pt x="2317" y="1675"/>
                  </a:lnTo>
                  <a:lnTo>
                    <a:pt x="2315" y="1651"/>
                  </a:lnTo>
                  <a:lnTo>
                    <a:pt x="2314" y="1626"/>
                  </a:lnTo>
                  <a:lnTo>
                    <a:pt x="2310" y="1600"/>
                  </a:lnTo>
                  <a:lnTo>
                    <a:pt x="2305" y="1574"/>
                  </a:lnTo>
                  <a:lnTo>
                    <a:pt x="2300" y="1547"/>
                  </a:lnTo>
                  <a:lnTo>
                    <a:pt x="2294" y="1518"/>
                  </a:lnTo>
                  <a:lnTo>
                    <a:pt x="2285" y="1490"/>
                  </a:lnTo>
                  <a:lnTo>
                    <a:pt x="2276" y="1460"/>
                  </a:lnTo>
                  <a:lnTo>
                    <a:pt x="2265" y="1430"/>
                  </a:lnTo>
                  <a:lnTo>
                    <a:pt x="2253" y="1400"/>
                  </a:lnTo>
                  <a:lnTo>
                    <a:pt x="2238" y="1369"/>
                  </a:lnTo>
                  <a:lnTo>
                    <a:pt x="2222" y="1337"/>
                  </a:lnTo>
                  <a:lnTo>
                    <a:pt x="2204" y="1306"/>
                  </a:lnTo>
                  <a:lnTo>
                    <a:pt x="2185" y="1274"/>
                  </a:lnTo>
                  <a:lnTo>
                    <a:pt x="2162" y="1243"/>
                  </a:lnTo>
                  <a:lnTo>
                    <a:pt x="2137" y="1211"/>
                  </a:lnTo>
                  <a:lnTo>
                    <a:pt x="2111" y="1180"/>
                  </a:lnTo>
                  <a:lnTo>
                    <a:pt x="2081" y="1147"/>
                  </a:lnTo>
                  <a:lnTo>
                    <a:pt x="2050" y="1116"/>
                  </a:lnTo>
                  <a:lnTo>
                    <a:pt x="2042" y="1105"/>
                  </a:lnTo>
                  <a:lnTo>
                    <a:pt x="2022" y="1073"/>
                  </a:lnTo>
                  <a:lnTo>
                    <a:pt x="2008" y="1049"/>
                  </a:lnTo>
                  <a:lnTo>
                    <a:pt x="1993" y="1018"/>
                  </a:lnTo>
                  <a:lnTo>
                    <a:pt x="1978" y="982"/>
                  </a:lnTo>
                  <a:lnTo>
                    <a:pt x="1964" y="941"/>
                  </a:lnTo>
                  <a:lnTo>
                    <a:pt x="1956" y="918"/>
                  </a:lnTo>
                  <a:lnTo>
                    <a:pt x="1950" y="894"/>
                  </a:lnTo>
                  <a:lnTo>
                    <a:pt x="1942" y="868"/>
                  </a:lnTo>
                  <a:lnTo>
                    <a:pt x="1937" y="841"/>
                  </a:lnTo>
                  <a:lnTo>
                    <a:pt x="1931" y="812"/>
                  </a:lnTo>
                  <a:lnTo>
                    <a:pt x="1926" y="781"/>
                  </a:lnTo>
                  <a:lnTo>
                    <a:pt x="1921" y="750"/>
                  </a:lnTo>
                  <a:lnTo>
                    <a:pt x="1919" y="717"/>
                  </a:lnTo>
                  <a:lnTo>
                    <a:pt x="1915" y="682"/>
                  </a:lnTo>
                  <a:lnTo>
                    <a:pt x="1914" y="646"/>
                  </a:lnTo>
                  <a:lnTo>
                    <a:pt x="1913" y="608"/>
                  </a:lnTo>
                  <a:lnTo>
                    <a:pt x="1914" y="569"/>
                  </a:lnTo>
                  <a:lnTo>
                    <a:pt x="1915" y="528"/>
                  </a:lnTo>
                  <a:lnTo>
                    <a:pt x="1918" y="486"/>
                  </a:lnTo>
                  <a:lnTo>
                    <a:pt x="1921" y="441"/>
                  </a:lnTo>
                  <a:lnTo>
                    <a:pt x="1928" y="397"/>
                  </a:lnTo>
                  <a:lnTo>
                    <a:pt x="1925" y="389"/>
                  </a:lnTo>
                  <a:lnTo>
                    <a:pt x="1921" y="371"/>
                  </a:lnTo>
                  <a:lnTo>
                    <a:pt x="1913" y="342"/>
                  </a:lnTo>
                  <a:lnTo>
                    <a:pt x="1901" y="306"/>
                  </a:lnTo>
                  <a:lnTo>
                    <a:pt x="1894" y="286"/>
                  </a:lnTo>
                  <a:lnTo>
                    <a:pt x="1885" y="265"/>
                  </a:lnTo>
                  <a:lnTo>
                    <a:pt x="1877" y="243"/>
                  </a:lnTo>
                  <a:lnTo>
                    <a:pt x="1865" y="221"/>
                  </a:lnTo>
                  <a:lnTo>
                    <a:pt x="1854" y="197"/>
                  </a:lnTo>
                  <a:lnTo>
                    <a:pt x="1841" y="175"/>
                  </a:lnTo>
                  <a:lnTo>
                    <a:pt x="1827" y="151"/>
                  </a:lnTo>
                  <a:lnTo>
                    <a:pt x="1811" y="130"/>
                  </a:lnTo>
                  <a:lnTo>
                    <a:pt x="1793" y="108"/>
                  </a:lnTo>
                  <a:lnTo>
                    <a:pt x="1775" y="88"/>
                  </a:lnTo>
                  <a:lnTo>
                    <a:pt x="1755" y="69"/>
                  </a:lnTo>
                  <a:lnTo>
                    <a:pt x="1734" y="52"/>
                  </a:lnTo>
                  <a:lnTo>
                    <a:pt x="1711" y="37"/>
                  </a:lnTo>
                  <a:lnTo>
                    <a:pt x="1687" y="25"/>
                  </a:lnTo>
                  <a:lnTo>
                    <a:pt x="1661" y="13"/>
                  </a:lnTo>
                  <a:lnTo>
                    <a:pt x="1633" y="6"/>
                  </a:lnTo>
                  <a:lnTo>
                    <a:pt x="1603" y="1"/>
                  </a:lnTo>
                  <a:lnTo>
                    <a:pt x="1572" y="0"/>
                  </a:lnTo>
                  <a:lnTo>
                    <a:pt x="1539" y="2"/>
                  </a:lnTo>
                  <a:lnTo>
                    <a:pt x="1504" y="7"/>
                  </a:lnTo>
                  <a:lnTo>
                    <a:pt x="1468" y="18"/>
                  </a:lnTo>
                  <a:lnTo>
                    <a:pt x="1430" y="32"/>
                  </a:lnTo>
                  <a:lnTo>
                    <a:pt x="1389" y="52"/>
                  </a:lnTo>
                  <a:lnTo>
                    <a:pt x="1346" y="75"/>
                  </a:lnTo>
                  <a:lnTo>
                    <a:pt x="1344" y="82"/>
                  </a:lnTo>
                  <a:lnTo>
                    <a:pt x="1335" y="98"/>
                  </a:lnTo>
                  <a:lnTo>
                    <a:pt x="1327" y="108"/>
                  </a:lnTo>
                  <a:lnTo>
                    <a:pt x="1315" y="118"/>
                  </a:lnTo>
                  <a:lnTo>
                    <a:pt x="1309" y="123"/>
                  </a:lnTo>
                  <a:lnTo>
                    <a:pt x="1300" y="126"/>
                  </a:lnTo>
                  <a:lnTo>
                    <a:pt x="1292" y="131"/>
                  </a:lnTo>
                  <a:lnTo>
                    <a:pt x="1281" y="135"/>
                  </a:lnTo>
                  <a:lnTo>
                    <a:pt x="1269" y="137"/>
                  </a:lnTo>
                  <a:lnTo>
                    <a:pt x="1257" y="140"/>
                  </a:lnTo>
                  <a:lnTo>
                    <a:pt x="1242" y="142"/>
                  </a:lnTo>
                  <a:lnTo>
                    <a:pt x="1227" y="142"/>
                  </a:lnTo>
                  <a:lnTo>
                    <a:pt x="1210" y="144"/>
                  </a:lnTo>
                  <a:lnTo>
                    <a:pt x="1191" y="142"/>
                  </a:lnTo>
                  <a:lnTo>
                    <a:pt x="1171" y="140"/>
                  </a:lnTo>
                  <a:lnTo>
                    <a:pt x="1150" y="137"/>
                  </a:lnTo>
                  <a:lnTo>
                    <a:pt x="1127" y="132"/>
                  </a:lnTo>
                  <a:lnTo>
                    <a:pt x="1102" y="127"/>
                  </a:lnTo>
                  <a:lnTo>
                    <a:pt x="1074" y="120"/>
                  </a:lnTo>
                  <a:lnTo>
                    <a:pt x="1046" y="111"/>
                  </a:lnTo>
                  <a:lnTo>
                    <a:pt x="1015" y="100"/>
                  </a:lnTo>
                  <a:lnTo>
                    <a:pt x="983" y="88"/>
                  </a:lnTo>
                  <a:lnTo>
                    <a:pt x="947" y="74"/>
                  </a:lnTo>
                  <a:lnTo>
                    <a:pt x="911" y="58"/>
                  </a:lnTo>
                  <a:lnTo>
                    <a:pt x="884" y="54"/>
                  </a:lnTo>
                  <a:lnTo>
                    <a:pt x="819" y="46"/>
                  </a:lnTo>
                  <a:lnTo>
                    <a:pt x="775" y="42"/>
                  </a:lnTo>
                  <a:lnTo>
                    <a:pt x="727" y="39"/>
                  </a:lnTo>
                  <a:lnTo>
                    <a:pt x="702" y="39"/>
                  </a:lnTo>
                  <a:lnTo>
                    <a:pt x="676" y="39"/>
                  </a:lnTo>
                  <a:lnTo>
                    <a:pt x="649" y="42"/>
                  </a:lnTo>
                  <a:lnTo>
                    <a:pt x="622" y="44"/>
                  </a:lnTo>
                  <a:lnTo>
                    <a:pt x="596" y="47"/>
                  </a:lnTo>
                  <a:lnTo>
                    <a:pt x="570" y="52"/>
                  </a:lnTo>
                  <a:lnTo>
                    <a:pt x="545" y="58"/>
                  </a:lnTo>
                  <a:lnTo>
                    <a:pt x="521" y="65"/>
                  </a:lnTo>
                  <a:lnTo>
                    <a:pt x="497" y="74"/>
                  </a:lnTo>
                  <a:lnTo>
                    <a:pt x="475" y="85"/>
                  </a:lnTo>
                  <a:lnTo>
                    <a:pt x="455" y="98"/>
                  </a:lnTo>
                  <a:lnTo>
                    <a:pt x="435" y="111"/>
                  </a:lnTo>
                  <a:lnTo>
                    <a:pt x="418" y="127"/>
                  </a:lnTo>
                  <a:lnTo>
                    <a:pt x="403" y="146"/>
                  </a:lnTo>
                  <a:lnTo>
                    <a:pt x="390" y="167"/>
                  </a:lnTo>
                  <a:lnTo>
                    <a:pt x="380" y="190"/>
                  </a:lnTo>
                  <a:lnTo>
                    <a:pt x="373" y="214"/>
                  </a:lnTo>
                  <a:lnTo>
                    <a:pt x="369" y="243"/>
                  </a:lnTo>
                  <a:lnTo>
                    <a:pt x="368" y="273"/>
                  </a:lnTo>
                  <a:lnTo>
                    <a:pt x="372" y="306"/>
                  </a:lnTo>
                  <a:close/>
                </a:path>
              </a:pathLst>
            </a:custGeom>
            <a:solidFill>
              <a:srgbClr val="efc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1057320" y="2282760"/>
              <a:ext cx="1012680" cy="1604880"/>
            </a:xfrm>
            <a:custGeom>
              <a:avLst/>
              <a:gdLst/>
              <a:ahLst/>
              <a:rect l="l" t="t" r="r" b="b"/>
              <a:pathLst>
                <a:path w="2553" h="4042">
                  <a:moveTo>
                    <a:pt x="1364" y="82"/>
                  </a:moveTo>
                  <a:lnTo>
                    <a:pt x="1351" y="89"/>
                  </a:lnTo>
                  <a:lnTo>
                    <a:pt x="1348" y="104"/>
                  </a:lnTo>
                  <a:lnTo>
                    <a:pt x="1346" y="108"/>
                  </a:lnTo>
                  <a:lnTo>
                    <a:pt x="1343" y="114"/>
                  </a:lnTo>
                  <a:lnTo>
                    <a:pt x="1339" y="118"/>
                  </a:lnTo>
                  <a:lnTo>
                    <a:pt x="1334" y="123"/>
                  </a:lnTo>
                  <a:lnTo>
                    <a:pt x="1328" y="128"/>
                  </a:lnTo>
                  <a:lnTo>
                    <a:pt x="1319" y="131"/>
                  </a:lnTo>
                  <a:lnTo>
                    <a:pt x="1312" y="135"/>
                  </a:lnTo>
                  <a:lnTo>
                    <a:pt x="1303" y="137"/>
                  </a:lnTo>
                  <a:lnTo>
                    <a:pt x="1293" y="140"/>
                  </a:lnTo>
                  <a:lnTo>
                    <a:pt x="1281" y="142"/>
                  </a:lnTo>
                  <a:lnTo>
                    <a:pt x="1267" y="144"/>
                  </a:lnTo>
                  <a:lnTo>
                    <a:pt x="1251" y="144"/>
                  </a:lnTo>
                  <a:lnTo>
                    <a:pt x="1232" y="142"/>
                  </a:lnTo>
                  <a:lnTo>
                    <a:pt x="1212" y="141"/>
                  </a:lnTo>
                  <a:lnTo>
                    <a:pt x="1190" y="137"/>
                  </a:lnTo>
                  <a:lnTo>
                    <a:pt x="1165" y="132"/>
                  </a:lnTo>
                  <a:lnTo>
                    <a:pt x="1138" y="126"/>
                  </a:lnTo>
                  <a:lnTo>
                    <a:pt x="1108" y="118"/>
                  </a:lnTo>
                  <a:lnTo>
                    <a:pt x="1076" y="108"/>
                  </a:lnTo>
                  <a:lnTo>
                    <a:pt x="1040" y="94"/>
                  </a:lnTo>
                  <a:lnTo>
                    <a:pt x="1001" y="79"/>
                  </a:lnTo>
                  <a:lnTo>
                    <a:pt x="960" y="62"/>
                  </a:lnTo>
                  <a:lnTo>
                    <a:pt x="938" y="58"/>
                  </a:lnTo>
                  <a:lnTo>
                    <a:pt x="892" y="51"/>
                  </a:lnTo>
                  <a:lnTo>
                    <a:pt x="861" y="47"/>
                  </a:lnTo>
                  <a:lnTo>
                    <a:pt x="826" y="43"/>
                  </a:lnTo>
                  <a:lnTo>
                    <a:pt x="789" y="41"/>
                  </a:lnTo>
                  <a:lnTo>
                    <a:pt x="749" y="39"/>
                  </a:lnTo>
                  <a:lnTo>
                    <a:pt x="708" y="41"/>
                  </a:lnTo>
                  <a:lnTo>
                    <a:pt x="666" y="43"/>
                  </a:lnTo>
                  <a:lnTo>
                    <a:pt x="645" y="46"/>
                  </a:lnTo>
                  <a:lnTo>
                    <a:pt x="624" y="49"/>
                  </a:lnTo>
                  <a:lnTo>
                    <a:pt x="603" y="53"/>
                  </a:lnTo>
                  <a:lnTo>
                    <a:pt x="583" y="57"/>
                  </a:lnTo>
                  <a:lnTo>
                    <a:pt x="563" y="63"/>
                  </a:lnTo>
                  <a:lnTo>
                    <a:pt x="543" y="69"/>
                  </a:lnTo>
                  <a:lnTo>
                    <a:pt x="523" y="77"/>
                  </a:lnTo>
                  <a:lnTo>
                    <a:pt x="506" y="84"/>
                  </a:lnTo>
                  <a:lnTo>
                    <a:pt x="487" y="94"/>
                  </a:lnTo>
                  <a:lnTo>
                    <a:pt x="471" y="104"/>
                  </a:lnTo>
                  <a:lnTo>
                    <a:pt x="455" y="115"/>
                  </a:lnTo>
                  <a:lnTo>
                    <a:pt x="440" y="128"/>
                  </a:lnTo>
                  <a:lnTo>
                    <a:pt x="430" y="137"/>
                  </a:lnTo>
                  <a:lnTo>
                    <a:pt x="420" y="149"/>
                  </a:lnTo>
                  <a:lnTo>
                    <a:pt x="411" y="160"/>
                  </a:lnTo>
                  <a:lnTo>
                    <a:pt x="404" y="171"/>
                  </a:lnTo>
                  <a:lnTo>
                    <a:pt x="396" y="183"/>
                  </a:lnTo>
                  <a:lnTo>
                    <a:pt x="390" y="196"/>
                  </a:lnTo>
                  <a:lnTo>
                    <a:pt x="384" y="209"/>
                  </a:lnTo>
                  <a:lnTo>
                    <a:pt x="380" y="223"/>
                  </a:lnTo>
                  <a:lnTo>
                    <a:pt x="377" y="237"/>
                  </a:lnTo>
                  <a:lnTo>
                    <a:pt x="373" y="250"/>
                  </a:lnTo>
                  <a:lnTo>
                    <a:pt x="370" y="265"/>
                  </a:lnTo>
                  <a:lnTo>
                    <a:pt x="369" y="281"/>
                  </a:lnTo>
                  <a:lnTo>
                    <a:pt x="369" y="296"/>
                  </a:lnTo>
                  <a:lnTo>
                    <a:pt x="369" y="314"/>
                  </a:lnTo>
                  <a:lnTo>
                    <a:pt x="370" y="330"/>
                  </a:lnTo>
                  <a:lnTo>
                    <a:pt x="372" y="347"/>
                  </a:lnTo>
                  <a:lnTo>
                    <a:pt x="372" y="343"/>
                  </a:lnTo>
                  <a:lnTo>
                    <a:pt x="372" y="372"/>
                  </a:lnTo>
                  <a:lnTo>
                    <a:pt x="372" y="446"/>
                  </a:lnTo>
                  <a:lnTo>
                    <a:pt x="370" y="497"/>
                  </a:lnTo>
                  <a:lnTo>
                    <a:pt x="368" y="556"/>
                  </a:lnTo>
                  <a:lnTo>
                    <a:pt x="364" y="618"/>
                  </a:lnTo>
                  <a:lnTo>
                    <a:pt x="359" y="686"/>
                  </a:lnTo>
                  <a:lnTo>
                    <a:pt x="352" y="755"/>
                  </a:lnTo>
                  <a:lnTo>
                    <a:pt x="342" y="826"/>
                  </a:lnTo>
                  <a:lnTo>
                    <a:pt x="336" y="862"/>
                  </a:lnTo>
                  <a:lnTo>
                    <a:pt x="329" y="898"/>
                  </a:lnTo>
                  <a:lnTo>
                    <a:pt x="322" y="933"/>
                  </a:lnTo>
                  <a:lnTo>
                    <a:pt x="314" y="966"/>
                  </a:lnTo>
                  <a:lnTo>
                    <a:pt x="306" y="1000"/>
                  </a:lnTo>
                  <a:lnTo>
                    <a:pt x="296" y="1033"/>
                  </a:lnTo>
                  <a:lnTo>
                    <a:pt x="285" y="1064"/>
                  </a:lnTo>
                  <a:lnTo>
                    <a:pt x="273" y="1094"/>
                  </a:lnTo>
                  <a:lnTo>
                    <a:pt x="261" y="1123"/>
                  </a:lnTo>
                  <a:lnTo>
                    <a:pt x="247" y="1150"/>
                  </a:lnTo>
                  <a:lnTo>
                    <a:pt x="234" y="1175"/>
                  </a:lnTo>
                  <a:lnTo>
                    <a:pt x="219" y="1198"/>
                  </a:lnTo>
                  <a:lnTo>
                    <a:pt x="205" y="1213"/>
                  </a:lnTo>
                  <a:lnTo>
                    <a:pt x="174" y="1257"/>
                  </a:lnTo>
                  <a:lnTo>
                    <a:pt x="154" y="1288"/>
                  </a:lnTo>
                  <a:lnTo>
                    <a:pt x="134" y="1325"/>
                  </a:lnTo>
                  <a:lnTo>
                    <a:pt x="123" y="1346"/>
                  </a:lnTo>
                  <a:lnTo>
                    <a:pt x="112" y="1367"/>
                  </a:lnTo>
                  <a:lnTo>
                    <a:pt x="102" y="1391"/>
                  </a:lnTo>
                  <a:lnTo>
                    <a:pt x="92" y="1415"/>
                  </a:lnTo>
                  <a:lnTo>
                    <a:pt x="84" y="1441"/>
                  </a:lnTo>
                  <a:lnTo>
                    <a:pt x="75" y="1469"/>
                  </a:lnTo>
                  <a:lnTo>
                    <a:pt x="66" y="1496"/>
                  </a:lnTo>
                  <a:lnTo>
                    <a:pt x="60" y="1526"/>
                  </a:lnTo>
                  <a:lnTo>
                    <a:pt x="54" y="1556"/>
                  </a:lnTo>
                  <a:lnTo>
                    <a:pt x="49" y="1587"/>
                  </a:lnTo>
                  <a:lnTo>
                    <a:pt x="45" y="1619"/>
                  </a:lnTo>
                  <a:lnTo>
                    <a:pt x="44" y="1652"/>
                  </a:lnTo>
                  <a:lnTo>
                    <a:pt x="44" y="1686"/>
                  </a:lnTo>
                  <a:lnTo>
                    <a:pt x="45" y="1721"/>
                  </a:lnTo>
                  <a:lnTo>
                    <a:pt x="49" y="1757"/>
                  </a:lnTo>
                  <a:lnTo>
                    <a:pt x="55" y="1793"/>
                  </a:lnTo>
                  <a:lnTo>
                    <a:pt x="62" y="1830"/>
                  </a:lnTo>
                  <a:lnTo>
                    <a:pt x="72" y="1867"/>
                  </a:lnTo>
                  <a:lnTo>
                    <a:pt x="85" y="1904"/>
                  </a:lnTo>
                  <a:lnTo>
                    <a:pt x="101" y="1944"/>
                  </a:lnTo>
                  <a:lnTo>
                    <a:pt x="102" y="1964"/>
                  </a:lnTo>
                  <a:lnTo>
                    <a:pt x="106" y="2023"/>
                  </a:lnTo>
                  <a:lnTo>
                    <a:pt x="108" y="2067"/>
                  </a:lnTo>
                  <a:lnTo>
                    <a:pt x="111" y="2115"/>
                  </a:lnTo>
                  <a:lnTo>
                    <a:pt x="112" y="2170"/>
                  </a:lnTo>
                  <a:lnTo>
                    <a:pt x="113" y="2229"/>
                  </a:lnTo>
                  <a:lnTo>
                    <a:pt x="112" y="2293"/>
                  </a:lnTo>
                  <a:lnTo>
                    <a:pt x="111" y="2358"/>
                  </a:lnTo>
                  <a:lnTo>
                    <a:pt x="107" y="2425"/>
                  </a:lnTo>
                  <a:lnTo>
                    <a:pt x="102" y="2494"/>
                  </a:lnTo>
                  <a:lnTo>
                    <a:pt x="98" y="2528"/>
                  </a:lnTo>
                  <a:lnTo>
                    <a:pt x="93" y="2562"/>
                  </a:lnTo>
                  <a:lnTo>
                    <a:pt x="88" y="2595"/>
                  </a:lnTo>
                  <a:lnTo>
                    <a:pt x="82" y="2628"/>
                  </a:lnTo>
                  <a:lnTo>
                    <a:pt x="76" y="2660"/>
                  </a:lnTo>
                  <a:lnTo>
                    <a:pt x="69" y="2692"/>
                  </a:lnTo>
                  <a:lnTo>
                    <a:pt x="61" y="2722"/>
                  </a:lnTo>
                  <a:lnTo>
                    <a:pt x="52" y="2752"/>
                  </a:lnTo>
                  <a:lnTo>
                    <a:pt x="46" y="2765"/>
                  </a:lnTo>
                  <a:lnTo>
                    <a:pt x="34" y="2800"/>
                  </a:lnTo>
                  <a:lnTo>
                    <a:pt x="28" y="2825"/>
                  </a:lnTo>
                  <a:lnTo>
                    <a:pt x="20" y="2853"/>
                  </a:lnTo>
                  <a:lnTo>
                    <a:pt x="13" y="2886"/>
                  </a:lnTo>
                  <a:lnTo>
                    <a:pt x="8" y="2923"/>
                  </a:lnTo>
                  <a:lnTo>
                    <a:pt x="3" y="2962"/>
                  </a:lnTo>
                  <a:lnTo>
                    <a:pt x="0" y="3006"/>
                  </a:lnTo>
                  <a:lnTo>
                    <a:pt x="0" y="3028"/>
                  </a:lnTo>
                  <a:lnTo>
                    <a:pt x="0" y="3052"/>
                  </a:lnTo>
                  <a:lnTo>
                    <a:pt x="2" y="3075"/>
                  </a:lnTo>
                  <a:lnTo>
                    <a:pt x="3" y="3100"/>
                  </a:lnTo>
                  <a:lnTo>
                    <a:pt x="5" y="3125"/>
                  </a:lnTo>
                  <a:lnTo>
                    <a:pt x="9" y="3151"/>
                  </a:lnTo>
                  <a:lnTo>
                    <a:pt x="13" y="3177"/>
                  </a:lnTo>
                  <a:lnTo>
                    <a:pt x="19" y="3204"/>
                  </a:lnTo>
                  <a:lnTo>
                    <a:pt x="25" y="3232"/>
                  </a:lnTo>
                  <a:lnTo>
                    <a:pt x="33" y="3259"/>
                  </a:lnTo>
                  <a:lnTo>
                    <a:pt x="41" y="3288"/>
                  </a:lnTo>
                  <a:lnTo>
                    <a:pt x="52" y="3315"/>
                  </a:lnTo>
                  <a:lnTo>
                    <a:pt x="61" y="3340"/>
                  </a:lnTo>
                  <a:lnTo>
                    <a:pt x="72" y="3363"/>
                  </a:lnTo>
                  <a:lnTo>
                    <a:pt x="84" y="3388"/>
                  </a:lnTo>
                  <a:lnTo>
                    <a:pt x="95" y="3410"/>
                  </a:lnTo>
                  <a:lnTo>
                    <a:pt x="108" y="3434"/>
                  </a:lnTo>
                  <a:lnTo>
                    <a:pt x="122" y="3458"/>
                  </a:lnTo>
                  <a:lnTo>
                    <a:pt x="136" y="3480"/>
                  </a:lnTo>
                  <a:lnTo>
                    <a:pt x="151" y="3502"/>
                  </a:lnTo>
                  <a:lnTo>
                    <a:pt x="167" y="3525"/>
                  </a:lnTo>
                  <a:lnTo>
                    <a:pt x="184" y="3546"/>
                  </a:lnTo>
                  <a:lnTo>
                    <a:pt x="201" y="3568"/>
                  </a:lnTo>
                  <a:lnTo>
                    <a:pt x="219" y="3589"/>
                  </a:lnTo>
                  <a:lnTo>
                    <a:pt x="239" y="3610"/>
                  </a:lnTo>
                  <a:lnTo>
                    <a:pt x="259" y="3630"/>
                  </a:lnTo>
                  <a:lnTo>
                    <a:pt x="278" y="3651"/>
                  </a:lnTo>
                  <a:lnTo>
                    <a:pt x="300" y="3671"/>
                  </a:lnTo>
                  <a:lnTo>
                    <a:pt x="322" y="3691"/>
                  </a:lnTo>
                  <a:lnTo>
                    <a:pt x="344" y="3709"/>
                  </a:lnTo>
                  <a:lnTo>
                    <a:pt x="368" y="3729"/>
                  </a:lnTo>
                  <a:lnTo>
                    <a:pt x="393" y="3748"/>
                  </a:lnTo>
                  <a:lnTo>
                    <a:pt x="418" y="3766"/>
                  </a:lnTo>
                  <a:lnTo>
                    <a:pt x="444" y="3785"/>
                  </a:lnTo>
                  <a:lnTo>
                    <a:pt x="471" y="3802"/>
                  </a:lnTo>
                  <a:lnTo>
                    <a:pt x="498" y="3821"/>
                  </a:lnTo>
                  <a:lnTo>
                    <a:pt x="526" y="3838"/>
                  </a:lnTo>
                  <a:lnTo>
                    <a:pt x="555" y="3855"/>
                  </a:lnTo>
                  <a:lnTo>
                    <a:pt x="585" y="3872"/>
                  </a:lnTo>
                  <a:lnTo>
                    <a:pt x="615" y="3888"/>
                  </a:lnTo>
                  <a:lnTo>
                    <a:pt x="646" y="3904"/>
                  </a:lnTo>
                  <a:lnTo>
                    <a:pt x="678" y="3920"/>
                  </a:lnTo>
                  <a:lnTo>
                    <a:pt x="711" y="3936"/>
                  </a:lnTo>
                  <a:lnTo>
                    <a:pt x="744" y="3951"/>
                  </a:lnTo>
                  <a:lnTo>
                    <a:pt x="768" y="3958"/>
                  </a:lnTo>
                  <a:lnTo>
                    <a:pt x="814" y="3969"/>
                  </a:lnTo>
                  <a:lnTo>
                    <a:pt x="881" y="3984"/>
                  </a:lnTo>
                  <a:lnTo>
                    <a:pt x="968" y="4000"/>
                  </a:lnTo>
                  <a:lnTo>
                    <a:pt x="1016" y="4008"/>
                  </a:lnTo>
                  <a:lnTo>
                    <a:pt x="1068" y="4016"/>
                  </a:lnTo>
                  <a:lnTo>
                    <a:pt x="1124" y="4023"/>
                  </a:lnTo>
                  <a:lnTo>
                    <a:pt x="1184" y="4029"/>
                  </a:lnTo>
                  <a:lnTo>
                    <a:pt x="1245" y="4034"/>
                  </a:lnTo>
                  <a:lnTo>
                    <a:pt x="1309" y="4038"/>
                  </a:lnTo>
                  <a:lnTo>
                    <a:pt x="1375" y="4042"/>
                  </a:lnTo>
                  <a:lnTo>
                    <a:pt x="1442" y="4042"/>
                  </a:lnTo>
                  <a:lnTo>
                    <a:pt x="1510" y="4042"/>
                  </a:lnTo>
                  <a:lnTo>
                    <a:pt x="1580" y="4038"/>
                  </a:lnTo>
                  <a:lnTo>
                    <a:pt x="1651" y="4033"/>
                  </a:lnTo>
                  <a:lnTo>
                    <a:pt x="1721" y="4025"/>
                  </a:lnTo>
                  <a:lnTo>
                    <a:pt x="1792" y="4013"/>
                  </a:lnTo>
                  <a:lnTo>
                    <a:pt x="1862" y="4000"/>
                  </a:lnTo>
                  <a:lnTo>
                    <a:pt x="1931" y="3982"/>
                  </a:lnTo>
                  <a:lnTo>
                    <a:pt x="2001" y="3961"/>
                  </a:lnTo>
                  <a:lnTo>
                    <a:pt x="2068" y="3936"/>
                  </a:lnTo>
                  <a:lnTo>
                    <a:pt x="2134" y="3908"/>
                  </a:lnTo>
                  <a:lnTo>
                    <a:pt x="2197" y="3874"/>
                  </a:lnTo>
                  <a:lnTo>
                    <a:pt x="2259" y="3837"/>
                  </a:lnTo>
                  <a:lnTo>
                    <a:pt x="2317" y="3795"/>
                  </a:lnTo>
                  <a:lnTo>
                    <a:pt x="2373" y="3748"/>
                  </a:lnTo>
                  <a:lnTo>
                    <a:pt x="2425" y="3696"/>
                  </a:lnTo>
                  <a:lnTo>
                    <a:pt x="2475" y="3637"/>
                  </a:lnTo>
                  <a:lnTo>
                    <a:pt x="2479" y="3629"/>
                  </a:lnTo>
                  <a:lnTo>
                    <a:pt x="2485" y="3613"/>
                  </a:lnTo>
                  <a:lnTo>
                    <a:pt x="2495" y="3588"/>
                  </a:lnTo>
                  <a:lnTo>
                    <a:pt x="2505" y="3556"/>
                  </a:lnTo>
                  <a:lnTo>
                    <a:pt x="2516" y="3516"/>
                  </a:lnTo>
                  <a:lnTo>
                    <a:pt x="2526" y="3469"/>
                  </a:lnTo>
                  <a:lnTo>
                    <a:pt x="2531" y="3443"/>
                  </a:lnTo>
                  <a:lnTo>
                    <a:pt x="2536" y="3415"/>
                  </a:lnTo>
                  <a:lnTo>
                    <a:pt x="2541" y="3386"/>
                  </a:lnTo>
                  <a:lnTo>
                    <a:pt x="2545" y="3355"/>
                  </a:lnTo>
                  <a:lnTo>
                    <a:pt x="2547" y="3322"/>
                  </a:lnTo>
                  <a:lnTo>
                    <a:pt x="2551" y="3289"/>
                  </a:lnTo>
                  <a:lnTo>
                    <a:pt x="2552" y="3253"/>
                  </a:lnTo>
                  <a:lnTo>
                    <a:pt x="2553" y="3216"/>
                  </a:lnTo>
                  <a:lnTo>
                    <a:pt x="2553" y="3177"/>
                  </a:lnTo>
                  <a:lnTo>
                    <a:pt x="2552" y="3137"/>
                  </a:lnTo>
                  <a:lnTo>
                    <a:pt x="2550" y="3096"/>
                  </a:lnTo>
                  <a:lnTo>
                    <a:pt x="2546" y="3053"/>
                  </a:lnTo>
                  <a:lnTo>
                    <a:pt x="2541" y="3010"/>
                  </a:lnTo>
                  <a:lnTo>
                    <a:pt x="2535" y="2964"/>
                  </a:lnTo>
                  <a:lnTo>
                    <a:pt x="2527" y="2918"/>
                  </a:lnTo>
                  <a:lnTo>
                    <a:pt x="2517" y="2869"/>
                  </a:lnTo>
                  <a:lnTo>
                    <a:pt x="2506" y="2820"/>
                  </a:lnTo>
                  <a:lnTo>
                    <a:pt x="2494" y="2770"/>
                  </a:lnTo>
                  <a:lnTo>
                    <a:pt x="2479" y="2719"/>
                  </a:lnTo>
                  <a:lnTo>
                    <a:pt x="2461" y="2666"/>
                  </a:lnTo>
                  <a:lnTo>
                    <a:pt x="2452" y="2644"/>
                  </a:lnTo>
                  <a:lnTo>
                    <a:pt x="2430" y="2588"/>
                  </a:lnTo>
                  <a:lnTo>
                    <a:pt x="2417" y="2548"/>
                  </a:lnTo>
                  <a:lnTo>
                    <a:pt x="2402" y="2503"/>
                  </a:lnTo>
                  <a:lnTo>
                    <a:pt x="2387" y="2453"/>
                  </a:lnTo>
                  <a:lnTo>
                    <a:pt x="2373" y="2397"/>
                  </a:lnTo>
                  <a:lnTo>
                    <a:pt x="2367" y="2368"/>
                  </a:lnTo>
                  <a:lnTo>
                    <a:pt x="2361" y="2338"/>
                  </a:lnTo>
                  <a:lnTo>
                    <a:pt x="2356" y="2307"/>
                  </a:lnTo>
                  <a:lnTo>
                    <a:pt x="2351" y="2276"/>
                  </a:lnTo>
                  <a:lnTo>
                    <a:pt x="2346" y="2244"/>
                  </a:lnTo>
                  <a:lnTo>
                    <a:pt x="2343" y="2212"/>
                  </a:lnTo>
                  <a:lnTo>
                    <a:pt x="2341" y="2178"/>
                  </a:lnTo>
                  <a:lnTo>
                    <a:pt x="2340" y="2146"/>
                  </a:lnTo>
                  <a:lnTo>
                    <a:pt x="2340" y="2113"/>
                  </a:lnTo>
                  <a:lnTo>
                    <a:pt x="2340" y="2079"/>
                  </a:lnTo>
                  <a:lnTo>
                    <a:pt x="2342" y="2046"/>
                  </a:lnTo>
                  <a:lnTo>
                    <a:pt x="2346" y="2013"/>
                  </a:lnTo>
                  <a:lnTo>
                    <a:pt x="2351" y="1980"/>
                  </a:lnTo>
                  <a:lnTo>
                    <a:pt x="2357" y="1948"/>
                  </a:lnTo>
                  <a:lnTo>
                    <a:pt x="2366" y="1915"/>
                  </a:lnTo>
                  <a:lnTo>
                    <a:pt x="2376" y="1884"/>
                  </a:lnTo>
                  <a:lnTo>
                    <a:pt x="2378" y="1876"/>
                  </a:lnTo>
                  <a:lnTo>
                    <a:pt x="2381" y="1860"/>
                  </a:lnTo>
                  <a:lnTo>
                    <a:pt x="2384" y="1836"/>
                  </a:lnTo>
                  <a:lnTo>
                    <a:pt x="2388" y="1805"/>
                  </a:lnTo>
                  <a:lnTo>
                    <a:pt x="2389" y="1769"/>
                  </a:lnTo>
                  <a:lnTo>
                    <a:pt x="2389" y="1726"/>
                  </a:lnTo>
                  <a:lnTo>
                    <a:pt x="2388" y="1703"/>
                  </a:lnTo>
                  <a:lnTo>
                    <a:pt x="2387" y="1678"/>
                  </a:lnTo>
                  <a:lnTo>
                    <a:pt x="2384" y="1652"/>
                  </a:lnTo>
                  <a:lnTo>
                    <a:pt x="2381" y="1626"/>
                  </a:lnTo>
                  <a:lnTo>
                    <a:pt x="2376" y="1599"/>
                  </a:lnTo>
                  <a:lnTo>
                    <a:pt x="2371" y="1570"/>
                  </a:lnTo>
                  <a:lnTo>
                    <a:pt x="2363" y="1541"/>
                  </a:lnTo>
                  <a:lnTo>
                    <a:pt x="2355" y="1511"/>
                  </a:lnTo>
                  <a:lnTo>
                    <a:pt x="2345" y="1481"/>
                  </a:lnTo>
                  <a:lnTo>
                    <a:pt x="2334" y="1450"/>
                  </a:lnTo>
                  <a:lnTo>
                    <a:pt x="2320" y="1418"/>
                  </a:lnTo>
                  <a:lnTo>
                    <a:pt x="2305" y="1387"/>
                  </a:lnTo>
                  <a:lnTo>
                    <a:pt x="2289" y="1355"/>
                  </a:lnTo>
                  <a:lnTo>
                    <a:pt x="2270" y="1322"/>
                  </a:lnTo>
                  <a:lnTo>
                    <a:pt x="2249" y="1289"/>
                  </a:lnTo>
                  <a:lnTo>
                    <a:pt x="2227" y="1257"/>
                  </a:lnTo>
                  <a:lnTo>
                    <a:pt x="2201" y="1224"/>
                  </a:lnTo>
                  <a:lnTo>
                    <a:pt x="2173" y="1191"/>
                  </a:lnTo>
                  <a:lnTo>
                    <a:pt x="2144" y="1159"/>
                  </a:lnTo>
                  <a:lnTo>
                    <a:pt x="2111" y="1126"/>
                  </a:lnTo>
                  <a:lnTo>
                    <a:pt x="2104" y="1116"/>
                  </a:lnTo>
                  <a:lnTo>
                    <a:pt x="2085" y="1085"/>
                  </a:lnTo>
                  <a:lnTo>
                    <a:pt x="2073" y="1062"/>
                  </a:lnTo>
                  <a:lnTo>
                    <a:pt x="2059" y="1032"/>
                  </a:lnTo>
                  <a:lnTo>
                    <a:pt x="2045" y="998"/>
                  </a:lnTo>
                  <a:lnTo>
                    <a:pt x="2032" y="958"/>
                  </a:lnTo>
                  <a:lnTo>
                    <a:pt x="2024" y="936"/>
                  </a:lnTo>
                  <a:lnTo>
                    <a:pt x="2018" y="913"/>
                  </a:lnTo>
                  <a:lnTo>
                    <a:pt x="2012" y="888"/>
                  </a:lnTo>
                  <a:lnTo>
                    <a:pt x="2007" y="862"/>
                  </a:lnTo>
                  <a:lnTo>
                    <a:pt x="2001" y="833"/>
                  </a:lnTo>
                  <a:lnTo>
                    <a:pt x="1997" y="805"/>
                  </a:lnTo>
                  <a:lnTo>
                    <a:pt x="1992" y="775"/>
                  </a:lnTo>
                  <a:lnTo>
                    <a:pt x="1990" y="743"/>
                  </a:lnTo>
                  <a:lnTo>
                    <a:pt x="1987" y="709"/>
                  </a:lnTo>
                  <a:lnTo>
                    <a:pt x="1986" y="675"/>
                  </a:lnTo>
                  <a:lnTo>
                    <a:pt x="1985" y="639"/>
                  </a:lnTo>
                  <a:lnTo>
                    <a:pt x="1985" y="601"/>
                  </a:lnTo>
                  <a:lnTo>
                    <a:pt x="1987" y="563"/>
                  </a:lnTo>
                  <a:lnTo>
                    <a:pt x="1990" y="522"/>
                  </a:lnTo>
                  <a:lnTo>
                    <a:pt x="1993" y="480"/>
                  </a:lnTo>
                  <a:lnTo>
                    <a:pt x="1998" y="438"/>
                  </a:lnTo>
                  <a:lnTo>
                    <a:pt x="1995" y="417"/>
                  </a:lnTo>
                  <a:lnTo>
                    <a:pt x="1985" y="376"/>
                  </a:lnTo>
                  <a:lnTo>
                    <a:pt x="1976" y="350"/>
                  </a:lnTo>
                  <a:lnTo>
                    <a:pt x="1967" y="320"/>
                  </a:lnTo>
                  <a:lnTo>
                    <a:pt x="1955" y="289"/>
                  </a:lnTo>
                  <a:lnTo>
                    <a:pt x="1941" y="255"/>
                  </a:lnTo>
                  <a:lnTo>
                    <a:pt x="1924" y="222"/>
                  </a:lnTo>
                  <a:lnTo>
                    <a:pt x="1905" y="188"/>
                  </a:lnTo>
                  <a:lnTo>
                    <a:pt x="1895" y="172"/>
                  </a:lnTo>
                  <a:lnTo>
                    <a:pt x="1884" y="156"/>
                  </a:lnTo>
                  <a:lnTo>
                    <a:pt x="1872" y="140"/>
                  </a:lnTo>
                  <a:lnTo>
                    <a:pt x="1859" y="124"/>
                  </a:lnTo>
                  <a:lnTo>
                    <a:pt x="1847" y="109"/>
                  </a:lnTo>
                  <a:lnTo>
                    <a:pt x="1832" y="94"/>
                  </a:lnTo>
                  <a:lnTo>
                    <a:pt x="1817" y="80"/>
                  </a:lnTo>
                  <a:lnTo>
                    <a:pt x="1802" y="68"/>
                  </a:lnTo>
                  <a:lnTo>
                    <a:pt x="1786" y="56"/>
                  </a:lnTo>
                  <a:lnTo>
                    <a:pt x="1769" y="44"/>
                  </a:lnTo>
                  <a:lnTo>
                    <a:pt x="1751" y="34"/>
                  </a:lnTo>
                  <a:lnTo>
                    <a:pt x="1733" y="25"/>
                  </a:lnTo>
                  <a:lnTo>
                    <a:pt x="1711" y="17"/>
                  </a:lnTo>
                  <a:lnTo>
                    <a:pt x="1692" y="11"/>
                  </a:lnTo>
                  <a:lnTo>
                    <a:pt x="1670" y="6"/>
                  </a:lnTo>
                  <a:lnTo>
                    <a:pt x="1649" y="2"/>
                  </a:lnTo>
                  <a:lnTo>
                    <a:pt x="1627" y="0"/>
                  </a:lnTo>
                  <a:lnTo>
                    <a:pt x="1605" y="0"/>
                  </a:lnTo>
                  <a:lnTo>
                    <a:pt x="1582" y="1"/>
                  </a:lnTo>
                  <a:lnTo>
                    <a:pt x="1560" y="3"/>
                  </a:lnTo>
                  <a:lnTo>
                    <a:pt x="1536" y="8"/>
                  </a:lnTo>
                  <a:lnTo>
                    <a:pt x="1513" y="15"/>
                  </a:lnTo>
                  <a:lnTo>
                    <a:pt x="1489" y="21"/>
                  </a:lnTo>
                  <a:lnTo>
                    <a:pt x="1464" y="31"/>
                  </a:lnTo>
                  <a:lnTo>
                    <a:pt x="1440" y="41"/>
                  </a:lnTo>
                  <a:lnTo>
                    <a:pt x="1415" y="53"/>
                  </a:lnTo>
                  <a:lnTo>
                    <a:pt x="1390" y="65"/>
                  </a:lnTo>
                  <a:lnTo>
                    <a:pt x="1364" y="82"/>
                  </a:lnTo>
                  <a:close/>
                  <a:moveTo>
                    <a:pt x="1703" y="90"/>
                  </a:moveTo>
                  <a:lnTo>
                    <a:pt x="1719" y="98"/>
                  </a:lnTo>
                  <a:lnTo>
                    <a:pt x="1734" y="106"/>
                  </a:lnTo>
                  <a:lnTo>
                    <a:pt x="1747" y="116"/>
                  </a:lnTo>
                  <a:lnTo>
                    <a:pt x="1761" y="126"/>
                  </a:lnTo>
                  <a:lnTo>
                    <a:pt x="1775" y="137"/>
                  </a:lnTo>
                  <a:lnTo>
                    <a:pt x="1787" y="150"/>
                  </a:lnTo>
                  <a:lnTo>
                    <a:pt x="1798" y="162"/>
                  </a:lnTo>
                  <a:lnTo>
                    <a:pt x="1810" y="176"/>
                  </a:lnTo>
                  <a:lnTo>
                    <a:pt x="1831" y="204"/>
                  </a:lnTo>
                  <a:lnTo>
                    <a:pt x="1849" y="233"/>
                  </a:lnTo>
                  <a:lnTo>
                    <a:pt x="1865" y="263"/>
                  </a:lnTo>
                  <a:lnTo>
                    <a:pt x="1879" y="291"/>
                  </a:lnTo>
                  <a:lnTo>
                    <a:pt x="1891" y="320"/>
                  </a:lnTo>
                  <a:lnTo>
                    <a:pt x="1901" y="347"/>
                  </a:lnTo>
                  <a:lnTo>
                    <a:pt x="1910" y="372"/>
                  </a:lnTo>
                  <a:lnTo>
                    <a:pt x="1916" y="394"/>
                  </a:lnTo>
                  <a:lnTo>
                    <a:pt x="1925" y="427"/>
                  </a:lnTo>
                  <a:lnTo>
                    <a:pt x="1928" y="439"/>
                  </a:lnTo>
                  <a:lnTo>
                    <a:pt x="1923" y="485"/>
                  </a:lnTo>
                  <a:lnTo>
                    <a:pt x="1918" y="528"/>
                  </a:lnTo>
                  <a:lnTo>
                    <a:pt x="1915" y="570"/>
                  </a:lnTo>
                  <a:lnTo>
                    <a:pt x="1914" y="611"/>
                  </a:lnTo>
                  <a:lnTo>
                    <a:pt x="1914" y="651"/>
                  </a:lnTo>
                  <a:lnTo>
                    <a:pt x="1914" y="688"/>
                  </a:lnTo>
                  <a:lnTo>
                    <a:pt x="1916" y="726"/>
                  </a:lnTo>
                  <a:lnTo>
                    <a:pt x="1919" y="760"/>
                  </a:lnTo>
                  <a:lnTo>
                    <a:pt x="1923" y="794"/>
                  </a:lnTo>
                  <a:lnTo>
                    <a:pt x="1926" y="826"/>
                  </a:lnTo>
                  <a:lnTo>
                    <a:pt x="1931" y="856"/>
                  </a:lnTo>
                  <a:lnTo>
                    <a:pt x="1937" y="886"/>
                  </a:lnTo>
                  <a:lnTo>
                    <a:pt x="1944" y="913"/>
                  </a:lnTo>
                  <a:lnTo>
                    <a:pt x="1950" y="939"/>
                  </a:lnTo>
                  <a:lnTo>
                    <a:pt x="1957" y="964"/>
                  </a:lnTo>
                  <a:lnTo>
                    <a:pt x="1965" y="987"/>
                  </a:lnTo>
                  <a:lnTo>
                    <a:pt x="1981" y="1031"/>
                  </a:lnTo>
                  <a:lnTo>
                    <a:pt x="1996" y="1068"/>
                  </a:lnTo>
                  <a:lnTo>
                    <a:pt x="2011" y="1099"/>
                  </a:lnTo>
                  <a:lnTo>
                    <a:pt x="2026" y="1125"/>
                  </a:lnTo>
                  <a:lnTo>
                    <a:pt x="2048" y="1161"/>
                  </a:lnTo>
                  <a:lnTo>
                    <a:pt x="2059" y="1175"/>
                  </a:lnTo>
                  <a:lnTo>
                    <a:pt x="2089" y="1204"/>
                  </a:lnTo>
                  <a:lnTo>
                    <a:pt x="2116" y="1235"/>
                  </a:lnTo>
                  <a:lnTo>
                    <a:pt x="2142" y="1265"/>
                  </a:lnTo>
                  <a:lnTo>
                    <a:pt x="2166" y="1295"/>
                  </a:lnTo>
                  <a:lnTo>
                    <a:pt x="2187" y="1325"/>
                  </a:lnTo>
                  <a:lnTo>
                    <a:pt x="2206" y="1355"/>
                  </a:lnTo>
                  <a:lnTo>
                    <a:pt x="2223" y="1384"/>
                  </a:lnTo>
                  <a:lnTo>
                    <a:pt x="2239" y="1414"/>
                  </a:lnTo>
                  <a:lnTo>
                    <a:pt x="2253" y="1443"/>
                  </a:lnTo>
                  <a:lnTo>
                    <a:pt x="2265" y="1472"/>
                  </a:lnTo>
                  <a:lnTo>
                    <a:pt x="2275" y="1500"/>
                  </a:lnTo>
                  <a:lnTo>
                    <a:pt x="2285" y="1528"/>
                  </a:lnTo>
                  <a:lnTo>
                    <a:pt x="2293" y="1556"/>
                  </a:lnTo>
                  <a:lnTo>
                    <a:pt x="2300" y="1582"/>
                  </a:lnTo>
                  <a:lnTo>
                    <a:pt x="2305" y="1608"/>
                  </a:lnTo>
                  <a:lnTo>
                    <a:pt x="2310" y="1632"/>
                  </a:lnTo>
                  <a:lnTo>
                    <a:pt x="2314" y="1656"/>
                  </a:lnTo>
                  <a:lnTo>
                    <a:pt x="2316" y="1680"/>
                  </a:lnTo>
                  <a:lnTo>
                    <a:pt x="2317" y="1702"/>
                  </a:lnTo>
                  <a:lnTo>
                    <a:pt x="2319" y="1723"/>
                  </a:lnTo>
                  <a:lnTo>
                    <a:pt x="2319" y="1762"/>
                  </a:lnTo>
                  <a:lnTo>
                    <a:pt x="2317" y="1795"/>
                  </a:lnTo>
                  <a:lnTo>
                    <a:pt x="2311" y="1843"/>
                  </a:lnTo>
                  <a:lnTo>
                    <a:pt x="2307" y="1864"/>
                  </a:lnTo>
                  <a:lnTo>
                    <a:pt x="2296" y="1898"/>
                  </a:lnTo>
                  <a:lnTo>
                    <a:pt x="2288" y="1931"/>
                  </a:lnTo>
                  <a:lnTo>
                    <a:pt x="2280" y="1966"/>
                  </a:lnTo>
                  <a:lnTo>
                    <a:pt x="2275" y="2001"/>
                  </a:lnTo>
                  <a:lnTo>
                    <a:pt x="2271" y="2036"/>
                  </a:lnTo>
                  <a:lnTo>
                    <a:pt x="2268" y="2072"/>
                  </a:lnTo>
                  <a:lnTo>
                    <a:pt x="2267" y="2106"/>
                  </a:lnTo>
                  <a:lnTo>
                    <a:pt x="2268" y="2141"/>
                  </a:lnTo>
                  <a:lnTo>
                    <a:pt x="2268" y="2176"/>
                  </a:lnTo>
                  <a:lnTo>
                    <a:pt x="2270" y="2211"/>
                  </a:lnTo>
                  <a:lnTo>
                    <a:pt x="2274" y="2244"/>
                  </a:lnTo>
                  <a:lnTo>
                    <a:pt x="2278" y="2278"/>
                  </a:lnTo>
                  <a:lnTo>
                    <a:pt x="2283" y="2311"/>
                  </a:lnTo>
                  <a:lnTo>
                    <a:pt x="2289" y="2343"/>
                  </a:lnTo>
                  <a:lnTo>
                    <a:pt x="2294" y="2374"/>
                  </a:lnTo>
                  <a:lnTo>
                    <a:pt x="2301" y="2405"/>
                  </a:lnTo>
                  <a:lnTo>
                    <a:pt x="2315" y="2462"/>
                  </a:lnTo>
                  <a:lnTo>
                    <a:pt x="2331" y="2516"/>
                  </a:lnTo>
                  <a:lnTo>
                    <a:pt x="2346" y="2564"/>
                  </a:lnTo>
                  <a:lnTo>
                    <a:pt x="2360" y="2605"/>
                  </a:lnTo>
                  <a:lnTo>
                    <a:pt x="2383" y="2666"/>
                  </a:lnTo>
                  <a:lnTo>
                    <a:pt x="2396" y="2692"/>
                  </a:lnTo>
                  <a:lnTo>
                    <a:pt x="2411" y="2742"/>
                  </a:lnTo>
                  <a:lnTo>
                    <a:pt x="2425" y="2791"/>
                  </a:lnTo>
                  <a:lnTo>
                    <a:pt x="2438" y="2838"/>
                  </a:lnTo>
                  <a:lnTo>
                    <a:pt x="2448" y="2884"/>
                  </a:lnTo>
                  <a:lnTo>
                    <a:pt x="2456" y="2930"/>
                  </a:lnTo>
                  <a:lnTo>
                    <a:pt x="2464" y="2975"/>
                  </a:lnTo>
                  <a:lnTo>
                    <a:pt x="2470" y="3017"/>
                  </a:lnTo>
                  <a:lnTo>
                    <a:pt x="2475" y="3059"/>
                  </a:lnTo>
                  <a:lnTo>
                    <a:pt x="2478" y="3100"/>
                  </a:lnTo>
                  <a:lnTo>
                    <a:pt x="2480" y="3139"/>
                  </a:lnTo>
                  <a:lnTo>
                    <a:pt x="2481" y="3177"/>
                  </a:lnTo>
                  <a:lnTo>
                    <a:pt x="2481" y="3213"/>
                  </a:lnTo>
                  <a:lnTo>
                    <a:pt x="2480" y="3249"/>
                  </a:lnTo>
                  <a:lnTo>
                    <a:pt x="2479" y="3283"/>
                  </a:lnTo>
                  <a:lnTo>
                    <a:pt x="2476" y="3315"/>
                  </a:lnTo>
                  <a:lnTo>
                    <a:pt x="2473" y="3346"/>
                  </a:lnTo>
                  <a:lnTo>
                    <a:pt x="2465" y="3403"/>
                  </a:lnTo>
                  <a:lnTo>
                    <a:pt x="2456" y="3453"/>
                  </a:lnTo>
                  <a:lnTo>
                    <a:pt x="2447" y="3496"/>
                  </a:lnTo>
                  <a:lnTo>
                    <a:pt x="2438" y="3532"/>
                  </a:lnTo>
                  <a:lnTo>
                    <a:pt x="2428" y="3562"/>
                  </a:lnTo>
                  <a:lnTo>
                    <a:pt x="2422" y="3583"/>
                  </a:lnTo>
                  <a:lnTo>
                    <a:pt x="2417" y="3596"/>
                  </a:lnTo>
                  <a:lnTo>
                    <a:pt x="2414" y="3601"/>
                  </a:lnTo>
                  <a:lnTo>
                    <a:pt x="2368" y="3655"/>
                  </a:lnTo>
                  <a:lnTo>
                    <a:pt x="2319" y="3703"/>
                  </a:lnTo>
                  <a:lnTo>
                    <a:pt x="2265" y="3747"/>
                  </a:lnTo>
                  <a:lnTo>
                    <a:pt x="2209" y="3786"/>
                  </a:lnTo>
                  <a:lnTo>
                    <a:pt x="2151" y="3820"/>
                  </a:lnTo>
                  <a:lnTo>
                    <a:pt x="2089" y="3851"/>
                  </a:lnTo>
                  <a:lnTo>
                    <a:pt x="2026" y="3877"/>
                  </a:lnTo>
                  <a:lnTo>
                    <a:pt x="1961" y="3899"/>
                  </a:lnTo>
                  <a:lnTo>
                    <a:pt x="1895" y="3918"/>
                  </a:lnTo>
                  <a:lnTo>
                    <a:pt x="1827" y="3934"/>
                  </a:lnTo>
                  <a:lnTo>
                    <a:pt x="1759" y="3946"/>
                  </a:lnTo>
                  <a:lnTo>
                    <a:pt x="1690" y="3955"/>
                  </a:lnTo>
                  <a:lnTo>
                    <a:pt x="1622" y="3962"/>
                  </a:lnTo>
                  <a:lnTo>
                    <a:pt x="1554" y="3967"/>
                  </a:lnTo>
                  <a:lnTo>
                    <a:pt x="1487" y="3969"/>
                  </a:lnTo>
                  <a:lnTo>
                    <a:pt x="1420" y="3969"/>
                  </a:lnTo>
                  <a:lnTo>
                    <a:pt x="1355" y="3967"/>
                  </a:lnTo>
                  <a:lnTo>
                    <a:pt x="1292" y="3965"/>
                  </a:lnTo>
                  <a:lnTo>
                    <a:pt x="1230" y="3960"/>
                  </a:lnTo>
                  <a:lnTo>
                    <a:pt x="1171" y="3955"/>
                  </a:lnTo>
                  <a:lnTo>
                    <a:pt x="1114" y="3949"/>
                  </a:lnTo>
                  <a:lnTo>
                    <a:pt x="1061" y="3941"/>
                  </a:lnTo>
                  <a:lnTo>
                    <a:pt x="1011" y="3934"/>
                  </a:lnTo>
                  <a:lnTo>
                    <a:pt x="965" y="3927"/>
                  </a:lnTo>
                  <a:lnTo>
                    <a:pt x="884" y="3910"/>
                  </a:lnTo>
                  <a:lnTo>
                    <a:pt x="824" y="3898"/>
                  </a:lnTo>
                  <a:lnTo>
                    <a:pt x="784" y="3888"/>
                  </a:lnTo>
                  <a:lnTo>
                    <a:pt x="769" y="3884"/>
                  </a:lnTo>
                  <a:lnTo>
                    <a:pt x="707" y="3856"/>
                  </a:lnTo>
                  <a:lnTo>
                    <a:pt x="647" y="3826"/>
                  </a:lnTo>
                  <a:lnTo>
                    <a:pt x="591" y="3794"/>
                  </a:lnTo>
                  <a:lnTo>
                    <a:pt x="538" y="3762"/>
                  </a:lnTo>
                  <a:lnTo>
                    <a:pt x="512" y="3745"/>
                  </a:lnTo>
                  <a:lnTo>
                    <a:pt x="487" y="3728"/>
                  </a:lnTo>
                  <a:lnTo>
                    <a:pt x="462" y="3712"/>
                  </a:lnTo>
                  <a:lnTo>
                    <a:pt x="439" y="3695"/>
                  </a:lnTo>
                  <a:lnTo>
                    <a:pt x="416" y="3676"/>
                  </a:lnTo>
                  <a:lnTo>
                    <a:pt x="394" y="3659"/>
                  </a:lnTo>
                  <a:lnTo>
                    <a:pt x="373" y="3640"/>
                  </a:lnTo>
                  <a:lnTo>
                    <a:pt x="352" y="3621"/>
                  </a:lnTo>
                  <a:lnTo>
                    <a:pt x="332" y="3603"/>
                  </a:lnTo>
                  <a:lnTo>
                    <a:pt x="313" y="3584"/>
                  </a:lnTo>
                  <a:lnTo>
                    <a:pt x="295" y="3565"/>
                  </a:lnTo>
                  <a:lnTo>
                    <a:pt x="276" y="3546"/>
                  </a:lnTo>
                  <a:lnTo>
                    <a:pt x="259" y="3526"/>
                  </a:lnTo>
                  <a:lnTo>
                    <a:pt x="242" y="3506"/>
                  </a:lnTo>
                  <a:lnTo>
                    <a:pt x="228" y="3485"/>
                  </a:lnTo>
                  <a:lnTo>
                    <a:pt x="213" y="3465"/>
                  </a:lnTo>
                  <a:lnTo>
                    <a:pt x="198" y="3444"/>
                  </a:lnTo>
                  <a:lnTo>
                    <a:pt x="184" y="3423"/>
                  </a:lnTo>
                  <a:lnTo>
                    <a:pt x="172" y="3402"/>
                  </a:lnTo>
                  <a:lnTo>
                    <a:pt x="159" y="3381"/>
                  </a:lnTo>
                  <a:lnTo>
                    <a:pt x="148" y="3358"/>
                  </a:lnTo>
                  <a:lnTo>
                    <a:pt x="138" y="3336"/>
                  </a:lnTo>
                  <a:lnTo>
                    <a:pt x="128" y="3314"/>
                  </a:lnTo>
                  <a:lnTo>
                    <a:pt x="120" y="3291"/>
                  </a:lnTo>
                  <a:lnTo>
                    <a:pt x="110" y="3265"/>
                  </a:lnTo>
                  <a:lnTo>
                    <a:pt x="102" y="3240"/>
                  </a:lnTo>
                  <a:lnTo>
                    <a:pt x="95" y="3216"/>
                  </a:lnTo>
                  <a:lnTo>
                    <a:pt x="88" y="3191"/>
                  </a:lnTo>
                  <a:lnTo>
                    <a:pt x="84" y="3166"/>
                  </a:lnTo>
                  <a:lnTo>
                    <a:pt x="80" y="3142"/>
                  </a:lnTo>
                  <a:lnTo>
                    <a:pt x="77" y="3119"/>
                  </a:lnTo>
                  <a:lnTo>
                    <a:pt x="75" y="3095"/>
                  </a:lnTo>
                  <a:lnTo>
                    <a:pt x="72" y="3073"/>
                  </a:lnTo>
                  <a:lnTo>
                    <a:pt x="72" y="3051"/>
                  </a:lnTo>
                  <a:lnTo>
                    <a:pt x="72" y="3029"/>
                  </a:lnTo>
                  <a:lnTo>
                    <a:pt x="72" y="3008"/>
                  </a:lnTo>
                  <a:lnTo>
                    <a:pt x="75" y="2969"/>
                  </a:lnTo>
                  <a:lnTo>
                    <a:pt x="79" y="2931"/>
                  </a:lnTo>
                  <a:lnTo>
                    <a:pt x="85" y="2898"/>
                  </a:lnTo>
                  <a:lnTo>
                    <a:pt x="91" y="2868"/>
                  </a:lnTo>
                  <a:lnTo>
                    <a:pt x="97" y="2842"/>
                  </a:lnTo>
                  <a:lnTo>
                    <a:pt x="103" y="2820"/>
                  </a:lnTo>
                  <a:lnTo>
                    <a:pt x="113" y="2789"/>
                  </a:lnTo>
                  <a:lnTo>
                    <a:pt x="118" y="2778"/>
                  </a:lnTo>
                  <a:lnTo>
                    <a:pt x="128" y="2747"/>
                  </a:lnTo>
                  <a:lnTo>
                    <a:pt x="137" y="2714"/>
                  </a:lnTo>
                  <a:lnTo>
                    <a:pt x="144" y="2681"/>
                  </a:lnTo>
                  <a:lnTo>
                    <a:pt x="152" y="2647"/>
                  </a:lnTo>
                  <a:lnTo>
                    <a:pt x="158" y="2613"/>
                  </a:lnTo>
                  <a:lnTo>
                    <a:pt x="163" y="2579"/>
                  </a:lnTo>
                  <a:lnTo>
                    <a:pt x="168" y="2543"/>
                  </a:lnTo>
                  <a:lnTo>
                    <a:pt x="172" y="2508"/>
                  </a:lnTo>
                  <a:lnTo>
                    <a:pt x="178" y="2439"/>
                  </a:lnTo>
                  <a:lnTo>
                    <a:pt x="182" y="2369"/>
                  </a:lnTo>
                  <a:lnTo>
                    <a:pt x="184" y="2301"/>
                  </a:lnTo>
                  <a:lnTo>
                    <a:pt x="184" y="2235"/>
                  </a:lnTo>
                  <a:lnTo>
                    <a:pt x="184" y="2175"/>
                  </a:lnTo>
                  <a:lnTo>
                    <a:pt x="182" y="2118"/>
                  </a:lnTo>
                  <a:lnTo>
                    <a:pt x="179" y="2067"/>
                  </a:lnTo>
                  <a:lnTo>
                    <a:pt x="177" y="2021"/>
                  </a:lnTo>
                  <a:lnTo>
                    <a:pt x="172" y="1955"/>
                  </a:lnTo>
                  <a:lnTo>
                    <a:pt x="169" y="1925"/>
                  </a:lnTo>
                  <a:lnTo>
                    <a:pt x="154" y="1889"/>
                  </a:lnTo>
                  <a:lnTo>
                    <a:pt x="143" y="1855"/>
                  </a:lnTo>
                  <a:lnTo>
                    <a:pt x="133" y="1821"/>
                  </a:lnTo>
                  <a:lnTo>
                    <a:pt x="126" y="1788"/>
                  </a:lnTo>
                  <a:lnTo>
                    <a:pt x="121" y="1754"/>
                  </a:lnTo>
                  <a:lnTo>
                    <a:pt x="117" y="1722"/>
                  </a:lnTo>
                  <a:lnTo>
                    <a:pt x="116" y="1691"/>
                  </a:lnTo>
                  <a:lnTo>
                    <a:pt x="116" y="1660"/>
                  </a:lnTo>
                  <a:lnTo>
                    <a:pt x="116" y="1630"/>
                  </a:lnTo>
                  <a:lnTo>
                    <a:pt x="120" y="1600"/>
                  </a:lnTo>
                  <a:lnTo>
                    <a:pt x="123" y="1573"/>
                  </a:lnTo>
                  <a:lnTo>
                    <a:pt x="128" y="1544"/>
                  </a:lnTo>
                  <a:lnTo>
                    <a:pt x="133" y="1518"/>
                  </a:lnTo>
                  <a:lnTo>
                    <a:pt x="141" y="1494"/>
                  </a:lnTo>
                  <a:lnTo>
                    <a:pt x="148" y="1469"/>
                  </a:lnTo>
                  <a:lnTo>
                    <a:pt x="157" y="1445"/>
                  </a:lnTo>
                  <a:lnTo>
                    <a:pt x="164" y="1423"/>
                  </a:lnTo>
                  <a:lnTo>
                    <a:pt x="174" y="1402"/>
                  </a:lnTo>
                  <a:lnTo>
                    <a:pt x="183" y="1382"/>
                  </a:lnTo>
                  <a:lnTo>
                    <a:pt x="193" y="1363"/>
                  </a:lnTo>
                  <a:lnTo>
                    <a:pt x="211" y="1330"/>
                  </a:lnTo>
                  <a:lnTo>
                    <a:pt x="230" y="1301"/>
                  </a:lnTo>
                  <a:lnTo>
                    <a:pt x="259" y="1260"/>
                  </a:lnTo>
                  <a:lnTo>
                    <a:pt x="273" y="1243"/>
                  </a:lnTo>
                  <a:lnTo>
                    <a:pt x="291" y="1218"/>
                  </a:lnTo>
                  <a:lnTo>
                    <a:pt x="306" y="1191"/>
                  </a:lnTo>
                  <a:lnTo>
                    <a:pt x="321" y="1162"/>
                  </a:lnTo>
                  <a:lnTo>
                    <a:pt x="334" y="1131"/>
                  </a:lnTo>
                  <a:lnTo>
                    <a:pt x="347" y="1100"/>
                  </a:lnTo>
                  <a:lnTo>
                    <a:pt x="359" y="1067"/>
                  </a:lnTo>
                  <a:lnTo>
                    <a:pt x="369" y="1032"/>
                  </a:lnTo>
                  <a:lnTo>
                    <a:pt x="379" y="997"/>
                  </a:lnTo>
                  <a:lnTo>
                    <a:pt x="388" y="961"/>
                  </a:lnTo>
                  <a:lnTo>
                    <a:pt x="396" y="925"/>
                  </a:lnTo>
                  <a:lnTo>
                    <a:pt x="403" y="889"/>
                  </a:lnTo>
                  <a:lnTo>
                    <a:pt x="410" y="852"/>
                  </a:lnTo>
                  <a:lnTo>
                    <a:pt x="420" y="778"/>
                  </a:lnTo>
                  <a:lnTo>
                    <a:pt x="429" y="706"/>
                  </a:lnTo>
                  <a:lnTo>
                    <a:pt x="435" y="636"/>
                  </a:lnTo>
                  <a:lnTo>
                    <a:pt x="439" y="570"/>
                  </a:lnTo>
                  <a:lnTo>
                    <a:pt x="441" y="511"/>
                  </a:lnTo>
                  <a:lnTo>
                    <a:pt x="444" y="458"/>
                  </a:lnTo>
                  <a:lnTo>
                    <a:pt x="444" y="412"/>
                  </a:lnTo>
                  <a:lnTo>
                    <a:pt x="444" y="377"/>
                  </a:lnTo>
                  <a:lnTo>
                    <a:pt x="444" y="353"/>
                  </a:lnTo>
                  <a:lnTo>
                    <a:pt x="442" y="341"/>
                  </a:lnTo>
                  <a:lnTo>
                    <a:pt x="442" y="337"/>
                  </a:lnTo>
                  <a:lnTo>
                    <a:pt x="440" y="312"/>
                  </a:lnTo>
                  <a:lnTo>
                    <a:pt x="440" y="289"/>
                  </a:lnTo>
                  <a:lnTo>
                    <a:pt x="441" y="278"/>
                  </a:lnTo>
                  <a:lnTo>
                    <a:pt x="442" y="268"/>
                  </a:lnTo>
                  <a:lnTo>
                    <a:pt x="445" y="257"/>
                  </a:lnTo>
                  <a:lnTo>
                    <a:pt x="447" y="247"/>
                  </a:lnTo>
                  <a:lnTo>
                    <a:pt x="450" y="237"/>
                  </a:lnTo>
                  <a:lnTo>
                    <a:pt x="454" y="228"/>
                  </a:lnTo>
                  <a:lnTo>
                    <a:pt x="459" y="219"/>
                  </a:lnTo>
                  <a:lnTo>
                    <a:pt x="463" y="211"/>
                  </a:lnTo>
                  <a:lnTo>
                    <a:pt x="468" y="202"/>
                  </a:lnTo>
                  <a:lnTo>
                    <a:pt x="475" y="195"/>
                  </a:lnTo>
                  <a:lnTo>
                    <a:pt x="481" y="187"/>
                  </a:lnTo>
                  <a:lnTo>
                    <a:pt x="488" y="180"/>
                  </a:lnTo>
                  <a:lnTo>
                    <a:pt x="501" y="170"/>
                  </a:lnTo>
                  <a:lnTo>
                    <a:pt x="514" y="161"/>
                  </a:lnTo>
                  <a:lnTo>
                    <a:pt x="528" y="152"/>
                  </a:lnTo>
                  <a:lnTo>
                    <a:pt x="543" y="145"/>
                  </a:lnTo>
                  <a:lnTo>
                    <a:pt x="559" y="139"/>
                  </a:lnTo>
                  <a:lnTo>
                    <a:pt x="576" y="132"/>
                  </a:lnTo>
                  <a:lnTo>
                    <a:pt x="594" y="128"/>
                  </a:lnTo>
                  <a:lnTo>
                    <a:pt x="611" y="123"/>
                  </a:lnTo>
                  <a:lnTo>
                    <a:pt x="630" y="120"/>
                  </a:lnTo>
                  <a:lnTo>
                    <a:pt x="647" y="116"/>
                  </a:lnTo>
                  <a:lnTo>
                    <a:pt x="666" y="115"/>
                  </a:lnTo>
                  <a:lnTo>
                    <a:pt x="685" y="113"/>
                  </a:lnTo>
                  <a:lnTo>
                    <a:pt x="723" y="111"/>
                  </a:lnTo>
                  <a:lnTo>
                    <a:pt x="759" y="111"/>
                  </a:lnTo>
                  <a:lnTo>
                    <a:pt x="795" y="113"/>
                  </a:lnTo>
                  <a:lnTo>
                    <a:pt x="827" y="115"/>
                  </a:lnTo>
                  <a:lnTo>
                    <a:pt x="858" y="118"/>
                  </a:lnTo>
                  <a:lnTo>
                    <a:pt x="884" y="121"/>
                  </a:lnTo>
                  <a:lnTo>
                    <a:pt x="923" y="126"/>
                  </a:lnTo>
                  <a:lnTo>
                    <a:pt x="939" y="129"/>
                  </a:lnTo>
                  <a:lnTo>
                    <a:pt x="974" y="145"/>
                  </a:lnTo>
                  <a:lnTo>
                    <a:pt x="1009" y="159"/>
                  </a:lnTo>
                  <a:lnTo>
                    <a:pt x="1041" y="171"/>
                  </a:lnTo>
                  <a:lnTo>
                    <a:pt x="1073" y="182"/>
                  </a:lnTo>
                  <a:lnTo>
                    <a:pt x="1104" y="191"/>
                  </a:lnTo>
                  <a:lnTo>
                    <a:pt x="1133" y="198"/>
                  </a:lnTo>
                  <a:lnTo>
                    <a:pt x="1161" y="204"/>
                  </a:lnTo>
                  <a:lnTo>
                    <a:pt x="1189" y="209"/>
                  </a:lnTo>
                  <a:lnTo>
                    <a:pt x="1214" y="213"/>
                  </a:lnTo>
                  <a:lnTo>
                    <a:pt x="1238" y="214"/>
                  </a:lnTo>
                  <a:lnTo>
                    <a:pt x="1261" y="214"/>
                  </a:lnTo>
                  <a:lnTo>
                    <a:pt x="1283" y="213"/>
                  </a:lnTo>
                  <a:lnTo>
                    <a:pt x="1303" y="211"/>
                  </a:lnTo>
                  <a:lnTo>
                    <a:pt x="1323" y="206"/>
                  </a:lnTo>
                  <a:lnTo>
                    <a:pt x="1340" y="201"/>
                  </a:lnTo>
                  <a:lnTo>
                    <a:pt x="1356" y="192"/>
                  </a:lnTo>
                  <a:lnTo>
                    <a:pt x="1367" y="186"/>
                  </a:lnTo>
                  <a:lnTo>
                    <a:pt x="1377" y="178"/>
                  </a:lnTo>
                  <a:lnTo>
                    <a:pt x="1386" y="172"/>
                  </a:lnTo>
                  <a:lnTo>
                    <a:pt x="1392" y="165"/>
                  </a:lnTo>
                  <a:lnTo>
                    <a:pt x="1402" y="151"/>
                  </a:lnTo>
                  <a:lnTo>
                    <a:pt x="1410" y="137"/>
                  </a:lnTo>
                  <a:lnTo>
                    <a:pt x="1431" y="126"/>
                  </a:lnTo>
                  <a:lnTo>
                    <a:pt x="1451" y="115"/>
                  </a:lnTo>
                  <a:lnTo>
                    <a:pt x="1472" y="105"/>
                  </a:lnTo>
                  <a:lnTo>
                    <a:pt x="1492" y="98"/>
                  </a:lnTo>
                  <a:lnTo>
                    <a:pt x="1512" y="90"/>
                  </a:lnTo>
                  <a:lnTo>
                    <a:pt x="1530" y="84"/>
                  </a:lnTo>
                  <a:lnTo>
                    <a:pt x="1549" y="79"/>
                  </a:lnTo>
                  <a:lnTo>
                    <a:pt x="1567" y="75"/>
                  </a:lnTo>
                  <a:lnTo>
                    <a:pt x="1586" y="73"/>
                  </a:lnTo>
                  <a:lnTo>
                    <a:pt x="1603" y="72"/>
                  </a:lnTo>
                  <a:lnTo>
                    <a:pt x="1621" y="72"/>
                  </a:lnTo>
                  <a:lnTo>
                    <a:pt x="1638" y="73"/>
                  </a:lnTo>
                  <a:lnTo>
                    <a:pt x="1656" y="75"/>
                  </a:lnTo>
                  <a:lnTo>
                    <a:pt x="1672" y="79"/>
                  </a:lnTo>
                  <a:lnTo>
                    <a:pt x="1688" y="84"/>
                  </a:lnTo>
                  <a:lnTo>
                    <a:pt x="1703" y="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941400" y="2662200"/>
              <a:ext cx="190440" cy="258840"/>
            </a:xfrm>
            <a:custGeom>
              <a:avLst/>
              <a:gdLst/>
              <a:ahLst/>
              <a:rect l="l" t="t" r="r" b="b"/>
              <a:pathLst>
                <a:path w="480" h="654">
                  <a:moveTo>
                    <a:pt x="480" y="341"/>
                  </a:moveTo>
                  <a:lnTo>
                    <a:pt x="472" y="320"/>
                  </a:lnTo>
                  <a:lnTo>
                    <a:pt x="446" y="267"/>
                  </a:lnTo>
                  <a:lnTo>
                    <a:pt x="427" y="232"/>
                  </a:lnTo>
                  <a:lnTo>
                    <a:pt x="405" y="195"/>
                  </a:lnTo>
                  <a:lnTo>
                    <a:pt x="393" y="176"/>
                  </a:lnTo>
                  <a:lnTo>
                    <a:pt x="380" y="157"/>
                  </a:lnTo>
                  <a:lnTo>
                    <a:pt x="366" y="138"/>
                  </a:lnTo>
                  <a:lnTo>
                    <a:pt x="352" y="119"/>
                  </a:lnTo>
                  <a:lnTo>
                    <a:pt x="337" y="102"/>
                  </a:lnTo>
                  <a:lnTo>
                    <a:pt x="321" y="84"/>
                  </a:lnTo>
                  <a:lnTo>
                    <a:pt x="305" y="68"/>
                  </a:lnTo>
                  <a:lnTo>
                    <a:pt x="288" y="52"/>
                  </a:lnTo>
                  <a:lnTo>
                    <a:pt x="270" y="38"/>
                  </a:lnTo>
                  <a:lnTo>
                    <a:pt x="253" y="27"/>
                  </a:lnTo>
                  <a:lnTo>
                    <a:pt x="234" y="17"/>
                  </a:lnTo>
                  <a:lnTo>
                    <a:pt x="216" y="8"/>
                  </a:lnTo>
                  <a:lnTo>
                    <a:pt x="197" y="4"/>
                  </a:lnTo>
                  <a:lnTo>
                    <a:pt x="177" y="0"/>
                  </a:lnTo>
                  <a:lnTo>
                    <a:pt x="157" y="0"/>
                  </a:lnTo>
                  <a:lnTo>
                    <a:pt x="138" y="2"/>
                  </a:lnTo>
                  <a:lnTo>
                    <a:pt x="116" y="8"/>
                  </a:lnTo>
                  <a:lnTo>
                    <a:pt x="95" y="17"/>
                  </a:lnTo>
                  <a:lnTo>
                    <a:pt x="74" y="31"/>
                  </a:lnTo>
                  <a:lnTo>
                    <a:pt x="53" y="47"/>
                  </a:lnTo>
                  <a:lnTo>
                    <a:pt x="51" y="51"/>
                  </a:lnTo>
                  <a:lnTo>
                    <a:pt x="44" y="63"/>
                  </a:lnTo>
                  <a:lnTo>
                    <a:pt x="35" y="83"/>
                  </a:lnTo>
                  <a:lnTo>
                    <a:pt x="23" y="108"/>
                  </a:lnTo>
                  <a:lnTo>
                    <a:pt x="18" y="124"/>
                  </a:lnTo>
                  <a:lnTo>
                    <a:pt x="13" y="140"/>
                  </a:lnTo>
                  <a:lnTo>
                    <a:pt x="8" y="157"/>
                  </a:lnTo>
                  <a:lnTo>
                    <a:pt x="5" y="176"/>
                  </a:lnTo>
                  <a:lnTo>
                    <a:pt x="2" y="196"/>
                  </a:lnTo>
                  <a:lnTo>
                    <a:pt x="0" y="217"/>
                  </a:lnTo>
                  <a:lnTo>
                    <a:pt x="0" y="239"/>
                  </a:lnTo>
                  <a:lnTo>
                    <a:pt x="0" y="262"/>
                  </a:lnTo>
                  <a:lnTo>
                    <a:pt x="2" y="284"/>
                  </a:lnTo>
                  <a:lnTo>
                    <a:pt x="7" y="309"/>
                  </a:lnTo>
                  <a:lnTo>
                    <a:pt x="13" y="332"/>
                  </a:lnTo>
                  <a:lnTo>
                    <a:pt x="21" y="357"/>
                  </a:lnTo>
                  <a:lnTo>
                    <a:pt x="32" y="382"/>
                  </a:lnTo>
                  <a:lnTo>
                    <a:pt x="46" y="408"/>
                  </a:lnTo>
                  <a:lnTo>
                    <a:pt x="62" y="433"/>
                  </a:lnTo>
                  <a:lnTo>
                    <a:pt x="82" y="459"/>
                  </a:lnTo>
                  <a:lnTo>
                    <a:pt x="104" y="484"/>
                  </a:lnTo>
                  <a:lnTo>
                    <a:pt x="130" y="510"/>
                  </a:lnTo>
                  <a:lnTo>
                    <a:pt x="159" y="535"/>
                  </a:lnTo>
                  <a:lnTo>
                    <a:pt x="192" y="559"/>
                  </a:lnTo>
                  <a:lnTo>
                    <a:pt x="229" y="583"/>
                  </a:lnTo>
                  <a:lnTo>
                    <a:pt x="270" y="608"/>
                  </a:lnTo>
                  <a:lnTo>
                    <a:pt x="316" y="630"/>
                  </a:lnTo>
                  <a:lnTo>
                    <a:pt x="366" y="654"/>
                  </a:lnTo>
                  <a:lnTo>
                    <a:pt x="480" y="341"/>
                  </a:lnTo>
                  <a:close/>
                </a:path>
              </a:pathLst>
            </a:custGeom>
            <a:solidFill>
              <a:srgbClr val="efc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927000" y="2647800"/>
              <a:ext cx="220680" cy="292320"/>
            </a:xfrm>
            <a:custGeom>
              <a:avLst/>
              <a:gdLst/>
              <a:ahLst/>
              <a:rect l="l" t="t" r="r" b="b"/>
              <a:pathLst>
                <a:path w="555" h="737">
                  <a:moveTo>
                    <a:pt x="66" y="56"/>
                  </a:moveTo>
                  <a:lnTo>
                    <a:pt x="58" y="67"/>
                  </a:lnTo>
                  <a:lnTo>
                    <a:pt x="47" y="88"/>
                  </a:lnTo>
                  <a:lnTo>
                    <a:pt x="39" y="103"/>
                  </a:lnTo>
                  <a:lnTo>
                    <a:pt x="32" y="119"/>
                  </a:lnTo>
                  <a:lnTo>
                    <a:pt x="25" y="138"/>
                  </a:lnTo>
                  <a:lnTo>
                    <a:pt x="17" y="159"/>
                  </a:lnTo>
                  <a:lnTo>
                    <a:pt x="11" y="181"/>
                  </a:lnTo>
                  <a:lnTo>
                    <a:pt x="6" y="206"/>
                  </a:lnTo>
                  <a:lnTo>
                    <a:pt x="2" y="232"/>
                  </a:lnTo>
                  <a:lnTo>
                    <a:pt x="0" y="259"/>
                  </a:lnTo>
                  <a:lnTo>
                    <a:pt x="0" y="288"/>
                  </a:lnTo>
                  <a:lnTo>
                    <a:pt x="2" y="317"/>
                  </a:lnTo>
                  <a:lnTo>
                    <a:pt x="5" y="332"/>
                  </a:lnTo>
                  <a:lnTo>
                    <a:pt x="7" y="347"/>
                  </a:lnTo>
                  <a:lnTo>
                    <a:pt x="11" y="363"/>
                  </a:lnTo>
                  <a:lnTo>
                    <a:pt x="15" y="379"/>
                  </a:lnTo>
                  <a:lnTo>
                    <a:pt x="23" y="406"/>
                  </a:lnTo>
                  <a:lnTo>
                    <a:pt x="35" y="430"/>
                  </a:lnTo>
                  <a:lnTo>
                    <a:pt x="47" y="455"/>
                  </a:lnTo>
                  <a:lnTo>
                    <a:pt x="62" y="480"/>
                  </a:lnTo>
                  <a:lnTo>
                    <a:pt x="79" y="504"/>
                  </a:lnTo>
                  <a:lnTo>
                    <a:pt x="98" y="526"/>
                  </a:lnTo>
                  <a:lnTo>
                    <a:pt x="118" y="548"/>
                  </a:lnTo>
                  <a:lnTo>
                    <a:pt x="140" y="571"/>
                  </a:lnTo>
                  <a:lnTo>
                    <a:pt x="165" y="592"/>
                  </a:lnTo>
                  <a:lnTo>
                    <a:pt x="191" y="613"/>
                  </a:lnTo>
                  <a:lnTo>
                    <a:pt x="220" y="633"/>
                  </a:lnTo>
                  <a:lnTo>
                    <a:pt x="249" y="651"/>
                  </a:lnTo>
                  <a:lnTo>
                    <a:pt x="282" y="670"/>
                  </a:lnTo>
                  <a:lnTo>
                    <a:pt x="315" y="688"/>
                  </a:lnTo>
                  <a:lnTo>
                    <a:pt x="351" y="706"/>
                  </a:lnTo>
                  <a:lnTo>
                    <a:pt x="388" y="722"/>
                  </a:lnTo>
                  <a:lnTo>
                    <a:pt x="423" y="737"/>
                  </a:lnTo>
                  <a:lnTo>
                    <a:pt x="555" y="376"/>
                  </a:lnTo>
                  <a:lnTo>
                    <a:pt x="550" y="363"/>
                  </a:lnTo>
                  <a:lnTo>
                    <a:pt x="542" y="346"/>
                  </a:lnTo>
                  <a:lnTo>
                    <a:pt x="524" y="308"/>
                  </a:lnTo>
                  <a:lnTo>
                    <a:pt x="511" y="283"/>
                  </a:lnTo>
                  <a:lnTo>
                    <a:pt x="496" y="255"/>
                  </a:lnTo>
                  <a:lnTo>
                    <a:pt x="479" y="226"/>
                  </a:lnTo>
                  <a:lnTo>
                    <a:pt x="460" y="195"/>
                  </a:lnTo>
                  <a:lnTo>
                    <a:pt x="439" y="164"/>
                  </a:lnTo>
                  <a:lnTo>
                    <a:pt x="416" y="134"/>
                  </a:lnTo>
                  <a:lnTo>
                    <a:pt x="403" y="119"/>
                  </a:lnTo>
                  <a:lnTo>
                    <a:pt x="391" y="104"/>
                  </a:lnTo>
                  <a:lnTo>
                    <a:pt x="378" y="90"/>
                  </a:lnTo>
                  <a:lnTo>
                    <a:pt x="365" y="77"/>
                  </a:lnTo>
                  <a:lnTo>
                    <a:pt x="350" y="64"/>
                  </a:lnTo>
                  <a:lnTo>
                    <a:pt x="336" y="53"/>
                  </a:lnTo>
                  <a:lnTo>
                    <a:pt x="321" y="42"/>
                  </a:lnTo>
                  <a:lnTo>
                    <a:pt x="306" y="32"/>
                  </a:lnTo>
                  <a:lnTo>
                    <a:pt x="292" y="23"/>
                  </a:lnTo>
                  <a:lnTo>
                    <a:pt x="275" y="16"/>
                  </a:lnTo>
                  <a:lnTo>
                    <a:pt x="259" y="10"/>
                  </a:lnTo>
                  <a:lnTo>
                    <a:pt x="243" y="5"/>
                  </a:lnTo>
                  <a:lnTo>
                    <a:pt x="231" y="2"/>
                  </a:lnTo>
                  <a:lnTo>
                    <a:pt x="220" y="1"/>
                  </a:lnTo>
                  <a:lnTo>
                    <a:pt x="208" y="0"/>
                  </a:lnTo>
                  <a:lnTo>
                    <a:pt x="197" y="0"/>
                  </a:lnTo>
                  <a:lnTo>
                    <a:pt x="186" y="1"/>
                  </a:lnTo>
                  <a:lnTo>
                    <a:pt x="175" y="2"/>
                  </a:lnTo>
                  <a:lnTo>
                    <a:pt x="164" y="4"/>
                  </a:lnTo>
                  <a:lnTo>
                    <a:pt x="152" y="7"/>
                  </a:lnTo>
                  <a:lnTo>
                    <a:pt x="141" y="10"/>
                  </a:lnTo>
                  <a:lnTo>
                    <a:pt x="130" y="15"/>
                  </a:lnTo>
                  <a:lnTo>
                    <a:pt x="119" y="20"/>
                  </a:lnTo>
                  <a:lnTo>
                    <a:pt x="109" y="26"/>
                  </a:lnTo>
                  <a:lnTo>
                    <a:pt x="98" y="32"/>
                  </a:lnTo>
                  <a:lnTo>
                    <a:pt x="87" y="40"/>
                  </a:lnTo>
                  <a:lnTo>
                    <a:pt x="77" y="47"/>
                  </a:lnTo>
                  <a:lnTo>
                    <a:pt x="66" y="56"/>
                  </a:lnTo>
                  <a:close/>
                  <a:moveTo>
                    <a:pt x="84" y="360"/>
                  </a:moveTo>
                  <a:lnTo>
                    <a:pt x="78" y="337"/>
                  </a:lnTo>
                  <a:lnTo>
                    <a:pt x="74" y="316"/>
                  </a:lnTo>
                  <a:lnTo>
                    <a:pt x="72" y="295"/>
                  </a:lnTo>
                  <a:lnTo>
                    <a:pt x="72" y="275"/>
                  </a:lnTo>
                  <a:lnTo>
                    <a:pt x="72" y="257"/>
                  </a:lnTo>
                  <a:lnTo>
                    <a:pt x="73" y="239"/>
                  </a:lnTo>
                  <a:lnTo>
                    <a:pt x="75" y="223"/>
                  </a:lnTo>
                  <a:lnTo>
                    <a:pt x="78" y="207"/>
                  </a:lnTo>
                  <a:lnTo>
                    <a:pt x="87" y="177"/>
                  </a:lnTo>
                  <a:lnTo>
                    <a:pt x="95" y="152"/>
                  </a:lnTo>
                  <a:lnTo>
                    <a:pt x="111" y="116"/>
                  </a:lnTo>
                  <a:lnTo>
                    <a:pt x="119" y="103"/>
                  </a:lnTo>
                  <a:lnTo>
                    <a:pt x="131" y="94"/>
                  </a:lnTo>
                  <a:lnTo>
                    <a:pt x="144" y="85"/>
                  </a:lnTo>
                  <a:lnTo>
                    <a:pt x="156" y="80"/>
                  </a:lnTo>
                  <a:lnTo>
                    <a:pt x="170" y="76"/>
                  </a:lnTo>
                  <a:lnTo>
                    <a:pt x="184" y="73"/>
                  </a:lnTo>
                  <a:lnTo>
                    <a:pt x="197" y="72"/>
                  </a:lnTo>
                  <a:lnTo>
                    <a:pt x="212" y="72"/>
                  </a:lnTo>
                  <a:lnTo>
                    <a:pt x="226" y="74"/>
                  </a:lnTo>
                  <a:lnTo>
                    <a:pt x="237" y="77"/>
                  </a:lnTo>
                  <a:lnTo>
                    <a:pt x="247" y="82"/>
                  </a:lnTo>
                  <a:lnTo>
                    <a:pt x="258" y="85"/>
                  </a:lnTo>
                  <a:lnTo>
                    <a:pt x="268" y="92"/>
                  </a:lnTo>
                  <a:lnTo>
                    <a:pt x="288" y="105"/>
                  </a:lnTo>
                  <a:lnTo>
                    <a:pt x="308" y="121"/>
                  </a:lnTo>
                  <a:lnTo>
                    <a:pt x="328" y="140"/>
                  </a:lnTo>
                  <a:lnTo>
                    <a:pt x="346" y="160"/>
                  </a:lnTo>
                  <a:lnTo>
                    <a:pt x="364" y="182"/>
                  </a:lnTo>
                  <a:lnTo>
                    <a:pt x="381" y="205"/>
                  </a:lnTo>
                  <a:lnTo>
                    <a:pt x="397" y="228"/>
                  </a:lnTo>
                  <a:lnTo>
                    <a:pt x="412" y="252"/>
                  </a:lnTo>
                  <a:lnTo>
                    <a:pt x="426" y="275"/>
                  </a:lnTo>
                  <a:lnTo>
                    <a:pt x="439" y="299"/>
                  </a:lnTo>
                  <a:lnTo>
                    <a:pt x="460" y="342"/>
                  </a:lnTo>
                  <a:lnTo>
                    <a:pt x="478" y="378"/>
                  </a:lnTo>
                  <a:lnTo>
                    <a:pt x="472" y="393"/>
                  </a:lnTo>
                  <a:lnTo>
                    <a:pt x="463" y="419"/>
                  </a:lnTo>
                  <a:lnTo>
                    <a:pt x="449" y="454"/>
                  </a:lnTo>
                  <a:lnTo>
                    <a:pt x="436" y="494"/>
                  </a:lnTo>
                  <a:lnTo>
                    <a:pt x="421" y="536"/>
                  </a:lnTo>
                  <a:lnTo>
                    <a:pt x="406" y="576"/>
                  </a:lnTo>
                  <a:lnTo>
                    <a:pt x="393" y="610"/>
                  </a:lnTo>
                  <a:lnTo>
                    <a:pt x="383" y="636"/>
                  </a:lnTo>
                  <a:lnTo>
                    <a:pt x="354" y="623"/>
                  </a:lnTo>
                  <a:lnTo>
                    <a:pt x="325" y="608"/>
                  </a:lnTo>
                  <a:lnTo>
                    <a:pt x="299" y="593"/>
                  </a:lnTo>
                  <a:lnTo>
                    <a:pt x="273" y="577"/>
                  </a:lnTo>
                  <a:lnTo>
                    <a:pt x="249" y="562"/>
                  </a:lnTo>
                  <a:lnTo>
                    <a:pt x="227" y="544"/>
                  </a:lnTo>
                  <a:lnTo>
                    <a:pt x="205" y="528"/>
                  </a:lnTo>
                  <a:lnTo>
                    <a:pt x="186" y="511"/>
                  </a:lnTo>
                  <a:lnTo>
                    <a:pt x="167" y="494"/>
                  </a:lnTo>
                  <a:lnTo>
                    <a:pt x="150" y="476"/>
                  </a:lnTo>
                  <a:lnTo>
                    <a:pt x="135" y="458"/>
                  </a:lnTo>
                  <a:lnTo>
                    <a:pt x="121" y="439"/>
                  </a:lnTo>
                  <a:lnTo>
                    <a:pt x="110" y="419"/>
                  </a:lnTo>
                  <a:lnTo>
                    <a:pt x="99" y="399"/>
                  </a:lnTo>
                  <a:lnTo>
                    <a:pt x="90" y="379"/>
                  </a:lnTo>
                  <a:lnTo>
                    <a:pt x="84" y="3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1297080" y="2798640"/>
              <a:ext cx="465120" cy="289080"/>
            </a:xfrm>
            <a:custGeom>
              <a:avLst/>
              <a:gdLst/>
              <a:ahLst/>
              <a:rect l="l" t="t" r="r" b="b"/>
              <a:pathLst>
                <a:path w="1172" h="730">
                  <a:moveTo>
                    <a:pt x="509" y="0"/>
                  </a:moveTo>
                  <a:lnTo>
                    <a:pt x="492" y="2"/>
                  </a:lnTo>
                  <a:lnTo>
                    <a:pt x="451" y="9"/>
                  </a:lnTo>
                  <a:lnTo>
                    <a:pt x="425" y="14"/>
                  </a:lnTo>
                  <a:lnTo>
                    <a:pt x="395" y="22"/>
                  </a:lnTo>
                  <a:lnTo>
                    <a:pt x="362" y="30"/>
                  </a:lnTo>
                  <a:lnTo>
                    <a:pt x="327" y="41"/>
                  </a:lnTo>
                  <a:lnTo>
                    <a:pt x="290" y="55"/>
                  </a:lnTo>
                  <a:lnTo>
                    <a:pt x="252" y="70"/>
                  </a:lnTo>
                  <a:lnTo>
                    <a:pt x="234" y="80"/>
                  </a:lnTo>
                  <a:lnTo>
                    <a:pt x="216" y="89"/>
                  </a:lnTo>
                  <a:lnTo>
                    <a:pt x="198" y="100"/>
                  </a:lnTo>
                  <a:lnTo>
                    <a:pt x="179" y="111"/>
                  </a:lnTo>
                  <a:lnTo>
                    <a:pt x="162" y="122"/>
                  </a:lnTo>
                  <a:lnTo>
                    <a:pt x="144" y="134"/>
                  </a:lnTo>
                  <a:lnTo>
                    <a:pt x="128" y="148"/>
                  </a:lnTo>
                  <a:lnTo>
                    <a:pt x="112" y="162"/>
                  </a:lnTo>
                  <a:lnTo>
                    <a:pt x="97" y="178"/>
                  </a:lnTo>
                  <a:lnTo>
                    <a:pt x="82" y="194"/>
                  </a:lnTo>
                  <a:lnTo>
                    <a:pt x="69" y="210"/>
                  </a:lnTo>
                  <a:lnTo>
                    <a:pt x="56" y="228"/>
                  </a:lnTo>
                  <a:lnTo>
                    <a:pt x="45" y="245"/>
                  </a:lnTo>
                  <a:lnTo>
                    <a:pt x="35" y="264"/>
                  </a:lnTo>
                  <a:lnTo>
                    <a:pt x="26" y="282"/>
                  </a:lnTo>
                  <a:lnTo>
                    <a:pt x="19" y="301"/>
                  </a:lnTo>
                  <a:lnTo>
                    <a:pt x="14" y="319"/>
                  </a:lnTo>
                  <a:lnTo>
                    <a:pt x="9" y="339"/>
                  </a:lnTo>
                  <a:lnTo>
                    <a:pt x="5" y="359"/>
                  </a:lnTo>
                  <a:lnTo>
                    <a:pt x="3" y="379"/>
                  </a:lnTo>
                  <a:lnTo>
                    <a:pt x="0" y="400"/>
                  </a:lnTo>
                  <a:lnTo>
                    <a:pt x="0" y="421"/>
                  </a:lnTo>
                  <a:lnTo>
                    <a:pt x="2" y="443"/>
                  </a:lnTo>
                  <a:lnTo>
                    <a:pt x="4" y="466"/>
                  </a:lnTo>
                  <a:lnTo>
                    <a:pt x="6" y="488"/>
                  </a:lnTo>
                  <a:lnTo>
                    <a:pt x="11" y="510"/>
                  </a:lnTo>
                  <a:lnTo>
                    <a:pt x="18" y="534"/>
                  </a:lnTo>
                  <a:lnTo>
                    <a:pt x="24" y="558"/>
                  </a:lnTo>
                  <a:lnTo>
                    <a:pt x="28" y="564"/>
                  </a:lnTo>
                  <a:lnTo>
                    <a:pt x="35" y="575"/>
                  </a:lnTo>
                  <a:lnTo>
                    <a:pt x="47" y="591"/>
                  </a:lnTo>
                  <a:lnTo>
                    <a:pt x="65" y="610"/>
                  </a:lnTo>
                  <a:lnTo>
                    <a:pt x="76" y="620"/>
                  </a:lnTo>
                  <a:lnTo>
                    <a:pt x="88" y="630"/>
                  </a:lnTo>
                  <a:lnTo>
                    <a:pt x="102" y="641"/>
                  </a:lnTo>
                  <a:lnTo>
                    <a:pt x="118" y="651"/>
                  </a:lnTo>
                  <a:lnTo>
                    <a:pt x="136" y="662"/>
                  </a:lnTo>
                  <a:lnTo>
                    <a:pt x="156" y="672"/>
                  </a:lnTo>
                  <a:lnTo>
                    <a:pt x="177" y="682"/>
                  </a:lnTo>
                  <a:lnTo>
                    <a:pt x="200" y="690"/>
                  </a:lnTo>
                  <a:lnTo>
                    <a:pt x="226" y="699"/>
                  </a:lnTo>
                  <a:lnTo>
                    <a:pt x="254" y="708"/>
                  </a:lnTo>
                  <a:lnTo>
                    <a:pt x="283" y="714"/>
                  </a:lnTo>
                  <a:lnTo>
                    <a:pt x="316" y="720"/>
                  </a:lnTo>
                  <a:lnTo>
                    <a:pt x="350" y="725"/>
                  </a:lnTo>
                  <a:lnTo>
                    <a:pt x="388" y="729"/>
                  </a:lnTo>
                  <a:lnTo>
                    <a:pt x="427" y="730"/>
                  </a:lnTo>
                  <a:lnTo>
                    <a:pt x="470" y="730"/>
                  </a:lnTo>
                  <a:lnTo>
                    <a:pt x="514" y="729"/>
                  </a:lnTo>
                  <a:lnTo>
                    <a:pt x="563" y="725"/>
                  </a:lnTo>
                  <a:lnTo>
                    <a:pt x="614" y="720"/>
                  </a:lnTo>
                  <a:lnTo>
                    <a:pt x="667" y="713"/>
                  </a:lnTo>
                  <a:lnTo>
                    <a:pt x="723" y="703"/>
                  </a:lnTo>
                  <a:lnTo>
                    <a:pt x="783" y="690"/>
                  </a:lnTo>
                  <a:lnTo>
                    <a:pt x="846" y="675"/>
                  </a:lnTo>
                  <a:lnTo>
                    <a:pt x="912" y="657"/>
                  </a:lnTo>
                  <a:lnTo>
                    <a:pt x="924" y="653"/>
                  </a:lnTo>
                  <a:lnTo>
                    <a:pt x="953" y="643"/>
                  </a:lnTo>
                  <a:lnTo>
                    <a:pt x="971" y="636"/>
                  </a:lnTo>
                  <a:lnTo>
                    <a:pt x="991" y="627"/>
                  </a:lnTo>
                  <a:lnTo>
                    <a:pt x="1012" y="616"/>
                  </a:lnTo>
                  <a:lnTo>
                    <a:pt x="1036" y="603"/>
                  </a:lnTo>
                  <a:lnTo>
                    <a:pt x="1058" y="589"/>
                  </a:lnTo>
                  <a:lnTo>
                    <a:pt x="1081" y="572"/>
                  </a:lnTo>
                  <a:lnTo>
                    <a:pt x="1091" y="564"/>
                  </a:lnTo>
                  <a:lnTo>
                    <a:pt x="1102" y="554"/>
                  </a:lnTo>
                  <a:lnTo>
                    <a:pt x="1112" y="544"/>
                  </a:lnTo>
                  <a:lnTo>
                    <a:pt x="1120" y="534"/>
                  </a:lnTo>
                  <a:lnTo>
                    <a:pt x="1130" y="523"/>
                  </a:lnTo>
                  <a:lnTo>
                    <a:pt x="1138" y="512"/>
                  </a:lnTo>
                  <a:lnTo>
                    <a:pt x="1145" y="500"/>
                  </a:lnTo>
                  <a:lnTo>
                    <a:pt x="1153" y="488"/>
                  </a:lnTo>
                  <a:lnTo>
                    <a:pt x="1159" y="476"/>
                  </a:lnTo>
                  <a:lnTo>
                    <a:pt x="1164" y="462"/>
                  </a:lnTo>
                  <a:lnTo>
                    <a:pt x="1168" y="448"/>
                  </a:lnTo>
                  <a:lnTo>
                    <a:pt x="1170" y="433"/>
                  </a:lnTo>
                  <a:lnTo>
                    <a:pt x="1172" y="412"/>
                  </a:lnTo>
                  <a:lnTo>
                    <a:pt x="1171" y="391"/>
                  </a:lnTo>
                  <a:lnTo>
                    <a:pt x="1169" y="370"/>
                  </a:lnTo>
                  <a:lnTo>
                    <a:pt x="1163" y="348"/>
                  </a:lnTo>
                  <a:lnTo>
                    <a:pt x="1155" y="327"/>
                  </a:lnTo>
                  <a:lnTo>
                    <a:pt x="1144" y="304"/>
                  </a:lnTo>
                  <a:lnTo>
                    <a:pt x="1132" y="282"/>
                  </a:lnTo>
                  <a:lnTo>
                    <a:pt x="1117" y="260"/>
                  </a:lnTo>
                  <a:lnTo>
                    <a:pt x="1098" y="236"/>
                  </a:lnTo>
                  <a:lnTo>
                    <a:pt x="1078" y="214"/>
                  </a:lnTo>
                  <a:lnTo>
                    <a:pt x="1055" y="190"/>
                  </a:lnTo>
                  <a:lnTo>
                    <a:pt x="1030" y="167"/>
                  </a:lnTo>
                  <a:lnTo>
                    <a:pt x="1001" y="143"/>
                  </a:lnTo>
                  <a:lnTo>
                    <a:pt x="971" y="120"/>
                  </a:lnTo>
                  <a:lnTo>
                    <a:pt x="938" y="96"/>
                  </a:lnTo>
                  <a:lnTo>
                    <a:pt x="903" y="72"/>
                  </a:lnTo>
                  <a:lnTo>
                    <a:pt x="896" y="69"/>
                  </a:lnTo>
                  <a:lnTo>
                    <a:pt x="889" y="66"/>
                  </a:lnTo>
                  <a:lnTo>
                    <a:pt x="883" y="66"/>
                  </a:lnTo>
                  <a:lnTo>
                    <a:pt x="876" y="66"/>
                  </a:lnTo>
                  <a:lnTo>
                    <a:pt x="870" y="69"/>
                  </a:lnTo>
                  <a:lnTo>
                    <a:pt x="863" y="72"/>
                  </a:lnTo>
                  <a:lnTo>
                    <a:pt x="858" y="76"/>
                  </a:lnTo>
                  <a:lnTo>
                    <a:pt x="853" y="82"/>
                  </a:lnTo>
                  <a:lnTo>
                    <a:pt x="850" y="89"/>
                  </a:lnTo>
                  <a:lnTo>
                    <a:pt x="848" y="95"/>
                  </a:lnTo>
                  <a:lnTo>
                    <a:pt x="847" y="102"/>
                  </a:lnTo>
                  <a:lnTo>
                    <a:pt x="848" y="108"/>
                  </a:lnTo>
                  <a:lnTo>
                    <a:pt x="850" y="116"/>
                  </a:lnTo>
                  <a:lnTo>
                    <a:pt x="853" y="122"/>
                  </a:lnTo>
                  <a:lnTo>
                    <a:pt x="858" y="127"/>
                  </a:lnTo>
                  <a:lnTo>
                    <a:pt x="863" y="132"/>
                  </a:lnTo>
                  <a:lnTo>
                    <a:pt x="893" y="152"/>
                  </a:lnTo>
                  <a:lnTo>
                    <a:pt x="922" y="173"/>
                  </a:lnTo>
                  <a:lnTo>
                    <a:pt x="948" y="193"/>
                  </a:lnTo>
                  <a:lnTo>
                    <a:pt x="973" y="213"/>
                  </a:lnTo>
                  <a:lnTo>
                    <a:pt x="995" y="231"/>
                  </a:lnTo>
                  <a:lnTo>
                    <a:pt x="1015" y="251"/>
                  </a:lnTo>
                  <a:lnTo>
                    <a:pt x="1033" y="270"/>
                  </a:lnTo>
                  <a:lnTo>
                    <a:pt x="1048" y="288"/>
                  </a:lnTo>
                  <a:lnTo>
                    <a:pt x="1063" y="307"/>
                  </a:lnTo>
                  <a:lnTo>
                    <a:pt x="1074" y="324"/>
                  </a:lnTo>
                  <a:lnTo>
                    <a:pt x="1084" y="342"/>
                  </a:lnTo>
                  <a:lnTo>
                    <a:pt x="1092" y="359"/>
                  </a:lnTo>
                  <a:lnTo>
                    <a:pt x="1097" y="375"/>
                  </a:lnTo>
                  <a:lnTo>
                    <a:pt x="1100" y="391"/>
                  </a:lnTo>
                  <a:lnTo>
                    <a:pt x="1100" y="407"/>
                  </a:lnTo>
                  <a:lnTo>
                    <a:pt x="1099" y="422"/>
                  </a:lnTo>
                  <a:lnTo>
                    <a:pt x="1098" y="431"/>
                  </a:lnTo>
                  <a:lnTo>
                    <a:pt x="1096" y="440"/>
                  </a:lnTo>
                  <a:lnTo>
                    <a:pt x="1093" y="447"/>
                  </a:lnTo>
                  <a:lnTo>
                    <a:pt x="1089" y="456"/>
                  </a:lnTo>
                  <a:lnTo>
                    <a:pt x="1079" y="471"/>
                  </a:lnTo>
                  <a:lnTo>
                    <a:pt x="1068" y="486"/>
                  </a:lnTo>
                  <a:lnTo>
                    <a:pt x="1056" y="499"/>
                  </a:lnTo>
                  <a:lnTo>
                    <a:pt x="1042" y="512"/>
                  </a:lnTo>
                  <a:lnTo>
                    <a:pt x="1026" y="524"/>
                  </a:lnTo>
                  <a:lnTo>
                    <a:pt x="1011" y="534"/>
                  </a:lnTo>
                  <a:lnTo>
                    <a:pt x="994" y="545"/>
                  </a:lnTo>
                  <a:lnTo>
                    <a:pt x="978" y="554"/>
                  </a:lnTo>
                  <a:lnTo>
                    <a:pt x="961" y="563"/>
                  </a:lnTo>
                  <a:lnTo>
                    <a:pt x="945" y="569"/>
                  </a:lnTo>
                  <a:lnTo>
                    <a:pt x="915" y="581"/>
                  </a:lnTo>
                  <a:lnTo>
                    <a:pt x="892" y="589"/>
                  </a:lnTo>
                  <a:lnTo>
                    <a:pt x="832" y="605"/>
                  </a:lnTo>
                  <a:lnTo>
                    <a:pt x="775" y="618"/>
                  </a:lnTo>
                  <a:lnTo>
                    <a:pt x="721" y="631"/>
                  </a:lnTo>
                  <a:lnTo>
                    <a:pt x="668" y="639"/>
                  </a:lnTo>
                  <a:lnTo>
                    <a:pt x="620" y="647"/>
                  </a:lnTo>
                  <a:lnTo>
                    <a:pt x="574" y="653"/>
                  </a:lnTo>
                  <a:lnTo>
                    <a:pt x="531" y="657"/>
                  </a:lnTo>
                  <a:lnTo>
                    <a:pt x="490" y="658"/>
                  </a:lnTo>
                  <a:lnTo>
                    <a:pt x="451" y="659"/>
                  </a:lnTo>
                  <a:lnTo>
                    <a:pt x="415" y="658"/>
                  </a:lnTo>
                  <a:lnTo>
                    <a:pt x="380" y="656"/>
                  </a:lnTo>
                  <a:lnTo>
                    <a:pt x="349" y="653"/>
                  </a:lnTo>
                  <a:lnTo>
                    <a:pt x="319" y="648"/>
                  </a:lnTo>
                  <a:lnTo>
                    <a:pt x="292" y="643"/>
                  </a:lnTo>
                  <a:lnTo>
                    <a:pt x="267" y="637"/>
                  </a:lnTo>
                  <a:lnTo>
                    <a:pt x="245" y="631"/>
                  </a:lnTo>
                  <a:lnTo>
                    <a:pt x="224" y="623"/>
                  </a:lnTo>
                  <a:lnTo>
                    <a:pt x="204" y="616"/>
                  </a:lnTo>
                  <a:lnTo>
                    <a:pt x="187" y="607"/>
                  </a:lnTo>
                  <a:lnTo>
                    <a:pt x="170" y="598"/>
                  </a:lnTo>
                  <a:lnTo>
                    <a:pt x="157" y="591"/>
                  </a:lnTo>
                  <a:lnTo>
                    <a:pt x="143" y="582"/>
                  </a:lnTo>
                  <a:lnTo>
                    <a:pt x="133" y="575"/>
                  </a:lnTo>
                  <a:lnTo>
                    <a:pt x="123" y="566"/>
                  </a:lnTo>
                  <a:lnTo>
                    <a:pt x="108" y="553"/>
                  </a:lnTo>
                  <a:lnTo>
                    <a:pt x="97" y="541"/>
                  </a:lnTo>
                  <a:lnTo>
                    <a:pt x="92" y="534"/>
                  </a:lnTo>
                  <a:lnTo>
                    <a:pt x="90" y="530"/>
                  </a:lnTo>
                  <a:lnTo>
                    <a:pt x="85" y="512"/>
                  </a:lnTo>
                  <a:lnTo>
                    <a:pt x="80" y="493"/>
                  </a:lnTo>
                  <a:lnTo>
                    <a:pt x="76" y="476"/>
                  </a:lnTo>
                  <a:lnTo>
                    <a:pt x="74" y="457"/>
                  </a:lnTo>
                  <a:lnTo>
                    <a:pt x="72" y="440"/>
                  </a:lnTo>
                  <a:lnTo>
                    <a:pt x="71" y="422"/>
                  </a:lnTo>
                  <a:lnTo>
                    <a:pt x="72" y="406"/>
                  </a:lnTo>
                  <a:lnTo>
                    <a:pt x="72" y="389"/>
                  </a:lnTo>
                  <a:lnTo>
                    <a:pt x="75" y="373"/>
                  </a:lnTo>
                  <a:lnTo>
                    <a:pt x="77" y="357"/>
                  </a:lnTo>
                  <a:lnTo>
                    <a:pt x="82" y="340"/>
                  </a:lnTo>
                  <a:lnTo>
                    <a:pt x="86" y="326"/>
                  </a:lnTo>
                  <a:lnTo>
                    <a:pt x="92" y="311"/>
                  </a:lnTo>
                  <a:lnTo>
                    <a:pt x="98" y="296"/>
                  </a:lnTo>
                  <a:lnTo>
                    <a:pt x="107" y="282"/>
                  </a:lnTo>
                  <a:lnTo>
                    <a:pt x="115" y="267"/>
                  </a:lnTo>
                  <a:lnTo>
                    <a:pt x="126" y="252"/>
                  </a:lnTo>
                  <a:lnTo>
                    <a:pt x="138" y="237"/>
                  </a:lnTo>
                  <a:lnTo>
                    <a:pt x="151" y="224"/>
                  </a:lnTo>
                  <a:lnTo>
                    <a:pt x="164" y="211"/>
                  </a:lnTo>
                  <a:lnTo>
                    <a:pt x="178" y="199"/>
                  </a:lnTo>
                  <a:lnTo>
                    <a:pt x="193" y="188"/>
                  </a:lnTo>
                  <a:lnTo>
                    <a:pt x="209" y="177"/>
                  </a:lnTo>
                  <a:lnTo>
                    <a:pt x="224" y="167"/>
                  </a:lnTo>
                  <a:lnTo>
                    <a:pt x="256" y="148"/>
                  </a:lnTo>
                  <a:lnTo>
                    <a:pt x="290" y="132"/>
                  </a:lnTo>
                  <a:lnTo>
                    <a:pt x="323" y="118"/>
                  </a:lnTo>
                  <a:lnTo>
                    <a:pt x="357" y="107"/>
                  </a:lnTo>
                  <a:lnTo>
                    <a:pt x="388" y="97"/>
                  </a:lnTo>
                  <a:lnTo>
                    <a:pt x="418" y="90"/>
                  </a:lnTo>
                  <a:lnTo>
                    <a:pt x="445" y="84"/>
                  </a:lnTo>
                  <a:lnTo>
                    <a:pt x="468" y="79"/>
                  </a:lnTo>
                  <a:lnTo>
                    <a:pt x="503" y="72"/>
                  </a:lnTo>
                  <a:lnTo>
                    <a:pt x="517" y="71"/>
                  </a:lnTo>
                  <a:lnTo>
                    <a:pt x="524" y="70"/>
                  </a:lnTo>
                  <a:lnTo>
                    <a:pt x="531" y="66"/>
                  </a:lnTo>
                  <a:lnTo>
                    <a:pt x="535" y="63"/>
                  </a:lnTo>
                  <a:lnTo>
                    <a:pt x="540" y="58"/>
                  </a:lnTo>
                  <a:lnTo>
                    <a:pt x="544" y="53"/>
                  </a:lnTo>
                  <a:lnTo>
                    <a:pt x="547" y="46"/>
                  </a:lnTo>
                  <a:lnTo>
                    <a:pt x="549" y="39"/>
                  </a:lnTo>
                  <a:lnTo>
                    <a:pt x="549" y="32"/>
                  </a:lnTo>
                  <a:lnTo>
                    <a:pt x="548" y="25"/>
                  </a:lnTo>
                  <a:lnTo>
                    <a:pt x="544" y="19"/>
                  </a:lnTo>
                  <a:lnTo>
                    <a:pt x="540" y="13"/>
                  </a:lnTo>
                  <a:lnTo>
                    <a:pt x="535" y="8"/>
                  </a:lnTo>
                  <a:lnTo>
                    <a:pt x="531" y="4"/>
                  </a:lnTo>
                  <a:lnTo>
                    <a:pt x="524" y="2"/>
                  </a:lnTo>
                  <a:lnTo>
                    <a:pt x="517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1214280" y="3208320"/>
              <a:ext cx="733680" cy="322200"/>
            </a:xfrm>
            <a:custGeom>
              <a:avLst/>
              <a:gdLst/>
              <a:ahLst/>
              <a:rect l="l" t="t" r="r" b="b"/>
              <a:pathLst>
                <a:path w="1849" h="809">
                  <a:moveTo>
                    <a:pt x="238" y="57"/>
                  </a:moveTo>
                  <a:lnTo>
                    <a:pt x="234" y="65"/>
                  </a:lnTo>
                  <a:lnTo>
                    <a:pt x="224" y="83"/>
                  </a:lnTo>
                  <a:lnTo>
                    <a:pt x="215" y="95"/>
                  </a:lnTo>
                  <a:lnTo>
                    <a:pt x="205" y="108"/>
                  </a:lnTo>
                  <a:lnTo>
                    <a:pt x="194" y="123"/>
                  </a:lnTo>
                  <a:lnTo>
                    <a:pt x="180" y="137"/>
                  </a:lnTo>
                  <a:lnTo>
                    <a:pt x="164" y="152"/>
                  </a:lnTo>
                  <a:lnTo>
                    <a:pt x="147" y="165"/>
                  </a:lnTo>
                  <a:lnTo>
                    <a:pt x="127" y="179"/>
                  </a:lnTo>
                  <a:lnTo>
                    <a:pt x="106" y="190"/>
                  </a:lnTo>
                  <a:lnTo>
                    <a:pt x="95" y="195"/>
                  </a:lnTo>
                  <a:lnTo>
                    <a:pt x="82" y="199"/>
                  </a:lnTo>
                  <a:lnTo>
                    <a:pt x="70" y="202"/>
                  </a:lnTo>
                  <a:lnTo>
                    <a:pt x="58" y="205"/>
                  </a:lnTo>
                  <a:lnTo>
                    <a:pt x="44" y="207"/>
                  </a:lnTo>
                  <a:lnTo>
                    <a:pt x="30" y="209"/>
                  </a:lnTo>
                  <a:lnTo>
                    <a:pt x="15" y="210"/>
                  </a:lnTo>
                  <a:lnTo>
                    <a:pt x="0" y="209"/>
                  </a:lnTo>
                  <a:lnTo>
                    <a:pt x="12" y="225"/>
                  </a:lnTo>
                  <a:lnTo>
                    <a:pt x="44" y="266"/>
                  </a:lnTo>
                  <a:lnTo>
                    <a:pt x="66" y="296"/>
                  </a:lnTo>
                  <a:lnTo>
                    <a:pt x="95" y="328"/>
                  </a:lnTo>
                  <a:lnTo>
                    <a:pt x="127" y="365"/>
                  </a:lnTo>
                  <a:lnTo>
                    <a:pt x="163" y="403"/>
                  </a:lnTo>
                  <a:lnTo>
                    <a:pt x="203" y="446"/>
                  </a:lnTo>
                  <a:lnTo>
                    <a:pt x="248" y="488"/>
                  </a:lnTo>
                  <a:lnTo>
                    <a:pt x="295" y="530"/>
                  </a:lnTo>
                  <a:lnTo>
                    <a:pt x="346" y="573"/>
                  </a:lnTo>
                  <a:lnTo>
                    <a:pt x="400" y="614"/>
                  </a:lnTo>
                  <a:lnTo>
                    <a:pt x="457" y="654"/>
                  </a:lnTo>
                  <a:lnTo>
                    <a:pt x="517" y="690"/>
                  </a:lnTo>
                  <a:lnTo>
                    <a:pt x="579" y="724"/>
                  </a:lnTo>
                  <a:lnTo>
                    <a:pt x="644" y="752"/>
                  </a:lnTo>
                  <a:lnTo>
                    <a:pt x="711" y="776"/>
                  </a:lnTo>
                  <a:lnTo>
                    <a:pt x="779" y="794"/>
                  </a:lnTo>
                  <a:lnTo>
                    <a:pt x="850" y="805"/>
                  </a:lnTo>
                  <a:lnTo>
                    <a:pt x="922" y="809"/>
                  </a:lnTo>
                  <a:lnTo>
                    <a:pt x="995" y="804"/>
                  </a:lnTo>
                  <a:lnTo>
                    <a:pt x="1070" y="792"/>
                  </a:lnTo>
                  <a:lnTo>
                    <a:pt x="1145" y="768"/>
                  </a:lnTo>
                  <a:lnTo>
                    <a:pt x="1221" y="736"/>
                  </a:lnTo>
                  <a:lnTo>
                    <a:pt x="1297" y="691"/>
                  </a:lnTo>
                  <a:lnTo>
                    <a:pt x="1374" y="634"/>
                  </a:lnTo>
                  <a:lnTo>
                    <a:pt x="1451" y="565"/>
                  </a:lnTo>
                  <a:lnTo>
                    <a:pt x="1528" y="482"/>
                  </a:lnTo>
                  <a:lnTo>
                    <a:pt x="1605" y="384"/>
                  </a:lnTo>
                  <a:lnTo>
                    <a:pt x="1681" y="272"/>
                  </a:lnTo>
                  <a:lnTo>
                    <a:pt x="1755" y="143"/>
                  </a:lnTo>
                  <a:lnTo>
                    <a:pt x="1849" y="133"/>
                  </a:lnTo>
                  <a:lnTo>
                    <a:pt x="1841" y="133"/>
                  </a:lnTo>
                  <a:lnTo>
                    <a:pt x="1817" y="130"/>
                  </a:lnTo>
                  <a:lnTo>
                    <a:pt x="1801" y="128"/>
                  </a:lnTo>
                  <a:lnTo>
                    <a:pt x="1782" y="124"/>
                  </a:lnTo>
                  <a:lnTo>
                    <a:pt x="1764" y="119"/>
                  </a:lnTo>
                  <a:lnTo>
                    <a:pt x="1744" y="113"/>
                  </a:lnTo>
                  <a:lnTo>
                    <a:pt x="1723" y="106"/>
                  </a:lnTo>
                  <a:lnTo>
                    <a:pt x="1703" y="97"/>
                  </a:lnTo>
                  <a:lnTo>
                    <a:pt x="1693" y="92"/>
                  </a:lnTo>
                  <a:lnTo>
                    <a:pt x="1683" y="86"/>
                  </a:lnTo>
                  <a:lnTo>
                    <a:pt x="1674" y="80"/>
                  </a:lnTo>
                  <a:lnTo>
                    <a:pt x="1666" y="73"/>
                  </a:lnTo>
                  <a:lnTo>
                    <a:pt x="1658" y="66"/>
                  </a:lnTo>
                  <a:lnTo>
                    <a:pt x="1651" y="59"/>
                  </a:lnTo>
                  <a:lnTo>
                    <a:pt x="1643" y="51"/>
                  </a:lnTo>
                  <a:lnTo>
                    <a:pt x="1637" y="42"/>
                  </a:lnTo>
                  <a:lnTo>
                    <a:pt x="1632" y="32"/>
                  </a:lnTo>
                  <a:lnTo>
                    <a:pt x="1628" y="23"/>
                  </a:lnTo>
                  <a:lnTo>
                    <a:pt x="1625" y="13"/>
                  </a:lnTo>
                  <a:lnTo>
                    <a:pt x="1622" y="0"/>
                  </a:lnTo>
                  <a:lnTo>
                    <a:pt x="1618" y="4"/>
                  </a:lnTo>
                  <a:lnTo>
                    <a:pt x="1610" y="10"/>
                  </a:lnTo>
                  <a:lnTo>
                    <a:pt x="1604" y="16"/>
                  </a:lnTo>
                  <a:lnTo>
                    <a:pt x="1599" y="23"/>
                  </a:lnTo>
                  <a:lnTo>
                    <a:pt x="1594" y="30"/>
                  </a:lnTo>
                  <a:lnTo>
                    <a:pt x="1589" y="37"/>
                  </a:lnTo>
                  <a:lnTo>
                    <a:pt x="1586" y="46"/>
                  </a:lnTo>
                  <a:lnTo>
                    <a:pt x="1585" y="56"/>
                  </a:lnTo>
                  <a:lnTo>
                    <a:pt x="1586" y="61"/>
                  </a:lnTo>
                  <a:lnTo>
                    <a:pt x="1586" y="66"/>
                  </a:lnTo>
                  <a:lnTo>
                    <a:pt x="1587" y="71"/>
                  </a:lnTo>
                  <a:lnTo>
                    <a:pt x="1590" y="77"/>
                  </a:lnTo>
                  <a:lnTo>
                    <a:pt x="1594" y="82"/>
                  </a:lnTo>
                  <a:lnTo>
                    <a:pt x="1597" y="88"/>
                  </a:lnTo>
                  <a:lnTo>
                    <a:pt x="1602" y="95"/>
                  </a:lnTo>
                  <a:lnTo>
                    <a:pt x="1607" y="99"/>
                  </a:lnTo>
                  <a:lnTo>
                    <a:pt x="1622" y="112"/>
                  </a:lnTo>
                  <a:lnTo>
                    <a:pt x="1641" y="124"/>
                  </a:lnTo>
                  <a:lnTo>
                    <a:pt x="1669" y="133"/>
                  </a:lnTo>
                  <a:lnTo>
                    <a:pt x="1664" y="147"/>
                  </a:lnTo>
                  <a:lnTo>
                    <a:pt x="1647" y="183"/>
                  </a:lnTo>
                  <a:lnTo>
                    <a:pt x="1633" y="207"/>
                  </a:lnTo>
                  <a:lnTo>
                    <a:pt x="1618" y="236"/>
                  </a:lnTo>
                  <a:lnTo>
                    <a:pt x="1599" y="268"/>
                  </a:lnTo>
                  <a:lnTo>
                    <a:pt x="1577" y="302"/>
                  </a:lnTo>
                  <a:lnTo>
                    <a:pt x="1553" y="338"/>
                  </a:lnTo>
                  <a:lnTo>
                    <a:pt x="1525" y="376"/>
                  </a:lnTo>
                  <a:lnTo>
                    <a:pt x="1494" y="413"/>
                  </a:lnTo>
                  <a:lnTo>
                    <a:pt x="1461" y="452"/>
                  </a:lnTo>
                  <a:lnTo>
                    <a:pt x="1423" y="490"/>
                  </a:lnTo>
                  <a:lnTo>
                    <a:pt x="1384" y="526"/>
                  </a:lnTo>
                  <a:lnTo>
                    <a:pt x="1340" y="561"/>
                  </a:lnTo>
                  <a:lnTo>
                    <a:pt x="1294" y="593"/>
                  </a:lnTo>
                  <a:lnTo>
                    <a:pt x="1245" y="622"/>
                  </a:lnTo>
                  <a:lnTo>
                    <a:pt x="1193" y="647"/>
                  </a:lnTo>
                  <a:lnTo>
                    <a:pt x="1137" y="668"/>
                  </a:lnTo>
                  <a:lnTo>
                    <a:pt x="1077" y="684"/>
                  </a:lnTo>
                  <a:lnTo>
                    <a:pt x="1015" y="694"/>
                  </a:lnTo>
                  <a:lnTo>
                    <a:pt x="950" y="699"/>
                  </a:lnTo>
                  <a:lnTo>
                    <a:pt x="881" y="695"/>
                  </a:lnTo>
                  <a:lnTo>
                    <a:pt x="810" y="685"/>
                  </a:lnTo>
                  <a:lnTo>
                    <a:pt x="734" y="666"/>
                  </a:lnTo>
                  <a:lnTo>
                    <a:pt x="656" y="639"/>
                  </a:lnTo>
                  <a:lnTo>
                    <a:pt x="574" y="603"/>
                  </a:lnTo>
                  <a:lnTo>
                    <a:pt x="490" y="556"/>
                  </a:lnTo>
                  <a:lnTo>
                    <a:pt x="400" y="499"/>
                  </a:lnTo>
                  <a:lnTo>
                    <a:pt x="308" y="430"/>
                  </a:lnTo>
                  <a:lnTo>
                    <a:pt x="214" y="350"/>
                  </a:lnTo>
                  <a:lnTo>
                    <a:pt x="115" y="257"/>
                  </a:lnTo>
                  <a:lnTo>
                    <a:pt x="122" y="253"/>
                  </a:lnTo>
                  <a:lnTo>
                    <a:pt x="143" y="245"/>
                  </a:lnTo>
                  <a:lnTo>
                    <a:pt x="157" y="237"/>
                  </a:lnTo>
                  <a:lnTo>
                    <a:pt x="172" y="229"/>
                  </a:lnTo>
                  <a:lnTo>
                    <a:pt x="187" y="219"/>
                  </a:lnTo>
                  <a:lnTo>
                    <a:pt x="202" y="207"/>
                  </a:lnTo>
                  <a:lnTo>
                    <a:pt x="215" y="194"/>
                  </a:lnTo>
                  <a:lnTo>
                    <a:pt x="228" y="179"/>
                  </a:lnTo>
                  <a:lnTo>
                    <a:pt x="234" y="171"/>
                  </a:lnTo>
                  <a:lnTo>
                    <a:pt x="239" y="163"/>
                  </a:lnTo>
                  <a:lnTo>
                    <a:pt x="243" y="154"/>
                  </a:lnTo>
                  <a:lnTo>
                    <a:pt x="246" y="144"/>
                  </a:lnTo>
                  <a:lnTo>
                    <a:pt x="250" y="135"/>
                  </a:lnTo>
                  <a:lnTo>
                    <a:pt x="251" y="126"/>
                  </a:lnTo>
                  <a:lnTo>
                    <a:pt x="253" y="116"/>
                  </a:lnTo>
                  <a:lnTo>
                    <a:pt x="251" y="104"/>
                  </a:lnTo>
                  <a:lnTo>
                    <a:pt x="250" y="93"/>
                  </a:lnTo>
                  <a:lnTo>
                    <a:pt x="248" y="82"/>
                  </a:lnTo>
                  <a:lnTo>
                    <a:pt x="244" y="70"/>
                  </a:lnTo>
                  <a:lnTo>
                    <a:pt x="238" y="57"/>
                  </a:lnTo>
                  <a:close/>
                </a:path>
              </a:pathLst>
            </a:custGeom>
            <a:solidFill>
              <a:srgbClr val="25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1131840" y="2824200"/>
              <a:ext cx="154080" cy="98280"/>
            </a:xfrm>
            <a:custGeom>
              <a:avLst/>
              <a:gdLst/>
              <a:ahLst/>
              <a:rect l="l" t="t" r="r" b="b"/>
              <a:pathLst>
                <a:path w="386" h="249">
                  <a:moveTo>
                    <a:pt x="382" y="40"/>
                  </a:moveTo>
                  <a:lnTo>
                    <a:pt x="385" y="49"/>
                  </a:lnTo>
                  <a:lnTo>
                    <a:pt x="386" y="60"/>
                  </a:lnTo>
                  <a:lnTo>
                    <a:pt x="385" y="70"/>
                  </a:lnTo>
                  <a:lnTo>
                    <a:pt x="383" y="81"/>
                  </a:lnTo>
                  <a:lnTo>
                    <a:pt x="379" y="94"/>
                  </a:lnTo>
                  <a:lnTo>
                    <a:pt x="373" y="105"/>
                  </a:lnTo>
                  <a:lnTo>
                    <a:pt x="365" y="117"/>
                  </a:lnTo>
                  <a:lnTo>
                    <a:pt x="355" y="128"/>
                  </a:lnTo>
                  <a:lnTo>
                    <a:pt x="346" y="141"/>
                  </a:lnTo>
                  <a:lnTo>
                    <a:pt x="333" y="152"/>
                  </a:lnTo>
                  <a:lnTo>
                    <a:pt x="319" y="164"/>
                  </a:lnTo>
                  <a:lnTo>
                    <a:pt x="305" y="175"/>
                  </a:lnTo>
                  <a:lnTo>
                    <a:pt x="288" y="187"/>
                  </a:lnTo>
                  <a:lnTo>
                    <a:pt x="272" y="197"/>
                  </a:lnTo>
                  <a:lnTo>
                    <a:pt x="254" y="206"/>
                  </a:lnTo>
                  <a:lnTo>
                    <a:pt x="235" y="215"/>
                  </a:lnTo>
                  <a:lnTo>
                    <a:pt x="215" y="224"/>
                  </a:lnTo>
                  <a:lnTo>
                    <a:pt x="196" y="230"/>
                  </a:lnTo>
                  <a:lnTo>
                    <a:pt x="177" y="236"/>
                  </a:lnTo>
                  <a:lnTo>
                    <a:pt x="158" y="241"/>
                  </a:lnTo>
                  <a:lnTo>
                    <a:pt x="139" y="245"/>
                  </a:lnTo>
                  <a:lnTo>
                    <a:pt x="122" y="247"/>
                  </a:lnTo>
                  <a:lnTo>
                    <a:pt x="106" y="249"/>
                  </a:lnTo>
                  <a:lnTo>
                    <a:pt x="90" y="249"/>
                  </a:lnTo>
                  <a:lnTo>
                    <a:pt x="75" y="249"/>
                  </a:lnTo>
                  <a:lnTo>
                    <a:pt x="60" y="246"/>
                  </a:lnTo>
                  <a:lnTo>
                    <a:pt x="47" y="242"/>
                  </a:lnTo>
                  <a:lnTo>
                    <a:pt x="36" y="239"/>
                  </a:lnTo>
                  <a:lnTo>
                    <a:pt x="26" y="232"/>
                  </a:lnTo>
                  <a:lnTo>
                    <a:pt x="18" y="226"/>
                  </a:lnTo>
                  <a:lnTo>
                    <a:pt x="10" y="219"/>
                  </a:lnTo>
                  <a:lnTo>
                    <a:pt x="5" y="210"/>
                  </a:lnTo>
                  <a:lnTo>
                    <a:pt x="2" y="200"/>
                  </a:lnTo>
                  <a:lnTo>
                    <a:pt x="0" y="190"/>
                  </a:lnTo>
                  <a:lnTo>
                    <a:pt x="2" y="179"/>
                  </a:lnTo>
                  <a:lnTo>
                    <a:pt x="4" y="168"/>
                  </a:lnTo>
                  <a:lnTo>
                    <a:pt x="9" y="157"/>
                  </a:lnTo>
                  <a:lnTo>
                    <a:pt x="14" y="144"/>
                  </a:lnTo>
                  <a:lnTo>
                    <a:pt x="23" y="133"/>
                  </a:lnTo>
                  <a:lnTo>
                    <a:pt x="31" y="121"/>
                  </a:lnTo>
                  <a:lnTo>
                    <a:pt x="43" y="108"/>
                  </a:lnTo>
                  <a:lnTo>
                    <a:pt x="54" y="97"/>
                  </a:lnTo>
                  <a:lnTo>
                    <a:pt x="67" y="86"/>
                  </a:lnTo>
                  <a:lnTo>
                    <a:pt x="82" y="74"/>
                  </a:lnTo>
                  <a:lnTo>
                    <a:pt x="98" y="64"/>
                  </a:lnTo>
                  <a:lnTo>
                    <a:pt x="116" y="53"/>
                  </a:lnTo>
                  <a:lnTo>
                    <a:pt x="133" y="43"/>
                  </a:lnTo>
                  <a:lnTo>
                    <a:pt x="153" y="34"/>
                  </a:lnTo>
                  <a:lnTo>
                    <a:pt x="172" y="25"/>
                  </a:lnTo>
                  <a:lnTo>
                    <a:pt x="192" y="19"/>
                  </a:lnTo>
                  <a:lnTo>
                    <a:pt x="210" y="13"/>
                  </a:lnTo>
                  <a:lnTo>
                    <a:pt x="229" y="8"/>
                  </a:lnTo>
                  <a:lnTo>
                    <a:pt x="247" y="4"/>
                  </a:lnTo>
                  <a:lnTo>
                    <a:pt x="265" y="2"/>
                  </a:lnTo>
                  <a:lnTo>
                    <a:pt x="282" y="0"/>
                  </a:lnTo>
                  <a:lnTo>
                    <a:pt x="298" y="0"/>
                  </a:lnTo>
                  <a:lnTo>
                    <a:pt x="313" y="2"/>
                  </a:lnTo>
                  <a:lnTo>
                    <a:pt x="327" y="3"/>
                  </a:lnTo>
                  <a:lnTo>
                    <a:pt x="339" y="7"/>
                  </a:lnTo>
                  <a:lnTo>
                    <a:pt x="352" y="12"/>
                  </a:lnTo>
                  <a:lnTo>
                    <a:pt x="362" y="17"/>
                  </a:lnTo>
                  <a:lnTo>
                    <a:pt x="370" y="23"/>
                  </a:lnTo>
                  <a:lnTo>
                    <a:pt x="377" y="30"/>
                  </a:lnTo>
                  <a:lnTo>
                    <a:pt x="382" y="40"/>
                  </a:lnTo>
                  <a:close/>
                </a:path>
              </a:pathLst>
            </a:custGeom>
            <a:solidFill>
              <a:srgbClr val="eb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1147680" y="2835360"/>
              <a:ext cx="122400" cy="77760"/>
            </a:xfrm>
            <a:custGeom>
              <a:avLst/>
              <a:gdLst/>
              <a:ahLst/>
              <a:rect l="l" t="t" r="r" b="b"/>
              <a:pathLst>
                <a:path w="308" h="199">
                  <a:moveTo>
                    <a:pt x="304" y="31"/>
                  </a:moveTo>
                  <a:lnTo>
                    <a:pt x="307" y="40"/>
                  </a:lnTo>
                  <a:lnTo>
                    <a:pt x="308" y="47"/>
                  </a:lnTo>
                  <a:lnTo>
                    <a:pt x="307" y="56"/>
                  </a:lnTo>
                  <a:lnTo>
                    <a:pt x="306" y="65"/>
                  </a:lnTo>
                  <a:lnTo>
                    <a:pt x="302" y="75"/>
                  </a:lnTo>
                  <a:lnTo>
                    <a:pt x="297" y="83"/>
                  </a:lnTo>
                  <a:lnTo>
                    <a:pt x="291" y="93"/>
                  </a:lnTo>
                  <a:lnTo>
                    <a:pt x="283" y="103"/>
                  </a:lnTo>
                  <a:lnTo>
                    <a:pt x="274" y="112"/>
                  </a:lnTo>
                  <a:lnTo>
                    <a:pt x="265" y="122"/>
                  </a:lnTo>
                  <a:lnTo>
                    <a:pt x="255" y="131"/>
                  </a:lnTo>
                  <a:lnTo>
                    <a:pt x="242" y="140"/>
                  </a:lnTo>
                  <a:lnTo>
                    <a:pt x="230" y="149"/>
                  </a:lnTo>
                  <a:lnTo>
                    <a:pt x="216" y="157"/>
                  </a:lnTo>
                  <a:lnTo>
                    <a:pt x="201" y="165"/>
                  </a:lnTo>
                  <a:lnTo>
                    <a:pt x="186" y="173"/>
                  </a:lnTo>
                  <a:lnTo>
                    <a:pt x="171" y="179"/>
                  </a:lnTo>
                  <a:lnTo>
                    <a:pt x="155" y="184"/>
                  </a:lnTo>
                  <a:lnTo>
                    <a:pt x="140" y="189"/>
                  </a:lnTo>
                  <a:lnTo>
                    <a:pt x="125" y="193"/>
                  </a:lnTo>
                  <a:lnTo>
                    <a:pt x="111" y="196"/>
                  </a:lnTo>
                  <a:lnTo>
                    <a:pt x="97" y="198"/>
                  </a:lnTo>
                  <a:lnTo>
                    <a:pt x="83" y="199"/>
                  </a:lnTo>
                  <a:lnTo>
                    <a:pt x="71" y="199"/>
                  </a:lnTo>
                  <a:lnTo>
                    <a:pt x="58" y="199"/>
                  </a:lnTo>
                  <a:lnTo>
                    <a:pt x="47" y="196"/>
                  </a:lnTo>
                  <a:lnTo>
                    <a:pt x="37" y="194"/>
                  </a:lnTo>
                  <a:lnTo>
                    <a:pt x="27" y="190"/>
                  </a:lnTo>
                  <a:lnTo>
                    <a:pt x="20" y="186"/>
                  </a:lnTo>
                  <a:lnTo>
                    <a:pt x="12" y="181"/>
                  </a:lnTo>
                  <a:lnTo>
                    <a:pt x="7" y="175"/>
                  </a:lnTo>
                  <a:lnTo>
                    <a:pt x="3" y="168"/>
                  </a:lnTo>
                  <a:lnTo>
                    <a:pt x="0" y="160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3" y="134"/>
                  </a:lnTo>
                  <a:lnTo>
                    <a:pt x="5" y="124"/>
                  </a:lnTo>
                  <a:lnTo>
                    <a:pt x="10" y="116"/>
                  </a:lnTo>
                  <a:lnTo>
                    <a:pt x="16" y="106"/>
                  </a:lnTo>
                  <a:lnTo>
                    <a:pt x="24" y="97"/>
                  </a:lnTo>
                  <a:lnTo>
                    <a:pt x="32" y="87"/>
                  </a:lnTo>
                  <a:lnTo>
                    <a:pt x="42" y="77"/>
                  </a:lnTo>
                  <a:lnTo>
                    <a:pt x="53" y="69"/>
                  </a:lnTo>
                  <a:lnTo>
                    <a:pt x="65" y="60"/>
                  </a:lnTo>
                  <a:lnTo>
                    <a:pt x="77" y="51"/>
                  </a:lnTo>
                  <a:lnTo>
                    <a:pt x="91" y="42"/>
                  </a:lnTo>
                  <a:lnTo>
                    <a:pt x="106" y="35"/>
                  </a:lnTo>
                  <a:lnTo>
                    <a:pt x="120" y="28"/>
                  </a:lnTo>
                  <a:lnTo>
                    <a:pt x="137" y="20"/>
                  </a:lnTo>
                  <a:lnTo>
                    <a:pt x="152" y="15"/>
                  </a:lnTo>
                  <a:lnTo>
                    <a:pt x="168" y="10"/>
                  </a:lnTo>
                  <a:lnTo>
                    <a:pt x="183" y="6"/>
                  </a:lnTo>
                  <a:lnTo>
                    <a:pt x="196" y="4"/>
                  </a:lnTo>
                  <a:lnTo>
                    <a:pt x="211" y="2"/>
                  </a:lnTo>
                  <a:lnTo>
                    <a:pt x="225" y="0"/>
                  </a:lnTo>
                  <a:lnTo>
                    <a:pt x="237" y="0"/>
                  </a:lnTo>
                  <a:lnTo>
                    <a:pt x="250" y="2"/>
                  </a:lnTo>
                  <a:lnTo>
                    <a:pt x="261" y="3"/>
                  </a:lnTo>
                  <a:lnTo>
                    <a:pt x="271" y="5"/>
                  </a:lnTo>
                  <a:lnTo>
                    <a:pt x="279" y="9"/>
                  </a:lnTo>
                  <a:lnTo>
                    <a:pt x="288" y="13"/>
                  </a:lnTo>
                  <a:lnTo>
                    <a:pt x="294" y="19"/>
                  </a:lnTo>
                  <a:lnTo>
                    <a:pt x="301" y="25"/>
                  </a:lnTo>
                  <a:lnTo>
                    <a:pt x="304" y="31"/>
                  </a:lnTo>
                  <a:close/>
                </a:path>
              </a:pathLst>
            </a:custGeom>
            <a:solidFill>
              <a:srgbClr val="e9a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1165320" y="2846520"/>
              <a:ext cx="87120" cy="55440"/>
            </a:xfrm>
            <a:custGeom>
              <a:avLst/>
              <a:gdLst/>
              <a:ahLst/>
              <a:rect l="l" t="t" r="r" b="b"/>
              <a:pathLst>
                <a:path w="216" h="139">
                  <a:moveTo>
                    <a:pt x="214" y="22"/>
                  </a:moveTo>
                  <a:lnTo>
                    <a:pt x="215" y="27"/>
                  </a:lnTo>
                  <a:lnTo>
                    <a:pt x="216" y="34"/>
                  </a:lnTo>
                  <a:lnTo>
                    <a:pt x="215" y="40"/>
                  </a:lnTo>
                  <a:lnTo>
                    <a:pt x="214" y="46"/>
                  </a:lnTo>
                  <a:lnTo>
                    <a:pt x="211" y="52"/>
                  </a:lnTo>
                  <a:lnTo>
                    <a:pt x="207" y="58"/>
                  </a:lnTo>
                  <a:lnTo>
                    <a:pt x="204" y="66"/>
                  </a:lnTo>
                  <a:lnTo>
                    <a:pt x="199" y="72"/>
                  </a:lnTo>
                  <a:lnTo>
                    <a:pt x="185" y="86"/>
                  </a:lnTo>
                  <a:lnTo>
                    <a:pt x="170" y="98"/>
                  </a:lnTo>
                  <a:lnTo>
                    <a:pt x="151" y="109"/>
                  </a:lnTo>
                  <a:lnTo>
                    <a:pt x="130" y="120"/>
                  </a:lnTo>
                  <a:lnTo>
                    <a:pt x="109" y="129"/>
                  </a:lnTo>
                  <a:lnTo>
                    <a:pt x="88" y="135"/>
                  </a:lnTo>
                  <a:lnTo>
                    <a:pt x="68" y="139"/>
                  </a:lnTo>
                  <a:lnTo>
                    <a:pt x="50" y="139"/>
                  </a:lnTo>
                  <a:lnTo>
                    <a:pt x="41" y="139"/>
                  </a:lnTo>
                  <a:lnTo>
                    <a:pt x="34" y="138"/>
                  </a:lnTo>
                  <a:lnTo>
                    <a:pt x="26" y="135"/>
                  </a:lnTo>
                  <a:lnTo>
                    <a:pt x="20" y="133"/>
                  </a:lnTo>
                  <a:lnTo>
                    <a:pt x="14" y="130"/>
                  </a:lnTo>
                  <a:lnTo>
                    <a:pt x="9" y="127"/>
                  </a:lnTo>
                  <a:lnTo>
                    <a:pt x="5" y="122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7" y="81"/>
                  </a:lnTo>
                  <a:lnTo>
                    <a:pt x="11" y="75"/>
                  </a:lnTo>
                  <a:lnTo>
                    <a:pt x="17" y="67"/>
                  </a:lnTo>
                  <a:lnTo>
                    <a:pt x="30" y="55"/>
                  </a:lnTo>
                  <a:lnTo>
                    <a:pt x="46" y="41"/>
                  </a:lnTo>
                  <a:lnTo>
                    <a:pt x="63" y="30"/>
                  </a:lnTo>
                  <a:lnTo>
                    <a:pt x="84" y="19"/>
                  </a:lnTo>
                  <a:lnTo>
                    <a:pt x="107" y="10"/>
                  </a:lnTo>
                  <a:lnTo>
                    <a:pt x="128" y="5"/>
                  </a:lnTo>
                  <a:lnTo>
                    <a:pt x="148" y="1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3" y="1"/>
                  </a:lnTo>
                  <a:lnTo>
                    <a:pt x="190" y="4"/>
                  </a:lnTo>
                  <a:lnTo>
                    <a:pt x="196" y="6"/>
                  </a:lnTo>
                  <a:lnTo>
                    <a:pt x="201" y="9"/>
                  </a:lnTo>
                  <a:lnTo>
                    <a:pt x="206" y="12"/>
                  </a:lnTo>
                  <a:lnTo>
                    <a:pt x="210" y="17"/>
                  </a:lnTo>
                  <a:lnTo>
                    <a:pt x="214" y="22"/>
                  </a:lnTo>
                  <a:close/>
                </a:path>
              </a:pathLst>
            </a:custGeom>
            <a:solidFill>
              <a:srgbClr val="e5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1744560" y="2771640"/>
              <a:ext cx="149400" cy="103320"/>
            </a:xfrm>
            <a:custGeom>
              <a:avLst/>
              <a:gdLst/>
              <a:ahLst/>
              <a:rect l="l" t="t" r="r" b="b"/>
              <a:pathLst>
                <a:path w="375" h="263">
                  <a:moveTo>
                    <a:pt x="370" y="230"/>
                  </a:moveTo>
                  <a:lnTo>
                    <a:pt x="364" y="238"/>
                  </a:lnTo>
                  <a:lnTo>
                    <a:pt x="356" y="246"/>
                  </a:lnTo>
                  <a:lnTo>
                    <a:pt x="348" y="252"/>
                  </a:lnTo>
                  <a:lnTo>
                    <a:pt x="337" y="256"/>
                  </a:lnTo>
                  <a:lnTo>
                    <a:pt x="325" y="260"/>
                  </a:lnTo>
                  <a:lnTo>
                    <a:pt x="312" y="262"/>
                  </a:lnTo>
                  <a:lnTo>
                    <a:pt x="298" y="263"/>
                  </a:lnTo>
                  <a:lnTo>
                    <a:pt x="283" y="263"/>
                  </a:lnTo>
                  <a:lnTo>
                    <a:pt x="267" y="262"/>
                  </a:lnTo>
                  <a:lnTo>
                    <a:pt x="251" y="260"/>
                  </a:lnTo>
                  <a:lnTo>
                    <a:pt x="233" y="256"/>
                  </a:lnTo>
                  <a:lnTo>
                    <a:pt x="215" y="251"/>
                  </a:lnTo>
                  <a:lnTo>
                    <a:pt x="197" y="245"/>
                  </a:lnTo>
                  <a:lnTo>
                    <a:pt x="179" y="237"/>
                  </a:lnTo>
                  <a:lnTo>
                    <a:pt x="159" y="229"/>
                  </a:lnTo>
                  <a:lnTo>
                    <a:pt x="140" y="219"/>
                  </a:lnTo>
                  <a:lnTo>
                    <a:pt x="123" y="209"/>
                  </a:lnTo>
                  <a:lnTo>
                    <a:pt x="106" y="198"/>
                  </a:lnTo>
                  <a:lnTo>
                    <a:pt x="89" y="186"/>
                  </a:lnTo>
                  <a:lnTo>
                    <a:pt x="73" y="174"/>
                  </a:lnTo>
                  <a:lnTo>
                    <a:pt x="60" y="162"/>
                  </a:lnTo>
                  <a:lnTo>
                    <a:pt x="47" y="149"/>
                  </a:lnTo>
                  <a:lnTo>
                    <a:pt x="36" y="137"/>
                  </a:lnTo>
                  <a:lnTo>
                    <a:pt x="26" y="124"/>
                  </a:lnTo>
                  <a:lnTo>
                    <a:pt x="17" y="112"/>
                  </a:lnTo>
                  <a:lnTo>
                    <a:pt x="11" y="100"/>
                  </a:lnTo>
                  <a:lnTo>
                    <a:pt x="6" y="87"/>
                  </a:lnTo>
                  <a:lnTo>
                    <a:pt x="3" y="75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3" y="42"/>
                  </a:lnTo>
                  <a:lnTo>
                    <a:pt x="6" y="34"/>
                  </a:lnTo>
                  <a:lnTo>
                    <a:pt x="12" y="25"/>
                  </a:lnTo>
                  <a:lnTo>
                    <a:pt x="20" y="18"/>
                  </a:lnTo>
                  <a:lnTo>
                    <a:pt x="29" y="11"/>
                  </a:lnTo>
                  <a:lnTo>
                    <a:pt x="39" y="6"/>
                  </a:lnTo>
                  <a:lnTo>
                    <a:pt x="51" y="4"/>
                  </a:lnTo>
                  <a:lnTo>
                    <a:pt x="63" y="1"/>
                  </a:lnTo>
                  <a:lnTo>
                    <a:pt x="78" y="0"/>
                  </a:lnTo>
                  <a:lnTo>
                    <a:pt x="93" y="0"/>
                  </a:lnTo>
                  <a:lnTo>
                    <a:pt x="109" y="1"/>
                  </a:lnTo>
                  <a:lnTo>
                    <a:pt x="125" y="4"/>
                  </a:lnTo>
                  <a:lnTo>
                    <a:pt x="143" y="8"/>
                  </a:lnTo>
                  <a:lnTo>
                    <a:pt x="161" y="13"/>
                  </a:lnTo>
                  <a:lnTo>
                    <a:pt x="179" y="19"/>
                  </a:lnTo>
                  <a:lnTo>
                    <a:pt x="197" y="26"/>
                  </a:lnTo>
                  <a:lnTo>
                    <a:pt x="216" y="35"/>
                  </a:lnTo>
                  <a:lnTo>
                    <a:pt x="236" y="44"/>
                  </a:lnTo>
                  <a:lnTo>
                    <a:pt x="253" y="55"/>
                  </a:lnTo>
                  <a:lnTo>
                    <a:pt x="271" y="66"/>
                  </a:lnTo>
                  <a:lnTo>
                    <a:pt x="287" y="77"/>
                  </a:lnTo>
                  <a:lnTo>
                    <a:pt x="303" y="90"/>
                  </a:lnTo>
                  <a:lnTo>
                    <a:pt x="317" y="102"/>
                  </a:lnTo>
                  <a:lnTo>
                    <a:pt x="329" y="114"/>
                  </a:lnTo>
                  <a:lnTo>
                    <a:pt x="340" y="127"/>
                  </a:lnTo>
                  <a:lnTo>
                    <a:pt x="350" y="139"/>
                  </a:lnTo>
                  <a:lnTo>
                    <a:pt x="359" y="152"/>
                  </a:lnTo>
                  <a:lnTo>
                    <a:pt x="365" y="164"/>
                  </a:lnTo>
                  <a:lnTo>
                    <a:pt x="370" y="176"/>
                  </a:lnTo>
                  <a:lnTo>
                    <a:pt x="374" y="188"/>
                  </a:lnTo>
                  <a:lnTo>
                    <a:pt x="375" y="200"/>
                  </a:lnTo>
                  <a:lnTo>
                    <a:pt x="375" y="210"/>
                  </a:lnTo>
                  <a:lnTo>
                    <a:pt x="374" y="220"/>
                  </a:lnTo>
                  <a:lnTo>
                    <a:pt x="370" y="230"/>
                  </a:lnTo>
                  <a:close/>
                </a:path>
              </a:pathLst>
            </a:custGeom>
            <a:solidFill>
              <a:srgbClr val="ebb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1760400" y="2781360"/>
              <a:ext cx="119160" cy="84240"/>
            </a:xfrm>
            <a:custGeom>
              <a:avLst/>
              <a:gdLst/>
              <a:ahLst/>
              <a:rect l="l" t="t" r="r" b="b"/>
              <a:pathLst>
                <a:path w="299" h="211">
                  <a:moveTo>
                    <a:pt x="295" y="184"/>
                  </a:moveTo>
                  <a:lnTo>
                    <a:pt x="290" y="191"/>
                  </a:lnTo>
                  <a:lnTo>
                    <a:pt x="284" y="196"/>
                  </a:lnTo>
                  <a:lnTo>
                    <a:pt x="276" y="201"/>
                  </a:lnTo>
                  <a:lnTo>
                    <a:pt x="268" y="205"/>
                  </a:lnTo>
                  <a:lnTo>
                    <a:pt x="259" y="209"/>
                  </a:lnTo>
                  <a:lnTo>
                    <a:pt x="248" y="210"/>
                  </a:lnTo>
                  <a:lnTo>
                    <a:pt x="237" y="211"/>
                  </a:lnTo>
                  <a:lnTo>
                    <a:pt x="226" y="211"/>
                  </a:lnTo>
                  <a:lnTo>
                    <a:pt x="212" y="210"/>
                  </a:lnTo>
                  <a:lnTo>
                    <a:pt x="199" y="207"/>
                  </a:lnTo>
                  <a:lnTo>
                    <a:pt x="185" y="205"/>
                  </a:lnTo>
                  <a:lnTo>
                    <a:pt x="171" y="200"/>
                  </a:lnTo>
                  <a:lnTo>
                    <a:pt x="156" y="196"/>
                  </a:lnTo>
                  <a:lnTo>
                    <a:pt x="141" y="190"/>
                  </a:lnTo>
                  <a:lnTo>
                    <a:pt x="126" y="183"/>
                  </a:lnTo>
                  <a:lnTo>
                    <a:pt x="111" y="175"/>
                  </a:lnTo>
                  <a:lnTo>
                    <a:pt x="96" y="167"/>
                  </a:lnTo>
                  <a:lnTo>
                    <a:pt x="83" y="158"/>
                  </a:lnTo>
                  <a:lnTo>
                    <a:pt x="70" y="149"/>
                  </a:lnTo>
                  <a:lnTo>
                    <a:pt x="58" y="139"/>
                  </a:lnTo>
                  <a:lnTo>
                    <a:pt x="47" y="129"/>
                  </a:lnTo>
                  <a:lnTo>
                    <a:pt x="37" y="119"/>
                  </a:lnTo>
                  <a:lnTo>
                    <a:pt x="27" y="109"/>
                  </a:lnTo>
                  <a:lnTo>
                    <a:pt x="19" y="100"/>
                  </a:lnTo>
                  <a:lnTo>
                    <a:pt x="13" y="90"/>
                  </a:lnTo>
                  <a:lnTo>
                    <a:pt x="7" y="80"/>
                  </a:lnTo>
                  <a:lnTo>
                    <a:pt x="3" y="70"/>
                  </a:lnTo>
                  <a:lnTo>
                    <a:pt x="1" y="60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3" y="26"/>
                  </a:lnTo>
                  <a:lnTo>
                    <a:pt x="8" y="20"/>
                  </a:lnTo>
                  <a:lnTo>
                    <a:pt x="14" y="14"/>
                  </a:lnTo>
                  <a:lnTo>
                    <a:pt x="22" y="10"/>
                  </a:lnTo>
                  <a:lnTo>
                    <a:pt x="31" y="5"/>
                  </a:lnTo>
                  <a:lnTo>
                    <a:pt x="39" y="3"/>
                  </a:lnTo>
                  <a:lnTo>
                    <a:pt x="49" y="2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6" y="2"/>
                  </a:lnTo>
                  <a:lnTo>
                    <a:pt x="99" y="4"/>
                  </a:lnTo>
                  <a:lnTo>
                    <a:pt x="113" y="7"/>
                  </a:lnTo>
                  <a:lnTo>
                    <a:pt x="127" y="10"/>
                  </a:lnTo>
                  <a:lnTo>
                    <a:pt x="142" y="15"/>
                  </a:lnTo>
                  <a:lnTo>
                    <a:pt x="157" y="21"/>
                  </a:lnTo>
                  <a:lnTo>
                    <a:pt x="172" y="28"/>
                  </a:lnTo>
                  <a:lnTo>
                    <a:pt x="187" y="35"/>
                  </a:lnTo>
                  <a:lnTo>
                    <a:pt x="202" y="44"/>
                  </a:lnTo>
                  <a:lnTo>
                    <a:pt x="216" y="52"/>
                  </a:lnTo>
                  <a:lnTo>
                    <a:pt x="228" y="62"/>
                  </a:lnTo>
                  <a:lnTo>
                    <a:pt x="240" y="71"/>
                  </a:lnTo>
                  <a:lnTo>
                    <a:pt x="252" y="81"/>
                  </a:lnTo>
                  <a:lnTo>
                    <a:pt x="262" y="91"/>
                  </a:lnTo>
                  <a:lnTo>
                    <a:pt x="270" y="102"/>
                  </a:lnTo>
                  <a:lnTo>
                    <a:pt x="279" y="112"/>
                  </a:lnTo>
                  <a:lnTo>
                    <a:pt x="285" y="122"/>
                  </a:lnTo>
                  <a:lnTo>
                    <a:pt x="291" y="132"/>
                  </a:lnTo>
                  <a:lnTo>
                    <a:pt x="295" y="142"/>
                  </a:lnTo>
                  <a:lnTo>
                    <a:pt x="298" y="150"/>
                  </a:lnTo>
                  <a:lnTo>
                    <a:pt x="299" y="160"/>
                  </a:lnTo>
                  <a:lnTo>
                    <a:pt x="299" y="169"/>
                  </a:lnTo>
                  <a:lnTo>
                    <a:pt x="298" y="176"/>
                  </a:lnTo>
                  <a:lnTo>
                    <a:pt x="295" y="184"/>
                  </a:lnTo>
                  <a:close/>
                </a:path>
              </a:pathLst>
            </a:custGeom>
            <a:solidFill>
              <a:srgbClr val="e9a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1778040" y="2793960"/>
              <a:ext cx="84240" cy="5868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206" y="127"/>
                  </a:moveTo>
                  <a:lnTo>
                    <a:pt x="204" y="132"/>
                  </a:lnTo>
                  <a:lnTo>
                    <a:pt x="199" y="136"/>
                  </a:lnTo>
                  <a:lnTo>
                    <a:pt x="194" y="140"/>
                  </a:lnTo>
                  <a:lnTo>
                    <a:pt x="189" y="142"/>
                  </a:lnTo>
                  <a:lnTo>
                    <a:pt x="182" y="145"/>
                  </a:lnTo>
                  <a:lnTo>
                    <a:pt x="174" y="146"/>
                  </a:lnTo>
                  <a:lnTo>
                    <a:pt x="167" y="146"/>
                  </a:lnTo>
                  <a:lnTo>
                    <a:pt x="158" y="146"/>
                  </a:lnTo>
                  <a:lnTo>
                    <a:pt x="141" y="143"/>
                  </a:lnTo>
                  <a:lnTo>
                    <a:pt x="121" y="139"/>
                  </a:lnTo>
                  <a:lnTo>
                    <a:pt x="100" y="131"/>
                  </a:lnTo>
                  <a:lnTo>
                    <a:pt x="78" y="121"/>
                  </a:lnTo>
                  <a:lnTo>
                    <a:pt x="59" y="110"/>
                  </a:lnTo>
                  <a:lnTo>
                    <a:pt x="41" y="96"/>
                  </a:lnTo>
                  <a:lnTo>
                    <a:pt x="26" y="83"/>
                  </a:lnTo>
                  <a:lnTo>
                    <a:pt x="14" y="68"/>
                  </a:lnTo>
                  <a:lnTo>
                    <a:pt x="10" y="62"/>
                  </a:lnTo>
                  <a:lnTo>
                    <a:pt x="5" y="54"/>
                  </a:lnTo>
                  <a:lnTo>
                    <a:pt x="3" y="48"/>
                  </a:lnTo>
                  <a:lnTo>
                    <a:pt x="1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70" y="1"/>
                  </a:lnTo>
                  <a:lnTo>
                    <a:pt x="90" y="6"/>
                  </a:lnTo>
                  <a:lnTo>
                    <a:pt x="111" y="13"/>
                  </a:lnTo>
                  <a:lnTo>
                    <a:pt x="132" y="23"/>
                  </a:lnTo>
                  <a:lnTo>
                    <a:pt x="152" y="36"/>
                  </a:lnTo>
                  <a:lnTo>
                    <a:pt x="169" y="49"/>
                  </a:lnTo>
                  <a:lnTo>
                    <a:pt x="184" y="63"/>
                  </a:lnTo>
                  <a:lnTo>
                    <a:pt x="196" y="76"/>
                  </a:lnTo>
                  <a:lnTo>
                    <a:pt x="200" y="84"/>
                  </a:lnTo>
                  <a:lnTo>
                    <a:pt x="204" y="91"/>
                  </a:lnTo>
                  <a:lnTo>
                    <a:pt x="208" y="98"/>
                  </a:lnTo>
                  <a:lnTo>
                    <a:pt x="209" y="104"/>
                  </a:lnTo>
                  <a:lnTo>
                    <a:pt x="210" y="110"/>
                  </a:lnTo>
                  <a:lnTo>
                    <a:pt x="210" y="116"/>
                  </a:lnTo>
                  <a:lnTo>
                    <a:pt x="209" y="122"/>
                  </a:lnTo>
                  <a:lnTo>
                    <a:pt x="206" y="127"/>
                  </a:lnTo>
                  <a:close/>
                </a:path>
              </a:pathLst>
            </a:custGeom>
            <a:solidFill>
              <a:srgbClr val="e5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1285920" y="2736720"/>
              <a:ext cx="87120" cy="47880"/>
            </a:xfrm>
            <a:custGeom>
              <a:avLst/>
              <a:gdLst/>
              <a:ahLst/>
              <a:rect l="l" t="t" r="r" b="b"/>
              <a:pathLst>
                <a:path w="224" h="121">
                  <a:moveTo>
                    <a:pt x="224" y="14"/>
                  </a:moveTo>
                  <a:lnTo>
                    <a:pt x="224" y="18"/>
                  </a:lnTo>
                  <a:lnTo>
                    <a:pt x="220" y="25"/>
                  </a:lnTo>
                  <a:lnTo>
                    <a:pt x="213" y="36"/>
                  </a:lnTo>
                  <a:lnTo>
                    <a:pt x="203" y="51"/>
                  </a:lnTo>
                  <a:lnTo>
                    <a:pt x="197" y="58"/>
                  </a:lnTo>
                  <a:lnTo>
                    <a:pt x="188" y="66"/>
                  </a:lnTo>
                  <a:lnTo>
                    <a:pt x="179" y="75"/>
                  </a:lnTo>
                  <a:lnTo>
                    <a:pt x="168" y="82"/>
                  </a:lnTo>
                  <a:lnTo>
                    <a:pt x="156" y="91"/>
                  </a:lnTo>
                  <a:lnTo>
                    <a:pt x="142" y="98"/>
                  </a:lnTo>
                  <a:lnTo>
                    <a:pt x="127" y="106"/>
                  </a:lnTo>
                  <a:lnTo>
                    <a:pt x="111" y="112"/>
                  </a:lnTo>
                  <a:lnTo>
                    <a:pt x="101" y="114"/>
                  </a:lnTo>
                  <a:lnTo>
                    <a:pt x="75" y="119"/>
                  </a:lnTo>
                  <a:lnTo>
                    <a:pt x="59" y="121"/>
                  </a:lnTo>
                  <a:lnTo>
                    <a:pt x="40" y="119"/>
                  </a:lnTo>
                  <a:lnTo>
                    <a:pt x="30" y="118"/>
                  </a:lnTo>
                  <a:lnTo>
                    <a:pt x="20" y="117"/>
                  </a:lnTo>
                  <a:lnTo>
                    <a:pt x="10" y="114"/>
                  </a:lnTo>
                  <a:lnTo>
                    <a:pt x="0" y="111"/>
                  </a:lnTo>
                  <a:lnTo>
                    <a:pt x="7" y="104"/>
                  </a:lnTo>
                  <a:lnTo>
                    <a:pt x="23" y="87"/>
                  </a:lnTo>
                  <a:lnTo>
                    <a:pt x="35" y="76"/>
                  </a:lnTo>
                  <a:lnTo>
                    <a:pt x="49" y="65"/>
                  </a:lnTo>
                  <a:lnTo>
                    <a:pt x="64" y="52"/>
                  </a:lnTo>
                  <a:lnTo>
                    <a:pt x="81" y="40"/>
                  </a:lnTo>
                  <a:lnTo>
                    <a:pt x="99" y="29"/>
                  </a:lnTo>
                  <a:lnTo>
                    <a:pt x="117" y="19"/>
                  </a:lnTo>
                  <a:lnTo>
                    <a:pt x="136" y="10"/>
                  </a:lnTo>
                  <a:lnTo>
                    <a:pt x="154" y="4"/>
                  </a:lnTo>
                  <a:lnTo>
                    <a:pt x="163" y="1"/>
                  </a:lnTo>
                  <a:lnTo>
                    <a:pt x="173" y="1"/>
                  </a:lnTo>
                  <a:lnTo>
                    <a:pt x="182" y="0"/>
                  </a:lnTo>
                  <a:lnTo>
                    <a:pt x="190" y="1"/>
                  </a:lnTo>
                  <a:lnTo>
                    <a:pt x="199" y="3"/>
                  </a:lnTo>
                  <a:lnTo>
                    <a:pt x="208" y="5"/>
                  </a:lnTo>
                  <a:lnTo>
                    <a:pt x="217" y="9"/>
                  </a:lnTo>
                  <a:lnTo>
                    <a:pt x="224" y="14"/>
                  </a:lnTo>
                  <a:close/>
                </a:path>
              </a:pathLst>
            </a:custGeom>
            <a:solidFill>
              <a:srgbClr val="e2a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1224000" y="2625840"/>
              <a:ext cx="152280" cy="147600"/>
            </a:xfrm>
            <a:custGeom>
              <a:avLst/>
              <a:gdLst/>
              <a:ahLst/>
              <a:rect l="l" t="t" r="r" b="b"/>
              <a:pathLst>
                <a:path w="384" h="373">
                  <a:moveTo>
                    <a:pt x="42" y="303"/>
                  </a:moveTo>
                  <a:lnTo>
                    <a:pt x="54" y="318"/>
                  </a:lnTo>
                  <a:lnTo>
                    <a:pt x="69" y="330"/>
                  </a:lnTo>
                  <a:lnTo>
                    <a:pt x="84" y="341"/>
                  </a:lnTo>
                  <a:lnTo>
                    <a:pt x="100" y="351"/>
                  </a:lnTo>
                  <a:lnTo>
                    <a:pt x="117" y="359"/>
                  </a:lnTo>
                  <a:lnTo>
                    <a:pt x="135" y="365"/>
                  </a:lnTo>
                  <a:lnTo>
                    <a:pt x="152" y="370"/>
                  </a:lnTo>
                  <a:lnTo>
                    <a:pt x="171" y="372"/>
                  </a:lnTo>
                  <a:lnTo>
                    <a:pt x="189" y="373"/>
                  </a:lnTo>
                  <a:lnTo>
                    <a:pt x="208" y="372"/>
                  </a:lnTo>
                  <a:lnTo>
                    <a:pt x="226" y="370"/>
                  </a:lnTo>
                  <a:lnTo>
                    <a:pt x="244" y="366"/>
                  </a:lnTo>
                  <a:lnTo>
                    <a:pt x="262" y="360"/>
                  </a:lnTo>
                  <a:lnTo>
                    <a:pt x="279" y="352"/>
                  </a:lnTo>
                  <a:lnTo>
                    <a:pt x="296" y="344"/>
                  </a:lnTo>
                  <a:lnTo>
                    <a:pt x="312" y="333"/>
                  </a:lnTo>
                  <a:lnTo>
                    <a:pt x="327" y="319"/>
                  </a:lnTo>
                  <a:lnTo>
                    <a:pt x="340" y="305"/>
                  </a:lnTo>
                  <a:lnTo>
                    <a:pt x="351" y="292"/>
                  </a:lnTo>
                  <a:lnTo>
                    <a:pt x="361" y="275"/>
                  </a:lnTo>
                  <a:lnTo>
                    <a:pt x="370" y="259"/>
                  </a:lnTo>
                  <a:lnTo>
                    <a:pt x="376" y="242"/>
                  </a:lnTo>
                  <a:lnTo>
                    <a:pt x="379" y="225"/>
                  </a:lnTo>
                  <a:lnTo>
                    <a:pt x="383" y="207"/>
                  </a:lnTo>
                  <a:lnTo>
                    <a:pt x="384" y="189"/>
                  </a:lnTo>
                  <a:lnTo>
                    <a:pt x="383" y="171"/>
                  </a:lnTo>
                  <a:lnTo>
                    <a:pt x="381" y="154"/>
                  </a:lnTo>
                  <a:lnTo>
                    <a:pt x="377" y="135"/>
                  </a:lnTo>
                  <a:lnTo>
                    <a:pt x="371" y="119"/>
                  </a:lnTo>
                  <a:lnTo>
                    <a:pt x="363" y="102"/>
                  </a:lnTo>
                  <a:lnTo>
                    <a:pt x="353" y="86"/>
                  </a:lnTo>
                  <a:lnTo>
                    <a:pt x="342" y="69"/>
                  </a:lnTo>
                  <a:lnTo>
                    <a:pt x="329" y="56"/>
                  </a:lnTo>
                  <a:lnTo>
                    <a:pt x="315" y="43"/>
                  </a:lnTo>
                  <a:lnTo>
                    <a:pt x="299" y="32"/>
                  </a:lnTo>
                  <a:lnTo>
                    <a:pt x="283" y="22"/>
                  </a:lnTo>
                  <a:lnTo>
                    <a:pt x="266" y="15"/>
                  </a:lnTo>
                  <a:lnTo>
                    <a:pt x="249" y="9"/>
                  </a:lnTo>
                  <a:lnTo>
                    <a:pt x="230" y="4"/>
                  </a:lnTo>
                  <a:lnTo>
                    <a:pt x="213" y="1"/>
                  </a:lnTo>
                  <a:lnTo>
                    <a:pt x="194" y="0"/>
                  </a:lnTo>
                  <a:lnTo>
                    <a:pt x="176" y="0"/>
                  </a:lnTo>
                  <a:lnTo>
                    <a:pt x="157" y="2"/>
                  </a:lnTo>
                  <a:lnTo>
                    <a:pt x="140" y="7"/>
                  </a:lnTo>
                  <a:lnTo>
                    <a:pt x="121" y="12"/>
                  </a:lnTo>
                  <a:lnTo>
                    <a:pt x="104" y="20"/>
                  </a:lnTo>
                  <a:lnTo>
                    <a:pt x="88" y="30"/>
                  </a:lnTo>
                  <a:lnTo>
                    <a:pt x="72" y="41"/>
                  </a:lnTo>
                  <a:lnTo>
                    <a:pt x="57" y="53"/>
                  </a:lnTo>
                  <a:lnTo>
                    <a:pt x="44" y="67"/>
                  </a:lnTo>
                  <a:lnTo>
                    <a:pt x="32" y="82"/>
                  </a:lnTo>
                  <a:lnTo>
                    <a:pt x="23" y="98"/>
                  </a:lnTo>
                  <a:lnTo>
                    <a:pt x="14" y="114"/>
                  </a:lnTo>
                  <a:lnTo>
                    <a:pt x="8" y="132"/>
                  </a:lnTo>
                  <a:lnTo>
                    <a:pt x="3" y="149"/>
                  </a:lnTo>
                  <a:lnTo>
                    <a:pt x="1" y="166"/>
                  </a:lnTo>
                  <a:lnTo>
                    <a:pt x="0" y="184"/>
                  </a:lnTo>
                  <a:lnTo>
                    <a:pt x="0" y="202"/>
                  </a:lnTo>
                  <a:lnTo>
                    <a:pt x="2" y="220"/>
                  </a:lnTo>
                  <a:lnTo>
                    <a:pt x="7" y="237"/>
                  </a:lnTo>
                  <a:lnTo>
                    <a:pt x="13" y="254"/>
                  </a:lnTo>
                  <a:lnTo>
                    <a:pt x="21" y="272"/>
                  </a:lnTo>
                  <a:lnTo>
                    <a:pt x="31" y="288"/>
                  </a:lnTo>
                  <a:lnTo>
                    <a:pt x="42" y="3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1282680" y="2658960"/>
              <a:ext cx="90360" cy="87480"/>
            </a:xfrm>
            <a:custGeom>
              <a:avLst/>
              <a:gdLst/>
              <a:ahLst/>
              <a:rect l="l" t="t" r="r" b="b"/>
              <a:pathLst>
                <a:path w="226" h="219">
                  <a:moveTo>
                    <a:pt x="24" y="179"/>
                  </a:moveTo>
                  <a:lnTo>
                    <a:pt x="32" y="187"/>
                  </a:lnTo>
                  <a:lnTo>
                    <a:pt x="40" y="195"/>
                  </a:lnTo>
                  <a:lnTo>
                    <a:pt x="49" y="201"/>
                  </a:lnTo>
                  <a:lnTo>
                    <a:pt x="59" y="206"/>
                  </a:lnTo>
                  <a:lnTo>
                    <a:pt x="69" y="211"/>
                  </a:lnTo>
                  <a:lnTo>
                    <a:pt x="79" y="214"/>
                  </a:lnTo>
                  <a:lnTo>
                    <a:pt x="89" y="217"/>
                  </a:lnTo>
                  <a:lnTo>
                    <a:pt x="100" y="218"/>
                  </a:lnTo>
                  <a:lnTo>
                    <a:pt x="111" y="219"/>
                  </a:lnTo>
                  <a:lnTo>
                    <a:pt x="121" y="219"/>
                  </a:lnTo>
                  <a:lnTo>
                    <a:pt x="132" y="218"/>
                  </a:lnTo>
                  <a:lnTo>
                    <a:pt x="144" y="216"/>
                  </a:lnTo>
                  <a:lnTo>
                    <a:pt x="153" y="212"/>
                  </a:lnTo>
                  <a:lnTo>
                    <a:pt x="163" y="207"/>
                  </a:lnTo>
                  <a:lnTo>
                    <a:pt x="173" y="202"/>
                  </a:lnTo>
                  <a:lnTo>
                    <a:pt x="183" y="196"/>
                  </a:lnTo>
                  <a:lnTo>
                    <a:pt x="192" y="188"/>
                  </a:lnTo>
                  <a:lnTo>
                    <a:pt x="199" y="180"/>
                  </a:lnTo>
                  <a:lnTo>
                    <a:pt x="206" y="171"/>
                  </a:lnTo>
                  <a:lnTo>
                    <a:pt x="212" y="162"/>
                  </a:lnTo>
                  <a:lnTo>
                    <a:pt x="217" y="152"/>
                  </a:lnTo>
                  <a:lnTo>
                    <a:pt x="221" y="143"/>
                  </a:lnTo>
                  <a:lnTo>
                    <a:pt x="223" y="133"/>
                  </a:lnTo>
                  <a:lnTo>
                    <a:pt x="224" y="121"/>
                  </a:lnTo>
                  <a:lnTo>
                    <a:pt x="226" y="112"/>
                  </a:lnTo>
                  <a:lnTo>
                    <a:pt x="226" y="100"/>
                  </a:lnTo>
                  <a:lnTo>
                    <a:pt x="224" y="90"/>
                  </a:lnTo>
                  <a:lnTo>
                    <a:pt x="222" y="79"/>
                  </a:lnTo>
                  <a:lnTo>
                    <a:pt x="218" y="69"/>
                  </a:lnTo>
                  <a:lnTo>
                    <a:pt x="213" y="59"/>
                  </a:lnTo>
                  <a:lnTo>
                    <a:pt x="208" y="51"/>
                  </a:lnTo>
                  <a:lnTo>
                    <a:pt x="201" y="41"/>
                  </a:lnTo>
                  <a:lnTo>
                    <a:pt x="193" y="32"/>
                  </a:lnTo>
                  <a:lnTo>
                    <a:pt x="185" y="25"/>
                  </a:lnTo>
                  <a:lnTo>
                    <a:pt x="176" y="18"/>
                  </a:lnTo>
                  <a:lnTo>
                    <a:pt x="166" y="13"/>
                  </a:lnTo>
                  <a:lnTo>
                    <a:pt x="156" y="9"/>
                  </a:lnTo>
                  <a:lnTo>
                    <a:pt x="146" y="5"/>
                  </a:lnTo>
                  <a:lnTo>
                    <a:pt x="136" y="2"/>
                  </a:lnTo>
                  <a:lnTo>
                    <a:pt x="125" y="1"/>
                  </a:lnTo>
                  <a:lnTo>
                    <a:pt x="114" y="0"/>
                  </a:lnTo>
                  <a:lnTo>
                    <a:pt x="103" y="0"/>
                  </a:lnTo>
                  <a:lnTo>
                    <a:pt x="93" y="1"/>
                  </a:lnTo>
                  <a:lnTo>
                    <a:pt x="81" y="4"/>
                  </a:lnTo>
                  <a:lnTo>
                    <a:pt x="72" y="7"/>
                  </a:lnTo>
                  <a:lnTo>
                    <a:pt x="60" y="12"/>
                  </a:lnTo>
                  <a:lnTo>
                    <a:pt x="50" y="17"/>
                  </a:lnTo>
                  <a:lnTo>
                    <a:pt x="42" y="23"/>
                  </a:lnTo>
                  <a:lnTo>
                    <a:pt x="33" y="32"/>
                  </a:lnTo>
                  <a:lnTo>
                    <a:pt x="26" y="40"/>
                  </a:lnTo>
                  <a:lnTo>
                    <a:pt x="18" y="48"/>
                  </a:lnTo>
                  <a:lnTo>
                    <a:pt x="13" y="57"/>
                  </a:lnTo>
                  <a:lnTo>
                    <a:pt x="8" y="67"/>
                  </a:lnTo>
                  <a:lnTo>
                    <a:pt x="4" y="77"/>
                  </a:lnTo>
                  <a:lnTo>
                    <a:pt x="2" y="87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1" y="129"/>
                  </a:lnTo>
                  <a:lnTo>
                    <a:pt x="3" y="140"/>
                  </a:lnTo>
                  <a:lnTo>
                    <a:pt x="7" y="150"/>
                  </a:lnTo>
                  <a:lnTo>
                    <a:pt x="12" y="160"/>
                  </a:lnTo>
                  <a:lnTo>
                    <a:pt x="17" y="169"/>
                  </a:lnTo>
                  <a:lnTo>
                    <a:pt x="24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1338120" y="2690640"/>
              <a:ext cx="28800" cy="2700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7" y="56"/>
                  </a:moveTo>
                  <a:lnTo>
                    <a:pt x="12" y="61"/>
                  </a:lnTo>
                  <a:lnTo>
                    <a:pt x="18" y="65"/>
                  </a:lnTo>
                  <a:lnTo>
                    <a:pt x="25" y="67"/>
                  </a:lnTo>
                  <a:lnTo>
                    <a:pt x="32" y="68"/>
                  </a:lnTo>
                  <a:lnTo>
                    <a:pt x="38" y="69"/>
                  </a:lnTo>
                  <a:lnTo>
                    <a:pt x="46" y="68"/>
                  </a:lnTo>
                  <a:lnTo>
                    <a:pt x="52" y="66"/>
                  </a:lnTo>
                  <a:lnTo>
                    <a:pt x="58" y="61"/>
                  </a:lnTo>
                  <a:lnTo>
                    <a:pt x="63" y="57"/>
                  </a:lnTo>
                  <a:lnTo>
                    <a:pt x="67" y="51"/>
                  </a:lnTo>
                  <a:lnTo>
                    <a:pt x="69" y="45"/>
                  </a:lnTo>
                  <a:lnTo>
                    <a:pt x="71" y="38"/>
                  </a:lnTo>
                  <a:lnTo>
                    <a:pt x="71" y="31"/>
                  </a:lnTo>
                  <a:lnTo>
                    <a:pt x="71" y="25"/>
                  </a:lnTo>
                  <a:lnTo>
                    <a:pt x="67" y="19"/>
                  </a:lnTo>
                  <a:lnTo>
                    <a:pt x="63" y="12"/>
                  </a:lnTo>
                  <a:lnTo>
                    <a:pt x="58" y="7"/>
                  </a:lnTo>
                  <a:lnTo>
                    <a:pt x="53" y="4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0" y="4"/>
                  </a:lnTo>
                  <a:lnTo>
                    <a:pt x="13" y="7"/>
                  </a:lnTo>
                  <a:lnTo>
                    <a:pt x="9" y="12"/>
                  </a:lnTo>
                  <a:lnTo>
                    <a:pt x="4" y="17"/>
                  </a:lnTo>
                  <a:lnTo>
                    <a:pt x="1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4" y="50"/>
                  </a:lnTo>
                  <a:lnTo>
                    <a:pt x="7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1219320" y="2612880"/>
              <a:ext cx="149040" cy="96840"/>
            </a:xfrm>
            <a:custGeom>
              <a:avLst/>
              <a:gdLst/>
              <a:ahLst/>
              <a:rect l="l" t="t" r="r" b="b"/>
              <a:pathLst>
                <a:path w="376" h="243">
                  <a:moveTo>
                    <a:pt x="376" y="86"/>
                  </a:moveTo>
                  <a:lnTo>
                    <a:pt x="371" y="79"/>
                  </a:lnTo>
                  <a:lnTo>
                    <a:pt x="357" y="62"/>
                  </a:lnTo>
                  <a:lnTo>
                    <a:pt x="346" y="52"/>
                  </a:lnTo>
                  <a:lnTo>
                    <a:pt x="334" y="41"/>
                  </a:lnTo>
                  <a:lnTo>
                    <a:pt x="318" y="30"/>
                  </a:lnTo>
                  <a:lnTo>
                    <a:pt x="300" y="20"/>
                  </a:lnTo>
                  <a:lnTo>
                    <a:pt x="292" y="15"/>
                  </a:lnTo>
                  <a:lnTo>
                    <a:pt x="280" y="11"/>
                  </a:lnTo>
                  <a:lnTo>
                    <a:pt x="271" y="7"/>
                  </a:lnTo>
                  <a:lnTo>
                    <a:pt x="259" y="5"/>
                  </a:lnTo>
                  <a:lnTo>
                    <a:pt x="247" y="2"/>
                  </a:lnTo>
                  <a:lnTo>
                    <a:pt x="235" y="0"/>
                  </a:lnTo>
                  <a:lnTo>
                    <a:pt x="221" y="0"/>
                  </a:lnTo>
                  <a:lnTo>
                    <a:pt x="208" y="0"/>
                  </a:lnTo>
                  <a:lnTo>
                    <a:pt x="194" y="1"/>
                  </a:lnTo>
                  <a:lnTo>
                    <a:pt x="179" y="2"/>
                  </a:lnTo>
                  <a:lnTo>
                    <a:pt x="164" y="6"/>
                  </a:lnTo>
                  <a:lnTo>
                    <a:pt x="148" y="11"/>
                  </a:lnTo>
                  <a:lnTo>
                    <a:pt x="131" y="16"/>
                  </a:lnTo>
                  <a:lnTo>
                    <a:pt x="115" y="24"/>
                  </a:lnTo>
                  <a:lnTo>
                    <a:pt x="98" y="32"/>
                  </a:lnTo>
                  <a:lnTo>
                    <a:pt x="79" y="42"/>
                  </a:lnTo>
                  <a:lnTo>
                    <a:pt x="74" y="46"/>
                  </a:lnTo>
                  <a:lnTo>
                    <a:pt x="62" y="55"/>
                  </a:lnTo>
                  <a:lnTo>
                    <a:pt x="53" y="62"/>
                  </a:lnTo>
                  <a:lnTo>
                    <a:pt x="45" y="69"/>
                  </a:lnTo>
                  <a:lnTo>
                    <a:pt x="36" y="79"/>
                  </a:lnTo>
                  <a:lnTo>
                    <a:pt x="27" y="92"/>
                  </a:lnTo>
                  <a:lnTo>
                    <a:pt x="18" y="104"/>
                  </a:lnTo>
                  <a:lnTo>
                    <a:pt x="11" y="119"/>
                  </a:lnTo>
                  <a:lnTo>
                    <a:pt x="5" y="135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0" y="174"/>
                  </a:lnTo>
                  <a:lnTo>
                    <a:pt x="0" y="184"/>
                  </a:lnTo>
                  <a:lnTo>
                    <a:pt x="0" y="195"/>
                  </a:lnTo>
                  <a:lnTo>
                    <a:pt x="2" y="206"/>
                  </a:lnTo>
                  <a:lnTo>
                    <a:pt x="5" y="218"/>
                  </a:lnTo>
                  <a:lnTo>
                    <a:pt x="7" y="231"/>
                  </a:lnTo>
                  <a:lnTo>
                    <a:pt x="12" y="243"/>
                  </a:lnTo>
                  <a:lnTo>
                    <a:pt x="11" y="237"/>
                  </a:lnTo>
                  <a:lnTo>
                    <a:pt x="11" y="221"/>
                  </a:lnTo>
                  <a:lnTo>
                    <a:pt x="12" y="210"/>
                  </a:lnTo>
                  <a:lnTo>
                    <a:pt x="15" y="197"/>
                  </a:lnTo>
                  <a:lnTo>
                    <a:pt x="18" y="182"/>
                  </a:lnTo>
                  <a:lnTo>
                    <a:pt x="23" y="167"/>
                  </a:lnTo>
                  <a:lnTo>
                    <a:pt x="31" y="151"/>
                  </a:lnTo>
                  <a:lnTo>
                    <a:pt x="40" y="134"/>
                  </a:lnTo>
                  <a:lnTo>
                    <a:pt x="52" y="117"/>
                  </a:lnTo>
                  <a:lnTo>
                    <a:pt x="67" y="100"/>
                  </a:lnTo>
                  <a:lnTo>
                    <a:pt x="76" y="92"/>
                  </a:lnTo>
                  <a:lnTo>
                    <a:pt x="86" y="83"/>
                  </a:lnTo>
                  <a:lnTo>
                    <a:pt x="95" y="76"/>
                  </a:lnTo>
                  <a:lnTo>
                    <a:pt x="108" y="67"/>
                  </a:lnTo>
                  <a:lnTo>
                    <a:pt x="120" y="60"/>
                  </a:lnTo>
                  <a:lnTo>
                    <a:pt x="133" y="52"/>
                  </a:lnTo>
                  <a:lnTo>
                    <a:pt x="148" y="45"/>
                  </a:lnTo>
                  <a:lnTo>
                    <a:pt x="164" y="38"/>
                  </a:lnTo>
                  <a:lnTo>
                    <a:pt x="167" y="36"/>
                  </a:lnTo>
                  <a:lnTo>
                    <a:pt x="179" y="32"/>
                  </a:lnTo>
                  <a:lnTo>
                    <a:pt x="186" y="31"/>
                  </a:lnTo>
                  <a:lnTo>
                    <a:pt x="196" y="29"/>
                  </a:lnTo>
                  <a:lnTo>
                    <a:pt x="207" y="27"/>
                  </a:lnTo>
                  <a:lnTo>
                    <a:pt x="221" y="27"/>
                  </a:lnTo>
                  <a:lnTo>
                    <a:pt x="235" y="29"/>
                  </a:lnTo>
                  <a:lnTo>
                    <a:pt x="251" y="30"/>
                  </a:lnTo>
                  <a:lnTo>
                    <a:pt x="268" y="33"/>
                  </a:lnTo>
                  <a:lnTo>
                    <a:pt x="288" y="40"/>
                  </a:lnTo>
                  <a:lnTo>
                    <a:pt x="308" y="47"/>
                  </a:lnTo>
                  <a:lnTo>
                    <a:pt x="329" y="57"/>
                  </a:lnTo>
                  <a:lnTo>
                    <a:pt x="353" y="69"/>
                  </a:lnTo>
                  <a:lnTo>
                    <a:pt x="376" y="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1231920" y="2509920"/>
              <a:ext cx="104760" cy="71280"/>
            </a:xfrm>
            <a:custGeom>
              <a:avLst/>
              <a:gdLst/>
              <a:ahLst/>
              <a:rect l="l" t="t" r="r" b="b"/>
              <a:pathLst>
                <a:path w="265" h="180">
                  <a:moveTo>
                    <a:pt x="4" y="132"/>
                  </a:moveTo>
                  <a:lnTo>
                    <a:pt x="2" y="139"/>
                  </a:lnTo>
                  <a:lnTo>
                    <a:pt x="0" y="146"/>
                  </a:lnTo>
                  <a:lnTo>
                    <a:pt x="2" y="152"/>
                  </a:lnTo>
                  <a:lnTo>
                    <a:pt x="3" y="159"/>
                  </a:lnTo>
                  <a:lnTo>
                    <a:pt x="7" y="164"/>
                  </a:lnTo>
                  <a:lnTo>
                    <a:pt x="10" y="170"/>
                  </a:lnTo>
                  <a:lnTo>
                    <a:pt x="15" y="174"/>
                  </a:lnTo>
                  <a:lnTo>
                    <a:pt x="21" y="178"/>
                  </a:lnTo>
                  <a:lnTo>
                    <a:pt x="28" y="180"/>
                  </a:lnTo>
                  <a:lnTo>
                    <a:pt x="35" y="180"/>
                  </a:lnTo>
                  <a:lnTo>
                    <a:pt x="41" y="180"/>
                  </a:lnTo>
                  <a:lnTo>
                    <a:pt x="48" y="178"/>
                  </a:lnTo>
                  <a:lnTo>
                    <a:pt x="54" y="175"/>
                  </a:lnTo>
                  <a:lnTo>
                    <a:pt x="59" y="172"/>
                  </a:lnTo>
                  <a:lnTo>
                    <a:pt x="64" y="167"/>
                  </a:lnTo>
                  <a:lnTo>
                    <a:pt x="67" y="160"/>
                  </a:lnTo>
                  <a:lnTo>
                    <a:pt x="76" y="143"/>
                  </a:lnTo>
                  <a:lnTo>
                    <a:pt x="86" y="127"/>
                  </a:lnTo>
                  <a:lnTo>
                    <a:pt x="97" y="115"/>
                  </a:lnTo>
                  <a:lnTo>
                    <a:pt x="110" y="103"/>
                  </a:lnTo>
                  <a:lnTo>
                    <a:pt x="123" y="95"/>
                  </a:lnTo>
                  <a:lnTo>
                    <a:pt x="136" y="87"/>
                  </a:lnTo>
                  <a:lnTo>
                    <a:pt x="149" y="82"/>
                  </a:lnTo>
                  <a:lnTo>
                    <a:pt x="162" y="77"/>
                  </a:lnTo>
                  <a:lnTo>
                    <a:pt x="174" y="74"/>
                  </a:lnTo>
                  <a:lnTo>
                    <a:pt x="187" y="72"/>
                  </a:lnTo>
                  <a:lnTo>
                    <a:pt x="197" y="71"/>
                  </a:lnTo>
                  <a:lnTo>
                    <a:pt x="207" y="70"/>
                  </a:lnTo>
                  <a:lnTo>
                    <a:pt x="221" y="70"/>
                  </a:lnTo>
                  <a:lnTo>
                    <a:pt x="228" y="70"/>
                  </a:lnTo>
                  <a:lnTo>
                    <a:pt x="234" y="70"/>
                  </a:lnTo>
                  <a:lnTo>
                    <a:pt x="241" y="69"/>
                  </a:lnTo>
                  <a:lnTo>
                    <a:pt x="247" y="66"/>
                  </a:lnTo>
                  <a:lnTo>
                    <a:pt x="252" y="62"/>
                  </a:lnTo>
                  <a:lnTo>
                    <a:pt x="257" y="58"/>
                  </a:lnTo>
                  <a:lnTo>
                    <a:pt x="261" y="53"/>
                  </a:lnTo>
                  <a:lnTo>
                    <a:pt x="264" y="46"/>
                  </a:lnTo>
                  <a:lnTo>
                    <a:pt x="265" y="39"/>
                  </a:lnTo>
                  <a:lnTo>
                    <a:pt x="265" y="33"/>
                  </a:lnTo>
                  <a:lnTo>
                    <a:pt x="264" y="25"/>
                  </a:lnTo>
                  <a:lnTo>
                    <a:pt x="261" y="19"/>
                  </a:lnTo>
                  <a:lnTo>
                    <a:pt x="257" y="14"/>
                  </a:lnTo>
                  <a:lnTo>
                    <a:pt x="252" y="9"/>
                  </a:lnTo>
                  <a:lnTo>
                    <a:pt x="247" y="5"/>
                  </a:lnTo>
                  <a:lnTo>
                    <a:pt x="241" y="3"/>
                  </a:lnTo>
                  <a:lnTo>
                    <a:pt x="234" y="2"/>
                  </a:lnTo>
                  <a:lnTo>
                    <a:pt x="223" y="0"/>
                  </a:lnTo>
                  <a:lnTo>
                    <a:pt x="210" y="0"/>
                  </a:lnTo>
                  <a:lnTo>
                    <a:pt x="197" y="2"/>
                  </a:lnTo>
                  <a:lnTo>
                    <a:pt x="182" y="3"/>
                  </a:lnTo>
                  <a:lnTo>
                    <a:pt x="166" y="5"/>
                  </a:lnTo>
                  <a:lnTo>
                    <a:pt x="151" y="9"/>
                  </a:lnTo>
                  <a:lnTo>
                    <a:pt x="133" y="14"/>
                  </a:lnTo>
                  <a:lnTo>
                    <a:pt x="117" y="20"/>
                  </a:lnTo>
                  <a:lnTo>
                    <a:pt x="101" y="29"/>
                  </a:lnTo>
                  <a:lnTo>
                    <a:pt x="85" y="38"/>
                  </a:lnTo>
                  <a:lnTo>
                    <a:pt x="69" y="49"/>
                  </a:lnTo>
                  <a:lnTo>
                    <a:pt x="54" y="61"/>
                  </a:lnTo>
                  <a:lnTo>
                    <a:pt x="40" y="76"/>
                  </a:lnTo>
                  <a:lnTo>
                    <a:pt x="26" y="92"/>
                  </a:lnTo>
                  <a:lnTo>
                    <a:pt x="14" y="112"/>
                  </a:lnTo>
                  <a:lnTo>
                    <a:pt x="4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1639800" y="2695680"/>
              <a:ext cx="87480" cy="47520"/>
            </a:xfrm>
            <a:custGeom>
              <a:avLst/>
              <a:gdLst/>
              <a:ahLst/>
              <a:rect l="l" t="t" r="r" b="b"/>
              <a:pathLst>
                <a:path w="224" h="120">
                  <a:moveTo>
                    <a:pt x="0" y="14"/>
                  </a:moveTo>
                  <a:lnTo>
                    <a:pt x="1" y="17"/>
                  </a:lnTo>
                  <a:lnTo>
                    <a:pt x="4" y="24"/>
                  </a:lnTo>
                  <a:lnTo>
                    <a:pt x="11" y="36"/>
                  </a:lnTo>
                  <a:lnTo>
                    <a:pt x="21" y="50"/>
                  </a:lnTo>
                  <a:lnTo>
                    <a:pt x="27" y="57"/>
                  </a:lnTo>
                  <a:lnTo>
                    <a:pt x="36" y="66"/>
                  </a:lnTo>
                  <a:lnTo>
                    <a:pt x="45" y="74"/>
                  </a:lnTo>
                  <a:lnTo>
                    <a:pt x="56" y="82"/>
                  </a:lnTo>
                  <a:lnTo>
                    <a:pt x="68" y="90"/>
                  </a:lnTo>
                  <a:lnTo>
                    <a:pt x="82" y="97"/>
                  </a:lnTo>
                  <a:lnTo>
                    <a:pt x="97" y="105"/>
                  </a:lnTo>
                  <a:lnTo>
                    <a:pt x="114" y="111"/>
                  </a:lnTo>
                  <a:lnTo>
                    <a:pt x="123" y="113"/>
                  </a:lnTo>
                  <a:lnTo>
                    <a:pt x="149" y="118"/>
                  </a:lnTo>
                  <a:lnTo>
                    <a:pt x="165" y="120"/>
                  </a:lnTo>
                  <a:lnTo>
                    <a:pt x="184" y="120"/>
                  </a:lnTo>
                  <a:lnTo>
                    <a:pt x="194" y="118"/>
                  </a:lnTo>
                  <a:lnTo>
                    <a:pt x="204" y="116"/>
                  </a:lnTo>
                  <a:lnTo>
                    <a:pt x="214" y="113"/>
                  </a:lnTo>
                  <a:lnTo>
                    <a:pt x="224" y="110"/>
                  </a:lnTo>
                  <a:lnTo>
                    <a:pt x="217" y="103"/>
                  </a:lnTo>
                  <a:lnTo>
                    <a:pt x="201" y="86"/>
                  </a:lnTo>
                  <a:lnTo>
                    <a:pt x="189" y="76"/>
                  </a:lnTo>
                  <a:lnTo>
                    <a:pt x="175" y="64"/>
                  </a:lnTo>
                  <a:lnTo>
                    <a:pt x="160" y="51"/>
                  </a:lnTo>
                  <a:lnTo>
                    <a:pt x="143" y="39"/>
                  </a:lnTo>
                  <a:lnTo>
                    <a:pt x="125" y="28"/>
                  </a:lnTo>
                  <a:lnTo>
                    <a:pt x="107" y="18"/>
                  </a:lnTo>
                  <a:lnTo>
                    <a:pt x="88" y="9"/>
                  </a:lnTo>
                  <a:lnTo>
                    <a:pt x="70" y="3"/>
                  </a:lnTo>
                  <a:lnTo>
                    <a:pt x="61" y="2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6" y="5"/>
                  </a:lnTo>
                  <a:lnTo>
                    <a:pt x="8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e2a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1636560" y="2584440"/>
              <a:ext cx="152640" cy="147600"/>
            </a:xfrm>
            <a:custGeom>
              <a:avLst/>
              <a:gdLst/>
              <a:ahLst/>
              <a:rect l="l" t="t" r="r" b="b"/>
              <a:pathLst>
                <a:path w="385" h="373">
                  <a:moveTo>
                    <a:pt x="342" y="304"/>
                  </a:moveTo>
                  <a:lnTo>
                    <a:pt x="329" y="318"/>
                  </a:lnTo>
                  <a:lnTo>
                    <a:pt x="315" y="330"/>
                  </a:lnTo>
                  <a:lnTo>
                    <a:pt x="300" y="341"/>
                  </a:lnTo>
                  <a:lnTo>
                    <a:pt x="284" y="351"/>
                  </a:lnTo>
                  <a:lnTo>
                    <a:pt x="267" y="359"/>
                  </a:lnTo>
                  <a:lnTo>
                    <a:pt x="249" y="365"/>
                  </a:lnTo>
                  <a:lnTo>
                    <a:pt x="232" y="370"/>
                  </a:lnTo>
                  <a:lnTo>
                    <a:pt x="213" y="372"/>
                  </a:lnTo>
                  <a:lnTo>
                    <a:pt x="195" y="373"/>
                  </a:lnTo>
                  <a:lnTo>
                    <a:pt x="176" y="373"/>
                  </a:lnTo>
                  <a:lnTo>
                    <a:pt x="159" y="371"/>
                  </a:lnTo>
                  <a:lnTo>
                    <a:pt x="140" y="366"/>
                  </a:lnTo>
                  <a:lnTo>
                    <a:pt x="123" y="361"/>
                  </a:lnTo>
                  <a:lnTo>
                    <a:pt x="105" y="354"/>
                  </a:lnTo>
                  <a:lnTo>
                    <a:pt x="88" y="344"/>
                  </a:lnTo>
                  <a:lnTo>
                    <a:pt x="72" y="333"/>
                  </a:lnTo>
                  <a:lnTo>
                    <a:pt x="57" y="320"/>
                  </a:lnTo>
                  <a:lnTo>
                    <a:pt x="44" y="306"/>
                  </a:lnTo>
                  <a:lnTo>
                    <a:pt x="33" y="292"/>
                  </a:lnTo>
                  <a:lnTo>
                    <a:pt x="23" y="275"/>
                  </a:lnTo>
                  <a:lnTo>
                    <a:pt x="15" y="259"/>
                  </a:lnTo>
                  <a:lnTo>
                    <a:pt x="8" y="242"/>
                  </a:lnTo>
                  <a:lnTo>
                    <a:pt x="3" y="225"/>
                  </a:lnTo>
                  <a:lnTo>
                    <a:pt x="1" y="207"/>
                  </a:lnTo>
                  <a:lnTo>
                    <a:pt x="0" y="190"/>
                  </a:lnTo>
                  <a:lnTo>
                    <a:pt x="1" y="171"/>
                  </a:lnTo>
                  <a:lnTo>
                    <a:pt x="3" y="154"/>
                  </a:lnTo>
                  <a:lnTo>
                    <a:pt x="7" y="137"/>
                  </a:lnTo>
                  <a:lnTo>
                    <a:pt x="13" y="119"/>
                  </a:lnTo>
                  <a:lnTo>
                    <a:pt x="21" y="102"/>
                  </a:lnTo>
                  <a:lnTo>
                    <a:pt x="31" y="86"/>
                  </a:lnTo>
                  <a:lnTo>
                    <a:pt x="42" y="71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4" y="32"/>
                  </a:lnTo>
                  <a:lnTo>
                    <a:pt x="100" y="22"/>
                  </a:lnTo>
                  <a:lnTo>
                    <a:pt x="118" y="15"/>
                  </a:lnTo>
                  <a:lnTo>
                    <a:pt x="135" y="9"/>
                  </a:lnTo>
                  <a:lnTo>
                    <a:pt x="152" y="5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08" y="1"/>
                  </a:lnTo>
                  <a:lnTo>
                    <a:pt x="227" y="4"/>
                  </a:lnTo>
                  <a:lnTo>
                    <a:pt x="244" y="7"/>
                  </a:lnTo>
                  <a:lnTo>
                    <a:pt x="263" y="14"/>
                  </a:lnTo>
                  <a:lnTo>
                    <a:pt x="280" y="21"/>
                  </a:lnTo>
                  <a:lnTo>
                    <a:pt x="296" y="30"/>
                  </a:lnTo>
                  <a:lnTo>
                    <a:pt x="313" y="41"/>
                  </a:lnTo>
                  <a:lnTo>
                    <a:pt x="327" y="53"/>
                  </a:lnTo>
                  <a:lnTo>
                    <a:pt x="340" y="68"/>
                  </a:lnTo>
                  <a:lnTo>
                    <a:pt x="352" y="83"/>
                  </a:lnTo>
                  <a:lnTo>
                    <a:pt x="361" y="98"/>
                  </a:lnTo>
                  <a:lnTo>
                    <a:pt x="370" y="114"/>
                  </a:lnTo>
                  <a:lnTo>
                    <a:pt x="376" y="132"/>
                  </a:lnTo>
                  <a:lnTo>
                    <a:pt x="381" y="149"/>
                  </a:lnTo>
                  <a:lnTo>
                    <a:pt x="383" y="166"/>
                  </a:lnTo>
                  <a:lnTo>
                    <a:pt x="385" y="185"/>
                  </a:lnTo>
                  <a:lnTo>
                    <a:pt x="385" y="202"/>
                  </a:lnTo>
                  <a:lnTo>
                    <a:pt x="382" y="220"/>
                  </a:lnTo>
                  <a:lnTo>
                    <a:pt x="377" y="238"/>
                  </a:lnTo>
                  <a:lnTo>
                    <a:pt x="371" y="256"/>
                  </a:lnTo>
                  <a:lnTo>
                    <a:pt x="363" y="272"/>
                  </a:lnTo>
                  <a:lnTo>
                    <a:pt x="354" y="288"/>
                  </a:lnTo>
                  <a:lnTo>
                    <a:pt x="342" y="3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1639800" y="2619360"/>
              <a:ext cx="90720" cy="87480"/>
            </a:xfrm>
            <a:custGeom>
              <a:avLst/>
              <a:gdLst/>
              <a:ahLst/>
              <a:rect l="l" t="t" r="r" b="b"/>
              <a:pathLst>
                <a:path w="226" h="219">
                  <a:moveTo>
                    <a:pt x="201" y="179"/>
                  </a:moveTo>
                  <a:lnTo>
                    <a:pt x="193" y="187"/>
                  </a:lnTo>
                  <a:lnTo>
                    <a:pt x="185" y="195"/>
                  </a:lnTo>
                  <a:lnTo>
                    <a:pt x="176" y="201"/>
                  </a:lnTo>
                  <a:lnTo>
                    <a:pt x="166" y="207"/>
                  </a:lnTo>
                  <a:lnTo>
                    <a:pt x="156" y="211"/>
                  </a:lnTo>
                  <a:lnTo>
                    <a:pt x="146" y="215"/>
                  </a:lnTo>
                  <a:lnTo>
                    <a:pt x="136" y="217"/>
                  </a:lnTo>
                  <a:lnTo>
                    <a:pt x="125" y="219"/>
                  </a:lnTo>
                  <a:lnTo>
                    <a:pt x="114" y="219"/>
                  </a:lnTo>
                  <a:lnTo>
                    <a:pt x="104" y="219"/>
                  </a:lnTo>
                  <a:lnTo>
                    <a:pt x="93" y="218"/>
                  </a:lnTo>
                  <a:lnTo>
                    <a:pt x="81" y="216"/>
                  </a:lnTo>
                  <a:lnTo>
                    <a:pt x="72" y="212"/>
                  </a:lnTo>
                  <a:lnTo>
                    <a:pt x="62" y="208"/>
                  </a:lnTo>
                  <a:lnTo>
                    <a:pt x="52" y="202"/>
                  </a:lnTo>
                  <a:lnTo>
                    <a:pt x="42" y="196"/>
                  </a:lnTo>
                  <a:lnTo>
                    <a:pt x="33" y="188"/>
                  </a:lnTo>
                  <a:lnTo>
                    <a:pt x="26" y="180"/>
                  </a:lnTo>
                  <a:lnTo>
                    <a:pt x="18" y="171"/>
                  </a:lnTo>
                  <a:lnTo>
                    <a:pt x="13" y="162"/>
                  </a:lnTo>
                  <a:lnTo>
                    <a:pt x="8" y="152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3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0"/>
                  </a:lnTo>
                  <a:lnTo>
                    <a:pt x="3" y="81"/>
                  </a:lnTo>
                  <a:lnTo>
                    <a:pt x="7" y="71"/>
                  </a:lnTo>
                  <a:lnTo>
                    <a:pt x="12" y="61"/>
                  </a:lnTo>
                  <a:lnTo>
                    <a:pt x="18" y="51"/>
                  </a:lnTo>
                  <a:lnTo>
                    <a:pt x="24" y="42"/>
                  </a:lnTo>
                  <a:lnTo>
                    <a:pt x="32" y="33"/>
                  </a:lnTo>
                  <a:lnTo>
                    <a:pt x="41" y="26"/>
                  </a:lnTo>
                  <a:lnTo>
                    <a:pt x="49" y="20"/>
                  </a:lnTo>
                  <a:lnTo>
                    <a:pt x="59" y="14"/>
                  </a:lnTo>
                  <a:lnTo>
                    <a:pt x="69" y="9"/>
                  </a:lnTo>
                  <a:lnTo>
                    <a:pt x="79" y="5"/>
                  </a:lnTo>
                  <a:lnTo>
                    <a:pt x="89" y="2"/>
                  </a:lnTo>
                  <a:lnTo>
                    <a:pt x="100" y="1"/>
                  </a:lnTo>
                  <a:lnTo>
                    <a:pt x="111" y="0"/>
                  </a:lnTo>
                  <a:lnTo>
                    <a:pt x="122" y="1"/>
                  </a:lnTo>
                  <a:lnTo>
                    <a:pt x="132" y="2"/>
                  </a:lnTo>
                  <a:lnTo>
                    <a:pt x="144" y="5"/>
                  </a:lnTo>
                  <a:lnTo>
                    <a:pt x="154" y="9"/>
                  </a:lnTo>
                  <a:lnTo>
                    <a:pt x="163" y="12"/>
                  </a:lnTo>
                  <a:lnTo>
                    <a:pt x="173" y="18"/>
                  </a:lnTo>
                  <a:lnTo>
                    <a:pt x="183" y="25"/>
                  </a:lnTo>
                  <a:lnTo>
                    <a:pt x="192" y="32"/>
                  </a:lnTo>
                  <a:lnTo>
                    <a:pt x="199" y="40"/>
                  </a:lnTo>
                  <a:lnTo>
                    <a:pt x="207" y="48"/>
                  </a:lnTo>
                  <a:lnTo>
                    <a:pt x="212" y="58"/>
                  </a:lnTo>
                  <a:lnTo>
                    <a:pt x="217" y="68"/>
                  </a:lnTo>
                  <a:lnTo>
                    <a:pt x="221" y="78"/>
                  </a:lnTo>
                  <a:lnTo>
                    <a:pt x="223" y="88"/>
                  </a:lnTo>
                  <a:lnTo>
                    <a:pt x="226" y="98"/>
                  </a:lnTo>
                  <a:lnTo>
                    <a:pt x="226" y="109"/>
                  </a:lnTo>
                  <a:lnTo>
                    <a:pt x="226" y="119"/>
                  </a:lnTo>
                  <a:lnTo>
                    <a:pt x="224" y="130"/>
                  </a:lnTo>
                  <a:lnTo>
                    <a:pt x="222" y="140"/>
                  </a:lnTo>
                  <a:lnTo>
                    <a:pt x="218" y="150"/>
                  </a:lnTo>
                  <a:lnTo>
                    <a:pt x="213" y="160"/>
                  </a:lnTo>
                  <a:lnTo>
                    <a:pt x="208" y="170"/>
                  </a:lnTo>
                  <a:lnTo>
                    <a:pt x="201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1646280" y="2649600"/>
              <a:ext cx="28440" cy="28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64" y="57"/>
                  </a:moveTo>
                  <a:lnTo>
                    <a:pt x="59" y="62"/>
                  </a:lnTo>
                  <a:lnTo>
                    <a:pt x="53" y="66"/>
                  </a:lnTo>
                  <a:lnTo>
                    <a:pt x="46" y="68"/>
                  </a:lnTo>
                  <a:lnTo>
                    <a:pt x="39" y="70"/>
                  </a:lnTo>
                  <a:lnTo>
                    <a:pt x="33" y="70"/>
                  </a:lnTo>
                  <a:lnTo>
                    <a:pt x="25" y="68"/>
                  </a:lnTo>
                  <a:lnTo>
                    <a:pt x="19" y="66"/>
                  </a:lnTo>
                  <a:lnTo>
                    <a:pt x="13" y="62"/>
                  </a:lnTo>
                  <a:lnTo>
                    <a:pt x="8" y="57"/>
                  </a:lnTo>
                  <a:lnTo>
                    <a:pt x="4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9"/>
                  </a:lnTo>
                  <a:lnTo>
                    <a:pt x="8" y="12"/>
                  </a:lnTo>
                  <a:lnTo>
                    <a:pt x="13" y="7"/>
                  </a:lnTo>
                  <a:lnTo>
                    <a:pt x="18" y="4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1" y="4"/>
                  </a:lnTo>
                  <a:lnTo>
                    <a:pt x="58" y="7"/>
                  </a:lnTo>
                  <a:lnTo>
                    <a:pt x="63" y="12"/>
                  </a:lnTo>
                  <a:lnTo>
                    <a:pt x="66" y="19"/>
                  </a:lnTo>
                  <a:lnTo>
                    <a:pt x="70" y="25"/>
                  </a:lnTo>
                  <a:lnTo>
                    <a:pt x="71" y="31"/>
                  </a:lnTo>
                  <a:lnTo>
                    <a:pt x="71" y="37"/>
                  </a:lnTo>
                  <a:lnTo>
                    <a:pt x="70" y="45"/>
                  </a:lnTo>
                  <a:lnTo>
                    <a:pt x="67" y="51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1644480" y="2571840"/>
              <a:ext cx="149400" cy="96840"/>
            </a:xfrm>
            <a:custGeom>
              <a:avLst/>
              <a:gdLst/>
              <a:ahLst/>
              <a:rect l="l" t="t" r="r" b="b"/>
              <a:pathLst>
                <a:path w="376" h="243">
                  <a:moveTo>
                    <a:pt x="0" y="86"/>
                  </a:moveTo>
                  <a:lnTo>
                    <a:pt x="5" y="79"/>
                  </a:lnTo>
                  <a:lnTo>
                    <a:pt x="19" y="63"/>
                  </a:lnTo>
                  <a:lnTo>
                    <a:pt x="30" y="52"/>
                  </a:lnTo>
                  <a:lnTo>
                    <a:pt x="42" y="41"/>
                  </a:lnTo>
                  <a:lnTo>
                    <a:pt x="58" y="31"/>
                  </a:lnTo>
                  <a:lnTo>
                    <a:pt x="76" y="20"/>
                  </a:lnTo>
                  <a:lnTo>
                    <a:pt x="84" y="16"/>
                  </a:lnTo>
                  <a:lnTo>
                    <a:pt x="96" y="11"/>
                  </a:lnTo>
                  <a:lnTo>
                    <a:pt x="106" y="9"/>
                  </a:lnTo>
                  <a:lnTo>
                    <a:pt x="117" y="5"/>
                  </a:lnTo>
                  <a:lnTo>
                    <a:pt x="129" y="2"/>
                  </a:lnTo>
                  <a:lnTo>
                    <a:pt x="142" y="1"/>
                  </a:lnTo>
                  <a:lnTo>
                    <a:pt x="155" y="0"/>
                  </a:lnTo>
                  <a:lnTo>
                    <a:pt x="168" y="0"/>
                  </a:lnTo>
                  <a:lnTo>
                    <a:pt x="182" y="1"/>
                  </a:lnTo>
                  <a:lnTo>
                    <a:pt x="197" y="4"/>
                  </a:lnTo>
                  <a:lnTo>
                    <a:pt x="212" y="6"/>
                  </a:lnTo>
                  <a:lnTo>
                    <a:pt x="228" y="11"/>
                  </a:lnTo>
                  <a:lnTo>
                    <a:pt x="245" y="17"/>
                  </a:lnTo>
                  <a:lnTo>
                    <a:pt x="261" y="25"/>
                  </a:lnTo>
                  <a:lnTo>
                    <a:pt x="278" y="34"/>
                  </a:lnTo>
                  <a:lnTo>
                    <a:pt x="297" y="43"/>
                  </a:lnTo>
                  <a:lnTo>
                    <a:pt x="302" y="46"/>
                  </a:lnTo>
                  <a:lnTo>
                    <a:pt x="314" y="55"/>
                  </a:lnTo>
                  <a:lnTo>
                    <a:pt x="323" y="62"/>
                  </a:lnTo>
                  <a:lnTo>
                    <a:pt x="332" y="71"/>
                  </a:lnTo>
                  <a:lnTo>
                    <a:pt x="340" y="81"/>
                  </a:lnTo>
                  <a:lnTo>
                    <a:pt x="349" y="92"/>
                  </a:lnTo>
                  <a:lnTo>
                    <a:pt x="358" y="105"/>
                  </a:lnTo>
                  <a:lnTo>
                    <a:pt x="365" y="120"/>
                  </a:lnTo>
                  <a:lnTo>
                    <a:pt x="371" y="136"/>
                  </a:lnTo>
                  <a:lnTo>
                    <a:pt x="375" y="154"/>
                  </a:lnTo>
                  <a:lnTo>
                    <a:pt x="376" y="164"/>
                  </a:lnTo>
                  <a:lnTo>
                    <a:pt x="376" y="174"/>
                  </a:lnTo>
                  <a:lnTo>
                    <a:pt x="376" y="185"/>
                  </a:lnTo>
                  <a:lnTo>
                    <a:pt x="375" y="196"/>
                  </a:lnTo>
                  <a:lnTo>
                    <a:pt x="374" y="207"/>
                  </a:lnTo>
                  <a:lnTo>
                    <a:pt x="371" y="218"/>
                  </a:lnTo>
                  <a:lnTo>
                    <a:pt x="369" y="231"/>
                  </a:lnTo>
                  <a:lnTo>
                    <a:pt x="364" y="243"/>
                  </a:lnTo>
                  <a:lnTo>
                    <a:pt x="365" y="238"/>
                  </a:lnTo>
                  <a:lnTo>
                    <a:pt x="365" y="222"/>
                  </a:lnTo>
                  <a:lnTo>
                    <a:pt x="364" y="211"/>
                  </a:lnTo>
                  <a:lnTo>
                    <a:pt x="361" y="197"/>
                  </a:lnTo>
                  <a:lnTo>
                    <a:pt x="358" y="184"/>
                  </a:lnTo>
                  <a:lnTo>
                    <a:pt x="353" y="168"/>
                  </a:lnTo>
                  <a:lnTo>
                    <a:pt x="345" y="151"/>
                  </a:lnTo>
                  <a:lnTo>
                    <a:pt x="336" y="135"/>
                  </a:lnTo>
                  <a:lnTo>
                    <a:pt x="324" y="118"/>
                  </a:lnTo>
                  <a:lnTo>
                    <a:pt x="309" y="101"/>
                  </a:lnTo>
                  <a:lnTo>
                    <a:pt x="300" y="92"/>
                  </a:lnTo>
                  <a:lnTo>
                    <a:pt x="291" y="84"/>
                  </a:lnTo>
                  <a:lnTo>
                    <a:pt x="279" y="76"/>
                  </a:lnTo>
                  <a:lnTo>
                    <a:pt x="268" y="68"/>
                  </a:lnTo>
                  <a:lnTo>
                    <a:pt x="256" y="61"/>
                  </a:lnTo>
                  <a:lnTo>
                    <a:pt x="242" y="52"/>
                  </a:lnTo>
                  <a:lnTo>
                    <a:pt x="228" y="46"/>
                  </a:lnTo>
                  <a:lnTo>
                    <a:pt x="212" y="38"/>
                  </a:lnTo>
                  <a:lnTo>
                    <a:pt x="209" y="37"/>
                  </a:lnTo>
                  <a:lnTo>
                    <a:pt x="197" y="34"/>
                  </a:lnTo>
                  <a:lnTo>
                    <a:pt x="190" y="31"/>
                  </a:lnTo>
                  <a:lnTo>
                    <a:pt x="180" y="30"/>
                  </a:lnTo>
                  <a:lnTo>
                    <a:pt x="169" y="29"/>
                  </a:lnTo>
                  <a:lnTo>
                    <a:pt x="155" y="27"/>
                  </a:lnTo>
                  <a:lnTo>
                    <a:pt x="142" y="29"/>
                  </a:lnTo>
                  <a:lnTo>
                    <a:pt x="125" y="31"/>
                  </a:lnTo>
                  <a:lnTo>
                    <a:pt x="108" y="35"/>
                  </a:lnTo>
                  <a:lnTo>
                    <a:pt x="88" y="40"/>
                  </a:lnTo>
                  <a:lnTo>
                    <a:pt x="68" y="47"/>
                  </a:lnTo>
                  <a:lnTo>
                    <a:pt x="47" y="57"/>
                  </a:lnTo>
                  <a:lnTo>
                    <a:pt x="24" y="71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1676520" y="2468520"/>
              <a:ext cx="104760" cy="71640"/>
            </a:xfrm>
            <a:custGeom>
              <a:avLst/>
              <a:gdLst/>
              <a:ahLst/>
              <a:rect l="l" t="t" r="r" b="b"/>
              <a:pathLst>
                <a:path w="265" h="180">
                  <a:moveTo>
                    <a:pt x="261" y="131"/>
                  </a:moveTo>
                  <a:lnTo>
                    <a:pt x="263" y="137"/>
                  </a:lnTo>
                  <a:lnTo>
                    <a:pt x="265" y="145"/>
                  </a:lnTo>
                  <a:lnTo>
                    <a:pt x="263" y="151"/>
                  </a:lnTo>
                  <a:lnTo>
                    <a:pt x="262" y="157"/>
                  </a:lnTo>
                  <a:lnTo>
                    <a:pt x="258" y="163"/>
                  </a:lnTo>
                  <a:lnTo>
                    <a:pt x="255" y="168"/>
                  </a:lnTo>
                  <a:lnTo>
                    <a:pt x="250" y="173"/>
                  </a:lnTo>
                  <a:lnTo>
                    <a:pt x="244" y="176"/>
                  </a:lnTo>
                  <a:lnTo>
                    <a:pt x="237" y="178"/>
                  </a:lnTo>
                  <a:lnTo>
                    <a:pt x="230" y="180"/>
                  </a:lnTo>
                  <a:lnTo>
                    <a:pt x="224" y="178"/>
                  </a:lnTo>
                  <a:lnTo>
                    <a:pt x="217" y="177"/>
                  </a:lnTo>
                  <a:lnTo>
                    <a:pt x="211" y="173"/>
                  </a:lnTo>
                  <a:lnTo>
                    <a:pt x="206" y="170"/>
                  </a:lnTo>
                  <a:lnTo>
                    <a:pt x="201" y="165"/>
                  </a:lnTo>
                  <a:lnTo>
                    <a:pt x="199" y="159"/>
                  </a:lnTo>
                  <a:lnTo>
                    <a:pt x="189" y="141"/>
                  </a:lnTo>
                  <a:lnTo>
                    <a:pt x="179" y="126"/>
                  </a:lnTo>
                  <a:lnTo>
                    <a:pt x="168" y="113"/>
                  </a:lnTo>
                  <a:lnTo>
                    <a:pt x="155" y="103"/>
                  </a:lnTo>
                  <a:lnTo>
                    <a:pt x="142" y="93"/>
                  </a:lnTo>
                  <a:lnTo>
                    <a:pt x="129" y="87"/>
                  </a:lnTo>
                  <a:lnTo>
                    <a:pt x="116" y="80"/>
                  </a:lnTo>
                  <a:lnTo>
                    <a:pt x="103" y="75"/>
                  </a:lnTo>
                  <a:lnTo>
                    <a:pt x="91" y="73"/>
                  </a:lnTo>
                  <a:lnTo>
                    <a:pt x="78" y="70"/>
                  </a:lnTo>
                  <a:lnTo>
                    <a:pt x="68" y="69"/>
                  </a:lnTo>
                  <a:lnTo>
                    <a:pt x="59" y="68"/>
                  </a:lnTo>
                  <a:lnTo>
                    <a:pt x="44" y="68"/>
                  </a:lnTo>
                  <a:lnTo>
                    <a:pt x="37" y="68"/>
                  </a:lnTo>
                  <a:lnTo>
                    <a:pt x="31" y="68"/>
                  </a:lnTo>
                  <a:lnTo>
                    <a:pt x="24" y="67"/>
                  </a:lnTo>
                  <a:lnTo>
                    <a:pt x="18" y="64"/>
                  </a:lnTo>
                  <a:lnTo>
                    <a:pt x="13" y="60"/>
                  </a:lnTo>
                  <a:lnTo>
                    <a:pt x="8" y="56"/>
                  </a:lnTo>
                  <a:lnTo>
                    <a:pt x="4" y="51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5"/>
                  </a:lnTo>
                  <a:lnTo>
                    <a:pt x="4" y="18"/>
                  </a:lnTo>
                  <a:lnTo>
                    <a:pt x="8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5" y="0"/>
                  </a:lnTo>
                  <a:lnTo>
                    <a:pt x="68" y="0"/>
                  </a:lnTo>
                  <a:lnTo>
                    <a:pt x="83" y="1"/>
                  </a:lnTo>
                  <a:lnTo>
                    <a:pt x="100" y="5"/>
                  </a:lnTo>
                  <a:lnTo>
                    <a:pt x="114" y="8"/>
                  </a:lnTo>
                  <a:lnTo>
                    <a:pt x="132" y="13"/>
                  </a:lnTo>
                  <a:lnTo>
                    <a:pt x="148" y="20"/>
                  </a:lnTo>
                  <a:lnTo>
                    <a:pt x="164" y="27"/>
                  </a:lnTo>
                  <a:lnTo>
                    <a:pt x="180" y="37"/>
                  </a:lnTo>
                  <a:lnTo>
                    <a:pt x="196" y="48"/>
                  </a:lnTo>
                  <a:lnTo>
                    <a:pt x="211" y="60"/>
                  </a:lnTo>
                  <a:lnTo>
                    <a:pt x="225" y="75"/>
                  </a:lnTo>
                  <a:lnTo>
                    <a:pt x="239" y="92"/>
                  </a:lnTo>
                  <a:lnTo>
                    <a:pt x="251" y="110"/>
                  </a:lnTo>
                  <a:lnTo>
                    <a:pt x="261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781200" y="735120"/>
              <a:ext cx="1920600" cy="1798560"/>
            </a:xfrm>
            <a:custGeom>
              <a:avLst/>
              <a:gdLst/>
              <a:ahLst/>
              <a:rect l="l" t="t" r="r" b="b"/>
              <a:pathLst>
                <a:path w="4839" h="4533">
                  <a:moveTo>
                    <a:pt x="1050" y="4533"/>
                  </a:moveTo>
                  <a:lnTo>
                    <a:pt x="1053" y="4512"/>
                  </a:lnTo>
                  <a:lnTo>
                    <a:pt x="1060" y="4452"/>
                  </a:lnTo>
                  <a:lnTo>
                    <a:pt x="1072" y="4356"/>
                  </a:lnTo>
                  <a:lnTo>
                    <a:pt x="1085" y="4232"/>
                  </a:lnTo>
                  <a:lnTo>
                    <a:pt x="1100" y="4083"/>
                  </a:lnTo>
                  <a:lnTo>
                    <a:pt x="1116" y="3917"/>
                  </a:lnTo>
                  <a:lnTo>
                    <a:pt x="1132" y="3736"/>
                  </a:lnTo>
                  <a:lnTo>
                    <a:pt x="1147" y="3546"/>
                  </a:lnTo>
                  <a:lnTo>
                    <a:pt x="1155" y="3450"/>
                  </a:lnTo>
                  <a:lnTo>
                    <a:pt x="1160" y="3354"/>
                  </a:lnTo>
                  <a:lnTo>
                    <a:pt x="1166" y="3258"/>
                  </a:lnTo>
                  <a:lnTo>
                    <a:pt x="1170" y="3163"/>
                  </a:lnTo>
                  <a:lnTo>
                    <a:pt x="1173" y="3069"/>
                  </a:lnTo>
                  <a:lnTo>
                    <a:pt x="1176" y="2979"/>
                  </a:lnTo>
                  <a:lnTo>
                    <a:pt x="1177" y="2892"/>
                  </a:lnTo>
                  <a:lnTo>
                    <a:pt x="1177" y="2808"/>
                  </a:lnTo>
                  <a:lnTo>
                    <a:pt x="1176" y="2728"/>
                  </a:lnTo>
                  <a:lnTo>
                    <a:pt x="1172" y="2654"/>
                  </a:lnTo>
                  <a:lnTo>
                    <a:pt x="1167" y="2584"/>
                  </a:lnTo>
                  <a:lnTo>
                    <a:pt x="1161" y="2522"/>
                  </a:lnTo>
                  <a:lnTo>
                    <a:pt x="1152" y="2466"/>
                  </a:lnTo>
                  <a:lnTo>
                    <a:pt x="1142" y="2418"/>
                  </a:lnTo>
                  <a:lnTo>
                    <a:pt x="1129" y="2378"/>
                  </a:lnTo>
                  <a:lnTo>
                    <a:pt x="1114" y="2346"/>
                  </a:lnTo>
                  <a:lnTo>
                    <a:pt x="1154" y="2625"/>
                  </a:lnTo>
                  <a:lnTo>
                    <a:pt x="1139" y="2631"/>
                  </a:lnTo>
                  <a:lnTo>
                    <a:pt x="1100" y="2648"/>
                  </a:lnTo>
                  <a:lnTo>
                    <a:pt x="1072" y="2658"/>
                  </a:lnTo>
                  <a:lnTo>
                    <a:pt x="1038" y="2669"/>
                  </a:lnTo>
                  <a:lnTo>
                    <a:pt x="1001" y="2679"/>
                  </a:lnTo>
                  <a:lnTo>
                    <a:pt x="959" y="2690"/>
                  </a:lnTo>
                  <a:lnTo>
                    <a:pt x="914" y="2698"/>
                  </a:lnTo>
                  <a:lnTo>
                    <a:pt x="865" y="2707"/>
                  </a:lnTo>
                  <a:lnTo>
                    <a:pt x="815" y="2712"/>
                  </a:lnTo>
                  <a:lnTo>
                    <a:pt x="762" y="2716"/>
                  </a:lnTo>
                  <a:lnTo>
                    <a:pt x="708" y="2716"/>
                  </a:lnTo>
                  <a:lnTo>
                    <a:pt x="652" y="2712"/>
                  </a:lnTo>
                  <a:lnTo>
                    <a:pt x="596" y="2705"/>
                  </a:lnTo>
                  <a:lnTo>
                    <a:pt x="539" y="2692"/>
                  </a:lnTo>
                  <a:lnTo>
                    <a:pt x="483" y="2675"/>
                  </a:lnTo>
                  <a:lnTo>
                    <a:pt x="428" y="2651"/>
                  </a:lnTo>
                  <a:lnTo>
                    <a:pt x="374" y="2620"/>
                  </a:lnTo>
                  <a:lnTo>
                    <a:pt x="322" y="2583"/>
                  </a:lnTo>
                  <a:lnTo>
                    <a:pt x="272" y="2538"/>
                  </a:lnTo>
                  <a:lnTo>
                    <a:pt x="225" y="2486"/>
                  </a:lnTo>
                  <a:lnTo>
                    <a:pt x="180" y="2424"/>
                  </a:lnTo>
                  <a:lnTo>
                    <a:pt x="140" y="2354"/>
                  </a:lnTo>
                  <a:lnTo>
                    <a:pt x="104" y="2273"/>
                  </a:lnTo>
                  <a:lnTo>
                    <a:pt x="72" y="2182"/>
                  </a:lnTo>
                  <a:lnTo>
                    <a:pt x="46" y="2082"/>
                  </a:lnTo>
                  <a:lnTo>
                    <a:pt x="25" y="1969"/>
                  </a:lnTo>
                  <a:lnTo>
                    <a:pt x="10" y="1844"/>
                  </a:lnTo>
                  <a:lnTo>
                    <a:pt x="1" y="1706"/>
                  </a:lnTo>
                  <a:lnTo>
                    <a:pt x="0" y="1556"/>
                  </a:lnTo>
                  <a:lnTo>
                    <a:pt x="7" y="1392"/>
                  </a:lnTo>
                  <a:lnTo>
                    <a:pt x="11" y="1380"/>
                  </a:lnTo>
                  <a:lnTo>
                    <a:pt x="24" y="1344"/>
                  </a:lnTo>
                  <a:lnTo>
                    <a:pt x="33" y="1318"/>
                  </a:lnTo>
                  <a:lnTo>
                    <a:pt x="46" y="1288"/>
                  </a:lnTo>
                  <a:lnTo>
                    <a:pt x="60" y="1254"/>
                  </a:lnTo>
                  <a:lnTo>
                    <a:pt x="77" y="1217"/>
                  </a:lnTo>
                  <a:lnTo>
                    <a:pt x="96" y="1177"/>
                  </a:lnTo>
                  <a:lnTo>
                    <a:pt x="118" y="1134"/>
                  </a:lnTo>
                  <a:lnTo>
                    <a:pt x="143" y="1089"/>
                  </a:lnTo>
                  <a:lnTo>
                    <a:pt x="169" y="1043"/>
                  </a:lnTo>
                  <a:lnTo>
                    <a:pt x="199" y="996"/>
                  </a:lnTo>
                  <a:lnTo>
                    <a:pt x="232" y="948"/>
                  </a:lnTo>
                  <a:lnTo>
                    <a:pt x="267" y="901"/>
                  </a:lnTo>
                  <a:lnTo>
                    <a:pt x="305" y="852"/>
                  </a:lnTo>
                  <a:lnTo>
                    <a:pt x="346" y="806"/>
                  </a:lnTo>
                  <a:lnTo>
                    <a:pt x="391" y="761"/>
                  </a:lnTo>
                  <a:lnTo>
                    <a:pt x="438" y="717"/>
                  </a:lnTo>
                  <a:lnTo>
                    <a:pt x="488" y="675"/>
                  </a:lnTo>
                  <a:lnTo>
                    <a:pt x="541" y="636"/>
                  </a:lnTo>
                  <a:lnTo>
                    <a:pt x="598" y="600"/>
                  </a:lnTo>
                  <a:lnTo>
                    <a:pt x="658" y="569"/>
                  </a:lnTo>
                  <a:lnTo>
                    <a:pt x="721" y="541"/>
                  </a:lnTo>
                  <a:lnTo>
                    <a:pt x="787" y="519"/>
                  </a:lnTo>
                  <a:lnTo>
                    <a:pt x="858" y="500"/>
                  </a:lnTo>
                  <a:lnTo>
                    <a:pt x="931" y="488"/>
                  </a:lnTo>
                  <a:lnTo>
                    <a:pt x="1008" y="481"/>
                  </a:lnTo>
                  <a:lnTo>
                    <a:pt x="1089" y="481"/>
                  </a:lnTo>
                  <a:lnTo>
                    <a:pt x="1173" y="488"/>
                  </a:lnTo>
                  <a:lnTo>
                    <a:pt x="1262" y="502"/>
                  </a:lnTo>
                  <a:lnTo>
                    <a:pt x="1352" y="525"/>
                  </a:lnTo>
                  <a:lnTo>
                    <a:pt x="1356" y="516"/>
                  </a:lnTo>
                  <a:lnTo>
                    <a:pt x="1363" y="494"/>
                  </a:lnTo>
                  <a:lnTo>
                    <a:pt x="1371" y="478"/>
                  </a:lnTo>
                  <a:lnTo>
                    <a:pt x="1380" y="460"/>
                  </a:lnTo>
                  <a:lnTo>
                    <a:pt x="1389" y="439"/>
                  </a:lnTo>
                  <a:lnTo>
                    <a:pt x="1401" y="417"/>
                  </a:lnTo>
                  <a:lnTo>
                    <a:pt x="1416" y="393"/>
                  </a:lnTo>
                  <a:lnTo>
                    <a:pt x="1432" y="367"/>
                  </a:lnTo>
                  <a:lnTo>
                    <a:pt x="1450" y="341"/>
                  </a:lnTo>
                  <a:lnTo>
                    <a:pt x="1470" y="315"/>
                  </a:lnTo>
                  <a:lnTo>
                    <a:pt x="1494" y="289"/>
                  </a:lnTo>
                  <a:lnTo>
                    <a:pt x="1519" y="263"/>
                  </a:lnTo>
                  <a:lnTo>
                    <a:pt x="1547" y="237"/>
                  </a:lnTo>
                  <a:lnTo>
                    <a:pt x="1578" y="213"/>
                  </a:lnTo>
                  <a:lnTo>
                    <a:pt x="1612" y="190"/>
                  </a:lnTo>
                  <a:lnTo>
                    <a:pt x="1648" y="169"/>
                  </a:lnTo>
                  <a:lnTo>
                    <a:pt x="1686" y="149"/>
                  </a:lnTo>
                  <a:lnTo>
                    <a:pt x="1728" y="131"/>
                  </a:lnTo>
                  <a:lnTo>
                    <a:pt x="1774" y="118"/>
                  </a:lnTo>
                  <a:lnTo>
                    <a:pt x="1823" y="107"/>
                  </a:lnTo>
                  <a:lnTo>
                    <a:pt x="1875" y="98"/>
                  </a:lnTo>
                  <a:lnTo>
                    <a:pt x="1930" y="94"/>
                  </a:lnTo>
                  <a:lnTo>
                    <a:pt x="1988" y="94"/>
                  </a:lnTo>
                  <a:lnTo>
                    <a:pt x="2050" y="99"/>
                  </a:lnTo>
                  <a:lnTo>
                    <a:pt x="2116" y="109"/>
                  </a:lnTo>
                  <a:lnTo>
                    <a:pt x="2185" y="124"/>
                  </a:lnTo>
                  <a:lnTo>
                    <a:pt x="2260" y="144"/>
                  </a:lnTo>
                  <a:lnTo>
                    <a:pt x="2337" y="171"/>
                  </a:lnTo>
                  <a:lnTo>
                    <a:pt x="2418" y="203"/>
                  </a:lnTo>
                  <a:lnTo>
                    <a:pt x="2503" y="243"/>
                  </a:lnTo>
                  <a:lnTo>
                    <a:pt x="2527" y="233"/>
                  </a:lnTo>
                  <a:lnTo>
                    <a:pt x="2591" y="207"/>
                  </a:lnTo>
                  <a:lnTo>
                    <a:pt x="2637" y="191"/>
                  </a:lnTo>
                  <a:lnTo>
                    <a:pt x="2692" y="171"/>
                  </a:lnTo>
                  <a:lnTo>
                    <a:pt x="2753" y="150"/>
                  </a:lnTo>
                  <a:lnTo>
                    <a:pt x="2820" y="129"/>
                  </a:lnTo>
                  <a:lnTo>
                    <a:pt x="2892" y="108"/>
                  </a:lnTo>
                  <a:lnTo>
                    <a:pt x="2968" y="86"/>
                  </a:lnTo>
                  <a:lnTo>
                    <a:pt x="3048" y="66"/>
                  </a:lnTo>
                  <a:lnTo>
                    <a:pt x="3130" y="47"/>
                  </a:lnTo>
                  <a:lnTo>
                    <a:pt x="3215" y="31"/>
                  </a:lnTo>
                  <a:lnTo>
                    <a:pt x="3301" y="17"/>
                  </a:lnTo>
                  <a:lnTo>
                    <a:pt x="3385" y="7"/>
                  </a:lnTo>
                  <a:lnTo>
                    <a:pt x="3469" y="1"/>
                  </a:lnTo>
                  <a:lnTo>
                    <a:pt x="3553" y="0"/>
                  </a:lnTo>
                  <a:lnTo>
                    <a:pt x="3632" y="5"/>
                  </a:lnTo>
                  <a:lnTo>
                    <a:pt x="3708" y="15"/>
                  </a:lnTo>
                  <a:lnTo>
                    <a:pt x="3780" y="32"/>
                  </a:lnTo>
                  <a:lnTo>
                    <a:pt x="3847" y="56"/>
                  </a:lnTo>
                  <a:lnTo>
                    <a:pt x="3906" y="88"/>
                  </a:lnTo>
                  <a:lnTo>
                    <a:pt x="3960" y="129"/>
                  </a:lnTo>
                  <a:lnTo>
                    <a:pt x="4006" y="179"/>
                  </a:lnTo>
                  <a:lnTo>
                    <a:pt x="4042" y="238"/>
                  </a:lnTo>
                  <a:lnTo>
                    <a:pt x="4069" y="308"/>
                  </a:lnTo>
                  <a:lnTo>
                    <a:pt x="4085" y="388"/>
                  </a:lnTo>
                  <a:lnTo>
                    <a:pt x="4090" y="481"/>
                  </a:lnTo>
                  <a:lnTo>
                    <a:pt x="4084" y="586"/>
                  </a:lnTo>
                  <a:lnTo>
                    <a:pt x="4063" y="703"/>
                  </a:lnTo>
                  <a:lnTo>
                    <a:pt x="4029" y="835"/>
                  </a:lnTo>
                  <a:lnTo>
                    <a:pt x="3980" y="980"/>
                  </a:lnTo>
                  <a:lnTo>
                    <a:pt x="3983" y="974"/>
                  </a:lnTo>
                  <a:lnTo>
                    <a:pt x="3997" y="959"/>
                  </a:lnTo>
                  <a:lnTo>
                    <a:pt x="4006" y="948"/>
                  </a:lnTo>
                  <a:lnTo>
                    <a:pt x="4017" y="935"/>
                  </a:lnTo>
                  <a:lnTo>
                    <a:pt x="4029" y="923"/>
                  </a:lnTo>
                  <a:lnTo>
                    <a:pt x="4044" y="909"/>
                  </a:lnTo>
                  <a:lnTo>
                    <a:pt x="4062" y="895"/>
                  </a:lnTo>
                  <a:lnTo>
                    <a:pt x="4080" y="881"/>
                  </a:lnTo>
                  <a:lnTo>
                    <a:pt x="4100" y="867"/>
                  </a:lnTo>
                  <a:lnTo>
                    <a:pt x="4121" y="855"/>
                  </a:lnTo>
                  <a:lnTo>
                    <a:pt x="4145" y="842"/>
                  </a:lnTo>
                  <a:lnTo>
                    <a:pt x="4170" y="832"/>
                  </a:lnTo>
                  <a:lnTo>
                    <a:pt x="4196" y="824"/>
                  </a:lnTo>
                  <a:lnTo>
                    <a:pt x="4224" y="818"/>
                  </a:lnTo>
                  <a:lnTo>
                    <a:pt x="4253" y="814"/>
                  </a:lnTo>
                  <a:lnTo>
                    <a:pt x="4284" y="813"/>
                  </a:lnTo>
                  <a:lnTo>
                    <a:pt x="4315" y="815"/>
                  </a:lnTo>
                  <a:lnTo>
                    <a:pt x="4349" y="821"/>
                  </a:lnTo>
                  <a:lnTo>
                    <a:pt x="4383" y="831"/>
                  </a:lnTo>
                  <a:lnTo>
                    <a:pt x="4418" y="846"/>
                  </a:lnTo>
                  <a:lnTo>
                    <a:pt x="4455" y="865"/>
                  </a:lnTo>
                  <a:lnTo>
                    <a:pt x="4493" y="888"/>
                  </a:lnTo>
                  <a:lnTo>
                    <a:pt x="4531" y="918"/>
                  </a:lnTo>
                  <a:lnTo>
                    <a:pt x="4571" y="953"/>
                  </a:lnTo>
                  <a:lnTo>
                    <a:pt x="4612" y="995"/>
                  </a:lnTo>
                  <a:lnTo>
                    <a:pt x="4653" y="1042"/>
                  </a:lnTo>
                  <a:lnTo>
                    <a:pt x="4695" y="1097"/>
                  </a:lnTo>
                  <a:lnTo>
                    <a:pt x="4738" y="1159"/>
                  </a:lnTo>
                  <a:lnTo>
                    <a:pt x="4782" y="1228"/>
                  </a:lnTo>
                  <a:lnTo>
                    <a:pt x="4827" y="1305"/>
                  </a:lnTo>
                  <a:lnTo>
                    <a:pt x="4829" y="1325"/>
                  </a:lnTo>
                  <a:lnTo>
                    <a:pt x="4834" y="1381"/>
                  </a:lnTo>
                  <a:lnTo>
                    <a:pt x="4837" y="1421"/>
                  </a:lnTo>
                  <a:lnTo>
                    <a:pt x="4838" y="1466"/>
                  </a:lnTo>
                  <a:lnTo>
                    <a:pt x="4839" y="1519"/>
                  </a:lnTo>
                  <a:lnTo>
                    <a:pt x="4839" y="1577"/>
                  </a:lnTo>
                  <a:lnTo>
                    <a:pt x="4838" y="1639"/>
                  </a:lnTo>
                  <a:lnTo>
                    <a:pt x="4833" y="1706"/>
                  </a:lnTo>
                  <a:lnTo>
                    <a:pt x="4827" y="1775"/>
                  </a:lnTo>
                  <a:lnTo>
                    <a:pt x="4818" y="1849"/>
                  </a:lnTo>
                  <a:lnTo>
                    <a:pt x="4806" y="1923"/>
                  </a:lnTo>
                  <a:lnTo>
                    <a:pt x="4791" y="1999"/>
                  </a:lnTo>
                  <a:lnTo>
                    <a:pt x="4771" y="2076"/>
                  </a:lnTo>
                  <a:lnTo>
                    <a:pt x="4746" y="2153"/>
                  </a:lnTo>
                  <a:lnTo>
                    <a:pt x="4717" y="2228"/>
                  </a:lnTo>
                  <a:lnTo>
                    <a:pt x="4684" y="2303"/>
                  </a:lnTo>
                  <a:lnTo>
                    <a:pt x="4644" y="2375"/>
                  </a:lnTo>
                  <a:lnTo>
                    <a:pt x="4599" y="2444"/>
                  </a:lnTo>
                  <a:lnTo>
                    <a:pt x="4547" y="2511"/>
                  </a:lnTo>
                  <a:lnTo>
                    <a:pt x="4490" y="2572"/>
                  </a:lnTo>
                  <a:lnTo>
                    <a:pt x="4424" y="2629"/>
                  </a:lnTo>
                  <a:lnTo>
                    <a:pt x="4352" y="2680"/>
                  </a:lnTo>
                  <a:lnTo>
                    <a:pt x="4272" y="2725"/>
                  </a:lnTo>
                  <a:lnTo>
                    <a:pt x="4183" y="2763"/>
                  </a:lnTo>
                  <a:lnTo>
                    <a:pt x="4087" y="2793"/>
                  </a:lnTo>
                  <a:lnTo>
                    <a:pt x="3981" y="2815"/>
                  </a:lnTo>
                  <a:lnTo>
                    <a:pt x="3865" y="2828"/>
                  </a:lnTo>
                  <a:lnTo>
                    <a:pt x="3741" y="2830"/>
                  </a:lnTo>
                  <a:lnTo>
                    <a:pt x="3606" y="2823"/>
                  </a:lnTo>
                  <a:lnTo>
                    <a:pt x="3461" y="2804"/>
                  </a:lnTo>
                  <a:lnTo>
                    <a:pt x="3654" y="2390"/>
                  </a:lnTo>
                  <a:lnTo>
                    <a:pt x="3651" y="2398"/>
                  </a:lnTo>
                  <a:lnTo>
                    <a:pt x="3641" y="2421"/>
                  </a:lnTo>
                  <a:lnTo>
                    <a:pt x="3623" y="2457"/>
                  </a:lnTo>
                  <a:lnTo>
                    <a:pt x="3601" y="2505"/>
                  </a:lnTo>
                  <a:lnTo>
                    <a:pt x="3574" y="2563"/>
                  </a:lnTo>
                  <a:lnTo>
                    <a:pt x="3543" y="2631"/>
                  </a:lnTo>
                  <a:lnTo>
                    <a:pt x="3507" y="2706"/>
                  </a:lnTo>
                  <a:lnTo>
                    <a:pt x="3467" y="2788"/>
                  </a:lnTo>
                  <a:lnTo>
                    <a:pt x="2629" y="4278"/>
                  </a:lnTo>
                  <a:lnTo>
                    <a:pt x="2665" y="4310"/>
                  </a:lnTo>
                  <a:lnTo>
                    <a:pt x="2692" y="4336"/>
                  </a:lnTo>
                  <a:lnTo>
                    <a:pt x="2709" y="4354"/>
                  </a:lnTo>
                  <a:lnTo>
                    <a:pt x="2718" y="4367"/>
                  </a:lnTo>
                  <a:lnTo>
                    <a:pt x="2718" y="4373"/>
                  </a:lnTo>
                  <a:lnTo>
                    <a:pt x="2711" y="4376"/>
                  </a:lnTo>
                  <a:lnTo>
                    <a:pt x="2696" y="4373"/>
                  </a:lnTo>
                  <a:lnTo>
                    <a:pt x="2673" y="4367"/>
                  </a:lnTo>
                  <a:lnTo>
                    <a:pt x="2609" y="4346"/>
                  </a:lnTo>
                  <a:lnTo>
                    <a:pt x="2522" y="4316"/>
                  </a:lnTo>
                  <a:lnTo>
                    <a:pt x="2470" y="4300"/>
                  </a:lnTo>
                  <a:lnTo>
                    <a:pt x="2413" y="4283"/>
                  </a:lnTo>
                  <a:lnTo>
                    <a:pt x="2352" y="4265"/>
                  </a:lnTo>
                  <a:lnTo>
                    <a:pt x="2287" y="4249"/>
                  </a:lnTo>
                  <a:lnTo>
                    <a:pt x="2219" y="4234"/>
                  </a:lnTo>
                  <a:lnTo>
                    <a:pt x="2148" y="4221"/>
                  </a:lnTo>
                  <a:lnTo>
                    <a:pt x="2074" y="4211"/>
                  </a:lnTo>
                  <a:lnTo>
                    <a:pt x="1998" y="4202"/>
                  </a:lnTo>
                  <a:lnTo>
                    <a:pt x="1920" y="4197"/>
                  </a:lnTo>
                  <a:lnTo>
                    <a:pt x="1839" y="4197"/>
                  </a:lnTo>
                  <a:lnTo>
                    <a:pt x="1758" y="4201"/>
                  </a:lnTo>
                  <a:lnTo>
                    <a:pt x="1678" y="4210"/>
                  </a:lnTo>
                  <a:lnTo>
                    <a:pt x="1596" y="4225"/>
                  </a:lnTo>
                  <a:lnTo>
                    <a:pt x="1514" y="4246"/>
                  </a:lnTo>
                  <a:lnTo>
                    <a:pt x="1433" y="4274"/>
                  </a:lnTo>
                  <a:lnTo>
                    <a:pt x="1353" y="4309"/>
                  </a:lnTo>
                  <a:lnTo>
                    <a:pt x="1274" y="4352"/>
                  </a:lnTo>
                  <a:lnTo>
                    <a:pt x="1198" y="4403"/>
                  </a:lnTo>
                  <a:lnTo>
                    <a:pt x="1122" y="4464"/>
                  </a:lnTo>
                  <a:lnTo>
                    <a:pt x="1050" y="45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766800" y="720720"/>
              <a:ext cx="1949400" cy="1827360"/>
            </a:xfrm>
            <a:custGeom>
              <a:avLst/>
              <a:gdLst/>
              <a:ahLst/>
              <a:rect l="l" t="t" r="r" b="b"/>
              <a:pathLst>
                <a:path w="4910" h="4605">
                  <a:moveTo>
                    <a:pt x="2538" y="241"/>
                  </a:moveTo>
                  <a:lnTo>
                    <a:pt x="2477" y="212"/>
                  </a:lnTo>
                  <a:lnTo>
                    <a:pt x="2418" y="187"/>
                  </a:lnTo>
                  <a:lnTo>
                    <a:pt x="2359" y="166"/>
                  </a:lnTo>
                  <a:lnTo>
                    <a:pt x="2302" y="146"/>
                  </a:lnTo>
                  <a:lnTo>
                    <a:pt x="2246" y="130"/>
                  </a:lnTo>
                  <a:lnTo>
                    <a:pt x="2191" y="118"/>
                  </a:lnTo>
                  <a:lnTo>
                    <a:pt x="2165" y="113"/>
                  </a:lnTo>
                  <a:lnTo>
                    <a:pt x="2137" y="108"/>
                  </a:lnTo>
                  <a:lnTo>
                    <a:pt x="2111" y="103"/>
                  </a:lnTo>
                  <a:lnTo>
                    <a:pt x="2085" y="100"/>
                  </a:lnTo>
                  <a:lnTo>
                    <a:pt x="2059" y="98"/>
                  </a:lnTo>
                  <a:lnTo>
                    <a:pt x="2034" y="97"/>
                  </a:lnTo>
                  <a:lnTo>
                    <a:pt x="2009" y="96"/>
                  </a:lnTo>
                  <a:lnTo>
                    <a:pt x="1984" y="96"/>
                  </a:lnTo>
                  <a:lnTo>
                    <a:pt x="1960" y="96"/>
                  </a:lnTo>
                  <a:lnTo>
                    <a:pt x="1935" y="97"/>
                  </a:lnTo>
                  <a:lnTo>
                    <a:pt x="1911" y="99"/>
                  </a:lnTo>
                  <a:lnTo>
                    <a:pt x="1888" y="102"/>
                  </a:lnTo>
                  <a:lnTo>
                    <a:pt x="1865" y="105"/>
                  </a:lnTo>
                  <a:lnTo>
                    <a:pt x="1842" y="109"/>
                  </a:lnTo>
                  <a:lnTo>
                    <a:pt x="1819" y="114"/>
                  </a:lnTo>
                  <a:lnTo>
                    <a:pt x="1797" y="120"/>
                  </a:lnTo>
                  <a:lnTo>
                    <a:pt x="1776" y="127"/>
                  </a:lnTo>
                  <a:lnTo>
                    <a:pt x="1754" y="134"/>
                  </a:lnTo>
                  <a:lnTo>
                    <a:pt x="1732" y="141"/>
                  </a:lnTo>
                  <a:lnTo>
                    <a:pt x="1711" y="150"/>
                  </a:lnTo>
                  <a:lnTo>
                    <a:pt x="1690" y="160"/>
                  </a:lnTo>
                  <a:lnTo>
                    <a:pt x="1669" y="171"/>
                  </a:lnTo>
                  <a:lnTo>
                    <a:pt x="1649" y="181"/>
                  </a:lnTo>
                  <a:lnTo>
                    <a:pt x="1631" y="194"/>
                  </a:lnTo>
                  <a:lnTo>
                    <a:pt x="1612" y="205"/>
                  </a:lnTo>
                  <a:lnTo>
                    <a:pt x="1595" y="217"/>
                  </a:lnTo>
                  <a:lnTo>
                    <a:pt x="1578" y="230"/>
                  </a:lnTo>
                  <a:lnTo>
                    <a:pt x="1562" y="242"/>
                  </a:lnTo>
                  <a:lnTo>
                    <a:pt x="1532" y="269"/>
                  </a:lnTo>
                  <a:lnTo>
                    <a:pt x="1505" y="295"/>
                  </a:lnTo>
                  <a:lnTo>
                    <a:pt x="1482" y="323"/>
                  </a:lnTo>
                  <a:lnTo>
                    <a:pt x="1459" y="350"/>
                  </a:lnTo>
                  <a:lnTo>
                    <a:pt x="1441" y="376"/>
                  </a:lnTo>
                  <a:lnTo>
                    <a:pt x="1423" y="402"/>
                  </a:lnTo>
                  <a:lnTo>
                    <a:pt x="1408" y="427"/>
                  </a:lnTo>
                  <a:lnTo>
                    <a:pt x="1396" y="450"/>
                  </a:lnTo>
                  <a:lnTo>
                    <a:pt x="1377" y="491"/>
                  </a:lnTo>
                  <a:lnTo>
                    <a:pt x="1365" y="521"/>
                  </a:lnTo>
                  <a:lnTo>
                    <a:pt x="1273" y="502"/>
                  </a:lnTo>
                  <a:lnTo>
                    <a:pt x="1186" y="490"/>
                  </a:lnTo>
                  <a:lnTo>
                    <a:pt x="1102" y="485"/>
                  </a:lnTo>
                  <a:lnTo>
                    <a:pt x="1021" y="488"/>
                  </a:lnTo>
                  <a:lnTo>
                    <a:pt x="944" y="496"/>
                  </a:lnTo>
                  <a:lnTo>
                    <a:pt x="871" y="510"/>
                  </a:lnTo>
                  <a:lnTo>
                    <a:pt x="800" y="530"/>
                  </a:lnTo>
                  <a:lnTo>
                    <a:pt x="734" y="553"/>
                  </a:lnTo>
                  <a:lnTo>
                    <a:pt x="671" y="583"/>
                  </a:lnTo>
                  <a:lnTo>
                    <a:pt x="610" y="615"/>
                  </a:lnTo>
                  <a:lnTo>
                    <a:pt x="553" y="653"/>
                  </a:lnTo>
                  <a:lnTo>
                    <a:pt x="499" y="691"/>
                  </a:lnTo>
                  <a:lnTo>
                    <a:pt x="448" y="733"/>
                  </a:lnTo>
                  <a:lnTo>
                    <a:pt x="401" y="778"/>
                  </a:lnTo>
                  <a:lnTo>
                    <a:pt x="357" y="824"/>
                  </a:lnTo>
                  <a:lnTo>
                    <a:pt x="314" y="871"/>
                  </a:lnTo>
                  <a:lnTo>
                    <a:pt x="276" y="919"/>
                  </a:lnTo>
                  <a:lnTo>
                    <a:pt x="240" y="968"/>
                  </a:lnTo>
                  <a:lnTo>
                    <a:pt x="206" y="1015"/>
                  </a:lnTo>
                  <a:lnTo>
                    <a:pt x="176" y="1063"/>
                  </a:lnTo>
                  <a:lnTo>
                    <a:pt x="149" y="1109"/>
                  </a:lnTo>
                  <a:lnTo>
                    <a:pt x="123" y="1154"/>
                  </a:lnTo>
                  <a:lnTo>
                    <a:pt x="101" y="1197"/>
                  </a:lnTo>
                  <a:lnTo>
                    <a:pt x="81" y="1238"/>
                  </a:lnTo>
                  <a:lnTo>
                    <a:pt x="63" y="1275"/>
                  </a:lnTo>
                  <a:lnTo>
                    <a:pt x="49" y="1309"/>
                  </a:lnTo>
                  <a:lnTo>
                    <a:pt x="36" y="1340"/>
                  </a:lnTo>
                  <a:lnTo>
                    <a:pt x="26" y="1366"/>
                  </a:lnTo>
                  <a:lnTo>
                    <a:pt x="13" y="1403"/>
                  </a:lnTo>
                  <a:lnTo>
                    <a:pt x="8" y="1418"/>
                  </a:lnTo>
                  <a:lnTo>
                    <a:pt x="4" y="1478"/>
                  </a:lnTo>
                  <a:lnTo>
                    <a:pt x="3" y="1537"/>
                  </a:lnTo>
                  <a:lnTo>
                    <a:pt x="0" y="1594"/>
                  </a:lnTo>
                  <a:lnTo>
                    <a:pt x="0" y="1650"/>
                  </a:lnTo>
                  <a:lnTo>
                    <a:pt x="1" y="1705"/>
                  </a:lnTo>
                  <a:lnTo>
                    <a:pt x="3" y="1758"/>
                  </a:lnTo>
                  <a:lnTo>
                    <a:pt x="5" y="1810"/>
                  </a:lnTo>
                  <a:lnTo>
                    <a:pt x="9" y="1861"/>
                  </a:lnTo>
                  <a:lnTo>
                    <a:pt x="13" y="1909"/>
                  </a:lnTo>
                  <a:lnTo>
                    <a:pt x="19" y="1958"/>
                  </a:lnTo>
                  <a:lnTo>
                    <a:pt x="25" y="2005"/>
                  </a:lnTo>
                  <a:lnTo>
                    <a:pt x="31" y="2050"/>
                  </a:lnTo>
                  <a:lnTo>
                    <a:pt x="40" y="2094"/>
                  </a:lnTo>
                  <a:lnTo>
                    <a:pt x="49" y="2136"/>
                  </a:lnTo>
                  <a:lnTo>
                    <a:pt x="59" y="2177"/>
                  </a:lnTo>
                  <a:lnTo>
                    <a:pt x="70" y="2218"/>
                  </a:lnTo>
                  <a:lnTo>
                    <a:pt x="82" y="2257"/>
                  </a:lnTo>
                  <a:lnTo>
                    <a:pt x="95" y="2294"/>
                  </a:lnTo>
                  <a:lnTo>
                    <a:pt x="108" y="2330"/>
                  </a:lnTo>
                  <a:lnTo>
                    <a:pt x="123" y="2365"/>
                  </a:lnTo>
                  <a:lnTo>
                    <a:pt x="139" y="2398"/>
                  </a:lnTo>
                  <a:lnTo>
                    <a:pt x="155" y="2429"/>
                  </a:lnTo>
                  <a:lnTo>
                    <a:pt x="173" y="2460"/>
                  </a:lnTo>
                  <a:lnTo>
                    <a:pt x="191" y="2490"/>
                  </a:lnTo>
                  <a:lnTo>
                    <a:pt x="211" y="2517"/>
                  </a:lnTo>
                  <a:lnTo>
                    <a:pt x="231" y="2545"/>
                  </a:lnTo>
                  <a:lnTo>
                    <a:pt x="253" y="2569"/>
                  </a:lnTo>
                  <a:lnTo>
                    <a:pt x="276" y="2593"/>
                  </a:lnTo>
                  <a:lnTo>
                    <a:pt x="298" y="2617"/>
                  </a:lnTo>
                  <a:lnTo>
                    <a:pt x="323" y="2638"/>
                  </a:lnTo>
                  <a:lnTo>
                    <a:pt x="348" y="2658"/>
                  </a:lnTo>
                  <a:lnTo>
                    <a:pt x="374" y="2676"/>
                  </a:lnTo>
                  <a:lnTo>
                    <a:pt x="402" y="2695"/>
                  </a:lnTo>
                  <a:lnTo>
                    <a:pt x="432" y="2711"/>
                  </a:lnTo>
                  <a:lnTo>
                    <a:pt x="462" y="2726"/>
                  </a:lnTo>
                  <a:lnTo>
                    <a:pt x="492" y="2739"/>
                  </a:lnTo>
                  <a:lnTo>
                    <a:pt x="523" y="2751"/>
                  </a:lnTo>
                  <a:lnTo>
                    <a:pt x="553" y="2761"/>
                  </a:lnTo>
                  <a:lnTo>
                    <a:pt x="584" y="2768"/>
                  </a:lnTo>
                  <a:lnTo>
                    <a:pt x="615" y="2775"/>
                  </a:lnTo>
                  <a:lnTo>
                    <a:pt x="645" y="2780"/>
                  </a:lnTo>
                  <a:lnTo>
                    <a:pt x="674" y="2784"/>
                  </a:lnTo>
                  <a:lnTo>
                    <a:pt x="705" y="2788"/>
                  </a:lnTo>
                  <a:lnTo>
                    <a:pt x="735" y="2789"/>
                  </a:lnTo>
                  <a:lnTo>
                    <a:pt x="764" y="2789"/>
                  </a:lnTo>
                  <a:lnTo>
                    <a:pt x="794" y="2789"/>
                  </a:lnTo>
                  <a:lnTo>
                    <a:pt x="822" y="2788"/>
                  </a:lnTo>
                  <a:lnTo>
                    <a:pt x="851" y="2785"/>
                  </a:lnTo>
                  <a:lnTo>
                    <a:pt x="878" y="2783"/>
                  </a:lnTo>
                  <a:lnTo>
                    <a:pt x="904" y="2779"/>
                  </a:lnTo>
                  <a:lnTo>
                    <a:pt x="930" y="2775"/>
                  </a:lnTo>
                  <a:lnTo>
                    <a:pt x="956" y="2770"/>
                  </a:lnTo>
                  <a:lnTo>
                    <a:pt x="1003" y="2761"/>
                  </a:lnTo>
                  <a:lnTo>
                    <a:pt x="1048" y="2749"/>
                  </a:lnTo>
                  <a:lnTo>
                    <a:pt x="1087" y="2738"/>
                  </a:lnTo>
                  <a:lnTo>
                    <a:pt x="1121" y="2727"/>
                  </a:lnTo>
                  <a:lnTo>
                    <a:pt x="1150" y="2716"/>
                  </a:lnTo>
                  <a:lnTo>
                    <a:pt x="1172" y="2707"/>
                  </a:lnTo>
                  <a:lnTo>
                    <a:pt x="1175" y="2749"/>
                  </a:lnTo>
                  <a:lnTo>
                    <a:pt x="1176" y="2793"/>
                  </a:lnTo>
                  <a:lnTo>
                    <a:pt x="1176" y="2837"/>
                  </a:lnTo>
                  <a:lnTo>
                    <a:pt x="1177" y="2885"/>
                  </a:lnTo>
                  <a:lnTo>
                    <a:pt x="1176" y="2986"/>
                  </a:lnTo>
                  <a:lnTo>
                    <a:pt x="1174" y="3093"/>
                  </a:lnTo>
                  <a:lnTo>
                    <a:pt x="1169" y="3203"/>
                  </a:lnTo>
                  <a:lnTo>
                    <a:pt x="1164" y="3318"/>
                  </a:lnTo>
                  <a:lnTo>
                    <a:pt x="1156" y="3434"/>
                  </a:lnTo>
                  <a:lnTo>
                    <a:pt x="1149" y="3551"/>
                  </a:lnTo>
                  <a:lnTo>
                    <a:pt x="1140" y="3669"/>
                  </a:lnTo>
                  <a:lnTo>
                    <a:pt x="1130" y="3785"/>
                  </a:lnTo>
                  <a:lnTo>
                    <a:pt x="1120" y="3901"/>
                  </a:lnTo>
                  <a:lnTo>
                    <a:pt x="1110" y="4012"/>
                  </a:lnTo>
                  <a:lnTo>
                    <a:pt x="1100" y="4120"/>
                  </a:lnTo>
                  <a:lnTo>
                    <a:pt x="1089" y="4223"/>
                  </a:lnTo>
                  <a:lnTo>
                    <a:pt x="1079" y="4320"/>
                  </a:lnTo>
                  <a:lnTo>
                    <a:pt x="1069" y="4411"/>
                  </a:lnTo>
                  <a:lnTo>
                    <a:pt x="1059" y="4493"/>
                  </a:lnTo>
                  <a:lnTo>
                    <a:pt x="1051" y="4566"/>
                  </a:lnTo>
                  <a:lnTo>
                    <a:pt x="1051" y="4568"/>
                  </a:lnTo>
                  <a:lnTo>
                    <a:pt x="1051" y="4569"/>
                  </a:lnTo>
                  <a:lnTo>
                    <a:pt x="1051" y="4574"/>
                  </a:lnTo>
                  <a:lnTo>
                    <a:pt x="1052" y="4579"/>
                  </a:lnTo>
                  <a:lnTo>
                    <a:pt x="1053" y="4584"/>
                  </a:lnTo>
                  <a:lnTo>
                    <a:pt x="1056" y="4589"/>
                  </a:lnTo>
                  <a:lnTo>
                    <a:pt x="1058" y="4593"/>
                  </a:lnTo>
                  <a:lnTo>
                    <a:pt x="1062" y="4597"/>
                  </a:lnTo>
                  <a:lnTo>
                    <a:pt x="1066" y="4599"/>
                  </a:lnTo>
                  <a:lnTo>
                    <a:pt x="1071" y="4602"/>
                  </a:lnTo>
                  <a:lnTo>
                    <a:pt x="1076" y="4604"/>
                  </a:lnTo>
                  <a:lnTo>
                    <a:pt x="1082" y="4605"/>
                  </a:lnTo>
                  <a:lnTo>
                    <a:pt x="1087" y="4605"/>
                  </a:lnTo>
                  <a:lnTo>
                    <a:pt x="1093" y="4605"/>
                  </a:lnTo>
                  <a:lnTo>
                    <a:pt x="1098" y="4603"/>
                  </a:lnTo>
                  <a:lnTo>
                    <a:pt x="1103" y="4602"/>
                  </a:lnTo>
                  <a:lnTo>
                    <a:pt x="1108" y="4598"/>
                  </a:lnTo>
                  <a:lnTo>
                    <a:pt x="1112" y="4594"/>
                  </a:lnTo>
                  <a:lnTo>
                    <a:pt x="1159" y="4547"/>
                  </a:lnTo>
                  <a:lnTo>
                    <a:pt x="1208" y="4504"/>
                  </a:lnTo>
                  <a:lnTo>
                    <a:pt x="1258" y="4465"/>
                  </a:lnTo>
                  <a:lnTo>
                    <a:pt x="1308" y="4431"/>
                  </a:lnTo>
                  <a:lnTo>
                    <a:pt x="1360" y="4401"/>
                  </a:lnTo>
                  <a:lnTo>
                    <a:pt x="1412" y="4373"/>
                  </a:lnTo>
                  <a:lnTo>
                    <a:pt x="1465" y="4350"/>
                  </a:lnTo>
                  <a:lnTo>
                    <a:pt x="1519" y="4330"/>
                  </a:lnTo>
                  <a:lnTo>
                    <a:pt x="1573" y="4313"/>
                  </a:lnTo>
                  <a:lnTo>
                    <a:pt x="1627" y="4299"/>
                  </a:lnTo>
                  <a:lnTo>
                    <a:pt x="1681" y="4288"/>
                  </a:lnTo>
                  <a:lnTo>
                    <a:pt x="1736" y="4280"/>
                  </a:lnTo>
                  <a:lnTo>
                    <a:pt x="1790" y="4274"/>
                  </a:lnTo>
                  <a:lnTo>
                    <a:pt x="1844" y="4270"/>
                  </a:lnTo>
                  <a:lnTo>
                    <a:pt x="1898" y="4269"/>
                  </a:lnTo>
                  <a:lnTo>
                    <a:pt x="1951" y="4270"/>
                  </a:lnTo>
                  <a:lnTo>
                    <a:pt x="2003" y="4273"/>
                  </a:lnTo>
                  <a:lnTo>
                    <a:pt x="2054" y="4277"/>
                  </a:lnTo>
                  <a:lnTo>
                    <a:pt x="2105" y="4283"/>
                  </a:lnTo>
                  <a:lnTo>
                    <a:pt x="2155" y="4289"/>
                  </a:lnTo>
                  <a:lnTo>
                    <a:pt x="2203" y="4298"/>
                  </a:lnTo>
                  <a:lnTo>
                    <a:pt x="2250" y="4306"/>
                  </a:lnTo>
                  <a:lnTo>
                    <a:pt x="2296" y="4316"/>
                  </a:lnTo>
                  <a:lnTo>
                    <a:pt x="2341" y="4328"/>
                  </a:lnTo>
                  <a:lnTo>
                    <a:pt x="2424" y="4350"/>
                  </a:lnTo>
                  <a:lnTo>
                    <a:pt x="2500" y="4372"/>
                  </a:lnTo>
                  <a:lnTo>
                    <a:pt x="2567" y="4393"/>
                  </a:lnTo>
                  <a:lnTo>
                    <a:pt x="2624" y="4413"/>
                  </a:lnTo>
                  <a:lnTo>
                    <a:pt x="2661" y="4426"/>
                  </a:lnTo>
                  <a:lnTo>
                    <a:pt x="2692" y="4435"/>
                  </a:lnTo>
                  <a:lnTo>
                    <a:pt x="2717" y="4443"/>
                  </a:lnTo>
                  <a:lnTo>
                    <a:pt x="2737" y="4447"/>
                  </a:lnTo>
                  <a:lnTo>
                    <a:pt x="2746" y="4448"/>
                  </a:lnTo>
                  <a:lnTo>
                    <a:pt x="2753" y="4448"/>
                  </a:lnTo>
                  <a:lnTo>
                    <a:pt x="2761" y="4447"/>
                  </a:lnTo>
                  <a:lnTo>
                    <a:pt x="2767" y="4444"/>
                  </a:lnTo>
                  <a:lnTo>
                    <a:pt x="2772" y="4442"/>
                  </a:lnTo>
                  <a:lnTo>
                    <a:pt x="2777" y="4438"/>
                  </a:lnTo>
                  <a:lnTo>
                    <a:pt x="2780" y="4433"/>
                  </a:lnTo>
                  <a:lnTo>
                    <a:pt x="2784" y="4427"/>
                  </a:lnTo>
                  <a:lnTo>
                    <a:pt x="2787" y="4422"/>
                  </a:lnTo>
                  <a:lnTo>
                    <a:pt x="2789" y="4417"/>
                  </a:lnTo>
                  <a:lnTo>
                    <a:pt x="2790" y="4412"/>
                  </a:lnTo>
                  <a:lnTo>
                    <a:pt x="2790" y="4407"/>
                  </a:lnTo>
                  <a:lnTo>
                    <a:pt x="2789" y="4398"/>
                  </a:lnTo>
                  <a:lnTo>
                    <a:pt x="2785" y="4388"/>
                  </a:lnTo>
                  <a:lnTo>
                    <a:pt x="2778" y="4377"/>
                  </a:lnTo>
                  <a:lnTo>
                    <a:pt x="2769" y="4366"/>
                  </a:lnTo>
                  <a:lnTo>
                    <a:pt x="2743" y="4339"/>
                  </a:lnTo>
                  <a:lnTo>
                    <a:pt x="2708" y="4308"/>
                  </a:lnTo>
                  <a:lnTo>
                    <a:pt x="2721" y="4284"/>
                  </a:lnTo>
                  <a:lnTo>
                    <a:pt x="2748" y="4236"/>
                  </a:lnTo>
                  <a:lnTo>
                    <a:pt x="2789" y="4164"/>
                  </a:lnTo>
                  <a:lnTo>
                    <a:pt x="2839" y="4074"/>
                  </a:lnTo>
                  <a:lnTo>
                    <a:pt x="2898" y="3969"/>
                  </a:lnTo>
                  <a:lnTo>
                    <a:pt x="2964" y="3852"/>
                  </a:lnTo>
                  <a:lnTo>
                    <a:pt x="3034" y="3728"/>
                  </a:lnTo>
                  <a:lnTo>
                    <a:pt x="3106" y="3600"/>
                  </a:lnTo>
                  <a:lnTo>
                    <a:pt x="3178" y="3473"/>
                  </a:lnTo>
                  <a:lnTo>
                    <a:pt x="3247" y="3347"/>
                  </a:lnTo>
                  <a:lnTo>
                    <a:pt x="3314" y="3230"/>
                  </a:lnTo>
                  <a:lnTo>
                    <a:pt x="3374" y="3123"/>
                  </a:lnTo>
                  <a:lnTo>
                    <a:pt x="3426" y="3031"/>
                  </a:lnTo>
                  <a:lnTo>
                    <a:pt x="3467" y="2957"/>
                  </a:lnTo>
                  <a:lnTo>
                    <a:pt x="3497" y="2904"/>
                  </a:lnTo>
                  <a:lnTo>
                    <a:pt x="3512" y="2877"/>
                  </a:lnTo>
                  <a:lnTo>
                    <a:pt x="3554" y="2883"/>
                  </a:lnTo>
                  <a:lnTo>
                    <a:pt x="3595" y="2888"/>
                  </a:lnTo>
                  <a:lnTo>
                    <a:pt x="3636" y="2893"/>
                  </a:lnTo>
                  <a:lnTo>
                    <a:pt x="3676" y="2896"/>
                  </a:lnTo>
                  <a:lnTo>
                    <a:pt x="3715" y="2898"/>
                  </a:lnTo>
                  <a:lnTo>
                    <a:pt x="3755" y="2900"/>
                  </a:lnTo>
                  <a:lnTo>
                    <a:pt x="3794" y="2901"/>
                  </a:lnTo>
                  <a:lnTo>
                    <a:pt x="3831" y="2901"/>
                  </a:lnTo>
                  <a:lnTo>
                    <a:pt x="3868" y="2900"/>
                  </a:lnTo>
                  <a:lnTo>
                    <a:pt x="3904" y="2897"/>
                  </a:lnTo>
                  <a:lnTo>
                    <a:pt x="3940" y="2895"/>
                  </a:lnTo>
                  <a:lnTo>
                    <a:pt x="3976" y="2891"/>
                  </a:lnTo>
                  <a:lnTo>
                    <a:pt x="4011" y="2886"/>
                  </a:lnTo>
                  <a:lnTo>
                    <a:pt x="4045" y="2881"/>
                  </a:lnTo>
                  <a:lnTo>
                    <a:pt x="4078" y="2875"/>
                  </a:lnTo>
                  <a:lnTo>
                    <a:pt x="4112" y="2867"/>
                  </a:lnTo>
                  <a:lnTo>
                    <a:pt x="4144" y="2859"/>
                  </a:lnTo>
                  <a:lnTo>
                    <a:pt x="4175" y="2850"/>
                  </a:lnTo>
                  <a:lnTo>
                    <a:pt x="4206" y="2840"/>
                  </a:lnTo>
                  <a:lnTo>
                    <a:pt x="4237" y="2829"/>
                  </a:lnTo>
                  <a:lnTo>
                    <a:pt x="4267" y="2818"/>
                  </a:lnTo>
                  <a:lnTo>
                    <a:pt x="4295" y="2805"/>
                  </a:lnTo>
                  <a:lnTo>
                    <a:pt x="4324" y="2792"/>
                  </a:lnTo>
                  <a:lnTo>
                    <a:pt x="4352" y="2777"/>
                  </a:lnTo>
                  <a:lnTo>
                    <a:pt x="4380" y="2762"/>
                  </a:lnTo>
                  <a:lnTo>
                    <a:pt x="4406" y="2746"/>
                  </a:lnTo>
                  <a:lnTo>
                    <a:pt x="4432" y="2730"/>
                  </a:lnTo>
                  <a:lnTo>
                    <a:pt x="4458" y="2711"/>
                  </a:lnTo>
                  <a:lnTo>
                    <a:pt x="4483" y="2692"/>
                  </a:lnTo>
                  <a:lnTo>
                    <a:pt x="4506" y="2672"/>
                  </a:lnTo>
                  <a:lnTo>
                    <a:pt x="4530" y="2653"/>
                  </a:lnTo>
                  <a:lnTo>
                    <a:pt x="4552" y="2630"/>
                  </a:lnTo>
                  <a:lnTo>
                    <a:pt x="4593" y="2588"/>
                  </a:lnTo>
                  <a:lnTo>
                    <a:pt x="4632" y="2543"/>
                  </a:lnTo>
                  <a:lnTo>
                    <a:pt x="4667" y="2498"/>
                  </a:lnTo>
                  <a:lnTo>
                    <a:pt x="4698" y="2449"/>
                  </a:lnTo>
                  <a:lnTo>
                    <a:pt x="4728" y="2400"/>
                  </a:lnTo>
                  <a:lnTo>
                    <a:pt x="4754" y="2350"/>
                  </a:lnTo>
                  <a:lnTo>
                    <a:pt x="4777" y="2298"/>
                  </a:lnTo>
                  <a:lnTo>
                    <a:pt x="4800" y="2247"/>
                  </a:lnTo>
                  <a:lnTo>
                    <a:pt x="4818" y="2194"/>
                  </a:lnTo>
                  <a:lnTo>
                    <a:pt x="4834" y="2141"/>
                  </a:lnTo>
                  <a:lnTo>
                    <a:pt x="4849" y="2088"/>
                  </a:lnTo>
                  <a:lnTo>
                    <a:pt x="4863" y="2036"/>
                  </a:lnTo>
                  <a:lnTo>
                    <a:pt x="4874" y="1984"/>
                  </a:lnTo>
                  <a:lnTo>
                    <a:pt x="4883" y="1932"/>
                  </a:lnTo>
                  <a:lnTo>
                    <a:pt x="4890" y="1881"/>
                  </a:lnTo>
                  <a:lnTo>
                    <a:pt x="4898" y="1830"/>
                  </a:lnTo>
                  <a:lnTo>
                    <a:pt x="4901" y="1782"/>
                  </a:lnTo>
                  <a:lnTo>
                    <a:pt x="4905" y="1734"/>
                  </a:lnTo>
                  <a:lnTo>
                    <a:pt x="4909" y="1689"/>
                  </a:lnTo>
                  <a:lnTo>
                    <a:pt x="4910" y="1644"/>
                  </a:lnTo>
                  <a:lnTo>
                    <a:pt x="4910" y="1563"/>
                  </a:lnTo>
                  <a:lnTo>
                    <a:pt x="4909" y="1491"/>
                  </a:lnTo>
                  <a:lnTo>
                    <a:pt x="4906" y="1431"/>
                  </a:lnTo>
                  <a:lnTo>
                    <a:pt x="4903" y="1385"/>
                  </a:lnTo>
                  <a:lnTo>
                    <a:pt x="4899" y="1352"/>
                  </a:lnTo>
                  <a:lnTo>
                    <a:pt x="4896" y="1336"/>
                  </a:lnTo>
                  <a:lnTo>
                    <a:pt x="4862" y="1274"/>
                  </a:lnTo>
                  <a:lnTo>
                    <a:pt x="4827" y="1216"/>
                  </a:lnTo>
                  <a:lnTo>
                    <a:pt x="4792" y="1163"/>
                  </a:lnTo>
                  <a:lnTo>
                    <a:pt x="4757" y="1112"/>
                  </a:lnTo>
                  <a:lnTo>
                    <a:pt x="4721" y="1066"/>
                  </a:lnTo>
                  <a:lnTo>
                    <a:pt x="4687" y="1024"/>
                  </a:lnTo>
                  <a:lnTo>
                    <a:pt x="4668" y="1004"/>
                  </a:lnTo>
                  <a:lnTo>
                    <a:pt x="4651" y="985"/>
                  </a:lnTo>
                  <a:lnTo>
                    <a:pt x="4633" y="967"/>
                  </a:lnTo>
                  <a:lnTo>
                    <a:pt x="4615" y="950"/>
                  </a:lnTo>
                  <a:lnTo>
                    <a:pt x="4597" y="934"/>
                  </a:lnTo>
                  <a:lnTo>
                    <a:pt x="4580" y="919"/>
                  </a:lnTo>
                  <a:lnTo>
                    <a:pt x="4561" y="906"/>
                  </a:lnTo>
                  <a:lnTo>
                    <a:pt x="4544" y="893"/>
                  </a:lnTo>
                  <a:lnTo>
                    <a:pt x="4525" y="881"/>
                  </a:lnTo>
                  <a:lnTo>
                    <a:pt x="4508" y="870"/>
                  </a:lnTo>
                  <a:lnTo>
                    <a:pt x="4490" y="860"/>
                  </a:lnTo>
                  <a:lnTo>
                    <a:pt x="4472" y="851"/>
                  </a:lnTo>
                  <a:lnTo>
                    <a:pt x="4454" y="842"/>
                  </a:lnTo>
                  <a:lnTo>
                    <a:pt x="4436" y="836"/>
                  </a:lnTo>
                  <a:lnTo>
                    <a:pt x="4418" y="830"/>
                  </a:lnTo>
                  <a:lnTo>
                    <a:pt x="4400" y="825"/>
                  </a:lnTo>
                  <a:lnTo>
                    <a:pt x="4382" y="820"/>
                  </a:lnTo>
                  <a:lnTo>
                    <a:pt x="4364" y="818"/>
                  </a:lnTo>
                  <a:lnTo>
                    <a:pt x="4346" y="815"/>
                  </a:lnTo>
                  <a:lnTo>
                    <a:pt x="4328" y="814"/>
                  </a:lnTo>
                  <a:lnTo>
                    <a:pt x="4309" y="813"/>
                  </a:lnTo>
                  <a:lnTo>
                    <a:pt x="4290" y="814"/>
                  </a:lnTo>
                  <a:lnTo>
                    <a:pt x="4273" y="815"/>
                  </a:lnTo>
                  <a:lnTo>
                    <a:pt x="4256" y="818"/>
                  </a:lnTo>
                  <a:lnTo>
                    <a:pt x="4239" y="821"/>
                  </a:lnTo>
                  <a:lnTo>
                    <a:pt x="4223" y="825"/>
                  </a:lnTo>
                  <a:lnTo>
                    <a:pt x="4207" y="830"/>
                  </a:lnTo>
                  <a:lnTo>
                    <a:pt x="4192" y="835"/>
                  </a:lnTo>
                  <a:lnTo>
                    <a:pt x="4164" y="847"/>
                  </a:lnTo>
                  <a:lnTo>
                    <a:pt x="4136" y="862"/>
                  </a:lnTo>
                  <a:lnTo>
                    <a:pt x="4112" y="877"/>
                  </a:lnTo>
                  <a:lnTo>
                    <a:pt x="4089" y="893"/>
                  </a:lnTo>
                  <a:lnTo>
                    <a:pt x="4104" y="841"/>
                  </a:lnTo>
                  <a:lnTo>
                    <a:pt x="4119" y="789"/>
                  </a:lnTo>
                  <a:lnTo>
                    <a:pt x="4130" y="738"/>
                  </a:lnTo>
                  <a:lnTo>
                    <a:pt x="4141" y="690"/>
                  </a:lnTo>
                  <a:lnTo>
                    <a:pt x="4150" y="641"/>
                  </a:lnTo>
                  <a:lnTo>
                    <a:pt x="4156" y="596"/>
                  </a:lnTo>
                  <a:lnTo>
                    <a:pt x="4160" y="552"/>
                  </a:lnTo>
                  <a:lnTo>
                    <a:pt x="4161" y="510"/>
                  </a:lnTo>
                  <a:lnTo>
                    <a:pt x="4160" y="481"/>
                  </a:lnTo>
                  <a:lnTo>
                    <a:pt x="4159" y="453"/>
                  </a:lnTo>
                  <a:lnTo>
                    <a:pt x="4156" y="426"/>
                  </a:lnTo>
                  <a:lnTo>
                    <a:pt x="4153" y="398"/>
                  </a:lnTo>
                  <a:lnTo>
                    <a:pt x="4148" y="373"/>
                  </a:lnTo>
                  <a:lnTo>
                    <a:pt x="4143" y="349"/>
                  </a:lnTo>
                  <a:lnTo>
                    <a:pt x="4135" y="324"/>
                  </a:lnTo>
                  <a:lnTo>
                    <a:pt x="4128" y="300"/>
                  </a:lnTo>
                  <a:lnTo>
                    <a:pt x="4118" y="278"/>
                  </a:lnTo>
                  <a:lnTo>
                    <a:pt x="4108" y="257"/>
                  </a:lnTo>
                  <a:lnTo>
                    <a:pt x="4097" y="236"/>
                  </a:lnTo>
                  <a:lnTo>
                    <a:pt x="4086" y="216"/>
                  </a:lnTo>
                  <a:lnTo>
                    <a:pt x="4072" y="197"/>
                  </a:lnTo>
                  <a:lnTo>
                    <a:pt x="4058" y="179"/>
                  </a:lnTo>
                  <a:lnTo>
                    <a:pt x="4042" y="161"/>
                  </a:lnTo>
                  <a:lnTo>
                    <a:pt x="4026" y="145"/>
                  </a:lnTo>
                  <a:lnTo>
                    <a:pt x="3989" y="114"/>
                  </a:lnTo>
                  <a:lnTo>
                    <a:pt x="3949" y="87"/>
                  </a:lnTo>
                  <a:lnTo>
                    <a:pt x="3905" y="65"/>
                  </a:lnTo>
                  <a:lnTo>
                    <a:pt x="3860" y="45"/>
                  </a:lnTo>
                  <a:lnTo>
                    <a:pt x="3810" y="30"/>
                  </a:lnTo>
                  <a:lnTo>
                    <a:pt x="3759" y="17"/>
                  </a:lnTo>
                  <a:lnTo>
                    <a:pt x="3706" y="9"/>
                  </a:lnTo>
                  <a:lnTo>
                    <a:pt x="3651" y="4"/>
                  </a:lnTo>
                  <a:lnTo>
                    <a:pt x="3595" y="0"/>
                  </a:lnTo>
                  <a:lnTo>
                    <a:pt x="3537" y="0"/>
                  </a:lnTo>
                  <a:lnTo>
                    <a:pt x="3478" y="2"/>
                  </a:lnTo>
                  <a:lnTo>
                    <a:pt x="3420" y="6"/>
                  </a:lnTo>
                  <a:lnTo>
                    <a:pt x="3360" y="12"/>
                  </a:lnTo>
                  <a:lnTo>
                    <a:pt x="3301" y="21"/>
                  </a:lnTo>
                  <a:lnTo>
                    <a:pt x="3241" y="31"/>
                  </a:lnTo>
                  <a:lnTo>
                    <a:pt x="3183" y="42"/>
                  </a:lnTo>
                  <a:lnTo>
                    <a:pt x="3124" y="55"/>
                  </a:lnTo>
                  <a:lnTo>
                    <a:pt x="3067" y="67"/>
                  </a:lnTo>
                  <a:lnTo>
                    <a:pt x="3013" y="82"/>
                  </a:lnTo>
                  <a:lnTo>
                    <a:pt x="2958" y="97"/>
                  </a:lnTo>
                  <a:lnTo>
                    <a:pt x="2906" y="112"/>
                  </a:lnTo>
                  <a:lnTo>
                    <a:pt x="2856" y="127"/>
                  </a:lnTo>
                  <a:lnTo>
                    <a:pt x="2809" y="141"/>
                  </a:lnTo>
                  <a:lnTo>
                    <a:pt x="2764" y="156"/>
                  </a:lnTo>
                  <a:lnTo>
                    <a:pt x="2684" y="184"/>
                  </a:lnTo>
                  <a:lnTo>
                    <a:pt x="2618" y="208"/>
                  </a:lnTo>
                  <a:lnTo>
                    <a:pt x="2568" y="228"/>
                  </a:lnTo>
                  <a:lnTo>
                    <a:pt x="2538" y="241"/>
                  </a:lnTo>
                  <a:close/>
                  <a:moveTo>
                    <a:pt x="2552" y="311"/>
                  </a:moveTo>
                  <a:lnTo>
                    <a:pt x="2567" y="305"/>
                  </a:lnTo>
                  <a:lnTo>
                    <a:pt x="2603" y="292"/>
                  </a:lnTo>
                  <a:lnTo>
                    <a:pt x="2658" y="270"/>
                  </a:lnTo>
                  <a:lnTo>
                    <a:pt x="2730" y="244"/>
                  </a:lnTo>
                  <a:lnTo>
                    <a:pt x="2816" y="215"/>
                  </a:lnTo>
                  <a:lnTo>
                    <a:pt x="2915" y="185"/>
                  </a:lnTo>
                  <a:lnTo>
                    <a:pt x="2968" y="169"/>
                  </a:lnTo>
                  <a:lnTo>
                    <a:pt x="3023" y="154"/>
                  </a:lnTo>
                  <a:lnTo>
                    <a:pt x="3078" y="140"/>
                  </a:lnTo>
                  <a:lnTo>
                    <a:pt x="3137" y="127"/>
                  </a:lnTo>
                  <a:lnTo>
                    <a:pt x="3195" y="113"/>
                  </a:lnTo>
                  <a:lnTo>
                    <a:pt x="3255" y="102"/>
                  </a:lnTo>
                  <a:lnTo>
                    <a:pt x="3314" y="92"/>
                  </a:lnTo>
                  <a:lnTo>
                    <a:pt x="3374" y="84"/>
                  </a:lnTo>
                  <a:lnTo>
                    <a:pt x="3434" y="77"/>
                  </a:lnTo>
                  <a:lnTo>
                    <a:pt x="3492" y="73"/>
                  </a:lnTo>
                  <a:lnTo>
                    <a:pt x="3550" y="71"/>
                  </a:lnTo>
                  <a:lnTo>
                    <a:pt x="3607" y="72"/>
                  </a:lnTo>
                  <a:lnTo>
                    <a:pt x="3662" y="76"/>
                  </a:lnTo>
                  <a:lnTo>
                    <a:pt x="3715" y="82"/>
                  </a:lnTo>
                  <a:lnTo>
                    <a:pt x="3766" y="92"/>
                  </a:lnTo>
                  <a:lnTo>
                    <a:pt x="3815" y="104"/>
                  </a:lnTo>
                  <a:lnTo>
                    <a:pt x="3861" y="122"/>
                  </a:lnTo>
                  <a:lnTo>
                    <a:pt x="3903" y="143"/>
                  </a:lnTo>
                  <a:lnTo>
                    <a:pt x="3941" y="167"/>
                  </a:lnTo>
                  <a:lnTo>
                    <a:pt x="3976" y="196"/>
                  </a:lnTo>
                  <a:lnTo>
                    <a:pt x="3990" y="211"/>
                  </a:lnTo>
                  <a:lnTo>
                    <a:pt x="4004" y="225"/>
                  </a:lnTo>
                  <a:lnTo>
                    <a:pt x="4015" y="241"/>
                  </a:lnTo>
                  <a:lnTo>
                    <a:pt x="4026" y="256"/>
                  </a:lnTo>
                  <a:lnTo>
                    <a:pt x="4036" y="273"/>
                  </a:lnTo>
                  <a:lnTo>
                    <a:pt x="4046" y="290"/>
                  </a:lnTo>
                  <a:lnTo>
                    <a:pt x="4053" y="309"/>
                  </a:lnTo>
                  <a:lnTo>
                    <a:pt x="4061" y="328"/>
                  </a:lnTo>
                  <a:lnTo>
                    <a:pt x="4068" y="347"/>
                  </a:lnTo>
                  <a:lnTo>
                    <a:pt x="4073" y="368"/>
                  </a:lnTo>
                  <a:lnTo>
                    <a:pt x="4078" y="390"/>
                  </a:lnTo>
                  <a:lnTo>
                    <a:pt x="4083" y="411"/>
                  </a:lnTo>
                  <a:lnTo>
                    <a:pt x="4086" y="434"/>
                  </a:lnTo>
                  <a:lnTo>
                    <a:pt x="4088" y="458"/>
                  </a:lnTo>
                  <a:lnTo>
                    <a:pt x="4089" y="481"/>
                  </a:lnTo>
                  <a:lnTo>
                    <a:pt x="4090" y="506"/>
                  </a:lnTo>
                  <a:lnTo>
                    <a:pt x="4090" y="532"/>
                  </a:lnTo>
                  <a:lnTo>
                    <a:pt x="4089" y="558"/>
                  </a:lnTo>
                  <a:lnTo>
                    <a:pt x="4087" y="586"/>
                  </a:lnTo>
                  <a:lnTo>
                    <a:pt x="4084" y="613"/>
                  </a:lnTo>
                  <a:lnTo>
                    <a:pt x="4081" y="641"/>
                  </a:lnTo>
                  <a:lnTo>
                    <a:pt x="4076" y="671"/>
                  </a:lnTo>
                  <a:lnTo>
                    <a:pt x="4069" y="701"/>
                  </a:lnTo>
                  <a:lnTo>
                    <a:pt x="4063" y="732"/>
                  </a:lnTo>
                  <a:lnTo>
                    <a:pt x="4056" y="763"/>
                  </a:lnTo>
                  <a:lnTo>
                    <a:pt x="4048" y="795"/>
                  </a:lnTo>
                  <a:lnTo>
                    <a:pt x="4040" y="829"/>
                  </a:lnTo>
                  <a:lnTo>
                    <a:pt x="4030" y="862"/>
                  </a:lnTo>
                  <a:lnTo>
                    <a:pt x="4007" y="932"/>
                  </a:lnTo>
                  <a:lnTo>
                    <a:pt x="3981" y="1004"/>
                  </a:lnTo>
                  <a:lnTo>
                    <a:pt x="3980" y="1010"/>
                  </a:lnTo>
                  <a:lnTo>
                    <a:pt x="3979" y="1016"/>
                  </a:lnTo>
                  <a:lnTo>
                    <a:pt x="3980" y="1022"/>
                  </a:lnTo>
                  <a:lnTo>
                    <a:pt x="3981" y="1029"/>
                  </a:lnTo>
                  <a:lnTo>
                    <a:pt x="3984" y="1035"/>
                  </a:lnTo>
                  <a:lnTo>
                    <a:pt x="3987" y="1040"/>
                  </a:lnTo>
                  <a:lnTo>
                    <a:pt x="3992" y="1045"/>
                  </a:lnTo>
                  <a:lnTo>
                    <a:pt x="3999" y="1047"/>
                  </a:lnTo>
                  <a:lnTo>
                    <a:pt x="4005" y="1051"/>
                  </a:lnTo>
                  <a:lnTo>
                    <a:pt x="4011" y="1052"/>
                  </a:lnTo>
                  <a:lnTo>
                    <a:pt x="4017" y="1052"/>
                  </a:lnTo>
                  <a:lnTo>
                    <a:pt x="4023" y="1051"/>
                  </a:lnTo>
                  <a:lnTo>
                    <a:pt x="4030" y="1048"/>
                  </a:lnTo>
                  <a:lnTo>
                    <a:pt x="4035" y="1046"/>
                  </a:lnTo>
                  <a:lnTo>
                    <a:pt x="4040" y="1041"/>
                  </a:lnTo>
                  <a:lnTo>
                    <a:pt x="4045" y="1036"/>
                  </a:lnTo>
                  <a:lnTo>
                    <a:pt x="4050" y="1029"/>
                  </a:lnTo>
                  <a:lnTo>
                    <a:pt x="4064" y="1011"/>
                  </a:lnTo>
                  <a:lnTo>
                    <a:pt x="4076" y="999"/>
                  </a:lnTo>
                  <a:lnTo>
                    <a:pt x="4089" y="985"/>
                  </a:lnTo>
                  <a:lnTo>
                    <a:pt x="4104" y="971"/>
                  </a:lnTo>
                  <a:lnTo>
                    <a:pt x="4122" y="957"/>
                  </a:lnTo>
                  <a:lnTo>
                    <a:pt x="4141" y="943"/>
                  </a:lnTo>
                  <a:lnTo>
                    <a:pt x="4163" y="928"/>
                  </a:lnTo>
                  <a:lnTo>
                    <a:pt x="4185" y="916"/>
                  </a:lnTo>
                  <a:lnTo>
                    <a:pt x="4210" y="904"/>
                  </a:lnTo>
                  <a:lnTo>
                    <a:pt x="4223" y="900"/>
                  </a:lnTo>
                  <a:lnTo>
                    <a:pt x="4236" y="896"/>
                  </a:lnTo>
                  <a:lnTo>
                    <a:pt x="4251" y="892"/>
                  </a:lnTo>
                  <a:lnTo>
                    <a:pt x="4264" y="888"/>
                  </a:lnTo>
                  <a:lnTo>
                    <a:pt x="4279" y="887"/>
                  </a:lnTo>
                  <a:lnTo>
                    <a:pt x="4294" y="885"/>
                  </a:lnTo>
                  <a:lnTo>
                    <a:pt x="4309" y="885"/>
                  </a:lnTo>
                  <a:lnTo>
                    <a:pt x="4325" y="885"/>
                  </a:lnTo>
                  <a:lnTo>
                    <a:pt x="4340" y="886"/>
                  </a:lnTo>
                  <a:lnTo>
                    <a:pt x="4356" y="888"/>
                  </a:lnTo>
                  <a:lnTo>
                    <a:pt x="4371" y="891"/>
                  </a:lnTo>
                  <a:lnTo>
                    <a:pt x="4387" y="895"/>
                  </a:lnTo>
                  <a:lnTo>
                    <a:pt x="4402" y="900"/>
                  </a:lnTo>
                  <a:lnTo>
                    <a:pt x="4418" y="906"/>
                  </a:lnTo>
                  <a:lnTo>
                    <a:pt x="4434" y="912"/>
                  </a:lnTo>
                  <a:lnTo>
                    <a:pt x="4449" y="919"/>
                  </a:lnTo>
                  <a:lnTo>
                    <a:pt x="4465" y="928"/>
                  </a:lnTo>
                  <a:lnTo>
                    <a:pt x="4482" y="938"/>
                  </a:lnTo>
                  <a:lnTo>
                    <a:pt x="4498" y="948"/>
                  </a:lnTo>
                  <a:lnTo>
                    <a:pt x="4513" y="959"/>
                  </a:lnTo>
                  <a:lnTo>
                    <a:pt x="4529" y="970"/>
                  </a:lnTo>
                  <a:lnTo>
                    <a:pt x="4545" y="984"/>
                  </a:lnTo>
                  <a:lnTo>
                    <a:pt x="4561" y="998"/>
                  </a:lnTo>
                  <a:lnTo>
                    <a:pt x="4577" y="1011"/>
                  </a:lnTo>
                  <a:lnTo>
                    <a:pt x="4608" y="1043"/>
                  </a:lnTo>
                  <a:lnTo>
                    <a:pt x="4641" y="1078"/>
                  </a:lnTo>
                  <a:lnTo>
                    <a:pt x="4673" y="1117"/>
                  </a:lnTo>
                  <a:lnTo>
                    <a:pt x="4704" y="1159"/>
                  </a:lnTo>
                  <a:lnTo>
                    <a:pt x="4736" y="1203"/>
                  </a:lnTo>
                  <a:lnTo>
                    <a:pt x="4767" y="1252"/>
                  </a:lnTo>
                  <a:lnTo>
                    <a:pt x="4800" y="1304"/>
                  </a:lnTo>
                  <a:lnTo>
                    <a:pt x="4831" y="1359"/>
                  </a:lnTo>
                  <a:lnTo>
                    <a:pt x="4831" y="1367"/>
                  </a:lnTo>
                  <a:lnTo>
                    <a:pt x="4833" y="1393"/>
                  </a:lnTo>
                  <a:lnTo>
                    <a:pt x="4836" y="1434"/>
                  </a:lnTo>
                  <a:lnTo>
                    <a:pt x="4838" y="1489"/>
                  </a:lnTo>
                  <a:lnTo>
                    <a:pt x="4839" y="1556"/>
                  </a:lnTo>
                  <a:lnTo>
                    <a:pt x="4838" y="1633"/>
                  </a:lnTo>
                  <a:lnTo>
                    <a:pt x="4837" y="1675"/>
                  </a:lnTo>
                  <a:lnTo>
                    <a:pt x="4834" y="1718"/>
                  </a:lnTo>
                  <a:lnTo>
                    <a:pt x="4831" y="1764"/>
                  </a:lnTo>
                  <a:lnTo>
                    <a:pt x="4826" y="1811"/>
                  </a:lnTo>
                  <a:lnTo>
                    <a:pt x="4821" y="1859"/>
                  </a:lnTo>
                  <a:lnTo>
                    <a:pt x="4813" y="1908"/>
                  </a:lnTo>
                  <a:lnTo>
                    <a:pt x="4804" y="1958"/>
                  </a:lnTo>
                  <a:lnTo>
                    <a:pt x="4795" y="2009"/>
                  </a:lnTo>
                  <a:lnTo>
                    <a:pt x="4782" y="2060"/>
                  </a:lnTo>
                  <a:lnTo>
                    <a:pt x="4768" y="2110"/>
                  </a:lnTo>
                  <a:lnTo>
                    <a:pt x="4752" y="2161"/>
                  </a:lnTo>
                  <a:lnTo>
                    <a:pt x="4735" y="2212"/>
                  </a:lnTo>
                  <a:lnTo>
                    <a:pt x="4714" y="2262"/>
                  </a:lnTo>
                  <a:lnTo>
                    <a:pt x="4691" y="2311"/>
                  </a:lnTo>
                  <a:lnTo>
                    <a:pt x="4667" y="2360"/>
                  </a:lnTo>
                  <a:lnTo>
                    <a:pt x="4639" y="2407"/>
                  </a:lnTo>
                  <a:lnTo>
                    <a:pt x="4610" y="2453"/>
                  </a:lnTo>
                  <a:lnTo>
                    <a:pt x="4577" y="2498"/>
                  </a:lnTo>
                  <a:lnTo>
                    <a:pt x="4541" y="2540"/>
                  </a:lnTo>
                  <a:lnTo>
                    <a:pt x="4503" y="2579"/>
                  </a:lnTo>
                  <a:lnTo>
                    <a:pt x="4482" y="2599"/>
                  </a:lnTo>
                  <a:lnTo>
                    <a:pt x="4461" y="2618"/>
                  </a:lnTo>
                  <a:lnTo>
                    <a:pt x="4438" y="2635"/>
                  </a:lnTo>
                  <a:lnTo>
                    <a:pt x="4416" y="2653"/>
                  </a:lnTo>
                  <a:lnTo>
                    <a:pt x="4393" y="2669"/>
                  </a:lnTo>
                  <a:lnTo>
                    <a:pt x="4370" y="2685"/>
                  </a:lnTo>
                  <a:lnTo>
                    <a:pt x="4345" y="2700"/>
                  </a:lnTo>
                  <a:lnTo>
                    <a:pt x="4320" y="2713"/>
                  </a:lnTo>
                  <a:lnTo>
                    <a:pt x="4294" y="2726"/>
                  </a:lnTo>
                  <a:lnTo>
                    <a:pt x="4268" y="2738"/>
                  </a:lnTo>
                  <a:lnTo>
                    <a:pt x="4242" y="2749"/>
                  </a:lnTo>
                  <a:lnTo>
                    <a:pt x="4215" y="2761"/>
                  </a:lnTo>
                  <a:lnTo>
                    <a:pt x="4186" y="2770"/>
                  </a:lnTo>
                  <a:lnTo>
                    <a:pt x="4158" y="2779"/>
                  </a:lnTo>
                  <a:lnTo>
                    <a:pt x="4129" y="2788"/>
                  </a:lnTo>
                  <a:lnTo>
                    <a:pt x="4099" y="2795"/>
                  </a:lnTo>
                  <a:lnTo>
                    <a:pt x="4069" y="2803"/>
                  </a:lnTo>
                  <a:lnTo>
                    <a:pt x="4038" y="2808"/>
                  </a:lnTo>
                  <a:lnTo>
                    <a:pt x="4007" y="2814"/>
                  </a:lnTo>
                  <a:lnTo>
                    <a:pt x="3975" y="2818"/>
                  </a:lnTo>
                  <a:lnTo>
                    <a:pt x="3943" y="2821"/>
                  </a:lnTo>
                  <a:lnTo>
                    <a:pt x="3910" y="2824"/>
                  </a:lnTo>
                  <a:lnTo>
                    <a:pt x="3877" y="2826"/>
                  </a:lnTo>
                  <a:lnTo>
                    <a:pt x="3842" y="2828"/>
                  </a:lnTo>
                  <a:lnTo>
                    <a:pt x="3807" y="2828"/>
                  </a:lnTo>
                  <a:lnTo>
                    <a:pt x="3773" y="2828"/>
                  </a:lnTo>
                  <a:lnTo>
                    <a:pt x="3737" y="2826"/>
                  </a:lnTo>
                  <a:lnTo>
                    <a:pt x="3701" y="2825"/>
                  </a:lnTo>
                  <a:lnTo>
                    <a:pt x="3663" y="2823"/>
                  </a:lnTo>
                  <a:lnTo>
                    <a:pt x="3626" y="2819"/>
                  </a:lnTo>
                  <a:lnTo>
                    <a:pt x="3589" y="2814"/>
                  </a:lnTo>
                  <a:lnTo>
                    <a:pt x="3550" y="2809"/>
                  </a:lnTo>
                  <a:lnTo>
                    <a:pt x="3566" y="2773"/>
                  </a:lnTo>
                  <a:lnTo>
                    <a:pt x="3591" y="2721"/>
                  </a:lnTo>
                  <a:lnTo>
                    <a:pt x="3619" y="2660"/>
                  </a:lnTo>
                  <a:lnTo>
                    <a:pt x="3648" y="2598"/>
                  </a:lnTo>
                  <a:lnTo>
                    <a:pt x="3676" y="2538"/>
                  </a:lnTo>
                  <a:lnTo>
                    <a:pt x="3699" y="2488"/>
                  </a:lnTo>
                  <a:lnTo>
                    <a:pt x="3715" y="2454"/>
                  </a:lnTo>
                  <a:lnTo>
                    <a:pt x="3722" y="2440"/>
                  </a:lnTo>
                  <a:lnTo>
                    <a:pt x="3722" y="2440"/>
                  </a:lnTo>
                  <a:lnTo>
                    <a:pt x="3722" y="2440"/>
                  </a:lnTo>
                  <a:lnTo>
                    <a:pt x="3724" y="2433"/>
                  </a:lnTo>
                  <a:lnTo>
                    <a:pt x="3724" y="2427"/>
                  </a:lnTo>
                  <a:lnTo>
                    <a:pt x="3724" y="2422"/>
                  </a:lnTo>
                  <a:lnTo>
                    <a:pt x="3723" y="2417"/>
                  </a:lnTo>
                  <a:lnTo>
                    <a:pt x="3722" y="2412"/>
                  </a:lnTo>
                  <a:lnTo>
                    <a:pt x="3719" y="2407"/>
                  </a:lnTo>
                  <a:lnTo>
                    <a:pt x="3717" y="2403"/>
                  </a:lnTo>
                  <a:lnTo>
                    <a:pt x="3713" y="2400"/>
                  </a:lnTo>
                  <a:lnTo>
                    <a:pt x="3708" y="2397"/>
                  </a:lnTo>
                  <a:lnTo>
                    <a:pt x="3704" y="2395"/>
                  </a:lnTo>
                  <a:lnTo>
                    <a:pt x="3697" y="2392"/>
                  </a:lnTo>
                  <a:lnTo>
                    <a:pt x="3691" y="2391"/>
                  </a:lnTo>
                  <a:lnTo>
                    <a:pt x="3683" y="2391"/>
                  </a:lnTo>
                  <a:lnTo>
                    <a:pt x="3677" y="2393"/>
                  </a:lnTo>
                  <a:lnTo>
                    <a:pt x="3671" y="2396"/>
                  </a:lnTo>
                  <a:lnTo>
                    <a:pt x="3665" y="2401"/>
                  </a:lnTo>
                  <a:lnTo>
                    <a:pt x="3661" y="2406"/>
                  </a:lnTo>
                  <a:lnTo>
                    <a:pt x="3657" y="2412"/>
                  </a:lnTo>
                  <a:lnTo>
                    <a:pt x="3657" y="2412"/>
                  </a:lnTo>
                  <a:lnTo>
                    <a:pt x="3657" y="2411"/>
                  </a:lnTo>
                  <a:lnTo>
                    <a:pt x="3470" y="2808"/>
                  </a:lnTo>
                  <a:lnTo>
                    <a:pt x="2633" y="4297"/>
                  </a:lnTo>
                  <a:lnTo>
                    <a:pt x="2629" y="4305"/>
                  </a:lnTo>
                  <a:lnTo>
                    <a:pt x="2628" y="4313"/>
                  </a:lnTo>
                  <a:lnTo>
                    <a:pt x="2629" y="4321"/>
                  </a:lnTo>
                  <a:lnTo>
                    <a:pt x="2631" y="4329"/>
                  </a:lnTo>
                  <a:lnTo>
                    <a:pt x="2635" y="4335"/>
                  </a:lnTo>
                  <a:lnTo>
                    <a:pt x="2640" y="4341"/>
                  </a:lnTo>
                  <a:lnTo>
                    <a:pt x="2641" y="4342"/>
                  </a:lnTo>
                  <a:lnTo>
                    <a:pt x="2644" y="4345"/>
                  </a:lnTo>
                  <a:lnTo>
                    <a:pt x="2585" y="4325"/>
                  </a:lnTo>
                  <a:lnTo>
                    <a:pt x="2520" y="4304"/>
                  </a:lnTo>
                  <a:lnTo>
                    <a:pt x="2445" y="4282"/>
                  </a:lnTo>
                  <a:lnTo>
                    <a:pt x="2363" y="4261"/>
                  </a:lnTo>
                  <a:lnTo>
                    <a:pt x="2320" y="4249"/>
                  </a:lnTo>
                  <a:lnTo>
                    <a:pt x="2274" y="4241"/>
                  </a:lnTo>
                  <a:lnTo>
                    <a:pt x="2228" y="4231"/>
                  </a:lnTo>
                  <a:lnTo>
                    <a:pt x="2181" y="4223"/>
                  </a:lnTo>
                  <a:lnTo>
                    <a:pt x="2131" y="4216"/>
                  </a:lnTo>
                  <a:lnTo>
                    <a:pt x="2081" y="4211"/>
                  </a:lnTo>
                  <a:lnTo>
                    <a:pt x="2030" y="4206"/>
                  </a:lnTo>
                  <a:lnTo>
                    <a:pt x="1980" y="4202"/>
                  </a:lnTo>
                  <a:lnTo>
                    <a:pt x="1926" y="4201"/>
                  </a:lnTo>
                  <a:lnTo>
                    <a:pt x="1874" y="4202"/>
                  </a:lnTo>
                  <a:lnTo>
                    <a:pt x="1821" y="4205"/>
                  </a:lnTo>
                  <a:lnTo>
                    <a:pt x="1766" y="4208"/>
                  </a:lnTo>
                  <a:lnTo>
                    <a:pt x="1713" y="4216"/>
                  </a:lnTo>
                  <a:lnTo>
                    <a:pt x="1658" y="4225"/>
                  </a:lnTo>
                  <a:lnTo>
                    <a:pt x="1603" y="4237"/>
                  </a:lnTo>
                  <a:lnTo>
                    <a:pt x="1550" y="4252"/>
                  </a:lnTo>
                  <a:lnTo>
                    <a:pt x="1495" y="4269"/>
                  </a:lnTo>
                  <a:lnTo>
                    <a:pt x="1442" y="4289"/>
                  </a:lnTo>
                  <a:lnTo>
                    <a:pt x="1388" y="4313"/>
                  </a:lnTo>
                  <a:lnTo>
                    <a:pt x="1335" y="4340"/>
                  </a:lnTo>
                  <a:lnTo>
                    <a:pt x="1283" y="4371"/>
                  </a:lnTo>
                  <a:lnTo>
                    <a:pt x="1232" y="4404"/>
                  </a:lnTo>
                  <a:lnTo>
                    <a:pt x="1181" y="4443"/>
                  </a:lnTo>
                  <a:lnTo>
                    <a:pt x="1131" y="4485"/>
                  </a:lnTo>
                  <a:lnTo>
                    <a:pt x="1138" y="4431"/>
                  </a:lnTo>
                  <a:lnTo>
                    <a:pt x="1145" y="4365"/>
                  </a:lnTo>
                  <a:lnTo>
                    <a:pt x="1154" y="4289"/>
                  </a:lnTo>
                  <a:lnTo>
                    <a:pt x="1162" y="4205"/>
                  </a:lnTo>
                  <a:lnTo>
                    <a:pt x="1172" y="4113"/>
                  </a:lnTo>
                  <a:lnTo>
                    <a:pt x="1182" y="4015"/>
                  </a:lnTo>
                  <a:lnTo>
                    <a:pt x="1191" y="3911"/>
                  </a:lnTo>
                  <a:lnTo>
                    <a:pt x="1201" y="3801"/>
                  </a:lnTo>
                  <a:lnTo>
                    <a:pt x="1211" y="3690"/>
                  </a:lnTo>
                  <a:lnTo>
                    <a:pt x="1218" y="3576"/>
                  </a:lnTo>
                  <a:lnTo>
                    <a:pt x="1227" y="3459"/>
                  </a:lnTo>
                  <a:lnTo>
                    <a:pt x="1233" y="3344"/>
                  </a:lnTo>
                  <a:lnTo>
                    <a:pt x="1239" y="3230"/>
                  </a:lnTo>
                  <a:lnTo>
                    <a:pt x="1244" y="3117"/>
                  </a:lnTo>
                  <a:lnTo>
                    <a:pt x="1247" y="3006"/>
                  </a:lnTo>
                  <a:lnTo>
                    <a:pt x="1248" y="2901"/>
                  </a:lnTo>
                  <a:lnTo>
                    <a:pt x="1247" y="2809"/>
                  </a:lnTo>
                  <a:lnTo>
                    <a:pt x="1244" y="2722"/>
                  </a:lnTo>
                  <a:lnTo>
                    <a:pt x="1242" y="2681"/>
                  </a:lnTo>
                  <a:lnTo>
                    <a:pt x="1239" y="2641"/>
                  </a:lnTo>
                  <a:lnTo>
                    <a:pt x="1236" y="2604"/>
                  </a:lnTo>
                  <a:lnTo>
                    <a:pt x="1232" y="2568"/>
                  </a:lnTo>
                  <a:lnTo>
                    <a:pt x="1228" y="2535"/>
                  </a:lnTo>
                  <a:lnTo>
                    <a:pt x="1223" y="2504"/>
                  </a:lnTo>
                  <a:lnTo>
                    <a:pt x="1217" y="2474"/>
                  </a:lnTo>
                  <a:lnTo>
                    <a:pt x="1211" y="2447"/>
                  </a:lnTo>
                  <a:lnTo>
                    <a:pt x="1205" y="2422"/>
                  </a:lnTo>
                  <a:lnTo>
                    <a:pt x="1197" y="2401"/>
                  </a:lnTo>
                  <a:lnTo>
                    <a:pt x="1189" y="2381"/>
                  </a:lnTo>
                  <a:lnTo>
                    <a:pt x="1180" y="2364"/>
                  </a:lnTo>
                  <a:lnTo>
                    <a:pt x="1176" y="2359"/>
                  </a:lnTo>
                  <a:lnTo>
                    <a:pt x="1171" y="2355"/>
                  </a:lnTo>
                  <a:lnTo>
                    <a:pt x="1166" y="2351"/>
                  </a:lnTo>
                  <a:lnTo>
                    <a:pt x="1161" y="2349"/>
                  </a:lnTo>
                  <a:lnTo>
                    <a:pt x="1155" y="2347"/>
                  </a:lnTo>
                  <a:lnTo>
                    <a:pt x="1149" y="2347"/>
                  </a:lnTo>
                  <a:lnTo>
                    <a:pt x="1143" y="2347"/>
                  </a:lnTo>
                  <a:lnTo>
                    <a:pt x="1138" y="2349"/>
                  </a:lnTo>
                  <a:lnTo>
                    <a:pt x="1131" y="2351"/>
                  </a:lnTo>
                  <a:lnTo>
                    <a:pt x="1128" y="2355"/>
                  </a:lnTo>
                  <a:lnTo>
                    <a:pt x="1123" y="2359"/>
                  </a:lnTo>
                  <a:lnTo>
                    <a:pt x="1120" y="2362"/>
                  </a:lnTo>
                  <a:lnTo>
                    <a:pt x="1116" y="2367"/>
                  </a:lnTo>
                  <a:lnTo>
                    <a:pt x="1115" y="2372"/>
                  </a:lnTo>
                  <a:lnTo>
                    <a:pt x="1114" y="2377"/>
                  </a:lnTo>
                  <a:lnTo>
                    <a:pt x="1113" y="2382"/>
                  </a:lnTo>
                  <a:lnTo>
                    <a:pt x="1114" y="2385"/>
                  </a:lnTo>
                  <a:lnTo>
                    <a:pt x="1114" y="2387"/>
                  </a:lnTo>
                  <a:lnTo>
                    <a:pt x="1115" y="2397"/>
                  </a:lnTo>
                  <a:lnTo>
                    <a:pt x="1118" y="2421"/>
                  </a:lnTo>
                  <a:lnTo>
                    <a:pt x="1123" y="2455"/>
                  </a:lnTo>
                  <a:lnTo>
                    <a:pt x="1129" y="2496"/>
                  </a:lnTo>
                  <a:lnTo>
                    <a:pt x="1135" y="2540"/>
                  </a:lnTo>
                  <a:lnTo>
                    <a:pt x="1141" y="2582"/>
                  </a:lnTo>
                  <a:lnTo>
                    <a:pt x="1146" y="2615"/>
                  </a:lnTo>
                  <a:lnTo>
                    <a:pt x="1149" y="2639"/>
                  </a:lnTo>
                  <a:lnTo>
                    <a:pt x="1130" y="2648"/>
                  </a:lnTo>
                  <a:lnTo>
                    <a:pt x="1104" y="2656"/>
                  </a:lnTo>
                  <a:lnTo>
                    <a:pt x="1073" y="2666"/>
                  </a:lnTo>
                  <a:lnTo>
                    <a:pt x="1038" y="2677"/>
                  </a:lnTo>
                  <a:lnTo>
                    <a:pt x="997" y="2689"/>
                  </a:lnTo>
                  <a:lnTo>
                    <a:pt x="953" y="2699"/>
                  </a:lnTo>
                  <a:lnTo>
                    <a:pt x="929" y="2702"/>
                  </a:lnTo>
                  <a:lnTo>
                    <a:pt x="905" y="2706"/>
                  </a:lnTo>
                  <a:lnTo>
                    <a:pt x="881" y="2710"/>
                  </a:lnTo>
                  <a:lnTo>
                    <a:pt x="854" y="2712"/>
                  </a:lnTo>
                  <a:lnTo>
                    <a:pt x="828" y="2715"/>
                  </a:lnTo>
                  <a:lnTo>
                    <a:pt x="801" y="2716"/>
                  </a:lnTo>
                  <a:lnTo>
                    <a:pt x="775" y="2717"/>
                  </a:lnTo>
                  <a:lnTo>
                    <a:pt x="748" y="2717"/>
                  </a:lnTo>
                  <a:lnTo>
                    <a:pt x="719" y="2716"/>
                  </a:lnTo>
                  <a:lnTo>
                    <a:pt x="692" y="2713"/>
                  </a:lnTo>
                  <a:lnTo>
                    <a:pt x="663" y="2710"/>
                  </a:lnTo>
                  <a:lnTo>
                    <a:pt x="635" y="2706"/>
                  </a:lnTo>
                  <a:lnTo>
                    <a:pt x="606" y="2700"/>
                  </a:lnTo>
                  <a:lnTo>
                    <a:pt x="579" y="2692"/>
                  </a:lnTo>
                  <a:lnTo>
                    <a:pt x="550" y="2684"/>
                  </a:lnTo>
                  <a:lnTo>
                    <a:pt x="522" y="2674"/>
                  </a:lnTo>
                  <a:lnTo>
                    <a:pt x="494" y="2663"/>
                  </a:lnTo>
                  <a:lnTo>
                    <a:pt x="467" y="2649"/>
                  </a:lnTo>
                  <a:lnTo>
                    <a:pt x="440" y="2634"/>
                  </a:lnTo>
                  <a:lnTo>
                    <a:pt x="414" y="2617"/>
                  </a:lnTo>
                  <a:lnTo>
                    <a:pt x="389" y="2599"/>
                  </a:lnTo>
                  <a:lnTo>
                    <a:pt x="366" y="2581"/>
                  </a:lnTo>
                  <a:lnTo>
                    <a:pt x="344" y="2562"/>
                  </a:lnTo>
                  <a:lnTo>
                    <a:pt x="323" y="2540"/>
                  </a:lnTo>
                  <a:lnTo>
                    <a:pt x="302" y="2519"/>
                  </a:lnTo>
                  <a:lnTo>
                    <a:pt x="283" y="2494"/>
                  </a:lnTo>
                  <a:lnTo>
                    <a:pt x="265" y="2469"/>
                  </a:lnTo>
                  <a:lnTo>
                    <a:pt x="246" y="2443"/>
                  </a:lnTo>
                  <a:lnTo>
                    <a:pt x="229" y="2416"/>
                  </a:lnTo>
                  <a:lnTo>
                    <a:pt x="213" y="2387"/>
                  </a:lnTo>
                  <a:lnTo>
                    <a:pt x="198" y="2357"/>
                  </a:lnTo>
                  <a:lnTo>
                    <a:pt x="184" y="2325"/>
                  </a:lnTo>
                  <a:lnTo>
                    <a:pt x="170" y="2293"/>
                  </a:lnTo>
                  <a:lnTo>
                    <a:pt x="157" y="2258"/>
                  </a:lnTo>
                  <a:lnTo>
                    <a:pt x="145" y="2223"/>
                  </a:lnTo>
                  <a:lnTo>
                    <a:pt x="134" y="2187"/>
                  </a:lnTo>
                  <a:lnTo>
                    <a:pt x="124" y="2149"/>
                  </a:lnTo>
                  <a:lnTo>
                    <a:pt x="116" y="2110"/>
                  </a:lnTo>
                  <a:lnTo>
                    <a:pt x="107" y="2069"/>
                  </a:lnTo>
                  <a:lnTo>
                    <a:pt x="100" y="2029"/>
                  </a:lnTo>
                  <a:lnTo>
                    <a:pt x="92" y="1985"/>
                  </a:lnTo>
                  <a:lnTo>
                    <a:pt x="87" y="1940"/>
                  </a:lnTo>
                  <a:lnTo>
                    <a:pt x="82" y="1896"/>
                  </a:lnTo>
                  <a:lnTo>
                    <a:pt x="78" y="1849"/>
                  </a:lnTo>
                  <a:lnTo>
                    <a:pt x="75" y="1801"/>
                  </a:lnTo>
                  <a:lnTo>
                    <a:pt x="72" y="1752"/>
                  </a:lnTo>
                  <a:lnTo>
                    <a:pt x="71" y="1701"/>
                  </a:lnTo>
                  <a:lnTo>
                    <a:pt x="71" y="1650"/>
                  </a:lnTo>
                  <a:lnTo>
                    <a:pt x="71" y="1597"/>
                  </a:lnTo>
                  <a:lnTo>
                    <a:pt x="72" y="1542"/>
                  </a:lnTo>
                  <a:lnTo>
                    <a:pt x="75" y="1488"/>
                  </a:lnTo>
                  <a:lnTo>
                    <a:pt x="77" y="1431"/>
                  </a:lnTo>
                  <a:lnTo>
                    <a:pt x="83" y="1412"/>
                  </a:lnTo>
                  <a:lnTo>
                    <a:pt x="98" y="1372"/>
                  </a:lnTo>
                  <a:lnTo>
                    <a:pt x="108" y="1346"/>
                  </a:lnTo>
                  <a:lnTo>
                    <a:pt x="121" y="1316"/>
                  </a:lnTo>
                  <a:lnTo>
                    <a:pt x="136" y="1283"/>
                  </a:lnTo>
                  <a:lnTo>
                    <a:pt x="152" y="1247"/>
                  </a:lnTo>
                  <a:lnTo>
                    <a:pt x="172" y="1207"/>
                  </a:lnTo>
                  <a:lnTo>
                    <a:pt x="193" y="1166"/>
                  </a:lnTo>
                  <a:lnTo>
                    <a:pt x="216" y="1123"/>
                  </a:lnTo>
                  <a:lnTo>
                    <a:pt x="244" y="1078"/>
                  </a:lnTo>
                  <a:lnTo>
                    <a:pt x="272" y="1033"/>
                  </a:lnTo>
                  <a:lnTo>
                    <a:pt x="303" y="989"/>
                  </a:lnTo>
                  <a:lnTo>
                    <a:pt x="338" y="943"/>
                  </a:lnTo>
                  <a:lnTo>
                    <a:pt x="375" y="898"/>
                  </a:lnTo>
                  <a:lnTo>
                    <a:pt x="415" y="854"/>
                  </a:lnTo>
                  <a:lnTo>
                    <a:pt x="457" y="811"/>
                  </a:lnTo>
                  <a:lnTo>
                    <a:pt x="503" y="770"/>
                  </a:lnTo>
                  <a:lnTo>
                    <a:pt x="552" y="731"/>
                  </a:lnTo>
                  <a:lnTo>
                    <a:pt x="602" y="695"/>
                  </a:lnTo>
                  <a:lnTo>
                    <a:pt x="657" y="663"/>
                  </a:lnTo>
                  <a:lnTo>
                    <a:pt x="714" y="633"/>
                  </a:lnTo>
                  <a:lnTo>
                    <a:pt x="775" y="607"/>
                  </a:lnTo>
                  <a:lnTo>
                    <a:pt x="838" y="586"/>
                  </a:lnTo>
                  <a:lnTo>
                    <a:pt x="905" y="569"/>
                  </a:lnTo>
                  <a:lnTo>
                    <a:pt x="975" y="558"/>
                  </a:lnTo>
                  <a:lnTo>
                    <a:pt x="1049" y="552"/>
                  </a:lnTo>
                  <a:lnTo>
                    <a:pt x="1126" y="552"/>
                  </a:lnTo>
                  <a:lnTo>
                    <a:pt x="1206" y="560"/>
                  </a:lnTo>
                  <a:lnTo>
                    <a:pt x="1290" y="573"/>
                  </a:lnTo>
                  <a:lnTo>
                    <a:pt x="1379" y="596"/>
                  </a:lnTo>
                  <a:lnTo>
                    <a:pt x="1385" y="597"/>
                  </a:lnTo>
                  <a:lnTo>
                    <a:pt x="1392" y="597"/>
                  </a:lnTo>
                  <a:lnTo>
                    <a:pt x="1398" y="594"/>
                  </a:lnTo>
                  <a:lnTo>
                    <a:pt x="1405" y="592"/>
                  </a:lnTo>
                  <a:lnTo>
                    <a:pt x="1411" y="588"/>
                  </a:lnTo>
                  <a:lnTo>
                    <a:pt x="1416" y="583"/>
                  </a:lnTo>
                  <a:lnTo>
                    <a:pt x="1419" y="577"/>
                  </a:lnTo>
                  <a:lnTo>
                    <a:pt x="1422" y="571"/>
                  </a:lnTo>
                  <a:lnTo>
                    <a:pt x="1426" y="560"/>
                  </a:lnTo>
                  <a:lnTo>
                    <a:pt x="1438" y="530"/>
                  </a:lnTo>
                  <a:lnTo>
                    <a:pt x="1447" y="509"/>
                  </a:lnTo>
                  <a:lnTo>
                    <a:pt x="1459" y="485"/>
                  </a:lnTo>
                  <a:lnTo>
                    <a:pt x="1474" y="459"/>
                  </a:lnTo>
                  <a:lnTo>
                    <a:pt x="1492" y="432"/>
                  </a:lnTo>
                  <a:lnTo>
                    <a:pt x="1511" y="403"/>
                  </a:lnTo>
                  <a:lnTo>
                    <a:pt x="1534" y="373"/>
                  </a:lnTo>
                  <a:lnTo>
                    <a:pt x="1546" y="359"/>
                  </a:lnTo>
                  <a:lnTo>
                    <a:pt x="1560" y="345"/>
                  </a:lnTo>
                  <a:lnTo>
                    <a:pt x="1573" y="330"/>
                  </a:lnTo>
                  <a:lnTo>
                    <a:pt x="1590" y="315"/>
                  </a:lnTo>
                  <a:lnTo>
                    <a:pt x="1605" y="301"/>
                  </a:lnTo>
                  <a:lnTo>
                    <a:pt x="1622" y="288"/>
                  </a:lnTo>
                  <a:lnTo>
                    <a:pt x="1639" y="274"/>
                  </a:lnTo>
                  <a:lnTo>
                    <a:pt x="1658" y="261"/>
                  </a:lnTo>
                  <a:lnTo>
                    <a:pt x="1678" y="248"/>
                  </a:lnTo>
                  <a:lnTo>
                    <a:pt x="1698" y="237"/>
                  </a:lnTo>
                  <a:lnTo>
                    <a:pt x="1719" y="226"/>
                  </a:lnTo>
                  <a:lnTo>
                    <a:pt x="1741" y="215"/>
                  </a:lnTo>
                  <a:lnTo>
                    <a:pt x="1761" y="207"/>
                  </a:lnTo>
                  <a:lnTo>
                    <a:pt x="1781" y="200"/>
                  </a:lnTo>
                  <a:lnTo>
                    <a:pt x="1801" y="194"/>
                  </a:lnTo>
                  <a:lnTo>
                    <a:pt x="1821" y="187"/>
                  </a:lnTo>
                  <a:lnTo>
                    <a:pt x="1842" y="182"/>
                  </a:lnTo>
                  <a:lnTo>
                    <a:pt x="1863" y="177"/>
                  </a:lnTo>
                  <a:lnTo>
                    <a:pt x="1884" y="174"/>
                  </a:lnTo>
                  <a:lnTo>
                    <a:pt x="1906" y="171"/>
                  </a:lnTo>
                  <a:lnTo>
                    <a:pt x="1927" y="169"/>
                  </a:lnTo>
                  <a:lnTo>
                    <a:pt x="1950" y="166"/>
                  </a:lnTo>
                  <a:lnTo>
                    <a:pt x="1973" y="166"/>
                  </a:lnTo>
                  <a:lnTo>
                    <a:pt x="1996" y="165"/>
                  </a:lnTo>
                  <a:lnTo>
                    <a:pt x="2019" y="166"/>
                  </a:lnTo>
                  <a:lnTo>
                    <a:pt x="2043" y="167"/>
                  </a:lnTo>
                  <a:lnTo>
                    <a:pt x="2066" y="169"/>
                  </a:lnTo>
                  <a:lnTo>
                    <a:pt x="2091" y="171"/>
                  </a:lnTo>
                  <a:lnTo>
                    <a:pt x="2141" y="180"/>
                  </a:lnTo>
                  <a:lnTo>
                    <a:pt x="2192" y="190"/>
                  </a:lnTo>
                  <a:lnTo>
                    <a:pt x="2244" y="202"/>
                  </a:lnTo>
                  <a:lnTo>
                    <a:pt x="2297" y="218"/>
                  </a:lnTo>
                  <a:lnTo>
                    <a:pt x="2352" y="237"/>
                  </a:lnTo>
                  <a:lnTo>
                    <a:pt x="2408" y="259"/>
                  </a:lnTo>
                  <a:lnTo>
                    <a:pt x="2465" y="283"/>
                  </a:lnTo>
                  <a:lnTo>
                    <a:pt x="2523" y="310"/>
                  </a:lnTo>
                  <a:lnTo>
                    <a:pt x="2530" y="314"/>
                  </a:lnTo>
                  <a:lnTo>
                    <a:pt x="2537" y="314"/>
                  </a:lnTo>
                  <a:lnTo>
                    <a:pt x="2546" y="314"/>
                  </a:lnTo>
                  <a:lnTo>
                    <a:pt x="2552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60480" y="5003640"/>
              <a:ext cx="2554200" cy="1839960"/>
            </a:xfrm>
            <a:custGeom>
              <a:avLst/>
              <a:gdLst/>
              <a:ahLst/>
              <a:rect l="l" t="t" r="r" b="b"/>
              <a:pathLst>
                <a:path w="6436" h="4635">
                  <a:moveTo>
                    <a:pt x="5771" y="243"/>
                  </a:moveTo>
                  <a:lnTo>
                    <a:pt x="5783" y="256"/>
                  </a:lnTo>
                  <a:lnTo>
                    <a:pt x="5795" y="270"/>
                  </a:lnTo>
                  <a:lnTo>
                    <a:pt x="5809" y="285"/>
                  </a:lnTo>
                  <a:lnTo>
                    <a:pt x="5823" y="300"/>
                  </a:lnTo>
                  <a:lnTo>
                    <a:pt x="5810" y="285"/>
                  </a:lnTo>
                  <a:lnTo>
                    <a:pt x="5797" y="271"/>
                  </a:lnTo>
                  <a:lnTo>
                    <a:pt x="5783" y="256"/>
                  </a:lnTo>
                  <a:lnTo>
                    <a:pt x="5771" y="243"/>
                  </a:lnTo>
                  <a:close/>
                  <a:moveTo>
                    <a:pt x="5675" y="141"/>
                  </a:moveTo>
                  <a:lnTo>
                    <a:pt x="5686" y="152"/>
                  </a:lnTo>
                  <a:lnTo>
                    <a:pt x="5700" y="167"/>
                  </a:lnTo>
                  <a:lnTo>
                    <a:pt x="5686" y="152"/>
                  </a:lnTo>
                  <a:lnTo>
                    <a:pt x="5675" y="141"/>
                  </a:lnTo>
                  <a:close/>
                  <a:moveTo>
                    <a:pt x="5711" y="179"/>
                  </a:moveTo>
                  <a:lnTo>
                    <a:pt x="5723" y="193"/>
                  </a:lnTo>
                  <a:lnTo>
                    <a:pt x="5738" y="208"/>
                  </a:lnTo>
                  <a:lnTo>
                    <a:pt x="5753" y="224"/>
                  </a:lnTo>
                  <a:lnTo>
                    <a:pt x="5771" y="243"/>
                  </a:lnTo>
                  <a:lnTo>
                    <a:pt x="5755" y="225"/>
                  </a:lnTo>
                  <a:lnTo>
                    <a:pt x="5740" y="209"/>
                  </a:lnTo>
                  <a:lnTo>
                    <a:pt x="5725" y="194"/>
                  </a:lnTo>
                  <a:lnTo>
                    <a:pt x="5711" y="179"/>
                  </a:lnTo>
                  <a:close/>
                  <a:moveTo>
                    <a:pt x="5935" y="418"/>
                  </a:moveTo>
                  <a:lnTo>
                    <a:pt x="5948" y="433"/>
                  </a:lnTo>
                  <a:lnTo>
                    <a:pt x="5962" y="449"/>
                  </a:lnTo>
                  <a:lnTo>
                    <a:pt x="5949" y="435"/>
                  </a:lnTo>
                  <a:lnTo>
                    <a:pt x="5935" y="418"/>
                  </a:lnTo>
                  <a:close/>
                  <a:moveTo>
                    <a:pt x="1626" y="131"/>
                  </a:moveTo>
                  <a:lnTo>
                    <a:pt x="1641" y="141"/>
                  </a:lnTo>
                  <a:lnTo>
                    <a:pt x="1664" y="156"/>
                  </a:lnTo>
                  <a:lnTo>
                    <a:pt x="1695" y="173"/>
                  </a:lnTo>
                  <a:lnTo>
                    <a:pt x="1730" y="196"/>
                  </a:lnTo>
                  <a:lnTo>
                    <a:pt x="1690" y="171"/>
                  </a:lnTo>
                  <a:lnTo>
                    <a:pt x="1659" y="152"/>
                  </a:lnTo>
                  <a:lnTo>
                    <a:pt x="1638" y="140"/>
                  </a:lnTo>
                  <a:lnTo>
                    <a:pt x="1626" y="131"/>
                  </a:lnTo>
                  <a:close/>
                  <a:moveTo>
                    <a:pt x="5981" y="469"/>
                  </a:moveTo>
                  <a:lnTo>
                    <a:pt x="5973" y="460"/>
                  </a:lnTo>
                  <a:lnTo>
                    <a:pt x="5964" y="450"/>
                  </a:lnTo>
                  <a:lnTo>
                    <a:pt x="5977" y="464"/>
                  </a:lnTo>
                  <a:lnTo>
                    <a:pt x="5981" y="469"/>
                  </a:lnTo>
                  <a:close/>
                  <a:moveTo>
                    <a:pt x="1991" y="356"/>
                  </a:moveTo>
                  <a:lnTo>
                    <a:pt x="1986" y="352"/>
                  </a:lnTo>
                  <a:lnTo>
                    <a:pt x="1970" y="342"/>
                  </a:lnTo>
                  <a:lnTo>
                    <a:pt x="1981" y="348"/>
                  </a:lnTo>
                  <a:lnTo>
                    <a:pt x="1991" y="356"/>
                  </a:lnTo>
                  <a:close/>
                  <a:moveTo>
                    <a:pt x="5981" y="469"/>
                  </a:moveTo>
                  <a:lnTo>
                    <a:pt x="5974" y="464"/>
                  </a:lnTo>
                  <a:lnTo>
                    <a:pt x="5954" y="449"/>
                  </a:lnTo>
                  <a:lnTo>
                    <a:pt x="5922" y="428"/>
                  </a:lnTo>
                  <a:lnTo>
                    <a:pt x="5877" y="399"/>
                  </a:lnTo>
                  <a:lnTo>
                    <a:pt x="5823" y="366"/>
                  </a:lnTo>
                  <a:lnTo>
                    <a:pt x="5759" y="328"/>
                  </a:lnTo>
                  <a:lnTo>
                    <a:pt x="5723" y="308"/>
                  </a:lnTo>
                  <a:lnTo>
                    <a:pt x="5686" y="289"/>
                  </a:lnTo>
                  <a:lnTo>
                    <a:pt x="5648" y="268"/>
                  </a:lnTo>
                  <a:lnTo>
                    <a:pt x="5606" y="248"/>
                  </a:lnTo>
                  <a:lnTo>
                    <a:pt x="5563" y="227"/>
                  </a:lnTo>
                  <a:lnTo>
                    <a:pt x="5519" y="207"/>
                  </a:lnTo>
                  <a:lnTo>
                    <a:pt x="5471" y="187"/>
                  </a:lnTo>
                  <a:lnTo>
                    <a:pt x="5424" y="168"/>
                  </a:lnTo>
                  <a:lnTo>
                    <a:pt x="5376" y="150"/>
                  </a:lnTo>
                  <a:lnTo>
                    <a:pt x="5325" y="131"/>
                  </a:lnTo>
                  <a:lnTo>
                    <a:pt x="5274" y="115"/>
                  </a:lnTo>
                  <a:lnTo>
                    <a:pt x="5222" y="100"/>
                  </a:lnTo>
                  <a:lnTo>
                    <a:pt x="5168" y="85"/>
                  </a:lnTo>
                  <a:lnTo>
                    <a:pt x="5115" y="73"/>
                  </a:lnTo>
                  <a:lnTo>
                    <a:pt x="5060" y="63"/>
                  </a:lnTo>
                  <a:lnTo>
                    <a:pt x="5006" y="53"/>
                  </a:lnTo>
                  <a:lnTo>
                    <a:pt x="4950" y="47"/>
                  </a:lnTo>
                  <a:lnTo>
                    <a:pt x="4895" y="42"/>
                  </a:lnTo>
                  <a:lnTo>
                    <a:pt x="4839" y="39"/>
                  </a:lnTo>
                  <a:lnTo>
                    <a:pt x="4783" y="40"/>
                  </a:lnTo>
                  <a:lnTo>
                    <a:pt x="4791" y="23"/>
                  </a:lnTo>
                  <a:lnTo>
                    <a:pt x="4796" y="11"/>
                  </a:lnTo>
                  <a:lnTo>
                    <a:pt x="4800" y="3"/>
                  </a:lnTo>
                  <a:lnTo>
                    <a:pt x="4801" y="0"/>
                  </a:lnTo>
                  <a:lnTo>
                    <a:pt x="4770" y="5"/>
                  </a:lnTo>
                  <a:lnTo>
                    <a:pt x="4739" y="8"/>
                  </a:lnTo>
                  <a:lnTo>
                    <a:pt x="4708" y="14"/>
                  </a:lnTo>
                  <a:lnTo>
                    <a:pt x="4678" y="21"/>
                  </a:lnTo>
                  <a:lnTo>
                    <a:pt x="4649" y="27"/>
                  </a:lnTo>
                  <a:lnTo>
                    <a:pt x="4621" y="34"/>
                  </a:lnTo>
                  <a:lnTo>
                    <a:pt x="4592" y="43"/>
                  </a:lnTo>
                  <a:lnTo>
                    <a:pt x="4565" y="52"/>
                  </a:lnTo>
                  <a:lnTo>
                    <a:pt x="4538" y="62"/>
                  </a:lnTo>
                  <a:lnTo>
                    <a:pt x="4510" y="73"/>
                  </a:lnTo>
                  <a:lnTo>
                    <a:pt x="4484" y="84"/>
                  </a:lnTo>
                  <a:lnTo>
                    <a:pt x="4458" y="95"/>
                  </a:lnTo>
                  <a:lnTo>
                    <a:pt x="4433" y="107"/>
                  </a:lnTo>
                  <a:lnTo>
                    <a:pt x="4408" y="120"/>
                  </a:lnTo>
                  <a:lnTo>
                    <a:pt x="4385" y="132"/>
                  </a:lnTo>
                  <a:lnTo>
                    <a:pt x="4361" y="146"/>
                  </a:lnTo>
                  <a:lnTo>
                    <a:pt x="4322" y="168"/>
                  </a:lnTo>
                  <a:lnTo>
                    <a:pt x="4282" y="193"/>
                  </a:lnTo>
                  <a:lnTo>
                    <a:pt x="4243" y="220"/>
                  </a:lnTo>
                  <a:lnTo>
                    <a:pt x="4206" y="249"/>
                  </a:lnTo>
                  <a:lnTo>
                    <a:pt x="4169" y="281"/>
                  </a:lnTo>
                  <a:lnTo>
                    <a:pt x="4132" y="317"/>
                  </a:lnTo>
                  <a:lnTo>
                    <a:pt x="4114" y="335"/>
                  </a:lnTo>
                  <a:lnTo>
                    <a:pt x="4097" y="354"/>
                  </a:lnTo>
                  <a:lnTo>
                    <a:pt x="4078" y="374"/>
                  </a:lnTo>
                  <a:lnTo>
                    <a:pt x="4062" y="394"/>
                  </a:lnTo>
                  <a:lnTo>
                    <a:pt x="4038" y="421"/>
                  </a:lnTo>
                  <a:lnTo>
                    <a:pt x="4016" y="449"/>
                  </a:lnTo>
                  <a:lnTo>
                    <a:pt x="3994" y="475"/>
                  </a:lnTo>
                  <a:lnTo>
                    <a:pt x="3974" y="502"/>
                  </a:lnTo>
                  <a:lnTo>
                    <a:pt x="3954" y="529"/>
                  </a:lnTo>
                  <a:lnTo>
                    <a:pt x="3934" y="555"/>
                  </a:lnTo>
                  <a:lnTo>
                    <a:pt x="3917" y="583"/>
                  </a:lnTo>
                  <a:lnTo>
                    <a:pt x="3899" y="609"/>
                  </a:lnTo>
                  <a:lnTo>
                    <a:pt x="3867" y="662"/>
                  </a:lnTo>
                  <a:lnTo>
                    <a:pt x="3837" y="712"/>
                  </a:lnTo>
                  <a:lnTo>
                    <a:pt x="3812" y="760"/>
                  </a:lnTo>
                  <a:lnTo>
                    <a:pt x="3789" y="806"/>
                  </a:lnTo>
                  <a:lnTo>
                    <a:pt x="3769" y="848"/>
                  </a:lnTo>
                  <a:lnTo>
                    <a:pt x="3753" y="887"/>
                  </a:lnTo>
                  <a:lnTo>
                    <a:pt x="3738" y="921"/>
                  </a:lnTo>
                  <a:lnTo>
                    <a:pt x="3727" y="950"/>
                  </a:lnTo>
                  <a:lnTo>
                    <a:pt x="3713" y="991"/>
                  </a:lnTo>
                  <a:lnTo>
                    <a:pt x="3708" y="1006"/>
                  </a:lnTo>
                  <a:lnTo>
                    <a:pt x="3657" y="1107"/>
                  </a:lnTo>
                  <a:lnTo>
                    <a:pt x="3608" y="1197"/>
                  </a:lnTo>
                  <a:lnTo>
                    <a:pt x="3559" y="1276"/>
                  </a:lnTo>
                  <a:lnTo>
                    <a:pt x="3511" y="1344"/>
                  </a:lnTo>
                  <a:lnTo>
                    <a:pt x="3462" y="1403"/>
                  </a:lnTo>
                  <a:lnTo>
                    <a:pt x="3415" y="1451"/>
                  </a:lnTo>
                  <a:lnTo>
                    <a:pt x="3369" y="1492"/>
                  </a:lnTo>
                  <a:lnTo>
                    <a:pt x="3323" y="1523"/>
                  </a:lnTo>
                  <a:lnTo>
                    <a:pt x="3280" y="1548"/>
                  </a:lnTo>
                  <a:lnTo>
                    <a:pt x="3236" y="1565"/>
                  </a:lnTo>
                  <a:lnTo>
                    <a:pt x="3194" y="1575"/>
                  </a:lnTo>
                  <a:lnTo>
                    <a:pt x="3153" y="1580"/>
                  </a:lnTo>
                  <a:lnTo>
                    <a:pt x="3113" y="1579"/>
                  </a:lnTo>
                  <a:lnTo>
                    <a:pt x="3075" y="1573"/>
                  </a:lnTo>
                  <a:lnTo>
                    <a:pt x="3038" y="1562"/>
                  </a:lnTo>
                  <a:lnTo>
                    <a:pt x="3003" y="1548"/>
                  </a:lnTo>
                  <a:lnTo>
                    <a:pt x="2969" y="1529"/>
                  </a:lnTo>
                  <a:lnTo>
                    <a:pt x="2937" y="1509"/>
                  </a:lnTo>
                  <a:lnTo>
                    <a:pt x="2906" y="1486"/>
                  </a:lnTo>
                  <a:lnTo>
                    <a:pt x="2877" y="1461"/>
                  </a:lnTo>
                  <a:lnTo>
                    <a:pt x="2851" y="1436"/>
                  </a:lnTo>
                  <a:lnTo>
                    <a:pt x="2826" y="1409"/>
                  </a:lnTo>
                  <a:lnTo>
                    <a:pt x="2804" y="1383"/>
                  </a:lnTo>
                  <a:lnTo>
                    <a:pt x="2783" y="1357"/>
                  </a:lnTo>
                  <a:lnTo>
                    <a:pt x="2764" y="1332"/>
                  </a:lnTo>
                  <a:lnTo>
                    <a:pt x="2748" y="1308"/>
                  </a:lnTo>
                  <a:lnTo>
                    <a:pt x="2735" y="1287"/>
                  </a:lnTo>
                  <a:lnTo>
                    <a:pt x="2722" y="1269"/>
                  </a:lnTo>
                  <a:lnTo>
                    <a:pt x="2707" y="1241"/>
                  </a:lnTo>
                  <a:lnTo>
                    <a:pt x="2701" y="1232"/>
                  </a:lnTo>
                  <a:lnTo>
                    <a:pt x="2690" y="1203"/>
                  </a:lnTo>
                  <a:lnTo>
                    <a:pt x="2677" y="1174"/>
                  </a:lnTo>
                  <a:lnTo>
                    <a:pt x="2664" y="1146"/>
                  </a:lnTo>
                  <a:lnTo>
                    <a:pt x="2650" y="1119"/>
                  </a:lnTo>
                  <a:lnTo>
                    <a:pt x="2635" y="1091"/>
                  </a:lnTo>
                  <a:lnTo>
                    <a:pt x="2620" y="1063"/>
                  </a:lnTo>
                  <a:lnTo>
                    <a:pt x="2604" y="1037"/>
                  </a:lnTo>
                  <a:lnTo>
                    <a:pt x="2588" y="1009"/>
                  </a:lnTo>
                  <a:lnTo>
                    <a:pt x="2564" y="965"/>
                  </a:lnTo>
                  <a:lnTo>
                    <a:pt x="2541" y="921"/>
                  </a:lnTo>
                  <a:lnTo>
                    <a:pt x="2515" y="877"/>
                  </a:lnTo>
                  <a:lnTo>
                    <a:pt x="2486" y="833"/>
                  </a:lnTo>
                  <a:lnTo>
                    <a:pt x="2456" y="790"/>
                  </a:lnTo>
                  <a:lnTo>
                    <a:pt x="2425" y="746"/>
                  </a:lnTo>
                  <a:lnTo>
                    <a:pt x="2392" y="704"/>
                  </a:lnTo>
                  <a:lnTo>
                    <a:pt x="2356" y="662"/>
                  </a:lnTo>
                  <a:lnTo>
                    <a:pt x="2319" y="620"/>
                  </a:lnTo>
                  <a:lnTo>
                    <a:pt x="2279" y="580"/>
                  </a:lnTo>
                  <a:lnTo>
                    <a:pt x="2237" y="539"/>
                  </a:lnTo>
                  <a:lnTo>
                    <a:pt x="2192" y="501"/>
                  </a:lnTo>
                  <a:lnTo>
                    <a:pt x="2146" y="462"/>
                  </a:lnTo>
                  <a:lnTo>
                    <a:pt x="2096" y="425"/>
                  </a:lnTo>
                  <a:lnTo>
                    <a:pt x="2045" y="390"/>
                  </a:lnTo>
                  <a:lnTo>
                    <a:pt x="1991" y="356"/>
                  </a:lnTo>
                  <a:lnTo>
                    <a:pt x="1977" y="352"/>
                  </a:lnTo>
                  <a:lnTo>
                    <a:pt x="1934" y="343"/>
                  </a:lnTo>
                  <a:lnTo>
                    <a:pt x="1904" y="338"/>
                  </a:lnTo>
                  <a:lnTo>
                    <a:pt x="1868" y="333"/>
                  </a:lnTo>
                  <a:lnTo>
                    <a:pt x="1826" y="328"/>
                  </a:lnTo>
                  <a:lnTo>
                    <a:pt x="1780" y="323"/>
                  </a:lnTo>
                  <a:lnTo>
                    <a:pt x="1728" y="320"/>
                  </a:lnTo>
                  <a:lnTo>
                    <a:pt x="1673" y="316"/>
                  </a:lnTo>
                  <a:lnTo>
                    <a:pt x="1613" y="315"/>
                  </a:lnTo>
                  <a:lnTo>
                    <a:pt x="1551" y="315"/>
                  </a:lnTo>
                  <a:lnTo>
                    <a:pt x="1485" y="317"/>
                  </a:lnTo>
                  <a:lnTo>
                    <a:pt x="1416" y="322"/>
                  </a:lnTo>
                  <a:lnTo>
                    <a:pt x="1345" y="330"/>
                  </a:lnTo>
                  <a:lnTo>
                    <a:pt x="1273" y="341"/>
                  </a:lnTo>
                  <a:lnTo>
                    <a:pt x="1199" y="354"/>
                  </a:lnTo>
                  <a:lnTo>
                    <a:pt x="1123" y="372"/>
                  </a:lnTo>
                  <a:lnTo>
                    <a:pt x="1046" y="394"/>
                  </a:lnTo>
                  <a:lnTo>
                    <a:pt x="969" y="420"/>
                  </a:lnTo>
                  <a:lnTo>
                    <a:pt x="892" y="451"/>
                  </a:lnTo>
                  <a:lnTo>
                    <a:pt x="816" y="487"/>
                  </a:lnTo>
                  <a:lnTo>
                    <a:pt x="740" y="528"/>
                  </a:lnTo>
                  <a:lnTo>
                    <a:pt x="665" y="575"/>
                  </a:lnTo>
                  <a:lnTo>
                    <a:pt x="591" y="629"/>
                  </a:lnTo>
                  <a:lnTo>
                    <a:pt x="521" y="688"/>
                  </a:lnTo>
                  <a:lnTo>
                    <a:pt x="451" y="754"/>
                  </a:lnTo>
                  <a:lnTo>
                    <a:pt x="384" y="827"/>
                  </a:lnTo>
                  <a:lnTo>
                    <a:pt x="321" y="908"/>
                  </a:lnTo>
                  <a:lnTo>
                    <a:pt x="260" y="996"/>
                  </a:lnTo>
                  <a:lnTo>
                    <a:pt x="203" y="1091"/>
                  </a:lnTo>
                  <a:lnTo>
                    <a:pt x="151" y="1197"/>
                  </a:lnTo>
                  <a:lnTo>
                    <a:pt x="146" y="1207"/>
                  </a:lnTo>
                  <a:lnTo>
                    <a:pt x="134" y="1237"/>
                  </a:lnTo>
                  <a:lnTo>
                    <a:pt x="116" y="1281"/>
                  </a:lnTo>
                  <a:lnTo>
                    <a:pt x="95" y="1337"/>
                  </a:lnTo>
                  <a:lnTo>
                    <a:pt x="71" y="1402"/>
                  </a:lnTo>
                  <a:lnTo>
                    <a:pt x="49" y="1471"/>
                  </a:lnTo>
                  <a:lnTo>
                    <a:pt x="38" y="1506"/>
                  </a:lnTo>
                  <a:lnTo>
                    <a:pt x="28" y="1540"/>
                  </a:lnTo>
                  <a:lnTo>
                    <a:pt x="19" y="1575"/>
                  </a:lnTo>
                  <a:lnTo>
                    <a:pt x="11" y="1609"/>
                  </a:lnTo>
                  <a:lnTo>
                    <a:pt x="6" y="1640"/>
                  </a:lnTo>
                  <a:lnTo>
                    <a:pt x="3" y="1670"/>
                  </a:lnTo>
                  <a:lnTo>
                    <a:pt x="0" y="1697"/>
                  </a:lnTo>
                  <a:lnTo>
                    <a:pt x="1" y="1722"/>
                  </a:lnTo>
                  <a:lnTo>
                    <a:pt x="5" y="1743"/>
                  </a:lnTo>
                  <a:lnTo>
                    <a:pt x="11" y="1760"/>
                  </a:lnTo>
                  <a:lnTo>
                    <a:pt x="20" y="1774"/>
                  </a:lnTo>
                  <a:lnTo>
                    <a:pt x="34" y="1781"/>
                  </a:lnTo>
                  <a:lnTo>
                    <a:pt x="50" y="1785"/>
                  </a:lnTo>
                  <a:lnTo>
                    <a:pt x="70" y="1784"/>
                  </a:lnTo>
                  <a:lnTo>
                    <a:pt x="95" y="1775"/>
                  </a:lnTo>
                  <a:lnTo>
                    <a:pt x="124" y="1760"/>
                  </a:lnTo>
                  <a:lnTo>
                    <a:pt x="158" y="1739"/>
                  </a:lnTo>
                  <a:lnTo>
                    <a:pt x="196" y="1710"/>
                  </a:lnTo>
                  <a:lnTo>
                    <a:pt x="240" y="1674"/>
                  </a:lnTo>
                  <a:lnTo>
                    <a:pt x="290" y="1630"/>
                  </a:lnTo>
                  <a:lnTo>
                    <a:pt x="304" y="1616"/>
                  </a:lnTo>
                  <a:lnTo>
                    <a:pt x="347" y="1580"/>
                  </a:lnTo>
                  <a:lnTo>
                    <a:pt x="378" y="1555"/>
                  </a:lnTo>
                  <a:lnTo>
                    <a:pt x="415" y="1527"/>
                  </a:lnTo>
                  <a:lnTo>
                    <a:pt x="457" y="1495"/>
                  </a:lnTo>
                  <a:lnTo>
                    <a:pt x="504" y="1460"/>
                  </a:lnTo>
                  <a:lnTo>
                    <a:pt x="558" y="1423"/>
                  </a:lnTo>
                  <a:lnTo>
                    <a:pt x="614" y="1385"/>
                  </a:lnTo>
                  <a:lnTo>
                    <a:pt x="675" y="1347"/>
                  </a:lnTo>
                  <a:lnTo>
                    <a:pt x="739" y="1308"/>
                  </a:lnTo>
                  <a:lnTo>
                    <a:pt x="806" y="1270"/>
                  </a:lnTo>
                  <a:lnTo>
                    <a:pt x="877" y="1234"/>
                  </a:lnTo>
                  <a:lnTo>
                    <a:pt x="950" y="1198"/>
                  </a:lnTo>
                  <a:lnTo>
                    <a:pt x="1025" y="1166"/>
                  </a:lnTo>
                  <a:lnTo>
                    <a:pt x="1102" y="1137"/>
                  </a:lnTo>
                  <a:lnTo>
                    <a:pt x="1180" y="1111"/>
                  </a:lnTo>
                  <a:lnTo>
                    <a:pt x="1259" y="1090"/>
                  </a:lnTo>
                  <a:lnTo>
                    <a:pt x="1339" y="1075"/>
                  </a:lnTo>
                  <a:lnTo>
                    <a:pt x="1420" y="1064"/>
                  </a:lnTo>
                  <a:lnTo>
                    <a:pt x="1499" y="1060"/>
                  </a:lnTo>
                  <a:lnTo>
                    <a:pt x="1580" y="1064"/>
                  </a:lnTo>
                  <a:lnTo>
                    <a:pt x="1658" y="1074"/>
                  </a:lnTo>
                  <a:lnTo>
                    <a:pt x="1736" y="1093"/>
                  </a:lnTo>
                  <a:lnTo>
                    <a:pt x="1812" y="1121"/>
                  </a:lnTo>
                  <a:lnTo>
                    <a:pt x="1886" y="1158"/>
                  </a:lnTo>
                  <a:lnTo>
                    <a:pt x="1958" y="1206"/>
                  </a:lnTo>
                  <a:lnTo>
                    <a:pt x="2028" y="1264"/>
                  </a:lnTo>
                  <a:lnTo>
                    <a:pt x="2094" y="1333"/>
                  </a:lnTo>
                  <a:lnTo>
                    <a:pt x="2156" y="1414"/>
                  </a:lnTo>
                  <a:lnTo>
                    <a:pt x="2216" y="1508"/>
                  </a:lnTo>
                  <a:lnTo>
                    <a:pt x="2222" y="1522"/>
                  </a:lnTo>
                  <a:lnTo>
                    <a:pt x="2240" y="1560"/>
                  </a:lnTo>
                  <a:lnTo>
                    <a:pt x="2252" y="1588"/>
                  </a:lnTo>
                  <a:lnTo>
                    <a:pt x="2265" y="1621"/>
                  </a:lnTo>
                  <a:lnTo>
                    <a:pt x="2280" y="1658"/>
                  </a:lnTo>
                  <a:lnTo>
                    <a:pt x="2295" y="1702"/>
                  </a:lnTo>
                  <a:lnTo>
                    <a:pt x="2309" y="1748"/>
                  </a:lnTo>
                  <a:lnTo>
                    <a:pt x="2324" y="1799"/>
                  </a:lnTo>
                  <a:lnTo>
                    <a:pt x="2337" y="1853"/>
                  </a:lnTo>
                  <a:lnTo>
                    <a:pt x="2348" y="1911"/>
                  </a:lnTo>
                  <a:lnTo>
                    <a:pt x="2353" y="1941"/>
                  </a:lnTo>
                  <a:lnTo>
                    <a:pt x="2358" y="1971"/>
                  </a:lnTo>
                  <a:lnTo>
                    <a:pt x="2363" y="2003"/>
                  </a:lnTo>
                  <a:lnTo>
                    <a:pt x="2367" y="2034"/>
                  </a:lnTo>
                  <a:lnTo>
                    <a:pt x="2370" y="2068"/>
                  </a:lnTo>
                  <a:lnTo>
                    <a:pt x="2372" y="2100"/>
                  </a:lnTo>
                  <a:lnTo>
                    <a:pt x="2373" y="2134"/>
                  </a:lnTo>
                  <a:lnTo>
                    <a:pt x="2373" y="2167"/>
                  </a:lnTo>
                  <a:lnTo>
                    <a:pt x="2371" y="2202"/>
                  </a:lnTo>
                  <a:lnTo>
                    <a:pt x="2362" y="2299"/>
                  </a:lnTo>
                  <a:lnTo>
                    <a:pt x="2358" y="2367"/>
                  </a:lnTo>
                  <a:lnTo>
                    <a:pt x="2353" y="2447"/>
                  </a:lnTo>
                  <a:lnTo>
                    <a:pt x="2350" y="2538"/>
                  </a:lnTo>
                  <a:lnTo>
                    <a:pt x="2346" y="2639"/>
                  </a:lnTo>
                  <a:lnTo>
                    <a:pt x="2343" y="2746"/>
                  </a:lnTo>
                  <a:lnTo>
                    <a:pt x="2343" y="2861"/>
                  </a:lnTo>
                  <a:lnTo>
                    <a:pt x="2343" y="2981"/>
                  </a:lnTo>
                  <a:lnTo>
                    <a:pt x="2347" y="3106"/>
                  </a:lnTo>
                  <a:lnTo>
                    <a:pt x="2353" y="3233"/>
                  </a:lnTo>
                  <a:lnTo>
                    <a:pt x="2362" y="3362"/>
                  </a:lnTo>
                  <a:lnTo>
                    <a:pt x="2374" y="3491"/>
                  </a:lnTo>
                  <a:lnTo>
                    <a:pt x="2389" y="3620"/>
                  </a:lnTo>
                  <a:lnTo>
                    <a:pt x="2409" y="3746"/>
                  </a:lnTo>
                  <a:lnTo>
                    <a:pt x="2434" y="3869"/>
                  </a:lnTo>
                  <a:lnTo>
                    <a:pt x="2463" y="3987"/>
                  </a:lnTo>
                  <a:lnTo>
                    <a:pt x="2497" y="4099"/>
                  </a:lnTo>
                  <a:lnTo>
                    <a:pt x="2537" y="4204"/>
                  </a:lnTo>
                  <a:lnTo>
                    <a:pt x="2583" y="4301"/>
                  </a:lnTo>
                  <a:lnTo>
                    <a:pt x="2635" y="4388"/>
                  </a:lnTo>
                  <a:lnTo>
                    <a:pt x="2694" y="4464"/>
                  </a:lnTo>
                  <a:lnTo>
                    <a:pt x="2759" y="4528"/>
                  </a:lnTo>
                  <a:lnTo>
                    <a:pt x="2833" y="4578"/>
                  </a:lnTo>
                  <a:lnTo>
                    <a:pt x="2913" y="4614"/>
                  </a:lnTo>
                  <a:lnTo>
                    <a:pt x="3003" y="4634"/>
                  </a:lnTo>
                  <a:lnTo>
                    <a:pt x="3100" y="4635"/>
                  </a:lnTo>
                  <a:lnTo>
                    <a:pt x="3206" y="4619"/>
                  </a:lnTo>
                  <a:lnTo>
                    <a:pt x="3322" y="4583"/>
                  </a:lnTo>
                  <a:lnTo>
                    <a:pt x="3447" y="4526"/>
                  </a:lnTo>
                  <a:lnTo>
                    <a:pt x="3461" y="4511"/>
                  </a:lnTo>
                  <a:lnTo>
                    <a:pt x="3498" y="4466"/>
                  </a:lnTo>
                  <a:lnTo>
                    <a:pt x="3524" y="4434"/>
                  </a:lnTo>
                  <a:lnTo>
                    <a:pt x="3555" y="4394"/>
                  </a:lnTo>
                  <a:lnTo>
                    <a:pt x="3590" y="4347"/>
                  </a:lnTo>
                  <a:lnTo>
                    <a:pt x="3629" y="4292"/>
                  </a:lnTo>
                  <a:lnTo>
                    <a:pt x="3671" y="4232"/>
                  </a:lnTo>
                  <a:lnTo>
                    <a:pt x="3714" y="4165"/>
                  </a:lnTo>
                  <a:lnTo>
                    <a:pt x="3762" y="4089"/>
                  </a:lnTo>
                  <a:lnTo>
                    <a:pt x="3810" y="4008"/>
                  </a:lnTo>
                  <a:lnTo>
                    <a:pt x="3860" y="3920"/>
                  </a:lnTo>
                  <a:lnTo>
                    <a:pt x="3911" y="3825"/>
                  </a:lnTo>
                  <a:lnTo>
                    <a:pt x="3960" y="3723"/>
                  </a:lnTo>
                  <a:lnTo>
                    <a:pt x="4011" y="3615"/>
                  </a:lnTo>
                  <a:lnTo>
                    <a:pt x="4062" y="3501"/>
                  </a:lnTo>
                  <a:lnTo>
                    <a:pt x="4110" y="3379"/>
                  </a:lnTo>
                  <a:lnTo>
                    <a:pt x="4158" y="3253"/>
                  </a:lnTo>
                  <a:lnTo>
                    <a:pt x="4204" y="3119"/>
                  </a:lnTo>
                  <a:lnTo>
                    <a:pt x="4246" y="2978"/>
                  </a:lnTo>
                  <a:lnTo>
                    <a:pt x="4286" y="2832"/>
                  </a:lnTo>
                  <a:lnTo>
                    <a:pt x="4323" y="2679"/>
                  </a:lnTo>
                  <a:lnTo>
                    <a:pt x="4355" y="2521"/>
                  </a:lnTo>
                  <a:lnTo>
                    <a:pt x="4384" y="2357"/>
                  </a:lnTo>
                  <a:lnTo>
                    <a:pt x="4407" y="2186"/>
                  </a:lnTo>
                  <a:lnTo>
                    <a:pt x="4425" y="2009"/>
                  </a:lnTo>
                  <a:lnTo>
                    <a:pt x="4437" y="1827"/>
                  </a:lnTo>
                  <a:lnTo>
                    <a:pt x="4443" y="1640"/>
                  </a:lnTo>
                  <a:lnTo>
                    <a:pt x="4443" y="1445"/>
                  </a:lnTo>
                  <a:lnTo>
                    <a:pt x="4435" y="1245"/>
                  </a:lnTo>
                  <a:lnTo>
                    <a:pt x="4420" y="1040"/>
                  </a:lnTo>
                  <a:lnTo>
                    <a:pt x="4427" y="1037"/>
                  </a:lnTo>
                  <a:lnTo>
                    <a:pt x="4451" y="1027"/>
                  </a:lnTo>
                  <a:lnTo>
                    <a:pt x="4488" y="1013"/>
                  </a:lnTo>
                  <a:lnTo>
                    <a:pt x="4536" y="996"/>
                  </a:lnTo>
                  <a:lnTo>
                    <a:pt x="4565" y="987"/>
                  </a:lnTo>
                  <a:lnTo>
                    <a:pt x="4596" y="980"/>
                  </a:lnTo>
                  <a:lnTo>
                    <a:pt x="4629" y="971"/>
                  </a:lnTo>
                  <a:lnTo>
                    <a:pt x="4664" y="964"/>
                  </a:lnTo>
                  <a:lnTo>
                    <a:pt x="4702" y="957"/>
                  </a:lnTo>
                  <a:lnTo>
                    <a:pt x="4740" y="952"/>
                  </a:lnTo>
                  <a:lnTo>
                    <a:pt x="4781" y="947"/>
                  </a:lnTo>
                  <a:lnTo>
                    <a:pt x="4823" y="945"/>
                  </a:lnTo>
                  <a:lnTo>
                    <a:pt x="4865" y="945"/>
                  </a:lnTo>
                  <a:lnTo>
                    <a:pt x="4909" y="946"/>
                  </a:lnTo>
                  <a:lnTo>
                    <a:pt x="4954" y="950"/>
                  </a:lnTo>
                  <a:lnTo>
                    <a:pt x="4998" y="956"/>
                  </a:lnTo>
                  <a:lnTo>
                    <a:pt x="5044" y="965"/>
                  </a:lnTo>
                  <a:lnTo>
                    <a:pt x="5090" y="977"/>
                  </a:lnTo>
                  <a:lnTo>
                    <a:pt x="5135" y="992"/>
                  </a:lnTo>
                  <a:lnTo>
                    <a:pt x="5181" y="1011"/>
                  </a:lnTo>
                  <a:lnTo>
                    <a:pt x="5226" y="1034"/>
                  </a:lnTo>
                  <a:lnTo>
                    <a:pt x="5270" y="1060"/>
                  </a:lnTo>
                  <a:lnTo>
                    <a:pt x="5314" y="1091"/>
                  </a:lnTo>
                  <a:lnTo>
                    <a:pt x="5356" y="1127"/>
                  </a:lnTo>
                  <a:lnTo>
                    <a:pt x="5397" y="1167"/>
                  </a:lnTo>
                  <a:lnTo>
                    <a:pt x="5437" y="1212"/>
                  </a:lnTo>
                  <a:lnTo>
                    <a:pt x="5475" y="1263"/>
                  </a:lnTo>
                  <a:lnTo>
                    <a:pt x="5512" y="1318"/>
                  </a:lnTo>
                  <a:lnTo>
                    <a:pt x="5516" y="1325"/>
                  </a:lnTo>
                  <a:lnTo>
                    <a:pt x="5529" y="1342"/>
                  </a:lnTo>
                  <a:lnTo>
                    <a:pt x="5546" y="1372"/>
                  </a:lnTo>
                  <a:lnTo>
                    <a:pt x="5568" y="1410"/>
                  </a:lnTo>
                  <a:lnTo>
                    <a:pt x="5596" y="1456"/>
                  </a:lnTo>
                  <a:lnTo>
                    <a:pt x="5625" y="1511"/>
                  </a:lnTo>
                  <a:lnTo>
                    <a:pt x="5658" y="1572"/>
                  </a:lnTo>
                  <a:lnTo>
                    <a:pt x="5690" y="1636"/>
                  </a:lnTo>
                  <a:lnTo>
                    <a:pt x="5722" y="1706"/>
                  </a:lnTo>
                  <a:lnTo>
                    <a:pt x="5753" y="1777"/>
                  </a:lnTo>
                  <a:lnTo>
                    <a:pt x="5767" y="1815"/>
                  </a:lnTo>
                  <a:lnTo>
                    <a:pt x="5781" y="1851"/>
                  </a:lnTo>
                  <a:lnTo>
                    <a:pt x="5793" y="1888"/>
                  </a:lnTo>
                  <a:lnTo>
                    <a:pt x="5805" y="1925"/>
                  </a:lnTo>
                  <a:lnTo>
                    <a:pt x="5815" y="1962"/>
                  </a:lnTo>
                  <a:lnTo>
                    <a:pt x="5824" y="1998"/>
                  </a:lnTo>
                  <a:lnTo>
                    <a:pt x="5832" y="2034"/>
                  </a:lnTo>
                  <a:lnTo>
                    <a:pt x="5838" y="2069"/>
                  </a:lnTo>
                  <a:lnTo>
                    <a:pt x="5841" y="2104"/>
                  </a:lnTo>
                  <a:lnTo>
                    <a:pt x="5844" y="2137"/>
                  </a:lnTo>
                  <a:lnTo>
                    <a:pt x="5844" y="2171"/>
                  </a:lnTo>
                  <a:lnTo>
                    <a:pt x="5843" y="2202"/>
                  </a:lnTo>
                  <a:lnTo>
                    <a:pt x="5843" y="2208"/>
                  </a:lnTo>
                  <a:lnTo>
                    <a:pt x="5846" y="2227"/>
                  </a:lnTo>
                  <a:lnTo>
                    <a:pt x="5853" y="2253"/>
                  </a:lnTo>
                  <a:lnTo>
                    <a:pt x="5863" y="2284"/>
                  </a:lnTo>
                  <a:lnTo>
                    <a:pt x="5868" y="2301"/>
                  </a:lnTo>
                  <a:lnTo>
                    <a:pt x="5875" y="2318"/>
                  </a:lnTo>
                  <a:lnTo>
                    <a:pt x="5882" y="2337"/>
                  </a:lnTo>
                  <a:lnTo>
                    <a:pt x="5891" y="2354"/>
                  </a:lnTo>
                  <a:lnTo>
                    <a:pt x="5901" y="2371"/>
                  </a:lnTo>
                  <a:lnTo>
                    <a:pt x="5912" y="2387"/>
                  </a:lnTo>
                  <a:lnTo>
                    <a:pt x="5925" y="2402"/>
                  </a:lnTo>
                  <a:lnTo>
                    <a:pt x="5937" y="2414"/>
                  </a:lnTo>
                  <a:lnTo>
                    <a:pt x="5952" y="2425"/>
                  </a:lnTo>
                  <a:lnTo>
                    <a:pt x="5968" y="2435"/>
                  </a:lnTo>
                  <a:lnTo>
                    <a:pt x="5984" y="2441"/>
                  </a:lnTo>
                  <a:lnTo>
                    <a:pt x="6003" y="2444"/>
                  </a:lnTo>
                  <a:lnTo>
                    <a:pt x="6023" y="2445"/>
                  </a:lnTo>
                  <a:lnTo>
                    <a:pt x="6044" y="2441"/>
                  </a:lnTo>
                  <a:lnTo>
                    <a:pt x="6066" y="2434"/>
                  </a:lnTo>
                  <a:lnTo>
                    <a:pt x="6091" y="2421"/>
                  </a:lnTo>
                  <a:lnTo>
                    <a:pt x="6117" y="2405"/>
                  </a:lnTo>
                  <a:lnTo>
                    <a:pt x="6144" y="2384"/>
                  </a:lnTo>
                  <a:lnTo>
                    <a:pt x="6173" y="2357"/>
                  </a:lnTo>
                  <a:lnTo>
                    <a:pt x="6204" y="2325"/>
                  </a:lnTo>
                  <a:lnTo>
                    <a:pt x="6236" y="2287"/>
                  </a:lnTo>
                  <a:lnTo>
                    <a:pt x="6271" y="2243"/>
                  </a:lnTo>
                  <a:lnTo>
                    <a:pt x="6307" y="2191"/>
                  </a:lnTo>
                  <a:lnTo>
                    <a:pt x="6346" y="2132"/>
                  </a:lnTo>
                  <a:lnTo>
                    <a:pt x="6349" y="2122"/>
                  </a:lnTo>
                  <a:lnTo>
                    <a:pt x="6359" y="2094"/>
                  </a:lnTo>
                  <a:lnTo>
                    <a:pt x="6374" y="2047"/>
                  </a:lnTo>
                  <a:lnTo>
                    <a:pt x="6392" y="1982"/>
                  </a:lnTo>
                  <a:lnTo>
                    <a:pt x="6399" y="1945"/>
                  </a:lnTo>
                  <a:lnTo>
                    <a:pt x="6408" y="1904"/>
                  </a:lnTo>
                  <a:lnTo>
                    <a:pt x="6415" y="1859"/>
                  </a:lnTo>
                  <a:lnTo>
                    <a:pt x="6423" y="1812"/>
                  </a:lnTo>
                  <a:lnTo>
                    <a:pt x="6428" y="1761"/>
                  </a:lnTo>
                  <a:lnTo>
                    <a:pt x="6433" y="1708"/>
                  </a:lnTo>
                  <a:lnTo>
                    <a:pt x="6435" y="1652"/>
                  </a:lnTo>
                  <a:lnTo>
                    <a:pt x="6436" y="1593"/>
                  </a:lnTo>
                  <a:lnTo>
                    <a:pt x="6435" y="1532"/>
                  </a:lnTo>
                  <a:lnTo>
                    <a:pt x="6431" y="1470"/>
                  </a:lnTo>
                  <a:lnTo>
                    <a:pt x="6426" y="1404"/>
                  </a:lnTo>
                  <a:lnTo>
                    <a:pt x="6416" y="1338"/>
                  </a:lnTo>
                  <a:lnTo>
                    <a:pt x="6404" y="1270"/>
                  </a:lnTo>
                  <a:lnTo>
                    <a:pt x="6389" y="1201"/>
                  </a:lnTo>
                  <a:lnTo>
                    <a:pt x="6369" y="1130"/>
                  </a:lnTo>
                  <a:lnTo>
                    <a:pt x="6346" y="1058"/>
                  </a:lnTo>
                  <a:lnTo>
                    <a:pt x="6317" y="985"/>
                  </a:lnTo>
                  <a:lnTo>
                    <a:pt x="6285" y="911"/>
                  </a:lnTo>
                  <a:lnTo>
                    <a:pt x="6249" y="838"/>
                  </a:lnTo>
                  <a:lnTo>
                    <a:pt x="6207" y="764"/>
                  </a:lnTo>
                  <a:lnTo>
                    <a:pt x="6158" y="689"/>
                  </a:lnTo>
                  <a:lnTo>
                    <a:pt x="6105" y="616"/>
                  </a:lnTo>
                  <a:lnTo>
                    <a:pt x="6046" y="542"/>
                  </a:lnTo>
                  <a:lnTo>
                    <a:pt x="5981" y="469"/>
                  </a:lnTo>
                  <a:close/>
                  <a:moveTo>
                    <a:pt x="1970" y="342"/>
                  </a:moveTo>
                  <a:lnTo>
                    <a:pt x="1916" y="310"/>
                  </a:lnTo>
                  <a:lnTo>
                    <a:pt x="1869" y="280"/>
                  </a:lnTo>
                  <a:lnTo>
                    <a:pt x="1826" y="254"/>
                  </a:lnTo>
                  <a:lnTo>
                    <a:pt x="1787" y="230"/>
                  </a:lnTo>
                  <a:lnTo>
                    <a:pt x="1841" y="264"/>
                  </a:lnTo>
                  <a:lnTo>
                    <a:pt x="1891" y="295"/>
                  </a:lnTo>
                  <a:lnTo>
                    <a:pt x="1936" y="322"/>
                  </a:lnTo>
                  <a:lnTo>
                    <a:pt x="1970" y="342"/>
                  </a:lnTo>
                  <a:close/>
                </a:path>
              </a:pathLst>
            </a:custGeom>
            <a:solidFill>
              <a:srgbClr val="f5f5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2335320" y="5086440"/>
              <a:ext cx="48960" cy="50760"/>
            </a:xfrm>
            <a:custGeom>
              <a:avLst/>
              <a:gdLst/>
              <a:ahLst/>
              <a:rect l="l" t="t" r="r" b="b"/>
              <a:pathLst>
                <a:path w="124" h="128">
                  <a:moveTo>
                    <a:pt x="11" y="10"/>
                  </a:moveTo>
                  <a:lnTo>
                    <a:pt x="6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5" y="54"/>
                  </a:lnTo>
                  <a:lnTo>
                    <a:pt x="10" y="61"/>
                  </a:lnTo>
                  <a:lnTo>
                    <a:pt x="62" y="116"/>
                  </a:lnTo>
                  <a:lnTo>
                    <a:pt x="68" y="121"/>
                  </a:lnTo>
                  <a:lnTo>
                    <a:pt x="74" y="125"/>
                  </a:lnTo>
                  <a:lnTo>
                    <a:pt x="80" y="128"/>
                  </a:lnTo>
                  <a:lnTo>
                    <a:pt x="87" y="128"/>
                  </a:lnTo>
                  <a:lnTo>
                    <a:pt x="94" y="128"/>
                  </a:lnTo>
                  <a:lnTo>
                    <a:pt x="100" y="126"/>
                  </a:lnTo>
                  <a:lnTo>
                    <a:pt x="106" y="123"/>
                  </a:lnTo>
                  <a:lnTo>
                    <a:pt x="113" y="119"/>
                  </a:lnTo>
                  <a:lnTo>
                    <a:pt x="118" y="113"/>
                  </a:lnTo>
                  <a:lnTo>
                    <a:pt x="121" y="106"/>
                  </a:lnTo>
                  <a:lnTo>
                    <a:pt x="123" y="99"/>
                  </a:lnTo>
                  <a:lnTo>
                    <a:pt x="124" y="93"/>
                  </a:lnTo>
                  <a:lnTo>
                    <a:pt x="124" y="87"/>
                  </a:lnTo>
                  <a:lnTo>
                    <a:pt x="121" y="79"/>
                  </a:lnTo>
                  <a:lnTo>
                    <a:pt x="119" y="74"/>
                  </a:lnTo>
                  <a:lnTo>
                    <a:pt x="114" y="68"/>
                  </a:lnTo>
                  <a:lnTo>
                    <a:pt x="62" y="12"/>
                  </a:lnTo>
                  <a:lnTo>
                    <a:pt x="57" y="7"/>
                  </a:lnTo>
                  <a:lnTo>
                    <a:pt x="51" y="3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29" y="1"/>
                  </a:lnTo>
                  <a:lnTo>
                    <a:pt x="23" y="2"/>
                  </a:lnTo>
                  <a:lnTo>
                    <a:pt x="17" y="6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2298600" y="5046480"/>
              <a:ext cx="36720" cy="38160"/>
            </a:xfrm>
            <a:custGeom>
              <a:avLst/>
              <a:gdLst/>
              <a:ahLst/>
              <a:rect l="l" t="t" r="r" b="b"/>
              <a:pathLst>
                <a:path w="96" h="94">
                  <a:moveTo>
                    <a:pt x="13" y="7"/>
                  </a:moveTo>
                  <a:lnTo>
                    <a:pt x="6" y="13"/>
                  </a:lnTo>
                  <a:lnTo>
                    <a:pt x="3" y="20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0" y="57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34" y="83"/>
                  </a:lnTo>
                  <a:lnTo>
                    <a:pt x="34" y="83"/>
                  </a:lnTo>
                  <a:lnTo>
                    <a:pt x="40" y="88"/>
                  </a:lnTo>
                  <a:lnTo>
                    <a:pt x="45" y="92"/>
                  </a:lnTo>
                  <a:lnTo>
                    <a:pt x="52" y="93"/>
                  </a:lnTo>
                  <a:lnTo>
                    <a:pt x="59" y="94"/>
                  </a:lnTo>
                  <a:lnTo>
                    <a:pt x="66" y="94"/>
                  </a:lnTo>
                  <a:lnTo>
                    <a:pt x="72" y="92"/>
                  </a:lnTo>
                  <a:lnTo>
                    <a:pt x="79" y="89"/>
                  </a:lnTo>
                  <a:lnTo>
                    <a:pt x="85" y="84"/>
                  </a:lnTo>
                  <a:lnTo>
                    <a:pt x="90" y="79"/>
                  </a:lnTo>
                  <a:lnTo>
                    <a:pt x="92" y="73"/>
                  </a:lnTo>
                  <a:lnTo>
                    <a:pt x="95" y="67"/>
                  </a:lnTo>
                  <a:lnTo>
                    <a:pt x="96" y="59"/>
                  </a:lnTo>
                  <a:lnTo>
                    <a:pt x="95" y="53"/>
                  </a:lnTo>
                  <a:lnTo>
                    <a:pt x="93" y="46"/>
                  </a:lnTo>
                  <a:lnTo>
                    <a:pt x="91" y="39"/>
                  </a:lnTo>
                  <a:lnTo>
                    <a:pt x="86" y="34"/>
                  </a:lnTo>
                  <a:lnTo>
                    <a:pt x="61" y="7"/>
                  </a:lnTo>
                  <a:lnTo>
                    <a:pt x="61" y="8"/>
                  </a:lnTo>
                  <a:lnTo>
                    <a:pt x="62" y="11"/>
                  </a:lnTo>
                  <a:lnTo>
                    <a:pt x="56" y="6"/>
                  </a:lnTo>
                  <a:lnTo>
                    <a:pt x="50" y="2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8" y="3"/>
                  </a:lnTo>
                  <a:lnTo>
                    <a:pt x="13" y="7"/>
                  </a:lnTo>
                  <a:close/>
                  <a:moveTo>
                    <a:pt x="24" y="58"/>
                  </a:moveTo>
                  <a:lnTo>
                    <a:pt x="25" y="51"/>
                  </a:lnTo>
                  <a:lnTo>
                    <a:pt x="26" y="44"/>
                  </a:lnTo>
                  <a:lnTo>
                    <a:pt x="30" y="38"/>
                  </a:lnTo>
                  <a:lnTo>
                    <a:pt x="35" y="32"/>
                  </a:lnTo>
                  <a:lnTo>
                    <a:pt x="39" y="30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60" y="25"/>
                  </a:lnTo>
                  <a:lnTo>
                    <a:pt x="69" y="26"/>
                  </a:lnTo>
                  <a:lnTo>
                    <a:pt x="70" y="31"/>
                  </a:lnTo>
                  <a:lnTo>
                    <a:pt x="71" y="34"/>
                  </a:lnTo>
                  <a:lnTo>
                    <a:pt x="71" y="42"/>
                  </a:lnTo>
                  <a:lnTo>
                    <a:pt x="69" y="48"/>
                  </a:lnTo>
                  <a:lnTo>
                    <a:pt x="66" y="54"/>
                  </a:lnTo>
                  <a:lnTo>
                    <a:pt x="61" y="59"/>
                  </a:lnTo>
                  <a:lnTo>
                    <a:pt x="57" y="63"/>
                  </a:lnTo>
                  <a:lnTo>
                    <a:pt x="54" y="65"/>
                  </a:lnTo>
                  <a:lnTo>
                    <a:pt x="49" y="67"/>
                  </a:lnTo>
                  <a:lnTo>
                    <a:pt x="45" y="68"/>
                  </a:lnTo>
                  <a:lnTo>
                    <a:pt x="36" y="68"/>
                  </a:lnTo>
                  <a:lnTo>
                    <a:pt x="28" y="67"/>
                  </a:lnTo>
                  <a:lnTo>
                    <a:pt x="25" y="62"/>
                  </a:lnTo>
                  <a:lnTo>
                    <a:pt x="24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2311560" y="5060880"/>
              <a:ext cx="52200" cy="50760"/>
            </a:xfrm>
            <a:custGeom>
              <a:avLst/>
              <a:gdLst/>
              <a:ahLst/>
              <a:rect l="l" t="t" r="r" b="b"/>
              <a:pathLst>
                <a:path w="129" h="128">
                  <a:moveTo>
                    <a:pt x="11" y="10"/>
                  </a:moveTo>
                  <a:lnTo>
                    <a:pt x="7" y="17"/>
                  </a:lnTo>
                  <a:lnTo>
                    <a:pt x="4" y="22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6" y="55"/>
                  </a:lnTo>
                  <a:lnTo>
                    <a:pt x="10" y="61"/>
                  </a:lnTo>
                  <a:lnTo>
                    <a:pt x="70" y="125"/>
                  </a:lnTo>
                  <a:lnTo>
                    <a:pt x="68" y="121"/>
                  </a:lnTo>
                  <a:lnTo>
                    <a:pt x="67" y="117"/>
                  </a:lnTo>
                  <a:lnTo>
                    <a:pt x="72" y="121"/>
                  </a:lnTo>
                  <a:lnTo>
                    <a:pt x="78" y="125"/>
                  </a:lnTo>
                  <a:lnTo>
                    <a:pt x="84" y="126"/>
                  </a:lnTo>
                  <a:lnTo>
                    <a:pt x="92" y="127"/>
                  </a:lnTo>
                  <a:lnTo>
                    <a:pt x="98" y="128"/>
                  </a:lnTo>
                  <a:lnTo>
                    <a:pt x="104" y="127"/>
                  </a:lnTo>
                  <a:lnTo>
                    <a:pt x="111" y="125"/>
                  </a:lnTo>
                  <a:lnTo>
                    <a:pt x="116" y="121"/>
                  </a:lnTo>
                  <a:lnTo>
                    <a:pt x="120" y="115"/>
                  </a:lnTo>
                  <a:lnTo>
                    <a:pt x="125" y="108"/>
                  </a:lnTo>
                  <a:lnTo>
                    <a:pt x="128" y="101"/>
                  </a:lnTo>
                  <a:lnTo>
                    <a:pt x="129" y="94"/>
                  </a:lnTo>
                  <a:lnTo>
                    <a:pt x="129" y="89"/>
                  </a:lnTo>
                  <a:lnTo>
                    <a:pt x="128" y="85"/>
                  </a:lnTo>
                  <a:lnTo>
                    <a:pt x="125" y="80"/>
                  </a:lnTo>
                  <a:lnTo>
                    <a:pt x="122" y="75"/>
                  </a:lnTo>
                  <a:lnTo>
                    <a:pt x="118" y="72"/>
                  </a:lnTo>
                  <a:lnTo>
                    <a:pt x="112" y="66"/>
                  </a:lnTo>
                  <a:lnTo>
                    <a:pt x="62" y="13"/>
                  </a:lnTo>
                  <a:lnTo>
                    <a:pt x="62" y="12"/>
                  </a:lnTo>
                  <a:lnTo>
                    <a:pt x="57" y="8"/>
                  </a:lnTo>
                  <a:lnTo>
                    <a:pt x="51" y="4"/>
                  </a:lnTo>
                  <a:lnTo>
                    <a:pt x="44" y="2"/>
                  </a:lnTo>
                  <a:lnTo>
                    <a:pt x="37" y="0"/>
                  </a:lnTo>
                  <a:lnTo>
                    <a:pt x="30" y="2"/>
                  </a:lnTo>
                  <a:lnTo>
                    <a:pt x="24" y="3"/>
                  </a:lnTo>
                  <a:lnTo>
                    <a:pt x="17" y="7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2400480" y="5156280"/>
              <a:ext cx="39600" cy="39600"/>
            </a:xfrm>
            <a:custGeom>
              <a:avLst/>
              <a:gdLst/>
              <a:ahLst/>
              <a:rect l="l" t="t" r="r" b="b"/>
              <a:pathLst>
                <a:path w="99" h="102">
                  <a:moveTo>
                    <a:pt x="11" y="9"/>
                  </a:moveTo>
                  <a:lnTo>
                    <a:pt x="6" y="15"/>
                  </a:lnTo>
                  <a:lnTo>
                    <a:pt x="2" y="21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5" y="55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37" y="89"/>
                  </a:lnTo>
                  <a:lnTo>
                    <a:pt x="43" y="94"/>
                  </a:lnTo>
                  <a:lnTo>
                    <a:pt x="49" y="98"/>
                  </a:lnTo>
                  <a:lnTo>
                    <a:pt x="55" y="100"/>
                  </a:lnTo>
                  <a:lnTo>
                    <a:pt x="62" y="102"/>
                  </a:lnTo>
                  <a:lnTo>
                    <a:pt x="69" y="100"/>
                  </a:lnTo>
                  <a:lnTo>
                    <a:pt x="75" y="99"/>
                  </a:lnTo>
                  <a:lnTo>
                    <a:pt x="82" y="97"/>
                  </a:lnTo>
                  <a:lnTo>
                    <a:pt x="88" y="92"/>
                  </a:lnTo>
                  <a:lnTo>
                    <a:pt x="93" y="87"/>
                  </a:lnTo>
                  <a:lnTo>
                    <a:pt x="96" y="81"/>
                  </a:lnTo>
                  <a:lnTo>
                    <a:pt x="98" y="74"/>
                  </a:lnTo>
                  <a:lnTo>
                    <a:pt x="99" y="67"/>
                  </a:lnTo>
                  <a:lnTo>
                    <a:pt x="99" y="61"/>
                  </a:lnTo>
                  <a:lnTo>
                    <a:pt x="96" y="53"/>
                  </a:lnTo>
                  <a:lnTo>
                    <a:pt x="94" y="47"/>
                  </a:lnTo>
                  <a:lnTo>
                    <a:pt x="90" y="41"/>
                  </a:lnTo>
                  <a:lnTo>
                    <a:pt x="62" y="11"/>
                  </a:lnTo>
                  <a:lnTo>
                    <a:pt x="57" y="6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7" y="5"/>
                  </a:lnTo>
                  <a:lnTo>
                    <a:pt x="11" y="9"/>
                  </a:lnTo>
                  <a:close/>
                  <a:moveTo>
                    <a:pt x="28" y="66"/>
                  </a:moveTo>
                  <a:lnTo>
                    <a:pt x="28" y="58"/>
                  </a:lnTo>
                  <a:lnTo>
                    <a:pt x="31" y="51"/>
                  </a:lnTo>
                  <a:lnTo>
                    <a:pt x="34" y="45"/>
                  </a:lnTo>
                  <a:lnTo>
                    <a:pt x="39" y="40"/>
                  </a:lnTo>
                  <a:lnTo>
                    <a:pt x="46" y="35"/>
                  </a:lnTo>
                  <a:lnTo>
                    <a:pt x="54" y="32"/>
                  </a:lnTo>
                  <a:lnTo>
                    <a:pt x="62" y="32"/>
                  </a:lnTo>
                  <a:lnTo>
                    <a:pt x="70" y="32"/>
                  </a:lnTo>
                  <a:lnTo>
                    <a:pt x="70" y="33"/>
                  </a:lnTo>
                  <a:lnTo>
                    <a:pt x="72" y="35"/>
                  </a:lnTo>
                  <a:lnTo>
                    <a:pt x="70" y="42"/>
                  </a:lnTo>
                  <a:lnTo>
                    <a:pt x="68" y="50"/>
                  </a:lnTo>
                  <a:lnTo>
                    <a:pt x="64" y="56"/>
                  </a:lnTo>
                  <a:lnTo>
                    <a:pt x="59" y="62"/>
                  </a:lnTo>
                  <a:lnTo>
                    <a:pt x="57" y="64"/>
                  </a:lnTo>
                  <a:lnTo>
                    <a:pt x="53" y="67"/>
                  </a:lnTo>
                  <a:lnTo>
                    <a:pt x="49" y="68"/>
                  </a:lnTo>
                  <a:lnTo>
                    <a:pt x="44" y="68"/>
                  </a:lnTo>
                  <a:lnTo>
                    <a:pt x="37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690480" y="5041800"/>
              <a:ext cx="69840" cy="54000"/>
            </a:xfrm>
            <a:custGeom>
              <a:avLst/>
              <a:gdLst/>
              <a:ahLst/>
              <a:rect l="l" t="t" r="r" b="b"/>
              <a:pathLst>
                <a:path w="176" h="136">
                  <a:moveTo>
                    <a:pt x="6" y="16"/>
                  </a:moveTo>
                  <a:lnTo>
                    <a:pt x="2" y="24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44"/>
                  </a:lnTo>
                  <a:lnTo>
                    <a:pt x="3" y="50"/>
                  </a:lnTo>
                  <a:lnTo>
                    <a:pt x="7" y="56"/>
                  </a:lnTo>
                  <a:lnTo>
                    <a:pt x="12" y="61"/>
                  </a:lnTo>
                  <a:lnTo>
                    <a:pt x="17" y="66"/>
                  </a:lnTo>
                  <a:lnTo>
                    <a:pt x="121" y="129"/>
                  </a:lnTo>
                  <a:lnTo>
                    <a:pt x="128" y="133"/>
                  </a:lnTo>
                  <a:lnTo>
                    <a:pt x="135" y="134"/>
                  </a:lnTo>
                  <a:lnTo>
                    <a:pt x="141" y="136"/>
                  </a:lnTo>
                  <a:lnTo>
                    <a:pt x="149" y="134"/>
                  </a:lnTo>
                  <a:lnTo>
                    <a:pt x="155" y="132"/>
                  </a:lnTo>
                  <a:lnTo>
                    <a:pt x="161" y="128"/>
                  </a:lnTo>
                  <a:lnTo>
                    <a:pt x="166" y="124"/>
                  </a:lnTo>
                  <a:lnTo>
                    <a:pt x="171" y="118"/>
                  </a:lnTo>
                  <a:lnTo>
                    <a:pt x="174" y="113"/>
                  </a:lnTo>
                  <a:lnTo>
                    <a:pt x="175" y="110"/>
                  </a:lnTo>
                  <a:lnTo>
                    <a:pt x="176" y="105"/>
                  </a:lnTo>
                  <a:lnTo>
                    <a:pt x="176" y="100"/>
                  </a:lnTo>
                  <a:lnTo>
                    <a:pt x="175" y="91"/>
                  </a:lnTo>
                  <a:lnTo>
                    <a:pt x="171" y="82"/>
                  </a:lnTo>
                  <a:lnTo>
                    <a:pt x="166" y="75"/>
                  </a:lnTo>
                  <a:lnTo>
                    <a:pt x="159" y="69"/>
                  </a:lnTo>
                  <a:lnTo>
                    <a:pt x="54" y="5"/>
                  </a:lnTo>
                  <a:lnTo>
                    <a:pt x="48" y="2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2416320" y="5173560"/>
              <a:ext cx="31680" cy="302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55" y="55"/>
                  </a:moveTo>
                  <a:lnTo>
                    <a:pt x="49" y="59"/>
                  </a:lnTo>
                  <a:lnTo>
                    <a:pt x="43" y="62"/>
                  </a:lnTo>
                  <a:lnTo>
                    <a:pt x="36" y="65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9" y="64"/>
                  </a:lnTo>
                  <a:lnTo>
                    <a:pt x="13" y="61"/>
                  </a:lnTo>
                  <a:lnTo>
                    <a:pt x="8" y="56"/>
                  </a:lnTo>
                  <a:lnTo>
                    <a:pt x="3" y="51"/>
                  </a:lnTo>
                  <a:lnTo>
                    <a:pt x="0" y="49"/>
                  </a:lnTo>
                  <a:lnTo>
                    <a:pt x="3" y="51"/>
                  </a:lnTo>
                  <a:lnTo>
                    <a:pt x="8" y="56"/>
                  </a:lnTo>
                  <a:lnTo>
                    <a:pt x="18" y="67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8" y="67"/>
                  </a:lnTo>
                  <a:lnTo>
                    <a:pt x="23" y="72"/>
                  </a:lnTo>
                  <a:lnTo>
                    <a:pt x="29" y="75"/>
                  </a:lnTo>
                  <a:lnTo>
                    <a:pt x="35" y="77"/>
                  </a:lnTo>
                  <a:lnTo>
                    <a:pt x="43" y="79"/>
                  </a:lnTo>
                  <a:lnTo>
                    <a:pt x="49" y="77"/>
                  </a:lnTo>
                  <a:lnTo>
                    <a:pt x="56" y="76"/>
                  </a:lnTo>
                  <a:lnTo>
                    <a:pt x="62" y="72"/>
                  </a:lnTo>
                  <a:lnTo>
                    <a:pt x="67" y="69"/>
                  </a:lnTo>
                  <a:lnTo>
                    <a:pt x="72" y="62"/>
                  </a:lnTo>
                  <a:lnTo>
                    <a:pt x="76" y="56"/>
                  </a:lnTo>
                  <a:lnTo>
                    <a:pt x="77" y="50"/>
                  </a:lnTo>
                  <a:lnTo>
                    <a:pt x="79" y="44"/>
                  </a:lnTo>
                  <a:lnTo>
                    <a:pt x="79" y="36"/>
                  </a:lnTo>
                  <a:lnTo>
                    <a:pt x="76" y="30"/>
                  </a:lnTo>
                  <a:lnTo>
                    <a:pt x="74" y="24"/>
                  </a:lnTo>
                  <a:lnTo>
                    <a:pt x="69" y="18"/>
                  </a:lnTo>
                  <a:lnTo>
                    <a:pt x="52" y="0"/>
                  </a:lnTo>
                  <a:lnTo>
                    <a:pt x="57" y="7"/>
                  </a:lnTo>
                  <a:lnTo>
                    <a:pt x="60" y="13"/>
                  </a:lnTo>
                  <a:lnTo>
                    <a:pt x="62" y="20"/>
                  </a:lnTo>
                  <a:lnTo>
                    <a:pt x="64" y="28"/>
                  </a:lnTo>
                  <a:lnTo>
                    <a:pt x="64" y="35"/>
                  </a:lnTo>
                  <a:lnTo>
                    <a:pt x="62" y="43"/>
                  </a:lnTo>
                  <a:lnTo>
                    <a:pt x="59" y="49"/>
                  </a:lnTo>
                  <a:lnTo>
                    <a:pt x="5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833400" y="5127480"/>
              <a:ext cx="30240" cy="3204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48" y="49"/>
                  </a:moveTo>
                  <a:lnTo>
                    <a:pt x="45" y="55"/>
                  </a:lnTo>
                  <a:lnTo>
                    <a:pt x="40" y="59"/>
                  </a:lnTo>
                  <a:lnTo>
                    <a:pt x="34" y="62"/>
                  </a:lnTo>
                  <a:lnTo>
                    <a:pt x="27" y="65"/>
                  </a:lnTo>
                  <a:lnTo>
                    <a:pt x="20" y="66"/>
                  </a:lnTo>
                  <a:lnTo>
                    <a:pt x="14" y="65"/>
                  </a:lnTo>
                  <a:lnTo>
                    <a:pt x="6" y="63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2" y="73"/>
                  </a:lnTo>
                  <a:lnTo>
                    <a:pt x="29" y="77"/>
                  </a:lnTo>
                  <a:lnTo>
                    <a:pt x="36" y="78"/>
                  </a:lnTo>
                  <a:lnTo>
                    <a:pt x="42" y="80"/>
                  </a:lnTo>
                  <a:lnTo>
                    <a:pt x="48" y="78"/>
                  </a:lnTo>
                  <a:lnTo>
                    <a:pt x="56" y="76"/>
                  </a:lnTo>
                  <a:lnTo>
                    <a:pt x="61" y="72"/>
                  </a:lnTo>
                  <a:lnTo>
                    <a:pt x="67" y="67"/>
                  </a:lnTo>
                  <a:lnTo>
                    <a:pt x="71" y="62"/>
                  </a:lnTo>
                  <a:lnTo>
                    <a:pt x="73" y="56"/>
                  </a:lnTo>
                  <a:lnTo>
                    <a:pt x="76" y="49"/>
                  </a:lnTo>
                  <a:lnTo>
                    <a:pt x="76" y="41"/>
                  </a:lnTo>
                  <a:lnTo>
                    <a:pt x="75" y="35"/>
                  </a:lnTo>
                  <a:lnTo>
                    <a:pt x="72" y="29"/>
                  </a:lnTo>
                  <a:lnTo>
                    <a:pt x="70" y="23"/>
                  </a:lnTo>
                  <a:lnTo>
                    <a:pt x="65" y="18"/>
                  </a:lnTo>
                  <a:lnTo>
                    <a:pt x="58" y="13"/>
                  </a:lnTo>
                  <a:lnTo>
                    <a:pt x="37" y="0"/>
                  </a:lnTo>
                  <a:lnTo>
                    <a:pt x="44" y="4"/>
                  </a:lnTo>
                  <a:lnTo>
                    <a:pt x="48" y="9"/>
                  </a:lnTo>
                  <a:lnTo>
                    <a:pt x="51" y="15"/>
                  </a:lnTo>
                  <a:lnTo>
                    <a:pt x="53" y="21"/>
                  </a:lnTo>
                  <a:lnTo>
                    <a:pt x="55" y="29"/>
                  </a:lnTo>
                  <a:lnTo>
                    <a:pt x="53" y="35"/>
                  </a:lnTo>
                  <a:lnTo>
                    <a:pt x="52" y="42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46080" y="4989600"/>
              <a:ext cx="2581200" cy="1868400"/>
            </a:xfrm>
            <a:custGeom>
              <a:avLst/>
              <a:gdLst/>
              <a:ahLst/>
              <a:rect l="l" t="t" r="r" b="b"/>
              <a:pathLst>
                <a:path w="6503" h="4707">
                  <a:moveTo>
                    <a:pt x="4830" y="0"/>
                  </a:moveTo>
                  <a:lnTo>
                    <a:pt x="4800" y="4"/>
                  </a:lnTo>
                  <a:lnTo>
                    <a:pt x="4771" y="7"/>
                  </a:lnTo>
                  <a:lnTo>
                    <a:pt x="4741" y="13"/>
                  </a:lnTo>
                  <a:lnTo>
                    <a:pt x="4711" y="18"/>
                  </a:lnTo>
                  <a:lnTo>
                    <a:pt x="4681" y="26"/>
                  </a:lnTo>
                  <a:lnTo>
                    <a:pt x="4653" y="33"/>
                  </a:lnTo>
                  <a:lnTo>
                    <a:pt x="4624" y="42"/>
                  </a:lnTo>
                  <a:lnTo>
                    <a:pt x="4595" y="51"/>
                  </a:lnTo>
                  <a:lnTo>
                    <a:pt x="4567" y="61"/>
                  </a:lnTo>
                  <a:lnTo>
                    <a:pt x="4538" y="71"/>
                  </a:lnTo>
                  <a:lnTo>
                    <a:pt x="4511" y="82"/>
                  </a:lnTo>
                  <a:lnTo>
                    <a:pt x="4484" y="94"/>
                  </a:lnTo>
                  <a:lnTo>
                    <a:pt x="4456" y="108"/>
                  </a:lnTo>
                  <a:lnTo>
                    <a:pt x="4429" y="121"/>
                  </a:lnTo>
                  <a:lnTo>
                    <a:pt x="4402" y="135"/>
                  </a:lnTo>
                  <a:lnTo>
                    <a:pt x="4376" y="151"/>
                  </a:lnTo>
                  <a:lnTo>
                    <a:pt x="4355" y="162"/>
                  </a:lnTo>
                  <a:lnTo>
                    <a:pt x="4333" y="175"/>
                  </a:lnTo>
                  <a:lnTo>
                    <a:pt x="4312" y="187"/>
                  </a:lnTo>
                  <a:lnTo>
                    <a:pt x="4292" y="201"/>
                  </a:lnTo>
                  <a:lnTo>
                    <a:pt x="4271" y="214"/>
                  </a:lnTo>
                  <a:lnTo>
                    <a:pt x="4251" y="229"/>
                  </a:lnTo>
                  <a:lnTo>
                    <a:pt x="4232" y="244"/>
                  </a:lnTo>
                  <a:lnTo>
                    <a:pt x="4213" y="260"/>
                  </a:lnTo>
                  <a:lnTo>
                    <a:pt x="4193" y="276"/>
                  </a:lnTo>
                  <a:lnTo>
                    <a:pt x="4174" y="293"/>
                  </a:lnTo>
                  <a:lnTo>
                    <a:pt x="4156" y="311"/>
                  </a:lnTo>
                  <a:lnTo>
                    <a:pt x="4137" y="329"/>
                  </a:lnTo>
                  <a:lnTo>
                    <a:pt x="4119" y="347"/>
                  </a:lnTo>
                  <a:lnTo>
                    <a:pt x="4101" y="367"/>
                  </a:lnTo>
                  <a:lnTo>
                    <a:pt x="4084" y="387"/>
                  </a:lnTo>
                  <a:lnTo>
                    <a:pt x="4066" y="407"/>
                  </a:lnTo>
                  <a:lnTo>
                    <a:pt x="4043" y="434"/>
                  </a:lnTo>
                  <a:lnTo>
                    <a:pt x="4021" y="460"/>
                  </a:lnTo>
                  <a:lnTo>
                    <a:pt x="3999" y="487"/>
                  </a:lnTo>
                  <a:lnTo>
                    <a:pt x="3978" y="515"/>
                  </a:lnTo>
                  <a:lnTo>
                    <a:pt x="3958" y="542"/>
                  </a:lnTo>
                  <a:lnTo>
                    <a:pt x="3939" y="569"/>
                  </a:lnTo>
                  <a:lnTo>
                    <a:pt x="3921" y="595"/>
                  </a:lnTo>
                  <a:lnTo>
                    <a:pt x="3904" y="623"/>
                  </a:lnTo>
                  <a:lnTo>
                    <a:pt x="3870" y="675"/>
                  </a:lnTo>
                  <a:lnTo>
                    <a:pt x="3842" y="726"/>
                  </a:lnTo>
                  <a:lnTo>
                    <a:pt x="3816" y="774"/>
                  </a:lnTo>
                  <a:lnTo>
                    <a:pt x="3792" y="820"/>
                  </a:lnTo>
                  <a:lnTo>
                    <a:pt x="3772" y="863"/>
                  </a:lnTo>
                  <a:lnTo>
                    <a:pt x="3755" y="902"/>
                  </a:lnTo>
                  <a:lnTo>
                    <a:pt x="3740" y="937"/>
                  </a:lnTo>
                  <a:lnTo>
                    <a:pt x="3729" y="968"/>
                  </a:lnTo>
                  <a:lnTo>
                    <a:pt x="3713" y="1011"/>
                  </a:lnTo>
                  <a:lnTo>
                    <a:pt x="3706" y="1031"/>
                  </a:lnTo>
                  <a:lnTo>
                    <a:pt x="3674" y="1097"/>
                  </a:lnTo>
                  <a:lnTo>
                    <a:pt x="3643" y="1157"/>
                  </a:lnTo>
                  <a:lnTo>
                    <a:pt x="3611" y="1214"/>
                  </a:lnTo>
                  <a:lnTo>
                    <a:pt x="3578" y="1268"/>
                  </a:lnTo>
                  <a:lnTo>
                    <a:pt x="3561" y="1293"/>
                  </a:lnTo>
                  <a:lnTo>
                    <a:pt x="3545" y="1316"/>
                  </a:lnTo>
                  <a:lnTo>
                    <a:pt x="3529" y="1340"/>
                  </a:lnTo>
                  <a:lnTo>
                    <a:pt x="3513" y="1362"/>
                  </a:lnTo>
                  <a:lnTo>
                    <a:pt x="3496" y="1382"/>
                  </a:lnTo>
                  <a:lnTo>
                    <a:pt x="3480" y="1402"/>
                  </a:lnTo>
                  <a:lnTo>
                    <a:pt x="3463" y="1422"/>
                  </a:lnTo>
                  <a:lnTo>
                    <a:pt x="3447" y="1439"/>
                  </a:lnTo>
                  <a:lnTo>
                    <a:pt x="3431" y="1455"/>
                  </a:lnTo>
                  <a:lnTo>
                    <a:pt x="3413" y="1471"/>
                  </a:lnTo>
                  <a:lnTo>
                    <a:pt x="3397" y="1486"/>
                  </a:lnTo>
                  <a:lnTo>
                    <a:pt x="3381" y="1500"/>
                  </a:lnTo>
                  <a:lnTo>
                    <a:pt x="3364" y="1512"/>
                  </a:lnTo>
                  <a:lnTo>
                    <a:pt x="3347" y="1523"/>
                  </a:lnTo>
                  <a:lnTo>
                    <a:pt x="3330" y="1533"/>
                  </a:lnTo>
                  <a:lnTo>
                    <a:pt x="3314" y="1543"/>
                  </a:lnTo>
                  <a:lnTo>
                    <a:pt x="3297" y="1552"/>
                  </a:lnTo>
                  <a:lnTo>
                    <a:pt x="3280" y="1558"/>
                  </a:lnTo>
                  <a:lnTo>
                    <a:pt x="3263" y="1564"/>
                  </a:lnTo>
                  <a:lnTo>
                    <a:pt x="3247" y="1569"/>
                  </a:lnTo>
                  <a:lnTo>
                    <a:pt x="3230" y="1574"/>
                  </a:lnTo>
                  <a:lnTo>
                    <a:pt x="3213" y="1577"/>
                  </a:lnTo>
                  <a:lnTo>
                    <a:pt x="3196" y="1578"/>
                  </a:lnTo>
                  <a:lnTo>
                    <a:pt x="3180" y="1579"/>
                  </a:lnTo>
                  <a:lnTo>
                    <a:pt x="3157" y="1579"/>
                  </a:lnTo>
                  <a:lnTo>
                    <a:pt x="3135" y="1577"/>
                  </a:lnTo>
                  <a:lnTo>
                    <a:pt x="3114" y="1572"/>
                  </a:lnTo>
                  <a:lnTo>
                    <a:pt x="3093" y="1567"/>
                  </a:lnTo>
                  <a:lnTo>
                    <a:pt x="3072" y="1559"/>
                  </a:lnTo>
                  <a:lnTo>
                    <a:pt x="3052" y="1551"/>
                  </a:lnTo>
                  <a:lnTo>
                    <a:pt x="3033" y="1541"/>
                  </a:lnTo>
                  <a:lnTo>
                    <a:pt x="3013" y="1530"/>
                  </a:lnTo>
                  <a:lnTo>
                    <a:pt x="2995" y="1518"/>
                  </a:lnTo>
                  <a:lnTo>
                    <a:pt x="2977" y="1506"/>
                  </a:lnTo>
                  <a:lnTo>
                    <a:pt x="2960" y="1492"/>
                  </a:lnTo>
                  <a:lnTo>
                    <a:pt x="2944" y="1477"/>
                  </a:lnTo>
                  <a:lnTo>
                    <a:pt x="2928" y="1464"/>
                  </a:lnTo>
                  <a:lnTo>
                    <a:pt x="2912" y="1448"/>
                  </a:lnTo>
                  <a:lnTo>
                    <a:pt x="2898" y="1433"/>
                  </a:lnTo>
                  <a:lnTo>
                    <a:pt x="2883" y="1418"/>
                  </a:lnTo>
                  <a:lnTo>
                    <a:pt x="2857" y="1387"/>
                  </a:lnTo>
                  <a:lnTo>
                    <a:pt x="2835" y="1357"/>
                  </a:lnTo>
                  <a:lnTo>
                    <a:pt x="2815" y="1329"/>
                  </a:lnTo>
                  <a:lnTo>
                    <a:pt x="2797" y="1304"/>
                  </a:lnTo>
                  <a:lnTo>
                    <a:pt x="2775" y="1265"/>
                  </a:lnTo>
                  <a:lnTo>
                    <a:pt x="2766" y="1250"/>
                  </a:lnTo>
                  <a:lnTo>
                    <a:pt x="2761" y="1241"/>
                  </a:lnTo>
                  <a:lnTo>
                    <a:pt x="2749" y="1216"/>
                  </a:lnTo>
                  <a:lnTo>
                    <a:pt x="2730" y="1180"/>
                  </a:lnTo>
                  <a:lnTo>
                    <a:pt x="2709" y="1139"/>
                  </a:lnTo>
                  <a:lnTo>
                    <a:pt x="2688" y="1098"/>
                  </a:lnTo>
                  <a:lnTo>
                    <a:pt x="2669" y="1061"/>
                  </a:lnTo>
                  <a:lnTo>
                    <a:pt x="2656" y="1035"/>
                  </a:lnTo>
                  <a:lnTo>
                    <a:pt x="2651" y="1026"/>
                  </a:lnTo>
                  <a:lnTo>
                    <a:pt x="2625" y="974"/>
                  </a:lnTo>
                  <a:lnTo>
                    <a:pt x="2596" y="923"/>
                  </a:lnTo>
                  <a:lnTo>
                    <a:pt x="2565" y="874"/>
                  </a:lnTo>
                  <a:lnTo>
                    <a:pt x="2534" y="826"/>
                  </a:lnTo>
                  <a:lnTo>
                    <a:pt x="2502" y="780"/>
                  </a:lnTo>
                  <a:lnTo>
                    <a:pt x="2467" y="734"/>
                  </a:lnTo>
                  <a:lnTo>
                    <a:pt x="2431" y="691"/>
                  </a:lnTo>
                  <a:lnTo>
                    <a:pt x="2394" y="649"/>
                  </a:lnTo>
                  <a:lnTo>
                    <a:pt x="2354" y="608"/>
                  </a:lnTo>
                  <a:lnTo>
                    <a:pt x="2314" y="568"/>
                  </a:lnTo>
                  <a:lnTo>
                    <a:pt x="2272" y="530"/>
                  </a:lnTo>
                  <a:lnTo>
                    <a:pt x="2230" y="492"/>
                  </a:lnTo>
                  <a:lnTo>
                    <a:pt x="2185" y="458"/>
                  </a:lnTo>
                  <a:lnTo>
                    <a:pt x="2139" y="424"/>
                  </a:lnTo>
                  <a:lnTo>
                    <a:pt x="2092" y="391"/>
                  </a:lnTo>
                  <a:lnTo>
                    <a:pt x="2044" y="360"/>
                  </a:lnTo>
                  <a:lnTo>
                    <a:pt x="2024" y="356"/>
                  </a:lnTo>
                  <a:lnTo>
                    <a:pt x="1978" y="346"/>
                  </a:lnTo>
                  <a:lnTo>
                    <a:pt x="1944" y="341"/>
                  </a:lnTo>
                  <a:lnTo>
                    <a:pt x="1906" y="336"/>
                  </a:lnTo>
                  <a:lnTo>
                    <a:pt x="1862" y="330"/>
                  </a:lnTo>
                  <a:lnTo>
                    <a:pt x="1814" y="325"/>
                  </a:lnTo>
                  <a:lnTo>
                    <a:pt x="1761" y="321"/>
                  </a:lnTo>
                  <a:lnTo>
                    <a:pt x="1703" y="319"/>
                  </a:lnTo>
                  <a:lnTo>
                    <a:pt x="1643" y="317"/>
                  </a:lnTo>
                  <a:lnTo>
                    <a:pt x="1578" y="317"/>
                  </a:lnTo>
                  <a:lnTo>
                    <a:pt x="1510" y="321"/>
                  </a:lnTo>
                  <a:lnTo>
                    <a:pt x="1439" y="326"/>
                  </a:lnTo>
                  <a:lnTo>
                    <a:pt x="1367" y="334"/>
                  </a:lnTo>
                  <a:lnTo>
                    <a:pt x="1292" y="345"/>
                  </a:lnTo>
                  <a:lnTo>
                    <a:pt x="1217" y="360"/>
                  </a:lnTo>
                  <a:lnTo>
                    <a:pt x="1138" y="378"/>
                  </a:lnTo>
                  <a:lnTo>
                    <a:pt x="1061" y="401"/>
                  </a:lnTo>
                  <a:lnTo>
                    <a:pt x="983" y="428"/>
                  </a:lnTo>
                  <a:lnTo>
                    <a:pt x="904" y="459"/>
                  </a:lnTo>
                  <a:lnTo>
                    <a:pt x="827" y="496"/>
                  </a:lnTo>
                  <a:lnTo>
                    <a:pt x="748" y="538"/>
                  </a:lnTo>
                  <a:lnTo>
                    <a:pt x="673" y="587"/>
                  </a:lnTo>
                  <a:lnTo>
                    <a:pt x="598" y="640"/>
                  </a:lnTo>
                  <a:lnTo>
                    <a:pt x="526" y="701"/>
                  </a:lnTo>
                  <a:lnTo>
                    <a:pt x="455" y="768"/>
                  </a:lnTo>
                  <a:lnTo>
                    <a:pt x="387" y="842"/>
                  </a:lnTo>
                  <a:lnTo>
                    <a:pt x="323" y="924"/>
                  </a:lnTo>
                  <a:lnTo>
                    <a:pt x="262" y="1013"/>
                  </a:lnTo>
                  <a:lnTo>
                    <a:pt x="205" y="1110"/>
                  </a:lnTo>
                  <a:lnTo>
                    <a:pt x="151" y="1217"/>
                  </a:lnTo>
                  <a:lnTo>
                    <a:pt x="121" y="1286"/>
                  </a:lnTo>
                  <a:lnTo>
                    <a:pt x="88" y="1372"/>
                  </a:lnTo>
                  <a:lnTo>
                    <a:pt x="72" y="1418"/>
                  </a:lnTo>
                  <a:lnTo>
                    <a:pt x="56" y="1465"/>
                  </a:lnTo>
                  <a:lnTo>
                    <a:pt x="39" y="1513"/>
                  </a:lnTo>
                  <a:lnTo>
                    <a:pt x="27" y="1561"/>
                  </a:lnTo>
                  <a:lnTo>
                    <a:pt x="16" y="1608"/>
                  </a:lnTo>
                  <a:lnTo>
                    <a:pt x="7" y="1652"/>
                  </a:lnTo>
                  <a:lnTo>
                    <a:pt x="3" y="1674"/>
                  </a:lnTo>
                  <a:lnTo>
                    <a:pt x="1" y="1695"/>
                  </a:lnTo>
                  <a:lnTo>
                    <a:pt x="0" y="1714"/>
                  </a:lnTo>
                  <a:lnTo>
                    <a:pt x="0" y="1734"/>
                  </a:lnTo>
                  <a:lnTo>
                    <a:pt x="0" y="1752"/>
                  </a:lnTo>
                  <a:lnTo>
                    <a:pt x="1" y="1769"/>
                  </a:lnTo>
                  <a:lnTo>
                    <a:pt x="5" y="1784"/>
                  </a:lnTo>
                  <a:lnTo>
                    <a:pt x="8" y="1799"/>
                  </a:lnTo>
                  <a:lnTo>
                    <a:pt x="13" y="1812"/>
                  </a:lnTo>
                  <a:lnTo>
                    <a:pt x="21" y="1824"/>
                  </a:lnTo>
                  <a:lnTo>
                    <a:pt x="28" y="1834"/>
                  </a:lnTo>
                  <a:lnTo>
                    <a:pt x="38" y="1841"/>
                  </a:lnTo>
                  <a:lnTo>
                    <a:pt x="49" y="1848"/>
                  </a:lnTo>
                  <a:lnTo>
                    <a:pt x="62" y="1853"/>
                  </a:lnTo>
                  <a:lnTo>
                    <a:pt x="75" y="1856"/>
                  </a:lnTo>
                  <a:lnTo>
                    <a:pt x="89" y="1856"/>
                  </a:lnTo>
                  <a:lnTo>
                    <a:pt x="104" y="1855"/>
                  </a:lnTo>
                  <a:lnTo>
                    <a:pt x="120" y="1850"/>
                  </a:lnTo>
                  <a:lnTo>
                    <a:pt x="138" y="1845"/>
                  </a:lnTo>
                  <a:lnTo>
                    <a:pt x="156" y="1836"/>
                  </a:lnTo>
                  <a:lnTo>
                    <a:pt x="176" y="1826"/>
                  </a:lnTo>
                  <a:lnTo>
                    <a:pt x="196" y="1814"/>
                  </a:lnTo>
                  <a:lnTo>
                    <a:pt x="218" y="1799"/>
                  </a:lnTo>
                  <a:lnTo>
                    <a:pt x="242" y="1781"/>
                  </a:lnTo>
                  <a:lnTo>
                    <a:pt x="265" y="1763"/>
                  </a:lnTo>
                  <a:lnTo>
                    <a:pt x="292" y="1741"/>
                  </a:lnTo>
                  <a:lnTo>
                    <a:pt x="319" y="1717"/>
                  </a:lnTo>
                  <a:lnTo>
                    <a:pt x="347" y="1691"/>
                  </a:lnTo>
                  <a:lnTo>
                    <a:pt x="356" y="1682"/>
                  </a:lnTo>
                  <a:lnTo>
                    <a:pt x="381" y="1661"/>
                  </a:lnTo>
                  <a:lnTo>
                    <a:pt x="419" y="1630"/>
                  </a:lnTo>
                  <a:lnTo>
                    <a:pt x="472" y="1589"/>
                  </a:lnTo>
                  <a:lnTo>
                    <a:pt x="535" y="1541"/>
                  </a:lnTo>
                  <a:lnTo>
                    <a:pt x="609" y="1489"/>
                  </a:lnTo>
                  <a:lnTo>
                    <a:pt x="650" y="1461"/>
                  </a:lnTo>
                  <a:lnTo>
                    <a:pt x="693" y="1434"/>
                  </a:lnTo>
                  <a:lnTo>
                    <a:pt x="739" y="1406"/>
                  </a:lnTo>
                  <a:lnTo>
                    <a:pt x="785" y="1377"/>
                  </a:lnTo>
                  <a:lnTo>
                    <a:pt x="833" y="1350"/>
                  </a:lnTo>
                  <a:lnTo>
                    <a:pt x="884" y="1322"/>
                  </a:lnTo>
                  <a:lnTo>
                    <a:pt x="935" y="1296"/>
                  </a:lnTo>
                  <a:lnTo>
                    <a:pt x="988" y="1272"/>
                  </a:lnTo>
                  <a:lnTo>
                    <a:pt x="1042" y="1247"/>
                  </a:lnTo>
                  <a:lnTo>
                    <a:pt x="1096" y="1224"/>
                  </a:lnTo>
                  <a:lnTo>
                    <a:pt x="1152" y="1205"/>
                  </a:lnTo>
                  <a:lnTo>
                    <a:pt x="1209" y="1186"/>
                  </a:lnTo>
                  <a:lnTo>
                    <a:pt x="1266" y="1169"/>
                  </a:lnTo>
                  <a:lnTo>
                    <a:pt x="1323" y="1155"/>
                  </a:lnTo>
                  <a:lnTo>
                    <a:pt x="1381" y="1145"/>
                  </a:lnTo>
                  <a:lnTo>
                    <a:pt x="1439" y="1136"/>
                  </a:lnTo>
                  <a:lnTo>
                    <a:pt x="1496" y="1133"/>
                  </a:lnTo>
                  <a:lnTo>
                    <a:pt x="1553" y="1131"/>
                  </a:lnTo>
                  <a:lnTo>
                    <a:pt x="1610" y="1134"/>
                  </a:lnTo>
                  <a:lnTo>
                    <a:pt x="1667" y="1141"/>
                  </a:lnTo>
                  <a:lnTo>
                    <a:pt x="1689" y="1145"/>
                  </a:lnTo>
                  <a:lnTo>
                    <a:pt x="1710" y="1149"/>
                  </a:lnTo>
                  <a:lnTo>
                    <a:pt x="1729" y="1154"/>
                  </a:lnTo>
                  <a:lnTo>
                    <a:pt x="1751" y="1160"/>
                  </a:lnTo>
                  <a:lnTo>
                    <a:pt x="1770" y="1166"/>
                  </a:lnTo>
                  <a:lnTo>
                    <a:pt x="1790" y="1172"/>
                  </a:lnTo>
                  <a:lnTo>
                    <a:pt x="1810" y="1180"/>
                  </a:lnTo>
                  <a:lnTo>
                    <a:pt x="1830" y="1188"/>
                  </a:lnTo>
                  <a:lnTo>
                    <a:pt x="1850" y="1197"/>
                  </a:lnTo>
                  <a:lnTo>
                    <a:pt x="1869" y="1206"/>
                  </a:lnTo>
                  <a:lnTo>
                    <a:pt x="1887" y="1216"/>
                  </a:lnTo>
                  <a:lnTo>
                    <a:pt x="1906" y="1227"/>
                  </a:lnTo>
                  <a:lnTo>
                    <a:pt x="1923" y="1237"/>
                  </a:lnTo>
                  <a:lnTo>
                    <a:pt x="1942" y="1249"/>
                  </a:lnTo>
                  <a:lnTo>
                    <a:pt x="1959" y="1262"/>
                  </a:lnTo>
                  <a:lnTo>
                    <a:pt x="1977" y="1274"/>
                  </a:lnTo>
                  <a:lnTo>
                    <a:pt x="2010" y="1301"/>
                  </a:lnTo>
                  <a:lnTo>
                    <a:pt x="2044" y="1331"/>
                  </a:lnTo>
                  <a:lnTo>
                    <a:pt x="2075" y="1363"/>
                  </a:lnTo>
                  <a:lnTo>
                    <a:pt x="2106" y="1398"/>
                  </a:lnTo>
                  <a:lnTo>
                    <a:pt x="2136" y="1435"/>
                  </a:lnTo>
                  <a:lnTo>
                    <a:pt x="2164" y="1475"/>
                  </a:lnTo>
                  <a:lnTo>
                    <a:pt x="2191" y="1517"/>
                  </a:lnTo>
                  <a:lnTo>
                    <a:pt x="2217" y="1561"/>
                  </a:lnTo>
                  <a:lnTo>
                    <a:pt x="2225" y="1574"/>
                  </a:lnTo>
                  <a:lnTo>
                    <a:pt x="2242" y="1613"/>
                  </a:lnTo>
                  <a:lnTo>
                    <a:pt x="2254" y="1640"/>
                  </a:lnTo>
                  <a:lnTo>
                    <a:pt x="2266" y="1672"/>
                  </a:lnTo>
                  <a:lnTo>
                    <a:pt x="2281" y="1709"/>
                  </a:lnTo>
                  <a:lnTo>
                    <a:pt x="2294" y="1752"/>
                  </a:lnTo>
                  <a:lnTo>
                    <a:pt x="2308" y="1796"/>
                  </a:lnTo>
                  <a:lnTo>
                    <a:pt x="2323" y="1846"/>
                  </a:lnTo>
                  <a:lnTo>
                    <a:pt x="2335" y="1899"/>
                  </a:lnTo>
                  <a:lnTo>
                    <a:pt x="2347" y="1955"/>
                  </a:lnTo>
                  <a:lnTo>
                    <a:pt x="2352" y="1984"/>
                  </a:lnTo>
                  <a:lnTo>
                    <a:pt x="2357" y="2013"/>
                  </a:lnTo>
                  <a:lnTo>
                    <a:pt x="2360" y="2043"/>
                  </a:lnTo>
                  <a:lnTo>
                    <a:pt x="2364" y="2074"/>
                  </a:lnTo>
                  <a:lnTo>
                    <a:pt x="2367" y="2105"/>
                  </a:lnTo>
                  <a:lnTo>
                    <a:pt x="2369" y="2138"/>
                  </a:lnTo>
                  <a:lnTo>
                    <a:pt x="2370" y="2170"/>
                  </a:lnTo>
                  <a:lnTo>
                    <a:pt x="2370" y="2202"/>
                  </a:lnTo>
                  <a:lnTo>
                    <a:pt x="2368" y="2238"/>
                  </a:lnTo>
                  <a:lnTo>
                    <a:pt x="2362" y="2311"/>
                  </a:lnTo>
                  <a:lnTo>
                    <a:pt x="2354" y="2418"/>
                  </a:lnTo>
                  <a:lnTo>
                    <a:pt x="2347" y="2553"/>
                  </a:lnTo>
                  <a:lnTo>
                    <a:pt x="2344" y="2630"/>
                  </a:lnTo>
                  <a:lnTo>
                    <a:pt x="2342" y="2712"/>
                  </a:lnTo>
                  <a:lnTo>
                    <a:pt x="2339" y="2798"/>
                  </a:lnTo>
                  <a:lnTo>
                    <a:pt x="2339" y="2889"/>
                  </a:lnTo>
                  <a:lnTo>
                    <a:pt x="2339" y="2982"/>
                  </a:lnTo>
                  <a:lnTo>
                    <a:pt x="2342" y="3080"/>
                  </a:lnTo>
                  <a:lnTo>
                    <a:pt x="2344" y="3180"/>
                  </a:lnTo>
                  <a:lnTo>
                    <a:pt x="2350" y="3280"/>
                  </a:lnTo>
                  <a:lnTo>
                    <a:pt x="2357" y="3382"/>
                  </a:lnTo>
                  <a:lnTo>
                    <a:pt x="2365" y="3485"/>
                  </a:lnTo>
                  <a:lnTo>
                    <a:pt x="2376" y="3587"/>
                  </a:lnTo>
                  <a:lnTo>
                    <a:pt x="2390" y="3688"/>
                  </a:lnTo>
                  <a:lnTo>
                    <a:pt x="2407" y="3788"/>
                  </a:lnTo>
                  <a:lnTo>
                    <a:pt x="2426" y="3886"/>
                  </a:lnTo>
                  <a:lnTo>
                    <a:pt x="2448" y="3981"/>
                  </a:lnTo>
                  <a:lnTo>
                    <a:pt x="2473" y="4073"/>
                  </a:lnTo>
                  <a:lnTo>
                    <a:pt x="2502" y="4162"/>
                  </a:lnTo>
                  <a:lnTo>
                    <a:pt x="2534" y="4245"/>
                  </a:lnTo>
                  <a:lnTo>
                    <a:pt x="2570" y="4325"/>
                  </a:lnTo>
                  <a:lnTo>
                    <a:pt x="2610" y="4398"/>
                  </a:lnTo>
                  <a:lnTo>
                    <a:pt x="2653" y="4465"/>
                  </a:lnTo>
                  <a:lnTo>
                    <a:pt x="2702" y="4525"/>
                  </a:lnTo>
                  <a:lnTo>
                    <a:pt x="2755" y="4577"/>
                  </a:lnTo>
                  <a:lnTo>
                    <a:pt x="2812" y="4621"/>
                  </a:lnTo>
                  <a:lnTo>
                    <a:pt x="2830" y="4633"/>
                  </a:lnTo>
                  <a:lnTo>
                    <a:pt x="2847" y="4644"/>
                  </a:lnTo>
                  <a:lnTo>
                    <a:pt x="2864" y="4652"/>
                  </a:lnTo>
                  <a:lnTo>
                    <a:pt x="2883" y="4661"/>
                  </a:lnTo>
                  <a:lnTo>
                    <a:pt x="2900" y="4670"/>
                  </a:lnTo>
                  <a:lnTo>
                    <a:pt x="2919" y="4677"/>
                  </a:lnTo>
                  <a:lnTo>
                    <a:pt x="2939" y="4683"/>
                  </a:lnTo>
                  <a:lnTo>
                    <a:pt x="2958" y="4690"/>
                  </a:lnTo>
                  <a:lnTo>
                    <a:pt x="2977" y="4695"/>
                  </a:lnTo>
                  <a:lnTo>
                    <a:pt x="2996" y="4698"/>
                  </a:lnTo>
                  <a:lnTo>
                    <a:pt x="3017" y="4702"/>
                  </a:lnTo>
                  <a:lnTo>
                    <a:pt x="3037" y="4705"/>
                  </a:lnTo>
                  <a:lnTo>
                    <a:pt x="3057" y="4706"/>
                  </a:lnTo>
                  <a:lnTo>
                    <a:pt x="3078" y="4707"/>
                  </a:lnTo>
                  <a:lnTo>
                    <a:pt x="3099" y="4707"/>
                  </a:lnTo>
                  <a:lnTo>
                    <a:pt x="3120" y="4707"/>
                  </a:lnTo>
                  <a:lnTo>
                    <a:pt x="3143" y="4706"/>
                  </a:lnTo>
                  <a:lnTo>
                    <a:pt x="3164" y="4703"/>
                  </a:lnTo>
                  <a:lnTo>
                    <a:pt x="3186" y="4701"/>
                  </a:lnTo>
                  <a:lnTo>
                    <a:pt x="3208" y="4697"/>
                  </a:lnTo>
                  <a:lnTo>
                    <a:pt x="3231" y="4692"/>
                  </a:lnTo>
                  <a:lnTo>
                    <a:pt x="3254" y="4687"/>
                  </a:lnTo>
                  <a:lnTo>
                    <a:pt x="3277" y="4681"/>
                  </a:lnTo>
                  <a:lnTo>
                    <a:pt x="3300" y="4674"/>
                  </a:lnTo>
                  <a:lnTo>
                    <a:pt x="3324" y="4666"/>
                  </a:lnTo>
                  <a:lnTo>
                    <a:pt x="3349" y="4659"/>
                  </a:lnTo>
                  <a:lnTo>
                    <a:pt x="3372" y="4649"/>
                  </a:lnTo>
                  <a:lnTo>
                    <a:pt x="3397" y="4639"/>
                  </a:lnTo>
                  <a:lnTo>
                    <a:pt x="3447" y="4618"/>
                  </a:lnTo>
                  <a:lnTo>
                    <a:pt x="3498" y="4592"/>
                  </a:lnTo>
                  <a:lnTo>
                    <a:pt x="3511" y="4575"/>
                  </a:lnTo>
                  <a:lnTo>
                    <a:pt x="3546" y="4535"/>
                  </a:lnTo>
                  <a:lnTo>
                    <a:pt x="3570" y="4506"/>
                  </a:lnTo>
                  <a:lnTo>
                    <a:pt x="3598" y="4470"/>
                  </a:lnTo>
                  <a:lnTo>
                    <a:pt x="3629" y="4429"/>
                  </a:lnTo>
                  <a:lnTo>
                    <a:pt x="3664" y="4381"/>
                  </a:lnTo>
                  <a:lnTo>
                    <a:pt x="3701" y="4327"/>
                  </a:lnTo>
                  <a:lnTo>
                    <a:pt x="3741" y="4269"/>
                  </a:lnTo>
                  <a:lnTo>
                    <a:pt x="3783" y="4203"/>
                  </a:lnTo>
                  <a:lnTo>
                    <a:pt x="3827" y="4133"/>
                  </a:lnTo>
                  <a:lnTo>
                    <a:pt x="3872" y="4057"/>
                  </a:lnTo>
                  <a:lnTo>
                    <a:pt x="3919" y="3975"/>
                  </a:lnTo>
                  <a:lnTo>
                    <a:pt x="3965" y="3887"/>
                  </a:lnTo>
                  <a:lnTo>
                    <a:pt x="4012" y="3794"/>
                  </a:lnTo>
                  <a:lnTo>
                    <a:pt x="4059" y="3695"/>
                  </a:lnTo>
                  <a:lnTo>
                    <a:pt x="4106" y="3590"/>
                  </a:lnTo>
                  <a:lnTo>
                    <a:pt x="4152" y="3481"/>
                  </a:lnTo>
                  <a:lnTo>
                    <a:pt x="4197" y="3367"/>
                  </a:lnTo>
                  <a:lnTo>
                    <a:pt x="4239" y="3247"/>
                  </a:lnTo>
                  <a:lnTo>
                    <a:pt x="4281" y="3121"/>
                  </a:lnTo>
                  <a:lnTo>
                    <a:pt x="4320" y="2990"/>
                  </a:lnTo>
                  <a:lnTo>
                    <a:pt x="4357" y="2855"/>
                  </a:lnTo>
                  <a:lnTo>
                    <a:pt x="4391" y="2714"/>
                  </a:lnTo>
                  <a:lnTo>
                    <a:pt x="4420" y="2568"/>
                  </a:lnTo>
                  <a:lnTo>
                    <a:pt x="4446" y="2418"/>
                  </a:lnTo>
                  <a:lnTo>
                    <a:pt x="4470" y="2262"/>
                  </a:lnTo>
                  <a:lnTo>
                    <a:pt x="4487" y="2100"/>
                  </a:lnTo>
                  <a:lnTo>
                    <a:pt x="4501" y="1935"/>
                  </a:lnTo>
                  <a:lnTo>
                    <a:pt x="4510" y="1765"/>
                  </a:lnTo>
                  <a:lnTo>
                    <a:pt x="4512" y="1590"/>
                  </a:lnTo>
                  <a:lnTo>
                    <a:pt x="4512" y="1531"/>
                  </a:lnTo>
                  <a:lnTo>
                    <a:pt x="4511" y="1470"/>
                  </a:lnTo>
                  <a:lnTo>
                    <a:pt x="4509" y="1409"/>
                  </a:lnTo>
                  <a:lnTo>
                    <a:pt x="4506" y="1348"/>
                  </a:lnTo>
                  <a:lnTo>
                    <a:pt x="4504" y="1286"/>
                  </a:lnTo>
                  <a:lnTo>
                    <a:pt x="4499" y="1224"/>
                  </a:lnTo>
                  <a:lnTo>
                    <a:pt x="4495" y="1161"/>
                  </a:lnTo>
                  <a:lnTo>
                    <a:pt x="4489" y="1098"/>
                  </a:lnTo>
                  <a:lnTo>
                    <a:pt x="4513" y="1088"/>
                  </a:lnTo>
                  <a:lnTo>
                    <a:pt x="4548" y="1074"/>
                  </a:lnTo>
                  <a:lnTo>
                    <a:pt x="4593" y="1059"/>
                  </a:lnTo>
                  <a:lnTo>
                    <a:pt x="4645" y="1044"/>
                  </a:lnTo>
                  <a:lnTo>
                    <a:pt x="4674" y="1038"/>
                  </a:lnTo>
                  <a:lnTo>
                    <a:pt x="4705" y="1031"/>
                  </a:lnTo>
                  <a:lnTo>
                    <a:pt x="4736" y="1026"/>
                  </a:lnTo>
                  <a:lnTo>
                    <a:pt x="4769" y="1021"/>
                  </a:lnTo>
                  <a:lnTo>
                    <a:pt x="4804" y="1016"/>
                  </a:lnTo>
                  <a:lnTo>
                    <a:pt x="4840" y="1013"/>
                  </a:lnTo>
                  <a:lnTo>
                    <a:pt x="4876" y="1012"/>
                  </a:lnTo>
                  <a:lnTo>
                    <a:pt x="4915" y="1012"/>
                  </a:lnTo>
                  <a:lnTo>
                    <a:pt x="4952" y="1015"/>
                  </a:lnTo>
                  <a:lnTo>
                    <a:pt x="4992" y="1018"/>
                  </a:lnTo>
                  <a:lnTo>
                    <a:pt x="5030" y="1023"/>
                  </a:lnTo>
                  <a:lnTo>
                    <a:pt x="5070" y="1032"/>
                  </a:lnTo>
                  <a:lnTo>
                    <a:pt x="5110" y="1043"/>
                  </a:lnTo>
                  <a:lnTo>
                    <a:pt x="5148" y="1056"/>
                  </a:lnTo>
                  <a:lnTo>
                    <a:pt x="5188" y="1072"/>
                  </a:lnTo>
                  <a:lnTo>
                    <a:pt x="5227" y="1090"/>
                  </a:lnTo>
                  <a:lnTo>
                    <a:pt x="5266" y="1113"/>
                  </a:lnTo>
                  <a:lnTo>
                    <a:pt x="5304" y="1139"/>
                  </a:lnTo>
                  <a:lnTo>
                    <a:pt x="5342" y="1167"/>
                  </a:lnTo>
                  <a:lnTo>
                    <a:pt x="5379" y="1201"/>
                  </a:lnTo>
                  <a:lnTo>
                    <a:pt x="5415" y="1237"/>
                  </a:lnTo>
                  <a:lnTo>
                    <a:pt x="5450" y="1278"/>
                  </a:lnTo>
                  <a:lnTo>
                    <a:pt x="5483" y="1322"/>
                  </a:lnTo>
                  <a:lnTo>
                    <a:pt x="5516" y="1372"/>
                  </a:lnTo>
                  <a:lnTo>
                    <a:pt x="5532" y="1398"/>
                  </a:lnTo>
                  <a:lnTo>
                    <a:pt x="5573" y="1465"/>
                  </a:lnTo>
                  <a:lnTo>
                    <a:pt x="5599" y="1511"/>
                  </a:lnTo>
                  <a:lnTo>
                    <a:pt x="5629" y="1564"/>
                  </a:lnTo>
                  <a:lnTo>
                    <a:pt x="5660" y="1624"/>
                  </a:lnTo>
                  <a:lnTo>
                    <a:pt x="5691" y="1687"/>
                  </a:lnTo>
                  <a:lnTo>
                    <a:pt x="5723" y="1755"/>
                  </a:lnTo>
                  <a:lnTo>
                    <a:pt x="5753" y="1825"/>
                  </a:lnTo>
                  <a:lnTo>
                    <a:pt x="5766" y="1861"/>
                  </a:lnTo>
                  <a:lnTo>
                    <a:pt x="5780" y="1896"/>
                  </a:lnTo>
                  <a:lnTo>
                    <a:pt x="5792" y="1932"/>
                  </a:lnTo>
                  <a:lnTo>
                    <a:pt x="5804" y="1968"/>
                  </a:lnTo>
                  <a:lnTo>
                    <a:pt x="5814" y="2004"/>
                  </a:lnTo>
                  <a:lnTo>
                    <a:pt x="5822" y="2038"/>
                  </a:lnTo>
                  <a:lnTo>
                    <a:pt x="5830" y="2073"/>
                  </a:lnTo>
                  <a:lnTo>
                    <a:pt x="5835" y="2107"/>
                  </a:lnTo>
                  <a:lnTo>
                    <a:pt x="5840" y="2140"/>
                  </a:lnTo>
                  <a:lnTo>
                    <a:pt x="5841" y="2172"/>
                  </a:lnTo>
                  <a:lnTo>
                    <a:pt x="5842" y="2203"/>
                  </a:lnTo>
                  <a:lnTo>
                    <a:pt x="5840" y="2233"/>
                  </a:lnTo>
                  <a:lnTo>
                    <a:pt x="5842" y="2254"/>
                  </a:lnTo>
                  <a:lnTo>
                    <a:pt x="5850" y="2286"/>
                  </a:lnTo>
                  <a:lnTo>
                    <a:pt x="5855" y="2307"/>
                  </a:lnTo>
                  <a:lnTo>
                    <a:pt x="5861" y="2329"/>
                  </a:lnTo>
                  <a:lnTo>
                    <a:pt x="5868" y="2351"/>
                  </a:lnTo>
                  <a:lnTo>
                    <a:pt x="5878" y="2374"/>
                  </a:lnTo>
                  <a:lnTo>
                    <a:pt x="5888" y="2398"/>
                  </a:lnTo>
                  <a:lnTo>
                    <a:pt x="5901" y="2420"/>
                  </a:lnTo>
                  <a:lnTo>
                    <a:pt x="5908" y="2432"/>
                  </a:lnTo>
                  <a:lnTo>
                    <a:pt x="5915" y="2441"/>
                  </a:lnTo>
                  <a:lnTo>
                    <a:pt x="5923" y="2451"/>
                  </a:lnTo>
                  <a:lnTo>
                    <a:pt x="5932" y="2461"/>
                  </a:lnTo>
                  <a:lnTo>
                    <a:pt x="5940" y="2470"/>
                  </a:lnTo>
                  <a:lnTo>
                    <a:pt x="5949" y="2479"/>
                  </a:lnTo>
                  <a:lnTo>
                    <a:pt x="5959" y="2486"/>
                  </a:lnTo>
                  <a:lnTo>
                    <a:pt x="5970" y="2494"/>
                  </a:lnTo>
                  <a:lnTo>
                    <a:pt x="5980" y="2500"/>
                  </a:lnTo>
                  <a:lnTo>
                    <a:pt x="5992" y="2505"/>
                  </a:lnTo>
                  <a:lnTo>
                    <a:pt x="6004" y="2508"/>
                  </a:lnTo>
                  <a:lnTo>
                    <a:pt x="6016" y="2512"/>
                  </a:lnTo>
                  <a:lnTo>
                    <a:pt x="6027" y="2515"/>
                  </a:lnTo>
                  <a:lnTo>
                    <a:pt x="6037" y="2515"/>
                  </a:lnTo>
                  <a:lnTo>
                    <a:pt x="6048" y="2516"/>
                  </a:lnTo>
                  <a:lnTo>
                    <a:pt x="6059" y="2515"/>
                  </a:lnTo>
                  <a:lnTo>
                    <a:pt x="6069" y="2513"/>
                  </a:lnTo>
                  <a:lnTo>
                    <a:pt x="6081" y="2512"/>
                  </a:lnTo>
                  <a:lnTo>
                    <a:pt x="6092" y="2508"/>
                  </a:lnTo>
                  <a:lnTo>
                    <a:pt x="6103" y="2506"/>
                  </a:lnTo>
                  <a:lnTo>
                    <a:pt x="6114" y="2501"/>
                  </a:lnTo>
                  <a:lnTo>
                    <a:pt x="6125" y="2496"/>
                  </a:lnTo>
                  <a:lnTo>
                    <a:pt x="6136" y="2490"/>
                  </a:lnTo>
                  <a:lnTo>
                    <a:pt x="6149" y="2484"/>
                  </a:lnTo>
                  <a:lnTo>
                    <a:pt x="6172" y="2468"/>
                  </a:lnTo>
                  <a:lnTo>
                    <a:pt x="6196" y="2449"/>
                  </a:lnTo>
                  <a:lnTo>
                    <a:pt x="6221" y="2428"/>
                  </a:lnTo>
                  <a:lnTo>
                    <a:pt x="6246" y="2403"/>
                  </a:lnTo>
                  <a:lnTo>
                    <a:pt x="6272" y="2374"/>
                  </a:lnTo>
                  <a:lnTo>
                    <a:pt x="6298" y="2343"/>
                  </a:lnTo>
                  <a:lnTo>
                    <a:pt x="6325" y="2309"/>
                  </a:lnTo>
                  <a:lnTo>
                    <a:pt x="6353" y="2272"/>
                  </a:lnTo>
                  <a:lnTo>
                    <a:pt x="6380" y="2231"/>
                  </a:lnTo>
                  <a:lnTo>
                    <a:pt x="6408" y="2187"/>
                  </a:lnTo>
                  <a:lnTo>
                    <a:pt x="6413" y="2175"/>
                  </a:lnTo>
                  <a:lnTo>
                    <a:pt x="6425" y="2142"/>
                  </a:lnTo>
                  <a:lnTo>
                    <a:pt x="6432" y="2119"/>
                  </a:lnTo>
                  <a:lnTo>
                    <a:pt x="6439" y="2093"/>
                  </a:lnTo>
                  <a:lnTo>
                    <a:pt x="6448" y="2062"/>
                  </a:lnTo>
                  <a:lnTo>
                    <a:pt x="6457" y="2026"/>
                  </a:lnTo>
                  <a:lnTo>
                    <a:pt x="6466" y="1987"/>
                  </a:lnTo>
                  <a:lnTo>
                    <a:pt x="6474" y="1945"/>
                  </a:lnTo>
                  <a:lnTo>
                    <a:pt x="6482" y="1899"/>
                  </a:lnTo>
                  <a:lnTo>
                    <a:pt x="6489" y="1851"/>
                  </a:lnTo>
                  <a:lnTo>
                    <a:pt x="6494" y="1799"/>
                  </a:lnTo>
                  <a:lnTo>
                    <a:pt x="6499" y="1744"/>
                  </a:lnTo>
                  <a:lnTo>
                    <a:pt x="6502" y="1687"/>
                  </a:lnTo>
                  <a:lnTo>
                    <a:pt x="6503" y="1628"/>
                  </a:lnTo>
                  <a:lnTo>
                    <a:pt x="6502" y="1566"/>
                  </a:lnTo>
                  <a:lnTo>
                    <a:pt x="6498" y="1501"/>
                  </a:lnTo>
                  <a:lnTo>
                    <a:pt x="6495" y="1468"/>
                  </a:lnTo>
                  <a:lnTo>
                    <a:pt x="6492" y="1434"/>
                  </a:lnTo>
                  <a:lnTo>
                    <a:pt x="6488" y="1401"/>
                  </a:lnTo>
                  <a:lnTo>
                    <a:pt x="6483" y="1366"/>
                  </a:lnTo>
                  <a:lnTo>
                    <a:pt x="6477" y="1331"/>
                  </a:lnTo>
                  <a:lnTo>
                    <a:pt x="6470" y="1296"/>
                  </a:lnTo>
                  <a:lnTo>
                    <a:pt x="6462" y="1260"/>
                  </a:lnTo>
                  <a:lnTo>
                    <a:pt x="6454" y="1224"/>
                  </a:lnTo>
                  <a:lnTo>
                    <a:pt x="6444" y="1188"/>
                  </a:lnTo>
                  <a:lnTo>
                    <a:pt x="6434" y="1152"/>
                  </a:lnTo>
                  <a:lnTo>
                    <a:pt x="6422" y="1116"/>
                  </a:lnTo>
                  <a:lnTo>
                    <a:pt x="6410" y="1079"/>
                  </a:lnTo>
                  <a:lnTo>
                    <a:pt x="6396" y="1042"/>
                  </a:lnTo>
                  <a:lnTo>
                    <a:pt x="6382" y="1005"/>
                  </a:lnTo>
                  <a:lnTo>
                    <a:pt x="6366" y="968"/>
                  </a:lnTo>
                  <a:lnTo>
                    <a:pt x="6349" y="930"/>
                  </a:lnTo>
                  <a:lnTo>
                    <a:pt x="6330" y="893"/>
                  </a:lnTo>
                  <a:lnTo>
                    <a:pt x="6312" y="855"/>
                  </a:lnTo>
                  <a:lnTo>
                    <a:pt x="6290" y="817"/>
                  </a:lnTo>
                  <a:lnTo>
                    <a:pt x="6268" y="779"/>
                  </a:lnTo>
                  <a:lnTo>
                    <a:pt x="6244" y="742"/>
                  </a:lnTo>
                  <a:lnTo>
                    <a:pt x="6220" y="705"/>
                  </a:lnTo>
                  <a:lnTo>
                    <a:pt x="6194" y="666"/>
                  </a:lnTo>
                  <a:lnTo>
                    <a:pt x="6166" y="629"/>
                  </a:lnTo>
                  <a:lnTo>
                    <a:pt x="6136" y="592"/>
                  </a:lnTo>
                  <a:lnTo>
                    <a:pt x="6107" y="553"/>
                  </a:lnTo>
                  <a:lnTo>
                    <a:pt x="6074" y="516"/>
                  </a:lnTo>
                  <a:lnTo>
                    <a:pt x="6040" y="479"/>
                  </a:lnTo>
                  <a:lnTo>
                    <a:pt x="6038" y="476"/>
                  </a:lnTo>
                  <a:lnTo>
                    <a:pt x="6036" y="475"/>
                  </a:lnTo>
                  <a:lnTo>
                    <a:pt x="6025" y="466"/>
                  </a:lnTo>
                  <a:lnTo>
                    <a:pt x="6002" y="451"/>
                  </a:lnTo>
                  <a:lnTo>
                    <a:pt x="5969" y="429"/>
                  </a:lnTo>
                  <a:lnTo>
                    <a:pt x="5925" y="401"/>
                  </a:lnTo>
                  <a:lnTo>
                    <a:pt x="5872" y="367"/>
                  </a:lnTo>
                  <a:lnTo>
                    <a:pt x="5810" y="331"/>
                  </a:lnTo>
                  <a:lnTo>
                    <a:pt x="5739" y="293"/>
                  </a:lnTo>
                  <a:lnTo>
                    <a:pt x="5662" y="254"/>
                  </a:lnTo>
                  <a:lnTo>
                    <a:pt x="5620" y="234"/>
                  </a:lnTo>
                  <a:lnTo>
                    <a:pt x="5578" y="214"/>
                  </a:lnTo>
                  <a:lnTo>
                    <a:pt x="5533" y="196"/>
                  </a:lnTo>
                  <a:lnTo>
                    <a:pt x="5488" y="177"/>
                  </a:lnTo>
                  <a:lnTo>
                    <a:pt x="5441" y="159"/>
                  </a:lnTo>
                  <a:lnTo>
                    <a:pt x="5393" y="141"/>
                  </a:lnTo>
                  <a:lnTo>
                    <a:pt x="5344" y="125"/>
                  </a:lnTo>
                  <a:lnTo>
                    <a:pt x="5293" y="109"/>
                  </a:lnTo>
                  <a:lnTo>
                    <a:pt x="5242" y="95"/>
                  </a:lnTo>
                  <a:lnTo>
                    <a:pt x="5190" y="82"/>
                  </a:lnTo>
                  <a:lnTo>
                    <a:pt x="5138" y="71"/>
                  </a:lnTo>
                  <a:lnTo>
                    <a:pt x="5085" y="61"/>
                  </a:lnTo>
                  <a:lnTo>
                    <a:pt x="5031" y="53"/>
                  </a:lnTo>
                  <a:lnTo>
                    <a:pt x="4978" y="47"/>
                  </a:lnTo>
                  <a:lnTo>
                    <a:pt x="4923" y="42"/>
                  </a:lnTo>
                  <a:lnTo>
                    <a:pt x="4869" y="41"/>
                  </a:lnTo>
                  <a:lnTo>
                    <a:pt x="4869" y="38"/>
                  </a:lnTo>
                  <a:lnTo>
                    <a:pt x="4870" y="35"/>
                  </a:lnTo>
                  <a:lnTo>
                    <a:pt x="4869" y="30"/>
                  </a:lnTo>
                  <a:lnTo>
                    <a:pt x="4867" y="25"/>
                  </a:lnTo>
                  <a:lnTo>
                    <a:pt x="4866" y="20"/>
                  </a:lnTo>
                  <a:lnTo>
                    <a:pt x="4862" y="15"/>
                  </a:lnTo>
                  <a:lnTo>
                    <a:pt x="4856" y="7"/>
                  </a:lnTo>
                  <a:lnTo>
                    <a:pt x="4849" y="2"/>
                  </a:lnTo>
                  <a:lnTo>
                    <a:pt x="4840" y="0"/>
                  </a:lnTo>
                  <a:lnTo>
                    <a:pt x="4830" y="0"/>
                  </a:lnTo>
                  <a:close/>
                  <a:moveTo>
                    <a:pt x="3180" y="1651"/>
                  </a:moveTo>
                  <a:lnTo>
                    <a:pt x="3200" y="1650"/>
                  </a:lnTo>
                  <a:lnTo>
                    <a:pt x="3220" y="1647"/>
                  </a:lnTo>
                  <a:lnTo>
                    <a:pt x="3238" y="1645"/>
                  </a:lnTo>
                  <a:lnTo>
                    <a:pt x="3258" y="1640"/>
                  </a:lnTo>
                  <a:lnTo>
                    <a:pt x="3278" y="1635"/>
                  </a:lnTo>
                  <a:lnTo>
                    <a:pt x="3297" y="1628"/>
                  </a:lnTo>
                  <a:lnTo>
                    <a:pt x="3316" y="1620"/>
                  </a:lnTo>
                  <a:lnTo>
                    <a:pt x="3335" y="1611"/>
                  </a:lnTo>
                  <a:lnTo>
                    <a:pt x="3355" y="1602"/>
                  </a:lnTo>
                  <a:lnTo>
                    <a:pt x="3374" y="1590"/>
                  </a:lnTo>
                  <a:lnTo>
                    <a:pt x="3392" y="1578"/>
                  </a:lnTo>
                  <a:lnTo>
                    <a:pt x="3411" y="1564"/>
                  </a:lnTo>
                  <a:lnTo>
                    <a:pt x="3429" y="1549"/>
                  </a:lnTo>
                  <a:lnTo>
                    <a:pt x="3449" y="1533"/>
                  </a:lnTo>
                  <a:lnTo>
                    <a:pt x="3468" y="1517"/>
                  </a:lnTo>
                  <a:lnTo>
                    <a:pt x="3487" y="1499"/>
                  </a:lnTo>
                  <a:lnTo>
                    <a:pt x="3505" y="1480"/>
                  </a:lnTo>
                  <a:lnTo>
                    <a:pt x="3523" y="1459"/>
                  </a:lnTo>
                  <a:lnTo>
                    <a:pt x="3541" y="1438"/>
                  </a:lnTo>
                  <a:lnTo>
                    <a:pt x="3560" y="1415"/>
                  </a:lnTo>
                  <a:lnTo>
                    <a:pt x="3578" y="1392"/>
                  </a:lnTo>
                  <a:lnTo>
                    <a:pt x="3596" y="1367"/>
                  </a:lnTo>
                  <a:lnTo>
                    <a:pt x="3614" y="1341"/>
                  </a:lnTo>
                  <a:lnTo>
                    <a:pt x="3632" y="1314"/>
                  </a:lnTo>
                  <a:lnTo>
                    <a:pt x="3650" y="1285"/>
                  </a:lnTo>
                  <a:lnTo>
                    <a:pt x="3668" y="1255"/>
                  </a:lnTo>
                  <a:lnTo>
                    <a:pt x="3685" y="1226"/>
                  </a:lnTo>
                  <a:lnTo>
                    <a:pt x="3704" y="1193"/>
                  </a:lnTo>
                  <a:lnTo>
                    <a:pt x="3739" y="1128"/>
                  </a:lnTo>
                  <a:lnTo>
                    <a:pt x="3773" y="1056"/>
                  </a:lnTo>
                  <a:lnTo>
                    <a:pt x="3778" y="1040"/>
                  </a:lnTo>
                  <a:lnTo>
                    <a:pt x="3795" y="997"/>
                  </a:lnTo>
                  <a:lnTo>
                    <a:pt x="3806" y="968"/>
                  </a:lnTo>
                  <a:lnTo>
                    <a:pt x="3819" y="934"/>
                  </a:lnTo>
                  <a:lnTo>
                    <a:pt x="3837" y="896"/>
                  </a:lnTo>
                  <a:lnTo>
                    <a:pt x="3857" y="855"/>
                  </a:lnTo>
                  <a:lnTo>
                    <a:pt x="3879" y="809"/>
                  </a:lnTo>
                  <a:lnTo>
                    <a:pt x="3904" y="762"/>
                  </a:lnTo>
                  <a:lnTo>
                    <a:pt x="3932" y="712"/>
                  </a:lnTo>
                  <a:lnTo>
                    <a:pt x="3963" y="661"/>
                  </a:lnTo>
                  <a:lnTo>
                    <a:pt x="3998" y="610"/>
                  </a:lnTo>
                  <a:lnTo>
                    <a:pt x="4035" y="557"/>
                  </a:lnTo>
                  <a:lnTo>
                    <a:pt x="4055" y="531"/>
                  </a:lnTo>
                  <a:lnTo>
                    <a:pt x="4076" y="505"/>
                  </a:lnTo>
                  <a:lnTo>
                    <a:pt x="4099" y="479"/>
                  </a:lnTo>
                  <a:lnTo>
                    <a:pt x="4121" y="454"/>
                  </a:lnTo>
                  <a:lnTo>
                    <a:pt x="4153" y="415"/>
                  </a:lnTo>
                  <a:lnTo>
                    <a:pt x="4187" y="379"/>
                  </a:lnTo>
                  <a:lnTo>
                    <a:pt x="4222" y="346"/>
                  </a:lnTo>
                  <a:lnTo>
                    <a:pt x="4258" y="315"/>
                  </a:lnTo>
                  <a:lnTo>
                    <a:pt x="4295" y="286"/>
                  </a:lnTo>
                  <a:lnTo>
                    <a:pt x="4332" y="259"/>
                  </a:lnTo>
                  <a:lnTo>
                    <a:pt x="4371" y="236"/>
                  </a:lnTo>
                  <a:lnTo>
                    <a:pt x="4410" y="213"/>
                  </a:lnTo>
                  <a:lnTo>
                    <a:pt x="4433" y="201"/>
                  </a:lnTo>
                  <a:lnTo>
                    <a:pt x="4455" y="188"/>
                  </a:lnTo>
                  <a:lnTo>
                    <a:pt x="4477" y="177"/>
                  </a:lnTo>
                  <a:lnTo>
                    <a:pt x="4500" y="166"/>
                  </a:lnTo>
                  <a:lnTo>
                    <a:pt x="4545" y="147"/>
                  </a:lnTo>
                  <a:lnTo>
                    <a:pt x="4592" y="130"/>
                  </a:lnTo>
                  <a:lnTo>
                    <a:pt x="4639" y="115"/>
                  </a:lnTo>
                  <a:lnTo>
                    <a:pt x="4686" y="102"/>
                  </a:lnTo>
                  <a:lnTo>
                    <a:pt x="4733" y="92"/>
                  </a:lnTo>
                  <a:lnTo>
                    <a:pt x="4783" y="83"/>
                  </a:lnTo>
                  <a:lnTo>
                    <a:pt x="4784" y="89"/>
                  </a:lnTo>
                  <a:lnTo>
                    <a:pt x="4787" y="95"/>
                  </a:lnTo>
                  <a:lnTo>
                    <a:pt x="4792" y="102"/>
                  </a:lnTo>
                  <a:lnTo>
                    <a:pt x="4799" y="107"/>
                  </a:lnTo>
                  <a:lnTo>
                    <a:pt x="4808" y="110"/>
                  </a:lnTo>
                  <a:lnTo>
                    <a:pt x="4816" y="110"/>
                  </a:lnTo>
                  <a:lnTo>
                    <a:pt x="4870" y="110"/>
                  </a:lnTo>
                  <a:lnTo>
                    <a:pt x="4923" y="113"/>
                  </a:lnTo>
                  <a:lnTo>
                    <a:pt x="4977" y="116"/>
                  </a:lnTo>
                  <a:lnTo>
                    <a:pt x="5030" y="124"/>
                  </a:lnTo>
                  <a:lnTo>
                    <a:pt x="5082" y="131"/>
                  </a:lnTo>
                  <a:lnTo>
                    <a:pt x="5134" y="141"/>
                  </a:lnTo>
                  <a:lnTo>
                    <a:pt x="5187" y="154"/>
                  </a:lnTo>
                  <a:lnTo>
                    <a:pt x="5237" y="167"/>
                  </a:lnTo>
                  <a:lnTo>
                    <a:pt x="5287" y="181"/>
                  </a:lnTo>
                  <a:lnTo>
                    <a:pt x="5337" y="197"/>
                  </a:lnTo>
                  <a:lnTo>
                    <a:pt x="5385" y="214"/>
                  </a:lnTo>
                  <a:lnTo>
                    <a:pt x="5432" y="232"/>
                  </a:lnTo>
                  <a:lnTo>
                    <a:pt x="5478" y="250"/>
                  </a:lnTo>
                  <a:lnTo>
                    <a:pt x="5523" y="269"/>
                  </a:lnTo>
                  <a:lnTo>
                    <a:pt x="5566" y="288"/>
                  </a:lnTo>
                  <a:lnTo>
                    <a:pt x="5607" y="308"/>
                  </a:lnTo>
                  <a:lnTo>
                    <a:pt x="5687" y="347"/>
                  </a:lnTo>
                  <a:lnTo>
                    <a:pt x="5759" y="386"/>
                  </a:lnTo>
                  <a:lnTo>
                    <a:pt x="5822" y="422"/>
                  </a:lnTo>
                  <a:lnTo>
                    <a:pt x="5877" y="455"/>
                  </a:lnTo>
                  <a:lnTo>
                    <a:pt x="5922" y="484"/>
                  </a:lnTo>
                  <a:lnTo>
                    <a:pt x="5956" y="506"/>
                  </a:lnTo>
                  <a:lnTo>
                    <a:pt x="5979" y="522"/>
                  </a:lnTo>
                  <a:lnTo>
                    <a:pt x="5990" y="530"/>
                  </a:lnTo>
                  <a:lnTo>
                    <a:pt x="6022" y="566"/>
                  </a:lnTo>
                  <a:lnTo>
                    <a:pt x="6053" y="602"/>
                  </a:lnTo>
                  <a:lnTo>
                    <a:pt x="6082" y="638"/>
                  </a:lnTo>
                  <a:lnTo>
                    <a:pt x="6110" y="674"/>
                  </a:lnTo>
                  <a:lnTo>
                    <a:pt x="6136" y="709"/>
                  </a:lnTo>
                  <a:lnTo>
                    <a:pt x="6161" y="745"/>
                  </a:lnTo>
                  <a:lnTo>
                    <a:pt x="6186" y="781"/>
                  </a:lnTo>
                  <a:lnTo>
                    <a:pt x="6208" y="817"/>
                  </a:lnTo>
                  <a:lnTo>
                    <a:pt x="6230" y="855"/>
                  </a:lnTo>
                  <a:lnTo>
                    <a:pt x="6249" y="891"/>
                  </a:lnTo>
                  <a:lnTo>
                    <a:pt x="6268" y="927"/>
                  </a:lnTo>
                  <a:lnTo>
                    <a:pt x="6285" y="963"/>
                  </a:lnTo>
                  <a:lnTo>
                    <a:pt x="6302" y="999"/>
                  </a:lnTo>
                  <a:lnTo>
                    <a:pt x="6317" y="1035"/>
                  </a:lnTo>
                  <a:lnTo>
                    <a:pt x="6330" y="1071"/>
                  </a:lnTo>
                  <a:lnTo>
                    <a:pt x="6344" y="1105"/>
                  </a:lnTo>
                  <a:lnTo>
                    <a:pt x="6355" y="1141"/>
                  </a:lnTo>
                  <a:lnTo>
                    <a:pt x="6366" y="1176"/>
                  </a:lnTo>
                  <a:lnTo>
                    <a:pt x="6376" y="1211"/>
                  </a:lnTo>
                  <a:lnTo>
                    <a:pt x="6385" y="1245"/>
                  </a:lnTo>
                  <a:lnTo>
                    <a:pt x="6393" y="1279"/>
                  </a:lnTo>
                  <a:lnTo>
                    <a:pt x="6401" y="1314"/>
                  </a:lnTo>
                  <a:lnTo>
                    <a:pt x="6407" y="1347"/>
                  </a:lnTo>
                  <a:lnTo>
                    <a:pt x="6412" y="1379"/>
                  </a:lnTo>
                  <a:lnTo>
                    <a:pt x="6417" y="1413"/>
                  </a:lnTo>
                  <a:lnTo>
                    <a:pt x="6422" y="1445"/>
                  </a:lnTo>
                  <a:lnTo>
                    <a:pt x="6425" y="1477"/>
                  </a:lnTo>
                  <a:lnTo>
                    <a:pt x="6427" y="1508"/>
                  </a:lnTo>
                  <a:lnTo>
                    <a:pt x="6431" y="1571"/>
                  </a:lnTo>
                  <a:lnTo>
                    <a:pt x="6432" y="1630"/>
                  </a:lnTo>
                  <a:lnTo>
                    <a:pt x="6431" y="1686"/>
                  </a:lnTo>
                  <a:lnTo>
                    <a:pt x="6428" y="1741"/>
                  </a:lnTo>
                  <a:lnTo>
                    <a:pt x="6425" y="1791"/>
                  </a:lnTo>
                  <a:lnTo>
                    <a:pt x="6418" y="1841"/>
                  </a:lnTo>
                  <a:lnTo>
                    <a:pt x="6412" y="1887"/>
                  </a:lnTo>
                  <a:lnTo>
                    <a:pt x="6405" y="1929"/>
                  </a:lnTo>
                  <a:lnTo>
                    <a:pt x="6397" y="1969"/>
                  </a:lnTo>
                  <a:lnTo>
                    <a:pt x="6390" y="2006"/>
                  </a:lnTo>
                  <a:lnTo>
                    <a:pt x="6374" y="2067"/>
                  </a:lnTo>
                  <a:lnTo>
                    <a:pt x="6360" y="2114"/>
                  </a:lnTo>
                  <a:lnTo>
                    <a:pt x="6350" y="2144"/>
                  </a:lnTo>
                  <a:lnTo>
                    <a:pt x="6345" y="2155"/>
                  </a:lnTo>
                  <a:lnTo>
                    <a:pt x="6314" y="2202"/>
                  </a:lnTo>
                  <a:lnTo>
                    <a:pt x="6284" y="2245"/>
                  </a:lnTo>
                  <a:lnTo>
                    <a:pt x="6256" y="2283"/>
                  </a:lnTo>
                  <a:lnTo>
                    <a:pt x="6230" y="2315"/>
                  </a:lnTo>
                  <a:lnTo>
                    <a:pt x="6205" y="2343"/>
                  </a:lnTo>
                  <a:lnTo>
                    <a:pt x="6182" y="2367"/>
                  </a:lnTo>
                  <a:lnTo>
                    <a:pt x="6160" y="2387"/>
                  </a:lnTo>
                  <a:lnTo>
                    <a:pt x="6140" y="2403"/>
                  </a:lnTo>
                  <a:lnTo>
                    <a:pt x="6122" y="2417"/>
                  </a:lnTo>
                  <a:lnTo>
                    <a:pt x="6104" y="2427"/>
                  </a:lnTo>
                  <a:lnTo>
                    <a:pt x="6089" y="2434"/>
                  </a:lnTo>
                  <a:lnTo>
                    <a:pt x="6074" y="2439"/>
                  </a:lnTo>
                  <a:lnTo>
                    <a:pt x="6062" y="2443"/>
                  </a:lnTo>
                  <a:lnTo>
                    <a:pt x="6051" y="2444"/>
                  </a:lnTo>
                  <a:lnTo>
                    <a:pt x="6040" y="2444"/>
                  </a:lnTo>
                  <a:lnTo>
                    <a:pt x="6031" y="2443"/>
                  </a:lnTo>
                  <a:lnTo>
                    <a:pt x="6025" y="2440"/>
                  </a:lnTo>
                  <a:lnTo>
                    <a:pt x="6017" y="2438"/>
                  </a:lnTo>
                  <a:lnTo>
                    <a:pt x="6011" y="2435"/>
                  </a:lnTo>
                  <a:lnTo>
                    <a:pt x="6005" y="2432"/>
                  </a:lnTo>
                  <a:lnTo>
                    <a:pt x="5992" y="2422"/>
                  </a:lnTo>
                  <a:lnTo>
                    <a:pt x="5981" y="2410"/>
                  </a:lnTo>
                  <a:lnTo>
                    <a:pt x="5971" y="2397"/>
                  </a:lnTo>
                  <a:lnTo>
                    <a:pt x="5961" y="2383"/>
                  </a:lnTo>
                  <a:lnTo>
                    <a:pt x="5953" y="2367"/>
                  </a:lnTo>
                  <a:lnTo>
                    <a:pt x="5945" y="2351"/>
                  </a:lnTo>
                  <a:lnTo>
                    <a:pt x="5938" y="2335"/>
                  </a:lnTo>
                  <a:lnTo>
                    <a:pt x="5932" y="2317"/>
                  </a:lnTo>
                  <a:lnTo>
                    <a:pt x="5927" y="2301"/>
                  </a:lnTo>
                  <a:lnTo>
                    <a:pt x="5922" y="2285"/>
                  </a:lnTo>
                  <a:lnTo>
                    <a:pt x="5914" y="2255"/>
                  </a:lnTo>
                  <a:lnTo>
                    <a:pt x="5910" y="2232"/>
                  </a:lnTo>
                  <a:lnTo>
                    <a:pt x="5913" y="2201"/>
                  </a:lnTo>
                  <a:lnTo>
                    <a:pt x="5913" y="2167"/>
                  </a:lnTo>
                  <a:lnTo>
                    <a:pt x="5910" y="2134"/>
                  </a:lnTo>
                  <a:lnTo>
                    <a:pt x="5907" y="2099"/>
                  </a:lnTo>
                  <a:lnTo>
                    <a:pt x="5902" y="2064"/>
                  </a:lnTo>
                  <a:lnTo>
                    <a:pt x="5894" y="2028"/>
                  </a:lnTo>
                  <a:lnTo>
                    <a:pt x="5886" y="1992"/>
                  </a:lnTo>
                  <a:lnTo>
                    <a:pt x="5876" y="1956"/>
                  </a:lnTo>
                  <a:lnTo>
                    <a:pt x="5865" y="1919"/>
                  </a:lnTo>
                  <a:lnTo>
                    <a:pt x="5852" y="1882"/>
                  </a:lnTo>
                  <a:lnTo>
                    <a:pt x="5838" y="1846"/>
                  </a:lnTo>
                  <a:lnTo>
                    <a:pt x="5824" y="1809"/>
                  </a:lnTo>
                  <a:lnTo>
                    <a:pt x="5794" y="1737"/>
                  </a:lnTo>
                  <a:lnTo>
                    <a:pt x="5761" y="1667"/>
                  </a:lnTo>
                  <a:lnTo>
                    <a:pt x="5729" y="1602"/>
                  </a:lnTo>
                  <a:lnTo>
                    <a:pt x="5697" y="1541"/>
                  </a:lnTo>
                  <a:lnTo>
                    <a:pt x="5667" y="1486"/>
                  </a:lnTo>
                  <a:lnTo>
                    <a:pt x="5639" y="1438"/>
                  </a:lnTo>
                  <a:lnTo>
                    <a:pt x="5615" y="1397"/>
                  </a:lnTo>
                  <a:lnTo>
                    <a:pt x="5595" y="1365"/>
                  </a:lnTo>
                  <a:lnTo>
                    <a:pt x="5581" y="1343"/>
                  </a:lnTo>
                  <a:lnTo>
                    <a:pt x="5575" y="1334"/>
                  </a:lnTo>
                  <a:lnTo>
                    <a:pt x="5538" y="1276"/>
                  </a:lnTo>
                  <a:lnTo>
                    <a:pt x="5498" y="1224"/>
                  </a:lnTo>
                  <a:lnTo>
                    <a:pt x="5456" y="1177"/>
                  </a:lnTo>
                  <a:lnTo>
                    <a:pt x="5414" y="1136"/>
                  </a:lnTo>
                  <a:lnTo>
                    <a:pt x="5369" y="1099"/>
                  </a:lnTo>
                  <a:lnTo>
                    <a:pt x="5324" y="1068"/>
                  </a:lnTo>
                  <a:lnTo>
                    <a:pt x="5278" y="1040"/>
                  </a:lnTo>
                  <a:lnTo>
                    <a:pt x="5232" y="1016"/>
                  </a:lnTo>
                  <a:lnTo>
                    <a:pt x="5185" y="996"/>
                  </a:lnTo>
                  <a:lnTo>
                    <a:pt x="5138" y="980"/>
                  </a:lnTo>
                  <a:lnTo>
                    <a:pt x="5091" y="968"/>
                  </a:lnTo>
                  <a:lnTo>
                    <a:pt x="5044" y="958"/>
                  </a:lnTo>
                  <a:lnTo>
                    <a:pt x="4998" y="951"/>
                  </a:lnTo>
                  <a:lnTo>
                    <a:pt x="4951" y="948"/>
                  </a:lnTo>
                  <a:lnTo>
                    <a:pt x="4906" y="945"/>
                  </a:lnTo>
                  <a:lnTo>
                    <a:pt x="4861" y="945"/>
                  </a:lnTo>
                  <a:lnTo>
                    <a:pt x="4818" y="948"/>
                  </a:lnTo>
                  <a:lnTo>
                    <a:pt x="4775" y="953"/>
                  </a:lnTo>
                  <a:lnTo>
                    <a:pt x="4735" y="958"/>
                  </a:lnTo>
                  <a:lnTo>
                    <a:pt x="4696" y="964"/>
                  </a:lnTo>
                  <a:lnTo>
                    <a:pt x="4660" y="971"/>
                  </a:lnTo>
                  <a:lnTo>
                    <a:pt x="4625" y="980"/>
                  </a:lnTo>
                  <a:lnTo>
                    <a:pt x="4592" y="989"/>
                  </a:lnTo>
                  <a:lnTo>
                    <a:pt x="4562" y="997"/>
                  </a:lnTo>
                  <a:lnTo>
                    <a:pt x="4511" y="1013"/>
                  </a:lnTo>
                  <a:lnTo>
                    <a:pt x="4471" y="1028"/>
                  </a:lnTo>
                  <a:lnTo>
                    <a:pt x="4446" y="1040"/>
                  </a:lnTo>
                  <a:lnTo>
                    <a:pt x="4436" y="1043"/>
                  </a:lnTo>
                  <a:lnTo>
                    <a:pt x="4432" y="1046"/>
                  </a:lnTo>
                  <a:lnTo>
                    <a:pt x="4428" y="1049"/>
                  </a:lnTo>
                  <a:lnTo>
                    <a:pt x="4424" y="1053"/>
                  </a:lnTo>
                  <a:lnTo>
                    <a:pt x="4422" y="1058"/>
                  </a:lnTo>
                  <a:lnTo>
                    <a:pt x="4419" y="1063"/>
                  </a:lnTo>
                  <a:lnTo>
                    <a:pt x="4418" y="1068"/>
                  </a:lnTo>
                  <a:lnTo>
                    <a:pt x="4417" y="1073"/>
                  </a:lnTo>
                  <a:lnTo>
                    <a:pt x="4417" y="1079"/>
                  </a:lnTo>
                  <a:lnTo>
                    <a:pt x="4432" y="1280"/>
                  </a:lnTo>
                  <a:lnTo>
                    <a:pt x="4440" y="1476"/>
                  </a:lnTo>
                  <a:lnTo>
                    <a:pt x="4440" y="1667"/>
                  </a:lnTo>
                  <a:lnTo>
                    <a:pt x="4434" y="1852"/>
                  </a:lnTo>
                  <a:lnTo>
                    <a:pt x="4423" y="2031"/>
                  </a:lnTo>
                  <a:lnTo>
                    <a:pt x="4404" y="2205"/>
                  </a:lnTo>
                  <a:lnTo>
                    <a:pt x="4382" y="2373"/>
                  </a:lnTo>
                  <a:lnTo>
                    <a:pt x="4355" y="2536"/>
                  </a:lnTo>
                  <a:lnTo>
                    <a:pt x="4322" y="2692"/>
                  </a:lnTo>
                  <a:lnTo>
                    <a:pt x="4286" y="2842"/>
                  </a:lnTo>
                  <a:lnTo>
                    <a:pt x="4247" y="2987"/>
                  </a:lnTo>
                  <a:lnTo>
                    <a:pt x="4206" y="3126"/>
                  </a:lnTo>
                  <a:lnTo>
                    <a:pt x="4161" y="3258"/>
                  </a:lnTo>
                  <a:lnTo>
                    <a:pt x="4114" y="3384"/>
                  </a:lnTo>
                  <a:lnTo>
                    <a:pt x="4065" y="3505"/>
                  </a:lnTo>
                  <a:lnTo>
                    <a:pt x="4017" y="3619"/>
                  </a:lnTo>
                  <a:lnTo>
                    <a:pt x="3967" y="3727"/>
                  </a:lnTo>
                  <a:lnTo>
                    <a:pt x="3916" y="3827"/>
                  </a:lnTo>
                  <a:lnTo>
                    <a:pt x="3867" y="3922"/>
                  </a:lnTo>
                  <a:lnTo>
                    <a:pt x="3818" y="4011"/>
                  </a:lnTo>
                  <a:lnTo>
                    <a:pt x="3770" y="4092"/>
                  </a:lnTo>
                  <a:lnTo>
                    <a:pt x="3724" y="4167"/>
                  </a:lnTo>
                  <a:lnTo>
                    <a:pt x="3680" y="4236"/>
                  </a:lnTo>
                  <a:lnTo>
                    <a:pt x="3638" y="4296"/>
                  </a:lnTo>
                  <a:lnTo>
                    <a:pt x="3600" y="4351"/>
                  </a:lnTo>
                  <a:lnTo>
                    <a:pt x="3565" y="4399"/>
                  </a:lnTo>
                  <a:lnTo>
                    <a:pt x="3534" y="4439"/>
                  </a:lnTo>
                  <a:lnTo>
                    <a:pt x="3508" y="4473"/>
                  </a:lnTo>
                  <a:lnTo>
                    <a:pt x="3469" y="4518"/>
                  </a:lnTo>
                  <a:lnTo>
                    <a:pt x="3454" y="4536"/>
                  </a:lnTo>
                  <a:lnTo>
                    <a:pt x="3411" y="4558"/>
                  </a:lnTo>
                  <a:lnTo>
                    <a:pt x="3367" y="4577"/>
                  </a:lnTo>
                  <a:lnTo>
                    <a:pt x="3324" y="4593"/>
                  </a:lnTo>
                  <a:lnTo>
                    <a:pt x="3282" y="4607"/>
                  </a:lnTo>
                  <a:lnTo>
                    <a:pt x="3241" y="4618"/>
                  </a:lnTo>
                  <a:lnTo>
                    <a:pt x="3201" y="4626"/>
                  </a:lnTo>
                  <a:lnTo>
                    <a:pt x="3181" y="4630"/>
                  </a:lnTo>
                  <a:lnTo>
                    <a:pt x="3162" y="4633"/>
                  </a:lnTo>
                  <a:lnTo>
                    <a:pt x="3143" y="4634"/>
                  </a:lnTo>
                  <a:lnTo>
                    <a:pt x="3124" y="4635"/>
                  </a:lnTo>
                  <a:lnTo>
                    <a:pt x="3104" y="4636"/>
                  </a:lnTo>
                  <a:lnTo>
                    <a:pt x="3085" y="4636"/>
                  </a:lnTo>
                  <a:lnTo>
                    <a:pt x="3068" y="4635"/>
                  </a:lnTo>
                  <a:lnTo>
                    <a:pt x="3049" y="4634"/>
                  </a:lnTo>
                  <a:lnTo>
                    <a:pt x="3032" y="4631"/>
                  </a:lnTo>
                  <a:lnTo>
                    <a:pt x="3013" y="4629"/>
                  </a:lnTo>
                  <a:lnTo>
                    <a:pt x="2996" y="4625"/>
                  </a:lnTo>
                  <a:lnTo>
                    <a:pt x="2980" y="4621"/>
                  </a:lnTo>
                  <a:lnTo>
                    <a:pt x="2963" y="4616"/>
                  </a:lnTo>
                  <a:lnTo>
                    <a:pt x="2946" y="4610"/>
                  </a:lnTo>
                  <a:lnTo>
                    <a:pt x="2929" y="4604"/>
                  </a:lnTo>
                  <a:lnTo>
                    <a:pt x="2914" y="4598"/>
                  </a:lnTo>
                  <a:lnTo>
                    <a:pt x="2898" y="4590"/>
                  </a:lnTo>
                  <a:lnTo>
                    <a:pt x="2882" y="4582"/>
                  </a:lnTo>
                  <a:lnTo>
                    <a:pt x="2867" y="4573"/>
                  </a:lnTo>
                  <a:lnTo>
                    <a:pt x="2852" y="4563"/>
                  </a:lnTo>
                  <a:lnTo>
                    <a:pt x="2797" y="4521"/>
                  </a:lnTo>
                  <a:lnTo>
                    <a:pt x="2748" y="4470"/>
                  </a:lnTo>
                  <a:lnTo>
                    <a:pt x="2703" y="4412"/>
                  </a:lnTo>
                  <a:lnTo>
                    <a:pt x="2662" y="4346"/>
                  </a:lnTo>
                  <a:lnTo>
                    <a:pt x="2625" y="4274"/>
                  </a:lnTo>
                  <a:lnTo>
                    <a:pt x="2591" y="4196"/>
                  </a:lnTo>
                  <a:lnTo>
                    <a:pt x="2560" y="4114"/>
                  </a:lnTo>
                  <a:lnTo>
                    <a:pt x="2534" y="4026"/>
                  </a:lnTo>
                  <a:lnTo>
                    <a:pt x="2511" y="3935"/>
                  </a:lnTo>
                  <a:lnTo>
                    <a:pt x="2489" y="3840"/>
                  </a:lnTo>
                  <a:lnTo>
                    <a:pt x="2472" y="3743"/>
                  </a:lnTo>
                  <a:lnTo>
                    <a:pt x="2457" y="3644"/>
                  </a:lnTo>
                  <a:lnTo>
                    <a:pt x="2445" y="3543"/>
                  </a:lnTo>
                  <a:lnTo>
                    <a:pt x="2435" y="3441"/>
                  </a:lnTo>
                  <a:lnTo>
                    <a:pt x="2427" y="3341"/>
                  </a:lnTo>
                  <a:lnTo>
                    <a:pt x="2421" y="3239"/>
                  </a:lnTo>
                  <a:lnTo>
                    <a:pt x="2416" y="3140"/>
                  </a:lnTo>
                  <a:lnTo>
                    <a:pt x="2414" y="3042"/>
                  </a:lnTo>
                  <a:lnTo>
                    <a:pt x="2412" y="2946"/>
                  </a:lnTo>
                  <a:lnTo>
                    <a:pt x="2412" y="2853"/>
                  </a:lnTo>
                  <a:lnTo>
                    <a:pt x="2414" y="2764"/>
                  </a:lnTo>
                  <a:lnTo>
                    <a:pt x="2415" y="2680"/>
                  </a:lnTo>
                  <a:lnTo>
                    <a:pt x="2417" y="2600"/>
                  </a:lnTo>
                  <a:lnTo>
                    <a:pt x="2421" y="2526"/>
                  </a:lnTo>
                  <a:lnTo>
                    <a:pt x="2427" y="2396"/>
                  </a:lnTo>
                  <a:lnTo>
                    <a:pt x="2435" y="2296"/>
                  </a:lnTo>
                  <a:lnTo>
                    <a:pt x="2440" y="2232"/>
                  </a:lnTo>
                  <a:lnTo>
                    <a:pt x="2442" y="2206"/>
                  </a:lnTo>
                  <a:lnTo>
                    <a:pt x="2441" y="2171"/>
                  </a:lnTo>
                  <a:lnTo>
                    <a:pt x="2440" y="2138"/>
                  </a:lnTo>
                  <a:lnTo>
                    <a:pt x="2439" y="2104"/>
                  </a:lnTo>
                  <a:lnTo>
                    <a:pt x="2435" y="2071"/>
                  </a:lnTo>
                  <a:lnTo>
                    <a:pt x="2431" y="2038"/>
                  </a:lnTo>
                  <a:lnTo>
                    <a:pt x="2427" y="2006"/>
                  </a:lnTo>
                  <a:lnTo>
                    <a:pt x="2422" y="1975"/>
                  </a:lnTo>
                  <a:lnTo>
                    <a:pt x="2417" y="1945"/>
                  </a:lnTo>
                  <a:lnTo>
                    <a:pt x="2406" y="1886"/>
                  </a:lnTo>
                  <a:lnTo>
                    <a:pt x="2393" y="1831"/>
                  </a:lnTo>
                  <a:lnTo>
                    <a:pt x="2378" y="1779"/>
                  </a:lnTo>
                  <a:lnTo>
                    <a:pt x="2364" y="1732"/>
                  </a:lnTo>
                  <a:lnTo>
                    <a:pt x="2349" y="1688"/>
                  </a:lnTo>
                  <a:lnTo>
                    <a:pt x="2334" y="1649"/>
                  </a:lnTo>
                  <a:lnTo>
                    <a:pt x="2321" y="1615"/>
                  </a:lnTo>
                  <a:lnTo>
                    <a:pt x="2308" y="1585"/>
                  </a:lnTo>
                  <a:lnTo>
                    <a:pt x="2288" y="1544"/>
                  </a:lnTo>
                  <a:lnTo>
                    <a:pt x="2280" y="1527"/>
                  </a:lnTo>
                  <a:lnTo>
                    <a:pt x="2251" y="1479"/>
                  </a:lnTo>
                  <a:lnTo>
                    <a:pt x="2221" y="1433"/>
                  </a:lnTo>
                  <a:lnTo>
                    <a:pt x="2191" y="1391"/>
                  </a:lnTo>
                  <a:lnTo>
                    <a:pt x="2159" y="1351"/>
                  </a:lnTo>
                  <a:lnTo>
                    <a:pt x="2142" y="1331"/>
                  </a:lnTo>
                  <a:lnTo>
                    <a:pt x="2126" y="1312"/>
                  </a:lnTo>
                  <a:lnTo>
                    <a:pt x="2108" y="1295"/>
                  </a:lnTo>
                  <a:lnTo>
                    <a:pt x="2091" y="1278"/>
                  </a:lnTo>
                  <a:lnTo>
                    <a:pt x="2072" y="1262"/>
                  </a:lnTo>
                  <a:lnTo>
                    <a:pt x="2055" y="1245"/>
                  </a:lnTo>
                  <a:lnTo>
                    <a:pt x="2036" y="1231"/>
                  </a:lnTo>
                  <a:lnTo>
                    <a:pt x="2018" y="1216"/>
                  </a:lnTo>
                  <a:lnTo>
                    <a:pt x="1999" y="1201"/>
                  </a:lnTo>
                  <a:lnTo>
                    <a:pt x="1979" y="1188"/>
                  </a:lnTo>
                  <a:lnTo>
                    <a:pt x="1959" y="1176"/>
                  </a:lnTo>
                  <a:lnTo>
                    <a:pt x="1939" y="1164"/>
                  </a:lnTo>
                  <a:lnTo>
                    <a:pt x="1919" y="1152"/>
                  </a:lnTo>
                  <a:lnTo>
                    <a:pt x="1900" y="1141"/>
                  </a:lnTo>
                  <a:lnTo>
                    <a:pt x="1878" y="1131"/>
                  </a:lnTo>
                  <a:lnTo>
                    <a:pt x="1857" y="1121"/>
                  </a:lnTo>
                  <a:lnTo>
                    <a:pt x="1836" y="1113"/>
                  </a:lnTo>
                  <a:lnTo>
                    <a:pt x="1814" y="1105"/>
                  </a:lnTo>
                  <a:lnTo>
                    <a:pt x="1792" y="1098"/>
                  </a:lnTo>
                  <a:lnTo>
                    <a:pt x="1770" y="1090"/>
                  </a:lnTo>
                  <a:lnTo>
                    <a:pt x="1747" y="1085"/>
                  </a:lnTo>
                  <a:lnTo>
                    <a:pt x="1725" y="1079"/>
                  </a:lnTo>
                  <a:lnTo>
                    <a:pt x="1701" y="1074"/>
                  </a:lnTo>
                  <a:lnTo>
                    <a:pt x="1679" y="1071"/>
                  </a:lnTo>
                  <a:lnTo>
                    <a:pt x="1619" y="1063"/>
                  </a:lnTo>
                  <a:lnTo>
                    <a:pt x="1558" y="1059"/>
                  </a:lnTo>
                  <a:lnTo>
                    <a:pt x="1499" y="1061"/>
                  </a:lnTo>
                  <a:lnTo>
                    <a:pt x="1439" y="1064"/>
                  </a:lnTo>
                  <a:lnTo>
                    <a:pt x="1378" y="1072"/>
                  </a:lnTo>
                  <a:lnTo>
                    <a:pt x="1318" y="1083"/>
                  </a:lnTo>
                  <a:lnTo>
                    <a:pt x="1259" y="1097"/>
                  </a:lnTo>
                  <a:lnTo>
                    <a:pt x="1199" y="1113"/>
                  </a:lnTo>
                  <a:lnTo>
                    <a:pt x="1141" y="1131"/>
                  </a:lnTo>
                  <a:lnTo>
                    <a:pt x="1084" y="1151"/>
                  </a:lnTo>
                  <a:lnTo>
                    <a:pt x="1027" y="1175"/>
                  </a:lnTo>
                  <a:lnTo>
                    <a:pt x="972" y="1198"/>
                  </a:lnTo>
                  <a:lnTo>
                    <a:pt x="917" y="1224"/>
                  </a:lnTo>
                  <a:lnTo>
                    <a:pt x="864" y="1250"/>
                  </a:lnTo>
                  <a:lnTo>
                    <a:pt x="812" y="1278"/>
                  </a:lnTo>
                  <a:lnTo>
                    <a:pt x="762" y="1306"/>
                  </a:lnTo>
                  <a:lnTo>
                    <a:pt x="714" y="1335"/>
                  </a:lnTo>
                  <a:lnTo>
                    <a:pt x="668" y="1363"/>
                  </a:lnTo>
                  <a:lnTo>
                    <a:pt x="623" y="1392"/>
                  </a:lnTo>
                  <a:lnTo>
                    <a:pt x="581" y="1420"/>
                  </a:lnTo>
                  <a:lnTo>
                    <a:pt x="504" y="1474"/>
                  </a:lnTo>
                  <a:lnTo>
                    <a:pt x="438" y="1523"/>
                  </a:lnTo>
                  <a:lnTo>
                    <a:pt x="382" y="1567"/>
                  </a:lnTo>
                  <a:lnTo>
                    <a:pt x="340" y="1602"/>
                  </a:lnTo>
                  <a:lnTo>
                    <a:pt x="311" y="1626"/>
                  </a:lnTo>
                  <a:lnTo>
                    <a:pt x="299" y="1639"/>
                  </a:lnTo>
                  <a:lnTo>
                    <a:pt x="267" y="1667"/>
                  </a:lnTo>
                  <a:lnTo>
                    <a:pt x="238" y="1692"/>
                  </a:lnTo>
                  <a:lnTo>
                    <a:pt x="212" y="1713"/>
                  </a:lnTo>
                  <a:lnTo>
                    <a:pt x="190" y="1732"/>
                  </a:lnTo>
                  <a:lnTo>
                    <a:pt x="169" y="1745"/>
                  </a:lnTo>
                  <a:lnTo>
                    <a:pt x="151" y="1758"/>
                  </a:lnTo>
                  <a:lnTo>
                    <a:pt x="136" y="1767"/>
                  </a:lnTo>
                  <a:lnTo>
                    <a:pt x="123" y="1773"/>
                  </a:lnTo>
                  <a:lnTo>
                    <a:pt x="111" y="1778"/>
                  </a:lnTo>
                  <a:lnTo>
                    <a:pt x="102" y="1781"/>
                  </a:lnTo>
                  <a:lnTo>
                    <a:pt x="94" y="1784"/>
                  </a:lnTo>
                  <a:lnTo>
                    <a:pt x="89" y="1784"/>
                  </a:lnTo>
                  <a:lnTo>
                    <a:pt x="82" y="1784"/>
                  </a:lnTo>
                  <a:lnTo>
                    <a:pt x="79" y="1783"/>
                  </a:lnTo>
                  <a:lnTo>
                    <a:pt x="75" y="1780"/>
                  </a:lnTo>
                  <a:lnTo>
                    <a:pt x="73" y="1775"/>
                  </a:lnTo>
                  <a:lnTo>
                    <a:pt x="71" y="1770"/>
                  </a:lnTo>
                  <a:lnTo>
                    <a:pt x="69" y="1763"/>
                  </a:lnTo>
                  <a:lnTo>
                    <a:pt x="68" y="1745"/>
                  </a:lnTo>
                  <a:lnTo>
                    <a:pt x="68" y="1723"/>
                  </a:lnTo>
                  <a:lnTo>
                    <a:pt x="72" y="1697"/>
                  </a:lnTo>
                  <a:lnTo>
                    <a:pt x="77" y="1669"/>
                  </a:lnTo>
                  <a:lnTo>
                    <a:pt x="83" y="1635"/>
                  </a:lnTo>
                  <a:lnTo>
                    <a:pt x="92" y="1599"/>
                  </a:lnTo>
                  <a:lnTo>
                    <a:pt x="102" y="1561"/>
                  </a:lnTo>
                  <a:lnTo>
                    <a:pt x="114" y="1520"/>
                  </a:lnTo>
                  <a:lnTo>
                    <a:pt x="128" y="1477"/>
                  </a:lnTo>
                  <a:lnTo>
                    <a:pt x="143" y="1433"/>
                  </a:lnTo>
                  <a:lnTo>
                    <a:pt x="159" y="1387"/>
                  </a:lnTo>
                  <a:lnTo>
                    <a:pt x="177" y="1341"/>
                  </a:lnTo>
                  <a:lnTo>
                    <a:pt x="196" y="1294"/>
                  </a:lnTo>
                  <a:lnTo>
                    <a:pt x="216" y="1245"/>
                  </a:lnTo>
                  <a:lnTo>
                    <a:pt x="267" y="1145"/>
                  </a:lnTo>
                  <a:lnTo>
                    <a:pt x="321" y="1052"/>
                  </a:lnTo>
                  <a:lnTo>
                    <a:pt x="380" y="966"/>
                  </a:lnTo>
                  <a:lnTo>
                    <a:pt x="442" y="889"/>
                  </a:lnTo>
                  <a:lnTo>
                    <a:pt x="506" y="817"/>
                  </a:lnTo>
                  <a:lnTo>
                    <a:pt x="573" y="754"/>
                  </a:lnTo>
                  <a:lnTo>
                    <a:pt x="643" y="696"/>
                  </a:lnTo>
                  <a:lnTo>
                    <a:pt x="715" y="645"/>
                  </a:lnTo>
                  <a:lnTo>
                    <a:pt x="787" y="599"/>
                  </a:lnTo>
                  <a:lnTo>
                    <a:pt x="860" y="558"/>
                  </a:lnTo>
                  <a:lnTo>
                    <a:pt x="935" y="523"/>
                  </a:lnTo>
                  <a:lnTo>
                    <a:pt x="1011" y="494"/>
                  </a:lnTo>
                  <a:lnTo>
                    <a:pt x="1085" y="468"/>
                  </a:lnTo>
                  <a:lnTo>
                    <a:pt x="1160" y="445"/>
                  </a:lnTo>
                  <a:lnTo>
                    <a:pt x="1233" y="428"/>
                  </a:lnTo>
                  <a:lnTo>
                    <a:pt x="1306" y="414"/>
                  </a:lnTo>
                  <a:lnTo>
                    <a:pt x="1377" y="403"/>
                  </a:lnTo>
                  <a:lnTo>
                    <a:pt x="1446" y="396"/>
                  </a:lnTo>
                  <a:lnTo>
                    <a:pt x="1513" y="391"/>
                  </a:lnTo>
                  <a:lnTo>
                    <a:pt x="1578" y="388"/>
                  </a:lnTo>
                  <a:lnTo>
                    <a:pt x="1639" y="387"/>
                  </a:lnTo>
                  <a:lnTo>
                    <a:pt x="1697" y="388"/>
                  </a:lnTo>
                  <a:lnTo>
                    <a:pt x="1752" y="391"/>
                  </a:lnTo>
                  <a:lnTo>
                    <a:pt x="1803" y="394"/>
                  </a:lnTo>
                  <a:lnTo>
                    <a:pt x="1849" y="399"/>
                  </a:lnTo>
                  <a:lnTo>
                    <a:pt x="1890" y="403"/>
                  </a:lnTo>
                  <a:lnTo>
                    <a:pt x="1926" y="409"/>
                  </a:lnTo>
                  <a:lnTo>
                    <a:pt x="1957" y="413"/>
                  </a:lnTo>
                  <a:lnTo>
                    <a:pt x="1999" y="422"/>
                  </a:lnTo>
                  <a:lnTo>
                    <a:pt x="2016" y="425"/>
                  </a:lnTo>
                  <a:lnTo>
                    <a:pt x="2061" y="454"/>
                  </a:lnTo>
                  <a:lnTo>
                    <a:pt x="2104" y="485"/>
                  </a:lnTo>
                  <a:lnTo>
                    <a:pt x="2147" y="516"/>
                  </a:lnTo>
                  <a:lnTo>
                    <a:pt x="2189" y="549"/>
                  </a:lnTo>
                  <a:lnTo>
                    <a:pt x="2229" y="584"/>
                  </a:lnTo>
                  <a:lnTo>
                    <a:pt x="2267" y="621"/>
                  </a:lnTo>
                  <a:lnTo>
                    <a:pt x="2306" y="659"/>
                  </a:lnTo>
                  <a:lnTo>
                    <a:pt x="2343" y="698"/>
                  </a:lnTo>
                  <a:lnTo>
                    <a:pt x="2378" y="738"/>
                  </a:lnTo>
                  <a:lnTo>
                    <a:pt x="2412" y="780"/>
                  </a:lnTo>
                  <a:lnTo>
                    <a:pt x="2445" y="824"/>
                  </a:lnTo>
                  <a:lnTo>
                    <a:pt x="2476" y="868"/>
                  </a:lnTo>
                  <a:lnTo>
                    <a:pt x="2507" y="914"/>
                  </a:lnTo>
                  <a:lnTo>
                    <a:pt x="2535" y="961"/>
                  </a:lnTo>
                  <a:lnTo>
                    <a:pt x="2563" y="1010"/>
                  </a:lnTo>
                  <a:lnTo>
                    <a:pt x="2589" y="1061"/>
                  </a:lnTo>
                  <a:lnTo>
                    <a:pt x="2594" y="1071"/>
                  </a:lnTo>
                  <a:lnTo>
                    <a:pt x="2607" y="1095"/>
                  </a:lnTo>
                  <a:lnTo>
                    <a:pt x="2625" y="1131"/>
                  </a:lnTo>
                  <a:lnTo>
                    <a:pt x="2646" y="1171"/>
                  </a:lnTo>
                  <a:lnTo>
                    <a:pt x="2666" y="1211"/>
                  </a:lnTo>
                  <a:lnTo>
                    <a:pt x="2684" y="1245"/>
                  </a:lnTo>
                  <a:lnTo>
                    <a:pt x="2697" y="1270"/>
                  </a:lnTo>
                  <a:lnTo>
                    <a:pt x="2702" y="1279"/>
                  </a:lnTo>
                  <a:lnTo>
                    <a:pt x="2713" y="1300"/>
                  </a:lnTo>
                  <a:lnTo>
                    <a:pt x="2740" y="1346"/>
                  </a:lnTo>
                  <a:lnTo>
                    <a:pt x="2759" y="1374"/>
                  </a:lnTo>
                  <a:lnTo>
                    <a:pt x="2782" y="1406"/>
                  </a:lnTo>
                  <a:lnTo>
                    <a:pt x="2809" y="1439"/>
                  </a:lnTo>
                  <a:lnTo>
                    <a:pt x="2837" y="1474"/>
                  </a:lnTo>
                  <a:lnTo>
                    <a:pt x="2853" y="1491"/>
                  </a:lnTo>
                  <a:lnTo>
                    <a:pt x="2871" y="1507"/>
                  </a:lnTo>
                  <a:lnTo>
                    <a:pt x="2888" y="1525"/>
                  </a:lnTo>
                  <a:lnTo>
                    <a:pt x="2907" y="1540"/>
                  </a:lnTo>
                  <a:lnTo>
                    <a:pt x="2925" y="1556"/>
                  </a:lnTo>
                  <a:lnTo>
                    <a:pt x="2945" y="1571"/>
                  </a:lnTo>
                  <a:lnTo>
                    <a:pt x="2965" y="1584"/>
                  </a:lnTo>
                  <a:lnTo>
                    <a:pt x="2987" y="1598"/>
                  </a:lnTo>
                  <a:lnTo>
                    <a:pt x="3008" y="1609"/>
                  </a:lnTo>
                  <a:lnTo>
                    <a:pt x="3031" y="1620"/>
                  </a:lnTo>
                  <a:lnTo>
                    <a:pt x="3054" y="1629"/>
                  </a:lnTo>
                  <a:lnTo>
                    <a:pt x="3078" y="1636"/>
                  </a:lnTo>
                  <a:lnTo>
                    <a:pt x="3103" y="1644"/>
                  </a:lnTo>
                  <a:lnTo>
                    <a:pt x="3128" y="1647"/>
                  </a:lnTo>
                  <a:lnTo>
                    <a:pt x="3154" y="1650"/>
                  </a:lnTo>
                  <a:lnTo>
                    <a:pt x="3180" y="16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755640" y="5081760"/>
              <a:ext cx="100080" cy="71280"/>
            </a:xfrm>
            <a:custGeom>
              <a:avLst/>
              <a:gdLst/>
              <a:ahLst/>
              <a:rect l="l" t="t" r="r" b="b"/>
              <a:pathLst>
                <a:path w="254" h="184">
                  <a:moveTo>
                    <a:pt x="5" y="18"/>
                  </a:moveTo>
                  <a:lnTo>
                    <a:pt x="3" y="23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4" y="54"/>
                  </a:lnTo>
                  <a:lnTo>
                    <a:pt x="9" y="61"/>
                  </a:lnTo>
                  <a:lnTo>
                    <a:pt x="17" y="67"/>
                  </a:lnTo>
                  <a:lnTo>
                    <a:pt x="199" y="179"/>
                  </a:lnTo>
                  <a:lnTo>
                    <a:pt x="205" y="181"/>
                  </a:lnTo>
                  <a:lnTo>
                    <a:pt x="213" y="184"/>
                  </a:lnTo>
                  <a:lnTo>
                    <a:pt x="219" y="184"/>
                  </a:lnTo>
                  <a:lnTo>
                    <a:pt x="226" y="183"/>
                  </a:lnTo>
                  <a:lnTo>
                    <a:pt x="233" y="180"/>
                  </a:lnTo>
                  <a:lnTo>
                    <a:pt x="239" y="177"/>
                  </a:lnTo>
                  <a:lnTo>
                    <a:pt x="244" y="173"/>
                  </a:lnTo>
                  <a:lnTo>
                    <a:pt x="247" y="167"/>
                  </a:lnTo>
                  <a:lnTo>
                    <a:pt x="250" y="163"/>
                  </a:lnTo>
                  <a:lnTo>
                    <a:pt x="252" y="158"/>
                  </a:lnTo>
                  <a:lnTo>
                    <a:pt x="252" y="153"/>
                  </a:lnTo>
                  <a:lnTo>
                    <a:pt x="254" y="148"/>
                  </a:lnTo>
                  <a:lnTo>
                    <a:pt x="252" y="139"/>
                  </a:lnTo>
                  <a:lnTo>
                    <a:pt x="249" y="131"/>
                  </a:lnTo>
                  <a:lnTo>
                    <a:pt x="244" y="123"/>
                  </a:lnTo>
                  <a:lnTo>
                    <a:pt x="236" y="118"/>
                  </a:lnTo>
                  <a:lnTo>
                    <a:pt x="236" y="118"/>
                  </a:lnTo>
                  <a:lnTo>
                    <a:pt x="54" y="7"/>
                  </a:lnTo>
                  <a:lnTo>
                    <a:pt x="48" y="3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9" y="13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870120" y="5340240"/>
              <a:ext cx="804600" cy="577800"/>
            </a:xfrm>
            <a:custGeom>
              <a:avLst/>
              <a:gdLst/>
              <a:ahLst/>
              <a:rect l="l" t="t" r="r" b="b"/>
              <a:pathLst>
                <a:path w="2030" h="1455">
                  <a:moveTo>
                    <a:pt x="0" y="0"/>
                  </a:moveTo>
                  <a:lnTo>
                    <a:pt x="18" y="12"/>
                  </a:lnTo>
                  <a:lnTo>
                    <a:pt x="67" y="46"/>
                  </a:lnTo>
                  <a:lnTo>
                    <a:pt x="100" y="72"/>
                  </a:lnTo>
                  <a:lnTo>
                    <a:pt x="140" y="105"/>
                  </a:lnTo>
                  <a:lnTo>
                    <a:pt x="183" y="142"/>
                  </a:lnTo>
                  <a:lnTo>
                    <a:pt x="229" y="185"/>
                  </a:lnTo>
                  <a:lnTo>
                    <a:pt x="254" y="209"/>
                  </a:lnTo>
                  <a:lnTo>
                    <a:pt x="279" y="235"/>
                  </a:lnTo>
                  <a:lnTo>
                    <a:pt x="305" y="261"/>
                  </a:lnTo>
                  <a:lnTo>
                    <a:pt x="330" y="290"/>
                  </a:lnTo>
                  <a:lnTo>
                    <a:pt x="356" y="319"/>
                  </a:lnTo>
                  <a:lnTo>
                    <a:pt x="382" y="350"/>
                  </a:lnTo>
                  <a:lnTo>
                    <a:pt x="408" y="384"/>
                  </a:lnTo>
                  <a:lnTo>
                    <a:pt x="434" y="417"/>
                  </a:lnTo>
                  <a:lnTo>
                    <a:pt x="460" y="453"/>
                  </a:lnTo>
                  <a:lnTo>
                    <a:pt x="485" y="490"/>
                  </a:lnTo>
                  <a:lnTo>
                    <a:pt x="510" y="530"/>
                  </a:lnTo>
                  <a:lnTo>
                    <a:pt x="535" y="570"/>
                  </a:lnTo>
                  <a:lnTo>
                    <a:pt x="558" y="612"/>
                  </a:lnTo>
                  <a:lnTo>
                    <a:pt x="581" y="656"/>
                  </a:lnTo>
                  <a:lnTo>
                    <a:pt x="603" y="700"/>
                  </a:lnTo>
                  <a:lnTo>
                    <a:pt x="624" y="746"/>
                  </a:lnTo>
                  <a:lnTo>
                    <a:pt x="632" y="762"/>
                  </a:lnTo>
                  <a:lnTo>
                    <a:pt x="650" y="807"/>
                  </a:lnTo>
                  <a:lnTo>
                    <a:pt x="665" y="837"/>
                  </a:lnTo>
                  <a:lnTo>
                    <a:pt x="683" y="871"/>
                  </a:lnTo>
                  <a:lnTo>
                    <a:pt x="704" y="910"/>
                  </a:lnTo>
                  <a:lnTo>
                    <a:pt x="727" y="951"/>
                  </a:lnTo>
                  <a:lnTo>
                    <a:pt x="753" y="993"/>
                  </a:lnTo>
                  <a:lnTo>
                    <a:pt x="783" y="1036"/>
                  </a:lnTo>
                  <a:lnTo>
                    <a:pt x="814" y="1079"/>
                  </a:lnTo>
                  <a:lnTo>
                    <a:pt x="850" y="1121"/>
                  </a:lnTo>
                  <a:lnTo>
                    <a:pt x="888" y="1162"/>
                  </a:lnTo>
                  <a:lnTo>
                    <a:pt x="927" y="1199"/>
                  </a:lnTo>
                  <a:lnTo>
                    <a:pt x="969" y="1232"/>
                  </a:lnTo>
                  <a:lnTo>
                    <a:pt x="1015" y="1262"/>
                  </a:lnTo>
                  <a:lnTo>
                    <a:pt x="1063" y="1286"/>
                  </a:lnTo>
                  <a:lnTo>
                    <a:pt x="1112" y="1303"/>
                  </a:lnTo>
                  <a:lnTo>
                    <a:pt x="1164" y="1314"/>
                  </a:lnTo>
                  <a:lnTo>
                    <a:pt x="1219" y="1317"/>
                  </a:lnTo>
                  <a:lnTo>
                    <a:pt x="1276" y="1311"/>
                  </a:lnTo>
                  <a:lnTo>
                    <a:pt x="1335" y="1294"/>
                  </a:lnTo>
                  <a:lnTo>
                    <a:pt x="1397" y="1267"/>
                  </a:lnTo>
                  <a:lnTo>
                    <a:pt x="1459" y="1229"/>
                  </a:lnTo>
                  <a:lnTo>
                    <a:pt x="1525" y="1178"/>
                  </a:lnTo>
                  <a:lnTo>
                    <a:pt x="1592" y="1113"/>
                  </a:lnTo>
                  <a:lnTo>
                    <a:pt x="1660" y="1035"/>
                  </a:lnTo>
                  <a:lnTo>
                    <a:pt x="1731" y="942"/>
                  </a:lnTo>
                  <a:lnTo>
                    <a:pt x="1803" y="833"/>
                  </a:lnTo>
                  <a:lnTo>
                    <a:pt x="1877" y="706"/>
                  </a:lnTo>
                  <a:lnTo>
                    <a:pt x="1953" y="562"/>
                  </a:lnTo>
                  <a:lnTo>
                    <a:pt x="2030" y="400"/>
                  </a:lnTo>
                  <a:lnTo>
                    <a:pt x="2018" y="426"/>
                  </a:lnTo>
                  <a:lnTo>
                    <a:pt x="1982" y="498"/>
                  </a:lnTo>
                  <a:lnTo>
                    <a:pt x="1928" y="605"/>
                  </a:lnTo>
                  <a:lnTo>
                    <a:pt x="1861" y="735"/>
                  </a:lnTo>
                  <a:lnTo>
                    <a:pt x="1787" y="878"/>
                  </a:lnTo>
                  <a:lnTo>
                    <a:pt x="1708" y="1022"/>
                  </a:lnTo>
                  <a:lnTo>
                    <a:pt x="1670" y="1090"/>
                  </a:lnTo>
                  <a:lnTo>
                    <a:pt x="1631" y="1154"/>
                  </a:lnTo>
                  <a:lnTo>
                    <a:pt x="1595" y="1214"/>
                  </a:lnTo>
                  <a:lnTo>
                    <a:pt x="1562" y="1266"/>
                  </a:lnTo>
                  <a:lnTo>
                    <a:pt x="1556" y="1273"/>
                  </a:lnTo>
                  <a:lnTo>
                    <a:pt x="1539" y="1292"/>
                  </a:lnTo>
                  <a:lnTo>
                    <a:pt x="1528" y="1306"/>
                  </a:lnTo>
                  <a:lnTo>
                    <a:pt x="1513" y="1319"/>
                  </a:lnTo>
                  <a:lnTo>
                    <a:pt x="1496" y="1335"/>
                  </a:lnTo>
                  <a:lnTo>
                    <a:pt x="1477" y="1352"/>
                  </a:lnTo>
                  <a:lnTo>
                    <a:pt x="1456" y="1368"/>
                  </a:lnTo>
                  <a:lnTo>
                    <a:pt x="1433" y="1384"/>
                  </a:lnTo>
                  <a:lnTo>
                    <a:pt x="1407" y="1400"/>
                  </a:lnTo>
                  <a:lnTo>
                    <a:pt x="1379" y="1415"/>
                  </a:lnTo>
                  <a:lnTo>
                    <a:pt x="1351" y="1427"/>
                  </a:lnTo>
                  <a:lnTo>
                    <a:pt x="1318" y="1438"/>
                  </a:lnTo>
                  <a:lnTo>
                    <a:pt x="1286" y="1447"/>
                  </a:lnTo>
                  <a:lnTo>
                    <a:pt x="1251" y="1453"/>
                  </a:lnTo>
                  <a:lnTo>
                    <a:pt x="1215" y="1455"/>
                  </a:lnTo>
                  <a:lnTo>
                    <a:pt x="1178" y="1453"/>
                  </a:lnTo>
                  <a:lnTo>
                    <a:pt x="1138" y="1448"/>
                  </a:lnTo>
                  <a:lnTo>
                    <a:pt x="1099" y="1437"/>
                  </a:lnTo>
                  <a:lnTo>
                    <a:pt x="1056" y="1422"/>
                  </a:lnTo>
                  <a:lnTo>
                    <a:pt x="1014" y="1401"/>
                  </a:lnTo>
                  <a:lnTo>
                    <a:pt x="969" y="1374"/>
                  </a:lnTo>
                  <a:lnTo>
                    <a:pt x="925" y="1339"/>
                  </a:lnTo>
                  <a:lnTo>
                    <a:pt x="879" y="1299"/>
                  </a:lnTo>
                  <a:lnTo>
                    <a:pt x="832" y="1251"/>
                  </a:lnTo>
                  <a:lnTo>
                    <a:pt x="784" y="1195"/>
                  </a:lnTo>
                  <a:lnTo>
                    <a:pt x="736" y="1131"/>
                  </a:lnTo>
                  <a:lnTo>
                    <a:pt x="688" y="1057"/>
                  </a:lnTo>
                  <a:lnTo>
                    <a:pt x="638" y="976"/>
                  </a:lnTo>
                  <a:lnTo>
                    <a:pt x="588" y="883"/>
                  </a:lnTo>
                  <a:lnTo>
                    <a:pt x="537" y="781"/>
                  </a:lnTo>
                  <a:lnTo>
                    <a:pt x="527" y="760"/>
                  </a:lnTo>
                  <a:lnTo>
                    <a:pt x="498" y="703"/>
                  </a:lnTo>
                  <a:lnTo>
                    <a:pt x="477" y="663"/>
                  </a:lnTo>
                  <a:lnTo>
                    <a:pt x="450" y="616"/>
                  </a:lnTo>
                  <a:lnTo>
                    <a:pt x="419" y="565"/>
                  </a:lnTo>
                  <a:lnTo>
                    <a:pt x="386" y="508"/>
                  </a:lnTo>
                  <a:lnTo>
                    <a:pt x="349" y="448"/>
                  </a:lnTo>
                  <a:lnTo>
                    <a:pt x="308" y="385"/>
                  </a:lnTo>
                  <a:lnTo>
                    <a:pt x="263" y="321"/>
                  </a:lnTo>
                  <a:lnTo>
                    <a:pt x="216" y="255"/>
                  </a:lnTo>
                  <a:lnTo>
                    <a:pt x="191" y="221"/>
                  </a:lnTo>
                  <a:lnTo>
                    <a:pt x="166" y="189"/>
                  </a:lnTo>
                  <a:lnTo>
                    <a:pt x="140" y="157"/>
                  </a:lnTo>
                  <a:lnTo>
                    <a:pt x="113" y="124"/>
                  </a:lnTo>
                  <a:lnTo>
                    <a:pt x="85" y="92"/>
                  </a:lnTo>
                  <a:lnTo>
                    <a:pt x="58" y="61"/>
                  </a:lnTo>
                  <a:lnTo>
                    <a:pt x="29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1076400" y="5925960"/>
              <a:ext cx="633240" cy="587520"/>
            </a:xfrm>
            <a:custGeom>
              <a:avLst/>
              <a:gdLst/>
              <a:ahLst/>
              <a:rect l="l" t="t" r="r" b="b"/>
              <a:pathLst>
                <a:path w="1596" h="1479">
                  <a:moveTo>
                    <a:pt x="0" y="365"/>
                  </a:moveTo>
                  <a:lnTo>
                    <a:pt x="5" y="395"/>
                  </a:lnTo>
                  <a:lnTo>
                    <a:pt x="23" y="477"/>
                  </a:lnTo>
                  <a:lnTo>
                    <a:pt x="36" y="533"/>
                  </a:lnTo>
                  <a:lnTo>
                    <a:pt x="51" y="597"/>
                  </a:lnTo>
                  <a:lnTo>
                    <a:pt x="71" y="668"/>
                  </a:lnTo>
                  <a:lnTo>
                    <a:pt x="93" y="744"/>
                  </a:lnTo>
                  <a:lnTo>
                    <a:pt x="118" y="824"/>
                  </a:lnTo>
                  <a:lnTo>
                    <a:pt x="146" y="905"/>
                  </a:lnTo>
                  <a:lnTo>
                    <a:pt x="178" y="987"/>
                  </a:lnTo>
                  <a:lnTo>
                    <a:pt x="211" y="1067"/>
                  </a:lnTo>
                  <a:lnTo>
                    <a:pt x="250" y="1146"/>
                  </a:lnTo>
                  <a:lnTo>
                    <a:pt x="290" y="1219"/>
                  </a:lnTo>
                  <a:lnTo>
                    <a:pt x="334" y="1287"/>
                  </a:lnTo>
                  <a:lnTo>
                    <a:pt x="381" y="1347"/>
                  </a:lnTo>
                  <a:lnTo>
                    <a:pt x="431" y="1397"/>
                  </a:lnTo>
                  <a:lnTo>
                    <a:pt x="486" y="1437"/>
                  </a:lnTo>
                  <a:lnTo>
                    <a:pt x="543" y="1466"/>
                  </a:lnTo>
                  <a:lnTo>
                    <a:pt x="602" y="1479"/>
                  </a:lnTo>
                  <a:lnTo>
                    <a:pt x="667" y="1478"/>
                  </a:lnTo>
                  <a:lnTo>
                    <a:pt x="734" y="1461"/>
                  </a:lnTo>
                  <a:lnTo>
                    <a:pt x="804" y="1423"/>
                  </a:lnTo>
                  <a:lnTo>
                    <a:pt x="878" y="1366"/>
                  </a:lnTo>
                  <a:lnTo>
                    <a:pt x="955" y="1288"/>
                  </a:lnTo>
                  <a:lnTo>
                    <a:pt x="1036" y="1186"/>
                  </a:lnTo>
                  <a:lnTo>
                    <a:pt x="1120" y="1060"/>
                  </a:lnTo>
                  <a:lnTo>
                    <a:pt x="1208" y="907"/>
                  </a:lnTo>
                  <a:lnTo>
                    <a:pt x="1300" y="726"/>
                  </a:lnTo>
                  <a:lnTo>
                    <a:pt x="1395" y="516"/>
                  </a:lnTo>
                  <a:lnTo>
                    <a:pt x="1494" y="275"/>
                  </a:lnTo>
                  <a:lnTo>
                    <a:pt x="1596" y="0"/>
                  </a:lnTo>
                  <a:lnTo>
                    <a:pt x="1585" y="29"/>
                  </a:lnTo>
                  <a:lnTo>
                    <a:pt x="1552" y="108"/>
                  </a:lnTo>
                  <a:lnTo>
                    <a:pt x="1529" y="164"/>
                  </a:lnTo>
                  <a:lnTo>
                    <a:pt x="1500" y="227"/>
                  </a:lnTo>
                  <a:lnTo>
                    <a:pt x="1468" y="298"/>
                  </a:lnTo>
                  <a:lnTo>
                    <a:pt x="1432" y="374"/>
                  </a:lnTo>
                  <a:lnTo>
                    <a:pt x="1392" y="456"/>
                  </a:lnTo>
                  <a:lnTo>
                    <a:pt x="1348" y="539"/>
                  </a:lnTo>
                  <a:lnTo>
                    <a:pt x="1302" y="624"/>
                  </a:lnTo>
                  <a:lnTo>
                    <a:pt x="1251" y="710"/>
                  </a:lnTo>
                  <a:lnTo>
                    <a:pt x="1199" y="794"/>
                  </a:lnTo>
                  <a:lnTo>
                    <a:pt x="1143" y="876"/>
                  </a:lnTo>
                  <a:lnTo>
                    <a:pt x="1086" y="954"/>
                  </a:lnTo>
                  <a:lnTo>
                    <a:pt x="1026" y="1028"/>
                  </a:lnTo>
                  <a:lnTo>
                    <a:pt x="964" y="1095"/>
                  </a:lnTo>
                  <a:lnTo>
                    <a:pt x="900" y="1153"/>
                  </a:lnTo>
                  <a:lnTo>
                    <a:pt x="837" y="1201"/>
                  </a:lnTo>
                  <a:lnTo>
                    <a:pt x="771" y="1240"/>
                  </a:lnTo>
                  <a:lnTo>
                    <a:pt x="706" y="1266"/>
                  </a:lnTo>
                  <a:lnTo>
                    <a:pt x="638" y="1278"/>
                  </a:lnTo>
                  <a:lnTo>
                    <a:pt x="573" y="1277"/>
                  </a:lnTo>
                  <a:lnTo>
                    <a:pt x="506" y="1258"/>
                  </a:lnTo>
                  <a:lnTo>
                    <a:pt x="439" y="1222"/>
                  </a:lnTo>
                  <a:lnTo>
                    <a:pt x="373" y="1168"/>
                  </a:lnTo>
                  <a:lnTo>
                    <a:pt x="307" y="1093"/>
                  </a:lnTo>
                  <a:lnTo>
                    <a:pt x="242" y="995"/>
                  </a:lnTo>
                  <a:lnTo>
                    <a:pt x="179" y="876"/>
                  </a:lnTo>
                  <a:lnTo>
                    <a:pt x="118" y="732"/>
                  </a:lnTo>
                  <a:lnTo>
                    <a:pt x="57" y="562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347760" y="3492360"/>
              <a:ext cx="826920" cy="436680"/>
            </a:xfrm>
            <a:custGeom>
              <a:avLst/>
              <a:gdLst/>
              <a:ahLst/>
              <a:rect l="l" t="t" r="r" b="b"/>
              <a:pathLst>
                <a:path w="2085" h="1099">
                  <a:moveTo>
                    <a:pt x="2085" y="564"/>
                  </a:moveTo>
                  <a:lnTo>
                    <a:pt x="2080" y="557"/>
                  </a:lnTo>
                  <a:lnTo>
                    <a:pt x="2065" y="533"/>
                  </a:lnTo>
                  <a:lnTo>
                    <a:pt x="2053" y="516"/>
                  </a:lnTo>
                  <a:lnTo>
                    <a:pt x="2039" y="497"/>
                  </a:lnTo>
                  <a:lnTo>
                    <a:pt x="2022" y="475"/>
                  </a:lnTo>
                  <a:lnTo>
                    <a:pt x="2002" y="451"/>
                  </a:lnTo>
                  <a:lnTo>
                    <a:pt x="1979" y="427"/>
                  </a:lnTo>
                  <a:lnTo>
                    <a:pt x="1952" y="399"/>
                  </a:lnTo>
                  <a:lnTo>
                    <a:pt x="1923" y="372"/>
                  </a:lnTo>
                  <a:lnTo>
                    <a:pt x="1890" y="342"/>
                  </a:lnTo>
                  <a:lnTo>
                    <a:pt x="1854" y="314"/>
                  </a:lnTo>
                  <a:lnTo>
                    <a:pt x="1815" y="285"/>
                  </a:lnTo>
                  <a:lnTo>
                    <a:pt x="1772" y="255"/>
                  </a:lnTo>
                  <a:lnTo>
                    <a:pt x="1725" y="228"/>
                  </a:lnTo>
                  <a:lnTo>
                    <a:pt x="1676" y="201"/>
                  </a:lnTo>
                  <a:lnTo>
                    <a:pt x="1621" y="175"/>
                  </a:lnTo>
                  <a:lnTo>
                    <a:pt x="1564" y="150"/>
                  </a:lnTo>
                  <a:lnTo>
                    <a:pt x="1502" y="128"/>
                  </a:lnTo>
                  <a:lnTo>
                    <a:pt x="1436" y="108"/>
                  </a:lnTo>
                  <a:lnTo>
                    <a:pt x="1366" y="90"/>
                  </a:lnTo>
                  <a:lnTo>
                    <a:pt x="1293" y="77"/>
                  </a:lnTo>
                  <a:lnTo>
                    <a:pt x="1215" y="66"/>
                  </a:lnTo>
                  <a:lnTo>
                    <a:pt x="1133" y="58"/>
                  </a:lnTo>
                  <a:lnTo>
                    <a:pt x="1046" y="54"/>
                  </a:lnTo>
                  <a:lnTo>
                    <a:pt x="955" y="56"/>
                  </a:lnTo>
                  <a:lnTo>
                    <a:pt x="858" y="62"/>
                  </a:lnTo>
                  <a:lnTo>
                    <a:pt x="759" y="73"/>
                  </a:lnTo>
                  <a:lnTo>
                    <a:pt x="654" y="88"/>
                  </a:lnTo>
                  <a:lnTo>
                    <a:pt x="544" y="110"/>
                  </a:lnTo>
                  <a:lnTo>
                    <a:pt x="429" y="139"/>
                  </a:lnTo>
                  <a:lnTo>
                    <a:pt x="423" y="140"/>
                  </a:lnTo>
                  <a:lnTo>
                    <a:pt x="402" y="145"/>
                  </a:lnTo>
                  <a:lnTo>
                    <a:pt x="387" y="148"/>
                  </a:lnTo>
                  <a:lnTo>
                    <a:pt x="369" y="148"/>
                  </a:lnTo>
                  <a:lnTo>
                    <a:pt x="348" y="148"/>
                  </a:lnTo>
                  <a:lnTo>
                    <a:pt x="323" y="145"/>
                  </a:lnTo>
                  <a:lnTo>
                    <a:pt x="297" y="140"/>
                  </a:lnTo>
                  <a:lnTo>
                    <a:pt x="267" y="133"/>
                  </a:lnTo>
                  <a:lnTo>
                    <a:pt x="251" y="128"/>
                  </a:lnTo>
                  <a:lnTo>
                    <a:pt x="234" y="121"/>
                  </a:lnTo>
                  <a:lnTo>
                    <a:pt x="218" y="115"/>
                  </a:lnTo>
                  <a:lnTo>
                    <a:pt x="199" y="107"/>
                  </a:lnTo>
                  <a:lnTo>
                    <a:pt x="180" y="98"/>
                  </a:lnTo>
                  <a:lnTo>
                    <a:pt x="162" y="88"/>
                  </a:lnTo>
                  <a:lnTo>
                    <a:pt x="142" y="77"/>
                  </a:lnTo>
                  <a:lnTo>
                    <a:pt x="122" y="64"/>
                  </a:lnTo>
                  <a:lnTo>
                    <a:pt x="101" y="49"/>
                  </a:lnTo>
                  <a:lnTo>
                    <a:pt x="79" y="35"/>
                  </a:lnTo>
                  <a:lnTo>
                    <a:pt x="56" y="18"/>
                  </a:lnTo>
                  <a:lnTo>
                    <a:pt x="34" y="0"/>
                  </a:lnTo>
                  <a:lnTo>
                    <a:pt x="29" y="11"/>
                  </a:lnTo>
                  <a:lnTo>
                    <a:pt x="17" y="43"/>
                  </a:lnTo>
                  <a:lnTo>
                    <a:pt x="9" y="67"/>
                  </a:lnTo>
                  <a:lnTo>
                    <a:pt x="4" y="94"/>
                  </a:lnTo>
                  <a:lnTo>
                    <a:pt x="2" y="109"/>
                  </a:lnTo>
                  <a:lnTo>
                    <a:pt x="0" y="126"/>
                  </a:lnTo>
                  <a:lnTo>
                    <a:pt x="0" y="144"/>
                  </a:lnTo>
                  <a:lnTo>
                    <a:pt x="0" y="162"/>
                  </a:lnTo>
                  <a:lnTo>
                    <a:pt x="2" y="182"/>
                  </a:lnTo>
                  <a:lnTo>
                    <a:pt x="4" y="202"/>
                  </a:lnTo>
                  <a:lnTo>
                    <a:pt x="8" y="223"/>
                  </a:lnTo>
                  <a:lnTo>
                    <a:pt x="13" y="246"/>
                  </a:lnTo>
                  <a:lnTo>
                    <a:pt x="19" y="268"/>
                  </a:lnTo>
                  <a:lnTo>
                    <a:pt x="27" y="293"/>
                  </a:lnTo>
                  <a:lnTo>
                    <a:pt x="36" y="316"/>
                  </a:lnTo>
                  <a:lnTo>
                    <a:pt x="48" y="341"/>
                  </a:lnTo>
                  <a:lnTo>
                    <a:pt x="61" y="367"/>
                  </a:lnTo>
                  <a:lnTo>
                    <a:pt x="76" y="394"/>
                  </a:lnTo>
                  <a:lnTo>
                    <a:pt x="94" y="422"/>
                  </a:lnTo>
                  <a:lnTo>
                    <a:pt x="112" y="449"/>
                  </a:lnTo>
                  <a:lnTo>
                    <a:pt x="135" y="478"/>
                  </a:lnTo>
                  <a:lnTo>
                    <a:pt x="159" y="506"/>
                  </a:lnTo>
                  <a:lnTo>
                    <a:pt x="185" y="535"/>
                  </a:lnTo>
                  <a:lnTo>
                    <a:pt x="215" y="564"/>
                  </a:lnTo>
                  <a:lnTo>
                    <a:pt x="224" y="574"/>
                  </a:lnTo>
                  <a:lnTo>
                    <a:pt x="246" y="599"/>
                  </a:lnTo>
                  <a:lnTo>
                    <a:pt x="282" y="639"/>
                  </a:lnTo>
                  <a:lnTo>
                    <a:pt x="332" y="687"/>
                  </a:lnTo>
                  <a:lnTo>
                    <a:pt x="361" y="715"/>
                  </a:lnTo>
                  <a:lnTo>
                    <a:pt x="392" y="743"/>
                  </a:lnTo>
                  <a:lnTo>
                    <a:pt x="426" y="774"/>
                  </a:lnTo>
                  <a:lnTo>
                    <a:pt x="462" y="804"/>
                  </a:lnTo>
                  <a:lnTo>
                    <a:pt x="502" y="835"/>
                  </a:lnTo>
                  <a:lnTo>
                    <a:pt x="543" y="866"/>
                  </a:lnTo>
                  <a:lnTo>
                    <a:pt x="585" y="897"/>
                  </a:lnTo>
                  <a:lnTo>
                    <a:pt x="631" y="927"/>
                  </a:lnTo>
                  <a:lnTo>
                    <a:pt x="677" y="955"/>
                  </a:lnTo>
                  <a:lnTo>
                    <a:pt x="726" y="982"/>
                  </a:lnTo>
                  <a:lnTo>
                    <a:pt x="775" y="1007"/>
                  </a:lnTo>
                  <a:lnTo>
                    <a:pt x="826" y="1031"/>
                  </a:lnTo>
                  <a:lnTo>
                    <a:pt x="878" y="1051"/>
                  </a:lnTo>
                  <a:lnTo>
                    <a:pt x="932" y="1068"/>
                  </a:lnTo>
                  <a:lnTo>
                    <a:pt x="985" y="1082"/>
                  </a:lnTo>
                  <a:lnTo>
                    <a:pt x="1040" y="1092"/>
                  </a:lnTo>
                  <a:lnTo>
                    <a:pt x="1096" y="1098"/>
                  </a:lnTo>
                  <a:lnTo>
                    <a:pt x="1152" y="1099"/>
                  </a:lnTo>
                  <a:lnTo>
                    <a:pt x="1207" y="1095"/>
                  </a:lnTo>
                  <a:lnTo>
                    <a:pt x="1263" y="1087"/>
                  </a:lnTo>
                  <a:lnTo>
                    <a:pt x="1319" y="1073"/>
                  </a:lnTo>
                  <a:lnTo>
                    <a:pt x="1375" y="1052"/>
                  </a:lnTo>
                  <a:lnTo>
                    <a:pt x="1431" y="1026"/>
                  </a:lnTo>
                  <a:lnTo>
                    <a:pt x="1487" y="992"/>
                  </a:lnTo>
                  <a:lnTo>
                    <a:pt x="1504" y="994"/>
                  </a:lnTo>
                  <a:lnTo>
                    <a:pt x="1555" y="995"/>
                  </a:lnTo>
                  <a:lnTo>
                    <a:pt x="1571" y="994"/>
                  </a:lnTo>
                  <a:lnTo>
                    <a:pt x="1589" y="992"/>
                  </a:lnTo>
                  <a:lnTo>
                    <a:pt x="1607" y="990"/>
                  </a:lnTo>
                  <a:lnTo>
                    <a:pt x="1628" y="986"/>
                  </a:lnTo>
                  <a:lnTo>
                    <a:pt x="1649" y="982"/>
                  </a:lnTo>
                  <a:lnTo>
                    <a:pt x="1671" y="978"/>
                  </a:lnTo>
                  <a:lnTo>
                    <a:pt x="1694" y="970"/>
                  </a:lnTo>
                  <a:lnTo>
                    <a:pt x="1718" y="963"/>
                  </a:lnTo>
                  <a:lnTo>
                    <a:pt x="1741" y="954"/>
                  </a:lnTo>
                  <a:lnTo>
                    <a:pt x="1766" y="943"/>
                  </a:lnTo>
                  <a:lnTo>
                    <a:pt x="1791" y="930"/>
                  </a:lnTo>
                  <a:lnTo>
                    <a:pt x="1816" y="915"/>
                  </a:lnTo>
                  <a:lnTo>
                    <a:pt x="1841" y="899"/>
                  </a:lnTo>
                  <a:lnTo>
                    <a:pt x="1866" y="882"/>
                  </a:lnTo>
                  <a:lnTo>
                    <a:pt x="1890" y="861"/>
                  </a:lnTo>
                  <a:lnTo>
                    <a:pt x="1915" y="839"/>
                  </a:lnTo>
                  <a:lnTo>
                    <a:pt x="1939" y="814"/>
                  </a:lnTo>
                  <a:lnTo>
                    <a:pt x="1962" y="786"/>
                  </a:lnTo>
                  <a:lnTo>
                    <a:pt x="1985" y="757"/>
                  </a:lnTo>
                  <a:lnTo>
                    <a:pt x="2007" y="724"/>
                  </a:lnTo>
                  <a:lnTo>
                    <a:pt x="2028" y="688"/>
                  </a:lnTo>
                  <a:lnTo>
                    <a:pt x="2048" y="651"/>
                  </a:lnTo>
                  <a:lnTo>
                    <a:pt x="2067" y="609"/>
                  </a:lnTo>
                  <a:lnTo>
                    <a:pt x="2085" y="564"/>
                  </a:lnTo>
                  <a:close/>
                </a:path>
              </a:pathLst>
            </a:custGeom>
            <a:solidFill>
              <a:srgbClr val="00a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333360" y="3478320"/>
              <a:ext cx="855720" cy="463320"/>
            </a:xfrm>
            <a:custGeom>
              <a:avLst/>
              <a:gdLst/>
              <a:ahLst/>
              <a:rect l="l" t="t" r="r" b="b"/>
              <a:pathLst>
                <a:path w="2156" h="1167">
                  <a:moveTo>
                    <a:pt x="64" y="0"/>
                  </a:moveTo>
                  <a:lnTo>
                    <a:pt x="56" y="2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40" y="17"/>
                  </a:lnTo>
                  <a:lnTo>
                    <a:pt x="36" y="22"/>
                  </a:lnTo>
                  <a:lnTo>
                    <a:pt x="31" y="32"/>
                  </a:lnTo>
                  <a:lnTo>
                    <a:pt x="25" y="48"/>
                  </a:lnTo>
                  <a:lnTo>
                    <a:pt x="18" y="69"/>
                  </a:lnTo>
                  <a:lnTo>
                    <a:pt x="10" y="95"/>
                  </a:lnTo>
                  <a:lnTo>
                    <a:pt x="4" y="126"/>
                  </a:lnTo>
                  <a:lnTo>
                    <a:pt x="2" y="143"/>
                  </a:lnTo>
                  <a:lnTo>
                    <a:pt x="0" y="161"/>
                  </a:lnTo>
                  <a:lnTo>
                    <a:pt x="0" y="180"/>
                  </a:lnTo>
                  <a:lnTo>
                    <a:pt x="0" y="200"/>
                  </a:lnTo>
                  <a:lnTo>
                    <a:pt x="2" y="221"/>
                  </a:lnTo>
                  <a:lnTo>
                    <a:pt x="4" y="243"/>
                  </a:lnTo>
                  <a:lnTo>
                    <a:pt x="8" y="265"/>
                  </a:lnTo>
                  <a:lnTo>
                    <a:pt x="13" y="289"/>
                  </a:lnTo>
                  <a:lnTo>
                    <a:pt x="20" y="314"/>
                  </a:lnTo>
                  <a:lnTo>
                    <a:pt x="28" y="339"/>
                  </a:lnTo>
                  <a:lnTo>
                    <a:pt x="38" y="365"/>
                  </a:lnTo>
                  <a:lnTo>
                    <a:pt x="50" y="391"/>
                  </a:lnTo>
                  <a:lnTo>
                    <a:pt x="64" y="418"/>
                  </a:lnTo>
                  <a:lnTo>
                    <a:pt x="80" y="447"/>
                  </a:lnTo>
                  <a:lnTo>
                    <a:pt x="99" y="475"/>
                  </a:lnTo>
                  <a:lnTo>
                    <a:pt x="118" y="505"/>
                  </a:lnTo>
                  <a:lnTo>
                    <a:pt x="142" y="535"/>
                  </a:lnTo>
                  <a:lnTo>
                    <a:pt x="167" y="564"/>
                  </a:lnTo>
                  <a:lnTo>
                    <a:pt x="195" y="595"/>
                  </a:lnTo>
                  <a:lnTo>
                    <a:pt x="226" y="626"/>
                  </a:lnTo>
                  <a:lnTo>
                    <a:pt x="235" y="636"/>
                  </a:lnTo>
                  <a:lnTo>
                    <a:pt x="259" y="662"/>
                  </a:lnTo>
                  <a:lnTo>
                    <a:pt x="297" y="702"/>
                  </a:lnTo>
                  <a:lnTo>
                    <a:pt x="347" y="752"/>
                  </a:lnTo>
                  <a:lnTo>
                    <a:pt x="377" y="779"/>
                  </a:lnTo>
                  <a:lnTo>
                    <a:pt x="409" y="809"/>
                  </a:lnTo>
                  <a:lnTo>
                    <a:pt x="444" y="839"/>
                  </a:lnTo>
                  <a:lnTo>
                    <a:pt x="481" y="870"/>
                  </a:lnTo>
                  <a:lnTo>
                    <a:pt x="521" y="901"/>
                  </a:lnTo>
                  <a:lnTo>
                    <a:pt x="563" y="932"/>
                  </a:lnTo>
                  <a:lnTo>
                    <a:pt x="608" y="963"/>
                  </a:lnTo>
                  <a:lnTo>
                    <a:pt x="654" y="992"/>
                  </a:lnTo>
                  <a:lnTo>
                    <a:pt x="701" y="1021"/>
                  </a:lnTo>
                  <a:lnTo>
                    <a:pt x="750" y="1048"/>
                  </a:lnTo>
                  <a:lnTo>
                    <a:pt x="800" y="1074"/>
                  </a:lnTo>
                  <a:lnTo>
                    <a:pt x="852" y="1098"/>
                  </a:lnTo>
                  <a:lnTo>
                    <a:pt x="906" y="1118"/>
                  </a:lnTo>
                  <a:lnTo>
                    <a:pt x="960" y="1135"/>
                  </a:lnTo>
                  <a:lnTo>
                    <a:pt x="1015" y="1150"/>
                  </a:lnTo>
                  <a:lnTo>
                    <a:pt x="1072" y="1160"/>
                  </a:lnTo>
                  <a:lnTo>
                    <a:pt x="1128" y="1166"/>
                  </a:lnTo>
                  <a:lnTo>
                    <a:pt x="1185" y="1167"/>
                  </a:lnTo>
                  <a:lnTo>
                    <a:pt x="1242" y="1165"/>
                  </a:lnTo>
                  <a:lnTo>
                    <a:pt x="1301" y="1156"/>
                  </a:lnTo>
                  <a:lnTo>
                    <a:pt x="1358" y="1143"/>
                  </a:lnTo>
                  <a:lnTo>
                    <a:pt x="1415" y="1123"/>
                  </a:lnTo>
                  <a:lnTo>
                    <a:pt x="1472" y="1097"/>
                  </a:lnTo>
                  <a:lnTo>
                    <a:pt x="1529" y="1064"/>
                  </a:lnTo>
                  <a:lnTo>
                    <a:pt x="1541" y="1066"/>
                  </a:lnTo>
                  <a:lnTo>
                    <a:pt x="1561" y="1066"/>
                  </a:lnTo>
                  <a:lnTo>
                    <a:pt x="1587" y="1066"/>
                  </a:lnTo>
                  <a:lnTo>
                    <a:pt x="1620" y="1064"/>
                  </a:lnTo>
                  <a:lnTo>
                    <a:pt x="1638" y="1062"/>
                  </a:lnTo>
                  <a:lnTo>
                    <a:pt x="1657" y="1059"/>
                  </a:lnTo>
                  <a:lnTo>
                    <a:pt x="1677" y="1057"/>
                  </a:lnTo>
                  <a:lnTo>
                    <a:pt x="1699" y="1052"/>
                  </a:lnTo>
                  <a:lnTo>
                    <a:pt x="1720" y="1047"/>
                  </a:lnTo>
                  <a:lnTo>
                    <a:pt x="1744" y="1040"/>
                  </a:lnTo>
                  <a:lnTo>
                    <a:pt x="1766" y="1032"/>
                  </a:lnTo>
                  <a:lnTo>
                    <a:pt x="1791" y="1023"/>
                  </a:lnTo>
                  <a:lnTo>
                    <a:pt x="1815" y="1012"/>
                  </a:lnTo>
                  <a:lnTo>
                    <a:pt x="1839" y="1001"/>
                  </a:lnTo>
                  <a:lnTo>
                    <a:pt x="1864" y="986"/>
                  </a:lnTo>
                  <a:lnTo>
                    <a:pt x="1889" y="971"/>
                  </a:lnTo>
                  <a:lnTo>
                    <a:pt x="1914" y="954"/>
                  </a:lnTo>
                  <a:lnTo>
                    <a:pt x="1938" y="935"/>
                  </a:lnTo>
                  <a:lnTo>
                    <a:pt x="1962" y="913"/>
                  </a:lnTo>
                  <a:lnTo>
                    <a:pt x="1987" y="889"/>
                  </a:lnTo>
                  <a:lnTo>
                    <a:pt x="2011" y="865"/>
                  </a:lnTo>
                  <a:lnTo>
                    <a:pt x="2033" y="836"/>
                  </a:lnTo>
                  <a:lnTo>
                    <a:pt x="2056" y="806"/>
                  </a:lnTo>
                  <a:lnTo>
                    <a:pt x="2078" y="773"/>
                  </a:lnTo>
                  <a:lnTo>
                    <a:pt x="2098" y="737"/>
                  </a:lnTo>
                  <a:lnTo>
                    <a:pt x="2118" y="698"/>
                  </a:lnTo>
                  <a:lnTo>
                    <a:pt x="2136" y="657"/>
                  </a:lnTo>
                  <a:lnTo>
                    <a:pt x="2155" y="613"/>
                  </a:lnTo>
                  <a:lnTo>
                    <a:pt x="2156" y="607"/>
                  </a:lnTo>
                  <a:lnTo>
                    <a:pt x="2156" y="599"/>
                  </a:lnTo>
                  <a:lnTo>
                    <a:pt x="2155" y="592"/>
                  </a:lnTo>
                  <a:lnTo>
                    <a:pt x="2152" y="584"/>
                  </a:lnTo>
                  <a:lnTo>
                    <a:pt x="2146" y="574"/>
                  </a:lnTo>
                  <a:lnTo>
                    <a:pt x="2130" y="550"/>
                  </a:lnTo>
                  <a:lnTo>
                    <a:pt x="2118" y="532"/>
                  </a:lnTo>
                  <a:lnTo>
                    <a:pt x="2103" y="511"/>
                  </a:lnTo>
                  <a:lnTo>
                    <a:pt x="2084" y="489"/>
                  </a:lnTo>
                  <a:lnTo>
                    <a:pt x="2063" y="464"/>
                  </a:lnTo>
                  <a:lnTo>
                    <a:pt x="2038" y="438"/>
                  </a:lnTo>
                  <a:lnTo>
                    <a:pt x="2011" y="411"/>
                  </a:lnTo>
                  <a:lnTo>
                    <a:pt x="1981" y="382"/>
                  </a:lnTo>
                  <a:lnTo>
                    <a:pt x="1946" y="352"/>
                  </a:lnTo>
                  <a:lnTo>
                    <a:pt x="1909" y="322"/>
                  </a:lnTo>
                  <a:lnTo>
                    <a:pt x="1868" y="293"/>
                  </a:lnTo>
                  <a:lnTo>
                    <a:pt x="1823" y="263"/>
                  </a:lnTo>
                  <a:lnTo>
                    <a:pt x="1776" y="233"/>
                  </a:lnTo>
                  <a:lnTo>
                    <a:pt x="1724" y="206"/>
                  </a:lnTo>
                  <a:lnTo>
                    <a:pt x="1669" y="180"/>
                  </a:lnTo>
                  <a:lnTo>
                    <a:pt x="1610" y="155"/>
                  </a:lnTo>
                  <a:lnTo>
                    <a:pt x="1546" y="131"/>
                  </a:lnTo>
                  <a:lnTo>
                    <a:pt x="1479" y="112"/>
                  </a:lnTo>
                  <a:lnTo>
                    <a:pt x="1407" y="93"/>
                  </a:lnTo>
                  <a:lnTo>
                    <a:pt x="1333" y="78"/>
                  </a:lnTo>
                  <a:lnTo>
                    <a:pt x="1253" y="67"/>
                  </a:lnTo>
                  <a:lnTo>
                    <a:pt x="1169" y="59"/>
                  </a:lnTo>
                  <a:lnTo>
                    <a:pt x="1081" y="56"/>
                  </a:lnTo>
                  <a:lnTo>
                    <a:pt x="989" y="57"/>
                  </a:lnTo>
                  <a:lnTo>
                    <a:pt x="891" y="63"/>
                  </a:lnTo>
                  <a:lnTo>
                    <a:pt x="789" y="73"/>
                  </a:lnTo>
                  <a:lnTo>
                    <a:pt x="683" y="89"/>
                  </a:lnTo>
                  <a:lnTo>
                    <a:pt x="572" y="112"/>
                  </a:lnTo>
                  <a:lnTo>
                    <a:pt x="456" y="140"/>
                  </a:lnTo>
                  <a:lnTo>
                    <a:pt x="447" y="143"/>
                  </a:lnTo>
                  <a:lnTo>
                    <a:pt x="428" y="146"/>
                  </a:lnTo>
                  <a:lnTo>
                    <a:pt x="414" y="148"/>
                  </a:lnTo>
                  <a:lnTo>
                    <a:pt x="398" y="148"/>
                  </a:lnTo>
                  <a:lnTo>
                    <a:pt x="378" y="146"/>
                  </a:lnTo>
                  <a:lnTo>
                    <a:pt x="356" y="144"/>
                  </a:lnTo>
                  <a:lnTo>
                    <a:pt x="331" y="139"/>
                  </a:lnTo>
                  <a:lnTo>
                    <a:pt x="303" y="131"/>
                  </a:lnTo>
                  <a:lnTo>
                    <a:pt x="275" y="120"/>
                  </a:lnTo>
                  <a:lnTo>
                    <a:pt x="243" y="107"/>
                  </a:lnTo>
                  <a:lnTo>
                    <a:pt x="225" y="98"/>
                  </a:lnTo>
                  <a:lnTo>
                    <a:pt x="209" y="89"/>
                  </a:lnTo>
                  <a:lnTo>
                    <a:pt x="190" y="78"/>
                  </a:lnTo>
                  <a:lnTo>
                    <a:pt x="172" y="67"/>
                  </a:lnTo>
                  <a:lnTo>
                    <a:pt x="153" y="54"/>
                  </a:lnTo>
                  <a:lnTo>
                    <a:pt x="133" y="40"/>
                  </a:lnTo>
                  <a:lnTo>
                    <a:pt x="113" y="25"/>
                  </a:lnTo>
                  <a:lnTo>
                    <a:pt x="92" y="9"/>
                  </a:lnTo>
                  <a:lnTo>
                    <a:pt x="86" y="4"/>
                  </a:lnTo>
                  <a:lnTo>
                    <a:pt x="80" y="1"/>
                  </a:lnTo>
                  <a:lnTo>
                    <a:pt x="72" y="0"/>
                  </a:lnTo>
                  <a:lnTo>
                    <a:pt x="64" y="0"/>
                  </a:lnTo>
                  <a:close/>
                  <a:moveTo>
                    <a:pt x="279" y="578"/>
                  </a:moveTo>
                  <a:lnTo>
                    <a:pt x="249" y="548"/>
                  </a:lnTo>
                  <a:lnTo>
                    <a:pt x="221" y="518"/>
                  </a:lnTo>
                  <a:lnTo>
                    <a:pt x="198" y="489"/>
                  </a:lnTo>
                  <a:lnTo>
                    <a:pt x="176" y="461"/>
                  </a:lnTo>
                  <a:lnTo>
                    <a:pt x="157" y="433"/>
                  </a:lnTo>
                  <a:lnTo>
                    <a:pt x="139" y="406"/>
                  </a:lnTo>
                  <a:lnTo>
                    <a:pt x="125" y="380"/>
                  </a:lnTo>
                  <a:lnTo>
                    <a:pt x="112" y="355"/>
                  </a:lnTo>
                  <a:lnTo>
                    <a:pt x="102" y="330"/>
                  </a:lnTo>
                  <a:lnTo>
                    <a:pt x="94" y="306"/>
                  </a:lnTo>
                  <a:lnTo>
                    <a:pt x="86" y="283"/>
                  </a:lnTo>
                  <a:lnTo>
                    <a:pt x="80" y="260"/>
                  </a:lnTo>
                  <a:lnTo>
                    <a:pt x="76" y="239"/>
                  </a:lnTo>
                  <a:lnTo>
                    <a:pt x="74" y="219"/>
                  </a:lnTo>
                  <a:lnTo>
                    <a:pt x="72" y="201"/>
                  </a:lnTo>
                  <a:lnTo>
                    <a:pt x="72" y="182"/>
                  </a:lnTo>
                  <a:lnTo>
                    <a:pt x="72" y="155"/>
                  </a:lnTo>
                  <a:lnTo>
                    <a:pt x="76" y="130"/>
                  </a:lnTo>
                  <a:lnTo>
                    <a:pt x="80" y="108"/>
                  </a:lnTo>
                  <a:lnTo>
                    <a:pt x="86" y="90"/>
                  </a:lnTo>
                  <a:lnTo>
                    <a:pt x="107" y="107"/>
                  </a:lnTo>
                  <a:lnTo>
                    <a:pt x="128" y="120"/>
                  </a:lnTo>
                  <a:lnTo>
                    <a:pt x="149" y="134"/>
                  </a:lnTo>
                  <a:lnTo>
                    <a:pt x="171" y="146"/>
                  </a:lnTo>
                  <a:lnTo>
                    <a:pt x="190" y="157"/>
                  </a:lnTo>
                  <a:lnTo>
                    <a:pt x="209" y="166"/>
                  </a:lnTo>
                  <a:lnTo>
                    <a:pt x="228" y="176"/>
                  </a:lnTo>
                  <a:lnTo>
                    <a:pt x="246" y="184"/>
                  </a:lnTo>
                  <a:lnTo>
                    <a:pt x="264" y="190"/>
                  </a:lnTo>
                  <a:lnTo>
                    <a:pt x="280" y="196"/>
                  </a:lnTo>
                  <a:lnTo>
                    <a:pt x="296" y="201"/>
                  </a:lnTo>
                  <a:lnTo>
                    <a:pt x="312" y="206"/>
                  </a:lnTo>
                  <a:lnTo>
                    <a:pt x="342" y="212"/>
                  </a:lnTo>
                  <a:lnTo>
                    <a:pt x="369" y="216"/>
                  </a:lnTo>
                  <a:lnTo>
                    <a:pt x="393" y="218"/>
                  </a:lnTo>
                  <a:lnTo>
                    <a:pt x="414" y="218"/>
                  </a:lnTo>
                  <a:lnTo>
                    <a:pt x="433" y="217"/>
                  </a:lnTo>
                  <a:lnTo>
                    <a:pt x="449" y="215"/>
                  </a:lnTo>
                  <a:lnTo>
                    <a:pt x="470" y="210"/>
                  </a:lnTo>
                  <a:lnTo>
                    <a:pt x="480" y="207"/>
                  </a:lnTo>
                  <a:lnTo>
                    <a:pt x="583" y="181"/>
                  </a:lnTo>
                  <a:lnTo>
                    <a:pt x="683" y="161"/>
                  </a:lnTo>
                  <a:lnTo>
                    <a:pt x="779" y="145"/>
                  </a:lnTo>
                  <a:lnTo>
                    <a:pt x="871" y="134"/>
                  </a:lnTo>
                  <a:lnTo>
                    <a:pt x="958" y="128"/>
                  </a:lnTo>
                  <a:lnTo>
                    <a:pt x="1042" y="124"/>
                  </a:lnTo>
                  <a:lnTo>
                    <a:pt x="1123" y="125"/>
                  </a:lnTo>
                  <a:lnTo>
                    <a:pt x="1199" y="129"/>
                  </a:lnTo>
                  <a:lnTo>
                    <a:pt x="1272" y="136"/>
                  </a:lnTo>
                  <a:lnTo>
                    <a:pt x="1340" y="148"/>
                  </a:lnTo>
                  <a:lnTo>
                    <a:pt x="1406" y="160"/>
                  </a:lnTo>
                  <a:lnTo>
                    <a:pt x="1468" y="176"/>
                  </a:lnTo>
                  <a:lnTo>
                    <a:pt x="1527" y="193"/>
                  </a:lnTo>
                  <a:lnTo>
                    <a:pt x="1582" y="213"/>
                  </a:lnTo>
                  <a:lnTo>
                    <a:pt x="1633" y="234"/>
                  </a:lnTo>
                  <a:lnTo>
                    <a:pt x="1683" y="257"/>
                  </a:lnTo>
                  <a:lnTo>
                    <a:pt x="1728" y="280"/>
                  </a:lnTo>
                  <a:lnTo>
                    <a:pt x="1771" y="305"/>
                  </a:lnTo>
                  <a:lnTo>
                    <a:pt x="1810" y="331"/>
                  </a:lnTo>
                  <a:lnTo>
                    <a:pt x="1847" y="356"/>
                  </a:lnTo>
                  <a:lnTo>
                    <a:pt x="1880" y="382"/>
                  </a:lnTo>
                  <a:lnTo>
                    <a:pt x="1911" y="408"/>
                  </a:lnTo>
                  <a:lnTo>
                    <a:pt x="1939" y="434"/>
                  </a:lnTo>
                  <a:lnTo>
                    <a:pt x="1965" y="458"/>
                  </a:lnTo>
                  <a:lnTo>
                    <a:pt x="1987" y="483"/>
                  </a:lnTo>
                  <a:lnTo>
                    <a:pt x="2008" y="505"/>
                  </a:lnTo>
                  <a:lnTo>
                    <a:pt x="2026" y="526"/>
                  </a:lnTo>
                  <a:lnTo>
                    <a:pt x="2041" y="546"/>
                  </a:lnTo>
                  <a:lnTo>
                    <a:pt x="2064" y="579"/>
                  </a:lnTo>
                  <a:lnTo>
                    <a:pt x="2080" y="602"/>
                  </a:lnTo>
                  <a:lnTo>
                    <a:pt x="2063" y="641"/>
                  </a:lnTo>
                  <a:lnTo>
                    <a:pt x="2046" y="679"/>
                  </a:lnTo>
                  <a:lnTo>
                    <a:pt x="2027" y="713"/>
                  </a:lnTo>
                  <a:lnTo>
                    <a:pt x="2007" y="744"/>
                  </a:lnTo>
                  <a:lnTo>
                    <a:pt x="1987" y="774"/>
                  </a:lnTo>
                  <a:lnTo>
                    <a:pt x="1966" y="801"/>
                  </a:lnTo>
                  <a:lnTo>
                    <a:pt x="1945" y="826"/>
                  </a:lnTo>
                  <a:lnTo>
                    <a:pt x="1923" y="849"/>
                  </a:lnTo>
                  <a:lnTo>
                    <a:pt x="1902" y="868"/>
                  </a:lnTo>
                  <a:lnTo>
                    <a:pt x="1879" y="887"/>
                  </a:lnTo>
                  <a:lnTo>
                    <a:pt x="1857" y="904"/>
                  </a:lnTo>
                  <a:lnTo>
                    <a:pt x="1833" y="919"/>
                  </a:lnTo>
                  <a:lnTo>
                    <a:pt x="1811" y="932"/>
                  </a:lnTo>
                  <a:lnTo>
                    <a:pt x="1789" y="944"/>
                  </a:lnTo>
                  <a:lnTo>
                    <a:pt x="1767" y="954"/>
                  </a:lnTo>
                  <a:lnTo>
                    <a:pt x="1745" y="963"/>
                  </a:lnTo>
                  <a:lnTo>
                    <a:pt x="1724" y="970"/>
                  </a:lnTo>
                  <a:lnTo>
                    <a:pt x="1703" y="976"/>
                  </a:lnTo>
                  <a:lnTo>
                    <a:pt x="1683" y="981"/>
                  </a:lnTo>
                  <a:lnTo>
                    <a:pt x="1664" y="986"/>
                  </a:lnTo>
                  <a:lnTo>
                    <a:pt x="1628" y="991"/>
                  </a:lnTo>
                  <a:lnTo>
                    <a:pt x="1596" y="995"/>
                  </a:lnTo>
                  <a:lnTo>
                    <a:pt x="1570" y="995"/>
                  </a:lnTo>
                  <a:lnTo>
                    <a:pt x="1549" y="995"/>
                  </a:lnTo>
                  <a:lnTo>
                    <a:pt x="1535" y="994"/>
                  </a:lnTo>
                  <a:lnTo>
                    <a:pt x="1528" y="992"/>
                  </a:lnTo>
                  <a:lnTo>
                    <a:pt x="1522" y="992"/>
                  </a:lnTo>
                  <a:lnTo>
                    <a:pt x="1514" y="994"/>
                  </a:lnTo>
                  <a:lnTo>
                    <a:pt x="1508" y="995"/>
                  </a:lnTo>
                  <a:lnTo>
                    <a:pt x="1503" y="999"/>
                  </a:lnTo>
                  <a:lnTo>
                    <a:pt x="1451" y="1030"/>
                  </a:lnTo>
                  <a:lnTo>
                    <a:pt x="1397" y="1056"/>
                  </a:lnTo>
                  <a:lnTo>
                    <a:pt x="1344" y="1074"/>
                  </a:lnTo>
                  <a:lnTo>
                    <a:pt x="1292" y="1088"/>
                  </a:lnTo>
                  <a:lnTo>
                    <a:pt x="1238" y="1095"/>
                  </a:lnTo>
                  <a:lnTo>
                    <a:pt x="1185" y="1099"/>
                  </a:lnTo>
                  <a:lnTo>
                    <a:pt x="1132" y="1097"/>
                  </a:lnTo>
                  <a:lnTo>
                    <a:pt x="1078" y="1090"/>
                  </a:lnTo>
                  <a:lnTo>
                    <a:pt x="1026" y="1081"/>
                  </a:lnTo>
                  <a:lnTo>
                    <a:pt x="975" y="1068"/>
                  </a:lnTo>
                  <a:lnTo>
                    <a:pt x="924" y="1051"/>
                  </a:lnTo>
                  <a:lnTo>
                    <a:pt x="873" y="1031"/>
                  </a:lnTo>
                  <a:lnTo>
                    <a:pt x="825" y="1009"/>
                  </a:lnTo>
                  <a:lnTo>
                    <a:pt x="777" y="985"/>
                  </a:lnTo>
                  <a:lnTo>
                    <a:pt x="731" y="959"/>
                  </a:lnTo>
                  <a:lnTo>
                    <a:pt x="686" y="930"/>
                  </a:lnTo>
                  <a:lnTo>
                    <a:pt x="642" y="902"/>
                  </a:lnTo>
                  <a:lnTo>
                    <a:pt x="600" y="873"/>
                  </a:lnTo>
                  <a:lnTo>
                    <a:pt x="560" y="842"/>
                  </a:lnTo>
                  <a:lnTo>
                    <a:pt x="523" y="813"/>
                  </a:lnTo>
                  <a:lnTo>
                    <a:pt x="487" y="783"/>
                  </a:lnTo>
                  <a:lnTo>
                    <a:pt x="454" y="754"/>
                  </a:lnTo>
                  <a:lnTo>
                    <a:pt x="424" y="726"/>
                  </a:lnTo>
                  <a:lnTo>
                    <a:pt x="395" y="700"/>
                  </a:lnTo>
                  <a:lnTo>
                    <a:pt x="347" y="652"/>
                  </a:lnTo>
                  <a:lnTo>
                    <a:pt x="311" y="614"/>
                  </a:lnTo>
                  <a:lnTo>
                    <a:pt x="287" y="588"/>
                  </a:lnTo>
                  <a:lnTo>
                    <a:pt x="279" y="578"/>
                  </a:lnTo>
                  <a:close/>
                  <a:moveTo>
                    <a:pt x="1517" y="1063"/>
                  </a:moveTo>
                  <a:lnTo>
                    <a:pt x="1520" y="1063"/>
                  </a:lnTo>
                  <a:lnTo>
                    <a:pt x="1523" y="1063"/>
                  </a:lnTo>
                  <a:lnTo>
                    <a:pt x="1520" y="1063"/>
                  </a:lnTo>
                  <a:lnTo>
                    <a:pt x="1517" y="10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14400" y="3800520"/>
              <a:ext cx="1110960" cy="1341360"/>
            </a:xfrm>
            <a:custGeom>
              <a:avLst/>
              <a:gdLst/>
              <a:ahLst/>
              <a:rect l="l" t="t" r="r" b="b"/>
              <a:pathLst>
                <a:path w="2800" h="3381">
                  <a:moveTo>
                    <a:pt x="2642" y="8"/>
                  </a:moveTo>
                  <a:lnTo>
                    <a:pt x="2646" y="16"/>
                  </a:lnTo>
                  <a:lnTo>
                    <a:pt x="2657" y="42"/>
                  </a:lnTo>
                  <a:lnTo>
                    <a:pt x="2672" y="83"/>
                  </a:lnTo>
                  <a:lnTo>
                    <a:pt x="2691" y="137"/>
                  </a:lnTo>
                  <a:lnTo>
                    <a:pt x="2712" y="201"/>
                  </a:lnTo>
                  <a:lnTo>
                    <a:pt x="2733" y="276"/>
                  </a:lnTo>
                  <a:lnTo>
                    <a:pt x="2744" y="315"/>
                  </a:lnTo>
                  <a:lnTo>
                    <a:pt x="2754" y="358"/>
                  </a:lnTo>
                  <a:lnTo>
                    <a:pt x="2764" y="401"/>
                  </a:lnTo>
                  <a:lnTo>
                    <a:pt x="2773" y="444"/>
                  </a:lnTo>
                  <a:lnTo>
                    <a:pt x="2780" y="490"/>
                  </a:lnTo>
                  <a:lnTo>
                    <a:pt x="2788" y="536"/>
                  </a:lnTo>
                  <a:lnTo>
                    <a:pt x="2793" y="583"/>
                  </a:lnTo>
                  <a:lnTo>
                    <a:pt x="2798" y="631"/>
                  </a:lnTo>
                  <a:lnTo>
                    <a:pt x="2799" y="678"/>
                  </a:lnTo>
                  <a:lnTo>
                    <a:pt x="2800" y="724"/>
                  </a:lnTo>
                  <a:lnTo>
                    <a:pt x="2799" y="771"/>
                  </a:lnTo>
                  <a:lnTo>
                    <a:pt x="2795" y="817"/>
                  </a:lnTo>
                  <a:lnTo>
                    <a:pt x="2789" y="861"/>
                  </a:lnTo>
                  <a:lnTo>
                    <a:pt x="2780" y="905"/>
                  </a:lnTo>
                  <a:lnTo>
                    <a:pt x="2769" y="948"/>
                  </a:lnTo>
                  <a:lnTo>
                    <a:pt x="2755" y="989"/>
                  </a:lnTo>
                  <a:lnTo>
                    <a:pt x="2738" y="1029"/>
                  </a:lnTo>
                  <a:lnTo>
                    <a:pt x="2717" y="1066"/>
                  </a:lnTo>
                  <a:lnTo>
                    <a:pt x="2693" y="1101"/>
                  </a:lnTo>
                  <a:lnTo>
                    <a:pt x="2666" y="1133"/>
                  </a:lnTo>
                  <a:lnTo>
                    <a:pt x="2656" y="1143"/>
                  </a:lnTo>
                  <a:lnTo>
                    <a:pt x="2631" y="1168"/>
                  </a:lnTo>
                  <a:lnTo>
                    <a:pt x="2592" y="1207"/>
                  </a:lnTo>
                  <a:lnTo>
                    <a:pt x="2541" y="1258"/>
                  </a:lnTo>
                  <a:lnTo>
                    <a:pt x="2479" y="1319"/>
                  </a:lnTo>
                  <a:lnTo>
                    <a:pt x="2409" y="1387"/>
                  </a:lnTo>
                  <a:lnTo>
                    <a:pt x="2333" y="1459"/>
                  </a:lnTo>
                  <a:lnTo>
                    <a:pt x="2253" y="1534"/>
                  </a:lnTo>
                  <a:lnTo>
                    <a:pt x="2171" y="1609"/>
                  </a:lnTo>
                  <a:lnTo>
                    <a:pt x="2089" y="1681"/>
                  </a:lnTo>
                  <a:lnTo>
                    <a:pt x="2048" y="1716"/>
                  </a:lnTo>
                  <a:lnTo>
                    <a:pt x="2008" y="1748"/>
                  </a:lnTo>
                  <a:lnTo>
                    <a:pt x="1969" y="1781"/>
                  </a:lnTo>
                  <a:lnTo>
                    <a:pt x="1932" y="1809"/>
                  </a:lnTo>
                  <a:lnTo>
                    <a:pt x="1896" y="1837"/>
                  </a:lnTo>
                  <a:lnTo>
                    <a:pt x="1863" y="1861"/>
                  </a:lnTo>
                  <a:lnTo>
                    <a:pt x="1830" y="1882"/>
                  </a:lnTo>
                  <a:lnTo>
                    <a:pt x="1801" y="1900"/>
                  </a:lnTo>
                  <a:lnTo>
                    <a:pt x="1773" y="1915"/>
                  </a:lnTo>
                  <a:lnTo>
                    <a:pt x="1750" y="1926"/>
                  </a:lnTo>
                  <a:lnTo>
                    <a:pt x="1729" y="1932"/>
                  </a:lnTo>
                  <a:lnTo>
                    <a:pt x="1710" y="1935"/>
                  </a:lnTo>
                  <a:lnTo>
                    <a:pt x="1702" y="1926"/>
                  </a:lnTo>
                  <a:lnTo>
                    <a:pt x="1680" y="1905"/>
                  </a:lnTo>
                  <a:lnTo>
                    <a:pt x="1648" y="1875"/>
                  </a:lnTo>
                  <a:lnTo>
                    <a:pt x="1608" y="1839"/>
                  </a:lnTo>
                  <a:lnTo>
                    <a:pt x="1586" y="1822"/>
                  </a:lnTo>
                  <a:lnTo>
                    <a:pt x="1563" y="1804"/>
                  </a:lnTo>
                  <a:lnTo>
                    <a:pt x="1540" y="1788"/>
                  </a:lnTo>
                  <a:lnTo>
                    <a:pt x="1516" y="1773"/>
                  </a:lnTo>
                  <a:lnTo>
                    <a:pt x="1493" y="1761"/>
                  </a:lnTo>
                  <a:lnTo>
                    <a:pt x="1470" y="1751"/>
                  </a:lnTo>
                  <a:lnTo>
                    <a:pt x="1459" y="1747"/>
                  </a:lnTo>
                  <a:lnTo>
                    <a:pt x="1448" y="1745"/>
                  </a:lnTo>
                  <a:lnTo>
                    <a:pt x="1438" y="1742"/>
                  </a:lnTo>
                  <a:lnTo>
                    <a:pt x="1428" y="1741"/>
                  </a:lnTo>
                  <a:lnTo>
                    <a:pt x="1697" y="1926"/>
                  </a:lnTo>
                  <a:lnTo>
                    <a:pt x="1715" y="1932"/>
                  </a:lnTo>
                  <a:lnTo>
                    <a:pt x="1725" y="1938"/>
                  </a:lnTo>
                  <a:lnTo>
                    <a:pt x="1731" y="1942"/>
                  </a:lnTo>
                  <a:lnTo>
                    <a:pt x="1731" y="1943"/>
                  </a:lnTo>
                  <a:lnTo>
                    <a:pt x="1727" y="1944"/>
                  </a:lnTo>
                  <a:lnTo>
                    <a:pt x="1720" y="1943"/>
                  </a:lnTo>
                  <a:lnTo>
                    <a:pt x="1707" y="1941"/>
                  </a:lnTo>
                  <a:lnTo>
                    <a:pt x="1691" y="1937"/>
                  </a:lnTo>
                  <a:lnTo>
                    <a:pt x="1650" y="1928"/>
                  </a:lnTo>
                  <a:lnTo>
                    <a:pt x="1598" y="1916"/>
                  </a:lnTo>
                  <a:lnTo>
                    <a:pt x="1537" y="1901"/>
                  </a:lnTo>
                  <a:lnTo>
                    <a:pt x="1470" y="1886"/>
                  </a:lnTo>
                  <a:lnTo>
                    <a:pt x="1399" y="1871"/>
                  </a:lnTo>
                  <a:lnTo>
                    <a:pt x="1329" y="1858"/>
                  </a:lnTo>
                  <a:lnTo>
                    <a:pt x="1293" y="1851"/>
                  </a:lnTo>
                  <a:lnTo>
                    <a:pt x="1258" y="1846"/>
                  </a:lnTo>
                  <a:lnTo>
                    <a:pt x="1224" y="1843"/>
                  </a:lnTo>
                  <a:lnTo>
                    <a:pt x="1193" y="1839"/>
                  </a:lnTo>
                  <a:lnTo>
                    <a:pt x="1162" y="1837"/>
                  </a:lnTo>
                  <a:lnTo>
                    <a:pt x="1134" y="1835"/>
                  </a:lnTo>
                  <a:lnTo>
                    <a:pt x="1106" y="1835"/>
                  </a:lnTo>
                  <a:lnTo>
                    <a:pt x="1083" y="1837"/>
                  </a:lnTo>
                  <a:lnTo>
                    <a:pt x="1062" y="1840"/>
                  </a:lnTo>
                  <a:lnTo>
                    <a:pt x="1044" y="1845"/>
                  </a:lnTo>
                  <a:lnTo>
                    <a:pt x="1029" y="1851"/>
                  </a:lnTo>
                  <a:lnTo>
                    <a:pt x="1019" y="1860"/>
                  </a:lnTo>
                  <a:lnTo>
                    <a:pt x="1027" y="1860"/>
                  </a:lnTo>
                  <a:lnTo>
                    <a:pt x="1048" y="1861"/>
                  </a:lnTo>
                  <a:lnTo>
                    <a:pt x="1082" y="1863"/>
                  </a:lnTo>
                  <a:lnTo>
                    <a:pt x="1125" y="1865"/>
                  </a:lnTo>
                  <a:lnTo>
                    <a:pt x="1178" y="1869"/>
                  </a:lnTo>
                  <a:lnTo>
                    <a:pt x="1238" y="1874"/>
                  </a:lnTo>
                  <a:lnTo>
                    <a:pt x="1305" y="1880"/>
                  </a:lnTo>
                  <a:lnTo>
                    <a:pt x="1375" y="1889"/>
                  </a:lnTo>
                  <a:lnTo>
                    <a:pt x="1448" y="1900"/>
                  </a:lnTo>
                  <a:lnTo>
                    <a:pt x="1522" y="1913"/>
                  </a:lnTo>
                  <a:lnTo>
                    <a:pt x="1560" y="1921"/>
                  </a:lnTo>
                  <a:lnTo>
                    <a:pt x="1596" y="1930"/>
                  </a:lnTo>
                  <a:lnTo>
                    <a:pt x="1633" y="1939"/>
                  </a:lnTo>
                  <a:lnTo>
                    <a:pt x="1668" y="1949"/>
                  </a:lnTo>
                  <a:lnTo>
                    <a:pt x="1702" y="1959"/>
                  </a:lnTo>
                  <a:lnTo>
                    <a:pt x="1736" y="1972"/>
                  </a:lnTo>
                  <a:lnTo>
                    <a:pt x="1768" y="1984"/>
                  </a:lnTo>
                  <a:lnTo>
                    <a:pt x="1799" y="1998"/>
                  </a:lnTo>
                  <a:lnTo>
                    <a:pt x="1828" y="2011"/>
                  </a:lnTo>
                  <a:lnTo>
                    <a:pt x="1855" y="2028"/>
                  </a:lnTo>
                  <a:lnTo>
                    <a:pt x="1880" y="2044"/>
                  </a:lnTo>
                  <a:lnTo>
                    <a:pt x="1902" y="2061"/>
                  </a:lnTo>
                  <a:lnTo>
                    <a:pt x="1880" y="2061"/>
                  </a:lnTo>
                  <a:lnTo>
                    <a:pt x="1820" y="2064"/>
                  </a:lnTo>
                  <a:lnTo>
                    <a:pt x="1781" y="2066"/>
                  </a:lnTo>
                  <a:lnTo>
                    <a:pt x="1735" y="2070"/>
                  </a:lnTo>
                  <a:lnTo>
                    <a:pt x="1685" y="2076"/>
                  </a:lnTo>
                  <a:lnTo>
                    <a:pt x="1632" y="2083"/>
                  </a:lnTo>
                  <a:lnTo>
                    <a:pt x="1578" y="2093"/>
                  </a:lnTo>
                  <a:lnTo>
                    <a:pt x="1524" y="2105"/>
                  </a:lnTo>
                  <a:lnTo>
                    <a:pt x="1498" y="2112"/>
                  </a:lnTo>
                  <a:lnTo>
                    <a:pt x="1471" y="2119"/>
                  </a:lnTo>
                  <a:lnTo>
                    <a:pt x="1445" y="2128"/>
                  </a:lnTo>
                  <a:lnTo>
                    <a:pt x="1421" y="2138"/>
                  </a:lnTo>
                  <a:lnTo>
                    <a:pt x="1397" y="2148"/>
                  </a:lnTo>
                  <a:lnTo>
                    <a:pt x="1375" y="2159"/>
                  </a:lnTo>
                  <a:lnTo>
                    <a:pt x="1354" y="2172"/>
                  </a:lnTo>
                  <a:lnTo>
                    <a:pt x="1334" y="2185"/>
                  </a:lnTo>
                  <a:lnTo>
                    <a:pt x="1316" y="2199"/>
                  </a:lnTo>
                  <a:lnTo>
                    <a:pt x="1300" y="2214"/>
                  </a:lnTo>
                  <a:lnTo>
                    <a:pt x="1285" y="2230"/>
                  </a:lnTo>
                  <a:lnTo>
                    <a:pt x="1274" y="2247"/>
                  </a:lnTo>
                  <a:lnTo>
                    <a:pt x="1291" y="2237"/>
                  </a:lnTo>
                  <a:lnTo>
                    <a:pt x="1340" y="2211"/>
                  </a:lnTo>
                  <a:lnTo>
                    <a:pt x="1372" y="2194"/>
                  </a:lnTo>
                  <a:lnTo>
                    <a:pt x="1411" y="2176"/>
                  </a:lnTo>
                  <a:lnTo>
                    <a:pt x="1452" y="2157"/>
                  </a:lnTo>
                  <a:lnTo>
                    <a:pt x="1495" y="2138"/>
                  </a:lnTo>
                  <a:lnTo>
                    <a:pt x="1541" y="2121"/>
                  </a:lnTo>
                  <a:lnTo>
                    <a:pt x="1588" y="2106"/>
                  </a:lnTo>
                  <a:lnTo>
                    <a:pt x="1611" y="2098"/>
                  </a:lnTo>
                  <a:lnTo>
                    <a:pt x="1634" y="2093"/>
                  </a:lnTo>
                  <a:lnTo>
                    <a:pt x="1657" y="2088"/>
                  </a:lnTo>
                  <a:lnTo>
                    <a:pt x="1679" y="2083"/>
                  </a:lnTo>
                  <a:lnTo>
                    <a:pt x="1701" y="2081"/>
                  </a:lnTo>
                  <a:lnTo>
                    <a:pt x="1722" y="2080"/>
                  </a:lnTo>
                  <a:lnTo>
                    <a:pt x="1743" y="2078"/>
                  </a:lnTo>
                  <a:lnTo>
                    <a:pt x="1762" y="2080"/>
                  </a:lnTo>
                  <a:lnTo>
                    <a:pt x="1781" y="2082"/>
                  </a:lnTo>
                  <a:lnTo>
                    <a:pt x="1798" y="2087"/>
                  </a:lnTo>
                  <a:lnTo>
                    <a:pt x="1814" y="2092"/>
                  </a:lnTo>
                  <a:lnTo>
                    <a:pt x="1829" y="2101"/>
                  </a:lnTo>
                  <a:lnTo>
                    <a:pt x="2249" y="2674"/>
                  </a:lnTo>
                  <a:lnTo>
                    <a:pt x="2226" y="2673"/>
                  </a:lnTo>
                  <a:lnTo>
                    <a:pt x="2166" y="2667"/>
                  </a:lnTo>
                  <a:lnTo>
                    <a:pt x="2074" y="2658"/>
                  </a:lnTo>
                  <a:lnTo>
                    <a:pt x="1957" y="2652"/>
                  </a:lnTo>
                  <a:lnTo>
                    <a:pt x="1891" y="2648"/>
                  </a:lnTo>
                  <a:lnTo>
                    <a:pt x="1823" y="2647"/>
                  </a:lnTo>
                  <a:lnTo>
                    <a:pt x="1750" y="2645"/>
                  </a:lnTo>
                  <a:lnTo>
                    <a:pt x="1676" y="2645"/>
                  </a:lnTo>
                  <a:lnTo>
                    <a:pt x="1602" y="2648"/>
                  </a:lnTo>
                  <a:lnTo>
                    <a:pt x="1526" y="2652"/>
                  </a:lnTo>
                  <a:lnTo>
                    <a:pt x="1452" y="2658"/>
                  </a:lnTo>
                  <a:lnTo>
                    <a:pt x="1380" y="2665"/>
                  </a:lnTo>
                  <a:lnTo>
                    <a:pt x="1309" y="2676"/>
                  </a:lnTo>
                  <a:lnTo>
                    <a:pt x="1242" y="2690"/>
                  </a:lnTo>
                  <a:lnTo>
                    <a:pt x="1178" y="2706"/>
                  </a:lnTo>
                  <a:lnTo>
                    <a:pt x="1121" y="2726"/>
                  </a:lnTo>
                  <a:lnTo>
                    <a:pt x="1069" y="2750"/>
                  </a:lnTo>
                  <a:lnTo>
                    <a:pt x="1024" y="2777"/>
                  </a:lnTo>
                  <a:lnTo>
                    <a:pt x="986" y="2809"/>
                  </a:lnTo>
                  <a:lnTo>
                    <a:pt x="957" y="2844"/>
                  </a:lnTo>
                  <a:lnTo>
                    <a:pt x="938" y="2885"/>
                  </a:lnTo>
                  <a:lnTo>
                    <a:pt x="928" y="2930"/>
                  </a:lnTo>
                  <a:lnTo>
                    <a:pt x="929" y="2979"/>
                  </a:lnTo>
                  <a:lnTo>
                    <a:pt x="942" y="3035"/>
                  </a:lnTo>
                  <a:lnTo>
                    <a:pt x="969" y="3096"/>
                  </a:lnTo>
                  <a:lnTo>
                    <a:pt x="1010" y="3163"/>
                  </a:lnTo>
                  <a:lnTo>
                    <a:pt x="1063" y="3235"/>
                  </a:lnTo>
                  <a:lnTo>
                    <a:pt x="1134" y="3314"/>
                  </a:lnTo>
                  <a:lnTo>
                    <a:pt x="1124" y="3324"/>
                  </a:lnTo>
                  <a:lnTo>
                    <a:pt x="1094" y="3345"/>
                  </a:lnTo>
                  <a:lnTo>
                    <a:pt x="1084" y="3351"/>
                  </a:lnTo>
                  <a:lnTo>
                    <a:pt x="1074" y="3356"/>
                  </a:lnTo>
                  <a:lnTo>
                    <a:pt x="1062" y="3363"/>
                  </a:lnTo>
                  <a:lnTo>
                    <a:pt x="1049" y="3368"/>
                  </a:lnTo>
                  <a:lnTo>
                    <a:pt x="1036" y="3371"/>
                  </a:lnTo>
                  <a:lnTo>
                    <a:pt x="1022" y="3375"/>
                  </a:lnTo>
                  <a:lnTo>
                    <a:pt x="1006" y="3379"/>
                  </a:lnTo>
                  <a:lnTo>
                    <a:pt x="991" y="3380"/>
                  </a:lnTo>
                  <a:lnTo>
                    <a:pt x="974" y="3381"/>
                  </a:lnTo>
                  <a:lnTo>
                    <a:pt x="956" y="3380"/>
                  </a:lnTo>
                  <a:lnTo>
                    <a:pt x="939" y="3377"/>
                  </a:lnTo>
                  <a:lnTo>
                    <a:pt x="920" y="3372"/>
                  </a:lnTo>
                  <a:lnTo>
                    <a:pt x="900" y="3366"/>
                  </a:lnTo>
                  <a:lnTo>
                    <a:pt x="880" y="3358"/>
                  </a:lnTo>
                  <a:lnTo>
                    <a:pt x="861" y="3348"/>
                  </a:lnTo>
                  <a:lnTo>
                    <a:pt x="839" y="3334"/>
                  </a:lnTo>
                  <a:lnTo>
                    <a:pt x="818" y="3319"/>
                  </a:lnTo>
                  <a:lnTo>
                    <a:pt x="796" y="3301"/>
                  </a:lnTo>
                  <a:lnTo>
                    <a:pt x="775" y="3279"/>
                  </a:lnTo>
                  <a:lnTo>
                    <a:pt x="753" y="3255"/>
                  </a:lnTo>
                  <a:lnTo>
                    <a:pt x="729" y="3227"/>
                  </a:lnTo>
                  <a:lnTo>
                    <a:pt x="707" y="3196"/>
                  </a:lnTo>
                  <a:lnTo>
                    <a:pt x="683" y="3162"/>
                  </a:lnTo>
                  <a:lnTo>
                    <a:pt x="661" y="3123"/>
                  </a:lnTo>
                  <a:lnTo>
                    <a:pt x="637" y="2871"/>
                  </a:lnTo>
                  <a:lnTo>
                    <a:pt x="637" y="3098"/>
                  </a:lnTo>
                  <a:lnTo>
                    <a:pt x="625" y="3101"/>
                  </a:lnTo>
                  <a:lnTo>
                    <a:pt x="590" y="3105"/>
                  </a:lnTo>
                  <a:lnTo>
                    <a:pt x="566" y="3106"/>
                  </a:lnTo>
                  <a:lnTo>
                    <a:pt x="540" y="3106"/>
                  </a:lnTo>
                  <a:lnTo>
                    <a:pt x="512" y="3106"/>
                  </a:lnTo>
                  <a:lnTo>
                    <a:pt x="481" y="3103"/>
                  </a:lnTo>
                  <a:lnTo>
                    <a:pt x="450" y="3100"/>
                  </a:lnTo>
                  <a:lnTo>
                    <a:pt x="418" y="3093"/>
                  </a:lnTo>
                  <a:lnTo>
                    <a:pt x="404" y="3088"/>
                  </a:lnTo>
                  <a:lnTo>
                    <a:pt x="387" y="3083"/>
                  </a:lnTo>
                  <a:lnTo>
                    <a:pt x="374" y="3078"/>
                  </a:lnTo>
                  <a:lnTo>
                    <a:pt x="359" y="3071"/>
                  </a:lnTo>
                  <a:lnTo>
                    <a:pt x="345" y="3064"/>
                  </a:lnTo>
                  <a:lnTo>
                    <a:pt x="333" y="3055"/>
                  </a:lnTo>
                  <a:lnTo>
                    <a:pt x="320" y="3046"/>
                  </a:lnTo>
                  <a:lnTo>
                    <a:pt x="309" y="3035"/>
                  </a:lnTo>
                  <a:lnTo>
                    <a:pt x="298" y="3024"/>
                  </a:lnTo>
                  <a:lnTo>
                    <a:pt x="289" y="3010"/>
                  </a:lnTo>
                  <a:lnTo>
                    <a:pt x="281" y="2997"/>
                  </a:lnTo>
                  <a:lnTo>
                    <a:pt x="274" y="2982"/>
                  </a:lnTo>
                  <a:lnTo>
                    <a:pt x="265" y="2966"/>
                  </a:lnTo>
                  <a:lnTo>
                    <a:pt x="240" y="2921"/>
                  </a:lnTo>
                  <a:lnTo>
                    <a:pt x="222" y="2889"/>
                  </a:lnTo>
                  <a:lnTo>
                    <a:pt x="204" y="2850"/>
                  </a:lnTo>
                  <a:lnTo>
                    <a:pt x="183" y="2806"/>
                  </a:lnTo>
                  <a:lnTo>
                    <a:pt x="160" y="2756"/>
                  </a:lnTo>
                  <a:lnTo>
                    <a:pt x="138" y="2701"/>
                  </a:lnTo>
                  <a:lnTo>
                    <a:pt x="115" y="2642"/>
                  </a:lnTo>
                  <a:lnTo>
                    <a:pt x="93" y="2578"/>
                  </a:lnTo>
                  <a:lnTo>
                    <a:pt x="72" y="2510"/>
                  </a:lnTo>
                  <a:lnTo>
                    <a:pt x="53" y="2439"/>
                  </a:lnTo>
                  <a:lnTo>
                    <a:pt x="36" y="2365"/>
                  </a:lnTo>
                  <a:lnTo>
                    <a:pt x="21" y="2288"/>
                  </a:lnTo>
                  <a:lnTo>
                    <a:pt x="10" y="2209"/>
                  </a:lnTo>
                  <a:lnTo>
                    <a:pt x="2" y="2127"/>
                  </a:lnTo>
                  <a:lnTo>
                    <a:pt x="0" y="2044"/>
                  </a:lnTo>
                  <a:lnTo>
                    <a:pt x="2" y="1959"/>
                  </a:lnTo>
                  <a:lnTo>
                    <a:pt x="10" y="1874"/>
                  </a:lnTo>
                  <a:lnTo>
                    <a:pt x="24" y="1787"/>
                  </a:lnTo>
                  <a:lnTo>
                    <a:pt x="43" y="1701"/>
                  </a:lnTo>
                  <a:lnTo>
                    <a:pt x="71" y="1614"/>
                  </a:lnTo>
                  <a:lnTo>
                    <a:pt x="107" y="1529"/>
                  </a:lnTo>
                  <a:lnTo>
                    <a:pt x="149" y="1444"/>
                  </a:lnTo>
                  <a:lnTo>
                    <a:pt x="202" y="1361"/>
                  </a:lnTo>
                  <a:lnTo>
                    <a:pt x="263" y="1281"/>
                  </a:lnTo>
                  <a:lnTo>
                    <a:pt x="335" y="1200"/>
                  </a:lnTo>
                  <a:lnTo>
                    <a:pt x="417" y="1123"/>
                  </a:lnTo>
                  <a:lnTo>
                    <a:pt x="510" y="1049"/>
                  </a:lnTo>
                  <a:lnTo>
                    <a:pt x="615" y="978"/>
                  </a:lnTo>
                  <a:lnTo>
                    <a:pt x="733" y="911"/>
                  </a:lnTo>
                  <a:lnTo>
                    <a:pt x="748" y="900"/>
                  </a:lnTo>
                  <a:lnTo>
                    <a:pt x="790" y="868"/>
                  </a:lnTo>
                  <a:lnTo>
                    <a:pt x="857" y="818"/>
                  </a:lnTo>
                  <a:lnTo>
                    <a:pt x="946" y="755"/>
                  </a:lnTo>
                  <a:lnTo>
                    <a:pt x="1054" y="680"/>
                  </a:lnTo>
                  <a:lnTo>
                    <a:pt x="1177" y="597"/>
                  </a:lnTo>
                  <a:lnTo>
                    <a:pt x="1244" y="554"/>
                  </a:lnTo>
                  <a:lnTo>
                    <a:pt x="1315" y="509"/>
                  </a:lnTo>
                  <a:lnTo>
                    <a:pt x="1387" y="464"/>
                  </a:lnTo>
                  <a:lnTo>
                    <a:pt x="1462" y="420"/>
                  </a:lnTo>
                  <a:lnTo>
                    <a:pt x="1537" y="375"/>
                  </a:lnTo>
                  <a:lnTo>
                    <a:pt x="1616" y="330"/>
                  </a:lnTo>
                  <a:lnTo>
                    <a:pt x="1694" y="288"/>
                  </a:lnTo>
                  <a:lnTo>
                    <a:pt x="1773" y="246"/>
                  </a:lnTo>
                  <a:lnTo>
                    <a:pt x="1853" y="207"/>
                  </a:lnTo>
                  <a:lnTo>
                    <a:pt x="1932" y="170"/>
                  </a:lnTo>
                  <a:lnTo>
                    <a:pt x="2012" y="136"/>
                  </a:lnTo>
                  <a:lnTo>
                    <a:pt x="2090" y="103"/>
                  </a:lnTo>
                  <a:lnTo>
                    <a:pt x="2167" y="76"/>
                  </a:lnTo>
                  <a:lnTo>
                    <a:pt x="2243" y="51"/>
                  </a:lnTo>
                  <a:lnTo>
                    <a:pt x="2316" y="31"/>
                  </a:lnTo>
                  <a:lnTo>
                    <a:pt x="2388" y="16"/>
                  </a:lnTo>
                  <a:lnTo>
                    <a:pt x="2456" y="5"/>
                  </a:lnTo>
                  <a:lnTo>
                    <a:pt x="2522" y="0"/>
                  </a:lnTo>
                  <a:lnTo>
                    <a:pt x="2584" y="2"/>
                  </a:lnTo>
                  <a:lnTo>
                    <a:pt x="264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0" y="3786120"/>
              <a:ext cx="1139760" cy="1370160"/>
            </a:xfrm>
            <a:custGeom>
              <a:avLst/>
              <a:gdLst/>
              <a:ahLst/>
              <a:rect l="l" t="t" r="r" b="b"/>
              <a:pathLst>
                <a:path w="2872" h="3452">
                  <a:moveTo>
                    <a:pt x="746" y="918"/>
                  </a:moveTo>
                  <a:lnTo>
                    <a:pt x="712" y="937"/>
                  </a:lnTo>
                  <a:lnTo>
                    <a:pt x="678" y="957"/>
                  </a:lnTo>
                  <a:lnTo>
                    <a:pt x="644" y="977"/>
                  </a:lnTo>
                  <a:lnTo>
                    <a:pt x="613" y="997"/>
                  </a:lnTo>
                  <a:lnTo>
                    <a:pt x="581" y="1018"/>
                  </a:lnTo>
                  <a:lnTo>
                    <a:pt x="551" y="1038"/>
                  </a:lnTo>
                  <a:lnTo>
                    <a:pt x="522" y="1060"/>
                  </a:lnTo>
                  <a:lnTo>
                    <a:pt x="492" y="1081"/>
                  </a:lnTo>
                  <a:lnTo>
                    <a:pt x="463" y="1105"/>
                  </a:lnTo>
                  <a:lnTo>
                    <a:pt x="436" y="1127"/>
                  </a:lnTo>
                  <a:lnTo>
                    <a:pt x="410" y="1150"/>
                  </a:lnTo>
                  <a:lnTo>
                    <a:pt x="384" y="1174"/>
                  </a:lnTo>
                  <a:lnTo>
                    <a:pt x="359" y="1198"/>
                  </a:lnTo>
                  <a:lnTo>
                    <a:pt x="335" y="1222"/>
                  </a:lnTo>
                  <a:lnTo>
                    <a:pt x="312" y="1247"/>
                  </a:lnTo>
                  <a:lnTo>
                    <a:pt x="289" y="1272"/>
                  </a:lnTo>
                  <a:lnTo>
                    <a:pt x="267" y="1298"/>
                  </a:lnTo>
                  <a:lnTo>
                    <a:pt x="247" y="1325"/>
                  </a:lnTo>
                  <a:lnTo>
                    <a:pt x="227" y="1351"/>
                  </a:lnTo>
                  <a:lnTo>
                    <a:pt x="207" y="1379"/>
                  </a:lnTo>
                  <a:lnTo>
                    <a:pt x="189" y="1406"/>
                  </a:lnTo>
                  <a:lnTo>
                    <a:pt x="171" y="1435"/>
                  </a:lnTo>
                  <a:lnTo>
                    <a:pt x="155" y="1462"/>
                  </a:lnTo>
                  <a:lnTo>
                    <a:pt x="139" y="1490"/>
                  </a:lnTo>
                  <a:lnTo>
                    <a:pt x="124" y="1520"/>
                  </a:lnTo>
                  <a:lnTo>
                    <a:pt x="111" y="1550"/>
                  </a:lnTo>
                  <a:lnTo>
                    <a:pt x="97" y="1580"/>
                  </a:lnTo>
                  <a:lnTo>
                    <a:pt x="84" y="1609"/>
                  </a:lnTo>
                  <a:lnTo>
                    <a:pt x="73" y="1641"/>
                  </a:lnTo>
                  <a:lnTo>
                    <a:pt x="62" y="1672"/>
                  </a:lnTo>
                  <a:lnTo>
                    <a:pt x="52" y="1704"/>
                  </a:lnTo>
                  <a:lnTo>
                    <a:pt x="43" y="1735"/>
                  </a:lnTo>
                  <a:lnTo>
                    <a:pt x="29" y="1796"/>
                  </a:lnTo>
                  <a:lnTo>
                    <a:pt x="17" y="1855"/>
                  </a:lnTo>
                  <a:lnTo>
                    <a:pt x="9" y="1915"/>
                  </a:lnTo>
                  <a:lnTo>
                    <a:pt x="4" y="1973"/>
                  </a:lnTo>
                  <a:lnTo>
                    <a:pt x="0" y="2031"/>
                  </a:lnTo>
                  <a:lnTo>
                    <a:pt x="0" y="2090"/>
                  </a:lnTo>
                  <a:lnTo>
                    <a:pt x="1" y="2147"/>
                  </a:lnTo>
                  <a:lnTo>
                    <a:pt x="5" y="2204"/>
                  </a:lnTo>
                  <a:lnTo>
                    <a:pt x="11" y="2260"/>
                  </a:lnTo>
                  <a:lnTo>
                    <a:pt x="19" y="2314"/>
                  </a:lnTo>
                  <a:lnTo>
                    <a:pt x="27" y="2368"/>
                  </a:lnTo>
                  <a:lnTo>
                    <a:pt x="38" y="2420"/>
                  </a:lnTo>
                  <a:lnTo>
                    <a:pt x="50" y="2471"/>
                  </a:lnTo>
                  <a:lnTo>
                    <a:pt x="63" y="2520"/>
                  </a:lnTo>
                  <a:lnTo>
                    <a:pt x="77" y="2569"/>
                  </a:lnTo>
                  <a:lnTo>
                    <a:pt x="91" y="2614"/>
                  </a:lnTo>
                  <a:lnTo>
                    <a:pt x="106" y="2659"/>
                  </a:lnTo>
                  <a:lnTo>
                    <a:pt x="122" y="2701"/>
                  </a:lnTo>
                  <a:lnTo>
                    <a:pt x="137" y="2742"/>
                  </a:lnTo>
                  <a:lnTo>
                    <a:pt x="153" y="2781"/>
                  </a:lnTo>
                  <a:lnTo>
                    <a:pt x="183" y="2851"/>
                  </a:lnTo>
                  <a:lnTo>
                    <a:pt x="211" y="2911"/>
                  </a:lnTo>
                  <a:lnTo>
                    <a:pt x="237" y="2961"/>
                  </a:lnTo>
                  <a:lnTo>
                    <a:pt x="257" y="2999"/>
                  </a:lnTo>
                  <a:lnTo>
                    <a:pt x="272" y="3024"/>
                  </a:lnTo>
                  <a:lnTo>
                    <a:pt x="279" y="3036"/>
                  </a:lnTo>
                  <a:lnTo>
                    <a:pt x="287" y="3052"/>
                  </a:lnTo>
                  <a:lnTo>
                    <a:pt x="294" y="3067"/>
                  </a:lnTo>
                  <a:lnTo>
                    <a:pt x="304" y="3081"/>
                  </a:lnTo>
                  <a:lnTo>
                    <a:pt x="314" y="3093"/>
                  </a:lnTo>
                  <a:lnTo>
                    <a:pt x="325" y="3105"/>
                  </a:lnTo>
                  <a:lnTo>
                    <a:pt x="338" y="3114"/>
                  </a:lnTo>
                  <a:lnTo>
                    <a:pt x="350" y="3124"/>
                  </a:lnTo>
                  <a:lnTo>
                    <a:pt x="363" y="3133"/>
                  </a:lnTo>
                  <a:lnTo>
                    <a:pt x="376" y="3141"/>
                  </a:lnTo>
                  <a:lnTo>
                    <a:pt x="391" y="3147"/>
                  </a:lnTo>
                  <a:lnTo>
                    <a:pt x="406" y="3153"/>
                  </a:lnTo>
                  <a:lnTo>
                    <a:pt x="421" y="3158"/>
                  </a:lnTo>
                  <a:lnTo>
                    <a:pt x="436" y="3163"/>
                  </a:lnTo>
                  <a:lnTo>
                    <a:pt x="451" y="3167"/>
                  </a:lnTo>
                  <a:lnTo>
                    <a:pt x="467" y="3170"/>
                  </a:lnTo>
                  <a:lnTo>
                    <a:pt x="482" y="3173"/>
                  </a:lnTo>
                  <a:lnTo>
                    <a:pt x="513" y="3176"/>
                  </a:lnTo>
                  <a:lnTo>
                    <a:pt x="543" y="3178"/>
                  </a:lnTo>
                  <a:lnTo>
                    <a:pt x="570" y="3179"/>
                  </a:lnTo>
                  <a:lnTo>
                    <a:pt x="596" y="3178"/>
                  </a:lnTo>
                  <a:lnTo>
                    <a:pt x="640" y="3175"/>
                  </a:lnTo>
                  <a:lnTo>
                    <a:pt x="667" y="3172"/>
                  </a:lnTo>
                  <a:lnTo>
                    <a:pt x="685" y="3203"/>
                  </a:lnTo>
                  <a:lnTo>
                    <a:pt x="705" y="3234"/>
                  </a:lnTo>
                  <a:lnTo>
                    <a:pt x="724" y="3261"/>
                  </a:lnTo>
                  <a:lnTo>
                    <a:pt x="744" y="3287"/>
                  </a:lnTo>
                  <a:lnTo>
                    <a:pt x="762" y="3312"/>
                  </a:lnTo>
                  <a:lnTo>
                    <a:pt x="782" y="3334"/>
                  </a:lnTo>
                  <a:lnTo>
                    <a:pt x="802" y="3354"/>
                  </a:lnTo>
                  <a:lnTo>
                    <a:pt x="822" y="3373"/>
                  </a:lnTo>
                  <a:lnTo>
                    <a:pt x="842" y="3389"/>
                  </a:lnTo>
                  <a:lnTo>
                    <a:pt x="862" y="3404"/>
                  </a:lnTo>
                  <a:lnTo>
                    <a:pt x="882" y="3416"/>
                  </a:lnTo>
                  <a:lnTo>
                    <a:pt x="903" y="3426"/>
                  </a:lnTo>
                  <a:lnTo>
                    <a:pt x="923" y="3436"/>
                  </a:lnTo>
                  <a:lnTo>
                    <a:pt x="944" y="3442"/>
                  </a:lnTo>
                  <a:lnTo>
                    <a:pt x="965" y="3447"/>
                  </a:lnTo>
                  <a:lnTo>
                    <a:pt x="986" y="3451"/>
                  </a:lnTo>
                  <a:lnTo>
                    <a:pt x="1008" y="3452"/>
                  </a:lnTo>
                  <a:lnTo>
                    <a:pt x="1029" y="3452"/>
                  </a:lnTo>
                  <a:lnTo>
                    <a:pt x="1051" y="3449"/>
                  </a:lnTo>
                  <a:lnTo>
                    <a:pt x="1070" y="3446"/>
                  </a:lnTo>
                  <a:lnTo>
                    <a:pt x="1089" y="3440"/>
                  </a:lnTo>
                  <a:lnTo>
                    <a:pt x="1105" y="3433"/>
                  </a:lnTo>
                  <a:lnTo>
                    <a:pt x="1121" y="3427"/>
                  </a:lnTo>
                  <a:lnTo>
                    <a:pt x="1136" y="3420"/>
                  </a:lnTo>
                  <a:lnTo>
                    <a:pt x="1160" y="3404"/>
                  </a:lnTo>
                  <a:lnTo>
                    <a:pt x="1178" y="3390"/>
                  </a:lnTo>
                  <a:lnTo>
                    <a:pt x="1191" y="3380"/>
                  </a:lnTo>
                  <a:lnTo>
                    <a:pt x="1196" y="3375"/>
                  </a:lnTo>
                  <a:lnTo>
                    <a:pt x="1200" y="3369"/>
                  </a:lnTo>
                  <a:lnTo>
                    <a:pt x="1203" y="3364"/>
                  </a:lnTo>
                  <a:lnTo>
                    <a:pt x="1204" y="3356"/>
                  </a:lnTo>
                  <a:lnTo>
                    <a:pt x="1204" y="3350"/>
                  </a:lnTo>
                  <a:lnTo>
                    <a:pt x="1204" y="3344"/>
                  </a:lnTo>
                  <a:lnTo>
                    <a:pt x="1202" y="3338"/>
                  </a:lnTo>
                  <a:lnTo>
                    <a:pt x="1200" y="3332"/>
                  </a:lnTo>
                  <a:lnTo>
                    <a:pt x="1196" y="3325"/>
                  </a:lnTo>
                  <a:lnTo>
                    <a:pt x="1165" y="3293"/>
                  </a:lnTo>
                  <a:lnTo>
                    <a:pt x="1137" y="3261"/>
                  </a:lnTo>
                  <a:lnTo>
                    <a:pt x="1113" y="3230"/>
                  </a:lnTo>
                  <a:lnTo>
                    <a:pt x="1089" y="3200"/>
                  </a:lnTo>
                  <a:lnTo>
                    <a:pt x="1069" y="3172"/>
                  </a:lnTo>
                  <a:lnTo>
                    <a:pt x="1052" y="3143"/>
                  </a:lnTo>
                  <a:lnTo>
                    <a:pt x="1037" y="3116"/>
                  </a:lnTo>
                  <a:lnTo>
                    <a:pt x="1024" y="3090"/>
                  </a:lnTo>
                  <a:lnTo>
                    <a:pt x="1013" y="3064"/>
                  </a:lnTo>
                  <a:lnTo>
                    <a:pt x="1006" y="3040"/>
                  </a:lnTo>
                  <a:lnTo>
                    <a:pt x="1001" y="3016"/>
                  </a:lnTo>
                  <a:lnTo>
                    <a:pt x="998" y="2994"/>
                  </a:lnTo>
                  <a:lnTo>
                    <a:pt x="998" y="2983"/>
                  </a:lnTo>
                  <a:lnTo>
                    <a:pt x="1000" y="2973"/>
                  </a:lnTo>
                  <a:lnTo>
                    <a:pt x="1000" y="2962"/>
                  </a:lnTo>
                  <a:lnTo>
                    <a:pt x="1002" y="2952"/>
                  </a:lnTo>
                  <a:lnTo>
                    <a:pt x="1005" y="2942"/>
                  </a:lnTo>
                  <a:lnTo>
                    <a:pt x="1007" y="2933"/>
                  </a:lnTo>
                  <a:lnTo>
                    <a:pt x="1011" y="2923"/>
                  </a:lnTo>
                  <a:lnTo>
                    <a:pt x="1015" y="2915"/>
                  </a:lnTo>
                  <a:lnTo>
                    <a:pt x="1028" y="2892"/>
                  </a:lnTo>
                  <a:lnTo>
                    <a:pt x="1047" y="2871"/>
                  </a:lnTo>
                  <a:lnTo>
                    <a:pt x="1068" y="2851"/>
                  </a:lnTo>
                  <a:lnTo>
                    <a:pt x="1093" y="2834"/>
                  </a:lnTo>
                  <a:lnTo>
                    <a:pt x="1120" y="2818"/>
                  </a:lnTo>
                  <a:lnTo>
                    <a:pt x="1152" y="2803"/>
                  </a:lnTo>
                  <a:lnTo>
                    <a:pt x="1186" y="2789"/>
                  </a:lnTo>
                  <a:lnTo>
                    <a:pt x="1222" y="2777"/>
                  </a:lnTo>
                  <a:lnTo>
                    <a:pt x="1260" y="2767"/>
                  </a:lnTo>
                  <a:lnTo>
                    <a:pt x="1301" y="2757"/>
                  </a:lnTo>
                  <a:lnTo>
                    <a:pt x="1345" y="2748"/>
                  </a:lnTo>
                  <a:lnTo>
                    <a:pt x="1388" y="2741"/>
                  </a:lnTo>
                  <a:lnTo>
                    <a:pt x="1434" y="2735"/>
                  </a:lnTo>
                  <a:lnTo>
                    <a:pt x="1481" y="2730"/>
                  </a:lnTo>
                  <a:lnTo>
                    <a:pt x="1530" y="2726"/>
                  </a:lnTo>
                  <a:lnTo>
                    <a:pt x="1578" y="2722"/>
                  </a:lnTo>
                  <a:lnTo>
                    <a:pt x="1628" y="2720"/>
                  </a:lnTo>
                  <a:lnTo>
                    <a:pt x="1678" y="2719"/>
                  </a:lnTo>
                  <a:lnTo>
                    <a:pt x="1727" y="2717"/>
                  </a:lnTo>
                  <a:lnTo>
                    <a:pt x="1777" y="2717"/>
                  </a:lnTo>
                  <a:lnTo>
                    <a:pt x="1875" y="2719"/>
                  </a:lnTo>
                  <a:lnTo>
                    <a:pt x="1969" y="2721"/>
                  </a:lnTo>
                  <a:lnTo>
                    <a:pt x="2059" y="2726"/>
                  </a:lnTo>
                  <a:lnTo>
                    <a:pt x="2142" y="2732"/>
                  </a:lnTo>
                  <a:lnTo>
                    <a:pt x="2217" y="2739"/>
                  </a:lnTo>
                  <a:lnTo>
                    <a:pt x="2280" y="2746"/>
                  </a:lnTo>
                  <a:lnTo>
                    <a:pt x="2285" y="2746"/>
                  </a:lnTo>
                  <a:lnTo>
                    <a:pt x="2290" y="2746"/>
                  </a:lnTo>
                  <a:lnTo>
                    <a:pt x="2295" y="2745"/>
                  </a:lnTo>
                  <a:lnTo>
                    <a:pt x="2300" y="2742"/>
                  </a:lnTo>
                  <a:lnTo>
                    <a:pt x="2305" y="2740"/>
                  </a:lnTo>
                  <a:lnTo>
                    <a:pt x="2308" y="2737"/>
                  </a:lnTo>
                  <a:lnTo>
                    <a:pt x="2312" y="2734"/>
                  </a:lnTo>
                  <a:lnTo>
                    <a:pt x="2315" y="2729"/>
                  </a:lnTo>
                  <a:lnTo>
                    <a:pt x="2317" y="2725"/>
                  </a:lnTo>
                  <a:lnTo>
                    <a:pt x="2318" y="2720"/>
                  </a:lnTo>
                  <a:lnTo>
                    <a:pt x="2320" y="2715"/>
                  </a:lnTo>
                  <a:lnTo>
                    <a:pt x="2320" y="2710"/>
                  </a:lnTo>
                  <a:lnTo>
                    <a:pt x="2320" y="2705"/>
                  </a:lnTo>
                  <a:lnTo>
                    <a:pt x="2318" y="2700"/>
                  </a:lnTo>
                  <a:lnTo>
                    <a:pt x="2316" y="2694"/>
                  </a:lnTo>
                  <a:lnTo>
                    <a:pt x="2313" y="2689"/>
                  </a:lnTo>
                  <a:lnTo>
                    <a:pt x="2297" y="2667"/>
                  </a:lnTo>
                  <a:lnTo>
                    <a:pt x="2254" y="2607"/>
                  </a:lnTo>
                  <a:lnTo>
                    <a:pt x="2192" y="2523"/>
                  </a:lnTo>
                  <a:lnTo>
                    <a:pt x="2120" y="2425"/>
                  </a:lnTo>
                  <a:lnTo>
                    <a:pt x="2046" y="2325"/>
                  </a:lnTo>
                  <a:lnTo>
                    <a:pt x="1982" y="2235"/>
                  </a:lnTo>
                  <a:lnTo>
                    <a:pt x="1932" y="2168"/>
                  </a:lnTo>
                  <a:lnTo>
                    <a:pt x="1907" y="2134"/>
                  </a:lnTo>
                  <a:lnTo>
                    <a:pt x="1923" y="2133"/>
                  </a:lnTo>
                  <a:lnTo>
                    <a:pt x="1938" y="2133"/>
                  </a:lnTo>
                  <a:lnTo>
                    <a:pt x="1938" y="2133"/>
                  </a:lnTo>
                  <a:lnTo>
                    <a:pt x="1938" y="2133"/>
                  </a:lnTo>
                  <a:lnTo>
                    <a:pt x="1945" y="2132"/>
                  </a:lnTo>
                  <a:lnTo>
                    <a:pt x="1950" y="2131"/>
                  </a:lnTo>
                  <a:lnTo>
                    <a:pt x="1955" y="2129"/>
                  </a:lnTo>
                  <a:lnTo>
                    <a:pt x="1959" y="2127"/>
                  </a:lnTo>
                  <a:lnTo>
                    <a:pt x="1963" y="2123"/>
                  </a:lnTo>
                  <a:lnTo>
                    <a:pt x="1967" y="2119"/>
                  </a:lnTo>
                  <a:lnTo>
                    <a:pt x="1969" y="2114"/>
                  </a:lnTo>
                  <a:lnTo>
                    <a:pt x="1972" y="2109"/>
                  </a:lnTo>
                  <a:lnTo>
                    <a:pt x="1974" y="2103"/>
                  </a:lnTo>
                  <a:lnTo>
                    <a:pt x="1974" y="2097"/>
                  </a:lnTo>
                  <a:lnTo>
                    <a:pt x="1973" y="2090"/>
                  </a:lnTo>
                  <a:lnTo>
                    <a:pt x="1971" y="2082"/>
                  </a:lnTo>
                  <a:lnTo>
                    <a:pt x="1967" y="2076"/>
                  </a:lnTo>
                  <a:lnTo>
                    <a:pt x="1962" y="2070"/>
                  </a:lnTo>
                  <a:lnTo>
                    <a:pt x="1946" y="2057"/>
                  </a:lnTo>
                  <a:lnTo>
                    <a:pt x="1928" y="2046"/>
                  </a:lnTo>
                  <a:lnTo>
                    <a:pt x="1911" y="2035"/>
                  </a:lnTo>
                  <a:lnTo>
                    <a:pt x="1891" y="2024"/>
                  </a:lnTo>
                  <a:lnTo>
                    <a:pt x="1851" y="2004"/>
                  </a:lnTo>
                  <a:lnTo>
                    <a:pt x="1808" y="1985"/>
                  </a:lnTo>
                  <a:lnTo>
                    <a:pt x="1830" y="1975"/>
                  </a:lnTo>
                  <a:lnTo>
                    <a:pt x="1855" y="1962"/>
                  </a:lnTo>
                  <a:lnTo>
                    <a:pt x="1881" y="1946"/>
                  </a:lnTo>
                  <a:lnTo>
                    <a:pt x="1910" y="1928"/>
                  </a:lnTo>
                  <a:lnTo>
                    <a:pt x="1938" y="1909"/>
                  </a:lnTo>
                  <a:lnTo>
                    <a:pt x="1969" y="1886"/>
                  </a:lnTo>
                  <a:lnTo>
                    <a:pt x="2000" y="1863"/>
                  </a:lnTo>
                  <a:lnTo>
                    <a:pt x="2033" y="1838"/>
                  </a:lnTo>
                  <a:lnTo>
                    <a:pt x="2101" y="1783"/>
                  </a:lnTo>
                  <a:lnTo>
                    <a:pt x="2169" y="1725"/>
                  </a:lnTo>
                  <a:lnTo>
                    <a:pt x="2240" y="1663"/>
                  </a:lnTo>
                  <a:lnTo>
                    <a:pt x="2310" y="1600"/>
                  </a:lnTo>
                  <a:lnTo>
                    <a:pt x="2379" y="1535"/>
                  </a:lnTo>
                  <a:lnTo>
                    <a:pt x="2445" y="1473"/>
                  </a:lnTo>
                  <a:lnTo>
                    <a:pt x="2507" y="1412"/>
                  </a:lnTo>
                  <a:lnTo>
                    <a:pt x="2565" y="1356"/>
                  </a:lnTo>
                  <a:lnTo>
                    <a:pt x="2618" y="1304"/>
                  </a:lnTo>
                  <a:lnTo>
                    <a:pt x="2662" y="1260"/>
                  </a:lnTo>
                  <a:lnTo>
                    <a:pt x="2700" y="1222"/>
                  </a:lnTo>
                  <a:lnTo>
                    <a:pt x="2727" y="1194"/>
                  </a:lnTo>
                  <a:lnTo>
                    <a:pt x="2747" y="1173"/>
                  </a:lnTo>
                  <a:lnTo>
                    <a:pt x="2764" y="1149"/>
                  </a:lnTo>
                  <a:lnTo>
                    <a:pt x="2780" y="1124"/>
                  </a:lnTo>
                  <a:lnTo>
                    <a:pt x="2795" y="1100"/>
                  </a:lnTo>
                  <a:lnTo>
                    <a:pt x="2809" y="1074"/>
                  </a:lnTo>
                  <a:lnTo>
                    <a:pt x="2820" y="1047"/>
                  </a:lnTo>
                  <a:lnTo>
                    <a:pt x="2831" y="1020"/>
                  </a:lnTo>
                  <a:lnTo>
                    <a:pt x="2840" y="992"/>
                  </a:lnTo>
                  <a:lnTo>
                    <a:pt x="2849" y="963"/>
                  </a:lnTo>
                  <a:lnTo>
                    <a:pt x="2855" y="933"/>
                  </a:lnTo>
                  <a:lnTo>
                    <a:pt x="2860" y="904"/>
                  </a:lnTo>
                  <a:lnTo>
                    <a:pt x="2865" y="874"/>
                  </a:lnTo>
                  <a:lnTo>
                    <a:pt x="2868" y="843"/>
                  </a:lnTo>
                  <a:lnTo>
                    <a:pt x="2871" y="812"/>
                  </a:lnTo>
                  <a:lnTo>
                    <a:pt x="2872" y="781"/>
                  </a:lnTo>
                  <a:lnTo>
                    <a:pt x="2872" y="750"/>
                  </a:lnTo>
                  <a:lnTo>
                    <a:pt x="2872" y="717"/>
                  </a:lnTo>
                  <a:lnTo>
                    <a:pt x="2871" y="686"/>
                  </a:lnTo>
                  <a:lnTo>
                    <a:pt x="2868" y="654"/>
                  </a:lnTo>
                  <a:lnTo>
                    <a:pt x="2866" y="622"/>
                  </a:lnTo>
                  <a:lnTo>
                    <a:pt x="2859" y="560"/>
                  </a:lnTo>
                  <a:lnTo>
                    <a:pt x="2849" y="498"/>
                  </a:lnTo>
                  <a:lnTo>
                    <a:pt x="2837" y="437"/>
                  </a:lnTo>
                  <a:lnTo>
                    <a:pt x="2824" y="379"/>
                  </a:lnTo>
                  <a:lnTo>
                    <a:pt x="2810" y="323"/>
                  </a:lnTo>
                  <a:lnTo>
                    <a:pt x="2795" y="271"/>
                  </a:lnTo>
                  <a:lnTo>
                    <a:pt x="2782" y="222"/>
                  </a:lnTo>
                  <a:lnTo>
                    <a:pt x="2767" y="178"/>
                  </a:lnTo>
                  <a:lnTo>
                    <a:pt x="2753" y="138"/>
                  </a:lnTo>
                  <a:lnTo>
                    <a:pt x="2741" y="105"/>
                  </a:lnTo>
                  <a:lnTo>
                    <a:pt x="2722" y="54"/>
                  </a:lnTo>
                  <a:lnTo>
                    <a:pt x="2712" y="30"/>
                  </a:lnTo>
                  <a:lnTo>
                    <a:pt x="2707" y="23"/>
                  </a:lnTo>
                  <a:lnTo>
                    <a:pt x="2701" y="16"/>
                  </a:lnTo>
                  <a:lnTo>
                    <a:pt x="2693" y="11"/>
                  </a:lnTo>
                  <a:lnTo>
                    <a:pt x="2686" y="9"/>
                  </a:lnTo>
                  <a:lnTo>
                    <a:pt x="2626" y="2"/>
                  </a:lnTo>
                  <a:lnTo>
                    <a:pt x="2563" y="0"/>
                  </a:lnTo>
                  <a:lnTo>
                    <a:pt x="2497" y="5"/>
                  </a:lnTo>
                  <a:lnTo>
                    <a:pt x="2429" y="15"/>
                  </a:lnTo>
                  <a:lnTo>
                    <a:pt x="2357" y="30"/>
                  </a:lnTo>
                  <a:lnTo>
                    <a:pt x="2284" y="49"/>
                  </a:lnTo>
                  <a:lnTo>
                    <a:pt x="2209" y="72"/>
                  </a:lnTo>
                  <a:lnTo>
                    <a:pt x="2132" y="100"/>
                  </a:lnTo>
                  <a:lnTo>
                    <a:pt x="2054" y="129"/>
                  </a:lnTo>
                  <a:lnTo>
                    <a:pt x="1976" y="163"/>
                  </a:lnTo>
                  <a:lnTo>
                    <a:pt x="1896" y="200"/>
                  </a:lnTo>
                  <a:lnTo>
                    <a:pt x="1818" y="237"/>
                  </a:lnTo>
                  <a:lnTo>
                    <a:pt x="1738" y="278"/>
                  </a:lnTo>
                  <a:lnTo>
                    <a:pt x="1660" y="320"/>
                  </a:lnTo>
                  <a:lnTo>
                    <a:pt x="1583" y="364"/>
                  </a:lnTo>
                  <a:lnTo>
                    <a:pt x="1506" y="407"/>
                  </a:lnTo>
                  <a:lnTo>
                    <a:pt x="1432" y="452"/>
                  </a:lnTo>
                  <a:lnTo>
                    <a:pt x="1360" y="497"/>
                  </a:lnTo>
                  <a:lnTo>
                    <a:pt x="1290" y="540"/>
                  </a:lnTo>
                  <a:lnTo>
                    <a:pt x="1222" y="583"/>
                  </a:lnTo>
                  <a:lnTo>
                    <a:pt x="1096" y="667"/>
                  </a:lnTo>
                  <a:lnTo>
                    <a:pt x="986" y="743"/>
                  </a:lnTo>
                  <a:lnTo>
                    <a:pt x="893" y="809"/>
                  </a:lnTo>
                  <a:lnTo>
                    <a:pt x="820" y="863"/>
                  </a:lnTo>
                  <a:lnTo>
                    <a:pt x="770" y="900"/>
                  </a:lnTo>
                  <a:lnTo>
                    <a:pt x="746" y="918"/>
                  </a:lnTo>
                  <a:close/>
                  <a:moveTo>
                    <a:pt x="343" y="3004"/>
                  </a:moveTo>
                  <a:lnTo>
                    <a:pt x="338" y="2994"/>
                  </a:lnTo>
                  <a:lnTo>
                    <a:pt x="324" y="2972"/>
                  </a:lnTo>
                  <a:lnTo>
                    <a:pt x="305" y="2936"/>
                  </a:lnTo>
                  <a:lnTo>
                    <a:pt x="281" y="2889"/>
                  </a:lnTo>
                  <a:lnTo>
                    <a:pt x="253" y="2832"/>
                  </a:lnTo>
                  <a:lnTo>
                    <a:pt x="224" y="2763"/>
                  </a:lnTo>
                  <a:lnTo>
                    <a:pt x="209" y="2726"/>
                  </a:lnTo>
                  <a:lnTo>
                    <a:pt x="194" y="2686"/>
                  </a:lnTo>
                  <a:lnTo>
                    <a:pt x="179" y="2645"/>
                  </a:lnTo>
                  <a:lnTo>
                    <a:pt x="164" y="2602"/>
                  </a:lnTo>
                  <a:lnTo>
                    <a:pt x="149" y="2557"/>
                  </a:lnTo>
                  <a:lnTo>
                    <a:pt x="137" y="2510"/>
                  </a:lnTo>
                  <a:lnTo>
                    <a:pt x="123" y="2462"/>
                  </a:lnTo>
                  <a:lnTo>
                    <a:pt x="112" y="2413"/>
                  </a:lnTo>
                  <a:lnTo>
                    <a:pt x="101" y="2363"/>
                  </a:lnTo>
                  <a:lnTo>
                    <a:pt x="92" y="2310"/>
                  </a:lnTo>
                  <a:lnTo>
                    <a:pt x="84" y="2257"/>
                  </a:lnTo>
                  <a:lnTo>
                    <a:pt x="78" y="2204"/>
                  </a:lnTo>
                  <a:lnTo>
                    <a:pt x="75" y="2149"/>
                  </a:lnTo>
                  <a:lnTo>
                    <a:pt x="72" y="2093"/>
                  </a:lnTo>
                  <a:lnTo>
                    <a:pt x="72" y="2038"/>
                  </a:lnTo>
                  <a:lnTo>
                    <a:pt x="75" y="1980"/>
                  </a:lnTo>
                  <a:lnTo>
                    <a:pt x="79" y="1925"/>
                  </a:lnTo>
                  <a:lnTo>
                    <a:pt x="88" y="1868"/>
                  </a:lnTo>
                  <a:lnTo>
                    <a:pt x="98" y="1810"/>
                  </a:lnTo>
                  <a:lnTo>
                    <a:pt x="112" y="1753"/>
                  </a:lnTo>
                  <a:lnTo>
                    <a:pt x="120" y="1724"/>
                  </a:lnTo>
                  <a:lnTo>
                    <a:pt x="130" y="1694"/>
                  </a:lnTo>
                  <a:lnTo>
                    <a:pt x="140" y="1664"/>
                  </a:lnTo>
                  <a:lnTo>
                    <a:pt x="151" y="1636"/>
                  </a:lnTo>
                  <a:lnTo>
                    <a:pt x="163" y="1607"/>
                  </a:lnTo>
                  <a:lnTo>
                    <a:pt x="175" y="1578"/>
                  </a:lnTo>
                  <a:lnTo>
                    <a:pt x="189" y="1551"/>
                  </a:lnTo>
                  <a:lnTo>
                    <a:pt x="204" y="1523"/>
                  </a:lnTo>
                  <a:lnTo>
                    <a:pt x="219" y="1497"/>
                  </a:lnTo>
                  <a:lnTo>
                    <a:pt x="233" y="1469"/>
                  </a:lnTo>
                  <a:lnTo>
                    <a:pt x="251" y="1443"/>
                  </a:lnTo>
                  <a:lnTo>
                    <a:pt x="268" y="1417"/>
                  </a:lnTo>
                  <a:lnTo>
                    <a:pt x="287" y="1391"/>
                  </a:lnTo>
                  <a:lnTo>
                    <a:pt x="305" y="1366"/>
                  </a:lnTo>
                  <a:lnTo>
                    <a:pt x="325" y="1342"/>
                  </a:lnTo>
                  <a:lnTo>
                    <a:pt x="346" y="1317"/>
                  </a:lnTo>
                  <a:lnTo>
                    <a:pt x="368" y="1293"/>
                  </a:lnTo>
                  <a:lnTo>
                    <a:pt x="390" y="1268"/>
                  </a:lnTo>
                  <a:lnTo>
                    <a:pt x="412" y="1246"/>
                  </a:lnTo>
                  <a:lnTo>
                    <a:pt x="437" y="1222"/>
                  </a:lnTo>
                  <a:lnTo>
                    <a:pt x="462" y="1200"/>
                  </a:lnTo>
                  <a:lnTo>
                    <a:pt x="487" y="1178"/>
                  </a:lnTo>
                  <a:lnTo>
                    <a:pt x="513" y="1157"/>
                  </a:lnTo>
                  <a:lnTo>
                    <a:pt x="540" y="1134"/>
                  </a:lnTo>
                  <a:lnTo>
                    <a:pt x="567" y="1114"/>
                  </a:lnTo>
                  <a:lnTo>
                    <a:pt x="597" y="1093"/>
                  </a:lnTo>
                  <a:lnTo>
                    <a:pt x="626" y="1074"/>
                  </a:lnTo>
                  <a:lnTo>
                    <a:pt x="657" y="1054"/>
                  </a:lnTo>
                  <a:lnTo>
                    <a:pt x="687" y="1034"/>
                  </a:lnTo>
                  <a:lnTo>
                    <a:pt x="719" y="1015"/>
                  </a:lnTo>
                  <a:lnTo>
                    <a:pt x="751" y="997"/>
                  </a:lnTo>
                  <a:lnTo>
                    <a:pt x="785" y="978"/>
                  </a:lnTo>
                  <a:lnTo>
                    <a:pt x="802" y="966"/>
                  </a:lnTo>
                  <a:lnTo>
                    <a:pt x="846" y="932"/>
                  </a:lnTo>
                  <a:lnTo>
                    <a:pt x="914" y="884"/>
                  </a:lnTo>
                  <a:lnTo>
                    <a:pt x="1002" y="820"/>
                  </a:lnTo>
                  <a:lnTo>
                    <a:pt x="1108" y="747"/>
                  </a:lnTo>
                  <a:lnTo>
                    <a:pt x="1229" y="667"/>
                  </a:lnTo>
                  <a:lnTo>
                    <a:pt x="1294" y="623"/>
                  </a:lnTo>
                  <a:lnTo>
                    <a:pt x="1362" y="581"/>
                  </a:lnTo>
                  <a:lnTo>
                    <a:pt x="1433" y="536"/>
                  </a:lnTo>
                  <a:lnTo>
                    <a:pt x="1505" y="493"/>
                  </a:lnTo>
                  <a:lnTo>
                    <a:pt x="1580" y="449"/>
                  </a:lnTo>
                  <a:lnTo>
                    <a:pt x="1655" y="406"/>
                  </a:lnTo>
                  <a:lnTo>
                    <a:pt x="1731" y="364"/>
                  </a:lnTo>
                  <a:lnTo>
                    <a:pt x="1809" y="324"/>
                  </a:lnTo>
                  <a:lnTo>
                    <a:pt x="1886" y="284"/>
                  </a:lnTo>
                  <a:lnTo>
                    <a:pt x="1963" y="248"/>
                  </a:lnTo>
                  <a:lnTo>
                    <a:pt x="2040" y="214"/>
                  </a:lnTo>
                  <a:lnTo>
                    <a:pt x="2116" y="183"/>
                  </a:lnTo>
                  <a:lnTo>
                    <a:pt x="2192" y="154"/>
                  </a:lnTo>
                  <a:lnTo>
                    <a:pt x="2265" y="129"/>
                  </a:lnTo>
                  <a:lnTo>
                    <a:pt x="2336" y="109"/>
                  </a:lnTo>
                  <a:lnTo>
                    <a:pt x="2405" y="92"/>
                  </a:lnTo>
                  <a:lnTo>
                    <a:pt x="2472" y="81"/>
                  </a:lnTo>
                  <a:lnTo>
                    <a:pt x="2537" y="75"/>
                  </a:lnTo>
                  <a:lnTo>
                    <a:pt x="2596" y="74"/>
                  </a:lnTo>
                  <a:lnTo>
                    <a:pt x="2654" y="77"/>
                  </a:lnTo>
                  <a:lnTo>
                    <a:pt x="2670" y="118"/>
                  </a:lnTo>
                  <a:lnTo>
                    <a:pt x="2690" y="176"/>
                  </a:lnTo>
                  <a:lnTo>
                    <a:pt x="2702" y="211"/>
                  </a:lnTo>
                  <a:lnTo>
                    <a:pt x="2714" y="251"/>
                  </a:lnTo>
                  <a:lnTo>
                    <a:pt x="2727" y="293"/>
                  </a:lnTo>
                  <a:lnTo>
                    <a:pt x="2739" y="338"/>
                  </a:lnTo>
                  <a:lnTo>
                    <a:pt x="2750" y="385"/>
                  </a:lnTo>
                  <a:lnTo>
                    <a:pt x="2763" y="435"/>
                  </a:lnTo>
                  <a:lnTo>
                    <a:pt x="2773" y="485"/>
                  </a:lnTo>
                  <a:lnTo>
                    <a:pt x="2782" y="538"/>
                  </a:lnTo>
                  <a:lnTo>
                    <a:pt x="2790" y="591"/>
                  </a:lnTo>
                  <a:lnTo>
                    <a:pt x="2795" y="645"/>
                  </a:lnTo>
                  <a:lnTo>
                    <a:pt x="2799" y="699"/>
                  </a:lnTo>
                  <a:lnTo>
                    <a:pt x="2800" y="752"/>
                  </a:lnTo>
                  <a:lnTo>
                    <a:pt x="2800" y="781"/>
                  </a:lnTo>
                  <a:lnTo>
                    <a:pt x="2799" y="808"/>
                  </a:lnTo>
                  <a:lnTo>
                    <a:pt x="2796" y="837"/>
                  </a:lnTo>
                  <a:lnTo>
                    <a:pt x="2794" y="864"/>
                  </a:lnTo>
                  <a:lnTo>
                    <a:pt x="2790" y="890"/>
                  </a:lnTo>
                  <a:lnTo>
                    <a:pt x="2785" y="917"/>
                  </a:lnTo>
                  <a:lnTo>
                    <a:pt x="2780" y="943"/>
                  </a:lnTo>
                  <a:lnTo>
                    <a:pt x="2773" y="968"/>
                  </a:lnTo>
                  <a:lnTo>
                    <a:pt x="2765" y="993"/>
                  </a:lnTo>
                  <a:lnTo>
                    <a:pt x="2755" y="1018"/>
                  </a:lnTo>
                  <a:lnTo>
                    <a:pt x="2746" y="1040"/>
                  </a:lnTo>
                  <a:lnTo>
                    <a:pt x="2734" y="1064"/>
                  </a:lnTo>
                  <a:lnTo>
                    <a:pt x="2722" y="1085"/>
                  </a:lnTo>
                  <a:lnTo>
                    <a:pt x="2707" y="1106"/>
                  </a:lnTo>
                  <a:lnTo>
                    <a:pt x="2692" y="1126"/>
                  </a:lnTo>
                  <a:lnTo>
                    <a:pt x="2676" y="1145"/>
                  </a:lnTo>
                  <a:lnTo>
                    <a:pt x="2619" y="1203"/>
                  </a:lnTo>
                  <a:lnTo>
                    <a:pt x="2558" y="1263"/>
                  </a:lnTo>
                  <a:lnTo>
                    <a:pt x="2493" y="1327"/>
                  </a:lnTo>
                  <a:lnTo>
                    <a:pt x="2428" y="1391"/>
                  </a:lnTo>
                  <a:lnTo>
                    <a:pt x="2359" y="1456"/>
                  </a:lnTo>
                  <a:lnTo>
                    <a:pt x="2291" y="1519"/>
                  </a:lnTo>
                  <a:lnTo>
                    <a:pt x="2223" y="1582"/>
                  </a:lnTo>
                  <a:lnTo>
                    <a:pt x="2156" y="1642"/>
                  </a:lnTo>
                  <a:lnTo>
                    <a:pt x="2090" y="1699"/>
                  </a:lnTo>
                  <a:lnTo>
                    <a:pt x="2028" y="1752"/>
                  </a:lnTo>
                  <a:lnTo>
                    <a:pt x="1969" y="1799"/>
                  </a:lnTo>
                  <a:lnTo>
                    <a:pt x="1915" y="1842"/>
                  </a:lnTo>
                  <a:lnTo>
                    <a:pt x="1889" y="1860"/>
                  </a:lnTo>
                  <a:lnTo>
                    <a:pt x="1865" y="1876"/>
                  </a:lnTo>
                  <a:lnTo>
                    <a:pt x="1843" y="1891"/>
                  </a:lnTo>
                  <a:lnTo>
                    <a:pt x="1822" y="1904"/>
                  </a:lnTo>
                  <a:lnTo>
                    <a:pt x="1803" y="1913"/>
                  </a:lnTo>
                  <a:lnTo>
                    <a:pt x="1786" y="1922"/>
                  </a:lnTo>
                  <a:lnTo>
                    <a:pt x="1771" y="1928"/>
                  </a:lnTo>
                  <a:lnTo>
                    <a:pt x="1757" y="1931"/>
                  </a:lnTo>
                  <a:lnTo>
                    <a:pt x="1737" y="1911"/>
                  </a:lnTo>
                  <a:lnTo>
                    <a:pt x="1709" y="1884"/>
                  </a:lnTo>
                  <a:lnTo>
                    <a:pt x="1674" y="1853"/>
                  </a:lnTo>
                  <a:lnTo>
                    <a:pt x="1635" y="1822"/>
                  </a:lnTo>
                  <a:lnTo>
                    <a:pt x="1614" y="1807"/>
                  </a:lnTo>
                  <a:lnTo>
                    <a:pt x="1593" y="1792"/>
                  </a:lnTo>
                  <a:lnTo>
                    <a:pt x="1571" y="1778"/>
                  </a:lnTo>
                  <a:lnTo>
                    <a:pt x="1550" y="1767"/>
                  </a:lnTo>
                  <a:lnTo>
                    <a:pt x="1527" y="1757"/>
                  </a:lnTo>
                  <a:lnTo>
                    <a:pt x="1506" y="1750"/>
                  </a:lnTo>
                  <a:lnTo>
                    <a:pt x="1495" y="1746"/>
                  </a:lnTo>
                  <a:lnTo>
                    <a:pt x="1485" y="1743"/>
                  </a:lnTo>
                  <a:lnTo>
                    <a:pt x="1475" y="1742"/>
                  </a:lnTo>
                  <a:lnTo>
                    <a:pt x="1465" y="1742"/>
                  </a:lnTo>
                  <a:lnTo>
                    <a:pt x="1459" y="1742"/>
                  </a:lnTo>
                  <a:lnTo>
                    <a:pt x="1454" y="1743"/>
                  </a:lnTo>
                  <a:lnTo>
                    <a:pt x="1448" y="1746"/>
                  </a:lnTo>
                  <a:lnTo>
                    <a:pt x="1444" y="1748"/>
                  </a:lnTo>
                  <a:lnTo>
                    <a:pt x="1439" y="1752"/>
                  </a:lnTo>
                  <a:lnTo>
                    <a:pt x="1435" y="1756"/>
                  </a:lnTo>
                  <a:lnTo>
                    <a:pt x="1432" y="1761"/>
                  </a:lnTo>
                  <a:lnTo>
                    <a:pt x="1430" y="1766"/>
                  </a:lnTo>
                  <a:lnTo>
                    <a:pt x="1429" y="1772"/>
                  </a:lnTo>
                  <a:lnTo>
                    <a:pt x="1428" y="1777"/>
                  </a:lnTo>
                  <a:lnTo>
                    <a:pt x="1429" y="1786"/>
                  </a:lnTo>
                  <a:lnTo>
                    <a:pt x="1433" y="1794"/>
                  </a:lnTo>
                  <a:lnTo>
                    <a:pt x="1437" y="1801"/>
                  </a:lnTo>
                  <a:lnTo>
                    <a:pt x="1444" y="1807"/>
                  </a:lnTo>
                  <a:lnTo>
                    <a:pt x="1457" y="1815"/>
                  </a:lnTo>
                  <a:lnTo>
                    <a:pt x="1490" y="1838"/>
                  </a:lnTo>
                  <a:lnTo>
                    <a:pt x="1536" y="1870"/>
                  </a:lnTo>
                  <a:lnTo>
                    <a:pt x="1589" y="1906"/>
                  </a:lnTo>
                  <a:lnTo>
                    <a:pt x="1479" y="1882"/>
                  </a:lnTo>
                  <a:lnTo>
                    <a:pt x="1380" y="1863"/>
                  </a:lnTo>
                  <a:lnTo>
                    <a:pt x="1335" y="1854"/>
                  </a:lnTo>
                  <a:lnTo>
                    <a:pt x="1291" y="1848"/>
                  </a:lnTo>
                  <a:lnTo>
                    <a:pt x="1252" y="1843"/>
                  </a:lnTo>
                  <a:lnTo>
                    <a:pt x="1214" y="1839"/>
                  </a:lnTo>
                  <a:lnTo>
                    <a:pt x="1181" y="1837"/>
                  </a:lnTo>
                  <a:lnTo>
                    <a:pt x="1150" y="1837"/>
                  </a:lnTo>
                  <a:lnTo>
                    <a:pt x="1121" y="1838"/>
                  </a:lnTo>
                  <a:lnTo>
                    <a:pt x="1096" y="1840"/>
                  </a:lnTo>
                  <a:lnTo>
                    <a:pt x="1085" y="1843"/>
                  </a:lnTo>
                  <a:lnTo>
                    <a:pt x="1075" y="1846"/>
                  </a:lnTo>
                  <a:lnTo>
                    <a:pt x="1065" y="1849"/>
                  </a:lnTo>
                  <a:lnTo>
                    <a:pt x="1057" y="1853"/>
                  </a:lnTo>
                  <a:lnTo>
                    <a:pt x="1048" y="1858"/>
                  </a:lnTo>
                  <a:lnTo>
                    <a:pt x="1041" y="1861"/>
                  </a:lnTo>
                  <a:lnTo>
                    <a:pt x="1034" y="1868"/>
                  </a:lnTo>
                  <a:lnTo>
                    <a:pt x="1028" y="1873"/>
                  </a:lnTo>
                  <a:lnTo>
                    <a:pt x="1024" y="1877"/>
                  </a:lnTo>
                  <a:lnTo>
                    <a:pt x="1022" y="1884"/>
                  </a:lnTo>
                  <a:lnTo>
                    <a:pt x="1021" y="1890"/>
                  </a:lnTo>
                  <a:lnTo>
                    <a:pt x="1019" y="1896"/>
                  </a:lnTo>
                  <a:lnTo>
                    <a:pt x="1021" y="1904"/>
                  </a:lnTo>
                  <a:lnTo>
                    <a:pt x="1023" y="1911"/>
                  </a:lnTo>
                  <a:lnTo>
                    <a:pt x="1026" y="1915"/>
                  </a:lnTo>
                  <a:lnTo>
                    <a:pt x="1028" y="1920"/>
                  </a:lnTo>
                  <a:lnTo>
                    <a:pt x="1032" y="1923"/>
                  </a:lnTo>
                  <a:lnTo>
                    <a:pt x="1036" y="1926"/>
                  </a:lnTo>
                  <a:lnTo>
                    <a:pt x="1041" y="1928"/>
                  </a:lnTo>
                  <a:lnTo>
                    <a:pt x="1044" y="1930"/>
                  </a:lnTo>
                  <a:lnTo>
                    <a:pt x="1049" y="1931"/>
                  </a:lnTo>
                  <a:lnTo>
                    <a:pt x="1055" y="1932"/>
                  </a:lnTo>
                  <a:lnTo>
                    <a:pt x="1078" y="1932"/>
                  </a:lnTo>
                  <a:lnTo>
                    <a:pt x="1140" y="1935"/>
                  </a:lnTo>
                  <a:lnTo>
                    <a:pt x="1181" y="1938"/>
                  </a:lnTo>
                  <a:lnTo>
                    <a:pt x="1229" y="1941"/>
                  </a:lnTo>
                  <a:lnTo>
                    <a:pt x="1283" y="1946"/>
                  </a:lnTo>
                  <a:lnTo>
                    <a:pt x="1340" y="1952"/>
                  </a:lnTo>
                  <a:lnTo>
                    <a:pt x="1399" y="1959"/>
                  </a:lnTo>
                  <a:lnTo>
                    <a:pt x="1462" y="1968"/>
                  </a:lnTo>
                  <a:lnTo>
                    <a:pt x="1525" y="1979"/>
                  </a:lnTo>
                  <a:lnTo>
                    <a:pt x="1588" y="1993"/>
                  </a:lnTo>
                  <a:lnTo>
                    <a:pt x="1619" y="1999"/>
                  </a:lnTo>
                  <a:lnTo>
                    <a:pt x="1650" y="2008"/>
                  </a:lnTo>
                  <a:lnTo>
                    <a:pt x="1681" y="2015"/>
                  </a:lnTo>
                  <a:lnTo>
                    <a:pt x="1711" y="2024"/>
                  </a:lnTo>
                  <a:lnTo>
                    <a:pt x="1740" y="2034"/>
                  </a:lnTo>
                  <a:lnTo>
                    <a:pt x="1767" y="2044"/>
                  </a:lnTo>
                  <a:lnTo>
                    <a:pt x="1794" y="2055"/>
                  </a:lnTo>
                  <a:lnTo>
                    <a:pt x="1820" y="2066"/>
                  </a:lnTo>
                  <a:lnTo>
                    <a:pt x="1788" y="2069"/>
                  </a:lnTo>
                  <a:lnTo>
                    <a:pt x="1753" y="2072"/>
                  </a:lnTo>
                  <a:lnTo>
                    <a:pt x="1716" y="2076"/>
                  </a:lnTo>
                  <a:lnTo>
                    <a:pt x="1679" y="2081"/>
                  </a:lnTo>
                  <a:lnTo>
                    <a:pt x="1639" y="2088"/>
                  </a:lnTo>
                  <a:lnTo>
                    <a:pt x="1601" y="2096"/>
                  </a:lnTo>
                  <a:lnTo>
                    <a:pt x="1561" y="2105"/>
                  </a:lnTo>
                  <a:lnTo>
                    <a:pt x="1521" y="2114"/>
                  </a:lnTo>
                  <a:lnTo>
                    <a:pt x="1483" y="2127"/>
                  </a:lnTo>
                  <a:lnTo>
                    <a:pt x="1447" y="2141"/>
                  </a:lnTo>
                  <a:lnTo>
                    <a:pt x="1428" y="2148"/>
                  </a:lnTo>
                  <a:lnTo>
                    <a:pt x="1411" y="2157"/>
                  </a:lnTo>
                  <a:lnTo>
                    <a:pt x="1394" y="2164"/>
                  </a:lnTo>
                  <a:lnTo>
                    <a:pt x="1378" y="2174"/>
                  </a:lnTo>
                  <a:lnTo>
                    <a:pt x="1363" y="2183"/>
                  </a:lnTo>
                  <a:lnTo>
                    <a:pt x="1349" y="2193"/>
                  </a:lnTo>
                  <a:lnTo>
                    <a:pt x="1335" y="2204"/>
                  </a:lnTo>
                  <a:lnTo>
                    <a:pt x="1321" y="2215"/>
                  </a:lnTo>
                  <a:lnTo>
                    <a:pt x="1309" y="2226"/>
                  </a:lnTo>
                  <a:lnTo>
                    <a:pt x="1299" y="2239"/>
                  </a:lnTo>
                  <a:lnTo>
                    <a:pt x="1288" y="2251"/>
                  </a:lnTo>
                  <a:lnTo>
                    <a:pt x="1279" y="2265"/>
                  </a:lnTo>
                  <a:lnTo>
                    <a:pt x="1277" y="2270"/>
                  </a:lnTo>
                  <a:lnTo>
                    <a:pt x="1275" y="2273"/>
                  </a:lnTo>
                  <a:lnTo>
                    <a:pt x="1274" y="2278"/>
                  </a:lnTo>
                  <a:lnTo>
                    <a:pt x="1274" y="2283"/>
                  </a:lnTo>
                  <a:lnTo>
                    <a:pt x="1274" y="2291"/>
                  </a:lnTo>
                  <a:lnTo>
                    <a:pt x="1277" y="2297"/>
                  </a:lnTo>
                  <a:lnTo>
                    <a:pt x="1280" y="2303"/>
                  </a:lnTo>
                  <a:lnTo>
                    <a:pt x="1284" y="2308"/>
                  </a:lnTo>
                  <a:lnTo>
                    <a:pt x="1289" y="2312"/>
                  </a:lnTo>
                  <a:lnTo>
                    <a:pt x="1294" y="2315"/>
                  </a:lnTo>
                  <a:lnTo>
                    <a:pt x="1299" y="2318"/>
                  </a:lnTo>
                  <a:lnTo>
                    <a:pt x="1305" y="2319"/>
                  </a:lnTo>
                  <a:lnTo>
                    <a:pt x="1311" y="2319"/>
                  </a:lnTo>
                  <a:lnTo>
                    <a:pt x="1316" y="2318"/>
                  </a:lnTo>
                  <a:lnTo>
                    <a:pt x="1322" y="2317"/>
                  </a:lnTo>
                  <a:lnTo>
                    <a:pt x="1327" y="2314"/>
                  </a:lnTo>
                  <a:lnTo>
                    <a:pt x="1357" y="2297"/>
                  </a:lnTo>
                  <a:lnTo>
                    <a:pt x="1390" y="2279"/>
                  </a:lnTo>
                  <a:lnTo>
                    <a:pt x="1423" y="2262"/>
                  </a:lnTo>
                  <a:lnTo>
                    <a:pt x="1459" y="2245"/>
                  </a:lnTo>
                  <a:lnTo>
                    <a:pt x="1495" y="2229"/>
                  </a:lnTo>
                  <a:lnTo>
                    <a:pt x="1532" y="2212"/>
                  </a:lnTo>
                  <a:lnTo>
                    <a:pt x="1570" y="2198"/>
                  </a:lnTo>
                  <a:lnTo>
                    <a:pt x="1608" y="2184"/>
                  </a:lnTo>
                  <a:lnTo>
                    <a:pt x="1644" y="2173"/>
                  </a:lnTo>
                  <a:lnTo>
                    <a:pt x="1680" y="2164"/>
                  </a:lnTo>
                  <a:lnTo>
                    <a:pt x="1714" y="2157"/>
                  </a:lnTo>
                  <a:lnTo>
                    <a:pt x="1746" y="2152"/>
                  </a:lnTo>
                  <a:lnTo>
                    <a:pt x="1761" y="2150"/>
                  </a:lnTo>
                  <a:lnTo>
                    <a:pt x="1776" y="2150"/>
                  </a:lnTo>
                  <a:lnTo>
                    <a:pt x="1789" y="2150"/>
                  </a:lnTo>
                  <a:lnTo>
                    <a:pt x="1803" y="2152"/>
                  </a:lnTo>
                  <a:lnTo>
                    <a:pt x="1814" y="2154"/>
                  </a:lnTo>
                  <a:lnTo>
                    <a:pt x="1827" y="2158"/>
                  </a:lnTo>
                  <a:lnTo>
                    <a:pt x="1837" y="2162"/>
                  </a:lnTo>
                  <a:lnTo>
                    <a:pt x="1846" y="2167"/>
                  </a:lnTo>
                  <a:lnTo>
                    <a:pt x="1859" y="2184"/>
                  </a:lnTo>
                  <a:lnTo>
                    <a:pt x="1892" y="2231"/>
                  </a:lnTo>
                  <a:lnTo>
                    <a:pt x="1941" y="2298"/>
                  </a:lnTo>
                  <a:lnTo>
                    <a:pt x="1999" y="2379"/>
                  </a:lnTo>
                  <a:lnTo>
                    <a:pt x="2061" y="2464"/>
                  </a:lnTo>
                  <a:lnTo>
                    <a:pt x="2121" y="2546"/>
                  </a:lnTo>
                  <a:lnTo>
                    <a:pt x="2172" y="2617"/>
                  </a:lnTo>
                  <a:lnTo>
                    <a:pt x="2209" y="2667"/>
                  </a:lnTo>
                  <a:lnTo>
                    <a:pt x="2153" y="2662"/>
                  </a:lnTo>
                  <a:lnTo>
                    <a:pt x="2086" y="2657"/>
                  </a:lnTo>
                  <a:lnTo>
                    <a:pt x="2008" y="2652"/>
                  </a:lnTo>
                  <a:lnTo>
                    <a:pt x="1923" y="2648"/>
                  </a:lnTo>
                  <a:lnTo>
                    <a:pt x="1832" y="2645"/>
                  </a:lnTo>
                  <a:lnTo>
                    <a:pt x="1736" y="2645"/>
                  </a:lnTo>
                  <a:lnTo>
                    <a:pt x="1686" y="2647"/>
                  </a:lnTo>
                  <a:lnTo>
                    <a:pt x="1637" y="2648"/>
                  </a:lnTo>
                  <a:lnTo>
                    <a:pt x="1587" y="2650"/>
                  </a:lnTo>
                  <a:lnTo>
                    <a:pt x="1539" y="2654"/>
                  </a:lnTo>
                  <a:lnTo>
                    <a:pt x="1489" y="2658"/>
                  </a:lnTo>
                  <a:lnTo>
                    <a:pt x="1440" y="2663"/>
                  </a:lnTo>
                  <a:lnTo>
                    <a:pt x="1393" y="2669"/>
                  </a:lnTo>
                  <a:lnTo>
                    <a:pt x="1346" y="2676"/>
                  </a:lnTo>
                  <a:lnTo>
                    <a:pt x="1300" y="2685"/>
                  </a:lnTo>
                  <a:lnTo>
                    <a:pt x="1257" y="2695"/>
                  </a:lnTo>
                  <a:lnTo>
                    <a:pt x="1214" y="2706"/>
                  </a:lnTo>
                  <a:lnTo>
                    <a:pt x="1175" y="2720"/>
                  </a:lnTo>
                  <a:lnTo>
                    <a:pt x="1136" y="2734"/>
                  </a:lnTo>
                  <a:lnTo>
                    <a:pt x="1100" y="2750"/>
                  </a:lnTo>
                  <a:lnTo>
                    <a:pt x="1068" y="2767"/>
                  </a:lnTo>
                  <a:lnTo>
                    <a:pt x="1038" y="2787"/>
                  </a:lnTo>
                  <a:lnTo>
                    <a:pt x="1011" y="2808"/>
                  </a:lnTo>
                  <a:lnTo>
                    <a:pt x="987" y="2830"/>
                  </a:lnTo>
                  <a:lnTo>
                    <a:pt x="967" y="2855"/>
                  </a:lnTo>
                  <a:lnTo>
                    <a:pt x="951" y="2882"/>
                  </a:lnTo>
                  <a:lnTo>
                    <a:pt x="945" y="2894"/>
                  </a:lnTo>
                  <a:lnTo>
                    <a:pt x="941" y="2906"/>
                  </a:lnTo>
                  <a:lnTo>
                    <a:pt x="936" y="2918"/>
                  </a:lnTo>
                  <a:lnTo>
                    <a:pt x="934" y="2931"/>
                  </a:lnTo>
                  <a:lnTo>
                    <a:pt x="931" y="2943"/>
                  </a:lnTo>
                  <a:lnTo>
                    <a:pt x="929" y="2956"/>
                  </a:lnTo>
                  <a:lnTo>
                    <a:pt x="928" y="2969"/>
                  </a:lnTo>
                  <a:lnTo>
                    <a:pt x="928" y="2983"/>
                  </a:lnTo>
                  <a:lnTo>
                    <a:pt x="929" y="3002"/>
                  </a:lnTo>
                  <a:lnTo>
                    <a:pt x="931" y="3021"/>
                  </a:lnTo>
                  <a:lnTo>
                    <a:pt x="935" y="3041"/>
                  </a:lnTo>
                  <a:lnTo>
                    <a:pt x="940" y="3062"/>
                  </a:lnTo>
                  <a:lnTo>
                    <a:pt x="947" y="3083"/>
                  </a:lnTo>
                  <a:lnTo>
                    <a:pt x="956" y="3105"/>
                  </a:lnTo>
                  <a:lnTo>
                    <a:pt x="966" y="3127"/>
                  </a:lnTo>
                  <a:lnTo>
                    <a:pt x="977" y="3149"/>
                  </a:lnTo>
                  <a:lnTo>
                    <a:pt x="991" y="3173"/>
                  </a:lnTo>
                  <a:lnTo>
                    <a:pt x="1005" y="3195"/>
                  </a:lnTo>
                  <a:lnTo>
                    <a:pt x="1021" y="3220"/>
                  </a:lnTo>
                  <a:lnTo>
                    <a:pt x="1038" y="3243"/>
                  </a:lnTo>
                  <a:lnTo>
                    <a:pt x="1057" y="3268"/>
                  </a:lnTo>
                  <a:lnTo>
                    <a:pt x="1077" y="3293"/>
                  </a:lnTo>
                  <a:lnTo>
                    <a:pt x="1098" y="3318"/>
                  </a:lnTo>
                  <a:lnTo>
                    <a:pt x="1120" y="3344"/>
                  </a:lnTo>
                  <a:lnTo>
                    <a:pt x="1110" y="3351"/>
                  </a:lnTo>
                  <a:lnTo>
                    <a:pt x="1099" y="3359"/>
                  </a:lnTo>
                  <a:lnTo>
                    <a:pt x="1085" y="3365"/>
                  </a:lnTo>
                  <a:lnTo>
                    <a:pt x="1070" y="3371"/>
                  </a:lnTo>
                  <a:lnTo>
                    <a:pt x="1054" y="3376"/>
                  </a:lnTo>
                  <a:lnTo>
                    <a:pt x="1036" y="3380"/>
                  </a:lnTo>
                  <a:lnTo>
                    <a:pt x="1026" y="3381"/>
                  </a:lnTo>
                  <a:lnTo>
                    <a:pt x="1015" y="3381"/>
                  </a:lnTo>
                  <a:lnTo>
                    <a:pt x="1005" y="3381"/>
                  </a:lnTo>
                  <a:lnTo>
                    <a:pt x="992" y="3380"/>
                  </a:lnTo>
                  <a:lnTo>
                    <a:pt x="976" y="3377"/>
                  </a:lnTo>
                  <a:lnTo>
                    <a:pt x="959" y="3373"/>
                  </a:lnTo>
                  <a:lnTo>
                    <a:pt x="942" y="3366"/>
                  </a:lnTo>
                  <a:lnTo>
                    <a:pt x="925" y="3359"/>
                  </a:lnTo>
                  <a:lnTo>
                    <a:pt x="909" y="3349"/>
                  </a:lnTo>
                  <a:lnTo>
                    <a:pt x="892" y="3338"/>
                  </a:lnTo>
                  <a:lnTo>
                    <a:pt x="874" y="3325"/>
                  </a:lnTo>
                  <a:lnTo>
                    <a:pt x="858" y="3312"/>
                  </a:lnTo>
                  <a:lnTo>
                    <a:pt x="841" y="3296"/>
                  </a:lnTo>
                  <a:lnTo>
                    <a:pt x="825" y="3278"/>
                  </a:lnTo>
                  <a:lnTo>
                    <a:pt x="808" y="3260"/>
                  </a:lnTo>
                  <a:lnTo>
                    <a:pt x="791" y="3239"/>
                  </a:lnTo>
                  <a:lnTo>
                    <a:pt x="775" y="3216"/>
                  </a:lnTo>
                  <a:lnTo>
                    <a:pt x="759" y="3193"/>
                  </a:lnTo>
                  <a:lnTo>
                    <a:pt x="743" y="3168"/>
                  </a:lnTo>
                  <a:lnTo>
                    <a:pt x="726" y="3142"/>
                  </a:lnTo>
                  <a:lnTo>
                    <a:pt x="709" y="2904"/>
                  </a:lnTo>
                  <a:lnTo>
                    <a:pt x="708" y="2897"/>
                  </a:lnTo>
                  <a:lnTo>
                    <a:pt x="705" y="2891"/>
                  </a:lnTo>
                  <a:lnTo>
                    <a:pt x="702" y="2885"/>
                  </a:lnTo>
                  <a:lnTo>
                    <a:pt x="697" y="2880"/>
                  </a:lnTo>
                  <a:lnTo>
                    <a:pt x="692" y="2876"/>
                  </a:lnTo>
                  <a:lnTo>
                    <a:pt x="685" y="2874"/>
                  </a:lnTo>
                  <a:lnTo>
                    <a:pt x="679" y="2871"/>
                  </a:lnTo>
                  <a:lnTo>
                    <a:pt x="672" y="2871"/>
                  </a:lnTo>
                  <a:lnTo>
                    <a:pt x="664" y="2873"/>
                  </a:lnTo>
                  <a:lnTo>
                    <a:pt x="658" y="2875"/>
                  </a:lnTo>
                  <a:lnTo>
                    <a:pt x="652" y="2879"/>
                  </a:lnTo>
                  <a:lnTo>
                    <a:pt x="647" y="2882"/>
                  </a:lnTo>
                  <a:lnTo>
                    <a:pt x="643" y="2887"/>
                  </a:lnTo>
                  <a:lnTo>
                    <a:pt x="641" y="2894"/>
                  </a:lnTo>
                  <a:lnTo>
                    <a:pt x="638" y="2900"/>
                  </a:lnTo>
                  <a:lnTo>
                    <a:pt x="638" y="2907"/>
                  </a:lnTo>
                  <a:lnTo>
                    <a:pt x="637" y="2913"/>
                  </a:lnTo>
                  <a:lnTo>
                    <a:pt x="637" y="2931"/>
                  </a:lnTo>
                  <a:lnTo>
                    <a:pt x="637" y="2957"/>
                  </a:lnTo>
                  <a:lnTo>
                    <a:pt x="637" y="2988"/>
                  </a:lnTo>
                  <a:lnTo>
                    <a:pt x="637" y="3020"/>
                  </a:lnTo>
                  <a:lnTo>
                    <a:pt x="637" y="3052"/>
                  </a:lnTo>
                  <a:lnTo>
                    <a:pt x="637" y="3081"/>
                  </a:lnTo>
                  <a:lnTo>
                    <a:pt x="637" y="3103"/>
                  </a:lnTo>
                  <a:lnTo>
                    <a:pt x="606" y="3106"/>
                  </a:lnTo>
                  <a:lnTo>
                    <a:pt x="567" y="3107"/>
                  </a:lnTo>
                  <a:lnTo>
                    <a:pt x="546" y="3106"/>
                  </a:lnTo>
                  <a:lnTo>
                    <a:pt x="525" y="3105"/>
                  </a:lnTo>
                  <a:lnTo>
                    <a:pt x="503" y="3102"/>
                  </a:lnTo>
                  <a:lnTo>
                    <a:pt x="481" y="3098"/>
                  </a:lnTo>
                  <a:lnTo>
                    <a:pt x="458" y="3093"/>
                  </a:lnTo>
                  <a:lnTo>
                    <a:pt x="437" y="3087"/>
                  </a:lnTo>
                  <a:lnTo>
                    <a:pt x="417" y="3078"/>
                  </a:lnTo>
                  <a:lnTo>
                    <a:pt x="399" y="3069"/>
                  </a:lnTo>
                  <a:lnTo>
                    <a:pt x="389" y="3062"/>
                  </a:lnTo>
                  <a:lnTo>
                    <a:pt x="381" y="3056"/>
                  </a:lnTo>
                  <a:lnTo>
                    <a:pt x="373" y="3049"/>
                  </a:lnTo>
                  <a:lnTo>
                    <a:pt x="365" y="3041"/>
                  </a:lnTo>
                  <a:lnTo>
                    <a:pt x="359" y="3033"/>
                  </a:lnTo>
                  <a:lnTo>
                    <a:pt x="353" y="3024"/>
                  </a:lnTo>
                  <a:lnTo>
                    <a:pt x="348" y="3014"/>
                  </a:lnTo>
                  <a:lnTo>
                    <a:pt x="343" y="30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776160" y="4157640"/>
              <a:ext cx="400320" cy="453960"/>
            </a:xfrm>
            <a:custGeom>
              <a:avLst/>
              <a:gdLst/>
              <a:ahLst/>
              <a:rect l="l" t="t" r="r" b="b"/>
              <a:pathLst>
                <a:path w="1006" h="1144">
                  <a:moveTo>
                    <a:pt x="0" y="624"/>
                  </a:moveTo>
                  <a:lnTo>
                    <a:pt x="381" y="1144"/>
                  </a:lnTo>
                  <a:lnTo>
                    <a:pt x="1006" y="485"/>
                  </a:lnTo>
                  <a:lnTo>
                    <a:pt x="625" y="0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1994040" y="4240080"/>
              <a:ext cx="276120" cy="274680"/>
            </a:xfrm>
            <a:custGeom>
              <a:avLst/>
              <a:gdLst/>
              <a:ahLst/>
              <a:rect l="l" t="t" r="r" b="b"/>
              <a:pathLst>
                <a:path w="695" h="693">
                  <a:moveTo>
                    <a:pt x="244" y="0"/>
                  </a:moveTo>
                  <a:lnTo>
                    <a:pt x="0" y="364"/>
                  </a:lnTo>
                  <a:lnTo>
                    <a:pt x="209" y="693"/>
                  </a:lnTo>
                  <a:lnTo>
                    <a:pt x="695" y="225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449280" y="3763800"/>
              <a:ext cx="763560" cy="603360"/>
            </a:xfrm>
            <a:custGeom>
              <a:avLst/>
              <a:gdLst/>
              <a:ahLst/>
              <a:rect l="l" t="t" r="r" b="b"/>
              <a:pathLst>
                <a:path w="1922" h="1520">
                  <a:moveTo>
                    <a:pt x="1804" y="0"/>
                  </a:moveTo>
                  <a:lnTo>
                    <a:pt x="1794" y="1"/>
                  </a:lnTo>
                  <a:lnTo>
                    <a:pt x="1767" y="8"/>
                  </a:lnTo>
                  <a:lnTo>
                    <a:pt x="1723" y="16"/>
                  </a:lnTo>
                  <a:lnTo>
                    <a:pt x="1666" y="30"/>
                  </a:lnTo>
                  <a:lnTo>
                    <a:pt x="1598" y="49"/>
                  </a:lnTo>
                  <a:lnTo>
                    <a:pt x="1521" y="73"/>
                  </a:lnTo>
                  <a:lnTo>
                    <a:pt x="1479" y="87"/>
                  </a:lnTo>
                  <a:lnTo>
                    <a:pt x="1436" y="102"/>
                  </a:lnTo>
                  <a:lnTo>
                    <a:pt x="1393" y="119"/>
                  </a:lnTo>
                  <a:lnTo>
                    <a:pt x="1348" y="138"/>
                  </a:lnTo>
                  <a:lnTo>
                    <a:pt x="1302" y="158"/>
                  </a:lnTo>
                  <a:lnTo>
                    <a:pt x="1256" y="180"/>
                  </a:lnTo>
                  <a:lnTo>
                    <a:pt x="1212" y="202"/>
                  </a:lnTo>
                  <a:lnTo>
                    <a:pt x="1166" y="229"/>
                  </a:lnTo>
                  <a:lnTo>
                    <a:pt x="1121" y="255"/>
                  </a:lnTo>
                  <a:lnTo>
                    <a:pt x="1078" y="284"/>
                  </a:lnTo>
                  <a:lnTo>
                    <a:pt x="1034" y="314"/>
                  </a:lnTo>
                  <a:lnTo>
                    <a:pt x="993" y="348"/>
                  </a:lnTo>
                  <a:lnTo>
                    <a:pt x="953" y="381"/>
                  </a:lnTo>
                  <a:lnTo>
                    <a:pt x="916" y="418"/>
                  </a:lnTo>
                  <a:lnTo>
                    <a:pt x="880" y="457"/>
                  </a:lnTo>
                  <a:lnTo>
                    <a:pt x="848" y="498"/>
                  </a:lnTo>
                  <a:lnTo>
                    <a:pt x="818" y="541"/>
                  </a:lnTo>
                  <a:lnTo>
                    <a:pt x="791" y="586"/>
                  </a:lnTo>
                  <a:lnTo>
                    <a:pt x="767" y="633"/>
                  </a:lnTo>
                  <a:lnTo>
                    <a:pt x="747" y="684"/>
                  </a:lnTo>
                  <a:lnTo>
                    <a:pt x="734" y="714"/>
                  </a:lnTo>
                  <a:lnTo>
                    <a:pt x="694" y="793"/>
                  </a:lnTo>
                  <a:lnTo>
                    <a:pt x="664" y="848"/>
                  </a:lnTo>
                  <a:lnTo>
                    <a:pt x="629" y="907"/>
                  </a:lnTo>
                  <a:lnTo>
                    <a:pt x="609" y="938"/>
                  </a:lnTo>
                  <a:lnTo>
                    <a:pt x="588" y="970"/>
                  </a:lnTo>
                  <a:lnTo>
                    <a:pt x="565" y="1004"/>
                  </a:lnTo>
                  <a:lnTo>
                    <a:pt x="541" y="1037"/>
                  </a:lnTo>
                  <a:lnTo>
                    <a:pt x="516" y="1070"/>
                  </a:lnTo>
                  <a:lnTo>
                    <a:pt x="490" y="1103"/>
                  </a:lnTo>
                  <a:lnTo>
                    <a:pt x="462" y="1135"/>
                  </a:lnTo>
                  <a:lnTo>
                    <a:pt x="433" y="1168"/>
                  </a:lnTo>
                  <a:lnTo>
                    <a:pt x="403" y="1199"/>
                  </a:lnTo>
                  <a:lnTo>
                    <a:pt x="371" y="1227"/>
                  </a:lnTo>
                  <a:lnTo>
                    <a:pt x="339" y="1256"/>
                  </a:lnTo>
                  <a:lnTo>
                    <a:pt x="305" y="1282"/>
                  </a:lnTo>
                  <a:lnTo>
                    <a:pt x="270" y="1307"/>
                  </a:lnTo>
                  <a:lnTo>
                    <a:pt x="234" y="1328"/>
                  </a:lnTo>
                  <a:lnTo>
                    <a:pt x="198" y="1348"/>
                  </a:lnTo>
                  <a:lnTo>
                    <a:pt x="160" y="1365"/>
                  </a:lnTo>
                  <a:lnTo>
                    <a:pt x="121" y="1379"/>
                  </a:lnTo>
                  <a:lnTo>
                    <a:pt x="82" y="1389"/>
                  </a:lnTo>
                  <a:lnTo>
                    <a:pt x="41" y="1395"/>
                  </a:lnTo>
                  <a:lnTo>
                    <a:pt x="0" y="1399"/>
                  </a:lnTo>
                  <a:lnTo>
                    <a:pt x="13" y="1402"/>
                  </a:lnTo>
                  <a:lnTo>
                    <a:pt x="52" y="1415"/>
                  </a:lnTo>
                  <a:lnTo>
                    <a:pt x="111" y="1433"/>
                  </a:lnTo>
                  <a:lnTo>
                    <a:pt x="192" y="1453"/>
                  </a:lnTo>
                  <a:lnTo>
                    <a:pt x="238" y="1464"/>
                  </a:lnTo>
                  <a:lnTo>
                    <a:pt x="288" y="1474"/>
                  </a:lnTo>
                  <a:lnTo>
                    <a:pt x="341" y="1484"/>
                  </a:lnTo>
                  <a:lnTo>
                    <a:pt x="398" y="1494"/>
                  </a:lnTo>
                  <a:lnTo>
                    <a:pt x="458" y="1503"/>
                  </a:lnTo>
                  <a:lnTo>
                    <a:pt x="519" y="1509"/>
                  </a:lnTo>
                  <a:lnTo>
                    <a:pt x="583" y="1515"/>
                  </a:lnTo>
                  <a:lnTo>
                    <a:pt x="648" y="1519"/>
                  </a:lnTo>
                  <a:lnTo>
                    <a:pt x="715" y="1520"/>
                  </a:lnTo>
                  <a:lnTo>
                    <a:pt x="782" y="1519"/>
                  </a:lnTo>
                  <a:lnTo>
                    <a:pt x="850" y="1515"/>
                  </a:lnTo>
                  <a:lnTo>
                    <a:pt x="920" y="1508"/>
                  </a:lnTo>
                  <a:lnTo>
                    <a:pt x="988" y="1498"/>
                  </a:lnTo>
                  <a:lnTo>
                    <a:pt x="1055" y="1483"/>
                  </a:lnTo>
                  <a:lnTo>
                    <a:pt x="1122" y="1466"/>
                  </a:lnTo>
                  <a:lnTo>
                    <a:pt x="1189" y="1443"/>
                  </a:lnTo>
                  <a:lnTo>
                    <a:pt x="1253" y="1417"/>
                  </a:lnTo>
                  <a:lnTo>
                    <a:pt x="1316" y="1385"/>
                  </a:lnTo>
                  <a:lnTo>
                    <a:pt x="1377" y="1349"/>
                  </a:lnTo>
                  <a:lnTo>
                    <a:pt x="1434" y="1307"/>
                  </a:lnTo>
                  <a:lnTo>
                    <a:pt x="1490" y="1258"/>
                  </a:lnTo>
                  <a:lnTo>
                    <a:pt x="1541" y="1205"/>
                  </a:lnTo>
                  <a:lnTo>
                    <a:pt x="1589" y="1145"/>
                  </a:lnTo>
                  <a:lnTo>
                    <a:pt x="1634" y="1078"/>
                  </a:lnTo>
                  <a:lnTo>
                    <a:pt x="1639" y="1073"/>
                  </a:lnTo>
                  <a:lnTo>
                    <a:pt x="1655" y="1059"/>
                  </a:lnTo>
                  <a:lnTo>
                    <a:pt x="1679" y="1035"/>
                  </a:lnTo>
                  <a:lnTo>
                    <a:pt x="1708" y="1003"/>
                  </a:lnTo>
                  <a:lnTo>
                    <a:pt x="1725" y="983"/>
                  </a:lnTo>
                  <a:lnTo>
                    <a:pt x="1742" y="962"/>
                  </a:lnTo>
                  <a:lnTo>
                    <a:pt x="1759" y="938"/>
                  </a:lnTo>
                  <a:lnTo>
                    <a:pt x="1778" y="912"/>
                  </a:lnTo>
                  <a:lnTo>
                    <a:pt x="1795" y="884"/>
                  </a:lnTo>
                  <a:lnTo>
                    <a:pt x="1813" y="854"/>
                  </a:lnTo>
                  <a:lnTo>
                    <a:pt x="1830" y="822"/>
                  </a:lnTo>
                  <a:lnTo>
                    <a:pt x="1847" y="787"/>
                  </a:lnTo>
                  <a:lnTo>
                    <a:pt x="1862" y="751"/>
                  </a:lnTo>
                  <a:lnTo>
                    <a:pt x="1877" y="714"/>
                  </a:lnTo>
                  <a:lnTo>
                    <a:pt x="1890" y="674"/>
                  </a:lnTo>
                  <a:lnTo>
                    <a:pt x="1901" y="632"/>
                  </a:lnTo>
                  <a:lnTo>
                    <a:pt x="1910" y="588"/>
                  </a:lnTo>
                  <a:lnTo>
                    <a:pt x="1916" y="544"/>
                  </a:lnTo>
                  <a:lnTo>
                    <a:pt x="1921" y="497"/>
                  </a:lnTo>
                  <a:lnTo>
                    <a:pt x="1922" y="448"/>
                  </a:lnTo>
                  <a:lnTo>
                    <a:pt x="1921" y="397"/>
                  </a:lnTo>
                  <a:lnTo>
                    <a:pt x="1916" y="345"/>
                  </a:lnTo>
                  <a:lnTo>
                    <a:pt x="1907" y="292"/>
                  </a:lnTo>
                  <a:lnTo>
                    <a:pt x="1895" y="237"/>
                  </a:lnTo>
                  <a:lnTo>
                    <a:pt x="1878" y="180"/>
                  </a:lnTo>
                  <a:lnTo>
                    <a:pt x="1859" y="122"/>
                  </a:lnTo>
                  <a:lnTo>
                    <a:pt x="1834" y="62"/>
                  </a:lnTo>
                  <a:lnTo>
                    <a:pt x="1804" y="0"/>
                  </a:lnTo>
                  <a:close/>
                </a:path>
              </a:pathLst>
            </a:custGeom>
            <a:solidFill>
              <a:srgbClr val="00a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434880" y="3749760"/>
              <a:ext cx="792360" cy="630000"/>
            </a:xfrm>
            <a:custGeom>
              <a:avLst/>
              <a:gdLst/>
              <a:ahLst/>
              <a:rect l="l" t="t" r="r" b="b"/>
              <a:pathLst>
                <a:path w="1993" h="1588">
                  <a:moveTo>
                    <a:pt x="1835" y="2"/>
                  </a:moveTo>
                  <a:lnTo>
                    <a:pt x="1819" y="4"/>
                  </a:lnTo>
                  <a:lnTo>
                    <a:pt x="1785" y="10"/>
                  </a:lnTo>
                  <a:lnTo>
                    <a:pt x="1738" y="21"/>
                  </a:lnTo>
                  <a:lnTo>
                    <a:pt x="1677" y="35"/>
                  </a:lnTo>
                  <a:lnTo>
                    <a:pt x="1644" y="45"/>
                  </a:lnTo>
                  <a:lnTo>
                    <a:pt x="1607" y="55"/>
                  </a:lnTo>
                  <a:lnTo>
                    <a:pt x="1568" y="67"/>
                  </a:lnTo>
                  <a:lnTo>
                    <a:pt x="1527" y="80"/>
                  </a:lnTo>
                  <a:lnTo>
                    <a:pt x="1485" y="95"/>
                  </a:lnTo>
                  <a:lnTo>
                    <a:pt x="1441" y="111"/>
                  </a:lnTo>
                  <a:lnTo>
                    <a:pt x="1398" y="128"/>
                  </a:lnTo>
                  <a:lnTo>
                    <a:pt x="1352" y="147"/>
                  </a:lnTo>
                  <a:lnTo>
                    <a:pt x="1307" y="168"/>
                  </a:lnTo>
                  <a:lnTo>
                    <a:pt x="1261" y="190"/>
                  </a:lnTo>
                  <a:lnTo>
                    <a:pt x="1215" y="215"/>
                  </a:lnTo>
                  <a:lnTo>
                    <a:pt x="1169" y="241"/>
                  </a:lnTo>
                  <a:lnTo>
                    <a:pt x="1125" y="268"/>
                  </a:lnTo>
                  <a:lnTo>
                    <a:pt x="1081" y="298"/>
                  </a:lnTo>
                  <a:lnTo>
                    <a:pt x="1038" y="329"/>
                  </a:lnTo>
                  <a:lnTo>
                    <a:pt x="997" y="363"/>
                  </a:lnTo>
                  <a:lnTo>
                    <a:pt x="957" y="399"/>
                  </a:lnTo>
                  <a:lnTo>
                    <a:pt x="920" y="436"/>
                  </a:lnTo>
                  <a:lnTo>
                    <a:pt x="884" y="475"/>
                  </a:lnTo>
                  <a:lnTo>
                    <a:pt x="852" y="518"/>
                  </a:lnTo>
                  <a:lnTo>
                    <a:pt x="821" y="561"/>
                  </a:lnTo>
                  <a:lnTo>
                    <a:pt x="793" y="608"/>
                  </a:lnTo>
                  <a:lnTo>
                    <a:pt x="770" y="657"/>
                  </a:lnTo>
                  <a:lnTo>
                    <a:pt x="750" y="707"/>
                  </a:lnTo>
                  <a:lnTo>
                    <a:pt x="735" y="738"/>
                  </a:lnTo>
                  <a:lnTo>
                    <a:pt x="696" y="817"/>
                  </a:lnTo>
                  <a:lnTo>
                    <a:pt x="668" y="868"/>
                  </a:lnTo>
                  <a:lnTo>
                    <a:pt x="633" y="926"/>
                  </a:lnTo>
                  <a:lnTo>
                    <a:pt x="614" y="957"/>
                  </a:lnTo>
                  <a:lnTo>
                    <a:pt x="593" y="988"/>
                  </a:lnTo>
                  <a:lnTo>
                    <a:pt x="572" y="1019"/>
                  </a:lnTo>
                  <a:lnTo>
                    <a:pt x="549" y="1051"/>
                  </a:lnTo>
                  <a:lnTo>
                    <a:pt x="525" y="1083"/>
                  </a:lnTo>
                  <a:lnTo>
                    <a:pt x="499" y="1114"/>
                  </a:lnTo>
                  <a:lnTo>
                    <a:pt x="473" y="1147"/>
                  </a:lnTo>
                  <a:lnTo>
                    <a:pt x="444" y="1176"/>
                  </a:lnTo>
                  <a:lnTo>
                    <a:pt x="416" y="1206"/>
                  </a:lnTo>
                  <a:lnTo>
                    <a:pt x="386" y="1235"/>
                  </a:lnTo>
                  <a:lnTo>
                    <a:pt x="355" y="1262"/>
                  </a:lnTo>
                  <a:lnTo>
                    <a:pt x="324" y="1287"/>
                  </a:lnTo>
                  <a:lnTo>
                    <a:pt x="290" y="1310"/>
                  </a:lnTo>
                  <a:lnTo>
                    <a:pt x="257" y="1332"/>
                  </a:lnTo>
                  <a:lnTo>
                    <a:pt x="222" y="1350"/>
                  </a:lnTo>
                  <a:lnTo>
                    <a:pt x="186" y="1366"/>
                  </a:lnTo>
                  <a:lnTo>
                    <a:pt x="149" y="1380"/>
                  </a:lnTo>
                  <a:lnTo>
                    <a:pt x="111" y="1390"/>
                  </a:lnTo>
                  <a:lnTo>
                    <a:pt x="74" y="1396"/>
                  </a:lnTo>
                  <a:lnTo>
                    <a:pt x="34" y="1399"/>
                  </a:lnTo>
                  <a:lnTo>
                    <a:pt x="28" y="1400"/>
                  </a:lnTo>
                  <a:lnTo>
                    <a:pt x="22" y="1401"/>
                  </a:lnTo>
                  <a:lnTo>
                    <a:pt x="17" y="1403"/>
                  </a:lnTo>
                  <a:lnTo>
                    <a:pt x="12" y="1407"/>
                  </a:lnTo>
                  <a:lnTo>
                    <a:pt x="8" y="1412"/>
                  </a:lnTo>
                  <a:lnTo>
                    <a:pt x="5" y="1417"/>
                  </a:lnTo>
                  <a:lnTo>
                    <a:pt x="2" y="1422"/>
                  </a:lnTo>
                  <a:lnTo>
                    <a:pt x="1" y="1428"/>
                  </a:lnTo>
                  <a:lnTo>
                    <a:pt x="0" y="1435"/>
                  </a:lnTo>
                  <a:lnTo>
                    <a:pt x="1" y="1441"/>
                  </a:lnTo>
                  <a:lnTo>
                    <a:pt x="2" y="1447"/>
                  </a:lnTo>
                  <a:lnTo>
                    <a:pt x="5" y="1452"/>
                  </a:lnTo>
                  <a:lnTo>
                    <a:pt x="8" y="1457"/>
                  </a:lnTo>
                  <a:lnTo>
                    <a:pt x="12" y="1462"/>
                  </a:lnTo>
                  <a:lnTo>
                    <a:pt x="17" y="1466"/>
                  </a:lnTo>
                  <a:lnTo>
                    <a:pt x="23" y="1468"/>
                  </a:lnTo>
                  <a:lnTo>
                    <a:pt x="39" y="1473"/>
                  </a:lnTo>
                  <a:lnTo>
                    <a:pt x="80" y="1485"/>
                  </a:lnTo>
                  <a:lnTo>
                    <a:pt x="144" y="1504"/>
                  </a:lnTo>
                  <a:lnTo>
                    <a:pt x="226" y="1525"/>
                  </a:lnTo>
                  <a:lnTo>
                    <a:pt x="274" y="1535"/>
                  </a:lnTo>
                  <a:lnTo>
                    <a:pt x="325" y="1546"/>
                  </a:lnTo>
                  <a:lnTo>
                    <a:pt x="380" y="1556"/>
                  </a:lnTo>
                  <a:lnTo>
                    <a:pt x="438" y="1565"/>
                  </a:lnTo>
                  <a:lnTo>
                    <a:pt x="499" y="1573"/>
                  </a:lnTo>
                  <a:lnTo>
                    <a:pt x="562" y="1580"/>
                  </a:lnTo>
                  <a:lnTo>
                    <a:pt x="628" y="1585"/>
                  </a:lnTo>
                  <a:lnTo>
                    <a:pt x="694" y="1588"/>
                  </a:lnTo>
                  <a:lnTo>
                    <a:pt x="762" y="1588"/>
                  </a:lnTo>
                  <a:lnTo>
                    <a:pt x="832" y="1587"/>
                  </a:lnTo>
                  <a:lnTo>
                    <a:pt x="901" y="1583"/>
                  </a:lnTo>
                  <a:lnTo>
                    <a:pt x="971" y="1575"/>
                  </a:lnTo>
                  <a:lnTo>
                    <a:pt x="1042" y="1565"/>
                  </a:lnTo>
                  <a:lnTo>
                    <a:pt x="1110" y="1550"/>
                  </a:lnTo>
                  <a:lnTo>
                    <a:pt x="1179" y="1530"/>
                  </a:lnTo>
                  <a:lnTo>
                    <a:pt x="1246" y="1508"/>
                  </a:lnTo>
                  <a:lnTo>
                    <a:pt x="1312" y="1480"/>
                  </a:lnTo>
                  <a:lnTo>
                    <a:pt x="1376" y="1447"/>
                  </a:lnTo>
                  <a:lnTo>
                    <a:pt x="1438" y="1410"/>
                  </a:lnTo>
                  <a:lnTo>
                    <a:pt x="1497" y="1366"/>
                  </a:lnTo>
                  <a:lnTo>
                    <a:pt x="1553" y="1317"/>
                  </a:lnTo>
                  <a:lnTo>
                    <a:pt x="1605" y="1262"/>
                  </a:lnTo>
                  <a:lnTo>
                    <a:pt x="1655" y="1201"/>
                  </a:lnTo>
                  <a:lnTo>
                    <a:pt x="1700" y="1133"/>
                  </a:lnTo>
                  <a:lnTo>
                    <a:pt x="1705" y="1128"/>
                  </a:lnTo>
                  <a:lnTo>
                    <a:pt x="1721" y="1114"/>
                  </a:lnTo>
                  <a:lnTo>
                    <a:pt x="1744" y="1090"/>
                  </a:lnTo>
                  <a:lnTo>
                    <a:pt x="1775" y="1056"/>
                  </a:lnTo>
                  <a:lnTo>
                    <a:pt x="1792" y="1036"/>
                  </a:lnTo>
                  <a:lnTo>
                    <a:pt x="1809" y="1014"/>
                  </a:lnTo>
                  <a:lnTo>
                    <a:pt x="1828" y="989"/>
                  </a:lnTo>
                  <a:lnTo>
                    <a:pt x="1846" y="962"/>
                  </a:lnTo>
                  <a:lnTo>
                    <a:pt x="1864" y="933"/>
                  </a:lnTo>
                  <a:lnTo>
                    <a:pt x="1882" y="901"/>
                  </a:lnTo>
                  <a:lnTo>
                    <a:pt x="1900" y="869"/>
                  </a:lnTo>
                  <a:lnTo>
                    <a:pt x="1917" y="833"/>
                  </a:lnTo>
                  <a:lnTo>
                    <a:pt x="1932" y="796"/>
                  </a:lnTo>
                  <a:lnTo>
                    <a:pt x="1947" y="756"/>
                  </a:lnTo>
                  <a:lnTo>
                    <a:pt x="1960" y="715"/>
                  </a:lnTo>
                  <a:lnTo>
                    <a:pt x="1972" y="671"/>
                  </a:lnTo>
                  <a:lnTo>
                    <a:pt x="1980" y="627"/>
                  </a:lnTo>
                  <a:lnTo>
                    <a:pt x="1987" y="580"/>
                  </a:lnTo>
                  <a:lnTo>
                    <a:pt x="1991" y="531"/>
                  </a:lnTo>
                  <a:lnTo>
                    <a:pt x="1993" y="482"/>
                  </a:lnTo>
                  <a:lnTo>
                    <a:pt x="1991" y="430"/>
                  </a:lnTo>
                  <a:lnTo>
                    <a:pt x="1987" y="375"/>
                  </a:lnTo>
                  <a:lnTo>
                    <a:pt x="1978" y="320"/>
                  </a:lnTo>
                  <a:lnTo>
                    <a:pt x="1965" y="263"/>
                  </a:lnTo>
                  <a:lnTo>
                    <a:pt x="1949" y="205"/>
                  </a:lnTo>
                  <a:lnTo>
                    <a:pt x="1928" y="144"/>
                  </a:lnTo>
                  <a:lnTo>
                    <a:pt x="1902" y="83"/>
                  </a:lnTo>
                  <a:lnTo>
                    <a:pt x="1872" y="20"/>
                  </a:lnTo>
                  <a:lnTo>
                    <a:pt x="1869" y="15"/>
                  </a:lnTo>
                  <a:lnTo>
                    <a:pt x="1865" y="11"/>
                  </a:lnTo>
                  <a:lnTo>
                    <a:pt x="1861" y="8"/>
                  </a:lnTo>
                  <a:lnTo>
                    <a:pt x="1856" y="4"/>
                  </a:lnTo>
                  <a:lnTo>
                    <a:pt x="1851" y="3"/>
                  </a:lnTo>
                  <a:lnTo>
                    <a:pt x="1846" y="2"/>
                  </a:lnTo>
                  <a:lnTo>
                    <a:pt x="1840" y="0"/>
                  </a:lnTo>
                  <a:lnTo>
                    <a:pt x="1835" y="2"/>
                  </a:lnTo>
                  <a:close/>
                  <a:moveTo>
                    <a:pt x="816" y="734"/>
                  </a:moveTo>
                  <a:lnTo>
                    <a:pt x="833" y="690"/>
                  </a:lnTo>
                  <a:lnTo>
                    <a:pt x="853" y="648"/>
                  </a:lnTo>
                  <a:lnTo>
                    <a:pt x="876" y="608"/>
                  </a:lnTo>
                  <a:lnTo>
                    <a:pt x="901" y="570"/>
                  </a:lnTo>
                  <a:lnTo>
                    <a:pt x="929" y="534"/>
                  </a:lnTo>
                  <a:lnTo>
                    <a:pt x="960" y="499"/>
                  </a:lnTo>
                  <a:lnTo>
                    <a:pt x="991" y="466"/>
                  </a:lnTo>
                  <a:lnTo>
                    <a:pt x="1024" y="435"/>
                  </a:lnTo>
                  <a:lnTo>
                    <a:pt x="1059" y="405"/>
                  </a:lnTo>
                  <a:lnTo>
                    <a:pt x="1096" y="376"/>
                  </a:lnTo>
                  <a:lnTo>
                    <a:pt x="1133" y="350"/>
                  </a:lnTo>
                  <a:lnTo>
                    <a:pt x="1172" y="324"/>
                  </a:lnTo>
                  <a:lnTo>
                    <a:pt x="1210" y="301"/>
                  </a:lnTo>
                  <a:lnTo>
                    <a:pt x="1250" y="278"/>
                  </a:lnTo>
                  <a:lnTo>
                    <a:pt x="1290" y="257"/>
                  </a:lnTo>
                  <a:lnTo>
                    <a:pt x="1330" y="237"/>
                  </a:lnTo>
                  <a:lnTo>
                    <a:pt x="1369" y="219"/>
                  </a:lnTo>
                  <a:lnTo>
                    <a:pt x="1409" y="201"/>
                  </a:lnTo>
                  <a:lnTo>
                    <a:pt x="1449" y="186"/>
                  </a:lnTo>
                  <a:lnTo>
                    <a:pt x="1487" y="171"/>
                  </a:lnTo>
                  <a:lnTo>
                    <a:pt x="1525" y="158"/>
                  </a:lnTo>
                  <a:lnTo>
                    <a:pt x="1561" y="145"/>
                  </a:lnTo>
                  <a:lnTo>
                    <a:pt x="1595" y="134"/>
                  </a:lnTo>
                  <a:lnTo>
                    <a:pt x="1629" y="124"/>
                  </a:lnTo>
                  <a:lnTo>
                    <a:pt x="1691" y="107"/>
                  </a:lnTo>
                  <a:lnTo>
                    <a:pt x="1744" y="93"/>
                  </a:lnTo>
                  <a:lnTo>
                    <a:pt x="1787" y="83"/>
                  </a:lnTo>
                  <a:lnTo>
                    <a:pt x="1818" y="77"/>
                  </a:lnTo>
                  <a:lnTo>
                    <a:pt x="1831" y="104"/>
                  </a:lnTo>
                  <a:lnTo>
                    <a:pt x="1844" y="133"/>
                  </a:lnTo>
                  <a:lnTo>
                    <a:pt x="1855" y="160"/>
                  </a:lnTo>
                  <a:lnTo>
                    <a:pt x="1865" y="188"/>
                  </a:lnTo>
                  <a:lnTo>
                    <a:pt x="1875" y="215"/>
                  </a:lnTo>
                  <a:lnTo>
                    <a:pt x="1883" y="241"/>
                  </a:lnTo>
                  <a:lnTo>
                    <a:pt x="1891" y="267"/>
                  </a:lnTo>
                  <a:lnTo>
                    <a:pt x="1898" y="293"/>
                  </a:lnTo>
                  <a:lnTo>
                    <a:pt x="1903" y="318"/>
                  </a:lnTo>
                  <a:lnTo>
                    <a:pt x="1910" y="344"/>
                  </a:lnTo>
                  <a:lnTo>
                    <a:pt x="1913" y="369"/>
                  </a:lnTo>
                  <a:lnTo>
                    <a:pt x="1917" y="392"/>
                  </a:lnTo>
                  <a:lnTo>
                    <a:pt x="1919" y="417"/>
                  </a:lnTo>
                  <a:lnTo>
                    <a:pt x="1922" y="441"/>
                  </a:lnTo>
                  <a:lnTo>
                    <a:pt x="1922" y="463"/>
                  </a:lnTo>
                  <a:lnTo>
                    <a:pt x="1923" y="487"/>
                  </a:lnTo>
                  <a:lnTo>
                    <a:pt x="1922" y="520"/>
                  </a:lnTo>
                  <a:lnTo>
                    <a:pt x="1919" y="554"/>
                  </a:lnTo>
                  <a:lnTo>
                    <a:pt x="1917" y="586"/>
                  </a:lnTo>
                  <a:lnTo>
                    <a:pt x="1912" y="618"/>
                  </a:lnTo>
                  <a:lnTo>
                    <a:pt x="1906" y="648"/>
                  </a:lnTo>
                  <a:lnTo>
                    <a:pt x="1898" y="678"/>
                  </a:lnTo>
                  <a:lnTo>
                    <a:pt x="1891" y="706"/>
                  </a:lnTo>
                  <a:lnTo>
                    <a:pt x="1882" y="734"/>
                  </a:lnTo>
                  <a:lnTo>
                    <a:pt x="1872" y="761"/>
                  </a:lnTo>
                  <a:lnTo>
                    <a:pt x="1862" y="787"/>
                  </a:lnTo>
                  <a:lnTo>
                    <a:pt x="1851" y="812"/>
                  </a:lnTo>
                  <a:lnTo>
                    <a:pt x="1840" y="835"/>
                  </a:lnTo>
                  <a:lnTo>
                    <a:pt x="1828" y="858"/>
                  </a:lnTo>
                  <a:lnTo>
                    <a:pt x="1815" y="880"/>
                  </a:lnTo>
                  <a:lnTo>
                    <a:pt x="1803" y="901"/>
                  </a:lnTo>
                  <a:lnTo>
                    <a:pt x="1790" y="921"/>
                  </a:lnTo>
                  <a:lnTo>
                    <a:pt x="1765" y="957"/>
                  </a:lnTo>
                  <a:lnTo>
                    <a:pt x="1741" y="989"/>
                  </a:lnTo>
                  <a:lnTo>
                    <a:pt x="1717" y="1016"/>
                  </a:lnTo>
                  <a:lnTo>
                    <a:pt x="1696" y="1040"/>
                  </a:lnTo>
                  <a:lnTo>
                    <a:pt x="1662" y="1072"/>
                  </a:lnTo>
                  <a:lnTo>
                    <a:pt x="1646" y="1087"/>
                  </a:lnTo>
                  <a:lnTo>
                    <a:pt x="1613" y="1139"/>
                  </a:lnTo>
                  <a:lnTo>
                    <a:pt x="1577" y="1186"/>
                  </a:lnTo>
                  <a:lnTo>
                    <a:pt x="1537" y="1231"/>
                  </a:lnTo>
                  <a:lnTo>
                    <a:pt x="1496" y="1271"/>
                  </a:lnTo>
                  <a:lnTo>
                    <a:pt x="1454" y="1308"/>
                  </a:lnTo>
                  <a:lnTo>
                    <a:pt x="1409" y="1341"/>
                  </a:lnTo>
                  <a:lnTo>
                    <a:pt x="1363" y="1371"/>
                  </a:lnTo>
                  <a:lnTo>
                    <a:pt x="1315" y="1397"/>
                  </a:lnTo>
                  <a:lnTo>
                    <a:pt x="1266" y="1421"/>
                  </a:lnTo>
                  <a:lnTo>
                    <a:pt x="1217" y="1442"/>
                  </a:lnTo>
                  <a:lnTo>
                    <a:pt x="1166" y="1459"/>
                  </a:lnTo>
                  <a:lnTo>
                    <a:pt x="1114" y="1474"/>
                  </a:lnTo>
                  <a:lnTo>
                    <a:pt x="1061" y="1487"/>
                  </a:lnTo>
                  <a:lnTo>
                    <a:pt x="1008" y="1497"/>
                  </a:lnTo>
                  <a:lnTo>
                    <a:pt x="956" y="1505"/>
                  </a:lnTo>
                  <a:lnTo>
                    <a:pt x="902" y="1511"/>
                  </a:lnTo>
                  <a:lnTo>
                    <a:pt x="850" y="1515"/>
                  </a:lnTo>
                  <a:lnTo>
                    <a:pt x="797" y="1518"/>
                  </a:lnTo>
                  <a:lnTo>
                    <a:pt x="745" y="1518"/>
                  </a:lnTo>
                  <a:lnTo>
                    <a:pt x="694" y="1516"/>
                  </a:lnTo>
                  <a:lnTo>
                    <a:pt x="643" y="1515"/>
                  </a:lnTo>
                  <a:lnTo>
                    <a:pt x="593" y="1511"/>
                  </a:lnTo>
                  <a:lnTo>
                    <a:pt x="545" y="1506"/>
                  </a:lnTo>
                  <a:lnTo>
                    <a:pt x="496" y="1500"/>
                  </a:lnTo>
                  <a:lnTo>
                    <a:pt x="450" y="1494"/>
                  </a:lnTo>
                  <a:lnTo>
                    <a:pt x="407" y="1488"/>
                  </a:lnTo>
                  <a:lnTo>
                    <a:pt x="365" y="1480"/>
                  </a:lnTo>
                  <a:lnTo>
                    <a:pt x="324" y="1472"/>
                  </a:lnTo>
                  <a:lnTo>
                    <a:pt x="249" y="1456"/>
                  </a:lnTo>
                  <a:lnTo>
                    <a:pt x="186" y="1439"/>
                  </a:lnTo>
                  <a:lnTo>
                    <a:pt x="221" y="1427"/>
                  </a:lnTo>
                  <a:lnTo>
                    <a:pt x="256" y="1411"/>
                  </a:lnTo>
                  <a:lnTo>
                    <a:pt x="288" y="1392"/>
                  </a:lnTo>
                  <a:lnTo>
                    <a:pt x="321" y="1374"/>
                  </a:lnTo>
                  <a:lnTo>
                    <a:pt x="352" y="1351"/>
                  </a:lnTo>
                  <a:lnTo>
                    <a:pt x="383" y="1329"/>
                  </a:lnTo>
                  <a:lnTo>
                    <a:pt x="413" y="1304"/>
                  </a:lnTo>
                  <a:lnTo>
                    <a:pt x="443" y="1278"/>
                  </a:lnTo>
                  <a:lnTo>
                    <a:pt x="470" y="1251"/>
                  </a:lnTo>
                  <a:lnTo>
                    <a:pt x="498" y="1224"/>
                  </a:lnTo>
                  <a:lnTo>
                    <a:pt x="524" y="1195"/>
                  </a:lnTo>
                  <a:lnTo>
                    <a:pt x="549" y="1165"/>
                  </a:lnTo>
                  <a:lnTo>
                    <a:pt x="573" y="1137"/>
                  </a:lnTo>
                  <a:lnTo>
                    <a:pt x="596" y="1107"/>
                  </a:lnTo>
                  <a:lnTo>
                    <a:pt x="618" y="1077"/>
                  </a:lnTo>
                  <a:lnTo>
                    <a:pt x="639" y="1047"/>
                  </a:lnTo>
                  <a:lnTo>
                    <a:pt x="678" y="989"/>
                  </a:lnTo>
                  <a:lnTo>
                    <a:pt x="711" y="935"/>
                  </a:lnTo>
                  <a:lnTo>
                    <a:pt x="741" y="882"/>
                  </a:lnTo>
                  <a:lnTo>
                    <a:pt x="766" y="836"/>
                  </a:lnTo>
                  <a:lnTo>
                    <a:pt x="801" y="766"/>
                  </a:lnTo>
                  <a:lnTo>
                    <a:pt x="816" y="7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2844720" y="5127480"/>
              <a:ext cx="1243080" cy="516240"/>
            </a:xfrm>
            <a:custGeom>
              <a:avLst/>
              <a:gdLst/>
              <a:ahLst/>
              <a:rect l="l" t="t" r="r" b="b"/>
              <a:pathLst>
                <a:path w="3133" h="1302">
                  <a:moveTo>
                    <a:pt x="0" y="1133"/>
                  </a:moveTo>
                  <a:lnTo>
                    <a:pt x="12" y="1114"/>
                  </a:lnTo>
                  <a:lnTo>
                    <a:pt x="46" y="1061"/>
                  </a:lnTo>
                  <a:lnTo>
                    <a:pt x="72" y="1023"/>
                  </a:lnTo>
                  <a:lnTo>
                    <a:pt x="103" y="979"/>
                  </a:lnTo>
                  <a:lnTo>
                    <a:pt x="139" y="929"/>
                  </a:lnTo>
                  <a:lnTo>
                    <a:pt x="180" y="876"/>
                  </a:lnTo>
                  <a:lnTo>
                    <a:pt x="226" y="818"/>
                  </a:lnTo>
                  <a:lnTo>
                    <a:pt x="277" y="757"/>
                  </a:lnTo>
                  <a:lnTo>
                    <a:pt x="333" y="695"/>
                  </a:lnTo>
                  <a:lnTo>
                    <a:pt x="393" y="629"/>
                  </a:lnTo>
                  <a:lnTo>
                    <a:pt x="457" y="565"/>
                  </a:lnTo>
                  <a:lnTo>
                    <a:pt x="526" y="499"/>
                  </a:lnTo>
                  <a:lnTo>
                    <a:pt x="598" y="434"/>
                  </a:lnTo>
                  <a:lnTo>
                    <a:pt x="675" y="371"/>
                  </a:lnTo>
                  <a:lnTo>
                    <a:pt x="755" y="310"/>
                  </a:lnTo>
                  <a:lnTo>
                    <a:pt x="839" y="253"/>
                  </a:lnTo>
                  <a:lnTo>
                    <a:pt x="927" y="200"/>
                  </a:lnTo>
                  <a:lnTo>
                    <a:pt x="1017" y="150"/>
                  </a:lnTo>
                  <a:lnTo>
                    <a:pt x="1112" y="107"/>
                  </a:lnTo>
                  <a:lnTo>
                    <a:pt x="1209" y="70"/>
                  </a:lnTo>
                  <a:lnTo>
                    <a:pt x="1309" y="40"/>
                  </a:lnTo>
                  <a:lnTo>
                    <a:pt x="1412" y="18"/>
                  </a:lnTo>
                  <a:lnTo>
                    <a:pt x="1519" y="4"/>
                  </a:lnTo>
                  <a:lnTo>
                    <a:pt x="1627" y="0"/>
                  </a:lnTo>
                  <a:lnTo>
                    <a:pt x="1738" y="5"/>
                  </a:lnTo>
                  <a:lnTo>
                    <a:pt x="1852" y="23"/>
                  </a:lnTo>
                  <a:lnTo>
                    <a:pt x="1966" y="51"/>
                  </a:lnTo>
                  <a:lnTo>
                    <a:pt x="2084" y="92"/>
                  </a:lnTo>
                  <a:lnTo>
                    <a:pt x="2203" y="147"/>
                  </a:lnTo>
                  <a:lnTo>
                    <a:pt x="2325" y="215"/>
                  </a:lnTo>
                  <a:lnTo>
                    <a:pt x="2334" y="222"/>
                  </a:lnTo>
                  <a:lnTo>
                    <a:pt x="2361" y="246"/>
                  </a:lnTo>
                  <a:lnTo>
                    <a:pt x="2402" y="283"/>
                  </a:lnTo>
                  <a:lnTo>
                    <a:pt x="2457" y="331"/>
                  </a:lnTo>
                  <a:lnTo>
                    <a:pt x="2520" y="390"/>
                  </a:lnTo>
                  <a:lnTo>
                    <a:pt x="2591" y="458"/>
                  </a:lnTo>
                  <a:lnTo>
                    <a:pt x="2665" y="532"/>
                  </a:lnTo>
                  <a:lnTo>
                    <a:pt x="2743" y="612"/>
                  </a:lnTo>
                  <a:lnTo>
                    <a:pt x="2782" y="654"/>
                  </a:lnTo>
                  <a:lnTo>
                    <a:pt x="2820" y="695"/>
                  </a:lnTo>
                  <a:lnTo>
                    <a:pt x="2858" y="738"/>
                  </a:lnTo>
                  <a:lnTo>
                    <a:pt x="2894" y="781"/>
                  </a:lnTo>
                  <a:lnTo>
                    <a:pt x="2928" y="824"/>
                  </a:lnTo>
                  <a:lnTo>
                    <a:pt x="2962" y="867"/>
                  </a:lnTo>
                  <a:lnTo>
                    <a:pt x="2993" y="910"/>
                  </a:lnTo>
                  <a:lnTo>
                    <a:pt x="3023" y="952"/>
                  </a:lnTo>
                  <a:lnTo>
                    <a:pt x="3049" y="993"/>
                  </a:lnTo>
                  <a:lnTo>
                    <a:pt x="3072" y="1034"/>
                  </a:lnTo>
                  <a:lnTo>
                    <a:pt x="3092" y="1072"/>
                  </a:lnTo>
                  <a:lnTo>
                    <a:pt x="3108" y="1111"/>
                  </a:lnTo>
                  <a:lnTo>
                    <a:pt x="3121" y="1147"/>
                  </a:lnTo>
                  <a:lnTo>
                    <a:pt x="3130" y="1181"/>
                  </a:lnTo>
                  <a:lnTo>
                    <a:pt x="3133" y="1215"/>
                  </a:lnTo>
                  <a:lnTo>
                    <a:pt x="3132" y="1245"/>
                  </a:lnTo>
                  <a:lnTo>
                    <a:pt x="2974" y="1222"/>
                  </a:lnTo>
                  <a:lnTo>
                    <a:pt x="2967" y="1210"/>
                  </a:lnTo>
                  <a:lnTo>
                    <a:pt x="2947" y="1175"/>
                  </a:lnTo>
                  <a:lnTo>
                    <a:pt x="2915" y="1122"/>
                  </a:lnTo>
                  <a:lnTo>
                    <a:pt x="2871" y="1052"/>
                  </a:lnTo>
                  <a:lnTo>
                    <a:pt x="2817" y="972"/>
                  </a:lnTo>
                  <a:lnTo>
                    <a:pt x="2755" y="881"/>
                  </a:lnTo>
                  <a:lnTo>
                    <a:pt x="2720" y="834"/>
                  </a:lnTo>
                  <a:lnTo>
                    <a:pt x="2683" y="786"/>
                  </a:lnTo>
                  <a:lnTo>
                    <a:pt x="2645" y="737"/>
                  </a:lnTo>
                  <a:lnTo>
                    <a:pt x="2606" y="688"/>
                  </a:lnTo>
                  <a:lnTo>
                    <a:pt x="2563" y="639"/>
                  </a:lnTo>
                  <a:lnTo>
                    <a:pt x="2521" y="591"/>
                  </a:lnTo>
                  <a:lnTo>
                    <a:pt x="2476" y="545"/>
                  </a:lnTo>
                  <a:lnTo>
                    <a:pt x="2432" y="499"/>
                  </a:lnTo>
                  <a:lnTo>
                    <a:pt x="2386" y="457"/>
                  </a:lnTo>
                  <a:lnTo>
                    <a:pt x="2339" y="416"/>
                  </a:lnTo>
                  <a:lnTo>
                    <a:pt x="2291" y="379"/>
                  </a:lnTo>
                  <a:lnTo>
                    <a:pt x="2243" y="344"/>
                  </a:lnTo>
                  <a:lnTo>
                    <a:pt x="2195" y="313"/>
                  </a:lnTo>
                  <a:lnTo>
                    <a:pt x="2145" y="287"/>
                  </a:lnTo>
                  <a:lnTo>
                    <a:pt x="2096" y="264"/>
                  </a:lnTo>
                  <a:lnTo>
                    <a:pt x="2047" y="247"/>
                  </a:lnTo>
                  <a:lnTo>
                    <a:pt x="1997" y="236"/>
                  </a:lnTo>
                  <a:lnTo>
                    <a:pt x="1949" y="230"/>
                  </a:lnTo>
                  <a:lnTo>
                    <a:pt x="1900" y="230"/>
                  </a:lnTo>
                  <a:lnTo>
                    <a:pt x="1852" y="237"/>
                  </a:lnTo>
                  <a:lnTo>
                    <a:pt x="1839" y="237"/>
                  </a:lnTo>
                  <a:lnTo>
                    <a:pt x="1802" y="241"/>
                  </a:lnTo>
                  <a:lnTo>
                    <a:pt x="1744" y="248"/>
                  </a:lnTo>
                  <a:lnTo>
                    <a:pt x="1667" y="262"/>
                  </a:lnTo>
                  <a:lnTo>
                    <a:pt x="1623" y="271"/>
                  </a:lnTo>
                  <a:lnTo>
                    <a:pt x="1575" y="281"/>
                  </a:lnTo>
                  <a:lnTo>
                    <a:pt x="1523" y="293"/>
                  </a:lnTo>
                  <a:lnTo>
                    <a:pt x="1468" y="308"/>
                  </a:lnTo>
                  <a:lnTo>
                    <a:pt x="1411" y="325"/>
                  </a:lnTo>
                  <a:lnTo>
                    <a:pt x="1351" y="344"/>
                  </a:lnTo>
                  <a:lnTo>
                    <a:pt x="1289" y="366"/>
                  </a:lnTo>
                  <a:lnTo>
                    <a:pt x="1226" y="391"/>
                  </a:lnTo>
                  <a:lnTo>
                    <a:pt x="1161" y="420"/>
                  </a:lnTo>
                  <a:lnTo>
                    <a:pt x="1096" y="449"/>
                  </a:lnTo>
                  <a:lnTo>
                    <a:pt x="1029" y="484"/>
                  </a:lnTo>
                  <a:lnTo>
                    <a:pt x="961" y="521"/>
                  </a:lnTo>
                  <a:lnTo>
                    <a:pt x="894" y="563"/>
                  </a:lnTo>
                  <a:lnTo>
                    <a:pt x="827" y="608"/>
                  </a:lnTo>
                  <a:lnTo>
                    <a:pt x="762" y="657"/>
                  </a:lnTo>
                  <a:lnTo>
                    <a:pt x="696" y="710"/>
                  </a:lnTo>
                  <a:lnTo>
                    <a:pt x="632" y="767"/>
                  </a:lnTo>
                  <a:lnTo>
                    <a:pt x="570" y="829"/>
                  </a:lnTo>
                  <a:lnTo>
                    <a:pt x="509" y="896"/>
                  </a:lnTo>
                  <a:lnTo>
                    <a:pt x="451" y="967"/>
                  </a:lnTo>
                  <a:lnTo>
                    <a:pt x="395" y="1042"/>
                  </a:lnTo>
                  <a:lnTo>
                    <a:pt x="342" y="1124"/>
                  </a:lnTo>
                  <a:lnTo>
                    <a:pt x="292" y="1210"/>
                  </a:lnTo>
                  <a:lnTo>
                    <a:pt x="246" y="1302"/>
                  </a:lnTo>
                  <a:lnTo>
                    <a:pt x="0" y="1133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2825640" y="5113440"/>
              <a:ext cx="1276560" cy="552240"/>
            </a:xfrm>
            <a:custGeom>
              <a:avLst/>
              <a:gdLst/>
              <a:ahLst/>
              <a:rect l="l" t="t" r="r" b="b"/>
              <a:pathLst>
                <a:path w="3217" h="1391">
                  <a:moveTo>
                    <a:pt x="1367" y="37"/>
                  </a:moveTo>
                  <a:lnTo>
                    <a:pt x="1293" y="57"/>
                  </a:lnTo>
                  <a:lnTo>
                    <a:pt x="1221" y="81"/>
                  </a:lnTo>
                  <a:lnTo>
                    <a:pt x="1150" y="108"/>
                  </a:lnTo>
                  <a:lnTo>
                    <a:pt x="1082" y="139"/>
                  </a:lnTo>
                  <a:lnTo>
                    <a:pt x="1014" y="173"/>
                  </a:lnTo>
                  <a:lnTo>
                    <a:pt x="949" y="209"/>
                  </a:lnTo>
                  <a:lnTo>
                    <a:pt x="885" y="247"/>
                  </a:lnTo>
                  <a:lnTo>
                    <a:pt x="823" y="288"/>
                  </a:lnTo>
                  <a:lnTo>
                    <a:pt x="764" y="330"/>
                  </a:lnTo>
                  <a:lnTo>
                    <a:pt x="705" y="374"/>
                  </a:lnTo>
                  <a:lnTo>
                    <a:pt x="649" y="420"/>
                  </a:lnTo>
                  <a:lnTo>
                    <a:pt x="596" y="465"/>
                  </a:lnTo>
                  <a:lnTo>
                    <a:pt x="544" y="511"/>
                  </a:lnTo>
                  <a:lnTo>
                    <a:pt x="494" y="559"/>
                  </a:lnTo>
                  <a:lnTo>
                    <a:pt x="447" y="606"/>
                  </a:lnTo>
                  <a:lnTo>
                    <a:pt x="402" y="653"/>
                  </a:lnTo>
                  <a:lnTo>
                    <a:pt x="359" y="699"/>
                  </a:lnTo>
                  <a:lnTo>
                    <a:pt x="318" y="745"/>
                  </a:lnTo>
                  <a:lnTo>
                    <a:pt x="281" y="789"/>
                  </a:lnTo>
                  <a:lnTo>
                    <a:pt x="245" y="833"/>
                  </a:lnTo>
                  <a:lnTo>
                    <a:pt x="211" y="875"/>
                  </a:lnTo>
                  <a:lnTo>
                    <a:pt x="180" y="915"/>
                  </a:lnTo>
                  <a:lnTo>
                    <a:pt x="151" y="953"/>
                  </a:lnTo>
                  <a:lnTo>
                    <a:pt x="125" y="988"/>
                  </a:lnTo>
                  <a:lnTo>
                    <a:pt x="82" y="1051"/>
                  </a:lnTo>
                  <a:lnTo>
                    <a:pt x="50" y="1101"/>
                  </a:lnTo>
                  <a:lnTo>
                    <a:pt x="27" y="1134"/>
                  </a:lnTo>
                  <a:lnTo>
                    <a:pt x="17" y="1150"/>
                  </a:lnTo>
                  <a:lnTo>
                    <a:pt x="0" y="1179"/>
                  </a:lnTo>
                  <a:lnTo>
                    <a:pt x="309" y="1391"/>
                  </a:lnTo>
                  <a:lnTo>
                    <a:pt x="327" y="1353"/>
                  </a:lnTo>
                  <a:lnTo>
                    <a:pt x="371" y="1264"/>
                  </a:lnTo>
                  <a:lnTo>
                    <a:pt x="420" y="1180"/>
                  </a:lnTo>
                  <a:lnTo>
                    <a:pt x="471" y="1102"/>
                  </a:lnTo>
                  <a:lnTo>
                    <a:pt x="525" y="1028"/>
                  </a:lnTo>
                  <a:lnTo>
                    <a:pt x="582" y="958"/>
                  </a:lnTo>
                  <a:lnTo>
                    <a:pt x="641" y="894"/>
                  </a:lnTo>
                  <a:lnTo>
                    <a:pt x="702" y="834"/>
                  </a:lnTo>
                  <a:lnTo>
                    <a:pt x="764" y="778"/>
                  </a:lnTo>
                  <a:lnTo>
                    <a:pt x="828" y="726"/>
                  </a:lnTo>
                  <a:lnTo>
                    <a:pt x="893" y="678"/>
                  </a:lnTo>
                  <a:lnTo>
                    <a:pt x="957" y="634"/>
                  </a:lnTo>
                  <a:lnTo>
                    <a:pt x="1023" y="593"/>
                  </a:lnTo>
                  <a:lnTo>
                    <a:pt x="1089" y="556"/>
                  </a:lnTo>
                  <a:lnTo>
                    <a:pt x="1154" y="523"/>
                  </a:lnTo>
                  <a:lnTo>
                    <a:pt x="1218" y="493"/>
                  </a:lnTo>
                  <a:lnTo>
                    <a:pt x="1281" y="464"/>
                  </a:lnTo>
                  <a:lnTo>
                    <a:pt x="1344" y="441"/>
                  </a:lnTo>
                  <a:lnTo>
                    <a:pt x="1404" y="418"/>
                  </a:lnTo>
                  <a:lnTo>
                    <a:pt x="1463" y="398"/>
                  </a:lnTo>
                  <a:lnTo>
                    <a:pt x="1519" y="382"/>
                  </a:lnTo>
                  <a:lnTo>
                    <a:pt x="1573" y="367"/>
                  </a:lnTo>
                  <a:lnTo>
                    <a:pt x="1623" y="354"/>
                  </a:lnTo>
                  <a:lnTo>
                    <a:pt x="1671" y="344"/>
                  </a:lnTo>
                  <a:lnTo>
                    <a:pt x="1715" y="334"/>
                  </a:lnTo>
                  <a:lnTo>
                    <a:pt x="1792" y="322"/>
                  </a:lnTo>
                  <a:lnTo>
                    <a:pt x="1849" y="313"/>
                  </a:lnTo>
                  <a:lnTo>
                    <a:pt x="1887" y="309"/>
                  </a:lnTo>
                  <a:lnTo>
                    <a:pt x="1901" y="308"/>
                  </a:lnTo>
                  <a:lnTo>
                    <a:pt x="1947" y="302"/>
                  </a:lnTo>
                  <a:lnTo>
                    <a:pt x="1994" y="302"/>
                  </a:lnTo>
                  <a:lnTo>
                    <a:pt x="2040" y="308"/>
                  </a:lnTo>
                  <a:lnTo>
                    <a:pt x="2087" y="319"/>
                  </a:lnTo>
                  <a:lnTo>
                    <a:pt x="2135" y="336"/>
                  </a:lnTo>
                  <a:lnTo>
                    <a:pt x="2182" y="358"/>
                  </a:lnTo>
                  <a:lnTo>
                    <a:pt x="2229" y="384"/>
                  </a:lnTo>
                  <a:lnTo>
                    <a:pt x="2276" y="413"/>
                  </a:lnTo>
                  <a:lnTo>
                    <a:pt x="2322" y="447"/>
                  </a:lnTo>
                  <a:lnTo>
                    <a:pt x="2368" y="484"/>
                  </a:lnTo>
                  <a:lnTo>
                    <a:pt x="2414" y="524"/>
                  </a:lnTo>
                  <a:lnTo>
                    <a:pt x="2459" y="565"/>
                  </a:lnTo>
                  <a:lnTo>
                    <a:pt x="2502" y="609"/>
                  </a:lnTo>
                  <a:lnTo>
                    <a:pt x="2544" y="654"/>
                  </a:lnTo>
                  <a:lnTo>
                    <a:pt x="2587" y="701"/>
                  </a:lnTo>
                  <a:lnTo>
                    <a:pt x="2626" y="748"/>
                  </a:lnTo>
                  <a:lnTo>
                    <a:pt x="2665" y="797"/>
                  </a:lnTo>
                  <a:lnTo>
                    <a:pt x="2702" y="844"/>
                  </a:lnTo>
                  <a:lnTo>
                    <a:pt x="2738" y="891"/>
                  </a:lnTo>
                  <a:lnTo>
                    <a:pt x="2772" y="937"/>
                  </a:lnTo>
                  <a:lnTo>
                    <a:pt x="2834" y="1025"/>
                  </a:lnTo>
                  <a:lnTo>
                    <a:pt x="2887" y="1106"/>
                  </a:lnTo>
                  <a:lnTo>
                    <a:pt x="2930" y="1174"/>
                  </a:lnTo>
                  <a:lnTo>
                    <a:pt x="2963" y="1227"/>
                  </a:lnTo>
                  <a:lnTo>
                    <a:pt x="2983" y="1262"/>
                  </a:lnTo>
                  <a:lnTo>
                    <a:pt x="2991" y="1276"/>
                  </a:lnTo>
                  <a:lnTo>
                    <a:pt x="3000" y="1292"/>
                  </a:lnTo>
                  <a:lnTo>
                    <a:pt x="3211" y="1322"/>
                  </a:lnTo>
                  <a:lnTo>
                    <a:pt x="3215" y="1286"/>
                  </a:lnTo>
                  <a:lnTo>
                    <a:pt x="3217" y="1255"/>
                  </a:lnTo>
                  <a:lnTo>
                    <a:pt x="3214" y="1221"/>
                  </a:lnTo>
                  <a:lnTo>
                    <a:pt x="3206" y="1186"/>
                  </a:lnTo>
                  <a:lnTo>
                    <a:pt x="3195" y="1150"/>
                  </a:lnTo>
                  <a:lnTo>
                    <a:pt x="3180" y="1112"/>
                  </a:lnTo>
                  <a:lnTo>
                    <a:pt x="3163" y="1073"/>
                  </a:lnTo>
                  <a:lnTo>
                    <a:pt x="3140" y="1034"/>
                  </a:lnTo>
                  <a:lnTo>
                    <a:pt x="3117" y="994"/>
                  </a:lnTo>
                  <a:lnTo>
                    <a:pt x="3089" y="952"/>
                  </a:lnTo>
                  <a:lnTo>
                    <a:pt x="3061" y="911"/>
                  </a:lnTo>
                  <a:lnTo>
                    <a:pt x="3030" y="869"/>
                  </a:lnTo>
                  <a:lnTo>
                    <a:pt x="2998" y="827"/>
                  </a:lnTo>
                  <a:lnTo>
                    <a:pt x="2963" y="786"/>
                  </a:lnTo>
                  <a:lnTo>
                    <a:pt x="2927" y="743"/>
                  </a:lnTo>
                  <a:lnTo>
                    <a:pt x="2891" y="702"/>
                  </a:lnTo>
                  <a:lnTo>
                    <a:pt x="2853" y="662"/>
                  </a:lnTo>
                  <a:lnTo>
                    <a:pt x="2779" y="582"/>
                  </a:lnTo>
                  <a:lnTo>
                    <a:pt x="2704" y="506"/>
                  </a:lnTo>
                  <a:lnTo>
                    <a:pt x="2632" y="438"/>
                  </a:lnTo>
                  <a:lnTo>
                    <a:pt x="2567" y="375"/>
                  </a:lnTo>
                  <a:lnTo>
                    <a:pt x="2507" y="322"/>
                  </a:lnTo>
                  <a:lnTo>
                    <a:pt x="2457" y="277"/>
                  </a:lnTo>
                  <a:lnTo>
                    <a:pt x="2420" y="243"/>
                  </a:lnTo>
                  <a:lnTo>
                    <a:pt x="2395" y="224"/>
                  </a:lnTo>
                  <a:lnTo>
                    <a:pt x="2364" y="204"/>
                  </a:lnTo>
                  <a:lnTo>
                    <a:pt x="2332" y="185"/>
                  </a:lnTo>
                  <a:lnTo>
                    <a:pt x="2301" y="168"/>
                  </a:lnTo>
                  <a:lnTo>
                    <a:pt x="2269" y="152"/>
                  </a:lnTo>
                  <a:lnTo>
                    <a:pt x="2236" y="135"/>
                  </a:lnTo>
                  <a:lnTo>
                    <a:pt x="2205" y="121"/>
                  </a:lnTo>
                  <a:lnTo>
                    <a:pt x="2173" y="107"/>
                  </a:lnTo>
                  <a:lnTo>
                    <a:pt x="2142" y="93"/>
                  </a:lnTo>
                  <a:lnTo>
                    <a:pt x="2110" y="82"/>
                  </a:lnTo>
                  <a:lnTo>
                    <a:pt x="2077" y="70"/>
                  </a:lnTo>
                  <a:lnTo>
                    <a:pt x="2045" y="60"/>
                  </a:lnTo>
                  <a:lnTo>
                    <a:pt x="2013" y="50"/>
                  </a:lnTo>
                  <a:lnTo>
                    <a:pt x="1982" y="41"/>
                  </a:lnTo>
                  <a:lnTo>
                    <a:pt x="1950" y="32"/>
                  </a:lnTo>
                  <a:lnTo>
                    <a:pt x="1917" y="26"/>
                  </a:lnTo>
                  <a:lnTo>
                    <a:pt x="1885" y="20"/>
                  </a:lnTo>
                  <a:lnTo>
                    <a:pt x="1853" y="14"/>
                  </a:lnTo>
                  <a:lnTo>
                    <a:pt x="1820" y="10"/>
                  </a:lnTo>
                  <a:lnTo>
                    <a:pt x="1788" y="6"/>
                  </a:lnTo>
                  <a:lnTo>
                    <a:pt x="1756" y="4"/>
                  </a:lnTo>
                  <a:lnTo>
                    <a:pt x="1724" y="1"/>
                  </a:lnTo>
                  <a:lnTo>
                    <a:pt x="1691" y="0"/>
                  </a:lnTo>
                  <a:lnTo>
                    <a:pt x="1659" y="0"/>
                  </a:lnTo>
                  <a:lnTo>
                    <a:pt x="1627" y="0"/>
                  </a:lnTo>
                  <a:lnTo>
                    <a:pt x="1594" y="3"/>
                  </a:lnTo>
                  <a:lnTo>
                    <a:pt x="1561" y="5"/>
                  </a:lnTo>
                  <a:lnTo>
                    <a:pt x="1529" y="8"/>
                  </a:lnTo>
                  <a:lnTo>
                    <a:pt x="1496" y="11"/>
                  </a:lnTo>
                  <a:lnTo>
                    <a:pt x="1464" y="18"/>
                  </a:lnTo>
                  <a:lnTo>
                    <a:pt x="1432" y="23"/>
                  </a:lnTo>
                  <a:lnTo>
                    <a:pt x="1399" y="30"/>
                  </a:lnTo>
                  <a:lnTo>
                    <a:pt x="1367" y="37"/>
                  </a:lnTo>
                  <a:close/>
                  <a:moveTo>
                    <a:pt x="1383" y="106"/>
                  </a:moveTo>
                  <a:lnTo>
                    <a:pt x="1414" y="99"/>
                  </a:lnTo>
                  <a:lnTo>
                    <a:pt x="1445" y="93"/>
                  </a:lnTo>
                  <a:lnTo>
                    <a:pt x="1476" y="87"/>
                  </a:lnTo>
                  <a:lnTo>
                    <a:pt x="1506" y="82"/>
                  </a:lnTo>
                  <a:lnTo>
                    <a:pt x="1537" y="78"/>
                  </a:lnTo>
                  <a:lnTo>
                    <a:pt x="1568" y="76"/>
                  </a:lnTo>
                  <a:lnTo>
                    <a:pt x="1598" y="73"/>
                  </a:lnTo>
                  <a:lnTo>
                    <a:pt x="1629" y="72"/>
                  </a:lnTo>
                  <a:lnTo>
                    <a:pt x="1660" y="72"/>
                  </a:lnTo>
                  <a:lnTo>
                    <a:pt x="1690" y="72"/>
                  </a:lnTo>
                  <a:lnTo>
                    <a:pt x="1721" y="73"/>
                  </a:lnTo>
                  <a:lnTo>
                    <a:pt x="1751" y="75"/>
                  </a:lnTo>
                  <a:lnTo>
                    <a:pt x="1782" y="77"/>
                  </a:lnTo>
                  <a:lnTo>
                    <a:pt x="1813" y="81"/>
                  </a:lnTo>
                  <a:lnTo>
                    <a:pt x="1843" y="85"/>
                  </a:lnTo>
                  <a:lnTo>
                    <a:pt x="1874" y="90"/>
                  </a:lnTo>
                  <a:lnTo>
                    <a:pt x="1904" y="96"/>
                  </a:lnTo>
                  <a:lnTo>
                    <a:pt x="1933" y="102"/>
                  </a:lnTo>
                  <a:lnTo>
                    <a:pt x="1964" y="111"/>
                  </a:lnTo>
                  <a:lnTo>
                    <a:pt x="1994" y="118"/>
                  </a:lnTo>
                  <a:lnTo>
                    <a:pt x="2024" y="128"/>
                  </a:lnTo>
                  <a:lnTo>
                    <a:pt x="2055" y="138"/>
                  </a:lnTo>
                  <a:lnTo>
                    <a:pt x="2085" y="148"/>
                  </a:lnTo>
                  <a:lnTo>
                    <a:pt x="2115" y="159"/>
                  </a:lnTo>
                  <a:lnTo>
                    <a:pt x="2144" y="171"/>
                  </a:lnTo>
                  <a:lnTo>
                    <a:pt x="2174" y="185"/>
                  </a:lnTo>
                  <a:lnTo>
                    <a:pt x="2205" y="199"/>
                  </a:lnTo>
                  <a:lnTo>
                    <a:pt x="2235" y="214"/>
                  </a:lnTo>
                  <a:lnTo>
                    <a:pt x="2265" y="230"/>
                  </a:lnTo>
                  <a:lnTo>
                    <a:pt x="2295" y="246"/>
                  </a:lnTo>
                  <a:lnTo>
                    <a:pt x="2323" y="263"/>
                  </a:lnTo>
                  <a:lnTo>
                    <a:pt x="2353" y="281"/>
                  </a:lnTo>
                  <a:lnTo>
                    <a:pt x="2398" y="319"/>
                  </a:lnTo>
                  <a:lnTo>
                    <a:pt x="2449" y="364"/>
                  </a:lnTo>
                  <a:lnTo>
                    <a:pt x="2505" y="416"/>
                  </a:lnTo>
                  <a:lnTo>
                    <a:pt x="2564" y="472"/>
                  </a:lnTo>
                  <a:lnTo>
                    <a:pt x="2627" y="532"/>
                  </a:lnTo>
                  <a:lnTo>
                    <a:pt x="2692" y="597"/>
                  </a:lnTo>
                  <a:lnTo>
                    <a:pt x="2757" y="664"/>
                  </a:lnTo>
                  <a:lnTo>
                    <a:pt x="2820" y="732"/>
                  </a:lnTo>
                  <a:lnTo>
                    <a:pt x="2851" y="767"/>
                  </a:lnTo>
                  <a:lnTo>
                    <a:pt x="2881" y="802"/>
                  </a:lnTo>
                  <a:lnTo>
                    <a:pt x="2911" y="836"/>
                  </a:lnTo>
                  <a:lnTo>
                    <a:pt x="2939" y="871"/>
                  </a:lnTo>
                  <a:lnTo>
                    <a:pt x="2965" y="906"/>
                  </a:lnTo>
                  <a:lnTo>
                    <a:pt x="2991" y="941"/>
                  </a:lnTo>
                  <a:lnTo>
                    <a:pt x="3016" y="974"/>
                  </a:lnTo>
                  <a:lnTo>
                    <a:pt x="3039" y="1008"/>
                  </a:lnTo>
                  <a:lnTo>
                    <a:pt x="3060" y="1040"/>
                  </a:lnTo>
                  <a:lnTo>
                    <a:pt x="3078" y="1071"/>
                  </a:lnTo>
                  <a:lnTo>
                    <a:pt x="3096" y="1102"/>
                  </a:lnTo>
                  <a:lnTo>
                    <a:pt x="3109" y="1132"/>
                  </a:lnTo>
                  <a:lnTo>
                    <a:pt x="3122" y="1160"/>
                  </a:lnTo>
                  <a:lnTo>
                    <a:pt x="3130" y="1189"/>
                  </a:lnTo>
                  <a:lnTo>
                    <a:pt x="3138" y="1215"/>
                  </a:lnTo>
                  <a:lnTo>
                    <a:pt x="3142" y="1240"/>
                  </a:lnTo>
                  <a:lnTo>
                    <a:pt x="3113" y="1236"/>
                  </a:lnTo>
                  <a:lnTo>
                    <a:pt x="3086" y="1231"/>
                  </a:lnTo>
                  <a:lnTo>
                    <a:pt x="3062" y="1229"/>
                  </a:lnTo>
                  <a:lnTo>
                    <a:pt x="3045" y="1226"/>
                  </a:lnTo>
                  <a:lnTo>
                    <a:pt x="3027" y="1196"/>
                  </a:lnTo>
                  <a:lnTo>
                    <a:pt x="2999" y="1148"/>
                  </a:lnTo>
                  <a:lnTo>
                    <a:pt x="2960" y="1085"/>
                  </a:lnTo>
                  <a:lnTo>
                    <a:pt x="2911" y="1010"/>
                  </a:lnTo>
                  <a:lnTo>
                    <a:pt x="2883" y="969"/>
                  </a:lnTo>
                  <a:lnTo>
                    <a:pt x="2853" y="927"/>
                  </a:lnTo>
                  <a:lnTo>
                    <a:pt x="2822" y="882"/>
                  </a:lnTo>
                  <a:lnTo>
                    <a:pt x="2789" y="836"/>
                  </a:lnTo>
                  <a:lnTo>
                    <a:pt x="2753" y="791"/>
                  </a:lnTo>
                  <a:lnTo>
                    <a:pt x="2717" y="743"/>
                  </a:lnTo>
                  <a:lnTo>
                    <a:pt x="2678" y="696"/>
                  </a:lnTo>
                  <a:lnTo>
                    <a:pt x="2639" y="649"/>
                  </a:lnTo>
                  <a:lnTo>
                    <a:pt x="2598" y="603"/>
                  </a:lnTo>
                  <a:lnTo>
                    <a:pt x="2554" y="559"/>
                  </a:lnTo>
                  <a:lnTo>
                    <a:pt x="2511" y="515"/>
                  </a:lnTo>
                  <a:lnTo>
                    <a:pt x="2467" y="473"/>
                  </a:lnTo>
                  <a:lnTo>
                    <a:pt x="2421" y="433"/>
                  </a:lnTo>
                  <a:lnTo>
                    <a:pt x="2375" y="396"/>
                  </a:lnTo>
                  <a:lnTo>
                    <a:pt x="2328" y="361"/>
                  </a:lnTo>
                  <a:lnTo>
                    <a:pt x="2281" y="330"/>
                  </a:lnTo>
                  <a:lnTo>
                    <a:pt x="2233" y="302"/>
                  </a:lnTo>
                  <a:lnTo>
                    <a:pt x="2184" y="278"/>
                  </a:lnTo>
                  <a:lnTo>
                    <a:pt x="2136" y="258"/>
                  </a:lnTo>
                  <a:lnTo>
                    <a:pt x="2087" y="243"/>
                  </a:lnTo>
                  <a:lnTo>
                    <a:pt x="2038" y="233"/>
                  </a:lnTo>
                  <a:lnTo>
                    <a:pt x="1989" y="230"/>
                  </a:lnTo>
                  <a:lnTo>
                    <a:pt x="1941" y="231"/>
                  </a:lnTo>
                  <a:lnTo>
                    <a:pt x="1892" y="238"/>
                  </a:lnTo>
                  <a:lnTo>
                    <a:pt x="1892" y="238"/>
                  </a:lnTo>
                  <a:lnTo>
                    <a:pt x="1877" y="238"/>
                  </a:lnTo>
                  <a:lnTo>
                    <a:pt x="1840" y="243"/>
                  </a:lnTo>
                  <a:lnTo>
                    <a:pt x="1782" y="251"/>
                  </a:lnTo>
                  <a:lnTo>
                    <a:pt x="1705" y="264"/>
                  </a:lnTo>
                  <a:lnTo>
                    <a:pt x="1661" y="273"/>
                  </a:lnTo>
                  <a:lnTo>
                    <a:pt x="1613" y="284"/>
                  </a:lnTo>
                  <a:lnTo>
                    <a:pt x="1562" y="298"/>
                  </a:lnTo>
                  <a:lnTo>
                    <a:pt x="1507" y="313"/>
                  </a:lnTo>
                  <a:lnTo>
                    <a:pt x="1450" y="330"/>
                  </a:lnTo>
                  <a:lnTo>
                    <a:pt x="1391" y="349"/>
                  </a:lnTo>
                  <a:lnTo>
                    <a:pt x="1330" y="371"/>
                  </a:lnTo>
                  <a:lnTo>
                    <a:pt x="1267" y="396"/>
                  </a:lnTo>
                  <a:lnTo>
                    <a:pt x="1202" y="425"/>
                  </a:lnTo>
                  <a:lnTo>
                    <a:pt x="1137" y="454"/>
                  </a:lnTo>
                  <a:lnTo>
                    <a:pt x="1070" y="489"/>
                  </a:lnTo>
                  <a:lnTo>
                    <a:pt x="1003" y="526"/>
                  </a:lnTo>
                  <a:lnTo>
                    <a:pt x="936" y="567"/>
                  </a:lnTo>
                  <a:lnTo>
                    <a:pt x="870" y="611"/>
                  </a:lnTo>
                  <a:lnTo>
                    <a:pt x="805" y="659"/>
                  </a:lnTo>
                  <a:lnTo>
                    <a:pt x="739" y="711"/>
                  </a:lnTo>
                  <a:lnTo>
                    <a:pt x="674" y="767"/>
                  </a:lnTo>
                  <a:lnTo>
                    <a:pt x="612" y="828"/>
                  </a:lnTo>
                  <a:lnTo>
                    <a:pt x="550" y="892"/>
                  </a:lnTo>
                  <a:lnTo>
                    <a:pt x="492" y="962"/>
                  </a:lnTo>
                  <a:lnTo>
                    <a:pt x="436" y="1036"/>
                  </a:lnTo>
                  <a:lnTo>
                    <a:pt x="381" y="1114"/>
                  </a:lnTo>
                  <a:lnTo>
                    <a:pt x="330" y="1199"/>
                  </a:lnTo>
                  <a:lnTo>
                    <a:pt x="283" y="1287"/>
                  </a:lnTo>
                  <a:lnTo>
                    <a:pt x="266" y="1274"/>
                  </a:lnTo>
                  <a:lnTo>
                    <a:pt x="242" y="1260"/>
                  </a:lnTo>
                  <a:lnTo>
                    <a:pt x="216" y="1241"/>
                  </a:lnTo>
                  <a:lnTo>
                    <a:pt x="189" y="1222"/>
                  </a:lnTo>
                  <a:lnTo>
                    <a:pt x="161" y="1204"/>
                  </a:lnTo>
                  <a:lnTo>
                    <a:pt x="137" y="1186"/>
                  </a:lnTo>
                  <a:lnTo>
                    <a:pt x="114" y="1171"/>
                  </a:lnTo>
                  <a:lnTo>
                    <a:pt x="97" y="1159"/>
                  </a:lnTo>
                  <a:lnTo>
                    <a:pt x="117" y="1127"/>
                  </a:lnTo>
                  <a:lnTo>
                    <a:pt x="148" y="1082"/>
                  </a:lnTo>
                  <a:lnTo>
                    <a:pt x="187" y="1026"/>
                  </a:lnTo>
                  <a:lnTo>
                    <a:pt x="235" y="962"/>
                  </a:lnTo>
                  <a:lnTo>
                    <a:pt x="262" y="927"/>
                  </a:lnTo>
                  <a:lnTo>
                    <a:pt x="292" y="890"/>
                  </a:lnTo>
                  <a:lnTo>
                    <a:pt x="323" y="851"/>
                  </a:lnTo>
                  <a:lnTo>
                    <a:pt x="356" y="812"/>
                  </a:lnTo>
                  <a:lnTo>
                    <a:pt x="392" y="772"/>
                  </a:lnTo>
                  <a:lnTo>
                    <a:pt x="430" y="730"/>
                  </a:lnTo>
                  <a:lnTo>
                    <a:pt x="468" y="689"/>
                  </a:lnTo>
                  <a:lnTo>
                    <a:pt x="509" y="647"/>
                  </a:lnTo>
                  <a:lnTo>
                    <a:pt x="553" y="604"/>
                  </a:lnTo>
                  <a:lnTo>
                    <a:pt x="597" y="562"/>
                  </a:lnTo>
                  <a:lnTo>
                    <a:pt x="643" y="520"/>
                  </a:lnTo>
                  <a:lnTo>
                    <a:pt x="690" y="479"/>
                  </a:lnTo>
                  <a:lnTo>
                    <a:pt x="740" y="438"/>
                  </a:lnTo>
                  <a:lnTo>
                    <a:pt x="792" y="400"/>
                  </a:lnTo>
                  <a:lnTo>
                    <a:pt x="844" y="361"/>
                  </a:lnTo>
                  <a:lnTo>
                    <a:pt x="899" y="324"/>
                  </a:lnTo>
                  <a:lnTo>
                    <a:pt x="955" y="289"/>
                  </a:lnTo>
                  <a:lnTo>
                    <a:pt x="1012" y="256"/>
                  </a:lnTo>
                  <a:lnTo>
                    <a:pt x="1070" y="224"/>
                  </a:lnTo>
                  <a:lnTo>
                    <a:pt x="1131" y="195"/>
                  </a:lnTo>
                  <a:lnTo>
                    <a:pt x="1192" y="169"/>
                  </a:lnTo>
                  <a:lnTo>
                    <a:pt x="1254" y="144"/>
                  </a:lnTo>
                  <a:lnTo>
                    <a:pt x="1319" y="124"/>
                  </a:lnTo>
                  <a:lnTo>
                    <a:pt x="1383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2867040" y="5199120"/>
              <a:ext cx="1244520" cy="493560"/>
            </a:xfrm>
            <a:custGeom>
              <a:avLst/>
              <a:gdLst/>
              <a:ahLst/>
              <a:rect l="l" t="t" r="r" b="b"/>
              <a:pathLst>
                <a:path w="3133" h="1246">
                  <a:moveTo>
                    <a:pt x="0" y="1133"/>
                  </a:moveTo>
                  <a:lnTo>
                    <a:pt x="12" y="1114"/>
                  </a:lnTo>
                  <a:lnTo>
                    <a:pt x="47" y="1061"/>
                  </a:lnTo>
                  <a:lnTo>
                    <a:pt x="72" y="1023"/>
                  </a:lnTo>
                  <a:lnTo>
                    <a:pt x="103" y="979"/>
                  </a:lnTo>
                  <a:lnTo>
                    <a:pt x="139" y="930"/>
                  </a:lnTo>
                  <a:lnTo>
                    <a:pt x="180" y="876"/>
                  </a:lnTo>
                  <a:lnTo>
                    <a:pt x="227" y="819"/>
                  </a:lnTo>
                  <a:lnTo>
                    <a:pt x="277" y="758"/>
                  </a:lnTo>
                  <a:lnTo>
                    <a:pt x="333" y="695"/>
                  </a:lnTo>
                  <a:lnTo>
                    <a:pt x="392" y="630"/>
                  </a:lnTo>
                  <a:lnTo>
                    <a:pt x="457" y="564"/>
                  </a:lnTo>
                  <a:lnTo>
                    <a:pt x="525" y="499"/>
                  </a:lnTo>
                  <a:lnTo>
                    <a:pt x="598" y="434"/>
                  </a:lnTo>
                  <a:lnTo>
                    <a:pt x="675" y="371"/>
                  </a:lnTo>
                  <a:lnTo>
                    <a:pt x="755" y="311"/>
                  </a:lnTo>
                  <a:lnTo>
                    <a:pt x="839" y="253"/>
                  </a:lnTo>
                  <a:lnTo>
                    <a:pt x="926" y="200"/>
                  </a:lnTo>
                  <a:lnTo>
                    <a:pt x="1018" y="151"/>
                  </a:lnTo>
                  <a:lnTo>
                    <a:pt x="1112" y="108"/>
                  </a:lnTo>
                  <a:lnTo>
                    <a:pt x="1209" y="71"/>
                  </a:lnTo>
                  <a:lnTo>
                    <a:pt x="1310" y="41"/>
                  </a:lnTo>
                  <a:lnTo>
                    <a:pt x="1413" y="18"/>
                  </a:lnTo>
                  <a:lnTo>
                    <a:pt x="1518" y="5"/>
                  </a:lnTo>
                  <a:lnTo>
                    <a:pt x="1628" y="0"/>
                  </a:lnTo>
                  <a:lnTo>
                    <a:pt x="1738" y="6"/>
                  </a:lnTo>
                  <a:lnTo>
                    <a:pt x="1851" y="22"/>
                  </a:lnTo>
                  <a:lnTo>
                    <a:pt x="1967" y="51"/>
                  </a:lnTo>
                  <a:lnTo>
                    <a:pt x="2083" y="92"/>
                  </a:lnTo>
                  <a:lnTo>
                    <a:pt x="2204" y="146"/>
                  </a:lnTo>
                  <a:lnTo>
                    <a:pt x="2324" y="215"/>
                  </a:lnTo>
                  <a:lnTo>
                    <a:pt x="2334" y="223"/>
                  </a:lnTo>
                  <a:lnTo>
                    <a:pt x="2360" y="246"/>
                  </a:lnTo>
                  <a:lnTo>
                    <a:pt x="2403" y="283"/>
                  </a:lnTo>
                  <a:lnTo>
                    <a:pt x="2456" y="331"/>
                  </a:lnTo>
                  <a:lnTo>
                    <a:pt x="2519" y="391"/>
                  </a:lnTo>
                  <a:lnTo>
                    <a:pt x="2590" y="458"/>
                  </a:lnTo>
                  <a:lnTo>
                    <a:pt x="2666" y="532"/>
                  </a:lnTo>
                  <a:lnTo>
                    <a:pt x="2743" y="613"/>
                  </a:lnTo>
                  <a:lnTo>
                    <a:pt x="2781" y="654"/>
                  </a:lnTo>
                  <a:lnTo>
                    <a:pt x="2820" y="696"/>
                  </a:lnTo>
                  <a:lnTo>
                    <a:pt x="2857" y="738"/>
                  </a:lnTo>
                  <a:lnTo>
                    <a:pt x="2894" y="782"/>
                  </a:lnTo>
                  <a:lnTo>
                    <a:pt x="2929" y="824"/>
                  </a:lnTo>
                  <a:lnTo>
                    <a:pt x="2963" y="867"/>
                  </a:lnTo>
                  <a:lnTo>
                    <a:pt x="2994" y="909"/>
                  </a:lnTo>
                  <a:lnTo>
                    <a:pt x="3022" y="951"/>
                  </a:lnTo>
                  <a:lnTo>
                    <a:pt x="3048" y="994"/>
                  </a:lnTo>
                  <a:lnTo>
                    <a:pt x="3072" y="1033"/>
                  </a:lnTo>
                  <a:lnTo>
                    <a:pt x="3092" y="1073"/>
                  </a:lnTo>
                  <a:lnTo>
                    <a:pt x="3109" y="1110"/>
                  </a:lnTo>
                  <a:lnTo>
                    <a:pt x="3122" y="1148"/>
                  </a:lnTo>
                  <a:lnTo>
                    <a:pt x="3129" y="1182"/>
                  </a:lnTo>
                  <a:lnTo>
                    <a:pt x="3133" y="1215"/>
                  </a:lnTo>
                  <a:lnTo>
                    <a:pt x="3131" y="1246"/>
                  </a:lnTo>
                  <a:lnTo>
                    <a:pt x="2975" y="1223"/>
                  </a:lnTo>
                  <a:lnTo>
                    <a:pt x="2968" y="1211"/>
                  </a:lnTo>
                  <a:lnTo>
                    <a:pt x="2948" y="1176"/>
                  </a:lnTo>
                  <a:lnTo>
                    <a:pt x="2914" y="1123"/>
                  </a:lnTo>
                  <a:lnTo>
                    <a:pt x="2871" y="1053"/>
                  </a:lnTo>
                  <a:lnTo>
                    <a:pt x="2817" y="971"/>
                  </a:lnTo>
                  <a:lnTo>
                    <a:pt x="2754" y="882"/>
                  </a:lnTo>
                  <a:lnTo>
                    <a:pt x="2719" y="834"/>
                  </a:lnTo>
                  <a:lnTo>
                    <a:pt x="2683" y="785"/>
                  </a:lnTo>
                  <a:lnTo>
                    <a:pt x="2645" y="737"/>
                  </a:lnTo>
                  <a:lnTo>
                    <a:pt x="2605" y="688"/>
                  </a:lnTo>
                  <a:lnTo>
                    <a:pt x="2564" y="639"/>
                  </a:lnTo>
                  <a:lnTo>
                    <a:pt x="2520" y="592"/>
                  </a:lnTo>
                  <a:lnTo>
                    <a:pt x="2477" y="545"/>
                  </a:lnTo>
                  <a:lnTo>
                    <a:pt x="2432" y="500"/>
                  </a:lnTo>
                  <a:lnTo>
                    <a:pt x="2386" y="456"/>
                  </a:lnTo>
                  <a:lnTo>
                    <a:pt x="2339" y="415"/>
                  </a:lnTo>
                  <a:lnTo>
                    <a:pt x="2292" y="378"/>
                  </a:lnTo>
                  <a:lnTo>
                    <a:pt x="2244" y="344"/>
                  </a:lnTo>
                  <a:lnTo>
                    <a:pt x="2194" y="313"/>
                  </a:lnTo>
                  <a:lnTo>
                    <a:pt x="2145" y="286"/>
                  </a:lnTo>
                  <a:lnTo>
                    <a:pt x="2096" y="264"/>
                  </a:lnTo>
                  <a:lnTo>
                    <a:pt x="2047" y="247"/>
                  </a:lnTo>
                  <a:lnTo>
                    <a:pt x="1998" y="236"/>
                  </a:lnTo>
                  <a:lnTo>
                    <a:pt x="1949" y="229"/>
                  </a:lnTo>
                  <a:lnTo>
                    <a:pt x="1900" y="231"/>
                  </a:lnTo>
                  <a:lnTo>
                    <a:pt x="1851" y="237"/>
                  </a:lnTo>
                  <a:lnTo>
                    <a:pt x="1840" y="236"/>
                  </a:lnTo>
                  <a:lnTo>
                    <a:pt x="1806" y="233"/>
                  </a:lnTo>
                  <a:lnTo>
                    <a:pt x="1783" y="232"/>
                  </a:lnTo>
                  <a:lnTo>
                    <a:pt x="1754" y="232"/>
                  </a:lnTo>
                  <a:lnTo>
                    <a:pt x="1721" y="231"/>
                  </a:lnTo>
                  <a:lnTo>
                    <a:pt x="1685" y="232"/>
                  </a:lnTo>
                  <a:lnTo>
                    <a:pt x="1644" y="233"/>
                  </a:lnTo>
                  <a:lnTo>
                    <a:pt x="1599" y="237"/>
                  </a:lnTo>
                  <a:lnTo>
                    <a:pt x="1553" y="242"/>
                  </a:lnTo>
                  <a:lnTo>
                    <a:pt x="1502" y="248"/>
                  </a:lnTo>
                  <a:lnTo>
                    <a:pt x="1450" y="257"/>
                  </a:lnTo>
                  <a:lnTo>
                    <a:pt x="1395" y="267"/>
                  </a:lnTo>
                  <a:lnTo>
                    <a:pt x="1338" y="280"/>
                  </a:lnTo>
                  <a:lnTo>
                    <a:pt x="1280" y="295"/>
                  </a:lnTo>
                  <a:lnTo>
                    <a:pt x="1220" y="315"/>
                  </a:lnTo>
                  <a:lnTo>
                    <a:pt x="1160" y="336"/>
                  </a:lnTo>
                  <a:lnTo>
                    <a:pt x="1099" y="362"/>
                  </a:lnTo>
                  <a:lnTo>
                    <a:pt x="1037" y="391"/>
                  </a:lnTo>
                  <a:lnTo>
                    <a:pt x="973" y="424"/>
                  </a:lnTo>
                  <a:lnTo>
                    <a:pt x="911" y="461"/>
                  </a:lnTo>
                  <a:lnTo>
                    <a:pt x="849" y="502"/>
                  </a:lnTo>
                  <a:lnTo>
                    <a:pt x="788" y="548"/>
                  </a:lnTo>
                  <a:lnTo>
                    <a:pt x="727" y="600"/>
                  </a:lnTo>
                  <a:lnTo>
                    <a:pt x="668" y="656"/>
                  </a:lnTo>
                  <a:lnTo>
                    <a:pt x="611" y="717"/>
                  </a:lnTo>
                  <a:lnTo>
                    <a:pt x="555" y="784"/>
                  </a:lnTo>
                  <a:lnTo>
                    <a:pt x="501" y="856"/>
                  </a:lnTo>
                  <a:lnTo>
                    <a:pt x="449" y="935"/>
                  </a:lnTo>
                  <a:lnTo>
                    <a:pt x="401" y="1020"/>
                  </a:lnTo>
                  <a:lnTo>
                    <a:pt x="355" y="1110"/>
                  </a:lnTo>
                  <a:lnTo>
                    <a:pt x="0" y="1133"/>
                  </a:lnTo>
                  <a:close/>
                </a:path>
              </a:pathLst>
            </a:custGeom>
            <a:solidFill>
              <a:srgbClr val="835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2841480" y="5184720"/>
              <a:ext cx="1284480" cy="523800"/>
            </a:xfrm>
            <a:custGeom>
              <a:avLst/>
              <a:gdLst/>
              <a:ahLst/>
              <a:rect l="l" t="t" r="r" b="b"/>
              <a:pathLst>
                <a:path w="3234" h="1321">
                  <a:moveTo>
                    <a:pt x="1383" y="37"/>
                  </a:moveTo>
                  <a:lnTo>
                    <a:pt x="1310" y="57"/>
                  </a:lnTo>
                  <a:lnTo>
                    <a:pt x="1237" y="82"/>
                  </a:lnTo>
                  <a:lnTo>
                    <a:pt x="1167" y="109"/>
                  </a:lnTo>
                  <a:lnTo>
                    <a:pt x="1098" y="139"/>
                  </a:lnTo>
                  <a:lnTo>
                    <a:pt x="1031" y="172"/>
                  </a:lnTo>
                  <a:lnTo>
                    <a:pt x="965" y="208"/>
                  </a:lnTo>
                  <a:lnTo>
                    <a:pt x="902" y="247"/>
                  </a:lnTo>
                  <a:lnTo>
                    <a:pt x="840" y="288"/>
                  </a:lnTo>
                  <a:lnTo>
                    <a:pt x="780" y="330"/>
                  </a:lnTo>
                  <a:lnTo>
                    <a:pt x="723" y="375"/>
                  </a:lnTo>
                  <a:lnTo>
                    <a:pt x="667" y="419"/>
                  </a:lnTo>
                  <a:lnTo>
                    <a:pt x="612" y="465"/>
                  </a:lnTo>
                  <a:lnTo>
                    <a:pt x="561" y="512"/>
                  </a:lnTo>
                  <a:lnTo>
                    <a:pt x="512" y="559"/>
                  </a:lnTo>
                  <a:lnTo>
                    <a:pt x="465" y="607"/>
                  </a:lnTo>
                  <a:lnTo>
                    <a:pt x="419" y="652"/>
                  </a:lnTo>
                  <a:lnTo>
                    <a:pt x="376" y="700"/>
                  </a:lnTo>
                  <a:lnTo>
                    <a:pt x="335" y="746"/>
                  </a:lnTo>
                  <a:lnTo>
                    <a:pt x="297" y="790"/>
                  </a:lnTo>
                  <a:lnTo>
                    <a:pt x="261" y="834"/>
                  </a:lnTo>
                  <a:lnTo>
                    <a:pt x="227" y="876"/>
                  </a:lnTo>
                  <a:lnTo>
                    <a:pt x="196" y="916"/>
                  </a:lnTo>
                  <a:lnTo>
                    <a:pt x="169" y="953"/>
                  </a:lnTo>
                  <a:lnTo>
                    <a:pt x="143" y="989"/>
                  </a:lnTo>
                  <a:lnTo>
                    <a:pt x="100" y="1051"/>
                  </a:lnTo>
                  <a:lnTo>
                    <a:pt x="66" y="1100"/>
                  </a:lnTo>
                  <a:lnTo>
                    <a:pt x="45" y="1135"/>
                  </a:lnTo>
                  <a:lnTo>
                    <a:pt x="35" y="1151"/>
                  </a:lnTo>
                  <a:lnTo>
                    <a:pt x="0" y="1210"/>
                  </a:lnTo>
                  <a:lnTo>
                    <a:pt x="443" y="1181"/>
                  </a:lnTo>
                  <a:lnTo>
                    <a:pt x="452" y="1161"/>
                  </a:lnTo>
                  <a:lnTo>
                    <a:pt x="496" y="1074"/>
                  </a:lnTo>
                  <a:lnTo>
                    <a:pt x="543" y="992"/>
                  </a:lnTo>
                  <a:lnTo>
                    <a:pt x="592" y="917"/>
                  </a:lnTo>
                  <a:lnTo>
                    <a:pt x="645" y="846"/>
                  </a:lnTo>
                  <a:lnTo>
                    <a:pt x="699" y="782"/>
                  </a:lnTo>
                  <a:lnTo>
                    <a:pt x="755" y="722"/>
                  </a:lnTo>
                  <a:lnTo>
                    <a:pt x="812" y="667"/>
                  </a:lnTo>
                  <a:lnTo>
                    <a:pt x="871" y="618"/>
                  </a:lnTo>
                  <a:lnTo>
                    <a:pt x="930" y="573"/>
                  </a:lnTo>
                  <a:lnTo>
                    <a:pt x="991" y="533"/>
                  </a:lnTo>
                  <a:lnTo>
                    <a:pt x="1051" y="496"/>
                  </a:lnTo>
                  <a:lnTo>
                    <a:pt x="1112" y="464"/>
                  </a:lnTo>
                  <a:lnTo>
                    <a:pt x="1172" y="435"/>
                  </a:lnTo>
                  <a:lnTo>
                    <a:pt x="1232" y="411"/>
                  </a:lnTo>
                  <a:lnTo>
                    <a:pt x="1292" y="389"/>
                  </a:lnTo>
                  <a:lnTo>
                    <a:pt x="1349" y="370"/>
                  </a:lnTo>
                  <a:lnTo>
                    <a:pt x="1406" y="355"/>
                  </a:lnTo>
                  <a:lnTo>
                    <a:pt x="1462" y="341"/>
                  </a:lnTo>
                  <a:lnTo>
                    <a:pt x="1515" y="330"/>
                  </a:lnTo>
                  <a:lnTo>
                    <a:pt x="1566" y="321"/>
                  </a:lnTo>
                  <a:lnTo>
                    <a:pt x="1614" y="315"/>
                  </a:lnTo>
                  <a:lnTo>
                    <a:pt x="1660" y="310"/>
                  </a:lnTo>
                  <a:lnTo>
                    <a:pt x="1704" y="306"/>
                  </a:lnTo>
                  <a:lnTo>
                    <a:pt x="1744" y="305"/>
                  </a:lnTo>
                  <a:lnTo>
                    <a:pt x="1780" y="304"/>
                  </a:lnTo>
                  <a:lnTo>
                    <a:pt x="1813" y="304"/>
                  </a:lnTo>
                  <a:lnTo>
                    <a:pt x="1842" y="304"/>
                  </a:lnTo>
                  <a:lnTo>
                    <a:pt x="1865" y="305"/>
                  </a:lnTo>
                  <a:lnTo>
                    <a:pt x="1899" y="308"/>
                  </a:lnTo>
                  <a:lnTo>
                    <a:pt x="1912" y="309"/>
                  </a:lnTo>
                  <a:lnTo>
                    <a:pt x="1958" y="301"/>
                  </a:lnTo>
                  <a:lnTo>
                    <a:pt x="2006" y="301"/>
                  </a:lnTo>
                  <a:lnTo>
                    <a:pt x="2053" y="308"/>
                  </a:lnTo>
                  <a:lnTo>
                    <a:pt x="2100" y="319"/>
                  </a:lnTo>
                  <a:lnTo>
                    <a:pt x="2148" y="336"/>
                  </a:lnTo>
                  <a:lnTo>
                    <a:pt x="2196" y="357"/>
                  </a:lnTo>
                  <a:lnTo>
                    <a:pt x="2243" y="383"/>
                  </a:lnTo>
                  <a:lnTo>
                    <a:pt x="2290" y="413"/>
                  </a:lnTo>
                  <a:lnTo>
                    <a:pt x="2337" y="448"/>
                  </a:lnTo>
                  <a:lnTo>
                    <a:pt x="2383" y="484"/>
                  </a:lnTo>
                  <a:lnTo>
                    <a:pt x="2429" y="523"/>
                  </a:lnTo>
                  <a:lnTo>
                    <a:pt x="2474" y="566"/>
                  </a:lnTo>
                  <a:lnTo>
                    <a:pt x="2517" y="609"/>
                  </a:lnTo>
                  <a:lnTo>
                    <a:pt x="2561" y="655"/>
                  </a:lnTo>
                  <a:lnTo>
                    <a:pt x="2603" y="701"/>
                  </a:lnTo>
                  <a:lnTo>
                    <a:pt x="2643" y="748"/>
                  </a:lnTo>
                  <a:lnTo>
                    <a:pt x="2681" y="796"/>
                  </a:lnTo>
                  <a:lnTo>
                    <a:pt x="2720" y="844"/>
                  </a:lnTo>
                  <a:lnTo>
                    <a:pt x="2754" y="891"/>
                  </a:lnTo>
                  <a:lnTo>
                    <a:pt x="2789" y="938"/>
                  </a:lnTo>
                  <a:lnTo>
                    <a:pt x="2851" y="1026"/>
                  </a:lnTo>
                  <a:lnTo>
                    <a:pt x="2903" y="1105"/>
                  </a:lnTo>
                  <a:lnTo>
                    <a:pt x="2947" y="1174"/>
                  </a:lnTo>
                  <a:lnTo>
                    <a:pt x="2979" y="1227"/>
                  </a:lnTo>
                  <a:lnTo>
                    <a:pt x="3000" y="1263"/>
                  </a:lnTo>
                  <a:lnTo>
                    <a:pt x="3008" y="1277"/>
                  </a:lnTo>
                  <a:lnTo>
                    <a:pt x="3016" y="1291"/>
                  </a:lnTo>
                  <a:lnTo>
                    <a:pt x="3227" y="1321"/>
                  </a:lnTo>
                  <a:lnTo>
                    <a:pt x="3232" y="1285"/>
                  </a:lnTo>
                  <a:lnTo>
                    <a:pt x="3234" y="1254"/>
                  </a:lnTo>
                  <a:lnTo>
                    <a:pt x="3231" y="1221"/>
                  </a:lnTo>
                  <a:lnTo>
                    <a:pt x="3224" y="1186"/>
                  </a:lnTo>
                  <a:lnTo>
                    <a:pt x="3213" y="1150"/>
                  </a:lnTo>
                  <a:lnTo>
                    <a:pt x="3198" y="1113"/>
                  </a:lnTo>
                  <a:lnTo>
                    <a:pt x="3179" y="1074"/>
                  </a:lnTo>
                  <a:lnTo>
                    <a:pt x="3158" y="1035"/>
                  </a:lnTo>
                  <a:lnTo>
                    <a:pt x="3134" y="994"/>
                  </a:lnTo>
                  <a:lnTo>
                    <a:pt x="3107" y="953"/>
                  </a:lnTo>
                  <a:lnTo>
                    <a:pt x="3078" y="911"/>
                  </a:lnTo>
                  <a:lnTo>
                    <a:pt x="3047" y="870"/>
                  </a:lnTo>
                  <a:lnTo>
                    <a:pt x="3014" y="827"/>
                  </a:lnTo>
                  <a:lnTo>
                    <a:pt x="2979" y="785"/>
                  </a:lnTo>
                  <a:lnTo>
                    <a:pt x="2944" y="743"/>
                  </a:lnTo>
                  <a:lnTo>
                    <a:pt x="2908" y="702"/>
                  </a:lnTo>
                  <a:lnTo>
                    <a:pt x="2871" y="661"/>
                  </a:lnTo>
                  <a:lnTo>
                    <a:pt x="2795" y="582"/>
                  </a:lnTo>
                  <a:lnTo>
                    <a:pt x="2721" y="507"/>
                  </a:lnTo>
                  <a:lnTo>
                    <a:pt x="2650" y="438"/>
                  </a:lnTo>
                  <a:lnTo>
                    <a:pt x="2583" y="376"/>
                  </a:lnTo>
                  <a:lnTo>
                    <a:pt x="2525" y="321"/>
                  </a:lnTo>
                  <a:lnTo>
                    <a:pt x="2475" y="278"/>
                  </a:lnTo>
                  <a:lnTo>
                    <a:pt x="2436" y="244"/>
                  </a:lnTo>
                  <a:lnTo>
                    <a:pt x="2413" y="223"/>
                  </a:lnTo>
                  <a:lnTo>
                    <a:pt x="2381" y="205"/>
                  </a:lnTo>
                  <a:lnTo>
                    <a:pt x="2350" y="186"/>
                  </a:lnTo>
                  <a:lnTo>
                    <a:pt x="2317" y="169"/>
                  </a:lnTo>
                  <a:lnTo>
                    <a:pt x="2286" y="151"/>
                  </a:lnTo>
                  <a:lnTo>
                    <a:pt x="2254" y="136"/>
                  </a:lnTo>
                  <a:lnTo>
                    <a:pt x="2222" y="121"/>
                  </a:lnTo>
                  <a:lnTo>
                    <a:pt x="2191" y="107"/>
                  </a:lnTo>
                  <a:lnTo>
                    <a:pt x="2158" y="94"/>
                  </a:lnTo>
                  <a:lnTo>
                    <a:pt x="2126" y="82"/>
                  </a:lnTo>
                  <a:lnTo>
                    <a:pt x="2094" y="71"/>
                  </a:lnTo>
                  <a:lnTo>
                    <a:pt x="2063" y="59"/>
                  </a:lnTo>
                  <a:lnTo>
                    <a:pt x="2030" y="50"/>
                  </a:lnTo>
                  <a:lnTo>
                    <a:pt x="1998" y="41"/>
                  </a:lnTo>
                  <a:lnTo>
                    <a:pt x="1966" y="33"/>
                  </a:lnTo>
                  <a:lnTo>
                    <a:pt x="1934" y="26"/>
                  </a:lnTo>
                  <a:lnTo>
                    <a:pt x="1901" y="20"/>
                  </a:lnTo>
                  <a:lnTo>
                    <a:pt x="1869" y="15"/>
                  </a:lnTo>
                  <a:lnTo>
                    <a:pt x="1837" y="10"/>
                  </a:lnTo>
                  <a:lnTo>
                    <a:pt x="1804" y="6"/>
                  </a:lnTo>
                  <a:lnTo>
                    <a:pt x="1772" y="4"/>
                  </a:lnTo>
                  <a:lnTo>
                    <a:pt x="1740" y="1"/>
                  </a:lnTo>
                  <a:lnTo>
                    <a:pt x="1708" y="1"/>
                  </a:lnTo>
                  <a:lnTo>
                    <a:pt x="1675" y="0"/>
                  </a:lnTo>
                  <a:lnTo>
                    <a:pt x="1643" y="1"/>
                  </a:lnTo>
                  <a:lnTo>
                    <a:pt x="1611" y="2"/>
                  </a:lnTo>
                  <a:lnTo>
                    <a:pt x="1578" y="5"/>
                  </a:lnTo>
                  <a:lnTo>
                    <a:pt x="1546" y="9"/>
                  </a:lnTo>
                  <a:lnTo>
                    <a:pt x="1514" y="12"/>
                  </a:lnTo>
                  <a:lnTo>
                    <a:pt x="1480" y="17"/>
                  </a:lnTo>
                  <a:lnTo>
                    <a:pt x="1448" y="23"/>
                  </a:lnTo>
                  <a:lnTo>
                    <a:pt x="1416" y="30"/>
                  </a:lnTo>
                  <a:lnTo>
                    <a:pt x="1383" y="37"/>
                  </a:lnTo>
                  <a:close/>
                  <a:moveTo>
                    <a:pt x="1401" y="107"/>
                  </a:moveTo>
                  <a:lnTo>
                    <a:pt x="1432" y="99"/>
                  </a:lnTo>
                  <a:lnTo>
                    <a:pt x="1462" y="93"/>
                  </a:lnTo>
                  <a:lnTo>
                    <a:pt x="1493" y="88"/>
                  </a:lnTo>
                  <a:lnTo>
                    <a:pt x="1524" y="83"/>
                  </a:lnTo>
                  <a:lnTo>
                    <a:pt x="1554" y="79"/>
                  </a:lnTo>
                  <a:lnTo>
                    <a:pt x="1585" y="76"/>
                  </a:lnTo>
                  <a:lnTo>
                    <a:pt x="1616" y="74"/>
                  </a:lnTo>
                  <a:lnTo>
                    <a:pt x="1647" y="72"/>
                  </a:lnTo>
                  <a:lnTo>
                    <a:pt x="1677" y="72"/>
                  </a:lnTo>
                  <a:lnTo>
                    <a:pt x="1708" y="72"/>
                  </a:lnTo>
                  <a:lnTo>
                    <a:pt x="1737" y="73"/>
                  </a:lnTo>
                  <a:lnTo>
                    <a:pt x="1768" y="74"/>
                  </a:lnTo>
                  <a:lnTo>
                    <a:pt x="1798" y="78"/>
                  </a:lnTo>
                  <a:lnTo>
                    <a:pt x="1829" y="81"/>
                  </a:lnTo>
                  <a:lnTo>
                    <a:pt x="1860" y="85"/>
                  </a:lnTo>
                  <a:lnTo>
                    <a:pt x="1890" y="90"/>
                  </a:lnTo>
                  <a:lnTo>
                    <a:pt x="1920" y="97"/>
                  </a:lnTo>
                  <a:lnTo>
                    <a:pt x="1951" y="103"/>
                  </a:lnTo>
                  <a:lnTo>
                    <a:pt x="1981" y="110"/>
                  </a:lnTo>
                  <a:lnTo>
                    <a:pt x="2012" y="119"/>
                  </a:lnTo>
                  <a:lnTo>
                    <a:pt x="2042" y="128"/>
                  </a:lnTo>
                  <a:lnTo>
                    <a:pt x="2071" y="138"/>
                  </a:lnTo>
                  <a:lnTo>
                    <a:pt x="2101" y="149"/>
                  </a:lnTo>
                  <a:lnTo>
                    <a:pt x="2132" y="160"/>
                  </a:lnTo>
                  <a:lnTo>
                    <a:pt x="2162" y="172"/>
                  </a:lnTo>
                  <a:lnTo>
                    <a:pt x="2192" y="185"/>
                  </a:lnTo>
                  <a:lnTo>
                    <a:pt x="2222" y="200"/>
                  </a:lnTo>
                  <a:lnTo>
                    <a:pt x="2251" y="215"/>
                  </a:lnTo>
                  <a:lnTo>
                    <a:pt x="2281" y="229"/>
                  </a:lnTo>
                  <a:lnTo>
                    <a:pt x="2311" y="246"/>
                  </a:lnTo>
                  <a:lnTo>
                    <a:pt x="2341" y="263"/>
                  </a:lnTo>
                  <a:lnTo>
                    <a:pt x="2371" y="280"/>
                  </a:lnTo>
                  <a:lnTo>
                    <a:pt x="2415" y="319"/>
                  </a:lnTo>
                  <a:lnTo>
                    <a:pt x="2466" y="365"/>
                  </a:lnTo>
                  <a:lnTo>
                    <a:pt x="2522" y="416"/>
                  </a:lnTo>
                  <a:lnTo>
                    <a:pt x="2582" y="473"/>
                  </a:lnTo>
                  <a:lnTo>
                    <a:pt x="2645" y="533"/>
                  </a:lnTo>
                  <a:lnTo>
                    <a:pt x="2708" y="598"/>
                  </a:lnTo>
                  <a:lnTo>
                    <a:pt x="2773" y="664"/>
                  </a:lnTo>
                  <a:lnTo>
                    <a:pt x="2836" y="733"/>
                  </a:lnTo>
                  <a:lnTo>
                    <a:pt x="2867" y="768"/>
                  </a:lnTo>
                  <a:lnTo>
                    <a:pt x="2898" y="803"/>
                  </a:lnTo>
                  <a:lnTo>
                    <a:pt x="2927" y="837"/>
                  </a:lnTo>
                  <a:lnTo>
                    <a:pt x="2956" y="872"/>
                  </a:lnTo>
                  <a:lnTo>
                    <a:pt x="2983" y="907"/>
                  </a:lnTo>
                  <a:lnTo>
                    <a:pt x="3009" y="940"/>
                  </a:lnTo>
                  <a:lnTo>
                    <a:pt x="3033" y="974"/>
                  </a:lnTo>
                  <a:lnTo>
                    <a:pt x="3056" y="1007"/>
                  </a:lnTo>
                  <a:lnTo>
                    <a:pt x="3076" y="1040"/>
                  </a:lnTo>
                  <a:lnTo>
                    <a:pt x="3096" y="1072"/>
                  </a:lnTo>
                  <a:lnTo>
                    <a:pt x="3112" y="1103"/>
                  </a:lnTo>
                  <a:lnTo>
                    <a:pt x="3127" y="1133"/>
                  </a:lnTo>
                  <a:lnTo>
                    <a:pt x="3138" y="1161"/>
                  </a:lnTo>
                  <a:lnTo>
                    <a:pt x="3148" y="1188"/>
                  </a:lnTo>
                  <a:lnTo>
                    <a:pt x="3154" y="1215"/>
                  </a:lnTo>
                  <a:lnTo>
                    <a:pt x="3158" y="1239"/>
                  </a:lnTo>
                  <a:lnTo>
                    <a:pt x="3129" y="1236"/>
                  </a:lnTo>
                  <a:lnTo>
                    <a:pt x="3102" y="1232"/>
                  </a:lnTo>
                  <a:lnTo>
                    <a:pt x="3080" y="1228"/>
                  </a:lnTo>
                  <a:lnTo>
                    <a:pt x="3062" y="1226"/>
                  </a:lnTo>
                  <a:lnTo>
                    <a:pt x="3045" y="1196"/>
                  </a:lnTo>
                  <a:lnTo>
                    <a:pt x="3016" y="1148"/>
                  </a:lnTo>
                  <a:lnTo>
                    <a:pt x="2977" y="1085"/>
                  </a:lnTo>
                  <a:lnTo>
                    <a:pt x="2928" y="1011"/>
                  </a:lnTo>
                  <a:lnTo>
                    <a:pt x="2901" y="970"/>
                  </a:lnTo>
                  <a:lnTo>
                    <a:pt x="2871" y="927"/>
                  </a:lnTo>
                  <a:lnTo>
                    <a:pt x="2839" y="882"/>
                  </a:lnTo>
                  <a:lnTo>
                    <a:pt x="2805" y="836"/>
                  </a:lnTo>
                  <a:lnTo>
                    <a:pt x="2771" y="790"/>
                  </a:lnTo>
                  <a:lnTo>
                    <a:pt x="2733" y="743"/>
                  </a:lnTo>
                  <a:lnTo>
                    <a:pt x="2695" y="696"/>
                  </a:lnTo>
                  <a:lnTo>
                    <a:pt x="2655" y="650"/>
                  </a:lnTo>
                  <a:lnTo>
                    <a:pt x="2614" y="604"/>
                  </a:lnTo>
                  <a:lnTo>
                    <a:pt x="2572" y="558"/>
                  </a:lnTo>
                  <a:lnTo>
                    <a:pt x="2528" y="515"/>
                  </a:lnTo>
                  <a:lnTo>
                    <a:pt x="2484" y="473"/>
                  </a:lnTo>
                  <a:lnTo>
                    <a:pt x="2438" y="433"/>
                  </a:lnTo>
                  <a:lnTo>
                    <a:pt x="2392" y="396"/>
                  </a:lnTo>
                  <a:lnTo>
                    <a:pt x="2345" y="361"/>
                  </a:lnTo>
                  <a:lnTo>
                    <a:pt x="2297" y="330"/>
                  </a:lnTo>
                  <a:lnTo>
                    <a:pt x="2250" y="303"/>
                  </a:lnTo>
                  <a:lnTo>
                    <a:pt x="2202" y="278"/>
                  </a:lnTo>
                  <a:lnTo>
                    <a:pt x="2152" y="259"/>
                  </a:lnTo>
                  <a:lnTo>
                    <a:pt x="2104" y="244"/>
                  </a:lnTo>
                  <a:lnTo>
                    <a:pt x="2055" y="234"/>
                  </a:lnTo>
                  <a:lnTo>
                    <a:pt x="2006" y="229"/>
                  </a:lnTo>
                  <a:lnTo>
                    <a:pt x="1957" y="231"/>
                  </a:lnTo>
                  <a:lnTo>
                    <a:pt x="1909" y="238"/>
                  </a:lnTo>
                  <a:lnTo>
                    <a:pt x="1898" y="237"/>
                  </a:lnTo>
                  <a:lnTo>
                    <a:pt x="1864" y="234"/>
                  </a:lnTo>
                  <a:lnTo>
                    <a:pt x="1840" y="233"/>
                  </a:lnTo>
                  <a:lnTo>
                    <a:pt x="1812" y="233"/>
                  </a:lnTo>
                  <a:lnTo>
                    <a:pt x="1778" y="233"/>
                  </a:lnTo>
                  <a:lnTo>
                    <a:pt x="1742" y="234"/>
                  </a:lnTo>
                  <a:lnTo>
                    <a:pt x="1701" y="236"/>
                  </a:lnTo>
                  <a:lnTo>
                    <a:pt x="1657" y="239"/>
                  </a:lnTo>
                  <a:lnTo>
                    <a:pt x="1609" y="244"/>
                  </a:lnTo>
                  <a:lnTo>
                    <a:pt x="1560" y="251"/>
                  </a:lnTo>
                  <a:lnTo>
                    <a:pt x="1506" y="260"/>
                  </a:lnTo>
                  <a:lnTo>
                    <a:pt x="1452" y="270"/>
                  </a:lnTo>
                  <a:lnTo>
                    <a:pt x="1395" y="284"/>
                  </a:lnTo>
                  <a:lnTo>
                    <a:pt x="1335" y="300"/>
                  </a:lnTo>
                  <a:lnTo>
                    <a:pt x="1275" y="320"/>
                  </a:lnTo>
                  <a:lnTo>
                    <a:pt x="1215" y="342"/>
                  </a:lnTo>
                  <a:lnTo>
                    <a:pt x="1151" y="368"/>
                  </a:lnTo>
                  <a:lnTo>
                    <a:pt x="1089" y="397"/>
                  </a:lnTo>
                  <a:lnTo>
                    <a:pt x="1026" y="430"/>
                  </a:lnTo>
                  <a:lnTo>
                    <a:pt x="964" y="468"/>
                  </a:lnTo>
                  <a:lnTo>
                    <a:pt x="900" y="509"/>
                  </a:lnTo>
                  <a:lnTo>
                    <a:pt x="838" y="554"/>
                  </a:lnTo>
                  <a:lnTo>
                    <a:pt x="778" y="605"/>
                  </a:lnTo>
                  <a:lnTo>
                    <a:pt x="718" y="661"/>
                  </a:lnTo>
                  <a:lnTo>
                    <a:pt x="658" y="722"/>
                  </a:lnTo>
                  <a:lnTo>
                    <a:pt x="602" y="789"/>
                  </a:lnTo>
                  <a:lnTo>
                    <a:pt x="548" y="861"/>
                  </a:lnTo>
                  <a:lnTo>
                    <a:pt x="496" y="938"/>
                  </a:lnTo>
                  <a:lnTo>
                    <a:pt x="445" y="1022"/>
                  </a:lnTo>
                  <a:lnTo>
                    <a:pt x="399" y="1113"/>
                  </a:lnTo>
                  <a:lnTo>
                    <a:pt x="383" y="1113"/>
                  </a:lnTo>
                  <a:lnTo>
                    <a:pt x="358" y="1115"/>
                  </a:lnTo>
                  <a:lnTo>
                    <a:pt x="326" y="1117"/>
                  </a:lnTo>
                  <a:lnTo>
                    <a:pt x="288" y="1119"/>
                  </a:lnTo>
                  <a:lnTo>
                    <a:pt x="247" y="1121"/>
                  </a:lnTo>
                  <a:lnTo>
                    <a:pt x="208" y="1124"/>
                  </a:lnTo>
                  <a:lnTo>
                    <a:pt x="168" y="1126"/>
                  </a:lnTo>
                  <a:lnTo>
                    <a:pt x="133" y="1129"/>
                  </a:lnTo>
                  <a:lnTo>
                    <a:pt x="162" y="1087"/>
                  </a:lnTo>
                  <a:lnTo>
                    <a:pt x="199" y="1035"/>
                  </a:lnTo>
                  <a:lnTo>
                    <a:pt x="242" y="975"/>
                  </a:lnTo>
                  <a:lnTo>
                    <a:pt x="294" y="909"/>
                  </a:lnTo>
                  <a:lnTo>
                    <a:pt x="323" y="873"/>
                  </a:lnTo>
                  <a:lnTo>
                    <a:pt x="353" y="837"/>
                  </a:lnTo>
                  <a:lnTo>
                    <a:pt x="385" y="800"/>
                  </a:lnTo>
                  <a:lnTo>
                    <a:pt x="419" y="762"/>
                  </a:lnTo>
                  <a:lnTo>
                    <a:pt x="455" y="722"/>
                  </a:lnTo>
                  <a:lnTo>
                    <a:pt x="492" y="684"/>
                  </a:lnTo>
                  <a:lnTo>
                    <a:pt x="530" y="644"/>
                  </a:lnTo>
                  <a:lnTo>
                    <a:pt x="570" y="604"/>
                  </a:lnTo>
                  <a:lnTo>
                    <a:pt x="612" y="564"/>
                  </a:lnTo>
                  <a:lnTo>
                    <a:pt x="656" y="525"/>
                  </a:lnTo>
                  <a:lnTo>
                    <a:pt x="701" y="486"/>
                  </a:lnTo>
                  <a:lnTo>
                    <a:pt x="746" y="448"/>
                  </a:lnTo>
                  <a:lnTo>
                    <a:pt x="794" y="411"/>
                  </a:lnTo>
                  <a:lnTo>
                    <a:pt x="843" y="375"/>
                  </a:lnTo>
                  <a:lnTo>
                    <a:pt x="893" y="340"/>
                  </a:lnTo>
                  <a:lnTo>
                    <a:pt x="945" y="306"/>
                  </a:lnTo>
                  <a:lnTo>
                    <a:pt x="997" y="274"/>
                  </a:lnTo>
                  <a:lnTo>
                    <a:pt x="1052" y="243"/>
                  </a:lnTo>
                  <a:lnTo>
                    <a:pt x="1107" y="215"/>
                  </a:lnTo>
                  <a:lnTo>
                    <a:pt x="1164" y="188"/>
                  </a:lnTo>
                  <a:lnTo>
                    <a:pt x="1221" y="164"/>
                  </a:lnTo>
                  <a:lnTo>
                    <a:pt x="1280" y="143"/>
                  </a:lnTo>
                  <a:lnTo>
                    <a:pt x="1340" y="123"/>
                  </a:lnTo>
                  <a:lnTo>
                    <a:pt x="1401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2913120" y="5261040"/>
              <a:ext cx="1198440" cy="511200"/>
            </a:xfrm>
            <a:custGeom>
              <a:avLst/>
              <a:gdLst/>
              <a:ahLst/>
              <a:rect l="l" t="t" r="r" b="b"/>
              <a:pathLst>
                <a:path w="3019" h="1290">
                  <a:moveTo>
                    <a:pt x="0" y="1030"/>
                  </a:moveTo>
                  <a:lnTo>
                    <a:pt x="10" y="1013"/>
                  </a:lnTo>
                  <a:lnTo>
                    <a:pt x="42" y="963"/>
                  </a:lnTo>
                  <a:lnTo>
                    <a:pt x="66" y="927"/>
                  </a:lnTo>
                  <a:lnTo>
                    <a:pt x="94" y="888"/>
                  </a:lnTo>
                  <a:lnTo>
                    <a:pt x="128" y="842"/>
                  </a:lnTo>
                  <a:lnTo>
                    <a:pt x="166" y="791"/>
                  </a:lnTo>
                  <a:lnTo>
                    <a:pt x="209" y="737"/>
                  </a:lnTo>
                  <a:lnTo>
                    <a:pt x="256" y="682"/>
                  </a:lnTo>
                  <a:lnTo>
                    <a:pt x="308" y="623"/>
                  </a:lnTo>
                  <a:lnTo>
                    <a:pt x="364" y="564"/>
                  </a:lnTo>
                  <a:lnTo>
                    <a:pt x="425" y="503"/>
                  </a:lnTo>
                  <a:lnTo>
                    <a:pt x="489" y="442"/>
                  </a:lnTo>
                  <a:lnTo>
                    <a:pt x="558" y="384"/>
                  </a:lnTo>
                  <a:lnTo>
                    <a:pt x="630" y="325"/>
                  </a:lnTo>
                  <a:lnTo>
                    <a:pt x="705" y="271"/>
                  </a:lnTo>
                  <a:lnTo>
                    <a:pt x="786" y="219"/>
                  </a:lnTo>
                  <a:lnTo>
                    <a:pt x="869" y="170"/>
                  </a:lnTo>
                  <a:lnTo>
                    <a:pt x="956" y="126"/>
                  </a:lnTo>
                  <a:lnTo>
                    <a:pt x="1047" y="87"/>
                  </a:lnTo>
                  <a:lnTo>
                    <a:pt x="1140" y="55"/>
                  </a:lnTo>
                  <a:lnTo>
                    <a:pt x="1237" y="30"/>
                  </a:lnTo>
                  <a:lnTo>
                    <a:pt x="1337" y="12"/>
                  </a:lnTo>
                  <a:lnTo>
                    <a:pt x="1439" y="2"/>
                  </a:lnTo>
                  <a:lnTo>
                    <a:pt x="1546" y="0"/>
                  </a:lnTo>
                  <a:lnTo>
                    <a:pt x="1654" y="10"/>
                  </a:lnTo>
                  <a:lnTo>
                    <a:pt x="1766" y="29"/>
                  </a:lnTo>
                  <a:lnTo>
                    <a:pt x="1879" y="60"/>
                  </a:lnTo>
                  <a:lnTo>
                    <a:pt x="1995" y="102"/>
                  </a:lnTo>
                  <a:lnTo>
                    <a:pt x="2113" y="158"/>
                  </a:lnTo>
                  <a:lnTo>
                    <a:pt x="2234" y="226"/>
                  </a:lnTo>
                  <a:lnTo>
                    <a:pt x="2244" y="235"/>
                  </a:lnTo>
                  <a:lnTo>
                    <a:pt x="2270" y="258"/>
                  </a:lnTo>
                  <a:lnTo>
                    <a:pt x="2310" y="297"/>
                  </a:lnTo>
                  <a:lnTo>
                    <a:pt x="2363" y="348"/>
                  </a:lnTo>
                  <a:lnTo>
                    <a:pt x="2424" y="410"/>
                  </a:lnTo>
                  <a:lnTo>
                    <a:pt x="2493" y="481"/>
                  </a:lnTo>
                  <a:lnTo>
                    <a:pt x="2565" y="558"/>
                  </a:lnTo>
                  <a:lnTo>
                    <a:pt x="2641" y="641"/>
                  </a:lnTo>
                  <a:lnTo>
                    <a:pt x="2678" y="683"/>
                  </a:lnTo>
                  <a:lnTo>
                    <a:pt x="2716" y="727"/>
                  </a:lnTo>
                  <a:lnTo>
                    <a:pt x="2752" y="771"/>
                  </a:lnTo>
                  <a:lnTo>
                    <a:pt x="2788" y="816"/>
                  </a:lnTo>
                  <a:lnTo>
                    <a:pt x="2821" y="860"/>
                  </a:lnTo>
                  <a:lnTo>
                    <a:pt x="2854" y="904"/>
                  </a:lnTo>
                  <a:lnTo>
                    <a:pt x="2885" y="948"/>
                  </a:lnTo>
                  <a:lnTo>
                    <a:pt x="2912" y="992"/>
                  </a:lnTo>
                  <a:lnTo>
                    <a:pt x="2938" y="1034"/>
                  </a:lnTo>
                  <a:lnTo>
                    <a:pt x="2960" y="1075"/>
                  </a:lnTo>
                  <a:lnTo>
                    <a:pt x="2980" y="1116"/>
                  </a:lnTo>
                  <a:lnTo>
                    <a:pt x="2995" y="1154"/>
                  </a:lnTo>
                  <a:lnTo>
                    <a:pt x="3008" y="1191"/>
                  </a:lnTo>
                  <a:lnTo>
                    <a:pt x="3016" y="1226"/>
                  </a:lnTo>
                  <a:lnTo>
                    <a:pt x="3019" y="1260"/>
                  </a:lnTo>
                  <a:lnTo>
                    <a:pt x="3017" y="1290"/>
                  </a:lnTo>
                  <a:lnTo>
                    <a:pt x="2861" y="1267"/>
                  </a:lnTo>
                  <a:lnTo>
                    <a:pt x="2854" y="1255"/>
                  </a:lnTo>
                  <a:lnTo>
                    <a:pt x="2834" y="1220"/>
                  </a:lnTo>
                  <a:lnTo>
                    <a:pt x="2800" y="1167"/>
                  </a:lnTo>
                  <a:lnTo>
                    <a:pt x="2757" y="1097"/>
                  </a:lnTo>
                  <a:lnTo>
                    <a:pt x="2703" y="1017"/>
                  </a:lnTo>
                  <a:lnTo>
                    <a:pt x="2640" y="926"/>
                  </a:lnTo>
                  <a:lnTo>
                    <a:pt x="2605" y="879"/>
                  </a:lnTo>
                  <a:lnTo>
                    <a:pt x="2569" y="830"/>
                  </a:lnTo>
                  <a:lnTo>
                    <a:pt x="2531" y="782"/>
                  </a:lnTo>
                  <a:lnTo>
                    <a:pt x="2491" y="732"/>
                  </a:lnTo>
                  <a:lnTo>
                    <a:pt x="2450" y="684"/>
                  </a:lnTo>
                  <a:lnTo>
                    <a:pt x="2406" y="636"/>
                  </a:lnTo>
                  <a:lnTo>
                    <a:pt x="2363" y="590"/>
                  </a:lnTo>
                  <a:lnTo>
                    <a:pt x="2318" y="544"/>
                  </a:lnTo>
                  <a:lnTo>
                    <a:pt x="2272" y="502"/>
                  </a:lnTo>
                  <a:lnTo>
                    <a:pt x="2225" y="461"/>
                  </a:lnTo>
                  <a:lnTo>
                    <a:pt x="2178" y="424"/>
                  </a:lnTo>
                  <a:lnTo>
                    <a:pt x="2130" y="389"/>
                  </a:lnTo>
                  <a:lnTo>
                    <a:pt x="2080" y="358"/>
                  </a:lnTo>
                  <a:lnTo>
                    <a:pt x="2031" y="332"/>
                  </a:lnTo>
                  <a:lnTo>
                    <a:pt x="1982" y="309"/>
                  </a:lnTo>
                  <a:lnTo>
                    <a:pt x="1933" y="292"/>
                  </a:lnTo>
                  <a:lnTo>
                    <a:pt x="1884" y="281"/>
                  </a:lnTo>
                  <a:lnTo>
                    <a:pt x="1835" y="275"/>
                  </a:lnTo>
                  <a:lnTo>
                    <a:pt x="1786" y="275"/>
                  </a:lnTo>
                  <a:lnTo>
                    <a:pt x="1737" y="282"/>
                  </a:lnTo>
                  <a:lnTo>
                    <a:pt x="1726" y="281"/>
                  </a:lnTo>
                  <a:lnTo>
                    <a:pt x="1692" y="278"/>
                  </a:lnTo>
                  <a:lnTo>
                    <a:pt x="1669" y="277"/>
                  </a:lnTo>
                  <a:lnTo>
                    <a:pt x="1640" y="276"/>
                  </a:lnTo>
                  <a:lnTo>
                    <a:pt x="1607" y="276"/>
                  </a:lnTo>
                  <a:lnTo>
                    <a:pt x="1571" y="276"/>
                  </a:lnTo>
                  <a:lnTo>
                    <a:pt x="1530" y="278"/>
                  </a:lnTo>
                  <a:lnTo>
                    <a:pt x="1485" y="281"/>
                  </a:lnTo>
                  <a:lnTo>
                    <a:pt x="1439" y="286"/>
                  </a:lnTo>
                  <a:lnTo>
                    <a:pt x="1388" y="292"/>
                  </a:lnTo>
                  <a:lnTo>
                    <a:pt x="1336" y="301"/>
                  </a:lnTo>
                  <a:lnTo>
                    <a:pt x="1281" y="312"/>
                  </a:lnTo>
                  <a:lnTo>
                    <a:pt x="1224" y="324"/>
                  </a:lnTo>
                  <a:lnTo>
                    <a:pt x="1166" y="340"/>
                  </a:lnTo>
                  <a:lnTo>
                    <a:pt x="1106" y="359"/>
                  </a:lnTo>
                  <a:lnTo>
                    <a:pt x="1046" y="381"/>
                  </a:lnTo>
                  <a:lnTo>
                    <a:pt x="985" y="407"/>
                  </a:lnTo>
                  <a:lnTo>
                    <a:pt x="923" y="436"/>
                  </a:lnTo>
                  <a:lnTo>
                    <a:pt x="859" y="469"/>
                  </a:lnTo>
                  <a:lnTo>
                    <a:pt x="797" y="507"/>
                  </a:lnTo>
                  <a:lnTo>
                    <a:pt x="735" y="548"/>
                  </a:lnTo>
                  <a:lnTo>
                    <a:pt x="674" y="593"/>
                  </a:lnTo>
                  <a:lnTo>
                    <a:pt x="613" y="644"/>
                  </a:lnTo>
                  <a:lnTo>
                    <a:pt x="554" y="700"/>
                  </a:lnTo>
                  <a:lnTo>
                    <a:pt x="497" y="762"/>
                  </a:lnTo>
                  <a:lnTo>
                    <a:pt x="441" y="828"/>
                  </a:lnTo>
                  <a:lnTo>
                    <a:pt x="387" y="901"/>
                  </a:lnTo>
                  <a:lnTo>
                    <a:pt x="335" y="979"/>
                  </a:lnTo>
                  <a:lnTo>
                    <a:pt x="287" y="1065"/>
                  </a:lnTo>
                  <a:lnTo>
                    <a:pt x="241" y="1156"/>
                  </a:lnTo>
                  <a:lnTo>
                    <a:pt x="0" y="103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2894040" y="5246640"/>
              <a:ext cx="1231920" cy="542880"/>
            </a:xfrm>
            <a:custGeom>
              <a:avLst/>
              <a:gdLst/>
              <a:ahLst/>
              <a:rect l="l" t="t" r="r" b="b"/>
              <a:pathLst>
                <a:path w="3105" h="1366">
                  <a:moveTo>
                    <a:pt x="1247" y="38"/>
                  </a:moveTo>
                  <a:lnTo>
                    <a:pt x="1179" y="58"/>
                  </a:lnTo>
                  <a:lnTo>
                    <a:pt x="1112" y="80"/>
                  </a:lnTo>
                  <a:lnTo>
                    <a:pt x="1046" y="106"/>
                  </a:lnTo>
                  <a:lnTo>
                    <a:pt x="983" y="133"/>
                  </a:lnTo>
                  <a:lnTo>
                    <a:pt x="920" y="164"/>
                  </a:lnTo>
                  <a:lnTo>
                    <a:pt x="860" y="198"/>
                  </a:lnTo>
                  <a:lnTo>
                    <a:pt x="801" y="232"/>
                  </a:lnTo>
                  <a:lnTo>
                    <a:pt x="745" y="270"/>
                  </a:lnTo>
                  <a:lnTo>
                    <a:pt x="689" y="308"/>
                  </a:lnTo>
                  <a:lnTo>
                    <a:pt x="637" y="348"/>
                  </a:lnTo>
                  <a:lnTo>
                    <a:pt x="586" y="389"/>
                  </a:lnTo>
                  <a:lnTo>
                    <a:pt x="537" y="431"/>
                  </a:lnTo>
                  <a:lnTo>
                    <a:pt x="491" y="473"/>
                  </a:lnTo>
                  <a:lnTo>
                    <a:pt x="445" y="515"/>
                  </a:lnTo>
                  <a:lnTo>
                    <a:pt x="403" y="558"/>
                  </a:lnTo>
                  <a:lnTo>
                    <a:pt x="362" y="600"/>
                  </a:lnTo>
                  <a:lnTo>
                    <a:pt x="323" y="642"/>
                  </a:lnTo>
                  <a:lnTo>
                    <a:pt x="287" y="684"/>
                  </a:lnTo>
                  <a:lnTo>
                    <a:pt x="252" y="724"/>
                  </a:lnTo>
                  <a:lnTo>
                    <a:pt x="220" y="763"/>
                  </a:lnTo>
                  <a:lnTo>
                    <a:pt x="190" y="801"/>
                  </a:lnTo>
                  <a:lnTo>
                    <a:pt x="163" y="837"/>
                  </a:lnTo>
                  <a:lnTo>
                    <a:pt x="137" y="870"/>
                  </a:lnTo>
                  <a:lnTo>
                    <a:pt x="115" y="902"/>
                  </a:lnTo>
                  <a:lnTo>
                    <a:pt x="76" y="958"/>
                  </a:lnTo>
                  <a:lnTo>
                    <a:pt x="46" y="1003"/>
                  </a:lnTo>
                  <a:lnTo>
                    <a:pt x="28" y="1034"/>
                  </a:lnTo>
                  <a:lnTo>
                    <a:pt x="19" y="1049"/>
                  </a:lnTo>
                  <a:lnTo>
                    <a:pt x="0" y="1081"/>
                  </a:lnTo>
                  <a:lnTo>
                    <a:pt x="307" y="1240"/>
                  </a:lnTo>
                  <a:lnTo>
                    <a:pt x="323" y="1206"/>
                  </a:lnTo>
                  <a:lnTo>
                    <a:pt x="367" y="1118"/>
                  </a:lnTo>
                  <a:lnTo>
                    <a:pt x="414" y="1036"/>
                  </a:lnTo>
                  <a:lnTo>
                    <a:pt x="463" y="961"/>
                  </a:lnTo>
                  <a:lnTo>
                    <a:pt x="516" y="891"/>
                  </a:lnTo>
                  <a:lnTo>
                    <a:pt x="570" y="827"/>
                  </a:lnTo>
                  <a:lnTo>
                    <a:pt x="626" y="767"/>
                  </a:lnTo>
                  <a:lnTo>
                    <a:pt x="683" y="713"/>
                  </a:lnTo>
                  <a:lnTo>
                    <a:pt x="742" y="663"/>
                  </a:lnTo>
                  <a:lnTo>
                    <a:pt x="801" y="618"/>
                  </a:lnTo>
                  <a:lnTo>
                    <a:pt x="862" y="577"/>
                  </a:lnTo>
                  <a:lnTo>
                    <a:pt x="922" y="541"/>
                  </a:lnTo>
                  <a:lnTo>
                    <a:pt x="983" y="509"/>
                  </a:lnTo>
                  <a:lnTo>
                    <a:pt x="1043" y="481"/>
                  </a:lnTo>
                  <a:lnTo>
                    <a:pt x="1103" y="456"/>
                  </a:lnTo>
                  <a:lnTo>
                    <a:pt x="1163" y="433"/>
                  </a:lnTo>
                  <a:lnTo>
                    <a:pt x="1220" y="415"/>
                  </a:lnTo>
                  <a:lnTo>
                    <a:pt x="1277" y="399"/>
                  </a:lnTo>
                  <a:lnTo>
                    <a:pt x="1333" y="386"/>
                  </a:lnTo>
                  <a:lnTo>
                    <a:pt x="1386" y="375"/>
                  </a:lnTo>
                  <a:lnTo>
                    <a:pt x="1437" y="366"/>
                  </a:lnTo>
                  <a:lnTo>
                    <a:pt x="1485" y="360"/>
                  </a:lnTo>
                  <a:lnTo>
                    <a:pt x="1531" y="355"/>
                  </a:lnTo>
                  <a:lnTo>
                    <a:pt x="1575" y="352"/>
                  </a:lnTo>
                  <a:lnTo>
                    <a:pt x="1615" y="349"/>
                  </a:lnTo>
                  <a:lnTo>
                    <a:pt x="1651" y="348"/>
                  </a:lnTo>
                  <a:lnTo>
                    <a:pt x="1684" y="348"/>
                  </a:lnTo>
                  <a:lnTo>
                    <a:pt x="1713" y="349"/>
                  </a:lnTo>
                  <a:lnTo>
                    <a:pt x="1736" y="349"/>
                  </a:lnTo>
                  <a:lnTo>
                    <a:pt x="1770" y="352"/>
                  </a:lnTo>
                  <a:lnTo>
                    <a:pt x="1783" y="353"/>
                  </a:lnTo>
                  <a:lnTo>
                    <a:pt x="1829" y="347"/>
                  </a:lnTo>
                  <a:lnTo>
                    <a:pt x="1877" y="347"/>
                  </a:lnTo>
                  <a:lnTo>
                    <a:pt x="1924" y="353"/>
                  </a:lnTo>
                  <a:lnTo>
                    <a:pt x="1971" y="364"/>
                  </a:lnTo>
                  <a:lnTo>
                    <a:pt x="2019" y="380"/>
                  </a:lnTo>
                  <a:lnTo>
                    <a:pt x="2067" y="402"/>
                  </a:lnTo>
                  <a:lnTo>
                    <a:pt x="2114" y="428"/>
                  </a:lnTo>
                  <a:lnTo>
                    <a:pt x="2161" y="458"/>
                  </a:lnTo>
                  <a:lnTo>
                    <a:pt x="2208" y="492"/>
                  </a:lnTo>
                  <a:lnTo>
                    <a:pt x="2254" y="529"/>
                  </a:lnTo>
                  <a:lnTo>
                    <a:pt x="2300" y="569"/>
                  </a:lnTo>
                  <a:lnTo>
                    <a:pt x="2345" y="610"/>
                  </a:lnTo>
                  <a:lnTo>
                    <a:pt x="2388" y="654"/>
                  </a:lnTo>
                  <a:lnTo>
                    <a:pt x="2432" y="699"/>
                  </a:lnTo>
                  <a:lnTo>
                    <a:pt x="2474" y="746"/>
                  </a:lnTo>
                  <a:lnTo>
                    <a:pt x="2514" y="793"/>
                  </a:lnTo>
                  <a:lnTo>
                    <a:pt x="2552" y="840"/>
                  </a:lnTo>
                  <a:lnTo>
                    <a:pt x="2591" y="889"/>
                  </a:lnTo>
                  <a:lnTo>
                    <a:pt x="2625" y="936"/>
                  </a:lnTo>
                  <a:lnTo>
                    <a:pt x="2660" y="982"/>
                  </a:lnTo>
                  <a:lnTo>
                    <a:pt x="2722" y="1070"/>
                  </a:lnTo>
                  <a:lnTo>
                    <a:pt x="2774" y="1151"/>
                  </a:lnTo>
                  <a:lnTo>
                    <a:pt x="2818" y="1219"/>
                  </a:lnTo>
                  <a:lnTo>
                    <a:pt x="2850" y="1272"/>
                  </a:lnTo>
                  <a:lnTo>
                    <a:pt x="2871" y="1307"/>
                  </a:lnTo>
                  <a:lnTo>
                    <a:pt x="2879" y="1321"/>
                  </a:lnTo>
                  <a:lnTo>
                    <a:pt x="2887" y="1337"/>
                  </a:lnTo>
                  <a:lnTo>
                    <a:pt x="3098" y="1366"/>
                  </a:lnTo>
                  <a:lnTo>
                    <a:pt x="3103" y="1330"/>
                  </a:lnTo>
                  <a:lnTo>
                    <a:pt x="3105" y="1299"/>
                  </a:lnTo>
                  <a:lnTo>
                    <a:pt x="3102" y="1266"/>
                  </a:lnTo>
                  <a:lnTo>
                    <a:pt x="3095" y="1230"/>
                  </a:lnTo>
                  <a:lnTo>
                    <a:pt x="3085" y="1194"/>
                  </a:lnTo>
                  <a:lnTo>
                    <a:pt x="3070" y="1156"/>
                  </a:lnTo>
                  <a:lnTo>
                    <a:pt x="3053" y="1116"/>
                  </a:lnTo>
                  <a:lnTo>
                    <a:pt x="3031" y="1076"/>
                  </a:lnTo>
                  <a:lnTo>
                    <a:pt x="3008" y="1034"/>
                  </a:lnTo>
                  <a:lnTo>
                    <a:pt x="2982" y="992"/>
                  </a:lnTo>
                  <a:lnTo>
                    <a:pt x="2954" y="950"/>
                  </a:lnTo>
                  <a:lnTo>
                    <a:pt x="2925" y="906"/>
                  </a:lnTo>
                  <a:lnTo>
                    <a:pt x="2892" y="863"/>
                  </a:lnTo>
                  <a:lnTo>
                    <a:pt x="2859" y="819"/>
                  </a:lnTo>
                  <a:lnTo>
                    <a:pt x="2824" y="776"/>
                  </a:lnTo>
                  <a:lnTo>
                    <a:pt x="2789" y="734"/>
                  </a:lnTo>
                  <a:lnTo>
                    <a:pt x="2753" y="692"/>
                  </a:lnTo>
                  <a:lnTo>
                    <a:pt x="2680" y="610"/>
                  </a:lnTo>
                  <a:lnTo>
                    <a:pt x="2608" y="531"/>
                  </a:lnTo>
                  <a:lnTo>
                    <a:pt x="2538" y="460"/>
                  </a:lnTo>
                  <a:lnTo>
                    <a:pt x="2475" y="394"/>
                  </a:lnTo>
                  <a:lnTo>
                    <a:pt x="2417" y="338"/>
                  </a:lnTo>
                  <a:lnTo>
                    <a:pt x="2370" y="292"/>
                  </a:lnTo>
                  <a:lnTo>
                    <a:pt x="2332" y="257"/>
                  </a:lnTo>
                  <a:lnTo>
                    <a:pt x="2309" y="236"/>
                  </a:lnTo>
                  <a:lnTo>
                    <a:pt x="2275" y="215"/>
                  </a:lnTo>
                  <a:lnTo>
                    <a:pt x="2242" y="196"/>
                  </a:lnTo>
                  <a:lnTo>
                    <a:pt x="2209" y="178"/>
                  </a:lnTo>
                  <a:lnTo>
                    <a:pt x="2176" y="161"/>
                  </a:lnTo>
                  <a:lnTo>
                    <a:pt x="2142" y="144"/>
                  </a:lnTo>
                  <a:lnTo>
                    <a:pt x="2109" y="128"/>
                  </a:lnTo>
                  <a:lnTo>
                    <a:pt x="2077" y="113"/>
                  </a:lnTo>
                  <a:lnTo>
                    <a:pt x="2043" y="100"/>
                  </a:lnTo>
                  <a:lnTo>
                    <a:pt x="2009" y="87"/>
                  </a:lnTo>
                  <a:lnTo>
                    <a:pt x="1976" y="75"/>
                  </a:lnTo>
                  <a:lnTo>
                    <a:pt x="1944" y="64"/>
                  </a:lnTo>
                  <a:lnTo>
                    <a:pt x="1910" y="54"/>
                  </a:lnTo>
                  <a:lnTo>
                    <a:pt x="1877" y="44"/>
                  </a:lnTo>
                  <a:lnTo>
                    <a:pt x="1843" y="35"/>
                  </a:lnTo>
                  <a:lnTo>
                    <a:pt x="1811" y="28"/>
                  </a:lnTo>
                  <a:lnTo>
                    <a:pt x="1777" y="22"/>
                  </a:lnTo>
                  <a:lnTo>
                    <a:pt x="1744" y="15"/>
                  </a:lnTo>
                  <a:lnTo>
                    <a:pt x="1711" y="12"/>
                  </a:lnTo>
                  <a:lnTo>
                    <a:pt x="1678" y="7"/>
                  </a:lnTo>
                  <a:lnTo>
                    <a:pt x="1644" y="4"/>
                  </a:lnTo>
                  <a:lnTo>
                    <a:pt x="1611" y="2"/>
                  </a:lnTo>
                  <a:lnTo>
                    <a:pt x="1579" y="0"/>
                  </a:lnTo>
                  <a:lnTo>
                    <a:pt x="1545" y="0"/>
                  </a:lnTo>
                  <a:lnTo>
                    <a:pt x="1512" y="2"/>
                  </a:lnTo>
                  <a:lnTo>
                    <a:pt x="1479" y="3"/>
                  </a:lnTo>
                  <a:lnTo>
                    <a:pt x="1446" y="5"/>
                  </a:lnTo>
                  <a:lnTo>
                    <a:pt x="1412" y="8"/>
                  </a:lnTo>
                  <a:lnTo>
                    <a:pt x="1380" y="13"/>
                  </a:lnTo>
                  <a:lnTo>
                    <a:pt x="1346" y="18"/>
                  </a:lnTo>
                  <a:lnTo>
                    <a:pt x="1314" y="24"/>
                  </a:lnTo>
                  <a:lnTo>
                    <a:pt x="1281" y="30"/>
                  </a:lnTo>
                  <a:lnTo>
                    <a:pt x="1247" y="38"/>
                  </a:lnTo>
                  <a:close/>
                  <a:moveTo>
                    <a:pt x="1266" y="107"/>
                  </a:moveTo>
                  <a:lnTo>
                    <a:pt x="1297" y="100"/>
                  </a:lnTo>
                  <a:lnTo>
                    <a:pt x="1328" y="94"/>
                  </a:lnTo>
                  <a:lnTo>
                    <a:pt x="1359" y="87"/>
                  </a:lnTo>
                  <a:lnTo>
                    <a:pt x="1390" y="84"/>
                  </a:lnTo>
                  <a:lnTo>
                    <a:pt x="1421" y="79"/>
                  </a:lnTo>
                  <a:lnTo>
                    <a:pt x="1452" y="76"/>
                  </a:lnTo>
                  <a:lnTo>
                    <a:pt x="1484" y="74"/>
                  </a:lnTo>
                  <a:lnTo>
                    <a:pt x="1515" y="72"/>
                  </a:lnTo>
                  <a:lnTo>
                    <a:pt x="1546" y="72"/>
                  </a:lnTo>
                  <a:lnTo>
                    <a:pt x="1577" y="72"/>
                  </a:lnTo>
                  <a:lnTo>
                    <a:pt x="1610" y="74"/>
                  </a:lnTo>
                  <a:lnTo>
                    <a:pt x="1641" y="75"/>
                  </a:lnTo>
                  <a:lnTo>
                    <a:pt x="1672" y="79"/>
                  </a:lnTo>
                  <a:lnTo>
                    <a:pt x="1703" y="82"/>
                  </a:lnTo>
                  <a:lnTo>
                    <a:pt x="1734" y="86"/>
                  </a:lnTo>
                  <a:lnTo>
                    <a:pt x="1766" y="92"/>
                  </a:lnTo>
                  <a:lnTo>
                    <a:pt x="1797" y="98"/>
                  </a:lnTo>
                  <a:lnTo>
                    <a:pt x="1828" y="105"/>
                  </a:lnTo>
                  <a:lnTo>
                    <a:pt x="1859" y="113"/>
                  </a:lnTo>
                  <a:lnTo>
                    <a:pt x="1891" y="122"/>
                  </a:lnTo>
                  <a:lnTo>
                    <a:pt x="1923" y="131"/>
                  </a:lnTo>
                  <a:lnTo>
                    <a:pt x="1954" y="142"/>
                  </a:lnTo>
                  <a:lnTo>
                    <a:pt x="1985" y="153"/>
                  </a:lnTo>
                  <a:lnTo>
                    <a:pt x="2016" y="165"/>
                  </a:lnTo>
                  <a:lnTo>
                    <a:pt x="2048" y="178"/>
                  </a:lnTo>
                  <a:lnTo>
                    <a:pt x="2079" y="192"/>
                  </a:lnTo>
                  <a:lnTo>
                    <a:pt x="2110" y="206"/>
                  </a:lnTo>
                  <a:lnTo>
                    <a:pt x="2141" y="223"/>
                  </a:lnTo>
                  <a:lnTo>
                    <a:pt x="2172" y="239"/>
                  </a:lnTo>
                  <a:lnTo>
                    <a:pt x="2203" y="256"/>
                  </a:lnTo>
                  <a:lnTo>
                    <a:pt x="2234" y="273"/>
                  </a:lnTo>
                  <a:lnTo>
                    <a:pt x="2265" y="292"/>
                  </a:lnTo>
                  <a:lnTo>
                    <a:pt x="2309" y="333"/>
                  </a:lnTo>
                  <a:lnTo>
                    <a:pt x="2358" y="380"/>
                  </a:lnTo>
                  <a:lnTo>
                    <a:pt x="2412" y="433"/>
                  </a:lnTo>
                  <a:lnTo>
                    <a:pt x="2470" y="492"/>
                  </a:lnTo>
                  <a:lnTo>
                    <a:pt x="2531" y="555"/>
                  </a:lnTo>
                  <a:lnTo>
                    <a:pt x="2594" y="622"/>
                  </a:lnTo>
                  <a:lnTo>
                    <a:pt x="2656" y="692"/>
                  </a:lnTo>
                  <a:lnTo>
                    <a:pt x="2719" y="763"/>
                  </a:lnTo>
                  <a:lnTo>
                    <a:pt x="2748" y="799"/>
                  </a:lnTo>
                  <a:lnTo>
                    <a:pt x="2778" y="835"/>
                  </a:lnTo>
                  <a:lnTo>
                    <a:pt x="2807" y="871"/>
                  </a:lnTo>
                  <a:lnTo>
                    <a:pt x="2834" y="907"/>
                  </a:lnTo>
                  <a:lnTo>
                    <a:pt x="2860" y="943"/>
                  </a:lnTo>
                  <a:lnTo>
                    <a:pt x="2885" y="978"/>
                  </a:lnTo>
                  <a:lnTo>
                    <a:pt x="2908" y="1013"/>
                  </a:lnTo>
                  <a:lnTo>
                    <a:pt x="2931" y="1046"/>
                  </a:lnTo>
                  <a:lnTo>
                    <a:pt x="2951" y="1080"/>
                  </a:lnTo>
                  <a:lnTo>
                    <a:pt x="2969" y="1113"/>
                  </a:lnTo>
                  <a:lnTo>
                    <a:pt x="2985" y="1144"/>
                  </a:lnTo>
                  <a:lnTo>
                    <a:pt x="2999" y="1175"/>
                  </a:lnTo>
                  <a:lnTo>
                    <a:pt x="3010" y="1205"/>
                  </a:lnTo>
                  <a:lnTo>
                    <a:pt x="3020" y="1232"/>
                  </a:lnTo>
                  <a:lnTo>
                    <a:pt x="3026" y="1260"/>
                  </a:lnTo>
                  <a:lnTo>
                    <a:pt x="3030" y="1285"/>
                  </a:lnTo>
                  <a:lnTo>
                    <a:pt x="3000" y="1281"/>
                  </a:lnTo>
                  <a:lnTo>
                    <a:pt x="2974" y="1276"/>
                  </a:lnTo>
                  <a:lnTo>
                    <a:pt x="2951" y="1273"/>
                  </a:lnTo>
                  <a:lnTo>
                    <a:pt x="2933" y="1271"/>
                  </a:lnTo>
                  <a:lnTo>
                    <a:pt x="2916" y="1241"/>
                  </a:lnTo>
                  <a:lnTo>
                    <a:pt x="2887" y="1193"/>
                  </a:lnTo>
                  <a:lnTo>
                    <a:pt x="2848" y="1129"/>
                  </a:lnTo>
                  <a:lnTo>
                    <a:pt x="2799" y="1055"/>
                  </a:lnTo>
                  <a:lnTo>
                    <a:pt x="2772" y="1014"/>
                  </a:lnTo>
                  <a:lnTo>
                    <a:pt x="2742" y="971"/>
                  </a:lnTo>
                  <a:lnTo>
                    <a:pt x="2710" y="927"/>
                  </a:lnTo>
                  <a:lnTo>
                    <a:pt x="2676" y="881"/>
                  </a:lnTo>
                  <a:lnTo>
                    <a:pt x="2642" y="835"/>
                  </a:lnTo>
                  <a:lnTo>
                    <a:pt x="2604" y="788"/>
                  </a:lnTo>
                  <a:lnTo>
                    <a:pt x="2566" y="741"/>
                  </a:lnTo>
                  <a:lnTo>
                    <a:pt x="2526" y="694"/>
                  </a:lnTo>
                  <a:lnTo>
                    <a:pt x="2485" y="648"/>
                  </a:lnTo>
                  <a:lnTo>
                    <a:pt x="2443" y="603"/>
                  </a:lnTo>
                  <a:lnTo>
                    <a:pt x="2399" y="560"/>
                  </a:lnTo>
                  <a:lnTo>
                    <a:pt x="2355" y="518"/>
                  </a:lnTo>
                  <a:lnTo>
                    <a:pt x="2309" y="478"/>
                  </a:lnTo>
                  <a:lnTo>
                    <a:pt x="2263" y="441"/>
                  </a:lnTo>
                  <a:lnTo>
                    <a:pt x="2216" y="406"/>
                  </a:lnTo>
                  <a:lnTo>
                    <a:pt x="2168" y="375"/>
                  </a:lnTo>
                  <a:lnTo>
                    <a:pt x="2121" y="347"/>
                  </a:lnTo>
                  <a:lnTo>
                    <a:pt x="2073" y="323"/>
                  </a:lnTo>
                  <a:lnTo>
                    <a:pt x="2023" y="303"/>
                  </a:lnTo>
                  <a:lnTo>
                    <a:pt x="1975" y="288"/>
                  </a:lnTo>
                  <a:lnTo>
                    <a:pt x="1926" y="278"/>
                  </a:lnTo>
                  <a:lnTo>
                    <a:pt x="1877" y="275"/>
                  </a:lnTo>
                  <a:lnTo>
                    <a:pt x="1828" y="276"/>
                  </a:lnTo>
                  <a:lnTo>
                    <a:pt x="1780" y="283"/>
                  </a:lnTo>
                  <a:lnTo>
                    <a:pt x="1769" y="281"/>
                  </a:lnTo>
                  <a:lnTo>
                    <a:pt x="1736" y="280"/>
                  </a:lnTo>
                  <a:lnTo>
                    <a:pt x="1711" y="278"/>
                  </a:lnTo>
                  <a:lnTo>
                    <a:pt x="1684" y="277"/>
                  </a:lnTo>
                  <a:lnTo>
                    <a:pt x="1651" y="277"/>
                  </a:lnTo>
                  <a:lnTo>
                    <a:pt x="1615" y="278"/>
                  </a:lnTo>
                  <a:lnTo>
                    <a:pt x="1574" y="281"/>
                  </a:lnTo>
                  <a:lnTo>
                    <a:pt x="1530" y="285"/>
                  </a:lnTo>
                  <a:lnTo>
                    <a:pt x="1483" y="290"/>
                  </a:lnTo>
                  <a:lnTo>
                    <a:pt x="1433" y="296"/>
                  </a:lnTo>
                  <a:lnTo>
                    <a:pt x="1381" y="304"/>
                  </a:lnTo>
                  <a:lnTo>
                    <a:pt x="1327" y="316"/>
                  </a:lnTo>
                  <a:lnTo>
                    <a:pt x="1269" y="329"/>
                  </a:lnTo>
                  <a:lnTo>
                    <a:pt x="1211" y="344"/>
                  </a:lnTo>
                  <a:lnTo>
                    <a:pt x="1151" y="364"/>
                  </a:lnTo>
                  <a:lnTo>
                    <a:pt x="1091" y="385"/>
                  </a:lnTo>
                  <a:lnTo>
                    <a:pt x="1028" y="411"/>
                  </a:lnTo>
                  <a:lnTo>
                    <a:pt x="966" y="440"/>
                  </a:lnTo>
                  <a:lnTo>
                    <a:pt x="904" y="472"/>
                  </a:lnTo>
                  <a:lnTo>
                    <a:pt x="841" y="509"/>
                  </a:lnTo>
                  <a:lnTo>
                    <a:pt x="779" y="550"/>
                  </a:lnTo>
                  <a:lnTo>
                    <a:pt x="717" y="595"/>
                  </a:lnTo>
                  <a:lnTo>
                    <a:pt x="656" y="646"/>
                  </a:lnTo>
                  <a:lnTo>
                    <a:pt x="596" y="700"/>
                  </a:lnTo>
                  <a:lnTo>
                    <a:pt x="538" y="760"/>
                  </a:lnTo>
                  <a:lnTo>
                    <a:pt x="481" y="826"/>
                  </a:lnTo>
                  <a:lnTo>
                    <a:pt x="426" y="896"/>
                  </a:lnTo>
                  <a:lnTo>
                    <a:pt x="374" y="973"/>
                  </a:lnTo>
                  <a:lnTo>
                    <a:pt x="324" y="1055"/>
                  </a:lnTo>
                  <a:lnTo>
                    <a:pt x="277" y="1144"/>
                  </a:lnTo>
                  <a:lnTo>
                    <a:pt x="239" y="1125"/>
                  </a:lnTo>
                  <a:lnTo>
                    <a:pt x="190" y="1100"/>
                  </a:lnTo>
                  <a:lnTo>
                    <a:pt x="141" y="1074"/>
                  </a:lnTo>
                  <a:lnTo>
                    <a:pt x="100" y="1053"/>
                  </a:lnTo>
                  <a:lnTo>
                    <a:pt x="121" y="1020"/>
                  </a:lnTo>
                  <a:lnTo>
                    <a:pt x="151" y="977"/>
                  </a:lnTo>
                  <a:lnTo>
                    <a:pt x="187" y="926"/>
                  </a:lnTo>
                  <a:lnTo>
                    <a:pt x="231" y="866"/>
                  </a:lnTo>
                  <a:lnTo>
                    <a:pt x="256" y="835"/>
                  </a:lnTo>
                  <a:lnTo>
                    <a:pt x="282" y="802"/>
                  </a:lnTo>
                  <a:lnTo>
                    <a:pt x="311" y="767"/>
                  </a:lnTo>
                  <a:lnTo>
                    <a:pt x="341" y="732"/>
                  </a:lnTo>
                  <a:lnTo>
                    <a:pt x="373" y="696"/>
                  </a:lnTo>
                  <a:lnTo>
                    <a:pt x="406" y="661"/>
                  </a:lnTo>
                  <a:lnTo>
                    <a:pt x="441" y="623"/>
                  </a:lnTo>
                  <a:lnTo>
                    <a:pt x="478" y="586"/>
                  </a:lnTo>
                  <a:lnTo>
                    <a:pt x="516" y="549"/>
                  </a:lnTo>
                  <a:lnTo>
                    <a:pt x="557" y="512"/>
                  </a:lnTo>
                  <a:lnTo>
                    <a:pt x="598" y="474"/>
                  </a:lnTo>
                  <a:lnTo>
                    <a:pt x="641" y="438"/>
                  </a:lnTo>
                  <a:lnTo>
                    <a:pt x="685" y="402"/>
                  </a:lnTo>
                  <a:lnTo>
                    <a:pt x="730" y="368"/>
                  </a:lnTo>
                  <a:lnTo>
                    <a:pt x="779" y="334"/>
                  </a:lnTo>
                  <a:lnTo>
                    <a:pt x="827" y="302"/>
                  </a:lnTo>
                  <a:lnTo>
                    <a:pt x="877" y="271"/>
                  </a:lnTo>
                  <a:lnTo>
                    <a:pt x="929" y="241"/>
                  </a:lnTo>
                  <a:lnTo>
                    <a:pt x="981" y="214"/>
                  </a:lnTo>
                  <a:lnTo>
                    <a:pt x="1036" y="188"/>
                  </a:lnTo>
                  <a:lnTo>
                    <a:pt x="1092" y="164"/>
                  </a:lnTo>
                  <a:lnTo>
                    <a:pt x="1148" y="143"/>
                  </a:lnTo>
                  <a:lnTo>
                    <a:pt x="1206" y="123"/>
                  </a:lnTo>
                  <a:lnTo>
                    <a:pt x="1266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2941560" y="5348160"/>
              <a:ext cx="1157400" cy="495360"/>
            </a:xfrm>
            <a:custGeom>
              <a:avLst/>
              <a:gdLst/>
              <a:ahLst/>
              <a:rect l="l" t="t" r="r" b="b"/>
              <a:pathLst>
                <a:path w="2913" h="1249">
                  <a:moveTo>
                    <a:pt x="0" y="907"/>
                  </a:moveTo>
                  <a:lnTo>
                    <a:pt x="10" y="891"/>
                  </a:lnTo>
                  <a:lnTo>
                    <a:pt x="41" y="845"/>
                  </a:lnTo>
                  <a:lnTo>
                    <a:pt x="64" y="814"/>
                  </a:lnTo>
                  <a:lnTo>
                    <a:pt x="91" y="777"/>
                  </a:lnTo>
                  <a:lnTo>
                    <a:pt x="123" y="735"/>
                  </a:lnTo>
                  <a:lnTo>
                    <a:pt x="160" y="690"/>
                  </a:lnTo>
                  <a:lnTo>
                    <a:pt x="201" y="641"/>
                  </a:lnTo>
                  <a:lnTo>
                    <a:pt x="247" y="591"/>
                  </a:lnTo>
                  <a:lnTo>
                    <a:pt x="298" y="537"/>
                  </a:lnTo>
                  <a:lnTo>
                    <a:pt x="352" y="484"/>
                  </a:lnTo>
                  <a:lnTo>
                    <a:pt x="411" y="429"/>
                  </a:lnTo>
                  <a:lnTo>
                    <a:pt x="473" y="376"/>
                  </a:lnTo>
                  <a:lnTo>
                    <a:pt x="540" y="323"/>
                  </a:lnTo>
                  <a:lnTo>
                    <a:pt x="611" y="272"/>
                  </a:lnTo>
                  <a:lnTo>
                    <a:pt x="686" y="223"/>
                  </a:lnTo>
                  <a:lnTo>
                    <a:pt x="763" y="177"/>
                  </a:lnTo>
                  <a:lnTo>
                    <a:pt x="845" y="135"/>
                  </a:lnTo>
                  <a:lnTo>
                    <a:pt x="930" y="97"/>
                  </a:lnTo>
                  <a:lnTo>
                    <a:pt x="1018" y="65"/>
                  </a:lnTo>
                  <a:lnTo>
                    <a:pt x="1112" y="38"/>
                  </a:lnTo>
                  <a:lnTo>
                    <a:pt x="1206" y="17"/>
                  </a:lnTo>
                  <a:lnTo>
                    <a:pt x="1305" y="5"/>
                  </a:lnTo>
                  <a:lnTo>
                    <a:pt x="1406" y="0"/>
                  </a:lnTo>
                  <a:lnTo>
                    <a:pt x="1511" y="3"/>
                  </a:lnTo>
                  <a:lnTo>
                    <a:pt x="1618" y="15"/>
                  </a:lnTo>
                  <a:lnTo>
                    <a:pt x="1729" y="38"/>
                  </a:lnTo>
                  <a:lnTo>
                    <a:pt x="1842" y="71"/>
                  </a:lnTo>
                  <a:lnTo>
                    <a:pt x="1957" y="115"/>
                  </a:lnTo>
                  <a:lnTo>
                    <a:pt x="2076" y="171"/>
                  </a:lnTo>
                  <a:lnTo>
                    <a:pt x="2197" y="241"/>
                  </a:lnTo>
                  <a:lnTo>
                    <a:pt x="2229" y="266"/>
                  </a:lnTo>
                  <a:lnTo>
                    <a:pt x="2314" y="331"/>
                  </a:lnTo>
                  <a:lnTo>
                    <a:pt x="2371" y="377"/>
                  </a:lnTo>
                  <a:lnTo>
                    <a:pt x="2433" y="431"/>
                  </a:lnTo>
                  <a:lnTo>
                    <a:pt x="2500" y="490"/>
                  </a:lnTo>
                  <a:lnTo>
                    <a:pt x="2569" y="555"/>
                  </a:lnTo>
                  <a:lnTo>
                    <a:pt x="2603" y="588"/>
                  </a:lnTo>
                  <a:lnTo>
                    <a:pt x="2638" y="623"/>
                  </a:lnTo>
                  <a:lnTo>
                    <a:pt x="2670" y="658"/>
                  </a:lnTo>
                  <a:lnTo>
                    <a:pt x="2702" y="692"/>
                  </a:lnTo>
                  <a:lnTo>
                    <a:pt x="2733" y="728"/>
                  </a:lnTo>
                  <a:lnTo>
                    <a:pt x="2763" y="764"/>
                  </a:lnTo>
                  <a:lnTo>
                    <a:pt x="2790" y="800"/>
                  </a:lnTo>
                  <a:lnTo>
                    <a:pt x="2817" y="836"/>
                  </a:lnTo>
                  <a:lnTo>
                    <a:pt x="2840" y="872"/>
                  </a:lnTo>
                  <a:lnTo>
                    <a:pt x="2860" y="908"/>
                  </a:lnTo>
                  <a:lnTo>
                    <a:pt x="2877" y="943"/>
                  </a:lnTo>
                  <a:lnTo>
                    <a:pt x="2892" y="976"/>
                  </a:lnTo>
                  <a:lnTo>
                    <a:pt x="2903" y="1010"/>
                  </a:lnTo>
                  <a:lnTo>
                    <a:pt x="2910" y="1042"/>
                  </a:lnTo>
                  <a:lnTo>
                    <a:pt x="2913" y="1073"/>
                  </a:lnTo>
                  <a:lnTo>
                    <a:pt x="2912" y="1104"/>
                  </a:lnTo>
                  <a:lnTo>
                    <a:pt x="2846" y="1249"/>
                  </a:lnTo>
                  <a:lnTo>
                    <a:pt x="2840" y="1237"/>
                  </a:lnTo>
                  <a:lnTo>
                    <a:pt x="2819" y="1202"/>
                  </a:lnTo>
                  <a:lnTo>
                    <a:pt x="2787" y="1149"/>
                  </a:lnTo>
                  <a:lnTo>
                    <a:pt x="2743" y="1079"/>
                  </a:lnTo>
                  <a:lnTo>
                    <a:pt x="2717" y="1040"/>
                  </a:lnTo>
                  <a:lnTo>
                    <a:pt x="2689" y="998"/>
                  </a:lnTo>
                  <a:lnTo>
                    <a:pt x="2659" y="954"/>
                  </a:lnTo>
                  <a:lnTo>
                    <a:pt x="2627" y="907"/>
                  </a:lnTo>
                  <a:lnTo>
                    <a:pt x="2592" y="860"/>
                  </a:lnTo>
                  <a:lnTo>
                    <a:pt x="2556" y="811"/>
                  </a:lnTo>
                  <a:lnTo>
                    <a:pt x="2517" y="763"/>
                  </a:lnTo>
                  <a:lnTo>
                    <a:pt x="2478" y="715"/>
                  </a:lnTo>
                  <a:lnTo>
                    <a:pt x="2435" y="665"/>
                  </a:lnTo>
                  <a:lnTo>
                    <a:pt x="2393" y="618"/>
                  </a:lnTo>
                  <a:lnTo>
                    <a:pt x="2350" y="571"/>
                  </a:lnTo>
                  <a:lnTo>
                    <a:pt x="2304" y="526"/>
                  </a:lnTo>
                  <a:lnTo>
                    <a:pt x="2258" y="483"/>
                  </a:lnTo>
                  <a:lnTo>
                    <a:pt x="2211" y="442"/>
                  </a:lnTo>
                  <a:lnTo>
                    <a:pt x="2163" y="405"/>
                  </a:lnTo>
                  <a:lnTo>
                    <a:pt x="2115" y="370"/>
                  </a:lnTo>
                  <a:lnTo>
                    <a:pt x="2067" y="339"/>
                  </a:lnTo>
                  <a:lnTo>
                    <a:pt x="2018" y="313"/>
                  </a:lnTo>
                  <a:lnTo>
                    <a:pt x="1968" y="290"/>
                  </a:lnTo>
                  <a:lnTo>
                    <a:pt x="1919" y="273"/>
                  </a:lnTo>
                  <a:lnTo>
                    <a:pt x="1870" y="262"/>
                  </a:lnTo>
                  <a:lnTo>
                    <a:pt x="1821" y="256"/>
                  </a:lnTo>
                  <a:lnTo>
                    <a:pt x="1772" y="257"/>
                  </a:lnTo>
                  <a:lnTo>
                    <a:pt x="1724" y="263"/>
                  </a:lnTo>
                  <a:lnTo>
                    <a:pt x="1713" y="262"/>
                  </a:lnTo>
                  <a:lnTo>
                    <a:pt x="1679" y="259"/>
                  </a:lnTo>
                  <a:lnTo>
                    <a:pt x="1654" y="258"/>
                  </a:lnTo>
                  <a:lnTo>
                    <a:pt x="1626" y="258"/>
                  </a:lnTo>
                  <a:lnTo>
                    <a:pt x="1593" y="258"/>
                  </a:lnTo>
                  <a:lnTo>
                    <a:pt x="1556" y="258"/>
                  </a:lnTo>
                  <a:lnTo>
                    <a:pt x="1515" y="259"/>
                  </a:lnTo>
                  <a:lnTo>
                    <a:pt x="1472" y="263"/>
                  </a:lnTo>
                  <a:lnTo>
                    <a:pt x="1425" y="268"/>
                  </a:lnTo>
                  <a:lnTo>
                    <a:pt x="1375" y="274"/>
                  </a:lnTo>
                  <a:lnTo>
                    <a:pt x="1323" y="283"/>
                  </a:lnTo>
                  <a:lnTo>
                    <a:pt x="1268" y="293"/>
                  </a:lnTo>
                  <a:lnTo>
                    <a:pt x="1211" y="306"/>
                  </a:lnTo>
                  <a:lnTo>
                    <a:pt x="1153" y="323"/>
                  </a:lnTo>
                  <a:lnTo>
                    <a:pt x="1093" y="341"/>
                  </a:lnTo>
                  <a:lnTo>
                    <a:pt x="1032" y="364"/>
                  </a:lnTo>
                  <a:lnTo>
                    <a:pt x="970" y="388"/>
                  </a:lnTo>
                  <a:lnTo>
                    <a:pt x="908" y="418"/>
                  </a:lnTo>
                  <a:lnTo>
                    <a:pt x="846" y="450"/>
                  </a:lnTo>
                  <a:lnTo>
                    <a:pt x="784" y="488"/>
                  </a:lnTo>
                  <a:lnTo>
                    <a:pt x="722" y="529"/>
                  </a:lnTo>
                  <a:lnTo>
                    <a:pt x="660" y="576"/>
                  </a:lnTo>
                  <a:lnTo>
                    <a:pt x="600" y="627"/>
                  </a:lnTo>
                  <a:lnTo>
                    <a:pt x="540" y="682"/>
                  </a:lnTo>
                  <a:lnTo>
                    <a:pt x="483" y="743"/>
                  </a:lnTo>
                  <a:lnTo>
                    <a:pt x="427" y="810"/>
                  </a:lnTo>
                  <a:lnTo>
                    <a:pt x="373" y="882"/>
                  </a:lnTo>
                  <a:lnTo>
                    <a:pt x="322" y="962"/>
                  </a:lnTo>
                  <a:lnTo>
                    <a:pt x="272" y="1046"/>
                  </a:lnTo>
                  <a:lnTo>
                    <a:pt x="226" y="1137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6d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2924280" y="5334120"/>
              <a:ext cx="1187280" cy="541080"/>
            </a:xfrm>
            <a:custGeom>
              <a:avLst/>
              <a:gdLst/>
              <a:ahLst/>
              <a:rect l="l" t="t" r="r" b="b"/>
              <a:pathLst>
                <a:path w="2990" h="1365">
                  <a:moveTo>
                    <a:pt x="1163" y="35"/>
                  </a:moveTo>
                  <a:lnTo>
                    <a:pt x="1097" y="52"/>
                  </a:lnTo>
                  <a:lnTo>
                    <a:pt x="1034" y="73"/>
                  </a:lnTo>
                  <a:lnTo>
                    <a:pt x="972" y="96"/>
                  </a:lnTo>
                  <a:lnTo>
                    <a:pt x="912" y="120"/>
                  </a:lnTo>
                  <a:lnTo>
                    <a:pt x="854" y="148"/>
                  </a:lnTo>
                  <a:lnTo>
                    <a:pt x="797" y="177"/>
                  </a:lnTo>
                  <a:lnTo>
                    <a:pt x="742" y="208"/>
                  </a:lnTo>
                  <a:lnTo>
                    <a:pt x="689" y="241"/>
                  </a:lnTo>
                  <a:lnTo>
                    <a:pt x="638" y="275"/>
                  </a:lnTo>
                  <a:lnTo>
                    <a:pt x="588" y="310"/>
                  </a:lnTo>
                  <a:lnTo>
                    <a:pt x="541" y="346"/>
                  </a:lnTo>
                  <a:lnTo>
                    <a:pt x="495" y="382"/>
                  </a:lnTo>
                  <a:lnTo>
                    <a:pt x="450" y="419"/>
                  </a:lnTo>
                  <a:lnTo>
                    <a:pt x="409" y="458"/>
                  </a:lnTo>
                  <a:lnTo>
                    <a:pt x="370" y="495"/>
                  </a:lnTo>
                  <a:lnTo>
                    <a:pt x="331" y="532"/>
                  </a:lnTo>
                  <a:lnTo>
                    <a:pt x="295" y="568"/>
                  </a:lnTo>
                  <a:lnTo>
                    <a:pt x="262" y="606"/>
                  </a:lnTo>
                  <a:lnTo>
                    <a:pt x="229" y="640"/>
                  </a:lnTo>
                  <a:lnTo>
                    <a:pt x="199" y="675"/>
                  </a:lnTo>
                  <a:lnTo>
                    <a:pt x="146" y="740"/>
                  </a:lnTo>
                  <a:lnTo>
                    <a:pt x="101" y="797"/>
                  </a:lnTo>
                  <a:lnTo>
                    <a:pt x="65" y="846"/>
                  </a:lnTo>
                  <a:lnTo>
                    <a:pt x="39" y="885"/>
                  </a:lnTo>
                  <a:lnTo>
                    <a:pt x="22" y="912"/>
                  </a:lnTo>
                  <a:lnTo>
                    <a:pt x="13" y="924"/>
                  </a:lnTo>
                  <a:lnTo>
                    <a:pt x="0" y="948"/>
                  </a:lnTo>
                  <a:lnTo>
                    <a:pt x="281" y="1235"/>
                  </a:lnTo>
                  <a:lnTo>
                    <a:pt x="304" y="1189"/>
                  </a:lnTo>
                  <a:lnTo>
                    <a:pt x="347" y="1101"/>
                  </a:lnTo>
                  <a:lnTo>
                    <a:pt x="394" y="1019"/>
                  </a:lnTo>
                  <a:lnTo>
                    <a:pt x="444" y="943"/>
                  </a:lnTo>
                  <a:lnTo>
                    <a:pt x="496" y="872"/>
                  </a:lnTo>
                  <a:lnTo>
                    <a:pt x="551" y="808"/>
                  </a:lnTo>
                  <a:lnTo>
                    <a:pt x="606" y="748"/>
                  </a:lnTo>
                  <a:lnTo>
                    <a:pt x="664" y="694"/>
                  </a:lnTo>
                  <a:lnTo>
                    <a:pt x="722" y="644"/>
                  </a:lnTo>
                  <a:lnTo>
                    <a:pt x="782" y="599"/>
                  </a:lnTo>
                  <a:lnTo>
                    <a:pt x="841" y="560"/>
                  </a:lnTo>
                  <a:lnTo>
                    <a:pt x="902" y="524"/>
                  </a:lnTo>
                  <a:lnTo>
                    <a:pt x="963" y="490"/>
                  </a:lnTo>
                  <a:lnTo>
                    <a:pt x="1023" y="462"/>
                  </a:lnTo>
                  <a:lnTo>
                    <a:pt x="1082" y="437"/>
                  </a:lnTo>
                  <a:lnTo>
                    <a:pt x="1142" y="416"/>
                  </a:lnTo>
                  <a:lnTo>
                    <a:pt x="1200" y="397"/>
                  </a:lnTo>
                  <a:lnTo>
                    <a:pt x="1257" y="381"/>
                  </a:lnTo>
                  <a:lnTo>
                    <a:pt x="1312" y="367"/>
                  </a:lnTo>
                  <a:lnTo>
                    <a:pt x="1365" y="356"/>
                  </a:lnTo>
                  <a:lnTo>
                    <a:pt x="1416" y="347"/>
                  </a:lnTo>
                  <a:lnTo>
                    <a:pt x="1466" y="341"/>
                  </a:lnTo>
                  <a:lnTo>
                    <a:pt x="1512" y="336"/>
                  </a:lnTo>
                  <a:lnTo>
                    <a:pt x="1555" y="333"/>
                  </a:lnTo>
                  <a:lnTo>
                    <a:pt x="1595" y="331"/>
                  </a:lnTo>
                  <a:lnTo>
                    <a:pt x="1631" y="330"/>
                  </a:lnTo>
                  <a:lnTo>
                    <a:pt x="1663" y="330"/>
                  </a:lnTo>
                  <a:lnTo>
                    <a:pt x="1692" y="330"/>
                  </a:lnTo>
                  <a:lnTo>
                    <a:pt x="1716" y="331"/>
                  </a:lnTo>
                  <a:lnTo>
                    <a:pt x="1750" y="334"/>
                  </a:lnTo>
                  <a:lnTo>
                    <a:pt x="1763" y="335"/>
                  </a:lnTo>
                  <a:lnTo>
                    <a:pt x="1810" y="328"/>
                  </a:lnTo>
                  <a:lnTo>
                    <a:pt x="1857" y="328"/>
                  </a:lnTo>
                  <a:lnTo>
                    <a:pt x="1904" y="334"/>
                  </a:lnTo>
                  <a:lnTo>
                    <a:pt x="1952" y="345"/>
                  </a:lnTo>
                  <a:lnTo>
                    <a:pt x="1999" y="362"/>
                  </a:lnTo>
                  <a:lnTo>
                    <a:pt x="2047" y="383"/>
                  </a:lnTo>
                  <a:lnTo>
                    <a:pt x="2094" y="409"/>
                  </a:lnTo>
                  <a:lnTo>
                    <a:pt x="2142" y="439"/>
                  </a:lnTo>
                  <a:lnTo>
                    <a:pt x="2189" y="474"/>
                  </a:lnTo>
                  <a:lnTo>
                    <a:pt x="2235" y="510"/>
                  </a:lnTo>
                  <a:lnTo>
                    <a:pt x="2281" y="550"/>
                  </a:lnTo>
                  <a:lnTo>
                    <a:pt x="2325" y="592"/>
                  </a:lnTo>
                  <a:lnTo>
                    <a:pt x="2369" y="635"/>
                  </a:lnTo>
                  <a:lnTo>
                    <a:pt x="2412" y="681"/>
                  </a:lnTo>
                  <a:lnTo>
                    <a:pt x="2453" y="727"/>
                  </a:lnTo>
                  <a:lnTo>
                    <a:pt x="2494" y="774"/>
                  </a:lnTo>
                  <a:lnTo>
                    <a:pt x="2533" y="823"/>
                  </a:lnTo>
                  <a:lnTo>
                    <a:pt x="2570" y="870"/>
                  </a:lnTo>
                  <a:lnTo>
                    <a:pt x="2606" y="917"/>
                  </a:lnTo>
                  <a:lnTo>
                    <a:pt x="2640" y="964"/>
                  </a:lnTo>
                  <a:lnTo>
                    <a:pt x="2702" y="1052"/>
                  </a:lnTo>
                  <a:lnTo>
                    <a:pt x="2755" y="1132"/>
                  </a:lnTo>
                  <a:lnTo>
                    <a:pt x="2798" y="1200"/>
                  </a:lnTo>
                  <a:lnTo>
                    <a:pt x="2831" y="1253"/>
                  </a:lnTo>
                  <a:lnTo>
                    <a:pt x="2852" y="1289"/>
                  </a:lnTo>
                  <a:lnTo>
                    <a:pt x="2859" y="1303"/>
                  </a:lnTo>
                  <a:lnTo>
                    <a:pt x="2894" y="1365"/>
                  </a:lnTo>
                  <a:lnTo>
                    <a:pt x="2988" y="1154"/>
                  </a:lnTo>
                  <a:lnTo>
                    <a:pt x="2990" y="1122"/>
                  </a:lnTo>
                  <a:lnTo>
                    <a:pt x="2988" y="1088"/>
                  </a:lnTo>
                  <a:lnTo>
                    <a:pt x="2981" y="1053"/>
                  </a:lnTo>
                  <a:lnTo>
                    <a:pt x="2971" y="1019"/>
                  </a:lnTo>
                  <a:lnTo>
                    <a:pt x="2957" y="983"/>
                  </a:lnTo>
                  <a:lnTo>
                    <a:pt x="2940" y="947"/>
                  </a:lnTo>
                  <a:lnTo>
                    <a:pt x="2920" y="909"/>
                  </a:lnTo>
                  <a:lnTo>
                    <a:pt x="2898" y="872"/>
                  </a:lnTo>
                  <a:lnTo>
                    <a:pt x="2873" y="835"/>
                  </a:lnTo>
                  <a:lnTo>
                    <a:pt x="2846" y="798"/>
                  </a:lnTo>
                  <a:lnTo>
                    <a:pt x="2817" y="761"/>
                  </a:lnTo>
                  <a:lnTo>
                    <a:pt x="2786" y="723"/>
                  </a:lnTo>
                  <a:lnTo>
                    <a:pt x="2754" y="687"/>
                  </a:lnTo>
                  <a:lnTo>
                    <a:pt x="2721" y="651"/>
                  </a:lnTo>
                  <a:lnTo>
                    <a:pt x="2688" y="617"/>
                  </a:lnTo>
                  <a:lnTo>
                    <a:pt x="2653" y="582"/>
                  </a:lnTo>
                  <a:lnTo>
                    <a:pt x="2618" y="548"/>
                  </a:lnTo>
                  <a:lnTo>
                    <a:pt x="2585" y="516"/>
                  </a:lnTo>
                  <a:lnTo>
                    <a:pt x="2550" y="485"/>
                  </a:lnTo>
                  <a:lnTo>
                    <a:pt x="2517" y="455"/>
                  </a:lnTo>
                  <a:lnTo>
                    <a:pt x="2453" y="400"/>
                  </a:lnTo>
                  <a:lnTo>
                    <a:pt x="2395" y="351"/>
                  </a:lnTo>
                  <a:lnTo>
                    <a:pt x="2344" y="311"/>
                  </a:lnTo>
                  <a:lnTo>
                    <a:pt x="2304" y="279"/>
                  </a:lnTo>
                  <a:lnTo>
                    <a:pt x="2276" y="258"/>
                  </a:lnTo>
                  <a:lnTo>
                    <a:pt x="2262" y="248"/>
                  </a:lnTo>
                  <a:lnTo>
                    <a:pt x="2227" y="227"/>
                  </a:lnTo>
                  <a:lnTo>
                    <a:pt x="2192" y="207"/>
                  </a:lnTo>
                  <a:lnTo>
                    <a:pt x="2158" y="189"/>
                  </a:lnTo>
                  <a:lnTo>
                    <a:pt x="2124" y="170"/>
                  </a:lnTo>
                  <a:lnTo>
                    <a:pt x="2089" y="153"/>
                  </a:lnTo>
                  <a:lnTo>
                    <a:pt x="2055" y="137"/>
                  </a:lnTo>
                  <a:lnTo>
                    <a:pt x="2020" y="120"/>
                  </a:lnTo>
                  <a:lnTo>
                    <a:pt x="1986" y="107"/>
                  </a:lnTo>
                  <a:lnTo>
                    <a:pt x="1952" y="93"/>
                  </a:lnTo>
                  <a:lnTo>
                    <a:pt x="1917" y="81"/>
                  </a:lnTo>
                  <a:lnTo>
                    <a:pt x="1882" y="68"/>
                  </a:lnTo>
                  <a:lnTo>
                    <a:pt x="1849" y="58"/>
                  </a:lnTo>
                  <a:lnTo>
                    <a:pt x="1814" y="48"/>
                  </a:lnTo>
                  <a:lnTo>
                    <a:pt x="1779" y="39"/>
                  </a:lnTo>
                  <a:lnTo>
                    <a:pt x="1744" y="31"/>
                  </a:lnTo>
                  <a:lnTo>
                    <a:pt x="1711" y="24"/>
                  </a:lnTo>
                  <a:lnTo>
                    <a:pt x="1676" y="17"/>
                  </a:lnTo>
                  <a:lnTo>
                    <a:pt x="1641" y="12"/>
                  </a:lnTo>
                  <a:lnTo>
                    <a:pt x="1608" y="7"/>
                  </a:lnTo>
                  <a:lnTo>
                    <a:pt x="1573" y="5"/>
                  </a:lnTo>
                  <a:lnTo>
                    <a:pt x="1538" y="3"/>
                  </a:lnTo>
                  <a:lnTo>
                    <a:pt x="1505" y="0"/>
                  </a:lnTo>
                  <a:lnTo>
                    <a:pt x="1470" y="0"/>
                  </a:lnTo>
                  <a:lnTo>
                    <a:pt x="1435" y="0"/>
                  </a:lnTo>
                  <a:lnTo>
                    <a:pt x="1401" y="1"/>
                  </a:lnTo>
                  <a:lnTo>
                    <a:pt x="1367" y="4"/>
                  </a:lnTo>
                  <a:lnTo>
                    <a:pt x="1333" y="6"/>
                  </a:lnTo>
                  <a:lnTo>
                    <a:pt x="1298" y="10"/>
                  </a:lnTo>
                  <a:lnTo>
                    <a:pt x="1265" y="15"/>
                  </a:lnTo>
                  <a:lnTo>
                    <a:pt x="1230" y="21"/>
                  </a:lnTo>
                  <a:lnTo>
                    <a:pt x="1197" y="27"/>
                  </a:lnTo>
                  <a:lnTo>
                    <a:pt x="1163" y="35"/>
                  </a:lnTo>
                  <a:close/>
                  <a:moveTo>
                    <a:pt x="1179" y="104"/>
                  </a:moveTo>
                  <a:lnTo>
                    <a:pt x="1211" y="98"/>
                  </a:lnTo>
                  <a:lnTo>
                    <a:pt x="1244" y="91"/>
                  </a:lnTo>
                  <a:lnTo>
                    <a:pt x="1276" y="86"/>
                  </a:lnTo>
                  <a:lnTo>
                    <a:pt x="1308" y="81"/>
                  </a:lnTo>
                  <a:lnTo>
                    <a:pt x="1341" y="77"/>
                  </a:lnTo>
                  <a:lnTo>
                    <a:pt x="1373" y="74"/>
                  </a:lnTo>
                  <a:lnTo>
                    <a:pt x="1405" y="73"/>
                  </a:lnTo>
                  <a:lnTo>
                    <a:pt x="1439" y="72"/>
                  </a:lnTo>
                  <a:lnTo>
                    <a:pt x="1471" y="71"/>
                  </a:lnTo>
                  <a:lnTo>
                    <a:pt x="1503" y="72"/>
                  </a:lnTo>
                  <a:lnTo>
                    <a:pt x="1536" y="73"/>
                  </a:lnTo>
                  <a:lnTo>
                    <a:pt x="1568" y="76"/>
                  </a:lnTo>
                  <a:lnTo>
                    <a:pt x="1601" y="79"/>
                  </a:lnTo>
                  <a:lnTo>
                    <a:pt x="1634" y="83"/>
                  </a:lnTo>
                  <a:lnTo>
                    <a:pt x="1666" y="88"/>
                  </a:lnTo>
                  <a:lnTo>
                    <a:pt x="1698" y="94"/>
                  </a:lnTo>
                  <a:lnTo>
                    <a:pt x="1732" y="101"/>
                  </a:lnTo>
                  <a:lnTo>
                    <a:pt x="1764" y="109"/>
                  </a:lnTo>
                  <a:lnTo>
                    <a:pt x="1796" y="117"/>
                  </a:lnTo>
                  <a:lnTo>
                    <a:pt x="1830" y="127"/>
                  </a:lnTo>
                  <a:lnTo>
                    <a:pt x="1862" y="137"/>
                  </a:lnTo>
                  <a:lnTo>
                    <a:pt x="1894" y="148"/>
                  </a:lnTo>
                  <a:lnTo>
                    <a:pt x="1928" y="160"/>
                  </a:lnTo>
                  <a:lnTo>
                    <a:pt x="1960" y="173"/>
                  </a:lnTo>
                  <a:lnTo>
                    <a:pt x="1993" y="186"/>
                  </a:lnTo>
                  <a:lnTo>
                    <a:pt x="2026" y="201"/>
                  </a:lnTo>
                  <a:lnTo>
                    <a:pt x="2058" y="217"/>
                  </a:lnTo>
                  <a:lnTo>
                    <a:pt x="2091" y="233"/>
                  </a:lnTo>
                  <a:lnTo>
                    <a:pt x="2124" y="251"/>
                  </a:lnTo>
                  <a:lnTo>
                    <a:pt x="2156" y="268"/>
                  </a:lnTo>
                  <a:lnTo>
                    <a:pt x="2189" y="288"/>
                  </a:lnTo>
                  <a:lnTo>
                    <a:pt x="2222" y="307"/>
                  </a:lnTo>
                  <a:lnTo>
                    <a:pt x="2262" y="338"/>
                  </a:lnTo>
                  <a:lnTo>
                    <a:pt x="2308" y="374"/>
                  </a:lnTo>
                  <a:lnTo>
                    <a:pt x="2360" y="414"/>
                  </a:lnTo>
                  <a:lnTo>
                    <a:pt x="2415" y="459"/>
                  </a:lnTo>
                  <a:lnTo>
                    <a:pt x="2472" y="509"/>
                  </a:lnTo>
                  <a:lnTo>
                    <a:pt x="2530" y="562"/>
                  </a:lnTo>
                  <a:lnTo>
                    <a:pt x="2589" y="617"/>
                  </a:lnTo>
                  <a:lnTo>
                    <a:pt x="2646" y="674"/>
                  </a:lnTo>
                  <a:lnTo>
                    <a:pt x="2673" y="702"/>
                  </a:lnTo>
                  <a:lnTo>
                    <a:pt x="2700" y="732"/>
                  </a:lnTo>
                  <a:lnTo>
                    <a:pt x="2726" y="761"/>
                  </a:lnTo>
                  <a:lnTo>
                    <a:pt x="2753" y="790"/>
                  </a:lnTo>
                  <a:lnTo>
                    <a:pt x="2776" y="819"/>
                  </a:lnTo>
                  <a:lnTo>
                    <a:pt x="2798" y="849"/>
                  </a:lnTo>
                  <a:lnTo>
                    <a:pt x="2821" y="877"/>
                  </a:lnTo>
                  <a:lnTo>
                    <a:pt x="2841" y="906"/>
                  </a:lnTo>
                  <a:lnTo>
                    <a:pt x="2858" y="934"/>
                  </a:lnTo>
                  <a:lnTo>
                    <a:pt x="2874" y="963"/>
                  </a:lnTo>
                  <a:lnTo>
                    <a:pt x="2888" y="990"/>
                  </a:lnTo>
                  <a:lnTo>
                    <a:pt x="2900" y="1016"/>
                  </a:lnTo>
                  <a:lnTo>
                    <a:pt x="2909" y="1042"/>
                  </a:lnTo>
                  <a:lnTo>
                    <a:pt x="2916" y="1067"/>
                  </a:lnTo>
                  <a:lnTo>
                    <a:pt x="2920" y="1092"/>
                  </a:lnTo>
                  <a:lnTo>
                    <a:pt x="2921" y="1115"/>
                  </a:lnTo>
                  <a:lnTo>
                    <a:pt x="2921" y="1125"/>
                  </a:lnTo>
                  <a:lnTo>
                    <a:pt x="2920" y="1135"/>
                  </a:lnTo>
                  <a:lnTo>
                    <a:pt x="2918" y="1141"/>
                  </a:lnTo>
                  <a:lnTo>
                    <a:pt x="2910" y="1158"/>
                  </a:lnTo>
                  <a:lnTo>
                    <a:pt x="2899" y="1181"/>
                  </a:lnTo>
                  <a:lnTo>
                    <a:pt x="2887" y="1207"/>
                  </a:lnTo>
                  <a:lnTo>
                    <a:pt x="2857" y="1158"/>
                  </a:lnTo>
                  <a:lnTo>
                    <a:pt x="2818" y="1097"/>
                  </a:lnTo>
                  <a:lnTo>
                    <a:pt x="2771" y="1026"/>
                  </a:lnTo>
                  <a:lnTo>
                    <a:pt x="2718" y="948"/>
                  </a:lnTo>
                  <a:lnTo>
                    <a:pt x="2689" y="907"/>
                  </a:lnTo>
                  <a:lnTo>
                    <a:pt x="2658" y="866"/>
                  </a:lnTo>
                  <a:lnTo>
                    <a:pt x="2626" y="824"/>
                  </a:lnTo>
                  <a:lnTo>
                    <a:pt x="2592" y="780"/>
                  </a:lnTo>
                  <a:lnTo>
                    <a:pt x="2558" y="737"/>
                  </a:lnTo>
                  <a:lnTo>
                    <a:pt x="2522" y="695"/>
                  </a:lnTo>
                  <a:lnTo>
                    <a:pt x="2484" y="653"/>
                  </a:lnTo>
                  <a:lnTo>
                    <a:pt x="2447" y="610"/>
                  </a:lnTo>
                  <a:lnTo>
                    <a:pt x="2407" y="571"/>
                  </a:lnTo>
                  <a:lnTo>
                    <a:pt x="2368" y="531"/>
                  </a:lnTo>
                  <a:lnTo>
                    <a:pt x="2327" y="493"/>
                  </a:lnTo>
                  <a:lnTo>
                    <a:pt x="2286" y="457"/>
                  </a:lnTo>
                  <a:lnTo>
                    <a:pt x="2243" y="423"/>
                  </a:lnTo>
                  <a:lnTo>
                    <a:pt x="2200" y="391"/>
                  </a:lnTo>
                  <a:lnTo>
                    <a:pt x="2158" y="362"/>
                  </a:lnTo>
                  <a:lnTo>
                    <a:pt x="2114" y="336"/>
                  </a:lnTo>
                  <a:lnTo>
                    <a:pt x="2070" y="313"/>
                  </a:lnTo>
                  <a:lnTo>
                    <a:pt x="2026" y="294"/>
                  </a:lnTo>
                  <a:lnTo>
                    <a:pt x="1981" y="278"/>
                  </a:lnTo>
                  <a:lnTo>
                    <a:pt x="1937" y="267"/>
                  </a:lnTo>
                  <a:lnTo>
                    <a:pt x="1892" y="259"/>
                  </a:lnTo>
                  <a:lnTo>
                    <a:pt x="1849" y="256"/>
                  </a:lnTo>
                  <a:lnTo>
                    <a:pt x="1804" y="258"/>
                  </a:lnTo>
                  <a:lnTo>
                    <a:pt x="1760" y="264"/>
                  </a:lnTo>
                  <a:lnTo>
                    <a:pt x="1749" y="263"/>
                  </a:lnTo>
                  <a:lnTo>
                    <a:pt x="1717" y="261"/>
                  </a:lnTo>
                  <a:lnTo>
                    <a:pt x="1692" y="259"/>
                  </a:lnTo>
                  <a:lnTo>
                    <a:pt x="1665" y="259"/>
                  </a:lnTo>
                  <a:lnTo>
                    <a:pt x="1632" y="259"/>
                  </a:lnTo>
                  <a:lnTo>
                    <a:pt x="1595" y="261"/>
                  </a:lnTo>
                  <a:lnTo>
                    <a:pt x="1555" y="262"/>
                  </a:lnTo>
                  <a:lnTo>
                    <a:pt x="1512" y="266"/>
                  </a:lnTo>
                  <a:lnTo>
                    <a:pt x="1466" y="271"/>
                  </a:lnTo>
                  <a:lnTo>
                    <a:pt x="1416" y="277"/>
                  </a:lnTo>
                  <a:lnTo>
                    <a:pt x="1364" y="285"/>
                  </a:lnTo>
                  <a:lnTo>
                    <a:pt x="1310" y="297"/>
                  </a:lnTo>
                  <a:lnTo>
                    <a:pt x="1254" y="310"/>
                  </a:lnTo>
                  <a:lnTo>
                    <a:pt x="1195" y="325"/>
                  </a:lnTo>
                  <a:lnTo>
                    <a:pt x="1136" y="344"/>
                  </a:lnTo>
                  <a:lnTo>
                    <a:pt x="1076" y="366"/>
                  </a:lnTo>
                  <a:lnTo>
                    <a:pt x="1014" y="391"/>
                  </a:lnTo>
                  <a:lnTo>
                    <a:pt x="952" y="419"/>
                  </a:lnTo>
                  <a:lnTo>
                    <a:pt x="890" y="452"/>
                  </a:lnTo>
                  <a:lnTo>
                    <a:pt x="828" y="488"/>
                  </a:lnTo>
                  <a:lnTo>
                    <a:pt x="766" y="529"/>
                  </a:lnTo>
                  <a:lnTo>
                    <a:pt x="704" y="573"/>
                  </a:lnTo>
                  <a:lnTo>
                    <a:pt x="643" y="623"/>
                  </a:lnTo>
                  <a:lnTo>
                    <a:pt x="583" y="676"/>
                  </a:lnTo>
                  <a:lnTo>
                    <a:pt x="525" y="736"/>
                  </a:lnTo>
                  <a:lnTo>
                    <a:pt x="468" y="800"/>
                  </a:lnTo>
                  <a:lnTo>
                    <a:pt x="413" y="870"/>
                  </a:lnTo>
                  <a:lnTo>
                    <a:pt x="361" y="945"/>
                  </a:lnTo>
                  <a:lnTo>
                    <a:pt x="311" y="1027"/>
                  </a:lnTo>
                  <a:lnTo>
                    <a:pt x="264" y="1114"/>
                  </a:lnTo>
                  <a:lnTo>
                    <a:pt x="222" y="1073"/>
                  </a:lnTo>
                  <a:lnTo>
                    <a:pt x="171" y="1021"/>
                  </a:lnTo>
                  <a:lnTo>
                    <a:pt x="122" y="972"/>
                  </a:lnTo>
                  <a:lnTo>
                    <a:pt x="90" y="938"/>
                  </a:lnTo>
                  <a:lnTo>
                    <a:pt x="106" y="913"/>
                  </a:lnTo>
                  <a:lnTo>
                    <a:pt x="132" y="877"/>
                  </a:lnTo>
                  <a:lnTo>
                    <a:pt x="165" y="834"/>
                  </a:lnTo>
                  <a:lnTo>
                    <a:pt x="204" y="783"/>
                  </a:lnTo>
                  <a:lnTo>
                    <a:pt x="250" y="726"/>
                  </a:lnTo>
                  <a:lnTo>
                    <a:pt x="304" y="665"/>
                  </a:lnTo>
                  <a:lnTo>
                    <a:pt x="334" y="634"/>
                  </a:lnTo>
                  <a:lnTo>
                    <a:pt x="365" y="602"/>
                  </a:lnTo>
                  <a:lnTo>
                    <a:pt x="397" y="568"/>
                  </a:lnTo>
                  <a:lnTo>
                    <a:pt x="432" y="536"/>
                  </a:lnTo>
                  <a:lnTo>
                    <a:pt x="468" y="503"/>
                  </a:lnTo>
                  <a:lnTo>
                    <a:pt x="505" y="469"/>
                  </a:lnTo>
                  <a:lnTo>
                    <a:pt x="543" y="437"/>
                  </a:lnTo>
                  <a:lnTo>
                    <a:pt x="584" y="405"/>
                  </a:lnTo>
                  <a:lnTo>
                    <a:pt x="625" y="372"/>
                  </a:lnTo>
                  <a:lnTo>
                    <a:pt x="669" y="341"/>
                  </a:lnTo>
                  <a:lnTo>
                    <a:pt x="715" y="310"/>
                  </a:lnTo>
                  <a:lnTo>
                    <a:pt x="761" y="282"/>
                  </a:lnTo>
                  <a:lnTo>
                    <a:pt x="808" y="253"/>
                  </a:lnTo>
                  <a:lnTo>
                    <a:pt x="858" y="227"/>
                  </a:lnTo>
                  <a:lnTo>
                    <a:pt x="907" y="201"/>
                  </a:lnTo>
                  <a:lnTo>
                    <a:pt x="959" y="177"/>
                  </a:lnTo>
                  <a:lnTo>
                    <a:pt x="1013" y="156"/>
                  </a:lnTo>
                  <a:lnTo>
                    <a:pt x="1067" y="137"/>
                  </a:lnTo>
                  <a:lnTo>
                    <a:pt x="1122" y="119"/>
                  </a:lnTo>
                  <a:lnTo>
                    <a:pt x="1179" y="1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2982960" y="5425920"/>
              <a:ext cx="1092240" cy="447840"/>
            </a:xfrm>
            <a:custGeom>
              <a:avLst/>
              <a:gdLst/>
              <a:ahLst/>
              <a:rect l="l" t="t" r="r" b="b"/>
              <a:pathLst>
                <a:path w="2749" h="1127">
                  <a:moveTo>
                    <a:pt x="0" y="873"/>
                  </a:moveTo>
                  <a:lnTo>
                    <a:pt x="9" y="856"/>
                  </a:lnTo>
                  <a:lnTo>
                    <a:pt x="37" y="813"/>
                  </a:lnTo>
                  <a:lnTo>
                    <a:pt x="58" y="782"/>
                  </a:lnTo>
                  <a:lnTo>
                    <a:pt x="84" y="746"/>
                  </a:lnTo>
                  <a:lnTo>
                    <a:pt x="113" y="705"/>
                  </a:lnTo>
                  <a:lnTo>
                    <a:pt x="147" y="662"/>
                  </a:lnTo>
                  <a:lnTo>
                    <a:pt x="186" y="614"/>
                  </a:lnTo>
                  <a:lnTo>
                    <a:pt x="228" y="565"/>
                  </a:lnTo>
                  <a:lnTo>
                    <a:pt x="275" y="514"/>
                  </a:lnTo>
                  <a:lnTo>
                    <a:pt x="326" y="462"/>
                  </a:lnTo>
                  <a:lnTo>
                    <a:pt x="381" y="410"/>
                  </a:lnTo>
                  <a:lnTo>
                    <a:pt x="439" y="358"/>
                  </a:lnTo>
                  <a:lnTo>
                    <a:pt x="502" y="307"/>
                  </a:lnTo>
                  <a:lnTo>
                    <a:pt x="568" y="257"/>
                  </a:lnTo>
                  <a:lnTo>
                    <a:pt x="639" y="210"/>
                  </a:lnTo>
                  <a:lnTo>
                    <a:pt x="714" y="167"/>
                  </a:lnTo>
                  <a:lnTo>
                    <a:pt x="792" y="126"/>
                  </a:lnTo>
                  <a:lnTo>
                    <a:pt x="873" y="90"/>
                  </a:lnTo>
                  <a:lnTo>
                    <a:pt x="958" y="60"/>
                  </a:lnTo>
                  <a:lnTo>
                    <a:pt x="1046" y="34"/>
                  </a:lnTo>
                  <a:lnTo>
                    <a:pt x="1138" y="15"/>
                  </a:lnTo>
                  <a:lnTo>
                    <a:pt x="1234" y="4"/>
                  </a:lnTo>
                  <a:lnTo>
                    <a:pt x="1333" y="0"/>
                  </a:lnTo>
                  <a:lnTo>
                    <a:pt x="1435" y="5"/>
                  </a:lnTo>
                  <a:lnTo>
                    <a:pt x="1541" y="19"/>
                  </a:lnTo>
                  <a:lnTo>
                    <a:pt x="1649" y="41"/>
                  </a:lnTo>
                  <a:lnTo>
                    <a:pt x="1760" y="76"/>
                  </a:lnTo>
                  <a:lnTo>
                    <a:pt x="1875" y="121"/>
                  </a:lnTo>
                  <a:lnTo>
                    <a:pt x="1993" y="178"/>
                  </a:lnTo>
                  <a:lnTo>
                    <a:pt x="2113" y="246"/>
                  </a:lnTo>
                  <a:lnTo>
                    <a:pt x="2150" y="278"/>
                  </a:lnTo>
                  <a:lnTo>
                    <a:pt x="2189" y="307"/>
                  </a:lnTo>
                  <a:lnTo>
                    <a:pt x="2226" y="335"/>
                  </a:lnTo>
                  <a:lnTo>
                    <a:pt x="2262" y="360"/>
                  </a:lnTo>
                  <a:lnTo>
                    <a:pt x="2334" y="408"/>
                  </a:lnTo>
                  <a:lnTo>
                    <a:pt x="2401" y="451"/>
                  </a:lnTo>
                  <a:lnTo>
                    <a:pt x="2466" y="490"/>
                  </a:lnTo>
                  <a:lnTo>
                    <a:pt x="2525" y="526"/>
                  </a:lnTo>
                  <a:lnTo>
                    <a:pt x="2553" y="544"/>
                  </a:lnTo>
                  <a:lnTo>
                    <a:pt x="2580" y="561"/>
                  </a:lnTo>
                  <a:lnTo>
                    <a:pt x="2604" y="578"/>
                  </a:lnTo>
                  <a:lnTo>
                    <a:pt x="2627" y="596"/>
                  </a:lnTo>
                  <a:lnTo>
                    <a:pt x="2648" y="613"/>
                  </a:lnTo>
                  <a:lnTo>
                    <a:pt x="2668" y="631"/>
                  </a:lnTo>
                  <a:lnTo>
                    <a:pt x="2685" y="648"/>
                  </a:lnTo>
                  <a:lnTo>
                    <a:pt x="2702" y="667"/>
                  </a:lnTo>
                  <a:lnTo>
                    <a:pt x="2715" y="686"/>
                  </a:lnTo>
                  <a:lnTo>
                    <a:pt x="2726" y="706"/>
                  </a:lnTo>
                  <a:lnTo>
                    <a:pt x="2736" y="727"/>
                  </a:lnTo>
                  <a:lnTo>
                    <a:pt x="2743" y="748"/>
                  </a:lnTo>
                  <a:lnTo>
                    <a:pt x="2748" y="772"/>
                  </a:lnTo>
                  <a:lnTo>
                    <a:pt x="2749" y="797"/>
                  </a:lnTo>
                  <a:lnTo>
                    <a:pt x="2748" y="823"/>
                  </a:lnTo>
                  <a:lnTo>
                    <a:pt x="2745" y="851"/>
                  </a:lnTo>
                  <a:lnTo>
                    <a:pt x="2739" y="880"/>
                  </a:lnTo>
                  <a:lnTo>
                    <a:pt x="2729" y="912"/>
                  </a:lnTo>
                  <a:lnTo>
                    <a:pt x="2717" y="946"/>
                  </a:lnTo>
                  <a:lnTo>
                    <a:pt x="2702" y="982"/>
                  </a:lnTo>
                  <a:lnTo>
                    <a:pt x="2604" y="1127"/>
                  </a:lnTo>
                  <a:lnTo>
                    <a:pt x="2597" y="1118"/>
                  </a:lnTo>
                  <a:lnTo>
                    <a:pt x="2582" y="1091"/>
                  </a:lnTo>
                  <a:lnTo>
                    <a:pt x="2556" y="1050"/>
                  </a:lnTo>
                  <a:lnTo>
                    <a:pt x="2523" y="997"/>
                  </a:lnTo>
                  <a:lnTo>
                    <a:pt x="2502" y="967"/>
                  </a:lnTo>
                  <a:lnTo>
                    <a:pt x="2481" y="935"/>
                  </a:lnTo>
                  <a:lnTo>
                    <a:pt x="2456" y="900"/>
                  </a:lnTo>
                  <a:lnTo>
                    <a:pt x="2430" y="865"/>
                  </a:lnTo>
                  <a:lnTo>
                    <a:pt x="2401" y="829"/>
                  </a:lnTo>
                  <a:lnTo>
                    <a:pt x="2371" y="792"/>
                  </a:lnTo>
                  <a:lnTo>
                    <a:pt x="2340" y="755"/>
                  </a:lnTo>
                  <a:lnTo>
                    <a:pt x="2308" y="717"/>
                  </a:lnTo>
                  <a:lnTo>
                    <a:pt x="2273" y="680"/>
                  </a:lnTo>
                  <a:lnTo>
                    <a:pt x="2237" y="644"/>
                  </a:lnTo>
                  <a:lnTo>
                    <a:pt x="2200" y="609"/>
                  </a:lnTo>
                  <a:lnTo>
                    <a:pt x="2161" y="575"/>
                  </a:lnTo>
                  <a:lnTo>
                    <a:pt x="2122" y="542"/>
                  </a:lnTo>
                  <a:lnTo>
                    <a:pt x="2081" y="513"/>
                  </a:lnTo>
                  <a:lnTo>
                    <a:pt x="2039" y="484"/>
                  </a:lnTo>
                  <a:lnTo>
                    <a:pt x="1996" y="459"/>
                  </a:lnTo>
                  <a:lnTo>
                    <a:pt x="1953" y="437"/>
                  </a:lnTo>
                  <a:lnTo>
                    <a:pt x="1908" y="417"/>
                  </a:lnTo>
                  <a:lnTo>
                    <a:pt x="1862" y="402"/>
                  </a:lnTo>
                  <a:lnTo>
                    <a:pt x="1816" y="391"/>
                  </a:lnTo>
                  <a:lnTo>
                    <a:pt x="1770" y="384"/>
                  </a:lnTo>
                  <a:lnTo>
                    <a:pt x="1723" y="381"/>
                  </a:lnTo>
                  <a:lnTo>
                    <a:pt x="1676" y="384"/>
                  </a:lnTo>
                  <a:lnTo>
                    <a:pt x="1627" y="391"/>
                  </a:lnTo>
                  <a:lnTo>
                    <a:pt x="1618" y="387"/>
                  </a:lnTo>
                  <a:lnTo>
                    <a:pt x="1587" y="376"/>
                  </a:lnTo>
                  <a:lnTo>
                    <a:pt x="1565" y="369"/>
                  </a:lnTo>
                  <a:lnTo>
                    <a:pt x="1539" y="361"/>
                  </a:lnTo>
                  <a:lnTo>
                    <a:pt x="1510" y="354"/>
                  </a:lnTo>
                  <a:lnTo>
                    <a:pt x="1476" y="345"/>
                  </a:lnTo>
                  <a:lnTo>
                    <a:pt x="1439" y="338"/>
                  </a:lnTo>
                  <a:lnTo>
                    <a:pt x="1399" y="332"/>
                  </a:lnTo>
                  <a:lnTo>
                    <a:pt x="1356" y="325"/>
                  </a:lnTo>
                  <a:lnTo>
                    <a:pt x="1310" y="320"/>
                  </a:lnTo>
                  <a:lnTo>
                    <a:pt x="1261" y="318"/>
                  </a:lnTo>
                  <a:lnTo>
                    <a:pt x="1212" y="317"/>
                  </a:lnTo>
                  <a:lnTo>
                    <a:pt x="1159" y="318"/>
                  </a:lnTo>
                  <a:lnTo>
                    <a:pt x="1106" y="322"/>
                  </a:lnTo>
                  <a:lnTo>
                    <a:pt x="1050" y="329"/>
                  </a:lnTo>
                  <a:lnTo>
                    <a:pt x="994" y="339"/>
                  </a:lnTo>
                  <a:lnTo>
                    <a:pt x="937" y="353"/>
                  </a:lnTo>
                  <a:lnTo>
                    <a:pt x="880" y="370"/>
                  </a:lnTo>
                  <a:lnTo>
                    <a:pt x="822" y="392"/>
                  </a:lnTo>
                  <a:lnTo>
                    <a:pt x="763" y="418"/>
                  </a:lnTo>
                  <a:lnTo>
                    <a:pt x="705" y="451"/>
                  </a:lnTo>
                  <a:lnTo>
                    <a:pt x="647" y="487"/>
                  </a:lnTo>
                  <a:lnTo>
                    <a:pt x="589" y="529"/>
                  </a:lnTo>
                  <a:lnTo>
                    <a:pt x="534" y="577"/>
                  </a:lnTo>
                  <a:lnTo>
                    <a:pt x="479" y="632"/>
                  </a:lnTo>
                  <a:lnTo>
                    <a:pt x="425" y="693"/>
                  </a:lnTo>
                  <a:lnTo>
                    <a:pt x="373" y="761"/>
                  </a:lnTo>
                  <a:lnTo>
                    <a:pt x="322" y="835"/>
                  </a:lnTo>
                  <a:lnTo>
                    <a:pt x="275" y="918"/>
                  </a:lnTo>
                  <a:lnTo>
                    <a:pt x="229" y="1009"/>
                  </a:lnTo>
                  <a:lnTo>
                    <a:pt x="0" y="873"/>
                  </a:lnTo>
                  <a:close/>
                </a:path>
              </a:pathLst>
            </a:custGeom>
            <a:solidFill>
              <a:srgbClr val="7a5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2963880" y="5411880"/>
              <a:ext cx="1123920" cy="488880"/>
            </a:xfrm>
            <a:custGeom>
              <a:avLst/>
              <a:gdLst/>
              <a:ahLst/>
              <a:rect l="l" t="t" r="r" b="b"/>
              <a:pathLst>
                <a:path w="2833" h="1232">
                  <a:moveTo>
                    <a:pt x="1074" y="39"/>
                  </a:moveTo>
                  <a:lnTo>
                    <a:pt x="1012" y="56"/>
                  </a:lnTo>
                  <a:lnTo>
                    <a:pt x="953" y="76"/>
                  </a:lnTo>
                  <a:lnTo>
                    <a:pt x="895" y="98"/>
                  </a:lnTo>
                  <a:lnTo>
                    <a:pt x="840" y="123"/>
                  </a:lnTo>
                  <a:lnTo>
                    <a:pt x="785" y="149"/>
                  </a:lnTo>
                  <a:lnTo>
                    <a:pt x="732" y="178"/>
                  </a:lnTo>
                  <a:lnTo>
                    <a:pt x="681" y="208"/>
                  </a:lnTo>
                  <a:lnTo>
                    <a:pt x="632" y="240"/>
                  </a:lnTo>
                  <a:lnTo>
                    <a:pt x="585" y="272"/>
                  </a:lnTo>
                  <a:lnTo>
                    <a:pt x="539" y="306"/>
                  </a:lnTo>
                  <a:lnTo>
                    <a:pt x="496" y="340"/>
                  </a:lnTo>
                  <a:lnTo>
                    <a:pt x="453" y="375"/>
                  </a:lnTo>
                  <a:lnTo>
                    <a:pt x="412" y="411"/>
                  </a:lnTo>
                  <a:lnTo>
                    <a:pt x="375" y="447"/>
                  </a:lnTo>
                  <a:lnTo>
                    <a:pt x="338" y="483"/>
                  </a:lnTo>
                  <a:lnTo>
                    <a:pt x="303" y="518"/>
                  </a:lnTo>
                  <a:lnTo>
                    <a:pt x="271" y="552"/>
                  </a:lnTo>
                  <a:lnTo>
                    <a:pt x="240" y="587"/>
                  </a:lnTo>
                  <a:lnTo>
                    <a:pt x="211" y="621"/>
                  </a:lnTo>
                  <a:lnTo>
                    <a:pt x="184" y="654"/>
                  </a:lnTo>
                  <a:lnTo>
                    <a:pt x="137" y="715"/>
                  </a:lnTo>
                  <a:lnTo>
                    <a:pt x="97" y="770"/>
                  </a:lnTo>
                  <a:lnTo>
                    <a:pt x="65" y="817"/>
                  </a:lnTo>
                  <a:lnTo>
                    <a:pt x="41" y="854"/>
                  </a:lnTo>
                  <a:lnTo>
                    <a:pt x="25" y="879"/>
                  </a:lnTo>
                  <a:lnTo>
                    <a:pt x="18" y="891"/>
                  </a:lnTo>
                  <a:lnTo>
                    <a:pt x="0" y="921"/>
                  </a:lnTo>
                  <a:lnTo>
                    <a:pt x="294" y="1095"/>
                  </a:lnTo>
                  <a:lnTo>
                    <a:pt x="311" y="1060"/>
                  </a:lnTo>
                  <a:lnTo>
                    <a:pt x="354" y="973"/>
                  </a:lnTo>
                  <a:lnTo>
                    <a:pt x="400" y="894"/>
                  </a:lnTo>
                  <a:lnTo>
                    <a:pt x="447" y="822"/>
                  </a:lnTo>
                  <a:lnTo>
                    <a:pt x="497" y="756"/>
                  </a:lnTo>
                  <a:lnTo>
                    <a:pt x="548" y="698"/>
                  </a:lnTo>
                  <a:lnTo>
                    <a:pt x="600" y="645"/>
                  </a:lnTo>
                  <a:lnTo>
                    <a:pt x="653" y="598"/>
                  </a:lnTo>
                  <a:lnTo>
                    <a:pt x="708" y="557"/>
                  </a:lnTo>
                  <a:lnTo>
                    <a:pt x="763" y="521"/>
                  </a:lnTo>
                  <a:lnTo>
                    <a:pt x="817" y="490"/>
                  </a:lnTo>
                  <a:lnTo>
                    <a:pt x="872" y="464"/>
                  </a:lnTo>
                  <a:lnTo>
                    <a:pt x="928" y="442"/>
                  </a:lnTo>
                  <a:lnTo>
                    <a:pt x="982" y="425"/>
                  </a:lnTo>
                  <a:lnTo>
                    <a:pt x="1037" y="410"/>
                  </a:lnTo>
                  <a:lnTo>
                    <a:pt x="1090" y="400"/>
                  </a:lnTo>
                  <a:lnTo>
                    <a:pt x="1143" y="392"/>
                  </a:lnTo>
                  <a:lnTo>
                    <a:pt x="1193" y="387"/>
                  </a:lnTo>
                  <a:lnTo>
                    <a:pt x="1243" y="386"/>
                  </a:lnTo>
                  <a:lnTo>
                    <a:pt x="1292" y="386"/>
                  </a:lnTo>
                  <a:lnTo>
                    <a:pt x="1337" y="389"/>
                  </a:lnTo>
                  <a:lnTo>
                    <a:pt x="1382" y="392"/>
                  </a:lnTo>
                  <a:lnTo>
                    <a:pt x="1424" y="399"/>
                  </a:lnTo>
                  <a:lnTo>
                    <a:pt x="1463" y="405"/>
                  </a:lnTo>
                  <a:lnTo>
                    <a:pt x="1500" y="412"/>
                  </a:lnTo>
                  <a:lnTo>
                    <a:pt x="1532" y="420"/>
                  </a:lnTo>
                  <a:lnTo>
                    <a:pt x="1563" y="427"/>
                  </a:lnTo>
                  <a:lnTo>
                    <a:pt x="1590" y="435"/>
                  </a:lnTo>
                  <a:lnTo>
                    <a:pt x="1613" y="442"/>
                  </a:lnTo>
                  <a:lnTo>
                    <a:pt x="1647" y="453"/>
                  </a:lnTo>
                  <a:lnTo>
                    <a:pt x="1663" y="459"/>
                  </a:lnTo>
                  <a:lnTo>
                    <a:pt x="1673" y="464"/>
                  </a:lnTo>
                  <a:lnTo>
                    <a:pt x="1684" y="462"/>
                  </a:lnTo>
                  <a:lnTo>
                    <a:pt x="1729" y="454"/>
                  </a:lnTo>
                  <a:lnTo>
                    <a:pt x="1773" y="453"/>
                  </a:lnTo>
                  <a:lnTo>
                    <a:pt x="1818" y="456"/>
                  </a:lnTo>
                  <a:lnTo>
                    <a:pt x="1862" y="462"/>
                  </a:lnTo>
                  <a:lnTo>
                    <a:pt x="1905" y="473"/>
                  </a:lnTo>
                  <a:lnTo>
                    <a:pt x="1948" y="489"/>
                  </a:lnTo>
                  <a:lnTo>
                    <a:pt x="1991" y="508"/>
                  </a:lnTo>
                  <a:lnTo>
                    <a:pt x="2033" y="529"/>
                  </a:lnTo>
                  <a:lnTo>
                    <a:pt x="2074" y="554"/>
                  </a:lnTo>
                  <a:lnTo>
                    <a:pt x="2114" y="581"/>
                  </a:lnTo>
                  <a:lnTo>
                    <a:pt x="2152" y="610"/>
                  </a:lnTo>
                  <a:lnTo>
                    <a:pt x="2191" y="641"/>
                  </a:lnTo>
                  <a:lnTo>
                    <a:pt x="2227" y="674"/>
                  </a:lnTo>
                  <a:lnTo>
                    <a:pt x="2263" y="708"/>
                  </a:lnTo>
                  <a:lnTo>
                    <a:pt x="2297" y="744"/>
                  </a:lnTo>
                  <a:lnTo>
                    <a:pt x="2331" y="778"/>
                  </a:lnTo>
                  <a:lnTo>
                    <a:pt x="2363" y="815"/>
                  </a:lnTo>
                  <a:lnTo>
                    <a:pt x="2393" y="851"/>
                  </a:lnTo>
                  <a:lnTo>
                    <a:pt x="2422" y="887"/>
                  </a:lnTo>
                  <a:lnTo>
                    <a:pt x="2449" y="922"/>
                  </a:lnTo>
                  <a:lnTo>
                    <a:pt x="2499" y="989"/>
                  </a:lnTo>
                  <a:lnTo>
                    <a:pt x="2540" y="1050"/>
                  </a:lnTo>
                  <a:lnTo>
                    <a:pt x="2574" y="1102"/>
                  </a:lnTo>
                  <a:lnTo>
                    <a:pt x="2599" y="1143"/>
                  </a:lnTo>
                  <a:lnTo>
                    <a:pt x="2615" y="1170"/>
                  </a:lnTo>
                  <a:lnTo>
                    <a:pt x="2620" y="1180"/>
                  </a:lnTo>
                  <a:lnTo>
                    <a:pt x="2649" y="1232"/>
                  </a:lnTo>
                  <a:lnTo>
                    <a:pt x="2780" y="1038"/>
                  </a:lnTo>
                  <a:lnTo>
                    <a:pt x="2793" y="1009"/>
                  </a:lnTo>
                  <a:lnTo>
                    <a:pt x="2803" y="982"/>
                  </a:lnTo>
                  <a:lnTo>
                    <a:pt x="2811" y="956"/>
                  </a:lnTo>
                  <a:lnTo>
                    <a:pt x="2819" y="931"/>
                  </a:lnTo>
                  <a:lnTo>
                    <a:pt x="2825" y="907"/>
                  </a:lnTo>
                  <a:lnTo>
                    <a:pt x="2829" y="885"/>
                  </a:lnTo>
                  <a:lnTo>
                    <a:pt x="2831" y="863"/>
                  </a:lnTo>
                  <a:lnTo>
                    <a:pt x="2833" y="842"/>
                  </a:lnTo>
                  <a:lnTo>
                    <a:pt x="2831" y="822"/>
                  </a:lnTo>
                  <a:lnTo>
                    <a:pt x="2830" y="803"/>
                  </a:lnTo>
                  <a:lnTo>
                    <a:pt x="2826" y="784"/>
                  </a:lnTo>
                  <a:lnTo>
                    <a:pt x="2823" y="766"/>
                  </a:lnTo>
                  <a:lnTo>
                    <a:pt x="2816" y="750"/>
                  </a:lnTo>
                  <a:lnTo>
                    <a:pt x="2810" y="732"/>
                  </a:lnTo>
                  <a:lnTo>
                    <a:pt x="2802" y="716"/>
                  </a:lnTo>
                  <a:lnTo>
                    <a:pt x="2793" y="701"/>
                  </a:lnTo>
                  <a:lnTo>
                    <a:pt x="2782" y="686"/>
                  </a:lnTo>
                  <a:lnTo>
                    <a:pt x="2770" y="672"/>
                  </a:lnTo>
                  <a:lnTo>
                    <a:pt x="2758" y="658"/>
                  </a:lnTo>
                  <a:lnTo>
                    <a:pt x="2744" y="644"/>
                  </a:lnTo>
                  <a:lnTo>
                    <a:pt x="2731" y="631"/>
                  </a:lnTo>
                  <a:lnTo>
                    <a:pt x="2716" y="618"/>
                  </a:lnTo>
                  <a:lnTo>
                    <a:pt x="2700" y="605"/>
                  </a:lnTo>
                  <a:lnTo>
                    <a:pt x="2684" y="592"/>
                  </a:lnTo>
                  <a:lnTo>
                    <a:pt x="2648" y="567"/>
                  </a:lnTo>
                  <a:lnTo>
                    <a:pt x="2609" y="543"/>
                  </a:lnTo>
                  <a:lnTo>
                    <a:pt x="2569" y="518"/>
                  </a:lnTo>
                  <a:lnTo>
                    <a:pt x="2527" y="492"/>
                  </a:lnTo>
                  <a:lnTo>
                    <a:pt x="2487" y="468"/>
                  </a:lnTo>
                  <a:lnTo>
                    <a:pt x="2448" y="443"/>
                  </a:lnTo>
                  <a:lnTo>
                    <a:pt x="2405" y="417"/>
                  </a:lnTo>
                  <a:lnTo>
                    <a:pt x="2363" y="389"/>
                  </a:lnTo>
                  <a:lnTo>
                    <a:pt x="2320" y="359"/>
                  </a:lnTo>
                  <a:lnTo>
                    <a:pt x="2275" y="327"/>
                  </a:lnTo>
                  <a:lnTo>
                    <a:pt x="2230" y="293"/>
                  </a:lnTo>
                  <a:lnTo>
                    <a:pt x="2184" y="255"/>
                  </a:lnTo>
                  <a:lnTo>
                    <a:pt x="2150" y="234"/>
                  </a:lnTo>
                  <a:lnTo>
                    <a:pt x="2114" y="212"/>
                  </a:lnTo>
                  <a:lnTo>
                    <a:pt x="2078" y="193"/>
                  </a:lnTo>
                  <a:lnTo>
                    <a:pt x="2043" y="174"/>
                  </a:lnTo>
                  <a:lnTo>
                    <a:pt x="2007" y="157"/>
                  </a:lnTo>
                  <a:lnTo>
                    <a:pt x="1972" y="139"/>
                  </a:lnTo>
                  <a:lnTo>
                    <a:pt x="1937" y="124"/>
                  </a:lnTo>
                  <a:lnTo>
                    <a:pt x="1901" y="110"/>
                  </a:lnTo>
                  <a:lnTo>
                    <a:pt x="1866" y="95"/>
                  </a:lnTo>
                  <a:lnTo>
                    <a:pt x="1832" y="82"/>
                  </a:lnTo>
                  <a:lnTo>
                    <a:pt x="1796" y="70"/>
                  </a:lnTo>
                  <a:lnTo>
                    <a:pt x="1761" y="59"/>
                  </a:lnTo>
                  <a:lnTo>
                    <a:pt x="1726" y="49"/>
                  </a:lnTo>
                  <a:lnTo>
                    <a:pt x="1691" y="40"/>
                  </a:lnTo>
                  <a:lnTo>
                    <a:pt x="1657" y="31"/>
                  </a:lnTo>
                  <a:lnTo>
                    <a:pt x="1622" y="24"/>
                  </a:lnTo>
                  <a:lnTo>
                    <a:pt x="1587" y="18"/>
                  </a:lnTo>
                  <a:lnTo>
                    <a:pt x="1552" y="13"/>
                  </a:lnTo>
                  <a:lnTo>
                    <a:pt x="1518" y="9"/>
                  </a:lnTo>
                  <a:lnTo>
                    <a:pt x="1483" y="5"/>
                  </a:lnTo>
                  <a:lnTo>
                    <a:pt x="1448" y="3"/>
                  </a:lnTo>
                  <a:lnTo>
                    <a:pt x="1414" y="2"/>
                  </a:lnTo>
                  <a:lnTo>
                    <a:pt x="1380" y="0"/>
                  </a:lnTo>
                  <a:lnTo>
                    <a:pt x="1345" y="2"/>
                  </a:lnTo>
                  <a:lnTo>
                    <a:pt x="1311" y="3"/>
                  </a:lnTo>
                  <a:lnTo>
                    <a:pt x="1277" y="5"/>
                  </a:lnTo>
                  <a:lnTo>
                    <a:pt x="1243" y="8"/>
                  </a:lnTo>
                  <a:lnTo>
                    <a:pt x="1210" y="13"/>
                  </a:lnTo>
                  <a:lnTo>
                    <a:pt x="1175" y="18"/>
                  </a:lnTo>
                  <a:lnTo>
                    <a:pt x="1141" y="24"/>
                  </a:lnTo>
                  <a:lnTo>
                    <a:pt x="1108" y="31"/>
                  </a:lnTo>
                  <a:lnTo>
                    <a:pt x="1074" y="39"/>
                  </a:lnTo>
                  <a:close/>
                  <a:moveTo>
                    <a:pt x="1092" y="108"/>
                  </a:moveTo>
                  <a:lnTo>
                    <a:pt x="1124" y="101"/>
                  </a:lnTo>
                  <a:lnTo>
                    <a:pt x="1156" y="93"/>
                  </a:lnTo>
                  <a:lnTo>
                    <a:pt x="1187" y="88"/>
                  </a:lnTo>
                  <a:lnTo>
                    <a:pt x="1220" y="83"/>
                  </a:lnTo>
                  <a:lnTo>
                    <a:pt x="1252" y="78"/>
                  </a:lnTo>
                  <a:lnTo>
                    <a:pt x="1284" y="76"/>
                  </a:lnTo>
                  <a:lnTo>
                    <a:pt x="1316" y="74"/>
                  </a:lnTo>
                  <a:lnTo>
                    <a:pt x="1349" y="72"/>
                  </a:lnTo>
                  <a:lnTo>
                    <a:pt x="1381" y="72"/>
                  </a:lnTo>
                  <a:lnTo>
                    <a:pt x="1413" y="72"/>
                  </a:lnTo>
                  <a:lnTo>
                    <a:pt x="1447" y="74"/>
                  </a:lnTo>
                  <a:lnTo>
                    <a:pt x="1479" y="76"/>
                  </a:lnTo>
                  <a:lnTo>
                    <a:pt x="1511" y="80"/>
                  </a:lnTo>
                  <a:lnTo>
                    <a:pt x="1545" y="83"/>
                  </a:lnTo>
                  <a:lnTo>
                    <a:pt x="1577" y="88"/>
                  </a:lnTo>
                  <a:lnTo>
                    <a:pt x="1611" y="95"/>
                  </a:lnTo>
                  <a:lnTo>
                    <a:pt x="1643" y="102"/>
                  </a:lnTo>
                  <a:lnTo>
                    <a:pt x="1676" y="110"/>
                  </a:lnTo>
                  <a:lnTo>
                    <a:pt x="1709" y="118"/>
                  </a:lnTo>
                  <a:lnTo>
                    <a:pt x="1742" y="128"/>
                  </a:lnTo>
                  <a:lnTo>
                    <a:pt x="1776" y="138"/>
                  </a:lnTo>
                  <a:lnTo>
                    <a:pt x="1809" y="149"/>
                  </a:lnTo>
                  <a:lnTo>
                    <a:pt x="1842" y="162"/>
                  </a:lnTo>
                  <a:lnTo>
                    <a:pt x="1875" y="175"/>
                  </a:lnTo>
                  <a:lnTo>
                    <a:pt x="1909" y="189"/>
                  </a:lnTo>
                  <a:lnTo>
                    <a:pt x="1942" y="204"/>
                  </a:lnTo>
                  <a:lnTo>
                    <a:pt x="1976" y="220"/>
                  </a:lnTo>
                  <a:lnTo>
                    <a:pt x="2009" y="236"/>
                  </a:lnTo>
                  <a:lnTo>
                    <a:pt x="2043" y="255"/>
                  </a:lnTo>
                  <a:lnTo>
                    <a:pt x="2076" y="273"/>
                  </a:lnTo>
                  <a:lnTo>
                    <a:pt x="2110" y="292"/>
                  </a:lnTo>
                  <a:lnTo>
                    <a:pt x="2143" y="313"/>
                  </a:lnTo>
                  <a:lnTo>
                    <a:pt x="2189" y="350"/>
                  </a:lnTo>
                  <a:lnTo>
                    <a:pt x="2235" y="386"/>
                  </a:lnTo>
                  <a:lnTo>
                    <a:pt x="2280" y="418"/>
                  </a:lnTo>
                  <a:lnTo>
                    <a:pt x="2325" y="449"/>
                  </a:lnTo>
                  <a:lnTo>
                    <a:pt x="2368" y="478"/>
                  </a:lnTo>
                  <a:lnTo>
                    <a:pt x="2410" y="504"/>
                  </a:lnTo>
                  <a:lnTo>
                    <a:pt x="2451" y="529"/>
                  </a:lnTo>
                  <a:lnTo>
                    <a:pt x="2490" y="552"/>
                  </a:lnTo>
                  <a:lnTo>
                    <a:pt x="2551" y="590"/>
                  </a:lnTo>
                  <a:lnTo>
                    <a:pt x="2604" y="624"/>
                  </a:lnTo>
                  <a:lnTo>
                    <a:pt x="2629" y="641"/>
                  </a:lnTo>
                  <a:lnTo>
                    <a:pt x="2651" y="657"/>
                  </a:lnTo>
                  <a:lnTo>
                    <a:pt x="2671" y="673"/>
                  </a:lnTo>
                  <a:lnTo>
                    <a:pt x="2690" y="689"/>
                  </a:lnTo>
                  <a:lnTo>
                    <a:pt x="2707" y="705"/>
                  </a:lnTo>
                  <a:lnTo>
                    <a:pt x="2721" y="722"/>
                  </a:lnTo>
                  <a:lnTo>
                    <a:pt x="2733" y="740"/>
                  </a:lnTo>
                  <a:lnTo>
                    <a:pt x="2744" y="757"/>
                  </a:lnTo>
                  <a:lnTo>
                    <a:pt x="2752" y="776"/>
                  </a:lnTo>
                  <a:lnTo>
                    <a:pt x="2758" y="796"/>
                  </a:lnTo>
                  <a:lnTo>
                    <a:pt x="2762" y="817"/>
                  </a:lnTo>
                  <a:lnTo>
                    <a:pt x="2763" y="838"/>
                  </a:lnTo>
                  <a:lnTo>
                    <a:pt x="2762" y="855"/>
                  </a:lnTo>
                  <a:lnTo>
                    <a:pt x="2761" y="874"/>
                  </a:lnTo>
                  <a:lnTo>
                    <a:pt x="2757" y="892"/>
                  </a:lnTo>
                  <a:lnTo>
                    <a:pt x="2752" y="912"/>
                  </a:lnTo>
                  <a:lnTo>
                    <a:pt x="2746" y="933"/>
                  </a:lnTo>
                  <a:lnTo>
                    <a:pt x="2738" y="956"/>
                  </a:lnTo>
                  <a:lnTo>
                    <a:pt x="2728" y="978"/>
                  </a:lnTo>
                  <a:lnTo>
                    <a:pt x="2718" y="1003"/>
                  </a:lnTo>
                  <a:lnTo>
                    <a:pt x="2712" y="1011"/>
                  </a:lnTo>
                  <a:lnTo>
                    <a:pt x="2697" y="1034"/>
                  </a:lnTo>
                  <a:lnTo>
                    <a:pt x="2676" y="1065"/>
                  </a:lnTo>
                  <a:lnTo>
                    <a:pt x="2655" y="1096"/>
                  </a:lnTo>
                  <a:lnTo>
                    <a:pt x="2630" y="1057"/>
                  </a:lnTo>
                  <a:lnTo>
                    <a:pt x="2600" y="1010"/>
                  </a:lnTo>
                  <a:lnTo>
                    <a:pt x="2563" y="957"/>
                  </a:lnTo>
                  <a:lnTo>
                    <a:pt x="2521" y="897"/>
                  </a:lnTo>
                  <a:lnTo>
                    <a:pt x="2497" y="866"/>
                  </a:lnTo>
                  <a:lnTo>
                    <a:pt x="2474" y="835"/>
                  </a:lnTo>
                  <a:lnTo>
                    <a:pt x="2448" y="803"/>
                  </a:lnTo>
                  <a:lnTo>
                    <a:pt x="2420" y="771"/>
                  </a:lnTo>
                  <a:lnTo>
                    <a:pt x="2392" y="739"/>
                  </a:lnTo>
                  <a:lnTo>
                    <a:pt x="2362" y="706"/>
                  </a:lnTo>
                  <a:lnTo>
                    <a:pt x="2331" y="674"/>
                  </a:lnTo>
                  <a:lnTo>
                    <a:pt x="2300" y="643"/>
                  </a:lnTo>
                  <a:lnTo>
                    <a:pt x="2266" y="612"/>
                  </a:lnTo>
                  <a:lnTo>
                    <a:pt x="2233" y="582"/>
                  </a:lnTo>
                  <a:lnTo>
                    <a:pt x="2198" y="555"/>
                  </a:lnTo>
                  <a:lnTo>
                    <a:pt x="2163" y="528"/>
                  </a:lnTo>
                  <a:lnTo>
                    <a:pt x="2126" y="503"/>
                  </a:lnTo>
                  <a:lnTo>
                    <a:pt x="2089" y="479"/>
                  </a:lnTo>
                  <a:lnTo>
                    <a:pt x="2050" y="458"/>
                  </a:lnTo>
                  <a:lnTo>
                    <a:pt x="2012" y="438"/>
                  </a:lnTo>
                  <a:lnTo>
                    <a:pt x="1973" y="422"/>
                  </a:lnTo>
                  <a:lnTo>
                    <a:pt x="1932" y="409"/>
                  </a:lnTo>
                  <a:lnTo>
                    <a:pt x="1891" y="397"/>
                  </a:lnTo>
                  <a:lnTo>
                    <a:pt x="1850" y="389"/>
                  </a:lnTo>
                  <a:lnTo>
                    <a:pt x="1809" y="384"/>
                  </a:lnTo>
                  <a:lnTo>
                    <a:pt x="1767" y="382"/>
                  </a:lnTo>
                  <a:lnTo>
                    <a:pt x="1725" y="385"/>
                  </a:lnTo>
                  <a:lnTo>
                    <a:pt x="1681" y="391"/>
                  </a:lnTo>
                  <a:lnTo>
                    <a:pt x="1660" y="384"/>
                  </a:lnTo>
                  <a:lnTo>
                    <a:pt x="1623" y="371"/>
                  </a:lnTo>
                  <a:lnTo>
                    <a:pt x="1597" y="364"/>
                  </a:lnTo>
                  <a:lnTo>
                    <a:pt x="1568" y="356"/>
                  </a:lnTo>
                  <a:lnTo>
                    <a:pt x="1536" y="349"/>
                  </a:lnTo>
                  <a:lnTo>
                    <a:pt x="1501" y="342"/>
                  </a:lnTo>
                  <a:lnTo>
                    <a:pt x="1463" y="335"/>
                  </a:lnTo>
                  <a:lnTo>
                    <a:pt x="1422" y="329"/>
                  </a:lnTo>
                  <a:lnTo>
                    <a:pt x="1377" y="324"/>
                  </a:lnTo>
                  <a:lnTo>
                    <a:pt x="1331" y="320"/>
                  </a:lnTo>
                  <a:lnTo>
                    <a:pt x="1283" y="319"/>
                  </a:lnTo>
                  <a:lnTo>
                    <a:pt x="1233" y="319"/>
                  </a:lnTo>
                  <a:lnTo>
                    <a:pt x="1181" y="322"/>
                  </a:lnTo>
                  <a:lnTo>
                    <a:pt x="1128" y="327"/>
                  </a:lnTo>
                  <a:lnTo>
                    <a:pt x="1073" y="335"/>
                  </a:lnTo>
                  <a:lnTo>
                    <a:pt x="1018" y="346"/>
                  </a:lnTo>
                  <a:lnTo>
                    <a:pt x="961" y="361"/>
                  </a:lnTo>
                  <a:lnTo>
                    <a:pt x="905" y="379"/>
                  </a:lnTo>
                  <a:lnTo>
                    <a:pt x="848" y="402"/>
                  </a:lnTo>
                  <a:lnTo>
                    <a:pt x="791" y="428"/>
                  </a:lnTo>
                  <a:lnTo>
                    <a:pt x="734" y="459"/>
                  </a:lnTo>
                  <a:lnTo>
                    <a:pt x="677" y="495"/>
                  </a:lnTo>
                  <a:lnTo>
                    <a:pt x="621" y="538"/>
                  </a:lnTo>
                  <a:lnTo>
                    <a:pt x="566" y="583"/>
                  </a:lnTo>
                  <a:lnTo>
                    <a:pt x="512" y="637"/>
                  </a:lnTo>
                  <a:lnTo>
                    <a:pt x="458" y="695"/>
                  </a:lnTo>
                  <a:lnTo>
                    <a:pt x="407" y="760"/>
                  </a:lnTo>
                  <a:lnTo>
                    <a:pt x="358" y="832"/>
                  </a:lnTo>
                  <a:lnTo>
                    <a:pt x="311" y="910"/>
                  </a:lnTo>
                  <a:lnTo>
                    <a:pt x="265" y="995"/>
                  </a:lnTo>
                  <a:lnTo>
                    <a:pt x="227" y="973"/>
                  </a:lnTo>
                  <a:lnTo>
                    <a:pt x="181" y="946"/>
                  </a:lnTo>
                  <a:lnTo>
                    <a:pt x="135" y="918"/>
                  </a:lnTo>
                  <a:lnTo>
                    <a:pt x="98" y="896"/>
                  </a:lnTo>
                  <a:lnTo>
                    <a:pt x="117" y="868"/>
                  </a:lnTo>
                  <a:lnTo>
                    <a:pt x="142" y="832"/>
                  </a:lnTo>
                  <a:lnTo>
                    <a:pt x="173" y="788"/>
                  </a:lnTo>
                  <a:lnTo>
                    <a:pt x="210" y="739"/>
                  </a:lnTo>
                  <a:lnTo>
                    <a:pt x="253" y="685"/>
                  </a:lnTo>
                  <a:lnTo>
                    <a:pt x="302" y="627"/>
                  </a:lnTo>
                  <a:lnTo>
                    <a:pt x="329" y="598"/>
                  </a:lnTo>
                  <a:lnTo>
                    <a:pt x="358" y="567"/>
                  </a:lnTo>
                  <a:lnTo>
                    <a:pt x="386" y="538"/>
                  </a:lnTo>
                  <a:lnTo>
                    <a:pt x="417" y="507"/>
                  </a:lnTo>
                  <a:lnTo>
                    <a:pt x="450" y="476"/>
                  </a:lnTo>
                  <a:lnTo>
                    <a:pt x="484" y="446"/>
                  </a:lnTo>
                  <a:lnTo>
                    <a:pt x="519" y="415"/>
                  </a:lnTo>
                  <a:lnTo>
                    <a:pt x="555" y="385"/>
                  </a:lnTo>
                  <a:lnTo>
                    <a:pt x="592" y="356"/>
                  </a:lnTo>
                  <a:lnTo>
                    <a:pt x="632" y="328"/>
                  </a:lnTo>
                  <a:lnTo>
                    <a:pt x="672" y="299"/>
                  </a:lnTo>
                  <a:lnTo>
                    <a:pt x="714" y="272"/>
                  </a:lnTo>
                  <a:lnTo>
                    <a:pt x="758" y="247"/>
                  </a:lnTo>
                  <a:lnTo>
                    <a:pt x="801" y="222"/>
                  </a:lnTo>
                  <a:lnTo>
                    <a:pt x="847" y="199"/>
                  </a:lnTo>
                  <a:lnTo>
                    <a:pt x="893" y="177"/>
                  </a:lnTo>
                  <a:lnTo>
                    <a:pt x="941" y="157"/>
                  </a:lnTo>
                  <a:lnTo>
                    <a:pt x="990" y="139"/>
                  </a:lnTo>
                  <a:lnTo>
                    <a:pt x="1041" y="122"/>
                  </a:lnTo>
                  <a:lnTo>
                    <a:pt x="1092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3651120" y="5130720"/>
              <a:ext cx="130320" cy="412920"/>
            </a:xfrm>
            <a:custGeom>
              <a:avLst/>
              <a:gdLst/>
              <a:ahLst/>
              <a:rect l="l" t="t" r="r" b="b"/>
              <a:pathLst>
                <a:path w="328" h="1041">
                  <a:moveTo>
                    <a:pt x="136" y="2"/>
                  </a:moveTo>
                  <a:lnTo>
                    <a:pt x="133" y="8"/>
                  </a:lnTo>
                  <a:lnTo>
                    <a:pt x="127" y="26"/>
                  </a:lnTo>
                  <a:lnTo>
                    <a:pt x="117" y="56"/>
                  </a:lnTo>
                  <a:lnTo>
                    <a:pt x="105" y="95"/>
                  </a:lnTo>
                  <a:lnTo>
                    <a:pt x="90" y="143"/>
                  </a:lnTo>
                  <a:lnTo>
                    <a:pt x="75" y="199"/>
                  </a:lnTo>
                  <a:lnTo>
                    <a:pt x="59" y="261"/>
                  </a:lnTo>
                  <a:lnTo>
                    <a:pt x="44" y="329"/>
                  </a:lnTo>
                  <a:lnTo>
                    <a:pt x="36" y="365"/>
                  </a:lnTo>
                  <a:lnTo>
                    <a:pt x="29" y="401"/>
                  </a:lnTo>
                  <a:lnTo>
                    <a:pt x="23" y="440"/>
                  </a:lnTo>
                  <a:lnTo>
                    <a:pt x="18" y="478"/>
                  </a:lnTo>
                  <a:lnTo>
                    <a:pt x="13" y="517"/>
                  </a:lnTo>
                  <a:lnTo>
                    <a:pt x="8" y="556"/>
                  </a:lnTo>
                  <a:lnTo>
                    <a:pt x="4" y="596"/>
                  </a:lnTo>
                  <a:lnTo>
                    <a:pt x="3" y="636"/>
                  </a:lnTo>
                  <a:lnTo>
                    <a:pt x="2" y="675"/>
                  </a:lnTo>
                  <a:lnTo>
                    <a:pt x="0" y="715"/>
                  </a:lnTo>
                  <a:lnTo>
                    <a:pt x="2" y="755"/>
                  </a:lnTo>
                  <a:lnTo>
                    <a:pt x="4" y="794"/>
                  </a:lnTo>
                  <a:lnTo>
                    <a:pt x="9" y="833"/>
                  </a:lnTo>
                  <a:lnTo>
                    <a:pt x="14" y="871"/>
                  </a:lnTo>
                  <a:lnTo>
                    <a:pt x="21" y="909"/>
                  </a:lnTo>
                  <a:lnTo>
                    <a:pt x="30" y="946"/>
                  </a:lnTo>
                  <a:lnTo>
                    <a:pt x="56" y="1041"/>
                  </a:lnTo>
                  <a:lnTo>
                    <a:pt x="144" y="1041"/>
                  </a:lnTo>
                  <a:lnTo>
                    <a:pt x="143" y="1033"/>
                  </a:lnTo>
                  <a:lnTo>
                    <a:pt x="142" y="1007"/>
                  </a:lnTo>
                  <a:lnTo>
                    <a:pt x="139" y="967"/>
                  </a:lnTo>
                  <a:lnTo>
                    <a:pt x="137" y="914"/>
                  </a:lnTo>
                  <a:lnTo>
                    <a:pt x="136" y="850"/>
                  </a:lnTo>
                  <a:lnTo>
                    <a:pt x="136" y="778"/>
                  </a:lnTo>
                  <a:lnTo>
                    <a:pt x="137" y="699"/>
                  </a:lnTo>
                  <a:lnTo>
                    <a:pt x="141" y="616"/>
                  </a:lnTo>
                  <a:lnTo>
                    <a:pt x="144" y="574"/>
                  </a:lnTo>
                  <a:lnTo>
                    <a:pt x="148" y="530"/>
                  </a:lnTo>
                  <a:lnTo>
                    <a:pt x="153" y="487"/>
                  </a:lnTo>
                  <a:lnTo>
                    <a:pt x="158" y="443"/>
                  </a:lnTo>
                  <a:lnTo>
                    <a:pt x="166" y="401"/>
                  </a:lnTo>
                  <a:lnTo>
                    <a:pt x="173" y="359"/>
                  </a:lnTo>
                  <a:lnTo>
                    <a:pt x="182" y="318"/>
                  </a:lnTo>
                  <a:lnTo>
                    <a:pt x="193" y="278"/>
                  </a:lnTo>
                  <a:lnTo>
                    <a:pt x="204" y="240"/>
                  </a:lnTo>
                  <a:lnTo>
                    <a:pt x="218" y="203"/>
                  </a:lnTo>
                  <a:lnTo>
                    <a:pt x="231" y="168"/>
                  </a:lnTo>
                  <a:lnTo>
                    <a:pt x="247" y="136"/>
                  </a:lnTo>
                  <a:lnTo>
                    <a:pt x="265" y="105"/>
                  </a:lnTo>
                  <a:lnTo>
                    <a:pt x="285" y="77"/>
                  </a:lnTo>
                  <a:lnTo>
                    <a:pt x="306" y="53"/>
                  </a:lnTo>
                  <a:lnTo>
                    <a:pt x="328" y="31"/>
                  </a:lnTo>
                  <a:lnTo>
                    <a:pt x="322" y="29"/>
                  </a:lnTo>
                  <a:lnTo>
                    <a:pt x="303" y="25"/>
                  </a:lnTo>
                  <a:lnTo>
                    <a:pt x="277" y="19"/>
                  </a:lnTo>
                  <a:lnTo>
                    <a:pt x="245" y="13"/>
                  </a:lnTo>
                  <a:lnTo>
                    <a:pt x="213" y="7"/>
                  </a:lnTo>
                  <a:lnTo>
                    <a:pt x="180" y="3"/>
                  </a:lnTo>
                  <a:lnTo>
                    <a:pt x="167" y="2"/>
                  </a:lnTo>
                  <a:lnTo>
                    <a:pt x="154" y="0"/>
                  </a:lnTo>
                  <a:lnTo>
                    <a:pt x="143" y="0"/>
                  </a:lnTo>
                  <a:lnTo>
                    <a:pt x="136" y="2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3638520" y="5116680"/>
              <a:ext cx="174600" cy="441000"/>
            </a:xfrm>
            <a:custGeom>
              <a:avLst/>
              <a:gdLst/>
              <a:ahLst/>
              <a:rect l="l" t="t" r="r" b="b"/>
              <a:pathLst>
                <a:path w="439" h="1111">
                  <a:moveTo>
                    <a:pt x="160" y="1"/>
                  </a:moveTo>
                  <a:lnTo>
                    <a:pt x="142" y="6"/>
                  </a:lnTo>
                  <a:lnTo>
                    <a:pt x="136" y="23"/>
                  </a:lnTo>
                  <a:lnTo>
                    <a:pt x="132" y="34"/>
                  </a:lnTo>
                  <a:lnTo>
                    <a:pt x="125" y="55"/>
                  </a:lnTo>
                  <a:lnTo>
                    <a:pt x="114" y="88"/>
                  </a:lnTo>
                  <a:lnTo>
                    <a:pt x="101" y="129"/>
                  </a:lnTo>
                  <a:lnTo>
                    <a:pt x="87" y="178"/>
                  </a:lnTo>
                  <a:lnTo>
                    <a:pt x="70" y="235"/>
                  </a:lnTo>
                  <a:lnTo>
                    <a:pt x="54" y="299"/>
                  </a:lnTo>
                  <a:lnTo>
                    <a:pt x="39" y="368"/>
                  </a:lnTo>
                  <a:lnTo>
                    <a:pt x="32" y="404"/>
                  </a:lnTo>
                  <a:lnTo>
                    <a:pt x="26" y="441"/>
                  </a:lnTo>
                  <a:lnTo>
                    <a:pt x="19" y="479"/>
                  </a:lnTo>
                  <a:lnTo>
                    <a:pt x="14" y="517"/>
                  </a:lnTo>
                  <a:lnTo>
                    <a:pt x="10" y="557"/>
                  </a:lnTo>
                  <a:lnTo>
                    <a:pt x="6" y="596"/>
                  </a:lnTo>
                  <a:lnTo>
                    <a:pt x="2" y="636"/>
                  </a:lnTo>
                  <a:lnTo>
                    <a:pt x="0" y="676"/>
                  </a:lnTo>
                  <a:lnTo>
                    <a:pt x="0" y="717"/>
                  </a:lnTo>
                  <a:lnTo>
                    <a:pt x="0" y="756"/>
                  </a:lnTo>
                  <a:lnTo>
                    <a:pt x="1" y="796"/>
                  </a:lnTo>
                  <a:lnTo>
                    <a:pt x="3" y="836"/>
                  </a:lnTo>
                  <a:lnTo>
                    <a:pt x="7" y="876"/>
                  </a:lnTo>
                  <a:lnTo>
                    <a:pt x="13" y="914"/>
                  </a:lnTo>
                  <a:lnTo>
                    <a:pt x="21" y="951"/>
                  </a:lnTo>
                  <a:lnTo>
                    <a:pt x="31" y="989"/>
                  </a:lnTo>
                  <a:lnTo>
                    <a:pt x="63" y="1111"/>
                  </a:lnTo>
                  <a:lnTo>
                    <a:pt x="217" y="1111"/>
                  </a:lnTo>
                  <a:lnTo>
                    <a:pt x="214" y="1073"/>
                  </a:lnTo>
                  <a:lnTo>
                    <a:pt x="213" y="1063"/>
                  </a:lnTo>
                  <a:lnTo>
                    <a:pt x="212" y="1037"/>
                  </a:lnTo>
                  <a:lnTo>
                    <a:pt x="209" y="996"/>
                  </a:lnTo>
                  <a:lnTo>
                    <a:pt x="207" y="944"/>
                  </a:lnTo>
                  <a:lnTo>
                    <a:pt x="206" y="882"/>
                  </a:lnTo>
                  <a:lnTo>
                    <a:pt x="206" y="811"/>
                  </a:lnTo>
                  <a:lnTo>
                    <a:pt x="207" y="734"/>
                  </a:lnTo>
                  <a:lnTo>
                    <a:pt x="211" y="654"/>
                  </a:lnTo>
                  <a:lnTo>
                    <a:pt x="213" y="613"/>
                  </a:lnTo>
                  <a:lnTo>
                    <a:pt x="217" y="570"/>
                  </a:lnTo>
                  <a:lnTo>
                    <a:pt x="222" y="528"/>
                  </a:lnTo>
                  <a:lnTo>
                    <a:pt x="227" y="487"/>
                  </a:lnTo>
                  <a:lnTo>
                    <a:pt x="233" y="446"/>
                  </a:lnTo>
                  <a:lnTo>
                    <a:pt x="240" y="405"/>
                  </a:lnTo>
                  <a:lnTo>
                    <a:pt x="249" y="366"/>
                  </a:lnTo>
                  <a:lnTo>
                    <a:pt x="258" y="327"/>
                  </a:lnTo>
                  <a:lnTo>
                    <a:pt x="269" y="291"/>
                  </a:lnTo>
                  <a:lnTo>
                    <a:pt x="281" y="255"/>
                  </a:lnTo>
                  <a:lnTo>
                    <a:pt x="295" y="222"/>
                  </a:lnTo>
                  <a:lnTo>
                    <a:pt x="310" y="191"/>
                  </a:lnTo>
                  <a:lnTo>
                    <a:pt x="326" y="162"/>
                  </a:lnTo>
                  <a:lnTo>
                    <a:pt x="345" y="136"/>
                  </a:lnTo>
                  <a:lnTo>
                    <a:pt x="363" y="113"/>
                  </a:lnTo>
                  <a:lnTo>
                    <a:pt x="386" y="93"/>
                  </a:lnTo>
                  <a:lnTo>
                    <a:pt x="439" y="47"/>
                  </a:lnTo>
                  <a:lnTo>
                    <a:pt x="371" y="31"/>
                  </a:lnTo>
                  <a:lnTo>
                    <a:pt x="350" y="26"/>
                  </a:lnTo>
                  <a:lnTo>
                    <a:pt x="322" y="20"/>
                  </a:lnTo>
                  <a:lnTo>
                    <a:pt x="293" y="13"/>
                  </a:lnTo>
                  <a:lnTo>
                    <a:pt x="262" y="7"/>
                  </a:lnTo>
                  <a:lnTo>
                    <a:pt x="231" y="2"/>
                  </a:lnTo>
                  <a:lnTo>
                    <a:pt x="203" y="0"/>
                  </a:lnTo>
                  <a:lnTo>
                    <a:pt x="190" y="0"/>
                  </a:lnTo>
                  <a:lnTo>
                    <a:pt x="178" y="0"/>
                  </a:lnTo>
                  <a:lnTo>
                    <a:pt x="168" y="0"/>
                  </a:lnTo>
                  <a:lnTo>
                    <a:pt x="160" y="1"/>
                  </a:lnTo>
                  <a:close/>
                  <a:moveTo>
                    <a:pt x="99" y="970"/>
                  </a:moveTo>
                  <a:lnTo>
                    <a:pt x="91" y="943"/>
                  </a:lnTo>
                  <a:lnTo>
                    <a:pt x="87" y="914"/>
                  </a:lnTo>
                  <a:lnTo>
                    <a:pt x="82" y="884"/>
                  </a:lnTo>
                  <a:lnTo>
                    <a:pt x="78" y="856"/>
                  </a:lnTo>
                  <a:lnTo>
                    <a:pt x="74" y="826"/>
                  </a:lnTo>
                  <a:lnTo>
                    <a:pt x="73" y="795"/>
                  </a:lnTo>
                  <a:lnTo>
                    <a:pt x="72" y="765"/>
                  </a:lnTo>
                  <a:lnTo>
                    <a:pt x="70" y="734"/>
                  </a:lnTo>
                  <a:lnTo>
                    <a:pt x="72" y="678"/>
                  </a:lnTo>
                  <a:lnTo>
                    <a:pt x="75" y="622"/>
                  </a:lnTo>
                  <a:lnTo>
                    <a:pt x="80" y="567"/>
                  </a:lnTo>
                  <a:lnTo>
                    <a:pt x="88" y="512"/>
                  </a:lnTo>
                  <a:lnTo>
                    <a:pt x="95" y="459"/>
                  </a:lnTo>
                  <a:lnTo>
                    <a:pt x="105" y="408"/>
                  </a:lnTo>
                  <a:lnTo>
                    <a:pt x="115" y="358"/>
                  </a:lnTo>
                  <a:lnTo>
                    <a:pt x="125" y="312"/>
                  </a:lnTo>
                  <a:lnTo>
                    <a:pt x="136" y="268"/>
                  </a:lnTo>
                  <a:lnTo>
                    <a:pt x="146" y="228"/>
                  </a:lnTo>
                  <a:lnTo>
                    <a:pt x="157" y="191"/>
                  </a:lnTo>
                  <a:lnTo>
                    <a:pt x="167" y="157"/>
                  </a:lnTo>
                  <a:lnTo>
                    <a:pt x="183" y="104"/>
                  </a:lnTo>
                  <a:lnTo>
                    <a:pt x="196" y="72"/>
                  </a:lnTo>
                  <a:lnTo>
                    <a:pt x="216" y="73"/>
                  </a:lnTo>
                  <a:lnTo>
                    <a:pt x="242" y="77"/>
                  </a:lnTo>
                  <a:lnTo>
                    <a:pt x="272" y="83"/>
                  </a:lnTo>
                  <a:lnTo>
                    <a:pt x="304" y="89"/>
                  </a:lnTo>
                  <a:lnTo>
                    <a:pt x="290" y="105"/>
                  </a:lnTo>
                  <a:lnTo>
                    <a:pt x="279" y="122"/>
                  </a:lnTo>
                  <a:lnTo>
                    <a:pt x="267" y="141"/>
                  </a:lnTo>
                  <a:lnTo>
                    <a:pt x="257" y="160"/>
                  </a:lnTo>
                  <a:lnTo>
                    <a:pt x="245" y="180"/>
                  </a:lnTo>
                  <a:lnTo>
                    <a:pt x="237" y="201"/>
                  </a:lnTo>
                  <a:lnTo>
                    <a:pt x="227" y="222"/>
                  </a:lnTo>
                  <a:lnTo>
                    <a:pt x="218" y="243"/>
                  </a:lnTo>
                  <a:lnTo>
                    <a:pt x="211" y="266"/>
                  </a:lnTo>
                  <a:lnTo>
                    <a:pt x="203" y="289"/>
                  </a:lnTo>
                  <a:lnTo>
                    <a:pt x="196" y="312"/>
                  </a:lnTo>
                  <a:lnTo>
                    <a:pt x="188" y="336"/>
                  </a:lnTo>
                  <a:lnTo>
                    <a:pt x="177" y="386"/>
                  </a:lnTo>
                  <a:lnTo>
                    <a:pt x="167" y="436"/>
                  </a:lnTo>
                  <a:lnTo>
                    <a:pt x="157" y="487"/>
                  </a:lnTo>
                  <a:lnTo>
                    <a:pt x="151" y="539"/>
                  </a:lnTo>
                  <a:lnTo>
                    <a:pt x="145" y="590"/>
                  </a:lnTo>
                  <a:lnTo>
                    <a:pt x="141" y="641"/>
                  </a:lnTo>
                  <a:lnTo>
                    <a:pt x="137" y="692"/>
                  </a:lnTo>
                  <a:lnTo>
                    <a:pt x="135" y="742"/>
                  </a:lnTo>
                  <a:lnTo>
                    <a:pt x="134" y="789"/>
                  </a:lnTo>
                  <a:lnTo>
                    <a:pt x="134" y="835"/>
                  </a:lnTo>
                  <a:lnTo>
                    <a:pt x="134" y="871"/>
                  </a:lnTo>
                  <a:lnTo>
                    <a:pt x="134" y="903"/>
                  </a:lnTo>
                  <a:lnTo>
                    <a:pt x="135" y="933"/>
                  </a:lnTo>
                  <a:lnTo>
                    <a:pt x="136" y="960"/>
                  </a:lnTo>
                  <a:lnTo>
                    <a:pt x="137" y="985"/>
                  </a:lnTo>
                  <a:lnTo>
                    <a:pt x="139" y="1006"/>
                  </a:lnTo>
                  <a:lnTo>
                    <a:pt x="139" y="1024"/>
                  </a:lnTo>
                  <a:lnTo>
                    <a:pt x="140" y="1041"/>
                  </a:lnTo>
                  <a:lnTo>
                    <a:pt x="129" y="1041"/>
                  </a:lnTo>
                  <a:lnTo>
                    <a:pt x="118" y="1041"/>
                  </a:lnTo>
                  <a:lnTo>
                    <a:pt x="111" y="1017"/>
                  </a:lnTo>
                  <a:lnTo>
                    <a:pt x="105" y="995"/>
                  </a:lnTo>
                  <a:lnTo>
                    <a:pt x="100" y="977"/>
                  </a:lnTo>
                  <a:lnTo>
                    <a:pt x="99" y="9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3695760" y="5137200"/>
              <a:ext cx="142920" cy="420480"/>
            </a:xfrm>
            <a:custGeom>
              <a:avLst/>
              <a:gdLst/>
              <a:ahLst/>
              <a:rect l="l" t="t" r="r" b="b"/>
              <a:pathLst>
                <a:path w="360" h="1062">
                  <a:moveTo>
                    <a:pt x="177" y="1"/>
                  </a:moveTo>
                  <a:lnTo>
                    <a:pt x="173" y="7"/>
                  </a:lnTo>
                  <a:lnTo>
                    <a:pt x="166" y="27"/>
                  </a:lnTo>
                  <a:lnTo>
                    <a:pt x="154" y="58"/>
                  </a:lnTo>
                  <a:lnTo>
                    <a:pt x="139" y="98"/>
                  </a:lnTo>
                  <a:lnTo>
                    <a:pt x="120" y="149"/>
                  </a:lnTo>
                  <a:lnTo>
                    <a:pt x="101" y="206"/>
                  </a:lnTo>
                  <a:lnTo>
                    <a:pt x="82" y="271"/>
                  </a:lnTo>
                  <a:lnTo>
                    <a:pt x="62" y="341"/>
                  </a:lnTo>
                  <a:lnTo>
                    <a:pt x="52" y="378"/>
                  </a:lnTo>
                  <a:lnTo>
                    <a:pt x="43" y="417"/>
                  </a:lnTo>
                  <a:lnTo>
                    <a:pt x="34" y="455"/>
                  </a:lnTo>
                  <a:lnTo>
                    <a:pt x="27" y="495"/>
                  </a:lnTo>
                  <a:lnTo>
                    <a:pt x="20" y="535"/>
                  </a:lnTo>
                  <a:lnTo>
                    <a:pt x="13" y="575"/>
                  </a:lnTo>
                  <a:lnTo>
                    <a:pt x="8" y="616"/>
                  </a:lnTo>
                  <a:lnTo>
                    <a:pt x="5" y="657"/>
                  </a:lnTo>
                  <a:lnTo>
                    <a:pt x="2" y="697"/>
                  </a:lnTo>
                  <a:lnTo>
                    <a:pt x="0" y="738"/>
                  </a:lnTo>
                  <a:lnTo>
                    <a:pt x="0" y="779"/>
                  </a:lnTo>
                  <a:lnTo>
                    <a:pt x="2" y="819"/>
                  </a:lnTo>
                  <a:lnTo>
                    <a:pt x="5" y="858"/>
                  </a:lnTo>
                  <a:lnTo>
                    <a:pt x="10" y="897"/>
                  </a:lnTo>
                  <a:lnTo>
                    <a:pt x="17" y="934"/>
                  </a:lnTo>
                  <a:lnTo>
                    <a:pt x="26" y="971"/>
                  </a:lnTo>
                  <a:lnTo>
                    <a:pt x="87" y="1062"/>
                  </a:lnTo>
                  <a:lnTo>
                    <a:pt x="175" y="1062"/>
                  </a:lnTo>
                  <a:lnTo>
                    <a:pt x="175" y="1053"/>
                  </a:lnTo>
                  <a:lnTo>
                    <a:pt x="172" y="1027"/>
                  </a:lnTo>
                  <a:lnTo>
                    <a:pt x="170" y="987"/>
                  </a:lnTo>
                  <a:lnTo>
                    <a:pt x="167" y="934"/>
                  </a:lnTo>
                  <a:lnTo>
                    <a:pt x="166" y="871"/>
                  </a:lnTo>
                  <a:lnTo>
                    <a:pt x="166" y="799"/>
                  </a:lnTo>
                  <a:lnTo>
                    <a:pt x="167" y="719"/>
                  </a:lnTo>
                  <a:lnTo>
                    <a:pt x="171" y="636"/>
                  </a:lnTo>
                  <a:lnTo>
                    <a:pt x="175" y="594"/>
                  </a:lnTo>
                  <a:lnTo>
                    <a:pt x="178" y="551"/>
                  </a:lnTo>
                  <a:lnTo>
                    <a:pt x="183" y="507"/>
                  </a:lnTo>
                  <a:lnTo>
                    <a:pt x="188" y="464"/>
                  </a:lnTo>
                  <a:lnTo>
                    <a:pt x="196" y="422"/>
                  </a:lnTo>
                  <a:lnTo>
                    <a:pt x="203" y="379"/>
                  </a:lnTo>
                  <a:lnTo>
                    <a:pt x="213" y="338"/>
                  </a:lnTo>
                  <a:lnTo>
                    <a:pt x="223" y="299"/>
                  </a:lnTo>
                  <a:lnTo>
                    <a:pt x="234" y="260"/>
                  </a:lnTo>
                  <a:lnTo>
                    <a:pt x="248" y="223"/>
                  </a:lnTo>
                  <a:lnTo>
                    <a:pt x="262" y="188"/>
                  </a:lnTo>
                  <a:lnTo>
                    <a:pt x="278" y="156"/>
                  </a:lnTo>
                  <a:lnTo>
                    <a:pt x="295" y="125"/>
                  </a:lnTo>
                  <a:lnTo>
                    <a:pt x="315" y="98"/>
                  </a:lnTo>
                  <a:lnTo>
                    <a:pt x="336" y="73"/>
                  </a:lnTo>
                  <a:lnTo>
                    <a:pt x="360" y="52"/>
                  </a:lnTo>
                  <a:lnTo>
                    <a:pt x="336" y="42"/>
                  </a:lnTo>
                  <a:lnTo>
                    <a:pt x="282" y="22"/>
                  </a:lnTo>
                  <a:lnTo>
                    <a:pt x="250" y="12"/>
                  </a:lnTo>
                  <a:lnTo>
                    <a:pt x="221" y="5"/>
                  </a:lnTo>
                  <a:lnTo>
                    <a:pt x="207" y="2"/>
                  </a:lnTo>
                  <a:lnTo>
                    <a:pt x="195" y="1"/>
                  </a:lnTo>
                  <a:lnTo>
                    <a:pt x="185" y="0"/>
                  </a:lnTo>
                  <a:lnTo>
                    <a:pt x="177" y="1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3681360" y="5122800"/>
              <a:ext cx="184320" cy="449280"/>
            </a:xfrm>
            <a:custGeom>
              <a:avLst/>
              <a:gdLst/>
              <a:ahLst/>
              <a:rect l="l" t="t" r="r" b="b"/>
              <a:pathLst>
                <a:path w="464" h="1133">
                  <a:moveTo>
                    <a:pt x="203" y="1"/>
                  </a:moveTo>
                  <a:lnTo>
                    <a:pt x="187" y="6"/>
                  </a:lnTo>
                  <a:lnTo>
                    <a:pt x="180" y="21"/>
                  </a:lnTo>
                  <a:lnTo>
                    <a:pt x="176" y="32"/>
                  </a:lnTo>
                  <a:lnTo>
                    <a:pt x="166" y="56"/>
                  </a:lnTo>
                  <a:lnTo>
                    <a:pt x="152" y="89"/>
                  </a:lnTo>
                  <a:lnTo>
                    <a:pt x="136" y="132"/>
                  </a:lnTo>
                  <a:lnTo>
                    <a:pt x="119" y="184"/>
                  </a:lnTo>
                  <a:lnTo>
                    <a:pt x="99" y="243"/>
                  </a:lnTo>
                  <a:lnTo>
                    <a:pt x="79" y="309"/>
                  </a:lnTo>
                  <a:lnTo>
                    <a:pt x="59" y="380"/>
                  </a:lnTo>
                  <a:lnTo>
                    <a:pt x="51" y="418"/>
                  </a:lnTo>
                  <a:lnTo>
                    <a:pt x="41" y="455"/>
                  </a:lnTo>
                  <a:lnTo>
                    <a:pt x="33" y="495"/>
                  </a:lnTo>
                  <a:lnTo>
                    <a:pt x="26" y="535"/>
                  </a:lnTo>
                  <a:lnTo>
                    <a:pt x="18" y="574"/>
                  </a:lnTo>
                  <a:lnTo>
                    <a:pt x="12" y="615"/>
                  </a:lnTo>
                  <a:lnTo>
                    <a:pt x="8" y="656"/>
                  </a:lnTo>
                  <a:lnTo>
                    <a:pt x="5" y="697"/>
                  </a:lnTo>
                  <a:lnTo>
                    <a:pt x="1" y="738"/>
                  </a:lnTo>
                  <a:lnTo>
                    <a:pt x="0" y="779"/>
                  </a:lnTo>
                  <a:lnTo>
                    <a:pt x="1" y="820"/>
                  </a:lnTo>
                  <a:lnTo>
                    <a:pt x="2" y="861"/>
                  </a:lnTo>
                  <a:lnTo>
                    <a:pt x="6" y="901"/>
                  </a:lnTo>
                  <a:lnTo>
                    <a:pt x="11" y="939"/>
                  </a:lnTo>
                  <a:lnTo>
                    <a:pt x="18" y="978"/>
                  </a:lnTo>
                  <a:lnTo>
                    <a:pt x="27" y="1015"/>
                  </a:lnTo>
                  <a:lnTo>
                    <a:pt x="94" y="1117"/>
                  </a:lnTo>
                  <a:lnTo>
                    <a:pt x="104" y="1133"/>
                  </a:lnTo>
                  <a:lnTo>
                    <a:pt x="250" y="1133"/>
                  </a:lnTo>
                  <a:lnTo>
                    <a:pt x="247" y="1094"/>
                  </a:lnTo>
                  <a:lnTo>
                    <a:pt x="245" y="1084"/>
                  </a:lnTo>
                  <a:lnTo>
                    <a:pt x="244" y="1058"/>
                  </a:lnTo>
                  <a:lnTo>
                    <a:pt x="242" y="1017"/>
                  </a:lnTo>
                  <a:lnTo>
                    <a:pt x="239" y="965"/>
                  </a:lnTo>
                  <a:lnTo>
                    <a:pt x="238" y="903"/>
                  </a:lnTo>
                  <a:lnTo>
                    <a:pt x="238" y="833"/>
                  </a:lnTo>
                  <a:lnTo>
                    <a:pt x="239" y="756"/>
                  </a:lnTo>
                  <a:lnTo>
                    <a:pt x="243" y="675"/>
                  </a:lnTo>
                  <a:lnTo>
                    <a:pt x="245" y="634"/>
                  </a:lnTo>
                  <a:lnTo>
                    <a:pt x="249" y="592"/>
                  </a:lnTo>
                  <a:lnTo>
                    <a:pt x="254" y="551"/>
                  </a:lnTo>
                  <a:lnTo>
                    <a:pt x="259" y="509"/>
                  </a:lnTo>
                  <a:lnTo>
                    <a:pt x="265" y="468"/>
                  </a:lnTo>
                  <a:lnTo>
                    <a:pt x="273" y="427"/>
                  </a:lnTo>
                  <a:lnTo>
                    <a:pt x="282" y="387"/>
                  </a:lnTo>
                  <a:lnTo>
                    <a:pt x="291" y="349"/>
                  </a:lnTo>
                  <a:lnTo>
                    <a:pt x="301" y="313"/>
                  </a:lnTo>
                  <a:lnTo>
                    <a:pt x="314" y="277"/>
                  </a:lnTo>
                  <a:lnTo>
                    <a:pt x="327" y="243"/>
                  </a:lnTo>
                  <a:lnTo>
                    <a:pt x="342" y="212"/>
                  </a:lnTo>
                  <a:lnTo>
                    <a:pt x="358" y="184"/>
                  </a:lnTo>
                  <a:lnTo>
                    <a:pt x="377" y="158"/>
                  </a:lnTo>
                  <a:lnTo>
                    <a:pt x="397" y="134"/>
                  </a:lnTo>
                  <a:lnTo>
                    <a:pt x="418" y="114"/>
                  </a:lnTo>
                  <a:lnTo>
                    <a:pt x="464" y="76"/>
                  </a:lnTo>
                  <a:lnTo>
                    <a:pt x="408" y="53"/>
                  </a:lnTo>
                  <a:lnTo>
                    <a:pt x="385" y="43"/>
                  </a:lnTo>
                  <a:lnTo>
                    <a:pt x="357" y="34"/>
                  </a:lnTo>
                  <a:lnTo>
                    <a:pt x="329" y="24"/>
                  </a:lnTo>
                  <a:lnTo>
                    <a:pt x="299" y="14"/>
                  </a:lnTo>
                  <a:lnTo>
                    <a:pt x="270" y="6"/>
                  </a:lnTo>
                  <a:lnTo>
                    <a:pt x="244" y="1"/>
                  </a:lnTo>
                  <a:lnTo>
                    <a:pt x="232" y="0"/>
                  </a:lnTo>
                  <a:lnTo>
                    <a:pt x="222" y="0"/>
                  </a:lnTo>
                  <a:lnTo>
                    <a:pt x="212" y="0"/>
                  </a:lnTo>
                  <a:lnTo>
                    <a:pt x="203" y="1"/>
                  </a:lnTo>
                  <a:close/>
                  <a:moveTo>
                    <a:pt x="92" y="985"/>
                  </a:moveTo>
                  <a:lnTo>
                    <a:pt x="85" y="964"/>
                  </a:lnTo>
                  <a:lnTo>
                    <a:pt x="80" y="942"/>
                  </a:lnTo>
                  <a:lnTo>
                    <a:pt x="77" y="918"/>
                  </a:lnTo>
                  <a:lnTo>
                    <a:pt x="74" y="895"/>
                  </a:lnTo>
                  <a:lnTo>
                    <a:pt x="72" y="871"/>
                  </a:lnTo>
                  <a:lnTo>
                    <a:pt x="70" y="847"/>
                  </a:lnTo>
                  <a:lnTo>
                    <a:pt x="69" y="823"/>
                  </a:lnTo>
                  <a:lnTo>
                    <a:pt x="69" y="799"/>
                  </a:lnTo>
                  <a:lnTo>
                    <a:pt x="69" y="771"/>
                  </a:lnTo>
                  <a:lnTo>
                    <a:pt x="70" y="743"/>
                  </a:lnTo>
                  <a:lnTo>
                    <a:pt x="72" y="715"/>
                  </a:lnTo>
                  <a:lnTo>
                    <a:pt x="74" y="686"/>
                  </a:lnTo>
                  <a:lnTo>
                    <a:pt x="82" y="629"/>
                  </a:lnTo>
                  <a:lnTo>
                    <a:pt x="90" y="573"/>
                  </a:lnTo>
                  <a:lnTo>
                    <a:pt x="100" y="517"/>
                  </a:lnTo>
                  <a:lnTo>
                    <a:pt x="113" y="463"/>
                  </a:lnTo>
                  <a:lnTo>
                    <a:pt x="125" y="409"/>
                  </a:lnTo>
                  <a:lnTo>
                    <a:pt x="139" y="359"/>
                  </a:lnTo>
                  <a:lnTo>
                    <a:pt x="152" y="310"/>
                  </a:lnTo>
                  <a:lnTo>
                    <a:pt x="167" y="264"/>
                  </a:lnTo>
                  <a:lnTo>
                    <a:pt x="181" y="222"/>
                  </a:lnTo>
                  <a:lnTo>
                    <a:pt x="195" y="182"/>
                  </a:lnTo>
                  <a:lnTo>
                    <a:pt x="218" y="118"/>
                  </a:lnTo>
                  <a:lnTo>
                    <a:pt x="236" y="73"/>
                  </a:lnTo>
                  <a:lnTo>
                    <a:pt x="254" y="77"/>
                  </a:lnTo>
                  <a:lnTo>
                    <a:pt x="279" y="84"/>
                  </a:lnTo>
                  <a:lnTo>
                    <a:pt x="308" y="93"/>
                  </a:lnTo>
                  <a:lnTo>
                    <a:pt x="340" y="104"/>
                  </a:lnTo>
                  <a:lnTo>
                    <a:pt x="327" y="120"/>
                  </a:lnTo>
                  <a:lnTo>
                    <a:pt x="315" y="138"/>
                  </a:lnTo>
                  <a:lnTo>
                    <a:pt x="303" y="156"/>
                  </a:lnTo>
                  <a:lnTo>
                    <a:pt x="291" y="175"/>
                  </a:lnTo>
                  <a:lnTo>
                    <a:pt x="282" y="195"/>
                  </a:lnTo>
                  <a:lnTo>
                    <a:pt x="272" y="216"/>
                  </a:lnTo>
                  <a:lnTo>
                    <a:pt x="262" y="237"/>
                  </a:lnTo>
                  <a:lnTo>
                    <a:pt x="253" y="259"/>
                  </a:lnTo>
                  <a:lnTo>
                    <a:pt x="244" y="282"/>
                  </a:lnTo>
                  <a:lnTo>
                    <a:pt x="237" y="305"/>
                  </a:lnTo>
                  <a:lnTo>
                    <a:pt x="229" y="329"/>
                  </a:lnTo>
                  <a:lnTo>
                    <a:pt x="222" y="352"/>
                  </a:lnTo>
                  <a:lnTo>
                    <a:pt x="211" y="402"/>
                  </a:lnTo>
                  <a:lnTo>
                    <a:pt x="200" y="453"/>
                  </a:lnTo>
                  <a:lnTo>
                    <a:pt x="191" y="505"/>
                  </a:lnTo>
                  <a:lnTo>
                    <a:pt x="183" y="557"/>
                  </a:lnTo>
                  <a:lnTo>
                    <a:pt x="177" y="609"/>
                  </a:lnTo>
                  <a:lnTo>
                    <a:pt x="173" y="661"/>
                  </a:lnTo>
                  <a:lnTo>
                    <a:pt x="170" y="712"/>
                  </a:lnTo>
                  <a:lnTo>
                    <a:pt x="167" y="762"/>
                  </a:lnTo>
                  <a:lnTo>
                    <a:pt x="166" y="810"/>
                  </a:lnTo>
                  <a:lnTo>
                    <a:pt x="166" y="856"/>
                  </a:lnTo>
                  <a:lnTo>
                    <a:pt x="166" y="892"/>
                  </a:lnTo>
                  <a:lnTo>
                    <a:pt x="167" y="924"/>
                  </a:lnTo>
                  <a:lnTo>
                    <a:pt x="167" y="955"/>
                  </a:lnTo>
                  <a:lnTo>
                    <a:pt x="169" y="981"/>
                  </a:lnTo>
                  <a:lnTo>
                    <a:pt x="170" y="1006"/>
                  </a:lnTo>
                  <a:lnTo>
                    <a:pt x="171" y="1027"/>
                  </a:lnTo>
                  <a:lnTo>
                    <a:pt x="172" y="1046"/>
                  </a:lnTo>
                  <a:lnTo>
                    <a:pt x="172" y="1062"/>
                  </a:lnTo>
                  <a:lnTo>
                    <a:pt x="156" y="1062"/>
                  </a:lnTo>
                  <a:lnTo>
                    <a:pt x="142" y="1062"/>
                  </a:lnTo>
                  <a:lnTo>
                    <a:pt x="128" y="1041"/>
                  </a:lnTo>
                  <a:lnTo>
                    <a:pt x="111" y="1016"/>
                  </a:lnTo>
                  <a:lnTo>
                    <a:pt x="96" y="995"/>
                  </a:lnTo>
                  <a:lnTo>
                    <a:pt x="92" y="9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3751200" y="5153040"/>
              <a:ext cx="146160" cy="415800"/>
            </a:xfrm>
            <a:custGeom>
              <a:avLst/>
              <a:gdLst/>
              <a:ahLst/>
              <a:rect l="l" t="t" r="r" b="b"/>
              <a:pathLst>
                <a:path w="367" h="1048">
                  <a:moveTo>
                    <a:pt x="164" y="1"/>
                  </a:moveTo>
                  <a:lnTo>
                    <a:pt x="162" y="7"/>
                  </a:lnTo>
                  <a:lnTo>
                    <a:pt x="154" y="26"/>
                  </a:lnTo>
                  <a:lnTo>
                    <a:pt x="142" y="56"/>
                  </a:lnTo>
                  <a:lnTo>
                    <a:pt x="128" y="95"/>
                  </a:lnTo>
                  <a:lnTo>
                    <a:pt x="111" y="144"/>
                  </a:lnTo>
                  <a:lnTo>
                    <a:pt x="92" y="201"/>
                  </a:lnTo>
                  <a:lnTo>
                    <a:pt x="74" y="264"/>
                  </a:lnTo>
                  <a:lnTo>
                    <a:pt x="56" y="332"/>
                  </a:lnTo>
                  <a:lnTo>
                    <a:pt x="48" y="369"/>
                  </a:lnTo>
                  <a:lnTo>
                    <a:pt x="39" y="405"/>
                  </a:lnTo>
                  <a:lnTo>
                    <a:pt x="30" y="444"/>
                  </a:lnTo>
                  <a:lnTo>
                    <a:pt x="24" y="482"/>
                  </a:lnTo>
                  <a:lnTo>
                    <a:pt x="18" y="522"/>
                  </a:lnTo>
                  <a:lnTo>
                    <a:pt x="12" y="562"/>
                  </a:lnTo>
                  <a:lnTo>
                    <a:pt x="7" y="601"/>
                  </a:lnTo>
                  <a:lnTo>
                    <a:pt x="3" y="642"/>
                  </a:lnTo>
                  <a:lnTo>
                    <a:pt x="0" y="682"/>
                  </a:lnTo>
                  <a:lnTo>
                    <a:pt x="0" y="723"/>
                  </a:lnTo>
                  <a:lnTo>
                    <a:pt x="0" y="763"/>
                  </a:lnTo>
                  <a:lnTo>
                    <a:pt x="2" y="802"/>
                  </a:lnTo>
                  <a:lnTo>
                    <a:pt x="5" y="841"/>
                  </a:lnTo>
                  <a:lnTo>
                    <a:pt x="10" y="879"/>
                  </a:lnTo>
                  <a:lnTo>
                    <a:pt x="18" y="917"/>
                  </a:lnTo>
                  <a:lnTo>
                    <a:pt x="27" y="954"/>
                  </a:lnTo>
                  <a:lnTo>
                    <a:pt x="27" y="1048"/>
                  </a:lnTo>
                  <a:lnTo>
                    <a:pt x="173" y="1041"/>
                  </a:lnTo>
                  <a:lnTo>
                    <a:pt x="173" y="1032"/>
                  </a:lnTo>
                  <a:lnTo>
                    <a:pt x="171" y="1008"/>
                  </a:lnTo>
                  <a:lnTo>
                    <a:pt x="169" y="971"/>
                  </a:lnTo>
                  <a:lnTo>
                    <a:pt x="168" y="922"/>
                  </a:lnTo>
                  <a:lnTo>
                    <a:pt x="167" y="862"/>
                  </a:lnTo>
                  <a:lnTo>
                    <a:pt x="167" y="795"/>
                  </a:lnTo>
                  <a:lnTo>
                    <a:pt x="169" y="722"/>
                  </a:lnTo>
                  <a:lnTo>
                    <a:pt x="174" y="644"/>
                  </a:lnTo>
                  <a:lnTo>
                    <a:pt x="178" y="604"/>
                  </a:lnTo>
                  <a:lnTo>
                    <a:pt x="182" y="563"/>
                  </a:lnTo>
                  <a:lnTo>
                    <a:pt x="187" y="522"/>
                  </a:lnTo>
                  <a:lnTo>
                    <a:pt x="193" y="482"/>
                  </a:lnTo>
                  <a:lnTo>
                    <a:pt x="200" y="441"/>
                  </a:lnTo>
                  <a:lnTo>
                    <a:pt x="209" y="403"/>
                  </a:lnTo>
                  <a:lnTo>
                    <a:pt x="218" y="363"/>
                  </a:lnTo>
                  <a:lnTo>
                    <a:pt x="229" y="326"/>
                  </a:lnTo>
                  <a:lnTo>
                    <a:pt x="240" y="289"/>
                  </a:lnTo>
                  <a:lnTo>
                    <a:pt x="254" y="254"/>
                  </a:lnTo>
                  <a:lnTo>
                    <a:pt x="269" y="221"/>
                  </a:lnTo>
                  <a:lnTo>
                    <a:pt x="285" y="190"/>
                  </a:lnTo>
                  <a:lnTo>
                    <a:pt x="302" y="160"/>
                  </a:lnTo>
                  <a:lnTo>
                    <a:pt x="322" y="134"/>
                  </a:lnTo>
                  <a:lnTo>
                    <a:pt x="343" y="109"/>
                  </a:lnTo>
                  <a:lnTo>
                    <a:pt x="367" y="88"/>
                  </a:lnTo>
                  <a:lnTo>
                    <a:pt x="359" y="83"/>
                  </a:lnTo>
                  <a:lnTo>
                    <a:pt x="339" y="73"/>
                  </a:lnTo>
                  <a:lnTo>
                    <a:pt x="312" y="58"/>
                  </a:lnTo>
                  <a:lnTo>
                    <a:pt x="279" y="41"/>
                  </a:lnTo>
                  <a:lnTo>
                    <a:pt x="244" y="25"/>
                  </a:lnTo>
                  <a:lnTo>
                    <a:pt x="210" y="10"/>
                  </a:lnTo>
                  <a:lnTo>
                    <a:pt x="195" y="5"/>
                  </a:lnTo>
                  <a:lnTo>
                    <a:pt x="183" y="2"/>
                  </a:lnTo>
                  <a:lnTo>
                    <a:pt x="172" y="0"/>
                  </a:lnTo>
                  <a:lnTo>
                    <a:pt x="164" y="1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3736800" y="5138640"/>
              <a:ext cx="184320" cy="446040"/>
            </a:xfrm>
            <a:custGeom>
              <a:avLst/>
              <a:gdLst/>
              <a:ahLst/>
              <a:rect l="l" t="t" r="r" b="b"/>
              <a:pathLst>
                <a:path w="465" h="1122">
                  <a:moveTo>
                    <a:pt x="190" y="1"/>
                  </a:moveTo>
                  <a:lnTo>
                    <a:pt x="174" y="6"/>
                  </a:lnTo>
                  <a:lnTo>
                    <a:pt x="168" y="22"/>
                  </a:lnTo>
                  <a:lnTo>
                    <a:pt x="163" y="32"/>
                  </a:lnTo>
                  <a:lnTo>
                    <a:pt x="154" y="55"/>
                  </a:lnTo>
                  <a:lnTo>
                    <a:pt x="142" y="87"/>
                  </a:lnTo>
                  <a:lnTo>
                    <a:pt x="126" y="129"/>
                  </a:lnTo>
                  <a:lnTo>
                    <a:pt x="108" y="180"/>
                  </a:lnTo>
                  <a:lnTo>
                    <a:pt x="91" y="237"/>
                  </a:lnTo>
                  <a:lnTo>
                    <a:pt x="71" y="301"/>
                  </a:lnTo>
                  <a:lnTo>
                    <a:pt x="54" y="371"/>
                  </a:lnTo>
                  <a:lnTo>
                    <a:pt x="45" y="408"/>
                  </a:lnTo>
                  <a:lnTo>
                    <a:pt x="36" y="445"/>
                  </a:lnTo>
                  <a:lnTo>
                    <a:pt x="29" y="484"/>
                  </a:lnTo>
                  <a:lnTo>
                    <a:pt x="23" y="522"/>
                  </a:lnTo>
                  <a:lnTo>
                    <a:pt x="17" y="562"/>
                  </a:lnTo>
                  <a:lnTo>
                    <a:pt x="10" y="602"/>
                  </a:lnTo>
                  <a:lnTo>
                    <a:pt x="7" y="643"/>
                  </a:lnTo>
                  <a:lnTo>
                    <a:pt x="3" y="684"/>
                  </a:lnTo>
                  <a:lnTo>
                    <a:pt x="0" y="723"/>
                  </a:lnTo>
                  <a:lnTo>
                    <a:pt x="0" y="764"/>
                  </a:lnTo>
                  <a:lnTo>
                    <a:pt x="0" y="804"/>
                  </a:lnTo>
                  <a:lnTo>
                    <a:pt x="3" y="844"/>
                  </a:lnTo>
                  <a:lnTo>
                    <a:pt x="7" y="883"/>
                  </a:lnTo>
                  <a:lnTo>
                    <a:pt x="12" y="923"/>
                  </a:lnTo>
                  <a:lnTo>
                    <a:pt x="19" y="960"/>
                  </a:lnTo>
                  <a:lnTo>
                    <a:pt x="28" y="997"/>
                  </a:lnTo>
                  <a:lnTo>
                    <a:pt x="27" y="1083"/>
                  </a:lnTo>
                  <a:lnTo>
                    <a:pt x="27" y="1122"/>
                  </a:lnTo>
                  <a:lnTo>
                    <a:pt x="248" y="1109"/>
                  </a:lnTo>
                  <a:lnTo>
                    <a:pt x="245" y="1073"/>
                  </a:lnTo>
                  <a:lnTo>
                    <a:pt x="244" y="1063"/>
                  </a:lnTo>
                  <a:lnTo>
                    <a:pt x="243" y="1038"/>
                  </a:lnTo>
                  <a:lnTo>
                    <a:pt x="241" y="1001"/>
                  </a:lnTo>
                  <a:lnTo>
                    <a:pt x="239" y="953"/>
                  </a:lnTo>
                  <a:lnTo>
                    <a:pt x="239" y="896"/>
                  </a:lnTo>
                  <a:lnTo>
                    <a:pt x="239" y="830"/>
                  </a:lnTo>
                  <a:lnTo>
                    <a:pt x="241" y="758"/>
                  </a:lnTo>
                  <a:lnTo>
                    <a:pt x="246" y="682"/>
                  </a:lnTo>
                  <a:lnTo>
                    <a:pt x="249" y="644"/>
                  </a:lnTo>
                  <a:lnTo>
                    <a:pt x="253" y="605"/>
                  </a:lnTo>
                  <a:lnTo>
                    <a:pt x="257" y="566"/>
                  </a:lnTo>
                  <a:lnTo>
                    <a:pt x="264" y="527"/>
                  </a:lnTo>
                  <a:lnTo>
                    <a:pt x="270" y="488"/>
                  </a:lnTo>
                  <a:lnTo>
                    <a:pt x="277" y="450"/>
                  </a:lnTo>
                  <a:lnTo>
                    <a:pt x="287" y="413"/>
                  </a:lnTo>
                  <a:lnTo>
                    <a:pt x="297" y="376"/>
                  </a:lnTo>
                  <a:lnTo>
                    <a:pt x="308" y="341"/>
                  </a:lnTo>
                  <a:lnTo>
                    <a:pt x="321" y="308"/>
                  </a:lnTo>
                  <a:lnTo>
                    <a:pt x="334" y="275"/>
                  </a:lnTo>
                  <a:lnTo>
                    <a:pt x="349" y="246"/>
                  </a:lnTo>
                  <a:lnTo>
                    <a:pt x="366" y="218"/>
                  </a:lnTo>
                  <a:lnTo>
                    <a:pt x="384" y="192"/>
                  </a:lnTo>
                  <a:lnTo>
                    <a:pt x="404" y="170"/>
                  </a:lnTo>
                  <a:lnTo>
                    <a:pt x="425" y="150"/>
                  </a:lnTo>
                  <a:lnTo>
                    <a:pt x="465" y="117"/>
                  </a:lnTo>
                  <a:lnTo>
                    <a:pt x="420" y="92"/>
                  </a:lnTo>
                  <a:lnTo>
                    <a:pt x="378" y="68"/>
                  </a:lnTo>
                  <a:lnTo>
                    <a:pt x="338" y="47"/>
                  </a:lnTo>
                  <a:lnTo>
                    <a:pt x="303" y="31"/>
                  </a:lnTo>
                  <a:lnTo>
                    <a:pt x="274" y="17"/>
                  </a:lnTo>
                  <a:lnTo>
                    <a:pt x="246" y="7"/>
                  </a:lnTo>
                  <a:lnTo>
                    <a:pt x="224" y="2"/>
                  </a:lnTo>
                  <a:lnTo>
                    <a:pt x="214" y="0"/>
                  </a:lnTo>
                  <a:lnTo>
                    <a:pt x="205" y="0"/>
                  </a:lnTo>
                  <a:lnTo>
                    <a:pt x="198" y="0"/>
                  </a:lnTo>
                  <a:lnTo>
                    <a:pt x="190" y="1"/>
                  </a:lnTo>
                  <a:close/>
                  <a:moveTo>
                    <a:pt x="99" y="989"/>
                  </a:moveTo>
                  <a:lnTo>
                    <a:pt x="91" y="963"/>
                  </a:lnTo>
                  <a:lnTo>
                    <a:pt x="86" y="937"/>
                  </a:lnTo>
                  <a:lnTo>
                    <a:pt x="82" y="911"/>
                  </a:lnTo>
                  <a:lnTo>
                    <a:pt x="79" y="883"/>
                  </a:lnTo>
                  <a:lnTo>
                    <a:pt x="76" y="856"/>
                  </a:lnTo>
                  <a:lnTo>
                    <a:pt x="74" y="829"/>
                  </a:lnTo>
                  <a:lnTo>
                    <a:pt x="72" y="801"/>
                  </a:lnTo>
                  <a:lnTo>
                    <a:pt x="72" y="773"/>
                  </a:lnTo>
                  <a:lnTo>
                    <a:pt x="74" y="718"/>
                  </a:lnTo>
                  <a:lnTo>
                    <a:pt x="77" y="663"/>
                  </a:lnTo>
                  <a:lnTo>
                    <a:pt x="84" y="608"/>
                  </a:lnTo>
                  <a:lnTo>
                    <a:pt x="91" y="553"/>
                  </a:lnTo>
                  <a:lnTo>
                    <a:pt x="100" y="500"/>
                  </a:lnTo>
                  <a:lnTo>
                    <a:pt x="111" y="448"/>
                  </a:lnTo>
                  <a:lnTo>
                    <a:pt x="122" y="397"/>
                  </a:lnTo>
                  <a:lnTo>
                    <a:pt x="135" y="349"/>
                  </a:lnTo>
                  <a:lnTo>
                    <a:pt x="147" y="303"/>
                  </a:lnTo>
                  <a:lnTo>
                    <a:pt x="159" y="259"/>
                  </a:lnTo>
                  <a:lnTo>
                    <a:pt x="172" y="220"/>
                  </a:lnTo>
                  <a:lnTo>
                    <a:pt x="184" y="182"/>
                  </a:lnTo>
                  <a:lnTo>
                    <a:pt x="205" y="120"/>
                  </a:lnTo>
                  <a:lnTo>
                    <a:pt x="223" y="77"/>
                  </a:lnTo>
                  <a:lnTo>
                    <a:pt x="246" y="84"/>
                  </a:lnTo>
                  <a:lnTo>
                    <a:pt x="276" y="98"/>
                  </a:lnTo>
                  <a:lnTo>
                    <a:pt x="312" y="115"/>
                  </a:lnTo>
                  <a:lnTo>
                    <a:pt x="351" y="135"/>
                  </a:lnTo>
                  <a:lnTo>
                    <a:pt x="337" y="153"/>
                  </a:lnTo>
                  <a:lnTo>
                    <a:pt x="323" y="170"/>
                  </a:lnTo>
                  <a:lnTo>
                    <a:pt x="311" y="187"/>
                  </a:lnTo>
                  <a:lnTo>
                    <a:pt x="298" y="207"/>
                  </a:lnTo>
                  <a:lnTo>
                    <a:pt x="287" y="227"/>
                  </a:lnTo>
                  <a:lnTo>
                    <a:pt x="276" y="248"/>
                  </a:lnTo>
                  <a:lnTo>
                    <a:pt x="266" y="270"/>
                  </a:lnTo>
                  <a:lnTo>
                    <a:pt x="257" y="293"/>
                  </a:lnTo>
                  <a:lnTo>
                    <a:pt x="249" y="315"/>
                  </a:lnTo>
                  <a:lnTo>
                    <a:pt x="240" y="339"/>
                  </a:lnTo>
                  <a:lnTo>
                    <a:pt x="233" y="362"/>
                  </a:lnTo>
                  <a:lnTo>
                    <a:pt x="225" y="387"/>
                  </a:lnTo>
                  <a:lnTo>
                    <a:pt x="213" y="437"/>
                  </a:lnTo>
                  <a:lnTo>
                    <a:pt x="202" y="489"/>
                  </a:lnTo>
                  <a:lnTo>
                    <a:pt x="192" y="540"/>
                  </a:lnTo>
                  <a:lnTo>
                    <a:pt x="184" y="592"/>
                  </a:lnTo>
                  <a:lnTo>
                    <a:pt x="178" y="644"/>
                  </a:lnTo>
                  <a:lnTo>
                    <a:pt x="174" y="695"/>
                  </a:lnTo>
                  <a:lnTo>
                    <a:pt x="171" y="744"/>
                  </a:lnTo>
                  <a:lnTo>
                    <a:pt x="168" y="793"/>
                  </a:lnTo>
                  <a:lnTo>
                    <a:pt x="167" y="839"/>
                  </a:lnTo>
                  <a:lnTo>
                    <a:pt x="167" y="882"/>
                  </a:lnTo>
                  <a:lnTo>
                    <a:pt x="167" y="934"/>
                  </a:lnTo>
                  <a:lnTo>
                    <a:pt x="168" y="979"/>
                  </a:lnTo>
                  <a:lnTo>
                    <a:pt x="169" y="1014"/>
                  </a:lnTo>
                  <a:lnTo>
                    <a:pt x="172" y="1042"/>
                  </a:lnTo>
                  <a:lnTo>
                    <a:pt x="152" y="1043"/>
                  </a:lnTo>
                  <a:lnTo>
                    <a:pt x="135" y="1043"/>
                  </a:lnTo>
                  <a:lnTo>
                    <a:pt x="117" y="1045"/>
                  </a:lnTo>
                  <a:lnTo>
                    <a:pt x="99" y="1046"/>
                  </a:lnTo>
                  <a:lnTo>
                    <a:pt x="99" y="1025"/>
                  </a:lnTo>
                  <a:lnTo>
                    <a:pt x="99" y="1007"/>
                  </a:lnTo>
                  <a:lnTo>
                    <a:pt x="99" y="994"/>
                  </a:lnTo>
                  <a:lnTo>
                    <a:pt x="99" y="9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3805200" y="5172120"/>
              <a:ext cx="130320" cy="414360"/>
            </a:xfrm>
            <a:custGeom>
              <a:avLst/>
              <a:gdLst/>
              <a:ahLst/>
              <a:rect l="l" t="t" r="r" b="b"/>
              <a:pathLst>
                <a:path w="327" h="1041">
                  <a:moveTo>
                    <a:pt x="135" y="1"/>
                  </a:moveTo>
                  <a:lnTo>
                    <a:pt x="132" y="8"/>
                  </a:lnTo>
                  <a:lnTo>
                    <a:pt x="126" y="26"/>
                  </a:lnTo>
                  <a:lnTo>
                    <a:pt x="116" y="55"/>
                  </a:lnTo>
                  <a:lnTo>
                    <a:pt x="104" y="94"/>
                  </a:lnTo>
                  <a:lnTo>
                    <a:pt x="89" y="142"/>
                  </a:lnTo>
                  <a:lnTo>
                    <a:pt x="74" y="197"/>
                  </a:lnTo>
                  <a:lnTo>
                    <a:pt x="58" y="261"/>
                  </a:lnTo>
                  <a:lnTo>
                    <a:pt x="43" y="328"/>
                  </a:lnTo>
                  <a:lnTo>
                    <a:pt x="36" y="364"/>
                  </a:lnTo>
                  <a:lnTo>
                    <a:pt x="28" y="401"/>
                  </a:lnTo>
                  <a:lnTo>
                    <a:pt x="22" y="438"/>
                  </a:lnTo>
                  <a:lnTo>
                    <a:pt x="17" y="477"/>
                  </a:lnTo>
                  <a:lnTo>
                    <a:pt x="12" y="515"/>
                  </a:lnTo>
                  <a:lnTo>
                    <a:pt x="7" y="555"/>
                  </a:lnTo>
                  <a:lnTo>
                    <a:pt x="3" y="594"/>
                  </a:lnTo>
                  <a:lnTo>
                    <a:pt x="2" y="634"/>
                  </a:lnTo>
                  <a:lnTo>
                    <a:pt x="0" y="674"/>
                  </a:lnTo>
                  <a:lnTo>
                    <a:pt x="0" y="715"/>
                  </a:lnTo>
                  <a:lnTo>
                    <a:pt x="1" y="754"/>
                  </a:lnTo>
                  <a:lnTo>
                    <a:pt x="3" y="793"/>
                  </a:lnTo>
                  <a:lnTo>
                    <a:pt x="7" y="833"/>
                  </a:lnTo>
                  <a:lnTo>
                    <a:pt x="13" y="870"/>
                  </a:lnTo>
                  <a:lnTo>
                    <a:pt x="21" y="908"/>
                  </a:lnTo>
                  <a:lnTo>
                    <a:pt x="29" y="944"/>
                  </a:lnTo>
                  <a:lnTo>
                    <a:pt x="55" y="1041"/>
                  </a:lnTo>
                  <a:lnTo>
                    <a:pt x="144" y="1041"/>
                  </a:lnTo>
                  <a:lnTo>
                    <a:pt x="142" y="1032"/>
                  </a:lnTo>
                  <a:lnTo>
                    <a:pt x="141" y="1008"/>
                  </a:lnTo>
                  <a:lnTo>
                    <a:pt x="139" y="970"/>
                  </a:lnTo>
                  <a:lnTo>
                    <a:pt x="136" y="919"/>
                  </a:lnTo>
                  <a:lnTo>
                    <a:pt x="135" y="860"/>
                  </a:lnTo>
                  <a:lnTo>
                    <a:pt x="135" y="792"/>
                  </a:lnTo>
                  <a:lnTo>
                    <a:pt x="136" y="717"/>
                  </a:lnTo>
                  <a:lnTo>
                    <a:pt x="140" y="639"/>
                  </a:lnTo>
                  <a:lnTo>
                    <a:pt x="144" y="598"/>
                  </a:lnTo>
                  <a:lnTo>
                    <a:pt x="147" y="557"/>
                  </a:lnTo>
                  <a:lnTo>
                    <a:pt x="152" y="516"/>
                  </a:lnTo>
                  <a:lnTo>
                    <a:pt x="157" y="475"/>
                  </a:lnTo>
                  <a:lnTo>
                    <a:pt x="165" y="436"/>
                  </a:lnTo>
                  <a:lnTo>
                    <a:pt x="172" y="395"/>
                  </a:lnTo>
                  <a:lnTo>
                    <a:pt x="181" y="356"/>
                  </a:lnTo>
                  <a:lnTo>
                    <a:pt x="192" y="318"/>
                  </a:lnTo>
                  <a:lnTo>
                    <a:pt x="203" y="281"/>
                  </a:lnTo>
                  <a:lnTo>
                    <a:pt x="216" y="246"/>
                  </a:lnTo>
                  <a:lnTo>
                    <a:pt x="231" y="212"/>
                  </a:lnTo>
                  <a:lnTo>
                    <a:pt x="247" y="180"/>
                  </a:lnTo>
                  <a:lnTo>
                    <a:pt x="264" y="150"/>
                  </a:lnTo>
                  <a:lnTo>
                    <a:pt x="284" y="124"/>
                  </a:lnTo>
                  <a:lnTo>
                    <a:pt x="305" y="99"/>
                  </a:lnTo>
                  <a:lnTo>
                    <a:pt x="327" y="78"/>
                  </a:lnTo>
                  <a:lnTo>
                    <a:pt x="321" y="75"/>
                  </a:lnTo>
                  <a:lnTo>
                    <a:pt x="303" y="65"/>
                  </a:lnTo>
                  <a:lnTo>
                    <a:pt x="276" y="51"/>
                  </a:lnTo>
                  <a:lnTo>
                    <a:pt x="244" y="36"/>
                  </a:lnTo>
                  <a:lnTo>
                    <a:pt x="211" y="21"/>
                  </a:lnTo>
                  <a:lnTo>
                    <a:pt x="180" y="9"/>
                  </a:lnTo>
                  <a:lnTo>
                    <a:pt x="166" y="5"/>
                  </a:lnTo>
                  <a:lnTo>
                    <a:pt x="154" y="1"/>
                  </a:lnTo>
                  <a:lnTo>
                    <a:pt x="142" y="0"/>
                  </a:lnTo>
                  <a:lnTo>
                    <a:pt x="135" y="1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3790800" y="5159520"/>
              <a:ext cx="169920" cy="439560"/>
            </a:xfrm>
            <a:custGeom>
              <a:avLst/>
              <a:gdLst/>
              <a:ahLst/>
              <a:rect l="l" t="t" r="r" b="b"/>
              <a:pathLst>
                <a:path w="427" h="1111">
                  <a:moveTo>
                    <a:pt x="161" y="2"/>
                  </a:moveTo>
                  <a:lnTo>
                    <a:pt x="144" y="7"/>
                  </a:lnTo>
                  <a:lnTo>
                    <a:pt x="137" y="23"/>
                  </a:lnTo>
                  <a:lnTo>
                    <a:pt x="134" y="34"/>
                  </a:lnTo>
                  <a:lnTo>
                    <a:pt x="126" y="55"/>
                  </a:lnTo>
                  <a:lnTo>
                    <a:pt x="115" y="87"/>
                  </a:lnTo>
                  <a:lnTo>
                    <a:pt x="101" y="129"/>
                  </a:lnTo>
                  <a:lnTo>
                    <a:pt x="88" y="179"/>
                  </a:lnTo>
                  <a:lnTo>
                    <a:pt x="72" y="236"/>
                  </a:lnTo>
                  <a:lnTo>
                    <a:pt x="55" y="299"/>
                  </a:lnTo>
                  <a:lnTo>
                    <a:pt x="41" y="368"/>
                  </a:lnTo>
                  <a:lnTo>
                    <a:pt x="33" y="404"/>
                  </a:lnTo>
                  <a:lnTo>
                    <a:pt x="27" y="441"/>
                  </a:lnTo>
                  <a:lnTo>
                    <a:pt x="21" y="479"/>
                  </a:lnTo>
                  <a:lnTo>
                    <a:pt x="16" y="518"/>
                  </a:lnTo>
                  <a:lnTo>
                    <a:pt x="11" y="556"/>
                  </a:lnTo>
                  <a:lnTo>
                    <a:pt x="6" y="596"/>
                  </a:lnTo>
                  <a:lnTo>
                    <a:pt x="3" y="636"/>
                  </a:lnTo>
                  <a:lnTo>
                    <a:pt x="1" y="675"/>
                  </a:lnTo>
                  <a:lnTo>
                    <a:pt x="0" y="716"/>
                  </a:lnTo>
                  <a:lnTo>
                    <a:pt x="1" y="756"/>
                  </a:lnTo>
                  <a:lnTo>
                    <a:pt x="2" y="796"/>
                  </a:lnTo>
                  <a:lnTo>
                    <a:pt x="5" y="835"/>
                  </a:lnTo>
                  <a:lnTo>
                    <a:pt x="8" y="875"/>
                  </a:lnTo>
                  <a:lnTo>
                    <a:pt x="14" y="914"/>
                  </a:lnTo>
                  <a:lnTo>
                    <a:pt x="22" y="952"/>
                  </a:lnTo>
                  <a:lnTo>
                    <a:pt x="31" y="988"/>
                  </a:lnTo>
                  <a:lnTo>
                    <a:pt x="64" y="1111"/>
                  </a:lnTo>
                  <a:lnTo>
                    <a:pt x="219" y="1111"/>
                  </a:lnTo>
                  <a:lnTo>
                    <a:pt x="216" y="1072"/>
                  </a:lnTo>
                  <a:lnTo>
                    <a:pt x="214" y="1062"/>
                  </a:lnTo>
                  <a:lnTo>
                    <a:pt x="212" y="1039"/>
                  </a:lnTo>
                  <a:lnTo>
                    <a:pt x="211" y="1000"/>
                  </a:lnTo>
                  <a:lnTo>
                    <a:pt x="208" y="951"/>
                  </a:lnTo>
                  <a:lnTo>
                    <a:pt x="207" y="892"/>
                  </a:lnTo>
                  <a:lnTo>
                    <a:pt x="207" y="827"/>
                  </a:lnTo>
                  <a:lnTo>
                    <a:pt x="208" y="753"/>
                  </a:lnTo>
                  <a:lnTo>
                    <a:pt x="212" y="678"/>
                  </a:lnTo>
                  <a:lnTo>
                    <a:pt x="214" y="638"/>
                  </a:lnTo>
                  <a:lnTo>
                    <a:pt x="218" y="598"/>
                  </a:lnTo>
                  <a:lnTo>
                    <a:pt x="222" y="560"/>
                  </a:lnTo>
                  <a:lnTo>
                    <a:pt x="228" y="520"/>
                  </a:lnTo>
                  <a:lnTo>
                    <a:pt x="234" y="481"/>
                  </a:lnTo>
                  <a:lnTo>
                    <a:pt x="242" y="442"/>
                  </a:lnTo>
                  <a:lnTo>
                    <a:pt x="250" y="405"/>
                  </a:lnTo>
                  <a:lnTo>
                    <a:pt x="259" y="368"/>
                  </a:lnTo>
                  <a:lnTo>
                    <a:pt x="270" y="333"/>
                  </a:lnTo>
                  <a:lnTo>
                    <a:pt x="283" y="299"/>
                  </a:lnTo>
                  <a:lnTo>
                    <a:pt x="296" y="267"/>
                  </a:lnTo>
                  <a:lnTo>
                    <a:pt x="311" y="236"/>
                  </a:lnTo>
                  <a:lnTo>
                    <a:pt x="327" y="209"/>
                  </a:lnTo>
                  <a:lnTo>
                    <a:pt x="346" y="183"/>
                  </a:lnTo>
                  <a:lnTo>
                    <a:pt x="365" y="160"/>
                  </a:lnTo>
                  <a:lnTo>
                    <a:pt x="387" y="141"/>
                  </a:lnTo>
                  <a:lnTo>
                    <a:pt x="427" y="107"/>
                  </a:lnTo>
                  <a:lnTo>
                    <a:pt x="381" y="81"/>
                  </a:lnTo>
                  <a:lnTo>
                    <a:pt x="340" y="60"/>
                  </a:lnTo>
                  <a:lnTo>
                    <a:pt x="304" y="41"/>
                  </a:lnTo>
                  <a:lnTo>
                    <a:pt x="270" y="26"/>
                  </a:lnTo>
                  <a:lnTo>
                    <a:pt x="240" y="15"/>
                  </a:lnTo>
                  <a:lnTo>
                    <a:pt x="216" y="7"/>
                  </a:lnTo>
                  <a:lnTo>
                    <a:pt x="193" y="2"/>
                  </a:lnTo>
                  <a:lnTo>
                    <a:pt x="183" y="0"/>
                  </a:lnTo>
                  <a:lnTo>
                    <a:pt x="176" y="0"/>
                  </a:lnTo>
                  <a:lnTo>
                    <a:pt x="168" y="0"/>
                  </a:lnTo>
                  <a:lnTo>
                    <a:pt x="161" y="2"/>
                  </a:lnTo>
                  <a:close/>
                  <a:moveTo>
                    <a:pt x="100" y="969"/>
                  </a:moveTo>
                  <a:lnTo>
                    <a:pt x="93" y="942"/>
                  </a:lnTo>
                  <a:lnTo>
                    <a:pt x="86" y="914"/>
                  </a:lnTo>
                  <a:lnTo>
                    <a:pt x="81" y="885"/>
                  </a:lnTo>
                  <a:lnTo>
                    <a:pt x="78" y="855"/>
                  </a:lnTo>
                  <a:lnTo>
                    <a:pt x="75" y="825"/>
                  </a:lnTo>
                  <a:lnTo>
                    <a:pt x="73" y="796"/>
                  </a:lnTo>
                  <a:lnTo>
                    <a:pt x="72" y="765"/>
                  </a:lnTo>
                  <a:lnTo>
                    <a:pt x="72" y="735"/>
                  </a:lnTo>
                  <a:lnTo>
                    <a:pt x="73" y="680"/>
                  </a:lnTo>
                  <a:lnTo>
                    <a:pt x="77" y="626"/>
                  </a:lnTo>
                  <a:lnTo>
                    <a:pt x="81" y="571"/>
                  </a:lnTo>
                  <a:lnTo>
                    <a:pt x="88" y="518"/>
                  </a:lnTo>
                  <a:lnTo>
                    <a:pt x="95" y="467"/>
                  </a:lnTo>
                  <a:lnTo>
                    <a:pt x="104" y="416"/>
                  </a:lnTo>
                  <a:lnTo>
                    <a:pt x="114" y="368"/>
                  </a:lnTo>
                  <a:lnTo>
                    <a:pt x="124" y="322"/>
                  </a:lnTo>
                  <a:lnTo>
                    <a:pt x="135" y="278"/>
                  </a:lnTo>
                  <a:lnTo>
                    <a:pt x="145" y="239"/>
                  </a:lnTo>
                  <a:lnTo>
                    <a:pt x="155" y="201"/>
                  </a:lnTo>
                  <a:lnTo>
                    <a:pt x="165" y="168"/>
                  </a:lnTo>
                  <a:lnTo>
                    <a:pt x="182" y="113"/>
                  </a:lnTo>
                  <a:lnTo>
                    <a:pt x="194" y="76"/>
                  </a:lnTo>
                  <a:lnTo>
                    <a:pt x="217" y="83"/>
                  </a:lnTo>
                  <a:lnTo>
                    <a:pt x="244" y="95"/>
                  </a:lnTo>
                  <a:lnTo>
                    <a:pt x="276" y="110"/>
                  </a:lnTo>
                  <a:lnTo>
                    <a:pt x="311" y="127"/>
                  </a:lnTo>
                  <a:lnTo>
                    <a:pt x="298" y="142"/>
                  </a:lnTo>
                  <a:lnTo>
                    <a:pt x="285" y="159"/>
                  </a:lnTo>
                  <a:lnTo>
                    <a:pt x="273" y="177"/>
                  </a:lnTo>
                  <a:lnTo>
                    <a:pt x="262" y="195"/>
                  </a:lnTo>
                  <a:lnTo>
                    <a:pt x="252" y="214"/>
                  </a:lnTo>
                  <a:lnTo>
                    <a:pt x="242" y="234"/>
                  </a:lnTo>
                  <a:lnTo>
                    <a:pt x="232" y="255"/>
                  </a:lnTo>
                  <a:lnTo>
                    <a:pt x="223" y="276"/>
                  </a:lnTo>
                  <a:lnTo>
                    <a:pt x="214" y="298"/>
                  </a:lnTo>
                  <a:lnTo>
                    <a:pt x="206" y="320"/>
                  </a:lnTo>
                  <a:lnTo>
                    <a:pt x="198" y="343"/>
                  </a:lnTo>
                  <a:lnTo>
                    <a:pt x="192" y="366"/>
                  </a:lnTo>
                  <a:lnTo>
                    <a:pt x="180" y="414"/>
                  </a:lnTo>
                  <a:lnTo>
                    <a:pt x="168" y="463"/>
                  </a:lnTo>
                  <a:lnTo>
                    <a:pt x="160" y="513"/>
                  </a:lnTo>
                  <a:lnTo>
                    <a:pt x="152" y="562"/>
                  </a:lnTo>
                  <a:lnTo>
                    <a:pt x="146" y="612"/>
                  </a:lnTo>
                  <a:lnTo>
                    <a:pt x="142" y="662"/>
                  </a:lnTo>
                  <a:lnTo>
                    <a:pt x="139" y="710"/>
                  </a:lnTo>
                  <a:lnTo>
                    <a:pt x="136" y="757"/>
                  </a:lnTo>
                  <a:lnTo>
                    <a:pt x="135" y="803"/>
                  </a:lnTo>
                  <a:lnTo>
                    <a:pt x="135" y="848"/>
                  </a:lnTo>
                  <a:lnTo>
                    <a:pt x="135" y="881"/>
                  </a:lnTo>
                  <a:lnTo>
                    <a:pt x="135" y="911"/>
                  </a:lnTo>
                  <a:lnTo>
                    <a:pt x="136" y="940"/>
                  </a:lnTo>
                  <a:lnTo>
                    <a:pt x="137" y="964"/>
                  </a:lnTo>
                  <a:lnTo>
                    <a:pt x="137" y="987"/>
                  </a:lnTo>
                  <a:lnTo>
                    <a:pt x="139" y="1007"/>
                  </a:lnTo>
                  <a:lnTo>
                    <a:pt x="140" y="1025"/>
                  </a:lnTo>
                  <a:lnTo>
                    <a:pt x="141" y="1040"/>
                  </a:lnTo>
                  <a:lnTo>
                    <a:pt x="130" y="1040"/>
                  </a:lnTo>
                  <a:lnTo>
                    <a:pt x="119" y="1040"/>
                  </a:lnTo>
                  <a:lnTo>
                    <a:pt x="113" y="1018"/>
                  </a:lnTo>
                  <a:lnTo>
                    <a:pt x="106" y="994"/>
                  </a:lnTo>
                  <a:lnTo>
                    <a:pt x="101" y="977"/>
                  </a:lnTo>
                  <a:lnTo>
                    <a:pt x="100" y="9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3844800" y="5200560"/>
              <a:ext cx="163800" cy="412920"/>
            </a:xfrm>
            <a:custGeom>
              <a:avLst/>
              <a:gdLst/>
              <a:ahLst/>
              <a:rect l="l" t="t" r="r" b="b"/>
              <a:pathLst>
                <a:path w="411" h="1042">
                  <a:moveTo>
                    <a:pt x="176" y="0"/>
                  </a:moveTo>
                  <a:lnTo>
                    <a:pt x="174" y="6"/>
                  </a:lnTo>
                  <a:lnTo>
                    <a:pt x="167" y="23"/>
                  </a:lnTo>
                  <a:lnTo>
                    <a:pt x="155" y="52"/>
                  </a:lnTo>
                  <a:lnTo>
                    <a:pt x="142" y="89"/>
                  </a:lnTo>
                  <a:lnTo>
                    <a:pt x="124" y="136"/>
                  </a:lnTo>
                  <a:lnTo>
                    <a:pt x="107" y="191"/>
                  </a:lnTo>
                  <a:lnTo>
                    <a:pt x="88" y="251"/>
                  </a:lnTo>
                  <a:lnTo>
                    <a:pt x="70" y="318"/>
                  </a:lnTo>
                  <a:lnTo>
                    <a:pt x="51" y="389"/>
                  </a:lnTo>
                  <a:lnTo>
                    <a:pt x="35" y="465"/>
                  </a:lnTo>
                  <a:lnTo>
                    <a:pt x="27" y="503"/>
                  </a:lnTo>
                  <a:lnTo>
                    <a:pt x="20" y="542"/>
                  </a:lnTo>
                  <a:lnTo>
                    <a:pt x="15" y="581"/>
                  </a:lnTo>
                  <a:lnTo>
                    <a:pt x="10" y="621"/>
                  </a:lnTo>
                  <a:lnTo>
                    <a:pt x="5" y="661"/>
                  </a:lnTo>
                  <a:lnTo>
                    <a:pt x="3" y="701"/>
                  </a:lnTo>
                  <a:lnTo>
                    <a:pt x="0" y="740"/>
                  </a:lnTo>
                  <a:lnTo>
                    <a:pt x="0" y="780"/>
                  </a:lnTo>
                  <a:lnTo>
                    <a:pt x="1" y="820"/>
                  </a:lnTo>
                  <a:lnTo>
                    <a:pt x="4" y="858"/>
                  </a:lnTo>
                  <a:lnTo>
                    <a:pt x="8" y="897"/>
                  </a:lnTo>
                  <a:lnTo>
                    <a:pt x="13" y="934"/>
                  </a:lnTo>
                  <a:lnTo>
                    <a:pt x="30" y="1032"/>
                  </a:lnTo>
                  <a:lnTo>
                    <a:pt x="117" y="1042"/>
                  </a:lnTo>
                  <a:lnTo>
                    <a:pt x="117" y="1034"/>
                  </a:lnTo>
                  <a:lnTo>
                    <a:pt x="118" y="1011"/>
                  </a:lnTo>
                  <a:lnTo>
                    <a:pt x="121" y="975"/>
                  </a:lnTo>
                  <a:lnTo>
                    <a:pt x="124" y="928"/>
                  </a:lnTo>
                  <a:lnTo>
                    <a:pt x="131" y="871"/>
                  </a:lnTo>
                  <a:lnTo>
                    <a:pt x="138" y="805"/>
                  </a:lnTo>
                  <a:lnTo>
                    <a:pt x="148" y="734"/>
                  </a:lnTo>
                  <a:lnTo>
                    <a:pt x="162" y="660"/>
                  </a:lnTo>
                  <a:lnTo>
                    <a:pt x="169" y="622"/>
                  </a:lnTo>
                  <a:lnTo>
                    <a:pt x="178" y="584"/>
                  </a:lnTo>
                  <a:lnTo>
                    <a:pt x="188" y="544"/>
                  </a:lnTo>
                  <a:lnTo>
                    <a:pt x="198" y="506"/>
                  </a:lnTo>
                  <a:lnTo>
                    <a:pt x="209" y="469"/>
                  </a:lnTo>
                  <a:lnTo>
                    <a:pt x="221" y="431"/>
                  </a:lnTo>
                  <a:lnTo>
                    <a:pt x="235" y="394"/>
                  </a:lnTo>
                  <a:lnTo>
                    <a:pt x="250" y="359"/>
                  </a:lnTo>
                  <a:lnTo>
                    <a:pt x="265" y="325"/>
                  </a:lnTo>
                  <a:lnTo>
                    <a:pt x="282" y="292"/>
                  </a:lnTo>
                  <a:lnTo>
                    <a:pt x="301" y="261"/>
                  </a:lnTo>
                  <a:lnTo>
                    <a:pt x="319" y="233"/>
                  </a:lnTo>
                  <a:lnTo>
                    <a:pt x="340" y="206"/>
                  </a:lnTo>
                  <a:lnTo>
                    <a:pt x="363" y="182"/>
                  </a:lnTo>
                  <a:lnTo>
                    <a:pt x="386" y="161"/>
                  </a:lnTo>
                  <a:lnTo>
                    <a:pt x="411" y="141"/>
                  </a:lnTo>
                  <a:lnTo>
                    <a:pt x="402" y="135"/>
                  </a:lnTo>
                  <a:lnTo>
                    <a:pt x="379" y="119"/>
                  </a:lnTo>
                  <a:lnTo>
                    <a:pt x="347" y="95"/>
                  </a:lnTo>
                  <a:lnTo>
                    <a:pt x="307" y="68"/>
                  </a:lnTo>
                  <a:lnTo>
                    <a:pt x="266" y="42"/>
                  </a:lnTo>
                  <a:lnTo>
                    <a:pt x="229" y="19"/>
                  </a:lnTo>
                  <a:lnTo>
                    <a:pt x="211" y="11"/>
                  </a:lnTo>
                  <a:lnTo>
                    <a:pt x="198" y="3"/>
                  </a:lnTo>
                  <a:lnTo>
                    <a:pt x="185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3830760" y="5186520"/>
              <a:ext cx="201600" cy="442800"/>
            </a:xfrm>
            <a:custGeom>
              <a:avLst/>
              <a:gdLst/>
              <a:ahLst/>
              <a:rect l="l" t="t" r="r" b="b"/>
              <a:pathLst>
                <a:path w="508" h="1119">
                  <a:moveTo>
                    <a:pt x="207" y="0"/>
                  </a:moveTo>
                  <a:lnTo>
                    <a:pt x="188" y="3"/>
                  </a:lnTo>
                  <a:lnTo>
                    <a:pt x="180" y="21"/>
                  </a:lnTo>
                  <a:lnTo>
                    <a:pt x="175" y="31"/>
                  </a:lnTo>
                  <a:lnTo>
                    <a:pt x="168" y="52"/>
                  </a:lnTo>
                  <a:lnTo>
                    <a:pt x="155" y="83"/>
                  </a:lnTo>
                  <a:lnTo>
                    <a:pt x="140" y="124"/>
                  </a:lnTo>
                  <a:lnTo>
                    <a:pt x="123" y="172"/>
                  </a:lnTo>
                  <a:lnTo>
                    <a:pt x="104" y="227"/>
                  </a:lnTo>
                  <a:lnTo>
                    <a:pt x="86" y="289"/>
                  </a:lnTo>
                  <a:lnTo>
                    <a:pt x="67" y="357"/>
                  </a:lnTo>
                  <a:lnTo>
                    <a:pt x="50" y="428"/>
                  </a:lnTo>
                  <a:lnTo>
                    <a:pt x="34" y="503"/>
                  </a:lnTo>
                  <a:lnTo>
                    <a:pt x="26" y="542"/>
                  </a:lnTo>
                  <a:lnTo>
                    <a:pt x="20" y="581"/>
                  </a:lnTo>
                  <a:lnTo>
                    <a:pt x="14" y="621"/>
                  </a:lnTo>
                  <a:lnTo>
                    <a:pt x="9" y="661"/>
                  </a:lnTo>
                  <a:lnTo>
                    <a:pt x="5" y="701"/>
                  </a:lnTo>
                  <a:lnTo>
                    <a:pt x="3" y="740"/>
                  </a:lnTo>
                  <a:lnTo>
                    <a:pt x="0" y="781"/>
                  </a:lnTo>
                  <a:lnTo>
                    <a:pt x="0" y="821"/>
                  </a:lnTo>
                  <a:lnTo>
                    <a:pt x="1" y="859"/>
                  </a:lnTo>
                  <a:lnTo>
                    <a:pt x="4" y="899"/>
                  </a:lnTo>
                  <a:lnTo>
                    <a:pt x="8" y="938"/>
                  </a:lnTo>
                  <a:lnTo>
                    <a:pt x="14" y="976"/>
                  </a:lnTo>
                  <a:lnTo>
                    <a:pt x="35" y="1100"/>
                  </a:lnTo>
                  <a:lnTo>
                    <a:pt x="188" y="1119"/>
                  </a:lnTo>
                  <a:lnTo>
                    <a:pt x="189" y="1079"/>
                  </a:lnTo>
                  <a:lnTo>
                    <a:pt x="189" y="1070"/>
                  </a:lnTo>
                  <a:lnTo>
                    <a:pt x="190" y="1047"/>
                  </a:lnTo>
                  <a:lnTo>
                    <a:pt x="193" y="1011"/>
                  </a:lnTo>
                  <a:lnTo>
                    <a:pt x="196" y="964"/>
                  </a:lnTo>
                  <a:lnTo>
                    <a:pt x="201" y="908"/>
                  </a:lnTo>
                  <a:lnTo>
                    <a:pt x="210" y="845"/>
                  </a:lnTo>
                  <a:lnTo>
                    <a:pt x="220" y="776"/>
                  </a:lnTo>
                  <a:lnTo>
                    <a:pt x="232" y="704"/>
                  </a:lnTo>
                  <a:lnTo>
                    <a:pt x="240" y="667"/>
                  </a:lnTo>
                  <a:lnTo>
                    <a:pt x="247" y="630"/>
                  </a:lnTo>
                  <a:lnTo>
                    <a:pt x="257" y="593"/>
                  </a:lnTo>
                  <a:lnTo>
                    <a:pt x="267" y="555"/>
                  </a:lnTo>
                  <a:lnTo>
                    <a:pt x="277" y="519"/>
                  </a:lnTo>
                  <a:lnTo>
                    <a:pt x="289" y="483"/>
                  </a:lnTo>
                  <a:lnTo>
                    <a:pt x="302" y="447"/>
                  </a:lnTo>
                  <a:lnTo>
                    <a:pt x="316" y="414"/>
                  </a:lnTo>
                  <a:lnTo>
                    <a:pt x="330" y="382"/>
                  </a:lnTo>
                  <a:lnTo>
                    <a:pt x="347" y="349"/>
                  </a:lnTo>
                  <a:lnTo>
                    <a:pt x="363" y="321"/>
                  </a:lnTo>
                  <a:lnTo>
                    <a:pt x="381" y="294"/>
                  </a:lnTo>
                  <a:lnTo>
                    <a:pt x="401" y="268"/>
                  </a:lnTo>
                  <a:lnTo>
                    <a:pt x="421" y="245"/>
                  </a:lnTo>
                  <a:lnTo>
                    <a:pt x="443" y="224"/>
                  </a:lnTo>
                  <a:lnTo>
                    <a:pt x="467" y="207"/>
                  </a:lnTo>
                  <a:lnTo>
                    <a:pt x="508" y="180"/>
                  </a:lnTo>
                  <a:lnTo>
                    <a:pt x="468" y="148"/>
                  </a:lnTo>
                  <a:lnTo>
                    <a:pt x="431" y="121"/>
                  </a:lnTo>
                  <a:lnTo>
                    <a:pt x="397" y="98"/>
                  </a:lnTo>
                  <a:lnTo>
                    <a:pt x="366" y="77"/>
                  </a:lnTo>
                  <a:lnTo>
                    <a:pt x="340" y="59"/>
                  </a:lnTo>
                  <a:lnTo>
                    <a:pt x="317" y="44"/>
                  </a:lnTo>
                  <a:lnTo>
                    <a:pt x="297" y="32"/>
                  </a:lnTo>
                  <a:lnTo>
                    <a:pt x="278" y="22"/>
                  </a:lnTo>
                  <a:lnTo>
                    <a:pt x="263" y="14"/>
                  </a:lnTo>
                  <a:lnTo>
                    <a:pt x="251" y="10"/>
                  </a:lnTo>
                  <a:lnTo>
                    <a:pt x="240" y="5"/>
                  </a:lnTo>
                  <a:lnTo>
                    <a:pt x="231" y="2"/>
                  </a:lnTo>
                  <a:lnTo>
                    <a:pt x="224" y="0"/>
                  </a:lnTo>
                  <a:lnTo>
                    <a:pt x="214" y="0"/>
                  </a:lnTo>
                  <a:lnTo>
                    <a:pt x="207" y="0"/>
                  </a:lnTo>
                  <a:close/>
                  <a:moveTo>
                    <a:pt x="85" y="964"/>
                  </a:moveTo>
                  <a:lnTo>
                    <a:pt x="78" y="926"/>
                  </a:lnTo>
                  <a:lnTo>
                    <a:pt x="75" y="889"/>
                  </a:lnTo>
                  <a:lnTo>
                    <a:pt x="72" y="851"/>
                  </a:lnTo>
                  <a:lnTo>
                    <a:pt x="72" y="812"/>
                  </a:lnTo>
                  <a:lnTo>
                    <a:pt x="72" y="785"/>
                  </a:lnTo>
                  <a:lnTo>
                    <a:pt x="73" y="756"/>
                  </a:lnTo>
                  <a:lnTo>
                    <a:pt x="75" y="728"/>
                  </a:lnTo>
                  <a:lnTo>
                    <a:pt x="77" y="698"/>
                  </a:lnTo>
                  <a:lnTo>
                    <a:pt x="83" y="641"/>
                  </a:lnTo>
                  <a:lnTo>
                    <a:pt x="92" y="585"/>
                  </a:lnTo>
                  <a:lnTo>
                    <a:pt x="102" y="528"/>
                  </a:lnTo>
                  <a:lnTo>
                    <a:pt x="113" y="474"/>
                  </a:lnTo>
                  <a:lnTo>
                    <a:pt x="126" y="420"/>
                  </a:lnTo>
                  <a:lnTo>
                    <a:pt x="138" y="369"/>
                  </a:lnTo>
                  <a:lnTo>
                    <a:pt x="152" y="321"/>
                  </a:lnTo>
                  <a:lnTo>
                    <a:pt x="165" y="275"/>
                  </a:lnTo>
                  <a:lnTo>
                    <a:pt x="179" y="232"/>
                  </a:lnTo>
                  <a:lnTo>
                    <a:pt x="191" y="193"/>
                  </a:lnTo>
                  <a:lnTo>
                    <a:pt x="215" y="126"/>
                  </a:lnTo>
                  <a:lnTo>
                    <a:pt x="234" y="79"/>
                  </a:lnTo>
                  <a:lnTo>
                    <a:pt x="263" y="96"/>
                  </a:lnTo>
                  <a:lnTo>
                    <a:pt x="302" y="120"/>
                  </a:lnTo>
                  <a:lnTo>
                    <a:pt x="345" y="150"/>
                  </a:lnTo>
                  <a:lnTo>
                    <a:pt x="393" y="182"/>
                  </a:lnTo>
                  <a:lnTo>
                    <a:pt x="371" y="202"/>
                  </a:lnTo>
                  <a:lnTo>
                    <a:pt x="353" y="223"/>
                  </a:lnTo>
                  <a:lnTo>
                    <a:pt x="335" y="245"/>
                  </a:lnTo>
                  <a:lnTo>
                    <a:pt x="318" y="269"/>
                  </a:lnTo>
                  <a:lnTo>
                    <a:pt x="302" y="295"/>
                  </a:lnTo>
                  <a:lnTo>
                    <a:pt x="286" y="321"/>
                  </a:lnTo>
                  <a:lnTo>
                    <a:pt x="272" y="349"/>
                  </a:lnTo>
                  <a:lnTo>
                    <a:pt x="258" y="378"/>
                  </a:lnTo>
                  <a:lnTo>
                    <a:pt x="246" y="408"/>
                  </a:lnTo>
                  <a:lnTo>
                    <a:pt x="234" y="439"/>
                  </a:lnTo>
                  <a:lnTo>
                    <a:pt x="222" y="470"/>
                  </a:lnTo>
                  <a:lnTo>
                    <a:pt x="211" y="501"/>
                  </a:lnTo>
                  <a:lnTo>
                    <a:pt x="201" y="533"/>
                  </a:lnTo>
                  <a:lnTo>
                    <a:pt x="193" y="565"/>
                  </a:lnTo>
                  <a:lnTo>
                    <a:pt x="184" y="598"/>
                  </a:lnTo>
                  <a:lnTo>
                    <a:pt x="176" y="629"/>
                  </a:lnTo>
                  <a:lnTo>
                    <a:pt x="163" y="693"/>
                  </a:lnTo>
                  <a:lnTo>
                    <a:pt x="152" y="755"/>
                  </a:lnTo>
                  <a:lnTo>
                    <a:pt x="142" y="815"/>
                  </a:lnTo>
                  <a:lnTo>
                    <a:pt x="134" y="871"/>
                  </a:lnTo>
                  <a:lnTo>
                    <a:pt x="128" y="923"/>
                  </a:lnTo>
                  <a:lnTo>
                    <a:pt x="124" y="969"/>
                  </a:lnTo>
                  <a:lnTo>
                    <a:pt x="121" y="1007"/>
                  </a:lnTo>
                  <a:lnTo>
                    <a:pt x="119" y="1038"/>
                  </a:lnTo>
                  <a:lnTo>
                    <a:pt x="107" y="1037"/>
                  </a:lnTo>
                  <a:lnTo>
                    <a:pt x="96" y="1036"/>
                  </a:lnTo>
                  <a:lnTo>
                    <a:pt x="92" y="1013"/>
                  </a:lnTo>
                  <a:lnTo>
                    <a:pt x="88" y="990"/>
                  </a:lnTo>
                  <a:lnTo>
                    <a:pt x="86" y="971"/>
                  </a:lnTo>
                  <a:lnTo>
                    <a:pt x="85" y="9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3879720" y="5246640"/>
              <a:ext cx="181080" cy="405000"/>
            </a:xfrm>
            <a:custGeom>
              <a:avLst/>
              <a:gdLst/>
              <a:ahLst/>
              <a:rect l="l" t="t" r="r" b="b"/>
              <a:pathLst>
                <a:path w="456" h="1020">
                  <a:moveTo>
                    <a:pt x="281" y="0"/>
                  </a:moveTo>
                  <a:lnTo>
                    <a:pt x="278" y="7"/>
                  </a:lnTo>
                  <a:lnTo>
                    <a:pt x="269" y="23"/>
                  </a:lnTo>
                  <a:lnTo>
                    <a:pt x="252" y="50"/>
                  </a:lnTo>
                  <a:lnTo>
                    <a:pt x="234" y="85"/>
                  </a:lnTo>
                  <a:lnTo>
                    <a:pt x="210" y="129"/>
                  </a:lnTo>
                  <a:lnTo>
                    <a:pt x="185" y="180"/>
                  </a:lnTo>
                  <a:lnTo>
                    <a:pt x="158" y="237"/>
                  </a:lnTo>
                  <a:lnTo>
                    <a:pt x="131" y="301"/>
                  </a:lnTo>
                  <a:lnTo>
                    <a:pt x="116" y="334"/>
                  </a:lnTo>
                  <a:lnTo>
                    <a:pt x="103" y="369"/>
                  </a:lnTo>
                  <a:lnTo>
                    <a:pt x="90" y="404"/>
                  </a:lnTo>
                  <a:lnTo>
                    <a:pt x="77" y="441"/>
                  </a:lnTo>
                  <a:lnTo>
                    <a:pt x="65" y="477"/>
                  </a:lnTo>
                  <a:lnTo>
                    <a:pt x="52" y="515"/>
                  </a:lnTo>
                  <a:lnTo>
                    <a:pt x="43" y="553"/>
                  </a:lnTo>
                  <a:lnTo>
                    <a:pt x="33" y="591"/>
                  </a:lnTo>
                  <a:lnTo>
                    <a:pt x="24" y="631"/>
                  </a:lnTo>
                  <a:lnTo>
                    <a:pt x="16" y="669"/>
                  </a:lnTo>
                  <a:lnTo>
                    <a:pt x="10" y="709"/>
                  </a:lnTo>
                  <a:lnTo>
                    <a:pt x="5" y="747"/>
                  </a:lnTo>
                  <a:lnTo>
                    <a:pt x="2" y="786"/>
                  </a:lnTo>
                  <a:lnTo>
                    <a:pt x="0" y="826"/>
                  </a:lnTo>
                  <a:lnTo>
                    <a:pt x="0" y="863"/>
                  </a:lnTo>
                  <a:lnTo>
                    <a:pt x="2" y="901"/>
                  </a:lnTo>
                  <a:lnTo>
                    <a:pt x="10" y="1002"/>
                  </a:lnTo>
                  <a:lnTo>
                    <a:pt x="96" y="1020"/>
                  </a:lnTo>
                  <a:lnTo>
                    <a:pt x="97" y="1013"/>
                  </a:lnTo>
                  <a:lnTo>
                    <a:pt x="100" y="988"/>
                  </a:lnTo>
                  <a:lnTo>
                    <a:pt x="105" y="951"/>
                  </a:lnTo>
                  <a:lnTo>
                    <a:pt x="112" y="901"/>
                  </a:lnTo>
                  <a:lnTo>
                    <a:pt x="121" y="842"/>
                  </a:lnTo>
                  <a:lnTo>
                    <a:pt x="133" y="776"/>
                  </a:lnTo>
                  <a:lnTo>
                    <a:pt x="149" y="703"/>
                  </a:lnTo>
                  <a:lnTo>
                    <a:pt x="168" y="627"/>
                  </a:lnTo>
                  <a:lnTo>
                    <a:pt x="178" y="587"/>
                  </a:lnTo>
                  <a:lnTo>
                    <a:pt x="189" y="549"/>
                  </a:lnTo>
                  <a:lnTo>
                    <a:pt x="201" y="509"/>
                  </a:lnTo>
                  <a:lnTo>
                    <a:pt x="215" y="471"/>
                  </a:lnTo>
                  <a:lnTo>
                    <a:pt x="229" y="432"/>
                  </a:lnTo>
                  <a:lnTo>
                    <a:pt x="245" y="395"/>
                  </a:lnTo>
                  <a:lnTo>
                    <a:pt x="261" y="359"/>
                  </a:lnTo>
                  <a:lnTo>
                    <a:pt x="278" y="324"/>
                  </a:lnTo>
                  <a:lnTo>
                    <a:pt x="296" y="291"/>
                  </a:lnTo>
                  <a:lnTo>
                    <a:pt x="316" y="259"/>
                  </a:lnTo>
                  <a:lnTo>
                    <a:pt x="336" y="229"/>
                  </a:lnTo>
                  <a:lnTo>
                    <a:pt x="358" y="201"/>
                  </a:lnTo>
                  <a:lnTo>
                    <a:pt x="380" y="177"/>
                  </a:lnTo>
                  <a:lnTo>
                    <a:pt x="404" y="154"/>
                  </a:lnTo>
                  <a:lnTo>
                    <a:pt x="430" y="136"/>
                  </a:lnTo>
                  <a:lnTo>
                    <a:pt x="456" y="120"/>
                  </a:lnTo>
                  <a:lnTo>
                    <a:pt x="434" y="101"/>
                  </a:lnTo>
                  <a:lnTo>
                    <a:pt x="383" y="60"/>
                  </a:lnTo>
                  <a:lnTo>
                    <a:pt x="353" y="38"/>
                  </a:lnTo>
                  <a:lnTo>
                    <a:pt x="324" y="19"/>
                  </a:lnTo>
                  <a:lnTo>
                    <a:pt x="311" y="12"/>
                  </a:lnTo>
                  <a:lnTo>
                    <a:pt x="300" y="5"/>
                  </a:lnTo>
                  <a:lnTo>
                    <a:pt x="290" y="2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3865680" y="5232240"/>
              <a:ext cx="220680" cy="436680"/>
            </a:xfrm>
            <a:custGeom>
              <a:avLst/>
              <a:gdLst/>
              <a:ahLst/>
              <a:rect l="l" t="t" r="r" b="b"/>
              <a:pathLst>
                <a:path w="555" h="1099">
                  <a:moveTo>
                    <a:pt x="316" y="0"/>
                  </a:moveTo>
                  <a:lnTo>
                    <a:pt x="297" y="0"/>
                  </a:lnTo>
                  <a:lnTo>
                    <a:pt x="287" y="16"/>
                  </a:lnTo>
                  <a:lnTo>
                    <a:pt x="281" y="26"/>
                  </a:lnTo>
                  <a:lnTo>
                    <a:pt x="270" y="46"/>
                  </a:lnTo>
                  <a:lnTo>
                    <a:pt x="254" y="74"/>
                  </a:lnTo>
                  <a:lnTo>
                    <a:pt x="232" y="111"/>
                  </a:lnTo>
                  <a:lnTo>
                    <a:pt x="209" y="157"/>
                  </a:lnTo>
                  <a:lnTo>
                    <a:pt x="183" y="209"/>
                  </a:lnTo>
                  <a:lnTo>
                    <a:pt x="156" y="268"/>
                  </a:lnTo>
                  <a:lnTo>
                    <a:pt x="128" y="332"/>
                  </a:lnTo>
                  <a:lnTo>
                    <a:pt x="115" y="366"/>
                  </a:lnTo>
                  <a:lnTo>
                    <a:pt x="101" y="400"/>
                  </a:lnTo>
                  <a:lnTo>
                    <a:pt x="87" y="436"/>
                  </a:lnTo>
                  <a:lnTo>
                    <a:pt x="75" y="472"/>
                  </a:lnTo>
                  <a:lnTo>
                    <a:pt x="64" y="510"/>
                  </a:lnTo>
                  <a:lnTo>
                    <a:pt x="52" y="548"/>
                  </a:lnTo>
                  <a:lnTo>
                    <a:pt x="41" y="587"/>
                  </a:lnTo>
                  <a:lnTo>
                    <a:pt x="31" y="625"/>
                  </a:lnTo>
                  <a:lnTo>
                    <a:pt x="23" y="663"/>
                  </a:lnTo>
                  <a:lnTo>
                    <a:pt x="16" y="703"/>
                  </a:lnTo>
                  <a:lnTo>
                    <a:pt x="10" y="743"/>
                  </a:lnTo>
                  <a:lnTo>
                    <a:pt x="5" y="783"/>
                  </a:lnTo>
                  <a:lnTo>
                    <a:pt x="2" y="821"/>
                  </a:lnTo>
                  <a:lnTo>
                    <a:pt x="0" y="861"/>
                  </a:lnTo>
                  <a:lnTo>
                    <a:pt x="0" y="899"/>
                  </a:lnTo>
                  <a:lnTo>
                    <a:pt x="3" y="938"/>
                  </a:lnTo>
                  <a:lnTo>
                    <a:pt x="13" y="1064"/>
                  </a:lnTo>
                  <a:lnTo>
                    <a:pt x="164" y="1099"/>
                  </a:lnTo>
                  <a:lnTo>
                    <a:pt x="168" y="1058"/>
                  </a:lnTo>
                  <a:lnTo>
                    <a:pt x="168" y="1048"/>
                  </a:lnTo>
                  <a:lnTo>
                    <a:pt x="172" y="1025"/>
                  </a:lnTo>
                  <a:lnTo>
                    <a:pt x="177" y="987"/>
                  </a:lnTo>
                  <a:lnTo>
                    <a:pt x="183" y="938"/>
                  </a:lnTo>
                  <a:lnTo>
                    <a:pt x="193" y="881"/>
                  </a:lnTo>
                  <a:lnTo>
                    <a:pt x="205" y="816"/>
                  </a:lnTo>
                  <a:lnTo>
                    <a:pt x="220" y="745"/>
                  </a:lnTo>
                  <a:lnTo>
                    <a:pt x="237" y="671"/>
                  </a:lnTo>
                  <a:lnTo>
                    <a:pt x="247" y="634"/>
                  </a:lnTo>
                  <a:lnTo>
                    <a:pt x="259" y="596"/>
                  </a:lnTo>
                  <a:lnTo>
                    <a:pt x="270" y="558"/>
                  </a:lnTo>
                  <a:lnTo>
                    <a:pt x="283" y="521"/>
                  </a:lnTo>
                  <a:lnTo>
                    <a:pt x="296" y="485"/>
                  </a:lnTo>
                  <a:lnTo>
                    <a:pt x="311" y="449"/>
                  </a:lnTo>
                  <a:lnTo>
                    <a:pt x="326" y="413"/>
                  </a:lnTo>
                  <a:lnTo>
                    <a:pt x="342" y="379"/>
                  </a:lnTo>
                  <a:lnTo>
                    <a:pt x="359" y="347"/>
                  </a:lnTo>
                  <a:lnTo>
                    <a:pt x="378" y="317"/>
                  </a:lnTo>
                  <a:lnTo>
                    <a:pt x="396" y="289"/>
                  </a:lnTo>
                  <a:lnTo>
                    <a:pt x="416" y="263"/>
                  </a:lnTo>
                  <a:lnTo>
                    <a:pt x="439" y="239"/>
                  </a:lnTo>
                  <a:lnTo>
                    <a:pt x="461" y="218"/>
                  </a:lnTo>
                  <a:lnTo>
                    <a:pt x="483" y="201"/>
                  </a:lnTo>
                  <a:lnTo>
                    <a:pt x="508" y="186"/>
                  </a:lnTo>
                  <a:lnTo>
                    <a:pt x="555" y="161"/>
                  </a:lnTo>
                  <a:lnTo>
                    <a:pt x="516" y="126"/>
                  </a:lnTo>
                  <a:lnTo>
                    <a:pt x="480" y="96"/>
                  </a:lnTo>
                  <a:lnTo>
                    <a:pt x="447" y="70"/>
                  </a:lnTo>
                  <a:lnTo>
                    <a:pt x="418" y="48"/>
                  </a:lnTo>
                  <a:lnTo>
                    <a:pt x="391" y="31"/>
                  </a:lnTo>
                  <a:lnTo>
                    <a:pt x="368" y="17"/>
                  </a:lnTo>
                  <a:lnTo>
                    <a:pt x="347" y="7"/>
                  </a:lnTo>
                  <a:lnTo>
                    <a:pt x="338" y="3"/>
                  </a:lnTo>
                  <a:lnTo>
                    <a:pt x="331" y="1"/>
                  </a:lnTo>
                  <a:lnTo>
                    <a:pt x="322" y="0"/>
                  </a:lnTo>
                  <a:lnTo>
                    <a:pt x="316" y="0"/>
                  </a:lnTo>
                  <a:close/>
                  <a:moveTo>
                    <a:pt x="74" y="933"/>
                  </a:moveTo>
                  <a:lnTo>
                    <a:pt x="72" y="919"/>
                  </a:lnTo>
                  <a:lnTo>
                    <a:pt x="72" y="905"/>
                  </a:lnTo>
                  <a:lnTo>
                    <a:pt x="72" y="892"/>
                  </a:lnTo>
                  <a:lnTo>
                    <a:pt x="71" y="877"/>
                  </a:lnTo>
                  <a:lnTo>
                    <a:pt x="72" y="847"/>
                  </a:lnTo>
                  <a:lnTo>
                    <a:pt x="74" y="816"/>
                  </a:lnTo>
                  <a:lnTo>
                    <a:pt x="76" y="785"/>
                  </a:lnTo>
                  <a:lnTo>
                    <a:pt x="81" y="754"/>
                  </a:lnTo>
                  <a:lnTo>
                    <a:pt x="85" y="723"/>
                  </a:lnTo>
                  <a:lnTo>
                    <a:pt x="91" y="692"/>
                  </a:lnTo>
                  <a:lnTo>
                    <a:pt x="97" y="661"/>
                  </a:lnTo>
                  <a:lnTo>
                    <a:pt x="105" y="630"/>
                  </a:lnTo>
                  <a:lnTo>
                    <a:pt x="121" y="569"/>
                  </a:lnTo>
                  <a:lnTo>
                    <a:pt x="139" y="510"/>
                  </a:lnTo>
                  <a:lnTo>
                    <a:pt x="159" y="451"/>
                  </a:lnTo>
                  <a:lnTo>
                    <a:pt x="180" y="395"/>
                  </a:lnTo>
                  <a:lnTo>
                    <a:pt x="203" y="342"/>
                  </a:lnTo>
                  <a:lnTo>
                    <a:pt x="224" y="291"/>
                  </a:lnTo>
                  <a:lnTo>
                    <a:pt x="246" y="244"/>
                  </a:lnTo>
                  <a:lnTo>
                    <a:pt x="267" y="202"/>
                  </a:lnTo>
                  <a:lnTo>
                    <a:pt x="305" y="130"/>
                  </a:lnTo>
                  <a:lnTo>
                    <a:pt x="332" y="80"/>
                  </a:lnTo>
                  <a:lnTo>
                    <a:pt x="352" y="92"/>
                  </a:lnTo>
                  <a:lnTo>
                    <a:pt x="377" y="109"/>
                  </a:lnTo>
                  <a:lnTo>
                    <a:pt x="405" y="130"/>
                  </a:lnTo>
                  <a:lnTo>
                    <a:pt x="436" y="155"/>
                  </a:lnTo>
                  <a:lnTo>
                    <a:pt x="414" y="172"/>
                  </a:lnTo>
                  <a:lnTo>
                    <a:pt x="394" y="192"/>
                  </a:lnTo>
                  <a:lnTo>
                    <a:pt x="374" y="213"/>
                  </a:lnTo>
                  <a:lnTo>
                    <a:pt x="355" y="235"/>
                  </a:lnTo>
                  <a:lnTo>
                    <a:pt x="337" y="260"/>
                  </a:lnTo>
                  <a:lnTo>
                    <a:pt x="319" y="286"/>
                  </a:lnTo>
                  <a:lnTo>
                    <a:pt x="303" y="314"/>
                  </a:lnTo>
                  <a:lnTo>
                    <a:pt x="287" y="341"/>
                  </a:lnTo>
                  <a:lnTo>
                    <a:pt x="272" y="371"/>
                  </a:lnTo>
                  <a:lnTo>
                    <a:pt x="259" y="400"/>
                  </a:lnTo>
                  <a:lnTo>
                    <a:pt x="245" y="431"/>
                  </a:lnTo>
                  <a:lnTo>
                    <a:pt x="231" y="462"/>
                  </a:lnTo>
                  <a:lnTo>
                    <a:pt x="220" y="495"/>
                  </a:lnTo>
                  <a:lnTo>
                    <a:pt x="208" y="527"/>
                  </a:lnTo>
                  <a:lnTo>
                    <a:pt x="198" y="559"/>
                  </a:lnTo>
                  <a:lnTo>
                    <a:pt x="188" y="592"/>
                  </a:lnTo>
                  <a:lnTo>
                    <a:pt x="169" y="657"/>
                  </a:lnTo>
                  <a:lnTo>
                    <a:pt x="153" y="721"/>
                  </a:lnTo>
                  <a:lnTo>
                    <a:pt x="139" y="781"/>
                  </a:lnTo>
                  <a:lnTo>
                    <a:pt x="128" y="838"/>
                  </a:lnTo>
                  <a:lnTo>
                    <a:pt x="118" y="891"/>
                  </a:lnTo>
                  <a:lnTo>
                    <a:pt x="111" y="938"/>
                  </a:lnTo>
                  <a:lnTo>
                    <a:pt x="105" y="979"/>
                  </a:lnTo>
                  <a:lnTo>
                    <a:pt x="101" y="1011"/>
                  </a:lnTo>
                  <a:lnTo>
                    <a:pt x="90" y="1008"/>
                  </a:lnTo>
                  <a:lnTo>
                    <a:pt x="80" y="1006"/>
                  </a:lnTo>
                  <a:lnTo>
                    <a:pt x="77" y="982"/>
                  </a:lnTo>
                  <a:lnTo>
                    <a:pt x="76" y="959"/>
                  </a:lnTo>
                  <a:lnTo>
                    <a:pt x="75" y="940"/>
                  </a:lnTo>
                  <a:lnTo>
                    <a:pt x="74" y="9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3895560" y="5283360"/>
              <a:ext cx="219240" cy="390240"/>
            </a:xfrm>
            <a:custGeom>
              <a:avLst/>
              <a:gdLst/>
              <a:ahLst/>
              <a:rect l="l" t="t" r="r" b="b"/>
              <a:pathLst>
                <a:path w="550" h="984">
                  <a:moveTo>
                    <a:pt x="392" y="0"/>
                  </a:moveTo>
                  <a:lnTo>
                    <a:pt x="376" y="21"/>
                  </a:lnTo>
                  <a:lnTo>
                    <a:pt x="334" y="77"/>
                  </a:lnTo>
                  <a:lnTo>
                    <a:pt x="306" y="117"/>
                  </a:lnTo>
                  <a:lnTo>
                    <a:pt x="274" y="164"/>
                  </a:lnTo>
                  <a:lnTo>
                    <a:pt x="240" y="217"/>
                  </a:lnTo>
                  <a:lnTo>
                    <a:pt x="205" y="276"/>
                  </a:lnTo>
                  <a:lnTo>
                    <a:pt x="188" y="307"/>
                  </a:lnTo>
                  <a:lnTo>
                    <a:pt x="170" y="339"/>
                  </a:lnTo>
                  <a:lnTo>
                    <a:pt x="153" y="371"/>
                  </a:lnTo>
                  <a:lnTo>
                    <a:pt x="135" y="406"/>
                  </a:lnTo>
                  <a:lnTo>
                    <a:pt x="118" y="441"/>
                  </a:lnTo>
                  <a:lnTo>
                    <a:pt x="103" y="475"/>
                  </a:lnTo>
                  <a:lnTo>
                    <a:pt x="87" y="513"/>
                  </a:lnTo>
                  <a:lnTo>
                    <a:pt x="73" y="549"/>
                  </a:lnTo>
                  <a:lnTo>
                    <a:pt x="60" y="586"/>
                  </a:lnTo>
                  <a:lnTo>
                    <a:pt x="47" y="623"/>
                  </a:lnTo>
                  <a:lnTo>
                    <a:pt x="36" y="662"/>
                  </a:lnTo>
                  <a:lnTo>
                    <a:pt x="26" y="699"/>
                  </a:lnTo>
                  <a:lnTo>
                    <a:pt x="19" y="737"/>
                  </a:lnTo>
                  <a:lnTo>
                    <a:pt x="12" y="776"/>
                  </a:lnTo>
                  <a:lnTo>
                    <a:pt x="7" y="813"/>
                  </a:lnTo>
                  <a:lnTo>
                    <a:pt x="5" y="851"/>
                  </a:lnTo>
                  <a:lnTo>
                    <a:pt x="0" y="952"/>
                  </a:lnTo>
                  <a:lnTo>
                    <a:pt x="82" y="984"/>
                  </a:lnTo>
                  <a:lnTo>
                    <a:pt x="91" y="952"/>
                  </a:lnTo>
                  <a:lnTo>
                    <a:pt x="113" y="868"/>
                  </a:lnTo>
                  <a:lnTo>
                    <a:pt x="129" y="810"/>
                  </a:lnTo>
                  <a:lnTo>
                    <a:pt x="150" y="746"/>
                  </a:lnTo>
                  <a:lnTo>
                    <a:pt x="174" y="676"/>
                  </a:lnTo>
                  <a:lnTo>
                    <a:pt x="202" y="603"/>
                  </a:lnTo>
                  <a:lnTo>
                    <a:pt x="217" y="567"/>
                  </a:lnTo>
                  <a:lnTo>
                    <a:pt x="233" y="530"/>
                  </a:lnTo>
                  <a:lnTo>
                    <a:pt x="251" y="493"/>
                  </a:lnTo>
                  <a:lnTo>
                    <a:pt x="268" y="457"/>
                  </a:lnTo>
                  <a:lnTo>
                    <a:pt x="287" y="421"/>
                  </a:lnTo>
                  <a:lnTo>
                    <a:pt x="307" y="386"/>
                  </a:lnTo>
                  <a:lnTo>
                    <a:pt x="328" y="353"/>
                  </a:lnTo>
                  <a:lnTo>
                    <a:pt x="349" y="320"/>
                  </a:lnTo>
                  <a:lnTo>
                    <a:pt x="371" y="289"/>
                  </a:lnTo>
                  <a:lnTo>
                    <a:pt x="394" y="261"/>
                  </a:lnTo>
                  <a:lnTo>
                    <a:pt x="419" y="235"/>
                  </a:lnTo>
                  <a:lnTo>
                    <a:pt x="443" y="211"/>
                  </a:lnTo>
                  <a:lnTo>
                    <a:pt x="468" y="190"/>
                  </a:lnTo>
                  <a:lnTo>
                    <a:pt x="494" y="171"/>
                  </a:lnTo>
                  <a:lnTo>
                    <a:pt x="522" y="157"/>
                  </a:lnTo>
                  <a:lnTo>
                    <a:pt x="550" y="144"/>
                  </a:lnTo>
                  <a:lnTo>
                    <a:pt x="530" y="123"/>
                  </a:lnTo>
                  <a:lnTo>
                    <a:pt x="484" y="75"/>
                  </a:lnTo>
                  <a:lnTo>
                    <a:pt x="458" y="49"/>
                  </a:lnTo>
                  <a:lnTo>
                    <a:pt x="432" y="25"/>
                  </a:lnTo>
                  <a:lnTo>
                    <a:pt x="420" y="15"/>
                  </a:lnTo>
                  <a:lnTo>
                    <a:pt x="409" y="8"/>
                  </a:lnTo>
                  <a:lnTo>
                    <a:pt x="400" y="3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3881520" y="5268960"/>
              <a:ext cx="257040" cy="423720"/>
            </a:xfrm>
            <a:custGeom>
              <a:avLst/>
              <a:gdLst/>
              <a:ahLst/>
              <a:rect l="l" t="t" r="r" b="b"/>
              <a:pathLst>
                <a:path w="649" h="1070">
                  <a:moveTo>
                    <a:pt x="401" y="15"/>
                  </a:moveTo>
                  <a:lnTo>
                    <a:pt x="381" y="41"/>
                  </a:lnTo>
                  <a:lnTo>
                    <a:pt x="335" y="102"/>
                  </a:lnTo>
                  <a:lnTo>
                    <a:pt x="306" y="144"/>
                  </a:lnTo>
                  <a:lnTo>
                    <a:pt x="274" y="191"/>
                  </a:lnTo>
                  <a:lnTo>
                    <a:pt x="239" y="246"/>
                  </a:lnTo>
                  <a:lnTo>
                    <a:pt x="205" y="305"/>
                  </a:lnTo>
                  <a:lnTo>
                    <a:pt x="187" y="336"/>
                  </a:lnTo>
                  <a:lnTo>
                    <a:pt x="170" y="369"/>
                  </a:lnTo>
                  <a:lnTo>
                    <a:pt x="153" y="402"/>
                  </a:lnTo>
                  <a:lnTo>
                    <a:pt x="135" y="437"/>
                  </a:lnTo>
                  <a:lnTo>
                    <a:pt x="119" y="472"/>
                  </a:lnTo>
                  <a:lnTo>
                    <a:pt x="103" y="507"/>
                  </a:lnTo>
                  <a:lnTo>
                    <a:pt x="88" y="543"/>
                  </a:lnTo>
                  <a:lnTo>
                    <a:pt x="73" y="581"/>
                  </a:lnTo>
                  <a:lnTo>
                    <a:pt x="61" y="618"/>
                  </a:lnTo>
                  <a:lnTo>
                    <a:pt x="48" y="656"/>
                  </a:lnTo>
                  <a:lnTo>
                    <a:pt x="37" y="694"/>
                  </a:lnTo>
                  <a:lnTo>
                    <a:pt x="27" y="732"/>
                  </a:lnTo>
                  <a:lnTo>
                    <a:pt x="20" y="771"/>
                  </a:lnTo>
                  <a:lnTo>
                    <a:pt x="13" y="809"/>
                  </a:lnTo>
                  <a:lnTo>
                    <a:pt x="8" y="847"/>
                  </a:lnTo>
                  <a:lnTo>
                    <a:pt x="6" y="886"/>
                  </a:lnTo>
                  <a:lnTo>
                    <a:pt x="0" y="1012"/>
                  </a:lnTo>
                  <a:lnTo>
                    <a:pt x="145" y="1070"/>
                  </a:lnTo>
                  <a:lnTo>
                    <a:pt x="155" y="1029"/>
                  </a:lnTo>
                  <a:lnTo>
                    <a:pt x="162" y="995"/>
                  </a:lnTo>
                  <a:lnTo>
                    <a:pt x="185" y="912"/>
                  </a:lnTo>
                  <a:lnTo>
                    <a:pt x="201" y="856"/>
                  </a:lnTo>
                  <a:lnTo>
                    <a:pt x="221" y="794"/>
                  </a:lnTo>
                  <a:lnTo>
                    <a:pt x="244" y="726"/>
                  </a:lnTo>
                  <a:lnTo>
                    <a:pt x="272" y="656"/>
                  </a:lnTo>
                  <a:lnTo>
                    <a:pt x="287" y="620"/>
                  </a:lnTo>
                  <a:lnTo>
                    <a:pt x="302" y="584"/>
                  </a:lnTo>
                  <a:lnTo>
                    <a:pt x="318" y="548"/>
                  </a:lnTo>
                  <a:lnTo>
                    <a:pt x="335" y="514"/>
                  </a:lnTo>
                  <a:lnTo>
                    <a:pt x="352" y="479"/>
                  </a:lnTo>
                  <a:lnTo>
                    <a:pt x="371" y="445"/>
                  </a:lnTo>
                  <a:lnTo>
                    <a:pt x="391" y="413"/>
                  </a:lnTo>
                  <a:lnTo>
                    <a:pt x="411" y="382"/>
                  </a:lnTo>
                  <a:lnTo>
                    <a:pt x="432" y="354"/>
                  </a:lnTo>
                  <a:lnTo>
                    <a:pt x="453" y="326"/>
                  </a:lnTo>
                  <a:lnTo>
                    <a:pt x="475" y="302"/>
                  </a:lnTo>
                  <a:lnTo>
                    <a:pt x="499" y="278"/>
                  </a:lnTo>
                  <a:lnTo>
                    <a:pt x="523" y="258"/>
                  </a:lnTo>
                  <a:lnTo>
                    <a:pt x="547" y="241"/>
                  </a:lnTo>
                  <a:lnTo>
                    <a:pt x="572" y="226"/>
                  </a:lnTo>
                  <a:lnTo>
                    <a:pt x="600" y="215"/>
                  </a:lnTo>
                  <a:lnTo>
                    <a:pt x="649" y="197"/>
                  </a:lnTo>
                  <a:lnTo>
                    <a:pt x="614" y="158"/>
                  </a:lnTo>
                  <a:lnTo>
                    <a:pt x="582" y="123"/>
                  </a:lnTo>
                  <a:lnTo>
                    <a:pt x="554" y="92"/>
                  </a:lnTo>
                  <a:lnTo>
                    <a:pt x="528" y="66"/>
                  </a:lnTo>
                  <a:lnTo>
                    <a:pt x="503" y="45"/>
                  </a:lnTo>
                  <a:lnTo>
                    <a:pt x="482" y="27"/>
                  </a:lnTo>
                  <a:lnTo>
                    <a:pt x="463" y="15"/>
                  </a:lnTo>
                  <a:lnTo>
                    <a:pt x="454" y="10"/>
                  </a:lnTo>
                  <a:lnTo>
                    <a:pt x="447" y="6"/>
                  </a:lnTo>
                  <a:lnTo>
                    <a:pt x="439" y="4"/>
                  </a:lnTo>
                  <a:lnTo>
                    <a:pt x="433" y="3"/>
                  </a:lnTo>
                  <a:lnTo>
                    <a:pt x="413" y="0"/>
                  </a:lnTo>
                  <a:lnTo>
                    <a:pt x="401" y="15"/>
                  </a:lnTo>
                  <a:close/>
                  <a:moveTo>
                    <a:pt x="77" y="890"/>
                  </a:moveTo>
                  <a:lnTo>
                    <a:pt x="79" y="859"/>
                  </a:lnTo>
                  <a:lnTo>
                    <a:pt x="83" y="826"/>
                  </a:lnTo>
                  <a:lnTo>
                    <a:pt x="88" y="795"/>
                  </a:lnTo>
                  <a:lnTo>
                    <a:pt x="94" y="763"/>
                  </a:lnTo>
                  <a:lnTo>
                    <a:pt x="102" y="732"/>
                  </a:lnTo>
                  <a:lnTo>
                    <a:pt x="110" y="700"/>
                  </a:lnTo>
                  <a:lnTo>
                    <a:pt x="119" y="669"/>
                  </a:lnTo>
                  <a:lnTo>
                    <a:pt x="129" y="637"/>
                  </a:lnTo>
                  <a:lnTo>
                    <a:pt x="140" y="606"/>
                  </a:lnTo>
                  <a:lnTo>
                    <a:pt x="153" y="574"/>
                  </a:lnTo>
                  <a:lnTo>
                    <a:pt x="165" y="545"/>
                  </a:lnTo>
                  <a:lnTo>
                    <a:pt x="179" y="514"/>
                  </a:lnTo>
                  <a:lnTo>
                    <a:pt x="206" y="455"/>
                  </a:lnTo>
                  <a:lnTo>
                    <a:pt x="236" y="398"/>
                  </a:lnTo>
                  <a:lnTo>
                    <a:pt x="264" y="345"/>
                  </a:lnTo>
                  <a:lnTo>
                    <a:pt x="294" y="294"/>
                  </a:lnTo>
                  <a:lnTo>
                    <a:pt x="324" y="247"/>
                  </a:lnTo>
                  <a:lnTo>
                    <a:pt x="352" y="205"/>
                  </a:lnTo>
                  <a:lnTo>
                    <a:pt x="401" y="134"/>
                  </a:lnTo>
                  <a:lnTo>
                    <a:pt x="437" y="86"/>
                  </a:lnTo>
                  <a:lnTo>
                    <a:pt x="456" y="99"/>
                  </a:lnTo>
                  <a:lnTo>
                    <a:pt x="478" y="120"/>
                  </a:lnTo>
                  <a:lnTo>
                    <a:pt x="504" y="145"/>
                  </a:lnTo>
                  <a:lnTo>
                    <a:pt x="531" y="174"/>
                  </a:lnTo>
                  <a:lnTo>
                    <a:pt x="508" y="189"/>
                  </a:lnTo>
                  <a:lnTo>
                    <a:pt x="485" y="205"/>
                  </a:lnTo>
                  <a:lnTo>
                    <a:pt x="463" y="223"/>
                  </a:lnTo>
                  <a:lnTo>
                    <a:pt x="442" y="242"/>
                  </a:lnTo>
                  <a:lnTo>
                    <a:pt x="421" y="264"/>
                  </a:lnTo>
                  <a:lnTo>
                    <a:pt x="401" y="287"/>
                  </a:lnTo>
                  <a:lnTo>
                    <a:pt x="381" y="311"/>
                  </a:lnTo>
                  <a:lnTo>
                    <a:pt x="362" y="338"/>
                  </a:lnTo>
                  <a:lnTo>
                    <a:pt x="344" y="364"/>
                  </a:lnTo>
                  <a:lnTo>
                    <a:pt x="326" y="391"/>
                  </a:lnTo>
                  <a:lnTo>
                    <a:pt x="309" y="419"/>
                  </a:lnTo>
                  <a:lnTo>
                    <a:pt x="292" y="449"/>
                  </a:lnTo>
                  <a:lnTo>
                    <a:pt x="277" y="479"/>
                  </a:lnTo>
                  <a:lnTo>
                    <a:pt x="261" y="509"/>
                  </a:lnTo>
                  <a:lnTo>
                    <a:pt x="247" y="540"/>
                  </a:lnTo>
                  <a:lnTo>
                    <a:pt x="232" y="570"/>
                  </a:lnTo>
                  <a:lnTo>
                    <a:pt x="206" y="632"/>
                  </a:lnTo>
                  <a:lnTo>
                    <a:pt x="182" y="691"/>
                  </a:lnTo>
                  <a:lnTo>
                    <a:pt x="161" y="749"/>
                  </a:lnTo>
                  <a:lnTo>
                    <a:pt x="143" y="804"/>
                  </a:lnTo>
                  <a:lnTo>
                    <a:pt x="126" y="856"/>
                  </a:lnTo>
                  <a:lnTo>
                    <a:pt x="114" y="901"/>
                  </a:lnTo>
                  <a:lnTo>
                    <a:pt x="103" y="940"/>
                  </a:lnTo>
                  <a:lnTo>
                    <a:pt x="94" y="973"/>
                  </a:lnTo>
                  <a:lnTo>
                    <a:pt x="83" y="968"/>
                  </a:lnTo>
                  <a:lnTo>
                    <a:pt x="74" y="964"/>
                  </a:lnTo>
                  <a:lnTo>
                    <a:pt x="76" y="940"/>
                  </a:lnTo>
                  <a:lnTo>
                    <a:pt x="76" y="917"/>
                  </a:lnTo>
                  <a:lnTo>
                    <a:pt x="77" y="897"/>
                  </a:lnTo>
                  <a:lnTo>
                    <a:pt x="77" y="8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3892680" y="5334120"/>
              <a:ext cx="284040" cy="353880"/>
            </a:xfrm>
            <a:custGeom>
              <a:avLst/>
              <a:gdLst/>
              <a:ahLst/>
              <a:rect l="l" t="t" r="r" b="b"/>
              <a:pathLst>
                <a:path w="714" h="893">
                  <a:moveTo>
                    <a:pt x="560" y="0"/>
                  </a:moveTo>
                  <a:lnTo>
                    <a:pt x="535" y="15"/>
                  </a:lnTo>
                  <a:lnTo>
                    <a:pt x="484" y="48"/>
                  </a:lnTo>
                  <a:lnTo>
                    <a:pt x="451" y="72"/>
                  </a:lnTo>
                  <a:lnTo>
                    <a:pt x="413" y="100"/>
                  </a:lnTo>
                  <a:lnTo>
                    <a:pt x="393" y="118"/>
                  </a:lnTo>
                  <a:lnTo>
                    <a:pt x="374" y="135"/>
                  </a:lnTo>
                  <a:lnTo>
                    <a:pt x="352" y="155"/>
                  </a:lnTo>
                  <a:lnTo>
                    <a:pt x="331" y="176"/>
                  </a:lnTo>
                  <a:lnTo>
                    <a:pt x="309" y="198"/>
                  </a:lnTo>
                  <a:lnTo>
                    <a:pt x="288" y="223"/>
                  </a:lnTo>
                  <a:lnTo>
                    <a:pt x="266" y="249"/>
                  </a:lnTo>
                  <a:lnTo>
                    <a:pt x="243" y="276"/>
                  </a:lnTo>
                  <a:lnTo>
                    <a:pt x="222" y="305"/>
                  </a:lnTo>
                  <a:lnTo>
                    <a:pt x="200" y="336"/>
                  </a:lnTo>
                  <a:lnTo>
                    <a:pt x="179" y="368"/>
                  </a:lnTo>
                  <a:lnTo>
                    <a:pt x="159" y="403"/>
                  </a:lnTo>
                  <a:lnTo>
                    <a:pt x="138" y="439"/>
                  </a:lnTo>
                  <a:lnTo>
                    <a:pt x="119" y="477"/>
                  </a:lnTo>
                  <a:lnTo>
                    <a:pt x="100" y="517"/>
                  </a:lnTo>
                  <a:lnTo>
                    <a:pt x="82" y="558"/>
                  </a:lnTo>
                  <a:lnTo>
                    <a:pt x="66" y="603"/>
                  </a:lnTo>
                  <a:lnTo>
                    <a:pt x="51" y="647"/>
                  </a:lnTo>
                  <a:lnTo>
                    <a:pt x="36" y="696"/>
                  </a:lnTo>
                  <a:lnTo>
                    <a:pt x="23" y="745"/>
                  </a:lnTo>
                  <a:lnTo>
                    <a:pt x="0" y="842"/>
                  </a:lnTo>
                  <a:lnTo>
                    <a:pt x="76" y="893"/>
                  </a:lnTo>
                  <a:lnTo>
                    <a:pt x="89" y="862"/>
                  </a:lnTo>
                  <a:lnTo>
                    <a:pt x="130" y="784"/>
                  </a:lnTo>
                  <a:lnTo>
                    <a:pt x="159" y="731"/>
                  </a:lnTo>
                  <a:lnTo>
                    <a:pt x="194" y="671"/>
                  </a:lnTo>
                  <a:lnTo>
                    <a:pt x="232" y="607"/>
                  </a:lnTo>
                  <a:lnTo>
                    <a:pt x="275" y="541"/>
                  </a:lnTo>
                  <a:lnTo>
                    <a:pt x="298" y="507"/>
                  </a:lnTo>
                  <a:lnTo>
                    <a:pt x="321" y="474"/>
                  </a:lnTo>
                  <a:lnTo>
                    <a:pt x="346" y="442"/>
                  </a:lnTo>
                  <a:lnTo>
                    <a:pt x="371" y="409"/>
                  </a:lnTo>
                  <a:lnTo>
                    <a:pt x="397" y="378"/>
                  </a:lnTo>
                  <a:lnTo>
                    <a:pt x="425" y="347"/>
                  </a:lnTo>
                  <a:lnTo>
                    <a:pt x="452" y="319"/>
                  </a:lnTo>
                  <a:lnTo>
                    <a:pt x="479" y="291"/>
                  </a:lnTo>
                  <a:lnTo>
                    <a:pt x="508" y="267"/>
                  </a:lnTo>
                  <a:lnTo>
                    <a:pt x="536" y="243"/>
                  </a:lnTo>
                  <a:lnTo>
                    <a:pt x="565" y="222"/>
                  </a:lnTo>
                  <a:lnTo>
                    <a:pt x="595" y="203"/>
                  </a:lnTo>
                  <a:lnTo>
                    <a:pt x="624" y="188"/>
                  </a:lnTo>
                  <a:lnTo>
                    <a:pt x="654" y="176"/>
                  </a:lnTo>
                  <a:lnTo>
                    <a:pt x="683" y="167"/>
                  </a:lnTo>
                  <a:lnTo>
                    <a:pt x="714" y="162"/>
                  </a:lnTo>
                  <a:lnTo>
                    <a:pt x="694" y="139"/>
                  </a:lnTo>
                  <a:lnTo>
                    <a:pt x="649" y="85"/>
                  </a:lnTo>
                  <a:lnTo>
                    <a:pt x="623" y="56"/>
                  </a:lnTo>
                  <a:lnTo>
                    <a:pt x="598" y="30"/>
                  </a:lnTo>
                  <a:lnTo>
                    <a:pt x="587" y="18"/>
                  </a:lnTo>
                  <a:lnTo>
                    <a:pt x="577" y="10"/>
                  </a:lnTo>
                  <a:lnTo>
                    <a:pt x="567" y="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3933720" y="5378400"/>
              <a:ext cx="282600" cy="353880"/>
            </a:xfrm>
            <a:custGeom>
              <a:avLst/>
              <a:gdLst/>
              <a:ahLst/>
              <a:rect l="l" t="t" r="r" b="b"/>
              <a:pathLst>
                <a:path w="711" h="893">
                  <a:moveTo>
                    <a:pt x="560" y="0"/>
                  </a:moveTo>
                  <a:lnTo>
                    <a:pt x="541" y="16"/>
                  </a:lnTo>
                  <a:lnTo>
                    <a:pt x="489" y="62"/>
                  </a:lnTo>
                  <a:lnTo>
                    <a:pt x="454" y="94"/>
                  </a:lnTo>
                  <a:lnTo>
                    <a:pt x="414" y="132"/>
                  </a:lnTo>
                  <a:lnTo>
                    <a:pt x="371" y="177"/>
                  </a:lnTo>
                  <a:lnTo>
                    <a:pt x="326" y="227"/>
                  </a:lnTo>
                  <a:lnTo>
                    <a:pt x="303" y="253"/>
                  </a:lnTo>
                  <a:lnTo>
                    <a:pt x="280" y="280"/>
                  </a:lnTo>
                  <a:lnTo>
                    <a:pt x="257" y="309"/>
                  </a:lnTo>
                  <a:lnTo>
                    <a:pt x="233" y="338"/>
                  </a:lnTo>
                  <a:lnTo>
                    <a:pt x="211" y="368"/>
                  </a:lnTo>
                  <a:lnTo>
                    <a:pt x="188" y="400"/>
                  </a:lnTo>
                  <a:lnTo>
                    <a:pt x="167" y="431"/>
                  </a:lnTo>
                  <a:lnTo>
                    <a:pt x="146" y="465"/>
                  </a:lnTo>
                  <a:lnTo>
                    <a:pt x="126" y="498"/>
                  </a:lnTo>
                  <a:lnTo>
                    <a:pt x="106" y="532"/>
                  </a:lnTo>
                  <a:lnTo>
                    <a:pt x="89" y="567"/>
                  </a:lnTo>
                  <a:lnTo>
                    <a:pt x="73" y="601"/>
                  </a:lnTo>
                  <a:lnTo>
                    <a:pt x="58" y="637"/>
                  </a:lnTo>
                  <a:lnTo>
                    <a:pt x="44" y="673"/>
                  </a:lnTo>
                  <a:lnTo>
                    <a:pt x="33" y="709"/>
                  </a:lnTo>
                  <a:lnTo>
                    <a:pt x="23" y="745"/>
                  </a:lnTo>
                  <a:lnTo>
                    <a:pt x="0" y="842"/>
                  </a:lnTo>
                  <a:lnTo>
                    <a:pt x="75" y="893"/>
                  </a:lnTo>
                  <a:lnTo>
                    <a:pt x="89" y="862"/>
                  </a:lnTo>
                  <a:lnTo>
                    <a:pt x="130" y="779"/>
                  </a:lnTo>
                  <a:lnTo>
                    <a:pt x="159" y="724"/>
                  </a:lnTo>
                  <a:lnTo>
                    <a:pt x="192" y="662"/>
                  </a:lnTo>
                  <a:lnTo>
                    <a:pt x="231" y="595"/>
                  </a:lnTo>
                  <a:lnTo>
                    <a:pt x="274" y="527"/>
                  </a:lnTo>
                  <a:lnTo>
                    <a:pt x="296" y="492"/>
                  </a:lnTo>
                  <a:lnTo>
                    <a:pt x="320" y="458"/>
                  </a:lnTo>
                  <a:lnTo>
                    <a:pt x="345" y="423"/>
                  </a:lnTo>
                  <a:lnTo>
                    <a:pt x="370" y="389"/>
                  </a:lnTo>
                  <a:lnTo>
                    <a:pt x="396" y="357"/>
                  </a:lnTo>
                  <a:lnTo>
                    <a:pt x="423" y="326"/>
                  </a:lnTo>
                  <a:lnTo>
                    <a:pt x="450" y="296"/>
                  </a:lnTo>
                  <a:lnTo>
                    <a:pt x="478" y="268"/>
                  </a:lnTo>
                  <a:lnTo>
                    <a:pt x="506" y="242"/>
                  </a:lnTo>
                  <a:lnTo>
                    <a:pt x="535" y="217"/>
                  </a:lnTo>
                  <a:lnTo>
                    <a:pt x="563" y="196"/>
                  </a:lnTo>
                  <a:lnTo>
                    <a:pt x="593" y="177"/>
                  </a:lnTo>
                  <a:lnTo>
                    <a:pt x="622" y="161"/>
                  </a:lnTo>
                  <a:lnTo>
                    <a:pt x="652" y="149"/>
                  </a:lnTo>
                  <a:lnTo>
                    <a:pt x="681" y="140"/>
                  </a:lnTo>
                  <a:lnTo>
                    <a:pt x="711" y="134"/>
                  </a:lnTo>
                  <a:lnTo>
                    <a:pt x="693" y="115"/>
                  </a:lnTo>
                  <a:lnTo>
                    <a:pt x="649" y="72"/>
                  </a:lnTo>
                  <a:lnTo>
                    <a:pt x="623" y="47"/>
                  </a:lnTo>
                  <a:lnTo>
                    <a:pt x="598" y="26"/>
                  </a:lnTo>
                  <a:lnTo>
                    <a:pt x="587" y="16"/>
                  </a:lnTo>
                  <a:lnTo>
                    <a:pt x="576" y="8"/>
                  </a:lnTo>
                  <a:lnTo>
                    <a:pt x="567" y="3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3975120" y="5416560"/>
              <a:ext cx="276120" cy="353880"/>
            </a:xfrm>
            <a:custGeom>
              <a:avLst/>
              <a:gdLst/>
              <a:ahLst/>
              <a:rect l="l" t="t" r="r" b="b"/>
              <a:pathLst>
                <a:path w="698" h="894">
                  <a:moveTo>
                    <a:pt x="567" y="0"/>
                  </a:moveTo>
                  <a:lnTo>
                    <a:pt x="546" y="16"/>
                  </a:lnTo>
                  <a:lnTo>
                    <a:pt x="492" y="59"/>
                  </a:lnTo>
                  <a:lnTo>
                    <a:pt x="454" y="90"/>
                  </a:lnTo>
                  <a:lnTo>
                    <a:pt x="412" y="127"/>
                  </a:lnTo>
                  <a:lnTo>
                    <a:pt x="366" y="169"/>
                  </a:lnTo>
                  <a:lnTo>
                    <a:pt x="318" y="216"/>
                  </a:lnTo>
                  <a:lnTo>
                    <a:pt x="294" y="242"/>
                  </a:lnTo>
                  <a:lnTo>
                    <a:pt x="269" y="268"/>
                  </a:lnTo>
                  <a:lnTo>
                    <a:pt x="245" y="296"/>
                  </a:lnTo>
                  <a:lnTo>
                    <a:pt x="220" y="324"/>
                  </a:lnTo>
                  <a:lnTo>
                    <a:pt x="196" y="354"/>
                  </a:lnTo>
                  <a:lnTo>
                    <a:pt x="173" y="384"/>
                  </a:lnTo>
                  <a:lnTo>
                    <a:pt x="150" y="415"/>
                  </a:lnTo>
                  <a:lnTo>
                    <a:pt x="128" y="447"/>
                  </a:lnTo>
                  <a:lnTo>
                    <a:pt x="107" y="479"/>
                  </a:lnTo>
                  <a:lnTo>
                    <a:pt x="87" y="513"/>
                  </a:lnTo>
                  <a:lnTo>
                    <a:pt x="68" y="546"/>
                  </a:lnTo>
                  <a:lnTo>
                    <a:pt x="51" y="581"/>
                  </a:lnTo>
                  <a:lnTo>
                    <a:pt x="36" y="617"/>
                  </a:lnTo>
                  <a:lnTo>
                    <a:pt x="22" y="652"/>
                  </a:lnTo>
                  <a:lnTo>
                    <a:pt x="10" y="688"/>
                  </a:lnTo>
                  <a:lnTo>
                    <a:pt x="0" y="724"/>
                  </a:lnTo>
                  <a:lnTo>
                    <a:pt x="7" y="844"/>
                  </a:lnTo>
                  <a:lnTo>
                    <a:pt x="82" y="894"/>
                  </a:lnTo>
                  <a:lnTo>
                    <a:pt x="96" y="865"/>
                  </a:lnTo>
                  <a:lnTo>
                    <a:pt x="134" y="789"/>
                  </a:lnTo>
                  <a:lnTo>
                    <a:pt x="161" y="738"/>
                  </a:lnTo>
                  <a:lnTo>
                    <a:pt x="194" y="680"/>
                  </a:lnTo>
                  <a:lnTo>
                    <a:pt x="230" y="619"/>
                  </a:lnTo>
                  <a:lnTo>
                    <a:pt x="271" y="555"/>
                  </a:lnTo>
                  <a:lnTo>
                    <a:pt x="293" y="524"/>
                  </a:lnTo>
                  <a:lnTo>
                    <a:pt x="315" y="492"/>
                  </a:lnTo>
                  <a:lnTo>
                    <a:pt x="339" y="459"/>
                  </a:lnTo>
                  <a:lnTo>
                    <a:pt x="364" y="428"/>
                  </a:lnTo>
                  <a:lnTo>
                    <a:pt x="389" y="399"/>
                  </a:lnTo>
                  <a:lnTo>
                    <a:pt x="415" y="369"/>
                  </a:lnTo>
                  <a:lnTo>
                    <a:pt x="441" y="341"/>
                  </a:lnTo>
                  <a:lnTo>
                    <a:pt x="468" y="315"/>
                  </a:lnTo>
                  <a:lnTo>
                    <a:pt x="495" y="291"/>
                  </a:lnTo>
                  <a:lnTo>
                    <a:pt x="523" y="268"/>
                  </a:lnTo>
                  <a:lnTo>
                    <a:pt x="551" y="248"/>
                  </a:lnTo>
                  <a:lnTo>
                    <a:pt x="580" y="231"/>
                  </a:lnTo>
                  <a:lnTo>
                    <a:pt x="610" y="216"/>
                  </a:lnTo>
                  <a:lnTo>
                    <a:pt x="638" y="204"/>
                  </a:lnTo>
                  <a:lnTo>
                    <a:pt x="668" y="195"/>
                  </a:lnTo>
                  <a:lnTo>
                    <a:pt x="698" y="190"/>
                  </a:lnTo>
                  <a:lnTo>
                    <a:pt x="694" y="183"/>
                  </a:lnTo>
                  <a:lnTo>
                    <a:pt x="683" y="162"/>
                  </a:lnTo>
                  <a:lnTo>
                    <a:pt x="666" y="133"/>
                  </a:lnTo>
                  <a:lnTo>
                    <a:pt x="646" y="100"/>
                  </a:lnTo>
                  <a:lnTo>
                    <a:pt x="623" y="66"/>
                  </a:lnTo>
                  <a:lnTo>
                    <a:pt x="602" y="35"/>
                  </a:lnTo>
                  <a:lnTo>
                    <a:pt x="592" y="23"/>
                  </a:lnTo>
                  <a:lnTo>
                    <a:pt x="582" y="13"/>
                  </a:lnTo>
                  <a:lnTo>
                    <a:pt x="574" y="5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4005360" y="5456160"/>
              <a:ext cx="279360" cy="355680"/>
            </a:xfrm>
            <a:custGeom>
              <a:avLst/>
              <a:gdLst/>
              <a:ahLst/>
              <a:rect l="l" t="t" r="r" b="b"/>
              <a:pathLst>
                <a:path w="706" h="893">
                  <a:moveTo>
                    <a:pt x="560" y="0"/>
                  </a:moveTo>
                  <a:lnTo>
                    <a:pt x="541" y="16"/>
                  </a:lnTo>
                  <a:lnTo>
                    <a:pt x="488" y="62"/>
                  </a:lnTo>
                  <a:lnTo>
                    <a:pt x="454" y="94"/>
                  </a:lnTo>
                  <a:lnTo>
                    <a:pt x="414" y="134"/>
                  </a:lnTo>
                  <a:lnTo>
                    <a:pt x="372" y="177"/>
                  </a:lnTo>
                  <a:lnTo>
                    <a:pt x="326" y="227"/>
                  </a:lnTo>
                  <a:lnTo>
                    <a:pt x="303" y="253"/>
                  </a:lnTo>
                  <a:lnTo>
                    <a:pt x="280" y="280"/>
                  </a:lnTo>
                  <a:lnTo>
                    <a:pt x="256" y="309"/>
                  </a:lnTo>
                  <a:lnTo>
                    <a:pt x="234" y="339"/>
                  </a:lnTo>
                  <a:lnTo>
                    <a:pt x="210" y="370"/>
                  </a:lnTo>
                  <a:lnTo>
                    <a:pt x="188" y="401"/>
                  </a:lnTo>
                  <a:lnTo>
                    <a:pt x="167" y="433"/>
                  </a:lnTo>
                  <a:lnTo>
                    <a:pt x="146" y="465"/>
                  </a:lnTo>
                  <a:lnTo>
                    <a:pt x="126" y="499"/>
                  </a:lnTo>
                  <a:lnTo>
                    <a:pt x="107" y="532"/>
                  </a:lnTo>
                  <a:lnTo>
                    <a:pt x="89" y="567"/>
                  </a:lnTo>
                  <a:lnTo>
                    <a:pt x="72" y="602"/>
                  </a:lnTo>
                  <a:lnTo>
                    <a:pt x="58" y="638"/>
                  </a:lnTo>
                  <a:lnTo>
                    <a:pt x="44" y="674"/>
                  </a:lnTo>
                  <a:lnTo>
                    <a:pt x="33" y="710"/>
                  </a:lnTo>
                  <a:lnTo>
                    <a:pt x="23" y="746"/>
                  </a:lnTo>
                  <a:lnTo>
                    <a:pt x="0" y="844"/>
                  </a:lnTo>
                  <a:lnTo>
                    <a:pt x="75" y="893"/>
                  </a:lnTo>
                  <a:lnTo>
                    <a:pt x="89" y="865"/>
                  </a:lnTo>
                  <a:lnTo>
                    <a:pt x="128" y="792"/>
                  </a:lnTo>
                  <a:lnTo>
                    <a:pt x="157" y="742"/>
                  </a:lnTo>
                  <a:lnTo>
                    <a:pt x="190" y="686"/>
                  </a:lnTo>
                  <a:lnTo>
                    <a:pt x="229" y="627"/>
                  </a:lnTo>
                  <a:lnTo>
                    <a:pt x="271" y="565"/>
                  </a:lnTo>
                  <a:lnTo>
                    <a:pt x="294" y="533"/>
                  </a:lnTo>
                  <a:lnTo>
                    <a:pt x="317" y="502"/>
                  </a:lnTo>
                  <a:lnTo>
                    <a:pt x="342" y="471"/>
                  </a:lnTo>
                  <a:lnTo>
                    <a:pt x="367" y="440"/>
                  </a:lnTo>
                  <a:lnTo>
                    <a:pt x="393" y="412"/>
                  </a:lnTo>
                  <a:lnTo>
                    <a:pt x="419" y="383"/>
                  </a:lnTo>
                  <a:lnTo>
                    <a:pt x="446" y="356"/>
                  </a:lnTo>
                  <a:lnTo>
                    <a:pt x="474" y="330"/>
                  </a:lnTo>
                  <a:lnTo>
                    <a:pt x="501" y="306"/>
                  </a:lnTo>
                  <a:lnTo>
                    <a:pt x="529" y="285"/>
                  </a:lnTo>
                  <a:lnTo>
                    <a:pt x="559" y="265"/>
                  </a:lnTo>
                  <a:lnTo>
                    <a:pt x="588" y="248"/>
                  </a:lnTo>
                  <a:lnTo>
                    <a:pt x="618" y="233"/>
                  </a:lnTo>
                  <a:lnTo>
                    <a:pt x="646" y="222"/>
                  </a:lnTo>
                  <a:lnTo>
                    <a:pt x="676" y="213"/>
                  </a:lnTo>
                  <a:lnTo>
                    <a:pt x="706" y="208"/>
                  </a:lnTo>
                  <a:lnTo>
                    <a:pt x="701" y="200"/>
                  </a:lnTo>
                  <a:lnTo>
                    <a:pt x="688" y="177"/>
                  </a:lnTo>
                  <a:lnTo>
                    <a:pt x="669" y="145"/>
                  </a:lnTo>
                  <a:lnTo>
                    <a:pt x="646" y="109"/>
                  </a:lnTo>
                  <a:lnTo>
                    <a:pt x="621" y="71"/>
                  </a:lnTo>
                  <a:lnTo>
                    <a:pt x="598" y="37"/>
                  </a:lnTo>
                  <a:lnTo>
                    <a:pt x="587" y="24"/>
                  </a:lnTo>
                  <a:lnTo>
                    <a:pt x="577" y="12"/>
                  </a:lnTo>
                  <a:lnTo>
                    <a:pt x="567" y="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4017960" y="5521320"/>
              <a:ext cx="297000" cy="330120"/>
            </a:xfrm>
            <a:custGeom>
              <a:avLst/>
              <a:gdLst/>
              <a:ahLst/>
              <a:rect l="l" t="t" r="r" b="b"/>
              <a:pathLst>
                <a:path w="749" h="832">
                  <a:moveTo>
                    <a:pt x="637" y="0"/>
                  </a:moveTo>
                  <a:lnTo>
                    <a:pt x="616" y="13"/>
                  </a:lnTo>
                  <a:lnTo>
                    <a:pt x="561" y="53"/>
                  </a:lnTo>
                  <a:lnTo>
                    <a:pt x="523" y="82"/>
                  </a:lnTo>
                  <a:lnTo>
                    <a:pt x="479" y="115"/>
                  </a:lnTo>
                  <a:lnTo>
                    <a:pt x="432" y="155"/>
                  </a:lnTo>
                  <a:lnTo>
                    <a:pt x="382" y="198"/>
                  </a:lnTo>
                  <a:lnTo>
                    <a:pt x="358" y="222"/>
                  </a:lnTo>
                  <a:lnTo>
                    <a:pt x="332" y="247"/>
                  </a:lnTo>
                  <a:lnTo>
                    <a:pt x="305" y="273"/>
                  </a:lnTo>
                  <a:lnTo>
                    <a:pt x="281" y="299"/>
                  </a:lnTo>
                  <a:lnTo>
                    <a:pt x="255" y="327"/>
                  </a:lnTo>
                  <a:lnTo>
                    <a:pt x="230" y="356"/>
                  </a:lnTo>
                  <a:lnTo>
                    <a:pt x="205" y="384"/>
                  </a:lnTo>
                  <a:lnTo>
                    <a:pt x="181" y="415"/>
                  </a:lnTo>
                  <a:lnTo>
                    <a:pt x="158" y="445"/>
                  </a:lnTo>
                  <a:lnTo>
                    <a:pt x="135" y="477"/>
                  </a:lnTo>
                  <a:lnTo>
                    <a:pt x="115" y="510"/>
                  </a:lnTo>
                  <a:lnTo>
                    <a:pt x="96" y="543"/>
                  </a:lnTo>
                  <a:lnTo>
                    <a:pt x="77" y="577"/>
                  </a:lnTo>
                  <a:lnTo>
                    <a:pt x="61" y="610"/>
                  </a:lnTo>
                  <a:lnTo>
                    <a:pt x="46" y="645"/>
                  </a:lnTo>
                  <a:lnTo>
                    <a:pt x="32" y="680"/>
                  </a:lnTo>
                  <a:lnTo>
                    <a:pt x="0" y="774"/>
                  </a:lnTo>
                  <a:lnTo>
                    <a:pt x="70" y="832"/>
                  </a:lnTo>
                  <a:lnTo>
                    <a:pt x="86" y="805"/>
                  </a:lnTo>
                  <a:lnTo>
                    <a:pt x="132" y="732"/>
                  </a:lnTo>
                  <a:lnTo>
                    <a:pt x="163" y="683"/>
                  </a:lnTo>
                  <a:lnTo>
                    <a:pt x="200" y="629"/>
                  </a:lnTo>
                  <a:lnTo>
                    <a:pt x="242" y="570"/>
                  </a:lnTo>
                  <a:lnTo>
                    <a:pt x="289" y="511"/>
                  </a:lnTo>
                  <a:lnTo>
                    <a:pt x="314" y="480"/>
                  </a:lnTo>
                  <a:lnTo>
                    <a:pt x="339" y="450"/>
                  </a:lnTo>
                  <a:lnTo>
                    <a:pt x="366" y="422"/>
                  </a:lnTo>
                  <a:lnTo>
                    <a:pt x="394" y="392"/>
                  </a:lnTo>
                  <a:lnTo>
                    <a:pt x="421" y="365"/>
                  </a:lnTo>
                  <a:lnTo>
                    <a:pt x="450" y="338"/>
                  </a:lnTo>
                  <a:lnTo>
                    <a:pt x="478" y="312"/>
                  </a:lnTo>
                  <a:lnTo>
                    <a:pt x="508" y="289"/>
                  </a:lnTo>
                  <a:lnTo>
                    <a:pt x="536" y="268"/>
                  </a:lnTo>
                  <a:lnTo>
                    <a:pt x="567" y="248"/>
                  </a:lnTo>
                  <a:lnTo>
                    <a:pt x="597" y="231"/>
                  </a:lnTo>
                  <a:lnTo>
                    <a:pt x="627" y="217"/>
                  </a:lnTo>
                  <a:lnTo>
                    <a:pt x="658" y="204"/>
                  </a:lnTo>
                  <a:lnTo>
                    <a:pt x="688" y="196"/>
                  </a:lnTo>
                  <a:lnTo>
                    <a:pt x="718" y="191"/>
                  </a:lnTo>
                  <a:lnTo>
                    <a:pt x="749" y="190"/>
                  </a:lnTo>
                  <a:lnTo>
                    <a:pt x="745" y="182"/>
                  </a:lnTo>
                  <a:lnTo>
                    <a:pt x="735" y="162"/>
                  </a:lnTo>
                  <a:lnTo>
                    <a:pt x="721" y="134"/>
                  </a:lnTo>
                  <a:lnTo>
                    <a:pt x="705" y="100"/>
                  </a:lnTo>
                  <a:lnTo>
                    <a:pt x="687" y="67"/>
                  </a:lnTo>
                  <a:lnTo>
                    <a:pt x="668" y="36"/>
                  </a:lnTo>
                  <a:lnTo>
                    <a:pt x="659" y="23"/>
                  </a:lnTo>
                  <a:lnTo>
                    <a:pt x="652" y="12"/>
                  </a:lnTo>
                  <a:lnTo>
                    <a:pt x="644" y="5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4014720" y="5573880"/>
              <a:ext cx="324000" cy="325440"/>
            </a:xfrm>
            <a:custGeom>
              <a:avLst/>
              <a:gdLst/>
              <a:ahLst/>
              <a:rect l="l" t="t" r="r" b="b"/>
              <a:pathLst>
                <a:path w="815" h="823">
                  <a:moveTo>
                    <a:pt x="714" y="0"/>
                  </a:moveTo>
                  <a:lnTo>
                    <a:pt x="692" y="14"/>
                  </a:lnTo>
                  <a:lnTo>
                    <a:pt x="635" y="53"/>
                  </a:lnTo>
                  <a:lnTo>
                    <a:pt x="597" y="82"/>
                  </a:lnTo>
                  <a:lnTo>
                    <a:pt x="552" y="115"/>
                  </a:lnTo>
                  <a:lnTo>
                    <a:pt x="502" y="155"/>
                  </a:lnTo>
                  <a:lnTo>
                    <a:pt x="452" y="199"/>
                  </a:lnTo>
                  <a:lnTo>
                    <a:pt x="397" y="246"/>
                  </a:lnTo>
                  <a:lnTo>
                    <a:pt x="342" y="298"/>
                  </a:lnTo>
                  <a:lnTo>
                    <a:pt x="315" y="324"/>
                  </a:lnTo>
                  <a:lnTo>
                    <a:pt x="288" y="352"/>
                  </a:lnTo>
                  <a:lnTo>
                    <a:pt x="262" y="381"/>
                  </a:lnTo>
                  <a:lnTo>
                    <a:pt x="235" y="411"/>
                  </a:lnTo>
                  <a:lnTo>
                    <a:pt x="211" y="440"/>
                  </a:lnTo>
                  <a:lnTo>
                    <a:pt x="186" y="471"/>
                  </a:lnTo>
                  <a:lnTo>
                    <a:pt x="162" y="503"/>
                  </a:lnTo>
                  <a:lnTo>
                    <a:pt x="140" y="535"/>
                  </a:lnTo>
                  <a:lnTo>
                    <a:pt x="119" y="567"/>
                  </a:lnTo>
                  <a:lnTo>
                    <a:pt x="100" y="599"/>
                  </a:lnTo>
                  <a:lnTo>
                    <a:pt x="81" y="633"/>
                  </a:lnTo>
                  <a:lnTo>
                    <a:pt x="65" y="666"/>
                  </a:lnTo>
                  <a:lnTo>
                    <a:pt x="0" y="741"/>
                  </a:lnTo>
                  <a:lnTo>
                    <a:pt x="89" y="823"/>
                  </a:lnTo>
                  <a:lnTo>
                    <a:pt x="106" y="794"/>
                  </a:lnTo>
                  <a:lnTo>
                    <a:pt x="157" y="720"/>
                  </a:lnTo>
                  <a:lnTo>
                    <a:pt x="193" y="670"/>
                  </a:lnTo>
                  <a:lnTo>
                    <a:pt x="234" y="614"/>
                  </a:lnTo>
                  <a:lnTo>
                    <a:pt x="281" y="556"/>
                  </a:lnTo>
                  <a:lnTo>
                    <a:pt x="332" y="496"/>
                  </a:lnTo>
                  <a:lnTo>
                    <a:pt x="360" y="465"/>
                  </a:lnTo>
                  <a:lnTo>
                    <a:pt x="387" y="436"/>
                  </a:lnTo>
                  <a:lnTo>
                    <a:pt x="417" y="407"/>
                  </a:lnTo>
                  <a:lnTo>
                    <a:pt x="445" y="378"/>
                  </a:lnTo>
                  <a:lnTo>
                    <a:pt x="475" y="351"/>
                  </a:lnTo>
                  <a:lnTo>
                    <a:pt x="506" y="326"/>
                  </a:lnTo>
                  <a:lnTo>
                    <a:pt x="536" y="302"/>
                  </a:lnTo>
                  <a:lnTo>
                    <a:pt x="567" y="279"/>
                  </a:lnTo>
                  <a:lnTo>
                    <a:pt x="598" y="259"/>
                  </a:lnTo>
                  <a:lnTo>
                    <a:pt x="630" y="241"/>
                  </a:lnTo>
                  <a:lnTo>
                    <a:pt x="661" y="226"/>
                  </a:lnTo>
                  <a:lnTo>
                    <a:pt x="692" y="213"/>
                  </a:lnTo>
                  <a:lnTo>
                    <a:pt x="723" y="204"/>
                  </a:lnTo>
                  <a:lnTo>
                    <a:pt x="755" y="197"/>
                  </a:lnTo>
                  <a:lnTo>
                    <a:pt x="784" y="196"/>
                  </a:lnTo>
                  <a:lnTo>
                    <a:pt x="815" y="197"/>
                  </a:lnTo>
                  <a:lnTo>
                    <a:pt x="812" y="189"/>
                  </a:lnTo>
                  <a:lnTo>
                    <a:pt x="804" y="169"/>
                  </a:lnTo>
                  <a:lnTo>
                    <a:pt x="792" y="140"/>
                  </a:lnTo>
                  <a:lnTo>
                    <a:pt x="777" y="105"/>
                  </a:lnTo>
                  <a:lnTo>
                    <a:pt x="759" y="71"/>
                  </a:lnTo>
                  <a:lnTo>
                    <a:pt x="743" y="38"/>
                  </a:lnTo>
                  <a:lnTo>
                    <a:pt x="735" y="26"/>
                  </a:lnTo>
                  <a:lnTo>
                    <a:pt x="727" y="14"/>
                  </a:lnTo>
                  <a:lnTo>
                    <a:pt x="720" y="5"/>
                  </a:lnTo>
                  <a:lnTo>
                    <a:pt x="714" y="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3913200" y="5214960"/>
              <a:ext cx="88920" cy="100080"/>
            </a:xfrm>
            <a:custGeom>
              <a:avLst/>
              <a:gdLst/>
              <a:ahLst/>
              <a:rect l="l" t="t" r="r" b="b"/>
              <a:pathLst>
                <a:path w="223" h="249">
                  <a:moveTo>
                    <a:pt x="223" y="124"/>
                  </a:moveTo>
                  <a:lnTo>
                    <a:pt x="223" y="138"/>
                  </a:lnTo>
                  <a:lnTo>
                    <a:pt x="222" y="150"/>
                  </a:lnTo>
                  <a:lnTo>
                    <a:pt x="218" y="161"/>
                  </a:lnTo>
                  <a:lnTo>
                    <a:pt x="215" y="174"/>
                  </a:lnTo>
                  <a:lnTo>
                    <a:pt x="210" y="184"/>
                  </a:lnTo>
                  <a:lnTo>
                    <a:pt x="205" y="195"/>
                  </a:lnTo>
                  <a:lnTo>
                    <a:pt x="198" y="204"/>
                  </a:lnTo>
                  <a:lnTo>
                    <a:pt x="191" y="213"/>
                  </a:lnTo>
                  <a:lnTo>
                    <a:pt x="184" y="221"/>
                  </a:lnTo>
                  <a:lnTo>
                    <a:pt x="175" y="228"/>
                  </a:lnTo>
                  <a:lnTo>
                    <a:pt x="165" y="235"/>
                  </a:lnTo>
                  <a:lnTo>
                    <a:pt x="155" y="240"/>
                  </a:lnTo>
                  <a:lnTo>
                    <a:pt x="145" y="244"/>
                  </a:lnTo>
                  <a:lnTo>
                    <a:pt x="134" y="247"/>
                  </a:lnTo>
                  <a:lnTo>
                    <a:pt x="123" y="249"/>
                  </a:lnTo>
                  <a:lnTo>
                    <a:pt x="111" y="249"/>
                  </a:lnTo>
                  <a:lnTo>
                    <a:pt x="100" y="249"/>
                  </a:lnTo>
                  <a:lnTo>
                    <a:pt x="89" y="247"/>
                  </a:lnTo>
                  <a:lnTo>
                    <a:pt x="78" y="244"/>
                  </a:lnTo>
                  <a:lnTo>
                    <a:pt x="68" y="240"/>
                  </a:lnTo>
                  <a:lnTo>
                    <a:pt x="58" y="235"/>
                  </a:lnTo>
                  <a:lnTo>
                    <a:pt x="49" y="228"/>
                  </a:lnTo>
                  <a:lnTo>
                    <a:pt x="41" y="221"/>
                  </a:lnTo>
                  <a:lnTo>
                    <a:pt x="32" y="213"/>
                  </a:lnTo>
                  <a:lnTo>
                    <a:pt x="25" y="204"/>
                  </a:lnTo>
                  <a:lnTo>
                    <a:pt x="18" y="195"/>
                  </a:lnTo>
                  <a:lnTo>
                    <a:pt x="13" y="184"/>
                  </a:lnTo>
                  <a:lnTo>
                    <a:pt x="8" y="174"/>
                  </a:lnTo>
                  <a:lnTo>
                    <a:pt x="5" y="161"/>
                  </a:lnTo>
                  <a:lnTo>
                    <a:pt x="2" y="150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0" y="112"/>
                  </a:lnTo>
                  <a:lnTo>
                    <a:pt x="2" y="99"/>
                  </a:lnTo>
                  <a:lnTo>
                    <a:pt x="5" y="88"/>
                  </a:lnTo>
                  <a:lnTo>
                    <a:pt x="8" y="76"/>
                  </a:lnTo>
                  <a:lnTo>
                    <a:pt x="13" y="66"/>
                  </a:lnTo>
                  <a:lnTo>
                    <a:pt x="18" y="55"/>
                  </a:lnTo>
                  <a:lnTo>
                    <a:pt x="25" y="46"/>
                  </a:lnTo>
                  <a:lnTo>
                    <a:pt x="32" y="37"/>
                  </a:lnTo>
                  <a:lnTo>
                    <a:pt x="41" y="29"/>
                  </a:lnTo>
                  <a:lnTo>
                    <a:pt x="49" y="21"/>
                  </a:lnTo>
                  <a:lnTo>
                    <a:pt x="58" y="15"/>
                  </a:lnTo>
                  <a:lnTo>
                    <a:pt x="68" y="10"/>
                  </a:lnTo>
                  <a:lnTo>
                    <a:pt x="78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1" y="0"/>
                  </a:lnTo>
                  <a:lnTo>
                    <a:pt x="123" y="1"/>
                  </a:lnTo>
                  <a:lnTo>
                    <a:pt x="134" y="3"/>
                  </a:lnTo>
                  <a:lnTo>
                    <a:pt x="145" y="6"/>
                  </a:lnTo>
                  <a:lnTo>
                    <a:pt x="155" y="10"/>
                  </a:lnTo>
                  <a:lnTo>
                    <a:pt x="165" y="15"/>
                  </a:lnTo>
                  <a:lnTo>
                    <a:pt x="175" y="21"/>
                  </a:lnTo>
                  <a:lnTo>
                    <a:pt x="184" y="29"/>
                  </a:lnTo>
                  <a:lnTo>
                    <a:pt x="191" y="37"/>
                  </a:lnTo>
                  <a:lnTo>
                    <a:pt x="198" y="46"/>
                  </a:lnTo>
                  <a:lnTo>
                    <a:pt x="205" y="55"/>
                  </a:lnTo>
                  <a:lnTo>
                    <a:pt x="210" y="66"/>
                  </a:lnTo>
                  <a:lnTo>
                    <a:pt x="215" y="76"/>
                  </a:lnTo>
                  <a:lnTo>
                    <a:pt x="218" y="88"/>
                  </a:lnTo>
                  <a:lnTo>
                    <a:pt x="222" y="99"/>
                  </a:lnTo>
                  <a:lnTo>
                    <a:pt x="223" y="112"/>
                  </a:lnTo>
                  <a:lnTo>
                    <a:pt x="223" y="124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3929040" y="5219640"/>
              <a:ext cx="52560" cy="4464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31" y="56"/>
                  </a:moveTo>
                  <a:lnTo>
                    <a:pt x="131" y="62"/>
                  </a:lnTo>
                  <a:lnTo>
                    <a:pt x="130" y="67"/>
                  </a:lnTo>
                  <a:lnTo>
                    <a:pt x="128" y="72"/>
                  </a:lnTo>
                  <a:lnTo>
                    <a:pt x="126" y="77"/>
                  </a:lnTo>
                  <a:lnTo>
                    <a:pt x="120" y="87"/>
                  </a:lnTo>
                  <a:lnTo>
                    <a:pt x="112" y="96"/>
                  </a:lnTo>
                  <a:lnTo>
                    <a:pt x="102" y="102"/>
                  </a:lnTo>
                  <a:lnTo>
                    <a:pt x="91" y="108"/>
                  </a:lnTo>
                  <a:lnTo>
                    <a:pt x="79" y="110"/>
                  </a:lnTo>
                  <a:lnTo>
                    <a:pt x="65" y="112"/>
                  </a:lnTo>
                  <a:lnTo>
                    <a:pt x="53" y="110"/>
                  </a:lnTo>
                  <a:lnTo>
                    <a:pt x="40" y="108"/>
                  </a:lnTo>
                  <a:lnTo>
                    <a:pt x="29" y="102"/>
                  </a:lnTo>
                  <a:lnTo>
                    <a:pt x="19" y="96"/>
                  </a:lnTo>
                  <a:lnTo>
                    <a:pt x="12" y="87"/>
                  </a:lnTo>
                  <a:lnTo>
                    <a:pt x="5" y="77"/>
                  </a:lnTo>
                  <a:lnTo>
                    <a:pt x="3" y="72"/>
                  </a:lnTo>
                  <a:lnTo>
                    <a:pt x="2" y="67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2" y="45"/>
                  </a:lnTo>
                  <a:lnTo>
                    <a:pt x="3" y="38"/>
                  </a:lnTo>
                  <a:lnTo>
                    <a:pt x="5" y="33"/>
                  </a:lnTo>
                  <a:lnTo>
                    <a:pt x="12" y="25"/>
                  </a:lnTo>
                  <a:lnTo>
                    <a:pt x="19" y="16"/>
                  </a:lnTo>
                  <a:lnTo>
                    <a:pt x="29" y="9"/>
                  </a:lnTo>
                  <a:lnTo>
                    <a:pt x="40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9" y="1"/>
                  </a:lnTo>
                  <a:lnTo>
                    <a:pt x="91" y="4"/>
                  </a:lnTo>
                  <a:lnTo>
                    <a:pt x="102" y="9"/>
                  </a:lnTo>
                  <a:lnTo>
                    <a:pt x="112" y="16"/>
                  </a:lnTo>
                  <a:lnTo>
                    <a:pt x="120" y="25"/>
                  </a:lnTo>
                  <a:lnTo>
                    <a:pt x="126" y="33"/>
                  </a:lnTo>
                  <a:lnTo>
                    <a:pt x="128" y="38"/>
                  </a:lnTo>
                  <a:lnTo>
                    <a:pt x="130" y="45"/>
                  </a:lnTo>
                  <a:lnTo>
                    <a:pt x="131" y="50"/>
                  </a:lnTo>
                  <a:lnTo>
                    <a:pt x="131" y="56"/>
                  </a:lnTo>
                  <a:close/>
                </a:path>
              </a:pathLst>
            </a:custGeom>
            <a:solidFill>
              <a:srgbClr val="c3d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3765600" y="5365800"/>
              <a:ext cx="88920" cy="98280"/>
            </a:xfrm>
            <a:custGeom>
              <a:avLst/>
              <a:gdLst/>
              <a:ahLst/>
              <a:rect l="l" t="t" r="r" b="b"/>
              <a:pathLst>
                <a:path w="225" h="248">
                  <a:moveTo>
                    <a:pt x="225" y="124"/>
                  </a:moveTo>
                  <a:lnTo>
                    <a:pt x="225" y="136"/>
                  </a:lnTo>
                  <a:lnTo>
                    <a:pt x="222" y="149"/>
                  </a:lnTo>
                  <a:lnTo>
                    <a:pt x="220" y="161"/>
                  </a:lnTo>
                  <a:lnTo>
                    <a:pt x="216" y="172"/>
                  </a:lnTo>
                  <a:lnTo>
                    <a:pt x="211" y="183"/>
                  </a:lnTo>
                  <a:lnTo>
                    <a:pt x="206" y="193"/>
                  </a:lnTo>
                  <a:lnTo>
                    <a:pt x="199" y="203"/>
                  </a:lnTo>
                  <a:lnTo>
                    <a:pt x="192" y="212"/>
                  </a:lnTo>
                  <a:lnTo>
                    <a:pt x="184" y="221"/>
                  </a:lnTo>
                  <a:lnTo>
                    <a:pt x="175" y="227"/>
                  </a:lnTo>
                  <a:lnTo>
                    <a:pt x="166" y="233"/>
                  </a:lnTo>
                  <a:lnTo>
                    <a:pt x="156" y="239"/>
                  </a:lnTo>
                  <a:lnTo>
                    <a:pt x="146" y="243"/>
                  </a:lnTo>
                  <a:lnTo>
                    <a:pt x="135" y="245"/>
                  </a:lnTo>
                  <a:lnTo>
                    <a:pt x="124" y="248"/>
                  </a:lnTo>
                  <a:lnTo>
                    <a:pt x="113" y="248"/>
                  </a:lnTo>
                  <a:lnTo>
                    <a:pt x="101" y="248"/>
                  </a:lnTo>
                  <a:lnTo>
                    <a:pt x="89" y="245"/>
                  </a:lnTo>
                  <a:lnTo>
                    <a:pt x="79" y="243"/>
                  </a:lnTo>
                  <a:lnTo>
                    <a:pt x="68" y="239"/>
                  </a:lnTo>
                  <a:lnTo>
                    <a:pt x="60" y="233"/>
                  </a:lnTo>
                  <a:lnTo>
                    <a:pt x="50" y="227"/>
                  </a:lnTo>
                  <a:lnTo>
                    <a:pt x="41" y="221"/>
                  </a:lnTo>
                  <a:lnTo>
                    <a:pt x="33" y="212"/>
                  </a:lnTo>
                  <a:lnTo>
                    <a:pt x="26" y="203"/>
                  </a:lnTo>
                  <a:lnTo>
                    <a:pt x="20" y="193"/>
                  </a:lnTo>
                  <a:lnTo>
                    <a:pt x="14" y="183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2" y="149"/>
                  </a:lnTo>
                  <a:lnTo>
                    <a:pt x="1" y="136"/>
                  </a:lnTo>
                  <a:lnTo>
                    <a:pt x="0" y="124"/>
                  </a:lnTo>
                  <a:lnTo>
                    <a:pt x="1" y="111"/>
                  </a:lnTo>
                  <a:lnTo>
                    <a:pt x="2" y="99"/>
                  </a:lnTo>
                  <a:lnTo>
                    <a:pt x="5" y="87"/>
                  </a:lnTo>
                  <a:lnTo>
                    <a:pt x="9" y="75"/>
                  </a:lnTo>
                  <a:lnTo>
                    <a:pt x="14" y="64"/>
                  </a:lnTo>
                  <a:lnTo>
                    <a:pt x="20" y="54"/>
                  </a:lnTo>
                  <a:lnTo>
                    <a:pt x="26" y="44"/>
                  </a:lnTo>
                  <a:lnTo>
                    <a:pt x="33" y="36"/>
                  </a:lnTo>
                  <a:lnTo>
                    <a:pt x="41" y="28"/>
                  </a:lnTo>
                  <a:lnTo>
                    <a:pt x="50" y="21"/>
                  </a:lnTo>
                  <a:lnTo>
                    <a:pt x="60" y="15"/>
                  </a:lnTo>
                  <a:lnTo>
                    <a:pt x="68" y="8"/>
                  </a:lnTo>
                  <a:lnTo>
                    <a:pt x="79" y="5"/>
                  </a:lnTo>
                  <a:lnTo>
                    <a:pt x="89" y="2"/>
                  </a:lnTo>
                  <a:lnTo>
                    <a:pt x="101" y="0"/>
                  </a:lnTo>
                  <a:lnTo>
                    <a:pt x="113" y="0"/>
                  </a:lnTo>
                  <a:lnTo>
                    <a:pt x="124" y="0"/>
                  </a:lnTo>
                  <a:lnTo>
                    <a:pt x="135" y="2"/>
                  </a:lnTo>
                  <a:lnTo>
                    <a:pt x="146" y="5"/>
                  </a:lnTo>
                  <a:lnTo>
                    <a:pt x="156" y="8"/>
                  </a:lnTo>
                  <a:lnTo>
                    <a:pt x="166" y="15"/>
                  </a:lnTo>
                  <a:lnTo>
                    <a:pt x="175" y="21"/>
                  </a:lnTo>
                  <a:lnTo>
                    <a:pt x="184" y="28"/>
                  </a:lnTo>
                  <a:lnTo>
                    <a:pt x="192" y="36"/>
                  </a:lnTo>
                  <a:lnTo>
                    <a:pt x="199" y="44"/>
                  </a:lnTo>
                  <a:lnTo>
                    <a:pt x="206" y="54"/>
                  </a:lnTo>
                  <a:lnTo>
                    <a:pt x="211" y="64"/>
                  </a:lnTo>
                  <a:lnTo>
                    <a:pt x="216" y="75"/>
                  </a:lnTo>
                  <a:lnTo>
                    <a:pt x="220" y="87"/>
                  </a:lnTo>
                  <a:lnTo>
                    <a:pt x="222" y="99"/>
                  </a:lnTo>
                  <a:lnTo>
                    <a:pt x="225" y="111"/>
                  </a:lnTo>
                  <a:lnTo>
                    <a:pt x="225" y="124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3781440" y="5369040"/>
              <a:ext cx="52200" cy="4428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31" y="56"/>
                  </a:moveTo>
                  <a:lnTo>
                    <a:pt x="130" y="62"/>
                  </a:lnTo>
                  <a:lnTo>
                    <a:pt x="129" y="67"/>
                  </a:lnTo>
                  <a:lnTo>
                    <a:pt x="128" y="74"/>
                  </a:lnTo>
                  <a:lnTo>
                    <a:pt x="125" y="79"/>
                  </a:lnTo>
                  <a:lnTo>
                    <a:pt x="119" y="88"/>
                  </a:lnTo>
                  <a:lnTo>
                    <a:pt x="111" y="96"/>
                  </a:lnTo>
                  <a:lnTo>
                    <a:pt x="102" y="103"/>
                  </a:lnTo>
                  <a:lnTo>
                    <a:pt x="90" y="108"/>
                  </a:lnTo>
                  <a:lnTo>
                    <a:pt x="79" y="112"/>
                  </a:lnTo>
                  <a:lnTo>
                    <a:pt x="66" y="112"/>
                  </a:lnTo>
                  <a:lnTo>
                    <a:pt x="52" y="112"/>
                  </a:lnTo>
                  <a:lnTo>
                    <a:pt x="41" y="108"/>
                  </a:lnTo>
                  <a:lnTo>
                    <a:pt x="30" y="103"/>
                  </a:lnTo>
                  <a:lnTo>
                    <a:pt x="20" y="96"/>
                  </a:lnTo>
                  <a:lnTo>
                    <a:pt x="11" y="88"/>
                  </a:lnTo>
                  <a:lnTo>
                    <a:pt x="6" y="79"/>
                  </a:lnTo>
                  <a:lnTo>
                    <a:pt x="3" y="74"/>
                  </a:lnTo>
                  <a:lnTo>
                    <a:pt x="1" y="67"/>
                  </a:lnTo>
                  <a:lnTo>
                    <a:pt x="1" y="62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3" y="40"/>
                  </a:lnTo>
                  <a:lnTo>
                    <a:pt x="6" y="35"/>
                  </a:lnTo>
                  <a:lnTo>
                    <a:pt x="11" y="25"/>
                  </a:lnTo>
                  <a:lnTo>
                    <a:pt x="20" y="17"/>
                  </a:lnTo>
                  <a:lnTo>
                    <a:pt x="30" y="10"/>
                  </a:lnTo>
                  <a:lnTo>
                    <a:pt x="41" y="5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79" y="2"/>
                  </a:lnTo>
                  <a:lnTo>
                    <a:pt x="90" y="5"/>
                  </a:lnTo>
                  <a:lnTo>
                    <a:pt x="102" y="10"/>
                  </a:lnTo>
                  <a:lnTo>
                    <a:pt x="111" y="17"/>
                  </a:lnTo>
                  <a:lnTo>
                    <a:pt x="119" y="25"/>
                  </a:lnTo>
                  <a:lnTo>
                    <a:pt x="125" y="35"/>
                  </a:lnTo>
                  <a:lnTo>
                    <a:pt x="128" y="40"/>
                  </a:lnTo>
                  <a:lnTo>
                    <a:pt x="129" y="45"/>
                  </a:lnTo>
                  <a:lnTo>
                    <a:pt x="130" y="51"/>
                  </a:lnTo>
                  <a:lnTo>
                    <a:pt x="131" y="56"/>
                  </a:lnTo>
                  <a:close/>
                </a:path>
              </a:pathLst>
            </a:custGeom>
            <a:solidFill>
              <a:srgbClr val="c3d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3754440" y="5214960"/>
              <a:ext cx="66600" cy="73080"/>
            </a:xfrm>
            <a:custGeom>
              <a:avLst/>
              <a:gdLst/>
              <a:ahLst/>
              <a:rect l="l" t="t" r="r" b="b"/>
              <a:pathLst>
                <a:path w="166" h="185">
                  <a:moveTo>
                    <a:pt x="166" y="92"/>
                  </a:moveTo>
                  <a:lnTo>
                    <a:pt x="166" y="102"/>
                  </a:lnTo>
                  <a:lnTo>
                    <a:pt x="165" y="112"/>
                  </a:lnTo>
                  <a:lnTo>
                    <a:pt x="162" y="120"/>
                  </a:lnTo>
                  <a:lnTo>
                    <a:pt x="160" y="129"/>
                  </a:lnTo>
                  <a:lnTo>
                    <a:pt x="156" y="137"/>
                  </a:lnTo>
                  <a:lnTo>
                    <a:pt x="152" y="144"/>
                  </a:lnTo>
                  <a:lnTo>
                    <a:pt x="147" y="151"/>
                  </a:lnTo>
                  <a:lnTo>
                    <a:pt x="141" y="158"/>
                  </a:lnTo>
                  <a:lnTo>
                    <a:pt x="136" y="164"/>
                  </a:lnTo>
                  <a:lnTo>
                    <a:pt x="130" y="169"/>
                  </a:lnTo>
                  <a:lnTo>
                    <a:pt x="123" y="174"/>
                  </a:lnTo>
                  <a:lnTo>
                    <a:pt x="115" y="177"/>
                  </a:lnTo>
                  <a:lnTo>
                    <a:pt x="108" y="181"/>
                  </a:lnTo>
                  <a:lnTo>
                    <a:pt x="100" y="182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74" y="185"/>
                  </a:lnTo>
                  <a:lnTo>
                    <a:pt x="67" y="182"/>
                  </a:lnTo>
                  <a:lnTo>
                    <a:pt x="58" y="181"/>
                  </a:lnTo>
                  <a:lnTo>
                    <a:pt x="51" y="177"/>
                  </a:lnTo>
                  <a:lnTo>
                    <a:pt x="43" y="174"/>
                  </a:lnTo>
                  <a:lnTo>
                    <a:pt x="37" y="169"/>
                  </a:lnTo>
                  <a:lnTo>
                    <a:pt x="29" y="164"/>
                  </a:lnTo>
                  <a:lnTo>
                    <a:pt x="24" y="158"/>
                  </a:lnTo>
                  <a:lnTo>
                    <a:pt x="18" y="151"/>
                  </a:lnTo>
                  <a:lnTo>
                    <a:pt x="13" y="144"/>
                  </a:lnTo>
                  <a:lnTo>
                    <a:pt x="10" y="137"/>
                  </a:lnTo>
                  <a:lnTo>
                    <a:pt x="6" y="129"/>
                  </a:lnTo>
                  <a:lnTo>
                    <a:pt x="3" y="120"/>
                  </a:lnTo>
                  <a:lnTo>
                    <a:pt x="1" y="112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1" y="74"/>
                  </a:lnTo>
                  <a:lnTo>
                    <a:pt x="3" y="65"/>
                  </a:lnTo>
                  <a:lnTo>
                    <a:pt x="6" y="57"/>
                  </a:lnTo>
                  <a:lnTo>
                    <a:pt x="10" y="48"/>
                  </a:lnTo>
                  <a:lnTo>
                    <a:pt x="13" y="41"/>
                  </a:lnTo>
                  <a:lnTo>
                    <a:pt x="18" y="34"/>
                  </a:lnTo>
                  <a:lnTo>
                    <a:pt x="24" y="27"/>
                  </a:lnTo>
                  <a:lnTo>
                    <a:pt x="29" y="21"/>
                  </a:lnTo>
                  <a:lnTo>
                    <a:pt x="37" y="16"/>
                  </a:lnTo>
                  <a:lnTo>
                    <a:pt x="43" y="11"/>
                  </a:lnTo>
                  <a:lnTo>
                    <a:pt x="51" y="7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4" y="1"/>
                  </a:lnTo>
                  <a:lnTo>
                    <a:pt x="83" y="0"/>
                  </a:lnTo>
                  <a:lnTo>
                    <a:pt x="92" y="1"/>
                  </a:lnTo>
                  <a:lnTo>
                    <a:pt x="100" y="3"/>
                  </a:lnTo>
                  <a:lnTo>
                    <a:pt x="108" y="5"/>
                  </a:lnTo>
                  <a:lnTo>
                    <a:pt x="115" y="7"/>
                  </a:lnTo>
                  <a:lnTo>
                    <a:pt x="123" y="11"/>
                  </a:lnTo>
                  <a:lnTo>
                    <a:pt x="130" y="16"/>
                  </a:lnTo>
                  <a:lnTo>
                    <a:pt x="136" y="21"/>
                  </a:lnTo>
                  <a:lnTo>
                    <a:pt x="141" y="27"/>
                  </a:lnTo>
                  <a:lnTo>
                    <a:pt x="147" y="34"/>
                  </a:lnTo>
                  <a:lnTo>
                    <a:pt x="152" y="41"/>
                  </a:lnTo>
                  <a:lnTo>
                    <a:pt x="156" y="48"/>
                  </a:lnTo>
                  <a:lnTo>
                    <a:pt x="160" y="57"/>
                  </a:lnTo>
                  <a:lnTo>
                    <a:pt x="162" y="65"/>
                  </a:lnTo>
                  <a:lnTo>
                    <a:pt x="165" y="74"/>
                  </a:lnTo>
                  <a:lnTo>
                    <a:pt x="166" y="83"/>
                  </a:lnTo>
                  <a:lnTo>
                    <a:pt x="166" y="92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3765600" y="5218200"/>
              <a:ext cx="39600" cy="3312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97" y="41"/>
                  </a:moveTo>
                  <a:lnTo>
                    <a:pt x="96" y="50"/>
                  </a:lnTo>
                  <a:lnTo>
                    <a:pt x="94" y="58"/>
                  </a:lnTo>
                  <a:lnTo>
                    <a:pt x="89" y="65"/>
                  </a:lnTo>
                  <a:lnTo>
                    <a:pt x="82" y="71"/>
                  </a:lnTo>
                  <a:lnTo>
                    <a:pt x="76" y="76"/>
                  </a:lnTo>
                  <a:lnTo>
                    <a:pt x="68" y="80"/>
                  </a:lnTo>
                  <a:lnTo>
                    <a:pt x="59" y="82"/>
                  </a:lnTo>
                  <a:lnTo>
                    <a:pt x="49" y="84"/>
                  </a:lnTo>
                  <a:lnTo>
                    <a:pt x="39" y="82"/>
                  </a:lnTo>
                  <a:lnTo>
                    <a:pt x="30" y="80"/>
                  </a:lnTo>
                  <a:lnTo>
                    <a:pt x="22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4" y="58"/>
                  </a:lnTo>
                  <a:lnTo>
                    <a:pt x="2" y="50"/>
                  </a:lnTo>
                  <a:lnTo>
                    <a:pt x="0" y="41"/>
                  </a:lnTo>
                  <a:lnTo>
                    <a:pt x="2" y="34"/>
                  </a:lnTo>
                  <a:lnTo>
                    <a:pt x="4" y="25"/>
                  </a:lnTo>
                  <a:lnTo>
                    <a:pt x="9" y="19"/>
                  </a:lnTo>
                  <a:lnTo>
                    <a:pt x="14" y="13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8" y="3"/>
                  </a:lnTo>
                  <a:lnTo>
                    <a:pt x="76" y="7"/>
                  </a:lnTo>
                  <a:lnTo>
                    <a:pt x="82" y="13"/>
                  </a:lnTo>
                  <a:lnTo>
                    <a:pt x="89" y="19"/>
                  </a:lnTo>
                  <a:lnTo>
                    <a:pt x="94" y="25"/>
                  </a:lnTo>
                  <a:lnTo>
                    <a:pt x="96" y="34"/>
                  </a:lnTo>
                  <a:lnTo>
                    <a:pt x="97" y="41"/>
                  </a:lnTo>
                  <a:close/>
                </a:path>
              </a:pathLst>
            </a:custGeom>
            <a:solidFill>
              <a:srgbClr val="c3d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3843360" y="5292720"/>
              <a:ext cx="65160" cy="73080"/>
            </a:xfrm>
            <a:custGeom>
              <a:avLst/>
              <a:gdLst/>
              <a:ahLst/>
              <a:rect l="l" t="t" r="r" b="b"/>
              <a:pathLst>
                <a:path w="166" h="184">
                  <a:moveTo>
                    <a:pt x="166" y="93"/>
                  </a:moveTo>
                  <a:lnTo>
                    <a:pt x="166" y="101"/>
                  </a:lnTo>
                  <a:lnTo>
                    <a:pt x="164" y="111"/>
                  </a:lnTo>
                  <a:lnTo>
                    <a:pt x="162" y="120"/>
                  </a:lnTo>
                  <a:lnTo>
                    <a:pt x="159" y="129"/>
                  </a:lnTo>
                  <a:lnTo>
                    <a:pt x="156" y="136"/>
                  </a:lnTo>
                  <a:lnTo>
                    <a:pt x="152" y="144"/>
                  </a:lnTo>
                  <a:lnTo>
                    <a:pt x="147" y="151"/>
                  </a:lnTo>
                  <a:lnTo>
                    <a:pt x="142" y="157"/>
                  </a:lnTo>
                  <a:lnTo>
                    <a:pt x="136" y="163"/>
                  </a:lnTo>
                  <a:lnTo>
                    <a:pt x="130" y="170"/>
                  </a:lnTo>
                  <a:lnTo>
                    <a:pt x="122" y="173"/>
                  </a:lnTo>
                  <a:lnTo>
                    <a:pt x="115" y="177"/>
                  </a:lnTo>
                  <a:lnTo>
                    <a:pt x="107" y="181"/>
                  </a:lnTo>
                  <a:lnTo>
                    <a:pt x="100" y="183"/>
                  </a:lnTo>
                  <a:lnTo>
                    <a:pt x="91" y="184"/>
                  </a:lnTo>
                  <a:lnTo>
                    <a:pt x="82" y="184"/>
                  </a:lnTo>
                  <a:lnTo>
                    <a:pt x="75" y="184"/>
                  </a:lnTo>
                  <a:lnTo>
                    <a:pt x="66" y="183"/>
                  </a:lnTo>
                  <a:lnTo>
                    <a:pt x="58" y="181"/>
                  </a:lnTo>
                  <a:lnTo>
                    <a:pt x="50" y="177"/>
                  </a:lnTo>
                  <a:lnTo>
                    <a:pt x="43" y="173"/>
                  </a:lnTo>
                  <a:lnTo>
                    <a:pt x="36" y="170"/>
                  </a:lnTo>
                  <a:lnTo>
                    <a:pt x="30" y="163"/>
                  </a:lnTo>
                  <a:lnTo>
                    <a:pt x="24" y="157"/>
                  </a:lnTo>
                  <a:lnTo>
                    <a:pt x="19" y="151"/>
                  </a:lnTo>
                  <a:lnTo>
                    <a:pt x="14" y="144"/>
                  </a:lnTo>
                  <a:lnTo>
                    <a:pt x="10" y="136"/>
                  </a:lnTo>
                  <a:lnTo>
                    <a:pt x="7" y="129"/>
                  </a:lnTo>
                  <a:lnTo>
                    <a:pt x="3" y="120"/>
                  </a:lnTo>
                  <a:lnTo>
                    <a:pt x="2" y="111"/>
                  </a:lnTo>
                  <a:lnTo>
                    <a:pt x="0" y="101"/>
                  </a:lnTo>
                  <a:lnTo>
                    <a:pt x="0" y="93"/>
                  </a:lnTo>
                  <a:lnTo>
                    <a:pt x="0" y="83"/>
                  </a:lnTo>
                  <a:lnTo>
                    <a:pt x="2" y="74"/>
                  </a:lnTo>
                  <a:lnTo>
                    <a:pt x="3" y="65"/>
                  </a:lnTo>
                  <a:lnTo>
                    <a:pt x="7" y="57"/>
                  </a:lnTo>
                  <a:lnTo>
                    <a:pt x="10" y="48"/>
                  </a:lnTo>
                  <a:lnTo>
                    <a:pt x="14" y="41"/>
                  </a:lnTo>
                  <a:lnTo>
                    <a:pt x="19" y="33"/>
                  </a:lnTo>
                  <a:lnTo>
                    <a:pt x="24" y="27"/>
                  </a:lnTo>
                  <a:lnTo>
                    <a:pt x="30" y="21"/>
                  </a:lnTo>
                  <a:lnTo>
                    <a:pt x="36" y="16"/>
                  </a:lnTo>
                  <a:lnTo>
                    <a:pt x="43" y="11"/>
                  </a:lnTo>
                  <a:lnTo>
                    <a:pt x="50" y="7"/>
                  </a:lnTo>
                  <a:lnTo>
                    <a:pt x="58" y="5"/>
                  </a:lnTo>
                  <a:lnTo>
                    <a:pt x="66" y="2"/>
                  </a:lnTo>
                  <a:lnTo>
                    <a:pt x="75" y="1"/>
                  </a:lnTo>
                  <a:lnTo>
                    <a:pt x="82" y="0"/>
                  </a:lnTo>
                  <a:lnTo>
                    <a:pt x="91" y="1"/>
                  </a:lnTo>
                  <a:lnTo>
                    <a:pt x="100" y="2"/>
                  </a:lnTo>
                  <a:lnTo>
                    <a:pt x="107" y="5"/>
                  </a:lnTo>
                  <a:lnTo>
                    <a:pt x="115" y="7"/>
                  </a:lnTo>
                  <a:lnTo>
                    <a:pt x="122" y="11"/>
                  </a:lnTo>
                  <a:lnTo>
                    <a:pt x="130" y="16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7" y="33"/>
                  </a:lnTo>
                  <a:lnTo>
                    <a:pt x="152" y="41"/>
                  </a:lnTo>
                  <a:lnTo>
                    <a:pt x="156" y="48"/>
                  </a:lnTo>
                  <a:lnTo>
                    <a:pt x="159" y="57"/>
                  </a:lnTo>
                  <a:lnTo>
                    <a:pt x="162" y="65"/>
                  </a:lnTo>
                  <a:lnTo>
                    <a:pt x="164" y="74"/>
                  </a:lnTo>
                  <a:lnTo>
                    <a:pt x="166" y="83"/>
                  </a:lnTo>
                  <a:lnTo>
                    <a:pt x="166" y="93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3854520" y="5295960"/>
              <a:ext cx="38160" cy="3168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97" y="41"/>
                  </a:moveTo>
                  <a:lnTo>
                    <a:pt x="96" y="50"/>
                  </a:lnTo>
                  <a:lnTo>
                    <a:pt x="93" y="58"/>
                  </a:lnTo>
                  <a:lnTo>
                    <a:pt x="88" y="65"/>
                  </a:lnTo>
                  <a:lnTo>
                    <a:pt x="83" y="71"/>
                  </a:lnTo>
                  <a:lnTo>
                    <a:pt x="76" y="76"/>
                  </a:lnTo>
                  <a:lnTo>
                    <a:pt x="67" y="79"/>
                  </a:lnTo>
                  <a:lnTo>
                    <a:pt x="58" y="82"/>
                  </a:lnTo>
                  <a:lnTo>
                    <a:pt x="48" y="83"/>
                  </a:lnTo>
                  <a:lnTo>
                    <a:pt x="38" y="82"/>
                  </a:lnTo>
                  <a:lnTo>
                    <a:pt x="30" y="79"/>
                  </a:lnTo>
                  <a:lnTo>
                    <a:pt x="21" y="76"/>
                  </a:lnTo>
                  <a:lnTo>
                    <a:pt x="15" y="71"/>
                  </a:lnTo>
                  <a:lnTo>
                    <a:pt x="9" y="65"/>
                  </a:lnTo>
                  <a:lnTo>
                    <a:pt x="4" y="58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4" y="25"/>
                  </a:lnTo>
                  <a:lnTo>
                    <a:pt x="9" y="19"/>
                  </a:lnTo>
                  <a:lnTo>
                    <a:pt x="15" y="12"/>
                  </a:lnTo>
                  <a:lnTo>
                    <a:pt x="21" y="7"/>
                  </a:lnTo>
                  <a:lnTo>
                    <a:pt x="30" y="4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7" y="4"/>
                  </a:lnTo>
                  <a:lnTo>
                    <a:pt x="76" y="7"/>
                  </a:lnTo>
                  <a:lnTo>
                    <a:pt x="83" y="12"/>
                  </a:lnTo>
                  <a:lnTo>
                    <a:pt x="88" y="19"/>
                  </a:lnTo>
                  <a:lnTo>
                    <a:pt x="93" y="25"/>
                  </a:lnTo>
                  <a:lnTo>
                    <a:pt x="96" y="34"/>
                  </a:lnTo>
                  <a:lnTo>
                    <a:pt x="97" y="41"/>
                  </a:lnTo>
                  <a:close/>
                </a:path>
              </a:pathLst>
            </a:custGeom>
            <a:solidFill>
              <a:srgbClr val="c3d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3970440" y="5327640"/>
              <a:ext cx="65160" cy="74520"/>
            </a:xfrm>
            <a:custGeom>
              <a:avLst/>
              <a:gdLst/>
              <a:ahLst/>
              <a:rect l="l" t="t" r="r" b="b"/>
              <a:pathLst>
                <a:path w="165" h="185">
                  <a:moveTo>
                    <a:pt x="165" y="93"/>
                  </a:moveTo>
                  <a:lnTo>
                    <a:pt x="165" y="102"/>
                  </a:lnTo>
                  <a:lnTo>
                    <a:pt x="164" y="112"/>
                  </a:lnTo>
                  <a:lnTo>
                    <a:pt x="162" y="121"/>
                  </a:lnTo>
                  <a:lnTo>
                    <a:pt x="159" y="129"/>
                  </a:lnTo>
                  <a:lnTo>
                    <a:pt x="156" y="137"/>
                  </a:lnTo>
                  <a:lnTo>
                    <a:pt x="152" y="144"/>
                  </a:lnTo>
                  <a:lnTo>
                    <a:pt x="147" y="152"/>
                  </a:lnTo>
                  <a:lnTo>
                    <a:pt x="142" y="158"/>
                  </a:lnTo>
                  <a:lnTo>
                    <a:pt x="136" y="164"/>
                  </a:lnTo>
                  <a:lnTo>
                    <a:pt x="129" y="169"/>
                  </a:lnTo>
                  <a:lnTo>
                    <a:pt x="122" y="174"/>
                  </a:lnTo>
                  <a:lnTo>
                    <a:pt x="116" y="178"/>
                  </a:lnTo>
                  <a:lnTo>
                    <a:pt x="107" y="181"/>
                  </a:lnTo>
                  <a:lnTo>
                    <a:pt x="100" y="184"/>
                  </a:lnTo>
                  <a:lnTo>
                    <a:pt x="91" y="185"/>
                  </a:lnTo>
                  <a:lnTo>
                    <a:pt x="82" y="185"/>
                  </a:lnTo>
                  <a:lnTo>
                    <a:pt x="75" y="185"/>
                  </a:lnTo>
                  <a:lnTo>
                    <a:pt x="66" y="184"/>
                  </a:lnTo>
                  <a:lnTo>
                    <a:pt x="59" y="181"/>
                  </a:lnTo>
                  <a:lnTo>
                    <a:pt x="50" y="178"/>
                  </a:lnTo>
                  <a:lnTo>
                    <a:pt x="44" y="174"/>
                  </a:lnTo>
                  <a:lnTo>
                    <a:pt x="36" y="169"/>
                  </a:lnTo>
                  <a:lnTo>
                    <a:pt x="30" y="164"/>
                  </a:lnTo>
                  <a:lnTo>
                    <a:pt x="24" y="158"/>
                  </a:lnTo>
                  <a:lnTo>
                    <a:pt x="19" y="152"/>
                  </a:lnTo>
                  <a:lnTo>
                    <a:pt x="14" y="144"/>
                  </a:lnTo>
                  <a:lnTo>
                    <a:pt x="10" y="137"/>
                  </a:lnTo>
                  <a:lnTo>
                    <a:pt x="7" y="129"/>
                  </a:lnTo>
                  <a:lnTo>
                    <a:pt x="4" y="121"/>
                  </a:lnTo>
                  <a:lnTo>
                    <a:pt x="2" y="112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3"/>
                  </a:lnTo>
                  <a:lnTo>
                    <a:pt x="2" y="75"/>
                  </a:lnTo>
                  <a:lnTo>
                    <a:pt x="4" y="66"/>
                  </a:lnTo>
                  <a:lnTo>
                    <a:pt x="7" y="57"/>
                  </a:lnTo>
                  <a:lnTo>
                    <a:pt x="10" y="49"/>
                  </a:lnTo>
                  <a:lnTo>
                    <a:pt x="14" y="41"/>
                  </a:lnTo>
                  <a:lnTo>
                    <a:pt x="19" y="34"/>
                  </a:lnTo>
                  <a:lnTo>
                    <a:pt x="24" y="27"/>
                  </a:lnTo>
                  <a:lnTo>
                    <a:pt x="30" y="21"/>
                  </a:lnTo>
                  <a:lnTo>
                    <a:pt x="36" y="16"/>
                  </a:lnTo>
                  <a:lnTo>
                    <a:pt x="44" y="11"/>
                  </a:lnTo>
                  <a:lnTo>
                    <a:pt x="50" y="8"/>
                  </a:lnTo>
                  <a:lnTo>
                    <a:pt x="59" y="5"/>
                  </a:lnTo>
                  <a:lnTo>
                    <a:pt x="66" y="3"/>
                  </a:lnTo>
                  <a:lnTo>
                    <a:pt x="75" y="1"/>
                  </a:lnTo>
                  <a:lnTo>
                    <a:pt x="82" y="0"/>
                  </a:lnTo>
                  <a:lnTo>
                    <a:pt x="91" y="1"/>
                  </a:lnTo>
                  <a:lnTo>
                    <a:pt x="100" y="3"/>
                  </a:lnTo>
                  <a:lnTo>
                    <a:pt x="107" y="5"/>
                  </a:lnTo>
                  <a:lnTo>
                    <a:pt x="116" y="8"/>
                  </a:lnTo>
                  <a:lnTo>
                    <a:pt x="122" y="11"/>
                  </a:lnTo>
                  <a:lnTo>
                    <a:pt x="129" y="16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7" y="34"/>
                  </a:lnTo>
                  <a:lnTo>
                    <a:pt x="152" y="41"/>
                  </a:lnTo>
                  <a:lnTo>
                    <a:pt x="156" y="49"/>
                  </a:lnTo>
                  <a:lnTo>
                    <a:pt x="159" y="57"/>
                  </a:lnTo>
                  <a:lnTo>
                    <a:pt x="162" y="66"/>
                  </a:lnTo>
                  <a:lnTo>
                    <a:pt x="164" y="75"/>
                  </a:lnTo>
                  <a:lnTo>
                    <a:pt x="165" y="83"/>
                  </a:lnTo>
                  <a:lnTo>
                    <a:pt x="165" y="93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3981600" y="5330880"/>
              <a:ext cx="37800" cy="3312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97" y="41"/>
                  </a:moveTo>
                  <a:lnTo>
                    <a:pt x="95" y="49"/>
                  </a:lnTo>
                  <a:lnTo>
                    <a:pt x="93" y="57"/>
                  </a:lnTo>
                  <a:lnTo>
                    <a:pt x="89" y="64"/>
                  </a:lnTo>
                  <a:lnTo>
                    <a:pt x="83" y="70"/>
                  </a:lnTo>
                  <a:lnTo>
                    <a:pt x="76" y="75"/>
                  </a:lnTo>
                  <a:lnTo>
                    <a:pt x="67" y="79"/>
                  </a:lnTo>
                  <a:lnTo>
                    <a:pt x="58" y="81"/>
                  </a:lnTo>
                  <a:lnTo>
                    <a:pt x="48" y="83"/>
                  </a:lnTo>
                  <a:lnTo>
                    <a:pt x="38" y="81"/>
                  </a:lnTo>
                  <a:lnTo>
                    <a:pt x="30" y="79"/>
                  </a:lnTo>
                  <a:lnTo>
                    <a:pt x="21" y="75"/>
                  </a:lnTo>
                  <a:lnTo>
                    <a:pt x="15" y="70"/>
                  </a:lnTo>
                  <a:lnTo>
                    <a:pt x="9" y="64"/>
                  </a:lnTo>
                  <a:lnTo>
                    <a:pt x="4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4" y="24"/>
                  </a:lnTo>
                  <a:lnTo>
                    <a:pt x="9" y="18"/>
                  </a:lnTo>
                  <a:lnTo>
                    <a:pt x="15" y="12"/>
                  </a:lnTo>
                  <a:lnTo>
                    <a:pt x="21" y="7"/>
                  </a:lnTo>
                  <a:lnTo>
                    <a:pt x="30" y="3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76" y="7"/>
                  </a:lnTo>
                  <a:lnTo>
                    <a:pt x="83" y="12"/>
                  </a:lnTo>
                  <a:lnTo>
                    <a:pt x="89" y="18"/>
                  </a:lnTo>
                  <a:lnTo>
                    <a:pt x="93" y="24"/>
                  </a:lnTo>
                  <a:lnTo>
                    <a:pt x="95" y="33"/>
                  </a:lnTo>
                  <a:lnTo>
                    <a:pt x="97" y="41"/>
                  </a:lnTo>
                  <a:close/>
                </a:path>
              </a:pathLst>
            </a:custGeom>
            <a:solidFill>
              <a:srgbClr val="c3d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3828960" y="5122800"/>
              <a:ext cx="77760" cy="87480"/>
            </a:xfrm>
            <a:custGeom>
              <a:avLst/>
              <a:gdLst/>
              <a:ahLst/>
              <a:rect l="l" t="t" r="r" b="b"/>
              <a:pathLst>
                <a:path w="198" h="218">
                  <a:moveTo>
                    <a:pt x="198" y="109"/>
                  </a:moveTo>
                  <a:lnTo>
                    <a:pt x="196" y="120"/>
                  </a:lnTo>
                  <a:lnTo>
                    <a:pt x="195" y="131"/>
                  </a:lnTo>
                  <a:lnTo>
                    <a:pt x="193" y="141"/>
                  </a:lnTo>
                  <a:lnTo>
                    <a:pt x="190" y="151"/>
                  </a:lnTo>
                  <a:lnTo>
                    <a:pt x="185" y="161"/>
                  </a:lnTo>
                  <a:lnTo>
                    <a:pt x="180" y="170"/>
                  </a:lnTo>
                  <a:lnTo>
                    <a:pt x="175" y="178"/>
                  </a:lnTo>
                  <a:lnTo>
                    <a:pt x="168" y="186"/>
                  </a:lnTo>
                  <a:lnTo>
                    <a:pt x="162" y="193"/>
                  </a:lnTo>
                  <a:lnTo>
                    <a:pt x="154" y="200"/>
                  </a:lnTo>
                  <a:lnTo>
                    <a:pt x="145" y="206"/>
                  </a:lnTo>
                  <a:lnTo>
                    <a:pt x="137" y="209"/>
                  </a:lnTo>
                  <a:lnTo>
                    <a:pt x="128" y="213"/>
                  </a:lnTo>
                  <a:lnTo>
                    <a:pt x="118" y="217"/>
                  </a:lnTo>
                  <a:lnTo>
                    <a:pt x="108" y="218"/>
                  </a:lnTo>
                  <a:lnTo>
                    <a:pt x="98" y="218"/>
                  </a:lnTo>
                  <a:lnTo>
                    <a:pt x="88" y="218"/>
                  </a:lnTo>
                  <a:lnTo>
                    <a:pt x="78" y="217"/>
                  </a:lnTo>
                  <a:lnTo>
                    <a:pt x="70" y="213"/>
                  </a:lnTo>
                  <a:lnTo>
                    <a:pt x="60" y="209"/>
                  </a:lnTo>
                  <a:lnTo>
                    <a:pt x="51" y="206"/>
                  </a:lnTo>
                  <a:lnTo>
                    <a:pt x="44" y="200"/>
                  </a:lnTo>
                  <a:lnTo>
                    <a:pt x="36" y="193"/>
                  </a:lnTo>
                  <a:lnTo>
                    <a:pt x="29" y="186"/>
                  </a:lnTo>
                  <a:lnTo>
                    <a:pt x="23" y="178"/>
                  </a:lnTo>
                  <a:lnTo>
                    <a:pt x="16" y="170"/>
                  </a:lnTo>
                  <a:lnTo>
                    <a:pt x="11" y="161"/>
                  </a:lnTo>
                  <a:lnTo>
                    <a:pt x="8" y="151"/>
                  </a:lnTo>
                  <a:lnTo>
                    <a:pt x="4" y="141"/>
                  </a:lnTo>
                  <a:lnTo>
                    <a:pt x="1" y="131"/>
                  </a:lnTo>
                  <a:lnTo>
                    <a:pt x="0" y="120"/>
                  </a:lnTo>
                  <a:lnTo>
                    <a:pt x="0" y="109"/>
                  </a:lnTo>
                  <a:lnTo>
                    <a:pt x="0" y="98"/>
                  </a:lnTo>
                  <a:lnTo>
                    <a:pt x="1" y="87"/>
                  </a:lnTo>
                  <a:lnTo>
                    <a:pt x="4" y="77"/>
                  </a:lnTo>
                  <a:lnTo>
                    <a:pt x="8" y="66"/>
                  </a:lnTo>
                  <a:lnTo>
                    <a:pt x="11" y="57"/>
                  </a:lnTo>
                  <a:lnTo>
                    <a:pt x="16" y="48"/>
                  </a:lnTo>
                  <a:lnTo>
                    <a:pt x="23" y="39"/>
                  </a:lnTo>
                  <a:lnTo>
                    <a:pt x="29" y="31"/>
                  </a:lnTo>
                  <a:lnTo>
                    <a:pt x="36" y="25"/>
                  </a:lnTo>
                  <a:lnTo>
                    <a:pt x="44" y="18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70" y="5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18" y="1"/>
                  </a:lnTo>
                  <a:lnTo>
                    <a:pt x="128" y="5"/>
                  </a:lnTo>
                  <a:lnTo>
                    <a:pt x="137" y="8"/>
                  </a:lnTo>
                  <a:lnTo>
                    <a:pt x="145" y="12"/>
                  </a:lnTo>
                  <a:lnTo>
                    <a:pt x="154" y="18"/>
                  </a:lnTo>
                  <a:lnTo>
                    <a:pt x="162" y="25"/>
                  </a:lnTo>
                  <a:lnTo>
                    <a:pt x="168" y="31"/>
                  </a:lnTo>
                  <a:lnTo>
                    <a:pt x="175" y="39"/>
                  </a:lnTo>
                  <a:lnTo>
                    <a:pt x="180" y="48"/>
                  </a:lnTo>
                  <a:lnTo>
                    <a:pt x="185" y="57"/>
                  </a:lnTo>
                  <a:lnTo>
                    <a:pt x="190" y="66"/>
                  </a:lnTo>
                  <a:lnTo>
                    <a:pt x="193" y="77"/>
                  </a:lnTo>
                  <a:lnTo>
                    <a:pt x="195" y="87"/>
                  </a:lnTo>
                  <a:lnTo>
                    <a:pt x="196" y="98"/>
                  </a:lnTo>
                  <a:lnTo>
                    <a:pt x="198" y="109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3841920" y="5126040"/>
              <a:ext cx="45720" cy="39600"/>
            </a:xfrm>
            <a:custGeom>
              <a:avLst/>
              <a:gdLst/>
              <a:ahLst/>
              <a:rect l="l" t="t" r="r" b="b"/>
              <a:pathLst>
                <a:path w="115" h="99">
                  <a:moveTo>
                    <a:pt x="115" y="50"/>
                  </a:moveTo>
                  <a:lnTo>
                    <a:pt x="114" y="60"/>
                  </a:lnTo>
                  <a:lnTo>
                    <a:pt x="110" y="68"/>
                  </a:lnTo>
                  <a:lnTo>
                    <a:pt x="105" y="77"/>
                  </a:lnTo>
                  <a:lnTo>
                    <a:pt x="98" y="85"/>
                  </a:lnTo>
                  <a:lnTo>
                    <a:pt x="89" y="91"/>
                  </a:lnTo>
                  <a:lnTo>
                    <a:pt x="79" y="96"/>
                  </a:lnTo>
                  <a:lnTo>
                    <a:pt x="69" y="98"/>
                  </a:lnTo>
                  <a:lnTo>
                    <a:pt x="57" y="99"/>
                  </a:lnTo>
                  <a:lnTo>
                    <a:pt x="46" y="98"/>
                  </a:lnTo>
                  <a:lnTo>
                    <a:pt x="35" y="96"/>
                  </a:lnTo>
                  <a:lnTo>
                    <a:pt x="25" y="91"/>
                  </a:lnTo>
                  <a:lnTo>
                    <a:pt x="17" y="85"/>
                  </a:lnTo>
                  <a:lnTo>
                    <a:pt x="10" y="77"/>
                  </a:lnTo>
                  <a:lnTo>
                    <a:pt x="5" y="68"/>
                  </a:lnTo>
                  <a:lnTo>
                    <a:pt x="1" y="60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5" y="30"/>
                  </a:lnTo>
                  <a:lnTo>
                    <a:pt x="10" y="23"/>
                  </a:lnTo>
                  <a:lnTo>
                    <a:pt x="17" y="15"/>
                  </a:lnTo>
                  <a:lnTo>
                    <a:pt x="25" y="9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lnTo>
                    <a:pt x="69" y="1"/>
                  </a:lnTo>
                  <a:lnTo>
                    <a:pt x="79" y="4"/>
                  </a:lnTo>
                  <a:lnTo>
                    <a:pt x="89" y="9"/>
                  </a:lnTo>
                  <a:lnTo>
                    <a:pt x="98" y="15"/>
                  </a:lnTo>
                  <a:lnTo>
                    <a:pt x="105" y="23"/>
                  </a:lnTo>
                  <a:lnTo>
                    <a:pt x="110" y="30"/>
                  </a:lnTo>
                  <a:lnTo>
                    <a:pt x="114" y="40"/>
                  </a:lnTo>
                  <a:lnTo>
                    <a:pt x="115" y="50"/>
                  </a:lnTo>
                  <a:close/>
                </a:path>
              </a:pathLst>
            </a:custGeom>
            <a:solidFill>
              <a:srgbClr val="c3d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3776760" y="5357880"/>
              <a:ext cx="385560" cy="299880"/>
            </a:xfrm>
            <a:custGeom>
              <a:avLst/>
              <a:gdLst/>
              <a:ahLst/>
              <a:rect l="l" t="t" r="r" b="b"/>
              <a:pathLst>
                <a:path w="972" h="760">
                  <a:moveTo>
                    <a:pt x="969" y="0"/>
                  </a:moveTo>
                  <a:lnTo>
                    <a:pt x="971" y="18"/>
                  </a:lnTo>
                  <a:lnTo>
                    <a:pt x="972" y="65"/>
                  </a:lnTo>
                  <a:lnTo>
                    <a:pt x="971" y="98"/>
                  </a:lnTo>
                  <a:lnTo>
                    <a:pt x="969" y="137"/>
                  </a:lnTo>
                  <a:lnTo>
                    <a:pt x="968" y="179"/>
                  </a:lnTo>
                  <a:lnTo>
                    <a:pt x="964" y="224"/>
                  </a:lnTo>
                  <a:lnTo>
                    <a:pt x="958" y="271"/>
                  </a:lnTo>
                  <a:lnTo>
                    <a:pt x="951" y="320"/>
                  </a:lnTo>
                  <a:lnTo>
                    <a:pt x="946" y="345"/>
                  </a:lnTo>
                  <a:lnTo>
                    <a:pt x="940" y="370"/>
                  </a:lnTo>
                  <a:lnTo>
                    <a:pt x="935" y="395"/>
                  </a:lnTo>
                  <a:lnTo>
                    <a:pt x="927" y="420"/>
                  </a:lnTo>
                  <a:lnTo>
                    <a:pt x="920" y="445"/>
                  </a:lnTo>
                  <a:lnTo>
                    <a:pt x="911" y="468"/>
                  </a:lnTo>
                  <a:lnTo>
                    <a:pt x="902" y="492"/>
                  </a:lnTo>
                  <a:lnTo>
                    <a:pt x="891" y="514"/>
                  </a:lnTo>
                  <a:lnTo>
                    <a:pt x="880" y="536"/>
                  </a:lnTo>
                  <a:lnTo>
                    <a:pt x="869" y="559"/>
                  </a:lnTo>
                  <a:lnTo>
                    <a:pt x="855" y="579"/>
                  </a:lnTo>
                  <a:lnTo>
                    <a:pt x="841" y="598"/>
                  </a:lnTo>
                  <a:lnTo>
                    <a:pt x="836" y="603"/>
                  </a:lnTo>
                  <a:lnTo>
                    <a:pt x="824" y="617"/>
                  </a:lnTo>
                  <a:lnTo>
                    <a:pt x="804" y="636"/>
                  </a:lnTo>
                  <a:lnTo>
                    <a:pt x="777" y="660"/>
                  </a:lnTo>
                  <a:lnTo>
                    <a:pt x="759" y="673"/>
                  </a:lnTo>
                  <a:lnTo>
                    <a:pt x="742" y="685"/>
                  </a:lnTo>
                  <a:lnTo>
                    <a:pt x="722" y="698"/>
                  </a:lnTo>
                  <a:lnTo>
                    <a:pt x="700" y="710"/>
                  </a:lnTo>
                  <a:lnTo>
                    <a:pt x="678" y="721"/>
                  </a:lnTo>
                  <a:lnTo>
                    <a:pt x="653" y="732"/>
                  </a:lnTo>
                  <a:lnTo>
                    <a:pt x="627" y="741"/>
                  </a:lnTo>
                  <a:lnTo>
                    <a:pt x="599" y="749"/>
                  </a:lnTo>
                  <a:lnTo>
                    <a:pt x="569" y="755"/>
                  </a:lnTo>
                  <a:lnTo>
                    <a:pt x="540" y="758"/>
                  </a:lnTo>
                  <a:lnTo>
                    <a:pt x="509" y="760"/>
                  </a:lnTo>
                  <a:lnTo>
                    <a:pt x="475" y="758"/>
                  </a:lnTo>
                  <a:lnTo>
                    <a:pt x="442" y="753"/>
                  </a:lnTo>
                  <a:lnTo>
                    <a:pt x="406" y="746"/>
                  </a:lnTo>
                  <a:lnTo>
                    <a:pt x="370" y="735"/>
                  </a:lnTo>
                  <a:lnTo>
                    <a:pt x="332" y="720"/>
                  </a:lnTo>
                  <a:lnTo>
                    <a:pt x="294" y="701"/>
                  </a:lnTo>
                  <a:lnTo>
                    <a:pt x="254" y="678"/>
                  </a:lnTo>
                  <a:lnTo>
                    <a:pt x="214" y="650"/>
                  </a:lnTo>
                  <a:lnTo>
                    <a:pt x="172" y="617"/>
                  </a:lnTo>
                  <a:lnTo>
                    <a:pt x="131" y="579"/>
                  </a:lnTo>
                  <a:lnTo>
                    <a:pt x="88" y="535"/>
                  </a:lnTo>
                  <a:lnTo>
                    <a:pt x="44" y="485"/>
                  </a:lnTo>
                  <a:lnTo>
                    <a:pt x="0" y="430"/>
                  </a:lnTo>
                  <a:lnTo>
                    <a:pt x="8" y="430"/>
                  </a:lnTo>
                  <a:lnTo>
                    <a:pt x="32" y="427"/>
                  </a:lnTo>
                  <a:lnTo>
                    <a:pt x="69" y="423"/>
                  </a:lnTo>
                  <a:lnTo>
                    <a:pt x="117" y="417"/>
                  </a:lnTo>
                  <a:lnTo>
                    <a:pt x="177" y="409"/>
                  </a:lnTo>
                  <a:lnTo>
                    <a:pt x="244" y="397"/>
                  </a:lnTo>
                  <a:lnTo>
                    <a:pt x="280" y="390"/>
                  </a:lnTo>
                  <a:lnTo>
                    <a:pt x="317" y="381"/>
                  </a:lnTo>
                  <a:lnTo>
                    <a:pt x="356" y="371"/>
                  </a:lnTo>
                  <a:lnTo>
                    <a:pt x="396" y="361"/>
                  </a:lnTo>
                  <a:lnTo>
                    <a:pt x="435" y="350"/>
                  </a:lnTo>
                  <a:lnTo>
                    <a:pt x="476" y="337"/>
                  </a:lnTo>
                  <a:lnTo>
                    <a:pt x="517" y="323"/>
                  </a:lnTo>
                  <a:lnTo>
                    <a:pt x="557" y="308"/>
                  </a:lnTo>
                  <a:lnTo>
                    <a:pt x="598" y="291"/>
                  </a:lnTo>
                  <a:lnTo>
                    <a:pt x="639" y="273"/>
                  </a:lnTo>
                  <a:lnTo>
                    <a:pt x="679" y="253"/>
                  </a:lnTo>
                  <a:lnTo>
                    <a:pt x="717" y="232"/>
                  </a:lnTo>
                  <a:lnTo>
                    <a:pt x="755" y="209"/>
                  </a:lnTo>
                  <a:lnTo>
                    <a:pt x="792" y="185"/>
                  </a:lnTo>
                  <a:lnTo>
                    <a:pt x="827" y="159"/>
                  </a:lnTo>
                  <a:lnTo>
                    <a:pt x="859" y="131"/>
                  </a:lnTo>
                  <a:lnTo>
                    <a:pt x="890" y="101"/>
                  </a:lnTo>
                  <a:lnTo>
                    <a:pt x="918" y="70"/>
                  </a:lnTo>
                  <a:lnTo>
                    <a:pt x="946" y="36"/>
                  </a:lnTo>
                  <a:lnTo>
                    <a:pt x="9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3762360" y="5343480"/>
              <a:ext cx="414360" cy="328680"/>
            </a:xfrm>
            <a:custGeom>
              <a:avLst/>
              <a:gdLst/>
              <a:ahLst/>
              <a:rect l="l" t="t" r="r" b="b"/>
              <a:pathLst>
                <a:path w="1042" h="832">
                  <a:moveTo>
                    <a:pt x="973" y="18"/>
                  </a:moveTo>
                  <a:lnTo>
                    <a:pt x="951" y="51"/>
                  </a:lnTo>
                  <a:lnTo>
                    <a:pt x="926" y="84"/>
                  </a:lnTo>
                  <a:lnTo>
                    <a:pt x="899" y="113"/>
                  </a:lnTo>
                  <a:lnTo>
                    <a:pt x="869" y="142"/>
                  </a:lnTo>
                  <a:lnTo>
                    <a:pt x="837" y="168"/>
                  </a:lnTo>
                  <a:lnTo>
                    <a:pt x="803" y="193"/>
                  </a:lnTo>
                  <a:lnTo>
                    <a:pt x="768" y="216"/>
                  </a:lnTo>
                  <a:lnTo>
                    <a:pt x="732" y="239"/>
                  </a:lnTo>
                  <a:lnTo>
                    <a:pt x="695" y="258"/>
                  </a:lnTo>
                  <a:lnTo>
                    <a:pt x="657" y="277"/>
                  </a:lnTo>
                  <a:lnTo>
                    <a:pt x="618" y="294"/>
                  </a:lnTo>
                  <a:lnTo>
                    <a:pt x="578" y="311"/>
                  </a:lnTo>
                  <a:lnTo>
                    <a:pt x="539" y="325"/>
                  </a:lnTo>
                  <a:lnTo>
                    <a:pt x="499" y="339"/>
                  </a:lnTo>
                  <a:lnTo>
                    <a:pt x="460" y="352"/>
                  </a:lnTo>
                  <a:lnTo>
                    <a:pt x="422" y="363"/>
                  </a:lnTo>
                  <a:lnTo>
                    <a:pt x="383" y="373"/>
                  </a:lnTo>
                  <a:lnTo>
                    <a:pt x="346" y="381"/>
                  </a:lnTo>
                  <a:lnTo>
                    <a:pt x="309" y="390"/>
                  </a:lnTo>
                  <a:lnTo>
                    <a:pt x="274" y="397"/>
                  </a:lnTo>
                  <a:lnTo>
                    <a:pt x="208" y="409"/>
                  </a:lnTo>
                  <a:lnTo>
                    <a:pt x="151" y="417"/>
                  </a:lnTo>
                  <a:lnTo>
                    <a:pt x="103" y="423"/>
                  </a:lnTo>
                  <a:lnTo>
                    <a:pt x="67" y="427"/>
                  </a:lnTo>
                  <a:lnTo>
                    <a:pt x="42" y="430"/>
                  </a:lnTo>
                  <a:lnTo>
                    <a:pt x="33" y="431"/>
                  </a:lnTo>
                  <a:lnTo>
                    <a:pt x="28" y="431"/>
                  </a:lnTo>
                  <a:lnTo>
                    <a:pt x="23" y="432"/>
                  </a:lnTo>
                  <a:lnTo>
                    <a:pt x="20" y="435"/>
                  </a:lnTo>
                  <a:lnTo>
                    <a:pt x="15" y="436"/>
                  </a:lnTo>
                  <a:lnTo>
                    <a:pt x="11" y="440"/>
                  </a:lnTo>
                  <a:lnTo>
                    <a:pt x="8" y="443"/>
                  </a:lnTo>
                  <a:lnTo>
                    <a:pt x="5" y="447"/>
                  </a:lnTo>
                  <a:lnTo>
                    <a:pt x="2" y="451"/>
                  </a:lnTo>
                  <a:lnTo>
                    <a:pt x="1" y="456"/>
                  </a:lnTo>
                  <a:lnTo>
                    <a:pt x="0" y="461"/>
                  </a:lnTo>
                  <a:lnTo>
                    <a:pt x="0" y="466"/>
                  </a:lnTo>
                  <a:lnTo>
                    <a:pt x="0" y="469"/>
                  </a:lnTo>
                  <a:lnTo>
                    <a:pt x="1" y="474"/>
                  </a:lnTo>
                  <a:lnTo>
                    <a:pt x="2" y="479"/>
                  </a:lnTo>
                  <a:lnTo>
                    <a:pt x="3" y="483"/>
                  </a:lnTo>
                  <a:lnTo>
                    <a:pt x="7" y="488"/>
                  </a:lnTo>
                  <a:lnTo>
                    <a:pt x="38" y="529"/>
                  </a:lnTo>
                  <a:lnTo>
                    <a:pt x="72" y="567"/>
                  </a:lnTo>
                  <a:lnTo>
                    <a:pt x="104" y="603"/>
                  </a:lnTo>
                  <a:lnTo>
                    <a:pt x="136" y="637"/>
                  </a:lnTo>
                  <a:lnTo>
                    <a:pt x="170" y="667"/>
                  </a:lnTo>
                  <a:lnTo>
                    <a:pt x="202" y="695"/>
                  </a:lnTo>
                  <a:lnTo>
                    <a:pt x="236" y="720"/>
                  </a:lnTo>
                  <a:lnTo>
                    <a:pt x="269" y="744"/>
                  </a:lnTo>
                  <a:lnTo>
                    <a:pt x="302" y="763"/>
                  </a:lnTo>
                  <a:lnTo>
                    <a:pt x="335" y="781"/>
                  </a:lnTo>
                  <a:lnTo>
                    <a:pt x="352" y="789"/>
                  </a:lnTo>
                  <a:lnTo>
                    <a:pt x="369" y="796"/>
                  </a:lnTo>
                  <a:lnTo>
                    <a:pt x="386" y="803"/>
                  </a:lnTo>
                  <a:lnTo>
                    <a:pt x="402" y="808"/>
                  </a:lnTo>
                  <a:lnTo>
                    <a:pt x="419" y="814"/>
                  </a:lnTo>
                  <a:lnTo>
                    <a:pt x="437" y="818"/>
                  </a:lnTo>
                  <a:lnTo>
                    <a:pt x="453" y="822"/>
                  </a:lnTo>
                  <a:lnTo>
                    <a:pt x="470" y="825"/>
                  </a:lnTo>
                  <a:lnTo>
                    <a:pt x="487" y="828"/>
                  </a:lnTo>
                  <a:lnTo>
                    <a:pt x="504" y="829"/>
                  </a:lnTo>
                  <a:lnTo>
                    <a:pt x="521" y="830"/>
                  </a:lnTo>
                  <a:lnTo>
                    <a:pt x="537" y="832"/>
                  </a:lnTo>
                  <a:lnTo>
                    <a:pt x="559" y="832"/>
                  </a:lnTo>
                  <a:lnTo>
                    <a:pt x="578" y="830"/>
                  </a:lnTo>
                  <a:lnTo>
                    <a:pt x="598" y="828"/>
                  </a:lnTo>
                  <a:lnTo>
                    <a:pt x="617" y="825"/>
                  </a:lnTo>
                  <a:lnTo>
                    <a:pt x="636" y="822"/>
                  </a:lnTo>
                  <a:lnTo>
                    <a:pt x="653" y="817"/>
                  </a:lnTo>
                  <a:lnTo>
                    <a:pt x="670" y="812"/>
                  </a:lnTo>
                  <a:lnTo>
                    <a:pt x="688" y="806"/>
                  </a:lnTo>
                  <a:lnTo>
                    <a:pt x="720" y="793"/>
                  </a:lnTo>
                  <a:lnTo>
                    <a:pt x="750" y="780"/>
                  </a:lnTo>
                  <a:lnTo>
                    <a:pt x="777" y="763"/>
                  </a:lnTo>
                  <a:lnTo>
                    <a:pt x="802" y="747"/>
                  </a:lnTo>
                  <a:lnTo>
                    <a:pt x="824" y="731"/>
                  </a:lnTo>
                  <a:lnTo>
                    <a:pt x="844" y="715"/>
                  </a:lnTo>
                  <a:lnTo>
                    <a:pt x="862" y="700"/>
                  </a:lnTo>
                  <a:lnTo>
                    <a:pt x="875" y="686"/>
                  </a:lnTo>
                  <a:lnTo>
                    <a:pt x="896" y="665"/>
                  </a:lnTo>
                  <a:lnTo>
                    <a:pt x="904" y="657"/>
                  </a:lnTo>
                  <a:lnTo>
                    <a:pt x="919" y="636"/>
                  </a:lnTo>
                  <a:lnTo>
                    <a:pt x="932" y="615"/>
                  </a:lnTo>
                  <a:lnTo>
                    <a:pt x="945" y="592"/>
                  </a:lnTo>
                  <a:lnTo>
                    <a:pt x="957" y="570"/>
                  </a:lnTo>
                  <a:lnTo>
                    <a:pt x="967" y="546"/>
                  </a:lnTo>
                  <a:lnTo>
                    <a:pt x="977" y="523"/>
                  </a:lnTo>
                  <a:lnTo>
                    <a:pt x="986" y="498"/>
                  </a:lnTo>
                  <a:lnTo>
                    <a:pt x="994" y="473"/>
                  </a:lnTo>
                  <a:lnTo>
                    <a:pt x="1002" y="447"/>
                  </a:lnTo>
                  <a:lnTo>
                    <a:pt x="1008" y="422"/>
                  </a:lnTo>
                  <a:lnTo>
                    <a:pt x="1014" y="397"/>
                  </a:lnTo>
                  <a:lnTo>
                    <a:pt x="1019" y="371"/>
                  </a:lnTo>
                  <a:lnTo>
                    <a:pt x="1028" y="322"/>
                  </a:lnTo>
                  <a:lnTo>
                    <a:pt x="1034" y="272"/>
                  </a:lnTo>
                  <a:lnTo>
                    <a:pt x="1038" y="226"/>
                  </a:lnTo>
                  <a:lnTo>
                    <a:pt x="1040" y="183"/>
                  </a:lnTo>
                  <a:lnTo>
                    <a:pt x="1042" y="143"/>
                  </a:lnTo>
                  <a:lnTo>
                    <a:pt x="1042" y="108"/>
                  </a:lnTo>
                  <a:lnTo>
                    <a:pt x="1042" y="57"/>
                  </a:lnTo>
                  <a:lnTo>
                    <a:pt x="1040" y="34"/>
                  </a:lnTo>
                  <a:lnTo>
                    <a:pt x="1039" y="28"/>
                  </a:lnTo>
                  <a:lnTo>
                    <a:pt x="1037" y="23"/>
                  </a:lnTo>
                  <a:lnTo>
                    <a:pt x="1034" y="18"/>
                  </a:lnTo>
                  <a:lnTo>
                    <a:pt x="1032" y="13"/>
                  </a:lnTo>
                  <a:lnTo>
                    <a:pt x="1028" y="9"/>
                  </a:lnTo>
                  <a:lnTo>
                    <a:pt x="1023" y="7"/>
                  </a:lnTo>
                  <a:lnTo>
                    <a:pt x="1018" y="4"/>
                  </a:lnTo>
                  <a:lnTo>
                    <a:pt x="1013" y="2"/>
                  </a:lnTo>
                  <a:lnTo>
                    <a:pt x="1007" y="0"/>
                  </a:lnTo>
                  <a:lnTo>
                    <a:pt x="1002" y="0"/>
                  </a:lnTo>
                  <a:lnTo>
                    <a:pt x="996" y="2"/>
                  </a:lnTo>
                  <a:lnTo>
                    <a:pt x="991" y="3"/>
                  </a:lnTo>
                  <a:lnTo>
                    <a:pt x="986" y="7"/>
                  </a:lnTo>
                  <a:lnTo>
                    <a:pt x="981" y="9"/>
                  </a:lnTo>
                  <a:lnTo>
                    <a:pt x="977" y="13"/>
                  </a:lnTo>
                  <a:lnTo>
                    <a:pt x="973" y="18"/>
                  </a:lnTo>
                  <a:close/>
                  <a:moveTo>
                    <a:pt x="970" y="133"/>
                  </a:moveTo>
                  <a:lnTo>
                    <a:pt x="968" y="184"/>
                  </a:lnTo>
                  <a:lnTo>
                    <a:pt x="965" y="242"/>
                  </a:lnTo>
                  <a:lnTo>
                    <a:pt x="961" y="273"/>
                  </a:lnTo>
                  <a:lnTo>
                    <a:pt x="957" y="306"/>
                  </a:lnTo>
                  <a:lnTo>
                    <a:pt x="952" y="338"/>
                  </a:lnTo>
                  <a:lnTo>
                    <a:pt x="946" y="370"/>
                  </a:lnTo>
                  <a:lnTo>
                    <a:pt x="940" y="404"/>
                  </a:lnTo>
                  <a:lnTo>
                    <a:pt x="931" y="436"/>
                  </a:lnTo>
                  <a:lnTo>
                    <a:pt x="921" y="468"/>
                  </a:lnTo>
                  <a:lnTo>
                    <a:pt x="910" y="499"/>
                  </a:lnTo>
                  <a:lnTo>
                    <a:pt x="898" y="530"/>
                  </a:lnTo>
                  <a:lnTo>
                    <a:pt x="883" y="559"/>
                  </a:lnTo>
                  <a:lnTo>
                    <a:pt x="874" y="574"/>
                  </a:lnTo>
                  <a:lnTo>
                    <a:pt x="867" y="586"/>
                  </a:lnTo>
                  <a:lnTo>
                    <a:pt x="858" y="600"/>
                  </a:lnTo>
                  <a:lnTo>
                    <a:pt x="848" y="612"/>
                  </a:lnTo>
                  <a:lnTo>
                    <a:pt x="842" y="619"/>
                  </a:lnTo>
                  <a:lnTo>
                    <a:pt x="826" y="636"/>
                  </a:lnTo>
                  <a:lnTo>
                    <a:pt x="813" y="648"/>
                  </a:lnTo>
                  <a:lnTo>
                    <a:pt x="799" y="660"/>
                  </a:lnTo>
                  <a:lnTo>
                    <a:pt x="782" y="674"/>
                  </a:lnTo>
                  <a:lnTo>
                    <a:pt x="762" y="688"/>
                  </a:lnTo>
                  <a:lnTo>
                    <a:pt x="741" y="701"/>
                  </a:lnTo>
                  <a:lnTo>
                    <a:pt x="717" y="715"/>
                  </a:lnTo>
                  <a:lnTo>
                    <a:pt x="693" y="727"/>
                  </a:lnTo>
                  <a:lnTo>
                    <a:pt x="665" y="739"/>
                  </a:lnTo>
                  <a:lnTo>
                    <a:pt x="650" y="744"/>
                  </a:lnTo>
                  <a:lnTo>
                    <a:pt x="636" y="747"/>
                  </a:lnTo>
                  <a:lnTo>
                    <a:pt x="621" y="751"/>
                  </a:lnTo>
                  <a:lnTo>
                    <a:pt x="604" y="755"/>
                  </a:lnTo>
                  <a:lnTo>
                    <a:pt x="588" y="757"/>
                  </a:lnTo>
                  <a:lnTo>
                    <a:pt x="572" y="758"/>
                  </a:lnTo>
                  <a:lnTo>
                    <a:pt x="555" y="760"/>
                  </a:lnTo>
                  <a:lnTo>
                    <a:pt x="537" y="760"/>
                  </a:lnTo>
                  <a:lnTo>
                    <a:pt x="511" y="758"/>
                  </a:lnTo>
                  <a:lnTo>
                    <a:pt x="484" y="755"/>
                  </a:lnTo>
                  <a:lnTo>
                    <a:pt x="457" y="750"/>
                  </a:lnTo>
                  <a:lnTo>
                    <a:pt x="431" y="742"/>
                  </a:lnTo>
                  <a:lnTo>
                    <a:pt x="403" y="732"/>
                  </a:lnTo>
                  <a:lnTo>
                    <a:pt x="376" y="720"/>
                  </a:lnTo>
                  <a:lnTo>
                    <a:pt x="350" y="706"/>
                  </a:lnTo>
                  <a:lnTo>
                    <a:pt x="323" y="690"/>
                  </a:lnTo>
                  <a:lnTo>
                    <a:pt x="295" y="673"/>
                  </a:lnTo>
                  <a:lnTo>
                    <a:pt x="269" y="653"/>
                  </a:lnTo>
                  <a:lnTo>
                    <a:pt x="242" y="632"/>
                  </a:lnTo>
                  <a:lnTo>
                    <a:pt x="215" y="608"/>
                  </a:lnTo>
                  <a:lnTo>
                    <a:pt x="189" y="582"/>
                  </a:lnTo>
                  <a:lnTo>
                    <a:pt x="161" y="555"/>
                  </a:lnTo>
                  <a:lnTo>
                    <a:pt x="134" y="526"/>
                  </a:lnTo>
                  <a:lnTo>
                    <a:pt x="108" y="495"/>
                  </a:lnTo>
                  <a:lnTo>
                    <a:pt x="143" y="490"/>
                  </a:lnTo>
                  <a:lnTo>
                    <a:pt x="185" y="485"/>
                  </a:lnTo>
                  <a:lnTo>
                    <a:pt x="231" y="478"/>
                  </a:lnTo>
                  <a:lnTo>
                    <a:pt x="282" y="468"/>
                  </a:lnTo>
                  <a:lnTo>
                    <a:pt x="336" y="457"/>
                  </a:lnTo>
                  <a:lnTo>
                    <a:pt x="393" y="443"/>
                  </a:lnTo>
                  <a:lnTo>
                    <a:pt x="453" y="427"/>
                  </a:lnTo>
                  <a:lnTo>
                    <a:pt x="515" y="407"/>
                  </a:lnTo>
                  <a:lnTo>
                    <a:pt x="546" y="397"/>
                  </a:lnTo>
                  <a:lnTo>
                    <a:pt x="577" y="386"/>
                  </a:lnTo>
                  <a:lnTo>
                    <a:pt x="608" y="374"/>
                  </a:lnTo>
                  <a:lnTo>
                    <a:pt x="639" y="360"/>
                  </a:lnTo>
                  <a:lnTo>
                    <a:pt x="669" y="347"/>
                  </a:lnTo>
                  <a:lnTo>
                    <a:pt x="700" y="332"/>
                  </a:lnTo>
                  <a:lnTo>
                    <a:pt x="730" y="317"/>
                  </a:lnTo>
                  <a:lnTo>
                    <a:pt x="760" y="301"/>
                  </a:lnTo>
                  <a:lnTo>
                    <a:pt x="788" y="283"/>
                  </a:lnTo>
                  <a:lnTo>
                    <a:pt x="817" y="265"/>
                  </a:lnTo>
                  <a:lnTo>
                    <a:pt x="845" y="245"/>
                  </a:lnTo>
                  <a:lnTo>
                    <a:pt x="871" y="225"/>
                  </a:lnTo>
                  <a:lnTo>
                    <a:pt x="898" y="204"/>
                  </a:lnTo>
                  <a:lnTo>
                    <a:pt x="922" y="182"/>
                  </a:lnTo>
                  <a:lnTo>
                    <a:pt x="947" y="158"/>
                  </a:lnTo>
                  <a:lnTo>
                    <a:pt x="970" y="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3767040" y="5394240"/>
              <a:ext cx="385920" cy="271440"/>
            </a:xfrm>
            <a:custGeom>
              <a:avLst/>
              <a:gdLst/>
              <a:ahLst/>
              <a:rect l="l" t="t" r="r" b="b"/>
              <a:pathLst>
                <a:path w="972" h="686">
                  <a:moveTo>
                    <a:pt x="972" y="0"/>
                  </a:moveTo>
                  <a:lnTo>
                    <a:pt x="959" y="19"/>
                  </a:lnTo>
                  <a:lnTo>
                    <a:pt x="923" y="66"/>
                  </a:lnTo>
                  <a:lnTo>
                    <a:pt x="872" y="134"/>
                  </a:lnTo>
                  <a:lnTo>
                    <a:pt x="815" y="215"/>
                  </a:lnTo>
                  <a:lnTo>
                    <a:pt x="785" y="258"/>
                  </a:lnTo>
                  <a:lnTo>
                    <a:pt x="757" y="300"/>
                  </a:lnTo>
                  <a:lnTo>
                    <a:pt x="731" y="341"/>
                  </a:lnTo>
                  <a:lnTo>
                    <a:pt x="710" y="381"/>
                  </a:lnTo>
                  <a:lnTo>
                    <a:pt x="700" y="398"/>
                  </a:lnTo>
                  <a:lnTo>
                    <a:pt x="692" y="416"/>
                  </a:lnTo>
                  <a:lnTo>
                    <a:pt x="684" y="433"/>
                  </a:lnTo>
                  <a:lnTo>
                    <a:pt x="679" y="448"/>
                  </a:lnTo>
                  <a:lnTo>
                    <a:pt x="674" y="462"/>
                  </a:lnTo>
                  <a:lnTo>
                    <a:pt x="672" y="474"/>
                  </a:lnTo>
                  <a:lnTo>
                    <a:pt x="672" y="484"/>
                  </a:lnTo>
                  <a:lnTo>
                    <a:pt x="673" y="493"/>
                  </a:lnTo>
                  <a:lnTo>
                    <a:pt x="674" y="499"/>
                  </a:lnTo>
                  <a:lnTo>
                    <a:pt x="680" y="511"/>
                  </a:lnTo>
                  <a:lnTo>
                    <a:pt x="684" y="519"/>
                  </a:lnTo>
                  <a:lnTo>
                    <a:pt x="692" y="527"/>
                  </a:lnTo>
                  <a:lnTo>
                    <a:pt x="699" y="535"/>
                  </a:lnTo>
                  <a:lnTo>
                    <a:pt x="710" y="541"/>
                  </a:lnTo>
                  <a:lnTo>
                    <a:pt x="716" y="544"/>
                  </a:lnTo>
                  <a:lnTo>
                    <a:pt x="723" y="545"/>
                  </a:lnTo>
                  <a:lnTo>
                    <a:pt x="729" y="546"/>
                  </a:lnTo>
                  <a:lnTo>
                    <a:pt x="738" y="547"/>
                  </a:lnTo>
                  <a:lnTo>
                    <a:pt x="745" y="547"/>
                  </a:lnTo>
                  <a:lnTo>
                    <a:pt x="754" y="546"/>
                  </a:lnTo>
                  <a:lnTo>
                    <a:pt x="764" y="545"/>
                  </a:lnTo>
                  <a:lnTo>
                    <a:pt x="774" y="542"/>
                  </a:lnTo>
                  <a:lnTo>
                    <a:pt x="785" y="539"/>
                  </a:lnTo>
                  <a:lnTo>
                    <a:pt x="797" y="534"/>
                  </a:lnTo>
                  <a:lnTo>
                    <a:pt x="810" y="529"/>
                  </a:lnTo>
                  <a:lnTo>
                    <a:pt x="822" y="521"/>
                  </a:lnTo>
                  <a:lnTo>
                    <a:pt x="837" y="513"/>
                  </a:lnTo>
                  <a:lnTo>
                    <a:pt x="852" y="503"/>
                  </a:lnTo>
                  <a:lnTo>
                    <a:pt x="867" y="491"/>
                  </a:lnTo>
                  <a:lnTo>
                    <a:pt x="884" y="478"/>
                  </a:lnTo>
                  <a:lnTo>
                    <a:pt x="879" y="484"/>
                  </a:lnTo>
                  <a:lnTo>
                    <a:pt x="864" y="500"/>
                  </a:lnTo>
                  <a:lnTo>
                    <a:pt x="842" y="525"/>
                  </a:lnTo>
                  <a:lnTo>
                    <a:pt x="811" y="554"/>
                  </a:lnTo>
                  <a:lnTo>
                    <a:pt x="792" y="570"/>
                  </a:lnTo>
                  <a:lnTo>
                    <a:pt x="772" y="585"/>
                  </a:lnTo>
                  <a:lnTo>
                    <a:pt x="750" y="601"/>
                  </a:lnTo>
                  <a:lnTo>
                    <a:pt x="726" y="617"/>
                  </a:lnTo>
                  <a:lnTo>
                    <a:pt x="700" y="630"/>
                  </a:lnTo>
                  <a:lnTo>
                    <a:pt x="674" y="644"/>
                  </a:lnTo>
                  <a:lnTo>
                    <a:pt x="646" y="657"/>
                  </a:lnTo>
                  <a:lnTo>
                    <a:pt x="616" y="668"/>
                  </a:lnTo>
                  <a:lnTo>
                    <a:pt x="585" y="676"/>
                  </a:lnTo>
                  <a:lnTo>
                    <a:pt x="551" y="683"/>
                  </a:lnTo>
                  <a:lnTo>
                    <a:pt x="518" y="686"/>
                  </a:lnTo>
                  <a:lnTo>
                    <a:pt x="483" y="686"/>
                  </a:lnTo>
                  <a:lnTo>
                    <a:pt x="447" y="684"/>
                  </a:lnTo>
                  <a:lnTo>
                    <a:pt x="410" y="678"/>
                  </a:lnTo>
                  <a:lnTo>
                    <a:pt x="372" y="666"/>
                  </a:lnTo>
                  <a:lnTo>
                    <a:pt x="334" y="652"/>
                  </a:lnTo>
                  <a:lnTo>
                    <a:pt x="294" y="632"/>
                  </a:lnTo>
                  <a:lnTo>
                    <a:pt x="253" y="608"/>
                  </a:lnTo>
                  <a:lnTo>
                    <a:pt x="212" y="578"/>
                  </a:lnTo>
                  <a:lnTo>
                    <a:pt x="171" y="542"/>
                  </a:lnTo>
                  <a:lnTo>
                    <a:pt x="129" y="501"/>
                  </a:lnTo>
                  <a:lnTo>
                    <a:pt x="87" y="453"/>
                  </a:lnTo>
                  <a:lnTo>
                    <a:pt x="43" y="400"/>
                  </a:lnTo>
                  <a:lnTo>
                    <a:pt x="0" y="338"/>
                  </a:lnTo>
                  <a:lnTo>
                    <a:pt x="7" y="340"/>
                  </a:lnTo>
                  <a:lnTo>
                    <a:pt x="27" y="344"/>
                  </a:lnTo>
                  <a:lnTo>
                    <a:pt x="58" y="350"/>
                  </a:lnTo>
                  <a:lnTo>
                    <a:pt x="99" y="355"/>
                  </a:lnTo>
                  <a:lnTo>
                    <a:pt x="124" y="359"/>
                  </a:lnTo>
                  <a:lnTo>
                    <a:pt x="150" y="360"/>
                  </a:lnTo>
                  <a:lnTo>
                    <a:pt x="179" y="362"/>
                  </a:lnTo>
                  <a:lnTo>
                    <a:pt x="210" y="362"/>
                  </a:lnTo>
                  <a:lnTo>
                    <a:pt x="242" y="362"/>
                  </a:lnTo>
                  <a:lnTo>
                    <a:pt x="276" y="362"/>
                  </a:lnTo>
                  <a:lnTo>
                    <a:pt x="310" y="360"/>
                  </a:lnTo>
                  <a:lnTo>
                    <a:pt x="346" y="356"/>
                  </a:lnTo>
                  <a:lnTo>
                    <a:pt x="384" y="351"/>
                  </a:lnTo>
                  <a:lnTo>
                    <a:pt x="422" y="345"/>
                  </a:lnTo>
                  <a:lnTo>
                    <a:pt x="462" y="336"/>
                  </a:lnTo>
                  <a:lnTo>
                    <a:pt x="502" y="326"/>
                  </a:lnTo>
                  <a:lnTo>
                    <a:pt x="541" y="314"/>
                  </a:lnTo>
                  <a:lnTo>
                    <a:pt x="582" y="300"/>
                  </a:lnTo>
                  <a:lnTo>
                    <a:pt x="622" y="283"/>
                  </a:lnTo>
                  <a:lnTo>
                    <a:pt x="663" y="264"/>
                  </a:lnTo>
                  <a:lnTo>
                    <a:pt x="704" y="242"/>
                  </a:lnTo>
                  <a:lnTo>
                    <a:pt x="744" y="217"/>
                  </a:lnTo>
                  <a:lnTo>
                    <a:pt x="785" y="190"/>
                  </a:lnTo>
                  <a:lnTo>
                    <a:pt x="823" y="159"/>
                  </a:lnTo>
                  <a:lnTo>
                    <a:pt x="863" y="124"/>
                  </a:lnTo>
                  <a:lnTo>
                    <a:pt x="900" y="87"/>
                  </a:lnTo>
                  <a:lnTo>
                    <a:pt x="937" y="46"/>
                  </a:lnTo>
                  <a:lnTo>
                    <a:pt x="972" y="0"/>
                  </a:lnTo>
                  <a:close/>
                </a:path>
              </a:pathLst>
            </a:custGeom>
            <a:solidFill>
              <a:srgbClr val="de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3762360" y="5300640"/>
              <a:ext cx="399960" cy="258840"/>
            </a:xfrm>
            <a:custGeom>
              <a:avLst/>
              <a:gdLst/>
              <a:ahLst/>
              <a:rect l="l" t="t" r="r" b="b"/>
              <a:pathLst>
                <a:path w="1006" h="653">
                  <a:moveTo>
                    <a:pt x="998" y="100"/>
                  </a:moveTo>
                  <a:lnTo>
                    <a:pt x="992" y="89"/>
                  </a:lnTo>
                  <a:lnTo>
                    <a:pt x="986" y="78"/>
                  </a:lnTo>
                  <a:lnTo>
                    <a:pt x="978" y="68"/>
                  </a:lnTo>
                  <a:lnTo>
                    <a:pt x="970" y="58"/>
                  </a:lnTo>
                  <a:lnTo>
                    <a:pt x="960" y="50"/>
                  </a:lnTo>
                  <a:lnTo>
                    <a:pt x="948" y="41"/>
                  </a:lnTo>
                  <a:lnTo>
                    <a:pt x="937" y="33"/>
                  </a:lnTo>
                  <a:lnTo>
                    <a:pt x="924" y="27"/>
                  </a:lnTo>
                  <a:lnTo>
                    <a:pt x="910" y="21"/>
                  </a:lnTo>
                  <a:lnTo>
                    <a:pt x="895" y="16"/>
                  </a:lnTo>
                  <a:lnTo>
                    <a:pt x="880" y="11"/>
                  </a:lnTo>
                  <a:lnTo>
                    <a:pt x="863" y="7"/>
                  </a:lnTo>
                  <a:lnTo>
                    <a:pt x="845" y="5"/>
                  </a:lnTo>
                  <a:lnTo>
                    <a:pt x="828" y="2"/>
                  </a:lnTo>
                  <a:lnTo>
                    <a:pt x="809" y="1"/>
                  </a:lnTo>
                  <a:lnTo>
                    <a:pt x="790" y="0"/>
                  </a:lnTo>
                  <a:lnTo>
                    <a:pt x="770" y="0"/>
                  </a:lnTo>
                  <a:lnTo>
                    <a:pt x="749" y="1"/>
                  </a:lnTo>
                  <a:lnTo>
                    <a:pt x="727" y="2"/>
                  </a:lnTo>
                  <a:lnTo>
                    <a:pt x="705" y="5"/>
                  </a:lnTo>
                  <a:lnTo>
                    <a:pt x="683" y="7"/>
                  </a:lnTo>
                  <a:lnTo>
                    <a:pt x="660" y="11"/>
                  </a:lnTo>
                  <a:lnTo>
                    <a:pt x="637" y="16"/>
                  </a:lnTo>
                  <a:lnTo>
                    <a:pt x="613" y="21"/>
                  </a:lnTo>
                  <a:lnTo>
                    <a:pt x="590" y="27"/>
                  </a:lnTo>
                  <a:lnTo>
                    <a:pt x="565" y="35"/>
                  </a:lnTo>
                  <a:lnTo>
                    <a:pt x="540" y="42"/>
                  </a:lnTo>
                  <a:lnTo>
                    <a:pt x="515" y="50"/>
                  </a:lnTo>
                  <a:lnTo>
                    <a:pt x="490" y="59"/>
                  </a:lnTo>
                  <a:lnTo>
                    <a:pt x="464" y="68"/>
                  </a:lnTo>
                  <a:lnTo>
                    <a:pt x="439" y="79"/>
                  </a:lnTo>
                  <a:lnTo>
                    <a:pt x="413" y="90"/>
                  </a:lnTo>
                  <a:lnTo>
                    <a:pt x="364" y="115"/>
                  </a:lnTo>
                  <a:lnTo>
                    <a:pt x="315" y="141"/>
                  </a:lnTo>
                  <a:lnTo>
                    <a:pt x="270" y="169"/>
                  </a:lnTo>
                  <a:lnTo>
                    <a:pt x="228" y="197"/>
                  </a:lnTo>
                  <a:lnTo>
                    <a:pt x="208" y="212"/>
                  </a:lnTo>
                  <a:lnTo>
                    <a:pt x="189" y="227"/>
                  </a:lnTo>
                  <a:lnTo>
                    <a:pt x="170" y="242"/>
                  </a:lnTo>
                  <a:lnTo>
                    <a:pt x="152" y="257"/>
                  </a:lnTo>
                  <a:lnTo>
                    <a:pt x="135" y="273"/>
                  </a:lnTo>
                  <a:lnTo>
                    <a:pt x="119" y="288"/>
                  </a:lnTo>
                  <a:lnTo>
                    <a:pt x="104" y="304"/>
                  </a:lnTo>
                  <a:lnTo>
                    <a:pt x="90" y="319"/>
                  </a:lnTo>
                  <a:lnTo>
                    <a:pt x="77" y="335"/>
                  </a:lnTo>
                  <a:lnTo>
                    <a:pt x="64" y="351"/>
                  </a:lnTo>
                  <a:lnTo>
                    <a:pt x="53" y="366"/>
                  </a:lnTo>
                  <a:lnTo>
                    <a:pt x="43" y="382"/>
                  </a:lnTo>
                  <a:lnTo>
                    <a:pt x="33" y="397"/>
                  </a:lnTo>
                  <a:lnTo>
                    <a:pt x="26" y="412"/>
                  </a:lnTo>
                  <a:lnTo>
                    <a:pt x="18" y="428"/>
                  </a:lnTo>
                  <a:lnTo>
                    <a:pt x="12" y="443"/>
                  </a:lnTo>
                  <a:lnTo>
                    <a:pt x="7" y="458"/>
                  </a:lnTo>
                  <a:lnTo>
                    <a:pt x="3" y="471"/>
                  </a:lnTo>
                  <a:lnTo>
                    <a:pt x="1" y="486"/>
                  </a:lnTo>
                  <a:lnTo>
                    <a:pt x="0" y="500"/>
                  </a:lnTo>
                  <a:lnTo>
                    <a:pt x="0" y="514"/>
                  </a:lnTo>
                  <a:lnTo>
                    <a:pt x="1" y="527"/>
                  </a:lnTo>
                  <a:lnTo>
                    <a:pt x="5" y="540"/>
                  </a:lnTo>
                  <a:lnTo>
                    <a:pt x="8" y="552"/>
                  </a:lnTo>
                  <a:lnTo>
                    <a:pt x="13" y="563"/>
                  </a:lnTo>
                  <a:lnTo>
                    <a:pt x="20" y="574"/>
                  </a:lnTo>
                  <a:lnTo>
                    <a:pt x="27" y="586"/>
                  </a:lnTo>
                  <a:lnTo>
                    <a:pt x="36" y="595"/>
                  </a:lnTo>
                  <a:lnTo>
                    <a:pt x="46" y="604"/>
                  </a:lnTo>
                  <a:lnTo>
                    <a:pt x="57" y="612"/>
                  </a:lnTo>
                  <a:lnTo>
                    <a:pt x="69" y="619"/>
                  </a:lnTo>
                  <a:lnTo>
                    <a:pt x="82" y="626"/>
                  </a:lnTo>
                  <a:lnTo>
                    <a:pt x="95" y="631"/>
                  </a:lnTo>
                  <a:lnTo>
                    <a:pt x="110" y="638"/>
                  </a:lnTo>
                  <a:lnTo>
                    <a:pt x="126" y="641"/>
                  </a:lnTo>
                  <a:lnTo>
                    <a:pt x="143" y="645"/>
                  </a:lnTo>
                  <a:lnTo>
                    <a:pt x="160" y="649"/>
                  </a:lnTo>
                  <a:lnTo>
                    <a:pt x="177" y="650"/>
                  </a:lnTo>
                  <a:lnTo>
                    <a:pt x="196" y="653"/>
                  </a:lnTo>
                  <a:lnTo>
                    <a:pt x="216" y="653"/>
                  </a:lnTo>
                  <a:lnTo>
                    <a:pt x="236" y="653"/>
                  </a:lnTo>
                  <a:lnTo>
                    <a:pt x="257" y="651"/>
                  </a:lnTo>
                  <a:lnTo>
                    <a:pt x="278" y="650"/>
                  </a:lnTo>
                  <a:lnTo>
                    <a:pt x="300" y="648"/>
                  </a:lnTo>
                  <a:lnTo>
                    <a:pt x="323" y="645"/>
                  </a:lnTo>
                  <a:lnTo>
                    <a:pt x="345" y="641"/>
                  </a:lnTo>
                  <a:lnTo>
                    <a:pt x="369" y="636"/>
                  </a:lnTo>
                  <a:lnTo>
                    <a:pt x="392" y="631"/>
                  </a:lnTo>
                  <a:lnTo>
                    <a:pt x="417" y="625"/>
                  </a:lnTo>
                  <a:lnTo>
                    <a:pt x="441" y="619"/>
                  </a:lnTo>
                  <a:lnTo>
                    <a:pt x="465" y="612"/>
                  </a:lnTo>
                  <a:lnTo>
                    <a:pt x="490" y="603"/>
                  </a:lnTo>
                  <a:lnTo>
                    <a:pt x="516" y="594"/>
                  </a:lnTo>
                  <a:lnTo>
                    <a:pt x="541" y="584"/>
                  </a:lnTo>
                  <a:lnTo>
                    <a:pt x="566" y="573"/>
                  </a:lnTo>
                  <a:lnTo>
                    <a:pt x="592" y="562"/>
                  </a:lnTo>
                  <a:lnTo>
                    <a:pt x="617" y="551"/>
                  </a:lnTo>
                  <a:lnTo>
                    <a:pt x="642" y="538"/>
                  </a:lnTo>
                  <a:lnTo>
                    <a:pt x="667" y="525"/>
                  </a:lnTo>
                  <a:lnTo>
                    <a:pt x="690" y="512"/>
                  </a:lnTo>
                  <a:lnTo>
                    <a:pt x="713" y="499"/>
                  </a:lnTo>
                  <a:lnTo>
                    <a:pt x="735" y="485"/>
                  </a:lnTo>
                  <a:lnTo>
                    <a:pt x="757" y="470"/>
                  </a:lnTo>
                  <a:lnTo>
                    <a:pt x="778" y="457"/>
                  </a:lnTo>
                  <a:lnTo>
                    <a:pt x="798" y="442"/>
                  </a:lnTo>
                  <a:lnTo>
                    <a:pt x="817" y="427"/>
                  </a:lnTo>
                  <a:lnTo>
                    <a:pt x="835" y="412"/>
                  </a:lnTo>
                  <a:lnTo>
                    <a:pt x="854" y="396"/>
                  </a:lnTo>
                  <a:lnTo>
                    <a:pt x="870" y="381"/>
                  </a:lnTo>
                  <a:lnTo>
                    <a:pt x="886" y="365"/>
                  </a:lnTo>
                  <a:lnTo>
                    <a:pt x="901" y="350"/>
                  </a:lnTo>
                  <a:lnTo>
                    <a:pt x="916" y="334"/>
                  </a:lnTo>
                  <a:lnTo>
                    <a:pt x="930" y="319"/>
                  </a:lnTo>
                  <a:lnTo>
                    <a:pt x="941" y="303"/>
                  </a:lnTo>
                  <a:lnTo>
                    <a:pt x="953" y="287"/>
                  </a:lnTo>
                  <a:lnTo>
                    <a:pt x="963" y="272"/>
                  </a:lnTo>
                  <a:lnTo>
                    <a:pt x="972" y="256"/>
                  </a:lnTo>
                  <a:lnTo>
                    <a:pt x="981" y="241"/>
                  </a:lnTo>
                  <a:lnTo>
                    <a:pt x="988" y="226"/>
                  </a:lnTo>
                  <a:lnTo>
                    <a:pt x="993" y="211"/>
                  </a:lnTo>
                  <a:lnTo>
                    <a:pt x="998" y="196"/>
                  </a:lnTo>
                  <a:lnTo>
                    <a:pt x="1002" y="181"/>
                  </a:lnTo>
                  <a:lnTo>
                    <a:pt x="1004" y="167"/>
                  </a:lnTo>
                  <a:lnTo>
                    <a:pt x="1006" y="154"/>
                  </a:lnTo>
                  <a:lnTo>
                    <a:pt x="1006" y="140"/>
                  </a:lnTo>
                  <a:lnTo>
                    <a:pt x="1004" y="126"/>
                  </a:lnTo>
                  <a:lnTo>
                    <a:pt x="1002" y="114"/>
                  </a:lnTo>
                  <a:lnTo>
                    <a:pt x="998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3747960" y="5288040"/>
              <a:ext cx="428760" cy="285840"/>
            </a:xfrm>
            <a:custGeom>
              <a:avLst/>
              <a:gdLst/>
              <a:ahLst/>
              <a:rect l="l" t="t" r="r" b="b"/>
              <a:pathLst>
                <a:path w="1077" h="724">
                  <a:moveTo>
                    <a:pt x="433" y="93"/>
                  </a:moveTo>
                  <a:lnTo>
                    <a:pt x="406" y="106"/>
                  </a:lnTo>
                  <a:lnTo>
                    <a:pt x="380" y="119"/>
                  </a:lnTo>
                  <a:lnTo>
                    <a:pt x="354" y="133"/>
                  </a:lnTo>
                  <a:lnTo>
                    <a:pt x="329" y="148"/>
                  </a:lnTo>
                  <a:lnTo>
                    <a:pt x="304" y="161"/>
                  </a:lnTo>
                  <a:lnTo>
                    <a:pt x="281" y="176"/>
                  </a:lnTo>
                  <a:lnTo>
                    <a:pt x="257" y="192"/>
                  </a:lnTo>
                  <a:lnTo>
                    <a:pt x="236" y="207"/>
                  </a:lnTo>
                  <a:lnTo>
                    <a:pt x="214" y="224"/>
                  </a:lnTo>
                  <a:lnTo>
                    <a:pt x="194" y="240"/>
                  </a:lnTo>
                  <a:lnTo>
                    <a:pt x="174" y="256"/>
                  </a:lnTo>
                  <a:lnTo>
                    <a:pt x="155" y="273"/>
                  </a:lnTo>
                  <a:lnTo>
                    <a:pt x="138" y="289"/>
                  </a:lnTo>
                  <a:lnTo>
                    <a:pt x="120" y="307"/>
                  </a:lnTo>
                  <a:lnTo>
                    <a:pt x="106" y="324"/>
                  </a:lnTo>
                  <a:lnTo>
                    <a:pt x="91" y="340"/>
                  </a:lnTo>
                  <a:lnTo>
                    <a:pt x="76" y="358"/>
                  </a:lnTo>
                  <a:lnTo>
                    <a:pt x="63" y="375"/>
                  </a:lnTo>
                  <a:lnTo>
                    <a:pt x="52" y="392"/>
                  </a:lnTo>
                  <a:lnTo>
                    <a:pt x="41" y="408"/>
                  </a:lnTo>
                  <a:lnTo>
                    <a:pt x="32" y="426"/>
                  </a:lnTo>
                  <a:lnTo>
                    <a:pt x="24" y="443"/>
                  </a:lnTo>
                  <a:lnTo>
                    <a:pt x="16" y="459"/>
                  </a:lnTo>
                  <a:lnTo>
                    <a:pt x="11" y="477"/>
                  </a:lnTo>
                  <a:lnTo>
                    <a:pt x="6" y="493"/>
                  </a:lnTo>
                  <a:lnTo>
                    <a:pt x="2" y="509"/>
                  </a:lnTo>
                  <a:lnTo>
                    <a:pt x="0" y="525"/>
                  </a:lnTo>
                  <a:lnTo>
                    <a:pt x="0" y="540"/>
                  </a:lnTo>
                  <a:lnTo>
                    <a:pt x="0" y="556"/>
                  </a:lnTo>
                  <a:lnTo>
                    <a:pt x="2" y="571"/>
                  </a:lnTo>
                  <a:lnTo>
                    <a:pt x="5" y="586"/>
                  </a:lnTo>
                  <a:lnTo>
                    <a:pt x="10" y="599"/>
                  </a:lnTo>
                  <a:lnTo>
                    <a:pt x="16" y="616"/>
                  </a:lnTo>
                  <a:lnTo>
                    <a:pt x="26" y="630"/>
                  </a:lnTo>
                  <a:lnTo>
                    <a:pt x="36" y="644"/>
                  </a:lnTo>
                  <a:lnTo>
                    <a:pt x="48" y="658"/>
                  </a:lnTo>
                  <a:lnTo>
                    <a:pt x="62" y="669"/>
                  </a:lnTo>
                  <a:lnTo>
                    <a:pt x="77" y="680"/>
                  </a:lnTo>
                  <a:lnTo>
                    <a:pt x="94" y="690"/>
                  </a:lnTo>
                  <a:lnTo>
                    <a:pt x="113" y="699"/>
                  </a:lnTo>
                  <a:lnTo>
                    <a:pt x="137" y="707"/>
                  </a:lnTo>
                  <a:lnTo>
                    <a:pt x="163" y="714"/>
                  </a:lnTo>
                  <a:lnTo>
                    <a:pt x="190" y="719"/>
                  </a:lnTo>
                  <a:lnTo>
                    <a:pt x="219" y="722"/>
                  </a:lnTo>
                  <a:lnTo>
                    <a:pt x="250" y="724"/>
                  </a:lnTo>
                  <a:lnTo>
                    <a:pt x="281" y="724"/>
                  </a:lnTo>
                  <a:lnTo>
                    <a:pt x="313" y="721"/>
                  </a:lnTo>
                  <a:lnTo>
                    <a:pt x="348" y="717"/>
                  </a:lnTo>
                  <a:lnTo>
                    <a:pt x="382" y="712"/>
                  </a:lnTo>
                  <a:lnTo>
                    <a:pt x="417" y="706"/>
                  </a:lnTo>
                  <a:lnTo>
                    <a:pt x="453" y="697"/>
                  </a:lnTo>
                  <a:lnTo>
                    <a:pt x="490" y="686"/>
                  </a:lnTo>
                  <a:lnTo>
                    <a:pt x="528" y="675"/>
                  </a:lnTo>
                  <a:lnTo>
                    <a:pt x="566" y="661"/>
                  </a:lnTo>
                  <a:lnTo>
                    <a:pt x="603" y="647"/>
                  </a:lnTo>
                  <a:lnTo>
                    <a:pt x="642" y="629"/>
                  </a:lnTo>
                  <a:lnTo>
                    <a:pt x="689" y="607"/>
                  </a:lnTo>
                  <a:lnTo>
                    <a:pt x="735" y="582"/>
                  </a:lnTo>
                  <a:lnTo>
                    <a:pt x="779" y="557"/>
                  </a:lnTo>
                  <a:lnTo>
                    <a:pt x="820" y="530"/>
                  </a:lnTo>
                  <a:lnTo>
                    <a:pt x="857" y="503"/>
                  </a:lnTo>
                  <a:lnTo>
                    <a:pt x="893" y="474"/>
                  </a:lnTo>
                  <a:lnTo>
                    <a:pt x="926" y="444"/>
                  </a:lnTo>
                  <a:lnTo>
                    <a:pt x="956" y="415"/>
                  </a:lnTo>
                  <a:lnTo>
                    <a:pt x="970" y="400"/>
                  </a:lnTo>
                  <a:lnTo>
                    <a:pt x="983" y="385"/>
                  </a:lnTo>
                  <a:lnTo>
                    <a:pt x="996" y="370"/>
                  </a:lnTo>
                  <a:lnTo>
                    <a:pt x="1007" y="355"/>
                  </a:lnTo>
                  <a:lnTo>
                    <a:pt x="1018" y="340"/>
                  </a:lnTo>
                  <a:lnTo>
                    <a:pt x="1028" y="325"/>
                  </a:lnTo>
                  <a:lnTo>
                    <a:pt x="1037" y="310"/>
                  </a:lnTo>
                  <a:lnTo>
                    <a:pt x="1044" y="295"/>
                  </a:lnTo>
                  <a:lnTo>
                    <a:pt x="1052" y="281"/>
                  </a:lnTo>
                  <a:lnTo>
                    <a:pt x="1058" y="266"/>
                  </a:lnTo>
                  <a:lnTo>
                    <a:pt x="1064" y="251"/>
                  </a:lnTo>
                  <a:lnTo>
                    <a:pt x="1068" y="237"/>
                  </a:lnTo>
                  <a:lnTo>
                    <a:pt x="1072" y="222"/>
                  </a:lnTo>
                  <a:lnTo>
                    <a:pt x="1074" y="209"/>
                  </a:lnTo>
                  <a:lnTo>
                    <a:pt x="1075" y="194"/>
                  </a:lnTo>
                  <a:lnTo>
                    <a:pt x="1077" y="180"/>
                  </a:lnTo>
                  <a:lnTo>
                    <a:pt x="1075" y="165"/>
                  </a:lnTo>
                  <a:lnTo>
                    <a:pt x="1074" y="152"/>
                  </a:lnTo>
                  <a:lnTo>
                    <a:pt x="1070" y="137"/>
                  </a:lnTo>
                  <a:lnTo>
                    <a:pt x="1067" y="123"/>
                  </a:lnTo>
                  <a:lnTo>
                    <a:pt x="1059" y="108"/>
                  </a:lnTo>
                  <a:lnTo>
                    <a:pt x="1051" y="92"/>
                  </a:lnTo>
                  <a:lnTo>
                    <a:pt x="1039" y="78"/>
                  </a:lnTo>
                  <a:lnTo>
                    <a:pt x="1027" y="66"/>
                  </a:lnTo>
                  <a:lnTo>
                    <a:pt x="1013" y="54"/>
                  </a:lnTo>
                  <a:lnTo>
                    <a:pt x="998" y="42"/>
                  </a:lnTo>
                  <a:lnTo>
                    <a:pt x="981" y="34"/>
                  </a:lnTo>
                  <a:lnTo>
                    <a:pt x="964" y="25"/>
                  </a:lnTo>
                  <a:lnTo>
                    <a:pt x="939" y="16"/>
                  </a:lnTo>
                  <a:lnTo>
                    <a:pt x="914" y="9"/>
                  </a:lnTo>
                  <a:lnTo>
                    <a:pt x="885" y="4"/>
                  </a:lnTo>
                  <a:lnTo>
                    <a:pt x="857" y="1"/>
                  </a:lnTo>
                  <a:lnTo>
                    <a:pt x="827" y="0"/>
                  </a:lnTo>
                  <a:lnTo>
                    <a:pt x="795" y="0"/>
                  </a:lnTo>
                  <a:lnTo>
                    <a:pt x="762" y="1"/>
                  </a:lnTo>
                  <a:lnTo>
                    <a:pt x="729" y="5"/>
                  </a:lnTo>
                  <a:lnTo>
                    <a:pt x="694" y="10"/>
                  </a:lnTo>
                  <a:lnTo>
                    <a:pt x="658" y="18"/>
                  </a:lnTo>
                  <a:lnTo>
                    <a:pt x="622" y="26"/>
                  </a:lnTo>
                  <a:lnTo>
                    <a:pt x="585" y="36"/>
                  </a:lnTo>
                  <a:lnTo>
                    <a:pt x="548" y="49"/>
                  </a:lnTo>
                  <a:lnTo>
                    <a:pt x="510" y="61"/>
                  </a:lnTo>
                  <a:lnTo>
                    <a:pt x="472" y="77"/>
                  </a:lnTo>
                  <a:lnTo>
                    <a:pt x="433" y="93"/>
                  </a:lnTo>
                  <a:close/>
                  <a:moveTo>
                    <a:pt x="140" y="632"/>
                  </a:moveTo>
                  <a:lnTo>
                    <a:pt x="128" y="627"/>
                  </a:lnTo>
                  <a:lnTo>
                    <a:pt x="118" y="621"/>
                  </a:lnTo>
                  <a:lnTo>
                    <a:pt x="108" y="614"/>
                  </a:lnTo>
                  <a:lnTo>
                    <a:pt x="99" y="608"/>
                  </a:lnTo>
                  <a:lnTo>
                    <a:pt x="92" y="601"/>
                  </a:lnTo>
                  <a:lnTo>
                    <a:pt x="86" y="592"/>
                  </a:lnTo>
                  <a:lnTo>
                    <a:pt x="81" y="583"/>
                  </a:lnTo>
                  <a:lnTo>
                    <a:pt x="77" y="575"/>
                  </a:lnTo>
                  <a:lnTo>
                    <a:pt x="73" y="565"/>
                  </a:lnTo>
                  <a:lnTo>
                    <a:pt x="72" y="555"/>
                  </a:lnTo>
                  <a:lnTo>
                    <a:pt x="71" y="545"/>
                  </a:lnTo>
                  <a:lnTo>
                    <a:pt x="71" y="534"/>
                  </a:lnTo>
                  <a:lnTo>
                    <a:pt x="72" y="523"/>
                  </a:lnTo>
                  <a:lnTo>
                    <a:pt x="74" y="510"/>
                  </a:lnTo>
                  <a:lnTo>
                    <a:pt x="78" y="498"/>
                  </a:lnTo>
                  <a:lnTo>
                    <a:pt x="82" y="485"/>
                  </a:lnTo>
                  <a:lnTo>
                    <a:pt x="87" y="473"/>
                  </a:lnTo>
                  <a:lnTo>
                    <a:pt x="93" y="459"/>
                  </a:lnTo>
                  <a:lnTo>
                    <a:pt x="101" y="446"/>
                  </a:lnTo>
                  <a:lnTo>
                    <a:pt x="109" y="433"/>
                  </a:lnTo>
                  <a:lnTo>
                    <a:pt x="118" y="418"/>
                  </a:lnTo>
                  <a:lnTo>
                    <a:pt x="129" y="405"/>
                  </a:lnTo>
                  <a:lnTo>
                    <a:pt x="140" y="391"/>
                  </a:lnTo>
                  <a:lnTo>
                    <a:pt x="151" y="376"/>
                  </a:lnTo>
                  <a:lnTo>
                    <a:pt x="179" y="348"/>
                  </a:lnTo>
                  <a:lnTo>
                    <a:pt x="209" y="319"/>
                  </a:lnTo>
                  <a:lnTo>
                    <a:pt x="243" y="291"/>
                  </a:lnTo>
                  <a:lnTo>
                    <a:pt x="281" y="262"/>
                  </a:lnTo>
                  <a:lnTo>
                    <a:pt x="322" y="235"/>
                  </a:lnTo>
                  <a:lnTo>
                    <a:pt x="365" y="209"/>
                  </a:lnTo>
                  <a:lnTo>
                    <a:pt x="389" y="195"/>
                  </a:lnTo>
                  <a:lnTo>
                    <a:pt x="412" y="183"/>
                  </a:lnTo>
                  <a:lnTo>
                    <a:pt x="437" y="170"/>
                  </a:lnTo>
                  <a:lnTo>
                    <a:pt x="463" y="158"/>
                  </a:lnTo>
                  <a:lnTo>
                    <a:pt x="498" y="143"/>
                  </a:lnTo>
                  <a:lnTo>
                    <a:pt x="531" y="129"/>
                  </a:lnTo>
                  <a:lnTo>
                    <a:pt x="566" y="117"/>
                  </a:lnTo>
                  <a:lnTo>
                    <a:pt x="600" y="107"/>
                  </a:lnTo>
                  <a:lnTo>
                    <a:pt x="633" y="97"/>
                  </a:lnTo>
                  <a:lnTo>
                    <a:pt x="666" y="88"/>
                  </a:lnTo>
                  <a:lnTo>
                    <a:pt x="698" y="82"/>
                  </a:lnTo>
                  <a:lnTo>
                    <a:pt x="730" y="77"/>
                  </a:lnTo>
                  <a:lnTo>
                    <a:pt x="760" y="73"/>
                  </a:lnTo>
                  <a:lnTo>
                    <a:pt x="790" y="71"/>
                  </a:lnTo>
                  <a:lnTo>
                    <a:pt x="817" y="71"/>
                  </a:lnTo>
                  <a:lnTo>
                    <a:pt x="844" y="71"/>
                  </a:lnTo>
                  <a:lnTo>
                    <a:pt x="869" y="73"/>
                  </a:lnTo>
                  <a:lnTo>
                    <a:pt x="893" y="78"/>
                  </a:lnTo>
                  <a:lnTo>
                    <a:pt x="915" y="83"/>
                  </a:lnTo>
                  <a:lnTo>
                    <a:pt x="936" y="91"/>
                  </a:lnTo>
                  <a:lnTo>
                    <a:pt x="947" y="96"/>
                  </a:lnTo>
                  <a:lnTo>
                    <a:pt x="959" y="102"/>
                  </a:lnTo>
                  <a:lnTo>
                    <a:pt x="967" y="108"/>
                  </a:lnTo>
                  <a:lnTo>
                    <a:pt x="976" y="116"/>
                  </a:lnTo>
                  <a:lnTo>
                    <a:pt x="983" y="123"/>
                  </a:lnTo>
                  <a:lnTo>
                    <a:pt x="990" y="130"/>
                  </a:lnTo>
                  <a:lnTo>
                    <a:pt x="995" y="139"/>
                  </a:lnTo>
                  <a:lnTo>
                    <a:pt x="1000" y="149"/>
                  </a:lnTo>
                  <a:lnTo>
                    <a:pt x="1000" y="149"/>
                  </a:lnTo>
                  <a:lnTo>
                    <a:pt x="1002" y="158"/>
                  </a:lnTo>
                  <a:lnTo>
                    <a:pt x="1005" y="168"/>
                  </a:lnTo>
                  <a:lnTo>
                    <a:pt x="1005" y="179"/>
                  </a:lnTo>
                  <a:lnTo>
                    <a:pt x="1005" y="190"/>
                  </a:lnTo>
                  <a:lnTo>
                    <a:pt x="1003" y="201"/>
                  </a:lnTo>
                  <a:lnTo>
                    <a:pt x="1001" y="212"/>
                  </a:lnTo>
                  <a:lnTo>
                    <a:pt x="998" y="225"/>
                  </a:lnTo>
                  <a:lnTo>
                    <a:pt x="993" y="237"/>
                  </a:lnTo>
                  <a:lnTo>
                    <a:pt x="988" y="251"/>
                  </a:lnTo>
                  <a:lnTo>
                    <a:pt x="982" y="263"/>
                  </a:lnTo>
                  <a:lnTo>
                    <a:pt x="975" y="277"/>
                  </a:lnTo>
                  <a:lnTo>
                    <a:pt x="966" y="291"/>
                  </a:lnTo>
                  <a:lnTo>
                    <a:pt x="957" y="304"/>
                  </a:lnTo>
                  <a:lnTo>
                    <a:pt x="947" y="318"/>
                  </a:lnTo>
                  <a:lnTo>
                    <a:pt x="936" y="331"/>
                  </a:lnTo>
                  <a:lnTo>
                    <a:pt x="924" y="346"/>
                  </a:lnTo>
                  <a:lnTo>
                    <a:pt x="898" y="375"/>
                  </a:lnTo>
                  <a:lnTo>
                    <a:pt x="867" y="403"/>
                  </a:lnTo>
                  <a:lnTo>
                    <a:pt x="833" y="432"/>
                  </a:lnTo>
                  <a:lnTo>
                    <a:pt x="796" y="460"/>
                  </a:lnTo>
                  <a:lnTo>
                    <a:pt x="775" y="474"/>
                  </a:lnTo>
                  <a:lnTo>
                    <a:pt x="755" y="488"/>
                  </a:lnTo>
                  <a:lnTo>
                    <a:pt x="733" y="501"/>
                  </a:lnTo>
                  <a:lnTo>
                    <a:pt x="710" y="515"/>
                  </a:lnTo>
                  <a:lnTo>
                    <a:pt x="687" y="527"/>
                  </a:lnTo>
                  <a:lnTo>
                    <a:pt x="663" y="540"/>
                  </a:lnTo>
                  <a:lnTo>
                    <a:pt x="638" y="552"/>
                  </a:lnTo>
                  <a:lnTo>
                    <a:pt x="612" y="565"/>
                  </a:lnTo>
                  <a:lnTo>
                    <a:pt x="577" y="580"/>
                  </a:lnTo>
                  <a:lnTo>
                    <a:pt x="544" y="593"/>
                  </a:lnTo>
                  <a:lnTo>
                    <a:pt x="509" y="606"/>
                  </a:lnTo>
                  <a:lnTo>
                    <a:pt x="476" y="617"/>
                  </a:lnTo>
                  <a:lnTo>
                    <a:pt x="442" y="627"/>
                  </a:lnTo>
                  <a:lnTo>
                    <a:pt x="410" y="634"/>
                  </a:lnTo>
                  <a:lnTo>
                    <a:pt x="377" y="640"/>
                  </a:lnTo>
                  <a:lnTo>
                    <a:pt x="346" y="645"/>
                  </a:lnTo>
                  <a:lnTo>
                    <a:pt x="315" y="649"/>
                  </a:lnTo>
                  <a:lnTo>
                    <a:pt x="287" y="652"/>
                  </a:lnTo>
                  <a:lnTo>
                    <a:pt x="258" y="653"/>
                  </a:lnTo>
                  <a:lnTo>
                    <a:pt x="232" y="652"/>
                  </a:lnTo>
                  <a:lnTo>
                    <a:pt x="206" y="649"/>
                  </a:lnTo>
                  <a:lnTo>
                    <a:pt x="183" y="645"/>
                  </a:lnTo>
                  <a:lnTo>
                    <a:pt x="160" y="639"/>
                  </a:lnTo>
                  <a:lnTo>
                    <a:pt x="140" y="632"/>
                  </a:lnTo>
                  <a:close/>
                  <a:moveTo>
                    <a:pt x="1067" y="123"/>
                  </a:moveTo>
                  <a:lnTo>
                    <a:pt x="1067" y="123"/>
                  </a:lnTo>
                  <a:lnTo>
                    <a:pt x="1067" y="1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3846600" y="5343480"/>
              <a:ext cx="244440" cy="160200"/>
            </a:xfrm>
            <a:custGeom>
              <a:avLst/>
              <a:gdLst/>
              <a:ahLst/>
              <a:rect l="l" t="t" r="r" b="b"/>
              <a:pathLst>
                <a:path w="617" h="404">
                  <a:moveTo>
                    <a:pt x="612" y="63"/>
                  </a:moveTo>
                  <a:lnTo>
                    <a:pt x="608" y="57"/>
                  </a:lnTo>
                  <a:lnTo>
                    <a:pt x="605" y="49"/>
                  </a:lnTo>
                  <a:lnTo>
                    <a:pt x="600" y="43"/>
                  </a:lnTo>
                  <a:lnTo>
                    <a:pt x="595" y="37"/>
                  </a:lnTo>
                  <a:lnTo>
                    <a:pt x="588" y="31"/>
                  </a:lnTo>
                  <a:lnTo>
                    <a:pt x="582" y="26"/>
                  </a:lnTo>
                  <a:lnTo>
                    <a:pt x="575" y="21"/>
                  </a:lnTo>
                  <a:lnTo>
                    <a:pt x="566" y="17"/>
                  </a:lnTo>
                  <a:lnTo>
                    <a:pt x="549" y="10"/>
                  </a:lnTo>
                  <a:lnTo>
                    <a:pt x="529" y="5"/>
                  </a:lnTo>
                  <a:lnTo>
                    <a:pt x="508" y="1"/>
                  </a:lnTo>
                  <a:lnTo>
                    <a:pt x="484" y="0"/>
                  </a:lnTo>
                  <a:lnTo>
                    <a:pt x="458" y="0"/>
                  </a:lnTo>
                  <a:lnTo>
                    <a:pt x="432" y="2"/>
                  </a:lnTo>
                  <a:lnTo>
                    <a:pt x="405" y="6"/>
                  </a:lnTo>
                  <a:lnTo>
                    <a:pt x="376" y="12"/>
                  </a:lnTo>
                  <a:lnTo>
                    <a:pt x="346" y="19"/>
                  </a:lnTo>
                  <a:lnTo>
                    <a:pt x="315" y="29"/>
                  </a:lnTo>
                  <a:lnTo>
                    <a:pt x="284" y="41"/>
                  </a:lnTo>
                  <a:lnTo>
                    <a:pt x="253" y="54"/>
                  </a:lnTo>
                  <a:lnTo>
                    <a:pt x="222" y="69"/>
                  </a:lnTo>
                  <a:lnTo>
                    <a:pt x="194" y="85"/>
                  </a:lnTo>
                  <a:lnTo>
                    <a:pt x="165" y="103"/>
                  </a:lnTo>
                  <a:lnTo>
                    <a:pt x="139" y="120"/>
                  </a:lnTo>
                  <a:lnTo>
                    <a:pt x="115" y="139"/>
                  </a:lnTo>
                  <a:lnTo>
                    <a:pt x="93" y="157"/>
                  </a:lnTo>
                  <a:lnTo>
                    <a:pt x="73" y="176"/>
                  </a:lnTo>
                  <a:lnTo>
                    <a:pt x="54" y="196"/>
                  </a:lnTo>
                  <a:lnTo>
                    <a:pt x="40" y="214"/>
                  </a:lnTo>
                  <a:lnTo>
                    <a:pt x="26" y="234"/>
                  </a:lnTo>
                  <a:lnTo>
                    <a:pt x="16" y="253"/>
                  </a:lnTo>
                  <a:lnTo>
                    <a:pt x="7" y="271"/>
                  </a:lnTo>
                  <a:lnTo>
                    <a:pt x="5" y="281"/>
                  </a:lnTo>
                  <a:lnTo>
                    <a:pt x="2" y="290"/>
                  </a:lnTo>
                  <a:lnTo>
                    <a:pt x="1" y="299"/>
                  </a:lnTo>
                  <a:lnTo>
                    <a:pt x="0" y="307"/>
                  </a:lnTo>
                  <a:lnTo>
                    <a:pt x="0" y="316"/>
                  </a:lnTo>
                  <a:lnTo>
                    <a:pt x="1" y="325"/>
                  </a:lnTo>
                  <a:lnTo>
                    <a:pt x="4" y="332"/>
                  </a:lnTo>
                  <a:lnTo>
                    <a:pt x="6" y="340"/>
                  </a:lnTo>
                  <a:lnTo>
                    <a:pt x="9" y="347"/>
                  </a:lnTo>
                  <a:lnTo>
                    <a:pt x="12" y="354"/>
                  </a:lnTo>
                  <a:lnTo>
                    <a:pt x="17" y="361"/>
                  </a:lnTo>
                  <a:lnTo>
                    <a:pt x="23" y="367"/>
                  </a:lnTo>
                  <a:lnTo>
                    <a:pt x="28" y="373"/>
                  </a:lnTo>
                  <a:lnTo>
                    <a:pt x="36" y="378"/>
                  </a:lnTo>
                  <a:lnTo>
                    <a:pt x="43" y="382"/>
                  </a:lnTo>
                  <a:lnTo>
                    <a:pt x="51" y="387"/>
                  </a:lnTo>
                  <a:lnTo>
                    <a:pt x="59" y="390"/>
                  </a:lnTo>
                  <a:lnTo>
                    <a:pt x="68" y="394"/>
                  </a:lnTo>
                  <a:lnTo>
                    <a:pt x="78" y="397"/>
                  </a:lnTo>
                  <a:lnTo>
                    <a:pt x="88" y="399"/>
                  </a:lnTo>
                  <a:lnTo>
                    <a:pt x="110" y="402"/>
                  </a:lnTo>
                  <a:lnTo>
                    <a:pt x="134" y="404"/>
                  </a:lnTo>
                  <a:lnTo>
                    <a:pt x="159" y="403"/>
                  </a:lnTo>
                  <a:lnTo>
                    <a:pt x="185" y="402"/>
                  </a:lnTo>
                  <a:lnTo>
                    <a:pt x="213" y="397"/>
                  </a:lnTo>
                  <a:lnTo>
                    <a:pt x="242" y="392"/>
                  </a:lnTo>
                  <a:lnTo>
                    <a:pt x="272" y="383"/>
                  </a:lnTo>
                  <a:lnTo>
                    <a:pt x="302" y="374"/>
                  </a:lnTo>
                  <a:lnTo>
                    <a:pt x="333" y="362"/>
                  </a:lnTo>
                  <a:lnTo>
                    <a:pt x="365" y="350"/>
                  </a:lnTo>
                  <a:lnTo>
                    <a:pt x="395" y="335"/>
                  </a:lnTo>
                  <a:lnTo>
                    <a:pt x="425" y="318"/>
                  </a:lnTo>
                  <a:lnTo>
                    <a:pt x="452" y="301"/>
                  </a:lnTo>
                  <a:lnTo>
                    <a:pt x="478" y="284"/>
                  </a:lnTo>
                  <a:lnTo>
                    <a:pt x="503" y="265"/>
                  </a:lnTo>
                  <a:lnTo>
                    <a:pt x="525" y="247"/>
                  </a:lnTo>
                  <a:lnTo>
                    <a:pt x="545" y="228"/>
                  </a:lnTo>
                  <a:lnTo>
                    <a:pt x="562" y="208"/>
                  </a:lnTo>
                  <a:lnTo>
                    <a:pt x="579" y="188"/>
                  </a:lnTo>
                  <a:lnTo>
                    <a:pt x="591" y="170"/>
                  </a:lnTo>
                  <a:lnTo>
                    <a:pt x="602" y="151"/>
                  </a:lnTo>
                  <a:lnTo>
                    <a:pt x="610" y="131"/>
                  </a:lnTo>
                  <a:lnTo>
                    <a:pt x="613" y="122"/>
                  </a:lnTo>
                  <a:lnTo>
                    <a:pt x="615" y="114"/>
                  </a:lnTo>
                  <a:lnTo>
                    <a:pt x="617" y="105"/>
                  </a:lnTo>
                  <a:lnTo>
                    <a:pt x="617" y="96"/>
                  </a:lnTo>
                  <a:lnTo>
                    <a:pt x="617" y="88"/>
                  </a:lnTo>
                  <a:lnTo>
                    <a:pt x="616" y="79"/>
                  </a:lnTo>
                  <a:lnTo>
                    <a:pt x="615" y="72"/>
                  </a:lnTo>
                  <a:lnTo>
                    <a:pt x="612" y="63"/>
                  </a:lnTo>
                  <a:close/>
                </a:path>
              </a:pathLst>
            </a:custGeom>
            <a:solidFill>
              <a:srgbClr val="f7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2736720" y="5551560"/>
              <a:ext cx="1711440" cy="345960"/>
            </a:xfrm>
            <a:custGeom>
              <a:avLst/>
              <a:gdLst/>
              <a:ahLst/>
              <a:rect l="l" t="t" r="r" b="b"/>
              <a:pathLst>
                <a:path w="4314" h="871">
                  <a:moveTo>
                    <a:pt x="0" y="39"/>
                  </a:moveTo>
                  <a:lnTo>
                    <a:pt x="44" y="38"/>
                  </a:lnTo>
                  <a:lnTo>
                    <a:pt x="164" y="35"/>
                  </a:lnTo>
                  <a:lnTo>
                    <a:pt x="353" y="31"/>
                  </a:lnTo>
                  <a:lnTo>
                    <a:pt x="600" y="26"/>
                  </a:lnTo>
                  <a:lnTo>
                    <a:pt x="894" y="22"/>
                  </a:lnTo>
                  <a:lnTo>
                    <a:pt x="1225" y="17"/>
                  </a:lnTo>
                  <a:lnTo>
                    <a:pt x="1584" y="12"/>
                  </a:lnTo>
                  <a:lnTo>
                    <a:pt x="1959" y="7"/>
                  </a:lnTo>
                  <a:lnTo>
                    <a:pt x="2339" y="3"/>
                  </a:lnTo>
                  <a:lnTo>
                    <a:pt x="2716" y="2"/>
                  </a:lnTo>
                  <a:lnTo>
                    <a:pt x="3079" y="0"/>
                  </a:lnTo>
                  <a:lnTo>
                    <a:pt x="3416" y="3"/>
                  </a:lnTo>
                  <a:lnTo>
                    <a:pt x="3573" y="4"/>
                  </a:lnTo>
                  <a:lnTo>
                    <a:pt x="3719" y="7"/>
                  </a:lnTo>
                  <a:lnTo>
                    <a:pt x="3854" y="10"/>
                  </a:lnTo>
                  <a:lnTo>
                    <a:pt x="3977" y="14"/>
                  </a:lnTo>
                  <a:lnTo>
                    <a:pt x="4085" y="19"/>
                  </a:lnTo>
                  <a:lnTo>
                    <a:pt x="4179" y="25"/>
                  </a:lnTo>
                  <a:lnTo>
                    <a:pt x="4256" y="31"/>
                  </a:lnTo>
                  <a:lnTo>
                    <a:pt x="4314" y="39"/>
                  </a:lnTo>
                  <a:lnTo>
                    <a:pt x="4298" y="69"/>
                  </a:lnTo>
                  <a:lnTo>
                    <a:pt x="4248" y="149"/>
                  </a:lnTo>
                  <a:lnTo>
                    <a:pt x="4214" y="204"/>
                  </a:lnTo>
                  <a:lnTo>
                    <a:pt x="4171" y="265"/>
                  </a:lnTo>
                  <a:lnTo>
                    <a:pt x="4148" y="297"/>
                  </a:lnTo>
                  <a:lnTo>
                    <a:pt x="4123" y="332"/>
                  </a:lnTo>
                  <a:lnTo>
                    <a:pt x="4096" y="365"/>
                  </a:lnTo>
                  <a:lnTo>
                    <a:pt x="4068" y="401"/>
                  </a:lnTo>
                  <a:lnTo>
                    <a:pt x="4039" y="437"/>
                  </a:lnTo>
                  <a:lnTo>
                    <a:pt x="4009" y="472"/>
                  </a:lnTo>
                  <a:lnTo>
                    <a:pt x="3977" y="508"/>
                  </a:lnTo>
                  <a:lnTo>
                    <a:pt x="3943" y="544"/>
                  </a:lnTo>
                  <a:lnTo>
                    <a:pt x="3909" y="579"/>
                  </a:lnTo>
                  <a:lnTo>
                    <a:pt x="3873" y="612"/>
                  </a:lnTo>
                  <a:lnTo>
                    <a:pt x="3837" y="646"/>
                  </a:lnTo>
                  <a:lnTo>
                    <a:pt x="3799" y="677"/>
                  </a:lnTo>
                  <a:lnTo>
                    <a:pt x="3760" y="708"/>
                  </a:lnTo>
                  <a:lnTo>
                    <a:pt x="3721" y="736"/>
                  </a:lnTo>
                  <a:lnTo>
                    <a:pt x="3681" y="763"/>
                  </a:lnTo>
                  <a:lnTo>
                    <a:pt x="3640" y="787"/>
                  </a:lnTo>
                  <a:lnTo>
                    <a:pt x="3598" y="809"/>
                  </a:lnTo>
                  <a:lnTo>
                    <a:pt x="3556" y="829"/>
                  </a:lnTo>
                  <a:lnTo>
                    <a:pt x="3512" y="847"/>
                  </a:lnTo>
                  <a:lnTo>
                    <a:pt x="3467" y="860"/>
                  </a:lnTo>
                  <a:lnTo>
                    <a:pt x="3443" y="860"/>
                  </a:lnTo>
                  <a:lnTo>
                    <a:pt x="3374" y="861"/>
                  </a:lnTo>
                  <a:lnTo>
                    <a:pt x="3265" y="864"/>
                  </a:lnTo>
                  <a:lnTo>
                    <a:pt x="3125" y="865"/>
                  </a:lnTo>
                  <a:lnTo>
                    <a:pt x="2956" y="868"/>
                  </a:lnTo>
                  <a:lnTo>
                    <a:pt x="2766" y="869"/>
                  </a:lnTo>
                  <a:lnTo>
                    <a:pt x="2560" y="870"/>
                  </a:lnTo>
                  <a:lnTo>
                    <a:pt x="2345" y="871"/>
                  </a:lnTo>
                  <a:lnTo>
                    <a:pt x="2126" y="870"/>
                  </a:lnTo>
                  <a:lnTo>
                    <a:pt x="1909" y="869"/>
                  </a:lnTo>
                  <a:lnTo>
                    <a:pt x="1700" y="865"/>
                  </a:lnTo>
                  <a:lnTo>
                    <a:pt x="1507" y="860"/>
                  </a:lnTo>
                  <a:lnTo>
                    <a:pt x="1416" y="857"/>
                  </a:lnTo>
                  <a:lnTo>
                    <a:pt x="1332" y="853"/>
                  </a:lnTo>
                  <a:lnTo>
                    <a:pt x="1253" y="849"/>
                  </a:lnTo>
                  <a:lnTo>
                    <a:pt x="1183" y="844"/>
                  </a:lnTo>
                  <a:lnTo>
                    <a:pt x="1119" y="838"/>
                  </a:lnTo>
                  <a:lnTo>
                    <a:pt x="1066" y="832"/>
                  </a:lnTo>
                  <a:lnTo>
                    <a:pt x="1020" y="824"/>
                  </a:lnTo>
                  <a:lnTo>
                    <a:pt x="985" y="817"/>
                  </a:lnTo>
                  <a:lnTo>
                    <a:pt x="976" y="813"/>
                  </a:lnTo>
                  <a:lnTo>
                    <a:pt x="953" y="803"/>
                  </a:lnTo>
                  <a:lnTo>
                    <a:pt x="913" y="786"/>
                  </a:lnTo>
                  <a:lnTo>
                    <a:pt x="862" y="762"/>
                  </a:lnTo>
                  <a:lnTo>
                    <a:pt x="801" y="732"/>
                  </a:lnTo>
                  <a:lnTo>
                    <a:pt x="731" y="696"/>
                  </a:lnTo>
                  <a:lnTo>
                    <a:pt x="693" y="675"/>
                  </a:lnTo>
                  <a:lnTo>
                    <a:pt x="655" y="654"/>
                  </a:lnTo>
                  <a:lnTo>
                    <a:pt x="615" y="631"/>
                  </a:lnTo>
                  <a:lnTo>
                    <a:pt x="574" y="606"/>
                  </a:lnTo>
                  <a:lnTo>
                    <a:pt x="533" y="580"/>
                  </a:lnTo>
                  <a:lnTo>
                    <a:pt x="491" y="553"/>
                  </a:lnTo>
                  <a:lnTo>
                    <a:pt x="450" y="524"/>
                  </a:lnTo>
                  <a:lnTo>
                    <a:pt x="408" y="494"/>
                  </a:lnTo>
                  <a:lnTo>
                    <a:pt x="366" y="463"/>
                  </a:lnTo>
                  <a:lnTo>
                    <a:pt x="325" y="430"/>
                  </a:lnTo>
                  <a:lnTo>
                    <a:pt x="285" y="396"/>
                  </a:lnTo>
                  <a:lnTo>
                    <a:pt x="246" y="361"/>
                  </a:lnTo>
                  <a:lnTo>
                    <a:pt x="208" y="326"/>
                  </a:lnTo>
                  <a:lnTo>
                    <a:pt x="172" y="287"/>
                  </a:lnTo>
                  <a:lnTo>
                    <a:pt x="137" y="249"/>
                  </a:lnTo>
                  <a:lnTo>
                    <a:pt x="105" y="209"/>
                  </a:lnTo>
                  <a:lnTo>
                    <a:pt x="75" y="168"/>
                  </a:lnTo>
                  <a:lnTo>
                    <a:pt x="48" y="126"/>
                  </a:lnTo>
                  <a:lnTo>
                    <a:pt x="23" y="8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2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2714760" y="5537160"/>
              <a:ext cx="1755720" cy="374760"/>
            </a:xfrm>
            <a:custGeom>
              <a:avLst/>
              <a:gdLst/>
              <a:ahLst/>
              <a:rect l="l" t="t" r="r" b="b"/>
              <a:pathLst>
                <a:path w="4424" h="942">
                  <a:moveTo>
                    <a:pt x="54" y="39"/>
                  </a:moveTo>
                  <a:lnTo>
                    <a:pt x="0" y="40"/>
                  </a:lnTo>
                  <a:lnTo>
                    <a:pt x="22" y="90"/>
                  </a:lnTo>
                  <a:lnTo>
                    <a:pt x="45" y="134"/>
                  </a:lnTo>
                  <a:lnTo>
                    <a:pt x="69" y="178"/>
                  </a:lnTo>
                  <a:lnTo>
                    <a:pt x="97" y="221"/>
                  </a:lnTo>
                  <a:lnTo>
                    <a:pt x="128" y="262"/>
                  </a:lnTo>
                  <a:lnTo>
                    <a:pt x="160" y="302"/>
                  </a:lnTo>
                  <a:lnTo>
                    <a:pt x="194" y="342"/>
                  </a:lnTo>
                  <a:lnTo>
                    <a:pt x="230" y="380"/>
                  </a:lnTo>
                  <a:lnTo>
                    <a:pt x="268" y="416"/>
                  </a:lnTo>
                  <a:lnTo>
                    <a:pt x="307" y="452"/>
                  </a:lnTo>
                  <a:lnTo>
                    <a:pt x="346" y="486"/>
                  </a:lnTo>
                  <a:lnTo>
                    <a:pt x="387" y="519"/>
                  </a:lnTo>
                  <a:lnTo>
                    <a:pt x="428" y="551"/>
                  </a:lnTo>
                  <a:lnTo>
                    <a:pt x="470" y="581"/>
                  </a:lnTo>
                  <a:lnTo>
                    <a:pt x="511" y="611"/>
                  </a:lnTo>
                  <a:lnTo>
                    <a:pt x="554" y="638"/>
                  </a:lnTo>
                  <a:lnTo>
                    <a:pt x="595" y="664"/>
                  </a:lnTo>
                  <a:lnTo>
                    <a:pt x="636" y="689"/>
                  </a:lnTo>
                  <a:lnTo>
                    <a:pt x="675" y="713"/>
                  </a:lnTo>
                  <a:lnTo>
                    <a:pt x="715" y="735"/>
                  </a:lnTo>
                  <a:lnTo>
                    <a:pt x="752" y="756"/>
                  </a:lnTo>
                  <a:lnTo>
                    <a:pt x="824" y="793"/>
                  </a:lnTo>
                  <a:lnTo>
                    <a:pt x="888" y="824"/>
                  </a:lnTo>
                  <a:lnTo>
                    <a:pt x="941" y="849"/>
                  </a:lnTo>
                  <a:lnTo>
                    <a:pt x="983" y="868"/>
                  </a:lnTo>
                  <a:lnTo>
                    <a:pt x="1013" y="880"/>
                  </a:lnTo>
                  <a:lnTo>
                    <a:pt x="1027" y="886"/>
                  </a:lnTo>
                  <a:lnTo>
                    <a:pt x="1061" y="894"/>
                  </a:lnTo>
                  <a:lnTo>
                    <a:pt x="1106" y="901"/>
                  </a:lnTo>
                  <a:lnTo>
                    <a:pt x="1160" y="907"/>
                  </a:lnTo>
                  <a:lnTo>
                    <a:pt x="1222" y="914"/>
                  </a:lnTo>
                  <a:lnTo>
                    <a:pt x="1291" y="919"/>
                  </a:lnTo>
                  <a:lnTo>
                    <a:pt x="1368" y="924"/>
                  </a:lnTo>
                  <a:lnTo>
                    <a:pt x="1451" y="927"/>
                  </a:lnTo>
                  <a:lnTo>
                    <a:pt x="1540" y="931"/>
                  </a:lnTo>
                  <a:lnTo>
                    <a:pt x="1730" y="936"/>
                  </a:lnTo>
                  <a:lnTo>
                    <a:pt x="1933" y="940"/>
                  </a:lnTo>
                  <a:lnTo>
                    <a:pt x="2146" y="942"/>
                  </a:lnTo>
                  <a:lnTo>
                    <a:pt x="2362" y="942"/>
                  </a:lnTo>
                  <a:lnTo>
                    <a:pt x="2574" y="942"/>
                  </a:lnTo>
                  <a:lnTo>
                    <a:pt x="2778" y="941"/>
                  </a:lnTo>
                  <a:lnTo>
                    <a:pt x="2969" y="940"/>
                  </a:lnTo>
                  <a:lnTo>
                    <a:pt x="3140" y="938"/>
                  </a:lnTo>
                  <a:lnTo>
                    <a:pt x="3287" y="936"/>
                  </a:lnTo>
                  <a:lnTo>
                    <a:pt x="3402" y="933"/>
                  </a:lnTo>
                  <a:lnTo>
                    <a:pt x="3483" y="932"/>
                  </a:lnTo>
                  <a:lnTo>
                    <a:pt x="3523" y="932"/>
                  </a:lnTo>
                  <a:lnTo>
                    <a:pt x="3567" y="917"/>
                  </a:lnTo>
                  <a:lnTo>
                    <a:pt x="3613" y="901"/>
                  </a:lnTo>
                  <a:lnTo>
                    <a:pt x="3657" y="881"/>
                  </a:lnTo>
                  <a:lnTo>
                    <a:pt x="3700" y="859"/>
                  </a:lnTo>
                  <a:lnTo>
                    <a:pt x="3742" y="834"/>
                  </a:lnTo>
                  <a:lnTo>
                    <a:pt x="3785" y="807"/>
                  </a:lnTo>
                  <a:lnTo>
                    <a:pt x="3824" y="778"/>
                  </a:lnTo>
                  <a:lnTo>
                    <a:pt x="3864" y="749"/>
                  </a:lnTo>
                  <a:lnTo>
                    <a:pt x="3903" y="716"/>
                  </a:lnTo>
                  <a:lnTo>
                    <a:pt x="3940" y="684"/>
                  </a:lnTo>
                  <a:lnTo>
                    <a:pt x="3976" y="649"/>
                  </a:lnTo>
                  <a:lnTo>
                    <a:pt x="4012" y="615"/>
                  </a:lnTo>
                  <a:lnTo>
                    <a:pt x="4045" y="580"/>
                  </a:lnTo>
                  <a:lnTo>
                    <a:pt x="4078" y="544"/>
                  </a:lnTo>
                  <a:lnTo>
                    <a:pt x="4109" y="508"/>
                  </a:lnTo>
                  <a:lnTo>
                    <a:pt x="4140" y="473"/>
                  </a:lnTo>
                  <a:lnTo>
                    <a:pt x="4168" y="437"/>
                  </a:lnTo>
                  <a:lnTo>
                    <a:pt x="4194" y="402"/>
                  </a:lnTo>
                  <a:lnTo>
                    <a:pt x="4221" y="369"/>
                  </a:lnTo>
                  <a:lnTo>
                    <a:pt x="4245" y="335"/>
                  </a:lnTo>
                  <a:lnTo>
                    <a:pt x="4289" y="272"/>
                  </a:lnTo>
                  <a:lnTo>
                    <a:pt x="4325" y="216"/>
                  </a:lnTo>
                  <a:lnTo>
                    <a:pt x="4355" y="169"/>
                  </a:lnTo>
                  <a:lnTo>
                    <a:pt x="4378" y="131"/>
                  </a:lnTo>
                  <a:lnTo>
                    <a:pt x="4393" y="105"/>
                  </a:lnTo>
                  <a:lnTo>
                    <a:pt x="4401" y="92"/>
                  </a:lnTo>
                  <a:lnTo>
                    <a:pt x="4424" y="48"/>
                  </a:lnTo>
                  <a:lnTo>
                    <a:pt x="4374" y="40"/>
                  </a:lnTo>
                  <a:lnTo>
                    <a:pt x="4316" y="33"/>
                  </a:lnTo>
                  <a:lnTo>
                    <a:pt x="4240" y="25"/>
                  </a:lnTo>
                  <a:lnTo>
                    <a:pt x="4148" y="20"/>
                  </a:lnTo>
                  <a:lnTo>
                    <a:pt x="4043" y="15"/>
                  </a:lnTo>
                  <a:lnTo>
                    <a:pt x="3924" y="10"/>
                  </a:lnTo>
                  <a:lnTo>
                    <a:pt x="3792" y="8"/>
                  </a:lnTo>
                  <a:lnTo>
                    <a:pt x="3649" y="5"/>
                  </a:lnTo>
                  <a:lnTo>
                    <a:pt x="3498" y="3"/>
                  </a:lnTo>
                  <a:lnTo>
                    <a:pt x="3169" y="0"/>
                  </a:lnTo>
                  <a:lnTo>
                    <a:pt x="2816" y="0"/>
                  </a:lnTo>
                  <a:lnTo>
                    <a:pt x="2447" y="3"/>
                  </a:lnTo>
                  <a:lnTo>
                    <a:pt x="2074" y="7"/>
                  </a:lnTo>
                  <a:lnTo>
                    <a:pt x="1705" y="10"/>
                  </a:lnTo>
                  <a:lnTo>
                    <a:pt x="1350" y="15"/>
                  </a:lnTo>
                  <a:lnTo>
                    <a:pt x="1018" y="20"/>
                  </a:lnTo>
                  <a:lnTo>
                    <a:pt x="720" y="27"/>
                  </a:lnTo>
                  <a:lnTo>
                    <a:pt x="464" y="31"/>
                  </a:lnTo>
                  <a:lnTo>
                    <a:pt x="262" y="35"/>
                  </a:lnTo>
                  <a:lnTo>
                    <a:pt x="121" y="38"/>
                  </a:lnTo>
                  <a:lnTo>
                    <a:pt x="54" y="39"/>
                  </a:lnTo>
                  <a:close/>
                  <a:moveTo>
                    <a:pt x="4310" y="106"/>
                  </a:moveTo>
                  <a:lnTo>
                    <a:pt x="4290" y="138"/>
                  </a:lnTo>
                  <a:lnTo>
                    <a:pt x="4265" y="178"/>
                  </a:lnTo>
                  <a:lnTo>
                    <a:pt x="4235" y="223"/>
                  </a:lnTo>
                  <a:lnTo>
                    <a:pt x="4201" y="273"/>
                  </a:lnTo>
                  <a:lnTo>
                    <a:pt x="4162" y="327"/>
                  </a:lnTo>
                  <a:lnTo>
                    <a:pt x="4119" y="384"/>
                  </a:lnTo>
                  <a:lnTo>
                    <a:pt x="4095" y="412"/>
                  </a:lnTo>
                  <a:lnTo>
                    <a:pt x="4071" y="442"/>
                  </a:lnTo>
                  <a:lnTo>
                    <a:pt x="4047" y="472"/>
                  </a:lnTo>
                  <a:lnTo>
                    <a:pt x="4021" y="502"/>
                  </a:lnTo>
                  <a:lnTo>
                    <a:pt x="3995" y="530"/>
                  </a:lnTo>
                  <a:lnTo>
                    <a:pt x="3967" y="560"/>
                  </a:lnTo>
                  <a:lnTo>
                    <a:pt x="3939" y="589"/>
                  </a:lnTo>
                  <a:lnTo>
                    <a:pt x="3910" y="616"/>
                  </a:lnTo>
                  <a:lnTo>
                    <a:pt x="3880" y="644"/>
                  </a:lnTo>
                  <a:lnTo>
                    <a:pt x="3849" y="670"/>
                  </a:lnTo>
                  <a:lnTo>
                    <a:pt x="3818" y="696"/>
                  </a:lnTo>
                  <a:lnTo>
                    <a:pt x="3786" y="720"/>
                  </a:lnTo>
                  <a:lnTo>
                    <a:pt x="3754" y="744"/>
                  </a:lnTo>
                  <a:lnTo>
                    <a:pt x="3721" y="766"/>
                  </a:lnTo>
                  <a:lnTo>
                    <a:pt x="3687" y="787"/>
                  </a:lnTo>
                  <a:lnTo>
                    <a:pt x="3653" y="806"/>
                  </a:lnTo>
                  <a:lnTo>
                    <a:pt x="3618" y="823"/>
                  </a:lnTo>
                  <a:lnTo>
                    <a:pt x="3583" y="838"/>
                  </a:lnTo>
                  <a:lnTo>
                    <a:pt x="3547" y="850"/>
                  </a:lnTo>
                  <a:lnTo>
                    <a:pt x="3513" y="862"/>
                  </a:lnTo>
                  <a:lnTo>
                    <a:pt x="3485" y="863"/>
                  </a:lnTo>
                  <a:lnTo>
                    <a:pt x="3415" y="863"/>
                  </a:lnTo>
                  <a:lnTo>
                    <a:pt x="3307" y="865"/>
                  </a:lnTo>
                  <a:lnTo>
                    <a:pt x="3165" y="866"/>
                  </a:lnTo>
                  <a:lnTo>
                    <a:pt x="2997" y="869"/>
                  </a:lnTo>
                  <a:lnTo>
                    <a:pt x="2807" y="870"/>
                  </a:lnTo>
                  <a:lnTo>
                    <a:pt x="2604" y="871"/>
                  </a:lnTo>
                  <a:lnTo>
                    <a:pt x="2390" y="871"/>
                  </a:lnTo>
                  <a:lnTo>
                    <a:pt x="2174" y="871"/>
                  </a:lnTo>
                  <a:lnTo>
                    <a:pt x="1959" y="869"/>
                  </a:lnTo>
                  <a:lnTo>
                    <a:pt x="1753" y="865"/>
                  </a:lnTo>
                  <a:lnTo>
                    <a:pt x="1562" y="860"/>
                  </a:lnTo>
                  <a:lnTo>
                    <a:pt x="1473" y="858"/>
                  </a:lnTo>
                  <a:lnTo>
                    <a:pt x="1389" y="854"/>
                  </a:lnTo>
                  <a:lnTo>
                    <a:pt x="1312" y="849"/>
                  </a:lnTo>
                  <a:lnTo>
                    <a:pt x="1243" y="844"/>
                  </a:lnTo>
                  <a:lnTo>
                    <a:pt x="1181" y="839"/>
                  </a:lnTo>
                  <a:lnTo>
                    <a:pt x="1127" y="833"/>
                  </a:lnTo>
                  <a:lnTo>
                    <a:pt x="1083" y="827"/>
                  </a:lnTo>
                  <a:lnTo>
                    <a:pt x="1049" y="818"/>
                  </a:lnTo>
                  <a:lnTo>
                    <a:pt x="1040" y="816"/>
                  </a:lnTo>
                  <a:lnTo>
                    <a:pt x="1018" y="806"/>
                  </a:lnTo>
                  <a:lnTo>
                    <a:pt x="982" y="790"/>
                  </a:lnTo>
                  <a:lnTo>
                    <a:pt x="935" y="767"/>
                  </a:lnTo>
                  <a:lnTo>
                    <a:pt x="879" y="740"/>
                  </a:lnTo>
                  <a:lnTo>
                    <a:pt x="816" y="706"/>
                  </a:lnTo>
                  <a:lnTo>
                    <a:pt x="745" y="668"/>
                  </a:lnTo>
                  <a:lnTo>
                    <a:pt x="672" y="623"/>
                  </a:lnTo>
                  <a:lnTo>
                    <a:pt x="633" y="600"/>
                  </a:lnTo>
                  <a:lnTo>
                    <a:pt x="593" y="575"/>
                  </a:lnTo>
                  <a:lnTo>
                    <a:pt x="555" y="549"/>
                  </a:lnTo>
                  <a:lnTo>
                    <a:pt x="515" y="522"/>
                  </a:lnTo>
                  <a:lnTo>
                    <a:pt x="477" y="493"/>
                  </a:lnTo>
                  <a:lnTo>
                    <a:pt x="438" y="463"/>
                  </a:lnTo>
                  <a:lnTo>
                    <a:pt x="400" y="432"/>
                  </a:lnTo>
                  <a:lnTo>
                    <a:pt x="362" y="400"/>
                  </a:lnTo>
                  <a:lnTo>
                    <a:pt x="326" y="368"/>
                  </a:lnTo>
                  <a:lnTo>
                    <a:pt x="292" y="334"/>
                  </a:lnTo>
                  <a:lnTo>
                    <a:pt x="258" y="298"/>
                  </a:lnTo>
                  <a:lnTo>
                    <a:pt x="226" y="262"/>
                  </a:lnTo>
                  <a:lnTo>
                    <a:pt x="195" y="226"/>
                  </a:lnTo>
                  <a:lnTo>
                    <a:pt x="167" y="188"/>
                  </a:lnTo>
                  <a:lnTo>
                    <a:pt x="141" y="149"/>
                  </a:lnTo>
                  <a:lnTo>
                    <a:pt x="118" y="110"/>
                  </a:lnTo>
                  <a:lnTo>
                    <a:pt x="234" y="107"/>
                  </a:lnTo>
                  <a:lnTo>
                    <a:pt x="407" y="103"/>
                  </a:lnTo>
                  <a:lnTo>
                    <a:pt x="626" y="100"/>
                  </a:lnTo>
                  <a:lnTo>
                    <a:pt x="884" y="95"/>
                  </a:lnTo>
                  <a:lnTo>
                    <a:pt x="1174" y="90"/>
                  </a:lnTo>
                  <a:lnTo>
                    <a:pt x="1490" y="85"/>
                  </a:lnTo>
                  <a:lnTo>
                    <a:pt x="1821" y="81"/>
                  </a:lnTo>
                  <a:lnTo>
                    <a:pt x="2162" y="77"/>
                  </a:lnTo>
                  <a:lnTo>
                    <a:pt x="2504" y="75"/>
                  </a:lnTo>
                  <a:lnTo>
                    <a:pt x="2840" y="74"/>
                  </a:lnTo>
                  <a:lnTo>
                    <a:pt x="3163" y="74"/>
                  </a:lnTo>
                  <a:lnTo>
                    <a:pt x="3464" y="75"/>
                  </a:lnTo>
                  <a:lnTo>
                    <a:pt x="3606" y="76"/>
                  </a:lnTo>
                  <a:lnTo>
                    <a:pt x="3737" y="79"/>
                  </a:lnTo>
                  <a:lnTo>
                    <a:pt x="3862" y="81"/>
                  </a:lnTo>
                  <a:lnTo>
                    <a:pt x="3975" y="85"/>
                  </a:lnTo>
                  <a:lnTo>
                    <a:pt x="4078" y="89"/>
                  </a:lnTo>
                  <a:lnTo>
                    <a:pt x="4168" y="94"/>
                  </a:lnTo>
                  <a:lnTo>
                    <a:pt x="4245" y="100"/>
                  </a:lnTo>
                  <a:lnTo>
                    <a:pt x="4310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27320" y="5875200"/>
              <a:ext cx="986040" cy="120960"/>
            </a:xfrm>
            <a:prstGeom prst="rect">
              <a:avLst/>
            </a:prstGeom>
            <a:solidFill>
              <a:srgbClr val="f2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3112920" y="5861160"/>
              <a:ext cx="1014480" cy="149040"/>
            </a:xfrm>
            <a:custGeom>
              <a:avLst/>
              <a:gdLst/>
              <a:ahLst/>
              <a:rect l="l" t="t" r="r" b="b"/>
              <a:pathLst>
                <a:path w="2553" h="375">
                  <a:moveTo>
                    <a:pt x="2517" y="0"/>
                  </a:moveTo>
                  <a:lnTo>
                    <a:pt x="0" y="0"/>
                  </a:lnTo>
                  <a:lnTo>
                    <a:pt x="0" y="375"/>
                  </a:lnTo>
                  <a:lnTo>
                    <a:pt x="2553" y="375"/>
                  </a:lnTo>
                  <a:lnTo>
                    <a:pt x="2553" y="0"/>
                  </a:lnTo>
                  <a:lnTo>
                    <a:pt x="2517" y="0"/>
                  </a:lnTo>
                  <a:close/>
                  <a:moveTo>
                    <a:pt x="2481" y="72"/>
                  </a:moveTo>
                  <a:lnTo>
                    <a:pt x="2481" y="93"/>
                  </a:lnTo>
                  <a:lnTo>
                    <a:pt x="2481" y="121"/>
                  </a:lnTo>
                  <a:lnTo>
                    <a:pt x="2481" y="154"/>
                  </a:lnTo>
                  <a:lnTo>
                    <a:pt x="2481" y="187"/>
                  </a:lnTo>
                  <a:lnTo>
                    <a:pt x="2481" y="222"/>
                  </a:lnTo>
                  <a:lnTo>
                    <a:pt x="2481" y="253"/>
                  </a:lnTo>
                  <a:lnTo>
                    <a:pt x="2481" y="281"/>
                  </a:lnTo>
                  <a:lnTo>
                    <a:pt x="2481" y="303"/>
                  </a:lnTo>
                  <a:lnTo>
                    <a:pt x="2444" y="303"/>
                  </a:lnTo>
                  <a:lnTo>
                    <a:pt x="2361" y="303"/>
                  </a:lnTo>
                  <a:lnTo>
                    <a:pt x="2240" y="303"/>
                  </a:lnTo>
                  <a:lnTo>
                    <a:pt x="2087" y="303"/>
                  </a:lnTo>
                  <a:lnTo>
                    <a:pt x="1906" y="303"/>
                  </a:lnTo>
                  <a:lnTo>
                    <a:pt x="1708" y="303"/>
                  </a:lnTo>
                  <a:lnTo>
                    <a:pt x="1495" y="303"/>
                  </a:lnTo>
                  <a:lnTo>
                    <a:pt x="1277" y="303"/>
                  </a:lnTo>
                  <a:lnTo>
                    <a:pt x="1058" y="303"/>
                  </a:lnTo>
                  <a:lnTo>
                    <a:pt x="846" y="303"/>
                  </a:lnTo>
                  <a:lnTo>
                    <a:pt x="647" y="303"/>
                  </a:lnTo>
                  <a:lnTo>
                    <a:pt x="467" y="303"/>
                  </a:lnTo>
                  <a:lnTo>
                    <a:pt x="313" y="303"/>
                  </a:lnTo>
                  <a:lnTo>
                    <a:pt x="192" y="303"/>
                  </a:lnTo>
                  <a:lnTo>
                    <a:pt x="108" y="303"/>
                  </a:lnTo>
                  <a:lnTo>
                    <a:pt x="71" y="303"/>
                  </a:lnTo>
                  <a:lnTo>
                    <a:pt x="71" y="281"/>
                  </a:lnTo>
                  <a:lnTo>
                    <a:pt x="71" y="253"/>
                  </a:lnTo>
                  <a:lnTo>
                    <a:pt x="71" y="222"/>
                  </a:lnTo>
                  <a:lnTo>
                    <a:pt x="71" y="187"/>
                  </a:lnTo>
                  <a:lnTo>
                    <a:pt x="71" y="154"/>
                  </a:lnTo>
                  <a:lnTo>
                    <a:pt x="71" y="121"/>
                  </a:lnTo>
                  <a:lnTo>
                    <a:pt x="71" y="93"/>
                  </a:lnTo>
                  <a:lnTo>
                    <a:pt x="71" y="72"/>
                  </a:lnTo>
                  <a:lnTo>
                    <a:pt x="108" y="72"/>
                  </a:lnTo>
                  <a:lnTo>
                    <a:pt x="192" y="72"/>
                  </a:lnTo>
                  <a:lnTo>
                    <a:pt x="313" y="72"/>
                  </a:lnTo>
                  <a:lnTo>
                    <a:pt x="467" y="72"/>
                  </a:lnTo>
                  <a:lnTo>
                    <a:pt x="647" y="72"/>
                  </a:lnTo>
                  <a:lnTo>
                    <a:pt x="846" y="72"/>
                  </a:lnTo>
                  <a:lnTo>
                    <a:pt x="1058" y="72"/>
                  </a:lnTo>
                  <a:lnTo>
                    <a:pt x="1277" y="72"/>
                  </a:lnTo>
                  <a:lnTo>
                    <a:pt x="1495" y="72"/>
                  </a:lnTo>
                  <a:lnTo>
                    <a:pt x="1708" y="72"/>
                  </a:lnTo>
                  <a:lnTo>
                    <a:pt x="1906" y="72"/>
                  </a:lnTo>
                  <a:lnTo>
                    <a:pt x="2087" y="72"/>
                  </a:lnTo>
                  <a:lnTo>
                    <a:pt x="2240" y="72"/>
                  </a:lnTo>
                  <a:lnTo>
                    <a:pt x="2361" y="72"/>
                  </a:lnTo>
                  <a:lnTo>
                    <a:pt x="2444" y="72"/>
                  </a:lnTo>
                  <a:lnTo>
                    <a:pt x="2481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2760840" y="5573880"/>
              <a:ext cx="1663560" cy="280800"/>
            </a:xfrm>
            <a:custGeom>
              <a:avLst/>
              <a:gdLst/>
              <a:ahLst/>
              <a:rect l="l" t="t" r="r" b="b"/>
              <a:pathLst>
                <a:path w="4192" h="704">
                  <a:moveTo>
                    <a:pt x="0" y="0"/>
                  </a:moveTo>
                  <a:lnTo>
                    <a:pt x="1398" y="39"/>
                  </a:lnTo>
                  <a:lnTo>
                    <a:pt x="1433" y="60"/>
                  </a:lnTo>
                  <a:lnTo>
                    <a:pt x="1525" y="116"/>
                  </a:lnTo>
                  <a:lnTo>
                    <a:pt x="1585" y="155"/>
                  </a:lnTo>
                  <a:lnTo>
                    <a:pt x="1653" y="198"/>
                  </a:lnTo>
                  <a:lnTo>
                    <a:pt x="1725" y="246"/>
                  </a:lnTo>
                  <a:lnTo>
                    <a:pt x="1799" y="296"/>
                  </a:lnTo>
                  <a:lnTo>
                    <a:pt x="1874" y="348"/>
                  </a:lnTo>
                  <a:lnTo>
                    <a:pt x="1946" y="400"/>
                  </a:lnTo>
                  <a:lnTo>
                    <a:pt x="1979" y="426"/>
                  </a:lnTo>
                  <a:lnTo>
                    <a:pt x="2012" y="452"/>
                  </a:lnTo>
                  <a:lnTo>
                    <a:pt x="2043" y="477"/>
                  </a:lnTo>
                  <a:lnTo>
                    <a:pt x="2071" y="502"/>
                  </a:lnTo>
                  <a:lnTo>
                    <a:pt x="2097" y="526"/>
                  </a:lnTo>
                  <a:lnTo>
                    <a:pt x="2121" y="548"/>
                  </a:lnTo>
                  <a:lnTo>
                    <a:pt x="2141" y="570"/>
                  </a:lnTo>
                  <a:lnTo>
                    <a:pt x="2158" y="590"/>
                  </a:lnTo>
                  <a:lnTo>
                    <a:pt x="2172" y="609"/>
                  </a:lnTo>
                  <a:lnTo>
                    <a:pt x="2181" y="627"/>
                  </a:lnTo>
                  <a:lnTo>
                    <a:pt x="2186" y="642"/>
                  </a:lnTo>
                  <a:lnTo>
                    <a:pt x="2187" y="657"/>
                  </a:lnTo>
                  <a:lnTo>
                    <a:pt x="2184" y="704"/>
                  </a:lnTo>
                  <a:lnTo>
                    <a:pt x="3422" y="704"/>
                  </a:lnTo>
                  <a:lnTo>
                    <a:pt x="3446" y="693"/>
                  </a:lnTo>
                  <a:lnTo>
                    <a:pt x="3512" y="660"/>
                  </a:lnTo>
                  <a:lnTo>
                    <a:pt x="3558" y="636"/>
                  </a:lnTo>
                  <a:lnTo>
                    <a:pt x="3609" y="605"/>
                  </a:lnTo>
                  <a:lnTo>
                    <a:pt x="3666" y="570"/>
                  </a:lnTo>
                  <a:lnTo>
                    <a:pt x="3725" y="529"/>
                  </a:lnTo>
                  <a:lnTo>
                    <a:pt x="3758" y="507"/>
                  </a:lnTo>
                  <a:lnTo>
                    <a:pt x="3789" y="483"/>
                  </a:lnTo>
                  <a:lnTo>
                    <a:pt x="3821" y="459"/>
                  </a:lnTo>
                  <a:lnTo>
                    <a:pt x="3853" y="431"/>
                  </a:lnTo>
                  <a:lnTo>
                    <a:pt x="3885" y="404"/>
                  </a:lnTo>
                  <a:lnTo>
                    <a:pt x="3918" y="375"/>
                  </a:lnTo>
                  <a:lnTo>
                    <a:pt x="3949" y="344"/>
                  </a:lnTo>
                  <a:lnTo>
                    <a:pt x="3980" y="313"/>
                  </a:lnTo>
                  <a:lnTo>
                    <a:pt x="4011" y="280"/>
                  </a:lnTo>
                  <a:lnTo>
                    <a:pt x="4041" y="245"/>
                  </a:lnTo>
                  <a:lnTo>
                    <a:pt x="4069" y="210"/>
                  </a:lnTo>
                  <a:lnTo>
                    <a:pt x="4097" y="173"/>
                  </a:lnTo>
                  <a:lnTo>
                    <a:pt x="4123" y="135"/>
                  </a:lnTo>
                  <a:lnTo>
                    <a:pt x="4147" y="95"/>
                  </a:lnTo>
                  <a:lnTo>
                    <a:pt x="4171" y="54"/>
                  </a:lnTo>
                  <a:lnTo>
                    <a:pt x="419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e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3152880" y="5881680"/>
              <a:ext cx="955440" cy="108000"/>
            </a:xfrm>
            <a:custGeom>
              <a:avLst/>
              <a:gdLst/>
              <a:ahLst/>
              <a:rect l="l" t="t" r="r" b="b"/>
              <a:pathLst>
                <a:path w="2405" h="273">
                  <a:moveTo>
                    <a:pt x="1190" y="37"/>
                  </a:moveTo>
                  <a:lnTo>
                    <a:pt x="1180" y="39"/>
                  </a:lnTo>
                  <a:lnTo>
                    <a:pt x="1152" y="48"/>
                  </a:lnTo>
                  <a:lnTo>
                    <a:pt x="1109" y="59"/>
                  </a:lnTo>
                  <a:lnTo>
                    <a:pt x="1053" y="74"/>
                  </a:lnTo>
                  <a:lnTo>
                    <a:pt x="985" y="92"/>
                  </a:lnTo>
                  <a:lnTo>
                    <a:pt x="908" y="111"/>
                  </a:lnTo>
                  <a:lnTo>
                    <a:pt x="823" y="131"/>
                  </a:lnTo>
                  <a:lnTo>
                    <a:pt x="735" y="152"/>
                  </a:lnTo>
                  <a:lnTo>
                    <a:pt x="644" y="173"/>
                  </a:lnTo>
                  <a:lnTo>
                    <a:pt x="553" y="192"/>
                  </a:lnTo>
                  <a:lnTo>
                    <a:pt x="464" y="209"/>
                  </a:lnTo>
                  <a:lnTo>
                    <a:pt x="380" y="223"/>
                  </a:lnTo>
                  <a:lnTo>
                    <a:pt x="340" y="229"/>
                  </a:lnTo>
                  <a:lnTo>
                    <a:pt x="302" y="234"/>
                  </a:lnTo>
                  <a:lnTo>
                    <a:pt x="266" y="238"/>
                  </a:lnTo>
                  <a:lnTo>
                    <a:pt x="232" y="240"/>
                  </a:lnTo>
                  <a:lnTo>
                    <a:pt x="201" y="242"/>
                  </a:lnTo>
                  <a:lnTo>
                    <a:pt x="174" y="242"/>
                  </a:lnTo>
                  <a:lnTo>
                    <a:pt x="149" y="240"/>
                  </a:lnTo>
                  <a:lnTo>
                    <a:pt x="129" y="238"/>
                  </a:lnTo>
                  <a:lnTo>
                    <a:pt x="0" y="263"/>
                  </a:lnTo>
                  <a:lnTo>
                    <a:pt x="2397" y="273"/>
                  </a:lnTo>
                  <a:lnTo>
                    <a:pt x="2405" y="0"/>
                  </a:lnTo>
                  <a:lnTo>
                    <a:pt x="1190" y="37"/>
                  </a:lnTo>
                  <a:close/>
                </a:path>
              </a:pathLst>
            </a:custGeom>
            <a:solidFill>
              <a:srgbClr val="f0e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4491000" y="5137200"/>
              <a:ext cx="1243080" cy="517320"/>
            </a:xfrm>
            <a:custGeom>
              <a:avLst/>
              <a:gdLst/>
              <a:ahLst/>
              <a:rect l="l" t="t" r="r" b="b"/>
              <a:pathLst>
                <a:path w="3133" h="1303">
                  <a:moveTo>
                    <a:pt x="0" y="1134"/>
                  </a:moveTo>
                  <a:lnTo>
                    <a:pt x="12" y="1114"/>
                  </a:lnTo>
                  <a:lnTo>
                    <a:pt x="47" y="1061"/>
                  </a:lnTo>
                  <a:lnTo>
                    <a:pt x="72" y="1023"/>
                  </a:lnTo>
                  <a:lnTo>
                    <a:pt x="103" y="980"/>
                  </a:lnTo>
                  <a:lnTo>
                    <a:pt x="139" y="930"/>
                  </a:lnTo>
                  <a:lnTo>
                    <a:pt x="180" y="877"/>
                  </a:lnTo>
                  <a:lnTo>
                    <a:pt x="226" y="819"/>
                  </a:lnTo>
                  <a:lnTo>
                    <a:pt x="277" y="758"/>
                  </a:lnTo>
                  <a:lnTo>
                    <a:pt x="333" y="695"/>
                  </a:lnTo>
                  <a:lnTo>
                    <a:pt x="392" y="630"/>
                  </a:lnTo>
                  <a:lnTo>
                    <a:pt x="457" y="564"/>
                  </a:lnTo>
                  <a:lnTo>
                    <a:pt x="525" y="500"/>
                  </a:lnTo>
                  <a:lnTo>
                    <a:pt x="598" y="435"/>
                  </a:lnTo>
                  <a:lnTo>
                    <a:pt x="674" y="372"/>
                  </a:lnTo>
                  <a:lnTo>
                    <a:pt x="755" y="311"/>
                  </a:lnTo>
                  <a:lnTo>
                    <a:pt x="839" y="253"/>
                  </a:lnTo>
                  <a:lnTo>
                    <a:pt x="926" y="200"/>
                  </a:lnTo>
                  <a:lnTo>
                    <a:pt x="1017" y="151"/>
                  </a:lnTo>
                  <a:lnTo>
                    <a:pt x="1111" y="108"/>
                  </a:lnTo>
                  <a:lnTo>
                    <a:pt x="1209" y="70"/>
                  </a:lnTo>
                  <a:lnTo>
                    <a:pt x="1309" y="41"/>
                  </a:lnTo>
                  <a:lnTo>
                    <a:pt x="1413" y="18"/>
                  </a:lnTo>
                  <a:lnTo>
                    <a:pt x="1518" y="5"/>
                  </a:lnTo>
                  <a:lnTo>
                    <a:pt x="1627" y="0"/>
                  </a:lnTo>
                  <a:lnTo>
                    <a:pt x="1738" y="6"/>
                  </a:lnTo>
                  <a:lnTo>
                    <a:pt x="1851" y="22"/>
                  </a:lnTo>
                  <a:lnTo>
                    <a:pt x="1967" y="51"/>
                  </a:lnTo>
                  <a:lnTo>
                    <a:pt x="2083" y="92"/>
                  </a:lnTo>
                  <a:lnTo>
                    <a:pt x="2203" y="146"/>
                  </a:lnTo>
                  <a:lnTo>
                    <a:pt x="2324" y="214"/>
                  </a:lnTo>
                  <a:lnTo>
                    <a:pt x="2333" y="223"/>
                  </a:lnTo>
                  <a:lnTo>
                    <a:pt x="2360" y="247"/>
                  </a:lnTo>
                  <a:lnTo>
                    <a:pt x="2401" y="283"/>
                  </a:lnTo>
                  <a:lnTo>
                    <a:pt x="2456" y="332"/>
                  </a:lnTo>
                  <a:lnTo>
                    <a:pt x="2519" y="391"/>
                  </a:lnTo>
                  <a:lnTo>
                    <a:pt x="2590" y="458"/>
                  </a:lnTo>
                  <a:lnTo>
                    <a:pt x="2666" y="532"/>
                  </a:lnTo>
                  <a:lnTo>
                    <a:pt x="2743" y="613"/>
                  </a:lnTo>
                  <a:lnTo>
                    <a:pt x="2781" y="654"/>
                  </a:lnTo>
                  <a:lnTo>
                    <a:pt x="2820" y="696"/>
                  </a:lnTo>
                  <a:lnTo>
                    <a:pt x="2857" y="738"/>
                  </a:lnTo>
                  <a:lnTo>
                    <a:pt x="2893" y="781"/>
                  </a:lnTo>
                  <a:lnTo>
                    <a:pt x="2928" y="825"/>
                  </a:lnTo>
                  <a:lnTo>
                    <a:pt x="2961" y="867"/>
                  </a:lnTo>
                  <a:lnTo>
                    <a:pt x="2994" y="910"/>
                  </a:lnTo>
                  <a:lnTo>
                    <a:pt x="3022" y="951"/>
                  </a:lnTo>
                  <a:lnTo>
                    <a:pt x="3048" y="994"/>
                  </a:lnTo>
                  <a:lnTo>
                    <a:pt x="3072" y="1033"/>
                  </a:lnTo>
                  <a:lnTo>
                    <a:pt x="3092" y="1073"/>
                  </a:lnTo>
                  <a:lnTo>
                    <a:pt x="3108" y="1111"/>
                  </a:lnTo>
                  <a:lnTo>
                    <a:pt x="3120" y="1147"/>
                  </a:lnTo>
                  <a:lnTo>
                    <a:pt x="3129" y="1182"/>
                  </a:lnTo>
                  <a:lnTo>
                    <a:pt x="3133" y="1214"/>
                  </a:lnTo>
                  <a:lnTo>
                    <a:pt x="3132" y="1245"/>
                  </a:lnTo>
                  <a:lnTo>
                    <a:pt x="2974" y="1223"/>
                  </a:lnTo>
                  <a:lnTo>
                    <a:pt x="2968" y="1211"/>
                  </a:lnTo>
                  <a:lnTo>
                    <a:pt x="2946" y="1176"/>
                  </a:lnTo>
                  <a:lnTo>
                    <a:pt x="2914" y="1123"/>
                  </a:lnTo>
                  <a:lnTo>
                    <a:pt x="2871" y="1053"/>
                  </a:lnTo>
                  <a:lnTo>
                    <a:pt x="2845" y="1013"/>
                  </a:lnTo>
                  <a:lnTo>
                    <a:pt x="2817" y="972"/>
                  </a:lnTo>
                  <a:lnTo>
                    <a:pt x="2786" y="928"/>
                  </a:lnTo>
                  <a:lnTo>
                    <a:pt x="2754" y="882"/>
                  </a:lnTo>
                  <a:lnTo>
                    <a:pt x="2719" y="835"/>
                  </a:lnTo>
                  <a:lnTo>
                    <a:pt x="2683" y="786"/>
                  </a:lnTo>
                  <a:lnTo>
                    <a:pt x="2645" y="737"/>
                  </a:lnTo>
                  <a:lnTo>
                    <a:pt x="2605" y="688"/>
                  </a:lnTo>
                  <a:lnTo>
                    <a:pt x="2564" y="640"/>
                  </a:lnTo>
                  <a:lnTo>
                    <a:pt x="2521" y="592"/>
                  </a:lnTo>
                  <a:lnTo>
                    <a:pt x="2477" y="544"/>
                  </a:lnTo>
                  <a:lnTo>
                    <a:pt x="2431" y="500"/>
                  </a:lnTo>
                  <a:lnTo>
                    <a:pt x="2385" y="456"/>
                  </a:lnTo>
                  <a:lnTo>
                    <a:pt x="2339" y="417"/>
                  </a:lnTo>
                  <a:lnTo>
                    <a:pt x="2291" y="378"/>
                  </a:lnTo>
                  <a:lnTo>
                    <a:pt x="2242" y="343"/>
                  </a:lnTo>
                  <a:lnTo>
                    <a:pt x="2194" y="314"/>
                  </a:lnTo>
                  <a:lnTo>
                    <a:pt x="2146" y="286"/>
                  </a:lnTo>
                  <a:lnTo>
                    <a:pt x="2096" y="264"/>
                  </a:lnTo>
                  <a:lnTo>
                    <a:pt x="2046" y="248"/>
                  </a:lnTo>
                  <a:lnTo>
                    <a:pt x="1998" y="236"/>
                  </a:lnTo>
                  <a:lnTo>
                    <a:pt x="1948" y="229"/>
                  </a:lnTo>
                  <a:lnTo>
                    <a:pt x="1900" y="231"/>
                  </a:lnTo>
                  <a:lnTo>
                    <a:pt x="1851" y="237"/>
                  </a:lnTo>
                  <a:lnTo>
                    <a:pt x="1839" y="238"/>
                  </a:lnTo>
                  <a:lnTo>
                    <a:pt x="1802" y="242"/>
                  </a:lnTo>
                  <a:lnTo>
                    <a:pt x="1743" y="249"/>
                  </a:lnTo>
                  <a:lnTo>
                    <a:pt x="1667" y="262"/>
                  </a:lnTo>
                  <a:lnTo>
                    <a:pt x="1623" y="270"/>
                  </a:lnTo>
                  <a:lnTo>
                    <a:pt x="1574" y="281"/>
                  </a:lnTo>
                  <a:lnTo>
                    <a:pt x="1522" y="294"/>
                  </a:lnTo>
                  <a:lnTo>
                    <a:pt x="1468" y="309"/>
                  </a:lnTo>
                  <a:lnTo>
                    <a:pt x="1410" y="325"/>
                  </a:lnTo>
                  <a:lnTo>
                    <a:pt x="1351" y="345"/>
                  </a:lnTo>
                  <a:lnTo>
                    <a:pt x="1289" y="367"/>
                  </a:lnTo>
                  <a:lnTo>
                    <a:pt x="1225" y="392"/>
                  </a:lnTo>
                  <a:lnTo>
                    <a:pt x="1161" y="419"/>
                  </a:lnTo>
                  <a:lnTo>
                    <a:pt x="1095" y="450"/>
                  </a:lnTo>
                  <a:lnTo>
                    <a:pt x="1029" y="485"/>
                  </a:lnTo>
                  <a:lnTo>
                    <a:pt x="962" y="522"/>
                  </a:lnTo>
                  <a:lnTo>
                    <a:pt x="895" y="563"/>
                  </a:lnTo>
                  <a:lnTo>
                    <a:pt x="828" y="609"/>
                  </a:lnTo>
                  <a:lnTo>
                    <a:pt x="761" y="657"/>
                  </a:lnTo>
                  <a:lnTo>
                    <a:pt x="696" y="711"/>
                  </a:lnTo>
                  <a:lnTo>
                    <a:pt x="632" y="768"/>
                  </a:lnTo>
                  <a:lnTo>
                    <a:pt x="570" y="830"/>
                  </a:lnTo>
                  <a:lnTo>
                    <a:pt x="509" y="896"/>
                  </a:lnTo>
                  <a:lnTo>
                    <a:pt x="451" y="968"/>
                  </a:lnTo>
                  <a:lnTo>
                    <a:pt x="395" y="1043"/>
                  </a:lnTo>
                  <a:lnTo>
                    <a:pt x="341" y="1124"/>
                  </a:lnTo>
                  <a:lnTo>
                    <a:pt x="292" y="1211"/>
                  </a:lnTo>
                  <a:lnTo>
                    <a:pt x="246" y="1303"/>
                  </a:lnTo>
                  <a:lnTo>
                    <a:pt x="0" y="1134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4471920" y="5122800"/>
              <a:ext cx="1276560" cy="552600"/>
            </a:xfrm>
            <a:custGeom>
              <a:avLst/>
              <a:gdLst/>
              <a:ahLst/>
              <a:rect l="l" t="t" r="r" b="b"/>
              <a:pathLst>
                <a:path w="3216" h="1391">
                  <a:moveTo>
                    <a:pt x="1366" y="36"/>
                  </a:moveTo>
                  <a:lnTo>
                    <a:pt x="1291" y="57"/>
                  </a:lnTo>
                  <a:lnTo>
                    <a:pt x="1219" y="81"/>
                  </a:lnTo>
                  <a:lnTo>
                    <a:pt x="1148" y="108"/>
                  </a:lnTo>
                  <a:lnTo>
                    <a:pt x="1080" y="139"/>
                  </a:lnTo>
                  <a:lnTo>
                    <a:pt x="1013" y="172"/>
                  </a:lnTo>
                  <a:lnTo>
                    <a:pt x="947" y="208"/>
                  </a:lnTo>
                  <a:lnTo>
                    <a:pt x="884" y="247"/>
                  </a:lnTo>
                  <a:lnTo>
                    <a:pt x="822" y="287"/>
                  </a:lnTo>
                  <a:lnTo>
                    <a:pt x="762" y="330"/>
                  </a:lnTo>
                  <a:lnTo>
                    <a:pt x="705" y="373"/>
                  </a:lnTo>
                  <a:lnTo>
                    <a:pt x="649" y="418"/>
                  </a:lnTo>
                  <a:lnTo>
                    <a:pt x="594" y="464"/>
                  </a:lnTo>
                  <a:lnTo>
                    <a:pt x="544" y="511"/>
                  </a:lnTo>
                  <a:lnTo>
                    <a:pt x="494" y="558"/>
                  </a:lnTo>
                  <a:lnTo>
                    <a:pt x="445" y="605"/>
                  </a:lnTo>
                  <a:lnTo>
                    <a:pt x="401" y="653"/>
                  </a:lnTo>
                  <a:lnTo>
                    <a:pt x="357" y="699"/>
                  </a:lnTo>
                  <a:lnTo>
                    <a:pt x="318" y="744"/>
                  </a:lnTo>
                  <a:lnTo>
                    <a:pt x="279" y="789"/>
                  </a:lnTo>
                  <a:lnTo>
                    <a:pt x="243" y="833"/>
                  </a:lnTo>
                  <a:lnTo>
                    <a:pt x="209" y="875"/>
                  </a:lnTo>
                  <a:lnTo>
                    <a:pt x="178" y="914"/>
                  </a:lnTo>
                  <a:lnTo>
                    <a:pt x="150" y="953"/>
                  </a:lnTo>
                  <a:lnTo>
                    <a:pt x="125" y="988"/>
                  </a:lnTo>
                  <a:lnTo>
                    <a:pt x="80" y="1050"/>
                  </a:lnTo>
                  <a:lnTo>
                    <a:pt x="48" y="1099"/>
                  </a:lnTo>
                  <a:lnTo>
                    <a:pt x="26" y="1134"/>
                  </a:lnTo>
                  <a:lnTo>
                    <a:pt x="16" y="1150"/>
                  </a:lnTo>
                  <a:lnTo>
                    <a:pt x="0" y="1179"/>
                  </a:lnTo>
                  <a:lnTo>
                    <a:pt x="308" y="1391"/>
                  </a:lnTo>
                  <a:lnTo>
                    <a:pt x="325" y="1352"/>
                  </a:lnTo>
                  <a:lnTo>
                    <a:pt x="370" y="1263"/>
                  </a:lnTo>
                  <a:lnTo>
                    <a:pt x="418" y="1180"/>
                  </a:lnTo>
                  <a:lnTo>
                    <a:pt x="469" y="1101"/>
                  </a:lnTo>
                  <a:lnTo>
                    <a:pt x="524" y="1027"/>
                  </a:lnTo>
                  <a:lnTo>
                    <a:pt x="581" y="958"/>
                  </a:lnTo>
                  <a:lnTo>
                    <a:pt x="639" y="893"/>
                  </a:lnTo>
                  <a:lnTo>
                    <a:pt x="700" y="834"/>
                  </a:lnTo>
                  <a:lnTo>
                    <a:pt x="763" y="777"/>
                  </a:lnTo>
                  <a:lnTo>
                    <a:pt x="827" y="726"/>
                  </a:lnTo>
                  <a:lnTo>
                    <a:pt x="891" y="677"/>
                  </a:lnTo>
                  <a:lnTo>
                    <a:pt x="956" y="634"/>
                  </a:lnTo>
                  <a:lnTo>
                    <a:pt x="1022" y="593"/>
                  </a:lnTo>
                  <a:lnTo>
                    <a:pt x="1087" y="556"/>
                  </a:lnTo>
                  <a:lnTo>
                    <a:pt x="1152" y="522"/>
                  </a:lnTo>
                  <a:lnTo>
                    <a:pt x="1217" y="491"/>
                  </a:lnTo>
                  <a:lnTo>
                    <a:pt x="1280" y="464"/>
                  </a:lnTo>
                  <a:lnTo>
                    <a:pt x="1342" y="439"/>
                  </a:lnTo>
                  <a:lnTo>
                    <a:pt x="1403" y="418"/>
                  </a:lnTo>
                  <a:lnTo>
                    <a:pt x="1461" y="398"/>
                  </a:lnTo>
                  <a:lnTo>
                    <a:pt x="1517" y="381"/>
                  </a:lnTo>
                  <a:lnTo>
                    <a:pt x="1572" y="366"/>
                  </a:lnTo>
                  <a:lnTo>
                    <a:pt x="1623" y="354"/>
                  </a:lnTo>
                  <a:lnTo>
                    <a:pt x="1670" y="342"/>
                  </a:lnTo>
                  <a:lnTo>
                    <a:pt x="1713" y="334"/>
                  </a:lnTo>
                  <a:lnTo>
                    <a:pt x="1790" y="320"/>
                  </a:lnTo>
                  <a:lnTo>
                    <a:pt x="1849" y="313"/>
                  </a:lnTo>
                  <a:lnTo>
                    <a:pt x="1886" y="309"/>
                  </a:lnTo>
                  <a:lnTo>
                    <a:pt x="1901" y="308"/>
                  </a:lnTo>
                  <a:lnTo>
                    <a:pt x="1945" y="302"/>
                  </a:lnTo>
                  <a:lnTo>
                    <a:pt x="1993" y="302"/>
                  </a:lnTo>
                  <a:lnTo>
                    <a:pt x="2040" y="306"/>
                  </a:lnTo>
                  <a:lnTo>
                    <a:pt x="2087" y="319"/>
                  </a:lnTo>
                  <a:lnTo>
                    <a:pt x="2133" y="335"/>
                  </a:lnTo>
                  <a:lnTo>
                    <a:pt x="2181" y="357"/>
                  </a:lnTo>
                  <a:lnTo>
                    <a:pt x="2227" y="383"/>
                  </a:lnTo>
                  <a:lnTo>
                    <a:pt x="2275" y="413"/>
                  </a:lnTo>
                  <a:lnTo>
                    <a:pt x="2322" y="447"/>
                  </a:lnTo>
                  <a:lnTo>
                    <a:pt x="2368" y="483"/>
                  </a:lnTo>
                  <a:lnTo>
                    <a:pt x="2412" y="522"/>
                  </a:lnTo>
                  <a:lnTo>
                    <a:pt x="2457" y="565"/>
                  </a:lnTo>
                  <a:lnTo>
                    <a:pt x="2501" y="608"/>
                  </a:lnTo>
                  <a:lnTo>
                    <a:pt x="2544" y="654"/>
                  </a:lnTo>
                  <a:lnTo>
                    <a:pt x="2585" y="701"/>
                  </a:lnTo>
                  <a:lnTo>
                    <a:pt x="2625" y="748"/>
                  </a:lnTo>
                  <a:lnTo>
                    <a:pt x="2664" y="795"/>
                  </a:lnTo>
                  <a:lnTo>
                    <a:pt x="2702" y="844"/>
                  </a:lnTo>
                  <a:lnTo>
                    <a:pt x="2736" y="891"/>
                  </a:lnTo>
                  <a:lnTo>
                    <a:pt x="2771" y="937"/>
                  </a:lnTo>
                  <a:lnTo>
                    <a:pt x="2832" y="1025"/>
                  </a:lnTo>
                  <a:lnTo>
                    <a:pt x="2885" y="1104"/>
                  </a:lnTo>
                  <a:lnTo>
                    <a:pt x="2929" y="1172"/>
                  </a:lnTo>
                  <a:lnTo>
                    <a:pt x="2961" y="1226"/>
                  </a:lnTo>
                  <a:lnTo>
                    <a:pt x="2982" y="1262"/>
                  </a:lnTo>
                  <a:lnTo>
                    <a:pt x="2990" y="1275"/>
                  </a:lnTo>
                  <a:lnTo>
                    <a:pt x="2998" y="1290"/>
                  </a:lnTo>
                  <a:lnTo>
                    <a:pt x="3210" y="1320"/>
                  </a:lnTo>
                  <a:lnTo>
                    <a:pt x="3215" y="1284"/>
                  </a:lnTo>
                  <a:lnTo>
                    <a:pt x="3216" y="1253"/>
                  </a:lnTo>
                  <a:lnTo>
                    <a:pt x="3212" y="1221"/>
                  </a:lnTo>
                  <a:lnTo>
                    <a:pt x="3206" y="1186"/>
                  </a:lnTo>
                  <a:lnTo>
                    <a:pt x="3195" y="1149"/>
                  </a:lnTo>
                  <a:lnTo>
                    <a:pt x="3180" y="1112"/>
                  </a:lnTo>
                  <a:lnTo>
                    <a:pt x="3161" y="1073"/>
                  </a:lnTo>
                  <a:lnTo>
                    <a:pt x="3140" y="1034"/>
                  </a:lnTo>
                  <a:lnTo>
                    <a:pt x="3115" y="993"/>
                  </a:lnTo>
                  <a:lnTo>
                    <a:pt x="3089" y="952"/>
                  </a:lnTo>
                  <a:lnTo>
                    <a:pt x="3059" y="911"/>
                  </a:lnTo>
                  <a:lnTo>
                    <a:pt x="3028" y="869"/>
                  </a:lnTo>
                  <a:lnTo>
                    <a:pt x="2996" y="826"/>
                  </a:lnTo>
                  <a:lnTo>
                    <a:pt x="2961" y="784"/>
                  </a:lnTo>
                  <a:lnTo>
                    <a:pt x="2926" y="742"/>
                  </a:lnTo>
                  <a:lnTo>
                    <a:pt x="2889" y="701"/>
                  </a:lnTo>
                  <a:lnTo>
                    <a:pt x="2852" y="660"/>
                  </a:lnTo>
                  <a:lnTo>
                    <a:pt x="2777" y="581"/>
                  </a:lnTo>
                  <a:lnTo>
                    <a:pt x="2703" y="506"/>
                  </a:lnTo>
                  <a:lnTo>
                    <a:pt x="2632" y="437"/>
                  </a:lnTo>
                  <a:lnTo>
                    <a:pt x="2565" y="375"/>
                  </a:lnTo>
                  <a:lnTo>
                    <a:pt x="2505" y="320"/>
                  </a:lnTo>
                  <a:lnTo>
                    <a:pt x="2456" y="277"/>
                  </a:lnTo>
                  <a:lnTo>
                    <a:pt x="2419" y="243"/>
                  </a:lnTo>
                  <a:lnTo>
                    <a:pt x="2394" y="222"/>
                  </a:lnTo>
                  <a:lnTo>
                    <a:pt x="2363" y="204"/>
                  </a:lnTo>
                  <a:lnTo>
                    <a:pt x="2330" y="185"/>
                  </a:lnTo>
                  <a:lnTo>
                    <a:pt x="2299" y="168"/>
                  </a:lnTo>
                  <a:lnTo>
                    <a:pt x="2267" y="151"/>
                  </a:lnTo>
                  <a:lnTo>
                    <a:pt x="2236" y="135"/>
                  </a:lnTo>
                  <a:lnTo>
                    <a:pt x="2204" y="120"/>
                  </a:lnTo>
                  <a:lnTo>
                    <a:pt x="2171" y="107"/>
                  </a:lnTo>
                  <a:lnTo>
                    <a:pt x="2140" y="93"/>
                  </a:lnTo>
                  <a:lnTo>
                    <a:pt x="2108" y="81"/>
                  </a:lnTo>
                  <a:lnTo>
                    <a:pt x="2076" y="70"/>
                  </a:lnTo>
                  <a:lnTo>
                    <a:pt x="2044" y="58"/>
                  </a:lnTo>
                  <a:lnTo>
                    <a:pt x="2013" y="50"/>
                  </a:lnTo>
                  <a:lnTo>
                    <a:pt x="1980" y="41"/>
                  </a:lnTo>
                  <a:lnTo>
                    <a:pt x="1948" y="32"/>
                  </a:lnTo>
                  <a:lnTo>
                    <a:pt x="1916" y="25"/>
                  </a:lnTo>
                  <a:lnTo>
                    <a:pt x="1883" y="19"/>
                  </a:lnTo>
                  <a:lnTo>
                    <a:pt x="1851" y="14"/>
                  </a:lnTo>
                  <a:lnTo>
                    <a:pt x="1819" y="9"/>
                  </a:lnTo>
                  <a:lnTo>
                    <a:pt x="1787" y="5"/>
                  </a:lnTo>
                  <a:lnTo>
                    <a:pt x="1754" y="3"/>
                  </a:lnTo>
                  <a:lnTo>
                    <a:pt x="1722" y="1"/>
                  </a:lnTo>
                  <a:lnTo>
                    <a:pt x="1690" y="0"/>
                  </a:lnTo>
                  <a:lnTo>
                    <a:pt x="1657" y="0"/>
                  </a:lnTo>
                  <a:lnTo>
                    <a:pt x="1625" y="0"/>
                  </a:lnTo>
                  <a:lnTo>
                    <a:pt x="1593" y="1"/>
                  </a:lnTo>
                  <a:lnTo>
                    <a:pt x="1561" y="4"/>
                  </a:lnTo>
                  <a:lnTo>
                    <a:pt x="1528" y="7"/>
                  </a:lnTo>
                  <a:lnTo>
                    <a:pt x="1495" y="11"/>
                  </a:lnTo>
                  <a:lnTo>
                    <a:pt x="1462" y="16"/>
                  </a:lnTo>
                  <a:lnTo>
                    <a:pt x="1430" y="22"/>
                  </a:lnTo>
                  <a:lnTo>
                    <a:pt x="1398" y="29"/>
                  </a:lnTo>
                  <a:lnTo>
                    <a:pt x="1366" y="36"/>
                  </a:lnTo>
                  <a:close/>
                  <a:moveTo>
                    <a:pt x="1383" y="105"/>
                  </a:moveTo>
                  <a:lnTo>
                    <a:pt x="1413" y="98"/>
                  </a:lnTo>
                  <a:lnTo>
                    <a:pt x="1444" y="92"/>
                  </a:lnTo>
                  <a:lnTo>
                    <a:pt x="1475" y="87"/>
                  </a:lnTo>
                  <a:lnTo>
                    <a:pt x="1505" y="82"/>
                  </a:lnTo>
                  <a:lnTo>
                    <a:pt x="1536" y="78"/>
                  </a:lnTo>
                  <a:lnTo>
                    <a:pt x="1567" y="76"/>
                  </a:lnTo>
                  <a:lnTo>
                    <a:pt x="1598" y="73"/>
                  </a:lnTo>
                  <a:lnTo>
                    <a:pt x="1628" y="72"/>
                  </a:lnTo>
                  <a:lnTo>
                    <a:pt x="1659" y="71"/>
                  </a:lnTo>
                  <a:lnTo>
                    <a:pt x="1688" y="71"/>
                  </a:lnTo>
                  <a:lnTo>
                    <a:pt x="1719" y="72"/>
                  </a:lnTo>
                  <a:lnTo>
                    <a:pt x="1751" y="74"/>
                  </a:lnTo>
                  <a:lnTo>
                    <a:pt x="1780" y="77"/>
                  </a:lnTo>
                  <a:lnTo>
                    <a:pt x="1811" y="81"/>
                  </a:lnTo>
                  <a:lnTo>
                    <a:pt x="1841" y="84"/>
                  </a:lnTo>
                  <a:lnTo>
                    <a:pt x="1872" y="89"/>
                  </a:lnTo>
                  <a:lnTo>
                    <a:pt x="1902" y="96"/>
                  </a:lnTo>
                  <a:lnTo>
                    <a:pt x="1933" y="102"/>
                  </a:lnTo>
                  <a:lnTo>
                    <a:pt x="1963" y="109"/>
                  </a:lnTo>
                  <a:lnTo>
                    <a:pt x="1993" y="118"/>
                  </a:lnTo>
                  <a:lnTo>
                    <a:pt x="2024" y="127"/>
                  </a:lnTo>
                  <a:lnTo>
                    <a:pt x="2053" y="137"/>
                  </a:lnTo>
                  <a:lnTo>
                    <a:pt x="2083" y="148"/>
                  </a:lnTo>
                  <a:lnTo>
                    <a:pt x="2113" y="159"/>
                  </a:lnTo>
                  <a:lnTo>
                    <a:pt x="2144" y="171"/>
                  </a:lnTo>
                  <a:lnTo>
                    <a:pt x="2174" y="185"/>
                  </a:lnTo>
                  <a:lnTo>
                    <a:pt x="2204" y="199"/>
                  </a:lnTo>
                  <a:lnTo>
                    <a:pt x="2234" y="213"/>
                  </a:lnTo>
                  <a:lnTo>
                    <a:pt x="2263" y="228"/>
                  </a:lnTo>
                  <a:lnTo>
                    <a:pt x="2293" y="244"/>
                  </a:lnTo>
                  <a:lnTo>
                    <a:pt x="2323" y="262"/>
                  </a:lnTo>
                  <a:lnTo>
                    <a:pt x="2353" y="280"/>
                  </a:lnTo>
                  <a:lnTo>
                    <a:pt x="2396" y="319"/>
                  </a:lnTo>
                  <a:lnTo>
                    <a:pt x="2447" y="364"/>
                  </a:lnTo>
                  <a:lnTo>
                    <a:pt x="2503" y="414"/>
                  </a:lnTo>
                  <a:lnTo>
                    <a:pt x="2564" y="472"/>
                  </a:lnTo>
                  <a:lnTo>
                    <a:pt x="2626" y="532"/>
                  </a:lnTo>
                  <a:lnTo>
                    <a:pt x="2691" y="597"/>
                  </a:lnTo>
                  <a:lnTo>
                    <a:pt x="2755" y="664"/>
                  </a:lnTo>
                  <a:lnTo>
                    <a:pt x="2818" y="732"/>
                  </a:lnTo>
                  <a:lnTo>
                    <a:pt x="2849" y="767"/>
                  </a:lnTo>
                  <a:lnTo>
                    <a:pt x="2879" y="802"/>
                  </a:lnTo>
                  <a:lnTo>
                    <a:pt x="2909" y="836"/>
                  </a:lnTo>
                  <a:lnTo>
                    <a:pt x="2938" y="871"/>
                  </a:lnTo>
                  <a:lnTo>
                    <a:pt x="2965" y="906"/>
                  </a:lnTo>
                  <a:lnTo>
                    <a:pt x="2990" y="939"/>
                  </a:lnTo>
                  <a:lnTo>
                    <a:pt x="3015" y="974"/>
                  </a:lnTo>
                  <a:lnTo>
                    <a:pt x="3037" y="1006"/>
                  </a:lnTo>
                  <a:lnTo>
                    <a:pt x="3058" y="1038"/>
                  </a:lnTo>
                  <a:lnTo>
                    <a:pt x="3077" y="1071"/>
                  </a:lnTo>
                  <a:lnTo>
                    <a:pt x="3094" y="1102"/>
                  </a:lnTo>
                  <a:lnTo>
                    <a:pt x="3108" y="1132"/>
                  </a:lnTo>
                  <a:lnTo>
                    <a:pt x="3120" y="1160"/>
                  </a:lnTo>
                  <a:lnTo>
                    <a:pt x="3130" y="1187"/>
                  </a:lnTo>
                  <a:lnTo>
                    <a:pt x="3136" y="1213"/>
                  </a:lnTo>
                  <a:lnTo>
                    <a:pt x="3140" y="1238"/>
                  </a:lnTo>
                  <a:lnTo>
                    <a:pt x="3111" y="1235"/>
                  </a:lnTo>
                  <a:lnTo>
                    <a:pt x="3084" y="1231"/>
                  </a:lnTo>
                  <a:lnTo>
                    <a:pt x="3061" y="1227"/>
                  </a:lnTo>
                  <a:lnTo>
                    <a:pt x="3043" y="1225"/>
                  </a:lnTo>
                  <a:lnTo>
                    <a:pt x="3026" y="1195"/>
                  </a:lnTo>
                  <a:lnTo>
                    <a:pt x="2997" y="1148"/>
                  </a:lnTo>
                  <a:lnTo>
                    <a:pt x="2959" y="1084"/>
                  </a:lnTo>
                  <a:lnTo>
                    <a:pt x="2910" y="1010"/>
                  </a:lnTo>
                  <a:lnTo>
                    <a:pt x="2882" y="969"/>
                  </a:lnTo>
                  <a:lnTo>
                    <a:pt x="2853" y="926"/>
                  </a:lnTo>
                  <a:lnTo>
                    <a:pt x="2821" y="881"/>
                  </a:lnTo>
                  <a:lnTo>
                    <a:pt x="2787" y="836"/>
                  </a:lnTo>
                  <a:lnTo>
                    <a:pt x="2753" y="789"/>
                  </a:lnTo>
                  <a:lnTo>
                    <a:pt x="2715" y="742"/>
                  </a:lnTo>
                  <a:lnTo>
                    <a:pt x="2677" y="696"/>
                  </a:lnTo>
                  <a:lnTo>
                    <a:pt x="2637" y="649"/>
                  </a:lnTo>
                  <a:lnTo>
                    <a:pt x="2596" y="603"/>
                  </a:lnTo>
                  <a:lnTo>
                    <a:pt x="2554" y="558"/>
                  </a:lnTo>
                  <a:lnTo>
                    <a:pt x="2510" y="514"/>
                  </a:lnTo>
                  <a:lnTo>
                    <a:pt x="2466" y="473"/>
                  </a:lnTo>
                  <a:lnTo>
                    <a:pt x="2420" y="432"/>
                  </a:lnTo>
                  <a:lnTo>
                    <a:pt x="2374" y="395"/>
                  </a:lnTo>
                  <a:lnTo>
                    <a:pt x="2327" y="361"/>
                  </a:lnTo>
                  <a:lnTo>
                    <a:pt x="2279" y="329"/>
                  </a:lnTo>
                  <a:lnTo>
                    <a:pt x="2231" y="302"/>
                  </a:lnTo>
                  <a:lnTo>
                    <a:pt x="2183" y="278"/>
                  </a:lnTo>
                  <a:lnTo>
                    <a:pt x="2134" y="258"/>
                  </a:lnTo>
                  <a:lnTo>
                    <a:pt x="2086" y="243"/>
                  </a:lnTo>
                  <a:lnTo>
                    <a:pt x="2036" y="233"/>
                  </a:lnTo>
                  <a:lnTo>
                    <a:pt x="1988" y="228"/>
                  </a:lnTo>
                  <a:lnTo>
                    <a:pt x="1939" y="230"/>
                  </a:lnTo>
                  <a:lnTo>
                    <a:pt x="1891" y="237"/>
                  </a:lnTo>
                  <a:lnTo>
                    <a:pt x="1891" y="237"/>
                  </a:lnTo>
                  <a:lnTo>
                    <a:pt x="1876" y="238"/>
                  </a:lnTo>
                  <a:lnTo>
                    <a:pt x="1839" y="242"/>
                  </a:lnTo>
                  <a:lnTo>
                    <a:pt x="1780" y="251"/>
                  </a:lnTo>
                  <a:lnTo>
                    <a:pt x="1705" y="264"/>
                  </a:lnTo>
                  <a:lnTo>
                    <a:pt x="1660" y="273"/>
                  </a:lnTo>
                  <a:lnTo>
                    <a:pt x="1611" y="284"/>
                  </a:lnTo>
                  <a:lnTo>
                    <a:pt x="1561" y="297"/>
                  </a:lnTo>
                  <a:lnTo>
                    <a:pt x="1506" y="311"/>
                  </a:lnTo>
                  <a:lnTo>
                    <a:pt x="1449" y="329"/>
                  </a:lnTo>
                  <a:lnTo>
                    <a:pt x="1390" y="349"/>
                  </a:lnTo>
                  <a:lnTo>
                    <a:pt x="1328" y="371"/>
                  </a:lnTo>
                  <a:lnTo>
                    <a:pt x="1266" y="396"/>
                  </a:lnTo>
                  <a:lnTo>
                    <a:pt x="1202" y="423"/>
                  </a:lnTo>
                  <a:lnTo>
                    <a:pt x="1136" y="454"/>
                  </a:lnTo>
                  <a:lnTo>
                    <a:pt x="1069" y="488"/>
                  </a:lnTo>
                  <a:lnTo>
                    <a:pt x="1003" y="525"/>
                  </a:lnTo>
                  <a:lnTo>
                    <a:pt x="936" y="566"/>
                  </a:lnTo>
                  <a:lnTo>
                    <a:pt x="869" y="610"/>
                  </a:lnTo>
                  <a:lnTo>
                    <a:pt x="803" y="659"/>
                  </a:lnTo>
                  <a:lnTo>
                    <a:pt x="737" y="711"/>
                  </a:lnTo>
                  <a:lnTo>
                    <a:pt x="673" y="767"/>
                  </a:lnTo>
                  <a:lnTo>
                    <a:pt x="611" y="828"/>
                  </a:lnTo>
                  <a:lnTo>
                    <a:pt x="550" y="892"/>
                  </a:lnTo>
                  <a:lnTo>
                    <a:pt x="490" y="962"/>
                  </a:lnTo>
                  <a:lnTo>
                    <a:pt x="434" y="1035"/>
                  </a:lnTo>
                  <a:lnTo>
                    <a:pt x="381" y="1114"/>
                  </a:lnTo>
                  <a:lnTo>
                    <a:pt x="330" y="1197"/>
                  </a:lnTo>
                  <a:lnTo>
                    <a:pt x="283" y="1287"/>
                  </a:lnTo>
                  <a:lnTo>
                    <a:pt x="241" y="1258"/>
                  </a:lnTo>
                  <a:lnTo>
                    <a:pt x="187" y="1222"/>
                  </a:lnTo>
                  <a:lnTo>
                    <a:pt x="135" y="1185"/>
                  </a:lnTo>
                  <a:lnTo>
                    <a:pt x="95" y="1159"/>
                  </a:lnTo>
                  <a:lnTo>
                    <a:pt x="116" y="1127"/>
                  </a:lnTo>
                  <a:lnTo>
                    <a:pt x="146" y="1082"/>
                  </a:lnTo>
                  <a:lnTo>
                    <a:pt x="186" y="1026"/>
                  </a:lnTo>
                  <a:lnTo>
                    <a:pt x="234" y="962"/>
                  </a:lnTo>
                  <a:lnTo>
                    <a:pt x="262" y="926"/>
                  </a:lnTo>
                  <a:lnTo>
                    <a:pt x="290" y="890"/>
                  </a:lnTo>
                  <a:lnTo>
                    <a:pt x="321" y="851"/>
                  </a:lnTo>
                  <a:lnTo>
                    <a:pt x="355" y="811"/>
                  </a:lnTo>
                  <a:lnTo>
                    <a:pt x="391" y="771"/>
                  </a:lnTo>
                  <a:lnTo>
                    <a:pt x="428" y="730"/>
                  </a:lnTo>
                  <a:lnTo>
                    <a:pt x="467" y="687"/>
                  </a:lnTo>
                  <a:lnTo>
                    <a:pt x="508" y="645"/>
                  </a:lnTo>
                  <a:lnTo>
                    <a:pt x="551" y="603"/>
                  </a:lnTo>
                  <a:lnTo>
                    <a:pt x="596" y="562"/>
                  </a:lnTo>
                  <a:lnTo>
                    <a:pt x="642" y="520"/>
                  </a:lnTo>
                  <a:lnTo>
                    <a:pt x="690" y="479"/>
                  </a:lnTo>
                  <a:lnTo>
                    <a:pt x="740" y="438"/>
                  </a:lnTo>
                  <a:lnTo>
                    <a:pt x="791" y="398"/>
                  </a:lnTo>
                  <a:lnTo>
                    <a:pt x="843" y="360"/>
                  </a:lnTo>
                  <a:lnTo>
                    <a:pt x="897" y="324"/>
                  </a:lnTo>
                  <a:lnTo>
                    <a:pt x="953" y="288"/>
                  </a:lnTo>
                  <a:lnTo>
                    <a:pt x="1010" y="254"/>
                  </a:lnTo>
                  <a:lnTo>
                    <a:pt x="1069" y="223"/>
                  </a:lnTo>
                  <a:lnTo>
                    <a:pt x="1130" y="195"/>
                  </a:lnTo>
                  <a:lnTo>
                    <a:pt x="1190" y="168"/>
                  </a:lnTo>
                  <a:lnTo>
                    <a:pt x="1254" y="144"/>
                  </a:lnTo>
                  <a:lnTo>
                    <a:pt x="1317" y="123"/>
                  </a:lnTo>
                  <a:lnTo>
                    <a:pt x="1383" y="1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4514760" y="5208480"/>
              <a:ext cx="1243080" cy="493920"/>
            </a:xfrm>
            <a:custGeom>
              <a:avLst/>
              <a:gdLst/>
              <a:ahLst/>
              <a:rect l="l" t="t" r="r" b="b"/>
              <a:pathLst>
                <a:path w="3133" h="1244">
                  <a:moveTo>
                    <a:pt x="0" y="1132"/>
                  </a:moveTo>
                  <a:lnTo>
                    <a:pt x="12" y="1114"/>
                  </a:lnTo>
                  <a:lnTo>
                    <a:pt x="46" y="1060"/>
                  </a:lnTo>
                  <a:lnTo>
                    <a:pt x="72" y="1022"/>
                  </a:lnTo>
                  <a:lnTo>
                    <a:pt x="103" y="979"/>
                  </a:lnTo>
                  <a:lnTo>
                    <a:pt x="140" y="929"/>
                  </a:lnTo>
                  <a:lnTo>
                    <a:pt x="180" y="876"/>
                  </a:lnTo>
                  <a:lnTo>
                    <a:pt x="226" y="819"/>
                  </a:lnTo>
                  <a:lnTo>
                    <a:pt x="277" y="757"/>
                  </a:lnTo>
                  <a:lnTo>
                    <a:pt x="332" y="694"/>
                  </a:lnTo>
                  <a:lnTo>
                    <a:pt x="393" y="629"/>
                  </a:lnTo>
                  <a:lnTo>
                    <a:pt x="457" y="564"/>
                  </a:lnTo>
                  <a:lnTo>
                    <a:pt x="526" y="498"/>
                  </a:lnTo>
                  <a:lnTo>
                    <a:pt x="598" y="434"/>
                  </a:lnTo>
                  <a:lnTo>
                    <a:pt x="675" y="371"/>
                  </a:lnTo>
                  <a:lnTo>
                    <a:pt x="755" y="310"/>
                  </a:lnTo>
                  <a:lnTo>
                    <a:pt x="839" y="253"/>
                  </a:lnTo>
                  <a:lnTo>
                    <a:pt x="927" y="199"/>
                  </a:lnTo>
                  <a:lnTo>
                    <a:pt x="1017" y="150"/>
                  </a:lnTo>
                  <a:lnTo>
                    <a:pt x="1112" y="106"/>
                  </a:lnTo>
                  <a:lnTo>
                    <a:pt x="1209" y="69"/>
                  </a:lnTo>
                  <a:lnTo>
                    <a:pt x="1309" y="39"/>
                  </a:lnTo>
                  <a:lnTo>
                    <a:pt x="1412" y="17"/>
                  </a:lnTo>
                  <a:lnTo>
                    <a:pt x="1518" y="3"/>
                  </a:lnTo>
                  <a:lnTo>
                    <a:pt x="1627" y="0"/>
                  </a:lnTo>
                  <a:lnTo>
                    <a:pt x="1738" y="5"/>
                  </a:lnTo>
                  <a:lnTo>
                    <a:pt x="1851" y="22"/>
                  </a:lnTo>
                  <a:lnTo>
                    <a:pt x="1966" y="51"/>
                  </a:lnTo>
                  <a:lnTo>
                    <a:pt x="2084" y="91"/>
                  </a:lnTo>
                  <a:lnTo>
                    <a:pt x="2203" y="146"/>
                  </a:lnTo>
                  <a:lnTo>
                    <a:pt x="2324" y="214"/>
                  </a:lnTo>
                  <a:lnTo>
                    <a:pt x="2334" y="222"/>
                  </a:lnTo>
                  <a:lnTo>
                    <a:pt x="2361" y="245"/>
                  </a:lnTo>
                  <a:lnTo>
                    <a:pt x="2402" y="283"/>
                  </a:lnTo>
                  <a:lnTo>
                    <a:pt x="2457" y="331"/>
                  </a:lnTo>
                  <a:lnTo>
                    <a:pt x="2520" y="389"/>
                  </a:lnTo>
                  <a:lnTo>
                    <a:pt x="2591" y="457"/>
                  </a:lnTo>
                  <a:lnTo>
                    <a:pt x="2665" y="532"/>
                  </a:lnTo>
                  <a:lnTo>
                    <a:pt x="2743" y="611"/>
                  </a:lnTo>
                  <a:lnTo>
                    <a:pt x="2782" y="654"/>
                  </a:lnTo>
                  <a:lnTo>
                    <a:pt x="2819" y="696"/>
                  </a:lnTo>
                  <a:lnTo>
                    <a:pt x="2858" y="738"/>
                  </a:lnTo>
                  <a:lnTo>
                    <a:pt x="2894" y="780"/>
                  </a:lnTo>
                  <a:lnTo>
                    <a:pt x="2928" y="823"/>
                  </a:lnTo>
                  <a:lnTo>
                    <a:pt x="2962" y="867"/>
                  </a:lnTo>
                  <a:lnTo>
                    <a:pt x="2993" y="909"/>
                  </a:lnTo>
                  <a:lnTo>
                    <a:pt x="3023" y="951"/>
                  </a:lnTo>
                  <a:lnTo>
                    <a:pt x="3049" y="992"/>
                  </a:lnTo>
                  <a:lnTo>
                    <a:pt x="3073" y="1033"/>
                  </a:lnTo>
                  <a:lnTo>
                    <a:pt x="3092" y="1073"/>
                  </a:lnTo>
                  <a:lnTo>
                    <a:pt x="3109" y="1110"/>
                  </a:lnTo>
                  <a:lnTo>
                    <a:pt x="3121" y="1146"/>
                  </a:lnTo>
                  <a:lnTo>
                    <a:pt x="3130" y="1181"/>
                  </a:lnTo>
                  <a:lnTo>
                    <a:pt x="3133" y="1214"/>
                  </a:lnTo>
                  <a:lnTo>
                    <a:pt x="3132" y="1244"/>
                  </a:lnTo>
                  <a:lnTo>
                    <a:pt x="2974" y="1222"/>
                  </a:lnTo>
                  <a:lnTo>
                    <a:pt x="2967" y="1209"/>
                  </a:lnTo>
                  <a:lnTo>
                    <a:pt x="2947" y="1175"/>
                  </a:lnTo>
                  <a:lnTo>
                    <a:pt x="2915" y="1121"/>
                  </a:lnTo>
                  <a:lnTo>
                    <a:pt x="2871" y="1052"/>
                  </a:lnTo>
                  <a:lnTo>
                    <a:pt x="2845" y="1013"/>
                  </a:lnTo>
                  <a:lnTo>
                    <a:pt x="2817" y="971"/>
                  </a:lnTo>
                  <a:lnTo>
                    <a:pt x="2787" y="926"/>
                  </a:lnTo>
                  <a:lnTo>
                    <a:pt x="2755" y="881"/>
                  </a:lnTo>
                  <a:lnTo>
                    <a:pt x="2720" y="833"/>
                  </a:lnTo>
                  <a:lnTo>
                    <a:pt x="2683" y="785"/>
                  </a:lnTo>
                  <a:lnTo>
                    <a:pt x="2645" y="737"/>
                  </a:lnTo>
                  <a:lnTo>
                    <a:pt x="2604" y="687"/>
                  </a:lnTo>
                  <a:lnTo>
                    <a:pt x="2563" y="639"/>
                  </a:lnTo>
                  <a:lnTo>
                    <a:pt x="2521" y="591"/>
                  </a:lnTo>
                  <a:lnTo>
                    <a:pt x="2476" y="544"/>
                  </a:lnTo>
                  <a:lnTo>
                    <a:pt x="2432" y="500"/>
                  </a:lnTo>
                  <a:lnTo>
                    <a:pt x="2386" y="456"/>
                  </a:lnTo>
                  <a:lnTo>
                    <a:pt x="2339" y="415"/>
                  </a:lnTo>
                  <a:lnTo>
                    <a:pt x="2291" y="378"/>
                  </a:lnTo>
                  <a:lnTo>
                    <a:pt x="2243" y="343"/>
                  </a:lnTo>
                  <a:lnTo>
                    <a:pt x="2195" y="312"/>
                  </a:lnTo>
                  <a:lnTo>
                    <a:pt x="2145" y="286"/>
                  </a:lnTo>
                  <a:lnTo>
                    <a:pt x="2097" y="264"/>
                  </a:lnTo>
                  <a:lnTo>
                    <a:pt x="2047" y="247"/>
                  </a:lnTo>
                  <a:lnTo>
                    <a:pt x="1997" y="235"/>
                  </a:lnTo>
                  <a:lnTo>
                    <a:pt x="1949" y="229"/>
                  </a:lnTo>
                  <a:lnTo>
                    <a:pt x="1900" y="229"/>
                  </a:lnTo>
                  <a:lnTo>
                    <a:pt x="1852" y="237"/>
                  </a:lnTo>
                  <a:lnTo>
                    <a:pt x="1839" y="235"/>
                  </a:lnTo>
                  <a:lnTo>
                    <a:pt x="1807" y="233"/>
                  </a:lnTo>
                  <a:lnTo>
                    <a:pt x="1782" y="232"/>
                  </a:lnTo>
                  <a:lnTo>
                    <a:pt x="1754" y="230"/>
                  </a:lnTo>
                  <a:lnTo>
                    <a:pt x="1721" y="230"/>
                  </a:lnTo>
                  <a:lnTo>
                    <a:pt x="1684" y="232"/>
                  </a:lnTo>
                  <a:lnTo>
                    <a:pt x="1643" y="233"/>
                  </a:lnTo>
                  <a:lnTo>
                    <a:pt x="1600" y="235"/>
                  </a:lnTo>
                  <a:lnTo>
                    <a:pt x="1553" y="240"/>
                  </a:lnTo>
                  <a:lnTo>
                    <a:pt x="1503" y="247"/>
                  </a:lnTo>
                  <a:lnTo>
                    <a:pt x="1450" y="255"/>
                  </a:lnTo>
                  <a:lnTo>
                    <a:pt x="1395" y="266"/>
                  </a:lnTo>
                  <a:lnTo>
                    <a:pt x="1339" y="279"/>
                  </a:lnTo>
                  <a:lnTo>
                    <a:pt x="1281" y="295"/>
                  </a:lnTo>
                  <a:lnTo>
                    <a:pt x="1221" y="314"/>
                  </a:lnTo>
                  <a:lnTo>
                    <a:pt x="1160" y="336"/>
                  </a:lnTo>
                  <a:lnTo>
                    <a:pt x="1098" y="362"/>
                  </a:lnTo>
                  <a:lnTo>
                    <a:pt x="1036" y="390"/>
                  </a:lnTo>
                  <a:lnTo>
                    <a:pt x="974" y="424"/>
                  </a:lnTo>
                  <a:lnTo>
                    <a:pt x="911" y="461"/>
                  </a:lnTo>
                  <a:lnTo>
                    <a:pt x="849" y="502"/>
                  </a:lnTo>
                  <a:lnTo>
                    <a:pt x="788" y="548"/>
                  </a:lnTo>
                  <a:lnTo>
                    <a:pt x="727" y="599"/>
                  </a:lnTo>
                  <a:lnTo>
                    <a:pt x="668" y="655"/>
                  </a:lnTo>
                  <a:lnTo>
                    <a:pt x="610" y="717"/>
                  </a:lnTo>
                  <a:lnTo>
                    <a:pt x="554" y="783"/>
                  </a:lnTo>
                  <a:lnTo>
                    <a:pt x="501" y="856"/>
                  </a:lnTo>
                  <a:lnTo>
                    <a:pt x="449" y="934"/>
                  </a:lnTo>
                  <a:lnTo>
                    <a:pt x="400" y="1018"/>
                  </a:lnTo>
                  <a:lnTo>
                    <a:pt x="354" y="1110"/>
                  </a:lnTo>
                  <a:lnTo>
                    <a:pt x="0" y="1132"/>
                  </a:lnTo>
                  <a:close/>
                </a:path>
              </a:pathLst>
            </a:custGeom>
            <a:solidFill>
              <a:srgbClr val="835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4487760" y="5194440"/>
              <a:ext cx="1284480" cy="523800"/>
            </a:xfrm>
            <a:custGeom>
              <a:avLst/>
              <a:gdLst/>
              <a:ahLst/>
              <a:rect l="l" t="t" r="r" b="b"/>
              <a:pathLst>
                <a:path w="3233" h="1321">
                  <a:moveTo>
                    <a:pt x="1383" y="37"/>
                  </a:moveTo>
                  <a:lnTo>
                    <a:pt x="1310" y="57"/>
                  </a:lnTo>
                  <a:lnTo>
                    <a:pt x="1238" y="80"/>
                  </a:lnTo>
                  <a:lnTo>
                    <a:pt x="1167" y="108"/>
                  </a:lnTo>
                  <a:lnTo>
                    <a:pt x="1097" y="139"/>
                  </a:lnTo>
                  <a:lnTo>
                    <a:pt x="1030" y="172"/>
                  </a:lnTo>
                  <a:lnTo>
                    <a:pt x="966" y="208"/>
                  </a:lnTo>
                  <a:lnTo>
                    <a:pt x="902" y="247"/>
                  </a:lnTo>
                  <a:lnTo>
                    <a:pt x="840" y="288"/>
                  </a:lnTo>
                  <a:lnTo>
                    <a:pt x="781" y="330"/>
                  </a:lnTo>
                  <a:lnTo>
                    <a:pt x="722" y="373"/>
                  </a:lnTo>
                  <a:lnTo>
                    <a:pt x="666" y="419"/>
                  </a:lnTo>
                  <a:lnTo>
                    <a:pt x="613" y="465"/>
                  </a:lnTo>
                  <a:lnTo>
                    <a:pt x="561" y="511"/>
                  </a:lnTo>
                  <a:lnTo>
                    <a:pt x="511" y="558"/>
                  </a:lnTo>
                  <a:lnTo>
                    <a:pt x="464" y="605"/>
                  </a:lnTo>
                  <a:lnTo>
                    <a:pt x="419" y="652"/>
                  </a:lnTo>
                  <a:lnTo>
                    <a:pt x="376" y="699"/>
                  </a:lnTo>
                  <a:lnTo>
                    <a:pt x="335" y="744"/>
                  </a:lnTo>
                  <a:lnTo>
                    <a:pt x="296" y="790"/>
                  </a:lnTo>
                  <a:lnTo>
                    <a:pt x="262" y="832"/>
                  </a:lnTo>
                  <a:lnTo>
                    <a:pt x="228" y="874"/>
                  </a:lnTo>
                  <a:lnTo>
                    <a:pt x="197" y="914"/>
                  </a:lnTo>
                  <a:lnTo>
                    <a:pt x="168" y="953"/>
                  </a:lnTo>
                  <a:lnTo>
                    <a:pt x="142" y="989"/>
                  </a:lnTo>
                  <a:lnTo>
                    <a:pt x="99" y="1051"/>
                  </a:lnTo>
                  <a:lnTo>
                    <a:pt x="65" y="1100"/>
                  </a:lnTo>
                  <a:lnTo>
                    <a:pt x="44" y="1134"/>
                  </a:lnTo>
                  <a:lnTo>
                    <a:pt x="34" y="1150"/>
                  </a:lnTo>
                  <a:lnTo>
                    <a:pt x="0" y="1208"/>
                  </a:lnTo>
                  <a:lnTo>
                    <a:pt x="443" y="1181"/>
                  </a:lnTo>
                  <a:lnTo>
                    <a:pt x="452" y="1161"/>
                  </a:lnTo>
                  <a:lnTo>
                    <a:pt x="496" y="1073"/>
                  </a:lnTo>
                  <a:lnTo>
                    <a:pt x="544" y="991"/>
                  </a:lnTo>
                  <a:lnTo>
                    <a:pt x="593" y="915"/>
                  </a:lnTo>
                  <a:lnTo>
                    <a:pt x="645" y="846"/>
                  </a:lnTo>
                  <a:lnTo>
                    <a:pt x="699" y="781"/>
                  </a:lnTo>
                  <a:lnTo>
                    <a:pt x="755" y="722"/>
                  </a:lnTo>
                  <a:lnTo>
                    <a:pt x="812" y="667"/>
                  </a:lnTo>
                  <a:lnTo>
                    <a:pt x="871" y="618"/>
                  </a:lnTo>
                  <a:lnTo>
                    <a:pt x="930" y="573"/>
                  </a:lnTo>
                  <a:lnTo>
                    <a:pt x="991" y="532"/>
                  </a:lnTo>
                  <a:lnTo>
                    <a:pt x="1050" y="496"/>
                  </a:lnTo>
                  <a:lnTo>
                    <a:pt x="1111" y="464"/>
                  </a:lnTo>
                  <a:lnTo>
                    <a:pt x="1172" y="435"/>
                  </a:lnTo>
                  <a:lnTo>
                    <a:pt x="1231" y="410"/>
                  </a:lnTo>
                  <a:lnTo>
                    <a:pt x="1291" y="388"/>
                  </a:lnTo>
                  <a:lnTo>
                    <a:pt x="1349" y="369"/>
                  </a:lnTo>
                  <a:lnTo>
                    <a:pt x="1405" y="353"/>
                  </a:lnTo>
                  <a:lnTo>
                    <a:pt x="1461" y="341"/>
                  </a:lnTo>
                  <a:lnTo>
                    <a:pt x="1515" y="330"/>
                  </a:lnTo>
                  <a:lnTo>
                    <a:pt x="1565" y="321"/>
                  </a:lnTo>
                  <a:lnTo>
                    <a:pt x="1614" y="315"/>
                  </a:lnTo>
                  <a:lnTo>
                    <a:pt x="1661" y="310"/>
                  </a:lnTo>
                  <a:lnTo>
                    <a:pt x="1703" y="306"/>
                  </a:lnTo>
                  <a:lnTo>
                    <a:pt x="1743" y="304"/>
                  </a:lnTo>
                  <a:lnTo>
                    <a:pt x="1780" y="302"/>
                  </a:lnTo>
                  <a:lnTo>
                    <a:pt x="1813" y="302"/>
                  </a:lnTo>
                  <a:lnTo>
                    <a:pt x="1841" y="304"/>
                  </a:lnTo>
                  <a:lnTo>
                    <a:pt x="1865" y="304"/>
                  </a:lnTo>
                  <a:lnTo>
                    <a:pt x="1898" y="306"/>
                  </a:lnTo>
                  <a:lnTo>
                    <a:pt x="1912" y="307"/>
                  </a:lnTo>
                  <a:lnTo>
                    <a:pt x="1958" y="301"/>
                  </a:lnTo>
                  <a:lnTo>
                    <a:pt x="2005" y="301"/>
                  </a:lnTo>
                  <a:lnTo>
                    <a:pt x="2052" y="307"/>
                  </a:lnTo>
                  <a:lnTo>
                    <a:pt x="2101" y="319"/>
                  </a:lnTo>
                  <a:lnTo>
                    <a:pt x="2148" y="336"/>
                  </a:lnTo>
                  <a:lnTo>
                    <a:pt x="2195" y="357"/>
                  </a:lnTo>
                  <a:lnTo>
                    <a:pt x="2243" y="383"/>
                  </a:lnTo>
                  <a:lnTo>
                    <a:pt x="2291" y="413"/>
                  </a:lnTo>
                  <a:lnTo>
                    <a:pt x="2337" y="446"/>
                  </a:lnTo>
                  <a:lnTo>
                    <a:pt x="2384" y="484"/>
                  </a:lnTo>
                  <a:lnTo>
                    <a:pt x="2428" y="523"/>
                  </a:lnTo>
                  <a:lnTo>
                    <a:pt x="2473" y="564"/>
                  </a:lnTo>
                  <a:lnTo>
                    <a:pt x="2518" y="609"/>
                  </a:lnTo>
                  <a:lnTo>
                    <a:pt x="2560" y="654"/>
                  </a:lnTo>
                  <a:lnTo>
                    <a:pt x="2602" y="701"/>
                  </a:lnTo>
                  <a:lnTo>
                    <a:pt x="2642" y="748"/>
                  </a:lnTo>
                  <a:lnTo>
                    <a:pt x="2682" y="796"/>
                  </a:lnTo>
                  <a:lnTo>
                    <a:pt x="2719" y="843"/>
                  </a:lnTo>
                  <a:lnTo>
                    <a:pt x="2755" y="891"/>
                  </a:lnTo>
                  <a:lnTo>
                    <a:pt x="2789" y="936"/>
                  </a:lnTo>
                  <a:lnTo>
                    <a:pt x="2851" y="1025"/>
                  </a:lnTo>
                  <a:lnTo>
                    <a:pt x="2904" y="1105"/>
                  </a:lnTo>
                  <a:lnTo>
                    <a:pt x="2946" y="1173"/>
                  </a:lnTo>
                  <a:lnTo>
                    <a:pt x="2980" y="1227"/>
                  </a:lnTo>
                  <a:lnTo>
                    <a:pt x="3000" y="1261"/>
                  </a:lnTo>
                  <a:lnTo>
                    <a:pt x="3008" y="1275"/>
                  </a:lnTo>
                  <a:lnTo>
                    <a:pt x="3017" y="1291"/>
                  </a:lnTo>
                  <a:lnTo>
                    <a:pt x="3228" y="1321"/>
                  </a:lnTo>
                  <a:lnTo>
                    <a:pt x="3232" y="1285"/>
                  </a:lnTo>
                  <a:lnTo>
                    <a:pt x="3233" y="1254"/>
                  </a:lnTo>
                  <a:lnTo>
                    <a:pt x="3231" y="1221"/>
                  </a:lnTo>
                  <a:lnTo>
                    <a:pt x="3223" y="1186"/>
                  </a:lnTo>
                  <a:lnTo>
                    <a:pt x="3212" y="1150"/>
                  </a:lnTo>
                  <a:lnTo>
                    <a:pt x="3197" y="1113"/>
                  </a:lnTo>
                  <a:lnTo>
                    <a:pt x="3180" y="1073"/>
                  </a:lnTo>
                  <a:lnTo>
                    <a:pt x="3157" y="1033"/>
                  </a:lnTo>
                  <a:lnTo>
                    <a:pt x="3134" y="993"/>
                  </a:lnTo>
                  <a:lnTo>
                    <a:pt x="3106" y="953"/>
                  </a:lnTo>
                  <a:lnTo>
                    <a:pt x="3078" y="910"/>
                  </a:lnTo>
                  <a:lnTo>
                    <a:pt x="3047" y="868"/>
                  </a:lnTo>
                  <a:lnTo>
                    <a:pt x="3015" y="826"/>
                  </a:lnTo>
                  <a:lnTo>
                    <a:pt x="2980" y="785"/>
                  </a:lnTo>
                  <a:lnTo>
                    <a:pt x="2944" y="743"/>
                  </a:lnTo>
                  <a:lnTo>
                    <a:pt x="2908" y="702"/>
                  </a:lnTo>
                  <a:lnTo>
                    <a:pt x="2871" y="661"/>
                  </a:lnTo>
                  <a:lnTo>
                    <a:pt x="2796" y="582"/>
                  </a:lnTo>
                  <a:lnTo>
                    <a:pt x="2722" y="506"/>
                  </a:lnTo>
                  <a:lnTo>
                    <a:pt x="2650" y="438"/>
                  </a:lnTo>
                  <a:lnTo>
                    <a:pt x="2584" y="374"/>
                  </a:lnTo>
                  <a:lnTo>
                    <a:pt x="2524" y="321"/>
                  </a:lnTo>
                  <a:lnTo>
                    <a:pt x="2474" y="276"/>
                  </a:lnTo>
                  <a:lnTo>
                    <a:pt x="2436" y="243"/>
                  </a:lnTo>
                  <a:lnTo>
                    <a:pt x="2412" y="223"/>
                  </a:lnTo>
                  <a:lnTo>
                    <a:pt x="2381" y="203"/>
                  </a:lnTo>
                  <a:lnTo>
                    <a:pt x="2349" y="186"/>
                  </a:lnTo>
                  <a:lnTo>
                    <a:pt x="2318" y="167"/>
                  </a:lnTo>
                  <a:lnTo>
                    <a:pt x="2286" y="151"/>
                  </a:lnTo>
                  <a:lnTo>
                    <a:pt x="2253" y="135"/>
                  </a:lnTo>
                  <a:lnTo>
                    <a:pt x="2222" y="120"/>
                  </a:lnTo>
                  <a:lnTo>
                    <a:pt x="2190" y="106"/>
                  </a:lnTo>
                  <a:lnTo>
                    <a:pt x="2158" y="94"/>
                  </a:lnTo>
                  <a:lnTo>
                    <a:pt x="2127" y="82"/>
                  </a:lnTo>
                  <a:lnTo>
                    <a:pt x="2094" y="69"/>
                  </a:lnTo>
                  <a:lnTo>
                    <a:pt x="2062" y="59"/>
                  </a:lnTo>
                  <a:lnTo>
                    <a:pt x="2030" y="49"/>
                  </a:lnTo>
                  <a:lnTo>
                    <a:pt x="1998" y="41"/>
                  </a:lnTo>
                  <a:lnTo>
                    <a:pt x="1967" y="33"/>
                  </a:lnTo>
                  <a:lnTo>
                    <a:pt x="1934" y="26"/>
                  </a:lnTo>
                  <a:lnTo>
                    <a:pt x="1902" y="20"/>
                  </a:lnTo>
                  <a:lnTo>
                    <a:pt x="1870" y="13"/>
                  </a:lnTo>
                  <a:lnTo>
                    <a:pt x="1837" y="10"/>
                  </a:lnTo>
                  <a:lnTo>
                    <a:pt x="1805" y="6"/>
                  </a:lnTo>
                  <a:lnTo>
                    <a:pt x="1773" y="3"/>
                  </a:lnTo>
                  <a:lnTo>
                    <a:pt x="1741" y="1"/>
                  </a:lnTo>
                  <a:lnTo>
                    <a:pt x="1708" y="0"/>
                  </a:lnTo>
                  <a:lnTo>
                    <a:pt x="1676" y="0"/>
                  </a:lnTo>
                  <a:lnTo>
                    <a:pt x="1644" y="1"/>
                  </a:lnTo>
                  <a:lnTo>
                    <a:pt x="1610" y="2"/>
                  </a:lnTo>
                  <a:lnTo>
                    <a:pt x="1578" y="5"/>
                  </a:lnTo>
                  <a:lnTo>
                    <a:pt x="1546" y="7"/>
                  </a:lnTo>
                  <a:lnTo>
                    <a:pt x="1513" y="12"/>
                  </a:lnTo>
                  <a:lnTo>
                    <a:pt x="1481" y="17"/>
                  </a:lnTo>
                  <a:lnTo>
                    <a:pt x="1449" y="22"/>
                  </a:lnTo>
                  <a:lnTo>
                    <a:pt x="1415" y="29"/>
                  </a:lnTo>
                  <a:lnTo>
                    <a:pt x="1383" y="37"/>
                  </a:lnTo>
                  <a:close/>
                  <a:moveTo>
                    <a:pt x="1400" y="105"/>
                  </a:moveTo>
                  <a:lnTo>
                    <a:pt x="1431" y="99"/>
                  </a:lnTo>
                  <a:lnTo>
                    <a:pt x="1462" y="93"/>
                  </a:lnTo>
                  <a:lnTo>
                    <a:pt x="1492" y="87"/>
                  </a:lnTo>
                  <a:lnTo>
                    <a:pt x="1523" y="82"/>
                  </a:lnTo>
                  <a:lnTo>
                    <a:pt x="1554" y="78"/>
                  </a:lnTo>
                  <a:lnTo>
                    <a:pt x="1584" y="75"/>
                  </a:lnTo>
                  <a:lnTo>
                    <a:pt x="1615" y="73"/>
                  </a:lnTo>
                  <a:lnTo>
                    <a:pt x="1646" y="72"/>
                  </a:lnTo>
                  <a:lnTo>
                    <a:pt x="1676" y="72"/>
                  </a:lnTo>
                  <a:lnTo>
                    <a:pt x="1707" y="72"/>
                  </a:lnTo>
                  <a:lnTo>
                    <a:pt x="1738" y="73"/>
                  </a:lnTo>
                  <a:lnTo>
                    <a:pt x="1768" y="74"/>
                  </a:lnTo>
                  <a:lnTo>
                    <a:pt x="1799" y="77"/>
                  </a:lnTo>
                  <a:lnTo>
                    <a:pt x="1829" y="80"/>
                  </a:lnTo>
                  <a:lnTo>
                    <a:pt x="1860" y="84"/>
                  </a:lnTo>
                  <a:lnTo>
                    <a:pt x="1890" y="89"/>
                  </a:lnTo>
                  <a:lnTo>
                    <a:pt x="1921" y="95"/>
                  </a:lnTo>
                  <a:lnTo>
                    <a:pt x="1950" y="103"/>
                  </a:lnTo>
                  <a:lnTo>
                    <a:pt x="1981" y="110"/>
                  </a:lnTo>
                  <a:lnTo>
                    <a:pt x="2011" y="118"/>
                  </a:lnTo>
                  <a:lnTo>
                    <a:pt x="2041" y="127"/>
                  </a:lnTo>
                  <a:lnTo>
                    <a:pt x="2072" y="137"/>
                  </a:lnTo>
                  <a:lnTo>
                    <a:pt x="2102" y="147"/>
                  </a:lnTo>
                  <a:lnTo>
                    <a:pt x="2132" y="159"/>
                  </a:lnTo>
                  <a:lnTo>
                    <a:pt x="2162" y="171"/>
                  </a:lnTo>
                  <a:lnTo>
                    <a:pt x="2191" y="185"/>
                  </a:lnTo>
                  <a:lnTo>
                    <a:pt x="2221" y="198"/>
                  </a:lnTo>
                  <a:lnTo>
                    <a:pt x="2252" y="213"/>
                  </a:lnTo>
                  <a:lnTo>
                    <a:pt x="2281" y="229"/>
                  </a:lnTo>
                  <a:lnTo>
                    <a:pt x="2311" y="245"/>
                  </a:lnTo>
                  <a:lnTo>
                    <a:pt x="2340" y="263"/>
                  </a:lnTo>
                  <a:lnTo>
                    <a:pt x="2370" y="280"/>
                  </a:lnTo>
                  <a:lnTo>
                    <a:pt x="2415" y="319"/>
                  </a:lnTo>
                  <a:lnTo>
                    <a:pt x="2466" y="363"/>
                  </a:lnTo>
                  <a:lnTo>
                    <a:pt x="2522" y="415"/>
                  </a:lnTo>
                  <a:lnTo>
                    <a:pt x="2581" y="471"/>
                  </a:lnTo>
                  <a:lnTo>
                    <a:pt x="2645" y="532"/>
                  </a:lnTo>
                  <a:lnTo>
                    <a:pt x="2709" y="596"/>
                  </a:lnTo>
                  <a:lnTo>
                    <a:pt x="2774" y="663"/>
                  </a:lnTo>
                  <a:lnTo>
                    <a:pt x="2837" y="732"/>
                  </a:lnTo>
                  <a:lnTo>
                    <a:pt x="2868" y="766"/>
                  </a:lnTo>
                  <a:lnTo>
                    <a:pt x="2898" y="801"/>
                  </a:lnTo>
                  <a:lnTo>
                    <a:pt x="2928" y="836"/>
                  </a:lnTo>
                  <a:lnTo>
                    <a:pt x="2956" y="871"/>
                  </a:lnTo>
                  <a:lnTo>
                    <a:pt x="2982" y="905"/>
                  </a:lnTo>
                  <a:lnTo>
                    <a:pt x="3008" y="940"/>
                  </a:lnTo>
                  <a:lnTo>
                    <a:pt x="3033" y="974"/>
                  </a:lnTo>
                  <a:lnTo>
                    <a:pt x="3056" y="1007"/>
                  </a:lnTo>
                  <a:lnTo>
                    <a:pt x="3077" y="1039"/>
                  </a:lnTo>
                  <a:lnTo>
                    <a:pt x="3095" y="1070"/>
                  </a:lnTo>
                  <a:lnTo>
                    <a:pt x="3111" y="1101"/>
                  </a:lnTo>
                  <a:lnTo>
                    <a:pt x="3126" y="1131"/>
                  </a:lnTo>
                  <a:lnTo>
                    <a:pt x="3139" y="1161"/>
                  </a:lnTo>
                  <a:lnTo>
                    <a:pt x="3147" y="1188"/>
                  </a:lnTo>
                  <a:lnTo>
                    <a:pt x="3155" y="1214"/>
                  </a:lnTo>
                  <a:lnTo>
                    <a:pt x="3159" y="1239"/>
                  </a:lnTo>
                  <a:lnTo>
                    <a:pt x="3129" y="1235"/>
                  </a:lnTo>
                  <a:lnTo>
                    <a:pt x="3103" y="1232"/>
                  </a:lnTo>
                  <a:lnTo>
                    <a:pt x="3079" y="1228"/>
                  </a:lnTo>
                  <a:lnTo>
                    <a:pt x="3062" y="1226"/>
                  </a:lnTo>
                  <a:lnTo>
                    <a:pt x="3044" y="1196"/>
                  </a:lnTo>
                  <a:lnTo>
                    <a:pt x="3016" y="1147"/>
                  </a:lnTo>
                  <a:lnTo>
                    <a:pt x="2976" y="1085"/>
                  </a:lnTo>
                  <a:lnTo>
                    <a:pt x="2928" y="1010"/>
                  </a:lnTo>
                  <a:lnTo>
                    <a:pt x="2900" y="969"/>
                  </a:lnTo>
                  <a:lnTo>
                    <a:pt x="2871" y="926"/>
                  </a:lnTo>
                  <a:lnTo>
                    <a:pt x="2839" y="882"/>
                  </a:lnTo>
                  <a:lnTo>
                    <a:pt x="2806" y="836"/>
                  </a:lnTo>
                  <a:lnTo>
                    <a:pt x="2770" y="790"/>
                  </a:lnTo>
                  <a:lnTo>
                    <a:pt x="2734" y="743"/>
                  </a:lnTo>
                  <a:lnTo>
                    <a:pt x="2695" y="696"/>
                  </a:lnTo>
                  <a:lnTo>
                    <a:pt x="2656" y="649"/>
                  </a:lnTo>
                  <a:lnTo>
                    <a:pt x="2614" y="603"/>
                  </a:lnTo>
                  <a:lnTo>
                    <a:pt x="2571" y="558"/>
                  </a:lnTo>
                  <a:lnTo>
                    <a:pt x="2528" y="515"/>
                  </a:lnTo>
                  <a:lnTo>
                    <a:pt x="2483" y="472"/>
                  </a:lnTo>
                  <a:lnTo>
                    <a:pt x="2438" y="433"/>
                  </a:lnTo>
                  <a:lnTo>
                    <a:pt x="2392" y="395"/>
                  </a:lnTo>
                  <a:lnTo>
                    <a:pt x="2345" y="361"/>
                  </a:lnTo>
                  <a:lnTo>
                    <a:pt x="2297" y="330"/>
                  </a:lnTo>
                  <a:lnTo>
                    <a:pt x="2250" y="301"/>
                  </a:lnTo>
                  <a:lnTo>
                    <a:pt x="2201" y="278"/>
                  </a:lnTo>
                  <a:lnTo>
                    <a:pt x="2153" y="258"/>
                  </a:lnTo>
                  <a:lnTo>
                    <a:pt x="2103" y="243"/>
                  </a:lnTo>
                  <a:lnTo>
                    <a:pt x="2055" y="233"/>
                  </a:lnTo>
                  <a:lnTo>
                    <a:pt x="2006" y="229"/>
                  </a:lnTo>
                  <a:lnTo>
                    <a:pt x="1958" y="230"/>
                  </a:lnTo>
                  <a:lnTo>
                    <a:pt x="1909" y="238"/>
                  </a:lnTo>
                  <a:lnTo>
                    <a:pt x="1897" y="237"/>
                  </a:lnTo>
                  <a:lnTo>
                    <a:pt x="1865" y="234"/>
                  </a:lnTo>
                  <a:lnTo>
                    <a:pt x="1840" y="233"/>
                  </a:lnTo>
                  <a:lnTo>
                    <a:pt x="1811" y="232"/>
                  </a:lnTo>
                  <a:lnTo>
                    <a:pt x="1779" y="232"/>
                  </a:lnTo>
                  <a:lnTo>
                    <a:pt x="1742" y="233"/>
                  </a:lnTo>
                  <a:lnTo>
                    <a:pt x="1701" y="235"/>
                  </a:lnTo>
                  <a:lnTo>
                    <a:pt x="1656" y="239"/>
                  </a:lnTo>
                  <a:lnTo>
                    <a:pt x="1609" y="244"/>
                  </a:lnTo>
                  <a:lnTo>
                    <a:pt x="1559" y="250"/>
                  </a:lnTo>
                  <a:lnTo>
                    <a:pt x="1506" y="259"/>
                  </a:lnTo>
                  <a:lnTo>
                    <a:pt x="1451" y="270"/>
                  </a:lnTo>
                  <a:lnTo>
                    <a:pt x="1394" y="284"/>
                  </a:lnTo>
                  <a:lnTo>
                    <a:pt x="1336" y="300"/>
                  </a:lnTo>
                  <a:lnTo>
                    <a:pt x="1275" y="320"/>
                  </a:lnTo>
                  <a:lnTo>
                    <a:pt x="1214" y="342"/>
                  </a:lnTo>
                  <a:lnTo>
                    <a:pt x="1152" y="367"/>
                  </a:lnTo>
                  <a:lnTo>
                    <a:pt x="1089" y="397"/>
                  </a:lnTo>
                  <a:lnTo>
                    <a:pt x="1025" y="430"/>
                  </a:lnTo>
                  <a:lnTo>
                    <a:pt x="963" y="466"/>
                  </a:lnTo>
                  <a:lnTo>
                    <a:pt x="900" y="508"/>
                  </a:lnTo>
                  <a:lnTo>
                    <a:pt x="838" y="554"/>
                  </a:lnTo>
                  <a:lnTo>
                    <a:pt x="777" y="605"/>
                  </a:lnTo>
                  <a:lnTo>
                    <a:pt x="717" y="661"/>
                  </a:lnTo>
                  <a:lnTo>
                    <a:pt x="659" y="722"/>
                  </a:lnTo>
                  <a:lnTo>
                    <a:pt x="602" y="788"/>
                  </a:lnTo>
                  <a:lnTo>
                    <a:pt x="547" y="859"/>
                  </a:lnTo>
                  <a:lnTo>
                    <a:pt x="495" y="938"/>
                  </a:lnTo>
                  <a:lnTo>
                    <a:pt x="445" y="1022"/>
                  </a:lnTo>
                  <a:lnTo>
                    <a:pt x="398" y="1111"/>
                  </a:lnTo>
                  <a:lnTo>
                    <a:pt x="383" y="1113"/>
                  </a:lnTo>
                  <a:lnTo>
                    <a:pt x="357" y="1114"/>
                  </a:lnTo>
                  <a:lnTo>
                    <a:pt x="325" y="1116"/>
                  </a:lnTo>
                  <a:lnTo>
                    <a:pt x="288" y="1119"/>
                  </a:lnTo>
                  <a:lnTo>
                    <a:pt x="248" y="1121"/>
                  </a:lnTo>
                  <a:lnTo>
                    <a:pt x="207" y="1124"/>
                  </a:lnTo>
                  <a:lnTo>
                    <a:pt x="168" y="1126"/>
                  </a:lnTo>
                  <a:lnTo>
                    <a:pt x="134" y="1129"/>
                  </a:lnTo>
                  <a:lnTo>
                    <a:pt x="162" y="1087"/>
                  </a:lnTo>
                  <a:lnTo>
                    <a:pt x="198" y="1034"/>
                  </a:lnTo>
                  <a:lnTo>
                    <a:pt x="243" y="975"/>
                  </a:lnTo>
                  <a:lnTo>
                    <a:pt x="294" y="908"/>
                  </a:lnTo>
                  <a:lnTo>
                    <a:pt x="322" y="873"/>
                  </a:lnTo>
                  <a:lnTo>
                    <a:pt x="354" y="836"/>
                  </a:lnTo>
                  <a:lnTo>
                    <a:pt x="385" y="799"/>
                  </a:lnTo>
                  <a:lnTo>
                    <a:pt x="419" y="760"/>
                  </a:lnTo>
                  <a:lnTo>
                    <a:pt x="454" y="722"/>
                  </a:lnTo>
                  <a:lnTo>
                    <a:pt x="491" y="682"/>
                  </a:lnTo>
                  <a:lnTo>
                    <a:pt x="530" y="642"/>
                  </a:lnTo>
                  <a:lnTo>
                    <a:pt x="571" y="603"/>
                  </a:lnTo>
                  <a:lnTo>
                    <a:pt x="612" y="564"/>
                  </a:lnTo>
                  <a:lnTo>
                    <a:pt x="655" y="525"/>
                  </a:lnTo>
                  <a:lnTo>
                    <a:pt x="700" y="486"/>
                  </a:lnTo>
                  <a:lnTo>
                    <a:pt x="746" y="448"/>
                  </a:lnTo>
                  <a:lnTo>
                    <a:pt x="793" y="410"/>
                  </a:lnTo>
                  <a:lnTo>
                    <a:pt x="843" y="374"/>
                  </a:lnTo>
                  <a:lnTo>
                    <a:pt x="892" y="340"/>
                  </a:lnTo>
                  <a:lnTo>
                    <a:pt x="945" y="305"/>
                  </a:lnTo>
                  <a:lnTo>
                    <a:pt x="998" y="273"/>
                  </a:lnTo>
                  <a:lnTo>
                    <a:pt x="1051" y="243"/>
                  </a:lnTo>
                  <a:lnTo>
                    <a:pt x="1107" y="214"/>
                  </a:lnTo>
                  <a:lnTo>
                    <a:pt x="1163" y="187"/>
                  </a:lnTo>
                  <a:lnTo>
                    <a:pt x="1221" y="163"/>
                  </a:lnTo>
                  <a:lnTo>
                    <a:pt x="1280" y="141"/>
                  </a:lnTo>
                  <a:lnTo>
                    <a:pt x="1339" y="123"/>
                  </a:lnTo>
                  <a:lnTo>
                    <a:pt x="1400" y="1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4559400" y="5270400"/>
              <a:ext cx="1198440" cy="513000"/>
            </a:xfrm>
            <a:custGeom>
              <a:avLst/>
              <a:gdLst/>
              <a:ahLst/>
              <a:rect l="l" t="t" r="r" b="b"/>
              <a:pathLst>
                <a:path w="3020" h="1289">
                  <a:moveTo>
                    <a:pt x="0" y="1030"/>
                  </a:moveTo>
                  <a:lnTo>
                    <a:pt x="12" y="1011"/>
                  </a:lnTo>
                  <a:lnTo>
                    <a:pt x="43" y="962"/>
                  </a:lnTo>
                  <a:lnTo>
                    <a:pt x="66" y="927"/>
                  </a:lnTo>
                  <a:lnTo>
                    <a:pt x="95" y="886"/>
                  </a:lnTo>
                  <a:lnTo>
                    <a:pt x="128" y="840"/>
                  </a:lnTo>
                  <a:lnTo>
                    <a:pt x="167" y="791"/>
                  </a:lnTo>
                  <a:lnTo>
                    <a:pt x="209" y="737"/>
                  </a:lnTo>
                  <a:lnTo>
                    <a:pt x="256" y="680"/>
                  </a:lnTo>
                  <a:lnTo>
                    <a:pt x="308" y="622"/>
                  </a:lnTo>
                  <a:lnTo>
                    <a:pt x="364" y="562"/>
                  </a:lnTo>
                  <a:lnTo>
                    <a:pt x="425" y="503"/>
                  </a:lnTo>
                  <a:lnTo>
                    <a:pt x="490" y="442"/>
                  </a:lnTo>
                  <a:lnTo>
                    <a:pt x="558" y="382"/>
                  </a:lnTo>
                  <a:lnTo>
                    <a:pt x="630" y="325"/>
                  </a:lnTo>
                  <a:lnTo>
                    <a:pt x="707" y="269"/>
                  </a:lnTo>
                  <a:lnTo>
                    <a:pt x="786" y="217"/>
                  </a:lnTo>
                  <a:lnTo>
                    <a:pt x="870" y="169"/>
                  </a:lnTo>
                  <a:lnTo>
                    <a:pt x="957" y="126"/>
                  </a:lnTo>
                  <a:lnTo>
                    <a:pt x="1047" y="87"/>
                  </a:lnTo>
                  <a:lnTo>
                    <a:pt x="1140" y="55"/>
                  </a:lnTo>
                  <a:lnTo>
                    <a:pt x="1237" y="29"/>
                  </a:lnTo>
                  <a:lnTo>
                    <a:pt x="1338" y="11"/>
                  </a:lnTo>
                  <a:lnTo>
                    <a:pt x="1441" y="1"/>
                  </a:lnTo>
                  <a:lnTo>
                    <a:pt x="1546" y="0"/>
                  </a:lnTo>
                  <a:lnTo>
                    <a:pt x="1654" y="9"/>
                  </a:lnTo>
                  <a:lnTo>
                    <a:pt x="1766" y="29"/>
                  </a:lnTo>
                  <a:lnTo>
                    <a:pt x="1879" y="59"/>
                  </a:lnTo>
                  <a:lnTo>
                    <a:pt x="1996" y="102"/>
                  </a:lnTo>
                  <a:lnTo>
                    <a:pt x="2114" y="157"/>
                  </a:lnTo>
                  <a:lnTo>
                    <a:pt x="2236" y="226"/>
                  </a:lnTo>
                  <a:lnTo>
                    <a:pt x="2244" y="233"/>
                  </a:lnTo>
                  <a:lnTo>
                    <a:pt x="2270" y="258"/>
                  </a:lnTo>
                  <a:lnTo>
                    <a:pt x="2311" y="297"/>
                  </a:lnTo>
                  <a:lnTo>
                    <a:pt x="2363" y="348"/>
                  </a:lnTo>
                  <a:lnTo>
                    <a:pt x="2426" y="408"/>
                  </a:lnTo>
                  <a:lnTo>
                    <a:pt x="2494" y="479"/>
                  </a:lnTo>
                  <a:lnTo>
                    <a:pt x="2567" y="557"/>
                  </a:lnTo>
                  <a:lnTo>
                    <a:pt x="2642" y="639"/>
                  </a:lnTo>
                  <a:lnTo>
                    <a:pt x="2679" y="683"/>
                  </a:lnTo>
                  <a:lnTo>
                    <a:pt x="2716" y="726"/>
                  </a:lnTo>
                  <a:lnTo>
                    <a:pt x="2753" y="771"/>
                  </a:lnTo>
                  <a:lnTo>
                    <a:pt x="2788" y="815"/>
                  </a:lnTo>
                  <a:lnTo>
                    <a:pt x="2822" y="859"/>
                  </a:lnTo>
                  <a:lnTo>
                    <a:pt x="2854" y="903"/>
                  </a:lnTo>
                  <a:lnTo>
                    <a:pt x="2885" y="947"/>
                  </a:lnTo>
                  <a:lnTo>
                    <a:pt x="2914" y="990"/>
                  </a:lnTo>
                  <a:lnTo>
                    <a:pt x="2938" y="1034"/>
                  </a:lnTo>
                  <a:lnTo>
                    <a:pt x="2961" y="1075"/>
                  </a:lnTo>
                  <a:lnTo>
                    <a:pt x="2981" y="1114"/>
                  </a:lnTo>
                  <a:lnTo>
                    <a:pt x="2997" y="1153"/>
                  </a:lnTo>
                  <a:lnTo>
                    <a:pt x="3008" y="1190"/>
                  </a:lnTo>
                  <a:lnTo>
                    <a:pt x="3017" y="1226"/>
                  </a:lnTo>
                  <a:lnTo>
                    <a:pt x="3020" y="1258"/>
                  </a:lnTo>
                  <a:lnTo>
                    <a:pt x="3019" y="1289"/>
                  </a:lnTo>
                  <a:lnTo>
                    <a:pt x="2861" y="1267"/>
                  </a:lnTo>
                  <a:lnTo>
                    <a:pt x="2854" y="1255"/>
                  </a:lnTo>
                  <a:lnTo>
                    <a:pt x="2834" y="1220"/>
                  </a:lnTo>
                  <a:lnTo>
                    <a:pt x="2802" y="1166"/>
                  </a:lnTo>
                  <a:lnTo>
                    <a:pt x="2758" y="1097"/>
                  </a:lnTo>
                  <a:lnTo>
                    <a:pt x="2732" y="1057"/>
                  </a:lnTo>
                  <a:lnTo>
                    <a:pt x="2704" y="1015"/>
                  </a:lnTo>
                  <a:lnTo>
                    <a:pt x="2674" y="972"/>
                  </a:lnTo>
                  <a:lnTo>
                    <a:pt x="2642" y="926"/>
                  </a:lnTo>
                  <a:lnTo>
                    <a:pt x="2607" y="879"/>
                  </a:lnTo>
                  <a:lnTo>
                    <a:pt x="2570" y="830"/>
                  </a:lnTo>
                  <a:lnTo>
                    <a:pt x="2532" y="781"/>
                  </a:lnTo>
                  <a:lnTo>
                    <a:pt x="2491" y="732"/>
                  </a:lnTo>
                  <a:lnTo>
                    <a:pt x="2450" y="684"/>
                  </a:lnTo>
                  <a:lnTo>
                    <a:pt x="2408" y="635"/>
                  </a:lnTo>
                  <a:lnTo>
                    <a:pt x="2363" y="588"/>
                  </a:lnTo>
                  <a:lnTo>
                    <a:pt x="2319" y="544"/>
                  </a:lnTo>
                  <a:lnTo>
                    <a:pt x="2273" y="500"/>
                  </a:lnTo>
                  <a:lnTo>
                    <a:pt x="2226" y="461"/>
                  </a:lnTo>
                  <a:lnTo>
                    <a:pt x="2178" y="422"/>
                  </a:lnTo>
                  <a:lnTo>
                    <a:pt x="2130" y="387"/>
                  </a:lnTo>
                  <a:lnTo>
                    <a:pt x="2082" y="358"/>
                  </a:lnTo>
                  <a:lnTo>
                    <a:pt x="2032" y="330"/>
                  </a:lnTo>
                  <a:lnTo>
                    <a:pt x="1984" y="308"/>
                  </a:lnTo>
                  <a:lnTo>
                    <a:pt x="1934" y="292"/>
                  </a:lnTo>
                  <a:lnTo>
                    <a:pt x="1884" y="279"/>
                  </a:lnTo>
                  <a:lnTo>
                    <a:pt x="1836" y="273"/>
                  </a:lnTo>
                  <a:lnTo>
                    <a:pt x="1787" y="274"/>
                  </a:lnTo>
                  <a:lnTo>
                    <a:pt x="1739" y="281"/>
                  </a:lnTo>
                  <a:lnTo>
                    <a:pt x="1726" y="279"/>
                  </a:lnTo>
                  <a:lnTo>
                    <a:pt x="1694" y="277"/>
                  </a:lnTo>
                  <a:lnTo>
                    <a:pt x="1669" y="276"/>
                  </a:lnTo>
                  <a:lnTo>
                    <a:pt x="1641" y="276"/>
                  </a:lnTo>
                  <a:lnTo>
                    <a:pt x="1608" y="276"/>
                  </a:lnTo>
                  <a:lnTo>
                    <a:pt x="1571" y="276"/>
                  </a:lnTo>
                  <a:lnTo>
                    <a:pt x="1530" y="278"/>
                  </a:lnTo>
                  <a:lnTo>
                    <a:pt x="1487" y="281"/>
                  </a:lnTo>
                  <a:lnTo>
                    <a:pt x="1440" y="286"/>
                  </a:lnTo>
                  <a:lnTo>
                    <a:pt x="1390" y="292"/>
                  </a:lnTo>
                  <a:lnTo>
                    <a:pt x="1337" y="300"/>
                  </a:lnTo>
                  <a:lnTo>
                    <a:pt x="1282" y="310"/>
                  </a:lnTo>
                  <a:lnTo>
                    <a:pt x="1226" y="324"/>
                  </a:lnTo>
                  <a:lnTo>
                    <a:pt x="1168" y="340"/>
                  </a:lnTo>
                  <a:lnTo>
                    <a:pt x="1108" y="359"/>
                  </a:lnTo>
                  <a:lnTo>
                    <a:pt x="1047" y="381"/>
                  </a:lnTo>
                  <a:lnTo>
                    <a:pt x="985" y="406"/>
                  </a:lnTo>
                  <a:lnTo>
                    <a:pt x="923" y="436"/>
                  </a:lnTo>
                  <a:lnTo>
                    <a:pt x="861" y="468"/>
                  </a:lnTo>
                  <a:lnTo>
                    <a:pt x="798" y="505"/>
                  </a:lnTo>
                  <a:lnTo>
                    <a:pt x="736" y="547"/>
                  </a:lnTo>
                  <a:lnTo>
                    <a:pt x="675" y="593"/>
                  </a:lnTo>
                  <a:lnTo>
                    <a:pt x="614" y="644"/>
                  </a:lnTo>
                  <a:lnTo>
                    <a:pt x="555" y="700"/>
                  </a:lnTo>
                  <a:lnTo>
                    <a:pt x="497" y="761"/>
                  </a:lnTo>
                  <a:lnTo>
                    <a:pt x="441" y="828"/>
                  </a:lnTo>
                  <a:lnTo>
                    <a:pt x="388" y="900"/>
                  </a:lnTo>
                  <a:lnTo>
                    <a:pt x="336" y="979"/>
                  </a:lnTo>
                  <a:lnTo>
                    <a:pt x="287" y="1064"/>
                  </a:lnTo>
                  <a:lnTo>
                    <a:pt x="241" y="1155"/>
                  </a:lnTo>
                  <a:lnTo>
                    <a:pt x="0" y="103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4538520" y="5256360"/>
              <a:ext cx="1233720" cy="542880"/>
            </a:xfrm>
            <a:custGeom>
              <a:avLst/>
              <a:gdLst/>
              <a:ahLst/>
              <a:rect l="l" t="t" r="r" b="b"/>
              <a:pathLst>
                <a:path w="3104" h="1365">
                  <a:moveTo>
                    <a:pt x="1248" y="37"/>
                  </a:moveTo>
                  <a:lnTo>
                    <a:pt x="1178" y="56"/>
                  </a:lnTo>
                  <a:lnTo>
                    <a:pt x="1111" y="80"/>
                  </a:lnTo>
                  <a:lnTo>
                    <a:pt x="1045" y="104"/>
                  </a:lnTo>
                  <a:lnTo>
                    <a:pt x="982" y="133"/>
                  </a:lnTo>
                  <a:lnTo>
                    <a:pt x="920" y="164"/>
                  </a:lnTo>
                  <a:lnTo>
                    <a:pt x="860" y="196"/>
                  </a:lnTo>
                  <a:lnTo>
                    <a:pt x="801" y="232"/>
                  </a:lnTo>
                  <a:lnTo>
                    <a:pt x="745" y="269"/>
                  </a:lnTo>
                  <a:lnTo>
                    <a:pt x="690" y="308"/>
                  </a:lnTo>
                  <a:lnTo>
                    <a:pt x="637" y="348"/>
                  </a:lnTo>
                  <a:lnTo>
                    <a:pt x="586" y="389"/>
                  </a:lnTo>
                  <a:lnTo>
                    <a:pt x="537" y="430"/>
                  </a:lnTo>
                  <a:lnTo>
                    <a:pt x="490" y="472"/>
                  </a:lnTo>
                  <a:lnTo>
                    <a:pt x="446" y="515"/>
                  </a:lnTo>
                  <a:lnTo>
                    <a:pt x="402" y="557"/>
                  </a:lnTo>
                  <a:lnTo>
                    <a:pt x="361" y="600"/>
                  </a:lnTo>
                  <a:lnTo>
                    <a:pt x="323" y="642"/>
                  </a:lnTo>
                  <a:lnTo>
                    <a:pt x="287" y="683"/>
                  </a:lnTo>
                  <a:lnTo>
                    <a:pt x="252" y="724"/>
                  </a:lnTo>
                  <a:lnTo>
                    <a:pt x="220" y="762"/>
                  </a:lnTo>
                  <a:lnTo>
                    <a:pt x="190" y="801"/>
                  </a:lnTo>
                  <a:lnTo>
                    <a:pt x="162" y="836"/>
                  </a:lnTo>
                  <a:lnTo>
                    <a:pt x="138" y="870"/>
                  </a:lnTo>
                  <a:lnTo>
                    <a:pt x="114" y="902"/>
                  </a:lnTo>
                  <a:lnTo>
                    <a:pt x="76" y="958"/>
                  </a:lnTo>
                  <a:lnTo>
                    <a:pt x="46" y="1003"/>
                  </a:lnTo>
                  <a:lnTo>
                    <a:pt x="27" y="1033"/>
                  </a:lnTo>
                  <a:lnTo>
                    <a:pt x="18" y="1047"/>
                  </a:lnTo>
                  <a:lnTo>
                    <a:pt x="0" y="1080"/>
                  </a:lnTo>
                  <a:lnTo>
                    <a:pt x="306" y="1240"/>
                  </a:lnTo>
                  <a:lnTo>
                    <a:pt x="323" y="1206"/>
                  </a:lnTo>
                  <a:lnTo>
                    <a:pt x="367" y="1118"/>
                  </a:lnTo>
                  <a:lnTo>
                    <a:pt x="415" y="1036"/>
                  </a:lnTo>
                  <a:lnTo>
                    <a:pt x="464" y="961"/>
                  </a:lnTo>
                  <a:lnTo>
                    <a:pt x="516" y="890"/>
                  </a:lnTo>
                  <a:lnTo>
                    <a:pt x="570" y="825"/>
                  </a:lnTo>
                  <a:lnTo>
                    <a:pt x="626" y="766"/>
                  </a:lnTo>
                  <a:lnTo>
                    <a:pt x="683" y="712"/>
                  </a:lnTo>
                  <a:lnTo>
                    <a:pt x="742" y="663"/>
                  </a:lnTo>
                  <a:lnTo>
                    <a:pt x="801" y="618"/>
                  </a:lnTo>
                  <a:lnTo>
                    <a:pt x="862" y="577"/>
                  </a:lnTo>
                  <a:lnTo>
                    <a:pt x="921" y="541"/>
                  </a:lnTo>
                  <a:lnTo>
                    <a:pt x="982" y="509"/>
                  </a:lnTo>
                  <a:lnTo>
                    <a:pt x="1043" y="480"/>
                  </a:lnTo>
                  <a:lnTo>
                    <a:pt x="1102" y="454"/>
                  </a:lnTo>
                  <a:lnTo>
                    <a:pt x="1162" y="433"/>
                  </a:lnTo>
                  <a:lnTo>
                    <a:pt x="1220" y="415"/>
                  </a:lnTo>
                  <a:lnTo>
                    <a:pt x="1276" y="399"/>
                  </a:lnTo>
                  <a:lnTo>
                    <a:pt x="1332" y="385"/>
                  </a:lnTo>
                  <a:lnTo>
                    <a:pt x="1386" y="375"/>
                  </a:lnTo>
                  <a:lnTo>
                    <a:pt x="1436" y="366"/>
                  </a:lnTo>
                  <a:lnTo>
                    <a:pt x="1485" y="359"/>
                  </a:lnTo>
                  <a:lnTo>
                    <a:pt x="1532" y="354"/>
                  </a:lnTo>
                  <a:lnTo>
                    <a:pt x="1574" y="350"/>
                  </a:lnTo>
                  <a:lnTo>
                    <a:pt x="1614" y="349"/>
                  </a:lnTo>
                  <a:lnTo>
                    <a:pt x="1651" y="348"/>
                  </a:lnTo>
                  <a:lnTo>
                    <a:pt x="1684" y="348"/>
                  </a:lnTo>
                  <a:lnTo>
                    <a:pt x="1712" y="348"/>
                  </a:lnTo>
                  <a:lnTo>
                    <a:pt x="1736" y="349"/>
                  </a:lnTo>
                  <a:lnTo>
                    <a:pt x="1769" y="351"/>
                  </a:lnTo>
                  <a:lnTo>
                    <a:pt x="1783" y="353"/>
                  </a:lnTo>
                  <a:lnTo>
                    <a:pt x="1829" y="346"/>
                  </a:lnTo>
                  <a:lnTo>
                    <a:pt x="1876" y="345"/>
                  </a:lnTo>
                  <a:lnTo>
                    <a:pt x="1923" y="351"/>
                  </a:lnTo>
                  <a:lnTo>
                    <a:pt x="1972" y="364"/>
                  </a:lnTo>
                  <a:lnTo>
                    <a:pt x="2019" y="380"/>
                  </a:lnTo>
                  <a:lnTo>
                    <a:pt x="2066" y="401"/>
                  </a:lnTo>
                  <a:lnTo>
                    <a:pt x="2114" y="427"/>
                  </a:lnTo>
                  <a:lnTo>
                    <a:pt x="2162" y="458"/>
                  </a:lnTo>
                  <a:lnTo>
                    <a:pt x="2208" y="492"/>
                  </a:lnTo>
                  <a:lnTo>
                    <a:pt x="2255" y="528"/>
                  </a:lnTo>
                  <a:lnTo>
                    <a:pt x="2299" y="567"/>
                  </a:lnTo>
                  <a:lnTo>
                    <a:pt x="2344" y="609"/>
                  </a:lnTo>
                  <a:lnTo>
                    <a:pt x="2389" y="653"/>
                  </a:lnTo>
                  <a:lnTo>
                    <a:pt x="2431" y="699"/>
                  </a:lnTo>
                  <a:lnTo>
                    <a:pt x="2473" y="746"/>
                  </a:lnTo>
                  <a:lnTo>
                    <a:pt x="2513" y="793"/>
                  </a:lnTo>
                  <a:lnTo>
                    <a:pt x="2553" y="840"/>
                  </a:lnTo>
                  <a:lnTo>
                    <a:pt x="2590" y="887"/>
                  </a:lnTo>
                  <a:lnTo>
                    <a:pt x="2626" y="936"/>
                  </a:lnTo>
                  <a:lnTo>
                    <a:pt x="2660" y="982"/>
                  </a:lnTo>
                  <a:lnTo>
                    <a:pt x="2722" y="1070"/>
                  </a:lnTo>
                  <a:lnTo>
                    <a:pt x="2775" y="1149"/>
                  </a:lnTo>
                  <a:lnTo>
                    <a:pt x="2817" y="1217"/>
                  </a:lnTo>
                  <a:lnTo>
                    <a:pt x="2851" y="1271"/>
                  </a:lnTo>
                  <a:lnTo>
                    <a:pt x="2871" y="1307"/>
                  </a:lnTo>
                  <a:lnTo>
                    <a:pt x="2879" y="1320"/>
                  </a:lnTo>
                  <a:lnTo>
                    <a:pt x="2888" y="1335"/>
                  </a:lnTo>
                  <a:lnTo>
                    <a:pt x="3099" y="1365"/>
                  </a:lnTo>
                  <a:lnTo>
                    <a:pt x="3103" y="1330"/>
                  </a:lnTo>
                  <a:lnTo>
                    <a:pt x="3104" y="1298"/>
                  </a:lnTo>
                  <a:lnTo>
                    <a:pt x="3102" y="1265"/>
                  </a:lnTo>
                  <a:lnTo>
                    <a:pt x="3095" y="1230"/>
                  </a:lnTo>
                  <a:lnTo>
                    <a:pt x="3084" y="1193"/>
                  </a:lnTo>
                  <a:lnTo>
                    <a:pt x="3069" y="1155"/>
                  </a:lnTo>
                  <a:lnTo>
                    <a:pt x="3052" y="1116"/>
                  </a:lnTo>
                  <a:lnTo>
                    <a:pt x="3032" y="1075"/>
                  </a:lnTo>
                  <a:lnTo>
                    <a:pt x="3009" y="1034"/>
                  </a:lnTo>
                  <a:lnTo>
                    <a:pt x="2982" y="992"/>
                  </a:lnTo>
                  <a:lnTo>
                    <a:pt x="2954" y="948"/>
                  </a:lnTo>
                  <a:lnTo>
                    <a:pt x="2924" y="906"/>
                  </a:lnTo>
                  <a:lnTo>
                    <a:pt x="2892" y="863"/>
                  </a:lnTo>
                  <a:lnTo>
                    <a:pt x="2858" y="819"/>
                  </a:lnTo>
                  <a:lnTo>
                    <a:pt x="2825" y="776"/>
                  </a:lnTo>
                  <a:lnTo>
                    <a:pt x="2789" y="732"/>
                  </a:lnTo>
                  <a:lnTo>
                    <a:pt x="2753" y="690"/>
                  </a:lnTo>
                  <a:lnTo>
                    <a:pt x="2681" y="608"/>
                  </a:lnTo>
                  <a:lnTo>
                    <a:pt x="2609" y="530"/>
                  </a:lnTo>
                  <a:lnTo>
                    <a:pt x="2539" y="458"/>
                  </a:lnTo>
                  <a:lnTo>
                    <a:pt x="2475" y="394"/>
                  </a:lnTo>
                  <a:lnTo>
                    <a:pt x="2417" y="338"/>
                  </a:lnTo>
                  <a:lnTo>
                    <a:pt x="2369" y="292"/>
                  </a:lnTo>
                  <a:lnTo>
                    <a:pt x="2332" y="257"/>
                  </a:lnTo>
                  <a:lnTo>
                    <a:pt x="2308" y="235"/>
                  </a:lnTo>
                  <a:lnTo>
                    <a:pt x="2275" y="215"/>
                  </a:lnTo>
                  <a:lnTo>
                    <a:pt x="2242" y="196"/>
                  </a:lnTo>
                  <a:lnTo>
                    <a:pt x="2209" y="178"/>
                  </a:lnTo>
                  <a:lnTo>
                    <a:pt x="2175" y="160"/>
                  </a:lnTo>
                  <a:lnTo>
                    <a:pt x="2142" y="143"/>
                  </a:lnTo>
                  <a:lnTo>
                    <a:pt x="2109" y="128"/>
                  </a:lnTo>
                  <a:lnTo>
                    <a:pt x="2076" y="113"/>
                  </a:lnTo>
                  <a:lnTo>
                    <a:pt x="2042" y="100"/>
                  </a:lnTo>
                  <a:lnTo>
                    <a:pt x="2010" y="86"/>
                  </a:lnTo>
                  <a:lnTo>
                    <a:pt x="1977" y="75"/>
                  </a:lnTo>
                  <a:lnTo>
                    <a:pt x="1943" y="64"/>
                  </a:lnTo>
                  <a:lnTo>
                    <a:pt x="1910" y="52"/>
                  </a:lnTo>
                  <a:lnTo>
                    <a:pt x="1877" y="44"/>
                  </a:lnTo>
                  <a:lnTo>
                    <a:pt x="1844" y="35"/>
                  </a:lnTo>
                  <a:lnTo>
                    <a:pt x="1810" y="28"/>
                  </a:lnTo>
                  <a:lnTo>
                    <a:pt x="1777" y="21"/>
                  </a:lnTo>
                  <a:lnTo>
                    <a:pt x="1744" y="15"/>
                  </a:lnTo>
                  <a:lnTo>
                    <a:pt x="1711" y="10"/>
                  </a:lnTo>
                  <a:lnTo>
                    <a:pt x="1677" y="6"/>
                  </a:lnTo>
                  <a:lnTo>
                    <a:pt x="1644" y="4"/>
                  </a:lnTo>
                  <a:lnTo>
                    <a:pt x="1612" y="2"/>
                  </a:lnTo>
                  <a:lnTo>
                    <a:pt x="1578" y="0"/>
                  </a:lnTo>
                  <a:lnTo>
                    <a:pt x="1544" y="0"/>
                  </a:lnTo>
                  <a:lnTo>
                    <a:pt x="1512" y="0"/>
                  </a:lnTo>
                  <a:lnTo>
                    <a:pt x="1479" y="2"/>
                  </a:lnTo>
                  <a:lnTo>
                    <a:pt x="1445" y="4"/>
                  </a:lnTo>
                  <a:lnTo>
                    <a:pt x="1413" y="8"/>
                  </a:lnTo>
                  <a:lnTo>
                    <a:pt x="1379" y="11"/>
                  </a:lnTo>
                  <a:lnTo>
                    <a:pt x="1346" y="18"/>
                  </a:lnTo>
                  <a:lnTo>
                    <a:pt x="1314" y="23"/>
                  </a:lnTo>
                  <a:lnTo>
                    <a:pt x="1280" y="30"/>
                  </a:lnTo>
                  <a:lnTo>
                    <a:pt x="1248" y="37"/>
                  </a:lnTo>
                  <a:close/>
                  <a:moveTo>
                    <a:pt x="1265" y="107"/>
                  </a:moveTo>
                  <a:lnTo>
                    <a:pt x="1296" y="100"/>
                  </a:lnTo>
                  <a:lnTo>
                    <a:pt x="1327" y="93"/>
                  </a:lnTo>
                  <a:lnTo>
                    <a:pt x="1358" y="87"/>
                  </a:lnTo>
                  <a:lnTo>
                    <a:pt x="1389" y="82"/>
                  </a:lnTo>
                  <a:lnTo>
                    <a:pt x="1422" y="78"/>
                  </a:lnTo>
                  <a:lnTo>
                    <a:pt x="1453" y="76"/>
                  </a:lnTo>
                  <a:lnTo>
                    <a:pt x="1484" y="73"/>
                  </a:lnTo>
                  <a:lnTo>
                    <a:pt x="1515" y="72"/>
                  </a:lnTo>
                  <a:lnTo>
                    <a:pt x="1546" y="71"/>
                  </a:lnTo>
                  <a:lnTo>
                    <a:pt x="1578" y="71"/>
                  </a:lnTo>
                  <a:lnTo>
                    <a:pt x="1609" y="72"/>
                  </a:lnTo>
                  <a:lnTo>
                    <a:pt x="1640" y="75"/>
                  </a:lnTo>
                  <a:lnTo>
                    <a:pt x="1671" y="77"/>
                  </a:lnTo>
                  <a:lnTo>
                    <a:pt x="1703" y="81"/>
                  </a:lnTo>
                  <a:lnTo>
                    <a:pt x="1734" y="86"/>
                  </a:lnTo>
                  <a:lnTo>
                    <a:pt x="1766" y="91"/>
                  </a:lnTo>
                  <a:lnTo>
                    <a:pt x="1797" y="97"/>
                  </a:lnTo>
                  <a:lnTo>
                    <a:pt x="1828" y="104"/>
                  </a:lnTo>
                  <a:lnTo>
                    <a:pt x="1860" y="112"/>
                  </a:lnTo>
                  <a:lnTo>
                    <a:pt x="1891" y="121"/>
                  </a:lnTo>
                  <a:lnTo>
                    <a:pt x="1922" y="131"/>
                  </a:lnTo>
                  <a:lnTo>
                    <a:pt x="1953" y="142"/>
                  </a:lnTo>
                  <a:lnTo>
                    <a:pt x="1984" y="153"/>
                  </a:lnTo>
                  <a:lnTo>
                    <a:pt x="2016" y="164"/>
                  </a:lnTo>
                  <a:lnTo>
                    <a:pt x="2047" y="178"/>
                  </a:lnTo>
                  <a:lnTo>
                    <a:pt x="2078" y="191"/>
                  </a:lnTo>
                  <a:lnTo>
                    <a:pt x="2109" y="206"/>
                  </a:lnTo>
                  <a:lnTo>
                    <a:pt x="2141" y="221"/>
                  </a:lnTo>
                  <a:lnTo>
                    <a:pt x="2172" y="237"/>
                  </a:lnTo>
                  <a:lnTo>
                    <a:pt x="2203" y="255"/>
                  </a:lnTo>
                  <a:lnTo>
                    <a:pt x="2235" y="273"/>
                  </a:lnTo>
                  <a:lnTo>
                    <a:pt x="2266" y="292"/>
                  </a:lnTo>
                  <a:lnTo>
                    <a:pt x="2308" y="332"/>
                  </a:lnTo>
                  <a:lnTo>
                    <a:pt x="2358" y="379"/>
                  </a:lnTo>
                  <a:lnTo>
                    <a:pt x="2412" y="432"/>
                  </a:lnTo>
                  <a:lnTo>
                    <a:pt x="2471" y="492"/>
                  </a:lnTo>
                  <a:lnTo>
                    <a:pt x="2532" y="555"/>
                  </a:lnTo>
                  <a:lnTo>
                    <a:pt x="2594" y="622"/>
                  </a:lnTo>
                  <a:lnTo>
                    <a:pt x="2656" y="691"/>
                  </a:lnTo>
                  <a:lnTo>
                    <a:pt x="2718" y="762"/>
                  </a:lnTo>
                  <a:lnTo>
                    <a:pt x="2748" y="798"/>
                  </a:lnTo>
                  <a:lnTo>
                    <a:pt x="2778" y="834"/>
                  </a:lnTo>
                  <a:lnTo>
                    <a:pt x="2806" y="871"/>
                  </a:lnTo>
                  <a:lnTo>
                    <a:pt x="2833" y="906"/>
                  </a:lnTo>
                  <a:lnTo>
                    <a:pt x="2860" y="942"/>
                  </a:lnTo>
                  <a:lnTo>
                    <a:pt x="2884" y="978"/>
                  </a:lnTo>
                  <a:lnTo>
                    <a:pt x="2908" y="1013"/>
                  </a:lnTo>
                  <a:lnTo>
                    <a:pt x="2930" y="1046"/>
                  </a:lnTo>
                  <a:lnTo>
                    <a:pt x="2950" y="1080"/>
                  </a:lnTo>
                  <a:lnTo>
                    <a:pt x="2969" y="1112"/>
                  </a:lnTo>
                  <a:lnTo>
                    <a:pt x="2985" y="1144"/>
                  </a:lnTo>
                  <a:lnTo>
                    <a:pt x="2999" y="1174"/>
                  </a:lnTo>
                  <a:lnTo>
                    <a:pt x="3011" y="1204"/>
                  </a:lnTo>
                  <a:lnTo>
                    <a:pt x="3020" y="1232"/>
                  </a:lnTo>
                  <a:lnTo>
                    <a:pt x="3026" y="1258"/>
                  </a:lnTo>
                  <a:lnTo>
                    <a:pt x="3030" y="1283"/>
                  </a:lnTo>
                  <a:lnTo>
                    <a:pt x="3001" y="1279"/>
                  </a:lnTo>
                  <a:lnTo>
                    <a:pt x="2974" y="1276"/>
                  </a:lnTo>
                  <a:lnTo>
                    <a:pt x="2950" y="1272"/>
                  </a:lnTo>
                  <a:lnTo>
                    <a:pt x="2933" y="1269"/>
                  </a:lnTo>
                  <a:lnTo>
                    <a:pt x="2915" y="1240"/>
                  </a:lnTo>
                  <a:lnTo>
                    <a:pt x="2887" y="1193"/>
                  </a:lnTo>
                  <a:lnTo>
                    <a:pt x="2847" y="1129"/>
                  </a:lnTo>
                  <a:lnTo>
                    <a:pt x="2799" y="1055"/>
                  </a:lnTo>
                  <a:lnTo>
                    <a:pt x="2771" y="1014"/>
                  </a:lnTo>
                  <a:lnTo>
                    <a:pt x="2742" y="970"/>
                  </a:lnTo>
                  <a:lnTo>
                    <a:pt x="2710" y="926"/>
                  </a:lnTo>
                  <a:lnTo>
                    <a:pt x="2677" y="881"/>
                  </a:lnTo>
                  <a:lnTo>
                    <a:pt x="2641" y="834"/>
                  </a:lnTo>
                  <a:lnTo>
                    <a:pt x="2605" y="787"/>
                  </a:lnTo>
                  <a:lnTo>
                    <a:pt x="2566" y="741"/>
                  </a:lnTo>
                  <a:lnTo>
                    <a:pt x="2527" y="694"/>
                  </a:lnTo>
                  <a:lnTo>
                    <a:pt x="2485" y="648"/>
                  </a:lnTo>
                  <a:lnTo>
                    <a:pt x="2442" y="602"/>
                  </a:lnTo>
                  <a:lnTo>
                    <a:pt x="2399" y="559"/>
                  </a:lnTo>
                  <a:lnTo>
                    <a:pt x="2354" y="516"/>
                  </a:lnTo>
                  <a:lnTo>
                    <a:pt x="2309" y="477"/>
                  </a:lnTo>
                  <a:lnTo>
                    <a:pt x="2263" y="439"/>
                  </a:lnTo>
                  <a:lnTo>
                    <a:pt x="2216" y="406"/>
                  </a:lnTo>
                  <a:lnTo>
                    <a:pt x="2168" y="374"/>
                  </a:lnTo>
                  <a:lnTo>
                    <a:pt x="2121" y="346"/>
                  </a:lnTo>
                  <a:lnTo>
                    <a:pt x="2072" y="323"/>
                  </a:lnTo>
                  <a:lnTo>
                    <a:pt x="2024" y="303"/>
                  </a:lnTo>
                  <a:lnTo>
                    <a:pt x="1974" y="288"/>
                  </a:lnTo>
                  <a:lnTo>
                    <a:pt x="1926" y="278"/>
                  </a:lnTo>
                  <a:lnTo>
                    <a:pt x="1877" y="273"/>
                  </a:lnTo>
                  <a:lnTo>
                    <a:pt x="1828" y="274"/>
                  </a:lnTo>
                  <a:lnTo>
                    <a:pt x="1780" y="282"/>
                  </a:lnTo>
                  <a:lnTo>
                    <a:pt x="1768" y="281"/>
                  </a:lnTo>
                  <a:lnTo>
                    <a:pt x="1736" y="278"/>
                  </a:lnTo>
                  <a:lnTo>
                    <a:pt x="1712" y="277"/>
                  </a:lnTo>
                  <a:lnTo>
                    <a:pt x="1684" y="277"/>
                  </a:lnTo>
                  <a:lnTo>
                    <a:pt x="1651" y="277"/>
                  </a:lnTo>
                  <a:lnTo>
                    <a:pt x="1614" y="278"/>
                  </a:lnTo>
                  <a:lnTo>
                    <a:pt x="1574" y="279"/>
                  </a:lnTo>
                  <a:lnTo>
                    <a:pt x="1530" y="283"/>
                  </a:lnTo>
                  <a:lnTo>
                    <a:pt x="1482" y="288"/>
                  </a:lnTo>
                  <a:lnTo>
                    <a:pt x="1433" y="296"/>
                  </a:lnTo>
                  <a:lnTo>
                    <a:pt x="1381" y="304"/>
                  </a:lnTo>
                  <a:lnTo>
                    <a:pt x="1326" y="314"/>
                  </a:lnTo>
                  <a:lnTo>
                    <a:pt x="1270" y="328"/>
                  </a:lnTo>
                  <a:lnTo>
                    <a:pt x="1212" y="344"/>
                  </a:lnTo>
                  <a:lnTo>
                    <a:pt x="1152" y="363"/>
                  </a:lnTo>
                  <a:lnTo>
                    <a:pt x="1091" y="385"/>
                  </a:lnTo>
                  <a:lnTo>
                    <a:pt x="1029" y="410"/>
                  </a:lnTo>
                  <a:lnTo>
                    <a:pt x="967" y="439"/>
                  </a:lnTo>
                  <a:lnTo>
                    <a:pt x="904" y="472"/>
                  </a:lnTo>
                  <a:lnTo>
                    <a:pt x="842" y="508"/>
                  </a:lnTo>
                  <a:lnTo>
                    <a:pt x="778" y="549"/>
                  </a:lnTo>
                  <a:lnTo>
                    <a:pt x="717" y="595"/>
                  </a:lnTo>
                  <a:lnTo>
                    <a:pt x="657" y="644"/>
                  </a:lnTo>
                  <a:lnTo>
                    <a:pt x="596" y="699"/>
                  </a:lnTo>
                  <a:lnTo>
                    <a:pt x="537" y="760"/>
                  </a:lnTo>
                  <a:lnTo>
                    <a:pt x="482" y="824"/>
                  </a:lnTo>
                  <a:lnTo>
                    <a:pt x="427" y="895"/>
                  </a:lnTo>
                  <a:lnTo>
                    <a:pt x="374" y="972"/>
                  </a:lnTo>
                  <a:lnTo>
                    <a:pt x="324" y="1055"/>
                  </a:lnTo>
                  <a:lnTo>
                    <a:pt x="277" y="1143"/>
                  </a:lnTo>
                  <a:lnTo>
                    <a:pt x="239" y="1124"/>
                  </a:lnTo>
                  <a:lnTo>
                    <a:pt x="190" y="1098"/>
                  </a:lnTo>
                  <a:lnTo>
                    <a:pt x="140" y="1072"/>
                  </a:lnTo>
                  <a:lnTo>
                    <a:pt x="100" y="1051"/>
                  </a:lnTo>
                  <a:lnTo>
                    <a:pt x="121" y="1019"/>
                  </a:lnTo>
                  <a:lnTo>
                    <a:pt x="150" y="977"/>
                  </a:lnTo>
                  <a:lnTo>
                    <a:pt x="186" y="925"/>
                  </a:lnTo>
                  <a:lnTo>
                    <a:pt x="231" y="866"/>
                  </a:lnTo>
                  <a:lnTo>
                    <a:pt x="256" y="834"/>
                  </a:lnTo>
                  <a:lnTo>
                    <a:pt x="282" y="802"/>
                  </a:lnTo>
                  <a:lnTo>
                    <a:pt x="310" y="767"/>
                  </a:lnTo>
                  <a:lnTo>
                    <a:pt x="340" y="732"/>
                  </a:lnTo>
                  <a:lnTo>
                    <a:pt x="372" y="696"/>
                  </a:lnTo>
                  <a:lnTo>
                    <a:pt x="406" y="659"/>
                  </a:lnTo>
                  <a:lnTo>
                    <a:pt x="441" y="622"/>
                  </a:lnTo>
                  <a:lnTo>
                    <a:pt x="478" y="585"/>
                  </a:lnTo>
                  <a:lnTo>
                    <a:pt x="516" y="547"/>
                  </a:lnTo>
                  <a:lnTo>
                    <a:pt x="556" y="511"/>
                  </a:lnTo>
                  <a:lnTo>
                    <a:pt x="597" y="474"/>
                  </a:lnTo>
                  <a:lnTo>
                    <a:pt x="641" y="438"/>
                  </a:lnTo>
                  <a:lnTo>
                    <a:pt x="685" y="402"/>
                  </a:lnTo>
                  <a:lnTo>
                    <a:pt x="731" y="368"/>
                  </a:lnTo>
                  <a:lnTo>
                    <a:pt x="778" y="334"/>
                  </a:lnTo>
                  <a:lnTo>
                    <a:pt x="827" y="302"/>
                  </a:lnTo>
                  <a:lnTo>
                    <a:pt x="878" y="271"/>
                  </a:lnTo>
                  <a:lnTo>
                    <a:pt x="929" y="241"/>
                  </a:lnTo>
                  <a:lnTo>
                    <a:pt x="982" y="212"/>
                  </a:lnTo>
                  <a:lnTo>
                    <a:pt x="1035" y="188"/>
                  </a:lnTo>
                  <a:lnTo>
                    <a:pt x="1091" y="163"/>
                  </a:lnTo>
                  <a:lnTo>
                    <a:pt x="1148" y="142"/>
                  </a:lnTo>
                  <a:lnTo>
                    <a:pt x="1205" y="123"/>
                  </a:lnTo>
                  <a:lnTo>
                    <a:pt x="1265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4587840" y="5357880"/>
              <a:ext cx="1155600" cy="495360"/>
            </a:xfrm>
            <a:custGeom>
              <a:avLst/>
              <a:gdLst/>
              <a:ahLst/>
              <a:rect l="l" t="t" r="r" b="b"/>
              <a:pathLst>
                <a:path w="2913" h="1249">
                  <a:moveTo>
                    <a:pt x="0" y="908"/>
                  </a:moveTo>
                  <a:lnTo>
                    <a:pt x="11" y="892"/>
                  </a:lnTo>
                  <a:lnTo>
                    <a:pt x="41" y="846"/>
                  </a:lnTo>
                  <a:lnTo>
                    <a:pt x="64" y="814"/>
                  </a:lnTo>
                  <a:lnTo>
                    <a:pt x="92" y="778"/>
                  </a:lnTo>
                  <a:lnTo>
                    <a:pt x="124" y="735"/>
                  </a:lnTo>
                  <a:lnTo>
                    <a:pt x="160" y="689"/>
                  </a:lnTo>
                  <a:lnTo>
                    <a:pt x="202" y="641"/>
                  </a:lnTo>
                  <a:lnTo>
                    <a:pt x="248" y="590"/>
                  </a:lnTo>
                  <a:lnTo>
                    <a:pt x="298" y="538"/>
                  </a:lnTo>
                  <a:lnTo>
                    <a:pt x="352" y="483"/>
                  </a:lnTo>
                  <a:lnTo>
                    <a:pt x="411" y="430"/>
                  </a:lnTo>
                  <a:lnTo>
                    <a:pt x="473" y="376"/>
                  </a:lnTo>
                  <a:lnTo>
                    <a:pt x="540" y="323"/>
                  </a:lnTo>
                  <a:lnTo>
                    <a:pt x="611" y="271"/>
                  </a:lnTo>
                  <a:lnTo>
                    <a:pt x="685" y="223"/>
                  </a:lnTo>
                  <a:lnTo>
                    <a:pt x="763" y="177"/>
                  </a:lnTo>
                  <a:lnTo>
                    <a:pt x="845" y="135"/>
                  </a:lnTo>
                  <a:lnTo>
                    <a:pt x="930" y="98"/>
                  </a:lnTo>
                  <a:lnTo>
                    <a:pt x="1019" y="65"/>
                  </a:lnTo>
                  <a:lnTo>
                    <a:pt x="1111" y="38"/>
                  </a:lnTo>
                  <a:lnTo>
                    <a:pt x="1207" y="18"/>
                  </a:lnTo>
                  <a:lnTo>
                    <a:pt x="1305" y="5"/>
                  </a:lnTo>
                  <a:lnTo>
                    <a:pt x="1407" y="0"/>
                  </a:lnTo>
                  <a:lnTo>
                    <a:pt x="1511" y="3"/>
                  </a:lnTo>
                  <a:lnTo>
                    <a:pt x="1619" y="16"/>
                  </a:lnTo>
                  <a:lnTo>
                    <a:pt x="1728" y="38"/>
                  </a:lnTo>
                  <a:lnTo>
                    <a:pt x="1841" y="72"/>
                  </a:lnTo>
                  <a:lnTo>
                    <a:pt x="1958" y="116"/>
                  </a:lnTo>
                  <a:lnTo>
                    <a:pt x="2076" y="172"/>
                  </a:lnTo>
                  <a:lnTo>
                    <a:pt x="2196" y="242"/>
                  </a:lnTo>
                  <a:lnTo>
                    <a:pt x="2229" y="265"/>
                  </a:lnTo>
                  <a:lnTo>
                    <a:pt x="2314" y="332"/>
                  </a:lnTo>
                  <a:lnTo>
                    <a:pt x="2370" y="378"/>
                  </a:lnTo>
                  <a:lnTo>
                    <a:pt x="2434" y="431"/>
                  </a:lnTo>
                  <a:lnTo>
                    <a:pt x="2501" y="491"/>
                  </a:lnTo>
                  <a:lnTo>
                    <a:pt x="2569" y="555"/>
                  </a:lnTo>
                  <a:lnTo>
                    <a:pt x="2604" y="589"/>
                  </a:lnTo>
                  <a:lnTo>
                    <a:pt x="2637" y="622"/>
                  </a:lnTo>
                  <a:lnTo>
                    <a:pt x="2671" y="658"/>
                  </a:lnTo>
                  <a:lnTo>
                    <a:pt x="2703" y="693"/>
                  </a:lnTo>
                  <a:lnTo>
                    <a:pt x="2734" y="729"/>
                  </a:lnTo>
                  <a:lnTo>
                    <a:pt x="2763" y="765"/>
                  </a:lnTo>
                  <a:lnTo>
                    <a:pt x="2791" y="801"/>
                  </a:lnTo>
                  <a:lnTo>
                    <a:pt x="2816" y="837"/>
                  </a:lnTo>
                  <a:lnTo>
                    <a:pt x="2840" y="873"/>
                  </a:lnTo>
                  <a:lnTo>
                    <a:pt x="2861" y="908"/>
                  </a:lnTo>
                  <a:lnTo>
                    <a:pt x="2878" y="943"/>
                  </a:lnTo>
                  <a:lnTo>
                    <a:pt x="2892" y="977"/>
                  </a:lnTo>
                  <a:lnTo>
                    <a:pt x="2903" y="1011"/>
                  </a:lnTo>
                  <a:lnTo>
                    <a:pt x="2910" y="1043"/>
                  </a:lnTo>
                  <a:lnTo>
                    <a:pt x="2913" y="1074"/>
                  </a:lnTo>
                  <a:lnTo>
                    <a:pt x="2912" y="1104"/>
                  </a:lnTo>
                  <a:lnTo>
                    <a:pt x="2847" y="1249"/>
                  </a:lnTo>
                  <a:lnTo>
                    <a:pt x="2840" y="1237"/>
                  </a:lnTo>
                  <a:lnTo>
                    <a:pt x="2820" y="1202"/>
                  </a:lnTo>
                  <a:lnTo>
                    <a:pt x="2786" y="1148"/>
                  </a:lnTo>
                  <a:lnTo>
                    <a:pt x="2743" y="1079"/>
                  </a:lnTo>
                  <a:lnTo>
                    <a:pt x="2689" y="998"/>
                  </a:lnTo>
                  <a:lnTo>
                    <a:pt x="2626" y="908"/>
                  </a:lnTo>
                  <a:lnTo>
                    <a:pt x="2591" y="861"/>
                  </a:lnTo>
                  <a:lnTo>
                    <a:pt x="2555" y="812"/>
                  </a:lnTo>
                  <a:lnTo>
                    <a:pt x="2517" y="764"/>
                  </a:lnTo>
                  <a:lnTo>
                    <a:pt x="2477" y="714"/>
                  </a:lnTo>
                  <a:lnTo>
                    <a:pt x="2436" y="666"/>
                  </a:lnTo>
                  <a:lnTo>
                    <a:pt x="2393" y="619"/>
                  </a:lnTo>
                  <a:lnTo>
                    <a:pt x="2349" y="572"/>
                  </a:lnTo>
                  <a:lnTo>
                    <a:pt x="2304" y="527"/>
                  </a:lnTo>
                  <a:lnTo>
                    <a:pt x="2257" y="483"/>
                  </a:lnTo>
                  <a:lnTo>
                    <a:pt x="2211" y="443"/>
                  </a:lnTo>
                  <a:lnTo>
                    <a:pt x="2163" y="405"/>
                  </a:lnTo>
                  <a:lnTo>
                    <a:pt x="2116" y="371"/>
                  </a:lnTo>
                  <a:lnTo>
                    <a:pt x="2066" y="340"/>
                  </a:lnTo>
                  <a:lnTo>
                    <a:pt x="2018" y="314"/>
                  </a:lnTo>
                  <a:lnTo>
                    <a:pt x="1968" y="291"/>
                  </a:lnTo>
                  <a:lnTo>
                    <a:pt x="1919" y="274"/>
                  </a:lnTo>
                  <a:lnTo>
                    <a:pt x="1870" y="263"/>
                  </a:lnTo>
                  <a:lnTo>
                    <a:pt x="1820" y="256"/>
                  </a:lnTo>
                  <a:lnTo>
                    <a:pt x="1772" y="256"/>
                  </a:lnTo>
                  <a:lnTo>
                    <a:pt x="1723" y="264"/>
                  </a:lnTo>
                  <a:lnTo>
                    <a:pt x="1712" y="263"/>
                  </a:lnTo>
                  <a:lnTo>
                    <a:pt x="1679" y="260"/>
                  </a:lnTo>
                  <a:lnTo>
                    <a:pt x="1655" y="259"/>
                  </a:lnTo>
                  <a:lnTo>
                    <a:pt x="1626" y="258"/>
                  </a:lnTo>
                  <a:lnTo>
                    <a:pt x="1593" y="258"/>
                  </a:lnTo>
                  <a:lnTo>
                    <a:pt x="1556" y="259"/>
                  </a:lnTo>
                  <a:lnTo>
                    <a:pt x="1516" y="260"/>
                  </a:lnTo>
                  <a:lnTo>
                    <a:pt x="1471" y="264"/>
                  </a:lnTo>
                  <a:lnTo>
                    <a:pt x="1424" y="268"/>
                  </a:lnTo>
                  <a:lnTo>
                    <a:pt x="1374" y="274"/>
                  </a:lnTo>
                  <a:lnTo>
                    <a:pt x="1322" y="282"/>
                  </a:lnTo>
                  <a:lnTo>
                    <a:pt x="1268" y="294"/>
                  </a:lnTo>
                  <a:lnTo>
                    <a:pt x="1210" y="307"/>
                  </a:lnTo>
                  <a:lnTo>
                    <a:pt x="1152" y="322"/>
                  </a:lnTo>
                  <a:lnTo>
                    <a:pt x="1092" y="341"/>
                  </a:lnTo>
                  <a:lnTo>
                    <a:pt x="1032" y="363"/>
                  </a:lnTo>
                  <a:lnTo>
                    <a:pt x="969" y="389"/>
                  </a:lnTo>
                  <a:lnTo>
                    <a:pt x="907" y="418"/>
                  </a:lnTo>
                  <a:lnTo>
                    <a:pt x="845" y="451"/>
                  </a:lnTo>
                  <a:lnTo>
                    <a:pt x="783" y="488"/>
                  </a:lnTo>
                  <a:lnTo>
                    <a:pt x="721" y="529"/>
                  </a:lnTo>
                  <a:lnTo>
                    <a:pt x="660" y="575"/>
                  </a:lnTo>
                  <a:lnTo>
                    <a:pt x="599" y="626"/>
                  </a:lnTo>
                  <a:lnTo>
                    <a:pt x="540" y="682"/>
                  </a:lnTo>
                  <a:lnTo>
                    <a:pt x="483" y="744"/>
                  </a:lnTo>
                  <a:lnTo>
                    <a:pt x="427" y="811"/>
                  </a:lnTo>
                  <a:lnTo>
                    <a:pt x="372" y="883"/>
                  </a:lnTo>
                  <a:lnTo>
                    <a:pt x="321" y="961"/>
                  </a:lnTo>
                  <a:lnTo>
                    <a:pt x="273" y="1047"/>
                  </a:lnTo>
                  <a:lnTo>
                    <a:pt x="227" y="1137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6d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4570560" y="5343480"/>
              <a:ext cx="1187280" cy="541440"/>
            </a:xfrm>
            <a:custGeom>
              <a:avLst/>
              <a:gdLst/>
              <a:ahLst/>
              <a:rect l="l" t="t" r="r" b="b"/>
              <a:pathLst>
                <a:path w="2991" h="1363">
                  <a:moveTo>
                    <a:pt x="1164" y="35"/>
                  </a:moveTo>
                  <a:lnTo>
                    <a:pt x="1098" y="52"/>
                  </a:lnTo>
                  <a:lnTo>
                    <a:pt x="1034" y="72"/>
                  </a:lnTo>
                  <a:lnTo>
                    <a:pt x="972" y="95"/>
                  </a:lnTo>
                  <a:lnTo>
                    <a:pt x="913" y="120"/>
                  </a:lnTo>
                  <a:lnTo>
                    <a:pt x="854" y="148"/>
                  </a:lnTo>
                  <a:lnTo>
                    <a:pt x="797" y="177"/>
                  </a:lnTo>
                  <a:lnTo>
                    <a:pt x="743" y="208"/>
                  </a:lnTo>
                  <a:lnTo>
                    <a:pt x="689" y="241"/>
                  </a:lnTo>
                  <a:lnTo>
                    <a:pt x="638" y="274"/>
                  </a:lnTo>
                  <a:lnTo>
                    <a:pt x="589" y="310"/>
                  </a:lnTo>
                  <a:lnTo>
                    <a:pt x="541" y="346"/>
                  </a:lnTo>
                  <a:lnTo>
                    <a:pt x="495" y="382"/>
                  </a:lnTo>
                  <a:lnTo>
                    <a:pt x="452" y="419"/>
                  </a:lnTo>
                  <a:lnTo>
                    <a:pt x="410" y="456"/>
                  </a:lnTo>
                  <a:lnTo>
                    <a:pt x="370" y="494"/>
                  </a:lnTo>
                  <a:lnTo>
                    <a:pt x="332" y="531"/>
                  </a:lnTo>
                  <a:lnTo>
                    <a:pt x="296" y="568"/>
                  </a:lnTo>
                  <a:lnTo>
                    <a:pt x="262" y="604"/>
                  </a:lnTo>
                  <a:lnTo>
                    <a:pt x="230" y="640"/>
                  </a:lnTo>
                  <a:lnTo>
                    <a:pt x="200" y="674"/>
                  </a:lnTo>
                  <a:lnTo>
                    <a:pt x="173" y="707"/>
                  </a:lnTo>
                  <a:lnTo>
                    <a:pt x="148" y="738"/>
                  </a:lnTo>
                  <a:lnTo>
                    <a:pt x="124" y="768"/>
                  </a:lnTo>
                  <a:lnTo>
                    <a:pt x="103" y="796"/>
                  </a:lnTo>
                  <a:lnTo>
                    <a:pt x="67" y="845"/>
                  </a:lnTo>
                  <a:lnTo>
                    <a:pt x="40" y="884"/>
                  </a:lnTo>
                  <a:lnTo>
                    <a:pt x="22" y="911"/>
                  </a:lnTo>
                  <a:lnTo>
                    <a:pt x="15" y="924"/>
                  </a:lnTo>
                  <a:lnTo>
                    <a:pt x="0" y="948"/>
                  </a:lnTo>
                  <a:lnTo>
                    <a:pt x="282" y="1234"/>
                  </a:lnTo>
                  <a:lnTo>
                    <a:pt x="304" y="1187"/>
                  </a:lnTo>
                  <a:lnTo>
                    <a:pt x="348" y="1099"/>
                  </a:lnTo>
                  <a:lnTo>
                    <a:pt x="395" y="1017"/>
                  </a:lnTo>
                  <a:lnTo>
                    <a:pt x="445" y="942"/>
                  </a:lnTo>
                  <a:lnTo>
                    <a:pt x="497" y="872"/>
                  </a:lnTo>
                  <a:lnTo>
                    <a:pt x="551" y="808"/>
                  </a:lnTo>
                  <a:lnTo>
                    <a:pt x="607" y="748"/>
                  </a:lnTo>
                  <a:lnTo>
                    <a:pt x="664" y="693"/>
                  </a:lnTo>
                  <a:lnTo>
                    <a:pt x="723" y="644"/>
                  </a:lnTo>
                  <a:lnTo>
                    <a:pt x="782" y="599"/>
                  </a:lnTo>
                  <a:lnTo>
                    <a:pt x="842" y="558"/>
                  </a:lnTo>
                  <a:lnTo>
                    <a:pt x="903" y="522"/>
                  </a:lnTo>
                  <a:lnTo>
                    <a:pt x="964" y="490"/>
                  </a:lnTo>
                  <a:lnTo>
                    <a:pt x="1023" y="461"/>
                  </a:lnTo>
                  <a:lnTo>
                    <a:pt x="1084" y="437"/>
                  </a:lnTo>
                  <a:lnTo>
                    <a:pt x="1142" y="414"/>
                  </a:lnTo>
                  <a:lnTo>
                    <a:pt x="1201" y="396"/>
                  </a:lnTo>
                  <a:lnTo>
                    <a:pt x="1258" y="380"/>
                  </a:lnTo>
                  <a:lnTo>
                    <a:pt x="1313" y="367"/>
                  </a:lnTo>
                  <a:lnTo>
                    <a:pt x="1366" y="356"/>
                  </a:lnTo>
                  <a:lnTo>
                    <a:pt x="1418" y="347"/>
                  </a:lnTo>
                  <a:lnTo>
                    <a:pt x="1466" y="341"/>
                  </a:lnTo>
                  <a:lnTo>
                    <a:pt x="1512" y="336"/>
                  </a:lnTo>
                  <a:lnTo>
                    <a:pt x="1556" y="332"/>
                  </a:lnTo>
                  <a:lnTo>
                    <a:pt x="1596" y="330"/>
                  </a:lnTo>
                  <a:lnTo>
                    <a:pt x="1632" y="330"/>
                  </a:lnTo>
                  <a:lnTo>
                    <a:pt x="1664" y="329"/>
                  </a:lnTo>
                  <a:lnTo>
                    <a:pt x="1692" y="330"/>
                  </a:lnTo>
                  <a:lnTo>
                    <a:pt x="1717" y="331"/>
                  </a:lnTo>
                  <a:lnTo>
                    <a:pt x="1751" y="332"/>
                  </a:lnTo>
                  <a:lnTo>
                    <a:pt x="1765" y="334"/>
                  </a:lnTo>
                  <a:lnTo>
                    <a:pt x="1810" y="327"/>
                  </a:lnTo>
                  <a:lnTo>
                    <a:pt x="1858" y="327"/>
                  </a:lnTo>
                  <a:lnTo>
                    <a:pt x="1905" y="334"/>
                  </a:lnTo>
                  <a:lnTo>
                    <a:pt x="1952" y="345"/>
                  </a:lnTo>
                  <a:lnTo>
                    <a:pt x="2000" y="362"/>
                  </a:lnTo>
                  <a:lnTo>
                    <a:pt x="2048" y="383"/>
                  </a:lnTo>
                  <a:lnTo>
                    <a:pt x="2095" y="409"/>
                  </a:lnTo>
                  <a:lnTo>
                    <a:pt x="2142" y="439"/>
                  </a:lnTo>
                  <a:lnTo>
                    <a:pt x="2189" y="473"/>
                  </a:lnTo>
                  <a:lnTo>
                    <a:pt x="2235" y="510"/>
                  </a:lnTo>
                  <a:lnTo>
                    <a:pt x="2281" y="549"/>
                  </a:lnTo>
                  <a:lnTo>
                    <a:pt x="2326" y="590"/>
                  </a:lnTo>
                  <a:lnTo>
                    <a:pt x="2369" y="635"/>
                  </a:lnTo>
                  <a:lnTo>
                    <a:pt x="2413" y="680"/>
                  </a:lnTo>
                  <a:lnTo>
                    <a:pt x="2454" y="727"/>
                  </a:lnTo>
                  <a:lnTo>
                    <a:pt x="2495" y="774"/>
                  </a:lnTo>
                  <a:lnTo>
                    <a:pt x="2533" y="822"/>
                  </a:lnTo>
                  <a:lnTo>
                    <a:pt x="2570" y="870"/>
                  </a:lnTo>
                  <a:lnTo>
                    <a:pt x="2606" y="917"/>
                  </a:lnTo>
                  <a:lnTo>
                    <a:pt x="2641" y="963"/>
                  </a:lnTo>
                  <a:lnTo>
                    <a:pt x="2702" y="1051"/>
                  </a:lnTo>
                  <a:lnTo>
                    <a:pt x="2755" y="1131"/>
                  </a:lnTo>
                  <a:lnTo>
                    <a:pt x="2799" y="1200"/>
                  </a:lnTo>
                  <a:lnTo>
                    <a:pt x="2831" y="1253"/>
                  </a:lnTo>
                  <a:lnTo>
                    <a:pt x="2852" y="1288"/>
                  </a:lnTo>
                  <a:lnTo>
                    <a:pt x="2860" y="1301"/>
                  </a:lnTo>
                  <a:lnTo>
                    <a:pt x="2895" y="1363"/>
                  </a:lnTo>
                  <a:lnTo>
                    <a:pt x="2989" y="1154"/>
                  </a:lnTo>
                  <a:lnTo>
                    <a:pt x="2991" y="1121"/>
                  </a:lnTo>
                  <a:lnTo>
                    <a:pt x="2989" y="1088"/>
                  </a:lnTo>
                  <a:lnTo>
                    <a:pt x="2983" y="1053"/>
                  </a:lnTo>
                  <a:lnTo>
                    <a:pt x="2971" y="1018"/>
                  </a:lnTo>
                  <a:lnTo>
                    <a:pt x="2958" y="982"/>
                  </a:lnTo>
                  <a:lnTo>
                    <a:pt x="2942" y="945"/>
                  </a:lnTo>
                  <a:lnTo>
                    <a:pt x="2922" y="909"/>
                  </a:lnTo>
                  <a:lnTo>
                    <a:pt x="2898" y="872"/>
                  </a:lnTo>
                  <a:lnTo>
                    <a:pt x="2873" y="835"/>
                  </a:lnTo>
                  <a:lnTo>
                    <a:pt x="2846" y="798"/>
                  </a:lnTo>
                  <a:lnTo>
                    <a:pt x="2818" y="760"/>
                  </a:lnTo>
                  <a:lnTo>
                    <a:pt x="2786" y="723"/>
                  </a:lnTo>
                  <a:lnTo>
                    <a:pt x="2755" y="687"/>
                  </a:lnTo>
                  <a:lnTo>
                    <a:pt x="2722" y="651"/>
                  </a:lnTo>
                  <a:lnTo>
                    <a:pt x="2688" y="615"/>
                  </a:lnTo>
                  <a:lnTo>
                    <a:pt x="2655" y="582"/>
                  </a:lnTo>
                  <a:lnTo>
                    <a:pt x="2620" y="548"/>
                  </a:lnTo>
                  <a:lnTo>
                    <a:pt x="2585" y="516"/>
                  </a:lnTo>
                  <a:lnTo>
                    <a:pt x="2552" y="484"/>
                  </a:lnTo>
                  <a:lnTo>
                    <a:pt x="2518" y="454"/>
                  </a:lnTo>
                  <a:lnTo>
                    <a:pt x="2454" y="399"/>
                  </a:lnTo>
                  <a:lnTo>
                    <a:pt x="2395" y="351"/>
                  </a:lnTo>
                  <a:lnTo>
                    <a:pt x="2344" y="310"/>
                  </a:lnTo>
                  <a:lnTo>
                    <a:pt x="2305" y="279"/>
                  </a:lnTo>
                  <a:lnTo>
                    <a:pt x="2276" y="258"/>
                  </a:lnTo>
                  <a:lnTo>
                    <a:pt x="2262" y="247"/>
                  </a:lnTo>
                  <a:lnTo>
                    <a:pt x="2228" y="227"/>
                  </a:lnTo>
                  <a:lnTo>
                    <a:pt x="2193" y="206"/>
                  </a:lnTo>
                  <a:lnTo>
                    <a:pt x="2159" y="187"/>
                  </a:lnTo>
                  <a:lnTo>
                    <a:pt x="2125" y="169"/>
                  </a:lnTo>
                  <a:lnTo>
                    <a:pt x="2090" y="152"/>
                  </a:lnTo>
                  <a:lnTo>
                    <a:pt x="2055" y="135"/>
                  </a:lnTo>
                  <a:lnTo>
                    <a:pt x="2022" y="120"/>
                  </a:lnTo>
                  <a:lnTo>
                    <a:pt x="1987" y="105"/>
                  </a:lnTo>
                  <a:lnTo>
                    <a:pt x="1952" y="92"/>
                  </a:lnTo>
                  <a:lnTo>
                    <a:pt x="1917" y="79"/>
                  </a:lnTo>
                  <a:lnTo>
                    <a:pt x="1884" y="68"/>
                  </a:lnTo>
                  <a:lnTo>
                    <a:pt x="1849" y="57"/>
                  </a:lnTo>
                  <a:lnTo>
                    <a:pt x="1814" y="47"/>
                  </a:lnTo>
                  <a:lnTo>
                    <a:pt x="1779" y="38"/>
                  </a:lnTo>
                  <a:lnTo>
                    <a:pt x="1746" y="31"/>
                  </a:lnTo>
                  <a:lnTo>
                    <a:pt x="1711" y="23"/>
                  </a:lnTo>
                  <a:lnTo>
                    <a:pt x="1676" y="17"/>
                  </a:lnTo>
                  <a:lnTo>
                    <a:pt x="1642" y="12"/>
                  </a:lnTo>
                  <a:lnTo>
                    <a:pt x="1608" y="7"/>
                  </a:lnTo>
                  <a:lnTo>
                    <a:pt x="1573" y="4"/>
                  </a:lnTo>
                  <a:lnTo>
                    <a:pt x="1539" y="1"/>
                  </a:lnTo>
                  <a:lnTo>
                    <a:pt x="1505" y="0"/>
                  </a:lnTo>
                  <a:lnTo>
                    <a:pt x="1470" y="0"/>
                  </a:lnTo>
                  <a:lnTo>
                    <a:pt x="1437" y="0"/>
                  </a:lnTo>
                  <a:lnTo>
                    <a:pt x="1402" y="1"/>
                  </a:lnTo>
                  <a:lnTo>
                    <a:pt x="1368" y="2"/>
                  </a:lnTo>
                  <a:lnTo>
                    <a:pt x="1334" y="6"/>
                  </a:lnTo>
                  <a:lnTo>
                    <a:pt x="1300" y="10"/>
                  </a:lnTo>
                  <a:lnTo>
                    <a:pt x="1265" y="15"/>
                  </a:lnTo>
                  <a:lnTo>
                    <a:pt x="1232" y="21"/>
                  </a:lnTo>
                  <a:lnTo>
                    <a:pt x="1197" y="27"/>
                  </a:lnTo>
                  <a:lnTo>
                    <a:pt x="1164" y="35"/>
                  </a:lnTo>
                  <a:close/>
                  <a:moveTo>
                    <a:pt x="1181" y="104"/>
                  </a:moveTo>
                  <a:lnTo>
                    <a:pt x="1212" y="97"/>
                  </a:lnTo>
                  <a:lnTo>
                    <a:pt x="1244" y="90"/>
                  </a:lnTo>
                  <a:lnTo>
                    <a:pt x="1277" y="85"/>
                  </a:lnTo>
                  <a:lnTo>
                    <a:pt x="1309" y="81"/>
                  </a:lnTo>
                  <a:lnTo>
                    <a:pt x="1341" y="77"/>
                  </a:lnTo>
                  <a:lnTo>
                    <a:pt x="1373" y="74"/>
                  </a:lnTo>
                  <a:lnTo>
                    <a:pt x="1407" y="72"/>
                  </a:lnTo>
                  <a:lnTo>
                    <a:pt x="1439" y="71"/>
                  </a:lnTo>
                  <a:lnTo>
                    <a:pt x="1471" y="71"/>
                  </a:lnTo>
                  <a:lnTo>
                    <a:pt x="1504" y="72"/>
                  </a:lnTo>
                  <a:lnTo>
                    <a:pt x="1536" y="73"/>
                  </a:lnTo>
                  <a:lnTo>
                    <a:pt x="1570" y="76"/>
                  </a:lnTo>
                  <a:lnTo>
                    <a:pt x="1602" y="78"/>
                  </a:lnTo>
                  <a:lnTo>
                    <a:pt x="1634" y="83"/>
                  </a:lnTo>
                  <a:lnTo>
                    <a:pt x="1666" y="88"/>
                  </a:lnTo>
                  <a:lnTo>
                    <a:pt x="1700" y="93"/>
                  </a:lnTo>
                  <a:lnTo>
                    <a:pt x="1732" y="100"/>
                  </a:lnTo>
                  <a:lnTo>
                    <a:pt x="1765" y="108"/>
                  </a:lnTo>
                  <a:lnTo>
                    <a:pt x="1797" y="116"/>
                  </a:lnTo>
                  <a:lnTo>
                    <a:pt x="1830" y="126"/>
                  </a:lnTo>
                  <a:lnTo>
                    <a:pt x="1863" y="136"/>
                  </a:lnTo>
                  <a:lnTo>
                    <a:pt x="1895" y="148"/>
                  </a:lnTo>
                  <a:lnTo>
                    <a:pt x="1928" y="160"/>
                  </a:lnTo>
                  <a:lnTo>
                    <a:pt x="1961" y="172"/>
                  </a:lnTo>
                  <a:lnTo>
                    <a:pt x="1994" y="186"/>
                  </a:lnTo>
                  <a:lnTo>
                    <a:pt x="2027" y="201"/>
                  </a:lnTo>
                  <a:lnTo>
                    <a:pt x="2059" y="216"/>
                  </a:lnTo>
                  <a:lnTo>
                    <a:pt x="2092" y="232"/>
                  </a:lnTo>
                  <a:lnTo>
                    <a:pt x="2125" y="249"/>
                  </a:lnTo>
                  <a:lnTo>
                    <a:pt x="2157" y="268"/>
                  </a:lnTo>
                  <a:lnTo>
                    <a:pt x="2190" y="286"/>
                  </a:lnTo>
                  <a:lnTo>
                    <a:pt x="2223" y="306"/>
                  </a:lnTo>
                  <a:lnTo>
                    <a:pt x="2262" y="336"/>
                  </a:lnTo>
                  <a:lnTo>
                    <a:pt x="2310" y="372"/>
                  </a:lnTo>
                  <a:lnTo>
                    <a:pt x="2361" y="413"/>
                  </a:lnTo>
                  <a:lnTo>
                    <a:pt x="2415" y="459"/>
                  </a:lnTo>
                  <a:lnTo>
                    <a:pt x="2472" y="509"/>
                  </a:lnTo>
                  <a:lnTo>
                    <a:pt x="2531" y="561"/>
                  </a:lnTo>
                  <a:lnTo>
                    <a:pt x="2589" y="616"/>
                  </a:lnTo>
                  <a:lnTo>
                    <a:pt x="2646" y="672"/>
                  </a:lnTo>
                  <a:lnTo>
                    <a:pt x="2675" y="702"/>
                  </a:lnTo>
                  <a:lnTo>
                    <a:pt x="2702" y="731"/>
                  </a:lnTo>
                  <a:lnTo>
                    <a:pt x="2728" y="760"/>
                  </a:lnTo>
                  <a:lnTo>
                    <a:pt x="2753" y="789"/>
                  </a:lnTo>
                  <a:lnTo>
                    <a:pt x="2777" y="819"/>
                  </a:lnTo>
                  <a:lnTo>
                    <a:pt x="2800" y="849"/>
                  </a:lnTo>
                  <a:lnTo>
                    <a:pt x="2821" y="877"/>
                  </a:lnTo>
                  <a:lnTo>
                    <a:pt x="2841" y="906"/>
                  </a:lnTo>
                  <a:lnTo>
                    <a:pt x="2858" y="934"/>
                  </a:lnTo>
                  <a:lnTo>
                    <a:pt x="2875" y="961"/>
                  </a:lnTo>
                  <a:lnTo>
                    <a:pt x="2888" y="989"/>
                  </a:lnTo>
                  <a:lnTo>
                    <a:pt x="2901" y="1016"/>
                  </a:lnTo>
                  <a:lnTo>
                    <a:pt x="2909" y="1042"/>
                  </a:lnTo>
                  <a:lnTo>
                    <a:pt x="2917" y="1067"/>
                  </a:lnTo>
                  <a:lnTo>
                    <a:pt x="2921" y="1090"/>
                  </a:lnTo>
                  <a:lnTo>
                    <a:pt x="2923" y="1114"/>
                  </a:lnTo>
                  <a:lnTo>
                    <a:pt x="2922" y="1125"/>
                  </a:lnTo>
                  <a:lnTo>
                    <a:pt x="2922" y="1135"/>
                  </a:lnTo>
                  <a:lnTo>
                    <a:pt x="2918" y="1141"/>
                  </a:lnTo>
                  <a:lnTo>
                    <a:pt x="2911" y="1157"/>
                  </a:lnTo>
                  <a:lnTo>
                    <a:pt x="2899" y="1181"/>
                  </a:lnTo>
                  <a:lnTo>
                    <a:pt x="2888" y="1207"/>
                  </a:lnTo>
                  <a:lnTo>
                    <a:pt x="2857" y="1157"/>
                  </a:lnTo>
                  <a:lnTo>
                    <a:pt x="2819" y="1095"/>
                  </a:lnTo>
                  <a:lnTo>
                    <a:pt x="2773" y="1025"/>
                  </a:lnTo>
                  <a:lnTo>
                    <a:pt x="2719" y="948"/>
                  </a:lnTo>
                  <a:lnTo>
                    <a:pt x="2690" y="907"/>
                  </a:lnTo>
                  <a:lnTo>
                    <a:pt x="2659" y="865"/>
                  </a:lnTo>
                  <a:lnTo>
                    <a:pt x="2628" y="822"/>
                  </a:lnTo>
                  <a:lnTo>
                    <a:pt x="2594" y="780"/>
                  </a:lnTo>
                  <a:lnTo>
                    <a:pt x="2559" y="737"/>
                  </a:lnTo>
                  <a:lnTo>
                    <a:pt x="2523" y="695"/>
                  </a:lnTo>
                  <a:lnTo>
                    <a:pt x="2486" y="652"/>
                  </a:lnTo>
                  <a:lnTo>
                    <a:pt x="2447" y="610"/>
                  </a:lnTo>
                  <a:lnTo>
                    <a:pt x="2409" y="569"/>
                  </a:lnTo>
                  <a:lnTo>
                    <a:pt x="2368" y="530"/>
                  </a:lnTo>
                  <a:lnTo>
                    <a:pt x="2327" y="492"/>
                  </a:lnTo>
                  <a:lnTo>
                    <a:pt x="2286" y="456"/>
                  </a:lnTo>
                  <a:lnTo>
                    <a:pt x="2244" y="423"/>
                  </a:lnTo>
                  <a:lnTo>
                    <a:pt x="2202" y="391"/>
                  </a:lnTo>
                  <a:lnTo>
                    <a:pt x="2158" y="362"/>
                  </a:lnTo>
                  <a:lnTo>
                    <a:pt x="2115" y="336"/>
                  </a:lnTo>
                  <a:lnTo>
                    <a:pt x="2070" y="313"/>
                  </a:lnTo>
                  <a:lnTo>
                    <a:pt x="2027" y="293"/>
                  </a:lnTo>
                  <a:lnTo>
                    <a:pt x="1982" y="278"/>
                  </a:lnTo>
                  <a:lnTo>
                    <a:pt x="1937" y="265"/>
                  </a:lnTo>
                  <a:lnTo>
                    <a:pt x="1894" y="258"/>
                  </a:lnTo>
                  <a:lnTo>
                    <a:pt x="1849" y="255"/>
                  </a:lnTo>
                  <a:lnTo>
                    <a:pt x="1804" y="257"/>
                  </a:lnTo>
                  <a:lnTo>
                    <a:pt x="1761" y="264"/>
                  </a:lnTo>
                  <a:lnTo>
                    <a:pt x="1750" y="263"/>
                  </a:lnTo>
                  <a:lnTo>
                    <a:pt x="1717" y="260"/>
                  </a:lnTo>
                  <a:lnTo>
                    <a:pt x="1694" y="259"/>
                  </a:lnTo>
                  <a:lnTo>
                    <a:pt x="1665" y="259"/>
                  </a:lnTo>
                  <a:lnTo>
                    <a:pt x="1633" y="259"/>
                  </a:lnTo>
                  <a:lnTo>
                    <a:pt x="1597" y="259"/>
                  </a:lnTo>
                  <a:lnTo>
                    <a:pt x="1556" y="262"/>
                  </a:lnTo>
                  <a:lnTo>
                    <a:pt x="1512" y="265"/>
                  </a:lnTo>
                  <a:lnTo>
                    <a:pt x="1466" y="270"/>
                  </a:lnTo>
                  <a:lnTo>
                    <a:pt x="1417" y="277"/>
                  </a:lnTo>
                  <a:lnTo>
                    <a:pt x="1365" y="285"/>
                  </a:lnTo>
                  <a:lnTo>
                    <a:pt x="1310" y="296"/>
                  </a:lnTo>
                  <a:lnTo>
                    <a:pt x="1254" y="309"/>
                  </a:lnTo>
                  <a:lnTo>
                    <a:pt x="1196" y="325"/>
                  </a:lnTo>
                  <a:lnTo>
                    <a:pt x="1136" y="344"/>
                  </a:lnTo>
                  <a:lnTo>
                    <a:pt x="1077" y="366"/>
                  </a:lnTo>
                  <a:lnTo>
                    <a:pt x="1014" y="391"/>
                  </a:lnTo>
                  <a:lnTo>
                    <a:pt x="952" y="419"/>
                  </a:lnTo>
                  <a:lnTo>
                    <a:pt x="890" y="451"/>
                  </a:lnTo>
                  <a:lnTo>
                    <a:pt x="828" y="487"/>
                  </a:lnTo>
                  <a:lnTo>
                    <a:pt x="766" y="527"/>
                  </a:lnTo>
                  <a:lnTo>
                    <a:pt x="704" y="572"/>
                  </a:lnTo>
                  <a:lnTo>
                    <a:pt x="643" y="621"/>
                  </a:lnTo>
                  <a:lnTo>
                    <a:pt x="584" y="676"/>
                  </a:lnTo>
                  <a:lnTo>
                    <a:pt x="525" y="734"/>
                  </a:lnTo>
                  <a:lnTo>
                    <a:pt x="468" y="799"/>
                  </a:lnTo>
                  <a:lnTo>
                    <a:pt x="413" y="870"/>
                  </a:lnTo>
                  <a:lnTo>
                    <a:pt x="361" y="945"/>
                  </a:lnTo>
                  <a:lnTo>
                    <a:pt x="312" y="1026"/>
                  </a:lnTo>
                  <a:lnTo>
                    <a:pt x="264" y="1114"/>
                  </a:lnTo>
                  <a:lnTo>
                    <a:pt x="224" y="1072"/>
                  </a:lnTo>
                  <a:lnTo>
                    <a:pt x="171" y="1021"/>
                  </a:lnTo>
                  <a:lnTo>
                    <a:pt x="123" y="971"/>
                  </a:lnTo>
                  <a:lnTo>
                    <a:pt x="91" y="938"/>
                  </a:lnTo>
                  <a:lnTo>
                    <a:pt x="108" y="912"/>
                  </a:lnTo>
                  <a:lnTo>
                    <a:pt x="133" y="877"/>
                  </a:lnTo>
                  <a:lnTo>
                    <a:pt x="165" y="834"/>
                  </a:lnTo>
                  <a:lnTo>
                    <a:pt x="205" y="783"/>
                  </a:lnTo>
                  <a:lnTo>
                    <a:pt x="251" y="726"/>
                  </a:lnTo>
                  <a:lnTo>
                    <a:pt x="305" y="665"/>
                  </a:lnTo>
                  <a:lnTo>
                    <a:pt x="334" y="633"/>
                  </a:lnTo>
                  <a:lnTo>
                    <a:pt x="365" y="600"/>
                  </a:lnTo>
                  <a:lnTo>
                    <a:pt x="397" y="568"/>
                  </a:lnTo>
                  <a:lnTo>
                    <a:pt x="432" y="535"/>
                  </a:lnTo>
                  <a:lnTo>
                    <a:pt x="468" y="502"/>
                  </a:lnTo>
                  <a:lnTo>
                    <a:pt x="505" y="469"/>
                  </a:lnTo>
                  <a:lnTo>
                    <a:pt x="544" y="437"/>
                  </a:lnTo>
                  <a:lnTo>
                    <a:pt x="585" y="403"/>
                  </a:lnTo>
                  <a:lnTo>
                    <a:pt x="627" y="372"/>
                  </a:lnTo>
                  <a:lnTo>
                    <a:pt x="671" y="340"/>
                  </a:lnTo>
                  <a:lnTo>
                    <a:pt x="715" y="310"/>
                  </a:lnTo>
                  <a:lnTo>
                    <a:pt x="761" y="280"/>
                  </a:lnTo>
                  <a:lnTo>
                    <a:pt x="808" y="253"/>
                  </a:lnTo>
                  <a:lnTo>
                    <a:pt x="858" y="226"/>
                  </a:lnTo>
                  <a:lnTo>
                    <a:pt x="909" y="201"/>
                  </a:lnTo>
                  <a:lnTo>
                    <a:pt x="960" y="177"/>
                  </a:lnTo>
                  <a:lnTo>
                    <a:pt x="1013" y="156"/>
                  </a:lnTo>
                  <a:lnTo>
                    <a:pt x="1068" y="136"/>
                  </a:lnTo>
                  <a:lnTo>
                    <a:pt x="1124" y="119"/>
                  </a:lnTo>
                  <a:lnTo>
                    <a:pt x="1181" y="1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4630680" y="5437080"/>
              <a:ext cx="1090800" cy="446040"/>
            </a:xfrm>
            <a:custGeom>
              <a:avLst/>
              <a:gdLst/>
              <a:ahLst/>
              <a:rect l="l" t="t" r="r" b="b"/>
              <a:pathLst>
                <a:path w="2748" h="1127">
                  <a:moveTo>
                    <a:pt x="0" y="872"/>
                  </a:moveTo>
                  <a:lnTo>
                    <a:pt x="9" y="856"/>
                  </a:lnTo>
                  <a:lnTo>
                    <a:pt x="37" y="812"/>
                  </a:lnTo>
                  <a:lnTo>
                    <a:pt x="57" y="782"/>
                  </a:lnTo>
                  <a:lnTo>
                    <a:pt x="83" y="746"/>
                  </a:lnTo>
                  <a:lnTo>
                    <a:pt x="113" y="705"/>
                  </a:lnTo>
                  <a:lnTo>
                    <a:pt x="147" y="661"/>
                  </a:lnTo>
                  <a:lnTo>
                    <a:pt x="185" y="614"/>
                  </a:lnTo>
                  <a:lnTo>
                    <a:pt x="227" y="565"/>
                  </a:lnTo>
                  <a:lnTo>
                    <a:pt x="275" y="514"/>
                  </a:lnTo>
                  <a:lnTo>
                    <a:pt x="326" y="462"/>
                  </a:lnTo>
                  <a:lnTo>
                    <a:pt x="380" y="410"/>
                  </a:lnTo>
                  <a:lnTo>
                    <a:pt x="439" y="357"/>
                  </a:lnTo>
                  <a:lnTo>
                    <a:pt x="502" y="305"/>
                  </a:lnTo>
                  <a:lnTo>
                    <a:pt x="569" y="257"/>
                  </a:lnTo>
                  <a:lnTo>
                    <a:pt x="640" y="210"/>
                  </a:lnTo>
                  <a:lnTo>
                    <a:pt x="713" y="165"/>
                  </a:lnTo>
                  <a:lnTo>
                    <a:pt x="791" y="125"/>
                  </a:lnTo>
                  <a:lnTo>
                    <a:pt x="873" y="89"/>
                  </a:lnTo>
                  <a:lnTo>
                    <a:pt x="958" y="58"/>
                  </a:lnTo>
                  <a:lnTo>
                    <a:pt x="1047" y="34"/>
                  </a:lnTo>
                  <a:lnTo>
                    <a:pt x="1139" y="15"/>
                  </a:lnTo>
                  <a:lnTo>
                    <a:pt x="1235" y="4"/>
                  </a:lnTo>
                  <a:lnTo>
                    <a:pt x="1333" y="0"/>
                  </a:lnTo>
                  <a:lnTo>
                    <a:pt x="1434" y="4"/>
                  </a:lnTo>
                  <a:lnTo>
                    <a:pt x="1540" y="17"/>
                  </a:lnTo>
                  <a:lnTo>
                    <a:pt x="1649" y="41"/>
                  </a:lnTo>
                  <a:lnTo>
                    <a:pt x="1760" y="75"/>
                  </a:lnTo>
                  <a:lnTo>
                    <a:pt x="1875" y="120"/>
                  </a:lnTo>
                  <a:lnTo>
                    <a:pt x="1992" y="176"/>
                  </a:lnTo>
                  <a:lnTo>
                    <a:pt x="2112" y="246"/>
                  </a:lnTo>
                  <a:lnTo>
                    <a:pt x="2151" y="277"/>
                  </a:lnTo>
                  <a:lnTo>
                    <a:pt x="2188" y="307"/>
                  </a:lnTo>
                  <a:lnTo>
                    <a:pt x="2225" y="334"/>
                  </a:lnTo>
                  <a:lnTo>
                    <a:pt x="2263" y="360"/>
                  </a:lnTo>
                  <a:lnTo>
                    <a:pt x="2333" y="408"/>
                  </a:lnTo>
                  <a:lnTo>
                    <a:pt x="2402" y="450"/>
                  </a:lnTo>
                  <a:lnTo>
                    <a:pt x="2465" y="489"/>
                  </a:lnTo>
                  <a:lnTo>
                    <a:pt x="2525" y="526"/>
                  </a:lnTo>
                  <a:lnTo>
                    <a:pt x="2553" y="544"/>
                  </a:lnTo>
                  <a:lnTo>
                    <a:pt x="2579" y="561"/>
                  </a:lnTo>
                  <a:lnTo>
                    <a:pt x="2604" y="577"/>
                  </a:lnTo>
                  <a:lnTo>
                    <a:pt x="2627" y="594"/>
                  </a:lnTo>
                  <a:lnTo>
                    <a:pt x="2649" y="612"/>
                  </a:lnTo>
                  <a:lnTo>
                    <a:pt x="2668" y="629"/>
                  </a:lnTo>
                  <a:lnTo>
                    <a:pt x="2686" y="648"/>
                  </a:lnTo>
                  <a:lnTo>
                    <a:pt x="2701" y="666"/>
                  </a:lnTo>
                  <a:lnTo>
                    <a:pt x="2715" y="685"/>
                  </a:lnTo>
                  <a:lnTo>
                    <a:pt x="2726" y="705"/>
                  </a:lnTo>
                  <a:lnTo>
                    <a:pt x="2736" y="726"/>
                  </a:lnTo>
                  <a:lnTo>
                    <a:pt x="2742" y="748"/>
                  </a:lnTo>
                  <a:lnTo>
                    <a:pt x="2747" y="772"/>
                  </a:lnTo>
                  <a:lnTo>
                    <a:pt x="2748" y="797"/>
                  </a:lnTo>
                  <a:lnTo>
                    <a:pt x="2748" y="823"/>
                  </a:lnTo>
                  <a:lnTo>
                    <a:pt x="2745" y="850"/>
                  </a:lnTo>
                  <a:lnTo>
                    <a:pt x="2738" y="880"/>
                  </a:lnTo>
                  <a:lnTo>
                    <a:pt x="2728" y="912"/>
                  </a:lnTo>
                  <a:lnTo>
                    <a:pt x="2716" y="946"/>
                  </a:lnTo>
                  <a:lnTo>
                    <a:pt x="2701" y="980"/>
                  </a:lnTo>
                  <a:lnTo>
                    <a:pt x="2603" y="1127"/>
                  </a:lnTo>
                  <a:lnTo>
                    <a:pt x="2598" y="1117"/>
                  </a:lnTo>
                  <a:lnTo>
                    <a:pt x="2582" y="1091"/>
                  </a:lnTo>
                  <a:lnTo>
                    <a:pt x="2557" y="1050"/>
                  </a:lnTo>
                  <a:lnTo>
                    <a:pt x="2522" y="996"/>
                  </a:lnTo>
                  <a:lnTo>
                    <a:pt x="2502" y="965"/>
                  </a:lnTo>
                  <a:lnTo>
                    <a:pt x="2480" y="933"/>
                  </a:lnTo>
                  <a:lnTo>
                    <a:pt x="2455" y="900"/>
                  </a:lnTo>
                  <a:lnTo>
                    <a:pt x="2429" y="865"/>
                  </a:lnTo>
                  <a:lnTo>
                    <a:pt x="2402" y="828"/>
                  </a:lnTo>
                  <a:lnTo>
                    <a:pt x="2372" y="792"/>
                  </a:lnTo>
                  <a:lnTo>
                    <a:pt x="2341" y="754"/>
                  </a:lnTo>
                  <a:lnTo>
                    <a:pt x="2307" y="717"/>
                  </a:lnTo>
                  <a:lnTo>
                    <a:pt x="2273" y="680"/>
                  </a:lnTo>
                  <a:lnTo>
                    <a:pt x="2237" y="644"/>
                  </a:lnTo>
                  <a:lnTo>
                    <a:pt x="2199" y="608"/>
                  </a:lnTo>
                  <a:lnTo>
                    <a:pt x="2161" y="575"/>
                  </a:lnTo>
                  <a:lnTo>
                    <a:pt x="2121" y="542"/>
                  </a:lnTo>
                  <a:lnTo>
                    <a:pt x="2081" y="511"/>
                  </a:lnTo>
                  <a:lnTo>
                    <a:pt x="2039" y="484"/>
                  </a:lnTo>
                  <a:lnTo>
                    <a:pt x="1996" y="458"/>
                  </a:lnTo>
                  <a:lnTo>
                    <a:pt x="1952" y="436"/>
                  </a:lnTo>
                  <a:lnTo>
                    <a:pt x="1908" y="417"/>
                  </a:lnTo>
                  <a:lnTo>
                    <a:pt x="1863" y="402"/>
                  </a:lnTo>
                  <a:lnTo>
                    <a:pt x="1817" y="390"/>
                  </a:lnTo>
                  <a:lnTo>
                    <a:pt x="1770" y="383"/>
                  </a:lnTo>
                  <a:lnTo>
                    <a:pt x="1723" y="381"/>
                  </a:lnTo>
                  <a:lnTo>
                    <a:pt x="1675" y="382"/>
                  </a:lnTo>
                  <a:lnTo>
                    <a:pt x="1628" y="391"/>
                  </a:lnTo>
                  <a:lnTo>
                    <a:pt x="1617" y="386"/>
                  </a:lnTo>
                  <a:lnTo>
                    <a:pt x="1587" y="376"/>
                  </a:lnTo>
                  <a:lnTo>
                    <a:pt x="1565" y="369"/>
                  </a:lnTo>
                  <a:lnTo>
                    <a:pt x="1539" y="361"/>
                  </a:lnTo>
                  <a:lnTo>
                    <a:pt x="1509" y="354"/>
                  </a:lnTo>
                  <a:lnTo>
                    <a:pt x="1475" y="345"/>
                  </a:lnTo>
                  <a:lnTo>
                    <a:pt x="1438" y="338"/>
                  </a:lnTo>
                  <a:lnTo>
                    <a:pt x="1398" y="330"/>
                  </a:lnTo>
                  <a:lnTo>
                    <a:pt x="1355" y="325"/>
                  </a:lnTo>
                  <a:lnTo>
                    <a:pt x="1310" y="320"/>
                  </a:lnTo>
                  <a:lnTo>
                    <a:pt x="1262" y="316"/>
                  </a:lnTo>
                  <a:lnTo>
                    <a:pt x="1211" y="316"/>
                  </a:lnTo>
                  <a:lnTo>
                    <a:pt x="1159" y="318"/>
                  </a:lnTo>
                  <a:lnTo>
                    <a:pt x="1105" y="321"/>
                  </a:lnTo>
                  <a:lnTo>
                    <a:pt x="1051" y="328"/>
                  </a:lnTo>
                  <a:lnTo>
                    <a:pt x="994" y="338"/>
                  </a:lnTo>
                  <a:lnTo>
                    <a:pt x="937" y="352"/>
                  </a:lnTo>
                  <a:lnTo>
                    <a:pt x="879" y="370"/>
                  </a:lnTo>
                  <a:lnTo>
                    <a:pt x="821" y="391"/>
                  </a:lnTo>
                  <a:lnTo>
                    <a:pt x="763" y="418"/>
                  </a:lnTo>
                  <a:lnTo>
                    <a:pt x="704" y="449"/>
                  </a:lnTo>
                  <a:lnTo>
                    <a:pt x="647" y="486"/>
                  </a:lnTo>
                  <a:lnTo>
                    <a:pt x="590" y="529"/>
                  </a:lnTo>
                  <a:lnTo>
                    <a:pt x="533" y="577"/>
                  </a:lnTo>
                  <a:lnTo>
                    <a:pt x="478" y="630"/>
                  </a:lnTo>
                  <a:lnTo>
                    <a:pt x="425" y="692"/>
                  </a:lnTo>
                  <a:lnTo>
                    <a:pt x="373" y="759"/>
                  </a:lnTo>
                  <a:lnTo>
                    <a:pt x="323" y="835"/>
                  </a:lnTo>
                  <a:lnTo>
                    <a:pt x="275" y="917"/>
                  </a:lnTo>
                  <a:lnTo>
                    <a:pt x="229" y="1008"/>
                  </a:lnTo>
                  <a:lnTo>
                    <a:pt x="0" y="872"/>
                  </a:lnTo>
                  <a:close/>
                </a:path>
              </a:pathLst>
            </a:custGeom>
            <a:solidFill>
              <a:srgbClr val="7a5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4610160" y="5423040"/>
              <a:ext cx="1123920" cy="487080"/>
            </a:xfrm>
            <a:custGeom>
              <a:avLst/>
              <a:gdLst/>
              <a:ahLst/>
              <a:rect l="l" t="t" r="r" b="b"/>
              <a:pathLst>
                <a:path w="2831" h="1231">
                  <a:moveTo>
                    <a:pt x="1073" y="39"/>
                  </a:moveTo>
                  <a:lnTo>
                    <a:pt x="1012" y="56"/>
                  </a:lnTo>
                  <a:lnTo>
                    <a:pt x="952" y="76"/>
                  </a:lnTo>
                  <a:lnTo>
                    <a:pt x="894" y="98"/>
                  </a:lnTo>
                  <a:lnTo>
                    <a:pt x="838" y="122"/>
                  </a:lnTo>
                  <a:lnTo>
                    <a:pt x="783" y="149"/>
                  </a:lnTo>
                  <a:lnTo>
                    <a:pt x="731" y="178"/>
                  </a:lnTo>
                  <a:lnTo>
                    <a:pt x="680" y="207"/>
                  </a:lnTo>
                  <a:lnTo>
                    <a:pt x="631" y="238"/>
                  </a:lnTo>
                  <a:lnTo>
                    <a:pt x="583" y="272"/>
                  </a:lnTo>
                  <a:lnTo>
                    <a:pt x="537" y="305"/>
                  </a:lnTo>
                  <a:lnTo>
                    <a:pt x="494" y="340"/>
                  </a:lnTo>
                  <a:lnTo>
                    <a:pt x="452" y="375"/>
                  </a:lnTo>
                  <a:lnTo>
                    <a:pt x="412" y="411"/>
                  </a:lnTo>
                  <a:lnTo>
                    <a:pt x="374" y="446"/>
                  </a:lnTo>
                  <a:lnTo>
                    <a:pt x="338" y="482"/>
                  </a:lnTo>
                  <a:lnTo>
                    <a:pt x="303" y="518"/>
                  </a:lnTo>
                  <a:lnTo>
                    <a:pt x="269" y="552"/>
                  </a:lnTo>
                  <a:lnTo>
                    <a:pt x="239" y="587"/>
                  </a:lnTo>
                  <a:lnTo>
                    <a:pt x="210" y="620"/>
                  </a:lnTo>
                  <a:lnTo>
                    <a:pt x="184" y="653"/>
                  </a:lnTo>
                  <a:lnTo>
                    <a:pt x="135" y="715"/>
                  </a:lnTo>
                  <a:lnTo>
                    <a:pt x="95" y="769"/>
                  </a:lnTo>
                  <a:lnTo>
                    <a:pt x="63" y="817"/>
                  </a:lnTo>
                  <a:lnTo>
                    <a:pt x="40" y="852"/>
                  </a:lnTo>
                  <a:lnTo>
                    <a:pt x="23" y="879"/>
                  </a:lnTo>
                  <a:lnTo>
                    <a:pt x="17" y="891"/>
                  </a:lnTo>
                  <a:lnTo>
                    <a:pt x="0" y="921"/>
                  </a:lnTo>
                  <a:lnTo>
                    <a:pt x="293" y="1094"/>
                  </a:lnTo>
                  <a:lnTo>
                    <a:pt x="309" y="1058"/>
                  </a:lnTo>
                  <a:lnTo>
                    <a:pt x="352" y="973"/>
                  </a:lnTo>
                  <a:lnTo>
                    <a:pt x="398" y="893"/>
                  </a:lnTo>
                  <a:lnTo>
                    <a:pt x="447" y="821"/>
                  </a:lnTo>
                  <a:lnTo>
                    <a:pt x="495" y="756"/>
                  </a:lnTo>
                  <a:lnTo>
                    <a:pt x="546" y="697"/>
                  </a:lnTo>
                  <a:lnTo>
                    <a:pt x="598" y="644"/>
                  </a:lnTo>
                  <a:lnTo>
                    <a:pt x="652" y="597"/>
                  </a:lnTo>
                  <a:lnTo>
                    <a:pt x="706" y="556"/>
                  </a:lnTo>
                  <a:lnTo>
                    <a:pt x="761" y="520"/>
                  </a:lnTo>
                  <a:lnTo>
                    <a:pt x="816" y="489"/>
                  </a:lnTo>
                  <a:lnTo>
                    <a:pt x="872" y="463"/>
                  </a:lnTo>
                  <a:lnTo>
                    <a:pt x="926" y="442"/>
                  </a:lnTo>
                  <a:lnTo>
                    <a:pt x="981" y="423"/>
                  </a:lnTo>
                  <a:lnTo>
                    <a:pt x="1035" y="410"/>
                  </a:lnTo>
                  <a:lnTo>
                    <a:pt x="1089" y="400"/>
                  </a:lnTo>
                  <a:lnTo>
                    <a:pt x="1141" y="392"/>
                  </a:lnTo>
                  <a:lnTo>
                    <a:pt x="1193" y="387"/>
                  </a:lnTo>
                  <a:lnTo>
                    <a:pt x="1243" y="386"/>
                  </a:lnTo>
                  <a:lnTo>
                    <a:pt x="1291" y="386"/>
                  </a:lnTo>
                  <a:lnTo>
                    <a:pt x="1337" y="388"/>
                  </a:lnTo>
                  <a:lnTo>
                    <a:pt x="1381" y="392"/>
                  </a:lnTo>
                  <a:lnTo>
                    <a:pt x="1423" y="397"/>
                  </a:lnTo>
                  <a:lnTo>
                    <a:pt x="1463" y="403"/>
                  </a:lnTo>
                  <a:lnTo>
                    <a:pt x="1499" y="411"/>
                  </a:lnTo>
                  <a:lnTo>
                    <a:pt x="1532" y="418"/>
                  </a:lnTo>
                  <a:lnTo>
                    <a:pt x="1562" y="427"/>
                  </a:lnTo>
                  <a:lnTo>
                    <a:pt x="1589" y="434"/>
                  </a:lnTo>
                  <a:lnTo>
                    <a:pt x="1612" y="441"/>
                  </a:lnTo>
                  <a:lnTo>
                    <a:pt x="1645" y="453"/>
                  </a:lnTo>
                  <a:lnTo>
                    <a:pt x="1661" y="459"/>
                  </a:lnTo>
                  <a:lnTo>
                    <a:pt x="1672" y="464"/>
                  </a:lnTo>
                  <a:lnTo>
                    <a:pt x="1684" y="462"/>
                  </a:lnTo>
                  <a:lnTo>
                    <a:pt x="1728" y="454"/>
                  </a:lnTo>
                  <a:lnTo>
                    <a:pt x="1773" y="452"/>
                  </a:lnTo>
                  <a:lnTo>
                    <a:pt x="1818" y="454"/>
                  </a:lnTo>
                  <a:lnTo>
                    <a:pt x="1861" y="462"/>
                  </a:lnTo>
                  <a:lnTo>
                    <a:pt x="1905" y="473"/>
                  </a:lnTo>
                  <a:lnTo>
                    <a:pt x="1947" y="488"/>
                  </a:lnTo>
                  <a:lnTo>
                    <a:pt x="1990" y="506"/>
                  </a:lnTo>
                  <a:lnTo>
                    <a:pt x="2031" y="529"/>
                  </a:lnTo>
                  <a:lnTo>
                    <a:pt x="2072" y="552"/>
                  </a:lnTo>
                  <a:lnTo>
                    <a:pt x="2112" y="580"/>
                  </a:lnTo>
                  <a:lnTo>
                    <a:pt x="2152" y="609"/>
                  </a:lnTo>
                  <a:lnTo>
                    <a:pt x="2189" y="640"/>
                  </a:lnTo>
                  <a:lnTo>
                    <a:pt x="2226" y="674"/>
                  </a:lnTo>
                  <a:lnTo>
                    <a:pt x="2262" y="707"/>
                  </a:lnTo>
                  <a:lnTo>
                    <a:pt x="2297" y="742"/>
                  </a:lnTo>
                  <a:lnTo>
                    <a:pt x="2329" y="778"/>
                  </a:lnTo>
                  <a:lnTo>
                    <a:pt x="2362" y="814"/>
                  </a:lnTo>
                  <a:lnTo>
                    <a:pt x="2391" y="850"/>
                  </a:lnTo>
                  <a:lnTo>
                    <a:pt x="2421" y="886"/>
                  </a:lnTo>
                  <a:lnTo>
                    <a:pt x="2447" y="921"/>
                  </a:lnTo>
                  <a:lnTo>
                    <a:pt x="2497" y="989"/>
                  </a:lnTo>
                  <a:lnTo>
                    <a:pt x="2539" y="1050"/>
                  </a:lnTo>
                  <a:lnTo>
                    <a:pt x="2573" y="1102"/>
                  </a:lnTo>
                  <a:lnTo>
                    <a:pt x="2598" y="1143"/>
                  </a:lnTo>
                  <a:lnTo>
                    <a:pt x="2614" y="1169"/>
                  </a:lnTo>
                  <a:lnTo>
                    <a:pt x="2620" y="1180"/>
                  </a:lnTo>
                  <a:lnTo>
                    <a:pt x="2648" y="1231"/>
                  </a:lnTo>
                  <a:lnTo>
                    <a:pt x="2779" y="1036"/>
                  </a:lnTo>
                  <a:lnTo>
                    <a:pt x="2791" y="1009"/>
                  </a:lnTo>
                  <a:lnTo>
                    <a:pt x="2801" y="982"/>
                  </a:lnTo>
                  <a:lnTo>
                    <a:pt x="2811" y="955"/>
                  </a:lnTo>
                  <a:lnTo>
                    <a:pt x="2817" y="931"/>
                  </a:lnTo>
                  <a:lnTo>
                    <a:pt x="2824" y="907"/>
                  </a:lnTo>
                  <a:lnTo>
                    <a:pt x="2827" y="885"/>
                  </a:lnTo>
                  <a:lnTo>
                    <a:pt x="2830" y="862"/>
                  </a:lnTo>
                  <a:lnTo>
                    <a:pt x="2831" y="841"/>
                  </a:lnTo>
                  <a:lnTo>
                    <a:pt x="2831" y="821"/>
                  </a:lnTo>
                  <a:lnTo>
                    <a:pt x="2829" y="802"/>
                  </a:lnTo>
                  <a:lnTo>
                    <a:pt x="2826" y="783"/>
                  </a:lnTo>
                  <a:lnTo>
                    <a:pt x="2821" y="766"/>
                  </a:lnTo>
                  <a:lnTo>
                    <a:pt x="2815" y="748"/>
                  </a:lnTo>
                  <a:lnTo>
                    <a:pt x="2809" y="732"/>
                  </a:lnTo>
                  <a:lnTo>
                    <a:pt x="2800" y="716"/>
                  </a:lnTo>
                  <a:lnTo>
                    <a:pt x="2791" y="701"/>
                  </a:lnTo>
                  <a:lnTo>
                    <a:pt x="2780" y="686"/>
                  </a:lnTo>
                  <a:lnTo>
                    <a:pt x="2769" y="671"/>
                  </a:lnTo>
                  <a:lnTo>
                    <a:pt x="2756" y="658"/>
                  </a:lnTo>
                  <a:lnTo>
                    <a:pt x="2744" y="644"/>
                  </a:lnTo>
                  <a:lnTo>
                    <a:pt x="2729" y="630"/>
                  </a:lnTo>
                  <a:lnTo>
                    <a:pt x="2714" y="617"/>
                  </a:lnTo>
                  <a:lnTo>
                    <a:pt x="2698" y="604"/>
                  </a:lnTo>
                  <a:lnTo>
                    <a:pt x="2682" y="592"/>
                  </a:lnTo>
                  <a:lnTo>
                    <a:pt x="2646" y="567"/>
                  </a:lnTo>
                  <a:lnTo>
                    <a:pt x="2609" y="542"/>
                  </a:lnTo>
                  <a:lnTo>
                    <a:pt x="2568" y="516"/>
                  </a:lnTo>
                  <a:lnTo>
                    <a:pt x="2526" y="491"/>
                  </a:lnTo>
                  <a:lnTo>
                    <a:pt x="2487" y="468"/>
                  </a:lnTo>
                  <a:lnTo>
                    <a:pt x="2446" y="443"/>
                  </a:lnTo>
                  <a:lnTo>
                    <a:pt x="2405" y="416"/>
                  </a:lnTo>
                  <a:lnTo>
                    <a:pt x="2362" y="388"/>
                  </a:lnTo>
                  <a:lnTo>
                    <a:pt x="2318" y="359"/>
                  </a:lnTo>
                  <a:lnTo>
                    <a:pt x="2275" y="326"/>
                  </a:lnTo>
                  <a:lnTo>
                    <a:pt x="2230" y="292"/>
                  </a:lnTo>
                  <a:lnTo>
                    <a:pt x="2184" y="254"/>
                  </a:lnTo>
                  <a:lnTo>
                    <a:pt x="2148" y="233"/>
                  </a:lnTo>
                  <a:lnTo>
                    <a:pt x="2112" y="212"/>
                  </a:lnTo>
                  <a:lnTo>
                    <a:pt x="2077" y="192"/>
                  </a:lnTo>
                  <a:lnTo>
                    <a:pt x="2041" y="174"/>
                  </a:lnTo>
                  <a:lnTo>
                    <a:pt x="2006" y="156"/>
                  </a:lnTo>
                  <a:lnTo>
                    <a:pt x="1970" y="139"/>
                  </a:lnTo>
                  <a:lnTo>
                    <a:pt x="1936" y="123"/>
                  </a:lnTo>
                  <a:lnTo>
                    <a:pt x="1901" y="108"/>
                  </a:lnTo>
                  <a:lnTo>
                    <a:pt x="1865" y="94"/>
                  </a:lnTo>
                  <a:lnTo>
                    <a:pt x="1830" y="82"/>
                  </a:lnTo>
                  <a:lnTo>
                    <a:pt x="1795" y="70"/>
                  </a:lnTo>
                  <a:lnTo>
                    <a:pt x="1761" y="58"/>
                  </a:lnTo>
                  <a:lnTo>
                    <a:pt x="1725" y="49"/>
                  </a:lnTo>
                  <a:lnTo>
                    <a:pt x="1690" y="39"/>
                  </a:lnTo>
                  <a:lnTo>
                    <a:pt x="1655" y="31"/>
                  </a:lnTo>
                  <a:lnTo>
                    <a:pt x="1620" y="24"/>
                  </a:lnTo>
                  <a:lnTo>
                    <a:pt x="1586" y="18"/>
                  </a:lnTo>
                  <a:lnTo>
                    <a:pt x="1551" y="13"/>
                  </a:lnTo>
                  <a:lnTo>
                    <a:pt x="1516" y="8"/>
                  </a:lnTo>
                  <a:lnTo>
                    <a:pt x="1482" y="4"/>
                  </a:lnTo>
                  <a:lnTo>
                    <a:pt x="1448" y="3"/>
                  </a:lnTo>
                  <a:lnTo>
                    <a:pt x="1413" y="0"/>
                  </a:lnTo>
                  <a:lnTo>
                    <a:pt x="1378" y="0"/>
                  </a:lnTo>
                  <a:lnTo>
                    <a:pt x="1345" y="0"/>
                  </a:lnTo>
                  <a:lnTo>
                    <a:pt x="1310" y="1"/>
                  </a:lnTo>
                  <a:lnTo>
                    <a:pt x="1276" y="4"/>
                  </a:lnTo>
                  <a:lnTo>
                    <a:pt x="1242" y="8"/>
                  </a:lnTo>
                  <a:lnTo>
                    <a:pt x="1208" y="11"/>
                  </a:lnTo>
                  <a:lnTo>
                    <a:pt x="1175" y="18"/>
                  </a:lnTo>
                  <a:lnTo>
                    <a:pt x="1140" y="24"/>
                  </a:lnTo>
                  <a:lnTo>
                    <a:pt x="1106" y="30"/>
                  </a:lnTo>
                  <a:lnTo>
                    <a:pt x="1073" y="39"/>
                  </a:lnTo>
                  <a:close/>
                  <a:moveTo>
                    <a:pt x="1091" y="107"/>
                  </a:moveTo>
                  <a:lnTo>
                    <a:pt x="1122" y="99"/>
                  </a:lnTo>
                  <a:lnTo>
                    <a:pt x="1155" y="93"/>
                  </a:lnTo>
                  <a:lnTo>
                    <a:pt x="1187" y="87"/>
                  </a:lnTo>
                  <a:lnTo>
                    <a:pt x="1219" y="82"/>
                  </a:lnTo>
                  <a:lnTo>
                    <a:pt x="1250" y="78"/>
                  </a:lnTo>
                  <a:lnTo>
                    <a:pt x="1283" y="76"/>
                  </a:lnTo>
                  <a:lnTo>
                    <a:pt x="1315" y="73"/>
                  </a:lnTo>
                  <a:lnTo>
                    <a:pt x="1348" y="72"/>
                  </a:lnTo>
                  <a:lnTo>
                    <a:pt x="1381" y="71"/>
                  </a:lnTo>
                  <a:lnTo>
                    <a:pt x="1413" y="72"/>
                  </a:lnTo>
                  <a:lnTo>
                    <a:pt x="1445" y="73"/>
                  </a:lnTo>
                  <a:lnTo>
                    <a:pt x="1477" y="76"/>
                  </a:lnTo>
                  <a:lnTo>
                    <a:pt x="1511" y="80"/>
                  </a:lnTo>
                  <a:lnTo>
                    <a:pt x="1543" y="83"/>
                  </a:lnTo>
                  <a:lnTo>
                    <a:pt x="1577" y="88"/>
                  </a:lnTo>
                  <a:lnTo>
                    <a:pt x="1609" y="94"/>
                  </a:lnTo>
                  <a:lnTo>
                    <a:pt x="1643" y="101"/>
                  </a:lnTo>
                  <a:lnTo>
                    <a:pt x="1675" y="109"/>
                  </a:lnTo>
                  <a:lnTo>
                    <a:pt x="1708" y="118"/>
                  </a:lnTo>
                  <a:lnTo>
                    <a:pt x="1741" y="127"/>
                  </a:lnTo>
                  <a:lnTo>
                    <a:pt x="1774" y="138"/>
                  </a:lnTo>
                  <a:lnTo>
                    <a:pt x="1808" y="149"/>
                  </a:lnTo>
                  <a:lnTo>
                    <a:pt x="1841" y="161"/>
                  </a:lnTo>
                  <a:lnTo>
                    <a:pt x="1874" y="174"/>
                  </a:lnTo>
                  <a:lnTo>
                    <a:pt x="1907" y="189"/>
                  </a:lnTo>
                  <a:lnTo>
                    <a:pt x="1941" y="204"/>
                  </a:lnTo>
                  <a:lnTo>
                    <a:pt x="1974" y="220"/>
                  </a:lnTo>
                  <a:lnTo>
                    <a:pt x="2008" y="236"/>
                  </a:lnTo>
                  <a:lnTo>
                    <a:pt x="2041" y="253"/>
                  </a:lnTo>
                  <a:lnTo>
                    <a:pt x="2075" y="272"/>
                  </a:lnTo>
                  <a:lnTo>
                    <a:pt x="2108" y="292"/>
                  </a:lnTo>
                  <a:lnTo>
                    <a:pt x="2142" y="312"/>
                  </a:lnTo>
                  <a:lnTo>
                    <a:pt x="2188" y="350"/>
                  </a:lnTo>
                  <a:lnTo>
                    <a:pt x="2234" y="385"/>
                  </a:lnTo>
                  <a:lnTo>
                    <a:pt x="2280" y="418"/>
                  </a:lnTo>
                  <a:lnTo>
                    <a:pt x="2324" y="448"/>
                  </a:lnTo>
                  <a:lnTo>
                    <a:pt x="2368" y="477"/>
                  </a:lnTo>
                  <a:lnTo>
                    <a:pt x="2410" y="504"/>
                  </a:lnTo>
                  <a:lnTo>
                    <a:pt x="2450" y="529"/>
                  </a:lnTo>
                  <a:lnTo>
                    <a:pt x="2490" y="552"/>
                  </a:lnTo>
                  <a:lnTo>
                    <a:pt x="2549" y="589"/>
                  </a:lnTo>
                  <a:lnTo>
                    <a:pt x="2604" y="623"/>
                  </a:lnTo>
                  <a:lnTo>
                    <a:pt x="2627" y="640"/>
                  </a:lnTo>
                  <a:lnTo>
                    <a:pt x="2650" y="656"/>
                  </a:lnTo>
                  <a:lnTo>
                    <a:pt x="2671" y="673"/>
                  </a:lnTo>
                  <a:lnTo>
                    <a:pt x="2689" y="689"/>
                  </a:lnTo>
                  <a:lnTo>
                    <a:pt x="2706" y="705"/>
                  </a:lnTo>
                  <a:lnTo>
                    <a:pt x="2720" y="721"/>
                  </a:lnTo>
                  <a:lnTo>
                    <a:pt x="2733" y="738"/>
                  </a:lnTo>
                  <a:lnTo>
                    <a:pt x="2743" y="757"/>
                  </a:lnTo>
                  <a:lnTo>
                    <a:pt x="2750" y="776"/>
                  </a:lnTo>
                  <a:lnTo>
                    <a:pt x="2756" y="795"/>
                  </a:lnTo>
                  <a:lnTo>
                    <a:pt x="2760" y="815"/>
                  </a:lnTo>
                  <a:lnTo>
                    <a:pt x="2761" y="838"/>
                  </a:lnTo>
                  <a:lnTo>
                    <a:pt x="2760" y="855"/>
                  </a:lnTo>
                  <a:lnTo>
                    <a:pt x="2759" y="872"/>
                  </a:lnTo>
                  <a:lnTo>
                    <a:pt x="2755" y="892"/>
                  </a:lnTo>
                  <a:lnTo>
                    <a:pt x="2750" y="912"/>
                  </a:lnTo>
                  <a:lnTo>
                    <a:pt x="2744" y="933"/>
                  </a:lnTo>
                  <a:lnTo>
                    <a:pt x="2737" y="954"/>
                  </a:lnTo>
                  <a:lnTo>
                    <a:pt x="2728" y="978"/>
                  </a:lnTo>
                  <a:lnTo>
                    <a:pt x="2717" y="1001"/>
                  </a:lnTo>
                  <a:lnTo>
                    <a:pt x="2711" y="1011"/>
                  </a:lnTo>
                  <a:lnTo>
                    <a:pt x="2696" y="1034"/>
                  </a:lnTo>
                  <a:lnTo>
                    <a:pt x="2675" y="1063"/>
                  </a:lnTo>
                  <a:lnTo>
                    <a:pt x="2653" y="1096"/>
                  </a:lnTo>
                  <a:lnTo>
                    <a:pt x="2630" y="1057"/>
                  </a:lnTo>
                  <a:lnTo>
                    <a:pt x="2599" y="1010"/>
                  </a:lnTo>
                  <a:lnTo>
                    <a:pt x="2563" y="955"/>
                  </a:lnTo>
                  <a:lnTo>
                    <a:pt x="2521" y="897"/>
                  </a:lnTo>
                  <a:lnTo>
                    <a:pt x="2497" y="866"/>
                  </a:lnTo>
                  <a:lnTo>
                    <a:pt x="2472" y="834"/>
                  </a:lnTo>
                  <a:lnTo>
                    <a:pt x="2446" y="802"/>
                  </a:lnTo>
                  <a:lnTo>
                    <a:pt x="2419" y="769"/>
                  </a:lnTo>
                  <a:lnTo>
                    <a:pt x="2390" y="737"/>
                  </a:lnTo>
                  <a:lnTo>
                    <a:pt x="2360" y="705"/>
                  </a:lnTo>
                  <a:lnTo>
                    <a:pt x="2331" y="674"/>
                  </a:lnTo>
                  <a:lnTo>
                    <a:pt x="2298" y="642"/>
                  </a:lnTo>
                  <a:lnTo>
                    <a:pt x="2266" y="612"/>
                  </a:lnTo>
                  <a:lnTo>
                    <a:pt x="2231" y="582"/>
                  </a:lnTo>
                  <a:lnTo>
                    <a:pt x="2198" y="553"/>
                  </a:lnTo>
                  <a:lnTo>
                    <a:pt x="2162" y="527"/>
                  </a:lnTo>
                  <a:lnTo>
                    <a:pt x="2124" y="501"/>
                  </a:lnTo>
                  <a:lnTo>
                    <a:pt x="2087" y="479"/>
                  </a:lnTo>
                  <a:lnTo>
                    <a:pt x="2050" y="457"/>
                  </a:lnTo>
                  <a:lnTo>
                    <a:pt x="2011" y="438"/>
                  </a:lnTo>
                  <a:lnTo>
                    <a:pt x="1972" y="421"/>
                  </a:lnTo>
                  <a:lnTo>
                    <a:pt x="1932" y="407"/>
                  </a:lnTo>
                  <a:lnTo>
                    <a:pt x="1891" y="396"/>
                  </a:lnTo>
                  <a:lnTo>
                    <a:pt x="1850" y="388"/>
                  </a:lnTo>
                  <a:lnTo>
                    <a:pt x="1808" y="384"/>
                  </a:lnTo>
                  <a:lnTo>
                    <a:pt x="1766" y="382"/>
                  </a:lnTo>
                  <a:lnTo>
                    <a:pt x="1723" y="384"/>
                  </a:lnTo>
                  <a:lnTo>
                    <a:pt x="1680" y="390"/>
                  </a:lnTo>
                  <a:lnTo>
                    <a:pt x="1660" y="382"/>
                  </a:lnTo>
                  <a:lnTo>
                    <a:pt x="1622" y="370"/>
                  </a:lnTo>
                  <a:lnTo>
                    <a:pt x="1597" y="364"/>
                  </a:lnTo>
                  <a:lnTo>
                    <a:pt x="1568" y="356"/>
                  </a:lnTo>
                  <a:lnTo>
                    <a:pt x="1536" y="349"/>
                  </a:lnTo>
                  <a:lnTo>
                    <a:pt x="1500" y="341"/>
                  </a:lnTo>
                  <a:lnTo>
                    <a:pt x="1461" y="334"/>
                  </a:lnTo>
                  <a:lnTo>
                    <a:pt x="1420" y="328"/>
                  </a:lnTo>
                  <a:lnTo>
                    <a:pt x="1377" y="324"/>
                  </a:lnTo>
                  <a:lnTo>
                    <a:pt x="1331" y="320"/>
                  </a:lnTo>
                  <a:lnTo>
                    <a:pt x="1283" y="319"/>
                  </a:lnTo>
                  <a:lnTo>
                    <a:pt x="1232" y="319"/>
                  </a:lnTo>
                  <a:lnTo>
                    <a:pt x="1179" y="321"/>
                  </a:lnTo>
                  <a:lnTo>
                    <a:pt x="1127" y="326"/>
                  </a:lnTo>
                  <a:lnTo>
                    <a:pt x="1073" y="335"/>
                  </a:lnTo>
                  <a:lnTo>
                    <a:pt x="1017" y="346"/>
                  </a:lnTo>
                  <a:lnTo>
                    <a:pt x="961" y="360"/>
                  </a:lnTo>
                  <a:lnTo>
                    <a:pt x="904" y="379"/>
                  </a:lnTo>
                  <a:lnTo>
                    <a:pt x="847" y="401"/>
                  </a:lnTo>
                  <a:lnTo>
                    <a:pt x="790" y="428"/>
                  </a:lnTo>
                  <a:lnTo>
                    <a:pt x="732" y="459"/>
                  </a:lnTo>
                  <a:lnTo>
                    <a:pt x="677" y="495"/>
                  </a:lnTo>
                  <a:lnTo>
                    <a:pt x="619" y="536"/>
                  </a:lnTo>
                  <a:lnTo>
                    <a:pt x="565" y="583"/>
                  </a:lnTo>
                  <a:lnTo>
                    <a:pt x="510" y="635"/>
                  </a:lnTo>
                  <a:lnTo>
                    <a:pt x="458" y="694"/>
                  </a:lnTo>
                  <a:lnTo>
                    <a:pt x="406" y="759"/>
                  </a:lnTo>
                  <a:lnTo>
                    <a:pt x="356" y="830"/>
                  </a:lnTo>
                  <a:lnTo>
                    <a:pt x="309" y="908"/>
                  </a:lnTo>
                  <a:lnTo>
                    <a:pt x="263" y="994"/>
                  </a:lnTo>
                  <a:lnTo>
                    <a:pt x="226" y="973"/>
                  </a:lnTo>
                  <a:lnTo>
                    <a:pt x="180" y="946"/>
                  </a:lnTo>
                  <a:lnTo>
                    <a:pt x="134" y="918"/>
                  </a:lnTo>
                  <a:lnTo>
                    <a:pt x="97" y="896"/>
                  </a:lnTo>
                  <a:lnTo>
                    <a:pt x="115" y="867"/>
                  </a:lnTo>
                  <a:lnTo>
                    <a:pt x="140" y="830"/>
                  </a:lnTo>
                  <a:lnTo>
                    <a:pt x="171" y="787"/>
                  </a:lnTo>
                  <a:lnTo>
                    <a:pt x="208" y="738"/>
                  </a:lnTo>
                  <a:lnTo>
                    <a:pt x="252" y="684"/>
                  </a:lnTo>
                  <a:lnTo>
                    <a:pt x="302" y="627"/>
                  </a:lnTo>
                  <a:lnTo>
                    <a:pt x="328" y="597"/>
                  </a:lnTo>
                  <a:lnTo>
                    <a:pt x="356" y="567"/>
                  </a:lnTo>
                  <a:lnTo>
                    <a:pt x="386" y="536"/>
                  </a:lnTo>
                  <a:lnTo>
                    <a:pt x="417" y="506"/>
                  </a:lnTo>
                  <a:lnTo>
                    <a:pt x="449" y="475"/>
                  </a:lnTo>
                  <a:lnTo>
                    <a:pt x="483" y="444"/>
                  </a:lnTo>
                  <a:lnTo>
                    <a:pt x="518" y="415"/>
                  </a:lnTo>
                  <a:lnTo>
                    <a:pt x="554" y="385"/>
                  </a:lnTo>
                  <a:lnTo>
                    <a:pt x="592" y="355"/>
                  </a:lnTo>
                  <a:lnTo>
                    <a:pt x="631" y="326"/>
                  </a:lnTo>
                  <a:lnTo>
                    <a:pt x="672" y="299"/>
                  </a:lnTo>
                  <a:lnTo>
                    <a:pt x="713" y="272"/>
                  </a:lnTo>
                  <a:lnTo>
                    <a:pt x="756" y="246"/>
                  </a:lnTo>
                  <a:lnTo>
                    <a:pt x="800" y="221"/>
                  </a:lnTo>
                  <a:lnTo>
                    <a:pt x="845" y="199"/>
                  </a:lnTo>
                  <a:lnTo>
                    <a:pt x="893" y="176"/>
                  </a:lnTo>
                  <a:lnTo>
                    <a:pt x="940" y="156"/>
                  </a:lnTo>
                  <a:lnTo>
                    <a:pt x="989" y="138"/>
                  </a:lnTo>
                  <a:lnTo>
                    <a:pt x="1039" y="122"/>
                  </a:lnTo>
                  <a:lnTo>
                    <a:pt x="1091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5299200" y="5140440"/>
              <a:ext cx="128520" cy="412560"/>
            </a:xfrm>
            <a:custGeom>
              <a:avLst/>
              <a:gdLst/>
              <a:ahLst/>
              <a:rect l="l" t="t" r="r" b="b"/>
              <a:pathLst>
                <a:path w="328" h="1041">
                  <a:moveTo>
                    <a:pt x="134" y="1"/>
                  </a:moveTo>
                  <a:lnTo>
                    <a:pt x="132" y="8"/>
                  </a:lnTo>
                  <a:lnTo>
                    <a:pt x="125" y="26"/>
                  </a:lnTo>
                  <a:lnTo>
                    <a:pt x="116" y="55"/>
                  </a:lnTo>
                  <a:lnTo>
                    <a:pt x="103" y="95"/>
                  </a:lnTo>
                  <a:lnTo>
                    <a:pt x="88" y="143"/>
                  </a:lnTo>
                  <a:lnTo>
                    <a:pt x="73" y="199"/>
                  </a:lnTo>
                  <a:lnTo>
                    <a:pt x="57" y="261"/>
                  </a:lnTo>
                  <a:lnTo>
                    <a:pt x="42" y="329"/>
                  </a:lnTo>
                  <a:lnTo>
                    <a:pt x="35" y="365"/>
                  </a:lnTo>
                  <a:lnTo>
                    <a:pt x="29" y="401"/>
                  </a:lnTo>
                  <a:lnTo>
                    <a:pt x="22" y="439"/>
                  </a:lnTo>
                  <a:lnTo>
                    <a:pt x="16" y="477"/>
                  </a:lnTo>
                  <a:lnTo>
                    <a:pt x="11" y="516"/>
                  </a:lnTo>
                  <a:lnTo>
                    <a:pt x="8" y="555"/>
                  </a:lnTo>
                  <a:lnTo>
                    <a:pt x="4" y="596"/>
                  </a:lnTo>
                  <a:lnTo>
                    <a:pt x="1" y="635"/>
                  </a:lnTo>
                  <a:lnTo>
                    <a:pt x="0" y="675"/>
                  </a:lnTo>
                  <a:lnTo>
                    <a:pt x="0" y="715"/>
                  </a:lnTo>
                  <a:lnTo>
                    <a:pt x="1" y="755"/>
                  </a:lnTo>
                  <a:lnTo>
                    <a:pt x="4" y="794"/>
                  </a:lnTo>
                  <a:lnTo>
                    <a:pt x="8" y="833"/>
                  </a:lnTo>
                  <a:lnTo>
                    <a:pt x="12" y="871"/>
                  </a:lnTo>
                  <a:lnTo>
                    <a:pt x="20" y="908"/>
                  </a:lnTo>
                  <a:lnTo>
                    <a:pt x="30" y="944"/>
                  </a:lnTo>
                  <a:lnTo>
                    <a:pt x="56" y="1041"/>
                  </a:lnTo>
                  <a:lnTo>
                    <a:pt x="143" y="1041"/>
                  </a:lnTo>
                  <a:lnTo>
                    <a:pt x="143" y="1032"/>
                  </a:lnTo>
                  <a:lnTo>
                    <a:pt x="140" y="1006"/>
                  </a:lnTo>
                  <a:lnTo>
                    <a:pt x="138" y="965"/>
                  </a:lnTo>
                  <a:lnTo>
                    <a:pt x="137" y="913"/>
                  </a:lnTo>
                  <a:lnTo>
                    <a:pt x="134" y="849"/>
                  </a:lnTo>
                  <a:lnTo>
                    <a:pt x="134" y="777"/>
                  </a:lnTo>
                  <a:lnTo>
                    <a:pt x="135" y="699"/>
                  </a:lnTo>
                  <a:lnTo>
                    <a:pt x="140" y="616"/>
                  </a:lnTo>
                  <a:lnTo>
                    <a:pt x="143" y="572"/>
                  </a:lnTo>
                  <a:lnTo>
                    <a:pt x="147" y="530"/>
                  </a:lnTo>
                  <a:lnTo>
                    <a:pt x="152" y="487"/>
                  </a:lnTo>
                  <a:lnTo>
                    <a:pt x="158" y="443"/>
                  </a:lnTo>
                  <a:lnTo>
                    <a:pt x="164" y="401"/>
                  </a:lnTo>
                  <a:lnTo>
                    <a:pt x="171" y="359"/>
                  </a:lnTo>
                  <a:lnTo>
                    <a:pt x="181" y="318"/>
                  </a:lnTo>
                  <a:lnTo>
                    <a:pt x="191" y="278"/>
                  </a:lnTo>
                  <a:lnTo>
                    <a:pt x="202" y="240"/>
                  </a:lnTo>
                  <a:lnTo>
                    <a:pt x="216" y="202"/>
                  </a:lnTo>
                  <a:lnTo>
                    <a:pt x="230" y="168"/>
                  </a:lnTo>
                  <a:lnTo>
                    <a:pt x="246" y="134"/>
                  </a:lnTo>
                  <a:lnTo>
                    <a:pt x="265" y="104"/>
                  </a:lnTo>
                  <a:lnTo>
                    <a:pt x="283" y="77"/>
                  </a:lnTo>
                  <a:lnTo>
                    <a:pt x="304" y="52"/>
                  </a:lnTo>
                  <a:lnTo>
                    <a:pt x="328" y="30"/>
                  </a:lnTo>
                  <a:lnTo>
                    <a:pt x="320" y="29"/>
                  </a:lnTo>
                  <a:lnTo>
                    <a:pt x="302" y="24"/>
                  </a:lnTo>
                  <a:lnTo>
                    <a:pt x="276" y="19"/>
                  </a:lnTo>
                  <a:lnTo>
                    <a:pt x="245" y="13"/>
                  </a:lnTo>
                  <a:lnTo>
                    <a:pt x="211" y="6"/>
                  </a:lnTo>
                  <a:lnTo>
                    <a:pt x="179" y="1"/>
                  </a:lnTo>
                  <a:lnTo>
                    <a:pt x="165" y="0"/>
                  </a:lnTo>
                  <a:lnTo>
                    <a:pt x="153" y="0"/>
                  </a:lnTo>
                  <a:lnTo>
                    <a:pt x="143" y="0"/>
                  </a:lnTo>
                  <a:lnTo>
                    <a:pt x="134" y="1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5284800" y="5126040"/>
              <a:ext cx="174600" cy="441360"/>
            </a:xfrm>
            <a:custGeom>
              <a:avLst/>
              <a:gdLst/>
              <a:ahLst/>
              <a:rect l="l" t="t" r="r" b="b"/>
              <a:pathLst>
                <a:path w="441" h="1113">
                  <a:moveTo>
                    <a:pt x="161" y="3"/>
                  </a:moveTo>
                  <a:lnTo>
                    <a:pt x="144" y="8"/>
                  </a:lnTo>
                  <a:lnTo>
                    <a:pt x="137" y="25"/>
                  </a:lnTo>
                  <a:lnTo>
                    <a:pt x="133" y="35"/>
                  </a:lnTo>
                  <a:lnTo>
                    <a:pt x="125" y="57"/>
                  </a:lnTo>
                  <a:lnTo>
                    <a:pt x="114" y="88"/>
                  </a:lnTo>
                  <a:lnTo>
                    <a:pt x="102" y="131"/>
                  </a:lnTo>
                  <a:lnTo>
                    <a:pt x="87" y="180"/>
                  </a:lnTo>
                  <a:lnTo>
                    <a:pt x="71" y="237"/>
                  </a:lnTo>
                  <a:lnTo>
                    <a:pt x="56" y="300"/>
                  </a:lnTo>
                  <a:lnTo>
                    <a:pt x="41" y="369"/>
                  </a:lnTo>
                  <a:lnTo>
                    <a:pt x="34" y="406"/>
                  </a:lnTo>
                  <a:lnTo>
                    <a:pt x="26" y="442"/>
                  </a:lnTo>
                  <a:lnTo>
                    <a:pt x="20" y="480"/>
                  </a:lnTo>
                  <a:lnTo>
                    <a:pt x="15" y="519"/>
                  </a:lnTo>
                  <a:lnTo>
                    <a:pt x="10" y="557"/>
                  </a:lnTo>
                  <a:lnTo>
                    <a:pt x="6" y="597"/>
                  </a:lnTo>
                  <a:lnTo>
                    <a:pt x="3" y="638"/>
                  </a:lnTo>
                  <a:lnTo>
                    <a:pt x="1" y="678"/>
                  </a:lnTo>
                  <a:lnTo>
                    <a:pt x="0" y="717"/>
                  </a:lnTo>
                  <a:lnTo>
                    <a:pt x="0" y="758"/>
                  </a:lnTo>
                  <a:lnTo>
                    <a:pt x="1" y="798"/>
                  </a:lnTo>
                  <a:lnTo>
                    <a:pt x="4" y="838"/>
                  </a:lnTo>
                  <a:lnTo>
                    <a:pt x="9" y="876"/>
                  </a:lnTo>
                  <a:lnTo>
                    <a:pt x="14" y="915"/>
                  </a:lnTo>
                  <a:lnTo>
                    <a:pt x="21" y="953"/>
                  </a:lnTo>
                  <a:lnTo>
                    <a:pt x="31" y="990"/>
                  </a:lnTo>
                  <a:lnTo>
                    <a:pt x="65" y="1113"/>
                  </a:lnTo>
                  <a:lnTo>
                    <a:pt x="219" y="1113"/>
                  </a:lnTo>
                  <a:lnTo>
                    <a:pt x="215" y="1073"/>
                  </a:lnTo>
                  <a:lnTo>
                    <a:pt x="214" y="1064"/>
                  </a:lnTo>
                  <a:lnTo>
                    <a:pt x="212" y="1037"/>
                  </a:lnTo>
                  <a:lnTo>
                    <a:pt x="210" y="998"/>
                  </a:lnTo>
                  <a:lnTo>
                    <a:pt x="207" y="946"/>
                  </a:lnTo>
                  <a:lnTo>
                    <a:pt x="206" y="882"/>
                  </a:lnTo>
                  <a:lnTo>
                    <a:pt x="206" y="813"/>
                  </a:lnTo>
                  <a:lnTo>
                    <a:pt x="207" y="736"/>
                  </a:lnTo>
                  <a:lnTo>
                    <a:pt x="211" y="655"/>
                  </a:lnTo>
                  <a:lnTo>
                    <a:pt x="214" y="613"/>
                  </a:lnTo>
                  <a:lnTo>
                    <a:pt x="217" y="572"/>
                  </a:lnTo>
                  <a:lnTo>
                    <a:pt x="222" y="530"/>
                  </a:lnTo>
                  <a:lnTo>
                    <a:pt x="227" y="489"/>
                  </a:lnTo>
                  <a:lnTo>
                    <a:pt x="233" y="447"/>
                  </a:lnTo>
                  <a:lnTo>
                    <a:pt x="241" y="407"/>
                  </a:lnTo>
                  <a:lnTo>
                    <a:pt x="250" y="367"/>
                  </a:lnTo>
                  <a:lnTo>
                    <a:pt x="260" y="329"/>
                  </a:lnTo>
                  <a:lnTo>
                    <a:pt x="270" y="292"/>
                  </a:lnTo>
                  <a:lnTo>
                    <a:pt x="282" y="257"/>
                  </a:lnTo>
                  <a:lnTo>
                    <a:pt x="296" y="224"/>
                  </a:lnTo>
                  <a:lnTo>
                    <a:pt x="310" y="193"/>
                  </a:lnTo>
                  <a:lnTo>
                    <a:pt x="327" y="163"/>
                  </a:lnTo>
                  <a:lnTo>
                    <a:pt x="345" y="137"/>
                  </a:lnTo>
                  <a:lnTo>
                    <a:pt x="365" y="114"/>
                  </a:lnTo>
                  <a:lnTo>
                    <a:pt x="386" y="93"/>
                  </a:lnTo>
                  <a:lnTo>
                    <a:pt x="441" y="49"/>
                  </a:lnTo>
                  <a:lnTo>
                    <a:pt x="371" y="31"/>
                  </a:lnTo>
                  <a:lnTo>
                    <a:pt x="350" y="26"/>
                  </a:lnTo>
                  <a:lnTo>
                    <a:pt x="323" y="20"/>
                  </a:lnTo>
                  <a:lnTo>
                    <a:pt x="293" y="14"/>
                  </a:lnTo>
                  <a:lnTo>
                    <a:pt x="262" y="9"/>
                  </a:lnTo>
                  <a:lnTo>
                    <a:pt x="232" y="4"/>
                  </a:lnTo>
                  <a:lnTo>
                    <a:pt x="204" y="1"/>
                  </a:lnTo>
                  <a:lnTo>
                    <a:pt x="191" y="0"/>
                  </a:lnTo>
                  <a:lnTo>
                    <a:pt x="180" y="0"/>
                  </a:lnTo>
                  <a:lnTo>
                    <a:pt x="169" y="1"/>
                  </a:lnTo>
                  <a:lnTo>
                    <a:pt x="161" y="3"/>
                  </a:lnTo>
                  <a:close/>
                  <a:moveTo>
                    <a:pt x="99" y="972"/>
                  </a:moveTo>
                  <a:lnTo>
                    <a:pt x="93" y="943"/>
                  </a:lnTo>
                  <a:lnTo>
                    <a:pt x="87" y="915"/>
                  </a:lnTo>
                  <a:lnTo>
                    <a:pt x="82" y="886"/>
                  </a:lnTo>
                  <a:lnTo>
                    <a:pt x="78" y="856"/>
                  </a:lnTo>
                  <a:lnTo>
                    <a:pt x="75" y="827"/>
                  </a:lnTo>
                  <a:lnTo>
                    <a:pt x="73" y="797"/>
                  </a:lnTo>
                  <a:lnTo>
                    <a:pt x="72" y="766"/>
                  </a:lnTo>
                  <a:lnTo>
                    <a:pt x="72" y="736"/>
                  </a:lnTo>
                  <a:lnTo>
                    <a:pt x="73" y="679"/>
                  </a:lnTo>
                  <a:lnTo>
                    <a:pt x="76" y="623"/>
                  </a:lnTo>
                  <a:lnTo>
                    <a:pt x="81" y="568"/>
                  </a:lnTo>
                  <a:lnTo>
                    <a:pt x="88" y="514"/>
                  </a:lnTo>
                  <a:lnTo>
                    <a:pt x="96" y="461"/>
                  </a:lnTo>
                  <a:lnTo>
                    <a:pt x="106" y="410"/>
                  </a:lnTo>
                  <a:lnTo>
                    <a:pt x="116" y="360"/>
                  </a:lnTo>
                  <a:lnTo>
                    <a:pt x="125" y="313"/>
                  </a:lnTo>
                  <a:lnTo>
                    <a:pt x="137" y="269"/>
                  </a:lnTo>
                  <a:lnTo>
                    <a:pt x="148" y="229"/>
                  </a:lnTo>
                  <a:lnTo>
                    <a:pt x="158" y="191"/>
                  </a:lnTo>
                  <a:lnTo>
                    <a:pt x="168" y="159"/>
                  </a:lnTo>
                  <a:lnTo>
                    <a:pt x="185" y="106"/>
                  </a:lnTo>
                  <a:lnTo>
                    <a:pt x="196" y="72"/>
                  </a:lnTo>
                  <a:lnTo>
                    <a:pt x="216" y="75"/>
                  </a:lnTo>
                  <a:lnTo>
                    <a:pt x="242" y="78"/>
                  </a:lnTo>
                  <a:lnTo>
                    <a:pt x="272" y="83"/>
                  </a:lnTo>
                  <a:lnTo>
                    <a:pt x="304" y="90"/>
                  </a:lnTo>
                  <a:lnTo>
                    <a:pt x="292" y="107"/>
                  </a:lnTo>
                  <a:lnTo>
                    <a:pt x="279" y="124"/>
                  </a:lnTo>
                  <a:lnTo>
                    <a:pt x="268" y="142"/>
                  </a:lnTo>
                  <a:lnTo>
                    <a:pt x="257" y="162"/>
                  </a:lnTo>
                  <a:lnTo>
                    <a:pt x="247" y="181"/>
                  </a:lnTo>
                  <a:lnTo>
                    <a:pt x="237" y="201"/>
                  </a:lnTo>
                  <a:lnTo>
                    <a:pt x="229" y="222"/>
                  </a:lnTo>
                  <a:lnTo>
                    <a:pt x="220" y="245"/>
                  </a:lnTo>
                  <a:lnTo>
                    <a:pt x="211" y="267"/>
                  </a:lnTo>
                  <a:lnTo>
                    <a:pt x="204" y="291"/>
                  </a:lnTo>
                  <a:lnTo>
                    <a:pt x="196" y="314"/>
                  </a:lnTo>
                  <a:lnTo>
                    <a:pt x="190" y="338"/>
                  </a:lnTo>
                  <a:lnTo>
                    <a:pt x="178" y="387"/>
                  </a:lnTo>
                  <a:lnTo>
                    <a:pt x="168" y="437"/>
                  </a:lnTo>
                  <a:lnTo>
                    <a:pt x="159" y="489"/>
                  </a:lnTo>
                  <a:lnTo>
                    <a:pt x="152" y="540"/>
                  </a:lnTo>
                  <a:lnTo>
                    <a:pt x="145" y="592"/>
                  </a:lnTo>
                  <a:lnTo>
                    <a:pt x="142" y="643"/>
                  </a:lnTo>
                  <a:lnTo>
                    <a:pt x="138" y="694"/>
                  </a:lnTo>
                  <a:lnTo>
                    <a:pt x="137" y="742"/>
                  </a:lnTo>
                  <a:lnTo>
                    <a:pt x="135" y="791"/>
                  </a:lnTo>
                  <a:lnTo>
                    <a:pt x="134" y="835"/>
                  </a:lnTo>
                  <a:lnTo>
                    <a:pt x="134" y="871"/>
                  </a:lnTo>
                  <a:lnTo>
                    <a:pt x="135" y="905"/>
                  </a:lnTo>
                  <a:lnTo>
                    <a:pt x="135" y="934"/>
                  </a:lnTo>
                  <a:lnTo>
                    <a:pt x="137" y="962"/>
                  </a:lnTo>
                  <a:lnTo>
                    <a:pt x="138" y="985"/>
                  </a:lnTo>
                  <a:lnTo>
                    <a:pt x="139" y="1006"/>
                  </a:lnTo>
                  <a:lnTo>
                    <a:pt x="140" y="1025"/>
                  </a:lnTo>
                  <a:lnTo>
                    <a:pt x="142" y="1041"/>
                  </a:lnTo>
                  <a:lnTo>
                    <a:pt x="129" y="1041"/>
                  </a:lnTo>
                  <a:lnTo>
                    <a:pt x="119" y="1041"/>
                  </a:lnTo>
                  <a:lnTo>
                    <a:pt x="113" y="1019"/>
                  </a:lnTo>
                  <a:lnTo>
                    <a:pt x="107" y="997"/>
                  </a:lnTo>
                  <a:lnTo>
                    <a:pt x="102" y="979"/>
                  </a:lnTo>
                  <a:lnTo>
                    <a:pt x="99" y="9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5342040" y="5146560"/>
              <a:ext cx="142920" cy="422280"/>
            </a:xfrm>
            <a:custGeom>
              <a:avLst/>
              <a:gdLst/>
              <a:ahLst/>
              <a:rect l="l" t="t" r="r" b="b"/>
              <a:pathLst>
                <a:path w="359" h="1062">
                  <a:moveTo>
                    <a:pt x="177" y="1"/>
                  </a:moveTo>
                  <a:lnTo>
                    <a:pt x="174" y="7"/>
                  </a:lnTo>
                  <a:lnTo>
                    <a:pt x="165" y="27"/>
                  </a:lnTo>
                  <a:lnTo>
                    <a:pt x="154" y="57"/>
                  </a:lnTo>
                  <a:lnTo>
                    <a:pt x="138" y="98"/>
                  </a:lnTo>
                  <a:lnTo>
                    <a:pt x="121" y="147"/>
                  </a:lnTo>
                  <a:lnTo>
                    <a:pt x="101" y="206"/>
                  </a:lnTo>
                  <a:lnTo>
                    <a:pt x="81" y="270"/>
                  </a:lnTo>
                  <a:lnTo>
                    <a:pt x="61" y="341"/>
                  </a:lnTo>
                  <a:lnTo>
                    <a:pt x="52" y="378"/>
                  </a:lnTo>
                  <a:lnTo>
                    <a:pt x="43" y="415"/>
                  </a:lnTo>
                  <a:lnTo>
                    <a:pt x="35" y="455"/>
                  </a:lnTo>
                  <a:lnTo>
                    <a:pt x="26" y="495"/>
                  </a:lnTo>
                  <a:lnTo>
                    <a:pt x="20" y="534"/>
                  </a:lnTo>
                  <a:lnTo>
                    <a:pt x="14" y="574"/>
                  </a:lnTo>
                  <a:lnTo>
                    <a:pt x="9" y="615"/>
                  </a:lnTo>
                  <a:lnTo>
                    <a:pt x="4" y="656"/>
                  </a:lnTo>
                  <a:lnTo>
                    <a:pt x="2" y="697"/>
                  </a:lnTo>
                  <a:lnTo>
                    <a:pt x="0" y="738"/>
                  </a:lnTo>
                  <a:lnTo>
                    <a:pt x="0" y="778"/>
                  </a:lnTo>
                  <a:lnTo>
                    <a:pt x="2" y="818"/>
                  </a:lnTo>
                  <a:lnTo>
                    <a:pt x="4" y="857"/>
                  </a:lnTo>
                  <a:lnTo>
                    <a:pt x="9" y="895"/>
                  </a:lnTo>
                  <a:lnTo>
                    <a:pt x="16" y="934"/>
                  </a:lnTo>
                  <a:lnTo>
                    <a:pt x="25" y="970"/>
                  </a:lnTo>
                  <a:lnTo>
                    <a:pt x="87" y="1062"/>
                  </a:lnTo>
                  <a:lnTo>
                    <a:pt x="175" y="1062"/>
                  </a:lnTo>
                  <a:lnTo>
                    <a:pt x="174" y="1053"/>
                  </a:lnTo>
                  <a:lnTo>
                    <a:pt x="172" y="1027"/>
                  </a:lnTo>
                  <a:lnTo>
                    <a:pt x="170" y="987"/>
                  </a:lnTo>
                  <a:lnTo>
                    <a:pt x="168" y="934"/>
                  </a:lnTo>
                  <a:lnTo>
                    <a:pt x="167" y="871"/>
                  </a:lnTo>
                  <a:lnTo>
                    <a:pt x="165" y="797"/>
                  </a:lnTo>
                  <a:lnTo>
                    <a:pt x="168" y="719"/>
                  </a:lnTo>
                  <a:lnTo>
                    <a:pt x="172" y="636"/>
                  </a:lnTo>
                  <a:lnTo>
                    <a:pt x="174" y="593"/>
                  </a:lnTo>
                  <a:lnTo>
                    <a:pt x="178" y="550"/>
                  </a:lnTo>
                  <a:lnTo>
                    <a:pt x="183" y="507"/>
                  </a:lnTo>
                  <a:lnTo>
                    <a:pt x="189" y="464"/>
                  </a:lnTo>
                  <a:lnTo>
                    <a:pt x="195" y="421"/>
                  </a:lnTo>
                  <a:lnTo>
                    <a:pt x="204" y="379"/>
                  </a:lnTo>
                  <a:lnTo>
                    <a:pt x="213" y="338"/>
                  </a:lnTo>
                  <a:lnTo>
                    <a:pt x="223" y="299"/>
                  </a:lnTo>
                  <a:lnTo>
                    <a:pt x="235" y="260"/>
                  </a:lnTo>
                  <a:lnTo>
                    <a:pt x="247" y="223"/>
                  </a:lnTo>
                  <a:lnTo>
                    <a:pt x="262" y="188"/>
                  </a:lnTo>
                  <a:lnTo>
                    <a:pt x="278" y="155"/>
                  </a:lnTo>
                  <a:lnTo>
                    <a:pt x="296" y="125"/>
                  </a:lnTo>
                  <a:lnTo>
                    <a:pt x="314" y="98"/>
                  </a:lnTo>
                  <a:lnTo>
                    <a:pt x="336" y="73"/>
                  </a:lnTo>
                  <a:lnTo>
                    <a:pt x="359" y="50"/>
                  </a:lnTo>
                  <a:lnTo>
                    <a:pt x="336" y="42"/>
                  </a:lnTo>
                  <a:lnTo>
                    <a:pt x="281" y="22"/>
                  </a:lnTo>
                  <a:lnTo>
                    <a:pt x="250" y="12"/>
                  </a:lnTo>
                  <a:lnTo>
                    <a:pt x="220" y="5"/>
                  </a:lnTo>
                  <a:lnTo>
                    <a:pt x="206" y="2"/>
                  </a:lnTo>
                  <a:lnTo>
                    <a:pt x="194" y="0"/>
                  </a:lnTo>
                  <a:lnTo>
                    <a:pt x="184" y="0"/>
                  </a:lnTo>
                  <a:lnTo>
                    <a:pt x="177" y="1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5327640" y="5132520"/>
              <a:ext cx="184320" cy="450720"/>
            </a:xfrm>
            <a:custGeom>
              <a:avLst/>
              <a:gdLst/>
              <a:ahLst/>
              <a:rect l="l" t="t" r="r" b="b"/>
              <a:pathLst>
                <a:path w="463" h="1134">
                  <a:moveTo>
                    <a:pt x="204" y="2"/>
                  </a:moveTo>
                  <a:lnTo>
                    <a:pt x="187" y="7"/>
                  </a:lnTo>
                  <a:lnTo>
                    <a:pt x="180" y="22"/>
                  </a:lnTo>
                  <a:lnTo>
                    <a:pt x="175" y="33"/>
                  </a:lnTo>
                  <a:lnTo>
                    <a:pt x="165" y="55"/>
                  </a:lnTo>
                  <a:lnTo>
                    <a:pt x="153" y="89"/>
                  </a:lnTo>
                  <a:lnTo>
                    <a:pt x="137" y="132"/>
                  </a:lnTo>
                  <a:lnTo>
                    <a:pt x="118" y="184"/>
                  </a:lnTo>
                  <a:lnTo>
                    <a:pt x="98" y="244"/>
                  </a:lnTo>
                  <a:lnTo>
                    <a:pt x="79" y="310"/>
                  </a:lnTo>
                  <a:lnTo>
                    <a:pt x="59" y="381"/>
                  </a:lnTo>
                  <a:lnTo>
                    <a:pt x="50" y="418"/>
                  </a:lnTo>
                  <a:lnTo>
                    <a:pt x="41" y="456"/>
                  </a:lnTo>
                  <a:lnTo>
                    <a:pt x="33" y="496"/>
                  </a:lnTo>
                  <a:lnTo>
                    <a:pt x="25" y="536"/>
                  </a:lnTo>
                  <a:lnTo>
                    <a:pt x="19" y="575"/>
                  </a:lnTo>
                  <a:lnTo>
                    <a:pt x="13" y="616"/>
                  </a:lnTo>
                  <a:lnTo>
                    <a:pt x="8" y="657"/>
                  </a:lnTo>
                  <a:lnTo>
                    <a:pt x="4" y="698"/>
                  </a:lnTo>
                  <a:lnTo>
                    <a:pt x="2" y="739"/>
                  </a:lnTo>
                  <a:lnTo>
                    <a:pt x="0" y="780"/>
                  </a:lnTo>
                  <a:lnTo>
                    <a:pt x="0" y="821"/>
                  </a:lnTo>
                  <a:lnTo>
                    <a:pt x="2" y="861"/>
                  </a:lnTo>
                  <a:lnTo>
                    <a:pt x="5" y="900"/>
                  </a:lnTo>
                  <a:lnTo>
                    <a:pt x="10" y="940"/>
                  </a:lnTo>
                  <a:lnTo>
                    <a:pt x="18" y="979"/>
                  </a:lnTo>
                  <a:lnTo>
                    <a:pt x="26" y="1016"/>
                  </a:lnTo>
                  <a:lnTo>
                    <a:pt x="93" y="1117"/>
                  </a:lnTo>
                  <a:lnTo>
                    <a:pt x="103" y="1134"/>
                  </a:lnTo>
                  <a:lnTo>
                    <a:pt x="250" y="1134"/>
                  </a:lnTo>
                  <a:lnTo>
                    <a:pt x="246" y="1094"/>
                  </a:lnTo>
                  <a:lnTo>
                    <a:pt x="245" y="1084"/>
                  </a:lnTo>
                  <a:lnTo>
                    <a:pt x="244" y="1058"/>
                  </a:lnTo>
                  <a:lnTo>
                    <a:pt x="241" y="1018"/>
                  </a:lnTo>
                  <a:lnTo>
                    <a:pt x="240" y="966"/>
                  </a:lnTo>
                  <a:lnTo>
                    <a:pt x="237" y="904"/>
                  </a:lnTo>
                  <a:lnTo>
                    <a:pt x="237" y="833"/>
                  </a:lnTo>
                  <a:lnTo>
                    <a:pt x="239" y="756"/>
                  </a:lnTo>
                  <a:lnTo>
                    <a:pt x="242" y="676"/>
                  </a:lnTo>
                  <a:lnTo>
                    <a:pt x="246" y="634"/>
                  </a:lnTo>
                  <a:lnTo>
                    <a:pt x="250" y="593"/>
                  </a:lnTo>
                  <a:lnTo>
                    <a:pt x="254" y="550"/>
                  </a:lnTo>
                  <a:lnTo>
                    <a:pt x="259" y="510"/>
                  </a:lnTo>
                  <a:lnTo>
                    <a:pt x="265" y="469"/>
                  </a:lnTo>
                  <a:lnTo>
                    <a:pt x="272" y="428"/>
                  </a:lnTo>
                  <a:lnTo>
                    <a:pt x="281" y="388"/>
                  </a:lnTo>
                  <a:lnTo>
                    <a:pt x="291" y="349"/>
                  </a:lnTo>
                  <a:lnTo>
                    <a:pt x="302" y="312"/>
                  </a:lnTo>
                  <a:lnTo>
                    <a:pt x="313" y="278"/>
                  </a:lnTo>
                  <a:lnTo>
                    <a:pt x="327" y="244"/>
                  </a:lnTo>
                  <a:lnTo>
                    <a:pt x="342" y="213"/>
                  </a:lnTo>
                  <a:lnTo>
                    <a:pt x="359" y="184"/>
                  </a:lnTo>
                  <a:lnTo>
                    <a:pt x="377" y="157"/>
                  </a:lnTo>
                  <a:lnTo>
                    <a:pt x="396" y="135"/>
                  </a:lnTo>
                  <a:lnTo>
                    <a:pt x="418" y="114"/>
                  </a:lnTo>
                  <a:lnTo>
                    <a:pt x="463" y="77"/>
                  </a:lnTo>
                  <a:lnTo>
                    <a:pt x="409" y="54"/>
                  </a:lnTo>
                  <a:lnTo>
                    <a:pt x="384" y="44"/>
                  </a:lnTo>
                  <a:lnTo>
                    <a:pt x="357" y="34"/>
                  </a:lnTo>
                  <a:lnTo>
                    <a:pt x="328" y="24"/>
                  </a:lnTo>
                  <a:lnTo>
                    <a:pt x="298" y="14"/>
                  </a:lnTo>
                  <a:lnTo>
                    <a:pt x="271" y="7"/>
                  </a:lnTo>
                  <a:lnTo>
                    <a:pt x="244" y="2"/>
                  </a:lnTo>
                  <a:lnTo>
                    <a:pt x="233" y="1"/>
                  </a:lnTo>
                  <a:lnTo>
                    <a:pt x="221" y="0"/>
                  </a:lnTo>
                  <a:lnTo>
                    <a:pt x="211" y="1"/>
                  </a:lnTo>
                  <a:lnTo>
                    <a:pt x="204" y="2"/>
                  </a:lnTo>
                  <a:close/>
                  <a:moveTo>
                    <a:pt x="91" y="986"/>
                  </a:moveTo>
                  <a:lnTo>
                    <a:pt x="86" y="964"/>
                  </a:lnTo>
                  <a:lnTo>
                    <a:pt x="81" y="941"/>
                  </a:lnTo>
                  <a:lnTo>
                    <a:pt x="77" y="919"/>
                  </a:lnTo>
                  <a:lnTo>
                    <a:pt x="74" y="895"/>
                  </a:lnTo>
                  <a:lnTo>
                    <a:pt x="71" y="872"/>
                  </a:lnTo>
                  <a:lnTo>
                    <a:pt x="70" y="848"/>
                  </a:lnTo>
                  <a:lnTo>
                    <a:pt x="69" y="823"/>
                  </a:lnTo>
                  <a:lnTo>
                    <a:pt x="69" y="799"/>
                  </a:lnTo>
                  <a:lnTo>
                    <a:pt x="69" y="771"/>
                  </a:lnTo>
                  <a:lnTo>
                    <a:pt x="70" y="743"/>
                  </a:lnTo>
                  <a:lnTo>
                    <a:pt x="72" y="714"/>
                  </a:lnTo>
                  <a:lnTo>
                    <a:pt x="75" y="687"/>
                  </a:lnTo>
                  <a:lnTo>
                    <a:pt x="81" y="630"/>
                  </a:lnTo>
                  <a:lnTo>
                    <a:pt x="90" y="574"/>
                  </a:lnTo>
                  <a:lnTo>
                    <a:pt x="100" y="518"/>
                  </a:lnTo>
                  <a:lnTo>
                    <a:pt x="112" y="464"/>
                  </a:lnTo>
                  <a:lnTo>
                    <a:pt x="124" y="410"/>
                  </a:lnTo>
                  <a:lnTo>
                    <a:pt x="138" y="359"/>
                  </a:lnTo>
                  <a:lnTo>
                    <a:pt x="153" y="310"/>
                  </a:lnTo>
                  <a:lnTo>
                    <a:pt x="167" y="265"/>
                  </a:lnTo>
                  <a:lnTo>
                    <a:pt x="180" y="222"/>
                  </a:lnTo>
                  <a:lnTo>
                    <a:pt x="194" y="183"/>
                  </a:lnTo>
                  <a:lnTo>
                    <a:pt x="218" y="119"/>
                  </a:lnTo>
                  <a:lnTo>
                    <a:pt x="236" y="74"/>
                  </a:lnTo>
                  <a:lnTo>
                    <a:pt x="255" y="78"/>
                  </a:lnTo>
                  <a:lnTo>
                    <a:pt x="278" y="84"/>
                  </a:lnTo>
                  <a:lnTo>
                    <a:pt x="307" y="94"/>
                  </a:lnTo>
                  <a:lnTo>
                    <a:pt x="339" y="105"/>
                  </a:lnTo>
                  <a:lnTo>
                    <a:pt x="327" y="121"/>
                  </a:lnTo>
                  <a:lnTo>
                    <a:pt x="314" y="139"/>
                  </a:lnTo>
                  <a:lnTo>
                    <a:pt x="302" y="156"/>
                  </a:lnTo>
                  <a:lnTo>
                    <a:pt x="292" y="176"/>
                  </a:lnTo>
                  <a:lnTo>
                    <a:pt x="281" y="196"/>
                  </a:lnTo>
                  <a:lnTo>
                    <a:pt x="271" y="215"/>
                  </a:lnTo>
                  <a:lnTo>
                    <a:pt x="261" y="237"/>
                  </a:lnTo>
                  <a:lnTo>
                    <a:pt x="252" y="259"/>
                  </a:lnTo>
                  <a:lnTo>
                    <a:pt x="244" y="281"/>
                  </a:lnTo>
                  <a:lnTo>
                    <a:pt x="236" y="305"/>
                  </a:lnTo>
                  <a:lnTo>
                    <a:pt x="229" y="328"/>
                  </a:lnTo>
                  <a:lnTo>
                    <a:pt x="223" y="353"/>
                  </a:lnTo>
                  <a:lnTo>
                    <a:pt x="210" y="403"/>
                  </a:lnTo>
                  <a:lnTo>
                    <a:pt x="199" y="454"/>
                  </a:lnTo>
                  <a:lnTo>
                    <a:pt x="190" y="506"/>
                  </a:lnTo>
                  <a:lnTo>
                    <a:pt x="183" y="558"/>
                  </a:lnTo>
                  <a:lnTo>
                    <a:pt x="178" y="610"/>
                  </a:lnTo>
                  <a:lnTo>
                    <a:pt x="173" y="661"/>
                  </a:lnTo>
                  <a:lnTo>
                    <a:pt x="169" y="713"/>
                  </a:lnTo>
                  <a:lnTo>
                    <a:pt x="168" y="763"/>
                  </a:lnTo>
                  <a:lnTo>
                    <a:pt x="167" y="811"/>
                  </a:lnTo>
                  <a:lnTo>
                    <a:pt x="165" y="857"/>
                  </a:lnTo>
                  <a:lnTo>
                    <a:pt x="167" y="893"/>
                  </a:lnTo>
                  <a:lnTo>
                    <a:pt x="167" y="925"/>
                  </a:lnTo>
                  <a:lnTo>
                    <a:pt x="167" y="955"/>
                  </a:lnTo>
                  <a:lnTo>
                    <a:pt x="168" y="982"/>
                  </a:lnTo>
                  <a:lnTo>
                    <a:pt x="169" y="1006"/>
                  </a:lnTo>
                  <a:lnTo>
                    <a:pt x="170" y="1027"/>
                  </a:lnTo>
                  <a:lnTo>
                    <a:pt x="172" y="1046"/>
                  </a:lnTo>
                  <a:lnTo>
                    <a:pt x="173" y="1062"/>
                  </a:lnTo>
                  <a:lnTo>
                    <a:pt x="156" y="1062"/>
                  </a:lnTo>
                  <a:lnTo>
                    <a:pt x="142" y="1062"/>
                  </a:lnTo>
                  <a:lnTo>
                    <a:pt x="128" y="1041"/>
                  </a:lnTo>
                  <a:lnTo>
                    <a:pt x="111" y="1016"/>
                  </a:lnTo>
                  <a:lnTo>
                    <a:pt x="97" y="995"/>
                  </a:lnTo>
                  <a:lnTo>
                    <a:pt x="91" y="9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5397480" y="5162400"/>
              <a:ext cx="146160" cy="416160"/>
            </a:xfrm>
            <a:custGeom>
              <a:avLst/>
              <a:gdLst/>
              <a:ahLst/>
              <a:rect l="l" t="t" r="r" b="b"/>
              <a:pathLst>
                <a:path w="366" h="1048">
                  <a:moveTo>
                    <a:pt x="164" y="0"/>
                  </a:moveTo>
                  <a:lnTo>
                    <a:pt x="161" y="7"/>
                  </a:lnTo>
                  <a:lnTo>
                    <a:pt x="154" y="26"/>
                  </a:lnTo>
                  <a:lnTo>
                    <a:pt x="143" y="55"/>
                  </a:lnTo>
                  <a:lnTo>
                    <a:pt x="128" y="95"/>
                  </a:lnTo>
                  <a:lnTo>
                    <a:pt x="110" y="143"/>
                  </a:lnTo>
                  <a:lnTo>
                    <a:pt x="93" y="201"/>
                  </a:lnTo>
                  <a:lnTo>
                    <a:pt x="74" y="264"/>
                  </a:lnTo>
                  <a:lnTo>
                    <a:pt x="56" y="332"/>
                  </a:lnTo>
                  <a:lnTo>
                    <a:pt x="47" y="368"/>
                  </a:lnTo>
                  <a:lnTo>
                    <a:pt x="38" y="405"/>
                  </a:lnTo>
                  <a:lnTo>
                    <a:pt x="31" y="444"/>
                  </a:lnTo>
                  <a:lnTo>
                    <a:pt x="23" y="482"/>
                  </a:lnTo>
                  <a:lnTo>
                    <a:pt x="17" y="522"/>
                  </a:lnTo>
                  <a:lnTo>
                    <a:pt x="11" y="562"/>
                  </a:lnTo>
                  <a:lnTo>
                    <a:pt x="7" y="601"/>
                  </a:lnTo>
                  <a:lnTo>
                    <a:pt x="4" y="641"/>
                  </a:lnTo>
                  <a:lnTo>
                    <a:pt x="1" y="682"/>
                  </a:lnTo>
                  <a:lnTo>
                    <a:pt x="0" y="722"/>
                  </a:lnTo>
                  <a:lnTo>
                    <a:pt x="0" y="761"/>
                  </a:lnTo>
                  <a:lnTo>
                    <a:pt x="2" y="801"/>
                  </a:lnTo>
                  <a:lnTo>
                    <a:pt x="5" y="841"/>
                  </a:lnTo>
                  <a:lnTo>
                    <a:pt x="10" y="879"/>
                  </a:lnTo>
                  <a:lnTo>
                    <a:pt x="17" y="916"/>
                  </a:lnTo>
                  <a:lnTo>
                    <a:pt x="26" y="952"/>
                  </a:lnTo>
                  <a:lnTo>
                    <a:pt x="26" y="1048"/>
                  </a:lnTo>
                  <a:lnTo>
                    <a:pt x="172" y="1040"/>
                  </a:lnTo>
                  <a:lnTo>
                    <a:pt x="172" y="1032"/>
                  </a:lnTo>
                  <a:lnTo>
                    <a:pt x="171" y="1008"/>
                  </a:lnTo>
                  <a:lnTo>
                    <a:pt x="169" y="970"/>
                  </a:lnTo>
                  <a:lnTo>
                    <a:pt x="168" y="921"/>
                  </a:lnTo>
                  <a:lnTo>
                    <a:pt x="166" y="862"/>
                  </a:lnTo>
                  <a:lnTo>
                    <a:pt x="168" y="795"/>
                  </a:lnTo>
                  <a:lnTo>
                    <a:pt x="169" y="720"/>
                  </a:lnTo>
                  <a:lnTo>
                    <a:pt x="174" y="642"/>
                  </a:lnTo>
                  <a:lnTo>
                    <a:pt x="177" y="603"/>
                  </a:lnTo>
                  <a:lnTo>
                    <a:pt x="182" y="563"/>
                  </a:lnTo>
                  <a:lnTo>
                    <a:pt x="187" y="522"/>
                  </a:lnTo>
                  <a:lnTo>
                    <a:pt x="194" y="481"/>
                  </a:lnTo>
                  <a:lnTo>
                    <a:pt x="200" y="441"/>
                  </a:lnTo>
                  <a:lnTo>
                    <a:pt x="209" y="402"/>
                  </a:lnTo>
                  <a:lnTo>
                    <a:pt x="218" y="363"/>
                  </a:lnTo>
                  <a:lnTo>
                    <a:pt x="228" y="325"/>
                  </a:lnTo>
                  <a:lnTo>
                    <a:pt x="241" y="289"/>
                  </a:lnTo>
                  <a:lnTo>
                    <a:pt x="253" y="254"/>
                  </a:lnTo>
                  <a:lnTo>
                    <a:pt x="268" y="220"/>
                  </a:lnTo>
                  <a:lnTo>
                    <a:pt x="284" y="188"/>
                  </a:lnTo>
                  <a:lnTo>
                    <a:pt x="303" y="160"/>
                  </a:lnTo>
                  <a:lnTo>
                    <a:pt x="322" y="132"/>
                  </a:lnTo>
                  <a:lnTo>
                    <a:pt x="343" y="109"/>
                  </a:lnTo>
                  <a:lnTo>
                    <a:pt x="366" y="86"/>
                  </a:lnTo>
                  <a:lnTo>
                    <a:pt x="359" y="83"/>
                  </a:lnTo>
                  <a:lnTo>
                    <a:pt x="339" y="71"/>
                  </a:lnTo>
                  <a:lnTo>
                    <a:pt x="312" y="57"/>
                  </a:lnTo>
                  <a:lnTo>
                    <a:pt x="278" y="40"/>
                  </a:lnTo>
                  <a:lnTo>
                    <a:pt x="243" y="23"/>
                  </a:lnTo>
                  <a:lnTo>
                    <a:pt x="211" y="9"/>
                  </a:lnTo>
                  <a:lnTo>
                    <a:pt x="196" y="4"/>
                  </a:lnTo>
                  <a:lnTo>
                    <a:pt x="182" y="1"/>
                  </a:lnTo>
                  <a:lnTo>
                    <a:pt x="172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5383080" y="5149800"/>
              <a:ext cx="184320" cy="444600"/>
            </a:xfrm>
            <a:custGeom>
              <a:avLst/>
              <a:gdLst/>
              <a:ahLst/>
              <a:rect l="l" t="t" r="r" b="b"/>
              <a:pathLst>
                <a:path w="464" h="1120">
                  <a:moveTo>
                    <a:pt x="191" y="1"/>
                  </a:moveTo>
                  <a:lnTo>
                    <a:pt x="174" y="5"/>
                  </a:lnTo>
                  <a:lnTo>
                    <a:pt x="168" y="21"/>
                  </a:lnTo>
                  <a:lnTo>
                    <a:pt x="163" y="32"/>
                  </a:lnTo>
                  <a:lnTo>
                    <a:pt x="154" y="53"/>
                  </a:lnTo>
                  <a:lnTo>
                    <a:pt x="141" y="87"/>
                  </a:lnTo>
                  <a:lnTo>
                    <a:pt x="127" y="129"/>
                  </a:lnTo>
                  <a:lnTo>
                    <a:pt x="109" y="178"/>
                  </a:lnTo>
                  <a:lnTo>
                    <a:pt x="91" y="237"/>
                  </a:lnTo>
                  <a:lnTo>
                    <a:pt x="72" y="301"/>
                  </a:lnTo>
                  <a:lnTo>
                    <a:pt x="53" y="371"/>
                  </a:lnTo>
                  <a:lnTo>
                    <a:pt x="45" y="407"/>
                  </a:lnTo>
                  <a:lnTo>
                    <a:pt x="37" y="445"/>
                  </a:lnTo>
                  <a:lnTo>
                    <a:pt x="28" y="484"/>
                  </a:lnTo>
                  <a:lnTo>
                    <a:pt x="22" y="522"/>
                  </a:lnTo>
                  <a:lnTo>
                    <a:pt x="16" y="562"/>
                  </a:lnTo>
                  <a:lnTo>
                    <a:pt x="10" y="602"/>
                  </a:lnTo>
                  <a:lnTo>
                    <a:pt x="6" y="642"/>
                  </a:lnTo>
                  <a:lnTo>
                    <a:pt x="2" y="682"/>
                  </a:lnTo>
                  <a:lnTo>
                    <a:pt x="1" y="723"/>
                  </a:lnTo>
                  <a:lnTo>
                    <a:pt x="0" y="764"/>
                  </a:lnTo>
                  <a:lnTo>
                    <a:pt x="0" y="804"/>
                  </a:lnTo>
                  <a:lnTo>
                    <a:pt x="2" y="843"/>
                  </a:lnTo>
                  <a:lnTo>
                    <a:pt x="6" y="883"/>
                  </a:lnTo>
                  <a:lnTo>
                    <a:pt x="11" y="922"/>
                  </a:lnTo>
                  <a:lnTo>
                    <a:pt x="19" y="960"/>
                  </a:lnTo>
                  <a:lnTo>
                    <a:pt x="27" y="997"/>
                  </a:lnTo>
                  <a:lnTo>
                    <a:pt x="26" y="1083"/>
                  </a:lnTo>
                  <a:lnTo>
                    <a:pt x="26" y="1120"/>
                  </a:lnTo>
                  <a:lnTo>
                    <a:pt x="248" y="1109"/>
                  </a:lnTo>
                  <a:lnTo>
                    <a:pt x="245" y="1072"/>
                  </a:lnTo>
                  <a:lnTo>
                    <a:pt x="243" y="1063"/>
                  </a:lnTo>
                  <a:lnTo>
                    <a:pt x="242" y="1038"/>
                  </a:lnTo>
                  <a:lnTo>
                    <a:pt x="241" y="1001"/>
                  </a:lnTo>
                  <a:lnTo>
                    <a:pt x="240" y="953"/>
                  </a:lnTo>
                  <a:lnTo>
                    <a:pt x="238" y="894"/>
                  </a:lnTo>
                  <a:lnTo>
                    <a:pt x="238" y="829"/>
                  </a:lnTo>
                  <a:lnTo>
                    <a:pt x="241" y="758"/>
                  </a:lnTo>
                  <a:lnTo>
                    <a:pt x="246" y="682"/>
                  </a:lnTo>
                  <a:lnTo>
                    <a:pt x="248" y="644"/>
                  </a:lnTo>
                  <a:lnTo>
                    <a:pt x="253" y="604"/>
                  </a:lnTo>
                  <a:lnTo>
                    <a:pt x="258" y="566"/>
                  </a:lnTo>
                  <a:lnTo>
                    <a:pt x="263" y="526"/>
                  </a:lnTo>
                  <a:lnTo>
                    <a:pt x="271" y="487"/>
                  </a:lnTo>
                  <a:lnTo>
                    <a:pt x="278" y="449"/>
                  </a:lnTo>
                  <a:lnTo>
                    <a:pt x="287" y="412"/>
                  </a:lnTo>
                  <a:lnTo>
                    <a:pt x="297" y="376"/>
                  </a:lnTo>
                  <a:lnTo>
                    <a:pt x="308" y="341"/>
                  </a:lnTo>
                  <a:lnTo>
                    <a:pt x="320" y="307"/>
                  </a:lnTo>
                  <a:lnTo>
                    <a:pt x="334" y="275"/>
                  </a:lnTo>
                  <a:lnTo>
                    <a:pt x="349" y="245"/>
                  </a:lnTo>
                  <a:lnTo>
                    <a:pt x="366" y="218"/>
                  </a:lnTo>
                  <a:lnTo>
                    <a:pt x="384" y="192"/>
                  </a:lnTo>
                  <a:lnTo>
                    <a:pt x="403" y="170"/>
                  </a:lnTo>
                  <a:lnTo>
                    <a:pt x="425" y="149"/>
                  </a:lnTo>
                  <a:lnTo>
                    <a:pt x="464" y="116"/>
                  </a:lnTo>
                  <a:lnTo>
                    <a:pt x="420" y="92"/>
                  </a:lnTo>
                  <a:lnTo>
                    <a:pt x="377" y="67"/>
                  </a:lnTo>
                  <a:lnTo>
                    <a:pt x="339" y="47"/>
                  </a:lnTo>
                  <a:lnTo>
                    <a:pt x="304" y="30"/>
                  </a:lnTo>
                  <a:lnTo>
                    <a:pt x="273" y="17"/>
                  </a:lnTo>
                  <a:lnTo>
                    <a:pt x="246" y="7"/>
                  </a:lnTo>
                  <a:lnTo>
                    <a:pt x="223" y="1"/>
                  </a:lnTo>
                  <a:lnTo>
                    <a:pt x="213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91" y="1"/>
                  </a:lnTo>
                  <a:close/>
                  <a:moveTo>
                    <a:pt x="98" y="987"/>
                  </a:moveTo>
                  <a:lnTo>
                    <a:pt x="92" y="963"/>
                  </a:lnTo>
                  <a:lnTo>
                    <a:pt x="86" y="937"/>
                  </a:lnTo>
                  <a:lnTo>
                    <a:pt x="82" y="910"/>
                  </a:lnTo>
                  <a:lnTo>
                    <a:pt x="78" y="883"/>
                  </a:lnTo>
                  <a:lnTo>
                    <a:pt x="76" y="856"/>
                  </a:lnTo>
                  <a:lnTo>
                    <a:pt x="73" y="829"/>
                  </a:lnTo>
                  <a:lnTo>
                    <a:pt x="72" y="801"/>
                  </a:lnTo>
                  <a:lnTo>
                    <a:pt x="72" y="773"/>
                  </a:lnTo>
                  <a:lnTo>
                    <a:pt x="73" y="718"/>
                  </a:lnTo>
                  <a:lnTo>
                    <a:pt x="77" y="662"/>
                  </a:lnTo>
                  <a:lnTo>
                    <a:pt x="83" y="608"/>
                  </a:lnTo>
                  <a:lnTo>
                    <a:pt x="91" y="553"/>
                  </a:lnTo>
                  <a:lnTo>
                    <a:pt x="99" y="500"/>
                  </a:lnTo>
                  <a:lnTo>
                    <a:pt x="110" y="448"/>
                  </a:lnTo>
                  <a:lnTo>
                    <a:pt x="122" y="397"/>
                  </a:lnTo>
                  <a:lnTo>
                    <a:pt x="134" y="348"/>
                  </a:lnTo>
                  <a:lnTo>
                    <a:pt x="146" y="303"/>
                  </a:lnTo>
                  <a:lnTo>
                    <a:pt x="159" y="259"/>
                  </a:lnTo>
                  <a:lnTo>
                    <a:pt x="171" y="218"/>
                  </a:lnTo>
                  <a:lnTo>
                    <a:pt x="184" y="182"/>
                  </a:lnTo>
                  <a:lnTo>
                    <a:pt x="206" y="120"/>
                  </a:lnTo>
                  <a:lnTo>
                    <a:pt x="222" y="77"/>
                  </a:lnTo>
                  <a:lnTo>
                    <a:pt x="246" y="84"/>
                  </a:lnTo>
                  <a:lnTo>
                    <a:pt x="276" y="98"/>
                  </a:lnTo>
                  <a:lnTo>
                    <a:pt x="312" y="114"/>
                  </a:lnTo>
                  <a:lnTo>
                    <a:pt x="350" y="135"/>
                  </a:lnTo>
                  <a:lnTo>
                    <a:pt x="336" y="151"/>
                  </a:lnTo>
                  <a:lnTo>
                    <a:pt x="323" y="169"/>
                  </a:lnTo>
                  <a:lnTo>
                    <a:pt x="310" y="187"/>
                  </a:lnTo>
                  <a:lnTo>
                    <a:pt x="298" y="207"/>
                  </a:lnTo>
                  <a:lnTo>
                    <a:pt x="287" y="227"/>
                  </a:lnTo>
                  <a:lnTo>
                    <a:pt x="277" y="248"/>
                  </a:lnTo>
                  <a:lnTo>
                    <a:pt x="267" y="269"/>
                  </a:lnTo>
                  <a:lnTo>
                    <a:pt x="257" y="291"/>
                  </a:lnTo>
                  <a:lnTo>
                    <a:pt x="248" y="315"/>
                  </a:lnTo>
                  <a:lnTo>
                    <a:pt x="240" y="339"/>
                  </a:lnTo>
                  <a:lnTo>
                    <a:pt x="232" y="362"/>
                  </a:lnTo>
                  <a:lnTo>
                    <a:pt x="225" y="387"/>
                  </a:lnTo>
                  <a:lnTo>
                    <a:pt x="212" y="437"/>
                  </a:lnTo>
                  <a:lnTo>
                    <a:pt x="201" y="487"/>
                  </a:lnTo>
                  <a:lnTo>
                    <a:pt x="192" y="539"/>
                  </a:lnTo>
                  <a:lnTo>
                    <a:pt x="185" y="592"/>
                  </a:lnTo>
                  <a:lnTo>
                    <a:pt x="179" y="644"/>
                  </a:lnTo>
                  <a:lnTo>
                    <a:pt x="174" y="695"/>
                  </a:lnTo>
                  <a:lnTo>
                    <a:pt x="170" y="744"/>
                  </a:lnTo>
                  <a:lnTo>
                    <a:pt x="169" y="791"/>
                  </a:lnTo>
                  <a:lnTo>
                    <a:pt x="166" y="839"/>
                  </a:lnTo>
                  <a:lnTo>
                    <a:pt x="166" y="882"/>
                  </a:lnTo>
                  <a:lnTo>
                    <a:pt x="168" y="934"/>
                  </a:lnTo>
                  <a:lnTo>
                    <a:pt x="168" y="977"/>
                  </a:lnTo>
                  <a:lnTo>
                    <a:pt x="170" y="1013"/>
                  </a:lnTo>
                  <a:lnTo>
                    <a:pt x="171" y="1041"/>
                  </a:lnTo>
                  <a:lnTo>
                    <a:pt x="153" y="1042"/>
                  </a:lnTo>
                  <a:lnTo>
                    <a:pt x="135" y="1043"/>
                  </a:lnTo>
                  <a:lnTo>
                    <a:pt x="117" y="1044"/>
                  </a:lnTo>
                  <a:lnTo>
                    <a:pt x="98" y="1046"/>
                  </a:lnTo>
                  <a:lnTo>
                    <a:pt x="98" y="1025"/>
                  </a:lnTo>
                  <a:lnTo>
                    <a:pt x="98" y="1006"/>
                  </a:lnTo>
                  <a:lnTo>
                    <a:pt x="98" y="994"/>
                  </a:lnTo>
                  <a:lnTo>
                    <a:pt x="98" y="9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5451480" y="5181480"/>
              <a:ext cx="130320" cy="412920"/>
            </a:xfrm>
            <a:custGeom>
              <a:avLst/>
              <a:gdLst/>
              <a:ahLst/>
              <a:rect l="l" t="t" r="r" b="b"/>
              <a:pathLst>
                <a:path w="328" h="1040">
                  <a:moveTo>
                    <a:pt x="134" y="0"/>
                  </a:moveTo>
                  <a:lnTo>
                    <a:pt x="132" y="6"/>
                  </a:lnTo>
                  <a:lnTo>
                    <a:pt x="126" y="25"/>
                  </a:lnTo>
                  <a:lnTo>
                    <a:pt x="116" y="55"/>
                  </a:lnTo>
                  <a:lnTo>
                    <a:pt x="103" y="93"/>
                  </a:lnTo>
                  <a:lnTo>
                    <a:pt x="88" y="141"/>
                  </a:lnTo>
                  <a:lnTo>
                    <a:pt x="74" y="197"/>
                  </a:lnTo>
                  <a:lnTo>
                    <a:pt x="57" y="259"/>
                  </a:lnTo>
                  <a:lnTo>
                    <a:pt x="42" y="327"/>
                  </a:lnTo>
                  <a:lnTo>
                    <a:pt x="35" y="363"/>
                  </a:lnTo>
                  <a:lnTo>
                    <a:pt x="29" y="399"/>
                  </a:lnTo>
                  <a:lnTo>
                    <a:pt x="23" y="438"/>
                  </a:lnTo>
                  <a:lnTo>
                    <a:pt x="16" y="476"/>
                  </a:lnTo>
                  <a:lnTo>
                    <a:pt x="11" y="515"/>
                  </a:lnTo>
                  <a:lnTo>
                    <a:pt x="6" y="555"/>
                  </a:lnTo>
                  <a:lnTo>
                    <a:pt x="4" y="594"/>
                  </a:lnTo>
                  <a:lnTo>
                    <a:pt x="1" y="634"/>
                  </a:lnTo>
                  <a:lnTo>
                    <a:pt x="0" y="674"/>
                  </a:lnTo>
                  <a:lnTo>
                    <a:pt x="0" y="713"/>
                  </a:lnTo>
                  <a:lnTo>
                    <a:pt x="1" y="753"/>
                  </a:lnTo>
                  <a:lnTo>
                    <a:pt x="4" y="793"/>
                  </a:lnTo>
                  <a:lnTo>
                    <a:pt x="8" y="831"/>
                  </a:lnTo>
                  <a:lnTo>
                    <a:pt x="13" y="870"/>
                  </a:lnTo>
                  <a:lnTo>
                    <a:pt x="20" y="907"/>
                  </a:lnTo>
                  <a:lnTo>
                    <a:pt x="29" y="944"/>
                  </a:lnTo>
                  <a:lnTo>
                    <a:pt x="56" y="1040"/>
                  </a:lnTo>
                  <a:lnTo>
                    <a:pt x="143" y="1040"/>
                  </a:lnTo>
                  <a:lnTo>
                    <a:pt x="143" y="1032"/>
                  </a:lnTo>
                  <a:lnTo>
                    <a:pt x="141" y="1007"/>
                  </a:lnTo>
                  <a:lnTo>
                    <a:pt x="138" y="969"/>
                  </a:lnTo>
                  <a:lnTo>
                    <a:pt x="137" y="919"/>
                  </a:lnTo>
                  <a:lnTo>
                    <a:pt x="134" y="860"/>
                  </a:lnTo>
                  <a:lnTo>
                    <a:pt x="134" y="791"/>
                  </a:lnTo>
                  <a:lnTo>
                    <a:pt x="136" y="717"/>
                  </a:lnTo>
                  <a:lnTo>
                    <a:pt x="141" y="638"/>
                  </a:lnTo>
                  <a:lnTo>
                    <a:pt x="143" y="598"/>
                  </a:lnTo>
                  <a:lnTo>
                    <a:pt x="147" y="557"/>
                  </a:lnTo>
                  <a:lnTo>
                    <a:pt x="152" y="516"/>
                  </a:lnTo>
                  <a:lnTo>
                    <a:pt x="158" y="475"/>
                  </a:lnTo>
                  <a:lnTo>
                    <a:pt x="164" y="434"/>
                  </a:lnTo>
                  <a:lnTo>
                    <a:pt x="172" y="394"/>
                  </a:lnTo>
                  <a:lnTo>
                    <a:pt x="182" y="355"/>
                  </a:lnTo>
                  <a:lnTo>
                    <a:pt x="191" y="318"/>
                  </a:lnTo>
                  <a:lnTo>
                    <a:pt x="203" y="280"/>
                  </a:lnTo>
                  <a:lnTo>
                    <a:pt x="216" y="244"/>
                  </a:lnTo>
                  <a:lnTo>
                    <a:pt x="230" y="211"/>
                  </a:lnTo>
                  <a:lnTo>
                    <a:pt x="246" y="180"/>
                  </a:lnTo>
                  <a:lnTo>
                    <a:pt x="265" y="150"/>
                  </a:lnTo>
                  <a:lnTo>
                    <a:pt x="283" y="123"/>
                  </a:lnTo>
                  <a:lnTo>
                    <a:pt x="304" y="99"/>
                  </a:lnTo>
                  <a:lnTo>
                    <a:pt x="328" y="77"/>
                  </a:lnTo>
                  <a:lnTo>
                    <a:pt x="321" y="73"/>
                  </a:lnTo>
                  <a:lnTo>
                    <a:pt x="302" y="64"/>
                  </a:lnTo>
                  <a:lnTo>
                    <a:pt x="276" y="51"/>
                  </a:lnTo>
                  <a:lnTo>
                    <a:pt x="245" y="35"/>
                  </a:lnTo>
                  <a:lnTo>
                    <a:pt x="211" y="21"/>
                  </a:lnTo>
                  <a:lnTo>
                    <a:pt x="179" y="9"/>
                  </a:lnTo>
                  <a:lnTo>
                    <a:pt x="165" y="4"/>
                  </a:lnTo>
                  <a:lnTo>
                    <a:pt x="153" y="1"/>
                  </a:lnTo>
                  <a:lnTo>
                    <a:pt x="143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5437080" y="5167440"/>
              <a:ext cx="169920" cy="441360"/>
            </a:xfrm>
            <a:custGeom>
              <a:avLst/>
              <a:gdLst/>
              <a:ahLst/>
              <a:rect l="l" t="t" r="r" b="b"/>
              <a:pathLst>
                <a:path w="426" h="1112">
                  <a:moveTo>
                    <a:pt x="162" y="2"/>
                  </a:moveTo>
                  <a:lnTo>
                    <a:pt x="144" y="6"/>
                  </a:lnTo>
                  <a:lnTo>
                    <a:pt x="137" y="24"/>
                  </a:lnTo>
                  <a:lnTo>
                    <a:pt x="133" y="35"/>
                  </a:lnTo>
                  <a:lnTo>
                    <a:pt x="126" y="56"/>
                  </a:lnTo>
                  <a:lnTo>
                    <a:pt x="114" y="88"/>
                  </a:lnTo>
                  <a:lnTo>
                    <a:pt x="102" y="129"/>
                  </a:lnTo>
                  <a:lnTo>
                    <a:pt x="87" y="179"/>
                  </a:lnTo>
                  <a:lnTo>
                    <a:pt x="71" y="236"/>
                  </a:lnTo>
                  <a:lnTo>
                    <a:pt x="56" y="299"/>
                  </a:lnTo>
                  <a:lnTo>
                    <a:pt x="41" y="368"/>
                  </a:lnTo>
                  <a:lnTo>
                    <a:pt x="34" y="404"/>
                  </a:lnTo>
                  <a:lnTo>
                    <a:pt x="26" y="442"/>
                  </a:lnTo>
                  <a:lnTo>
                    <a:pt x="20" y="479"/>
                  </a:lnTo>
                  <a:lnTo>
                    <a:pt x="15" y="517"/>
                  </a:lnTo>
                  <a:lnTo>
                    <a:pt x="10" y="557"/>
                  </a:lnTo>
                  <a:lnTo>
                    <a:pt x="6" y="597"/>
                  </a:lnTo>
                  <a:lnTo>
                    <a:pt x="3" y="636"/>
                  </a:lnTo>
                  <a:lnTo>
                    <a:pt x="1" y="676"/>
                  </a:lnTo>
                  <a:lnTo>
                    <a:pt x="0" y="716"/>
                  </a:lnTo>
                  <a:lnTo>
                    <a:pt x="0" y="757"/>
                  </a:lnTo>
                  <a:lnTo>
                    <a:pt x="1" y="796"/>
                  </a:lnTo>
                  <a:lnTo>
                    <a:pt x="4" y="836"/>
                  </a:lnTo>
                  <a:lnTo>
                    <a:pt x="9" y="875"/>
                  </a:lnTo>
                  <a:lnTo>
                    <a:pt x="14" y="914"/>
                  </a:lnTo>
                  <a:lnTo>
                    <a:pt x="21" y="952"/>
                  </a:lnTo>
                  <a:lnTo>
                    <a:pt x="31" y="989"/>
                  </a:lnTo>
                  <a:lnTo>
                    <a:pt x="65" y="1112"/>
                  </a:lnTo>
                  <a:lnTo>
                    <a:pt x="219" y="1112"/>
                  </a:lnTo>
                  <a:lnTo>
                    <a:pt x="215" y="1073"/>
                  </a:lnTo>
                  <a:lnTo>
                    <a:pt x="214" y="1063"/>
                  </a:lnTo>
                  <a:lnTo>
                    <a:pt x="213" y="1038"/>
                  </a:lnTo>
                  <a:lnTo>
                    <a:pt x="210" y="1001"/>
                  </a:lnTo>
                  <a:lnTo>
                    <a:pt x="208" y="952"/>
                  </a:lnTo>
                  <a:lnTo>
                    <a:pt x="206" y="893"/>
                  </a:lnTo>
                  <a:lnTo>
                    <a:pt x="206" y="826"/>
                  </a:lnTo>
                  <a:lnTo>
                    <a:pt x="208" y="754"/>
                  </a:lnTo>
                  <a:lnTo>
                    <a:pt x="211" y="677"/>
                  </a:lnTo>
                  <a:lnTo>
                    <a:pt x="214" y="639"/>
                  </a:lnTo>
                  <a:lnTo>
                    <a:pt x="218" y="599"/>
                  </a:lnTo>
                  <a:lnTo>
                    <a:pt x="223" y="559"/>
                  </a:lnTo>
                  <a:lnTo>
                    <a:pt x="227" y="520"/>
                  </a:lnTo>
                  <a:lnTo>
                    <a:pt x="234" y="481"/>
                  </a:lnTo>
                  <a:lnTo>
                    <a:pt x="241" y="443"/>
                  </a:lnTo>
                  <a:lnTo>
                    <a:pt x="250" y="406"/>
                  </a:lnTo>
                  <a:lnTo>
                    <a:pt x="260" y="368"/>
                  </a:lnTo>
                  <a:lnTo>
                    <a:pt x="270" y="334"/>
                  </a:lnTo>
                  <a:lnTo>
                    <a:pt x="282" y="299"/>
                  </a:lnTo>
                  <a:lnTo>
                    <a:pt x="296" y="267"/>
                  </a:lnTo>
                  <a:lnTo>
                    <a:pt x="311" y="237"/>
                  </a:lnTo>
                  <a:lnTo>
                    <a:pt x="327" y="210"/>
                  </a:lnTo>
                  <a:lnTo>
                    <a:pt x="345" y="184"/>
                  </a:lnTo>
                  <a:lnTo>
                    <a:pt x="365" y="161"/>
                  </a:lnTo>
                  <a:lnTo>
                    <a:pt x="386" y="140"/>
                  </a:lnTo>
                  <a:lnTo>
                    <a:pt x="426" y="107"/>
                  </a:lnTo>
                  <a:lnTo>
                    <a:pt x="380" y="82"/>
                  </a:lnTo>
                  <a:lnTo>
                    <a:pt x="340" y="61"/>
                  </a:lnTo>
                  <a:lnTo>
                    <a:pt x="303" y="42"/>
                  </a:lnTo>
                  <a:lnTo>
                    <a:pt x="270" y="27"/>
                  </a:lnTo>
                  <a:lnTo>
                    <a:pt x="241" y="15"/>
                  </a:lnTo>
                  <a:lnTo>
                    <a:pt x="215" y="7"/>
                  </a:lnTo>
                  <a:lnTo>
                    <a:pt x="193" y="2"/>
                  </a:lnTo>
                  <a:lnTo>
                    <a:pt x="184" y="1"/>
                  </a:lnTo>
                  <a:lnTo>
                    <a:pt x="175" y="0"/>
                  </a:lnTo>
                  <a:lnTo>
                    <a:pt x="168" y="1"/>
                  </a:lnTo>
                  <a:lnTo>
                    <a:pt x="162" y="2"/>
                  </a:lnTo>
                  <a:close/>
                  <a:moveTo>
                    <a:pt x="100" y="970"/>
                  </a:moveTo>
                  <a:lnTo>
                    <a:pt x="92" y="943"/>
                  </a:lnTo>
                  <a:lnTo>
                    <a:pt x="87" y="914"/>
                  </a:lnTo>
                  <a:lnTo>
                    <a:pt x="82" y="885"/>
                  </a:lnTo>
                  <a:lnTo>
                    <a:pt x="78" y="856"/>
                  </a:lnTo>
                  <a:lnTo>
                    <a:pt x="75" y="826"/>
                  </a:lnTo>
                  <a:lnTo>
                    <a:pt x="73" y="795"/>
                  </a:lnTo>
                  <a:lnTo>
                    <a:pt x="72" y="765"/>
                  </a:lnTo>
                  <a:lnTo>
                    <a:pt x="71" y="734"/>
                  </a:lnTo>
                  <a:lnTo>
                    <a:pt x="72" y="680"/>
                  </a:lnTo>
                  <a:lnTo>
                    <a:pt x="76" y="625"/>
                  </a:lnTo>
                  <a:lnTo>
                    <a:pt x="81" y="572"/>
                  </a:lnTo>
                  <a:lnTo>
                    <a:pt x="87" y="519"/>
                  </a:lnTo>
                  <a:lnTo>
                    <a:pt x="95" y="466"/>
                  </a:lnTo>
                  <a:lnTo>
                    <a:pt x="105" y="417"/>
                  </a:lnTo>
                  <a:lnTo>
                    <a:pt x="113" y="368"/>
                  </a:lnTo>
                  <a:lnTo>
                    <a:pt x="124" y="323"/>
                  </a:lnTo>
                  <a:lnTo>
                    <a:pt x="134" y="279"/>
                  </a:lnTo>
                  <a:lnTo>
                    <a:pt x="144" y="238"/>
                  </a:lnTo>
                  <a:lnTo>
                    <a:pt x="155" y="201"/>
                  </a:lnTo>
                  <a:lnTo>
                    <a:pt x="165" y="167"/>
                  </a:lnTo>
                  <a:lnTo>
                    <a:pt x="183" y="113"/>
                  </a:lnTo>
                  <a:lnTo>
                    <a:pt x="194" y="77"/>
                  </a:lnTo>
                  <a:lnTo>
                    <a:pt x="216" y="84"/>
                  </a:lnTo>
                  <a:lnTo>
                    <a:pt x="244" y="95"/>
                  </a:lnTo>
                  <a:lnTo>
                    <a:pt x="276" y="109"/>
                  </a:lnTo>
                  <a:lnTo>
                    <a:pt x="311" y="126"/>
                  </a:lnTo>
                  <a:lnTo>
                    <a:pt x="297" y="143"/>
                  </a:lnTo>
                  <a:lnTo>
                    <a:pt x="285" y="160"/>
                  </a:lnTo>
                  <a:lnTo>
                    <a:pt x="273" y="177"/>
                  </a:lnTo>
                  <a:lnTo>
                    <a:pt x="262" y="196"/>
                  </a:lnTo>
                  <a:lnTo>
                    <a:pt x="251" y="215"/>
                  </a:lnTo>
                  <a:lnTo>
                    <a:pt x="241" y="234"/>
                  </a:lnTo>
                  <a:lnTo>
                    <a:pt x="231" y="256"/>
                  </a:lnTo>
                  <a:lnTo>
                    <a:pt x="223" y="277"/>
                  </a:lnTo>
                  <a:lnTo>
                    <a:pt x="214" y="298"/>
                  </a:lnTo>
                  <a:lnTo>
                    <a:pt x="206" y="320"/>
                  </a:lnTo>
                  <a:lnTo>
                    <a:pt x="199" y="344"/>
                  </a:lnTo>
                  <a:lnTo>
                    <a:pt x="191" y="367"/>
                  </a:lnTo>
                  <a:lnTo>
                    <a:pt x="179" y="414"/>
                  </a:lnTo>
                  <a:lnTo>
                    <a:pt x="169" y="463"/>
                  </a:lnTo>
                  <a:lnTo>
                    <a:pt x="159" y="512"/>
                  </a:lnTo>
                  <a:lnTo>
                    <a:pt x="152" y="563"/>
                  </a:lnTo>
                  <a:lnTo>
                    <a:pt x="147" y="613"/>
                  </a:lnTo>
                  <a:lnTo>
                    <a:pt x="142" y="662"/>
                  </a:lnTo>
                  <a:lnTo>
                    <a:pt x="138" y="711"/>
                  </a:lnTo>
                  <a:lnTo>
                    <a:pt x="136" y="758"/>
                  </a:lnTo>
                  <a:lnTo>
                    <a:pt x="134" y="804"/>
                  </a:lnTo>
                  <a:lnTo>
                    <a:pt x="134" y="849"/>
                  </a:lnTo>
                  <a:lnTo>
                    <a:pt x="134" y="882"/>
                  </a:lnTo>
                  <a:lnTo>
                    <a:pt x="136" y="912"/>
                  </a:lnTo>
                  <a:lnTo>
                    <a:pt x="136" y="939"/>
                  </a:lnTo>
                  <a:lnTo>
                    <a:pt x="137" y="965"/>
                  </a:lnTo>
                  <a:lnTo>
                    <a:pt x="138" y="988"/>
                  </a:lnTo>
                  <a:lnTo>
                    <a:pt x="139" y="1007"/>
                  </a:lnTo>
                  <a:lnTo>
                    <a:pt x="141" y="1025"/>
                  </a:lnTo>
                  <a:lnTo>
                    <a:pt x="141" y="1041"/>
                  </a:lnTo>
                  <a:lnTo>
                    <a:pt x="129" y="1041"/>
                  </a:lnTo>
                  <a:lnTo>
                    <a:pt x="119" y="1041"/>
                  </a:lnTo>
                  <a:lnTo>
                    <a:pt x="112" y="1017"/>
                  </a:lnTo>
                  <a:lnTo>
                    <a:pt x="106" y="995"/>
                  </a:lnTo>
                  <a:lnTo>
                    <a:pt x="102" y="978"/>
                  </a:lnTo>
                  <a:lnTo>
                    <a:pt x="100" y="9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5491080" y="5210280"/>
              <a:ext cx="163440" cy="412560"/>
            </a:xfrm>
            <a:custGeom>
              <a:avLst/>
              <a:gdLst/>
              <a:ahLst/>
              <a:rect l="l" t="t" r="r" b="b"/>
              <a:pathLst>
                <a:path w="411" h="1044">
                  <a:moveTo>
                    <a:pt x="176" y="0"/>
                  </a:moveTo>
                  <a:lnTo>
                    <a:pt x="173" y="6"/>
                  </a:lnTo>
                  <a:lnTo>
                    <a:pt x="167" y="25"/>
                  </a:lnTo>
                  <a:lnTo>
                    <a:pt x="156" y="52"/>
                  </a:lnTo>
                  <a:lnTo>
                    <a:pt x="141" y="91"/>
                  </a:lnTo>
                  <a:lnTo>
                    <a:pt x="125" y="138"/>
                  </a:lnTo>
                  <a:lnTo>
                    <a:pt x="106" y="192"/>
                  </a:lnTo>
                  <a:lnTo>
                    <a:pt x="88" y="253"/>
                  </a:lnTo>
                  <a:lnTo>
                    <a:pt x="69" y="319"/>
                  </a:lnTo>
                  <a:lnTo>
                    <a:pt x="50" y="391"/>
                  </a:lnTo>
                  <a:lnTo>
                    <a:pt x="34" y="465"/>
                  </a:lnTo>
                  <a:lnTo>
                    <a:pt x="27" y="504"/>
                  </a:lnTo>
                  <a:lnTo>
                    <a:pt x="21" y="544"/>
                  </a:lnTo>
                  <a:lnTo>
                    <a:pt x="14" y="582"/>
                  </a:lnTo>
                  <a:lnTo>
                    <a:pt x="10" y="622"/>
                  </a:lnTo>
                  <a:lnTo>
                    <a:pt x="6" y="663"/>
                  </a:lnTo>
                  <a:lnTo>
                    <a:pt x="2" y="702"/>
                  </a:lnTo>
                  <a:lnTo>
                    <a:pt x="1" y="742"/>
                  </a:lnTo>
                  <a:lnTo>
                    <a:pt x="0" y="782"/>
                  </a:lnTo>
                  <a:lnTo>
                    <a:pt x="1" y="820"/>
                  </a:lnTo>
                  <a:lnTo>
                    <a:pt x="3" y="860"/>
                  </a:lnTo>
                  <a:lnTo>
                    <a:pt x="7" y="897"/>
                  </a:lnTo>
                  <a:lnTo>
                    <a:pt x="13" y="934"/>
                  </a:lnTo>
                  <a:lnTo>
                    <a:pt x="29" y="1034"/>
                  </a:lnTo>
                  <a:lnTo>
                    <a:pt x="116" y="1044"/>
                  </a:lnTo>
                  <a:lnTo>
                    <a:pt x="118" y="1036"/>
                  </a:lnTo>
                  <a:lnTo>
                    <a:pt x="119" y="1013"/>
                  </a:lnTo>
                  <a:lnTo>
                    <a:pt x="120" y="977"/>
                  </a:lnTo>
                  <a:lnTo>
                    <a:pt x="124" y="928"/>
                  </a:lnTo>
                  <a:lnTo>
                    <a:pt x="130" y="871"/>
                  </a:lnTo>
                  <a:lnTo>
                    <a:pt x="137" y="807"/>
                  </a:lnTo>
                  <a:lnTo>
                    <a:pt x="149" y="736"/>
                  </a:lnTo>
                  <a:lnTo>
                    <a:pt x="161" y="661"/>
                  </a:lnTo>
                  <a:lnTo>
                    <a:pt x="168" y="623"/>
                  </a:lnTo>
                  <a:lnTo>
                    <a:pt x="177" y="585"/>
                  </a:lnTo>
                  <a:lnTo>
                    <a:pt x="187" y="546"/>
                  </a:lnTo>
                  <a:lnTo>
                    <a:pt x="197" y="508"/>
                  </a:lnTo>
                  <a:lnTo>
                    <a:pt x="209" y="469"/>
                  </a:lnTo>
                  <a:lnTo>
                    <a:pt x="221" y="432"/>
                  </a:lnTo>
                  <a:lnTo>
                    <a:pt x="234" y="396"/>
                  </a:lnTo>
                  <a:lnTo>
                    <a:pt x="249" y="360"/>
                  </a:lnTo>
                  <a:lnTo>
                    <a:pt x="265" y="326"/>
                  </a:lnTo>
                  <a:lnTo>
                    <a:pt x="281" y="293"/>
                  </a:lnTo>
                  <a:lnTo>
                    <a:pt x="300" y="263"/>
                  </a:lnTo>
                  <a:lnTo>
                    <a:pt x="320" y="233"/>
                  </a:lnTo>
                  <a:lnTo>
                    <a:pt x="340" y="207"/>
                  </a:lnTo>
                  <a:lnTo>
                    <a:pt x="362" y="183"/>
                  </a:lnTo>
                  <a:lnTo>
                    <a:pt x="386" y="161"/>
                  </a:lnTo>
                  <a:lnTo>
                    <a:pt x="411" y="143"/>
                  </a:lnTo>
                  <a:lnTo>
                    <a:pt x="402" y="137"/>
                  </a:lnTo>
                  <a:lnTo>
                    <a:pt x="378" y="121"/>
                  </a:lnTo>
                  <a:lnTo>
                    <a:pt x="346" y="97"/>
                  </a:lnTo>
                  <a:lnTo>
                    <a:pt x="308" y="70"/>
                  </a:lnTo>
                  <a:lnTo>
                    <a:pt x="267" y="44"/>
                  </a:lnTo>
                  <a:lnTo>
                    <a:pt x="228" y="20"/>
                  </a:lnTo>
                  <a:lnTo>
                    <a:pt x="212" y="11"/>
                  </a:lnTo>
                  <a:lnTo>
                    <a:pt x="197" y="5"/>
                  </a:lnTo>
                  <a:lnTo>
                    <a:pt x="185" y="1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5477040" y="5195880"/>
              <a:ext cx="201600" cy="442800"/>
            </a:xfrm>
            <a:custGeom>
              <a:avLst/>
              <a:gdLst/>
              <a:ahLst/>
              <a:rect l="l" t="t" r="r" b="b"/>
              <a:pathLst>
                <a:path w="508" h="1119">
                  <a:moveTo>
                    <a:pt x="206" y="1"/>
                  </a:moveTo>
                  <a:lnTo>
                    <a:pt x="186" y="4"/>
                  </a:lnTo>
                  <a:lnTo>
                    <a:pt x="179" y="23"/>
                  </a:lnTo>
                  <a:lnTo>
                    <a:pt x="175" y="32"/>
                  </a:lnTo>
                  <a:lnTo>
                    <a:pt x="166" y="54"/>
                  </a:lnTo>
                  <a:lnTo>
                    <a:pt x="154" y="85"/>
                  </a:lnTo>
                  <a:lnTo>
                    <a:pt x="139" y="124"/>
                  </a:lnTo>
                  <a:lnTo>
                    <a:pt x="122" y="173"/>
                  </a:lnTo>
                  <a:lnTo>
                    <a:pt x="104" y="228"/>
                  </a:lnTo>
                  <a:lnTo>
                    <a:pt x="84" y="291"/>
                  </a:lnTo>
                  <a:lnTo>
                    <a:pt x="66" y="357"/>
                  </a:lnTo>
                  <a:lnTo>
                    <a:pt x="48" y="429"/>
                  </a:lnTo>
                  <a:lnTo>
                    <a:pt x="32" y="505"/>
                  </a:lnTo>
                  <a:lnTo>
                    <a:pt x="25" y="544"/>
                  </a:lnTo>
                  <a:lnTo>
                    <a:pt x="18" y="582"/>
                  </a:lnTo>
                  <a:lnTo>
                    <a:pt x="12" y="622"/>
                  </a:lnTo>
                  <a:lnTo>
                    <a:pt x="7" y="661"/>
                  </a:lnTo>
                  <a:lnTo>
                    <a:pt x="4" y="702"/>
                  </a:lnTo>
                  <a:lnTo>
                    <a:pt x="1" y="742"/>
                  </a:lnTo>
                  <a:lnTo>
                    <a:pt x="0" y="782"/>
                  </a:lnTo>
                  <a:lnTo>
                    <a:pt x="0" y="822"/>
                  </a:lnTo>
                  <a:lnTo>
                    <a:pt x="0" y="861"/>
                  </a:lnTo>
                  <a:lnTo>
                    <a:pt x="2" y="901"/>
                  </a:lnTo>
                  <a:lnTo>
                    <a:pt x="7" y="939"/>
                  </a:lnTo>
                  <a:lnTo>
                    <a:pt x="12" y="977"/>
                  </a:lnTo>
                  <a:lnTo>
                    <a:pt x="33" y="1102"/>
                  </a:lnTo>
                  <a:lnTo>
                    <a:pt x="186" y="1119"/>
                  </a:lnTo>
                  <a:lnTo>
                    <a:pt x="187" y="1081"/>
                  </a:lnTo>
                  <a:lnTo>
                    <a:pt x="187" y="1072"/>
                  </a:lnTo>
                  <a:lnTo>
                    <a:pt x="189" y="1049"/>
                  </a:lnTo>
                  <a:lnTo>
                    <a:pt x="191" y="1013"/>
                  </a:lnTo>
                  <a:lnTo>
                    <a:pt x="195" y="965"/>
                  </a:lnTo>
                  <a:lnTo>
                    <a:pt x="201" y="910"/>
                  </a:lnTo>
                  <a:lnTo>
                    <a:pt x="208" y="846"/>
                  </a:lnTo>
                  <a:lnTo>
                    <a:pt x="218" y="778"/>
                  </a:lnTo>
                  <a:lnTo>
                    <a:pt x="231" y="705"/>
                  </a:lnTo>
                  <a:lnTo>
                    <a:pt x="238" y="669"/>
                  </a:lnTo>
                  <a:lnTo>
                    <a:pt x="247" y="632"/>
                  </a:lnTo>
                  <a:lnTo>
                    <a:pt x="256" y="594"/>
                  </a:lnTo>
                  <a:lnTo>
                    <a:pt x="266" y="557"/>
                  </a:lnTo>
                  <a:lnTo>
                    <a:pt x="277" y="520"/>
                  </a:lnTo>
                  <a:lnTo>
                    <a:pt x="288" y="484"/>
                  </a:lnTo>
                  <a:lnTo>
                    <a:pt x="300" y="449"/>
                  </a:lnTo>
                  <a:lnTo>
                    <a:pt x="314" y="416"/>
                  </a:lnTo>
                  <a:lnTo>
                    <a:pt x="329" y="382"/>
                  </a:lnTo>
                  <a:lnTo>
                    <a:pt x="345" y="351"/>
                  </a:lnTo>
                  <a:lnTo>
                    <a:pt x="362" y="322"/>
                  </a:lnTo>
                  <a:lnTo>
                    <a:pt x="380" y="294"/>
                  </a:lnTo>
                  <a:lnTo>
                    <a:pt x="400" y="269"/>
                  </a:lnTo>
                  <a:lnTo>
                    <a:pt x="420" y="246"/>
                  </a:lnTo>
                  <a:lnTo>
                    <a:pt x="442" y="226"/>
                  </a:lnTo>
                  <a:lnTo>
                    <a:pt x="465" y="209"/>
                  </a:lnTo>
                  <a:lnTo>
                    <a:pt x="508" y="181"/>
                  </a:lnTo>
                  <a:lnTo>
                    <a:pt x="467" y="150"/>
                  </a:lnTo>
                  <a:lnTo>
                    <a:pt x="429" y="123"/>
                  </a:lnTo>
                  <a:lnTo>
                    <a:pt x="396" y="98"/>
                  </a:lnTo>
                  <a:lnTo>
                    <a:pt x="366" y="78"/>
                  </a:lnTo>
                  <a:lnTo>
                    <a:pt x="339" y="61"/>
                  </a:lnTo>
                  <a:lnTo>
                    <a:pt x="315" y="46"/>
                  </a:lnTo>
                  <a:lnTo>
                    <a:pt x="295" y="34"/>
                  </a:lnTo>
                  <a:lnTo>
                    <a:pt x="278" y="24"/>
                  </a:lnTo>
                  <a:lnTo>
                    <a:pt x="262" y="16"/>
                  </a:lnTo>
                  <a:lnTo>
                    <a:pt x="249" y="10"/>
                  </a:lnTo>
                  <a:lnTo>
                    <a:pt x="238" y="6"/>
                  </a:lnTo>
                  <a:lnTo>
                    <a:pt x="230" y="4"/>
                  </a:lnTo>
                  <a:lnTo>
                    <a:pt x="222" y="1"/>
                  </a:lnTo>
                  <a:lnTo>
                    <a:pt x="212" y="0"/>
                  </a:lnTo>
                  <a:lnTo>
                    <a:pt x="206" y="1"/>
                  </a:lnTo>
                  <a:close/>
                  <a:moveTo>
                    <a:pt x="83" y="965"/>
                  </a:moveTo>
                  <a:lnTo>
                    <a:pt x="77" y="928"/>
                  </a:lnTo>
                  <a:lnTo>
                    <a:pt x="73" y="891"/>
                  </a:lnTo>
                  <a:lnTo>
                    <a:pt x="72" y="853"/>
                  </a:lnTo>
                  <a:lnTo>
                    <a:pt x="71" y="814"/>
                  </a:lnTo>
                  <a:lnTo>
                    <a:pt x="71" y="786"/>
                  </a:lnTo>
                  <a:lnTo>
                    <a:pt x="72" y="757"/>
                  </a:lnTo>
                  <a:lnTo>
                    <a:pt x="74" y="728"/>
                  </a:lnTo>
                  <a:lnTo>
                    <a:pt x="76" y="700"/>
                  </a:lnTo>
                  <a:lnTo>
                    <a:pt x="82" y="643"/>
                  </a:lnTo>
                  <a:lnTo>
                    <a:pt x="90" y="586"/>
                  </a:lnTo>
                  <a:lnTo>
                    <a:pt x="100" y="530"/>
                  </a:lnTo>
                  <a:lnTo>
                    <a:pt x="112" y="475"/>
                  </a:lnTo>
                  <a:lnTo>
                    <a:pt x="124" y="422"/>
                  </a:lnTo>
                  <a:lnTo>
                    <a:pt x="136" y="371"/>
                  </a:lnTo>
                  <a:lnTo>
                    <a:pt x="150" y="323"/>
                  </a:lnTo>
                  <a:lnTo>
                    <a:pt x="164" y="277"/>
                  </a:lnTo>
                  <a:lnTo>
                    <a:pt x="177" y="233"/>
                  </a:lnTo>
                  <a:lnTo>
                    <a:pt x="191" y="194"/>
                  </a:lnTo>
                  <a:lnTo>
                    <a:pt x="215" y="128"/>
                  </a:lnTo>
                  <a:lnTo>
                    <a:pt x="232" y="81"/>
                  </a:lnTo>
                  <a:lnTo>
                    <a:pt x="262" y="98"/>
                  </a:lnTo>
                  <a:lnTo>
                    <a:pt x="300" y="122"/>
                  </a:lnTo>
                  <a:lnTo>
                    <a:pt x="345" y="150"/>
                  </a:lnTo>
                  <a:lnTo>
                    <a:pt x="391" y="184"/>
                  </a:lnTo>
                  <a:lnTo>
                    <a:pt x="371" y="202"/>
                  </a:lnTo>
                  <a:lnTo>
                    <a:pt x="351" y="224"/>
                  </a:lnTo>
                  <a:lnTo>
                    <a:pt x="334" y="247"/>
                  </a:lnTo>
                  <a:lnTo>
                    <a:pt x="316" y="271"/>
                  </a:lnTo>
                  <a:lnTo>
                    <a:pt x="300" y="297"/>
                  </a:lnTo>
                  <a:lnTo>
                    <a:pt x="285" y="323"/>
                  </a:lnTo>
                  <a:lnTo>
                    <a:pt x="271" y="351"/>
                  </a:lnTo>
                  <a:lnTo>
                    <a:pt x="257" y="380"/>
                  </a:lnTo>
                  <a:lnTo>
                    <a:pt x="244" y="410"/>
                  </a:lnTo>
                  <a:lnTo>
                    <a:pt x="232" y="439"/>
                  </a:lnTo>
                  <a:lnTo>
                    <a:pt x="221" y="470"/>
                  </a:lnTo>
                  <a:lnTo>
                    <a:pt x="211" y="503"/>
                  </a:lnTo>
                  <a:lnTo>
                    <a:pt x="201" y="534"/>
                  </a:lnTo>
                  <a:lnTo>
                    <a:pt x="191" y="566"/>
                  </a:lnTo>
                  <a:lnTo>
                    <a:pt x="184" y="598"/>
                  </a:lnTo>
                  <a:lnTo>
                    <a:pt x="175" y="630"/>
                  </a:lnTo>
                  <a:lnTo>
                    <a:pt x="161" y="695"/>
                  </a:lnTo>
                  <a:lnTo>
                    <a:pt x="150" y="757"/>
                  </a:lnTo>
                  <a:lnTo>
                    <a:pt x="140" y="817"/>
                  </a:lnTo>
                  <a:lnTo>
                    <a:pt x="133" y="872"/>
                  </a:lnTo>
                  <a:lnTo>
                    <a:pt x="128" y="923"/>
                  </a:lnTo>
                  <a:lnTo>
                    <a:pt x="123" y="969"/>
                  </a:lnTo>
                  <a:lnTo>
                    <a:pt x="120" y="1009"/>
                  </a:lnTo>
                  <a:lnTo>
                    <a:pt x="118" y="1040"/>
                  </a:lnTo>
                  <a:lnTo>
                    <a:pt x="105" y="1039"/>
                  </a:lnTo>
                  <a:lnTo>
                    <a:pt x="95" y="1037"/>
                  </a:lnTo>
                  <a:lnTo>
                    <a:pt x="92" y="1014"/>
                  </a:lnTo>
                  <a:lnTo>
                    <a:pt x="87" y="990"/>
                  </a:lnTo>
                  <a:lnTo>
                    <a:pt x="84" y="972"/>
                  </a:lnTo>
                  <a:lnTo>
                    <a:pt x="83" y="9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5526000" y="5256360"/>
              <a:ext cx="181080" cy="404640"/>
            </a:xfrm>
            <a:custGeom>
              <a:avLst/>
              <a:gdLst/>
              <a:ahLst/>
              <a:rect l="l" t="t" r="r" b="b"/>
              <a:pathLst>
                <a:path w="455" h="1020">
                  <a:moveTo>
                    <a:pt x="282" y="0"/>
                  </a:moveTo>
                  <a:lnTo>
                    <a:pt x="278" y="6"/>
                  </a:lnTo>
                  <a:lnTo>
                    <a:pt x="268" y="23"/>
                  </a:lnTo>
                  <a:lnTo>
                    <a:pt x="253" y="49"/>
                  </a:lnTo>
                  <a:lnTo>
                    <a:pt x="233" y="85"/>
                  </a:lnTo>
                  <a:lnTo>
                    <a:pt x="210" y="128"/>
                  </a:lnTo>
                  <a:lnTo>
                    <a:pt x="185" y="180"/>
                  </a:lnTo>
                  <a:lnTo>
                    <a:pt x="157" y="237"/>
                  </a:lnTo>
                  <a:lnTo>
                    <a:pt x="130" y="301"/>
                  </a:lnTo>
                  <a:lnTo>
                    <a:pt x="116" y="334"/>
                  </a:lnTo>
                  <a:lnTo>
                    <a:pt x="103" y="368"/>
                  </a:lnTo>
                  <a:lnTo>
                    <a:pt x="89" y="403"/>
                  </a:lnTo>
                  <a:lnTo>
                    <a:pt x="77" y="439"/>
                  </a:lnTo>
                  <a:lnTo>
                    <a:pt x="64" y="477"/>
                  </a:lnTo>
                  <a:lnTo>
                    <a:pt x="53" y="514"/>
                  </a:lnTo>
                  <a:lnTo>
                    <a:pt x="42" y="552"/>
                  </a:lnTo>
                  <a:lnTo>
                    <a:pt x="32" y="591"/>
                  </a:lnTo>
                  <a:lnTo>
                    <a:pt x="23" y="629"/>
                  </a:lnTo>
                  <a:lnTo>
                    <a:pt x="16" y="669"/>
                  </a:lnTo>
                  <a:lnTo>
                    <a:pt x="10" y="707"/>
                  </a:lnTo>
                  <a:lnTo>
                    <a:pt x="5" y="747"/>
                  </a:lnTo>
                  <a:lnTo>
                    <a:pt x="1" y="786"/>
                  </a:lnTo>
                  <a:lnTo>
                    <a:pt x="0" y="824"/>
                  </a:lnTo>
                  <a:lnTo>
                    <a:pt x="0" y="863"/>
                  </a:lnTo>
                  <a:lnTo>
                    <a:pt x="2" y="901"/>
                  </a:lnTo>
                  <a:lnTo>
                    <a:pt x="10" y="1000"/>
                  </a:lnTo>
                  <a:lnTo>
                    <a:pt x="95" y="1020"/>
                  </a:lnTo>
                  <a:lnTo>
                    <a:pt x="97" y="1011"/>
                  </a:lnTo>
                  <a:lnTo>
                    <a:pt x="99" y="988"/>
                  </a:lnTo>
                  <a:lnTo>
                    <a:pt x="104" y="949"/>
                  </a:lnTo>
                  <a:lnTo>
                    <a:pt x="112" y="901"/>
                  </a:lnTo>
                  <a:lnTo>
                    <a:pt x="121" y="841"/>
                  </a:lnTo>
                  <a:lnTo>
                    <a:pt x="134" y="774"/>
                  </a:lnTo>
                  <a:lnTo>
                    <a:pt x="149" y="702"/>
                  </a:lnTo>
                  <a:lnTo>
                    <a:pt x="167" y="626"/>
                  </a:lnTo>
                  <a:lnTo>
                    <a:pt x="179" y="587"/>
                  </a:lnTo>
                  <a:lnTo>
                    <a:pt x="190" y="549"/>
                  </a:lnTo>
                  <a:lnTo>
                    <a:pt x="202" y="509"/>
                  </a:lnTo>
                  <a:lnTo>
                    <a:pt x="215" y="470"/>
                  </a:lnTo>
                  <a:lnTo>
                    <a:pt x="229" y="432"/>
                  </a:lnTo>
                  <a:lnTo>
                    <a:pt x="244" y="395"/>
                  </a:lnTo>
                  <a:lnTo>
                    <a:pt x="261" y="359"/>
                  </a:lnTo>
                  <a:lnTo>
                    <a:pt x="278" y="323"/>
                  </a:lnTo>
                  <a:lnTo>
                    <a:pt x="297" y="289"/>
                  </a:lnTo>
                  <a:lnTo>
                    <a:pt x="315" y="258"/>
                  </a:lnTo>
                  <a:lnTo>
                    <a:pt x="336" y="229"/>
                  </a:lnTo>
                  <a:lnTo>
                    <a:pt x="357" y="201"/>
                  </a:lnTo>
                  <a:lnTo>
                    <a:pt x="380" y="176"/>
                  </a:lnTo>
                  <a:lnTo>
                    <a:pt x="405" y="154"/>
                  </a:lnTo>
                  <a:lnTo>
                    <a:pt x="429" y="136"/>
                  </a:lnTo>
                  <a:lnTo>
                    <a:pt x="455" y="119"/>
                  </a:lnTo>
                  <a:lnTo>
                    <a:pt x="433" y="101"/>
                  </a:lnTo>
                  <a:lnTo>
                    <a:pt x="382" y="60"/>
                  </a:lnTo>
                  <a:lnTo>
                    <a:pt x="352" y="37"/>
                  </a:lnTo>
                  <a:lnTo>
                    <a:pt x="324" y="19"/>
                  </a:lnTo>
                  <a:lnTo>
                    <a:pt x="310" y="11"/>
                  </a:lnTo>
                  <a:lnTo>
                    <a:pt x="299" y="5"/>
                  </a:lnTo>
                  <a:lnTo>
                    <a:pt x="289" y="2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5511960" y="5241960"/>
              <a:ext cx="220680" cy="436680"/>
            </a:xfrm>
            <a:custGeom>
              <a:avLst/>
              <a:gdLst/>
              <a:ahLst/>
              <a:rect l="l" t="t" r="r" b="b"/>
              <a:pathLst>
                <a:path w="555" h="1100">
                  <a:moveTo>
                    <a:pt x="315" y="0"/>
                  </a:moveTo>
                  <a:lnTo>
                    <a:pt x="297" y="2"/>
                  </a:lnTo>
                  <a:lnTo>
                    <a:pt x="287" y="18"/>
                  </a:lnTo>
                  <a:lnTo>
                    <a:pt x="280" y="28"/>
                  </a:lnTo>
                  <a:lnTo>
                    <a:pt x="269" y="46"/>
                  </a:lnTo>
                  <a:lnTo>
                    <a:pt x="253" y="76"/>
                  </a:lnTo>
                  <a:lnTo>
                    <a:pt x="232" y="113"/>
                  </a:lnTo>
                  <a:lnTo>
                    <a:pt x="208" y="159"/>
                  </a:lnTo>
                  <a:lnTo>
                    <a:pt x="182" y="211"/>
                  </a:lnTo>
                  <a:lnTo>
                    <a:pt x="155" y="270"/>
                  </a:lnTo>
                  <a:lnTo>
                    <a:pt x="128" y="333"/>
                  </a:lnTo>
                  <a:lnTo>
                    <a:pt x="114" y="368"/>
                  </a:lnTo>
                  <a:lnTo>
                    <a:pt x="100" y="402"/>
                  </a:lnTo>
                  <a:lnTo>
                    <a:pt x="88" y="437"/>
                  </a:lnTo>
                  <a:lnTo>
                    <a:pt x="75" y="474"/>
                  </a:lnTo>
                  <a:lnTo>
                    <a:pt x="63" y="511"/>
                  </a:lnTo>
                  <a:lnTo>
                    <a:pt x="52" y="549"/>
                  </a:lnTo>
                  <a:lnTo>
                    <a:pt x="41" y="587"/>
                  </a:lnTo>
                  <a:lnTo>
                    <a:pt x="32" y="627"/>
                  </a:lnTo>
                  <a:lnTo>
                    <a:pt x="23" y="665"/>
                  </a:lnTo>
                  <a:lnTo>
                    <a:pt x="16" y="705"/>
                  </a:lnTo>
                  <a:lnTo>
                    <a:pt x="10" y="745"/>
                  </a:lnTo>
                  <a:lnTo>
                    <a:pt x="5" y="783"/>
                  </a:lnTo>
                  <a:lnTo>
                    <a:pt x="2" y="823"/>
                  </a:lnTo>
                  <a:lnTo>
                    <a:pt x="0" y="861"/>
                  </a:lnTo>
                  <a:lnTo>
                    <a:pt x="1" y="901"/>
                  </a:lnTo>
                  <a:lnTo>
                    <a:pt x="2" y="939"/>
                  </a:lnTo>
                  <a:lnTo>
                    <a:pt x="12" y="1066"/>
                  </a:lnTo>
                  <a:lnTo>
                    <a:pt x="164" y="1100"/>
                  </a:lnTo>
                  <a:lnTo>
                    <a:pt x="167" y="1060"/>
                  </a:lnTo>
                  <a:lnTo>
                    <a:pt x="169" y="1050"/>
                  </a:lnTo>
                  <a:lnTo>
                    <a:pt x="171" y="1025"/>
                  </a:lnTo>
                  <a:lnTo>
                    <a:pt x="176" y="988"/>
                  </a:lnTo>
                  <a:lnTo>
                    <a:pt x="184" y="939"/>
                  </a:lnTo>
                  <a:lnTo>
                    <a:pt x="192" y="882"/>
                  </a:lnTo>
                  <a:lnTo>
                    <a:pt x="205" y="817"/>
                  </a:lnTo>
                  <a:lnTo>
                    <a:pt x="220" y="747"/>
                  </a:lnTo>
                  <a:lnTo>
                    <a:pt x="237" y="673"/>
                  </a:lnTo>
                  <a:lnTo>
                    <a:pt x="248" y="636"/>
                  </a:lnTo>
                  <a:lnTo>
                    <a:pt x="258" y="597"/>
                  </a:lnTo>
                  <a:lnTo>
                    <a:pt x="270" y="560"/>
                  </a:lnTo>
                  <a:lnTo>
                    <a:pt x="283" y="523"/>
                  </a:lnTo>
                  <a:lnTo>
                    <a:pt x="297" y="485"/>
                  </a:lnTo>
                  <a:lnTo>
                    <a:pt x="310" y="449"/>
                  </a:lnTo>
                  <a:lnTo>
                    <a:pt x="326" y="415"/>
                  </a:lnTo>
                  <a:lnTo>
                    <a:pt x="342" y="381"/>
                  </a:lnTo>
                  <a:lnTo>
                    <a:pt x="359" y="349"/>
                  </a:lnTo>
                  <a:lnTo>
                    <a:pt x="377" y="319"/>
                  </a:lnTo>
                  <a:lnTo>
                    <a:pt x="396" y="291"/>
                  </a:lnTo>
                  <a:lnTo>
                    <a:pt x="417" y="265"/>
                  </a:lnTo>
                  <a:lnTo>
                    <a:pt x="438" y="241"/>
                  </a:lnTo>
                  <a:lnTo>
                    <a:pt x="460" y="220"/>
                  </a:lnTo>
                  <a:lnTo>
                    <a:pt x="484" y="201"/>
                  </a:lnTo>
                  <a:lnTo>
                    <a:pt x="509" y="186"/>
                  </a:lnTo>
                  <a:lnTo>
                    <a:pt x="555" y="163"/>
                  </a:lnTo>
                  <a:lnTo>
                    <a:pt x="515" y="128"/>
                  </a:lnTo>
                  <a:lnTo>
                    <a:pt x="479" y="98"/>
                  </a:lnTo>
                  <a:lnTo>
                    <a:pt x="447" y="72"/>
                  </a:lnTo>
                  <a:lnTo>
                    <a:pt x="417" y="50"/>
                  </a:lnTo>
                  <a:lnTo>
                    <a:pt x="391" y="31"/>
                  </a:lnTo>
                  <a:lnTo>
                    <a:pt x="367" y="18"/>
                  </a:lnTo>
                  <a:lnTo>
                    <a:pt x="347" y="8"/>
                  </a:lnTo>
                  <a:lnTo>
                    <a:pt x="337" y="5"/>
                  </a:lnTo>
                  <a:lnTo>
                    <a:pt x="330" y="3"/>
                  </a:lnTo>
                  <a:lnTo>
                    <a:pt x="323" y="2"/>
                  </a:lnTo>
                  <a:lnTo>
                    <a:pt x="315" y="0"/>
                  </a:lnTo>
                  <a:close/>
                  <a:moveTo>
                    <a:pt x="73" y="933"/>
                  </a:moveTo>
                  <a:lnTo>
                    <a:pt x="73" y="920"/>
                  </a:lnTo>
                  <a:lnTo>
                    <a:pt x="72" y="906"/>
                  </a:lnTo>
                  <a:lnTo>
                    <a:pt x="72" y="892"/>
                  </a:lnTo>
                  <a:lnTo>
                    <a:pt x="72" y="879"/>
                  </a:lnTo>
                  <a:lnTo>
                    <a:pt x="72" y="848"/>
                  </a:lnTo>
                  <a:lnTo>
                    <a:pt x="74" y="818"/>
                  </a:lnTo>
                  <a:lnTo>
                    <a:pt x="77" y="787"/>
                  </a:lnTo>
                  <a:lnTo>
                    <a:pt x="80" y="756"/>
                  </a:lnTo>
                  <a:lnTo>
                    <a:pt x="85" y="725"/>
                  </a:lnTo>
                  <a:lnTo>
                    <a:pt x="90" y="694"/>
                  </a:lnTo>
                  <a:lnTo>
                    <a:pt x="97" y="663"/>
                  </a:lnTo>
                  <a:lnTo>
                    <a:pt x="104" y="632"/>
                  </a:lnTo>
                  <a:lnTo>
                    <a:pt x="120" y="571"/>
                  </a:lnTo>
                  <a:lnTo>
                    <a:pt x="139" y="510"/>
                  </a:lnTo>
                  <a:lnTo>
                    <a:pt x="159" y="453"/>
                  </a:lnTo>
                  <a:lnTo>
                    <a:pt x="180" y="396"/>
                  </a:lnTo>
                  <a:lnTo>
                    <a:pt x="202" y="343"/>
                  </a:lnTo>
                  <a:lnTo>
                    <a:pt x="224" y="293"/>
                  </a:lnTo>
                  <a:lnTo>
                    <a:pt x="246" y="246"/>
                  </a:lnTo>
                  <a:lnTo>
                    <a:pt x="267" y="203"/>
                  </a:lnTo>
                  <a:lnTo>
                    <a:pt x="304" y="132"/>
                  </a:lnTo>
                  <a:lnTo>
                    <a:pt x="331" y="82"/>
                  </a:lnTo>
                  <a:lnTo>
                    <a:pt x="351" y="93"/>
                  </a:lnTo>
                  <a:lnTo>
                    <a:pt x="376" y="111"/>
                  </a:lnTo>
                  <a:lnTo>
                    <a:pt x="405" y="132"/>
                  </a:lnTo>
                  <a:lnTo>
                    <a:pt x="436" y="155"/>
                  </a:lnTo>
                  <a:lnTo>
                    <a:pt x="414" y="173"/>
                  </a:lnTo>
                  <a:lnTo>
                    <a:pt x="393" y="193"/>
                  </a:lnTo>
                  <a:lnTo>
                    <a:pt x="373" y="214"/>
                  </a:lnTo>
                  <a:lnTo>
                    <a:pt x="355" y="237"/>
                  </a:lnTo>
                  <a:lnTo>
                    <a:pt x="336" y="261"/>
                  </a:lnTo>
                  <a:lnTo>
                    <a:pt x="319" y="287"/>
                  </a:lnTo>
                  <a:lnTo>
                    <a:pt x="303" y="314"/>
                  </a:lnTo>
                  <a:lnTo>
                    <a:pt x="287" y="343"/>
                  </a:lnTo>
                  <a:lnTo>
                    <a:pt x="272" y="371"/>
                  </a:lnTo>
                  <a:lnTo>
                    <a:pt x="258" y="402"/>
                  </a:lnTo>
                  <a:lnTo>
                    <a:pt x="244" y="433"/>
                  </a:lnTo>
                  <a:lnTo>
                    <a:pt x="232" y="464"/>
                  </a:lnTo>
                  <a:lnTo>
                    <a:pt x="220" y="497"/>
                  </a:lnTo>
                  <a:lnTo>
                    <a:pt x="208" y="529"/>
                  </a:lnTo>
                  <a:lnTo>
                    <a:pt x="197" y="561"/>
                  </a:lnTo>
                  <a:lnTo>
                    <a:pt x="187" y="593"/>
                  </a:lnTo>
                  <a:lnTo>
                    <a:pt x="169" y="658"/>
                  </a:lnTo>
                  <a:lnTo>
                    <a:pt x="152" y="721"/>
                  </a:lnTo>
                  <a:lnTo>
                    <a:pt x="139" y="782"/>
                  </a:lnTo>
                  <a:lnTo>
                    <a:pt x="128" y="840"/>
                  </a:lnTo>
                  <a:lnTo>
                    <a:pt x="119" y="892"/>
                  </a:lnTo>
                  <a:lnTo>
                    <a:pt x="110" y="939"/>
                  </a:lnTo>
                  <a:lnTo>
                    <a:pt x="105" y="980"/>
                  </a:lnTo>
                  <a:lnTo>
                    <a:pt x="100" y="1013"/>
                  </a:lnTo>
                  <a:lnTo>
                    <a:pt x="89" y="1010"/>
                  </a:lnTo>
                  <a:lnTo>
                    <a:pt x="79" y="1008"/>
                  </a:lnTo>
                  <a:lnTo>
                    <a:pt x="78" y="984"/>
                  </a:lnTo>
                  <a:lnTo>
                    <a:pt x="75" y="959"/>
                  </a:lnTo>
                  <a:lnTo>
                    <a:pt x="74" y="941"/>
                  </a:lnTo>
                  <a:lnTo>
                    <a:pt x="73" y="9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5541840" y="5292720"/>
              <a:ext cx="217440" cy="390600"/>
            </a:xfrm>
            <a:custGeom>
              <a:avLst/>
              <a:gdLst/>
              <a:ahLst/>
              <a:rect l="l" t="t" r="r" b="b"/>
              <a:pathLst>
                <a:path w="551" h="983">
                  <a:moveTo>
                    <a:pt x="393" y="0"/>
                  </a:moveTo>
                  <a:lnTo>
                    <a:pt x="377" y="20"/>
                  </a:lnTo>
                  <a:lnTo>
                    <a:pt x="335" y="77"/>
                  </a:lnTo>
                  <a:lnTo>
                    <a:pt x="307" y="117"/>
                  </a:lnTo>
                  <a:lnTo>
                    <a:pt x="275" y="164"/>
                  </a:lnTo>
                  <a:lnTo>
                    <a:pt x="241" y="216"/>
                  </a:lnTo>
                  <a:lnTo>
                    <a:pt x="207" y="274"/>
                  </a:lnTo>
                  <a:lnTo>
                    <a:pt x="188" y="305"/>
                  </a:lnTo>
                  <a:lnTo>
                    <a:pt x="171" y="338"/>
                  </a:lnTo>
                  <a:lnTo>
                    <a:pt x="153" y="371"/>
                  </a:lnTo>
                  <a:lnTo>
                    <a:pt x="136" y="405"/>
                  </a:lnTo>
                  <a:lnTo>
                    <a:pt x="120" y="439"/>
                  </a:lnTo>
                  <a:lnTo>
                    <a:pt x="104" y="475"/>
                  </a:lnTo>
                  <a:lnTo>
                    <a:pt x="89" y="511"/>
                  </a:lnTo>
                  <a:lnTo>
                    <a:pt x="74" y="548"/>
                  </a:lnTo>
                  <a:lnTo>
                    <a:pt x="60" y="586"/>
                  </a:lnTo>
                  <a:lnTo>
                    <a:pt x="48" y="623"/>
                  </a:lnTo>
                  <a:lnTo>
                    <a:pt x="36" y="660"/>
                  </a:lnTo>
                  <a:lnTo>
                    <a:pt x="28" y="699"/>
                  </a:lnTo>
                  <a:lnTo>
                    <a:pt x="19" y="737"/>
                  </a:lnTo>
                  <a:lnTo>
                    <a:pt x="13" y="774"/>
                  </a:lnTo>
                  <a:lnTo>
                    <a:pt x="8" y="813"/>
                  </a:lnTo>
                  <a:lnTo>
                    <a:pt x="5" y="850"/>
                  </a:lnTo>
                  <a:lnTo>
                    <a:pt x="0" y="950"/>
                  </a:lnTo>
                  <a:lnTo>
                    <a:pt x="84" y="983"/>
                  </a:lnTo>
                  <a:lnTo>
                    <a:pt x="91" y="952"/>
                  </a:lnTo>
                  <a:lnTo>
                    <a:pt x="113" y="867"/>
                  </a:lnTo>
                  <a:lnTo>
                    <a:pt x="131" y="810"/>
                  </a:lnTo>
                  <a:lnTo>
                    <a:pt x="151" y="746"/>
                  </a:lnTo>
                  <a:lnTo>
                    <a:pt x="176" y="676"/>
                  </a:lnTo>
                  <a:lnTo>
                    <a:pt x="203" y="603"/>
                  </a:lnTo>
                  <a:lnTo>
                    <a:pt x="218" y="566"/>
                  </a:lnTo>
                  <a:lnTo>
                    <a:pt x="234" y="530"/>
                  </a:lnTo>
                  <a:lnTo>
                    <a:pt x="251" y="493"/>
                  </a:lnTo>
                  <a:lnTo>
                    <a:pt x="269" y="455"/>
                  </a:lnTo>
                  <a:lnTo>
                    <a:pt x="289" y="421"/>
                  </a:lnTo>
                  <a:lnTo>
                    <a:pt x="307" y="386"/>
                  </a:lnTo>
                  <a:lnTo>
                    <a:pt x="328" y="352"/>
                  </a:lnTo>
                  <a:lnTo>
                    <a:pt x="349" y="320"/>
                  </a:lnTo>
                  <a:lnTo>
                    <a:pt x="372" y="289"/>
                  </a:lnTo>
                  <a:lnTo>
                    <a:pt x="395" y="261"/>
                  </a:lnTo>
                  <a:lnTo>
                    <a:pt x="419" y="235"/>
                  </a:lnTo>
                  <a:lnTo>
                    <a:pt x="444" y="210"/>
                  </a:lnTo>
                  <a:lnTo>
                    <a:pt x="469" y="189"/>
                  </a:lnTo>
                  <a:lnTo>
                    <a:pt x="496" y="171"/>
                  </a:lnTo>
                  <a:lnTo>
                    <a:pt x="523" y="155"/>
                  </a:lnTo>
                  <a:lnTo>
                    <a:pt x="551" y="144"/>
                  </a:lnTo>
                  <a:lnTo>
                    <a:pt x="532" y="122"/>
                  </a:lnTo>
                  <a:lnTo>
                    <a:pt x="486" y="73"/>
                  </a:lnTo>
                  <a:lnTo>
                    <a:pt x="459" y="47"/>
                  </a:lnTo>
                  <a:lnTo>
                    <a:pt x="433" y="25"/>
                  </a:lnTo>
                  <a:lnTo>
                    <a:pt x="420" y="15"/>
                  </a:lnTo>
                  <a:lnTo>
                    <a:pt x="410" y="8"/>
                  </a:lnTo>
                  <a:lnTo>
                    <a:pt x="400" y="3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5527800" y="5278320"/>
              <a:ext cx="257040" cy="424080"/>
            </a:xfrm>
            <a:custGeom>
              <a:avLst/>
              <a:gdLst/>
              <a:ahLst/>
              <a:rect l="l" t="t" r="r" b="b"/>
              <a:pathLst>
                <a:path w="649" h="1068">
                  <a:moveTo>
                    <a:pt x="402" y="15"/>
                  </a:moveTo>
                  <a:lnTo>
                    <a:pt x="380" y="41"/>
                  </a:lnTo>
                  <a:lnTo>
                    <a:pt x="336" y="102"/>
                  </a:lnTo>
                  <a:lnTo>
                    <a:pt x="306" y="143"/>
                  </a:lnTo>
                  <a:lnTo>
                    <a:pt x="274" y="191"/>
                  </a:lnTo>
                  <a:lnTo>
                    <a:pt x="240" y="244"/>
                  </a:lnTo>
                  <a:lnTo>
                    <a:pt x="204" y="304"/>
                  </a:lnTo>
                  <a:lnTo>
                    <a:pt x="187" y="336"/>
                  </a:lnTo>
                  <a:lnTo>
                    <a:pt x="169" y="368"/>
                  </a:lnTo>
                  <a:lnTo>
                    <a:pt x="152" y="402"/>
                  </a:lnTo>
                  <a:lnTo>
                    <a:pt x="135" y="435"/>
                  </a:lnTo>
                  <a:lnTo>
                    <a:pt x="118" y="471"/>
                  </a:lnTo>
                  <a:lnTo>
                    <a:pt x="102" y="506"/>
                  </a:lnTo>
                  <a:lnTo>
                    <a:pt x="87" y="543"/>
                  </a:lnTo>
                  <a:lnTo>
                    <a:pt x="74" y="581"/>
                  </a:lnTo>
                  <a:lnTo>
                    <a:pt x="60" y="618"/>
                  </a:lnTo>
                  <a:lnTo>
                    <a:pt x="48" y="655"/>
                  </a:lnTo>
                  <a:lnTo>
                    <a:pt x="36" y="693"/>
                  </a:lnTo>
                  <a:lnTo>
                    <a:pt x="28" y="732"/>
                  </a:lnTo>
                  <a:lnTo>
                    <a:pt x="19" y="770"/>
                  </a:lnTo>
                  <a:lnTo>
                    <a:pt x="13" y="809"/>
                  </a:lnTo>
                  <a:lnTo>
                    <a:pt x="9" y="847"/>
                  </a:lnTo>
                  <a:lnTo>
                    <a:pt x="5" y="886"/>
                  </a:lnTo>
                  <a:lnTo>
                    <a:pt x="0" y="1012"/>
                  </a:lnTo>
                  <a:lnTo>
                    <a:pt x="146" y="1068"/>
                  </a:lnTo>
                  <a:lnTo>
                    <a:pt x="154" y="1028"/>
                  </a:lnTo>
                  <a:lnTo>
                    <a:pt x="162" y="995"/>
                  </a:lnTo>
                  <a:lnTo>
                    <a:pt x="184" y="912"/>
                  </a:lnTo>
                  <a:lnTo>
                    <a:pt x="202" y="856"/>
                  </a:lnTo>
                  <a:lnTo>
                    <a:pt x="221" y="794"/>
                  </a:lnTo>
                  <a:lnTo>
                    <a:pt x="245" y="726"/>
                  </a:lnTo>
                  <a:lnTo>
                    <a:pt x="271" y="655"/>
                  </a:lnTo>
                  <a:lnTo>
                    <a:pt x="286" y="620"/>
                  </a:lnTo>
                  <a:lnTo>
                    <a:pt x="301" y="584"/>
                  </a:lnTo>
                  <a:lnTo>
                    <a:pt x="317" y="548"/>
                  </a:lnTo>
                  <a:lnTo>
                    <a:pt x="334" y="514"/>
                  </a:lnTo>
                  <a:lnTo>
                    <a:pt x="352" y="479"/>
                  </a:lnTo>
                  <a:lnTo>
                    <a:pt x="371" y="445"/>
                  </a:lnTo>
                  <a:lnTo>
                    <a:pt x="390" y="413"/>
                  </a:lnTo>
                  <a:lnTo>
                    <a:pt x="410" y="382"/>
                  </a:lnTo>
                  <a:lnTo>
                    <a:pt x="431" y="352"/>
                  </a:lnTo>
                  <a:lnTo>
                    <a:pt x="454" y="325"/>
                  </a:lnTo>
                  <a:lnTo>
                    <a:pt x="476" y="300"/>
                  </a:lnTo>
                  <a:lnTo>
                    <a:pt x="498" y="278"/>
                  </a:lnTo>
                  <a:lnTo>
                    <a:pt x="523" y="257"/>
                  </a:lnTo>
                  <a:lnTo>
                    <a:pt x="547" y="239"/>
                  </a:lnTo>
                  <a:lnTo>
                    <a:pt x="573" y="226"/>
                  </a:lnTo>
                  <a:lnTo>
                    <a:pt x="599" y="214"/>
                  </a:lnTo>
                  <a:lnTo>
                    <a:pt x="649" y="197"/>
                  </a:lnTo>
                  <a:lnTo>
                    <a:pt x="614" y="157"/>
                  </a:lnTo>
                  <a:lnTo>
                    <a:pt x="583" y="123"/>
                  </a:lnTo>
                  <a:lnTo>
                    <a:pt x="553" y="92"/>
                  </a:lnTo>
                  <a:lnTo>
                    <a:pt x="527" y="66"/>
                  </a:lnTo>
                  <a:lnTo>
                    <a:pt x="503" y="43"/>
                  </a:lnTo>
                  <a:lnTo>
                    <a:pt x="481" y="26"/>
                  </a:lnTo>
                  <a:lnTo>
                    <a:pt x="462" y="14"/>
                  </a:lnTo>
                  <a:lnTo>
                    <a:pt x="454" y="9"/>
                  </a:lnTo>
                  <a:lnTo>
                    <a:pt x="446" y="6"/>
                  </a:lnTo>
                  <a:lnTo>
                    <a:pt x="439" y="4"/>
                  </a:lnTo>
                  <a:lnTo>
                    <a:pt x="433" y="2"/>
                  </a:lnTo>
                  <a:lnTo>
                    <a:pt x="414" y="0"/>
                  </a:lnTo>
                  <a:lnTo>
                    <a:pt x="402" y="15"/>
                  </a:lnTo>
                  <a:close/>
                  <a:moveTo>
                    <a:pt x="77" y="889"/>
                  </a:moveTo>
                  <a:lnTo>
                    <a:pt x="80" y="857"/>
                  </a:lnTo>
                  <a:lnTo>
                    <a:pt x="82" y="826"/>
                  </a:lnTo>
                  <a:lnTo>
                    <a:pt x="87" y="794"/>
                  </a:lnTo>
                  <a:lnTo>
                    <a:pt x="94" y="763"/>
                  </a:lnTo>
                  <a:lnTo>
                    <a:pt x="101" y="731"/>
                  </a:lnTo>
                  <a:lnTo>
                    <a:pt x="110" y="700"/>
                  </a:lnTo>
                  <a:lnTo>
                    <a:pt x="118" y="667"/>
                  </a:lnTo>
                  <a:lnTo>
                    <a:pt x="130" y="636"/>
                  </a:lnTo>
                  <a:lnTo>
                    <a:pt x="141" y="605"/>
                  </a:lnTo>
                  <a:lnTo>
                    <a:pt x="152" y="574"/>
                  </a:lnTo>
                  <a:lnTo>
                    <a:pt x="164" y="543"/>
                  </a:lnTo>
                  <a:lnTo>
                    <a:pt x="178" y="514"/>
                  </a:lnTo>
                  <a:lnTo>
                    <a:pt x="205" y="454"/>
                  </a:lnTo>
                  <a:lnTo>
                    <a:pt x="235" y="398"/>
                  </a:lnTo>
                  <a:lnTo>
                    <a:pt x="265" y="345"/>
                  </a:lnTo>
                  <a:lnTo>
                    <a:pt x="295" y="294"/>
                  </a:lnTo>
                  <a:lnTo>
                    <a:pt x="323" y="247"/>
                  </a:lnTo>
                  <a:lnTo>
                    <a:pt x="352" y="205"/>
                  </a:lnTo>
                  <a:lnTo>
                    <a:pt x="402" y="133"/>
                  </a:lnTo>
                  <a:lnTo>
                    <a:pt x="438" y="84"/>
                  </a:lnTo>
                  <a:lnTo>
                    <a:pt x="455" y="99"/>
                  </a:lnTo>
                  <a:lnTo>
                    <a:pt x="479" y="119"/>
                  </a:lnTo>
                  <a:lnTo>
                    <a:pt x="503" y="145"/>
                  </a:lnTo>
                  <a:lnTo>
                    <a:pt x="531" y="174"/>
                  </a:lnTo>
                  <a:lnTo>
                    <a:pt x="508" y="188"/>
                  </a:lnTo>
                  <a:lnTo>
                    <a:pt x="485" y="205"/>
                  </a:lnTo>
                  <a:lnTo>
                    <a:pt x="462" y="222"/>
                  </a:lnTo>
                  <a:lnTo>
                    <a:pt x="441" y="242"/>
                  </a:lnTo>
                  <a:lnTo>
                    <a:pt x="420" y="263"/>
                  </a:lnTo>
                  <a:lnTo>
                    <a:pt x="400" y="286"/>
                  </a:lnTo>
                  <a:lnTo>
                    <a:pt x="380" y="311"/>
                  </a:lnTo>
                  <a:lnTo>
                    <a:pt x="362" y="336"/>
                  </a:lnTo>
                  <a:lnTo>
                    <a:pt x="343" y="363"/>
                  </a:lnTo>
                  <a:lnTo>
                    <a:pt x="326" y="391"/>
                  </a:lnTo>
                  <a:lnTo>
                    <a:pt x="308" y="419"/>
                  </a:lnTo>
                  <a:lnTo>
                    <a:pt x="292" y="448"/>
                  </a:lnTo>
                  <a:lnTo>
                    <a:pt x="276" y="478"/>
                  </a:lnTo>
                  <a:lnTo>
                    <a:pt x="261" y="509"/>
                  </a:lnTo>
                  <a:lnTo>
                    <a:pt x="246" y="538"/>
                  </a:lnTo>
                  <a:lnTo>
                    <a:pt x="233" y="569"/>
                  </a:lnTo>
                  <a:lnTo>
                    <a:pt x="205" y="630"/>
                  </a:lnTo>
                  <a:lnTo>
                    <a:pt x="182" y="691"/>
                  </a:lnTo>
                  <a:lnTo>
                    <a:pt x="162" y="749"/>
                  </a:lnTo>
                  <a:lnTo>
                    <a:pt x="143" y="804"/>
                  </a:lnTo>
                  <a:lnTo>
                    <a:pt x="127" y="855"/>
                  </a:lnTo>
                  <a:lnTo>
                    <a:pt x="113" y="901"/>
                  </a:lnTo>
                  <a:lnTo>
                    <a:pt x="102" y="940"/>
                  </a:lnTo>
                  <a:lnTo>
                    <a:pt x="95" y="973"/>
                  </a:lnTo>
                  <a:lnTo>
                    <a:pt x="84" y="968"/>
                  </a:lnTo>
                  <a:lnTo>
                    <a:pt x="74" y="964"/>
                  </a:lnTo>
                  <a:lnTo>
                    <a:pt x="75" y="940"/>
                  </a:lnTo>
                  <a:lnTo>
                    <a:pt x="76" y="915"/>
                  </a:lnTo>
                  <a:lnTo>
                    <a:pt x="77" y="897"/>
                  </a:lnTo>
                  <a:lnTo>
                    <a:pt x="77" y="8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5540400" y="5343480"/>
              <a:ext cx="282600" cy="353880"/>
            </a:xfrm>
            <a:custGeom>
              <a:avLst/>
              <a:gdLst/>
              <a:ahLst/>
              <a:rect l="l" t="t" r="r" b="b"/>
              <a:pathLst>
                <a:path w="712" h="894">
                  <a:moveTo>
                    <a:pt x="560" y="0"/>
                  </a:moveTo>
                  <a:lnTo>
                    <a:pt x="535" y="17"/>
                  </a:lnTo>
                  <a:lnTo>
                    <a:pt x="484" y="49"/>
                  </a:lnTo>
                  <a:lnTo>
                    <a:pt x="450" y="74"/>
                  </a:lnTo>
                  <a:lnTo>
                    <a:pt x="413" y="102"/>
                  </a:lnTo>
                  <a:lnTo>
                    <a:pt x="393" y="119"/>
                  </a:lnTo>
                  <a:lnTo>
                    <a:pt x="372" y="137"/>
                  </a:lnTo>
                  <a:lnTo>
                    <a:pt x="351" y="157"/>
                  </a:lnTo>
                  <a:lnTo>
                    <a:pt x="330" y="178"/>
                  </a:lnTo>
                  <a:lnTo>
                    <a:pt x="309" y="200"/>
                  </a:lnTo>
                  <a:lnTo>
                    <a:pt x="286" y="225"/>
                  </a:lnTo>
                  <a:lnTo>
                    <a:pt x="264" y="250"/>
                  </a:lnTo>
                  <a:lnTo>
                    <a:pt x="243" y="277"/>
                  </a:lnTo>
                  <a:lnTo>
                    <a:pt x="221" y="307"/>
                  </a:lnTo>
                  <a:lnTo>
                    <a:pt x="199" y="338"/>
                  </a:lnTo>
                  <a:lnTo>
                    <a:pt x="178" y="370"/>
                  </a:lnTo>
                  <a:lnTo>
                    <a:pt x="157" y="405"/>
                  </a:lnTo>
                  <a:lnTo>
                    <a:pt x="137" y="441"/>
                  </a:lnTo>
                  <a:lnTo>
                    <a:pt x="117" y="478"/>
                  </a:lnTo>
                  <a:lnTo>
                    <a:pt x="99" y="518"/>
                  </a:lnTo>
                  <a:lnTo>
                    <a:pt x="81" y="560"/>
                  </a:lnTo>
                  <a:lnTo>
                    <a:pt x="64" y="603"/>
                  </a:lnTo>
                  <a:lnTo>
                    <a:pt x="49" y="649"/>
                  </a:lnTo>
                  <a:lnTo>
                    <a:pt x="36" y="698"/>
                  </a:lnTo>
                  <a:lnTo>
                    <a:pt x="22" y="747"/>
                  </a:lnTo>
                  <a:lnTo>
                    <a:pt x="0" y="844"/>
                  </a:lnTo>
                  <a:lnTo>
                    <a:pt x="74" y="894"/>
                  </a:lnTo>
                  <a:lnTo>
                    <a:pt x="89" y="864"/>
                  </a:lnTo>
                  <a:lnTo>
                    <a:pt x="129" y="785"/>
                  </a:lnTo>
                  <a:lnTo>
                    <a:pt x="158" y="731"/>
                  </a:lnTo>
                  <a:lnTo>
                    <a:pt x="192" y="673"/>
                  </a:lnTo>
                  <a:lnTo>
                    <a:pt x="230" y="608"/>
                  </a:lnTo>
                  <a:lnTo>
                    <a:pt x="274" y="543"/>
                  </a:lnTo>
                  <a:lnTo>
                    <a:pt x="296" y="509"/>
                  </a:lnTo>
                  <a:lnTo>
                    <a:pt x="321" y="476"/>
                  </a:lnTo>
                  <a:lnTo>
                    <a:pt x="345" y="442"/>
                  </a:lnTo>
                  <a:lnTo>
                    <a:pt x="371" y="410"/>
                  </a:lnTo>
                  <a:lnTo>
                    <a:pt x="397" y="379"/>
                  </a:lnTo>
                  <a:lnTo>
                    <a:pt x="423" y="349"/>
                  </a:lnTo>
                  <a:lnTo>
                    <a:pt x="450" y="320"/>
                  </a:lnTo>
                  <a:lnTo>
                    <a:pt x="479" y="293"/>
                  </a:lnTo>
                  <a:lnTo>
                    <a:pt x="506" y="267"/>
                  </a:lnTo>
                  <a:lnTo>
                    <a:pt x="535" y="244"/>
                  </a:lnTo>
                  <a:lnTo>
                    <a:pt x="565" y="224"/>
                  </a:lnTo>
                  <a:lnTo>
                    <a:pt x="593" y="205"/>
                  </a:lnTo>
                  <a:lnTo>
                    <a:pt x="623" y="190"/>
                  </a:lnTo>
                  <a:lnTo>
                    <a:pt x="653" y="178"/>
                  </a:lnTo>
                  <a:lnTo>
                    <a:pt x="682" y="169"/>
                  </a:lnTo>
                  <a:lnTo>
                    <a:pt x="712" y="163"/>
                  </a:lnTo>
                  <a:lnTo>
                    <a:pt x="692" y="139"/>
                  </a:lnTo>
                  <a:lnTo>
                    <a:pt x="649" y="86"/>
                  </a:lnTo>
                  <a:lnTo>
                    <a:pt x="623" y="57"/>
                  </a:lnTo>
                  <a:lnTo>
                    <a:pt x="598" y="31"/>
                  </a:lnTo>
                  <a:lnTo>
                    <a:pt x="586" y="20"/>
                  </a:lnTo>
                  <a:lnTo>
                    <a:pt x="576" y="12"/>
                  </a:lnTo>
                  <a:lnTo>
                    <a:pt x="567" y="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5580000" y="5388120"/>
              <a:ext cx="282600" cy="353880"/>
            </a:xfrm>
            <a:custGeom>
              <a:avLst/>
              <a:gdLst/>
              <a:ahLst/>
              <a:rect l="l" t="t" r="r" b="b"/>
              <a:pathLst>
                <a:path w="711" h="894">
                  <a:moveTo>
                    <a:pt x="560" y="0"/>
                  </a:moveTo>
                  <a:lnTo>
                    <a:pt x="540" y="16"/>
                  </a:lnTo>
                  <a:lnTo>
                    <a:pt x="488" y="62"/>
                  </a:lnTo>
                  <a:lnTo>
                    <a:pt x="454" y="96"/>
                  </a:lnTo>
                  <a:lnTo>
                    <a:pt x="414" y="134"/>
                  </a:lnTo>
                  <a:lnTo>
                    <a:pt x="372" y="179"/>
                  </a:lnTo>
                  <a:lnTo>
                    <a:pt x="326" y="227"/>
                  </a:lnTo>
                  <a:lnTo>
                    <a:pt x="303" y="255"/>
                  </a:lnTo>
                  <a:lnTo>
                    <a:pt x="280" y="282"/>
                  </a:lnTo>
                  <a:lnTo>
                    <a:pt x="256" y="310"/>
                  </a:lnTo>
                  <a:lnTo>
                    <a:pt x="234" y="340"/>
                  </a:lnTo>
                  <a:lnTo>
                    <a:pt x="210" y="370"/>
                  </a:lnTo>
                  <a:lnTo>
                    <a:pt x="188" y="401"/>
                  </a:lnTo>
                  <a:lnTo>
                    <a:pt x="167" y="433"/>
                  </a:lnTo>
                  <a:lnTo>
                    <a:pt x="146" y="466"/>
                  </a:lnTo>
                  <a:lnTo>
                    <a:pt x="126" y="499"/>
                  </a:lnTo>
                  <a:lnTo>
                    <a:pt x="107" y="534"/>
                  </a:lnTo>
                  <a:lnTo>
                    <a:pt x="88" y="569"/>
                  </a:lnTo>
                  <a:lnTo>
                    <a:pt x="72" y="603"/>
                  </a:lnTo>
                  <a:lnTo>
                    <a:pt x="57" y="638"/>
                  </a:lnTo>
                  <a:lnTo>
                    <a:pt x="44" y="674"/>
                  </a:lnTo>
                  <a:lnTo>
                    <a:pt x="33" y="710"/>
                  </a:lnTo>
                  <a:lnTo>
                    <a:pt x="23" y="747"/>
                  </a:lnTo>
                  <a:lnTo>
                    <a:pt x="0" y="844"/>
                  </a:lnTo>
                  <a:lnTo>
                    <a:pt x="75" y="894"/>
                  </a:lnTo>
                  <a:lnTo>
                    <a:pt x="88" y="863"/>
                  </a:lnTo>
                  <a:lnTo>
                    <a:pt x="129" y="781"/>
                  </a:lnTo>
                  <a:lnTo>
                    <a:pt x="158" y="725"/>
                  </a:lnTo>
                  <a:lnTo>
                    <a:pt x="193" y="664"/>
                  </a:lnTo>
                  <a:lnTo>
                    <a:pt x="231" y="597"/>
                  </a:lnTo>
                  <a:lnTo>
                    <a:pt x="274" y="528"/>
                  </a:lnTo>
                  <a:lnTo>
                    <a:pt x="297" y="493"/>
                  </a:lnTo>
                  <a:lnTo>
                    <a:pt x="321" y="459"/>
                  </a:lnTo>
                  <a:lnTo>
                    <a:pt x="344" y="425"/>
                  </a:lnTo>
                  <a:lnTo>
                    <a:pt x="370" y="391"/>
                  </a:lnTo>
                  <a:lnTo>
                    <a:pt x="396" y="359"/>
                  </a:lnTo>
                  <a:lnTo>
                    <a:pt x="423" y="328"/>
                  </a:lnTo>
                  <a:lnTo>
                    <a:pt x="450" y="297"/>
                  </a:lnTo>
                  <a:lnTo>
                    <a:pt x="477" y="270"/>
                  </a:lnTo>
                  <a:lnTo>
                    <a:pt x="506" y="243"/>
                  </a:lnTo>
                  <a:lnTo>
                    <a:pt x="534" y="219"/>
                  </a:lnTo>
                  <a:lnTo>
                    <a:pt x="563" y="198"/>
                  </a:lnTo>
                  <a:lnTo>
                    <a:pt x="593" y="178"/>
                  </a:lnTo>
                  <a:lnTo>
                    <a:pt x="622" y="163"/>
                  </a:lnTo>
                  <a:lnTo>
                    <a:pt x="651" y="150"/>
                  </a:lnTo>
                  <a:lnTo>
                    <a:pt x="681" y="140"/>
                  </a:lnTo>
                  <a:lnTo>
                    <a:pt x="711" y="136"/>
                  </a:lnTo>
                  <a:lnTo>
                    <a:pt x="692" y="116"/>
                  </a:lnTo>
                  <a:lnTo>
                    <a:pt x="649" y="72"/>
                  </a:lnTo>
                  <a:lnTo>
                    <a:pt x="622" y="49"/>
                  </a:lnTo>
                  <a:lnTo>
                    <a:pt x="598" y="26"/>
                  </a:lnTo>
                  <a:lnTo>
                    <a:pt x="586" y="18"/>
                  </a:lnTo>
                  <a:lnTo>
                    <a:pt x="577" y="10"/>
                  </a:lnTo>
                  <a:lnTo>
                    <a:pt x="568" y="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5621400" y="5425920"/>
              <a:ext cx="277920" cy="354240"/>
            </a:xfrm>
            <a:custGeom>
              <a:avLst/>
              <a:gdLst/>
              <a:ahLst/>
              <a:rect l="l" t="t" r="r" b="b"/>
              <a:pathLst>
                <a:path w="698" h="893">
                  <a:moveTo>
                    <a:pt x="566" y="0"/>
                  </a:moveTo>
                  <a:lnTo>
                    <a:pt x="545" y="15"/>
                  </a:lnTo>
                  <a:lnTo>
                    <a:pt x="490" y="58"/>
                  </a:lnTo>
                  <a:lnTo>
                    <a:pt x="453" y="89"/>
                  </a:lnTo>
                  <a:lnTo>
                    <a:pt x="411" y="127"/>
                  </a:lnTo>
                  <a:lnTo>
                    <a:pt x="365" y="169"/>
                  </a:lnTo>
                  <a:lnTo>
                    <a:pt x="318" y="216"/>
                  </a:lnTo>
                  <a:lnTo>
                    <a:pt x="293" y="241"/>
                  </a:lnTo>
                  <a:lnTo>
                    <a:pt x="268" y="268"/>
                  </a:lnTo>
                  <a:lnTo>
                    <a:pt x="243" y="295"/>
                  </a:lnTo>
                  <a:lnTo>
                    <a:pt x="219" y="324"/>
                  </a:lnTo>
                  <a:lnTo>
                    <a:pt x="195" y="352"/>
                  </a:lnTo>
                  <a:lnTo>
                    <a:pt x="171" y="383"/>
                  </a:lnTo>
                  <a:lnTo>
                    <a:pt x="149" y="414"/>
                  </a:lnTo>
                  <a:lnTo>
                    <a:pt x="126" y="447"/>
                  </a:lnTo>
                  <a:lnTo>
                    <a:pt x="105" y="479"/>
                  </a:lnTo>
                  <a:lnTo>
                    <a:pt x="85" y="512"/>
                  </a:lnTo>
                  <a:lnTo>
                    <a:pt x="67" y="546"/>
                  </a:lnTo>
                  <a:lnTo>
                    <a:pt x="51" y="581"/>
                  </a:lnTo>
                  <a:lnTo>
                    <a:pt x="34" y="615"/>
                  </a:lnTo>
                  <a:lnTo>
                    <a:pt x="21" y="651"/>
                  </a:lnTo>
                  <a:lnTo>
                    <a:pt x="10" y="687"/>
                  </a:lnTo>
                  <a:lnTo>
                    <a:pt x="0" y="723"/>
                  </a:lnTo>
                  <a:lnTo>
                    <a:pt x="6" y="844"/>
                  </a:lnTo>
                  <a:lnTo>
                    <a:pt x="80" y="893"/>
                  </a:lnTo>
                  <a:lnTo>
                    <a:pt x="94" y="865"/>
                  </a:lnTo>
                  <a:lnTo>
                    <a:pt x="133" y="788"/>
                  </a:lnTo>
                  <a:lnTo>
                    <a:pt x="160" y="737"/>
                  </a:lnTo>
                  <a:lnTo>
                    <a:pt x="192" y="680"/>
                  </a:lnTo>
                  <a:lnTo>
                    <a:pt x="228" y="619"/>
                  </a:lnTo>
                  <a:lnTo>
                    <a:pt x="269" y="555"/>
                  </a:lnTo>
                  <a:lnTo>
                    <a:pt x="291" y="522"/>
                  </a:lnTo>
                  <a:lnTo>
                    <a:pt x="314" y="490"/>
                  </a:lnTo>
                  <a:lnTo>
                    <a:pt x="337" y="459"/>
                  </a:lnTo>
                  <a:lnTo>
                    <a:pt x="362" y="428"/>
                  </a:lnTo>
                  <a:lnTo>
                    <a:pt x="387" y="397"/>
                  </a:lnTo>
                  <a:lnTo>
                    <a:pt x="413" y="369"/>
                  </a:lnTo>
                  <a:lnTo>
                    <a:pt x="439" y="340"/>
                  </a:lnTo>
                  <a:lnTo>
                    <a:pt x="467" y="314"/>
                  </a:lnTo>
                  <a:lnTo>
                    <a:pt x="494" y="290"/>
                  </a:lnTo>
                  <a:lnTo>
                    <a:pt x="522" y="268"/>
                  </a:lnTo>
                  <a:lnTo>
                    <a:pt x="551" y="247"/>
                  </a:lnTo>
                  <a:lnTo>
                    <a:pt x="580" y="230"/>
                  </a:lnTo>
                  <a:lnTo>
                    <a:pt x="608" y="215"/>
                  </a:lnTo>
                  <a:lnTo>
                    <a:pt x="638" y="204"/>
                  </a:lnTo>
                  <a:lnTo>
                    <a:pt x="668" y="195"/>
                  </a:lnTo>
                  <a:lnTo>
                    <a:pt x="698" y="189"/>
                  </a:lnTo>
                  <a:lnTo>
                    <a:pt x="693" y="181"/>
                  </a:lnTo>
                  <a:lnTo>
                    <a:pt x="681" y="161"/>
                  </a:lnTo>
                  <a:lnTo>
                    <a:pt x="664" y="133"/>
                  </a:lnTo>
                  <a:lnTo>
                    <a:pt x="644" y="99"/>
                  </a:lnTo>
                  <a:lnTo>
                    <a:pt x="622" y="65"/>
                  </a:lnTo>
                  <a:lnTo>
                    <a:pt x="601" y="35"/>
                  </a:lnTo>
                  <a:lnTo>
                    <a:pt x="591" y="22"/>
                  </a:lnTo>
                  <a:lnTo>
                    <a:pt x="581" y="11"/>
                  </a:lnTo>
                  <a:lnTo>
                    <a:pt x="573" y="4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5649840" y="5465880"/>
              <a:ext cx="281160" cy="355320"/>
            </a:xfrm>
            <a:custGeom>
              <a:avLst/>
              <a:gdLst/>
              <a:ahLst/>
              <a:rect l="l" t="t" r="r" b="b"/>
              <a:pathLst>
                <a:path w="706" h="893">
                  <a:moveTo>
                    <a:pt x="560" y="0"/>
                  </a:moveTo>
                  <a:lnTo>
                    <a:pt x="540" y="16"/>
                  </a:lnTo>
                  <a:lnTo>
                    <a:pt x="489" y="61"/>
                  </a:lnTo>
                  <a:lnTo>
                    <a:pt x="454" y="94"/>
                  </a:lnTo>
                  <a:lnTo>
                    <a:pt x="415" y="133"/>
                  </a:lnTo>
                  <a:lnTo>
                    <a:pt x="371" y="177"/>
                  </a:lnTo>
                  <a:lnTo>
                    <a:pt x="326" y="227"/>
                  </a:lnTo>
                  <a:lnTo>
                    <a:pt x="303" y="253"/>
                  </a:lnTo>
                  <a:lnTo>
                    <a:pt x="279" y="280"/>
                  </a:lnTo>
                  <a:lnTo>
                    <a:pt x="257" y="309"/>
                  </a:lnTo>
                  <a:lnTo>
                    <a:pt x="233" y="339"/>
                  </a:lnTo>
                  <a:lnTo>
                    <a:pt x="211" y="368"/>
                  </a:lnTo>
                  <a:lnTo>
                    <a:pt x="189" y="401"/>
                  </a:lnTo>
                  <a:lnTo>
                    <a:pt x="166" y="432"/>
                  </a:lnTo>
                  <a:lnTo>
                    <a:pt x="146" y="465"/>
                  </a:lnTo>
                  <a:lnTo>
                    <a:pt x="125" y="499"/>
                  </a:lnTo>
                  <a:lnTo>
                    <a:pt x="107" y="532"/>
                  </a:lnTo>
                  <a:lnTo>
                    <a:pt x="89" y="567"/>
                  </a:lnTo>
                  <a:lnTo>
                    <a:pt x="73" y="602"/>
                  </a:lnTo>
                  <a:lnTo>
                    <a:pt x="57" y="638"/>
                  </a:lnTo>
                  <a:lnTo>
                    <a:pt x="45" y="672"/>
                  </a:lnTo>
                  <a:lnTo>
                    <a:pt x="32" y="709"/>
                  </a:lnTo>
                  <a:lnTo>
                    <a:pt x="23" y="745"/>
                  </a:lnTo>
                  <a:lnTo>
                    <a:pt x="0" y="842"/>
                  </a:lnTo>
                  <a:lnTo>
                    <a:pt x="74" y="893"/>
                  </a:lnTo>
                  <a:lnTo>
                    <a:pt x="89" y="865"/>
                  </a:lnTo>
                  <a:lnTo>
                    <a:pt x="129" y="790"/>
                  </a:lnTo>
                  <a:lnTo>
                    <a:pt x="158" y="740"/>
                  </a:lnTo>
                  <a:lnTo>
                    <a:pt x="191" y="686"/>
                  </a:lnTo>
                  <a:lnTo>
                    <a:pt x="228" y="625"/>
                  </a:lnTo>
                  <a:lnTo>
                    <a:pt x="272" y="563"/>
                  </a:lnTo>
                  <a:lnTo>
                    <a:pt x="294" y="532"/>
                  </a:lnTo>
                  <a:lnTo>
                    <a:pt x="318" y="501"/>
                  </a:lnTo>
                  <a:lnTo>
                    <a:pt x="341" y="470"/>
                  </a:lnTo>
                  <a:lnTo>
                    <a:pt x="366" y="440"/>
                  </a:lnTo>
                  <a:lnTo>
                    <a:pt x="392" y="410"/>
                  </a:lnTo>
                  <a:lnTo>
                    <a:pt x="418" y="383"/>
                  </a:lnTo>
                  <a:lnTo>
                    <a:pt x="446" y="356"/>
                  </a:lnTo>
                  <a:lnTo>
                    <a:pt x="473" y="330"/>
                  </a:lnTo>
                  <a:lnTo>
                    <a:pt x="502" y="306"/>
                  </a:lnTo>
                  <a:lnTo>
                    <a:pt x="530" y="284"/>
                  </a:lnTo>
                  <a:lnTo>
                    <a:pt x="559" y="265"/>
                  </a:lnTo>
                  <a:lnTo>
                    <a:pt x="587" y="248"/>
                  </a:lnTo>
                  <a:lnTo>
                    <a:pt x="617" y="233"/>
                  </a:lnTo>
                  <a:lnTo>
                    <a:pt x="647" y="222"/>
                  </a:lnTo>
                  <a:lnTo>
                    <a:pt x="677" y="213"/>
                  </a:lnTo>
                  <a:lnTo>
                    <a:pt x="706" y="208"/>
                  </a:lnTo>
                  <a:lnTo>
                    <a:pt x="701" y="200"/>
                  </a:lnTo>
                  <a:lnTo>
                    <a:pt x="688" y="177"/>
                  </a:lnTo>
                  <a:lnTo>
                    <a:pt x="669" y="145"/>
                  </a:lnTo>
                  <a:lnTo>
                    <a:pt x="646" y="108"/>
                  </a:lnTo>
                  <a:lnTo>
                    <a:pt x="621" y="71"/>
                  </a:lnTo>
                  <a:lnTo>
                    <a:pt x="597" y="37"/>
                  </a:lnTo>
                  <a:lnTo>
                    <a:pt x="586" y="23"/>
                  </a:lnTo>
                  <a:lnTo>
                    <a:pt x="576" y="12"/>
                  </a:lnTo>
                  <a:lnTo>
                    <a:pt x="567" y="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5664240" y="5530680"/>
              <a:ext cx="297000" cy="331920"/>
            </a:xfrm>
            <a:custGeom>
              <a:avLst/>
              <a:gdLst/>
              <a:ahLst/>
              <a:rect l="l" t="t" r="r" b="b"/>
              <a:pathLst>
                <a:path w="749" h="834">
                  <a:moveTo>
                    <a:pt x="637" y="0"/>
                  </a:moveTo>
                  <a:lnTo>
                    <a:pt x="618" y="15"/>
                  </a:lnTo>
                  <a:lnTo>
                    <a:pt x="562" y="54"/>
                  </a:lnTo>
                  <a:lnTo>
                    <a:pt x="523" y="83"/>
                  </a:lnTo>
                  <a:lnTo>
                    <a:pt x="481" y="117"/>
                  </a:lnTo>
                  <a:lnTo>
                    <a:pt x="434" y="157"/>
                  </a:lnTo>
                  <a:lnTo>
                    <a:pt x="384" y="200"/>
                  </a:lnTo>
                  <a:lnTo>
                    <a:pt x="358" y="224"/>
                  </a:lnTo>
                  <a:lnTo>
                    <a:pt x="333" y="248"/>
                  </a:lnTo>
                  <a:lnTo>
                    <a:pt x="307" y="275"/>
                  </a:lnTo>
                  <a:lnTo>
                    <a:pt x="281" y="301"/>
                  </a:lnTo>
                  <a:lnTo>
                    <a:pt x="255" y="328"/>
                  </a:lnTo>
                  <a:lnTo>
                    <a:pt x="230" y="356"/>
                  </a:lnTo>
                  <a:lnTo>
                    <a:pt x="205" y="386"/>
                  </a:lnTo>
                  <a:lnTo>
                    <a:pt x="182" y="416"/>
                  </a:lnTo>
                  <a:lnTo>
                    <a:pt x="159" y="447"/>
                  </a:lnTo>
                  <a:lnTo>
                    <a:pt x="137" y="479"/>
                  </a:lnTo>
                  <a:lnTo>
                    <a:pt x="116" y="511"/>
                  </a:lnTo>
                  <a:lnTo>
                    <a:pt x="96" y="544"/>
                  </a:lnTo>
                  <a:lnTo>
                    <a:pt x="77" y="577"/>
                  </a:lnTo>
                  <a:lnTo>
                    <a:pt x="61" y="612"/>
                  </a:lnTo>
                  <a:lnTo>
                    <a:pt x="46" y="647"/>
                  </a:lnTo>
                  <a:lnTo>
                    <a:pt x="33" y="681"/>
                  </a:lnTo>
                  <a:lnTo>
                    <a:pt x="0" y="776"/>
                  </a:lnTo>
                  <a:lnTo>
                    <a:pt x="71" y="834"/>
                  </a:lnTo>
                  <a:lnTo>
                    <a:pt x="87" y="806"/>
                  </a:lnTo>
                  <a:lnTo>
                    <a:pt x="132" y="734"/>
                  </a:lnTo>
                  <a:lnTo>
                    <a:pt x="163" y="684"/>
                  </a:lnTo>
                  <a:lnTo>
                    <a:pt x="202" y="629"/>
                  </a:lnTo>
                  <a:lnTo>
                    <a:pt x="244" y="572"/>
                  </a:lnTo>
                  <a:lnTo>
                    <a:pt x="290" y="511"/>
                  </a:lnTo>
                  <a:lnTo>
                    <a:pt x="315" y="482"/>
                  </a:lnTo>
                  <a:lnTo>
                    <a:pt x="341" y="452"/>
                  </a:lnTo>
                  <a:lnTo>
                    <a:pt x="367" y="422"/>
                  </a:lnTo>
                  <a:lnTo>
                    <a:pt x="394" y="394"/>
                  </a:lnTo>
                  <a:lnTo>
                    <a:pt x="421" y="366"/>
                  </a:lnTo>
                  <a:lnTo>
                    <a:pt x="450" y="339"/>
                  </a:lnTo>
                  <a:lnTo>
                    <a:pt x="479" y="314"/>
                  </a:lnTo>
                  <a:lnTo>
                    <a:pt x="508" y="291"/>
                  </a:lnTo>
                  <a:lnTo>
                    <a:pt x="538" y="270"/>
                  </a:lnTo>
                  <a:lnTo>
                    <a:pt x="568" y="250"/>
                  </a:lnTo>
                  <a:lnTo>
                    <a:pt x="598" y="232"/>
                  </a:lnTo>
                  <a:lnTo>
                    <a:pt x="629" y="217"/>
                  </a:lnTo>
                  <a:lnTo>
                    <a:pt x="659" y="206"/>
                  </a:lnTo>
                  <a:lnTo>
                    <a:pt x="688" y="198"/>
                  </a:lnTo>
                  <a:lnTo>
                    <a:pt x="719" y="193"/>
                  </a:lnTo>
                  <a:lnTo>
                    <a:pt x="749" y="190"/>
                  </a:lnTo>
                  <a:lnTo>
                    <a:pt x="745" y="183"/>
                  </a:lnTo>
                  <a:lnTo>
                    <a:pt x="737" y="163"/>
                  </a:lnTo>
                  <a:lnTo>
                    <a:pt x="723" y="134"/>
                  </a:lnTo>
                  <a:lnTo>
                    <a:pt x="706" y="102"/>
                  </a:lnTo>
                  <a:lnTo>
                    <a:pt x="687" y="67"/>
                  </a:lnTo>
                  <a:lnTo>
                    <a:pt x="670" y="38"/>
                  </a:lnTo>
                  <a:lnTo>
                    <a:pt x="661" y="24"/>
                  </a:lnTo>
                  <a:lnTo>
                    <a:pt x="652" y="14"/>
                  </a:lnTo>
                  <a:lnTo>
                    <a:pt x="645" y="5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5661000" y="5583240"/>
              <a:ext cx="324000" cy="325440"/>
            </a:xfrm>
            <a:custGeom>
              <a:avLst/>
              <a:gdLst/>
              <a:ahLst/>
              <a:rect l="l" t="t" r="r" b="b"/>
              <a:pathLst>
                <a:path w="816" h="821">
                  <a:moveTo>
                    <a:pt x="715" y="0"/>
                  </a:moveTo>
                  <a:lnTo>
                    <a:pt x="694" y="13"/>
                  </a:lnTo>
                  <a:lnTo>
                    <a:pt x="636" y="53"/>
                  </a:lnTo>
                  <a:lnTo>
                    <a:pt x="597" y="82"/>
                  </a:lnTo>
                  <a:lnTo>
                    <a:pt x="553" y="115"/>
                  </a:lnTo>
                  <a:lnTo>
                    <a:pt x="504" y="154"/>
                  </a:lnTo>
                  <a:lnTo>
                    <a:pt x="452" y="197"/>
                  </a:lnTo>
                  <a:lnTo>
                    <a:pt x="397" y="246"/>
                  </a:lnTo>
                  <a:lnTo>
                    <a:pt x="343" y="296"/>
                  </a:lnTo>
                  <a:lnTo>
                    <a:pt x="315" y="324"/>
                  </a:lnTo>
                  <a:lnTo>
                    <a:pt x="289" y="352"/>
                  </a:lnTo>
                  <a:lnTo>
                    <a:pt x="262" y="381"/>
                  </a:lnTo>
                  <a:lnTo>
                    <a:pt x="236" y="409"/>
                  </a:lnTo>
                  <a:lnTo>
                    <a:pt x="211" y="440"/>
                  </a:lnTo>
                  <a:lnTo>
                    <a:pt x="186" y="470"/>
                  </a:lnTo>
                  <a:lnTo>
                    <a:pt x="164" y="502"/>
                  </a:lnTo>
                  <a:lnTo>
                    <a:pt x="142" y="533"/>
                  </a:lnTo>
                  <a:lnTo>
                    <a:pt x="120" y="566"/>
                  </a:lnTo>
                  <a:lnTo>
                    <a:pt x="101" y="599"/>
                  </a:lnTo>
                  <a:lnTo>
                    <a:pt x="83" y="633"/>
                  </a:lnTo>
                  <a:lnTo>
                    <a:pt x="67" y="666"/>
                  </a:lnTo>
                  <a:lnTo>
                    <a:pt x="0" y="741"/>
                  </a:lnTo>
                  <a:lnTo>
                    <a:pt x="89" y="821"/>
                  </a:lnTo>
                  <a:lnTo>
                    <a:pt x="108" y="793"/>
                  </a:lnTo>
                  <a:lnTo>
                    <a:pt x="158" y="718"/>
                  </a:lnTo>
                  <a:lnTo>
                    <a:pt x="194" y="669"/>
                  </a:lnTo>
                  <a:lnTo>
                    <a:pt x="236" y="614"/>
                  </a:lnTo>
                  <a:lnTo>
                    <a:pt x="282" y="556"/>
                  </a:lnTo>
                  <a:lnTo>
                    <a:pt x="334" y="495"/>
                  </a:lnTo>
                  <a:lnTo>
                    <a:pt x="360" y="465"/>
                  </a:lnTo>
                  <a:lnTo>
                    <a:pt x="389" y="435"/>
                  </a:lnTo>
                  <a:lnTo>
                    <a:pt x="417" y="407"/>
                  </a:lnTo>
                  <a:lnTo>
                    <a:pt x="446" y="378"/>
                  </a:lnTo>
                  <a:lnTo>
                    <a:pt x="476" y="351"/>
                  </a:lnTo>
                  <a:lnTo>
                    <a:pt x="507" y="325"/>
                  </a:lnTo>
                  <a:lnTo>
                    <a:pt x="538" y="301"/>
                  </a:lnTo>
                  <a:lnTo>
                    <a:pt x="569" y="279"/>
                  </a:lnTo>
                  <a:lnTo>
                    <a:pt x="600" y="258"/>
                  </a:lnTo>
                  <a:lnTo>
                    <a:pt x="631" y="241"/>
                  </a:lnTo>
                  <a:lnTo>
                    <a:pt x="662" y="226"/>
                  </a:lnTo>
                  <a:lnTo>
                    <a:pt x="693" y="213"/>
                  </a:lnTo>
                  <a:lnTo>
                    <a:pt x="724" y="203"/>
                  </a:lnTo>
                  <a:lnTo>
                    <a:pt x="755" y="197"/>
                  </a:lnTo>
                  <a:lnTo>
                    <a:pt x="786" y="195"/>
                  </a:lnTo>
                  <a:lnTo>
                    <a:pt x="816" y="196"/>
                  </a:lnTo>
                  <a:lnTo>
                    <a:pt x="813" y="188"/>
                  </a:lnTo>
                  <a:lnTo>
                    <a:pt x="805" y="169"/>
                  </a:lnTo>
                  <a:lnTo>
                    <a:pt x="792" y="139"/>
                  </a:lnTo>
                  <a:lnTo>
                    <a:pt x="777" y="105"/>
                  </a:lnTo>
                  <a:lnTo>
                    <a:pt x="760" y="71"/>
                  </a:lnTo>
                  <a:lnTo>
                    <a:pt x="744" y="38"/>
                  </a:lnTo>
                  <a:lnTo>
                    <a:pt x="735" y="25"/>
                  </a:lnTo>
                  <a:lnTo>
                    <a:pt x="728" y="13"/>
                  </a:lnTo>
                  <a:lnTo>
                    <a:pt x="721" y="5"/>
                  </a:lnTo>
                  <a:lnTo>
                    <a:pt x="715" y="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5559480" y="5224320"/>
              <a:ext cx="88920" cy="100080"/>
            </a:xfrm>
            <a:custGeom>
              <a:avLst/>
              <a:gdLst/>
              <a:ahLst/>
              <a:rect l="l" t="t" r="r" b="b"/>
              <a:pathLst>
                <a:path w="225" h="249">
                  <a:moveTo>
                    <a:pt x="225" y="124"/>
                  </a:moveTo>
                  <a:lnTo>
                    <a:pt x="224" y="136"/>
                  </a:lnTo>
                  <a:lnTo>
                    <a:pt x="222" y="149"/>
                  </a:lnTo>
                  <a:lnTo>
                    <a:pt x="220" y="161"/>
                  </a:lnTo>
                  <a:lnTo>
                    <a:pt x="216" y="172"/>
                  </a:lnTo>
                  <a:lnTo>
                    <a:pt x="211" y="183"/>
                  </a:lnTo>
                  <a:lnTo>
                    <a:pt x="205" y="193"/>
                  </a:lnTo>
                  <a:lnTo>
                    <a:pt x="199" y="203"/>
                  </a:lnTo>
                  <a:lnTo>
                    <a:pt x="191" y="212"/>
                  </a:lnTo>
                  <a:lnTo>
                    <a:pt x="184" y="221"/>
                  </a:lnTo>
                  <a:lnTo>
                    <a:pt x="175" y="228"/>
                  </a:lnTo>
                  <a:lnTo>
                    <a:pt x="165" y="234"/>
                  </a:lnTo>
                  <a:lnTo>
                    <a:pt x="157" y="239"/>
                  </a:lnTo>
                  <a:lnTo>
                    <a:pt x="145" y="243"/>
                  </a:lnTo>
                  <a:lnTo>
                    <a:pt x="136" y="247"/>
                  </a:lnTo>
                  <a:lnTo>
                    <a:pt x="124" y="248"/>
                  </a:lnTo>
                  <a:lnTo>
                    <a:pt x="112" y="249"/>
                  </a:lnTo>
                  <a:lnTo>
                    <a:pt x="101" y="248"/>
                  </a:lnTo>
                  <a:lnTo>
                    <a:pt x="90" y="247"/>
                  </a:lnTo>
                  <a:lnTo>
                    <a:pt x="80" y="243"/>
                  </a:lnTo>
                  <a:lnTo>
                    <a:pt x="68" y="239"/>
                  </a:lnTo>
                  <a:lnTo>
                    <a:pt x="59" y="234"/>
                  </a:lnTo>
                  <a:lnTo>
                    <a:pt x="50" y="228"/>
                  </a:lnTo>
                  <a:lnTo>
                    <a:pt x="41" y="221"/>
                  </a:lnTo>
                  <a:lnTo>
                    <a:pt x="34" y="212"/>
                  </a:lnTo>
                  <a:lnTo>
                    <a:pt x="26" y="203"/>
                  </a:lnTo>
                  <a:lnTo>
                    <a:pt x="20" y="193"/>
                  </a:lnTo>
                  <a:lnTo>
                    <a:pt x="14" y="183"/>
                  </a:lnTo>
                  <a:lnTo>
                    <a:pt x="9" y="172"/>
                  </a:lnTo>
                  <a:lnTo>
                    <a:pt x="5" y="161"/>
                  </a:lnTo>
                  <a:lnTo>
                    <a:pt x="3" y="149"/>
                  </a:lnTo>
                  <a:lnTo>
                    <a:pt x="1" y="136"/>
                  </a:lnTo>
                  <a:lnTo>
                    <a:pt x="0" y="124"/>
                  </a:lnTo>
                  <a:lnTo>
                    <a:pt x="1" y="112"/>
                  </a:lnTo>
                  <a:lnTo>
                    <a:pt x="3" y="99"/>
                  </a:lnTo>
                  <a:lnTo>
                    <a:pt x="5" y="87"/>
                  </a:lnTo>
                  <a:lnTo>
                    <a:pt x="9" y="76"/>
                  </a:lnTo>
                  <a:lnTo>
                    <a:pt x="14" y="64"/>
                  </a:lnTo>
                  <a:lnTo>
                    <a:pt x="20" y="54"/>
                  </a:lnTo>
                  <a:lnTo>
                    <a:pt x="26" y="45"/>
                  </a:lnTo>
                  <a:lnTo>
                    <a:pt x="34" y="36"/>
                  </a:lnTo>
                  <a:lnTo>
                    <a:pt x="41" y="28"/>
                  </a:lnTo>
                  <a:lnTo>
                    <a:pt x="50" y="21"/>
                  </a:lnTo>
                  <a:lnTo>
                    <a:pt x="59" y="15"/>
                  </a:lnTo>
                  <a:lnTo>
                    <a:pt x="68" y="10"/>
                  </a:lnTo>
                  <a:lnTo>
                    <a:pt x="80" y="5"/>
                  </a:lnTo>
                  <a:lnTo>
                    <a:pt x="90" y="2"/>
                  </a:lnTo>
                  <a:lnTo>
                    <a:pt x="101" y="0"/>
                  </a:lnTo>
                  <a:lnTo>
                    <a:pt x="112" y="0"/>
                  </a:lnTo>
                  <a:lnTo>
                    <a:pt x="124" y="0"/>
                  </a:lnTo>
                  <a:lnTo>
                    <a:pt x="136" y="2"/>
                  </a:lnTo>
                  <a:lnTo>
                    <a:pt x="145" y="5"/>
                  </a:lnTo>
                  <a:lnTo>
                    <a:pt x="157" y="10"/>
                  </a:lnTo>
                  <a:lnTo>
                    <a:pt x="165" y="15"/>
                  </a:lnTo>
                  <a:lnTo>
                    <a:pt x="175" y="21"/>
                  </a:lnTo>
                  <a:lnTo>
                    <a:pt x="184" y="28"/>
                  </a:lnTo>
                  <a:lnTo>
                    <a:pt x="191" y="36"/>
                  </a:lnTo>
                  <a:lnTo>
                    <a:pt x="199" y="45"/>
                  </a:lnTo>
                  <a:lnTo>
                    <a:pt x="205" y="54"/>
                  </a:lnTo>
                  <a:lnTo>
                    <a:pt x="211" y="64"/>
                  </a:lnTo>
                  <a:lnTo>
                    <a:pt x="216" y="76"/>
                  </a:lnTo>
                  <a:lnTo>
                    <a:pt x="220" y="87"/>
                  </a:lnTo>
                  <a:lnTo>
                    <a:pt x="222" y="99"/>
                  </a:lnTo>
                  <a:lnTo>
                    <a:pt x="224" y="112"/>
                  </a:lnTo>
                  <a:lnTo>
                    <a:pt x="225" y="124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5575320" y="5229360"/>
              <a:ext cx="52200" cy="44280"/>
            </a:xfrm>
            <a:custGeom>
              <a:avLst/>
              <a:gdLst/>
              <a:ahLst/>
              <a:rect l="l" t="t" r="r" b="b"/>
              <a:pathLst>
                <a:path w="130" h="112">
                  <a:moveTo>
                    <a:pt x="130" y="55"/>
                  </a:moveTo>
                  <a:lnTo>
                    <a:pt x="130" y="62"/>
                  </a:lnTo>
                  <a:lnTo>
                    <a:pt x="129" y="68"/>
                  </a:lnTo>
                  <a:lnTo>
                    <a:pt x="128" y="73"/>
                  </a:lnTo>
                  <a:lnTo>
                    <a:pt x="125" y="78"/>
                  </a:lnTo>
                  <a:lnTo>
                    <a:pt x="119" y="88"/>
                  </a:lnTo>
                  <a:lnTo>
                    <a:pt x="112" y="95"/>
                  </a:lnTo>
                  <a:lnTo>
                    <a:pt x="102" y="103"/>
                  </a:lnTo>
                  <a:lnTo>
                    <a:pt x="91" y="107"/>
                  </a:lnTo>
                  <a:lnTo>
                    <a:pt x="78" y="111"/>
                  </a:lnTo>
                  <a:lnTo>
                    <a:pt x="66" y="112"/>
                  </a:lnTo>
                  <a:lnTo>
                    <a:pt x="52" y="111"/>
                  </a:lnTo>
                  <a:lnTo>
                    <a:pt x="40" y="107"/>
                  </a:lnTo>
                  <a:lnTo>
                    <a:pt x="28" y="103"/>
                  </a:lnTo>
                  <a:lnTo>
                    <a:pt x="20" y="95"/>
                  </a:lnTo>
                  <a:lnTo>
                    <a:pt x="11" y="88"/>
                  </a:lnTo>
                  <a:lnTo>
                    <a:pt x="5" y="78"/>
                  </a:lnTo>
                  <a:lnTo>
                    <a:pt x="2" y="73"/>
                  </a:lnTo>
                  <a:lnTo>
                    <a:pt x="1" y="68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2" y="39"/>
                  </a:lnTo>
                  <a:lnTo>
                    <a:pt x="5" y="34"/>
                  </a:lnTo>
                  <a:lnTo>
                    <a:pt x="11" y="24"/>
                  </a:lnTo>
                  <a:lnTo>
                    <a:pt x="20" y="17"/>
                  </a:lnTo>
                  <a:lnTo>
                    <a:pt x="28" y="9"/>
                  </a:lnTo>
                  <a:lnTo>
                    <a:pt x="40" y="5"/>
                  </a:lnTo>
                  <a:lnTo>
                    <a:pt x="52" y="1"/>
                  </a:lnTo>
                  <a:lnTo>
                    <a:pt x="66" y="0"/>
                  </a:lnTo>
                  <a:lnTo>
                    <a:pt x="78" y="1"/>
                  </a:lnTo>
                  <a:lnTo>
                    <a:pt x="91" y="5"/>
                  </a:lnTo>
                  <a:lnTo>
                    <a:pt x="102" y="9"/>
                  </a:lnTo>
                  <a:lnTo>
                    <a:pt x="112" y="17"/>
                  </a:lnTo>
                  <a:lnTo>
                    <a:pt x="119" y="24"/>
                  </a:lnTo>
                  <a:lnTo>
                    <a:pt x="125" y="34"/>
                  </a:lnTo>
                  <a:lnTo>
                    <a:pt x="128" y="39"/>
                  </a:lnTo>
                  <a:lnTo>
                    <a:pt x="129" y="44"/>
                  </a:lnTo>
                  <a:lnTo>
                    <a:pt x="130" y="50"/>
                  </a:lnTo>
                  <a:lnTo>
                    <a:pt x="130" y="55"/>
                  </a:lnTo>
                  <a:close/>
                </a:path>
              </a:pathLst>
            </a:custGeom>
            <a:solidFill>
              <a:srgbClr val="c3d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5411880" y="5375160"/>
              <a:ext cx="88920" cy="98640"/>
            </a:xfrm>
            <a:custGeom>
              <a:avLst/>
              <a:gdLst/>
              <a:ahLst/>
              <a:rect l="l" t="t" r="r" b="b"/>
              <a:pathLst>
                <a:path w="223" h="250">
                  <a:moveTo>
                    <a:pt x="223" y="126"/>
                  </a:moveTo>
                  <a:lnTo>
                    <a:pt x="223" y="138"/>
                  </a:lnTo>
                  <a:lnTo>
                    <a:pt x="222" y="150"/>
                  </a:lnTo>
                  <a:lnTo>
                    <a:pt x="218" y="162"/>
                  </a:lnTo>
                  <a:lnTo>
                    <a:pt x="214" y="174"/>
                  </a:lnTo>
                  <a:lnTo>
                    <a:pt x="210" y="184"/>
                  </a:lnTo>
                  <a:lnTo>
                    <a:pt x="205" y="195"/>
                  </a:lnTo>
                  <a:lnTo>
                    <a:pt x="198" y="205"/>
                  </a:lnTo>
                  <a:lnTo>
                    <a:pt x="191" y="214"/>
                  </a:lnTo>
                  <a:lnTo>
                    <a:pt x="182" y="221"/>
                  </a:lnTo>
                  <a:lnTo>
                    <a:pt x="174" y="229"/>
                  </a:lnTo>
                  <a:lnTo>
                    <a:pt x="165" y="235"/>
                  </a:lnTo>
                  <a:lnTo>
                    <a:pt x="155" y="240"/>
                  </a:lnTo>
                  <a:lnTo>
                    <a:pt x="145" y="245"/>
                  </a:lnTo>
                  <a:lnTo>
                    <a:pt x="134" y="247"/>
                  </a:lnTo>
                  <a:lnTo>
                    <a:pt x="123" y="250"/>
                  </a:lnTo>
                  <a:lnTo>
                    <a:pt x="111" y="250"/>
                  </a:lnTo>
                  <a:lnTo>
                    <a:pt x="100" y="250"/>
                  </a:lnTo>
                  <a:lnTo>
                    <a:pt x="89" y="247"/>
                  </a:lnTo>
                  <a:lnTo>
                    <a:pt x="78" y="245"/>
                  </a:lnTo>
                  <a:lnTo>
                    <a:pt x="68" y="240"/>
                  </a:lnTo>
                  <a:lnTo>
                    <a:pt x="58" y="235"/>
                  </a:lnTo>
                  <a:lnTo>
                    <a:pt x="48" y="229"/>
                  </a:lnTo>
                  <a:lnTo>
                    <a:pt x="39" y="221"/>
                  </a:lnTo>
                  <a:lnTo>
                    <a:pt x="32" y="214"/>
                  </a:lnTo>
                  <a:lnTo>
                    <a:pt x="24" y="205"/>
                  </a:lnTo>
                  <a:lnTo>
                    <a:pt x="18" y="195"/>
                  </a:lnTo>
                  <a:lnTo>
                    <a:pt x="12" y="184"/>
                  </a:lnTo>
                  <a:lnTo>
                    <a:pt x="8" y="174"/>
                  </a:lnTo>
                  <a:lnTo>
                    <a:pt x="5" y="162"/>
                  </a:lnTo>
                  <a:lnTo>
                    <a:pt x="1" y="150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0" y="112"/>
                  </a:lnTo>
                  <a:lnTo>
                    <a:pt x="1" y="100"/>
                  </a:lnTo>
                  <a:lnTo>
                    <a:pt x="5" y="88"/>
                  </a:lnTo>
                  <a:lnTo>
                    <a:pt x="8" y="77"/>
                  </a:lnTo>
                  <a:lnTo>
                    <a:pt x="12" y="66"/>
                  </a:lnTo>
                  <a:lnTo>
                    <a:pt x="18" y="56"/>
                  </a:lnTo>
                  <a:lnTo>
                    <a:pt x="24" y="46"/>
                  </a:lnTo>
                  <a:lnTo>
                    <a:pt x="32" y="37"/>
                  </a:lnTo>
                  <a:lnTo>
                    <a:pt x="39" y="29"/>
                  </a:lnTo>
                  <a:lnTo>
                    <a:pt x="48" y="21"/>
                  </a:lnTo>
                  <a:lnTo>
                    <a:pt x="58" y="15"/>
                  </a:lnTo>
                  <a:lnTo>
                    <a:pt x="68" y="10"/>
                  </a:lnTo>
                  <a:lnTo>
                    <a:pt x="78" y="6"/>
                  </a:lnTo>
                  <a:lnTo>
                    <a:pt x="89" y="3"/>
                  </a:lnTo>
                  <a:lnTo>
                    <a:pt x="100" y="2"/>
                  </a:lnTo>
                  <a:lnTo>
                    <a:pt x="111" y="0"/>
                  </a:lnTo>
                  <a:lnTo>
                    <a:pt x="123" y="2"/>
                  </a:lnTo>
                  <a:lnTo>
                    <a:pt x="134" y="3"/>
                  </a:lnTo>
                  <a:lnTo>
                    <a:pt x="145" y="6"/>
                  </a:lnTo>
                  <a:lnTo>
                    <a:pt x="155" y="10"/>
                  </a:lnTo>
                  <a:lnTo>
                    <a:pt x="165" y="15"/>
                  </a:lnTo>
                  <a:lnTo>
                    <a:pt x="174" y="21"/>
                  </a:lnTo>
                  <a:lnTo>
                    <a:pt x="182" y="29"/>
                  </a:lnTo>
                  <a:lnTo>
                    <a:pt x="191" y="37"/>
                  </a:lnTo>
                  <a:lnTo>
                    <a:pt x="198" y="46"/>
                  </a:lnTo>
                  <a:lnTo>
                    <a:pt x="205" y="56"/>
                  </a:lnTo>
                  <a:lnTo>
                    <a:pt x="210" y="66"/>
                  </a:lnTo>
                  <a:lnTo>
                    <a:pt x="214" y="77"/>
                  </a:lnTo>
                  <a:lnTo>
                    <a:pt x="218" y="88"/>
                  </a:lnTo>
                  <a:lnTo>
                    <a:pt x="222" y="100"/>
                  </a:lnTo>
                  <a:lnTo>
                    <a:pt x="223" y="112"/>
                  </a:lnTo>
                  <a:lnTo>
                    <a:pt x="223" y="126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5427720" y="5380200"/>
              <a:ext cx="50760" cy="4284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131" y="56"/>
                  </a:moveTo>
                  <a:lnTo>
                    <a:pt x="131" y="62"/>
                  </a:lnTo>
                  <a:lnTo>
                    <a:pt x="130" y="67"/>
                  </a:lnTo>
                  <a:lnTo>
                    <a:pt x="127" y="72"/>
                  </a:lnTo>
                  <a:lnTo>
                    <a:pt x="126" y="77"/>
                  </a:lnTo>
                  <a:lnTo>
                    <a:pt x="120" y="87"/>
                  </a:lnTo>
                  <a:lnTo>
                    <a:pt x="111" y="96"/>
                  </a:lnTo>
                  <a:lnTo>
                    <a:pt x="102" y="102"/>
                  </a:lnTo>
                  <a:lnTo>
                    <a:pt x="91" y="108"/>
                  </a:lnTo>
                  <a:lnTo>
                    <a:pt x="79" y="111"/>
                  </a:lnTo>
                  <a:lnTo>
                    <a:pt x="65" y="112"/>
                  </a:lnTo>
                  <a:lnTo>
                    <a:pt x="53" y="111"/>
                  </a:lnTo>
                  <a:lnTo>
                    <a:pt x="40" y="108"/>
                  </a:lnTo>
                  <a:lnTo>
                    <a:pt x="29" y="102"/>
                  </a:lnTo>
                  <a:lnTo>
                    <a:pt x="19" y="96"/>
                  </a:lnTo>
                  <a:lnTo>
                    <a:pt x="12" y="87"/>
                  </a:lnTo>
                  <a:lnTo>
                    <a:pt x="5" y="77"/>
                  </a:lnTo>
                  <a:lnTo>
                    <a:pt x="3" y="72"/>
                  </a:lnTo>
                  <a:lnTo>
                    <a:pt x="2" y="67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2" y="45"/>
                  </a:lnTo>
                  <a:lnTo>
                    <a:pt x="3" y="39"/>
                  </a:lnTo>
                  <a:lnTo>
                    <a:pt x="5" y="34"/>
                  </a:lnTo>
                  <a:lnTo>
                    <a:pt x="12" y="25"/>
                  </a:lnTo>
                  <a:lnTo>
                    <a:pt x="19" y="16"/>
                  </a:lnTo>
                  <a:lnTo>
                    <a:pt x="29" y="9"/>
                  </a:lnTo>
                  <a:lnTo>
                    <a:pt x="40" y="4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1" y="4"/>
                  </a:lnTo>
                  <a:lnTo>
                    <a:pt x="102" y="9"/>
                  </a:lnTo>
                  <a:lnTo>
                    <a:pt x="111" y="16"/>
                  </a:lnTo>
                  <a:lnTo>
                    <a:pt x="120" y="25"/>
                  </a:lnTo>
                  <a:lnTo>
                    <a:pt x="126" y="34"/>
                  </a:lnTo>
                  <a:lnTo>
                    <a:pt x="127" y="39"/>
                  </a:lnTo>
                  <a:lnTo>
                    <a:pt x="130" y="45"/>
                  </a:lnTo>
                  <a:lnTo>
                    <a:pt x="131" y="50"/>
                  </a:lnTo>
                  <a:lnTo>
                    <a:pt x="131" y="56"/>
                  </a:lnTo>
                  <a:close/>
                </a:path>
              </a:pathLst>
            </a:custGeom>
            <a:solidFill>
              <a:srgbClr val="c3d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5400720" y="5224320"/>
              <a:ext cx="65160" cy="74880"/>
            </a:xfrm>
            <a:custGeom>
              <a:avLst/>
              <a:gdLst/>
              <a:ahLst/>
              <a:rect l="l" t="t" r="r" b="b"/>
              <a:pathLst>
                <a:path w="166" h="185">
                  <a:moveTo>
                    <a:pt x="166" y="92"/>
                  </a:moveTo>
                  <a:lnTo>
                    <a:pt x="166" y="102"/>
                  </a:lnTo>
                  <a:lnTo>
                    <a:pt x="165" y="110"/>
                  </a:lnTo>
                  <a:lnTo>
                    <a:pt x="163" y="119"/>
                  </a:lnTo>
                  <a:lnTo>
                    <a:pt x="160" y="128"/>
                  </a:lnTo>
                  <a:lnTo>
                    <a:pt x="157" y="136"/>
                  </a:lnTo>
                  <a:lnTo>
                    <a:pt x="153" y="144"/>
                  </a:lnTo>
                  <a:lnTo>
                    <a:pt x="148" y="151"/>
                  </a:lnTo>
                  <a:lnTo>
                    <a:pt x="143" y="157"/>
                  </a:lnTo>
                  <a:lnTo>
                    <a:pt x="137" y="164"/>
                  </a:lnTo>
                  <a:lnTo>
                    <a:pt x="130" y="169"/>
                  </a:lnTo>
                  <a:lnTo>
                    <a:pt x="123" y="174"/>
                  </a:lnTo>
                  <a:lnTo>
                    <a:pt x="117" y="177"/>
                  </a:lnTo>
                  <a:lnTo>
                    <a:pt x="108" y="180"/>
                  </a:lnTo>
                  <a:lnTo>
                    <a:pt x="101" y="182"/>
                  </a:lnTo>
                  <a:lnTo>
                    <a:pt x="92" y="183"/>
                  </a:lnTo>
                  <a:lnTo>
                    <a:pt x="85" y="185"/>
                  </a:lnTo>
                  <a:lnTo>
                    <a:pt x="76" y="183"/>
                  </a:lnTo>
                  <a:lnTo>
                    <a:pt x="67" y="182"/>
                  </a:lnTo>
                  <a:lnTo>
                    <a:pt x="58" y="180"/>
                  </a:lnTo>
                  <a:lnTo>
                    <a:pt x="51" y="177"/>
                  </a:lnTo>
                  <a:lnTo>
                    <a:pt x="44" y="174"/>
                  </a:lnTo>
                  <a:lnTo>
                    <a:pt x="37" y="169"/>
                  </a:lnTo>
                  <a:lnTo>
                    <a:pt x="31" y="164"/>
                  </a:lnTo>
                  <a:lnTo>
                    <a:pt x="25" y="157"/>
                  </a:lnTo>
                  <a:lnTo>
                    <a:pt x="20" y="151"/>
                  </a:lnTo>
                  <a:lnTo>
                    <a:pt x="15" y="144"/>
                  </a:lnTo>
                  <a:lnTo>
                    <a:pt x="10" y="136"/>
                  </a:lnTo>
                  <a:lnTo>
                    <a:pt x="8" y="128"/>
                  </a:lnTo>
                  <a:lnTo>
                    <a:pt x="4" y="119"/>
                  </a:lnTo>
                  <a:lnTo>
                    <a:pt x="3" y="110"/>
                  </a:lnTo>
                  <a:lnTo>
                    <a:pt x="1" y="102"/>
                  </a:lnTo>
                  <a:lnTo>
                    <a:pt x="0" y="92"/>
                  </a:lnTo>
                  <a:lnTo>
                    <a:pt x="1" y="83"/>
                  </a:lnTo>
                  <a:lnTo>
                    <a:pt x="3" y="73"/>
                  </a:lnTo>
                  <a:lnTo>
                    <a:pt x="4" y="64"/>
                  </a:lnTo>
                  <a:lnTo>
                    <a:pt x="8" y="56"/>
                  </a:lnTo>
                  <a:lnTo>
                    <a:pt x="10" y="48"/>
                  </a:lnTo>
                  <a:lnTo>
                    <a:pt x="15" y="41"/>
                  </a:lnTo>
                  <a:lnTo>
                    <a:pt x="20" y="33"/>
                  </a:lnTo>
                  <a:lnTo>
                    <a:pt x="25" y="27"/>
                  </a:lnTo>
                  <a:lnTo>
                    <a:pt x="31" y="21"/>
                  </a:lnTo>
                  <a:lnTo>
                    <a:pt x="37" y="16"/>
                  </a:lnTo>
                  <a:lnTo>
                    <a:pt x="44" y="11"/>
                  </a:lnTo>
                  <a:lnTo>
                    <a:pt x="51" y="7"/>
                  </a:lnTo>
                  <a:lnTo>
                    <a:pt x="58" y="4"/>
                  </a:lnTo>
                  <a:lnTo>
                    <a:pt x="67" y="1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1" y="1"/>
                  </a:lnTo>
                  <a:lnTo>
                    <a:pt x="108" y="4"/>
                  </a:lnTo>
                  <a:lnTo>
                    <a:pt x="117" y="7"/>
                  </a:lnTo>
                  <a:lnTo>
                    <a:pt x="123" y="11"/>
                  </a:lnTo>
                  <a:lnTo>
                    <a:pt x="130" y="16"/>
                  </a:lnTo>
                  <a:lnTo>
                    <a:pt x="137" y="21"/>
                  </a:lnTo>
                  <a:lnTo>
                    <a:pt x="143" y="27"/>
                  </a:lnTo>
                  <a:lnTo>
                    <a:pt x="148" y="33"/>
                  </a:lnTo>
                  <a:lnTo>
                    <a:pt x="153" y="41"/>
                  </a:lnTo>
                  <a:lnTo>
                    <a:pt x="157" y="48"/>
                  </a:lnTo>
                  <a:lnTo>
                    <a:pt x="160" y="56"/>
                  </a:lnTo>
                  <a:lnTo>
                    <a:pt x="163" y="64"/>
                  </a:lnTo>
                  <a:lnTo>
                    <a:pt x="165" y="73"/>
                  </a:lnTo>
                  <a:lnTo>
                    <a:pt x="166" y="83"/>
                  </a:lnTo>
                  <a:lnTo>
                    <a:pt x="166" y="92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5411880" y="5227560"/>
              <a:ext cx="38160" cy="3348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97" y="42"/>
                  </a:moveTo>
                  <a:lnTo>
                    <a:pt x="96" y="51"/>
                  </a:lnTo>
                  <a:lnTo>
                    <a:pt x="93" y="58"/>
                  </a:lnTo>
                  <a:lnTo>
                    <a:pt x="88" y="66"/>
                  </a:lnTo>
                  <a:lnTo>
                    <a:pt x="83" y="72"/>
                  </a:lnTo>
                  <a:lnTo>
                    <a:pt x="76" y="77"/>
                  </a:lnTo>
                  <a:lnTo>
                    <a:pt x="67" y="81"/>
                  </a:lnTo>
                  <a:lnTo>
                    <a:pt x="58" y="83"/>
                  </a:lnTo>
                  <a:lnTo>
                    <a:pt x="48" y="83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1" y="77"/>
                  </a:lnTo>
                  <a:lnTo>
                    <a:pt x="15" y="72"/>
                  </a:lnTo>
                  <a:lnTo>
                    <a:pt x="9" y="66"/>
                  </a:lnTo>
                  <a:lnTo>
                    <a:pt x="4" y="58"/>
                  </a:lnTo>
                  <a:lnTo>
                    <a:pt x="1" y="51"/>
                  </a:lnTo>
                  <a:lnTo>
                    <a:pt x="0" y="42"/>
                  </a:lnTo>
                  <a:lnTo>
                    <a:pt x="1" y="34"/>
                  </a:lnTo>
                  <a:lnTo>
                    <a:pt x="4" y="26"/>
                  </a:lnTo>
                  <a:lnTo>
                    <a:pt x="9" y="19"/>
                  </a:lnTo>
                  <a:lnTo>
                    <a:pt x="15" y="12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38" y="1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7" y="4"/>
                  </a:lnTo>
                  <a:lnTo>
                    <a:pt x="76" y="8"/>
                  </a:lnTo>
                  <a:lnTo>
                    <a:pt x="83" y="12"/>
                  </a:lnTo>
                  <a:lnTo>
                    <a:pt x="88" y="19"/>
                  </a:lnTo>
                  <a:lnTo>
                    <a:pt x="93" y="26"/>
                  </a:lnTo>
                  <a:lnTo>
                    <a:pt x="96" y="34"/>
                  </a:lnTo>
                  <a:lnTo>
                    <a:pt x="97" y="42"/>
                  </a:lnTo>
                  <a:close/>
                </a:path>
              </a:pathLst>
            </a:custGeom>
            <a:solidFill>
              <a:srgbClr val="c3d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5489640" y="5302080"/>
              <a:ext cx="66600" cy="73080"/>
            </a:xfrm>
            <a:custGeom>
              <a:avLst/>
              <a:gdLst/>
              <a:ahLst/>
              <a:rect l="l" t="t" r="r" b="b"/>
              <a:pathLst>
                <a:path w="166" h="185">
                  <a:moveTo>
                    <a:pt x="166" y="92"/>
                  </a:moveTo>
                  <a:lnTo>
                    <a:pt x="165" y="102"/>
                  </a:lnTo>
                  <a:lnTo>
                    <a:pt x="164" y="111"/>
                  </a:lnTo>
                  <a:lnTo>
                    <a:pt x="163" y="121"/>
                  </a:lnTo>
                  <a:lnTo>
                    <a:pt x="159" y="128"/>
                  </a:lnTo>
                  <a:lnTo>
                    <a:pt x="155" y="137"/>
                  </a:lnTo>
                  <a:lnTo>
                    <a:pt x="151" y="144"/>
                  </a:lnTo>
                  <a:lnTo>
                    <a:pt x="146" y="152"/>
                  </a:lnTo>
                  <a:lnTo>
                    <a:pt x="141" y="158"/>
                  </a:lnTo>
                  <a:lnTo>
                    <a:pt x="135" y="164"/>
                  </a:lnTo>
                  <a:lnTo>
                    <a:pt x="129" y="169"/>
                  </a:lnTo>
                  <a:lnTo>
                    <a:pt x="123" y="174"/>
                  </a:lnTo>
                  <a:lnTo>
                    <a:pt x="115" y="178"/>
                  </a:lnTo>
                  <a:lnTo>
                    <a:pt x="108" y="182"/>
                  </a:lnTo>
                  <a:lnTo>
                    <a:pt x="99" y="183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74" y="185"/>
                  </a:lnTo>
                  <a:lnTo>
                    <a:pt x="66" y="183"/>
                  </a:lnTo>
                  <a:lnTo>
                    <a:pt x="58" y="182"/>
                  </a:lnTo>
                  <a:lnTo>
                    <a:pt x="51" y="178"/>
                  </a:lnTo>
                  <a:lnTo>
                    <a:pt x="43" y="174"/>
                  </a:lnTo>
                  <a:lnTo>
                    <a:pt x="36" y="169"/>
                  </a:lnTo>
                  <a:lnTo>
                    <a:pt x="30" y="164"/>
                  </a:lnTo>
                  <a:lnTo>
                    <a:pt x="23" y="158"/>
                  </a:lnTo>
                  <a:lnTo>
                    <a:pt x="18" y="152"/>
                  </a:lnTo>
                  <a:lnTo>
                    <a:pt x="14" y="144"/>
                  </a:lnTo>
                  <a:lnTo>
                    <a:pt x="10" y="137"/>
                  </a:lnTo>
                  <a:lnTo>
                    <a:pt x="6" y="128"/>
                  </a:lnTo>
                  <a:lnTo>
                    <a:pt x="4" y="121"/>
                  </a:lnTo>
                  <a:lnTo>
                    <a:pt x="1" y="111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1" y="74"/>
                  </a:lnTo>
                  <a:lnTo>
                    <a:pt x="4" y="65"/>
                  </a:lnTo>
                  <a:lnTo>
                    <a:pt x="6" y="56"/>
                  </a:lnTo>
                  <a:lnTo>
                    <a:pt x="10" y="49"/>
                  </a:lnTo>
                  <a:lnTo>
                    <a:pt x="14" y="41"/>
                  </a:lnTo>
                  <a:lnTo>
                    <a:pt x="18" y="34"/>
                  </a:lnTo>
                  <a:lnTo>
                    <a:pt x="23" y="28"/>
                  </a:lnTo>
                  <a:lnTo>
                    <a:pt x="30" y="22"/>
                  </a:lnTo>
                  <a:lnTo>
                    <a:pt x="36" y="17"/>
                  </a:lnTo>
                  <a:lnTo>
                    <a:pt x="43" y="12"/>
                  </a:lnTo>
                  <a:lnTo>
                    <a:pt x="51" y="8"/>
                  </a:lnTo>
                  <a:lnTo>
                    <a:pt x="58" y="4"/>
                  </a:lnTo>
                  <a:lnTo>
                    <a:pt x="66" y="3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2" y="0"/>
                  </a:lnTo>
                  <a:lnTo>
                    <a:pt x="99" y="3"/>
                  </a:lnTo>
                  <a:lnTo>
                    <a:pt x="108" y="4"/>
                  </a:lnTo>
                  <a:lnTo>
                    <a:pt x="115" y="8"/>
                  </a:lnTo>
                  <a:lnTo>
                    <a:pt x="123" y="12"/>
                  </a:lnTo>
                  <a:lnTo>
                    <a:pt x="129" y="17"/>
                  </a:lnTo>
                  <a:lnTo>
                    <a:pt x="135" y="22"/>
                  </a:lnTo>
                  <a:lnTo>
                    <a:pt x="141" y="28"/>
                  </a:lnTo>
                  <a:lnTo>
                    <a:pt x="146" y="34"/>
                  </a:lnTo>
                  <a:lnTo>
                    <a:pt x="151" y="41"/>
                  </a:lnTo>
                  <a:lnTo>
                    <a:pt x="155" y="49"/>
                  </a:lnTo>
                  <a:lnTo>
                    <a:pt x="159" y="56"/>
                  </a:lnTo>
                  <a:lnTo>
                    <a:pt x="163" y="65"/>
                  </a:lnTo>
                  <a:lnTo>
                    <a:pt x="164" y="74"/>
                  </a:lnTo>
                  <a:lnTo>
                    <a:pt x="165" y="84"/>
                  </a:lnTo>
                  <a:lnTo>
                    <a:pt x="166" y="92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5500800" y="5305320"/>
              <a:ext cx="38160" cy="3168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97" y="41"/>
                  </a:moveTo>
                  <a:lnTo>
                    <a:pt x="97" y="49"/>
                  </a:lnTo>
                  <a:lnTo>
                    <a:pt x="94" y="57"/>
                  </a:lnTo>
                  <a:lnTo>
                    <a:pt x="90" y="64"/>
                  </a:lnTo>
                  <a:lnTo>
                    <a:pt x="84" y="71"/>
                  </a:lnTo>
                  <a:lnTo>
                    <a:pt x="76" y="76"/>
                  </a:lnTo>
                  <a:lnTo>
                    <a:pt x="69" y="79"/>
                  </a:lnTo>
                  <a:lnTo>
                    <a:pt x="59" y="82"/>
                  </a:lnTo>
                  <a:lnTo>
                    <a:pt x="49" y="83"/>
                  </a:lnTo>
                  <a:lnTo>
                    <a:pt x="40" y="82"/>
                  </a:lnTo>
                  <a:lnTo>
                    <a:pt x="30" y="79"/>
                  </a:lnTo>
                  <a:lnTo>
                    <a:pt x="23" y="76"/>
                  </a:lnTo>
                  <a:lnTo>
                    <a:pt x="15" y="71"/>
                  </a:lnTo>
                  <a:lnTo>
                    <a:pt x="9" y="64"/>
                  </a:lnTo>
                  <a:lnTo>
                    <a:pt x="5" y="57"/>
                  </a:lnTo>
                  <a:lnTo>
                    <a:pt x="2" y="49"/>
                  </a:lnTo>
                  <a:lnTo>
                    <a:pt x="0" y="41"/>
                  </a:lnTo>
                  <a:lnTo>
                    <a:pt x="2" y="32"/>
                  </a:lnTo>
                  <a:lnTo>
                    <a:pt x="5" y="25"/>
                  </a:lnTo>
                  <a:lnTo>
                    <a:pt x="9" y="17"/>
                  </a:lnTo>
                  <a:lnTo>
                    <a:pt x="15" y="11"/>
                  </a:lnTo>
                  <a:lnTo>
                    <a:pt x="23" y="6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9" y="2"/>
                  </a:lnTo>
                  <a:lnTo>
                    <a:pt x="76" y="6"/>
                  </a:lnTo>
                  <a:lnTo>
                    <a:pt x="84" y="11"/>
                  </a:lnTo>
                  <a:lnTo>
                    <a:pt x="90" y="17"/>
                  </a:lnTo>
                  <a:lnTo>
                    <a:pt x="94" y="25"/>
                  </a:lnTo>
                  <a:lnTo>
                    <a:pt x="97" y="32"/>
                  </a:lnTo>
                  <a:lnTo>
                    <a:pt x="97" y="41"/>
                  </a:lnTo>
                  <a:close/>
                </a:path>
              </a:pathLst>
            </a:custGeom>
            <a:solidFill>
              <a:srgbClr val="c3d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5614920" y="5337000"/>
              <a:ext cx="66600" cy="74880"/>
            </a:xfrm>
            <a:custGeom>
              <a:avLst/>
              <a:gdLst/>
              <a:ahLst/>
              <a:rect l="l" t="t" r="r" b="b"/>
              <a:pathLst>
                <a:path w="166" h="185">
                  <a:moveTo>
                    <a:pt x="166" y="92"/>
                  </a:moveTo>
                  <a:lnTo>
                    <a:pt x="165" y="102"/>
                  </a:lnTo>
                  <a:lnTo>
                    <a:pt x="164" y="110"/>
                  </a:lnTo>
                  <a:lnTo>
                    <a:pt x="162" y="120"/>
                  </a:lnTo>
                  <a:lnTo>
                    <a:pt x="160" y="128"/>
                  </a:lnTo>
                  <a:lnTo>
                    <a:pt x="156" y="136"/>
                  </a:lnTo>
                  <a:lnTo>
                    <a:pt x="151" y="144"/>
                  </a:lnTo>
                  <a:lnTo>
                    <a:pt x="146" y="151"/>
                  </a:lnTo>
                  <a:lnTo>
                    <a:pt x="141" y="158"/>
                  </a:lnTo>
                  <a:lnTo>
                    <a:pt x="135" y="164"/>
                  </a:lnTo>
                  <a:lnTo>
                    <a:pt x="129" y="169"/>
                  </a:lnTo>
                  <a:lnTo>
                    <a:pt x="123" y="174"/>
                  </a:lnTo>
                  <a:lnTo>
                    <a:pt x="115" y="177"/>
                  </a:lnTo>
                  <a:lnTo>
                    <a:pt x="108" y="181"/>
                  </a:lnTo>
                  <a:lnTo>
                    <a:pt x="99" y="182"/>
                  </a:lnTo>
                  <a:lnTo>
                    <a:pt x="92" y="184"/>
                  </a:lnTo>
                  <a:lnTo>
                    <a:pt x="83" y="185"/>
                  </a:lnTo>
                  <a:lnTo>
                    <a:pt x="74" y="184"/>
                  </a:lnTo>
                  <a:lnTo>
                    <a:pt x="66" y="182"/>
                  </a:lnTo>
                  <a:lnTo>
                    <a:pt x="58" y="181"/>
                  </a:lnTo>
                  <a:lnTo>
                    <a:pt x="51" y="177"/>
                  </a:lnTo>
                  <a:lnTo>
                    <a:pt x="43" y="174"/>
                  </a:lnTo>
                  <a:lnTo>
                    <a:pt x="36" y="169"/>
                  </a:lnTo>
                  <a:lnTo>
                    <a:pt x="30" y="164"/>
                  </a:lnTo>
                  <a:lnTo>
                    <a:pt x="25" y="158"/>
                  </a:lnTo>
                  <a:lnTo>
                    <a:pt x="18" y="151"/>
                  </a:lnTo>
                  <a:lnTo>
                    <a:pt x="13" y="144"/>
                  </a:lnTo>
                  <a:lnTo>
                    <a:pt x="10" y="136"/>
                  </a:lnTo>
                  <a:lnTo>
                    <a:pt x="6" y="128"/>
                  </a:lnTo>
                  <a:lnTo>
                    <a:pt x="3" y="120"/>
                  </a:lnTo>
                  <a:lnTo>
                    <a:pt x="1" y="110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1" y="73"/>
                  </a:lnTo>
                  <a:lnTo>
                    <a:pt x="3" y="64"/>
                  </a:lnTo>
                  <a:lnTo>
                    <a:pt x="6" y="56"/>
                  </a:lnTo>
                  <a:lnTo>
                    <a:pt x="10" y="48"/>
                  </a:lnTo>
                  <a:lnTo>
                    <a:pt x="13" y="41"/>
                  </a:lnTo>
                  <a:lnTo>
                    <a:pt x="18" y="33"/>
                  </a:lnTo>
                  <a:lnTo>
                    <a:pt x="25" y="27"/>
                  </a:lnTo>
                  <a:lnTo>
                    <a:pt x="30" y="21"/>
                  </a:lnTo>
                  <a:lnTo>
                    <a:pt x="36" y="16"/>
                  </a:lnTo>
                  <a:lnTo>
                    <a:pt x="43" y="11"/>
                  </a:lnTo>
                  <a:lnTo>
                    <a:pt x="51" y="7"/>
                  </a:lnTo>
                  <a:lnTo>
                    <a:pt x="58" y="4"/>
                  </a:lnTo>
                  <a:lnTo>
                    <a:pt x="66" y="1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8" y="4"/>
                  </a:lnTo>
                  <a:lnTo>
                    <a:pt x="115" y="7"/>
                  </a:lnTo>
                  <a:lnTo>
                    <a:pt x="123" y="11"/>
                  </a:lnTo>
                  <a:lnTo>
                    <a:pt x="129" y="16"/>
                  </a:lnTo>
                  <a:lnTo>
                    <a:pt x="135" y="21"/>
                  </a:lnTo>
                  <a:lnTo>
                    <a:pt x="141" y="27"/>
                  </a:lnTo>
                  <a:lnTo>
                    <a:pt x="146" y="33"/>
                  </a:lnTo>
                  <a:lnTo>
                    <a:pt x="151" y="41"/>
                  </a:lnTo>
                  <a:lnTo>
                    <a:pt x="156" y="48"/>
                  </a:lnTo>
                  <a:lnTo>
                    <a:pt x="160" y="56"/>
                  </a:lnTo>
                  <a:lnTo>
                    <a:pt x="162" y="64"/>
                  </a:lnTo>
                  <a:lnTo>
                    <a:pt x="164" y="73"/>
                  </a:lnTo>
                  <a:lnTo>
                    <a:pt x="165" y="83"/>
                  </a:lnTo>
                  <a:lnTo>
                    <a:pt x="166" y="92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5627520" y="5340240"/>
              <a:ext cx="38160" cy="3348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96" y="41"/>
                  </a:moveTo>
                  <a:lnTo>
                    <a:pt x="95" y="50"/>
                  </a:lnTo>
                  <a:lnTo>
                    <a:pt x="91" y="57"/>
                  </a:lnTo>
                  <a:lnTo>
                    <a:pt x="88" y="65"/>
                  </a:lnTo>
                  <a:lnTo>
                    <a:pt x="81" y="71"/>
                  </a:lnTo>
                  <a:lnTo>
                    <a:pt x="74" y="76"/>
                  </a:lnTo>
                  <a:lnTo>
                    <a:pt x="67" y="80"/>
                  </a:lnTo>
                  <a:lnTo>
                    <a:pt x="57" y="82"/>
                  </a:lnTo>
                  <a:lnTo>
                    <a:pt x="48" y="82"/>
                  </a:lnTo>
                  <a:lnTo>
                    <a:pt x="38" y="82"/>
                  </a:lnTo>
                  <a:lnTo>
                    <a:pt x="28" y="80"/>
                  </a:lnTo>
                  <a:lnTo>
                    <a:pt x="21" y="76"/>
                  </a:lnTo>
                  <a:lnTo>
                    <a:pt x="13" y="71"/>
                  </a:lnTo>
                  <a:lnTo>
                    <a:pt x="7" y="65"/>
                  </a:lnTo>
                  <a:lnTo>
                    <a:pt x="3" y="57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3" y="12"/>
                  </a:lnTo>
                  <a:lnTo>
                    <a:pt x="21" y="7"/>
                  </a:lnTo>
                  <a:lnTo>
                    <a:pt x="28" y="3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81" y="12"/>
                  </a:lnTo>
                  <a:lnTo>
                    <a:pt x="88" y="18"/>
                  </a:lnTo>
                  <a:lnTo>
                    <a:pt x="91" y="25"/>
                  </a:lnTo>
                  <a:lnTo>
                    <a:pt x="95" y="33"/>
                  </a:lnTo>
                  <a:lnTo>
                    <a:pt x="96" y="41"/>
                  </a:lnTo>
                  <a:close/>
                </a:path>
              </a:pathLst>
            </a:custGeom>
            <a:solidFill>
              <a:srgbClr val="c3d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5475240" y="5132520"/>
              <a:ext cx="77760" cy="87120"/>
            </a:xfrm>
            <a:custGeom>
              <a:avLst/>
              <a:gdLst/>
              <a:ahLst/>
              <a:rect l="l" t="t" r="r" b="b"/>
              <a:pathLst>
                <a:path w="197" h="220">
                  <a:moveTo>
                    <a:pt x="197" y="110"/>
                  </a:moveTo>
                  <a:lnTo>
                    <a:pt x="197" y="122"/>
                  </a:lnTo>
                  <a:lnTo>
                    <a:pt x="195" y="132"/>
                  </a:lnTo>
                  <a:lnTo>
                    <a:pt x="192" y="143"/>
                  </a:lnTo>
                  <a:lnTo>
                    <a:pt x="190" y="153"/>
                  </a:lnTo>
                  <a:lnTo>
                    <a:pt x="185" y="163"/>
                  </a:lnTo>
                  <a:lnTo>
                    <a:pt x="180" y="172"/>
                  </a:lnTo>
                  <a:lnTo>
                    <a:pt x="175" y="180"/>
                  </a:lnTo>
                  <a:lnTo>
                    <a:pt x="168" y="188"/>
                  </a:lnTo>
                  <a:lnTo>
                    <a:pt x="161" y="195"/>
                  </a:lnTo>
                  <a:lnTo>
                    <a:pt x="154" y="201"/>
                  </a:lnTo>
                  <a:lnTo>
                    <a:pt x="146" y="206"/>
                  </a:lnTo>
                  <a:lnTo>
                    <a:pt x="137" y="211"/>
                  </a:lnTo>
                  <a:lnTo>
                    <a:pt x="128" y="215"/>
                  </a:lnTo>
                  <a:lnTo>
                    <a:pt x="119" y="217"/>
                  </a:lnTo>
                  <a:lnTo>
                    <a:pt x="109" y="219"/>
                  </a:lnTo>
                  <a:lnTo>
                    <a:pt x="99" y="220"/>
                  </a:lnTo>
                  <a:lnTo>
                    <a:pt x="89" y="219"/>
                  </a:lnTo>
                  <a:lnTo>
                    <a:pt x="79" y="217"/>
                  </a:lnTo>
                  <a:lnTo>
                    <a:pt x="69" y="215"/>
                  </a:lnTo>
                  <a:lnTo>
                    <a:pt x="60" y="211"/>
                  </a:lnTo>
                  <a:lnTo>
                    <a:pt x="52" y="206"/>
                  </a:lnTo>
                  <a:lnTo>
                    <a:pt x="43" y="201"/>
                  </a:lnTo>
                  <a:lnTo>
                    <a:pt x="36" y="195"/>
                  </a:lnTo>
                  <a:lnTo>
                    <a:pt x="28" y="188"/>
                  </a:lnTo>
                  <a:lnTo>
                    <a:pt x="22" y="180"/>
                  </a:lnTo>
                  <a:lnTo>
                    <a:pt x="17" y="172"/>
                  </a:lnTo>
                  <a:lnTo>
                    <a:pt x="12" y="163"/>
                  </a:lnTo>
                  <a:lnTo>
                    <a:pt x="7" y="153"/>
                  </a:lnTo>
                  <a:lnTo>
                    <a:pt x="5" y="143"/>
                  </a:lnTo>
                  <a:lnTo>
                    <a:pt x="2" y="132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8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7" y="49"/>
                  </a:lnTo>
                  <a:lnTo>
                    <a:pt x="22" y="40"/>
                  </a:lnTo>
                  <a:lnTo>
                    <a:pt x="28" y="33"/>
                  </a:lnTo>
                  <a:lnTo>
                    <a:pt x="36" y="25"/>
                  </a:lnTo>
                  <a:lnTo>
                    <a:pt x="43" y="19"/>
                  </a:lnTo>
                  <a:lnTo>
                    <a:pt x="52" y="14"/>
                  </a:lnTo>
                  <a:lnTo>
                    <a:pt x="60" y="9"/>
                  </a:lnTo>
                  <a:lnTo>
                    <a:pt x="69" y="5"/>
                  </a:lnTo>
                  <a:lnTo>
                    <a:pt x="79" y="3"/>
                  </a:lnTo>
                  <a:lnTo>
                    <a:pt x="89" y="2"/>
                  </a:lnTo>
                  <a:lnTo>
                    <a:pt x="99" y="0"/>
                  </a:lnTo>
                  <a:lnTo>
                    <a:pt x="109" y="2"/>
                  </a:lnTo>
                  <a:lnTo>
                    <a:pt x="119" y="3"/>
                  </a:lnTo>
                  <a:lnTo>
                    <a:pt x="128" y="5"/>
                  </a:lnTo>
                  <a:lnTo>
                    <a:pt x="137" y="9"/>
                  </a:lnTo>
                  <a:lnTo>
                    <a:pt x="146" y="14"/>
                  </a:lnTo>
                  <a:lnTo>
                    <a:pt x="154" y="19"/>
                  </a:lnTo>
                  <a:lnTo>
                    <a:pt x="161" y="25"/>
                  </a:lnTo>
                  <a:lnTo>
                    <a:pt x="168" y="33"/>
                  </a:lnTo>
                  <a:lnTo>
                    <a:pt x="175" y="40"/>
                  </a:lnTo>
                  <a:lnTo>
                    <a:pt x="180" y="49"/>
                  </a:lnTo>
                  <a:lnTo>
                    <a:pt x="185" y="57"/>
                  </a:lnTo>
                  <a:lnTo>
                    <a:pt x="190" y="67"/>
                  </a:lnTo>
                  <a:lnTo>
                    <a:pt x="192" y="77"/>
                  </a:lnTo>
                  <a:lnTo>
                    <a:pt x="195" y="88"/>
                  </a:lnTo>
                  <a:lnTo>
                    <a:pt x="197" y="98"/>
                  </a:lnTo>
                  <a:lnTo>
                    <a:pt x="197" y="110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5487840" y="5135400"/>
              <a:ext cx="46080" cy="39960"/>
            </a:xfrm>
            <a:custGeom>
              <a:avLst/>
              <a:gdLst/>
              <a:ahLst/>
              <a:rect l="l" t="t" r="r" b="b"/>
              <a:pathLst>
                <a:path w="116" h="98">
                  <a:moveTo>
                    <a:pt x="116" y="50"/>
                  </a:moveTo>
                  <a:lnTo>
                    <a:pt x="115" y="60"/>
                  </a:lnTo>
                  <a:lnTo>
                    <a:pt x="111" y="68"/>
                  </a:lnTo>
                  <a:lnTo>
                    <a:pt x="106" y="77"/>
                  </a:lnTo>
                  <a:lnTo>
                    <a:pt x="98" y="84"/>
                  </a:lnTo>
                  <a:lnTo>
                    <a:pt x="90" y="91"/>
                  </a:lnTo>
                  <a:lnTo>
                    <a:pt x="81" y="94"/>
                  </a:lnTo>
                  <a:lnTo>
                    <a:pt x="70" y="98"/>
                  </a:lnTo>
                  <a:lnTo>
                    <a:pt x="59" y="98"/>
                  </a:lnTo>
                  <a:lnTo>
                    <a:pt x="46" y="98"/>
                  </a:lnTo>
                  <a:lnTo>
                    <a:pt x="36" y="94"/>
                  </a:lnTo>
                  <a:lnTo>
                    <a:pt x="26" y="91"/>
                  </a:lnTo>
                  <a:lnTo>
                    <a:pt x="18" y="84"/>
                  </a:lnTo>
                  <a:lnTo>
                    <a:pt x="10" y="77"/>
                  </a:lnTo>
                  <a:lnTo>
                    <a:pt x="5" y="68"/>
                  </a:lnTo>
                  <a:lnTo>
                    <a:pt x="2" y="60"/>
                  </a:lnTo>
                  <a:lnTo>
                    <a:pt x="0" y="50"/>
                  </a:lnTo>
                  <a:lnTo>
                    <a:pt x="2" y="40"/>
                  </a:lnTo>
                  <a:lnTo>
                    <a:pt x="5" y="30"/>
                  </a:lnTo>
                  <a:lnTo>
                    <a:pt x="10" y="21"/>
                  </a:lnTo>
                  <a:lnTo>
                    <a:pt x="18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46" y="1"/>
                  </a:lnTo>
                  <a:lnTo>
                    <a:pt x="59" y="0"/>
                  </a:lnTo>
                  <a:lnTo>
                    <a:pt x="70" y="1"/>
                  </a:lnTo>
                  <a:lnTo>
                    <a:pt x="81" y="4"/>
                  </a:lnTo>
                  <a:lnTo>
                    <a:pt x="90" y="9"/>
                  </a:lnTo>
                  <a:lnTo>
                    <a:pt x="98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5" y="40"/>
                  </a:lnTo>
                  <a:lnTo>
                    <a:pt x="116" y="50"/>
                  </a:lnTo>
                  <a:close/>
                </a:path>
              </a:pathLst>
            </a:custGeom>
            <a:solidFill>
              <a:srgbClr val="c3d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5423040" y="5367240"/>
              <a:ext cx="385560" cy="301680"/>
            </a:xfrm>
            <a:custGeom>
              <a:avLst/>
              <a:gdLst/>
              <a:ahLst/>
              <a:rect l="l" t="t" r="r" b="b"/>
              <a:pathLst>
                <a:path w="971" h="759">
                  <a:moveTo>
                    <a:pt x="969" y="0"/>
                  </a:moveTo>
                  <a:lnTo>
                    <a:pt x="970" y="18"/>
                  </a:lnTo>
                  <a:lnTo>
                    <a:pt x="971" y="65"/>
                  </a:lnTo>
                  <a:lnTo>
                    <a:pt x="971" y="98"/>
                  </a:lnTo>
                  <a:lnTo>
                    <a:pt x="970" y="135"/>
                  </a:lnTo>
                  <a:lnTo>
                    <a:pt x="968" y="178"/>
                  </a:lnTo>
                  <a:lnTo>
                    <a:pt x="964" y="224"/>
                  </a:lnTo>
                  <a:lnTo>
                    <a:pt x="958" y="271"/>
                  </a:lnTo>
                  <a:lnTo>
                    <a:pt x="950" y="320"/>
                  </a:lnTo>
                  <a:lnTo>
                    <a:pt x="945" y="345"/>
                  </a:lnTo>
                  <a:lnTo>
                    <a:pt x="940" y="370"/>
                  </a:lnTo>
                  <a:lnTo>
                    <a:pt x="934" y="395"/>
                  </a:lnTo>
                  <a:lnTo>
                    <a:pt x="927" y="420"/>
                  </a:lnTo>
                  <a:lnTo>
                    <a:pt x="919" y="443"/>
                  </a:lnTo>
                  <a:lnTo>
                    <a:pt x="910" y="468"/>
                  </a:lnTo>
                  <a:lnTo>
                    <a:pt x="902" y="491"/>
                  </a:lnTo>
                  <a:lnTo>
                    <a:pt x="892" y="514"/>
                  </a:lnTo>
                  <a:lnTo>
                    <a:pt x="881" y="536"/>
                  </a:lnTo>
                  <a:lnTo>
                    <a:pt x="868" y="557"/>
                  </a:lnTo>
                  <a:lnTo>
                    <a:pt x="856" y="578"/>
                  </a:lnTo>
                  <a:lnTo>
                    <a:pt x="841" y="597"/>
                  </a:lnTo>
                  <a:lnTo>
                    <a:pt x="837" y="602"/>
                  </a:lnTo>
                  <a:lnTo>
                    <a:pt x="825" y="616"/>
                  </a:lnTo>
                  <a:lnTo>
                    <a:pt x="805" y="635"/>
                  </a:lnTo>
                  <a:lnTo>
                    <a:pt x="776" y="659"/>
                  </a:lnTo>
                  <a:lnTo>
                    <a:pt x="760" y="671"/>
                  </a:lnTo>
                  <a:lnTo>
                    <a:pt x="742" y="685"/>
                  </a:lnTo>
                  <a:lnTo>
                    <a:pt x="722" y="697"/>
                  </a:lnTo>
                  <a:lnTo>
                    <a:pt x="701" y="710"/>
                  </a:lnTo>
                  <a:lnTo>
                    <a:pt x="677" y="721"/>
                  </a:lnTo>
                  <a:lnTo>
                    <a:pt x="652" y="731"/>
                  </a:lnTo>
                  <a:lnTo>
                    <a:pt x="626" y="741"/>
                  </a:lnTo>
                  <a:lnTo>
                    <a:pt x="599" y="748"/>
                  </a:lnTo>
                  <a:lnTo>
                    <a:pt x="570" y="755"/>
                  </a:lnTo>
                  <a:lnTo>
                    <a:pt x="539" y="758"/>
                  </a:lnTo>
                  <a:lnTo>
                    <a:pt x="508" y="759"/>
                  </a:lnTo>
                  <a:lnTo>
                    <a:pt x="475" y="758"/>
                  </a:lnTo>
                  <a:lnTo>
                    <a:pt x="441" y="753"/>
                  </a:lnTo>
                  <a:lnTo>
                    <a:pt x="406" y="746"/>
                  </a:lnTo>
                  <a:lnTo>
                    <a:pt x="369" y="735"/>
                  </a:lnTo>
                  <a:lnTo>
                    <a:pt x="332" y="720"/>
                  </a:lnTo>
                  <a:lnTo>
                    <a:pt x="293" y="701"/>
                  </a:lnTo>
                  <a:lnTo>
                    <a:pt x="254" y="678"/>
                  </a:lnTo>
                  <a:lnTo>
                    <a:pt x="214" y="649"/>
                  </a:lnTo>
                  <a:lnTo>
                    <a:pt x="173" y="617"/>
                  </a:lnTo>
                  <a:lnTo>
                    <a:pt x="131" y="578"/>
                  </a:lnTo>
                  <a:lnTo>
                    <a:pt x="88" y="535"/>
                  </a:lnTo>
                  <a:lnTo>
                    <a:pt x="44" y="485"/>
                  </a:lnTo>
                  <a:lnTo>
                    <a:pt x="0" y="429"/>
                  </a:lnTo>
                  <a:lnTo>
                    <a:pt x="8" y="428"/>
                  </a:lnTo>
                  <a:lnTo>
                    <a:pt x="31" y="427"/>
                  </a:lnTo>
                  <a:lnTo>
                    <a:pt x="69" y="423"/>
                  </a:lnTo>
                  <a:lnTo>
                    <a:pt x="118" y="417"/>
                  </a:lnTo>
                  <a:lnTo>
                    <a:pt x="177" y="408"/>
                  </a:lnTo>
                  <a:lnTo>
                    <a:pt x="244" y="396"/>
                  </a:lnTo>
                  <a:lnTo>
                    <a:pt x="280" y="389"/>
                  </a:lnTo>
                  <a:lnTo>
                    <a:pt x="317" y="381"/>
                  </a:lnTo>
                  <a:lnTo>
                    <a:pt x="355" y="371"/>
                  </a:lnTo>
                  <a:lnTo>
                    <a:pt x="395" y="361"/>
                  </a:lnTo>
                  <a:lnTo>
                    <a:pt x="435" y="349"/>
                  </a:lnTo>
                  <a:lnTo>
                    <a:pt x="476" y="336"/>
                  </a:lnTo>
                  <a:lnTo>
                    <a:pt x="517" y="323"/>
                  </a:lnTo>
                  <a:lnTo>
                    <a:pt x="558" y="307"/>
                  </a:lnTo>
                  <a:lnTo>
                    <a:pt x="599" y="291"/>
                  </a:lnTo>
                  <a:lnTo>
                    <a:pt x="638" y="272"/>
                  </a:lnTo>
                  <a:lnTo>
                    <a:pt x="678" y="252"/>
                  </a:lnTo>
                  <a:lnTo>
                    <a:pt x="717" y="231"/>
                  </a:lnTo>
                  <a:lnTo>
                    <a:pt x="755" y="209"/>
                  </a:lnTo>
                  <a:lnTo>
                    <a:pt x="791" y="184"/>
                  </a:lnTo>
                  <a:lnTo>
                    <a:pt x="826" y="158"/>
                  </a:lnTo>
                  <a:lnTo>
                    <a:pt x="860" y="130"/>
                  </a:lnTo>
                  <a:lnTo>
                    <a:pt x="889" y="101"/>
                  </a:lnTo>
                  <a:lnTo>
                    <a:pt x="919" y="68"/>
                  </a:lnTo>
                  <a:lnTo>
                    <a:pt x="945" y="35"/>
                  </a:lnTo>
                  <a:lnTo>
                    <a:pt x="9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5408640" y="5353200"/>
              <a:ext cx="414360" cy="328320"/>
            </a:xfrm>
            <a:custGeom>
              <a:avLst/>
              <a:gdLst/>
              <a:ahLst/>
              <a:rect l="l" t="t" r="r" b="b"/>
              <a:pathLst>
                <a:path w="1043" h="830">
                  <a:moveTo>
                    <a:pt x="975" y="18"/>
                  </a:moveTo>
                  <a:lnTo>
                    <a:pt x="953" y="51"/>
                  </a:lnTo>
                  <a:lnTo>
                    <a:pt x="927" y="82"/>
                  </a:lnTo>
                  <a:lnTo>
                    <a:pt x="899" y="113"/>
                  </a:lnTo>
                  <a:lnTo>
                    <a:pt x="869" y="140"/>
                  </a:lnTo>
                  <a:lnTo>
                    <a:pt x="838" y="168"/>
                  </a:lnTo>
                  <a:lnTo>
                    <a:pt x="805" y="193"/>
                  </a:lnTo>
                  <a:lnTo>
                    <a:pt x="770" y="216"/>
                  </a:lnTo>
                  <a:lnTo>
                    <a:pt x="733" y="237"/>
                  </a:lnTo>
                  <a:lnTo>
                    <a:pt x="696" y="257"/>
                  </a:lnTo>
                  <a:lnTo>
                    <a:pt x="657" y="277"/>
                  </a:lnTo>
                  <a:lnTo>
                    <a:pt x="619" y="294"/>
                  </a:lnTo>
                  <a:lnTo>
                    <a:pt x="580" y="310"/>
                  </a:lnTo>
                  <a:lnTo>
                    <a:pt x="540" y="325"/>
                  </a:lnTo>
                  <a:lnTo>
                    <a:pt x="501" y="338"/>
                  </a:lnTo>
                  <a:lnTo>
                    <a:pt x="461" y="350"/>
                  </a:lnTo>
                  <a:lnTo>
                    <a:pt x="422" y="361"/>
                  </a:lnTo>
                  <a:lnTo>
                    <a:pt x="384" y="372"/>
                  </a:lnTo>
                  <a:lnTo>
                    <a:pt x="347" y="381"/>
                  </a:lnTo>
                  <a:lnTo>
                    <a:pt x="311" y="390"/>
                  </a:lnTo>
                  <a:lnTo>
                    <a:pt x="275" y="396"/>
                  </a:lnTo>
                  <a:lnTo>
                    <a:pt x="210" y="408"/>
                  </a:lnTo>
                  <a:lnTo>
                    <a:pt x="152" y="417"/>
                  </a:lnTo>
                  <a:lnTo>
                    <a:pt x="105" y="423"/>
                  </a:lnTo>
                  <a:lnTo>
                    <a:pt x="67" y="427"/>
                  </a:lnTo>
                  <a:lnTo>
                    <a:pt x="44" y="429"/>
                  </a:lnTo>
                  <a:lnTo>
                    <a:pt x="34" y="429"/>
                  </a:lnTo>
                  <a:lnTo>
                    <a:pt x="29" y="431"/>
                  </a:lnTo>
                  <a:lnTo>
                    <a:pt x="25" y="432"/>
                  </a:lnTo>
                  <a:lnTo>
                    <a:pt x="20" y="433"/>
                  </a:lnTo>
                  <a:lnTo>
                    <a:pt x="16" y="436"/>
                  </a:lnTo>
                  <a:lnTo>
                    <a:pt x="13" y="438"/>
                  </a:lnTo>
                  <a:lnTo>
                    <a:pt x="9" y="442"/>
                  </a:lnTo>
                  <a:lnTo>
                    <a:pt x="6" y="446"/>
                  </a:lnTo>
                  <a:lnTo>
                    <a:pt x="4" y="451"/>
                  </a:lnTo>
                  <a:lnTo>
                    <a:pt x="1" y="456"/>
                  </a:lnTo>
                  <a:lnTo>
                    <a:pt x="0" y="459"/>
                  </a:lnTo>
                  <a:lnTo>
                    <a:pt x="0" y="464"/>
                  </a:lnTo>
                  <a:lnTo>
                    <a:pt x="0" y="469"/>
                  </a:lnTo>
                  <a:lnTo>
                    <a:pt x="1" y="474"/>
                  </a:lnTo>
                  <a:lnTo>
                    <a:pt x="3" y="478"/>
                  </a:lnTo>
                  <a:lnTo>
                    <a:pt x="5" y="483"/>
                  </a:lnTo>
                  <a:lnTo>
                    <a:pt x="8" y="487"/>
                  </a:lnTo>
                  <a:lnTo>
                    <a:pt x="40" y="527"/>
                  </a:lnTo>
                  <a:lnTo>
                    <a:pt x="72" y="566"/>
                  </a:lnTo>
                  <a:lnTo>
                    <a:pt x="105" y="602"/>
                  </a:lnTo>
                  <a:lnTo>
                    <a:pt x="138" y="635"/>
                  </a:lnTo>
                  <a:lnTo>
                    <a:pt x="170" y="666"/>
                  </a:lnTo>
                  <a:lnTo>
                    <a:pt x="204" y="694"/>
                  </a:lnTo>
                  <a:lnTo>
                    <a:pt x="236" y="720"/>
                  </a:lnTo>
                  <a:lnTo>
                    <a:pt x="270" y="742"/>
                  </a:lnTo>
                  <a:lnTo>
                    <a:pt x="303" y="763"/>
                  </a:lnTo>
                  <a:lnTo>
                    <a:pt x="337" y="781"/>
                  </a:lnTo>
                  <a:lnTo>
                    <a:pt x="353" y="788"/>
                  </a:lnTo>
                  <a:lnTo>
                    <a:pt x="370" y="795"/>
                  </a:lnTo>
                  <a:lnTo>
                    <a:pt x="386" y="802"/>
                  </a:lnTo>
                  <a:lnTo>
                    <a:pt x="404" y="808"/>
                  </a:lnTo>
                  <a:lnTo>
                    <a:pt x="420" y="813"/>
                  </a:lnTo>
                  <a:lnTo>
                    <a:pt x="437" y="818"/>
                  </a:lnTo>
                  <a:lnTo>
                    <a:pt x="453" y="822"/>
                  </a:lnTo>
                  <a:lnTo>
                    <a:pt x="471" y="824"/>
                  </a:lnTo>
                  <a:lnTo>
                    <a:pt x="488" y="828"/>
                  </a:lnTo>
                  <a:lnTo>
                    <a:pt x="504" y="829"/>
                  </a:lnTo>
                  <a:lnTo>
                    <a:pt x="522" y="830"/>
                  </a:lnTo>
                  <a:lnTo>
                    <a:pt x="539" y="830"/>
                  </a:lnTo>
                  <a:lnTo>
                    <a:pt x="559" y="830"/>
                  </a:lnTo>
                  <a:lnTo>
                    <a:pt x="579" y="829"/>
                  </a:lnTo>
                  <a:lnTo>
                    <a:pt x="599" y="828"/>
                  </a:lnTo>
                  <a:lnTo>
                    <a:pt x="617" y="824"/>
                  </a:lnTo>
                  <a:lnTo>
                    <a:pt x="636" y="820"/>
                  </a:lnTo>
                  <a:lnTo>
                    <a:pt x="655" y="817"/>
                  </a:lnTo>
                  <a:lnTo>
                    <a:pt x="672" y="812"/>
                  </a:lnTo>
                  <a:lnTo>
                    <a:pt x="688" y="805"/>
                  </a:lnTo>
                  <a:lnTo>
                    <a:pt x="720" y="793"/>
                  </a:lnTo>
                  <a:lnTo>
                    <a:pt x="750" y="778"/>
                  </a:lnTo>
                  <a:lnTo>
                    <a:pt x="778" y="763"/>
                  </a:lnTo>
                  <a:lnTo>
                    <a:pt x="802" y="747"/>
                  </a:lnTo>
                  <a:lnTo>
                    <a:pt x="825" y="731"/>
                  </a:lnTo>
                  <a:lnTo>
                    <a:pt x="845" y="715"/>
                  </a:lnTo>
                  <a:lnTo>
                    <a:pt x="862" y="700"/>
                  </a:lnTo>
                  <a:lnTo>
                    <a:pt x="877" y="686"/>
                  </a:lnTo>
                  <a:lnTo>
                    <a:pt x="897" y="665"/>
                  </a:lnTo>
                  <a:lnTo>
                    <a:pt x="905" y="655"/>
                  </a:lnTo>
                  <a:lnTo>
                    <a:pt x="920" y="635"/>
                  </a:lnTo>
                  <a:lnTo>
                    <a:pt x="934" y="614"/>
                  </a:lnTo>
                  <a:lnTo>
                    <a:pt x="946" y="592"/>
                  </a:lnTo>
                  <a:lnTo>
                    <a:pt x="958" y="570"/>
                  </a:lnTo>
                  <a:lnTo>
                    <a:pt x="969" y="546"/>
                  </a:lnTo>
                  <a:lnTo>
                    <a:pt x="979" y="521"/>
                  </a:lnTo>
                  <a:lnTo>
                    <a:pt x="987" y="496"/>
                  </a:lnTo>
                  <a:lnTo>
                    <a:pt x="995" y="472"/>
                  </a:lnTo>
                  <a:lnTo>
                    <a:pt x="1002" y="447"/>
                  </a:lnTo>
                  <a:lnTo>
                    <a:pt x="1009" y="422"/>
                  </a:lnTo>
                  <a:lnTo>
                    <a:pt x="1015" y="396"/>
                  </a:lnTo>
                  <a:lnTo>
                    <a:pt x="1020" y="371"/>
                  </a:lnTo>
                  <a:lnTo>
                    <a:pt x="1028" y="320"/>
                  </a:lnTo>
                  <a:lnTo>
                    <a:pt x="1035" y="272"/>
                  </a:lnTo>
                  <a:lnTo>
                    <a:pt x="1038" y="226"/>
                  </a:lnTo>
                  <a:lnTo>
                    <a:pt x="1041" y="183"/>
                  </a:lnTo>
                  <a:lnTo>
                    <a:pt x="1042" y="143"/>
                  </a:lnTo>
                  <a:lnTo>
                    <a:pt x="1043" y="108"/>
                  </a:lnTo>
                  <a:lnTo>
                    <a:pt x="1042" y="56"/>
                  </a:lnTo>
                  <a:lnTo>
                    <a:pt x="1041" y="34"/>
                  </a:lnTo>
                  <a:lnTo>
                    <a:pt x="1040" y="27"/>
                  </a:lnTo>
                  <a:lnTo>
                    <a:pt x="1038" y="23"/>
                  </a:lnTo>
                  <a:lnTo>
                    <a:pt x="1036" y="18"/>
                  </a:lnTo>
                  <a:lnTo>
                    <a:pt x="1032" y="13"/>
                  </a:lnTo>
                  <a:lnTo>
                    <a:pt x="1028" y="9"/>
                  </a:lnTo>
                  <a:lnTo>
                    <a:pt x="1023" y="5"/>
                  </a:lnTo>
                  <a:lnTo>
                    <a:pt x="1018" y="3"/>
                  </a:lnTo>
                  <a:lnTo>
                    <a:pt x="1013" y="1"/>
                  </a:lnTo>
                  <a:lnTo>
                    <a:pt x="1007" y="0"/>
                  </a:lnTo>
                  <a:lnTo>
                    <a:pt x="1002" y="0"/>
                  </a:lnTo>
                  <a:lnTo>
                    <a:pt x="996" y="1"/>
                  </a:lnTo>
                  <a:lnTo>
                    <a:pt x="991" y="3"/>
                  </a:lnTo>
                  <a:lnTo>
                    <a:pt x="986" y="5"/>
                  </a:lnTo>
                  <a:lnTo>
                    <a:pt x="982" y="9"/>
                  </a:lnTo>
                  <a:lnTo>
                    <a:pt x="977" y="13"/>
                  </a:lnTo>
                  <a:lnTo>
                    <a:pt x="975" y="18"/>
                  </a:lnTo>
                  <a:close/>
                  <a:moveTo>
                    <a:pt x="970" y="133"/>
                  </a:moveTo>
                  <a:lnTo>
                    <a:pt x="969" y="184"/>
                  </a:lnTo>
                  <a:lnTo>
                    <a:pt x="965" y="242"/>
                  </a:lnTo>
                  <a:lnTo>
                    <a:pt x="961" y="273"/>
                  </a:lnTo>
                  <a:lnTo>
                    <a:pt x="958" y="304"/>
                  </a:lnTo>
                  <a:lnTo>
                    <a:pt x="953" y="336"/>
                  </a:lnTo>
                  <a:lnTo>
                    <a:pt x="948" y="370"/>
                  </a:lnTo>
                  <a:lnTo>
                    <a:pt x="940" y="402"/>
                  </a:lnTo>
                  <a:lnTo>
                    <a:pt x="932" y="436"/>
                  </a:lnTo>
                  <a:lnTo>
                    <a:pt x="922" y="468"/>
                  </a:lnTo>
                  <a:lnTo>
                    <a:pt x="910" y="499"/>
                  </a:lnTo>
                  <a:lnTo>
                    <a:pt x="898" y="529"/>
                  </a:lnTo>
                  <a:lnTo>
                    <a:pt x="883" y="559"/>
                  </a:lnTo>
                  <a:lnTo>
                    <a:pt x="876" y="572"/>
                  </a:lnTo>
                  <a:lnTo>
                    <a:pt x="867" y="586"/>
                  </a:lnTo>
                  <a:lnTo>
                    <a:pt x="858" y="599"/>
                  </a:lnTo>
                  <a:lnTo>
                    <a:pt x="850" y="612"/>
                  </a:lnTo>
                  <a:lnTo>
                    <a:pt x="843" y="618"/>
                  </a:lnTo>
                  <a:lnTo>
                    <a:pt x="826" y="635"/>
                  </a:lnTo>
                  <a:lnTo>
                    <a:pt x="815" y="647"/>
                  </a:lnTo>
                  <a:lnTo>
                    <a:pt x="800" y="659"/>
                  </a:lnTo>
                  <a:lnTo>
                    <a:pt x="783" y="673"/>
                  </a:lnTo>
                  <a:lnTo>
                    <a:pt x="764" y="686"/>
                  </a:lnTo>
                  <a:lnTo>
                    <a:pt x="743" y="701"/>
                  </a:lnTo>
                  <a:lnTo>
                    <a:pt x="719" y="714"/>
                  </a:lnTo>
                  <a:lnTo>
                    <a:pt x="693" y="726"/>
                  </a:lnTo>
                  <a:lnTo>
                    <a:pt x="666" y="737"/>
                  </a:lnTo>
                  <a:lnTo>
                    <a:pt x="651" y="742"/>
                  </a:lnTo>
                  <a:lnTo>
                    <a:pt x="636" y="747"/>
                  </a:lnTo>
                  <a:lnTo>
                    <a:pt x="621" y="751"/>
                  </a:lnTo>
                  <a:lnTo>
                    <a:pt x="606" y="753"/>
                  </a:lnTo>
                  <a:lnTo>
                    <a:pt x="589" y="757"/>
                  </a:lnTo>
                  <a:lnTo>
                    <a:pt x="573" y="758"/>
                  </a:lnTo>
                  <a:lnTo>
                    <a:pt x="557" y="760"/>
                  </a:lnTo>
                  <a:lnTo>
                    <a:pt x="539" y="760"/>
                  </a:lnTo>
                  <a:lnTo>
                    <a:pt x="512" y="758"/>
                  </a:lnTo>
                  <a:lnTo>
                    <a:pt x="484" y="755"/>
                  </a:lnTo>
                  <a:lnTo>
                    <a:pt x="458" y="748"/>
                  </a:lnTo>
                  <a:lnTo>
                    <a:pt x="431" y="741"/>
                  </a:lnTo>
                  <a:lnTo>
                    <a:pt x="404" y="731"/>
                  </a:lnTo>
                  <a:lnTo>
                    <a:pt x="378" y="720"/>
                  </a:lnTo>
                  <a:lnTo>
                    <a:pt x="350" y="706"/>
                  </a:lnTo>
                  <a:lnTo>
                    <a:pt x="323" y="690"/>
                  </a:lnTo>
                  <a:lnTo>
                    <a:pt x="297" y="673"/>
                  </a:lnTo>
                  <a:lnTo>
                    <a:pt x="270" y="653"/>
                  </a:lnTo>
                  <a:lnTo>
                    <a:pt x="242" y="632"/>
                  </a:lnTo>
                  <a:lnTo>
                    <a:pt x="216" y="608"/>
                  </a:lnTo>
                  <a:lnTo>
                    <a:pt x="189" y="582"/>
                  </a:lnTo>
                  <a:lnTo>
                    <a:pt x="162" y="555"/>
                  </a:lnTo>
                  <a:lnTo>
                    <a:pt x="136" y="525"/>
                  </a:lnTo>
                  <a:lnTo>
                    <a:pt x="108" y="494"/>
                  </a:lnTo>
                  <a:lnTo>
                    <a:pt x="144" y="490"/>
                  </a:lnTo>
                  <a:lnTo>
                    <a:pt x="185" y="484"/>
                  </a:lnTo>
                  <a:lnTo>
                    <a:pt x="231" y="477"/>
                  </a:lnTo>
                  <a:lnTo>
                    <a:pt x="282" y="468"/>
                  </a:lnTo>
                  <a:lnTo>
                    <a:pt x="337" y="457"/>
                  </a:lnTo>
                  <a:lnTo>
                    <a:pt x="395" y="442"/>
                  </a:lnTo>
                  <a:lnTo>
                    <a:pt x="455" y="426"/>
                  </a:lnTo>
                  <a:lnTo>
                    <a:pt x="516" y="407"/>
                  </a:lnTo>
                  <a:lnTo>
                    <a:pt x="547" y="396"/>
                  </a:lnTo>
                  <a:lnTo>
                    <a:pt x="578" y="385"/>
                  </a:lnTo>
                  <a:lnTo>
                    <a:pt x="609" y="372"/>
                  </a:lnTo>
                  <a:lnTo>
                    <a:pt x="640" y="360"/>
                  </a:lnTo>
                  <a:lnTo>
                    <a:pt x="671" y="346"/>
                  </a:lnTo>
                  <a:lnTo>
                    <a:pt x="701" y="331"/>
                  </a:lnTo>
                  <a:lnTo>
                    <a:pt x="730" y="315"/>
                  </a:lnTo>
                  <a:lnTo>
                    <a:pt x="760" y="299"/>
                  </a:lnTo>
                  <a:lnTo>
                    <a:pt x="790" y="282"/>
                  </a:lnTo>
                  <a:lnTo>
                    <a:pt x="819" y="263"/>
                  </a:lnTo>
                  <a:lnTo>
                    <a:pt x="846" y="245"/>
                  </a:lnTo>
                  <a:lnTo>
                    <a:pt x="873" y="225"/>
                  </a:lnTo>
                  <a:lnTo>
                    <a:pt x="899" y="202"/>
                  </a:lnTo>
                  <a:lnTo>
                    <a:pt x="924" y="180"/>
                  </a:lnTo>
                  <a:lnTo>
                    <a:pt x="948" y="157"/>
                  </a:lnTo>
                  <a:lnTo>
                    <a:pt x="970" y="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5413320" y="5403960"/>
              <a:ext cx="385920" cy="271440"/>
            </a:xfrm>
            <a:custGeom>
              <a:avLst/>
              <a:gdLst/>
              <a:ahLst/>
              <a:rect l="l" t="t" r="r" b="b"/>
              <a:pathLst>
                <a:path w="972" h="686">
                  <a:moveTo>
                    <a:pt x="972" y="0"/>
                  </a:moveTo>
                  <a:lnTo>
                    <a:pt x="958" y="17"/>
                  </a:lnTo>
                  <a:lnTo>
                    <a:pt x="921" y="66"/>
                  </a:lnTo>
                  <a:lnTo>
                    <a:pt x="870" y="134"/>
                  </a:lnTo>
                  <a:lnTo>
                    <a:pt x="813" y="215"/>
                  </a:lnTo>
                  <a:lnTo>
                    <a:pt x="784" y="257"/>
                  </a:lnTo>
                  <a:lnTo>
                    <a:pt x="756" y="300"/>
                  </a:lnTo>
                  <a:lnTo>
                    <a:pt x="731" y="341"/>
                  </a:lnTo>
                  <a:lnTo>
                    <a:pt x="709" y="380"/>
                  </a:lnTo>
                  <a:lnTo>
                    <a:pt x="699" y="398"/>
                  </a:lnTo>
                  <a:lnTo>
                    <a:pt x="690" y="416"/>
                  </a:lnTo>
                  <a:lnTo>
                    <a:pt x="684" y="432"/>
                  </a:lnTo>
                  <a:lnTo>
                    <a:pt x="678" y="447"/>
                  </a:lnTo>
                  <a:lnTo>
                    <a:pt x="674" y="460"/>
                  </a:lnTo>
                  <a:lnTo>
                    <a:pt x="671" y="473"/>
                  </a:lnTo>
                  <a:lnTo>
                    <a:pt x="670" y="484"/>
                  </a:lnTo>
                  <a:lnTo>
                    <a:pt x="671" y="493"/>
                  </a:lnTo>
                  <a:lnTo>
                    <a:pt x="673" y="498"/>
                  </a:lnTo>
                  <a:lnTo>
                    <a:pt x="679" y="511"/>
                  </a:lnTo>
                  <a:lnTo>
                    <a:pt x="684" y="519"/>
                  </a:lnTo>
                  <a:lnTo>
                    <a:pt x="690" y="526"/>
                  </a:lnTo>
                  <a:lnTo>
                    <a:pt x="699" y="533"/>
                  </a:lnTo>
                  <a:lnTo>
                    <a:pt x="709" y="540"/>
                  </a:lnTo>
                  <a:lnTo>
                    <a:pt x="715" y="542"/>
                  </a:lnTo>
                  <a:lnTo>
                    <a:pt x="721" y="545"/>
                  </a:lnTo>
                  <a:lnTo>
                    <a:pt x="729" y="546"/>
                  </a:lnTo>
                  <a:lnTo>
                    <a:pt x="736" y="547"/>
                  </a:lnTo>
                  <a:lnTo>
                    <a:pt x="745" y="547"/>
                  </a:lnTo>
                  <a:lnTo>
                    <a:pt x="753" y="546"/>
                  </a:lnTo>
                  <a:lnTo>
                    <a:pt x="762" y="545"/>
                  </a:lnTo>
                  <a:lnTo>
                    <a:pt x="773" y="542"/>
                  </a:lnTo>
                  <a:lnTo>
                    <a:pt x="783" y="538"/>
                  </a:lnTo>
                  <a:lnTo>
                    <a:pt x="796" y="533"/>
                  </a:lnTo>
                  <a:lnTo>
                    <a:pt x="808" y="527"/>
                  </a:lnTo>
                  <a:lnTo>
                    <a:pt x="822" y="520"/>
                  </a:lnTo>
                  <a:lnTo>
                    <a:pt x="835" y="512"/>
                  </a:lnTo>
                  <a:lnTo>
                    <a:pt x="850" y="502"/>
                  </a:lnTo>
                  <a:lnTo>
                    <a:pt x="865" y="490"/>
                  </a:lnTo>
                  <a:lnTo>
                    <a:pt x="883" y="478"/>
                  </a:lnTo>
                  <a:lnTo>
                    <a:pt x="878" y="484"/>
                  </a:lnTo>
                  <a:lnTo>
                    <a:pt x="863" y="500"/>
                  </a:lnTo>
                  <a:lnTo>
                    <a:pt x="840" y="524"/>
                  </a:lnTo>
                  <a:lnTo>
                    <a:pt x="809" y="553"/>
                  </a:lnTo>
                  <a:lnTo>
                    <a:pt x="791" y="568"/>
                  </a:lnTo>
                  <a:lnTo>
                    <a:pt x="771" y="584"/>
                  </a:lnTo>
                  <a:lnTo>
                    <a:pt x="748" y="600"/>
                  </a:lnTo>
                  <a:lnTo>
                    <a:pt x="725" y="615"/>
                  </a:lnTo>
                  <a:lnTo>
                    <a:pt x="700" y="630"/>
                  </a:lnTo>
                  <a:lnTo>
                    <a:pt x="673" y="644"/>
                  </a:lnTo>
                  <a:lnTo>
                    <a:pt x="644" y="656"/>
                  </a:lnTo>
                  <a:lnTo>
                    <a:pt x="614" y="666"/>
                  </a:lnTo>
                  <a:lnTo>
                    <a:pt x="583" y="675"/>
                  </a:lnTo>
                  <a:lnTo>
                    <a:pt x="551" y="681"/>
                  </a:lnTo>
                  <a:lnTo>
                    <a:pt x="516" y="685"/>
                  </a:lnTo>
                  <a:lnTo>
                    <a:pt x="481" y="686"/>
                  </a:lnTo>
                  <a:lnTo>
                    <a:pt x="445" y="682"/>
                  </a:lnTo>
                  <a:lnTo>
                    <a:pt x="409" y="676"/>
                  </a:lnTo>
                  <a:lnTo>
                    <a:pt x="371" y="666"/>
                  </a:lnTo>
                  <a:lnTo>
                    <a:pt x="332" y="651"/>
                  </a:lnTo>
                  <a:lnTo>
                    <a:pt x="293" y="632"/>
                  </a:lnTo>
                  <a:lnTo>
                    <a:pt x="253" y="607"/>
                  </a:lnTo>
                  <a:lnTo>
                    <a:pt x="212" y="577"/>
                  </a:lnTo>
                  <a:lnTo>
                    <a:pt x="170" y="542"/>
                  </a:lnTo>
                  <a:lnTo>
                    <a:pt x="128" y="501"/>
                  </a:lnTo>
                  <a:lnTo>
                    <a:pt x="85" y="453"/>
                  </a:lnTo>
                  <a:lnTo>
                    <a:pt x="43" y="398"/>
                  </a:lnTo>
                  <a:lnTo>
                    <a:pt x="0" y="337"/>
                  </a:lnTo>
                  <a:lnTo>
                    <a:pt x="6" y="339"/>
                  </a:lnTo>
                  <a:lnTo>
                    <a:pt x="26" y="344"/>
                  </a:lnTo>
                  <a:lnTo>
                    <a:pt x="57" y="349"/>
                  </a:lnTo>
                  <a:lnTo>
                    <a:pt x="99" y="355"/>
                  </a:lnTo>
                  <a:lnTo>
                    <a:pt x="123" y="357"/>
                  </a:lnTo>
                  <a:lnTo>
                    <a:pt x="150" y="360"/>
                  </a:lnTo>
                  <a:lnTo>
                    <a:pt x="178" y="361"/>
                  </a:lnTo>
                  <a:lnTo>
                    <a:pt x="208" y="362"/>
                  </a:lnTo>
                  <a:lnTo>
                    <a:pt x="241" y="362"/>
                  </a:lnTo>
                  <a:lnTo>
                    <a:pt x="274" y="361"/>
                  </a:lnTo>
                  <a:lnTo>
                    <a:pt x="309" y="360"/>
                  </a:lnTo>
                  <a:lnTo>
                    <a:pt x="346" y="356"/>
                  </a:lnTo>
                  <a:lnTo>
                    <a:pt x="383" y="351"/>
                  </a:lnTo>
                  <a:lnTo>
                    <a:pt x="421" y="345"/>
                  </a:lnTo>
                  <a:lnTo>
                    <a:pt x="460" y="336"/>
                  </a:lnTo>
                  <a:lnTo>
                    <a:pt x="500" y="326"/>
                  </a:lnTo>
                  <a:lnTo>
                    <a:pt x="540" y="314"/>
                  </a:lnTo>
                  <a:lnTo>
                    <a:pt x="581" y="299"/>
                  </a:lnTo>
                  <a:lnTo>
                    <a:pt x="622" y="283"/>
                  </a:lnTo>
                  <a:lnTo>
                    <a:pt x="663" y="263"/>
                  </a:lnTo>
                  <a:lnTo>
                    <a:pt x="702" y="242"/>
                  </a:lnTo>
                  <a:lnTo>
                    <a:pt x="743" y="217"/>
                  </a:lnTo>
                  <a:lnTo>
                    <a:pt x="783" y="189"/>
                  </a:lnTo>
                  <a:lnTo>
                    <a:pt x="823" y="158"/>
                  </a:lnTo>
                  <a:lnTo>
                    <a:pt x="861" y="124"/>
                  </a:lnTo>
                  <a:lnTo>
                    <a:pt x="899" y="86"/>
                  </a:lnTo>
                  <a:lnTo>
                    <a:pt x="936" y="45"/>
                  </a:lnTo>
                  <a:lnTo>
                    <a:pt x="972" y="0"/>
                  </a:lnTo>
                  <a:close/>
                </a:path>
              </a:pathLst>
            </a:custGeom>
            <a:solidFill>
              <a:srgbClr val="de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5408640" y="5310360"/>
              <a:ext cx="399960" cy="260280"/>
            </a:xfrm>
            <a:custGeom>
              <a:avLst/>
              <a:gdLst/>
              <a:ahLst/>
              <a:rect l="l" t="t" r="r" b="b"/>
              <a:pathLst>
                <a:path w="1005" h="652">
                  <a:moveTo>
                    <a:pt x="998" y="100"/>
                  </a:moveTo>
                  <a:lnTo>
                    <a:pt x="993" y="89"/>
                  </a:lnTo>
                  <a:lnTo>
                    <a:pt x="986" y="78"/>
                  </a:lnTo>
                  <a:lnTo>
                    <a:pt x="978" y="67"/>
                  </a:lnTo>
                  <a:lnTo>
                    <a:pt x="969" y="58"/>
                  </a:lnTo>
                  <a:lnTo>
                    <a:pt x="959" y="48"/>
                  </a:lnTo>
                  <a:lnTo>
                    <a:pt x="949" y="41"/>
                  </a:lnTo>
                  <a:lnTo>
                    <a:pt x="937" y="33"/>
                  </a:lnTo>
                  <a:lnTo>
                    <a:pt x="924" y="26"/>
                  </a:lnTo>
                  <a:lnTo>
                    <a:pt x="909" y="21"/>
                  </a:lnTo>
                  <a:lnTo>
                    <a:pt x="896" y="16"/>
                  </a:lnTo>
                  <a:lnTo>
                    <a:pt x="880" y="11"/>
                  </a:lnTo>
                  <a:lnTo>
                    <a:pt x="863" y="7"/>
                  </a:lnTo>
                  <a:lnTo>
                    <a:pt x="846" y="5"/>
                  </a:lnTo>
                  <a:lnTo>
                    <a:pt x="827" y="2"/>
                  </a:lnTo>
                  <a:lnTo>
                    <a:pt x="809" y="1"/>
                  </a:lnTo>
                  <a:lnTo>
                    <a:pt x="789" y="0"/>
                  </a:lnTo>
                  <a:lnTo>
                    <a:pt x="769" y="0"/>
                  </a:lnTo>
                  <a:lnTo>
                    <a:pt x="749" y="1"/>
                  </a:lnTo>
                  <a:lnTo>
                    <a:pt x="727" y="2"/>
                  </a:lnTo>
                  <a:lnTo>
                    <a:pt x="706" y="5"/>
                  </a:lnTo>
                  <a:lnTo>
                    <a:pt x="683" y="7"/>
                  </a:lnTo>
                  <a:lnTo>
                    <a:pt x="660" y="11"/>
                  </a:lnTo>
                  <a:lnTo>
                    <a:pt x="636" y="16"/>
                  </a:lnTo>
                  <a:lnTo>
                    <a:pt x="613" y="21"/>
                  </a:lnTo>
                  <a:lnTo>
                    <a:pt x="589" y="27"/>
                  </a:lnTo>
                  <a:lnTo>
                    <a:pt x="564" y="33"/>
                  </a:lnTo>
                  <a:lnTo>
                    <a:pt x="539" y="41"/>
                  </a:lnTo>
                  <a:lnTo>
                    <a:pt x="515" y="49"/>
                  </a:lnTo>
                  <a:lnTo>
                    <a:pt x="490" y="58"/>
                  </a:lnTo>
                  <a:lnTo>
                    <a:pt x="465" y="68"/>
                  </a:lnTo>
                  <a:lnTo>
                    <a:pt x="439" y="79"/>
                  </a:lnTo>
                  <a:lnTo>
                    <a:pt x="414" y="90"/>
                  </a:lnTo>
                  <a:lnTo>
                    <a:pt x="363" y="114"/>
                  </a:lnTo>
                  <a:lnTo>
                    <a:pt x="316" y="140"/>
                  </a:lnTo>
                  <a:lnTo>
                    <a:pt x="270" y="167"/>
                  </a:lnTo>
                  <a:lnTo>
                    <a:pt x="228" y="196"/>
                  </a:lnTo>
                  <a:lnTo>
                    <a:pt x="208" y="211"/>
                  </a:lnTo>
                  <a:lnTo>
                    <a:pt x="188" y="226"/>
                  </a:lnTo>
                  <a:lnTo>
                    <a:pt x="169" y="242"/>
                  </a:lnTo>
                  <a:lnTo>
                    <a:pt x="152" y="257"/>
                  </a:lnTo>
                  <a:lnTo>
                    <a:pt x="135" y="271"/>
                  </a:lnTo>
                  <a:lnTo>
                    <a:pt x="120" y="288"/>
                  </a:lnTo>
                  <a:lnTo>
                    <a:pt x="104" y="302"/>
                  </a:lnTo>
                  <a:lnTo>
                    <a:pt x="90" y="319"/>
                  </a:lnTo>
                  <a:lnTo>
                    <a:pt x="76" y="335"/>
                  </a:lnTo>
                  <a:lnTo>
                    <a:pt x="64" y="350"/>
                  </a:lnTo>
                  <a:lnTo>
                    <a:pt x="53" y="366"/>
                  </a:lnTo>
                  <a:lnTo>
                    <a:pt x="43" y="381"/>
                  </a:lnTo>
                  <a:lnTo>
                    <a:pt x="33" y="397"/>
                  </a:lnTo>
                  <a:lnTo>
                    <a:pt x="25" y="412"/>
                  </a:lnTo>
                  <a:lnTo>
                    <a:pt x="18" y="427"/>
                  </a:lnTo>
                  <a:lnTo>
                    <a:pt x="12" y="441"/>
                  </a:lnTo>
                  <a:lnTo>
                    <a:pt x="8" y="456"/>
                  </a:lnTo>
                  <a:lnTo>
                    <a:pt x="4" y="471"/>
                  </a:lnTo>
                  <a:lnTo>
                    <a:pt x="2" y="485"/>
                  </a:lnTo>
                  <a:lnTo>
                    <a:pt x="0" y="500"/>
                  </a:lnTo>
                  <a:lnTo>
                    <a:pt x="0" y="513"/>
                  </a:lnTo>
                  <a:lnTo>
                    <a:pt x="2" y="526"/>
                  </a:lnTo>
                  <a:lnTo>
                    <a:pt x="4" y="539"/>
                  </a:lnTo>
                  <a:lnTo>
                    <a:pt x="8" y="552"/>
                  </a:lnTo>
                  <a:lnTo>
                    <a:pt x="13" y="563"/>
                  </a:lnTo>
                  <a:lnTo>
                    <a:pt x="19" y="574"/>
                  </a:lnTo>
                  <a:lnTo>
                    <a:pt x="28" y="584"/>
                  </a:lnTo>
                  <a:lnTo>
                    <a:pt x="36" y="594"/>
                  </a:lnTo>
                  <a:lnTo>
                    <a:pt x="45" y="603"/>
                  </a:lnTo>
                  <a:lnTo>
                    <a:pt x="56" y="611"/>
                  </a:lnTo>
                  <a:lnTo>
                    <a:pt x="69" y="619"/>
                  </a:lnTo>
                  <a:lnTo>
                    <a:pt x="81" y="625"/>
                  </a:lnTo>
                  <a:lnTo>
                    <a:pt x="95" y="631"/>
                  </a:lnTo>
                  <a:lnTo>
                    <a:pt x="110" y="636"/>
                  </a:lnTo>
                  <a:lnTo>
                    <a:pt x="126" y="641"/>
                  </a:lnTo>
                  <a:lnTo>
                    <a:pt x="142" y="645"/>
                  </a:lnTo>
                  <a:lnTo>
                    <a:pt x="159" y="647"/>
                  </a:lnTo>
                  <a:lnTo>
                    <a:pt x="178" y="650"/>
                  </a:lnTo>
                  <a:lnTo>
                    <a:pt x="197" y="651"/>
                  </a:lnTo>
                  <a:lnTo>
                    <a:pt x="217" y="652"/>
                  </a:lnTo>
                  <a:lnTo>
                    <a:pt x="236" y="652"/>
                  </a:lnTo>
                  <a:lnTo>
                    <a:pt x="256" y="651"/>
                  </a:lnTo>
                  <a:lnTo>
                    <a:pt x="279" y="650"/>
                  </a:lnTo>
                  <a:lnTo>
                    <a:pt x="300" y="647"/>
                  </a:lnTo>
                  <a:lnTo>
                    <a:pt x="322" y="645"/>
                  </a:lnTo>
                  <a:lnTo>
                    <a:pt x="346" y="641"/>
                  </a:lnTo>
                  <a:lnTo>
                    <a:pt x="369" y="636"/>
                  </a:lnTo>
                  <a:lnTo>
                    <a:pt x="393" y="631"/>
                  </a:lnTo>
                  <a:lnTo>
                    <a:pt x="416" y="625"/>
                  </a:lnTo>
                  <a:lnTo>
                    <a:pt x="441" y="618"/>
                  </a:lnTo>
                  <a:lnTo>
                    <a:pt x="466" y="610"/>
                  </a:lnTo>
                  <a:lnTo>
                    <a:pt x="491" y="603"/>
                  </a:lnTo>
                  <a:lnTo>
                    <a:pt x="516" y="593"/>
                  </a:lnTo>
                  <a:lnTo>
                    <a:pt x="541" y="584"/>
                  </a:lnTo>
                  <a:lnTo>
                    <a:pt x="567" y="573"/>
                  </a:lnTo>
                  <a:lnTo>
                    <a:pt x="592" y="562"/>
                  </a:lnTo>
                  <a:lnTo>
                    <a:pt x="618" y="549"/>
                  </a:lnTo>
                  <a:lnTo>
                    <a:pt x="642" y="537"/>
                  </a:lnTo>
                  <a:lnTo>
                    <a:pt x="666" y="525"/>
                  </a:lnTo>
                  <a:lnTo>
                    <a:pt x="690" y="511"/>
                  </a:lnTo>
                  <a:lnTo>
                    <a:pt x="713" y="499"/>
                  </a:lnTo>
                  <a:lnTo>
                    <a:pt x="736" y="484"/>
                  </a:lnTo>
                  <a:lnTo>
                    <a:pt x="757" y="470"/>
                  </a:lnTo>
                  <a:lnTo>
                    <a:pt x="778" y="455"/>
                  </a:lnTo>
                  <a:lnTo>
                    <a:pt x="798" y="440"/>
                  </a:lnTo>
                  <a:lnTo>
                    <a:pt x="818" y="425"/>
                  </a:lnTo>
                  <a:lnTo>
                    <a:pt x="836" y="410"/>
                  </a:lnTo>
                  <a:lnTo>
                    <a:pt x="854" y="396"/>
                  </a:lnTo>
                  <a:lnTo>
                    <a:pt x="870" y="379"/>
                  </a:lnTo>
                  <a:lnTo>
                    <a:pt x="886" y="365"/>
                  </a:lnTo>
                  <a:lnTo>
                    <a:pt x="902" y="348"/>
                  </a:lnTo>
                  <a:lnTo>
                    <a:pt x="916" y="333"/>
                  </a:lnTo>
                  <a:lnTo>
                    <a:pt x="929" y="317"/>
                  </a:lnTo>
                  <a:lnTo>
                    <a:pt x="942" y="302"/>
                  </a:lnTo>
                  <a:lnTo>
                    <a:pt x="953" y="286"/>
                  </a:lnTo>
                  <a:lnTo>
                    <a:pt x="963" y="270"/>
                  </a:lnTo>
                  <a:lnTo>
                    <a:pt x="973" y="255"/>
                  </a:lnTo>
                  <a:lnTo>
                    <a:pt x="980" y="240"/>
                  </a:lnTo>
                  <a:lnTo>
                    <a:pt x="988" y="226"/>
                  </a:lnTo>
                  <a:lnTo>
                    <a:pt x="994" y="209"/>
                  </a:lnTo>
                  <a:lnTo>
                    <a:pt x="999" y="196"/>
                  </a:lnTo>
                  <a:lnTo>
                    <a:pt x="1001" y="181"/>
                  </a:lnTo>
                  <a:lnTo>
                    <a:pt x="1004" y="166"/>
                  </a:lnTo>
                  <a:lnTo>
                    <a:pt x="1005" y="152"/>
                  </a:lnTo>
                  <a:lnTo>
                    <a:pt x="1005" y="139"/>
                  </a:lnTo>
                  <a:lnTo>
                    <a:pt x="1004" y="126"/>
                  </a:lnTo>
                  <a:lnTo>
                    <a:pt x="1001" y="113"/>
                  </a:lnTo>
                  <a:lnTo>
                    <a:pt x="998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5394240" y="5295960"/>
              <a:ext cx="428760" cy="288720"/>
            </a:xfrm>
            <a:custGeom>
              <a:avLst/>
              <a:gdLst/>
              <a:ahLst/>
              <a:rect l="l" t="t" r="r" b="b"/>
              <a:pathLst>
                <a:path w="1077" h="724">
                  <a:moveTo>
                    <a:pt x="435" y="94"/>
                  </a:moveTo>
                  <a:lnTo>
                    <a:pt x="408" y="106"/>
                  </a:lnTo>
                  <a:lnTo>
                    <a:pt x="380" y="120"/>
                  </a:lnTo>
                  <a:lnTo>
                    <a:pt x="354" y="134"/>
                  </a:lnTo>
                  <a:lnTo>
                    <a:pt x="330" y="147"/>
                  </a:lnTo>
                  <a:lnTo>
                    <a:pt x="305" y="162"/>
                  </a:lnTo>
                  <a:lnTo>
                    <a:pt x="281" y="177"/>
                  </a:lnTo>
                  <a:lnTo>
                    <a:pt x="259" y="192"/>
                  </a:lnTo>
                  <a:lnTo>
                    <a:pt x="236" y="208"/>
                  </a:lnTo>
                  <a:lnTo>
                    <a:pt x="215" y="224"/>
                  </a:lnTo>
                  <a:lnTo>
                    <a:pt x="194" y="240"/>
                  </a:lnTo>
                  <a:lnTo>
                    <a:pt x="174" y="257"/>
                  </a:lnTo>
                  <a:lnTo>
                    <a:pt x="156" y="273"/>
                  </a:lnTo>
                  <a:lnTo>
                    <a:pt x="138" y="290"/>
                  </a:lnTo>
                  <a:lnTo>
                    <a:pt x="122" y="307"/>
                  </a:lnTo>
                  <a:lnTo>
                    <a:pt x="106" y="324"/>
                  </a:lnTo>
                  <a:lnTo>
                    <a:pt x="91" y="341"/>
                  </a:lnTo>
                  <a:lnTo>
                    <a:pt x="77" y="358"/>
                  </a:lnTo>
                  <a:lnTo>
                    <a:pt x="65" y="376"/>
                  </a:lnTo>
                  <a:lnTo>
                    <a:pt x="53" y="392"/>
                  </a:lnTo>
                  <a:lnTo>
                    <a:pt x="43" y="409"/>
                  </a:lnTo>
                  <a:lnTo>
                    <a:pt x="33" y="427"/>
                  </a:lnTo>
                  <a:lnTo>
                    <a:pt x="24" y="443"/>
                  </a:lnTo>
                  <a:lnTo>
                    <a:pt x="18" y="460"/>
                  </a:lnTo>
                  <a:lnTo>
                    <a:pt x="12" y="476"/>
                  </a:lnTo>
                  <a:lnTo>
                    <a:pt x="7" y="494"/>
                  </a:lnTo>
                  <a:lnTo>
                    <a:pt x="3" y="510"/>
                  </a:lnTo>
                  <a:lnTo>
                    <a:pt x="2" y="525"/>
                  </a:lnTo>
                  <a:lnTo>
                    <a:pt x="0" y="541"/>
                  </a:lnTo>
                  <a:lnTo>
                    <a:pt x="0" y="556"/>
                  </a:lnTo>
                  <a:lnTo>
                    <a:pt x="3" y="570"/>
                  </a:lnTo>
                  <a:lnTo>
                    <a:pt x="5" y="585"/>
                  </a:lnTo>
                  <a:lnTo>
                    <a:pt x="10" y="600"/>
                  </a:lnTo>
                  <a:lnTo>
                    <a:pt x="18" y="616"/>
                  </a:lnTo>
                  <a:lnTo>
                    <a:pt x="27" y="631"/>
                  </a:lnTo>
                  <a:lnTo>
                    <a:pt x="36" y="645"/>
                  </a:lnTo>
                  <a:lnTo>
                    <a:pt x="49" y="657"/>
                  </a:lnTo>
                  <a:lnTo>
                    <a:pt x="63" y="670"/>
                  </a:lnTo>
                  <a:lnTo>
                    <a:pt x="79" y="681"/>
                  </a:lnTo>
                  <a:lnTo>
                    <a:pt x="95" y="690"/>
                  </a:lnTo>
                  <a:lnTo>
                    <a:pt x="113" y="698"/>
                  </a:lnTo>
                  <a:lnTo>
                    <a:pt x="137" y="707"/>
                  </a:lnTo>
                  <a:lnTo>
                    <a:pt x="163" y="714"/>
                  </a:lnTo>
                  <a:lnTo>
                    <a:pt x="190" y="719"/>
                  </a:lnTo>
                  <a:lnTo>
                    <a:pt x="219" y="722"/>
                  </a:lnTo>
                  <a:lnTo>
                    <a:pt x="250" y="724"/>
                  </a:lnTo>
                  <a:lnTo>
                    <a:pt x="281" y="723"/>
                  </a:lnTo>
                  <a:lnTo>
                    <a:pt x="315" y="722"/>
                  </a:lnTo>
                  <a:lnTo>
                    <a:pt x="348" y="718"/>
                  </a:lnTo>
                  <a:lnTo>
                    <a:pt x="383" y="713"/>
                  </a:lnTo>
                  <a:lnTo>
                    <a:pt x="419" y="706"/>
                  </a:lnTo>
                  <a:lnTo>
                    <a:pt x="455" y="697"/>
                  </a:lnTo>
                  <a:lnTo>
                    <a:pt x="491" y="687"/>
                  </a:lnTo>
                  <a:lnTo>
                    <a:pt x="529" y="675"/>
                  </a:lnTo>
                  <a:lnTo>
                    <a:pt x="567" y="662"/>
                  </a:lnTo>
                  <a:lnTo>
                    <a:pt x="605" y="646"/>
                  </a:lnTo>
                  <a:lnTo>
                    <a:pt x="642" y="630"/>
                  </a:lnTo>
                  <a:lnTo>
                    <a:pt x="670" y="618"/>
                  </a:lnTo>
                  <a:lnTo>
                    <a:pt x="697" y="604"/>
                  </a:lnTo>
                  <a:lnTo>
                    <a:pt x="723" y="590"/>
                  </a:lnTo>
                  <a:lnTo>
                    <a:pt x="748" y="575"/>
                  </a:lnTo>
                  <a:lnTo>
                    <a:pt x="773" y="562"/>
                  </a:lnTo>
                  <a:lnTo>
                    <a:pt x="796" y="547"/>
                  </a:lnTo>
                  <a:lnTo>
                    <a:pt x="819" y="531"/>
                  </a:lnTo>
                  <a:lnTo>
                    <a:pt x="841" y="516"/>
                  </a:lnTo>
                  <a:lnTo>
                    <a:pt x="862" y="500"/>
                  </a:lnTo>
                  <a:lnTo>
                    <a:pt x="883" y="484"/>
                  </a:lnTo>
                  <a:lnTo>
                    <a:pt x="903" y="468"/>
                  </a:lnTo>
                  <a:lnTo>
                    <a:pt x="922" y="450"/>
                  </a:lnTo>
                  <a:lnTo>
                    <a:pt x="939" y="434"/>
                  </a:lnTo>
                  <a:lnTo>
                    <a:pt x="955" y="417"/>
                  </a:lnTo>
                  <a:lnTo>
                    <a:pt x="971" y="399"/>
                  </a:lnTo>
                  <a:lnTo>
                    <a:pt x="986" y="383"/>
                  </a:lnTo>
                  <a:lnTo>
                    <a:pt x="1000" y="366"/>
                  </a:lnTo>
                  <a:lnTo>
                    <a:pt x="1012" y="348"/>
                  </a:lnTo>
                  <a:lnTo>
                    <a:pt x="1025" y="331"/>
                  </a:lnTo>
                  <a:lnTo>
                    <a:pt x="1035" y="315"/>
                  </a:lnTo>
                  <a:lnTo>
                    <a:pt x="1045" y="298"/>
                  </a:lnTo>
                  <a:lnTo>
                    <a:pt x="1053" y="280"/>
                  </a:lnTo>
                  <a:lnTo>
                    <a:pt x="1060" y="264"/>
                  </a:lnTo>
                  <a:lnTo>
                    <a:pt x="1066" y="247"/>
                  </a:lnTo>
                  <a:lnTo>
                    <a:pt x="1071" y="231"/>
                  </a:lnTo>
                  <a:lnTo>
                    <a:pt x="1075" y="214"/>
                  </a:lnTo>
                  <a:lnTo>
                    <a:pt x="1076" y="198"/>
                  </a:lnTo>
                  <a:lnTo>
                    <a:pt x="1077" y="183"/>
                  </a:lnTo>
                  <a:lnTo>
                    <a:pt x="1077" y="167"/>
                  </a:lnTo>
                  <a:lnTo>
                    <a:pt x="1075" y="152"/>
                  </a:lnTo>
                  <a:lnTo>
                    <a:pt x="1072" y="137"/>
                  </a:lnTo>
                  <a:lnTo>
                    <a:pt x="1067" y="124"/>
                  </a:lnTo>
                  <a:lnTo>
                    <a:pt x="1067" y="124"/>
                  </a:lnTo>
                  <a:lnTo>
                    <a:pt x="1060" y="108"/>
                  </a:lnTo>
                  <a:lnTo>
                    <a:pt x="1051" y="93"/>
                  </a:lnTo>
                  <a:lnTo>
                    <a:pt x="1041" y="79"/>
                  </a:lnTo>
                  <a:lnTo>
                    <a:pt x="1029" y="66"/>
                  </a:lnTo>
                  <a:lnTo>
                    <a:pt x="1015" y="54"/>
                  </a:lnTo>
                  <a:lnTo>
                    <a:pt x="999" y="43"/>
                  </a:lnTo>
                  <a:lnTo>
                    <a:pt x="983" y="33"/>
                  </a:lnTo>
                  <a:lnTo>
                    <a:pt x="964" y="25"/>
                  </a:lnTo>
                  <a:lnTo>
                    <a:pt x="939" y="17"/>
                  </a:lnTo>
                  <a:lnTo>
                    <a:pt x="914" y="10"/>
                  </a:lnTo>
                  <a:lnTo>
                    <a:pt x="887" y="5"/>
                  </a:lnTo>
                  <a:lnTo>
                    <a:pt x="858" y="1"/>
                  </a:lnTo>
                  <a:lnTo>
                    <a:pt x="827" y="0"/>
                  </a:lnTo>
                  <a:lnTo>
                    <a:pt x="796" y="0"/>
                  </a:lnTo>
                  <a:lnTo>
                    <a:pt x="763" y="2"/>
                  </a:lnTo>
                  <a:lnTo>
                    <a:pt x="729" y="6"/>
                  </a:lnTo>
                  <a:lnTo>
                    <a:pt x="695" y="11"/>
                  </a:lnTo>
                  <a:lnTo>
                    <a:pt x="659" y="18"/>
                  </a:lnTo>
                  <a:lnTo>
                    <a:pt x="623" y="27"/>
                  </a:lnTo>
                  <a:lnTo>
                    <a:pt x="587" y="37"/>
                  </a:lnTo>
                  <a:lnTo>
                    <a:pt x="548" y="48"/>
                  </a:lnTo>
                  <a:lnTo>
                    <a:pt x="511" y="62"/>
                  </a:lnTo>
                  <a:lnTo>
                    <a:pt x="472" y="77"/>
                  </a:lnTo>
                  <a:lnTo>
                    <a:pt x="435" y="94"/>
                  </a:lnTo>
                  <a:close/>
                  <a:moveTo>
                    <a:pt x="141" y="633"/>
                  </a:moveTo>
                  <a:lnTo>
                    <a:pt x="130" y="628"/>
                  </a:lnTo>
                  <a:lnTo>
                    <a:pt x="118" y="621"/>
                  </a:lnTo>
                  <a:lnTo>
                    <a:pt x="108" y="615"/>
                  </a:lnTo>
                  <a:lnTo>
                    <a:pt x="101" y="608"/>
                  </a:lnTo>
                  <a:lnTo>
                    <a:pt x="92" y="600"/>
                  </a:lnTo>
                  <a:lnTo>
                    <a:pt x="86" y="593"/>
                  </a:lnTo>
                  <a:lnTo>
                    <a:pt x="81" y="584"/>
                  </a:lnTo>
                  <a:lnTo>
                    <a:pt x="77" y="574"/>
                  </a:lnTo>
                  <a:lnTo>
                    <a:pt x="75" y="566"/>
                  </a:lnTo>
                  <a:lnTo>
                    <a:pt x="72" y="556"/>
                  </a:lnTo>
                  <a:lnTo>
                    <a:pt x="71" y="544"/>
                  </a:lnTo>
                  <a:lnTo>
                    <a:pt x="72" y="533"/>
                  </a:lnTo>
                  <a:lnTo>
                    <a:pt x="74" y="522"/>
                  </a:lnTo>
                  <a:lnTo>
                    <a:pt x="75" y="511"/>
                  </a:lnTo>
                  <a:lnTo>
                    <a:pt x="79" y="499"/>
                  </a:lnTo>
                  <a:lnTo>
                    <a:pt x="82" y="486"/>
                  </a:lnTo>
                  <a:lnTo>
                    <a:pt x="89" y="472"/>
                  </a:lnTo>
                  <a:lnTo>
                    <a:pt x="95" y="460"/>
                  </a:lnTo>
                  <a:lnTo>
                    <a:pt x="102" y="446"/>
                  </a:lnTo>
                  <a:lnTo>
                    <a:pt x="110" y="433"/>
                  </a:lnTo>
                  <a:lnTo>
                    <a:pt x="120" y="419"/>
                  </a:lnTo>
                  <a:lnTo>
                    <a:pt x="130" y="405"/>
                  </a:lnTo>
                  <a:lnTo>
                    <a:pt x="141" y="392"/>
                  </a:lnTo>
                  <a:lnTo>
                    <a:pt x="153" y="377"/>
                  </a:lnTo>
                  <a:lnTo>
                    <a:pt x="179" y="348"/>
                  </a:lnTo>
                  <a:lnTo>
                    <a:pt x="210" y="320"/>
                  </a:lnTo>
                  <a:lnTo>
                    <a:pt x="244" y="291"/>
                  </a:lnTo>
                  <a:lnTo>
                    <a:pt x="281" y="263"/>
                  </a:lnTo>
                  <a:lnTo>
                    <a:pt x="322" y="235"/>
                  </a:lnTo>
                  <a:lnTo>
                    <a:pt x="367" y="208"/>
                  </a:lnTo>
                  <a:lnTo>
                    <a:pt x="389" y="196"/>
                  </a:lnTo>
                  <a:lnTo>
                    <a:pt x="414" y="183"/>
                  </a:lnTo>
                  <a:lnTo>
                    <a:pt x="439" y="171"/>
                  </a:lnTo>
                  <a:lnTo>
                    <a:pt x="465" y="159"/>
                  </a:lnTo>
                  <a:lnTo>
                    <a:pt x="498" y="144"/>
                  </a:lnTo>
                  <a:lnTo>
                    <a:pt x="533" y="130"/>
                  </a:lnTo>
                  <a:lnTo>
                    <a:pt x="567" y="118"/>
                  </a:lnTo>
                  <a:lnTo>
                    <a:pt x="601" y="106"/>
                  </a:lnTo>
                  <a:lnTo>
                    <a:pt x="634" y="98"/>
                  </a:lnTo>
                  <a:lnTo>
                    <a:pt x="667" y="89"/>
                  </a:lnTo>
                  <a:lnTo>
                    <a:pt x="700" y="83"/>
                  </a:lnTo>
                  <a:lnTo>
                    <a:pt x="731" y="78"/>
                  </a:lnTo>
                  <a:lnTo>
                    <a:pt x="760" y="74"/>
                  </a:lnTo>
                  <a:lnTo>
                    <a:pt x="790" y="72"/>
                  </a:lnTo>
                  <a:lnTo>
                    <a:pt x="818" y="70"/>
                  </a:lnTo>
                  <a:lnTo>
                    <a:pt x="845" y="72"/>
                  </a:lnTo>
                  <a:lnTo>
                    <a:pt x="870" y="74"/>
                  </a:lnTo>
                  <a:lnTo>
                    <a:pt x="894" y="78"/>
                  </a:lnTo>
                  <a:lnTo>
                    <a:pt x="917" y="84"/>
                  </a:lnTo>
                  <a:lnTo>
                    <a:pt x="937" y="90"/>
                  </a:lnTo>
                  <a:lnTo>
                    <a:pt x="948" y="97"/>
                  </a:lnTo>
                  <a:lnTo>
                    <a:pt x="959" y="103"/>
                  </a:lnTo>
                  <a:lnTo>
                    <a:pt x="969" y="109"/>
                  </a:lnTo>
                  <a:lnTo>
                    <a:pt x="978" y="115"/>
                  </a:lnTo>
                  <a:lnTo>
                    <a:pt x="984" y="124"/>
                  </a:lnTo>
                  <a:lnTo>
                    <a:pt x="991" y="131"/>
                  </a:lnTo>
                  <a:lnTo>
                    <a:pt x="996" y="140"/>
                  </a:lnTo>
                  <a:lnTo>
                    <a:pt x="1000" y="149"/>
                  </a:lnTo>
                  <a:lnTo>
                    <a:pt x="1003" y="157"/>
                  </a:lnTo>
                  <a:lnTo>
                    <a:pt x="1005" y="165"/>
                  </a:lnTo>
                  <a:lnTo>
                    <a:pt x="1006" y="173"/>
                  </a:lnTo>
                  <a:lnTo>
                    <a:pt x="1006" y="182"/>
                  </a:lnTo>
                  <a:lnTo>
                    <a:pt x="1005" y="192"/>
                  </a:lnTo>
                  <a:lnTo>
                    <a:pt x="1004" y="202"/>
                  </a:lnTo>
                  <a:lnTo>
                    <a:pt x="1003" y="213"/>
                  </a:lnTo>
                  <a:lnTo>
                    <a:pt x="999" y="224"/>
                  </a:lnTo>
                  <a:lnTo>
                    <a:pt x="995" y="235"/>
                  </a:lnTo>
                  <a:lnTo>
                    <a:pt x="991" y="247"/>
                  </a:lnTo>
                  <a:lnTo>
                    <a:pt x="985" y="258"/>
                  </a:lnTo>
                  <a:lnTo>
                    <a:pt x="980" y="270"/>
                  </a:lnTo>
                  <a:lnTo>
                    <a:pt x="965" y="294"/>
                  </a:lnTo>
                  <a:lnTo>
                    <a:pt x="948" y="319"/>
                  </a:lnTo>
                  <a:lnTo>
                    <a:pt x="927" y="345"/>
                  </a:lnTo>
                  <a:lnTo>
                    <a:pt x="903" y="371"/>
                  </a:lnTo>
                  <a:lnTo>
                    <a:pt x="876" y="396"/>
                  </a:lnTo>
                  <a:lnTo>
                    <a:pt x="847" y="422"/>
                  </a:lnTo>
                  <a:lnTo>
                    <a:pt x="815" y="448"/>
                  </a:lnTo>
                  <a:lnTo>
                    <a:pt x="780" y="472"/>
                  </a:lnTo>
                  <a:lnTo>
                    <a:pt x="742" y="496"/>
                  </a:lnTo>
                  <a:lnTo>
                    <a:pt x="702" y="521"/>
                  </a:lnTo>
                  <a:lnTo>
                    <a:pt x="659" y="543"/>
                  </a:lnTo>
                  <a:lnTo>
                    <a:pt x="613" y="566"/>
                  </a:lnTo>
                  <a:lnTo>
                    <a:pt x="579" y="580"/>
                  </a:lnTo>
                  <a:lnTo>
                    <a:pt x="544" y="594"/>
                  </a:lnTo>
                  <a:lnTo>
                    <a:pt x="511" y="606"/>
                  </a:lnTo>
                  <a:lnTo>
                    <a:pt x="476" y="618"/>
                  </a:lnTo>
                  <a:lnTo>
                    <a:pt x="444" y="626"/>
                  </a:lnTo>
                  <a:lnTo>
                    <a:pt x="410" y="635"/>
                  </a:lnTo>
                  <a:lnTo>
                    <a:pt x="378" y="641"/>
                  </a:lnTo>
                  <a:lnTo>
                    <a:pt x="347" y="646"/>
                  </a:lnTo>
                  <a:lnTo>
                    <a:pt x="317" y="650"/>
                  </a:lnTo>
                  <a:lnTo>
                    <a:pt x="287" y="652"/>
                  </a:lnTo>
                  <a:lnTo>
                    <a:pt x="260" y="652"/>
                  </a:lnTo>
                  <a:lnTo>
                    <a:pt x="233" y="652"/>
                  </a:lnTo>
                  <a:lnTo>
                    <a:pt x="207" y="650"/>
                  </a:lnTo>
                  <a:lnTo>
                    <a:pt x="183" y="645"/>
                  </a:lnTo>
                  <a:lnTo>
                    <a:pt x="161" y="640"/>
                  </a:lnTo>
                  <a:lnTo>
                    <a:pt x="141" y="6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5492880" y="5353200"/>
              <a:ext cx="244440" cy="160200"/>
            </a:xfrm>
            <a:custGeom>
              <a:avLst/>
              <a:gdLst/>
              <a:ahLst/>
              <a:rect l="l" t="t" r="r" b="b"/>
              <a:pathLst>
                <a:path w="615" h="404">
                  <a:moveTo>
                    <a:pt x="610" y="64"/>
                  </a:moveTo>
                  <a:lnTo>
                    <a:pt x="608" y="56"/>
                  </a:lnTo>
                  <a:lnTo>
                    <a:pt x="603" y="50"/>
                  </a:lnTo>
                  <a:lnTo>
                    <a:pt x="599" y="43"/>
                  </a:lnTo>
                  <a:lnTo>
                    <a:pt x="593" y="36"/>
                  </a:lnTo>
                  <a:lnTo>
                    <a:pt x="587" y="31"/>
                  </a:lnTo>
                  <a:lnTo>
                    <a:pt x="581" y="26"/>
                  </a:lnTo>
                  <a:lnTo>
                    <a:pt x="573" y="22"/>
                  </a:lnTo>
                  <a:lnTo>
                    <a:pt x="566" y="18"/>
                  </a:lnTo>
                  <a:lnTo>
                    <a:pt x="547" y="10"/>
                  </a:lnTo>
                  <a:lnTo>
                    <a:pt x="527" y="5"/>
                  </a:lnTo>
                  <a:lnTo>
                    <a:pt x="506" y="2"/>
                  </a:lnTo>
                  <a:lnTo>
                    <a:pt x="483" y="0"/>
                  </a:lnTo>
                  <a:lnTo>
                    <a:pt x="458" y="0"/>
                  </a:lnTo>
                  <a:lnTo>
                    <a:pt x="430" y="3"/>
                  </a:lnTo>
                  <a:lnTo>
                    <a:pt x="403" y="7"/>
                  </a:lnTo>
                  <a:lnTo>
                    <a:pt x="375" y="13"/>
                  </a:lnTo>
                  <a:lnTo>
                    <a:pt x="345" y="20"/>
                  </a:lnTo>
                  <a:lnTo>
                    <a:pt x="314" y="30"/>
                  </a:lnTo>
                  <a:lnTo>
                    <a:pt x="283" y="41"/>
                  </a:lnTo>
                  <a:lnTo>
                    <a:pt x="252" y="55"/>
                  </a:lnTo>
                  <a:lnTo>
                    <a:pt x="221" y="70"/>
                  </a:lnTo>
                  <a:lnTo>
                    <a:pt x="192" y="86"/>
                  </a:lnTo>
                  <a:lnTo>
                    <a:pt x="165" y="102"/>
                  </a:lnTo>
                  <a:lnTo>
                    <a:pt x="139" y="120"/>
                  </a:lnTo>
                  <a:lnTo>
                    <a:pt x="114" y="138"/>
                  </a:lnTo>
                  <a:lnTo>
                    <a:pt x="91" y="157"/>
                  </a:lnTo>
                  <a:lnTo>
                    <a:pt x="72" y="177"/>
                  </a:lnTo>
                  <a:lnTo>
                    <a:pt x="54" y="195"/>
                  </a:lnTo>
                  <a:lnTo>
                    <a:pt x="38" y="215"/>
                  </a:lnTo>
                  <a:lnTo>
                    <a:pt x="24" y="234"/>
                  </a:lnTo>
                  <a:lnTo>
                    <a:pt x="14" y="254"/>
                  </a:lnTo>
                  <a:lnTo>
                    <a:pt x="7" y="272"/>
                  </a:lnTo>
                  <a:lnTo>
                    <a:pt x="3" y="281"/>
                  </a:lnTo>
                  <a:lnTo>
                    <a:pt x="1" y="291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0" y="317"/>
                  </a:lnTo>
                  <a:lnTo>
                    <a:pt x="1" y="324"/>
                  </a:lnTo>
                  <a:lnTo>
                    <a:pt x="2" y="333"/>
                  </a:lnTo>
                  <a:lnTo>
                    <a:pt x="5" y="340"/>
                  </a:lnTo>
                  <a:lnTo>
                    <a:pt x="7" y="348"/>
                  </a:lnTo>
                  <a:lnTo>
                    <a:pt x="12" y="355"/>
                  </a:lnTo>
                  <a:lnTo>
                    <a:pt x="17" y="361"/>
                  </a:lnTo>
                  <a:lnTo>
                    <a:pt x="22" y="368"/>
                  </a:lnTo>
                  <a:lnTo>
                    <a:pt x="28" y="373"/>
                  </a:lnTo>
                  <a:lnTo>
                    <a:pt x="34" y="378"/>
                  </a:lnTo>
                  <a:lnTo>
                    <a:pt x="42" y="383"/>
                  </a:lnTo>
                  <a:lnTo>
                    <a:pt x="50" y="386"/>
                  </a:lnTo>
                  <a:lnTo>
                    <a:pt x="58" y="391"/>
                  </a:lnTo>
                  <a:lnTo>
                    <a:pt x="68" y="394"/>
                  </a:lnTo>
                  <a:lnTo>
                    <a:pt x="77" y="397"/>
                  </a:lnTo>
                  <a:lnTo>
                    <a:pt x="88" y="399"/>
                  </a:lnTo>
                  <a:lnTo>
                    <a:pt x="109" y="402"/>
                  </a:lnTo>
                  <a:lnTo>
                    <a:pt x="132" y="404"/>
                  </a:lnTo>
                  <a:lnTo>
                    <a:pt x="157" y="404"/>
                  </a:lnTo>
                  <a:lnTo>
                    <a:pt x="185" y="401"/>
                  </a:lnTo>
                  <a:lnTo>
                    <a:pt x="212" y="397"/>
                  </a:lnTo>
                  <a:lnTo>
                    <a:pt x="240" y="391"/>
                  </a:lnTo>
                  <a:lnTo>
                    <a:pt x="270" y="384"/>
                  </a:lnTo>
                  <a:lnTo>
                    <a:pt x="301" y="374"/>
                  </a:lnTo>
                  <a:lnTo>
                    <a:pt x="332" y="363"/>
                  </a:lnTo>
                  <a:lnTo>
                    <a:pt x="363" y="349"/>
                  </a:lnTo>
                  <a:lnTo>
                    <a:pt x="394" y="334"/>
                  </a:lnTo>
                  <a:lnTo>
                    <a:pt x="423" y="318"/>
                  </a:lnTo>
                  <a:lnTo>
                    <a:pt x="452" y="302"/>
                  </a:lnTo>
                  <a:lnTo>
                    <a:pt x="478" y="285"/>
                  </a:lnTo>
                  <a:lnTo>
                    <a:pt x="501" y="266"/>
                  </a:lnTo>
                  <a:lnTo>
                    <a:pt x="524" y="247"/>
                  </a:lnTo>
                  <a:lnTo>
                    <a:pt x="543" y="227"/>
                  </a:lnTo>
                  <a:lnTo>
                    <a:pt x="562" y="209"/>
                  </a:lnTo>
                  <a:lnTo>
                    <a:pt x="577" y="189"/>
                  </a:lnTo>
                  <a:lnTo>
                    <a:pt x="591" y="170"/>
                  </a:lnTo>
                  <a:lnTo>
                    <a:pt x="601" y="151"/>
                  </a:lnTo>
                  <a:lnTo>
                    <a:pt x="609" y="132"/>
                  </a:lnTo>
                  <a:lnTo>
                    <a:pt x="612" y="123"/>
                  </a:lnTo>
                  <a:lnTo>
                    <a:pt x="614" y="115"/>
                  </a:lnTo>
                  <a:lnTo>
                    <a:pt x="615" y="105"/>
                  </a:lnTo>
                  <a:lnTo>
                    <a:pt x="615" y="96"/>
                  </a:lnTo>
                  <a:lnTo>
                    <a:pt x="615" y="89"/>
                  </a:lnTo>
                  <a:lnTo>
                    <a:pt x="615" y="80"/>
                  </a:lnTo>
                  <a:lnTo>
                    <a:pt x="613" y="71"/>
                  </a:lnTo>
                  <a:lnTo>
                    <a:pt x="610" y="64"/>
                  </a:lnTo>
                  <a:close/>
                </a:path>
              </a:pathLst>
            </a:custGeom>
            <a:solidFill>
              <a:srgbClr val="f7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4383000" y="5560920"/>
              <a:ext cx="1711440" cy="346320"/>
            </a:xfrm>
            <a:custGeom>
              <a:avLst/>
              <a:gdLst/>
              <a:ahLst/>
              <a:rect l="l" t="t" r="r" b="b"/>
              <a:pathLst>
                <a:path w="4314" h="870">
                  <a:moveTo>
                    <a:pt x="0" y="39"/>
                  </a:moveTo>
                  <a:lnTo>
                    <a:pt x="42" y="37"/>
                  </a:lnTo>
                  <a:lnTo>
                    <a:pt x="163" y="35"/>
                  </a:lnTo>
                  <a:lnTo>
                    <a:pt x="352" y="31"/>
                  </a:lnTo>
                  <a:lnTo>
                    <a:pt x="599" y="26"/>
                  </a:lnTo>
                  <a:lnTo>
                    <a:pt x="893" y="21"/>
                  </a:lnTo>
                  <a:lnTo>
                    <a:pt x="1224" y="15"/>
                  </a:lnTo>
                  <a:lnTo>
                    <a:pt x="1582" y="10"/>
                  </a:lnTo>
                  <a:lnTo>
                    <a:pt x="1957" y="6"/>
                  </a:lnTo>
                  <a:lnTo>
                    <a:pt x="2338" y="3"/>
                  </a:lnTo>
                  <a:lnTo>
                    <a:pt x="2715" y="0"/>
                  </a:lnTo>
                  <a:lnTo>
                    <a:pt x="3077" y="0"/>
                  </a:lnTo>
                  <a:lnTo>
                    <a:pt x="3415" y="1"/>
                  </a:lnTo>
                  <a:lnTo>
                    <a:pt x="3571" y="4"/>
                  </a:lnTo>
                  <a:lnTo>
                    <a:pt x="3718" y="6"/>
                  </a:lnTo>
                  <a:lnTo>
                    <a:pt x="3853" y="10"/>
                  </a:lnTo>
                  <a:lnTo>
                    <a:pt x="3975" y="14"/>
                  </a:lnTo>
                  <a:lnTo>
                    <a:pt x="4084" y="19"/>
                  </a:lnTo>
                  <a:lnTo>
                    <a:pt x="4177" y="24"/>
                  </a:lnTo>
                  <a:lnTo>
                    <a:pt x="4254" y="31"/>
                  </a:lnTo>
                  <a:lnTo>
                    <a:pt x="4314" y="39"/>
                  </a:lnTo>
                  <a:lnTo>
                    <a:pt x="4297" y="68"/>
                  </a:lnTo>
                  <a:lnTo>
                    <a:pt x="4248" y="148"/>
                  </a:lnTo>
                  <a:lnTo>
                    <a:pt x="4212" y="202"/>
                  </a:lnTo>
                  <a:lnTo>
                    <a:pt x="4170" y="265"/>
                  </a:lnTo>
                  <a:lnTo>
                    <a:pt x="4146" y="297"/>
                  </a:lnTo>
                  <a:lnTo>
                    <a:pt x="4121" y="330"/>
                  </a:lnTo>
                  <a:lnTo>
                    <a:pt x="4095" y="365"/>
                  </a:lnTo>
                  <a:lnTo>
                    <a:pt x="4067" y="400"/>
                  </a:lnTo>
                  <a:lnTo>
                    <a:pt x="4038" y="436"/>
                  </a:lnTo>
                  <a:lnTo>
                    <a:pt x="4007" y="472"/>
                  </a:lnTo>
                  <a:lnTo>
                    <a:pt x="3975" y="508"/>
                  </a:lnTo>
                  <a:lnTo>
                    <a:pt x="3943" y="542"/>
                  </a:lnTo>
                  <a:lnTo>
                    <a:pt x="3908" y="577"/>
                  </a:lnTo>
                  <a:lnTo>
                    <a:pt x="3872" y="612"/>
                  </a:lnTo>
                  <a:lnTo>
                    <a:pt x="3836" y="644"/>
                  </a:lnTo>
                  <a:lnTo>
                    <a:pt x="3799" y="676"/>
                  </a:lnTo>
                  <a:lnTo>
                    <a:pt x="3760" y="707"/>
                  </a:lnTo>
                  <a:lnTo>
                    <a:pt x="3720" y="736"/>
                  </a:lnTo>
                  <a:lnTo>
                    <a:pt x="3679" y="762"/>
                  </a:lnTo>
                  <a:lnTo>
                    <a:pt x="3638" y="787"/>
                  </a:lnTo>
                  <a:lnTo>
                    <a:pt x="3596" y="809"/>
                  </a:lnTo>
                  <a:lnTo>
                    <a:pt x="3554" y="829"/>
                  </a:lnTo>
                  <a:lnTo>
                    <a:pt x="3511" y="846"/>
                  </a:lnTo>
                  <a:lnTo>
                    <a:pt x="3466" y="860"/>
                  </a:lnTo>
                  <a:lnTo>
                    <a:pt x="3442" y="860"/>
                  </a:lnTo>
                  <a:lnTo>
                    <a:pt x="3373" y="861"/>
                  </a:lnTo>
                  <a:lnTo>
                    <a:pt x="3265" y="863"/>
                  </a:lnTo>
                  <a:lnTo>
                    <a:pt x="3123" y="865"/>
                  </a:lnTo>
                  <a:lnTo>
                    <a:pt x="2954" y="867"/>
                  </a:lnTo>
                  <a:lnTo>
                    <a:pt x="2764" y="869"/>
                  </a:lnTo>
                  <a:lnTo>
                    <a:pt x="2558" y="870"/>
                  </a:lnTo>
                  <a:lnTo>
                    <a:pt x="2343" y="870"/>
                  </a:lnTo>
                  <a:lnTo>
                    <a:pt x="2125" y="870"/>
                  </a:lnTo>
                  <a:lnTo>
                    <a:pt x="1909" y="867"/>
                  </a:lnTo>
                  <a:lnTo>
                    <a:pt x="1700" y="865"/>
                  </a:lnTo>
                  <a:lnTo>
                    <a:pt x="1505" y="860"/>
                  </a:lnTo>
                  <a:lnTo>
                    <a:pt x="1414" y="856"/>
                  </a:lnTo>
                  <a:lnTo>
                    <a:pt x="1330" y="853"/>
                  </a:lnTo>
                  <a:lnTo>
                    <a:pt x="1252" y="848"/>
                  </a:lnTo>
                  <a:lnTo>
                    <a:pt x="1181" y="843"/>
                  </a:lnTo>
                  <a:lnTo>
                    <a:pt x="1119" y="838"/>
                  </a:lnTo>
                  <a:lnTo>
                    <a:pt x="1064" y="832"/>
                  </a:lnTo>
                  <a:lnTo>
                    <a:pt x="1020" y="824"/>
                  </a:lnTo>
                  <a:lnTo>
                    <a:pt x="985" y="817"/>
                  </a:lnTo>
                  <a:lnTo>
                    <a:pt x="976" y="813"/>
                  </a:lnTo>
                  <a:lnTo>
                    <a:pt x="951" y="803"/>
                  </a:lnTo>
                  <a:lnTo>
                    <a:pt x="912" y="786"/>
                  </a:lnTo>
                  <a:lnTo>
                    <a:pt x="861" y="762"/>
                  </a:lnTo>
                  <a:lnTo>
                    <a:pt x="800" y="732"/>
                  </a:lnTo>
                  <a:lnTo>
                    <a:pt x="730" y="695"/>
                  </a:lnTo>
                  <a:lnTo>
                    <a:pt x="693" y="675"/>
                  </a:lnTo>
                  <a:lnTo>
                    <a:pt x="653" y="654"/>
                  </a:lnTo>
                  <a:lnTo>
                    <a:pt x="614" y="631"/>
                  </a:lnTo>
                  <a:lnTo>
                    <a:pt x="574" y="606"/>
                  </a:lnTo>
                  <a:lnTo>
                    <a:pt x="532" y="580"/>
                  </a:lnTo>
                  <a:lnTo>
                    <a:pt x="491" y="552"/>
                  </a:lnTo>
                  <a:lnTo>
                    <a:pt x="448" y="524"/>
                  </a:lnTo>
                  <a:lnTo>
                    <a:pt x="406" y="494"/>
                  </a:lnTo>
                  <a:lnTo>
                    <a:pt x="365" y="462"/>
                  </a:lnTo>
                  <a:lnTo>
                    <a:pt x="324" y="430"/>
                  </a:lnTo>
                  <a:lnTo>
                    <a:pt x="283" y="396"/>
                  </a:lnTo>
                  <a:lnTo>
                    <a:pt x="245" y="360"/>
                  </a:lnTo>
                  <a:lnTo>
                    <a:pt x="207" y="324"/>
                  </a:lnTo>
                  <a:lnTo>
                    <a:pt x="170" y="287"/>
                  </a:lnTo>
                  <a:lnTo>
                    <a:pt x="137" y="248"/>
                  </a:lnTo>
                  <a:lnTo>
                    <a:pt x="104" y="209"/>
                  </a:lnTo>
                  <a:lnTo>
                    <a:pt x="73" y="168"/>
                  </a:lnTo>
                  <a:lnTo>
                    <a:pt x="46" y="126"/>
                  </a:lnTo>
                  <a:lnTo>
                    <a:pt x="21" y="8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2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4361040" y="5546880"/>
              <a:ext cx="1755720" cy="374400"/>
            </a:xfrm>
            <a:custGeom>
              <a:avLst/>
              <a:gdLst/>
              <a:ahLst/>
              <a:rect l="l" t="t" r="r" b="b"/>
              <a:pathLst>
                <a:path w="4425" h="942">
                  <a:moveTo>
                    <a:pt x="55" y="39"/>
                  </a:moveTo>
                  <a:lnTo>
                    <a:pt x="0" y="40"/>
                  </a:lnTo>
                  <a:lnTo>
                    <a:pt x="23" y="90"/>
                  </a:lnTo>
                  <a:lnTo>
                    <a:pt x="45" y="134"/>
                  </a:lnTo>
                  <a:lnTo>
                    <a:pt x="70" y="178"/>
                  </a:lnTo>
                  <a:lnTo>
                    <a:pt x="98" y="220"/>
                  </a:lnTo>
                  <a:lnTo>
                    <a:pt x="128" y="262"/>
                  </a:lnTo>
                  <a:lnTo>
                    <a:pt x="160" y="302"/>
                  </a:lnTo>
                  <a:lnTo>
                    <a:pt x="195" y="341"/>
                  </a:lnTo>
                  <a:lnTo>
                    <a:pt x="231" y="379"/>
                  </a:lnTo>
                  <a:lnTo>
                    <a:pt x="268" y="416"/>
                  </a:lnTo>
                  <a:lnTo>
                    <a:pt x="307" y="451"/>
                  </a:lnTo>
                  <a:lnTo>
                    <a:pt x="347" y="485"/>
                  </a:lnTo>
                  <a:lnTo>
                    <a:pt x="388" y="519"/>
                  </a:lnTo>
                  <a:lnTo>
                    <a:pt x="429" y="550"/>
                  </a:lnTo>
                  <a:lnTo>
                    <a:pt x="471" y="581"/>
                  </a:lnTo>
                  <a:lnTo>
                    <a:pt x="513" y="609"/>
                  </a:lnTo>
                  <a:lnTo>
                    <a:pt x="554" y="638"/>
                  </a:lnTo>
                  <a:lnTo>
                    <a:pt x="596" y="664"/>
                  </a:lnTo>
                  <a:lnTo>
                    <a:pt x="636" y="689"/>
                  </a:lnTo>
                  <a:lnTo>
                    <a:pt x="677" y="712"/>
                  </a:lnTo>
                  <a:lnTo>
                    <a:pt x="715" y="735"/>
                  </a:lnTo>
                  <a:lnTo>
                    <a:pt x="754" y="756"/>
                  </a:lnTo>
                  <a:lnTo>
                    <a:pt x="825" y="793"/>
                  </a:lnTo>
                  <a:lnTo>
                    <a:pt x="888" y="824"/>
                  </a:lnTo>
                  <a:lnTo>
                    <a:pt x="941" y="849"/>
                  </a:lnTo>
                  <a:lnTo>
                    <a:pt x="984" y="868"/>
                  </a:lnTo>
                  <a:lnTo>
                    <a:pt x="1014" y="880"/>
                  </a:lnTo>
                  <a:lnTo>
                    <a:pt x="1027" y="886"/>
                  </a:lnTo>
                  <a:lnTo>
                    <a:pt x="1062" y="894"/>
                  </a:lnTo>
                  <a:lnTo>
                    <a:pt x="1107" y="901"/>
                  </a:lnTo>
                  <a:lnTo>
                    <a:pt x="1161" y="907"/>
                  </a:lnTo>
                  <a:lnTo>
                    <a:pt x="1223" y="913"/>
                  </a:lnTo>
                  <a:lnTo>
                    <a:pt x="1293" y="918"/>
                  </a:lnTo>
                  <a:lnTo>
                    <a:pt x="1369" y="922"/>
                  </a:lnTo>
                  <a:lnTo>
                    <a:pt x="1452" y="927"/>
                  </a:lnTo>
                  <a:lnTo>
                    <a:pt x="1540" y="930"/>
                  </a:lnTo>
                  <a:lnTo>
                    <a:pt x="1730" y="936"/>
                  </a:lnTo>
                  <a:lnTo>
                    <a:pt x="1935" y="939"/>
                  </a:lnTo>
                  <a:lnTo>
                    <a:pt x="2147" y="942"/>
                  </a:lnTo>
                  <a:lnTo>
                    <a:pt x="2362" y="942"/>
                  </a:lnTo>
                  <a:lnTo>
                    <a:pt x="2574" y="942"/>
                  </a:lnTo>
                  <a:lnTo>
                    <a:pt x="2779" y="941"/>
                  </a:lnTo>
                  <a:lnTo>
                    <a:pt x="2969" y="939"/>
                  </a:lnTo>
                  <a:lnTo>
                    <a:pt x="3141" y="937"/>
                  </a:lnTo>
                  <a:lnTo>
                    <a:pt x="3287" y="936"/>
                  </a:lnTo>
                  <a:lnTo>
                    <a:pt x="3404" y="933"/>
                  </a:lnTo>
                  <a:lnTo>
                    <a:pt x="3483" y="932"/>
                  </a:lnTo>
                  <a:lnTo>
                    <a:pt x="3523" y="931"/>
                  </a:lnTo>
                  <a:lnTo>
                    <a:pt x="3569" y="917"/>
                  </a:lnTo>
                  <a:lnTo>
                    <a:pt x="3614" y="900"/>
                  </a:lnTo>
                  <a:lnTo>
                    <a:pt x="3657" y="880"/>
                  </a:lnTo>
                  <a:lnTo>
                    <a:pt x="3701" y="858"/>
                  </a:lnTo>
                  <a:lnTo>
                    <a:pt x="3743" y="834"/>
                  </a:lnTo>
                  <a:lnTo>
                    <a:pt x="3785" y="807"/>
                  </a:lnTo>
                  <a:lnTo>
                    <a:pt x="3826" y="778"/>
                  </a:lnTo>
                  <a:lnTo>
                    <a:pt x="3865" y="747"/>
                  </a:lnTo>
                  <a:lnTo>
                    <a:pt x="3903" y="716"/>
                  </a:lnTo>
                  <a:lnTo>
                    <a:pt x="3942" y="683"/>
                  </a:lnTo>
                  <a:lnTo>
                    <a:pt x="3978" y="649"/>
                  </a:lnTo>
                  <a:lnTo>
                    <a:pt x="4012" y="614"/>
                  </a:lnTo>
                  <a:lnTo>
                    <a:pt x="4046" y="580"/>
                  </a:lnTo>
                  <a:lnTo>
                    <a:pt x="4079" y="544"/>
                  </a:lnTo>
                  <a:lnTo>
                    <a:pt x="4110" y="508"/>
                  </a:lnTo>
                  <a:lnTo>
                    <a:pt x="4140" y="472"/>
                  </a:lnTo>
                  <a:lnTo>
                    <a:pt x="4169" y="437"/>
                  </a:lnTo>
                  <a:lnTo>
                    <a:pt x="4196" y="402"/>
                  </a:lnTo>
                  <a:lnTo>
                    <a:pt x="4221" y="368"/>
                  </a:lnTo>
                  <a:lnTo>
                    <a:pt x="4246" y="334"/>
                  </a:lnTo>
                  <a:lnTo>
                    <a:pt x="4289" y="272"/>
                  </a:lnTo>
                  <a:lnTo>
                    <a:pt x="4327" y="216"/>
                  </a:lnTo>
                  <a:lnTo>
                    <a:pt x="4356" y="168"/>
                  </a:lnTo>
                  <a:lnTo>
                    <a:pt x="4379" y="131"/>
                  </a:lnTo>
                  <a:lnTo>
                    <a:pt x="4394" y="104"/>
                  </a:lnTo>
                  <a:lnTo>
                    <a:pt x="4401" y="91"/>
                  </a:lnTo>
                  <a:lnTo>
                    <a:pt x="4425" y="47"/>
                  </a:lnTo>
                  <a:lnTo>
                    <a:pt x="4375" y="39"/>
                  </a:lnTo>
                  <a:lnTo>
                    <a:pt x="4317" y="31"/>
                  </a:lnTo>
                  <a:lnTo>
                    <a:pt x="4241" y="25"/>
                  </a:lnTo>
                  <a:lnTo>
                    <a:pt x="4150" y="19"/>
                  </a:lnTo>
                  <a:lnTo>
                    <a:pt x="4043" y="14"/>
                  </a:lnTo>
                  <a:lnTo>
                    <a:pt x="3924" y="10"/>
                  </a:lnTo>
                  <a:lnTo>
                    <a:pt x="3794" y="6"/>
                  </a:lnTo>
                  <a:lnTo>
                    <a:pt x="3651" y="4"/>
                  </a:lnTo>
                  <a:lnTo>
                    <a:pt x="3498" y="3"/>
                  </a:lnTo>
                  <a:lnTo>
                    <a:pt x="3169" y="0"/>
                  </a:lnTo>
                  <a:lnTo>
                    <a:pt x="2817" y="0"/>
                  </a:lnTo>
                  <a:lnTo>
                    <a:pt x="2448" y="3"/>
                  </a:lnTo>
                  <a:lnTo>
                    <a:pt x="2074" y="5"/>
                  </a:lnTo>
                  <a:lnTo>
                    <a:pt x="1705" y="10"/>
                  </a:lnTo>
                  <a:lnTo>
                    <a:pt x="1350" y="15"/>
                  </a:lnTo>
                  <a:lnTo>
                    <a:pt x="1018" y="20"/>
                  </a:lnTo>
                  <a:lnTo>
                    <a:pt x="720" y="25"/>
                  </a:lnTo>
                  <a:lnTo>
                    <a:pt x="466" y="30"/>
                  </a:lnTo>
                  <a:lnTo>
                    <a:pt x="263" y="34"/>
                  </a:lnTo>
                  <a:lnTo>
                    <a:pt x="123" y="37"/>
                  </a:lnTo>
                  <a:lnTo>
                    <a:pt x="55" y="39"/>
                  </a:lnTo>
                  <a:close/>
                  <a:moveTo>
                    <a:pt x="4310" y="104"/>
                  </a:moveTo>
                  <a:lnTo>
                    <a:pt x="4290" y="137"/>
                  </a:lnTo>
                  <a:lnTo>
                    <a:pt x="4266" y="176"/>
                  </a:lnTo>
                  <a:lnTo>
                    <a:pt x="4236" y="222"/>
                  </a:lnTo>
                  <a:lnTo>
                    <a:pt x="4201" y="272"/>
                  </a:lnTo>
                  <a:lnTo>
                    <a:pt x="4163" y="327"/>
                  </a:lnTo>
                  <a:lnTo>
                    <a:pt x="4119" y="384"/>
                  </a:lnTo>
                  <a:lnTo>
                    <a:pt x="4097" y="412"/>
                  </a:lnTo>
                  <a:lnTo>
                    <a:pt x="4072" y="442"/>
                  </a:lnTo>
                  <a:lnTo>
                    <a:pt x="4047" y="470"/>
                  </a:lnTo>
                  <a:lnTo>
                    <a:pt x="4022" y="500"/>
                  </a:lnTo>
                  <a:lnTo>
                    <a:pt x="3995" y="530"/>
                  </a:lnTo>
                  <a:lnTo>
                    <a:pt x="3968" y="559"/>
                  </a:lnTo>
                  <a:lnTo>
                    <a:pt x="3939" y="587"/>
                  </a:lnTo>
                  <a:lnTo>
                    <a:pt x="3911" y="616"/>
                  </a:lnTo>
                  <a:lnTo>
                    <a:pt x="3881" y="643"/>
                  </a:lnTo>
                  <a:lnTo>
                    <a:pt x="3850" y="670"/>
                  </a:lnTo>
                  <a:lnTo>
                    <a:pt x="3819" y="695"/>
                  </a:lnTo>
                  <a:lnTo>
                    <a:pt x="3788" y="720"/>
                  </a:lnTo>
                  <a:lnTo>
                    <a:pt x="3754" y="743"/>
                  </a:lnTo>
                  <a:lnTo>
                    <a:pt x="3722" y="766"/>
                  </a:lnTo>
                  <a:lnTo>
                    <a:pt x="3688" y="786"/>
                  </a:lnTo>
                  <a:lnTo>
                    <a:pt x="3653" y="804"/>
                  </a:lnTo>
                  <a:lnTo>
                    <a:pt x="3619" y="822"/>
                  </a:lnTo>
                  <a:lnTo>
                    <a:pt x="3584" y="837"/>
                  </a:lnTo>
                  <a:lnTo>
                    <a:pt x="3549" y="850"/>
                  </a:lnTo>
                  <a:lnTo>
                    <a:pt x="3513" y="861"/>
                  </a:lnTo>
                  <a:lnTo>
                    <a:pt x="3487" y="861"/>
                  </a:lnTo>
                  <a:lnTo>
                    <a:pt x="3416" y="863"/>
                  </a:lnTo>
                  <a:lnTo>
                    <a:pt x="3307" y="864"/>
                  </a:lnTo>
                  <a:lnTo>
                    <a:pt x="3165" y="866"/>
                  </a:lnTo>
                  <a:lnTo>
                    <a:pt x="2998" y="868"/>
                  </a:lnTo>
                  <a:lnTo>
                    <a:pt x="2809" y="869"/>
                  </a:lnTo>
                  <a:lnTo>
                    <a:pt x="2604" y="870"/>
                  </a:lnTo>
                  <a:lnTo>
                    <a:pt x="2392" y="871"/>
                  </a:lnTo>
                  <a:lnTo>
                    <a:pt x="2175" y="870"/>
                  </a:lnTo>
                  <a:lnTo>
                    <a:pt x="1961" y="869"/>
                  </a:lnTo>
                  <a:lnTo>
                    <a:pt x="1755" y="865"/>
                  </a:lnTo>
                  <a:lnTo>
                    <a:pt x="1562" y="860"/>
                  </a:lnTo>
                  <a:lnTo>
                    <a:pt x="1473" y="856"/>
                  </a:lnTo>
                  <a:lnTo>
                    <a:pt x="1390" y="853"/>
                  </a:lnTo>
                  <a:lnTo>
                    <a:pt x="1313" y="849"/>
                  </a:lnTo>
                  <a:lnTo>
                    <a:pt x="1243" y="844"/>
                  </a:lnTo>
                  <a:lnTo>
                    <a:pt x="1181" y="839"/>
                  </a:lnTo>
                  <a:lnTo>
                    <a:pt x="1128" y="833"/>
                  </a:lnTo>
                  <a:lnTo>
                    <a:pt x="1084" y="825"/>
                  </a:lnTo>
                  <a:lnTo>
                    <a:pt x="1050" y="818"/>
                  </a:lnTo>
                  <a:lnTo>
                    <a:pt x="1041" y="814"/>
                  </a:lnTo>
                  <a:lnTo>
                    <a:pt x="1018" y="804"/>
                  </a:lnTo>
                  <a:lnTo>
                    <a:pt x="982" y="788"/>
                  </a:lnTo>
                  <a:lnTo>
                    <a:pt x="937" y="767"/>
                  </a:lnTo>
                  <a:lnTo>
                    <a:pt x="879" y="738"/>
                  </a:lnTo>
                  <a:lnTo>
                    <a:pt x="816" y="706"/>
                  </a:lnTo>
                  <a:lnTo>
                    <a:pt x="747" y="667"/>
                  </a:lnTo>
                  <a:lnTo>
                    <a:pt x="672" y="623"/>
                  </a:lnTo>
                  <a:lnTo>
                    <a:pt x="634" y="600"/>
                  </a:lnTo>
                  <a:lnTo>
                    <a:pt x="595" y="575"/>
                  </a:lnTo>
                  <a:lnTo>
                    <a:pt x="555" y="549"/>
                  </a:lnTo>
                  <a:lnTo>
                    <a:pt x="517" y="521"/>
                  </a:lnTo>
                  <a:lnTo>
                    <a:pt x="477" y="493"/>
                  </a:lnTo>
                  <a:lnTo>
                    <a:pt x="439" y="463"/>
                  </a:lnTo>
                  <a:lnTo>
                    <a:pt x="401" y="432"/>
                  </a:lnTo>
                  <a:lnTo>
                    <a:pt x="364" y="400"/>
                  </a:lnTo>
                  <a:lnTo>
                    <a:pt x="327" y="368"/>
                  </a:lnTo>
                  <a:lnTo>
                    <a:pt x="292" y="333"/>
                  </a:lnTo>
                  <a:lnTo>
                    <a:pt x="259" y="298"/>
                  </a:lnTo>
                  <a:lnTo>
                    <a:pt x="226" y="262"/>
                  </a:lnTo>
                  <a:lnTo>
                    <a:pt x="196" y="225"/>
                  </a:lnTo>
                  <a:lnTo>
                    <a:pt x="168" y="188"/>
                  </a:lnTo>
                  <a:lnTo>
                    <a:pt x="142" y="148"/>
                  </a:lnTo>
                  <a:lnTo>
                    <a:pt x="118" y="108"/>
                  </a:lnTo>
                  <a:lnTo>
                    <a:pt x="236" y="106"/>
                  </a:lnTo>
                  <a:lnTo>
                    <a:pt x="408" y="103"/>
                  </a:lnTo>
                  <a:lnTo>
                    <a:pt x="627" y="98"/>
                  </a:lnTo>
                  <a:lnTo>
                    <a:pt x="886" y="95"/>
                  </a:lnTo>
                  <a:lnTo>
                    <a:pt x="1176" y="90"/>
                  </a:lnTo>
                  <a:lnTo>
                    <a:pt x="1490" y="85"/>
                  </a:lnTo>
                  <a:lnTo>
                    <a:pt x="1822" y="80"/>
                  </a:lnTo>
                  <a:lnTo>
                    <a:pt x="2162" y="77"/>
                  </a:lnTo>
                  <a:lnTo>
                    <a:pt x="2505" y="73"/>
                  </a:lnTo>
                  <a:lnTo>
                    <a:pt x="2841" y="72"/>
                  </a:lnTo>
                  <a:lnTo>
                    <a:pt x="3164" y="72"/>
                  </a:lnTo>
                  <a:lnTo>
                    <a:pt x="3466" y="75"/>
                  </a:lnTo>
                  <a:lnTo>
                    <a:pt x="3606" y="76"/>
                  </a:lnTo>
                  <a:lnTo>
                    <a:pt x="3739" y="78"/>
                  </a:lnTo>
                  <a:lnTo>
                    <a:pt x="3862" y="81"/>
                  </a:lnTo>
                  <a:lnTo>
                    <a:pt x="3975" y="85"/>
                  </a:lnTo>
                  <a:lnTo>
                    <a:pt x="4078" y="88"/>
                  </a:lnTo>
                  <a:lnTo>
                    <a:pt x="4169" y="93"/>
                  </a:lnTo>
                  <a:lnTo>
                    <a:pt x="4246" y="98"/>
                  </a:lnTo>
                  <a:lnTo>
                    <a:pt x="4310" y="1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73600" y="5884920"/>
              <a:ext cx="984240" cy="120600"/>
            </a:xfrm>
            <a:prstGeom prst="rect">
              <a:avLst/>
            </a:prstGeom>
            <a:solidFill>
              <a:srgbClr val="f2f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4759200" y="5870520"/>
              <a:ext cx="1013040" cy="149400"/>
            </a:xfrm>
            <a:custGeom>
              <a:avLst/>
              <a:gdLst/>
              <a:ahLst/>
              <a:rect l="l" t="t" r="r" b="b"/>
              <a:pathLst>
                <a:path w="2553" h="373">
                  <a:moveTo>
                    <a:pt x="2517" y="0"/>
                  </a:moveTo>
                  <a:lnTo>
                    <a:pt x="0" y="0"/>
                  </a:lnTo>
                  <a:lnTo>
                    <a:pt x="0" y="373"/>
                  </a:lnTo>
                  <a:lnTo>
                    <a:pt x="2553" y="373"/>
                  </a:lnTo>
                  <a:lnTo>
                    <a:pt x="2553" y="0"/>
                  </a:lnTo>
                  <a:lnTo>
                    <a:pt x="2517" y="0"/>
                  </a:lnTo>
                  <a:close/>
                  <a:moveTo>
                    <a:pt x="2482" y="72"/>
                  </a:moveTo>
                  <a:lnTo>
                    <a:pt x="2482" y="93"/>
                  </a:lnTo>
                  <a:lnTo>
                    <a:pt x="2482" y="121"/>
                  </a:lnTo>
                  <a:lnTo>
                    <a:pt x="2482" y="152"/>
                  </a:lnTo>
                  <a:lnTo>
                    <a:pt x="2482" y="187"/>
                  </a:lnTo>
                  <a:lnTo>
                    <a:pt x="2482" y="220"/>
                  </a:lnTo>
                  <a:lnTo>
                    <a:pt x="2482" y="253"/>
                  </a:lnTo>
                  <a:lnTo>
                    <a:pt x="2482" y="280"/>
                  </a:lnTo>
                  <a:lnTo>
                    <a:pt x="2482" y="302"/>
                  </a:lnTo>
                  <a:lnTo>
                    <a:pt x="2444" y="302"/>
                  </a:lnTo>
                  <a:lnTo>
                    <a:pt x="2362" y="302"/>
                  </a:lnTo>
                  <a:lnTo>
                    <a:pt x="2240" y="302"/>
                  </a:lnTo>
                  <a:lnTo>
                    <a:pt x="2086" y="302"/>
                  </a:lnTo>
                  <a:lnTo>
                    <a:pt x="1906" y="302"/>
                  </a:lnTo>
                  <a:lnTo>
                    <a:pt x="1707" y="302"/>
                  </a:lnTo>
                  <a:lnTo>
                    <a:pt x="1495" y="302"/>
                  </a:lnTo>
                  <a:lnTo>
                    <a:pt x="1276" y="302"/>
                  </a:lnTo>
                  <a:lnTo>
                    <a:pt x="1058" y="302"/>
                  </a:lnTo>
                  <a:lnTo>
                    <a:pt x="845" y="302"/>
                  </a:lnTo>
                  <a:lnTo>
                    <a:pt x="647" y="302"/>
                  </a:lnTo>
                  <a:lnTo>
                    <a:pt x="467" y="302"/>
                  </a:lnTo>
                  <a:lnTo>
                    <a:pt x="313" y="302"/>
                  </a:lnTo>
                  <a:lnTo>
                    <a:pt x="191" y="302"/>
                  </a:lnTo>
                  <a:lnTo>
                    <a:pt x="109" y="302"/>
                  </a:lnTo>
                  <a:lnTo>
                    <a:pt x="71" y="302"/>
                  </a:lnTo>
                  <a:lnTo>
                    <a:pt x="71" y="280"/>
                  </a:lnTo>
                  <a:lnTo>
                    <a:pt x="71" y="253"/>
                  </a:lnTo>
                  <a:lnTo>
                    <a:pt x="71" y="220"/>
                  </a:lnTo>
                  <a:lnTo>
                    <a:pt x="71" y="187"/>
                  </a:lnTo>
                  <a:lnTo>
                    <a:pt x="71" y="152"/>
                  </a:lnTo>
                  <a:lnTo>
                    <a:pt x="71" y="121"/>
                  </a:lnTo>
                  <a:lnTo>
                    <a:pt x="71" y="93"/>
                  </a:lnTo>
                  <a:lnTo>
                    <a:pt x="71" y="72"/>
                  </a:lnTo>
                  <a:lnTo>
                    <a:pt x="109" y="72"/>
                  </a:lnTo>
                  <a:lnTo>
                    <a:pt x="191" y="72"/>
                  </a:lnTo>
                  <a:lnTo>
                    <a:pt x="313" y="72"/>
                  </a:lnTo>
                  <a:lnTo>
                    <a:pt x="467" y="72"/>
                  </a:lnTo>
                  <a:lnTo>
                    <a:pt x="647" y="72"/>
                  </a:lnTo>
                  <a:lnTo>
                    <a:pt x="845" y="72"/>
                  </a:lnTo>
                  <a:lnTo>
                    <a:pt x="1058" y="72"/>
                  </a:lnTo>
                  <a:lnTo>
                    <a:pt x="1276" y="72"/>
                  </a:lnTo>
                  <a:lnTo>
                    <a:pt x="1495" y="72"/>
                  </a:lnTo>
                  <a:lnTo>
                    <a:pt x="1707" y="72"/>
                  </a:lnTo>
                  <a:lnTo>
                    <a:pt x="1906" y="72"/>
                  </a:lnTo>
                  <a:lnTo>
                    <a:pt x="2086" y="72"/>
                  </a:lnTo>
                  <a:lnTo>
                    <a:pt x="2240" y="72"/>
                  </a:lnTo>
                  <a:lnTo>
                    <a:pt x="2362" y="72"/>
                  </a:lnTo>
                  <a:lnTo>
                    <a:pt x="2444" y="72"/>
                  </a:lnTo>
                  <a:lnTo>
                    <a:pt x="2482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4406760" y="5584680"/>
              <a:ext cx="1663920" cy="277920"/>
            </a:xfrm>
            <a:custGeom>
              <a:avLst/>
              <a:gdLst/>
              <a:ahLst/>
              <a:rect l="l" t="t" r="r" b="b"/>
              <a:pathLst>
                <a:path w="4193" h="704">
                  <a:moveTo>
                    <a:pt x="0" y="0"/>
                  </a:moveTo>
                  <a:lnTo>
                    <a:pt x="1399" y="40"/>
                  </a:lnTo>
                  <a:lnTo>
                    <a:pt x="1433" y="61"/>
                  </a:lnTo>
                  <a:lnTo>
                    <a:pt x="1525" y="117"/>
                  </a:lnTo>
                  <a:lnTo>
                    <a:pt x="1586" y="155"/>
                  </a:lnTo>
                  <a:lnTo>
                    <a:pt x="1653" y="199"/>
                  </a:lnTo>
                  <a:lnTo>
                    <a:pt x="1727" y="246"/>
                  </a:lnTo>
                  <a:lnTo>
                    <a:pt x="1801" y="297"/>
                  </a:lnTo>
                  <a:lnTo>
                    <a:pt x="1874" y="348"/>
                  </a:lnTo>
                  <a:lnTo>
                    <a:pt x="1946" y="401"/>
                  </a:lnTo>
                  <a:lnTo>
                    <a:pt x="1981" y="427"/>
                  </a:lnTo>
                  <a:lnTo>
                    <a:pt x="2013" y="452"/>
                  </a:lnTo>
                  <a:lnTo>
                    <a:pt x="2043" y="478"/>
                  </a:lnTo>
                  <a:lnTo>
                    <a:pt x="2072" y="502"/>
                  </a:lnTo>
                  <a:lnTo>
                    <a:pt x="2098" y="525"/>
                  </a:lnTo>
                  <a:lnTo>
                    <a:pt x="2121" y="549"/>
                  </a:lnTo>
                  <a:lnTo>
                    <a:pt x="2143" y="570"/>
                  </a:lnTo>
                  <a:lnTo>
                    <a:pt x="2159" y="591"/>
                  </a:lnTo>
                  <a:lnTo>
                    <a:pt x="2172" y="610"/>
                  </a:lnTo>
                  <a:lnTo>
                    <a:pt x="2181" y="627"/>
                  </a:lnTo>
                  <a:lnTo>
                    <a:pt x="2187" y="643"/>
                  </a:lnTo>
                  <a:lnTo>
                    <a:pt x="2187" y="657"/>
                  </a:lnTo>
                  <a:lnTo>
                    <a:pt x="2185" y="704"/>
                  </a:lnTo>
                  <a:lnTo>
                    <a:pt x="3423" y="704"/>
                  </a:lnTo>
                  <a:lnTo>
                    <a:pt x="3448" y="693"/>
                  </a:lnTo>
                  <a:lnTo>
                    <a:pt x="3513" y="660"/>
                  </a:lnTo>
                  <a:lnTo>
                    <a:pt x="3558" y="636"/>
                  </a:lnTo>
                  <a:lnTo>
                    <a:pt x="3609" y="606"/>
                  </a:lnTo>
                  <a:lnTo>
                    <a:pt x="3666" y="571"/>
                  </a:lnTo>
                  <a:lnTo>
                    <a:pt x="3727" y="530"/>
                  </a:lnTo>
                  <a:lnTo>
                    <a:pt x="3758" y="508"/>
                  </a:lnTo>
                  <a:lnTo>
                    <a:pt x="3790" y="484"/>
                  </a:lnTo>
                  <a:lnTo>
                    <a:pt x="3821" y="458"/>
                  </a:lnTo>
                  <a:lnTo>
                    <a:pt x="3854" y="432"/>
                  </a:lnTo>
                  <a:lnTo>
                    <a:pt x="3886" y="405"/>
                  </a:lnTo>
                  <a:lnTo>
                    <a:pt x="3918" y="375"/>
                  </a:lnTo>
                  <a:lnTo>
                    <a:pt x="3950" y="345"/>
                  </a:lnTo>
                  <a:lnTo>
                    <a:pt x="3982" y="313"/>
                  </a:lnTo>
                  <a:lnTo>
                    <a:pt x="4011" y="281"/>
                  </a:lnTo>
                  <a:lnTo>
                    <a:pt x="4041" y="246"/>
                  </a:lnTo>
                  <a:lnTo>
                    <a:pt x="4070" y="210"/>
                  </a:lnTo>
                  <a:lnTo>
                    <a:pt x="4097" y="173"/>
                  </a:lnTo>
                  <a:lnTo>
                    <a:pt x="4124" y="134"/>
                  </a:lnTo>
                  <a:lnTo>
                    <a:pt x="4148" y="95"/>
                  </a:lnTo>
                  <a:lnTo>
                    <a:pt x="4172" y="54"/>
                  </a:lnTo>
                  <a:lnTo>
                    <a:pt x="419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e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4800600" y="5891040"/>
              <a:ext cx="954000" cy="108000"/>
            </a:xfrm>
            <a:custGeom>
              <a:avLst/>
              <a:gdLst/>
              <a:ahLst/>
              <a:rect l="l" t="t" r="r" b="b"/>
              <a:pathLst>
                <a:path w="2405" h="272">
                  <a:moveTo>
                    <a:pt x="1189" y="37"/>
                  </a:moveTo>
                  <a:lnTo>
                    <a:pt x="1179" y="39"/>
                  </a:lnTo>
                  <a:lnTo>
                    <a:pt x="1152" y="47"/>
                  </a:lnTo>
                  <a:lnTo>
                    <a:pt x="1109" y="59"/>
                  </a:lnTo>
                  <a:lnTo>
                    <a:pt x="1051" y="74"/>
                  </a:lnTo>
                  <a:lnTo>
                    <a:pt x="983" y="91"/>
                  </a:lnTo>
                  <a:lnTo>
                    <a:pt x="906" y="111"/>
                  </a:lnTo>
                  <a:lnTo>
                    <a:pt x="822" y="131"/>
                  </a:lnTo>
                  <a:lnTo>
                    <a:pt x="734" y="152"/>
                  </a:lnTo>
                  <a:lnTo>
                    <a:pt x="643" y="172"/>
                  </a:lnTo>
                  <a:lnTo>
                    <a:pt x="552" y="192"/>
                  </a:lnTo>
                  <a:lnTo>
                    <a:pt x="463" y="208"/>
                  </a:lnTo>
                  <a:lnTo>
                    <a:pt x="378" y="223"/>
                  </a:lnTo>
                  <a:lnTo>
                    <a:pt x="339" y="229"/>
                  </a:lnTo>
                  <a:lnTo>
                    <a:pt x="300" y="234"/>
                  </a:lnTo>
                  <a:lnTo>
                    <a:pt x="264" y="238"/>
                  </a:lnTo>
                  <a:lnTo>
                    <a:pt x="231" y="240"/>
                  </a:lnTo>
                  <a:lnTo>
                    <a:pt x="201" y="241"/>
                  </a:lnTo>
                  <a:lnTo>
                    <a:pt x="172" y="241"/>
                  </a:lnTo>
                  <a:lnTo>
                    <a:pt x="149" y="240"/>
                  </a:lnTo>
                  <a:lnTo>
                    <a:pt x="128" y="236"/>
                  </a:lnTo>
                  <a:lnTo>
                    <a:pt x="0" y="263"/>
                  </a:lnTo>
                  <a:lnTo>
                    <a:pt x="2396" y="272"/>
                  </a:lnTo>
                  <a:lnTo>
                    <a:pt x="2405" y="0"/>
                  </a:lnTo>
                  <a:lnTo>
                    <a:pt x="1189" y="37"/>
                  </a:lnTo>
                  <a:close/>
                </a:path>
              </a:pathLst>
            </a:custGeom>
            <a:solidFill>
              <a:srgbClr val="f0e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6143760" y="5111640"/>
              <a:ext cx="1242720" cy="515880"/>
            </a:xfrm>
            <a:custGeom>
              <a:avLst/>
              <a:gdLst/>
              <a:ahLst/>
              <a:rect l="l" t="t" r="r" b="b"/>
              <a:pathLst>
                <a:path w="3133" h="1303">
                  <a:moveTo>
                    <a:pt x="0" y="1134"/>
                  </a:moveTo>
                  <a:lnTo>
                    <a:pt x="12" y="1116"/>
                  </a:lnTo>
                  <a:lnTo>
                    <a:pt x="47" y="1061"/>
                  </a:lnTo>
                  <a:lnTo>
                    <a:pt x="72" y="1024"/>
                  </a:lnTo>
                  <a:lnTo>
                    <a:pt x="103" y="980"/>
                  </a:lnTo>
                  <a:lnTo>
                    <a:pt x="139" y="931"/>
                  </a:lnTo>
                  <a:lnTo>
                    <a:pt x="181" y="877"/>
                  </a:lnTo>
                  <a:lnTo>
                    <a:pt x="227" y="819"/>
                  </a:lnTo>
                  <a:lnTo>
                    <a:pt x="277" y="758"/>
                  </a:lnTo>
                  <a:lnTo>
                    <a:pt x="332" y="695"/>
                  </a:lnTo>
                  <a:lnTo>
                    <a:pt x="392" y="631"/>
                  </a:lnTo>
                  <a:lnTo>
                    <a:pt x="457" y="566"/>
                  </a:lnTo>
                  <a:lnTo>
                    <a:pt x="525" y="500"/>
                  </a:lnTo>
                  <a:lnTo>
                    <a:pt x="598" y="436"/>
                  </a:lnTo>
                  <a:lnTo>
                    <a:pt x="675" y="372"/>
                  </a:lnTo>
                  <a:lnTo>
                    <a:pt x="755" y="312"/>
                  </a:lnTo>
                  <a:lnTo>
                    <a:pt x="839" y="255"/>
                  </a:lnTo>
                  <a:lnTo>
                    <a:pt x="926" y="201"/>
                  </a:lnTo>
                  <a:lnTo>
                    <a:pt x="1018" y="152"/>
                  </a:lnTo>
                  <a:lnTo>
                    <a:pt x="1112" y="108"/>
                  </a:lnTo>
                  <a:lnTo>
                    <a:pt x="1209" y="71"/>
                  </a:lnTo>
                  <a:lnTo>
                    <a:pt x="1310" y="41"/>
                  </a:lnTo>
                  <a:lnTo>
                    <a:pt x="1413" y="19"/>
                  </a:lnTo>
                  <a:lnTo>
                    <a:pt x="1518" y="5"/>
                  </a:lnTo>
                  <a:lnTo>
                    <a:pt x="1628" y="0"/>
                  </a:lnTo>
                  <a:lnTo>
                    <a:pt x="1738" y="6"/>
                  </a:lnTo>
                  <a:lnTo>
                    <a:pt x="1851" y="24"/>
                  </a:lnTo>
                  <a:lnTo>
                    <a:pt x="1967" y="52"/>
                  </a:lnTo>
                  <a:lnTo>
                    <a:pt x="2085" y="93"/>
                  </a:lnTo>
                  <a:lnTo>
                    <a:pt x="2204" y="147"/>
                  </a:lnTo>
                  <a:lnTo>
                    <a:pt x="2324" y="215"/>
                  </a:lnTo>
                  <a:lnTo>
                    <a:pt x="2334" y="224"/>
                  </a:lnTo>
                  <a:lnTo>
                    <a:pt x="2360" y="247"/>
                  </a:lnTo>
                  <a:lnTo>
                    <a:pt x="2402" y="284"/>
                  </a:lnTo>
                  <a:lnTo>
                    <a:pt x="2456" y="333"/>
                  </a:lnTo>
                  <a:lnTo>
                    <a:pt x="2519" y="391"/>
                  </a:lnTo>
                  <a:lnTo>
                    <a:pt x="2590" y="459"/>
                  </a:lnTo>
                  <a:lnTo>
                    <a:pt x="2666" y="534"/>
                  </a:lnTo>
                  <a:lnTo>
                    <a:pt x="2743" y="613"/>
                  </a:lnTo>
                  <a:lnTo>
                    <a:pt x="2781" y="654"/>
                  </a:lnTo>
                  <a:lnTo>
                    <a:pt x="2820" y="696"/>
                  </a:lnTo>
                  <a:lnTo>
                    <a:pt x="2857" y="740"/>
                  </a:lnTo>
                  <a:lnTo>
                    <a:pt x="2894" y="782"/>
                  </a:lnTo>
                  <a:lnTo>
                    <a:pt x="2929" y="825"/>
                  </a:lnTo>
                  <a:lnTo>
                    <a:pt x="2962" y="869"/>
                  </a:lnTo>
                  <a:lnTo>
                    <a:pt x="2994" y="911"/>
                  </a:lnTo>
                  <a:lnTo>
                    <a:pt x="3022" y="953"/>
                  </a:lnTo>
                  <a:lnTo>
                    <a:pt x="3048" y="994"/>
                  </a:lnTo>
                  <a:lnTo>
                    <a:pt x="3072" y="1035"/>
                  </a:lnTo>
                  <a:lnTo>
                    <a:pt x="3092" y="1073"/>
                  </a:lnTo>
                  <a:lnTo>
                    <a:pt x="3109" y="1112"/>
                  </a:lnTo>
                  <a:lnTo>
                    <a:pt x="3121" y="1148"/>
                  </a:lnTo>
                  <a:lnTo>
                    <a:pt x="3129" y="1183"/>
                  </a:lnTo>
                  <a:lnTo>
                    <a:pt x="3133" y="1216"/>
                  </a:lnTo>
                  <a:lnTo>
                    <a:pt x="3131" y="1246"/>
                  </a:lnTo>
                  <a:lnTo>
                    <a:pt x="2975" y="1224"/>
                  </a:lnTo>
                  <a:lnTo>
                    <a:pt x="2967" y="1211"/>
                  </a:lnTo>
                  <a:lnTo>
                    <a:pt x="2948" y="1176"/>
                  </a:lnTo>
                  <a:lnTo>
                    <a:pt x="2914" y="1123"/>
                  </a:lnTo>
                  <a:lnTo>
                    <a:pt x="2871" y="1054"/>
                  </a:lnTo>
                  <a:lnTo>
                    <a:pt x="2817" y="973"/>
                  </a:lnTo>
                  <a:lnTo>
                    <a:pt x="2754" y="882"/>
                  </a:lnTo>
                  <a:lnTo>
                    <a:pt x="2719" y="835"/>
                  </a:lnTo>
                  <a:lnTo>
                    <a:pt x="2683" y="787"/>
                  </a:lnTo>
                  <a:lnTo>
                    <a:pt x="2645" y="738"/>
                  </a:lnTo>
                  <a:lnTo>
                    <a:pt x="2605" y="689"/>
                  </a:lnTo>
                  <a:lnTo>
                    <a:pt x="2564" y="640"/>
                  </a:lnTo>
                  <a:lnTo>
                    <a:pt x="2520" y="592"/>
                  </a:lnTo>
                  <a:lnTo>
                    <a:pt x="2477" y="546"/>
                  </a:lnTo>
                  <a:lnTo>
                    <a:pt x="2432" y="500"/>
                  </a:lnTo>
                  <a:lnTo>
                    <a:pt x="2386" y="458"/>
                  </a:lnTo>
                  <a:lnTo>
                    <a:pt x="2339" y="417"/>
                  </a:lnTo>
                  <a:lnTo>
                    <a:pt x="2291" y="380"/>
                  </a:lnTo>
                  <a:lnTo>
                    <a:pt x="2243" y="345"/>
                  </a:lnTo>
                  <a:lnTo>
                    <a:pt x="2194" y="314"/>
                  </a:lnTo>
                  <a:lnTo>
                    <a:pt x="2145" y="287"/>
                  </a:lnTo>
                  <a:lnTo>
                    <a:pt x="2096" y="266"/>
                  </a:lnTo>
                  <a:lnTo>
                    <a:pt x="2047" y="248"/>
                  </a:lnTo>
                  <a:lnTo>
                    <a:pt x="1998" y="236"/>
                  </a:lnTo>
                  <a:lnTo>
                    <a:pt x="1948" y="231"/>
                  </a:lnTo>
                  <a:lnTo>
                    <a:pt x="1900" y="231"/>
                  </a:lnTo>
                  <a:lnTo>
                    <a:pt x="1851" y="238"/>
                  </a:lnTo>
                  <a:lnTo>
                    <a:pt x="1839" y="238"/>
                  </a:lnTo>
                  <a:lnTo>
                    <a:pt x="1801" y="242"/>
                  </a:lnTo>
                  <a:lnTo>
                    <a:pt x="1744" y="250"/>
                  </a:lnTo>
                  <a:lnTo>
                    <a:pt x="1667" y="262"/>
                  </a:lnTo>
                  <a:lnTo>
                    <a:pt x="1623" y="272"/>
                  </a:lnTo>
                  <a:lnTo>
                    <a:pt x="1574" y="282"/>
                  </a:lnTo>
                  <a:lnTo>
                    <a:pt x="1523" y="294"/>
                  </a:lnTo>
                  <a:lnTo>
                    <a:pt x="1469" y="309"/>
                  </a:lnTo>
                  <a:lnTo>
                    <a:pt x="1410" y="327"/>
                  </a:lnTo>
                  <a:lnTo>
                    <a:pt x="1351" y="345"/>
                  </a:lnTo>
                  <a:lnTo>
                    <a:pt x="1290" y="368"/>
                  </a:lnTo>
                  <a:lnTo>
                    <a:pt x="1227" y="392"/>
                  </a:lnTo>
                  <a:lnTo>
                    <a:pt x="1161" y="421"/>
                  </a:lnTo>
                  <a:lnTo>
                    <a:pt x="1095" y="451"/>
                  </a:lnTo>
                  <a:lnTo>
                    <a:pt x="1029" y="485"/>
                  </a:lnTo>
                  <a:lnTo>
                    <a:pt x="962" y="523"/>
                  </a:lnTo>
                  <a:lnTo>
                    <a:pt x="895" y="565"/>
                  </a:lnTo>
                  <a:lnTo>
                    <a:pt x="828" y="609"/>
                  </a:lnTo>
                  <a:lnTo>
                    <a:pt x="762" y="658"/>
                  </a:lnTo>
                  <a:lnTo>
                    <a:pt x="696" y="711"/>
                  </a:lnTo>
                  <a:lnTo>
                    <a:pt x="632" y="768"/>
                  </a:lnTo>
                  <a:lnTo>
                    <a:pt x="570" y="830"/>
                  </a:lnTo>
                  <a:lnTo>
                    <a:pt x="509" y="896"/>
                  </a:lnTo>
                  <a:lnTo>
                    <a:pt x="450" y="968"/>
                  </a:lnTo>
                  <a:lnTo>
                    <a:pt x="395" y="1044"/>
                  </a:lnTo>
                  <a:lnTo>
                    <a:pt x="342" y="1124"/>
                  </a:lnTo>
                  <a:lnTo>
                    <a:pt x="293" y="1211"/>
                  </a:lnTo>
                  <a:lnTo>
                    <a:pt x="246" y="1303"/>
                  </a:lnTo>
                  <a:lnTo>
                    <a:pt x="0" y="1134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6124680" y="5097600"/>
              <a:ext cx="1276200" cy="552240"/>
            </a:xfrm>
            <a:custGeom>
              <a:avLst/>
              <a:gdLst/>
              <a:ahLst/>
              <a:rect l="l" t="t" r="r" b="b"/>
              <a:pathLst>
                <a:path w="3217" h="1390">
                  <a:moveTo>
                    <a:pt x="1366" y="36"/>
                  </a:moveTo>
                  <a:lnTo>
                    <a:pt x="1293" y="57"/>
                  </a:lnTo>
                  <a:lnTo>
                    <a:pt x="1220" y="80"/>
                  </a:lnTo>
                  <a:lnTo>
                    <a:pt x="1150" y="107"/>
                  </a:lnTo>
                  <a:lnTo>
                    <a:pt x="1081" y="138"/>
                  </a:lnTo>
                  <a:lnTo>
                    <a:pt x="1014" y="172"/>
                  </a:lnTo>
                  <a:lnTo>
                    <a:pt x="948" y="208"/>
                  </a:lnTo>
                  <a:lnTo>
                    <a:pt x="885" y="246"/>
                  </a:lnTo>
                  <a:lnTo>
                    <a:pt x="824" y="287"/>
                  </a:lnTo>
                  <a:lnTo>
                    <a:pt x="763" y="330"/>
                  </a:lnTo>
                  <a:lnTo>
                    <a:pt x="706" y="373"/>
                  </a:lnTo>
                  <a:lnTo>
                    <a:pt x="650" y="418"/>
                  </a:lnTo>
                  <a:lnTo>
                    <a:pt x="595" y="464"/>
                  </a:lnTo>
                  <a:lnTo>
                    <a:pt x="544" y="511"/>
                  </a:lnTo>
                  <a:lnTo>
                    <a:pt x="495" y="558"/>
                  </a:lnTo>
                  <a:lnTo>
                    <a:pt x="447" y="605"/>
                  </a:lnTo>
                  <a:lnTo>
                    <a:pt x="402" y="652"/>
                  </a:lnTo>
                  <a:lnTo>
                    <a:pt x="359" y="698"/>
                  </a:lnTo>
                  <a:lnTo>
                    <a:pt x="318" y="744"/>
                  </a:lnTo>
                  <a:lnTo>
                    <a:pt x="280" y="789"/>
                  </a:lnTo>
                  <a:lnTo>
                    <a:pt x="244" y="832"/>
                  </a:lnTo>
                  <a:lnTo>
                    <a:pt x="210" y="874"/>
                  </a:lnTo>
                  <a:lnTo>
                    <a:pt x="179" y="914"/>
                  </a:lnTo>
                  <a:lnTo>
                    <a:pt x="152" y="952"/>
                  </a:lnTo>
                  <a:lnTo>
                    <a:pt x="126" y="987"/>
                  </a:lnTo>
                  <a:lnTo>
                    <a:pt x="82" y="1050"/>
                  </a:lnTo>
                  <a:lnTo>
                    <a:pt x="49" y="1099"/>
                  </a:lnTo>
                  <a:lnTo>
                    <a:pt x="28" y="1134"/>
                  </a:lnTo>
                  <a:lnTo>
                    <a:pt x="18" y="1150"/>
                  </a:lnTo>
                  <a:lnTo>
                    <a:pt x="0" y="1178"/>
                  </a:lnTo>
                  <a:lnTo>
                    <a:pt x="308" y="1390"/>
                  </a:lnTo>
                  <a:lnTo>
                    <a:pt x="326" y="1352"/>
                  </a:lnTo>
                  <a:lnTo>
                    <a:pt x="371" y="1264"/>
                  </a:lnTo>
                  <a:lnTo>
                    <a:pt x="419" y="1179"/>
                  </a:lnTo>
                  <a:lnTo>
                    <a:pt x="471" y="1101"/>
                  </a:lnTo>
                  <a:lnTo>
                    <a:pt x="524" y="1027"/>
                  </a:lnTo>
                  <a:lnTo>
                    <a:pt x="582" y="957"/>
                  </a:lnTo>
                  <a:lnTo>
                    <a:pt x="641" y="893"/>
                  </a:lnTo>
                  <a:lnTo>
                    <a:pt x="702" y="833"/>
                  </a:lnTo>
                  <a:lnTo>
                    <a:pt x="764" y="777"/>
                  </a:lnTo>
                  <a:lnTo>
                    <a:pt x="827" y="725"/>
                  </a:lnTo>
                  <a:lnTo>
                    <a:pt x="892" y="677"/>
                  </a:lnTo>
                  <a:lnTo>
                    <a:pt x="958" y="634"/>
                  </a:lnTo>
                  <a:lnTo>
                    <a:pt x="1022" y="593"/>
                  </a:lnTo>
                  <a:lnTo>
                    <a:pt x="1088" y="555"/>
                  </a:lnTo>
                  <a:lnTo>
                    <a:pt x="1153" y="522"/>
                  </a:lnTo>
                  <a:lnTo>
                    <a:pt x="1217" y="491"/>
                  </a:lnTo>
                  <a:lnTo>
                    <a:pt x="1282" y="464"/>
                  </a:lnTo>
                  <a:lnTo>
                    <a:pt x="1343" y="439"/>
                  </a:lnTo>
                  <a:lnTo>
                    <a:pt x="1404" y="418"/>
                  </a:lnTo>
                  <a:lnTo>
                    <a:pt x="1462" y="398"/>
                  </a:lnTo>
                  <a:lnTo>
                    <a:pt x="1519" y="380"/>
                  </a:lnTo>
                  <a:lnTo>
                    <a:pt x="1573" y="367"/>
                  </a:lnTo>
                  <a:lnTo>
                    <a:pt x="1623" y="353"/>
                  </a:lnTo>
                  <a:lnTo>
                    <a:pt x="1671" y="343"/>
                  </a:lnTo>
                  <a:lnTo>
                    <a:pt x="1715" y="333"/>
                  </a:lnTo>
                  <a:lnTo>
                    <a:pt x="1791" y="321"/>
                  </a:lnTo>
                  <a:lnTo>
                    <a:pt x="1849" y="312"/>
                  </a:lnTo>
                  <a:lnTo>
                    <a:pt x="1887" y="308"/>
                  </a:lnTo>
                  <a:lnTo>
                    <a:pt x="1902" y="307"/>
                  </a:lnTo>
                  <a:lnTo>
                    <a:pt x="1948" y="301"/>
                  </a:lnTo>
                  <a:lnTo>
                    <a:pt x="1993" y="301"/>
                  </a:lnTo>
                  <a:lnTo>
                    <a:pt x="2041" y="307"/>
                  </a:lnTo>
                  <a:lnTo>
                    <a:pt x="2088" y="318"/>
                  </a:lnTo>
                  <a:lnTo>
                    <a:pt x="2135" y="335"/>
                  </a:lnTo>
                  <a:lnTo>
                    <a:pt x="2182" y="357"/>
                  </a:lnTo>
                  <a:lnTo>
                    <a:pt x="2229" y="383"/>
                  </a:lnTo>
                  <a:lnTo>
                    <a:pt x="2275" y="413"/>
                  </a:lnTo>
                  <a:lnTo>
                    <a:pt x="2323" y="446"/>
                  </a:lnTo>
                  <a:lnTo>
                    <a:pt x="2368" y="483"/>
                  </a:lnTo>
                  <a:lnTo>
                    <a:pt x="2413" y="523"/>
                  </a:lnTo>
                  <a:lnTo>
                    <a:pt x="2458" y="564"/>
                  </a:lnTo>
                  <a:lnTo>
                    <a:pt x="2501" y="609"/>
                  </a:lnTo>
                  <a:lnTo>
                    <a:pt x="2545" y="653"/>
                  </a:lnTo>
                  <a:lnTo>
                    <a:pt x="2586" y="701"/>
                  </a:lnTo>
                  <a:lnTo>
                    <a:pt x="2627" y="748"/>
                  </a:lnTo>
                  <a:lnTo>
                    <a:pt x="2665" y="795"/>
                  </a:lnTo>
                  <a:lnTo>
                    <a:pt x="2703" y="843"/>
                  </a:lnTo>
                  <a:lnTo>
                    <a:pt x="2739" y="890"/>
                  </a:lnTo>
                  <a:lnTo>
                    <a:pt x="2772" y="936"/>
                  </a:lnTo>
                  <a:lnTo>
                    <a:pt x="2834" y="1024"/>
                  </a:lnTo>
                  <a:lnTo>
                    <a:pt x="2886" y="1105"/>
                  </a:lnTo>
                  <a:lnTo>
                    <a:pt x="2930" y="1173"/>
                  </a:lnTo>
                  <a:lnTo>
                    <a:pt x="2962" y="1227"/>
                  </a:lnTo>
                  <a:lnTo>
                    <a:pt x="2983" y="1261"/>
                  </a:lnTo>
                  <a:lnTo>
                    <a:pt x="2991" y="1275"/>
                  </a:lnTo>
                  <a:lnTo>
                    <a:pt x="2999" y="1291"/>
                  </a:lnTo>
                  <a:lnTo>
                    <a:pt x="3210" y="1321"/>
                  </a:lnTo>
                  <a:lnTo>
                    <a:pt x="3215" y="1285"/>
                  </a:lnTo>
                  <a:lnTo>
                    <a:pt x="3217" y="1254"/>
                  </a:lnTo>
                  <a:lnTo>
                    <a:pt x="3214" y="1220"/>
                  </a:lnTo>
                  <a:lnTo>
                    <a:pt x="3207" y="1186"/>
                  </a:lnTo>
                  <a:lnTo>
                    <a:pt x="3195" y="1150"/>
                  </a:lnTo>
                  <a:lnTo>
                    <a:pt x="3181" y="1111"/>
                  </a:lnTo>
                  <a:lnTo>
                    <a:pt x="3162" y="1073"/>
                  </a:lnTo>
                  <a:lnTo>
                    <a:pt x="3141" y="1033"/>
                  </a:lnTo>
                  <a:lnTo>
                    <a:pt x="3117" y="992"/>
                  </a:lnTo>
                  <a:lnTo>
                    <a:pt x="3090" y="951"/>
                  </a:lnTo>
                  <a:lnTo>
                    <a:pt x="3061" y="910"/>
                  </a:lnTo>
                  <a:lnTo>
                    <a:pt x="3030" y="868"/>
                  </a:lnTo>
                  <a:lnTo>
                    <a:pt x="2997" y="826"/>
                  </a:lnTo>
                  <a:lnTo>
                    <a:pt x="2962" y="784"/>
                  </a:lnTo>
                  <a:lnTo>
                    <a:pt x="2927" y="743"/>
                  </a:lnTo>
                  <a:lnTo>
                    <a:pt x="2891" y="701"/>
                  </a:lnTo>
                  <a:lnTo>
                    <a:pt x="2854" y="660"/>
                  </a:lnTo>
                  <a:lnTo>
                    <a:pt x="2778" y="581"/>
                  </a:lnTo>
                  <a:lnTo>
                    <a:pt x="2704" y="506"/>
                  </a:lnTo>
                  <a:lnTo>
                    <a:pt x="2633" y="436"/>
                  </a:lnTo>
                  <a:lnTo>
                    <a:pt x="2566" y="374"/>
                  </a:lnTo>
                  <a:lnTo>
                    <a:pt x="2508" y="321"/>
                  </a:lnTo>
                  <a:lnTo>
                    <a:pt x="2458" y="276"/>
                  </a:lnTo>
                  <a:lnTo>
                    <a:pt x="2419" y="243"/>
                  </a:lnTo>
                  <a:lnTo>
                    <a:pt x="2396" y="223"/>
                  </a:lnTo>
                  <a:lnTo>
                    <a:pt x="2364" y="203"/>
                  </a:lnTo>
                  <a:lnTo>
                    <a:pt x="2332" y="184"/>
                  </a:lnTo>
                  <a:lnTo>
                    <a:pt x="2300" y="167"/>
                  </a:lnTo>
                  <a:lnTo>
                    <a:pt x="2269" y="151"/>
                  </a:lnTo>
                  <a:lnTo>
                    <a:pt x="2237" y="135"/>
                  </a:lnTo>
                  <a:lnTo>
                    <a:pt x="2205" y="120"/>
                  </a:lnTo>
                  <a:lnTo>
                    <a:pt x="2174" y="106"/>
                  </a:lnTo>
                  <a:lnTo>
                    <a:pt x="2141" y="93"/>
                  </a:lnTo>
                  <a:lnTo>
                    <a:pt x="2109" y="80"/>
                  </a:lnTo>
                  <a:lnTo>
                    <a:pt x="2077" y="69"/>
                  </a:lnTo>
                  <a:lnTo>
                    <a:pt x="2046" y="59"/>
                  </a:lnTo>
                  <a:lnTo>
                    <a:pt x="2013" y="49"/>
                  </a:lnTo>
                  <a:lnTo>
                    <a:pt x="1981" y="40"/>
                  </a:lnTo>
                  <a:lnTo>
                    <a:pt x="1949" y="32"/>
                  </a:lnTo>
                  <a:lnTo>
                    <a:pt x="1916" y="26"/>
                  </a:lnTo>
                  <a:lnTo>
                    <a:pt x="1884" y="19"/>
                  </a:lnTo>
                  <a:lnTo>
                    <a:pt x="1852" y="13"/>
                  </a:lnTo>
                  <a:lnTo>
                    <a:pt x="1820" y="9"/>
                  </a:lnTo>
                  <a:lnTo>
                    <a:pt x="1787" y="6"/>
                  </a:lnTo>
                  <a:lnTo>
                    <a:pt x="1756" y="2"/>
                  </a:lnTo>
                  <a:lnTo>
                    <a:pt x="1723" y="1"/>
                  </a:lnTo>
                  <a:lnTo>
                    <a:pt x="1690" y="0"/>
                  </a:lnTo>
                  <a:lnTo>
                    <a:pt x="1658" y="0"/>
                  </a:lnTo>
                  <a:lnTo>
                    <a:pt x="1626" y="0"/>
                  </a:lnTo>
                  <a:lnTo>
                    <a:pt x="1594" y="2"/>
                  </a:lnTo>
                  <a:lnTo>
                    <a:pt x="1561" y="3"/>
                  </a:lnTo>
                  <a:lnTo>
                    <a:pt x="1529" y="7"/>
                  </a:lnTo>
                  <a:lnTo>
                    <a:pt x="1497" y="11"/>
                  </a:lnTo>
                  <a:lnTo>
                    <a:pt x="1464" y="16"/>
                  </a:lnTo>
                  <a:lnTo>
                    <a:pt x="1431" y="22"/>
                  </a:lnTo>
                  <a:lnTo>
                    <a:pt x="1399" y="28"/>
                  </a:lnTo>
                  <a:lnTo>
                    <a:pt x="1366" y="36"/>
                  </a:lnTo>
                  <a:close/>
                  <a:moveTo>
                    <a:pt x="1384" y="105"/>
                  </a:moveTo>
                  <a:lnTo>
                    <a:pt x="1415" y="99"/>
                  </a:lnTo>
                  <a:lnTo>
                    <a:pt x="1445" y="91"/>
                  </a:lnTo>
                  <a:lnTo>
                    <a:pt x="1476" y="86"/>
                  </a:lnTo>
                  <a:lnTo>
                    <a:pt x="1507" y="81"/>
                  </a:lnTo>
                  <a:lnTo>
                    <a:pt x="1537" y="78"/>
                  </a:lnTo>
                  <a:lnTo>
                    <a:pt x="1568" y="75"/>
                  </a:lnTo>
                  <a:lnTo>
                    <a:pt x="1599" y="73"/>
                  </a:lnTo>
                  <a:lnTo>
                    <a:pt x="1630" y="71"/>
                  </a:lnTo>
                  <a:lnTo>
                    <a:pt x="1659" y="70"/>
                  </a:lnTo>
                  <a:lnTo>
                    <a:pt x="1690" y="71"/>
                  </a:lnTo>
                  <a:lnTo>
                    <a:pt x="1720" y="71"/>
                  </a:lnTo>
                  <a:lnTo>
                    <a:pt x="1751" y="74"/>
                  </a:lnTo>
                  <a:lnTo>
                    <a:pt x="1782" y="76"/>
                  </a:lnTo>
                  <a:lnTo>
                    <a:pt x="1812" y="80"/>
                  </a:lnTo>
                  <a:lnTo>
                    <a:pt x="1843" y="84"/>
                  </a:lnTo>
                  <a:lnTo>
                    <a:pt x="1873" y="89"/>
                  </a:lnTo>
                  <a:lnTo>
                    <a:pt x="1904" y="95"/>
                  </a:lnTo>
                  <a:lnTo>
                    <a:pt x="1934" y="101"/>
                  </a:lnTo>
                  <a:lnTo>
                    <a:pt x="1964" y="109"/>
                  </a:lnTo>
                  <a:lnTo>
                    <a:pt x="1995" y="117"/>
                  </a:lnTo>
                  <a:lnTo>
                    <a:pt x="2025" y="126"/>
                  </a:lnTo>
                  <a:lnTo>
                    <a:pt x="2054" y="136"/>
                  </a:lnTo>
                  <a:lnTo>
                    <a:pt x="2085" y="147"/>
                  </a:lnTo>
                  <a:lnTo>
                    <a:pt x="2115" y="158"/>
                  </a:lnTo>
                  <a:lnTo>
                    <a:pt x="2145" y="171"/>
                  </a:lnTo>
                  <a:lnTo>
                    <a:pt x="2175" y="184"/>
                  </a:lnTo>
                  <a:lnTo>
                    <a:pt x="2205" y="198"/>
                  </a:lnTo>
                  <a:lnTo>
                    <a:pt x="2234" y="213"/>
                  </a:lnTo>
                  <a:lnTo>
                    <a:pt x="2264" y="229"/>
                  </a:lnTo>
                  <a:lnTo>
                    <a:pt x="2294" y="245"/>
                  </a:lnTo>
                  <a:lnTo>
                    <a:pt x="2324" y="261"/>
                  </a:lnTo>
                  <a:lnTo>
                    <a:pt x="2354" y="280"/>
                  </a:lnTo>
                  <a:lnTo>
                    <a:pt x="2398" y="318"/>
                  </a:lnTo>
                  <a:lnTo>
                    <a:pt x="2449" y="363"/>
                  </a:lnTo>
                  <a:lnTo>
                    <a:pt x="2505" y="415"/>
                  </a:lnTo>
                  <a:lnTo>
                    <a:pt x="2565" y="471"/>
                  </a:lnTo>
                  <a:lnTo>
                    <a:pt x="2628" y="532"/>
                  </a:lnTo>
                  <a:lnTo>
                    <a:pt x="2691" y="596"/>
                  </a:lnTo>
                  <a:lnTo>
                    <a:pt x="2756" y="663"/>
                  </a:lnTo>
                  <a:lnTo>
                    <a:pt x="2819" y="732"/>
                  </a:lnTo>
                  <a:lnTo>
                    <a:pt x="2850" y="766"/>
                  </a:lnTo>
                  <a:lnTo>
                    <a:pt x="2881" y="801"/>
                  </a:lnTo>
                  <a:lnTo>
                    <a:pt x="2910" y="836"/>
                  </a:lnTo>
                  <a:lnTo>
                    <a:pt x="2938" y="870"/>
                  </a:lnTo>
                  <a:lnTo>
                    <a:pt x="2966" y="905"/>
                  </a:lnTo>
                  <a:lnTo>
                    <a:pt x="2992" y="940"/>
                  </a:lnTo>
                  <a:lnTo>
                    <a:pt x="3015" y="973"/>
                  </a:lnTo>
                  <a:lnTo>
                    <a:pt x="3039" y="1006"/>
                  </a:lnTo>
                  <a:lnTo>
                    <a:pt x="3059" y="1039"/>
                  </a:lnTo>
                  <a:lnTo>
                    <a:pt x="3079" y="1070"/>
                  </a:lnTo>
                  <a:lnTo>
                    <a:pt x="3095" y="1101"/>
                  </a:lnTo>
                  <a:lnTo>
                    <a:pt x="3110" y="1131"/>
                  </a:lnTo>
                  <a:lnTo>
                    <a:pt x="3121" y="1160"/>
                  </a:lnTo>
                  <a:lnTo>
                    <a:pt x="3131" y="1188"/>
                  </a:lnTo>
                  <a:lnTo>
                    <a:pt x="3137" y="1214"/>
                  </a:lnTo>
                  <a:lnTo>
                    <a:pt x="3141" y="1239"/>
                  </a:lnTo>
                  <a:lnTo>
                    <a:pt x="3112" y="1234"/>
                  </a:lnTo>
                  <a:lnTo>
                    <a:pt x="3085" y="1230"/>
                  </a:lnTo>
                  <a:lnTo>
                    <a:pt x="3063" y="1228"/>
                  </a:lnTo>
                  <a:lnTo>
                    <a:pt x="3044" y="1225"/>
                  </a:lnTo>
                  <a:lnTo>
                    <a:pt x="3027" y="1196"/>
                  </a:lnTo>
                  <a:lnTo>
                    <a:pt x="2998" y="1147"/>
                  </a:lnTo>
                  <a:lnTo>
                    <a:pt x="2960" y="1084"/>
                  </a:lnTo>
                  <a:lnTo>
                    <a:pt x="2911" y="1009"/>
                  </a:lnTo>
                  <a:lnTo>
                    <a:pt x="2884" y="969"/>
                  </a:lnTo>
                  <a:lnTo>
                    <a:pt x="2854" y="925"/>
                  </a:lnTo>
                  <a:lnTo>
                    <a:pt x="2822" y="882"/>
                  </a:lnTo>
                  <a:lnTo>
                    <a:pt x="2788" y="836"/>
                  </a:lnTo>
                  <a:lnTo>
                    <a:pt x="2753" y="789"/>
                  </a:lnTo>
                  <a:lnTo>
                    <a:pt x="2716" y="743"/>
                  </a:lnTo>
                  <a:lnTo>
                    <a:pt x="2678" y="696"/>
                  </a:lnTo>
                  <a:lnTo>
                    <a:pt x="2638" y="648"/>
                  </a:lnTo>
                  <a:lnTo>
                    <a:pt x="2597" y="602"/>
                  </a:lnTo>
                  <a:lnTo>
                    <a:pt x="2555" y="558"/>
                  </a:lnTo>
                  <a:lnTo>
                    <a:pt x="2511" y="514"/>
                  </a:lnTo>
                  <a:lnTo>
                    <a:pt x="2467" y="472"/>
                  </a:lnTo>
                  <a:lnTo>
                    <a:pt x="2421" y="433"/>
                  </a:lnTo>
                  <a:lnTo>
                    <a:pt x="2375" y="395"/>
                  </a:lnTo>
                  <a:lnTo>
                    <a:pt x="2328" y="361"/>
                  </a:lnTo>
                  <a:lnTo>
                    <a:pt x="2280" y="330"/>
                  </a:lnTo>
                  <a:lnTo>
                    <a:pt x="2232" y="301"/>
                  </a:lnTo>
                  <a:lnTo>
                    <a:pt x="2185" y="277"/>
                  </a:lnTo>
                  <a:lnTo>
                    <a:pt x="2135" y="258"/>
                  </a:lnTo>
                  <a:lnTo>
                    <a:pt x="2087" y="243"/>
                  </a:lnTo>
                  <a:lnTo>
                    <a:pt x="2038" y="233"/>
                  </a:lnTo>
                  <a:lnTo>
                    <a:pt x="1989" y="229"/>
                  </a:lnTo>
                  <a:lnTo>
                    <a:pt x="1940" y="230"/>
                  </a:lnTo>
                  <a:lnTo>
                    <a:pt x="1892" y="236"/>
                  </a:lnTo>
                  <a:lnTo>
                    <a:pt x="1892" y="236"/>
                  </a:lnTo>
                  <a:lnTo>
                    <a:pt x="1878" y="238"/>
                  </a:lnTo>
                  <a:lnTo>
                    <a:pt x="1841" y="243"/>
                  </a:lnTo>
                  <a:lnTo>
                    <a:pt x="1782" y="250"/>
                  </a:lnTo>
                  <a:lnTo>
                    <a:pt x="1705" y="264"/>
                  </a:lnTo>
                  <a:lnTo>
                    <a:pt x="1661" y="272"/>
                  </a:lnTo>
                  <a:lnTo>
                    <a:pt x="1612" y="284"/>
                  </a:lnTo>
                  <a:lnTo>
                    <a:pt x="1561" y="297"/>
                  </a:lnTo>
                  <a:lnTo>
                    <a:pt x="1507" y="312"/>
                  </a:lnTo>
                  <a:lnTo>
                    <a:pt x="1451" y="328"/>
                  </a:lnTo>
                  <a:lnTo>
                    <a:pt x="1391" y="348"/>
                  </a:lnTo>
                  <a:lnTo>
                    <a:pt x="1329" y="370"/>
                  </a:lnTo>
                  <a:lnTo>
                    <a:pt x="1267" y="395"/>
                  </a:lnTo>
                  <a:lnTo>
                    <a:pt x="1202" y="424"/>
                  </a:lnTo>
                  <a:lnTo>
                    <a:pt x="1137" y="454"/>
                  </a:lnTo>
                  <a:lnTo>
                    <a:pt x="1071" y="488"/>
                  </a:lnTo>
                  <a:lnTo>
                    <a:pt x="1004" y="526"/>
                  </a:lnTo>
                  <a:lnTo>
                    <a:pt x="937" y="567"/>
                  </a:lnTo>
                  <a:lnTo>
                    <a:pt x="870" y="610"/>
                  </a:lnTo>
                  <a:lnTo>
                    <a:pt x="804" y="658"/>
                  </a:lnTo>
                  <a:lnTo>
                    <a:pt x="738" y="710"/>
                  </a:lnTo>
                  <a:lnTo>
                    <a:pt x="675" y="766"/>
                  </a:lnTo>
                  <a:lnTo>
                    <a:pt x="611" y="827"/>
                  </a:lnTo>
                  <a:lnTo>
                    <a:pt x="551" y="892"/>
                  </a:lnTo>
                  <a:lnTo>
                    <a:pt x="492" y="961"/>
                  </a:lnTo>
                  <a:lnTo>
                    <a:pt x="435" y="1036"/>
                  </a:lnTo>
                  <a:lnTo>
                    <a:pt x="382" y="1114"/>
                  </a:lnTo>
                  <a:lnTo>
                    <a:pt x="331" y="1198"/>
                  </a:lnTo>
                  <a:lnTo>
                    <a:pt x="284" y="1286"/>
                  </a:lnTo>
                  <a:lnTo>
                    <a:pt x="243" y="1258"/>
                  </a:lnTo>
                  <a:lnTo>
                    <a:pt x="189" y="1222"/>
                  </a:lnTo>
                  <a:lnTo>
                    <a:pt x="136" y="1186"/>
                  </a:lnTo>
                  <a:lnTo>
                    <a:pt x="96" y="1158"/>
                  </a:lnTo>
                  <a:lnTo>
                    <a:pt x="117" y="1126"/>
                  </a:lnTo>
                  <a:lnTo>
                    <a:pt x="147" y="1081"/>
                  </a:lnTo>
                  <a:lnTo>
                    <a:pt x="187" y="1026"/>
                  </a:lnTo>
                  <a:lnTo>
                    <a:pt x="235" y="961"/>
                  </a:lnTo>
                  <a:lnTo>
                    <a:pt x="262" y="926"/>
                  </a:lnTo>
                  <a:lnTo>
                    <a:pt x="291" y="889"/>
                  </a:lnTo>
                  <a:lnTo>
                    <a:pt x="323" y="851"/>
                  </a:lnTo>
                  <a:lnTo>
                    <a:pt x="357" y="811"/>
                  </a:lnTo>
                  <a:lnTo>
                    <a:pt x="392" y="771"/>
                  </a:lnTo>
                  <a:lnTo>
                    <a:pt x="429" y="729"/>
                  </a:lnTo>
                  <a:lnTo>
                    <a:pt x="469" y="688"/>
                  </a:lnTo>
                  <a:lnTo>
                    <a:pt x="510" y="646"/>
                  </a:lnTo>
                  <a:lnTo>
                    <a:pt x="552" y="604"/>
                  </a:lnTo>
                  <a:lnTo>
                    <a:pt x="597" y="562"/>
                  </a:lnTo>
                  <a:lnTo>
                    <a:pt x="642" y="519"/>
                  </a:lnTo>
                  <a:lnTo>
                    <a:pt x="691" y="478"/>
                  </a:lnTo>
                  <a:lnTo>
                    <a:pt x="741" y="437"/>
                  </a:lnTo>
                  <a:lnTo>
                    <a:pt x="791" y="398"/>
                  </a:lnTo>
                  <a:lnTo>
                    <a:pt x="845" y="361"/>
                  </a:lnTo>
                  <a:lnTo>
                    <a:pt x="898" y="323"/>
                  </a:lnTo>
                  <a:lnTo>
                    <a:pt x="954" y="287"/>
                  </a:lnTo>
                  <a:lnTo>
                    <a:pt x="1012" y="255"/>
                  </a:lnTo>
                  <a:lnTo>
                    <a:pt x="1071" y="223"/>
                  </a:lnTo>
                  <a:lnTo>
                    <a:pt x="1130" y="194"/>
                  </a:lnTo>
                  <a:lnTo>
                    <a:pt x="1191" y="168"/>
                  </a:lnTo>
                  <a:lnTo>
                    <a:pt x="1255" y="143"/>
                  </a:lnTo>
                  <a:lnTo>
                    <a:pt x="1318" y="124"/>
                  </a:lnTo>
                  <a:lnTo>
                    <a:pt x="1384" y="1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6167520" y="5183280"/>
              <a:ext cx="1243080" cy="493560"/>
            </a:xfrm>
            <a:custGeom>
              <a:avLst/>
              <a:gdLst/>
              <a:ahLst/>
              <a:rect l="l" t="t" r="r" b="b"/>
              <a:pathLst>
                <a:path w="3133" h="1246">
                  <a:moveTo>
                    <a:pt x="0" y="1133"/>
                  </a:moveTo>
                  <a:lnTo>
                    <a:pt x="11" y="1114"/>
                  </a:lnTo>
                  <a:lnTo>
                    <a:pt x="46" y="1061"/>
                  </a:lnTo>
                  <a:lnTo>
                    <a:pt x="72" y="1024"/>
                  </a:lnTo>
                  <a:lnTo>
                    <a:pt x="103" y="979"/>
                  </a:lnTo>
                  <a:lnTo>
                    <a:pt x="139" y="931"/>
                  </a:lnTo>
                  <a:lnTo>
                    <a:pt x="180" y="876"/>
                  </a:lnTo>
                  <a:lnTo>
                    <a:pt x="226" y="819"/>
                  </a:lnTo>
                  <a:lnTo>
                    <a:pt x="277" y="758"/>
                  </a:lnTo>
                  <a:lnTo>
                    <a:pt x="333" y="695"/>
                  </a:lnTo>
                  <a:lnTo>
                    <a:pt x="393" y="630"/>
                  </a:lnTo>
                  <a:lnTo>
                    <a:pt x="457" y="565"/>
                  </a:lnTo>
                  <a:lnTo>
                    <a:pt x="526" y="499"/>
                  </a:lnTo>
                  <a:lnTo>
                    <a:pt x="598" y="434"/>
                  </a:lnTo>
                  <a:lnTo>
                    <a:pt x="675" y="371"/>
                  </a:lnTo>
                  <a:lnTo>
                    <a:pt x="755" y="312"/>
                  </a:lnTo>
                  <a:lnTo>
                    <a:pt x="838" y="253"/>
                  </a:lnTo>
                  <a:lnTo>
                    <a:pt x="927" y="200"/>
                  </a:lnTo>
                  <a:lnTo>
                    <a:pt x="1017" y="152"/>
                  </a:lnTo>
                  <a:lnTo>
                    <a:pt x="1112" y="108"/>
                  </a:lnTo>
                  <a:lnTo>
                    <a:pt x="1208" y="71"/>
                  </a:lnTo>
                  <a:lnTo>
                    <a:pt x="1309" y="40"/>
                  </a:lnTo>
                  <a:lnTo>
                    <a:pt x="1412" y="18"/>
                  </a:lnTo>
                  <a:lnTo>
                    <a:pt x="1519" y="4"/>
                  </a:lnTo>
                  <a:lnTo>
                    <a:pt x="1627" y="0"/>
                  </a:lnTo>
                  <a:lnTo>
                    <a:pt x="1737" y="6"/>
                  </a:lnTo>
                  <a:lnTo>
                    <a:pt x="1852" y="22"/>
                  </a:lnTo>
                  <a:lnTo>
                    <a:pt x="1966" y="51"/>
                  </a:lnTo>
                  <a:lnTo>
                    <a:pt x="2084" y="92"/>
                  </a:lnTo>
                  <a:lnTo>
                    <a:pt x="2203" y="147"/>
                  </a:lnTo>
                  <a:lnTo>
                    <a:pt x="2325" y="215"/>
                  </a:lnTo>
                  <a:lnTo>
                    <a:pt x="2334" y="223"/>
                  </a:lnTo>
                  <a:lnTo>
                    <a:pt x="2361" y="246"/>
                  </a:lnTo>
                  <a:lnTo>
                    <a:pt x="2402" y="283"/>
                  </a:lnTo>
                  <a:lnTo>
                    <a:pt x="2456" y="331"/>
                  </a:lnTo>
                  <a:lnTo>
                    <a:pt x="2520" y="391"/>
                  </a:lnTo>
                  <a:lnTo>
                    <a:pt x="2591" y="458"/>
                  </a:lnTo>
                  <a:lnTo>
                    <a:pt x="2665" y="532"/>
                  </a:lnTo>
                  <a:lnTo>
                    <a:pt x="2743" y="612"/>
                  </a:lnTo>
                  <a:lnTo>
                    <a:pt x="2782" y="654"/>
                  </a:lnTo>
                  <a:lnTo>
                    <a:pt x="2820" y="696"/>
                  </a:lnTo>
                  <a:lnTo>
                    <a:pt x="2858" y="738"/>
                  </a:lnTo>
                  <a:lnTo>
                    <a:pt x="2894" y="782"/>
                  </a:lnTo>
                  <a:lnTo>
                    <a:pt x="2928" y="824"/>
                  </a:lnTo>
                  <a:lnTo>
                    <a:pt x="2962" y="867"/>
                  </a:lnTo>
                  <a:lnTo>
                    <a:pt x="2993" y="910"/>
                  </a:lnTo>
                  <a:lnTo>
                    <a:pt x="3023" y="952"/>
                  </a:lnTo>
                  <a:lnTo>
                    <a:pt x="3049" y="994"/>
                  </a:lnTo>
                  <a:lnTo>
                    <a:pt x="3072" y="1034"/>
                  </a:lnTo>
                  <a:lnTo>
                    <a:pt x="3092" y="1073"/>
                  </a:lnTo>
                  <a:lnTo>
                    <a:pt x="3108" y="1111"/>
                  </a:lnTo>
                  <a:lnTo>
                    <a:pt x="3121" y="1148"/>
                  </a:lnTo>
                  <a:lnTo>
                    <a:pt x="3129" y="1183"/>
                  </a:lnTo>
                  <a:lnTo>
                    <a:pt x="3133" y="1215"/>
                  </a:lnTo>
                  <a:lnTo>
                    <a:pt x="3132" y="1246"/>
                  </a:lnTo>
                  <a:lnTo>
                    <a:pt x="2974" y="1223"/>
                  </a:lnTo>
                  <a:lnTo>
                    <a:pt x="2967" y="1211"/>
                  </a:lnTo>
                  <a:lnTo>
                    <a:pt x="2947" y="1176"/>
                  </a:lnTo>
                  <a:lnTo>
                    <a:pt x="2915" y="1123"/>
                  </a:lnTo>
                  <a:lnTo>
                    <a:pt x="2871" y="1054"/>
                  </a:lnTo>
                  <a:lnTo>
                    <a:pt x="2845" y="1014"/>
                  </a:lnTo>
                  <a:lnTo>
                    <a:pt x="2817" y="972"/>
                  </a:lnTo>
                  <a:lnTo>
                    <a:pt x="2787" y="928"/>
                  </a:lnTo>
                  <a:lnTo>
                    <a:pt x="2754" y="881"/>
                  </a:lnTo>
                  <a:lnTo>
                    <a:pt x="2720" y="834"/>
                  </a:lnTo>
                  <a:lnTo>
                    <a:pt x="2684" y="786"/>
                  </a:lnTo>
                  <a:lnTo>
                    <a:pt x="2645" y="737"/>
                  </a:lnTo>
                  <a:lnTo>
                    <a:pt x="2605" y="688"/>
                  </a:lnTo>
                  <a:lnTo>
                    <a:pt x="2563" y="639"/>
                  </a:lnTo>
                  <a:lnTo>
                    <a:pt x="2521" y="592"/>
                  </a:lnTo>
                  <a:lnTo>
                    <a:pt x="2478" y="545"/>
                  </a:lnTo>
                  <a:lnTo>
                    <a:pt x="2432" y="500"/>
                  </a:lnTo>
                  <a:lnTo>
                    <a:pt x="2386" y="457"/>
                  </a:lnTo>
                  <a:lnTo>
                    <a:pt x="2338" y="416"/>
                  </a:lnTo>
                  <a:lnTo>
                    <a:pt x="2291" y="379"/>
                  </a:lnTo>
                  <a:lnTo>
                    <a:pt x="2243" y="344"/>
                  </a:lnTo>
                  <a:lnTo>
                    <a:pt x="2194" y="313"/>
                  </a:lnTo>
                  <a:lnTo>
                    <a:pt x="2145" y="287"/>
                  </a:lnTo>
                  <a:lnTo>
                    <a:pt x="2096" y="264"/>
                  </a:lnTo>
                  <a:lnTo>
                    <a:pt x="2047" y="247"/>
                  </a:lnTo>
                  <a:lnTo>
                    <a:pt x="1997" y="236"/>
                  </a:lnTo>
                  <a:lnTo>
                    <a:pt x="1949" y="230"/>
                  </a:lnTo>
                  <a:lnTo>
                    <a:pt x="1900" y="230"/>
                  </a:lnTo>
                  <a:lnTo>
                    <a:pt x="1852" y="237"/>
                  </a:lnTo>
                  <a:lnTo>
                    <a:pt x="1841" y="236"/>
                  </a:lnTo>
                  <a:lnTo>
                    <a:pt x="1807" y="233"/>
                  </a:lnTo>
                  <a:lnTo>
                    <a:pt x="1782" y="232"/>
                  </a:lnTo>
                  <a:lnTo>
                    <a:pt x="1754" y="231"/>
                  </a:lnTo>
                  <a:lnTo>
                    <a:pt x="1721" y="231"/>
                  </a:lnTo>
                  <a:lnTo>
                    <a:pt x="1684" y="232"/>
                  </a:lnTo>
                  <a:lnTo>
                    <a:pt x="1643" y="233"/>
                  </a:lnTo>
                  <a:lnTo>
                    <a:pt x="1600" y="237"/>
                  </a:lnTo>
                  <a:lnTo>
                    <a:pt x="1552" y="241"/>
                  </a:lnTo>
                  <a:lnTo>
                    <a:pt x="1503" y="248"/>
                  </a:lnTo>
                  <a:lnTo>
                    <a:pt x="1451" y="256"/>
                  </a:lnTo>
                  <a:lnTo>
                    <a:pt x="1396" y="267"/>
                  </a:lnTo>
                  <a:lnTo>
                    <a:pt x="1339" y="281"/>
                  </a:lnTo>
                  <a:lnTo>
                    <a:pt x="1281" y="295"/>
                  </a:lnTo>
                  <a:lnTo>
                    <a:pt x="1221" y="315"/>
                  </a:lnTo>
                  <a:lnTo>
                    <a:pt x="1160" y="336"/>
                  </a:lnTo>
                  <a:lnTo>
                    <a:pt x="1098" y="362"/>
                  </a:lnTo>
                  <a:lnTo>
                    <a:pt x="1036" y="391"/>
                  </a:lnTo>
                  <a:lnTo>
                    <a:pt x="974" y="424"/>
                  </a:lnTo>
                  <a:lnTo>
                    <a:pt x="912" y="462"/>
                  </a:lnTo>
                  <a:lnTo>
                    <a:pt x="850" y="503"/>
                  </a:lnTo>
                  <a:lnTo>
                    <a:pt x="788" y="549"/>
                  </a:lnTo>
                  <a:lnTo>
                    <a:pt x="728" y="599"/>
                  </a:lnTo>
                  <a:lnTo>
                    <a:pt x="668" y="655"/>
                  </a:lnTo>
                  <a:lnTo>
                    <a:pt x="610" y="717"/>
                  </a:lnTo>
                  <a:lnTo>
                    <a:pt x="554" y="784"/>
                  </a:lnTo>
                  <a:lnTo>
                    <a:pt x="501" y="856"/>
                  </a:lnTo>
                  <a:lnTo>
                    <a:pt x="450" y="934"/>
                  </a:lnTo>
                  <a:lnTo>
                    <a:pt x="400" y="1020"/>
                  </a:lnTo>
                  <a:lnTo>
                    <a:pt x="354" y="1111"/>
                  </a:lnTo>
                  <a:lnTo>
                    <a:pt x="0" y="1133"/>
                  </a:lnTo>
                  <a:close/>
                </a:path>
              </a:pathLst>
            </a:custGeom>
            <a:solidFill>
              <a:srgbClr val="835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6140520" y="5168880"/>
              <a:ext cx="1284120" cy="523800"/>
            </a:xfrm>
            <a:custGeom>
              <a:avLst/>
              <a:gdLst/>
              <a:ahLst/>
              <a:rect l="l" t="t" r="r" b="b"/>
              <a:pathLst>
                <a:path w="3235" h="1322">
                  <a:moveTo>
                    <a:pt x="1384" y="37"/>
                  </a:moveTo>
                  <a:lnTo>
                    <a:pt x="1310" y="57"/>
                  </a:lnTo>
                  <a:lnTo>
                    <a:pt x="1238" y="82"/>
                  </a:lnTo>
                  <a:lnTo>
                    <a:pt x="1168" y="109"/>
                  </a:lnTo>
                  <a:lnTo>
                    <a:pt x="1099" y="139"/>
                  </a:lnTo>
                  <a:lnTo>
                    <a:pt x="1031" y="173"/>
                  </a:lnTo>
                  <a:lnTo>
                    <a:pt x="967" y="209"/>
                  </a:lnTo>
                  <a:lnTo>
                    <a:pt x="903" y="247"/>
                  </a:lnTo>
                  <a:lnTo>
                    <a:pt x="841" y="288"/>
                  </a:lnTo>
                  <a:lnTo>
                    <a:pt x="782" y="330"/>
                  </a:lnTo>
                  <a:lnTo>
                    <a:pt x="723" y="375"/>
                  </a:lnTo>
                  <a:lnTo>
                    <a:pt x="667" y="420"/>
                  </a:lnTo>
                  <a:lnTo>
                    <a:pt x="614" y="465"/>
                  </a:lnTo>
                  <a:lnTo>
                    <a:pt x="562" y="513"/>
                  </a:lnTo>
                  <a:lnTo>
                    <a:pt x="512" y="558"/>
                  </a:lnTo>
                  <a:lnTo>
                    <a:pt x="465" y="606"/>
                  </a:lnTo>
                  <a:lnTo>
                    <a:pt x="420" y="653"/>
                  </a:lnTo>
                  <a:lnTo>
                    <a:pt x="377" y="700"/>
                  </a:lnTo>
                  <a:lnTo>
                    <a:pt x="337" y="746"/>
                  </a:lnTo>
                  <a:lnTo>
                    <a:pt x="298" y="791"/>
                  </a:lnTo>
                  <a:lnTo>
                    <a:pt x="262" y="834"/>
                  </a:lnTo>
                  <a:lnTo>
                    <a:pt x="229" y="876"/>
                  </a:lnTo>
                  <a:lnTo>
                    <a:pt x="198" y="916"/>
                  </a:lnTo>
                  <a:lnTo>
                    <a:pt x="169" y="953"/>
                  </a:lnTo>
                  <a:lnTo>
                    <a:pt x="143" y="989"/>
                  </a:lnTo>
                  <a:lnTo>
                    <a:pt x="100" y="1051"/>
                  </a:lnTo>
                  <a:lnTo>
                    <a:pt x="68" y="1101"/>
                  </a:lnTo>
                  <a:lnTo>
                    <a:pt x="45" y="1134"/>
                  </a:lnTo>
                  <a:lnTo>
                    <a:pt x="35" y="1152"/>
                  </a:lnTo>
                  <a:lnTo>
                    <a:pt x="0" y="1210"/>
                  </a:lnTo>
                  <a:lnTo>
                    <a:pt x="444" y="1181"/>
                  </a:lnTo>
                  <a:lnTo>
                    <a:pt x="452" y="1161"/>
                  </a:lnTo>
                  <a:lnTo>
                    <a:pt x="497" y="1075"/>
                  </a:lnTo>
                  <a:lnTo>
                    <a:pt x="544" y="993"/>
                  </a:lnTo>
                  <a:lnTo>
                    <a:pt x="594" y="916"/>
                  </a:lnTo>
                  <a:lnTo>
                    <a:pt x="646" y="846"/>
                  </a:lnTo>
                  <a:lnTo>
                    <a:pt x="700" y="782"/>
                  </a:lnTo>
                  <a:lnTo>
                    <a:pt x="755" y="722"/>
                  </a:lnTo>
                  <a:lnTo>
                    <a:pt x="814" y="668"/>
                  </a:lnTo>
                  <a:lnTo>
                    <a:pt x="872" y="618"/>
                  </a:lnTo>
                  <a:lnTo>
                    <a:pt x="932" y="573"/>
                  </a:lnTo>
                  <a:lnTo>
                    <a:pt x="991" y="534"/>
                  </a:lnTo>
                  <a:lnTo>
                    <a:pt x="1052" y="496"/>
                  </a:lnTo>
                  <a:lnTo>
                    <a:pt x="1113" y="464"/>
                  </a:lnTo>
                  <a:lnTo>
                    <a:pt x="1173" y="436"/>
                  </a:lnTo>
                  <a:lnTo>
                    <a:pt x="1232" y="411"/>
                  </a:lnTo>
                  <a:lnTo>
                    <a:pt x="1292" y="389"/>
                  </a:lnTo>
                  <a:lnTo>
                    <a:pt x="1350" y="370"/>
                  </a:lnTo>
                  <a:lnTo>
                    <a:pt x="1407" y="355"/>
                  </a:lnTo>
                  <a:lnTo>
                    <a:pt x="1462" y="341"/>
                  </a:lnTo>
                  <a:lnTo>
                    <a:pt x="1515" y="330"/>
                  </a:lnTo>
                  <a:lnTo>
                    <a:pt x="1566" y="322"/>
                  </a:lnTo>
                  <a:lnTo>
                    <a:pt x="1616" y="315"/>
                  </a:lnTo>
                  <a:lnTo>
                    <a:pt x="1662" y="310"/>
                  </a:lnTo>
                  <a:lnTo>
                    <a:pt x="1705" y="307"/>
                  </a:lnTo>
                  <a:lnTo>
                    <a:pt x="1745" y="304"/>
                  </a:lnTo>
                  <a:lnTo>
                    <a:pt x="1781" y="304"/>
                  </a:lnTo>
                  <a:lnTo>
                    <a:pt x="1813" y="304"/>
                  </a:lnTo>
                  <a:lnTo>
                    <a:pt x="1842" y="304"/>
                  </a:lnTo>
                  <a:lnTo>
                    <a:pt x="1866" y="305"/>
                  </a:lnTo>
                  <a:lnTo>
                    <a:pt x="1900" y="308"/>
                  </a:lnTo>
                  <a:lnTo>
                    <a:pt x="1913" y="309"/>
                  </a:lnTo>
                  <a:lnTo>
                    <a:pt x="1960" y="302"/>
                  </a:lnTo>
                  <a:lnTo>
                    <a:pt x="2006" y="302"/>
                  </a:lnTo>
                  <a:lnTo>
                    <a:pt x="2054" y="308"/>
                  </a:lnTo>
                  <a:lnTo>
                    <a:pt x="2101" y="319"/>
                  </a:lnTo>
                  <a:lnTo>
                    <a:pt x="2149" y="336"/>
                  </a:lnTo>
                  <a:lnTo>
                    <a:pt x="2197" y="358"/>
                  </a:lnTo>
                  <a:lnTo>
                    <a:pt x="2244" y="384"/>
                  </a:lnTo>
                  <a:lnTo>
                    <a:pt x="2291" y="413"/>
                  </a:lnTo>
                  <a:lnTo>
                    <a:pt x="2339" y="447"/>
                  </a:lnTo>
                  <a:lnTo>
                    <a:pt x="2385" y="484"/>
                  </a:lnTo>
                  <a:lnTo>
                    <a:pt x="2431" y="524"/>
                  </a:lnTo>
                  <a:lnTo>
                    <a:pt x="2475" y="566"/>
                  </a:lnTo>
                  <a:lnTo>
                    <a:pt x="2519" y="609"/>
                  </a:lnTo>
                  <a:lnTo>
                    <a:pt x="2561" y="655"/>
                  </a:lnTo>
                  <a:lnTo>
                    <a:pt x="2603" y="701"/>
                  </a:lnTo>
                  <a:lnTo>
                    <a:pt x="2644" y="748"/>
                  </a:lnTo>
                  <a:lnTo>
                    <a:pt x="2683" y="797"/>
                  </a:lnTo>
                  <a:lnTo>
                    <a:pt x="2720" y="844"/>
                  </a:lnTo>
                  <a:lnTo>
                    <a:pt x="2756" y="891"/>
                  </a:lnTo>
                  <a:lnTo>
                    <a:pt x="2789" y="938"/>
                  </a:lnTo>
                  <a:lnTo>
                    <a:pt x="2852" y="1026"/>
                  </a:lnTo>
                  <a:lnTo>
                    <a:pt x="2905" y="1106"/>
                  </a:lnTo>
                  <a:lnTo>
                    <a:pt x="2948" y="1174"/>
                  </a:lnTo>
                  <a:lnTo>
                    <a:pt x="2981" y="1227"/>
                  </a:lnTo>
                  <a:lnTo>
                    <a:pt x="3002" y="1262"/>
                  </a:lnTo>
                  <a:lnTo>
                    <a:pt x="3009" y="1277"/>
                  </a:lnTo>
                  <a:lnTo>
                    <a:pt x="3018" y="1292"/>
                  </a:lnTo>
                  <a:lnTo>
                    <a:pt x="3229" y="1322"/>
                  </a:lnTo>
                  <a:lnTo>
                    <a:pt x="3234" y="1286"/>
                  </a:lnTo>
                  <a:lnTo>
                    <a:pt x="3235" y="1255"/>
                  </a:lnTo>
                  <a:lnTo>
                    <a:pt x="3231" y="1221"/>
                  </a:lnTo>
                  <a:lnTo>
                    <a:pt x="3224" y="1186"/>
                  </a:lnTo>
                  <a:lnTo>
                    <a:pt x="3214" y="1150"/>
                  </a:lnTo>
                  <a:lnTo>
                    <a:pt x="3199" y="1113"/>
                  </a:lnTo>
                  <a:lnTo>
                    <a:pt x="3181" y="1075"/>
                  </a:lnTo>
                  <a:lnTo>
                    <a:pt x="3159" y="1035"/>
                  </a:lnTo>
                  <a:lnTo>
                    <a:pt x="3135" y="994"/>
                  </a:lnTo>
                  <a:lnTo>
                    <a:pt x="3109" y="953"/>
                  </a:lnTo>
                  <a:lnTo>
                    <a:pt x="3079" y="911"/>
                  </a:lnTo>
                  <a:lnTo>
                    <a:pt x="3048" y="869"/>
                  </a:lnTo>
                  <a:lnTo>
                    <a:pt x="3015" y="828"/>
                  </a:lnTo>
                  <a:lnTo>
                    <a:pt x="2981" y="786"/>
                  </a:lnTo>
                  <a:lnTo>
                    <a:pt x="2945" y="743"/>
                  </a:lnTo>
                  <a:lnTo>
                    <a:pt x="2909" y="702"/>
                  </a:lnTo>
                  <a:lnTo>
                    <a:pt x="2871" y="661"/>
                  </a:lnTo>
                  <a:lnTo>
                    <a:pt x="2797" y="582"/>
                  </a:lnTo>
                  <a:lnTo>
                    <a:pt x="2722" y="508"/>
                  </a:lnTo>
                  <a:lnTo>
                    <a:pt x="2650" y="438"/>
                  </a:lnTo>
                  <a:lnTo>
                    <a:pt x="2585" y="376"/>
                  </a:lnTo>
                  <a:lnTo>
                    <a:pt x="2525" y="322"/>
                  </a:lnTo>
                  <a:lnTo>
                    <a:pt x="2475" y="277"/>
                  </a:lnTo>
                  <a:lnTo>
                    <a:pt x="2438" y="245"/>
                  </a:lnTo>
                  <a:lnTo>
                    <a:pt x="2413" y="224"/>
                  </a:lnTo>
                  <a:lnTo>
                    <a:pt x="2382" y="205"/>
                  </a:lnTo>
                  <a:lnTo>
                    <a:pt x="2350" y="186"/>
                  </a:lnTo>
                  <a:lnTo>
                    <a:pt x="2319" y="169"/>
                  </a:lnTo>
                  <a:lnTo>
                    <a:pt x="2287" y="152"/>
                  </a:lnTo>
                  <a:lnTo>
                    <a:pt x="2254" y="137"/>
                  </a:lnTo>
                  <a:lnTo>
                    <a:pt x="2223" y="122"/>
                  </a:lnTo>
                  <a:lnTo>
                    <a:pt x="2191" y="107"/>
                  </a:lnTo>
                  <a:lnTo>
                    <a:pt x="2160" y="94"/>
                  </a:lnTo>
                  <a:lnTo>
                    <a:pt x="2128" y="82"/>
                  </a:lnTo>
                  <a:lnTo>
                    <a:pt x="2095" y="71"/>
                  </a:lnTo>
                  <a:lnTo>
                    <a:pt x="2063" y="60"/>
                  </a:lnTo>
                  <a:lnTo>
                    <a:pt x="2031" y="50"/>
                  </a:lnTo>
                  <a:lnTo>
                    <a:pt x="2000" y="41"/>
                  </a:lnTo>
                  <a:lnTo>
                    <a:pt x="1967" y="34"/>
                  </a:lnTo>
                  <a:lnTo>
                    <a:pt x="1935" y="26"/>
                  </a:lnTo>
                  <a:lnTo>
                    <a:pt x="1903" y="20"/>
                  </a:lnTo>
                  <a:lnTo>
                    <a:pt x="1871" y="15"/>
                  </a:lnTo>
                  <a:lnTo>
                    <a:pt x="1838" y="10"/>
                  </a:lnTo>
                  <a:lnTo>
                    <a:pt x="1806" y="6"/>
                  </a:lnTo>
                  <a:lnTo>
                    <a:pt x="1774" y="4"/>
                  </a:lnTo>
                  <a:lnTo>
                    <a:pt x="1741" y="1"/>
                  </a:lnTo>
                  <a:lnTo>
                    <a:pt x="1709" y="0"/>
                  </a:lnTo>
                  <a:lnTo>
                    <a:pt x="1677" y="0"/>
                  </a:lnTo>
                  <a:lnTo>
                    <a:pt x="1645" y="1"/>
                  </a:lnTo>
                  <a:lnTo>
                    <a:pt x="1612" y="3"/>
                  </a:lnTo>
                  <a:lnTo>
                    <a:pt x="1579" y="5"/>
                  </a:lnTo>
                  <a:lnTo>
                    <a:pt x="1546" y="9"/>
                  </a:lnTo>
                  <a:lnTo>
                    <a:pt x="1514" y="13"/>
                  </a:lnTo>
                  <a:lnTo>
                    <a:pt x="1482" y="18"/>
                  </a:lnTo>
                  <a:lnTo>
                    <a:pt x="1450" y="24"/>
                  </a:lnTo>
                  <a:lnTo>
                    <a:pt x="1417" y="30"/>
                  </a:lnTo>
                  <a:lnTo>
                    <a:pt x="1384" y="37"/>
                  </a:lnTo>
                  <a:close/>
                  <a:moveTo>
                    <a:pt x="1401" y="107"/>
                  </a:moveTo>
                  <a:lnTo>
                    <a:pt x="1432" y="99"/>
                  </a:lnTo>
                  <a:lnTo>
                    <a:pt x="1463" y="93"/>
                  </a:lnTo>
                  <a:lnTo>
                    <a:pt x="1493" y="88"/>
                  </a:lnTo>
                  <a:lnTo>
                    <a:pt x="1524" y="83"/>
                  </a:lnTo>
                  <a:lnTo>
                    <a:pt x="1555" y="80"/>
                  </a:lnTo>
                  <a:lnTo>
                    <a:pt x="1586" y="76"/>
                  </a:lnTo>
                  <a:lnTo>
                    <a:pt x="1616" y="73"/>
                  </a:lnTo>
                  <a:lnTo>
                    <a:pt x="1647" y="72"/>
                  </a:lnTo>
                  <a:lnTo>
                    <a:pt x="1678" y="72"/>
                  </a:lnTo>
                  <a:lnTo>
                    <a:pt x="1708" y="72"/>
                  </a:lnTo>
                  <a:lnTo>
                    <a:pt x="1739" y="73"/>
                  </a:lnTo>
                  <a:lnTo>
                    <a:pt x="1769" y="75"/>
                  </a:lnTo>
                  <a:lnTo>
                    <a:pt x="1800" y="77"/>
                  </a:lnTo>
                  <a:lnTo>
                    <a:pt x="1831" y="81"/>
                  </a:lnTo>
                  <a:lnTo>
                    <a:pt x="1861" y="86"/>
                  </a:lnTo>
                  <a:lnTo>
                    <a:pt x="1892" y="91"/>
                  </a:lnTo>
                  <a:lnTo>
                    <a:pt x="1921" y="96"/>
                  </a:lnTo>
                  <a:lnTo>
                    <a:pt x="1951" y="103"/>
                  </a:lnTo>
                  <a:lnTo>
                    <a:pt x="1982" y="111"/>
                  </a:lnTo>
                  <a:lnTo>
                    <a:pt x="2012" y="118"/>
                  </a:lnTo>
                  <a:lnTo>
                    <a:pt x="2042" y="128"/>
                  </a:lnTo>
                  <a:lnTo>
                    <a:pt x="2073" y="138"/>
                  </a:lnTo>
                  <a:lnTo>
                    <a:pt x="2103" y="148"/>
                  </a:lnTo>
                  <a:lnTo>
                    <a:pt x="2133" y="160"/>
                  </a:lnTo>
                  <a:lnTo>
                    <a:pt x="2162" y="173"/>
                  </a:lnTo>
                  <a:lnTo>
                    <a:pt x="2193" y="185"/>
                  </a:lnTo>
                  <a:lnTo>
                    <a:pt x="2223" y="200"/>
                  </a:lnTo>
                  <a:lnTo>
                    <a:pt x="2253" y="214"/>
                  </a:lnTo>
                  <a:lnTo>
                    <a:pt x="2283" y="230"/>
                  </a:lnTo>
                  <a:lnTo>
                    <a:pt x="2313" y="246"/>
                  </a:lnTo>
                  <a:lnTo>
                    <a:pt x="2342" y="263"/>
                  </a:lnTo>
                  <a:lnTo>
                    <a:pt x="2372" y="281"/>
                  </a:lnTo>
                  <a:lnTo>
                    <a:pt x="2416" y="319"/>
                  </a:lnTo>
                  <a:lnTo>
                    <a:pt x="2467" y="365"/>
                  </a:lnTo>
                  <a:lnTo>
                    <a:pt x="2522" y="416"/>
                  </a:lnTo>
                  <a:lnTo>
                    <a:pt x="2583" y="473"/>
                  </a:lnTo>
                  <a:lnTo>
                    <a:pt x="2645" y="534"/>
                  </a:lnTo>
                  <a:lnTo>
                    <a:pt x="2710" y="597"/>
                  </a:lnTo>
                  <a:lnTo>
                    <a:pt x="2775" y="664"/>
                  </a:lnTo>
                  <a:lnTo>
                    <a:pt x="2838" y="733"/>
                  </a:lnTo>
                  <a:lnTo>
                    <a:pt x="2869" y="768"/>
                  </a:lnTo>
                  <a:lnTo>
                    <a:pt x="2899" y="803"/>
                  </a:lnTo>
                  <a:lnTo>
                    <a:pt x="2928" y="838"/>
                  </a:lnTo>
                  <a:lnTo>
                    <a:pt x="2957" y="872"/>
                  </a:lnTo>
                  <a:lnTo>
                    <a:pt x="2984" y="907"/>
                  </a:lnTo>
                  <a:lnTo>
                    <a:pt x="3009" y="941"/>
                  </a:lnTo>
                  <a:lnTo>
                    <a:pt x="3034" y="974"/>
                  </a:lnTo>
                  <a:lnTo>
                    <a:pt x="3056" y="1008"/>
                  </a:lnTo>
                  <a:lnTo>
                    <a:pt x="3078" y="1040"/>
                  </a:lnTo>
                  <a:lnTo>
                    <a:pt x="3096" y="1072"/>
                  </a:lnTo>
                  <a:lnTo>
                    <a:pt x="3114" y="1103"/>
                  </a:lnTo>
                  <a:lnTo>
                    <a:pt x="3127" y="1133"/>
                  </a:lnTo>
                  <a:lnTo>
                    <a:pt x="3140" y="1161"/>
                  </a:lnTo>
                  <a:lnTo>
                    <a:pt x="3150" y="1189"/>
                  </a:lnTo>
                  <a:lnTo>
                    <a:pt x="3156" y="1215"/>
                  </a:lnTo>
                  <a:lnTo>
                    <a:pt x="3159" y="1240"/>
                  </a:lnTo>
                  <a:lnTo>
                    <a:pt x="3131" y="1236"/>
                  </a:lnTo>
                  <a:lnTo>
                    <a:pt x="3104" y="1232"/>
                  </a:lnTo>
                  <a:lnTo>
                    <a:pt x="3080" y="1228"/>
                  </a:lnTo>
                  <a:lnTo>
                    <a:pt x="3063" y="1226"/>
                  </a:lnTo>
                  <a:lnTo>
                    <a:pt x="3045" y="1196"/>
                  </a:lnTo>
                  <a:lnTo>
                    <a:pt x="3017" y="1148"/>
                  </a:lnTo>
                  <a:lnTo>
                    <a:pt x="2978" y="1086"/>
                  </a:lnTo>
                  <a:lnTo>
                    <a:pt x="2930" y="1010"/>
                  </a:lnTo>
                  <a:lnTo>
                    <a:pt x="2901" y="969"/>
                  </a:lnTo>
                  <a:lnTo>
                    <a:pt x="2871" y="927"/>
                  </a:lnTo>
                  <a:lnTo>
                    <a:pt x="2840" y="882"/>
                  </a:lnTo>
                  <a:lnTo>
                    <a:pt x="2807" y="836"/>
                  </a:lnTo>
                  <a:lnTo>
                    <a:pt x="2772" y="791"/>
                  </a:lnTo>
                  <a:lnTo>
                    <a:pt x="2735" y="743"/>
                  </a:lnTo>
                  <a:lnTo>
                    <a:pt x="2696" y="696"/>
                  </a:lnTo>
                  <a:lnTo>
                    <a:pt x="2657" y="650"/>
                  </a:lnTo>
                  <a:lnTo>
                    <a:pt x="2616" y="604"/>
                  </a:lnTo>
                  <a:lnTo>
                    <a:pt x="2573" y="558"/>
                  </a:lnTo>
                  <a:lnTo>
                    <a:pt x="2529" y="515"/>
                  </a:lnTo>
                  <a:lnTo>
                    <a:pt x="2485" y="473"/>
                  </a:lnTo>
                  <a:lnTo>
                    <a:pt x="2439" y="433"/>
                  </a:lnTo>
                  <a:lnTo>
                    <a:pt x="2393" y="396"/>
                  </a:lnTo>
                  <a:lnTo>
                    <a:pt x="2346" y="361"/>
                  </a:lnTo>
                  <a:lnTo>
                    <a:pt x="2299" y="330"/>
                  </a:lnTo>
                  <a:lnTo>
                    <a:pt x="2250" y="303"/>
                  </a:lnTo>
                  <a:lnTo>
                    <a:pt x="2202" y="278"/>
                  </a:lnTo>
                  <a:lnTo>
                    <a:pt x="2154" y="259"/>
                  </a:lnTo>
                  <a:lnTo>
                    <a:pt x="2105" y="245"/>
                  </a:lnTo>
                  <a:lnTo>
                    <a:pt x="2056" y="235"/>
                  </a:lnTo>
                  <a:lnTo>
                    <a:pt x="2007" y="230"/>
                  </a:lnTo>
                  <a:lnTo>
                    <a:pt x="1959" y="231"/>
                  </a:lnTo>
                  <a:lnTo>
                    <a:pt x="1910" y="238"/>
                  </a:lnTo>
                  <a:lnTo>
                    <a:pt x="1899" y="237"/>
                  </a:lnTo>
                  <a:lnTo>
                    <a:pt x="1866" y="235"/>
                  </a:lnTo>
                  <a:lnTo>
                    <a:pt x="1841" y="233"/>
                  </a:lnTo>
                  <a:lnTo>
                    <a:pt x="1812" y="233"/>
                  </a:lnTo>
                  <a:lnTo>
                    <a:pt x="1780" y="233"/>
                  </a:lnTo>
                  <a:lnTo>
                    <a:pt x="1743" y="233"/>
                  </a:lnTo>
                  <a:lnTo>
                    <a:pt x="1702" y="236"/>
                  </a:lnTo>
                  <a:lnTo>
                    <a:pt x="1658" y="240"/>
                  </a:lnTo>
                  <a:lnTo>
                    <a:pt x="1611" y="245"/>
                  </a:lnTo>
                  <a:lnTo>
                    <a:pt x="1560" y="251"/>
                  </a:lnTo>
                  <a:lnTo>
                    <a:pt x="1508" y="259"/>
                  </a:lnTo>
                  <a:lnTo>
                    <a:pt x="1452" y="271"/>
                  </a:lnTo>
                  <a:lnTo>
                    <a:pt x="1395" y="284"/>
                  </a:lnTo>
                  <a:lnTo>
                    <a:pt x="1337" y="300"/>
                  </a:lnTo>
                  <a:lnTo>
                    <a:pt x="1277" y="320"/>
                  </a:lnTo>
                  <a:lnTo>
                    <a:pt x="1215" y="343"/>
                  </a:lnTo>
                  <a:lnTo>
                    <a:pt x="1153" y="367"/>
                  </a:lnTo>
                  <a:lnTo>
                    <a:pt x="1091" y="397"/>
                  </a:lnTo>
                  <a:lnTo>
                    <a:pt x="1027" y="431"/>
                  </a:lnTo>
                  <a:lnTo>
                    <a:pt x="964" y="468"/>
                  </a:lnTo>
                  <a:lnTo>
                    <a:pt x="902" y="509"/>
                  </a:lnTo>
                  <a:lnTo>
                    <a:pt x="840" y="555"/>
                  </a:lnTo>
                  <a:lnTo>
                    <a:pt x="779" y="606"/>
                  </a:lnTo>
                  <a:lnTo>
                    <a:pt x="718" y="661"/>
                  </a:lnTo>
                  <a:lnTo>
                    <a:pt x="660" y="722"/>
                  </a:lnTo>
                  <a:lnTo>
                    <a:pt x="603" y="788"/>
                  </a:lnTo>
                  <a:lnTo>
                    <a:pt x="548" y="860"/>
                  </a:lnTo>
                  <a:lnTo>
                    <a:pt x="496" y="938"/>
                  </a:lnTo>
                  <a:lnTo>
                    <a:pt x="446" y="1023"/>
                  </a:lnTo>
                  <a:lnTo>
                    <a:pt x="399" y="1112"/>
                  </a:lnTo>
                  <a:lnTo>
                    <a:pt x="384" y="1113"/>
                  </a:lnTo>
                  <a:lnTo>
                    <a:pt x="359" y="1116"/>
                  </a:lnTo>
                  <a:lnTo>
                    <a:pt x="326" y="1117"/>
                  </a:lnTo>
                  <a:lnTo>
                    <a:pt x="289" y="1119"/>
                  </a:lnTo>
                  <a:lnTo>
                    <a:pt x="249" y="1122"/>
                  </a:lnTo>
                  <a:lnTo>
                    <a:pt x="208" y="1124"/>
                  </a:lnTo>
                  <a:lnTo>
                    <a:pt x="169" y="1127"/>
                  </a:lnTo>
                  <a:lnTo>
                    <a:pt x="135" y="1129"/>
                  </a:lnTo>
                  <a:lnTo>
                    <a:pt x="163" y="1087"/>
                  </a:lnTo>
                  <a:lnTo>
                    <a:pt x="199" y="1035"/>
                  </a:lnTo>
                  <a:lnTo>
                    <a:pt x="244" y="975"/>
                  </a:lnTo>
                  <a:lnTo>
                    <a:pt x="296" y="908"/>
                  </a:lnTo>
                  <a:lnTo>
                    <a:pt x="323" y="874"/>
                  </a:lnTo>
                  <a:lnTo>
                    <a:pt x="354" y="838"/>
                  </a:lnTo>
                  <a:lnTo>
                    <a:pt x="387" y="799"/>
                  </a:lnTo>
                  <a:lnTo>
                    <a:pt x="420" y="762"/>
                  </a:lnTo>
                  <a:lnTo>
                    <a:pt x="455" y="722"/>
                  </a:lnTo>
                  <a:lnTo>
                    <a:pt x="492" y="684"/>
                  </a:lnTo>
                  <a:lnTo>
                    <a:pt x="531" y="644"/>
                  </a:lnTo>
                  <a:lnTo>
                    <a:pt x="572" y="604"/>
                  </a:lnTo>
                  <a:lnTo>
                    <a:pt x="613" y="565"/>
                  </a:lnTo>
                  <a:lnTo>
                    <a:pt x="656" y="525"/>
                  </a:lnTo>
                  <a:lnTo>
                    <a:pt x="701" y="487"/>
                  </a:lnTo>
                  <a:lnTo>
                    <a:pt x="747" y="448"/>
                  </a:lnTo>
                  <a:lnTo>
                    <a:pt x="795" y="411"/>
                  </a:lnTo>
                  <a:lnTo>
                    <a:pt x="844" y="375"/>
                  </a:lnTo>
                  <a:lnTo>
                    <a:pt x="895" y="340"/>
                  </a:lnTo>
                  <a:lnTo>
                    <a:pt x="945" y="307"/>
                  </a:lnTo>
                  <a:lnTo>
                    <a:pt x="999" y="274"/>
                  </a:lnTo>
                  <a:lnTo>
                    <a:pt x="1052" y="243"/>
                  </a:lnTo>
                  <a:lnTo>
                    <a:pt x="1108" y="215"/>
                  </a:lnTo>
                  <a:lnTo>
                    <a:pt x="1164" y="189"/>
                  </a:lnTo>
                  <a:lnTo>
                    <a:pt x="1222" y="164"/>
                  </a:lnTo>
                  <a:lnTo>
                    <a:pt x="1281" y="142"/>
                  </a:lnTo>
                  <a:lnTo>
                    <a:pt x="1340" y="123"/>
                  </a:lnTo>
                  <a:lnTo>
                    <a:pt x="1401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6211800" y="5245200"/>
              <a:ext cx="1198800" cy="511200"/>
            </a:xfrm>
            <a:custGeom>
              <a:avLst/>
              <a:gdLst/>
              <a:ahLst/>
              <a:rect l="l" t="t" r="r" b="b"/>
              <a:pathLst>
                <a:path w="3020" h="1289">
                  <a:moveTo>
                    <a:pt x="0" y="1030"/>
                  </a:moveTo>
                  <a:lnTo>
                    <a:pt x="11" y="1012"/>
                  </a:lnTo>
                  <a:lnTo>
                    <a:pt x="44" y="961"/>
                  </a:lnTo>
                  <a:lnTo>
                    <a:pt x="66" y="927"/>
                  </a:lnTo>
                  <a:lnTo>
                    <a:pt x="95" y="886"/>
                  </a:lnTo>
                  <a:lnTo>
                    <a:pt x="128" y="841"/>
                  </a:lnTo>
                  <a:lnTo>
                    <a:pt x="167" y="790"/>
                  </a:lnTo>
                  <a:lnTo>
                    <a:pt x="210" y="737"/>
                  </a:lnTo>
                  <a:lnTo>
                    <a:pt x="257" y="681"/>
                  </a:lnTo>
                  <a:lnTo>
                    <a:pt x="308" y="623"/>
                  </a:lnTo>
                  <a:lnTo>
                    <a:pt x="365" y="562"/>
                  </a:lnTo>
                  <a:lnTo>
                    <a:pt x="425" y="502"/>
                  </a:lnTo>
                  <a:lnTo>
                    <a:pt x="490" y="441"/>
                  </a:lnTo>
                  <a:lnTo>
                    <a:pt x="558" y="383"/>
                  </a:lnTo>
                  <a:lnTo>
                    <a:pt x="630" y="325"/>
                  </a:lnTo>
                  <a:lnTo>
                    <a:pt x="707" y="270"/>
                  </a:lnTo>
                  <a:lnTo>
                    <a:pt x="786" y="217"/>
                  </a:lnTo>
                  <a:lnTo>
                    <a:pt x="869" y="170"/>
                  </a:lnTo>
                  <a:lnTo>
                    <a:pt x="956" y="125"/>
                  </a:lnTo>
                  <a:lnTo>
                    <a:pt x="1047" y="87"/>
                  </a:lnTo>
                  <a:lnTo>
                    <a:pt x="1141" y="54"/>
                  </a:lnTo>
                  <a:lnTo>
                    <a:pt x="1238" y="28"/>
                  </a:lnTo>
                  <a:lnTo>
                    <a:pt x="1338" y="11"/>
                  </a:lnTo>
                  <a:lnTo>
                    <a:pt x="1441" y="1"/>
                  </a:lnTo>
                  <a:lnTo>
                    <a:pt x="1546" y="0"/>
                  </a:lnTo>
                  <a:lnTo>
                    <a:pt x="1654" y="8"/>
                  </a:lnTo>
                  <a:lnTo>
                    <a:pt x="1766" y="28"/>
                  </a:lnTo>
                  <a:lnTo>
                    <a:pt x="1880" y="59"/>
                  </a:lnTo>
                  <a:lnTo>
                    <a:pt x="1996" y="101"/>
                  </a:lnTo>
                  <a:lnTo>
                    <a:pt x="2115" y="156"/>
                  </a:lnTo>
                  <a:lnTo>
                    <a:pt x="2235" y="226"/>
                  </a:lnTo>
                  <a:lnTo>
                    <a:pt x="2244" y="234"/>
                  </a:lnTo>
                  <a:lnTo>
                    <a:pt x="2270" y="258"/>
                  </a:lnTo>
                  <a:lnTo>
                    <a:pt x="2311" y="296"/>
                  </a:lnTo>
                  <a:lnTo>
                    <a:pt x="2363" y="347"/>
                  </a:lnTo>
                  <a:lnTo>
                    <a:pt x="2425" y="409"/>
                  </a:lnTo>
                  <a:lnTo>
                    <a:pt x="2494" y="479"/>
                  </a:lnTo>
                  <a:lnTo>
                    <a:pt x="2567" y="557"/>
                  </a:lnTo>
                  <a:lnTo>
                    <a:pt x="2641" y="640"/>
                  </a:lnTo>
                  <a:lnTo>
                    <a:pt x="2680" y="682"/>
                  </a:lnTo>
                  <a:lnTo>
                    <a:pt x="2717" y="726"/>
                  </a:lnTo>
                  <a:lnTo>
                    <a:pt x="2753" y="770"/>
                  </a:lnTo>
                  <a:lnTo>
                    <a:pt x="2788" y="815"/>
                  </a:lnTo>
                  <a:lnTo>
                    <a:pt x="2823" y="860"/>
                  </a:lnTo>
                  <a:lnTo>
                    <a:pt x="2855" y="903"/>
                  </a:lnTo>
                  <a:lnTo>
                    <a:pt x="2885" y="948"/>
                  </a:lnTo>
                  <a:lnTo>
                    <a:pt x="2913" y="990"/>
                  </a:lnTo>
                  <a:lnTo>
                    <a:pt x="2938" y="1033"/>
                  </a:lnTo>
                  <a:lnTo>
                    <a:pt x="2962" y="1074"/>
                  </a:lnTo>
                  <a:lnTo>
                    <a:pt x="2980" y="1115"/>
                  </a:lnTo>
                  <a:lnTo>
                    <a:pt x="2997" y="1154"/>
                  </a:lnTo>
                  <a:lnTo>
                    <a:pt x="3009" y="1191"/>
                  </a:lnTo>
                  <a:lnTo>
                    <a:pt x="3016" y="1226"/>
                  </a:lnTo>
                  <a:lnTo>
                    <a:pt x="3020" y="1258"/>
                  </a:lnTo>
                  <a:lnTo>
                    <a:pt x="3019" y="1289"/>
                  </a:lnTo>
                  <a:lnTo>
                    <a:pt x="2861" y="1266"/>
                  </a:lnTo>
                  <a:lnTo>
                    <a:pt x="2854" y="1254"/>
                  </a:lnTo>
                  <a:lnTo>
                    <a:pt x="2834" y="1219"/>
                  </a:lnTo>
                  <a:lnTo>
                    <a:pt x="2802" y="1166"/>
                  </a:lnTo>
                  <a:lnTo>
                    <a:pt x="2758" y="1097"/>
                  </a:lnTo>
                  <a:lnTo>
                    <a:pt x="2732" y="1058"/>
                  </a:lnTo>
                  <a:lnTo>
                    <a:pt x="2704" y="1016"/>
                  </a:lnTo>
                  <a:lnTo>
                    <a:pt x="2674" y="971"/>
                  </a:lnTo>
                  <a:lnTo>
                    <a:pt x="2641" y="925"/>
                  </a:lnTo>
                  <a:lnTo>
                    <a:pt x="2607" y="878"/>
                  </a:lnTo>
                  <a:lnTo>
                    <a:pt x="2571" y="830"/>
                  </a:lnTo>
                  <a:lnTo>
                    <a:pt x="2532" y="780"/>
                  </a:lnTo>
                  <a:lnTo>
                    <a:pt x="2492" y="732"/>
                  </a:lnTo>
                  <a:lnTo>
                    <a:pt x="2450" y="683"/>
                  </a:lnTo>
                  <a:lnTo>
                    <a:pt x="2408" y="635"/>
                  </a:lnTo>
                  <a:lnTo>
                    <a:pt x="2365" y="589"/>
                  </a:lnTo>
                  <a:lnTo>
                    <a:pt x="2319" y="543"/>
                  </a:lnTo>
                  <a:lnTo>
                    <a:pt x="2273" y="501"/>
                  </a:lnTo>
                  <a:lnTo>
                    <a:pt x="2225" y="460"/>
                  </a:lnTo>
                  <a:lnTo>
                    <a:pt x="2178" y="422"/>
                  </a:lnTo>
                  <a:lnTo>
                    <a:pt x="2130" y="388"/>
                  </a:lnTo>
                  <a:lnTo>
                    <a:pt x="2081" y="357"/>
                  </a:lnTo>
                  <a:lnTo>
                    <a:pt x="2032" y="330"/>
                  </a:lnTo>
                  <a:lnTo>
                    <a:pt x="1983" y="309"/>
                  </a:lnTo>
                  <a:lnTo>
                    <a:pt x="1934" y="291"/>
                  </a:lnTo>
                  <a:lnTo>
                    <a:pt x="1884" y="279"/>
                  </a:lnTo>
                  <a:lnTo>
                    <a:pt x="1836" y="274"/>
                  </a:lnTo>
                  <a:lnTo>
                    <a:pt x="1787" y="274"/>
                  </a:lnTo>
                  <a:lnTo>
                    <a:pt x="1739" y="281"/>
                  </a:lnTo>
                  <a:lnTo>
                    <a:pt x="1728" y="280"/>
                  </a:lnTo>
                  <a:lnTo>
                    <a:pt x="1694" y="278"/>
                  </a:lnTo>
                  <a:lnTo>
                    <a:pt x="1669" y="276"/>
                  </a:lnTo>
                  <a:lnTo>
                    <a:pt x="1641" y="275"/>
                  </a:lnTo>
                  <a:lnTo>
                    <a:pt x="1608" y="275"/>
                  </a:lnTo>
                  <a:lnTo>
                    <a:pt x="1571" y="275"/>
                  </a:lnTo>
                  <a:lnTo>
                    <a:pt x="1530" y="278"/>
                  </a:lnTo>
                  <a:lnTo>
                    <a:pt x="1487" y="280"/>
                  </a:lnTo>
                  <a:lnTo>
                    <a:pt x="1439" y="285"/>
                  </a:lnTo>
                  <a:lnTo>
                    <a:pt x="1390" y="291"/>
                  </a:lnTo>
                  <a:lnTo>
                    <a:pt x="1338" y="300"/>
                  </a:lnTo>
                  <a:lnTo>
                    <a:pt x="1283" y="311"/>
                  </a:lnTo>
                  <a:lnTo>
                    <a:pt x="1226" y="324"/>
                  </a:lnTo>
                  <a:lnTo>
                    <a:pt x="1168" y="340"/>
                  </a:lnTo>
                  <a:lnTo>
                    <a:pt x="1108" y="358"/>
                  </a:lnTo>
                  <a:lnTo>
                    <a:pt x="1047" y="381"/>
                  </a:lnTo>
                  <a:lnTo>
                    <a:pt x="985" y="405"/>
                  </a:lnTo>
                  <a:lnTo>
                    <a:pt x="923" y="435"/>
                  </a:lnTo>
                  <a:lnTo>
                    <a:pt x="861" y="469"/>
                  </a:lnTo>
                  <a:lnTo>
                    <a:pt x="799" y="505"/>
                  </a:lnTo>
                  <a:lnTo>
                    <a:pt x="737" y="547"/>
                  </a:lnTo>
                  <a:lnTo>
                    <a:pt x="675" y="593"/>
                  </a:lnTo>
                  <a:lnTo>
                    <a:pt x="615" y="644"/>
                  </a:lnTo>
                  <a:lnTo>
                    <a:pt x="555" y="699"/>
                  </a:lnTo>
                  <a:lnTo>
                    <a:pt x="497" y="760"/>
                  </a:lnTo>
                  <a:lnTo>
                    <a:pt x="441" y="827"/>
                  </a:lnTo>
                  <a:lnTo>
                    <a:pt x="388" y="900"/>
                  </a:lnTo>
                  <a:lnTo>
                    <a:pt x="337" y="979"/>
                  </a:lnTo>
                  <a:lnTo>
                    <a:pt x="287" y="1063"/>
                  </a:lnTo>
                  <a:lnTo>
                    <a:pt x="241" y="1155"/>
                  </a:lnTo>
                  <a:lnTo>
                    <a:pt x="0" y="103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6192720" y="5230800"/>
              <a:ext cx="1231920" cy="542880"/>
            </a:xfrm>
            <a:custGeom>
              <a:avLst/>
              <a:gdLst/>
              <a:ahLst/>
              <a:rect l="l" t="t" r="r" b="b"/>
              <a:pathLst>
                <a:path w="3105" h="1366">
                  <a:moveTo>
                    <a:pt x="1248" y="37"/>
                  </a:moveTo>
                  <a:lnTo>
                    <a:pt x="1179" y="57"/>
                  </a:lnTo>
                  <a:lnTo>
                    <a:pt x="1111" y="79"/>
                  </a:lnTo>
                  <a:lnTo>
                    <a:pt x="1046" y="104"/>
                  </a:lnTo>
                  <a:lnTo>
                    <a:pt x="982" y="133"/>
                  </a:lnTo>
                  <a:lnTo>
                    <a:pt x="920" y="164"/>
                  </a:lnTo>
                  <a:lnTo>
                    <a:pt x="860" y="197"/>
                  </a:lnTo>
                  <a:lnTo>
                    <a:pt x="802" y="232"/>
                  </a:lnTo>
                  <a:lnTo>
                    <a:pt x="745" y="269"/>
                  </a:lnTo>
                  <a:lnTo>
                    <a:pt x="690" y="307"/>
                  </a:lnTo>
                  <a:lnTo>
                    <a:pt x="637" y="347"/>
                  </a:lnTo>
                  <a:lnTo>
                    <a:pt x="586" y="388"/>
                  </a:lnTo>
                  <a:lnTo>
                    <a:pt x="537" y="430"/>
                  </a:lnTo>
                  <a:lnTo>
                    <a:pt x="490" y="472"/>
                  </a:lnTo>
                  <a:lnTo>
                    <a:pt x="445" y="515"/>
                  </a:lnTo>
                  <a:lnTo>
                    <a:pt x="402" y="557"/>
                  </a:lnTo>
                  <a:lnTo>
                    <a:pt x="362" y="599"/>
                  </a:lnTo>
                  <a:lnTo>
                    <a:pt x="322" y="641"/>
                  </a:lnTo>
                  <a:lnTo>
                    <a:pt x="286" y="682"/>
                  </a:lnTo>
                  <a:lnTo>
                    <a:pt x="252" y="723"/>
                  </a:lnTo>
                  <a:lnTo>
                    <a:pt x="221" y="762"/>
                  </a:lnTo>
                  <a:lnTo>
                    <a:pt x="190" y="800"/>
                  </a:lnTo>
                  <a:lnTo>
                    <a:pt x="162" y="836"/>
                  </a:lnTo>
                  <a:lnTo>
                    <a:pt x="137" y="869"/>
                  </a:lnTo>
                  <a:lnTo>
                    <a:pt x="114" y="902"/>
                  </a:lnTo>
                  <a:lnTo>
                    <a:pt x="75" y="958"/>
                  </a:lnTo>
                  <a:lnTo>
                    <a:pt x="47" y="1002"/>
                  </a:lnTo>
                  <a:lnTo>
                    <a:pt x="27" y="1033"/>
                  </a:lnTo>
                  <a:lnTo>
                    <a:pt x="18" y="1048"/>
                  </a:lnTo>
                  <a:lnTo>
                    <a:pt x="0" y="1080"/>
                  </a:lnTo>
                  <a:lnTo>
                    <a:pt x="308" y="1239"/>
                  </a:lnTo>
                  <a:lnTo>
                    <a:pt x="322" y="1206"/>
                  </a:lnTo>
                  <a:lnTo>
                    <a:pt x="367" y="1118"/>
                  </a:lnTo>
                  <a:lnTo>
                    <a:pt x="414" y="1036"/>
                  </a:lnTo>
                  <a:lnTo>
                    <a:pt x="464" y="960"/>
                  </a:lnTo>
                  <a:lnTo>
                    <a:pt x="516" y="891"/>
                  </a:lnTo>
                  <a:lnTo>
                    <a:pt x="570" y="825"/>
                  </a:lnTo>
                  <a:lnTo>
                    <a:pt x="625" y="766"/>
                  </a:lnTo>
                  <a:lnTo>
                    <a:pt x="684" y="712"/>
                  </a:lnTo>
                  <a:lnTo>
                    <a:pt x="742" y="662"/>
                  </a:lnTo>
                  <a:lnTo>
                    <a:pt x="802" y="618"/>
                  </a:lnTo>
                  <a:lnTo>
                    <a:pt x="861" y="577"/>
                  </a:lnTo>
                  <a:lnTo>
                    <a:pt x="922" y="541"/>
                  </a:lnTo>
                  <a:lnTo>
                    <a:pt x="983" y="508"/>
                  </a:lnTo>
                  <a:lnTo>
                    <a:pt x="1043" y="480"/>
                  </a:lnTo>
                  <a:lnTo>
                    <a:pt x="1102" y="455"/>
                  </a:lnTo>
                  <a:lnTo>
                    <a:pt x="1162" y="433"/>
                  </a:lnTo>
                  <a:lnTo>
                    <a:pt x="1220" y="414"/>
                  </a:lnTo>
                  <a:lnTo>
                    <a:pt x="1277" y="398"/>
                  </a:lnTo>
                  <a:lnTo>
                    <a:pt x="1332" y="384"/>
                  </a:lnTo>
                  <a:lnTo>
                    <a:pt x="1385" y="374"/>
                  </a:lnTo>
                  <a:lnTo>
                    <a:pt x="1436" y="366"/>
                  </a:lnTo>
                  <a:lnTo>
                    <a:pt x="1486" y="358"/>
                  </a:lnTo>
                  <a:lnTo>
                    <a:pt x="1532" y="353"/>
                  </a:lnTo>
                  <a:lnTo>
                    <a:pt x="1575" y="351"/>
                  </a:lnTo>
                  <a:lnTo>
                    <a:pt x="1615" y="348"/>
                  </a:lnTo>
                  <a:lnTo>
                    <a:pt x="1651" y="347"/>
                  </a:lnTo>
                  <a:lnTo>
                    <a:pt x="1683" y="347"/>
                  </a:lnTo>
                  <a:lnTo>
                    <a:pt x="1712" y="348"/>
                  </a:lnTo>
                  <a:lnTo>
                    <a:pt x="1736" y="348"/>
                  </a:lnTo>
                  <a:lnTo>
                    <a:pt x="1770" y="351"/>
                  </a:lnTo>
                  <a:lnTo>
                    <a:pt x="1783" y="352"/>
                  </a:lnTo>
                  <a:lnTo>
                    <a:pt x="1830" y="346"/>
                  </a:lnTo>
                  <a:lnTo>
                    <a:pt x="1876" y="346"/>
                  </a:lnTo>
                  <a:lnTo>
                    <a:pt x="1924" y="352"/>
                  </a:lnTo>
                  <a:lnTo>
                    <a:pt x="1971" y="363"/>
                  </a:lnTo>
                  <a:lnTo>
                    <a:pt x="2019" y="379"/>
                  </a:lnTo>
                  <a:lnTo>
                    <a:pt x="2067" y="402"/>
                  </a:lnTo>
                  <a:lnTo>
                    <a:pt x="2114" y="428"/>
                  </a:lnTo>
                  <a:lnTo>
                    <a:pt x="2161" y="458"/>
                  </a:lnTo>
                  <a:lnTo>
                    <a:pt x="2209" y="491"/>
                  </a:lnTo>
                  <a:lnTo>
                    <a:pt x="2255" y="528"/>
                  </a:lnTo>
                  <a:lnTo>
                    <a:pt x="2301" y="567"/>
                  </a:lnTo>
                  <a:lnTo>
                    <a:pt x="2345" y="609"/>
                  </a:lnTo>
                  <a:lnTo>
                    <a:pt x="2389" y="654"/>
                  </a:lnTo>
                  <a:lnTo>
                    <a:pt x="2431" y="698"/>
                  </a:lnTo>
                  <a:lnTo>
                    <a:pt x="2473" y="745"/>
                  </a:lnTo>
                  <a:lnTo>
                    <a:pt x="2514" y="793"/>
                  </a:lnTo>
                  <a:lnTo>
                    <a:pt x="2553" y="840"/>
                  </a:lnTo>
                  <a:lnTo>
                    <a:pt x="2590" y="888"/>
                  </a:lnTo>
                  <a:lnTo>
                    <a:pt x="2626" y="935"/>
                  </a:lnTo>
                  <a:lnTo>
                    <a:pt x="2659" y="981"/>
                  </a:lnTo>
                  <a:lnTo>
                    <a:pt x="2722" y="1069"/>
                  </a:lnTo>
                  <a:lnTo>
                    <a:pt x="2775" y="1150"/>
                  </a:lnTo>
                  <a:lnTo>
                    <a:pt x="2818" y="1218"/>
                  </a:lnTo>
                  <a:lnTo>
                    <a:pt x="2851" y="1271"/>
                  </a:lnTo>
                  <a:lnTo>
                    <a:pt x="2872" y="1306"/>
                  </a:lnTo>
                  <a:lnTo>
                    <a:pt x="2879" y="1320"/>
                  </a:lnTo>
                  <a:lnTo>
                    <a:pt x="2888" y="1335"/>
                  </a:lnTo>
                  <a:lnTo>
                    <a:pt x="3099" y="1366"/>
                  </a:lnTo>
                  <a:lnTo>
                    <a:pt x="3104" y="1330"/>
                  </a:lnTo>
                  <a:lnTo>
                    <a:pt x="3105" y="1299"/>
                  </a:lnTo>
                  <a:lnTo>
                    <a:pt x="3103" y="1265"/>
                  </a:lnTo>
                  <a:lnTo>
                    <a:pt x="3095" y="1229"/>
                  </a:lnTo>
                  <a:lnTo>
                    <a:pt x="3084" y="1193"/>
                  </a:lnTo>
                  <a:lnTo>
                    <a:pt x="3070" y="1155"/>
                  </a:lnTo>
                  <a:lnTo>
                    <a:pt x="3052" y="1115"/>
                  </a:lnTo>
                  <a:lnTo>
                    <a:pt x="3032" y="1074"/>
                  </a:lnTo>
                  <a:lnTo>
                    <a:pt x="3008" y="1033"/>
                  </a:lnTo>
                  <a:lnTo>
                    <a:pt x="2982" y="991"/>
                  </a:lnTo>
                  <a:lnTo>
                    <a:pt x="2954" y="949"/>
                  </a:lnTo>
                  <a:lnTo>
                    <a:pt x="2924" y="905"/>
                  </a:lnTo>
                  <a:lnTo>
                    <a:pt x="2893" y="862"/>
                  </a:lnTo>
                  <a:lnTo>
                    <a:pt x="2859" y="819"/>
                  </a:lnTo>
                  <a:lnTo>
                    <a:pt x="2825" y="775"/>
                  </a:lnTo>
                  <a:lnTo>
                    <a:pt x="2790" y="733"/>
                  </a:lnTo>
                  <a:lnTo>
                    <a:pt x="2754" y="691"/>
                  </a:lnTo>
                  <a:lnTo>
                    <a:pt x="2681" y="608"/>
                  </a:lnTo>
                  <a:lnTo>
                    <a:pt x="2609" y="531"/>
                  </a:lnTo>
                  <a:lnTo>
                    <a:pt x="2539" y="459"/>
                  </a:lnTo>
                  <a:lnTo>
                    <a:pt x="2474" y="393"/>
                  </a:lnTo>
                  <a:lnTo>
                    <a:pt x="2417" y="337"/>
                  </a:lnTo>
                  <a:lnTo>
                    <a:pt x="2369" y="291"/>
                  </a:lnTo>
                  <a:lnTo>
                    <a:pt x="2332" y="257"/>
                  </a:lnTo>
                  <a:lnTo>
                    <a:pt x="2308" y="235"/>
                  </a:lnTo>
                  <a:lnTo>
                    <a:pt x="2276" y="214"/>
                  </a:lnTo>
                  <a:lnTo>
                    <a:pt x="2242" y="196"/>
                  </a:lnTo>
                  <a:lnTo>
                    <a:pt x="2209" y="177"/>
                  </a:lnTo>
                  <a:lnTo>
                    <a:pt x="2175" y="160"/>
                  </a:lnTo>
                  <a:lnTo>
                    <a:pt x="2143" y="144"/>
                  </a:lnTo>
                  <a:lnTo>
                    <a:pt x="2109" y="128"/>
                  </a:lnTo>
                  <a:lnTo>
                    <a:pt x="2076" y="113"/>
                  </a:lnTo>
                  <a:lnTo>
                    <a:pt x="2042" y="99"/>
                  </a:lnTo>
                  <a:lnTo>
                    <a:pt x="2010" y="87"/>
                  </a:lnTo>
                  <a:lnTo>
                    <a:pt x="1976" y="74"/>
                  </a:lnTo>
                  <a:lnTo>
                    <a:pt x="1943" y="63"/>
                  </a:lnTo>
                  <a:lnTo>
                    <a:pt x="1911" y="53"/>
                  </a:lnTo>
                  <a:lnTo>
                    <a:pt x="1877" y="43"/>
                  </a:lnTo>
                  <a:lnTo>
                    <a:pt x="1844" y="34"/>
                  </a:lnTo>
                  <a:lnTo>
                    <a:pt x="1810" y="27"/>
                  </a:lnTo>
                  <a:lnTo>
                    <a:pt x="1778" y="21"/>
                  </a:lnTo>
                  <a:lnTo>
                    <a:pt x="1744" y="15"/>
                  </a:lnTo>
                  <a:lnTo>
                    <a:pt x="1711" y="10"/>
                  </a:lnTo>
                  <a:lnTo>
                    <a:pt x="1677" y="6"/>
                  </a:lnTo>
                  <a:lnTo>
                    <a:pt x="1645" y="3"/>
                  </a:lnTo>
                  <a:lnTo>
                    <a:pt x="1611" y="1"/>
                  </a:lnTo>
                  <a:lnTo>
                    <a:pt x="1578" y="0"/>
                  </a:lnTo>
                  <a:lnTo>
                    <a:pt x="1546" y="0"/>
                  </a:lnTo>
                  <a:lnTo>
                    <a:pt x="1512" y="0"/>
                  </a:lnTo>
                  <a:lnTo>
                    <a:pt x="1479" y="2"/>
                  </a:lnTo>
                  <a:lnTo>
                    <a:pt x="1446" y="5"/>
                  </a:lnTo>
                  <a:lnTo>
                    <a:pt x="1413" y="7"/>
                  </a:lnTo>
                  <a:lnTo>
                    <a:pt x="1379" y="12"/>
                  </a:lnTo>
                  <a:lnTo>
                    <a:pt x="1347" y="17"/>
                  </a:lnTo>
                  <a:lnTo>
                    <a:pt x="1313" y="23"/>
                  </a:lnTo>
                  <a:lnTo>
                    <a:pt x="1281" y="30"/>
                  </a:lnTo>
                  <a:lnTo>
                    <a:pt x="1248" y="37"/>
                  </a:lnTo>
                  <a:close/>
                  <a:moveTo>
                    <a:pt x="1265" y="106"/>
                  </a:moveTo>
                  <a:lnTo>
                    <a:pt x="1296" y="99"/>
                  </a:lnTo>
                  <a:lnTo>
                    <a:pt x="1327" y="93"/>
                  </a:lnTo>
                  <a:lnTo>
                    <a:pt x="1358" y="87"/>
                  </a:lnTo>
                  <a:lnTo>
                    <a:pt x="1390" y="82"/>
                  </a:lnTo>
                  <a:lnTo>
                    <a:pt x="1421" y="78"/>
                  </a:lnTo>
                  <a:lnTo>
                    <a:pt x="1452" y="75"/>
                  </a:lnTo>
                  <a:lnTo>
                    <a:pt x="1483" y="73"/>
                  </a:lnTo>
                  <a:lnTo>
                    <a:pt x="1515" y="72"/>
                  </a:lnTo>
                  <a:lnTo>
                    <a:pt x="1547" y="70"/>
                  </a:lnTo>
                  <a:lnTo>
                    <a:pt x="1578" y="72"/>
                  </a:lnTo>
                  <a:lnTo>
                    <a:pt x="1609" y="73"/>
                  </a:lnTo>
                  <a:lnTo>
                    <a:pt x="1640" y="74"/>
                  </a:lnTo>
                  <a:lnTo>
                    <a:pt x="1671" y="78"/>
                  </a:lnTo>
                  <a:lnTo>
                    <a:pt x="1703" y="80"/>
                  </a:lnTo>
                  <a:lnTo>
                    <a:pt x="1734" y="85"/>
                  </a:lnTo>
                  <a:lnTo>
                    <a:pt x="1765" y="90"/>
                  </a:lnTo>
                  <a:lnTo>
                    <a:pt x="1796" y="97"/>
                  </a:lnTo>
                  <a:lnTo>
                    <a:pt x="1829" y="104"/>
                  </a:lnTo>
                  <a:lnTo>
                    <a:pt x="1860" y="113"/>
                  </a:lnTo>
                  <a:lnTo>
                    <a:pt x="1891" y="121"/>
                  </a:lnTo>
                  <a:lnTo>
                    <a:pt x="1922" y="130"/>
                  </a:lnTo>
                  <a:lnTo>
                    <a:pt x="1954" y="141"/>
                  </a:lnTo>
                  <a:lnTo>
                    <a:pt x="1985" y="152"/>
                  </a:lnTo>
                  <a:lnTo>
                    <a:pt x="2016" y="165"/>
                  </a:lnTo>
                  <a:lnTo>
                    <a:pt x="2047" y="177"/>
                  </a:lnTo>
                  <a:lnTo>
                    <a:pt x="2078" y="191"/>
                  </a:lnTo>
                  <a:lnTo>
                    <a:pt x="2109" y="206"/>
                  </a:lnTo>
                  <a:lnTo>
                    <a:pt x="2142" y="222"/>
                  </a:lnTo>
                  <a:lnTo>
                    <a:pt x="2173" y="238"/>
                  </a:lnTo>
                  <a:lnTo>
                    <a:pt x="2204" y="255"/>
                  </a:lnTo>
                  <a:lnTo>
                    <a:pt x="2235" y="273"/>
                  </a:lnTo>
                  <a:lnTo>
                    <a:pt x="2266" y="291"/>
                  </a:lnTo>
                  <a:lnTo>
                    <a:pt x="2308" y="331"/>
                  </a:lnTo>
                  <a:lnTo>
                    <a:pt x="2358" y="378"/>
                  </a:lnTo>
                  <a:lnTo>
                    <a:pt x="2412" y="433"/>
                  </a:lnTo>
                  <a:lnTo>
                    <a:pt x="2471" y="491"/>
                  </a:lnTo>
                  <a:lnTo>
                    <a:pt x="2532" y="554"/>
                  </a:lnTo>
                  <a:lnTo>
                    <a:pt x="2594" y="621"/>
                  </a:lnTo>
                  <a:lnTo>
                    <a:pt x="2657" y="691"/>
                  </a:lnTo>
                  <a:lnTo>
                    <a:pt x="2718" y="763"/>
                  </a:lnTo>
                  <a:lnTo>
                    <a:pt x="2777" y="835"/>
                  </a:lnTo>
                  <a:lnTo>
                    <a:pt x="2833" y="907"/>
                  </a:lnTo>
                  <a:lnTo>
                    <a:pt x="2859" y="941"/>
                  </a:lnTo>
                  <a:lnTo>
                    <a:pt x="2885" y="977"/>
                  </a:lnTo>
                  <a:lnTo>
                    <a:pt x="2909" y="1012"/>
                  </a:lnTo>
                  <a:lnTo>
                    <a:pt x="2930" y="1046"/>
                  </a:lnTo>
                  <a:lnTo>
                    <a:pt x="2951" y="1079"/>
                  </a:lnTo>
                  <a:lnTo>
                    <a:pt x="2969" y="1113"/>
                  </a:lnTo>
                  <a:lnTo>
                    <a:pt x="2985" y="1144"/>
                  </a:lnTo>
                  <a:lnTo>
                    <a:pt x="3000" y="1175"/>
                  </a:lnTo>
                  <a:lnTo>
                    <a:pt x="3011" y="1203"/>
                  </a:lnTo>
                  <a:lnTo>
                    <a:pt x="3020" y="1232"/>
                  </a:lnTo>
                  <a:lnTo>
                    <a:pt x="3026" y="1259"/>
                  </a:lnTo>
                  <a:lnTo>
                    <a:pt x="3029" y="1284"/>
                  </a:lnTo>
                  <a:lnTo>
                    <a:pt x="3001" y="1279"/>
                  </a:lnTo>
                  <a:lnTo>
                    <a:pt x="2974" y="1275"/>
                  </a:lnTo>
                  <a:lnTo>
                    <a:pt x="2950" y="1273"/>
                  </a:lnTo>
                  <a:lnTo>
                    <a:pt x="2933" y="1270"/>
                  </a:lnTo>
                  <a:lnTo>
                    <a:pt x="2915" y="1239"/>
                  </a:lnTo>
                  <a:lnTo>
                    <a:pt x="2887" y="1192"/>
                  </a:lnTo>
                  <a:lnTo>
                    <a:pt x="2848" y="1129"/>
                  </a:lnTo>
                  <a:lnTo>
                    <a:pt x="2800" y="1054"/>
                  </a:lnTo>
                  <a:lnTo>
                    <a:pt x="2771" y="1013"/>
                  </a:lnTo>
                  <a:lnTo>
                    <a:pt x="2741" y="970"/>
                  </a:lnTo>
                  <a:lnTo>
                    <a:pt x="2710" y="927"/>
                  </a:lnTo>
                  <a:lnTo>
                    <a:pt x="2677" y="881"/>
                  </a:lnTo>
                  <a:lnTo>
                    <a:pt x="2642" y="833"/>
                  </a:lnTo>
                  <a:lnTo>
                    <a:pt x="2605" y="788"/>
                  </a:lnTo>
                  <a:lnTo>
                    <a:pt x="2566" y="740"/>
                  </a:lnTo>
                  <a:lnTo>
                    <a:pt x="2527" y="693"/>
                  </a:lnTo>
                  <a:lnTo>
                    <a:pt x="2486" y="647"/>
                  </a:lnTo>
                  <a:lnTo>
                    <a:pt x="2443" y="603"/>
                  </a:lnTo>
                  <a:lnTo>
                    <a:pt x="2399" y="559"/>
                  </a:lnTo>
                  <a:lnTo>
                    <a:pt x="2355" y="517"/>
                  </a:lnTo>
                  <a:lnTo>
                    <a:pt x="2309" y="477"/>
                  </a:lnTo>
                  <a:lnTo>
                    <a:pt x="2263" y="440"/>
                  </a:lnTo>
                  <a:lnTo>
                    <a:pt x="2216" y="405"/>
                  </a:lnTo>
                  <a:lnTo>
                    <a:pt x="2169" y="373"/>
                  </a:lnTo>
                  <a:lnTo>
                    <a:pt x="2120" y="346"/>
                  </a:lnTo>
                  <a:lnTo>
                    <a:pt x="2072" y="322"/>
                  </a:lnTo>
                  <a:lnTo>
                    <a:pt x="2024" y="302"/>
                  </a:lnTo>
                  <a:lnTo>
                    <a:pt x="1975" y="288"/>
                  </a:lnTo>
                  <a:lnTo>
                    <a:pt x="1926" y="278"/>
                  </a:lnTo>
                  <a:lnTo>
                    <a:pt x="1877" y="274"/>
                  </a:lnTo>
                  <a:lnTo>
                    <a:pt x="1829" y="275"/>
                  </a:lnTo>
                  <a:lnTo>
                    <a:pt x="1780" y="281"/>
                  </a:lnTo>
                  <a:lnTo>
                    <a:pt x="1769" y="280"/>
                  </a:lnTo>
                  <a:lnTo>
                    <a:pt x="1736" y="278"/>
                  </a:lnTo>
                  <a:lnTo>
                    <a:pt x="1712" y="278"/>
                  </a:lnTo>
                  <a:lnTo>
                    <a:pt x="1683" y="276"/>
                  </a:lnTo>
                  <a:lnTo>
                    <a:pt x="1651" y="276"/>
                  </a:lnTo>
                  <a:lnTo>
                    <a:pt x="1614" y="278"/>
                  </a:lnTo>
                  <a:lnTo>
                    <a:pt x="1574" y="280"/>
                  </a:lnTo>
                  <a:lnTo>
                    <a:pt x="1529" y="283"/>
                  </a:lnTo>
                  <a:lnTo>
                    <a:pt x="1483" y="288"/>
                  </a:lnTo>
                  <a:lnTo>
                    <a:pt x="1434" y="295"/>
                  </a:lnTo>
                  <a:lnTo>
                    <a:pt x="1380" y="304"/>
                  </a:lnTo>
                  <a:lnTo>
                    <a:pt x="1326" y="315"/>
                  </a:lnTo>
                  <a:lnTo>
                    <a:pt x="1270" y="327"/>
                  </a:lnTo>
                  <a:lnTo>
                    <a:pt x="1212" y="343"/>
                  </a:lnTo>
                  <a:lnTo>
                    <a:pt x="1152" y="362"/>
                  </a:lnTo>
                  <a:lnTo>
                    <a:pt x="1091" y="384"/>
                  </a:lnTo>
                  <a:lnTo>
                    <a:pt x="1029" y="410"/>
                  </a:lnTo>
                  <a:lnTo>
                    <a:pt x="967" y="439"/>
                  </a:lnTo>
                  <a:lnTo>
                    <a:pt x="904" y="471"/>
                  </a:lnTo>
                  <a:lnTo>
                    <a:pt x="841" y="508"/>
                  </a:lnTo>
                  <a:lnTo>
                    <a:pt x="779" y="549"/>
                  </a:lnTo>
                  <a:lnTo>
                    <a:pt x="717" y="594"/>
                  </a:lnTo>
                  <a:lnTo>
                    <a:pt x="656" y="644"/>
                  </a:lnTo>
                  <a:lnTo>
                    <a:pt x="596" y="700"/>
                  </a:lnTo>
                  <a:lnTo>
                    <a:pt x="537" y="759"/>
                  </a:lnTo>
                  <a:lnTo>
                    <a:pt x="481" y="825"/>
                  </a:lnTo>
                  <a:lnTo>
                    <a:pt x="427" y="896"/>
                  </a:lnTo>
                  <a:lnTo>
                    <a:pt x="373" y="972"/>
                  </a:lnTo>
                  <a:lnTo>
                    <a:pt x="324" y="1054"/>
                  </a:lnTo>
                  <a:lnTo>
                    <a:pt x="276" y="1144"/>
                  </a:lnTo>
                  <a:lnTo>
                    <a:pt x="239" y="1124"/>
                  </a:lnTo>
                  <a:lnTo>
                    <a:pt x="190" y="1098"/>
                  </a:lnTo>
                  <a:lnTo>
                    <a:pt x="140" y="1073"/>
                  </a:lnTo>
                  <a:lnTo>
                    <a:pt x="100" y="1052"/>
                  </a:lnTo>
                  <a:lnTo>
                    <a:pt x="121" y="1020"/>
                  </a:lnTo>
                  <a:lnTo>
                    <a:pt x="150" y="976"/>
                  </a:lnTo>
                  <a:lnTo>
                    <a:pt x="187" y="925"/>
                  </a:lnTo>
                  <a:lnTo>
                    <a:pt x="231" y="866"/>
                  </a:lnTo>
                  <a:lnTo>
                    <a:pt x="255" y="833"/>
                  </a:lnTo>
                  <a:lnTo>
                    <a:pt x="281" y="801"/>
                  </a:lnTo>
                  <a:lnTo>
                    <a:pt x="310" y="766"/>
                  </a:lnTo>
                  <a:lnTo>
                    <a:pt x="341" y="732"/>
                  </a:lnTo>
                  <a:lnTo>
                    <a:pt x="372" y="696"/>
                  </a:lnTo>
                  <a:lnTo>
                    <a:pt x="406" y="659"/>
                  </a:lnTo>
                  <a:lnTo>
                    <a:pt x="440" y="623"/>
                  </a:lnTo>
                  <a:lnTo>
                    <a:pt x="478" y="585"/>
                  </a:lnTo>
                  <a:lnTo>
                    <a:pt x="516" y="548"/>
                  </a:lnTo>
                  <a:lnTo>
                    <a:pt x="556" y="511"/>
                  </a:lnTo>
                  <a:lnTo>
                    <a:pt x="598" y="474"/>
                  </a:lnTo>
                  <a:lnTo>
                    <a:pt x="640" y="438"/>
                  </a:lnTo>
                  <a:lnTo>
                    <a:pt x="685" y="402"/>
                  </a:lnTo>
                  <a:lnTo>
                    <a:pt x="731" y="367"/>
                  </a:lnTo>
                  <a:lnTo>
                    <a:pt x="778" y="333"/>
                  </a:lnTo>
                  <a:lnTo>
                    <a:pt x="828" y="301"/>
                  </a:lnTo>
                  <a:lnTo>
                    <a:pt x="878" y="270"/>
                  </a:lnTo>
                  <a:lnTo>
                    <a:pt x="928" y="240"/>
                  </a:lnTo>
                  <a:lnTo>
                    <a:pt x="982" y="213"/>
                  </a:lnTo>
                  <a:lnTo>
                    <a:pt x="1036" y="187"/>
                  </a:lnTo>
                  <a:lnTo>
                    <a:pt x="1091" y="164"/>
                  </a:lnTo>
                  <a:lnTo>
                    <a:pt x="1148" y="141"/>
                  </a:lnTo>
                  <a:lnTo>
                    <a:pt x="1207" y="123"/>
                  </a:lnTo>
                  <a:lnTo>
                    <a:pt x="1265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6240600" y="5332320"/>
              <a:ext cx="1157040" cy="495360"/>
            </a:xfrm>
            <a:custGeom>
              <a:avLst/>
              <a:gdLst/>
              <a:ahLst/>
              <a:rect l="l" t="t" r="r" b="b"/>
              <a:pathLst>
                <a:path w="2913" h="1250">
                  <a:moveTo>
                    <a:pt x="0" y="907"/>
                  </a:moveTo>
                  <a:lnTo>
                    <a:pt x="11" y="891"/>
                  </a:lnTo>
                  <a:lnTo>
                    <a:pt x="40" y="845"/>
                  </a:lnTo>
                  <a:lnTo>
                    <a:pt x="64" y="814"/>
                  </a:lnTo>
                  <a:lnTo>
                    <a:pt x="91" y="777"/>
                  </a:lnTo>
                  <a:lnTo>
                    <a:pt x="124" y="735"/>
                  </a:lnTo>
                  <a:lnTo>
                    <a:pt x="161" y="690"/>
                  </a:lnTo>
                  <a:lnTo>
                    <a:pt x="202" y="642"/>
                  </a:lnTo>
                  <a:lnTo>
                    <a:pt x="248" y="591"/>
                  </a:lnTo>
                  <a:lnTo>
                    <a:pt x="298" y="538"/>
                  </a:lnTo>
                  <a:lnTo>
                    <a:pt x="352" y="484"/>
                  </a:lnTo>
                  <a:lnTo>
                    <a:pt x="411" y="430"/>
                  </a:lnTo>
                  <a:lnTo>
                    <a:pt x="474" y="376"/>
                  </a:lnTo>
                  <a:lnTo>
                    <a:pt x="540" y="323"/>
                  </a:lnTo>
                  <a:lnTo>
                    <a:pt x="610" y="272"/>
                  </a:lnTo>
                  <a:lnTo>
                    <a:pt x="685" y="222"/>
                  </a:lnTo>
                  <a:lnTo>
                    <a:pt x="763" y="178"/>
                  </a:lnTo>
                  <a:lnTo>
                    <a:pt x="845" y="136"/>
                  </a:lnTo>
                  <a:lnTo>
                    <a:pt x="930" y="97"/>
                  </a:lnTo>
                  <a:lnTo>
                    <a:pt x="1019" y="65"/>
                  </a:lnTo>
                  <a:lnTo>
                    <a:pt x="1111" y="39"/>
                  </a:lnTo>
                  <a:lnTo>
                    <a:pt x="1207" y="18"/>
                  </a:lnTo>
                  <a:lnTo>
                    <a:pt x="1305" y="5"/>
                  </a:lnTo>
                  <a:lnTo>
                    <a:pt x="1406" y="0"/>
                  </a:lnTo>
                  <a:lnTo>
                    <a:pt x="1511" y="3"/>
                  </a:lnTo>
                  <a:lnTo>
                    <a:pt x="1619" y="15"/>
                  </a:lnTo>
                  <a:lnTo>
                    <a:pt x="1729" y="38"/>
                  </a:lnTo>
                  <a:lnTo>
                    <a:pt x="1842" y="71"/>
                  </a:lnTo>
                  <a:lnTo>
                    <a:pt x="1958" y="116"/>
                  </a:lnTo>
                  <a:lnTo>
                    <a:pt x="2076" y="172"/>
                  </a:lnTo>
                  <a:lnTo>
                    <a:pt x="2196" y="241"/>
                  </a:lnTo>
                  <a:lnTo>
                    <a:pt x="2228" y="265"/>
                  </a:lnTo>
                  <a:lnTo>
                    <a:pt x="2314" y="332"/>
                  </a:lnTo>
                  <a:lnTo>
                    <a:pt x="2370" y="378"/>
                  </a:lnTo>
                  <a:lnTo>
                    <a:pt x="2433" y="431"/>
                  </a:lnTo>
                  <a:lnTo>
                    <a:pt x="2500" y="490"/>
                  </a:lnTo>
                  <a:lnTo>
                    <a:pt x="2569" y="555"/>
                  </a:lnTo>
                  <a:lnTo>
                    <a:pt x="2603" y="588"/>
                  </a:lnTo>
                  <a:lnTo>
                    <a:pt x="2637" y="623"/>
                  </a:lnTo>
                  <a:lnTo>
                    <a:pt x="2671" y="658"/>
                  </a:lnTo>
                  <a:lnTo>
                    <a:pt x="2703" y="693"/>
                  </a:lnTo>
                  <a:lnTo>
                    <a:pt x="2734" y="729"/>
                  </a:lnTo>
                  <a:lnTo>
                    <a:pt x="2764" y="765"/>
                  </a:lnTo>
                  <a:lnTo>
                    <a:pt x="2791" y="801"/>
                  </a:lnTo>
                  <a:lnTo>
                    <a:pt x="2817" y="837"/>
                  </a:lnTo>
                  <a:lnTo>
                    <a:pt x="2839" y="873"/>
                  </a:lnTo>
                  <a:lnTo>
                    <a:pt x="2861" y="909"/>
                  </a:lnTo>
                  <a:lnTo>
                    <a:pt x="2878" y="943"/>
                  </a:lnTo>
                  <a:lnTo>
                    <a:pt x="2893" y="977"/>
                  </a:lnTo>
                  <a:lnTo>
                    <a:pt x="2903" y="1010"/>
                  </a:lnTo>
                  <a:lnTo>
                    <a:pt x="2910" y="1043"/>
                  </a:lnTo>
                  <a:lnTo>
                    <a:pt x="2913" y="1074"/>
                  </a:lnTo>
                  <a:lnTo>
                    <a:pt x="2911" y="1105"/>
                  </a:lnTo>
                  <a:lnTo>
                    <a:pt x="2847" y="1250"/>
                  </a:lnTo>
                  <a:lnTo>
                    <a:pt x="2839" y="1237"/>
                  </a:lnTo>
                  <a:lnTo>
                    <a:pt x="2820" y="1203"/>
                  </a:lnTo>
                  <a:lnTo>
                    <a:pt x="2787" y="1149"/>
                  </a:lnTo>
                  <a:lnTo>
                    <a:pt x="2744" y="1080"/>
                  </a:lnTo>
                  <a:lnTo>
                    <a:pt x="2689" y="998"/>
                  </a:lnTo>
                  <a:lnTo>
                    <a:pt x="2626" y="907"/>
                  </a:lnTo>
                  <a:lnTo>
                    <a:pt x="2592" y="860"/>
                  </a:lnTo>
                  <a:lnTo>
                    <a:pt x="2555" y="812"/>
                  </a:lnTo>
                  <a:lnTo>
                    <a:pt x="2517" y="763"/>
                  </a:lnTo>
                  <a:lnTo>
                    <a:pt x="2477" y="714"/>
                  </a:lnTo>
                  <a:lnTo>
                    <a:pt x="2436" y="665"/>
                  </a:lnTo>
                  <a:lnTo>
                    <a:pt x="2394" y="618"/>
                  </a:lnTo>
                  <a:lnTo>
                    <a:pt x="2349" y="571"/>
                  </a:lnTo>
                  <a:lnTo>
                    <a:pt x="2304" y="526"/>
                  </a:lnTo>
                  <a:lnTo>
                    <a:pt x="2258" y="483"/>
                  </a:lnTo>
                  <a:lnTo>
                    <a:pt x="2211" y="442"/>
                  </a:lnTo>
                  <a:lnTo>
                    <a:pt x="2164" y="405"/>
                  </a:lnTo>
                  <a:lnTo>
                    <a:pt x="2115" y="370"/>
                  </a:lnTo>
                  <a:lnTo>
                    <a:pt x="2067" y="339"/>
                  </a:lnTo>
                  <a:lnTo>
                    <a:pt x="2017" y="313"/>
                  </a:lnTo>
                  <a:lnTo>
                    <a:pt x="1969" y="291"/>
                  </a:lnTo>
                  <a:lnTo>
                    <a:pt x="1919" y="273"/>
                  </a:lnTo>
                  <a:lnTo>
                    <a:pt x="1870" y="262"/>
                  </a:lnTo>
                  <a:lnTo>
                    <a:pt x="1821" y="256"/>
                  </a:lnTo>
                  <a:lnTo>
                    <a:pt x="1771" y="256"/>
                  </a:lnTo>
                  <a:lnTo>
                    <a:pt x="1724" y="263"/>
                  </a:lnTo>
                  <a:lnTo>
                    <a:pt x="1712" y="262"/>
                  </a:lnTo>
                  <a:lnTo>
                    <a:pt x="1678" y="260"/>
                  </a:lnTo>
                  <a:lnTo>
                    <a:pt x="1655" y="258"/>
                  </a:lnTo>
                  <a:lnTo>
                    <a:pt x="1626" y="257"/>
                  </a:lnTo>
                  <a:lnTo>
                    <a:pt x="1593" y="257"/>
                  </a:lnTo>
                  <a:lnTo>
                    <a:pt x="1557" y="258"/>
                  </a:lnTo>
                  <a:lnTo>
                    <a:pt x="1516" y="260"/>
                  </a:lnTo>
                  <a:lnTo>
                    <a:pt x="1472" y="263"/>
                  </a:lnTo>
                  <a:lnTo>
                    <a:pt x="1425" y="268"/>
                  </a:lnTo>
                  <a:lnTo>
                    <a:pt x="1374" y="275"/>
                  </a:lnTo>
                  <a:lnTo>
                    <a:pt x="1322" y="283"/>
                  </a:lnTo>
                  <a:lnTo>
                    <a:pt x="1267" y="293"/>
                  </a:lnTo>
                  <a:lnTo>
                    <a:pt x="1210" y="307"/>
                  </a:lnTo>
                  <a:lnTo>
                    <a:pt x="1153" y="322"/>
                  </a:lnTo>
                  <a:lnTo>
                    <a:pt x="1092" y="342"/>
                  </a:lnTo>
                  <a:lnTo>
                    <a:pt x="1031" y="363"/>
                  </a:lnTo>
                  <a:lnTo>
                    <a:pt x="971" y="389"/>
                  </a:lnTo>
                  <a:lnTo>
                    <a:pt x="908" y="417"/>
                  </a:lnTo>
                  <a:lnTo>
                    <a:pt x="845" y="451"/>
                  </a:lnTo>
                  <a:lnTo>
                    <a:pt x="783" y="488"/>
                  </a:lnTo>
                  <a:lnTo>
                    <a:pt x="721" y="529"/>
                  </a:lnTo>
                  <a:lnTo>
                    <a:pt x="660" y="575"/>
                  </a:lnTo>
                  <a:lnTo>
                    <a:pt x="599" y="627"/>
                  </a:lnTo>
                  <a:lnTo>
                    <a:pt x="541" y="683"/>
                  </a:lnTo>
                  <a:lnTo>
                    <a:pt x="483" y="744"/>
                  </a:lnTo>
                  <a:lnTo>
                    <a:pt x="427" y="811"/>
                  </a:lnTo>
                  <a:lnTo>
                    <a:pt x="373" y="882"/>
                  </a:lnTo>
                  <a:lnTo>
                    <a:pt x="321" y="961"/>
                  </a:lnTo>
                  <a:lnTo>
                    <a:pt x="273" y="1046"/>
                  </a:lnTo>
                  <a:lnTo>
                    <a:pt x="227" y="1137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6d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6222960" y="5318280"/>
              <a:ext cx="1187640" cy="541080"/>
            </a:xfrm>
            <a:custGeom>
              <a:avLst/>
              <a:gdLst/>
              <a:ahLst/>
              <a:rect l="l" t="t" r="r" b="b"/>
              <a:pathLst>
                <a:path w="2991" h="1365">
                  <a:moveTo>
                    <a:pt x="1163" y="35"/>
                  </a:moveTo>
                  <a:lnTo>
                    <a:pt x="1099" y="52"/>
                  </a:lnTo>
                  <a:lnTo>
                    <a:pt x="1035" y="74"/>
                  </a:lnTo>
                  <a:lnTo>
                    <a:pt x="973" y="96"/>
                  </a:lnTo>
                  <a:lnTo>
                    <a:pt x="913" y="121"/>
                  </a:lnTo>
                  <a:lnTo>
                    <a:pt x="854" y="148"/>
                  </a:lnTo>
                  <a:lnTo>
                    <a:pt x="798" y="178"/>
                  </a:lnTo>
                  <a:lnTo>
                    <a:pt x="742" y="209"/>
                  </a:lnTo>
                  <a:lnTo>
                    <a:pt x="690" y="241"/>
                  </a:lnTo>
                  <a:lnTo>
                    <a:pt x="638" y="276"/>
                  </a:lnTo>
                  <a:lnTo>
                    <a:pt x="588" y="311"/>
                  </a:lnTo>
                  <a:lnTo>
                    <a:pt x="541" y="347"/>
                  </a:lnTo>
                  <a:lnTo>
                    <a:pt x="495" y="382"/>
                  </a:lnTo>
                  <a:lnTo>
                    <a:pt x="452" y="420"/>
                  </a:lnTo>
                  <a:lnTo>
                    <a:pt x="410" y="457"/>
                  </a:lnTo>
                  <a:lnTo>
                    <a:pt x="370" y="495"/>
                  </a:lnTo>
                  <a:lnTo>
                    <a:pt x="333" y="533"/>
                  </a:lnTo>
                  <a:lnTo>
                    <a:pt x="297" y="569"/>
                  </a:lnTo>
                  <a:lnTo>
                    <a:pt x="262" y="605"/>
                  </a:lnTo>
                  <a:lnTo>
                    <a:pt x="231" y="641"/>
                  </a:lnTo>
                  <a:lnTo>
                    <a:pt x="201" y="675"/>
                  </a:lnTo>
                  <a:lnTo>
                    <a:pt x="148" y="740"/>
                  </a:lnTo>
                  <a:lnTo>
                    <a:pt x="103" y="797"/>
                  </a:lnTo>
                  <a:lnTo>
                    <a:pt x="67" y="847"/>
                  </a:lnTo>
                  <a:lnTo>
                    <a:pt x="41" y="885"/>
                  </a:lnTo>
                  <a:lnTo>
                    <a:pt x="22" y="912"/>
                  </a:lnTo>
                  <a:lnTo>
                    <a:pt x="15" y="925"/>
                  </a:lnTo>
                  <a:lnTo>
                    <a:pt x="0" y="948"/>
                  </a:lnTo>
                  <a:lnTo>
                    <a:pt x="282" y="1235"/>
                  </a:lnTo>
                  <a:lnTo>
                    <a:pt x="304" y="1188"/>
                  </a:lnTo>
                  <a:lnTo>
                    <a:pt x="349" y="1101"/>
                  </a:lnTo>
                  <a:lnTo>
                    <a:pt x="396" y="1019"/>
                  </a:lnTo>
                  <a:lnTo>
                    <a:pt x="446" y="943"/>
                  </a:lnTo>
                  <a:lnTo>
                    <a:pt x="497" y="873"/>
                  </a:lnTo>
                  <a:lnTo>
                    <a:pt x="551" y="808"/>
                  </a:lnTo>
                  <a:lnTo>
                    <a:pt x="607" y="748"/>
                  </a:lnTo>
                  <a:lnTo>
                    <a:pt x="664" y="694"/>
                  </a:lnTo>
                  <a:lnTo>
                    <a:pt x="723" y="644"/>
                  </a:lnTo>
                  <a:lnTo>
                    <a:pt x="782" y="600"/>
                  </a:lnTo>
                  <a:lnTo>
                    <a:pt x="843" y="560"/>
                  </a:lnTo>
                  <a:lnTo>
                    <a:pt x="903" y="523"/>
                  </a:lnTo>
                  <a:lnTo>
                    <a:pt x="963" y="490"/>
                  </a:lnTo>
                  <a:lnTo>
                    <a:pt x="1024" y="462"/>
                  </a:lnTo>
                  <a:lnTo>
                    <a:pt x="1084" y="437"/>
                  </a:lnTo>
                  <a:lnTo>
                    <a:pt x="1143" y="416"/>
                  </a:lnTo>
                  <a:lnTo>
                    <a:pt x="1201" y="396"/>
                  </a:lnTo>
                  <a:lnTo>
                    <a:pt x="1258" y="381"/>
                  </a:lnTo>
                  <a:lnTo>
                    <a:pt x="1314" y="368"/>
                  </a:lnTo>
                  <a:lnTo>
                    <a:pt x="1367" y="356"/>
                  </a:lnTo>
                  <a:lnTo>
                    <a:pt x="1418" y="348"/>
                  </a:lnTo>
                  <a:lnTo>
                    <a:pt x="1466" y="342"/>
                  </a:lnTo>
                  <a:lnTo>
                    <a:pt x="1512" y="337"/>
                  </a:lnTo>
                  <a:lnTo>
                    <a:pt x="1556" y="333"/>
                  </a:lnTo>
                  <a:lnTo>
                    <a:pt x="1595" y="332"/>
                  </a:lnTo>
                  <a:lnTo>
                    <a:pt x="1633" y="330"/>
                  </a:lnTo>
                  <a:lnTo>
                    <a:pt x="1665" y="330"/>
                  </a:lnTo>
                  <a:lnTo>
                    <a:pt x="1694" y="330"/>
                  </a:lnTo>
                  <a:lnTo>
                    <a:pt x="1717" y="332"/>
                  </a:lnTo>
                  <a:lnTo>
                    <a:pt x="1751" y="334"/>
                  </a:lnTo>
                  <a:lnTo>
                    <a:pt x="1764" y="335"/>
                  </a:lnTo>
                  <a:lnTo>
                    <a:pt x="1810" y="328"/>
                  </a:lnTo>
                  <a:lnTo>
                    <a:pt x="1857" y="328"/>
                  </a:lnTo>
                  <a:lnTo>
                    <a:pt x="1905" y="334"/>
                  </a:lnTo>
                  <a:lnTo>
                    <a:pt x="1953" y="345"/>
                  </a:lnTo>
                  <a:lnTo>
                    <a:pt x="2000" y="363"/>
                  </a:lnTo>
                  <a:lnTo>
                    <a:pt x="2047" y="384"/>
                  </a:lnTo>
                  <a:lnTo>
                    <a:pt x="2095" y="410"/>
                  </a:lnTo>
                  <a:lnTo>
                    <a:pt x="2143" y="440"/>
                  </a:lnTo>
                  <a:lnTo>
                    <a:pt x="2189" y="473"/>
                  </a:lnTo>
                  <a:lnTo>
                    <a:pt x="2235" y="510"/>
                  </a:lnTo>
                  <a:lnTo>
                    <a:pt x="2281" y="550"/>
                  </a:lnTo>
                  <a:lnTo>
                    <a:pt x="2326" y="592"/>
                  </a:lnTo>
                  <a:lnTo>
                    <a:pt x="2370" y="636"/>
                  </a:lnTo>
                  <a:lnTo>
                    <a:pt x="2413" y="681"/>
                  </a:lnTo>
                  <a:lnTo>
                    <a:pt x="2455" y="727"/>
                  </a:lnTo>
                  <a:lnTo>
                    <a:pt x="2494" y="775"/>
                  </a:lnTo>
                  <a:lnTo>
                    <a:pt x="2534" y="823"/>
                  </a:lnTo>
                  <a:lnTo>
                    <a:pt x="2571" y="870"/>
                  </a:lnTo>
                  <a:lnTo>
                    <a:pt x="2606" y="917"/>
                  </a:lnTo>
                  <a:lnTo>
                    <a:pt x="2641" y="964"/>
                  </a:lnTo>
                  <a:lnTo>
                    <a:pt x="2703" y="1052"/>
                  </a:lnTo>
                  <a:lnTo>
                    <a:pt x="2755" y="1132"/>
                  </a:lnTo>
                  <a:lnTo>
                    <a:pt x="2799" y="1200"/>
                  </a:lnTo>
                  <a:lnTo>
                    <a:pt x="2832" y="1253"/>
                  </a:lnTo>
                  <a:lnTo>
                    <a:pt x="2852" y="1288"/>
                  </a:lnTo>
                  <a:lnTo>
                    <a:pt x="2861" y="1302"/>
                  </a:lnTo>
                  <a:lnTo>
                    <a:pt x="2896" y="1365"/>
                  </a:lnTo>
                  <a:lnTo>
                    <a:pt x="2989" y="1154"/>
                  </a:lnTo>
                  <a:lnTo>
                    <a:pt x="2991" y="1122"/>
                  </a:lnTo>
                  <a:lnTo>
                    <a:pt x="2989" y="1088"/>
                  </a:lnTo>
                  <a:lnTo>
                    <a:pt x="2983" y="1054"/>
                  </a:lnTo>
                  <a:lnTo>
                    <a:pt x="2973" y="1019"/>
                  </a:lnTo>
                  <a:lnTo>
                    <a:pt x="2958" y="983"/>
                  </a:lnTo>
                  <a:lnTo>
                    <a:pt x="2942" y="946"/>
                  </a:lnTo>
                  <a:lnTo>
                    <a:pt x="2922" y="910"/>
                  </a:lnTo>
                  <a:lnTo>
                    <a:pt x="2899" y="873"/>
                  </a:lnTo>
                  <a:lnTo>
                    <a:pt x="2874" y="835"/>
                  </a:lnTo>
                  <a:lnTo>
                    <a:pt x="2847" y="798"/>
                  </a:lnTo>
                  <a:lnTo>
                    <a:pt x="2817" y="761"/>
                  </a:lnTo>
                  <a:lnTo>
                    <a:pt x="2788" y="724"/>
                  </a:lnTo>
                  <a:lnTo>
                    <a:pt x="2755" y="688"/>
                  </a:lnTo>
                  <a:lnTo>
                    <a:pt x="2722" y="652"/>
                  </a:lnTo>
                  <a:lnTo>
                    <a:pt x="2688" y="617"/>
                  </a:lnTo>
                  <a:lnTo>
                    <a:pt x="2655" y="582"/>
                  </a:lnTo>
                  <a:lnTo>
                    <a:pt x="2620" y="549"/>
                  </a:lnTo>
                  <a:lnTo>
                    <a:pt x="2585" y="516"/>
                  </a:lnTo>
                  <a:lnTo>
                    <a:pt x="2552" y="485"/>
                  </a:lnTo>
                  <a:lnTo>
                    <a:pt x="2518" y="456"/>
                  </a:lnTo>
                  <a:lnTo>
                    <a:pt x="2454" y="400"/>
                  </a:lnTo>
                  <a:lnTo>
                    <a:pt x="2395" y="351"/>
                  </a:lnTo>
                  <a:lnTo>
                    <a:pt x="2345" y="312"/>
                  </a:lnTo>
                  <a:lnTo>
                    <a:pt x="2305" y="280"/>
                  </a:lnTo>
                  <a:lnTo>
                    <a:pt x="2276" y="258"/>
                  </a:lnTo>
                  <a:lnTo>
                    <a:pt x="2262" y="248"/>
                  </a:lnTo>
                  <a:lnTo>
                    <a:pt x="2228" y="227"/>
                  </a:lnTo>
                  <a:lnTo>
                    <a:pt x="2194" y="208"/>
                  </a:lnTo>
                  <a:lnTo>
                    <a:pt x="2159" y="188"/>
                  </a:lnTo>
                  <a:lnTo>
                    <a:pt x="2124" y="170"/>
                  </a:lnTo>
                  <a:lnTo>
                    <a:pt x="2090" y="153"/>
                  </a:lnTo>
                  <a:lnTo>
                    <a:pt x="2056" y="137"/>
                  </a:lnTo>
                  <a:lnTo>
                    <a:pt x="2021" y="121"/>
                  </a:lnTo>
                  <a:lnTo>
                    <a:pt x="1987" y="107"/>
                  </a:lnTo>
                  <a:lnTo>
                    <a:pt x="1952" y="93"/>
                  </a:lnTo>
                  <a:lnTo>
                    <a:pt x="1918" y="81"/>
                  </a:lnTo>
                  <a:lnTo>
                    <a:pt x="1884" y="69"/>
                  </a:lnTo>
                  <a:lnTo>
                    <a:pt x="1849" y="57"/>
                  </a:lnTo>
                  <a:lnTo>
                    <a:pt x="1814" y="47"/>
                  </a:lnTo>
                  <a:lnTo>
                    <a:pt x="1780" y="39"/>
                  </a:lnTo>
                  <a:lnTo>
                    <a:pt x="1746" y="31"/>
                  </a:lnTo>
                  <a:lnTo>
                    <a:pt x="1711" y="24"/>
                  </a:lnTo>
                  <a:lnTo>
                    <a:pt x="1676" y="18"/>
                  </a:lnTo>
                  <a:lnTo>
                    <a:pt x="1643" y="13"/>
                  </a:lnTo>
                  <a:lnTo>
                    <a:pt x="1608" y="8"/>
                  </a:lnTo>
                  <a:lnTo>
                    <a:pt x="1573" y="5"/>
                  </a:lnTo>
                  <a:lnTo>
                    <a:pt x="1540" y="3"/>
                  </a:lnTo>
                  <a:lnTo>
                    <a:pt x="1505" y="0"/>
                  </a:lnTo>
                  <a:lnTo>
                    <a:pt x="1471" y="0"/>
                  </a:lnTo>
                  <a:lnTo>
                    <a:pt x="1437" y="0"/>
                  </a:lnTo>
                  <a:lnTo>
                    <a:pt x="1402" y="2"/>
                  </a:lnTo>
                  <a:lnTo>
                    <a:pt x="1368" y="4"/>
                  </a:lnTo>
                  <a:lnTo>
                    <a:pt x="1333" y="7"/>
                  </a:lnTo>
                  <a:lnTo>
                    <a:pt x="1300" y="10"/>
                  </a:lnTo>
                  <a:lnTo>
                    <a:pt x="1265" y="15"/>
                  </a:lnTo>
                  <a:lnTo>
                    <a:pt x="1232" y="21"/>
                  </a:lnTo>
                  <a:lnTo>
                    <a:pt x="1197" y="28"/>
                  </a:lnTo>
                  <a:lnTo>
                    <a:pt x="1163" y="35"/>
                  </a:lnTo>
                  <a:close/>
                  <a:moveTo>
                    <a:pt x="1181" y="105"/>
                  </a:moveTo>
                  <a:lnTo>
                    <a:pt x="1213" y="97"/>
                  </a:lnTo>
                  <a:lnTo>
                    <a:pt x="1245" y="91"/>
                  </a:lnTo>
                  <a:lnTo>
                    <a:pt x="1278" y="86"/>
                  </a:lnTo>
                  <a:lnTo>
                    <a:pt x="1310" y="81"/>
                  </a:lnTo>
                  <a:lnTo>
                    <a:pt x="1342" y="77"/>
                  </a:lnTo>
                  <a:lnTo>
                    <a:pt x="1374" y="75"/>
                  </a:lnTo>
                  <a:lnTo>
                    <a:pt x="1407" y="72"/>
                  </a:lnTo>
                  <a:lnTo>
                    <a:pt x="1439" y="71"/>
                  </a:lnTo>
                  <a:lnTo>
                    <a:pt x="1471" y="71"/>
                  </a:lnTo>
                  <a:lnTo>
                    <a:pt x="1504" y="72"/>
                  </a:lnTo>
                  <a:lnTo>
                    <a:pt x="1537" y="74"/>
                  </a:lnTo>
                  <a:lnTo>
                    <a:pt x="1569" y="76"/>
                  </a:lnTo>
                  <a:lnTo>
                    <a:pt x="1602" y="80"/>
                  </a:lnTo>
                  <a:lnTo>
                    <a:pt x="1634" y="83"/>
                  </a:lnTo>
                  <a:lnTo>
                    <a:pt x="1667" y="88"/>
                  </a:lnTo>
                  <a:lnTo>
                    <a:pt x="1700" y="95"/>
                  </a:lnTo>
                  <a:lnTo>
                    <a:pt x="1732" y="101"/>
                  </a:lnTo>
                  <a:lnTo>
                    <a:pt x="1764" y="108"/>
                  </a:lnTo>
                  <a:lnTo>
                    <a:pt x="1798" y="117"/>
                  </a:lnTo>
                  <a:lnTo>
                    <a:pt x="1830" y="127"/>
                  </a:lnTo>
                  <a:lnTo>
                    <a:pt x="1862" y="137"/>
                  </a:lnTo>
                  <a:lnTo>
                    <a:pt x="1896" y="148"/>
                  </a:lnTo>
                  <a:lnTo>
                    <a:pt x="1928" y="160"/>
                  </a:lnTo>
                  <a:lnTo>
                    <a:pt x="1961" y="173"/>
                  </a:lnTo>
                  <a:lnTo>
                    <a:pt x="1994" y="186"/>
                  </a:lnTo>
                  <a:lnTo>
                    <a:pt x="2026" y="201"/>
                  </a:lnTo>
                  <a:lnTo>
                    <a:pt x="2059" y="217"/>
                  </a:lnTo>
                  <a:lnTo>
                    <a:pt x="2092" y="234"/>
                  </a:lnTo>
                  <a:lnTo>
                    <a:pt x="2124" y="251"/>
                  </a:lnTo>
                  <a:lnTo>
                    <a:pt x="2157" y="268"/>
                  </a:lnTo>
                  <a:lnTo>
                    <a:pt x="2190" y="287"/>
                  </a:lnTo>
                  <a:lnTo>
                    <a:pt x="2223" y="307"/>
                  </a:lnTo>
                  <a:lnTo>
                    <a:pt x="2264" y="338"/>
                  </a:lnTo>
                  <a:lnTo>
                    <a:pt x="2309" y="374"/>
                  </a:lnTo>
                  <a:lnTo>
                    <a:pt x="2360" y="415"/>
                  </a:lnTo>
                  <a:lnTo>
                    <a:pt x="2415" y="459"/>
                  </a:lnTo>
                  <a:lnTo>
                    <a:pt x="2472" y="509"/>
                  </a:lnTo>
                  <a:lnTo>
                    <a:pt x="2531" y="561"/>
                  </a:lnTo>
                  <a:lnTo>
                    <a:pt x="2589" y="617"/>
                  </a:lnTo>
                  <a:lnTo>
                    <a:pt x="2647" y="674"/>
                  </a:lnTo>
                  <a:lnTo>
                    <a:pt x="2675" y="703"/>
                  </a:lnTo>
                  <a:lnTo>
                    <a:pt x="2702" y="731"/>
                  </a:lnTo>
                  <a:lnTo>
                    <a:pt x="2728" y="761"/>
                  </a:lnTo>
                  <a:lnTo>
                    <a:pt x="2753" y="791"/>
                  </a:lnTo>
                  <a:lnTo>
                    <a:pt x="2778" y="819"/>
                  </a:lnTo>
                  <a:lnTo>
                    <a:pt x="2800" y="849"/>
                  </a:lnTo>
                  <a:lnTo>
                    <a:pt x="2821" y="878"/>
                  </a:lnTo>
                  <a:lnTo>
                    <a:pt x="2841" y="906"/>
                  </a:lnTo>
                  <a:lnTo>
                    <a:pt x="2858" y="935"/>
                  </a:lnTo>
                  <a:lnTo>
                    <a:pt x="2874" y="962"/>
                  </a:lnTo>
                  <a:lnTo>
                    <a:pt x="2889" y="989"/>
                  </a:lnTo>
                  <a:lnTo>
                    <a:pt x="2901" y="1016"/>
                  </a:lnTo>
                  <a:lnTo>
                    <a:pt x="2910" y="1043"/>
                  </a:lnTo>
                  <a:lnTo>
                    <a:pt x="2917" y="1067"/>
                  </a:lnTo>
                  <a:lnTo>
                    <a:pt x="2922" y="1092"/>
                  </a:lnTo>
                  <a:lnTo>
                    <a:pt x="2923" y="1114"/>
                  </a:lnTo>
                  <a:lnTo>
                    <a:pt x="2922" y="1126"/>
                  </a:lnTo>
                  <a:lnTo>
                    <a:pt x="2922" y="1136"/>
                  </a:lnTo>
                  <a:lnTo>
                    <a:pt x="2918" y="1142"/>
                  </a:lnTo>
                  <a:lnTo>
                    <a:pt x="2910" y="1158"/>
                  </a:lnTo>
                  <a:lnTo>
                    <a:pt x="2901" y="1181"/>
                  </a:lnTo>
                  <a:lnTo>
                    <a:pt x="2888" y="1208"/>
                  </a:lnTo>
                  <a:lnTo>
                    <a:pt x="2857" y="1158"/>
                  </a:lnTo>
                  <a:lnTo>
                    <a:pt x="2819" y="1097"/>
                  </a:lnTo>
                  <a:lnTo>
                    <a:pt x="2773" y="1026"/>
                  </a:lnTo>
                  <a:lnTo>
                    <a:pt x="2719" y="948"/>
                  </a:lnTo>
                  <a:lnTo>
                    <a:pt x="2689" y="907"/>
                  </a:lnTo>
                  <a:lnTo>
                    <a:pt x="2660" y="866"/>
                  </a:lnTo>
                  <a:lnTo>
                    <a:pt x="2627" y="823"/>
                  </a:lnTo>
                  <a:lnTo>
                    <a:pt x="2594" y="781"/>
                  </a:lnTo>
                  <a:lnTo>
                    <a:pt x="2559" y="737"/>
                  </a:lnTo>
                  <a:lnTo>
                    <a:pt x="2523" y="695"/>
                  </a:lnTo>
                  <a:lnTo>
                    <a:pt x="2486" y="653"/>
                  </a:lnTo>
                  <a:lnTo>
                    <a:pt x="2447" y="611"/>
                  </a:lnTo>
                  <a:lnTo>
                    <a:pt x="2409" y="570"/>
                  </a:lnTo>
                  <a:lnTo>
                    <a:pt x="2369" y="531"/>
                  </a:lnTo>
                  <a:lnTo>
                    <a:pt x="2328" y="493"/>
                  </a:lnTo>
                  <a:lnTo>
                    <a:pt x="2286" y="457"/>
                  </a:lnTo>
                  <a:lnTo>
                    <a:pt x="2244" y="423"/>
                  </a:lnTo>
                  <a:lnTo>
                    <a:pt x="2201" y="391"/>
                  </a:lnTo>
                  <a:lnTo>
                    <a:pt x="2158" y="363"/>
                  </a:lnTo>
                  <a:lnTo>
                    <a:pt x="2115" y="337"/>
                  </a:lnTo>
                  <a:lnTo>
                    <a:pt x="2071" y="313"/>
                  </a:lnTo>
                  <a:lnTo>
                    <a:pt x="2026" y="294"/>
                  </a:lnTo>
                  <a:lnTo>
                    <a:pt x="1982" y="278"/>
                  </a:lnTo>
                  <a:lnTo>
                    <a:pt x="1938" y="266"/>
                  </a:lnTo>
                  <a:lnTo>
                    <a:pt x="1893" y="258"/>
                  </a:lnTo>
                  <a:lnTo>
                    <a:pt x="1849" y="256"/>
                  </a:lnTo>
                  <a:lnTo>
                    <a:pt x="1805" y="258"/>
                  </a:lnTo>
                  <a:lnTo>
                    <a:pt x="1761" y="265"/>
                  </a:lnTo>
                  <a:lnTo>
                    <a:pt x="1749" y="263"/>
                  </a:lnTo>
                  <a:lnTo>
                    <a:pt x="1717" y="261"/>
                  </a:lnTo>
                  <a:lnTo>
                    <a:pt x="1694" y="260"/>
                  </a:lnTo>
                  <a:lnTo>
                    <a:pt x="1665" y="260"/>
                  </a:lnTo>
                  <a:lnTo>
                    <a:pt x="1633" y="260"/>
                  </a:lnTo>
                  <a:lnTo>
                    <a:pt x="1597" y="261"/>
                  </a:lnTo>
                  <a:lnTo>
                    <a:pt x="1557" y="262"/>
                  </a:lnTo>
                  <a:lnTo>
                    <a:pt x="1514" y="266"/>
                  </a:lnTo>
                  <a:lnTo>
                    <a:pt x="1466" y="271"/>
                  </a:lnTo>
                  <a:lnTo>
                    <a:pt x="1417" y="277"/>
                  </a:lnTo>
                  <a:lnTo>
                    <a:pt x="1365" y="286"/>
                  </a:lnTo>
                  <a:lnTo>
                    <a:pt x="1311" y="297"/>
                  </a:lnTo>
                  <a:lnTo>
                    <a:pt x="1254" y="311"/>
                  </a:lnTo>
                  <a:lnTo>
                    <a:pt x="1197" y="325"/>
                  </a:lnTo>
                  <a:lnTo>
                    <a:pt x="1137" y="344"/>
                  </a:lnTo>
                  <a:lnTo>
                    <a:pt x="1076" y="366"/>
                  </a:lnTo>
                  <a:lnTo>
                    <a:pt x="1014" y="391"/>
                  </a:lnTo>
                  <a:lnTo>
                    <a:pt x="952" y="420"/>
                  </a:lnTo>
                  <a:lnTo>
                    <a:pt x="890" y="452"/>
                  </a:lnTo>
                  <a:lnTo>
                    <a:pt x="828" y="488"/>
                  </a:lnTo>
                  <a:lnTo>
                    <a:pt x="766" y="529"/>
                  </a:lnTo>
                  <a:lnTo>
                    <a:pt x="704" y="574"/>
                  </a:lnTo>
                  <a:lnTo>
                    <a:pt x="643" y="622"/>
                  </a:lnTo>
                  <a:lnTo>
                    <a:pt x="583" y="677"/>
                  </a:lnTo>
                  <a:lnTo>
                    <a:pt x="525" y="736"/>
                  </a:lnTo>
                  <a:lnTo>
                    <a:pt x="469" y="801"/>
                  </a:lnTo>
                  <a:lnTo>
                    <a:pt x="415" y="870"/>
                  </a:lnTo>
                  <a:lnTo>
                    <a:pt x="361" y="946"/>
                  </a:lnTo>
                  <a:lnTo>
                    <a:pt x="311" y="1028"/>
                  </a:lnTo>
                  <a:lnTo>
                    <a:pt x="264" y="1114"/>
                  </a:lnTo>
                  <a:lnTo>
                    <a:pt x="223" y="1074"/>
                  </a:lnTo>
                  <a:lnTo>
                    <a:pt x="172" y="1021"/>
                  </a:lnTo>
                  <a:lnTo>
                    <a:pt x="124" y="972"/>
                  </a:lnTo>
                  <a:lnTo>
                    <a:pt x="90" y="938"/>
                  </a:lnTo>
                  <a:lnTo>
                    <a:pt x="108" y="914"/>
                  </a:lnTo>
                  <a:lnTo>
                    <a:pt x="133" y="878"/>
                  </a:lnTo>
                  <a:lnTo>
                    <a:pt x="165" y="834"/>
                  </a:lnTo>
                  <a:lnTo>
                    <a:pt x="205" y="783"/>
                  </a:lnTo>
                  <a:lnTo>
                    <a:pt x="252" y="726"/>
                  </a:lnTo>
                  <a:lnTo>
                    <a:pt x="305" y="665"/>
                  </a:lnTo>
                  <a:lnTo>
                    <a:pt x="334" y="634"/>
                  </a:lnTo>
                  <a:lnTo>
                    <a:pt x="365" y="602"/>
                  </a:lnTo>
                  <a:lnTo>
                    <a:pt x="398" y="569"/>
                  </a:lnTo>
                  <a:lnTo>
                    <a:pt x="432" y="536"/>
                  </a:lnTo>
                  <a:lnTo>
                    <a:pt x="468" y="503"/>
                  </a:lnTo>
                  <a:lnTo>
                    <a:pt x="505" y="469"/>
                  </a:lnTo>
                  <a:lnTo>
                    <a:pt x="545" y="437"/>
                  </a:lnTo>
                  <a:lnTo>
                    <a:pt x="585" y="405"/>
                  </a:lnTo>
                  <a:lnTo>
                    <a:pt x="627" y="373"/>
                  </a:lnTo>
                  <a:lnTo>
                    <a:pt x="670" y="342"/>
                  </a:lnTo>
                  <a:lnTo>
                    <a:pt x="715" y="311"/>
                  </a:lnTo>
                  <a:lnTo>
                    <a:pt x="761" y="282"/>
                  </a:lnTo>
                  <a:lnTo>
                    <a:pt x="809" y="253"/>
                  </a:lnTo>
                  <a:lnTo>
                    <a:pt x="858" y="227"/>
                  </a:lnTo>
                  <a:lnTo>
                    <a:pt x="909" y="201"/>
                  </a:lnTo>
                  <a:lnTo>
                    <a:pt x="961" y="178"/>
                  </a:lnTo>
                  <a:lnTo>
                    <a:pt x="1013" y="157"/>
                  </a:lnTo>
                  <a:lnTo>
                    <a:pt x="1068" y="137"/>
                  </a:lnTo>
                  <a:lnTo>
                    <a:pt x="1124" y="119"/>
                  </a:lnTo>
                  <a:lnTo>
                    <a:pt x="1181" y="1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6283440" y="5410080"/>
              <a:ext cx="1090440" cy="447840"/>
            </a:xfrm>
            <a:custGeom>
              <a:avLst/>
              <a:gdLst/>
              <a:ahLst/>
              <a:rect l="l" t="t" r="r" b="b"/>
              <a:pathLst>
                <a:path w="2749" h="1126">
                  <a:moveTo>
                    <a:pt x="0" y="872"/>
                  </a:moveTo>
                  <a:lnTo>
                    <a:pt x="9" y="856"/>
                  </a:lnTo>
                  <a:lnTo>
                    <a:pt x="37" y="812"/>
                  </a:lnTo>
                  <a:lnTo>
                    <a:pt x="58" y="781"/>
                  </a:lnTo>
                  <a:lnTo>
                    <a:pt x="83" y="745"/>
                  </a:lnTo>
                  <a:lnTo>
                    <a:pt x="113" y="704"/>
                  </a:lnTo>
                  <a:lnTo>
                    <a:pt x="147" y="661"/>
                  </a:lnTo>
                  <a:lnTo>
                    <a:pt x="185" y="614"/>
                  </a:lnTo>
                  <a:lnTo>
                    <a:pt x="229" y="564"/>
                  </a:lnTo>
                  <a:lnTo>
                    <a:pt x="274" y="513"/>
                  </a:lnTo>
                  <a:lnTo>
                    <a:pt x="325" y="461"/>
                  </a:lnTo>
                  <a:lnTo>
                    <a:pt x="380" y="409"/>
                  </a:lnTo>
                  <a:lnTo>
                    <a:pt x="440" y="357"/>
                  </a:lnTo>
                  <a:lnTo>
                    <a:pt x="502" y="306"/>
                  </a:lnTo>
                  <a:lnTo>
                    <a:pt x="569" y="256"/>
                  </a:lnTo>
                  <a:lnTo>
                    <a:pt x="640" y="209"/>
                  </a:lnTo>
                  <a:lnTo>
                    <a:pt x="713" y="166"/>
                  </a:lnTo>
                  <a:lnTo>
                    <a:pt x="791" y="125"/>
                  </a:lnTo>
                  <a:lnTo>
                    <a:pt x="873" y="89"/>
                  </a:lnTo>
                  <a:lnTo>
                    <a:pt x="957" y="59"/>
                  </a:lnTo>
                  <a:lnTo>
                    <a:pt x="1047" y="33"/>
                  </a:lnTo>
                  <a:lnTo>
                    <a:pt x="1139" y="14"/>
                  </a:lnTo>
                  <a:lnTo>
                    <a:pt x="1234" y="3"/>
                  </a:lnTo>
                  <a:lnTo>
                    <a:pt x="1332" y="0"/>
                  </a:lnTo>
                  <a:lnTo>
                    <a:pt x="1436" y="3"/>
                  </a:lnTo>
                  <a:lnTo>
                    <a:pt x="1540" y="18"/>
                  </a:lnTo>
                  <a:lnTo>
                    <a:pt x="1649" y="41"/>
                  </a:lnTo>
                  <a:lnTo>
                    <a:pt x="1760" y="75"/>
                  </a:lnTo>
                  <a:lnTo>
                    <a:pt x="1875" y="120"/>
                  </a:lnTo>
                  <a:lnTo>
                    <a:pt x="1992" y="177"/>
                  </a:lnTo>
                  <a:lnTo>
                    <a:pt x="2112" y="245"/>
                  </a:lnTo>
                  <a:lnTo>
                    <a:pt x="2151" y="276"/>
                  </a:lnTo>
                  <a:lnTo>
                    <a:pt x="2188" y="306"/>
                  </a:lnTo>
                  <a:lnTo>
                    <a:pt x="2225" y="333"/>
                  </a:lnTo>
                  <a:lnTo>
                    <a:pt x="2263" y="359"/>
                  </a:lnTo>
                  <a:lnTo>
                    <a:pt x="2333" y="408"/>
                  </a:lnTo>
                  <a:lnTo>
                    <a:pt x="2402" y="450"/>
                  </a:lnTo>
                  <a:lnTo>
                    <a:pt x="2466" y="490"/>
                  </a:lnTo>
                  <a:lnTo>
                    <a:pt x="2526" y="526"/>
                  </a:lnTo>
                  <a:lnTo>
                    <a:pt x="2553" y="543"/>
                  </a:lnTo>
                  <a:lnTo>
                    <a:pt x="2579" y="560"/>
                  </a:lnTo>
                  <a:lnTo>
                    <a:pt x="2604" y="578"/>
                  </a:lnTo>
                  <a:lnTo>
                    <a:pt x="2628" y="595"/>
                  </a:lnTo>
                  <a:lnTo>
                    <a:pt x="2649" y="611"/>
                  </a:lnTo>
                  <a:lnTo>
                    <a:pt x="2669" y="630"/>
                  </a:lnTo>
                  <a:lnTo>
                    <a:pt x="2686" y="647"/>
                  </a:lnTo>
                  <a:lnTo>
                    <a:pt x="2702" y="666"/>
                  </a:lnTo>
                  <a:lnTo>
                    <a:pt x="2715" y="684"/>
                  </a:lnTo>
                  <a:lnTo>
                    <a:pt x="2727" y="706"/>
                  </a:lnTo>
                  <a:lnTo>
                    <a:pt x="2736" y="725"/>
                  </a:lnTo>
                  <a:lnTo>
                    <a:pt x="2743" y="748"/>
                  </a:lnTo>
                  <a:lnTo>
                    <a:pt x="2747" y="771"/>
                  </a:lnTo>
                  <a:lnTo>
                    <a:pt x="2749" y="796"/>
                  </a:lnTo>
                  <a:lnTo>
                    <a:pt x="2748" y="822"/>
                  </a:lnTo>
                  <a:lnTo>
                    <a:pt x="2744" y="849"/>
                  </a:lnTo>
                  <a:lnTo>
                    <a:pt x="2738" y="879"/>
                  </a:lnTo>
                  <a:lnTo>
                    <a:pt x="2729" y="912"/>
                  </a:lnTo>
                  <a:lnTo>
                    <a:pt x="2717" y="945"/>
                  </a:lnTo>
                  <a:lnTo>
                    <a:pt x="2702" y="981"/>
                  </a:lnTo>
                  <a:lnTo>
                    <a:pt x="2603" y="1126"/>
                  </a:lnTo>
                  <a:lnTo>
                    <a:pt x="2598" y="1117"/>
                  </a:lnTo>
                  <a:lnTo>
                    <a:pt x="2582" y="1090"/>
                  </a:lnTo>
                  <a:lnTo>
                    <a:pt x="2557" y="1049"/>
                  </a:lnTo>
                  <a:lnTo>
                    <a:pt x="2522" y="996"/>
                  </a:lnTo>
                  <a:lnTo>
                    <a:pt x="2480" y="934"/>
                  </a:lnTo>
                  <a:lnTo>
                    <a:pt x="2429" y="864"/>
                  </a:lnTo>
                  <a:lnTo>
                    <a:pt x="2402" y="828"/>
                  </a:lnTo>
                  <a:lnTo>
                    <a:pt x="2372" y="791"/>
                  </a:lnTo>
                  <a:lnTo>
                    <a:pt x="2341" y="754"/>
                  </a:lnTo>
                  <a:lnTo>
                    <a:pt x="2307" y="717"/>
                  </a:lnTo>
                  <a:lnTo>
                    <a:pt x="2272" y="680"/>
                  </a:lnTo>
                  <a:lnTo>
                    <a:pt x="2236" y="644"/>
                  </a:lnTo>
                  <a:lnTo>
                    <a:pt x="2199" y="608"/>
                  </a:lnTo>
                  <a:lnTo>
                    <a:pt x="2161" y="574"/>
                  </a:lnTo>
                  <a:lnTo>
                    <a:pt x="2121" y="542"/>
                  </a:lnTo>
                  <a:lnTo>
                    <a:pt x="2081" y="512"/>
                  </a:lnTo>
                  <a:lnTo>
                    <a:pt x="2039" y="483"/>
                  </a:lnTo>
                  <a:lnTo>
                    <a:pt x="1996" y="459"/>
                  </a:lnTo>
                  <a:lnTo>
                    <a:pt x="1952" y="436"/>
                  </a:lnTo>
                  <a:lnTo>
                    <a:pt x="1907" y="416"/>
                  </a:lnTo>
                  <a:lnTo>
                    <a:pt x="1863" y="402"/>
                  </a:lnTo>
                  <a:lnTo>
                    <a:pt x="1817" y="390"/>
                  </a:lnTo>
                  <a:lnTo>
                    <a:pt x="1770" y="383"/>
                  </a:lnTo>
                  <a:lnTo>
                    <a:pt x="1722" y="380"/>
                  </a:lnTo>
                  <a:lnTo>
                    <a:pt x="1675" y="383"/>
                  </a:lnTo>
                  <a:lnTo>
                    <a:pt x="1628" y="390"/>
                  </a:lnTo>
                  <a:lnTo>
                    <a:pt x="1617" y="387"/>
                  </a:lnTo>
                  <a:lnTo>
                    <a:pt x="1587" y="376"/>
                  </a:lnTo>
                  <a:lnTo>
                    <a:pt x="1565" y="368"/>
                  </a:lnTo>
                  <a:lnTo>
                    <a:pt x="1539" y="361"/>
                  </a:lnTo>
                  <a:lnTo>
                    <a:pt x="1509" y="353"/>
                  </a:lnTo>
                  <a:lnTo>
                    <a:pt x="1475" y="345"/>
                  </a:lnTo>
                  <a:lnTo>
                    <a:pt x="1438" y="337"/>
                  </a:lnTo>
                  <a:lnTo>
                    <a:pt x="1398" y="331"/>
                  </a:lnTo>
                  <a:lnTo>
                    <a:pt x="1355" y="325"/>
                  </a:lnTo>
                  <a:lnTo>
                    <a:pt x="1310" y="320"/>
                  </a:lnTo>
                  <a:lnTo>
                    <a:pt x="1262" y="317"/>
                  </a:lnTo>
                  <a:lnTo>
                    <a:pt x="1212" y="316"/>
                  </a:lnTo>
                  <a:lnTo>
                    <a:pt x="1160" y="317"/>
                  </a:lnTo>
                  <a:lnTo>
                    <a:pt x="1105" y="321"/>
                  </a:lnTo>
                  <a:lnTo>
                    <a:pt x="1051" y="328"/>
                  </a:lnTo>
                  <a:lnTo>
                    <a:pt x="995" y="338"/>
                  </a:lnTo>
                  <a:lnTo>
                    <a:pt x="938" y="352"/>
                  </a:lnTo>
                  <a:lnTo>
                    <a:pt x="879" y="369"/>
                  </a:lnTo>
                  <a:lnTo>
                    <a:pt x="821" y="392"/>
                  </a:lnTo>
                  <a:lnTo>
                    <a:pt x="763" y="418"/>
                  </a:lnTo>
                  <a:lnTo>
                    <a:pt x="704" y="449"/>
                  </a:lnTo>
                  <a:lnTo>
                    <a:pt x="647" y="486"/>
                  </a:lnTo>
                  <a:lnTo>
                    <a:pt x="590" y="528"/>
                  </a:lnTo>
                  <a:lnTo>
                    <a:pt x="534" y="577"/>
                  </a:lnTo>
                  <a:lnTo>
                    <a:pt x="478" y="631"/>
                  </a:lnTo>
                  <a:lnTo>
                    <a:pt x="425" y="692"/>
                  </a:lnTo>
                  <a:lnTo>
                    <a:pt x="373" y="760"/>
                  </a:lnTo>
                  <a:lnTo>
                    <a:pt x="323" y="835"/>
                  </a:lnTo>
                  <a:lnTo>
                    <a:pt x="274" y="918"/>
                  </a:lnTo>
                  <a:lnTo>
                    <a:pt x="229" y="1007"/>
                  </a:lnTo>
                  <a:lnTo>
                    <a:pt x="0" y="872"/>
                  </a:lnTo>
                  <a:close/>
                </a:path>
              </a:pathLst>
            </a:custGeom>
            <a:solidFill>
              <a:srgbClr val="7a5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6264360" y="5396040"/>
              <a:ext cx="1122120" cy="488880"/>
            </a:xfrm>
            <a:custGeom>
              <a:avLst/>
              <a:gdLst/>
              <a:ahLst/>
              <a:rect l="l" t="t" r="r" b="b"/>
              <a:pathLst>
                <a:path w="2831" h="1232">
                  <a:moveTo>
                    <a:pt x="1073" y="38"/>
                  </a:moveTo>
                  <a:lnTo>
                    <a:pt x="1012" y="55"/>
                  </a:lnTo>
                  <a:lnTo>
                    <a:pt x="952" y="75"/>
                  </a:lnTo>
                  <a:lnTo>
                    <a:pt x="894" y="98"/>
                  </a:lnTo>
                  <a:lnTo>
                    <a:pt x="838" y="122"/>
                  </a:lnTo>
                  <a:lnTo>
                    <a:pt x="783" y="149"/>
                  </a:lnTo>
                  <a:lnTo>
                    <a:pt x="731" y="177"/>
                  </a:lnTo>
                  <a:lnTo>
                    <a:pt x="680" y="207"/>
                  </a:lnTo>
                  <a:lnTo>
                    <a:pt x="630" y="239"/>
                  </a:lnTo>
                  <a:lnTo>
                    <a:pt x="583" y="271"/>
                  </a:lnTo>
                  <a:lnTo>
                    <a:pt x="537" y="305"/>
                  </a:lnTo>
                  <a:lnTo>
                    <a:pt x="494" y="340"/>
                  </a:lnTo>
                  <a:lnTo>
                    <a:pt x="452" y="374"/>
                  </a:lnTo>
                  <a:lnTo>
                    <a:pt x="412" y="410"/>
                  </a:lnTo>
                  <a:lnTo>
                    <a:pt x="373" y="446"/>
                  </a:lnTo>
                  <a:lnTo>
                    <a:pt x="337" y="481"/>
                  </a:lnTo>
                  <a:lnTo>
                    <a:pt x="303" y="517"/>
                  </a:lnTo>
                  <a:lnTo>
                    <a:pt x="270" y="552"/>
                  </a:lnTo>
                  <a:lnTo>
                    <a:pt x="239" y="586"/>
                  </a:lnTo>
                  <a:lnTo>
                    <a:pt x="211" y="620"/>
                  </a:lnTo>
                  <a:lnTo>
                    <a:pt x="183" y="653"/>
                  </a:lnTo>
                  <a:lnTo>
                    <a:pt x="135" y="714"/>
                  </a:lnTo>
                  <a:lnTo>
                    <a:pt x="95" y="769"/>
                  </a:lnTo>
                  <a:lnTo>
                    <a:pt x="63" y="816"/>
                  </a:lnTo>
                  <a:lnTo>
                    <a:pt x="39" y="853"/>
                  </a:lnTo>
                  <a:lnTo>
                    <a:pt x="24" y="878"/>
                  </a:lnTo>
                  <a:lnTo>
                    <a:pt x="17" y="890"/>
                  </a:lnTo>
                  <a:lnTo>
                    <a:pt x="0" y="920"/>
                  </a:lnTo>
                  <a:lnTo>
                    <a:pt x="293" y="1094"/>
                  </a:lnTo>
                  <a:lnTo>
                    <a:pt x="310" y="1059"/>
                  </a:lnTo>
                  <a:lnTo>
                    <a:pt x="354" y="972"/>
                  </a:lnTo>
                  <a:lnTo>
                    <a:pt x="398" y="893"/>
                  </a:lnTo>
                  <a:lnTo>
                    <a:pt x="447" y="821"/>
                  </a:lnTo>
                  <a:lnTo>
                    <a:pt x="496" y="755"/>
                  </a:lnTo>
                  <a:lnTo>
                    <a:pt x="547" y="697"/>
                  </a:lnTo>
                  <a:lnTo>
                    <a:pt x="599" y="644"/>
                  </a:lnTo>
                  <a:lnTo>
                    <a:pt x="653" y="598"/>
                  </a:lnTo>
                  <a:lnTo>
                    <a:pt x="706" y="555"/>
                  </a:lnTo>
                  <a:lnTo>
                    <a:pt x="761" y="521"/>
                  </a:lnTo>
                  <a:lnTo>
                    <a:pt x="815" y="490"/>
                  </a:lnTo>
                  <a:lnTo>
                    <a:pt x="871" y="464"/>
                  </a:lnTo>
                  <a:lnTo>
                    <a:pt x="926" y="441"/>
                  </a:lnTo>
                  <a:lnTo>
                    <a:pt x="981" y="424"/>
                  </a:lnTo>
                  <a:lnTo>
                    <a:pt x="1035" y="409"/>
                  </a:lnTo>
                  <a:lnTo>
                    <a:pt x="1089" y="399"/>
                  </a:lnTo>
                  <a:lnTo>
                    <a:pt x="1142" y="392"/>
                  </a:lnTo>
                  <a:lnTo>
                    <a:pt x="1193" y="387"/>
                  </a:lnTo>
                  <a:lnTo>
                    <a:pt x="1243" y="385"/>
                  </a:lnTo>
                  <a:lnTo>
                    <a:pt x="1291" y="385"/>
                  </a:lnTo>
                  <a:lnTo>
                    <a:pt x="1337" y="388"/>
                  </a:lnTo>
                  <a:lnTo>
                    <a:pt x="1382" y="392"/>
                  </a:lnTo>
                  <a:lnTo>
                    <a:pt x="1423" y="397"/>
                  </a:lnTo>
                  <a:lnTo>
                    <a:pt x="1462" y="404"/>
                  </a:lnTo>
                  <a:lnTo>
                    <a:pt x="1498" y="410"/>
                  </a:lnTo>
                  <a:lnTo>
                    <a:pt x="1532" y="419"/>
                  </a:lnTo>
                  <a:lnTo>
                    <a:pt x="1562" y="426"/>
                  </a:lnTo>
                  <a:lnTo>
                    <a:pt x="1589" y="434"/>
                  </a:lnTo>
                  <a:lnTo>
                    <a:pt x="1611" y="441"/>
                  </a:lnTo>
                  <a:lnTo>
                    <a:pt x="1645" y="452"/>
                  </a:lnTo>
                  <a:lnTo>
                    <a:pt x="1662" y="459"/>
                  </a:lnTo>
                  <a:lnTo>
                    <a:pt x="1672" y="464"/>
                  </a:lnTo>
                  <a:lnTo>
                    <a:pt x="1683" y="461"/>
                  </a:lnTo>
                  <a:lnTo>
                    <a:pt x="1728" y="454"/>
                  </a:lnTo>
                  <a:lnTo>
                    <a:pt x="1773" y="452"/>
                  </a:lnTo>
                  <a:lnTo>
                    <a:pt x="1818" y="455"/>
                  </a:lnTo>
                  <a:lnTo>
                    <a:pt x="1861" y="461"/>
                  </a:lnTo>
                  <a:lnTo>
                    <a:pt x="1904" y="472"/>
                  </a:lnTo>
                  <a:lnTo>
                    <a:pt x="1948" y="487"/>
                  </a:lnTo>
                  <a:lnTo>
                    <a:pt x="1990" y="506"/>
                  </a:lnTo>
                  <a:lnTo>
                    <a:pt x="2031" y="528"/>
                  </a:lnTo>
                  <a:lnTo>
                    <a:pt x="2072" y="553"/>
                  </a:lnTo>
                  <a:lnTo>
                    <a:pt x="2112" y="580"/>
                  </a:lnTo>
                  <a:lnTo>
                    <a:pt x="2152" y="609"/>
                  </a:lnTo>
                  <a:lnTo>
                    <a:pt x="2189" y="640"/>
                  </a:lnTo>
                  <a:lnTo>
                    <a:pt x="2226" y="673"/>
                  </a:lnTo>
                  <a:lnTo>
                    <a:pt x="2262" y="707"/>
                  </a:lnTo>
                  <a:lnTo>
                    <a:pt x="2297" y="743"/>
                  </a:lnTo>
                  <a:lnTo>
                    <a:pt x="2330" y="778"/>
                  </a:lnTo>
                  <a:lnTo>
                    <a:pt x="2361" y="814"/>
                  </a:lnTo>
                  <a:lnTo>
                    <a:pt x="2392" y="851"/>
                  </a:lnTo>
                  <a:lnTo>
                    <a:pt x="2421" y="885"/>
                  </a:lnTo>
                  <a:lnTo>
                    <a:pt x="2448" y="921"/>
                  </a:lnTo>
                  <a:lnTo>
                    <a:pt x="2497" y="988"/>
                  </a:lnTo>
                  <a:lnTo>
                    <a:pt x="2539" y="1049"/>
                  </a:lnTo>
                  <a:lnTo>
                    <a:pt x="2573" y="1101"/>
                  </a:lnTo>
                  <a:lnTo>
                    <a:pt x="2597" y="1142"/>
                  </a:lnTo>
                  <a:lnTo>
                    <a:pt x="2614" y="1170"/>
                  </a:lnTo>
                  <a:lnTo>
                    <a:pt x="2620" y="1180"/>
                  </a:lnTo>
                  <a:lnTo>
                    <a:pt x="2648" y="1232"/>
                  </a:lnTo>
                  <a:lnTo>
                    <a:pt x="2779" y="1037"/>
                  </a:lnTo>
                  <a:lnTo>
                    <a:pt x="2791" y="1008"/>
                  </a:lnTo>
                  <a:lnTo>
                    <a:pt x="2802" y="981"/>
                  </a:lnTo>
                  <a:lnTo>
                    <a:pt x="2811" y="955"/>
                  </a:lnTo>
                  <a:lnTo>
                    <a:pt x="2818" y="930"/>
                  </a:lnTo>
                  <a:lnTo>
                    <a:pt x="2823" y="907"/>
                  </a:lnTo>
                  <a:lnTo>
                    <a:pt x="2827" y="884"/>
                  </a:lnTo>
                  <a:lnTo>
                    <a:pt x="2830" y="862"/>
                  </a:lnTo>
                  <a:lnTo>
                    <a:pt x="2831" y="841"/>
                  </a:lnTo>
                  <a:lnTo>
                    <a:pt x="2831" y="821"/>
                  </a:lnTo>
                  <a:lnTo>
                    <a:pt x="2828" y="802"/>
                  </a:lnTo>
                  <a:lnTo>
                    <a:pt x="2826" y="784"/>
                  </a:lnTo>
                  <a:lnTo>
                    <a:pt x="2821" y="765"/>
                  </a:lnTo>
                  <a:lnTo>
                    <a:pt x="2816" y="749"/>
                  </a:lnTo>
                  <a:lnTo>
                    <a:pt x="2808" y="732"/>
                  </a:lnTo>
                  <a:lnTo>
                    <a:pt x="2801" y="716"/>
                  </a:lnTo>
                  <a:lnTo>
                    <a:pt x="2791" y="701"/>
                  </a:lnTo>
                  <a:lnTo>
                    <a:pt x="2781" y="686"/>
                  </a:lnTo>
                  <a:lnTo>
                    <a:pt x="2770" y="671"/>
                  </a:lnTo>
                  <a:lnTo>
                    <a:pt x="2758" y="657"/>
                  </a:lnTo>
                  <a:lnTo>
                    <a:pt x="2744" y="644"/>
                  </a:lnTo>
                  <a:lnTo>
                    <a:pt x="2729" y="630"/>
                  </a:lnTo>
                  <a:lnTo>
                    <a:pt x="2714" y="617"/>
                  </a:lnTo>
                  <a:lnTo>
                    <a:pt x="2699" y="604"/>
                  </a:lnTo>
                  <a:lnTo>
                    <a:pt x="2682" y="591"/>
                  </a:lnTo>
                  <a:lnTo>
                    <a:pt x="2647" y="567"/>
                  </a:lnTo>
                  <a:lnTo>
                    <a:pt x="2609" y="542"/>
                  </a:lnTo>
                  <a:lnTo>
                    <a:pt x="2569" y="517"/>
                  </a:lnTo>
                  <a:lnTo>
                    <a:pt x="2527" y="491"/>
                  </a:lnTo>
                  <a:lnTo>
                    <a:pt x="2487" y="467"/>
                  </a:lnTo>
                  <a:lnTo>
                    <a:pt x="2446" y="443"/>
                  </a:lnTo>
                  <a:lnTo>
                    <a:pt x="2405" y="416"/>
                  </a:lnTo>
                  <a:lnTo>
                    <a:pt x="2363" y="388"/>
                  </a:lnTo>
                  <a:lnTo>
                    <a:pt x="2319" y="358"/>
                  </a:lnTo>
                  <a:lnTo>
                    <a:pt x="2275" y="326"/>
                  </a:lnTo>
                  <a:lnTo>
                    <a:pt x="2230" y="291"/>
                  </a:lnTo>
                  <a:lnTo>
                    <a:pt x="2184" y="254"/>
                  </a:lnTo>
                  <a:lnTo>
                    <a:pt x="2148" y="233"/>
                  </a:lnTo>
                  <a:lnTo>
                    <a:pt x="2113" y="212"/>
                  </a:lnTo>
                  <a:lnTo>
                    <a:pt x="2077" y="192"/>
                  </a:lnTo>
                  <a:lnTo>
                    <a:pt x="2042" y="173"/>
                  </a:lnTo>
                  <a:lnTo>
                    <a:pt x="2006" y="156"/>
                  </a:lnTo>
                  <a:lnTo>
                    <a:pt x="1972" y="139"/>
                  </a:lnTo>
                  <a:lnTo>
                    <a:pt x="1936" y="124"/>
                  </a:lnTo>
                  <a:lnTo>
                    <a:pt x="1901" y="108"/>
                  </a:lnTo>
                  <a:lnTo>
                    <a:pt x="1865" y="94"/>
                  </a:lnTo>
                  <a:lnTo>
                    <a:pt x="1830" y="82"/>
                  </a:lnTo>
                  <a:lnTo>
                    <a:pt x="1795" y="69"/>
                  </a:lnTo>
                  <a:lnTo>
                    <a:pt x="1760" y="58"/>
                  </a:lnTo>
                  <a:lnTo>
                    <a:pt x="1726" y="48"/>
                  </a:lnTo>
                  <a:lnTo>
                    <a:pt x="1690" y="39"/>
                  </a:lnTo>
                  <a:lnTo>
                    <a:pt x="1655" y="31"/>
                  </a:lnTo>
                  <a:lnTo>
                    <a:pt x="1620" y="23"/>
                  </a:lnTo>
                  <a:lnTo>
                    <a:pt x="1585" y="17"/>
                  </a:lnTo>
                  <a:lnTo>
                    <a:pt x="1551" y="12"/>
                  </a:lnTo>
                  <a:lnTo>
                    <a:pt x="1517" y="7"/>
                  </a:lnTo>
                  <a:lnTo>
                    <a:pt x="1482" y="5"/>
                  </a:lnTo>
                  <a:lnTo>
                    <a:pt x="1448" y="2"/>
                  </a:lnTo>
                  <a:lnTo>
                    <a:pt x="1413" y="1"/>
                  </a:lnTo>
                  <a:lnTo>
                    <a:pt x="1379" y="0"/>
                  </a:lnTo>
                  <a:lnTo>
                    <a:pt x="1344" y="0"/>
                  </a:lnTo>
                  <a:lnTo>
                    <a:pt x="1310" y="2"/>
                  </a:lnTo>
                  <a:lnTo>
                    <a:pt x="1276" y="5"/>
                  </a:lnTo>
                  <a:lnTo>
                    <a:pt x="1243" y="7"/>
                  </a:lnTo>
                  <a:lnTo>
                    <a:pt x="1208" y="12"/>
                  </a:lnTo>
                  <a:lnTo>
                    <a:pt x="1174" y="17"/>
                  </a:lnTo>
                  <a:lnTo>
                    <a:pt x="1141" y="23"/>
                  </a:lnTo>
                  <a:lnTo>
                    <a:pt x="1106" y="31"/>
                  </a:lnTo>
                  <a:lnTo>
                    <a:pt x="1073" y="38"/>
                  </a:lnTo>
                  <a:close/>
                  <a:moveTo>
                    <a:pt x="1091" y="108"/>
                  </a:moveTo>
                  <a:lnTo>
                    <a:pt x="1122" y="100"/>
                  </a:lnTo>
                  <a:lnTo>
                    <a:pt x="1154" y="93"/>
                  </a:lnTo>
                  <a:lnTo>
                    <a:pt x="1187" y="86"/>
                  </a:lnTo>
                  <a:lnTo>
                    <a:pt x="1219" y="82"/>
                  </a:lnTo>
                  <a:lnTo>
                    <a:pt x="1251" y="78"/>
                  </a:lnTo>
                  <a:lnTo>
                    <a:pt x="1284" y="75"/>
                  </a:lnTo>
                  <a:lnTo>
                    <a:pt x="1316" y="73"/>
                  </a:lnTo>
                  <a:lnTo>
                    <a:pt x="1348" y="72"/>
                  </a:lnTo>
                  <a:lnTo>
                    <a:pt x="1380" y="72"/>
                  </a:lnTo>
                  <a:lnTo>
                    <a:pt x="1413" y="72"/>
                  </a:lnTo>
                  <a:lnTo>
                    <a:pt x="1445" y="73"/>
                  </a:lnTo>
                  <a:lnTo>
                    <a:pt x="1479" y="75"/>
                  </a:lnTo>
                  <a:lnTo>
                    <a:pt x="1511" y="79"/>
                  </a:lnTo>
                  <a:lnTo>
                    <a:pt x="1543" y="83"/>
                  </a:lnTo>
                  <a:lnTo>
                    <a:pt x="1577" y="88"/>
                  </a:lnTo>
                  <a:lnTo>
                    <a:pt x="1609" y="94"/>
                  </a:lnTo>
                  <a:lnTo>
                    <a:pt x="1642" y="101"/>
                  </a:lnTo>
                  <a:lnTo>
                    <a:pt x="1675" y="109"/>
                  </a:lnTo>
                  <a:lnTo>
                    <a:pt x="1708" y="117"/>
                  </a:lnTo>
                  <a:lnTo>
                    <a:pt x="1742" y="126"/>
                  </a:lnTo>
                  <a:lnTo>
                    <a:pt x="1774" y="137"/>
                  </a:lnTo>
                  <a:lnTo>
                    <a:pt x="1808" y="149"/>
                  </a:lnTo>
                  <a:lnTo>
                    <a:pt x="1841" y="161"/>
                  </a:lnTo>
                  <a:lnTo>
                    <a:pt x="1875" y="175"/>
                  </a:lnTo>
                  <a:lnTo>
                    <a:pt x="1908" y="188"/>
                  </a:lnTo>
                  <a:lnTo>
                    <a:pt x="1940" y="203"/>
                  </a:lnTo>
                  <a:lnTo>
                    <a:pt x="1974" y="219"/>
                  </a:lnTo>
                  <a:lnTo>
                    <a:pt x="2008" y="235"/>
                  </a:lnTo>
                  <a:lnTo>
                    <a:pt x="2041" y="254"/>
                  </a:lnTo>
                  <a:lnTo>
                    <a:pt x="2075" y="273"/>
                  </a:lnTo>
                  <a:lnTo>
                    <a:pt x="2108" y="291"/>
                  </a:lnTo>
                  <a:lnTo>
                    <a:pt x="2142" y="312"/>
                  </a:lnTo>
                  <a:lnTo>
                    <a:pt x="2188" y="349"/>
                  </a:lnTo>
                  <a:lnTo>
                    <a:pt x="2234" y="385"/>
                  </a:lnTo>
                  <a:lnTo>
                    <a:pt x="2279" y="418"/>
                  </a:lnTo>
                  <a:lnTo>
                    <a:pt x="2324" y="449"/>
                  </a:lnTo>
                  <a:lnTo>
                    <a:pt x="2368" y="477"/>
                  </a:lnTo>
                  <a:lnTo>
                    <a:pt x="2410" y="503"/>
                  </a:lnTo>
                  <a:lnTo>
                    <a:pt x="2451" y="528"/>
                  </a:lnTo>
                  <a:lnTo>
                    <a:pt x="2489" y="552"/>
                  </a:lnTo>
                  <a:lnTo>
                    <a:pt x="2550" y="589"/>
                  </a:lnTo>
                  <a:lnTo>
                    <a:pt x="2604" y="622"/>
                  </a:lnTo>
                  <a:lnTo>
                    <a:pt x="2627" y="640"/>
                  </a:lnTo>
                  <a:lnTo>
                    <a:pt x="2650" y="656"/>
                  </a:lnTo>
                  <a:lnTo>
                    <a:pt x="2671" y="672"/>
                  </a:lnTo>
                  <a:lnTo>
                    <a:pt x="2689" y="688"/>
                  </a:lnTo>
                  <a:lnTo>
                    <a:pt x="2705" y="704"/>
                  </a:lnTo>
                  <a:lnTo>
                    <a:pt x="2720" y="722"/>
                  </a:lnTo>
                  <a:lnTo>
                    <a:pt x="2733" y="739"/>
                  </a:lnTo>
                  <a:lnTo>
                    <a:pt x="2743" y="756"/>
                  </a:lnTo>
                  <a:lnTo>
                    <a:pt x="2751" y="775"/>
                  </a:lnTo>
                  <a:lnTo>
                    <a:pt x="2756" y="795"/>
                  </a:lnTo>
                  <a:lnTo>
                    <a:pt x="2760" y="816"/>
                  </a:lnTo>
                  <a:lnTo>
                    <a:pt x="2761" y="837"/>
                  </a:lnTo>
                  <a:lnTo>
                    <a:pt x="2761" y="854"/>
                  </a:lnTo>
                  <a:lnTo>
                    <a:pt x="2759" y="873"/>
                  </a:lnTo>
                  <a:lnTo>
                    <a:pt x="2755" y="892"/>
                  </a:lnTo>
                  <a:lnTo>
                    <a:pt x="2750" y="912"/>
                  </a:lnTo>
                  <a:lnTo>
                    <a:pt x="2744" y="933"/>
                  </a:lnTo>
                  <a:lnTo>
                    <a:pt x="2736" y="955"/>
                  </a:lnTo>
                  <a:lnTo>
                    <a:pt x="2728" y="977"/>
                  </a:lnTo>
                  <a:lnTo>
                    <a:pt x="2717" y="1002"/>
                  </a:lnTo>
                  <a:lnTo>
                    <a:pt x="2712" y="1011"/>
                  </a:lnTo>
                  <a:lnTo>
                    <a:pt x="2695" y="1033"/>
                  </a:lnTo>
                  <a:lnTo>
                    <a:pt x="2676" y="1063"/>
                  </a:lnTo>
                  <a:lnTo>
                    <a:pt x="2653" y="1095"/>
                  </a:lnTo>
                  <a:lnTo>
                    <a:pt x="2630" y="1057"/>
                  </a:lnTo>
                  <a:lnTo>
                    <a:pt x="2599" y="1010"/>
                  </a:lnTo>
                  <a:lnTo>
                    <a:pt x="2563" y="956"/>
                  </a:lnTo>
                  <a:lnTo>
                    <a:pt x="2520" y="897"/>
                  </a:lnTo>
                  <a:lnTo>
                    <a:pt x="2497" y="866"/>
                  </a:lnTo>
                  <a:lnTo>
                    <a:pt x="2472" y="835"/>
                  </a:lnTo>
                  <a:lnTo>
                    <a:pt x="2446" y="802"/>
                  </a:lnTo>
                  <a:lnTo>
                    <a:pt x="2419" y="770"/>
                  </a:lnTo>
                  <a:lnTo>
                    <a:pt x="2390" y="738"/>
                  </a:lnTo>
                  <a:lnTo>
                    <a:pt x="2361" y="706"/>
                  </a:lnTo>
                  <a:lnTo>
                    <a:pt x="2330" y="673"/>
                  </a:lnTo>
                  <a:lnTo>
                    <a:pt x="2298" y="642"/>
                  </a:lnTo>
                  <a:lnTo>
                    <a:pt x="2266" y="611"/>
                  </a:lnTo>
                  <a:lnTo>
                    <a:pt x="2232" y="582"/>
                  </a:lnTo>
                  <a:lnTo>
                    <a:pt x="2198" y="554"/>
                  </a:lnTo>
                  <a:lnTo>
                    <a:pt x="2162" y="527"/>
                  </a:lnTo>
                  <a:lnTo>
                    <a:pt x="2126" y="502"/>
                  </a:lnTo>
                  <a:lnTo>
                    <a:pt x="2088" y="479"/>
                  </a:lnTo>
                  <a:lnTo>
                    <a:pt x="2050" y="457"/>
                  </a:lnTo>
                  <a:lnTo>
                    <a:pt x="2011" y="438"/>
                  </a:lnTo>
                  <a:lnTo>
                    <a:pt x="1972" y="421"/>
                  </a:lnTo>
                  <a:lnTo>
                    <a:pt x="1932" y="407"/>
                  </a:lnTo>
                  <a:lnTo>
                    <a:pt x="1891" y="395"/>
                  </a:lnTo>
                  <a:lnTo>
                    <a:pt x="1850" y="388"/>
                  </a:lnTo>
                  <a:lnTo>
                    <a:pt x="1808" y="383"/>
                  </a:lnTo>
                  <a:lnTo>
                    <a:pt x="1765" y="382"/>
                  </a:lnTo>
                  <a:lnTo>
                    <a:pt x="1723" y="384"/>
                  </a:lnTo>
                  <a:lnTo>
                    <a:pt x="1681" y="390"/>
                  </a:lnTo>
                  <a:lnTo>
                    <a:pt x="1660" y="383"/>
                  </a:lnTo>
                  <a:lnTo>
                    <a:pt x="1621" y="371"/>
                  </a:lnTo>
                  <a:lnTo>
                    <a:pt x="1597" y="363"/>
                  </a:lnTo>
                  <a:lnTo>
                    <a:pt x="1568" y="356"/>
                  </a:lnTo>
                  <a:lnTo>
                    <a:pt x="1536" y="348"/>
                  </a:lnTo>
                  <a:lnTo>
                    <a:pt x="1500" y="341"/>
                  </a:lnTo>
                  <a:lnTo>
                    <a:pt x="1461" y="335"/>
                  </a:lnTo>
                  <a:lnTo>
                    <a:pt x="1420" y="328"/>
                  </a:lnTo>
                  <a:lnTo>
                    <a:pt x="1377" y="323"/>
                  </a:lnTo>
                  <a:lnTo>
                    <a:pt x="1331" y="320"/>
                  </a:lnTo>
                  <a:lnTo>
                    <a:pt x="1282" y="318"/>
                  </a:lnTo>
                  <a:lnTo>
                    <a:pt x="1231" y="318"/>
                  </a:lnTo>
                  <a:lnTo>
                    <a:pt x="1181" y="321"/>
                  </a:lnTo>
                  <a:lnTo>
                    <a:pt x="1127" y="326"/>
                  </a:lnTo>
                  <a:lnTo>
                    <a:pt x="1073" y="335"/>
                  </a:lnTo>
                  <a:lnTo>
                    <a:pt x="1017" y="346"/>
                  </a:lnTo>
                  <a:lnTo>
                    <a:pt x="961" y="361"/>
                  </a:lnTo>
                  <a:lnTo>
                    <a:pt x="904" y="378"/>
                  </a:lnTo>
                  <a:lnTo>
                    <a:pt x="847" y="400"/>
                  </a:lnTo>
                  <a:lnTo>
                    <a:pt x="789" y="428"/>
                  </a:lnTo>
                  <a:lnTo>
                    <a:pt x="732" y="459"/>
                  </a:lnTo>
                  <a:lnTo>
                    <a:pt x="676" y="495"/>
                  </a:lnTo>
                  <a:lnTo>
                    <a:pt x="621" y="537"/>
                  </a:lnTo>
                  <a:lnTo>
                    <a:pt x="565" y="583"/>
                  </a:lnTo>
                  <a:lnTo>
                    <a:pt x="511" y="636"/>
                  </a:lnTo>
                  <a:lnTo>
                    <a:pt x="458" y="694"/>
                  </a:lnTo>
                  <a:lnTo>
                    <a:pt x="407" y="759"/>
                  </a:lnTo>
                  <a:lnTo>
                    <a:pt x="357" y="831"/>
                  </a:lnTo>
                  <a:lnTo>
                    <a:pt x="309" y="909"/>
                  </a:lnTo>
                  <a:lnTo>
                    <a:pt x="264" y="995"/>
                  </a:lnTo>
                  <a:lnTo>
                    <a:pt x="227" y="972"/>
                  </a:lnTo>
                  <a:lnTo>
                    <a:pt x="180" y="945"/>
                  </a:lnTo>
                  <a:lnTo>
                    <a:pt x="134" y="918"/>
                  </a:lnTo>
                  <a:lnTo>
                    <a:pt x="98" y="895"/>
                  </a:lnTo>
                  <a:lnTo>
                    <a:pt x="115" y="867"/>
                  </a:lnTo>
                  <a:lnTo>
                    <a:pt x="140" y="831"/>
                  </a:lnTo>
                  <a:lnTo>
                    <a:pt x="172" y="787"/>
                  </a:lnTo>
                  <a:lnTo>
                    <a:pt x="209" y="738"/>
                  </a:lnTo>
                  <a:lnTo>
                    <a:pt x="252" y="684"/>
                  </a:lnTo>
                  <a:lnTo>
                    <a:pt x="301" y="626"/>
                  </a:lnTo>
                  <a:lnTo>
                    <a:pt x="327" y="596"/>
                  </a:lnTo>
                  <a:lnTo>
                    <a:pt x="356" y="567"/>
                  </a:lnTo>
                  <a:lnTo>
                    <a:pt x="386" y="537"/>
                  </a:lnTo>
                  <a:lnTo>
                    <a:pt x="417" y="506"/>
                  </a:lnTo>
                  <a:lnTo>
                    <a:pt x="449" y="475"/>
                  </a:lnTo>
                  <a:lnTo>
                    <a:pt x="483" y="445"/>
                  </a:lnTo>
                  <a:lnTo>
                    <a:pt x="517" y="414"/>
                  </a:lnTo>
                  <a:lnTo>
                    <a:pt x="555" y="384"/>
                  </a:lnTo>
                  <a:lnTo>
                    <a:pt x="592" y="356"/>
                  </a:lnTo>
                  <a:lnTo>
                    <a:pt x="632" y="326"/>
                  </a:lnTo>
                  <a:lnTo>
                    <a:pt x="671" y="299"/>
                  </a:lnTo>
                  <a:lnTo>
                    <a:pt x="714" y="271"/>
                  </a:lnTo>
                  <a:lnTo>
                    <a:pt x="756" y="247"/>
                  </a:lnTo>
                  <a:lnTo>
                    <a:pt x="801" y="222"/>
                  </a:lnTo>
                  <a:lnTo>
                    <a:pt x="845" y="198"/>
                  </a:lnTo>
                  <a:lnTo>
                    <a:pt x="892" y="176"/>
                  </a:lnTo>
                  <a:lnTo>
                    <a:pt x="940" y="156"/>
                  </a:lnTo>
                  <a:lnTo>
                    <a:pt x="989" y="137"/>
                  </a:lnTo>
                  <a:lnTo>
                    <a:pt x="1039" y="121"/>
                  </a:lnTo>
                  <a:lnTo>
                    <a:pt x="1091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6951600" y="5114880"/>
              <a:ext cx="130320" cy="412920"/>
            </a:xfrm>
            <a:custGeom>
              <a:avLst/>
              <a:gdLst/>
              <a:ahLst/>
              <a:rect l="l" t="t" r="r" b="b"/>
              <a:pathLst>
                <a:path w="328" h="1041">
                  <a:moveTo>
                    <a:pt x="135" y="1"/>
                  </a:moveTo>
                  <a:lnTo>
                    <a:pt x="133" y="7"/>
                  </a:lnTo>
                  <a:lnTo>
                    <a:pt x="125" y="26"/>
                  </a:lnTo>
                  <a:lnTo>
                    <a:pt x="115" y="56"/>
                  </a:lnTo>
                  <a:lnTo>
                    <a:pt x="103" y="94"/>
                  </a:lnTo>
                  <a:lnTo>
                    <a:pt x="89" y="142"/>
                  </a:lnTo>
                  <a:lnTo>
                    <a:pt x="73" y="198"/>
                  </a:lnTo>
                  <a:lnTo>
                    <a:pt x="58" y="260"/>
                  </a:lnTo>
                  <a:lnTo>
                    <a:pt x="42" y="328"/>
                  </a:lnTo>
                  <a:lnTo>
                    <a:pt x="35" y="364"/>
                  </a:lnTo>
                  <a:lnTo>
                    <a:pt x="28" y="400"/>
                  </a:lnTo>
                  <a:lnTo>
                    <a:pt x="22" y="439"/>
                  </a:lnTo>
                  <a:lnTo>
                    <a:pt x="16" y="477"/>
                  </a:lnTo>
                  <a:lnTo>
                    <a:pt x="11" y="516"/>
                  </a:lnTo>
                  <a:lnTo>
                    <a:pt x="7" y="556"/>
                  </a:lnTo>
                  <a:lnTo>
                    <a:pt x="4" y="595"/>
                  </a:lnTo>
                  <a:lnTo>
                    <a:pt x="1" y="635"/>
                  </a:lnTo>
                  <a:lnTo>
                    <a:pt x="0" y="675"/>
                  </a:lnTo>
                  <a:lnTo>
                    <a:pt x="0" y="714"/>
                  </a:lnTo>
                  <a:lnTo>
                    <a:pt x="1" y="754"/>
                  </a:lnTo>
                  <a:lnTo>
                    <a:pt x="4" y="794"/>
                  </a:lnTo>
                  <a:lnTo>
                    <a:pt x="7" y="832"/>
                  </a:lnTo>
                  <a:lnTo>
                    <a:pt x="14" y="871"/>
                  </a:lnTo>
                  <a:lnTo>
                    <a:pt x="21" y="908"/>
                  </a:lnTo>
                  <a:lnTo>
                    <a:pt x="30" y="945"/>
                  </a:lnTo>
                  <a:lnTo>
                    <a:pt x="56" y="1041"/>
                  </a:lnTo>
                  <a:lnTo>
                    <a:pt x="144" y="1041"/>
                  </a:lnTo>
                  <a:lnTo>
                    <a:pt x="143" y="1032"/>
                  </a:lnTo>
                  <a:lnTo>
                    <a:pt x="141" y="1006"/>
                  </a:lnTo>
                  <a:lnTo>
                    <a:pt x="139" y="966"/>
                  </a:lnTo>
                  <a:lnTo>
                    <a:pt x="136" y="913"/>
                  </a:lnTo>
                  <a:lnTo>
                    <a:pt x="135" y="850"/>
                  </a:lnTo>
                  <a:lnTo>
                    <a:pt x="135" y="776"/>
                  </a:lnTo>
                  <a:lnTo>
                    <a:pt x="136" y="698"/>
                  </a:lnTo>
                  <a:lnTo>
                    <a:pt x="140" y="615"/>
                  </a:lnTo>
                  <a:lnTo>
                    <a:pt x="143" y="573"/>
                  </a:lnTo>
                  <a:lnTo>
                    <a:pt x="148" y="529"/>
                  </a:lnTo>
                  <a:lnTo>
                    <a:pt x="151" y="486"/>
                  </a:lnTo>
                  <a:lnTo>
                    <a:pt x="158" y="443"/>
                  </a:lnTo>
                  <a:lnTo>
                    <a:pt x="164" y="400"/>
                  </a:lnTo>
                  <a:lnTo>
                    <a:pt x="172" y="358"/>
                  </a:lnTo>
                  <a:lnTo>
                    <a:pt x="181" y="317"/>
                  </a:lnTo>
                  <a:lnTo>
                    <a:pt x="191" y="278"/>
                  </a:lnTo>
                  <a:lnTo>
                    <a:pt x="204" y="239"/>
                  </a:lnTo>
                  <a:lnTo>
                    <a:pt x="216" y="202"/>
                  </a:lnTo>
                  <a:lnTo>
                    <a:pt x="231" y="167"/>
                  </a:lnTo>
                  <a:lnTo>
                    <a:pt x="247" y="135"/>
                  </a:lnTo>
                  <a:lnTo>
                    <a:pt x="264" y="104"/>
                  </a:lnTo>
                  <a:lnTo>
                    <a:pt x="283" y="77"/>
                  </a:lnTo>
                  <a:lnTo>
                    <a:pt x="304" y="52"/>
                  </a:lnTo>
                  <a:lnTo>
                    <a:pt x="328" y="29"/>
                  </a:lnTo>
                  <a:lnTo>
                    <a:pt x="320" y="28"/>
                  </a:lnTo>
                  <a:lnTo>
                    <a:pt x="303" y="25"/>
                  </a:lnTo>
                  <a:lnTo>
                    <a:pt x="276" y="18"/>
                  </a:lnTo>
                  <a:lnTo>
                    <a:pt x="245" y="12"/>
                  </a:lnTo>
                  <a:lnTo>
                    <a:pt x="211" y="6"/>
                  </a:lnTo>
                  <a:lnTo>
                    <a:pt x="180" y="2"/>
                  </a:lnTo>
                  <a:lnTo>
                    <a:pt x="165" y="0"/>
                  </a:lnTo>
                  <a:lnTo>
                    <a:pt x="153" y="0"/>
                  </a:lnTo>
                  <a:lnTo>
                    <a:pt x="143" y="0"/>
                  </a:lnTo>
                  <a:lnTo>
                    <a:pt x="135" y="1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6937200" y="5100480"/>
              <a:ext cx="174960" cy="441360"/>
            </a:xfrm>
            <a:custGeom>
              <a:avLst/>
              <a:gdLst/>
              <a:ahLst/>
              <a:rect l="l" t="t" r="r" b="b"/>
              <a:pathLst>
                <a:path w="441" h="1113">
                  <a:moveTo>
                    <a:pt x="161" y="2"/>
                  </a:moveTo>
                  <a:lnTo>
                    <a:pt x="144" y="7"/>
                  </a:lnTo>
                  <a:lnTo>
                    <a:pt x="138" y="25"/>
                  </a:lnTo>
                  <a:lnTo>
                    <a:pt x="134" y="34"/>
                  </a:lnTo>
                  <a:lnTo>
                    <a:pt x="125" y="57"/>
                  </a:lnTo>
                  <a:lnTo>
                    <a:pt x="115" y="89"/>
                  </a:lnTo>
                  <a:lnTo>
                    <a:pt x="102" y="130"/>
                  </a:lnTo>
                  <a:lnTo>
                    <a:pt x="87" y="180"/>
                  </a:lnTo>
                  <a:lnTo>
                    <a:pt x="72" y="237"/>
                  </a:lnTo>
                  <a:lnTo>
                    <a:pt x="56" y="300"/>
                  </a:lnTo>
                  <a:lnTo>
                    <a:pt x="41" y="369"/>
                  </a:lnTo>
                  <a:lnTo>
                    <a:pt x="33" y="405"/>
                  </a:lnTo>
                  <a:lnTo>
                    <a:pt x="27" y="443"/>
                  </a:lnTo>
                  <a:lnTo>
                    <a:pt x="21" y="480"/>
                  </a:lnTo>
                  <a:lnTo>
                    <a:pt x="15" y="518"/>
                  </a:lnTo>
                  <a:lnTo>
                    <a:pt x="10" y="558"/>
                  </a:lnTo>
                  <a:lnTo>
                    <a:pt x="6" y="598"/>
                  </a:lnTo>
                  <a:lnTo>
                    <a:pt x="4" y="637"/>
                  </a:lnTo>
                  <a:lnTo>
                    <a:pt x="1" y="677"/>
                  </a:lnTo>
                  <a:lnTo>
                    <a:pt x="0" y="717"/>
                  </a:lnTo>
                  <a:lnTo>
                    <a:pt x="0" y="758"/>
                  </a:lnTo>
                  <a:lnTo>
                    <a:pt x="1" y="797"/>
                  </a:lnTo>
                  <a:lnTo>
                    <a:pt x="5" y="837"/>
                  </a:lnTo>
                  <a:lnTo>
                    <a:pt x="9" y="877"/>
                  </a:lnTo>
                  <a:lnTo>
                    <a:pt x="15" y="915"/>
                  </a:lnTo>
                  <a:lnTo>
                    <a:pt x="22" y="953"/>
                  </a:lnTo>
                  <a:lnTo>
                    <a:pt x="31" y="990"/>
                  </a:lnTo>
                  <a:lnTo>
                    <a:pt x="64" y="1113"/>
                  </a:lnTo>
                  <a:lnTo>
                    <a:pt x="218" y="1113"/>
                  </a:lnTo>
                  <a:lnTo>
                    <a:pt x="215" y="1074"/>
                  </a:lnTo>
                  <a:lnTo>
                    <a:pt x="215" y="1064"/>
                  </a:lnTo>
                  <a:lnTo>
                    <a:pt x="212" y="1037"/>
                  </a:lnTo>
                  <a:lnTo>
                    <a:pt x="210" y="997"/>
                  </a:lnTo>
                  <a:lnTo>
                    <a:pt x="208" y="945"/>
                  </a:lnTo>
                  <a:lnTo>
                    <a:pt x="207" y="883"/>
                  </a:lnTo>
                  <a:lnTo>
                    <a:pt x="206" y="812"/>
                  </a:lnTo>
                  <a:lnTo>
                    <a:pt x="207" y="735"/>
                  </a:lnTo>
                  <a:lnTo>
                    <a:pt x="211" y="655"/>
                  </a:lnTo>
                  <a:lnTo>
                    <a:pt x="215" y="614"/>
                  </a:lnTo>
                  <a:lnTo>
                    <a:pt x="218" y="572"/>
                  </a:lnTo>
                  <a:lnTo>
                    <a:pt x="222" y="530"/>
                  </a:lnTo>
                  <a:lnTo>
                    <a:pt x="227" y="489"/>
                  </a:lnTo>
                  <a:lnTo>
                    <a:pt x="235" y="448"/>
                  </a:lnTo>
                  <a:lnTo>
                    <a:pt x="241" y="407"/>
                  </a:lnTo>
                  <a:lnTo>
                    <a:pt x="249" y="367"/>
                  </a:lnTo>
                  <a:lnTo>
                    <a:pt x="259" y="329"/>
                  </a:lnTo>
                  <a:lnTo>
                    <a:pt x="271" y="293"/>
                  </a:lnTo>
                  <a:lnTo>
                    <a:pt x="283" y="257"/>
                  </a:lnTo>
                  <a:lnTo>
                    <a:pt x="295" y="223"/>
                  </a:lnTo>
                  <a:lnTo>
                    <a:pt x="310" y="192"/>
                  </a:lnTo>
                  <a:lnTo>
                    <a:pt x="328" y="163"/>
                  </a:lnTo>
                  <a:lnTo>
                    <a:pt x="345" y="137"/>
                  </a:lnTo>
                  <a:lnTo>
                    <a:pt x="365" y="114"/>
                  </a:lnTo>
                  <a:lnTo>
                    <a:pt x="386" y="94"/>
                  </a:lnTo>
                  <a:lnTo>
                    <a:pt x="441" y="48"/>
                  </a:lnTo>
                  <a:lnTo>
                    <a:pt x="372" y="32"/>
                  </a:lnTo>
                  <a:lnTo>
                    <a:pt x="350" y="26"/>
                  </a:lnTo>
                  <a:lnTo>
                    <a:pt x="324" y="21"/>
                  </a:lnTo>
                  <a:lnTo>
                    <a:pt x="294" y="15"/>
                  </a:lnTo>
                  <a:lnTo>
                    <a:pt x="263" y="8"/>
                  </a:lnTo>
                  <a:lnTo>
                    <a:pt x="232" y="3"/>
                  </a:lnTo>
                  <a:lnTo>
                    <a:pt x="204" y="1"/>
                  </a:lnTo>
                  <a:lnTo>
                    <a:pt x="191" y="0"/>
                  </a:lnTo>
                  <a:lnTo>
                    <a:pt x="180" y="0"/>
                  </a:lnTo>
                  <a:lnTo>
                    <a:pt x="170" y="1"/>
                  </a:lnTo>
                  <a:lnTo>
                    <a:pt x="161" y="2"/>
                  </a:lnTo>
                  <a:close/>
                  <a:moveTo>
                    <a:pt x="100" y="971"/>
                  </a:moveTo>
                  <a:lnTo>
                    <a:pt x="93" y="944"/>
                  </a:lnTo>
                  <a:lnTo>
                    <a:pt x="87" y="915"/>
                  </a:lnTo>
                  <a:lnTo>
                    <a:pt x="82" y="886"/>
                  </a:lnTo>
                  <a:lnTo>
                    <a:pt x="78" y="856"/>
                  </a:lnTo>
                  <a:lnTo>
                    <a:pt x="76" y="826"/>
                  </a:lnTo>
                  <a:lnTo>
                    <a:pt x="73" y="796"/>
                  </a:lnTo>
                  <a:lnTo>
                    <a:pt x="72" y="766"/>
                  </a:lnTo>
                  <a:lnTo>
                    <a:pt x="72" y="735"/>
                  </a:lnTo>
                  <a:lnTo>
                    <a:pt x="73" y="680"/>
                  </a:lnTo>
                  <a:lnTo>
                    <a:pt x="76" y="623"/>
                  </a:lnTo>
                  <a:lnTo>
                    <a:pt x="82" y="568"/>
                  </a:lnTo>
                  <a:lnTo>
                    <a:pt x="88" y="513"/>
                  </a:lnTo>
                  <a:lnTo>
                    <a:pt x="97" y="460"/>
                  </a:lnTo>
                  <a:lnTo>
                    <a:pt x="105" y="409"/>
                  </a:lnTo>
                  <a:lnTo>
                    <a:pt x="115" y="360"/>
                  </a:lnTo>
                  <a:lnTo>
                    <a:pt x="127" y="314"/>
                  </a:lnTo>
                  <a:lnTo>
                    <a:pt x="136" y="269"/>
                  </a:lnTo>
                  <a:lnTo>
                    <a:pt x="148" y="228"/>
                  </a:lnTo>
                  <a:lnTo>
                    <a:pt x="158" y="191"/>
                  </a:lnTo>
                  <a:lnTo>
                    <a:pt x="168" y="159"/>
                  </a:lnTo>
                  <a:lnTo>
                    <a:pt x="185" y="105"/>
                  </a:lnTo>
                  <a:lnTo>
                    <a:pt x="196" y="72"/>
                  </a:lnTo>
                  <a:lnTo>
                    <a:pt x="217" y="74"/>
                  </a:lnTo>
                  <a:lnTo>
                    <a:pt x="242" y="78"/>
                  </a:lnTo>
                  <a:lnTo>
                    <a:pt x="272" y="83"/>
                  </a:lnTo>
                  <a:lnTo>
                    <a:pt x="304" y="90"/>
                  </a:lnTo>
                  <a:lnTo>
                    <a:pt x="292" y="106"/>
                  </a:lnTo>
                  <a:lnTo>
                    <a:pt x="279" y="124"/>
                  </a:lnTo>
                  <a:lnTo>
                    <a:pt x="268" y="142"/>
                  </a:lnTo>
                  <a:lnTo>
                    <a:pt x="257" y="161"/>
                  </a:lnTo>
                  <a:lnTo>
                    <a:pt x="247" y="181"/>
                  </a:lnTo>
                  <a:lnTo>
                    <a:pt x="237" y="201"/>
                  </a:lnTo>
                  <a:lnTo>
                    <a:pt x="228" y="223"/>
                  </a:lnTo>
                  <a:lnTo>
                    <a:pt x="220" y="244"/>
                  </a:lnTo>
                  <a:lnTo>
                    <a:pt x="211" y="266"/>
                  </a:lnTo>
                  <a:lnTo>
                    <a:pt x="204" y="290"/>
                  </a:lnTo>
                  <a:lnTo>
                    <a:pt x="196" y="314"/>
                  </a:lnTo>
                  <a:lnTo>
                    <a:pt x="190" y="337"/>
                  </a:lnTo>
                  <a:lnTo>
                    <a:pt x="177" y="387"/>
                  </a:lnTo>
                  <a:lnTo>
                    <a:pt x="168" y="438"/>
                  </a:lnTo>
                  <a:lnTo>
                    <a:pt x="159" y="489"/>
                  </a:lnTo>
                  <a:lnTo>
                    <a:pt x="151" y="539"/>
                  </a:lnTo>
                  <a:lnTo>
                    <a:pt x="146" y="592"/>
                  </a:lnTo>
                  <a:lnTo>
                    <a:pt x="141" y="642"/>
                  </a:lnTo>
                  <a:lnTo>
                    <a:pt x="139" y="693"/>
                  </a:lnTo>
                  <a:lnTo>
                    <a:pt x="136" y="742"/>
                  </a:lnTo>
                  <a:lnTo>
                    <a:pt x="135" y="790"/>
                  </a:lnTo>
                  <a:lnTo>
                    <a:pt x="135" y="835"/>
                  </a:lnTo>
                  <a:lnTo>
                    <a:pt x="135" y="872"/>
                  </a:lnTo>
                  <a:lnTo>
                    <a:pt x="135" y="904"/>
                  </a:lnTo>
                  <a:lnTo>
                    <a:pt x="136" y="934"/>
                  </a:lnTo>
                  <a:lnTo>
                    <a:pt x="136" y="961"/>
                  </a:lnTo>
                  <a:lnTo>
                    <a:pt x="138" y="985"/>
                  </a:lnTo>
                  <a:lnTo>
                    <a:pt x="139" y="1007"/>
                  </a:lnTo>
                  <a:lnTo>
                    <a:pt x="140" y="1026"/>
                  </a:lnTo>
                  <a:lnTo>
                    <a:pt x="141" y="1041"/>
                  </a:lnTo>
                  <a:lnTo>
                    <a:pt x="130" y="1041"/>
                  </a:lnTo>
                  <a:lnTo>
                    <a:pt x="119" y="1041"/>
                  </a:lnTo>
                  <a:lnTo>
                    <a:pt x="113" y="1018"/>
                  </a:lnTo>
                  <a:lnTo>
                    <a:pt x="107" y="996"/>
                  </a:lnTo>
                  <a:lnTo>
                    <a:pt x="102" y="979"/>
                  </a:lnTo>
                  <a:lnTo>
                    <a:pt x="100" y="9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6994440" y="5121360"/>
              <a:ext cx="142920" cy="422280"/>
            </a:xfrm>
            <a:custGeom>
              <a:avLst/>
              <a:gdLst/>
              <a:ahLst/>
              <a:rect l="l" t="t" r="r" b="b"/>
              <a:pathLst>
                <a:path w="359" h="1062">
                  <a:moveTo>
                    <a:pt x="176" y="1"/>
                  </a:moveTo>
                  <a:lnTo>
                    <a:pt x="174" y="8"/>
                  </a:lnTo>
                  <a:lnTo>
                    <a:pt x="167" y="27"/>
                  </a:lnTo>
                  <a:lnTo>
                    <a:pt x="154" y="57"/>
                  </a:lnTo>
                  <a:lnTo>
                    <a:pt x="138" y="98"/>
                  </a:lnTo>
                  <a:lnTo>
                    <a:pt x="121" y="149"/>
                  </a:lnTo>
                  <a:lnTo>
                    <a:pt x="101" y="206"/>
                  </a:lnTo>
                  <a:lnTo>
                    <a:pt x="81" y="272"/>
                  </a:lnTo>
                  <a:lnTo>
                    <a:pt x="62" y="341"/>
                  </a:lnTo>
                  <a:lnTo>
                    <a:pt x="52" y="378"/>
                  </a:lnTo>
                  <a:lnTo>
                    <a:pt x="44" y="417"/>
                  </a:lnTo>
                  <a:lnTo>
                    <a:pt x="35" y="455"/>
                  </a:lnTo>
                  <a:lnTo>
                    <a:pt x="27" y="495"/>
                  </a:lnTo>
                  <a:lnTo>
                    <a:pt x="20" y="535"/>
                  </a:lnTo>
                  <a:lnTo>
                    <a:pt x="14" y="576"/>
                  </a:lnTo>
                  <a:lnTo>
                    <a:pt x="9" y="617"/>
                  </a:lnTo>
                  <a:lnTo>
                    <a:pt x="5" y="656"/>
                  </a:lnTo>
                  <a:lnTo>
                    <a:pt x="1" y="697"/>
                  </a:lnTo>
                  <a:lnTo>
                    <a:pt x="0" y="738"/>
                  </a:lnTo>
                  <a:lnTo>
                    <a:pt x="0" y="779"/>
                  </a:lnTo>
                  <a:lnTo>
                    <a:pt x="1" y="819"/>
                  </a:lnTo>
                  <a:lnTo>
                    <a:pt x="5" y="857"/>
                  </a:lnTo>
                  <a:lnTo>
                    <a:pt x="10" y="897"/>
                  </a:lnTo>
                  <a:lnTo>
                    <a:pt x="16" y="934"/>
                  </a:lnTo>
                  <a:lnTo>
                    <a:pt x="25" y="970"/>
                  </a:lnTo>
                  <a:lnTo>
                    <a:pt x="87" y="1062"/>
                  </a:lnTo>
                  <a:lnTo>
                    <a:pt x="175" y="1062"/>
                  </a:lnTo>
                  <a:lnTo>
                    <a:pt x="174" y="1053"/>
                  </a:lnTo>
                  <a:lnTo>
                    <a:pt x="173" y="1027"/>
                  </a:lnTo>
                  <a:lnTo>
                    <a:pt x="170" y="988"/>
                  </a:lnTo>
                  <a:lnTo>
                    <a:pt x="168" y="934"/>
                  </a:lnTo>
                  <a:lnTo>
                    <a:pt x="167" y="871"/>
                  </a:lnTo>
                  <a:lnTo>
                    <a:pt x="167" y="799"/>
                  </a:lnTo>
                  <a:lnTo>
                    <a:pt x="168" y="720"/>
                  </a:lnTo>
                  <a:lnTo>
                    <a:pt x="172" y="637"/>
                  </a:lnTo>
                  <a:lnTo>
                    <a:pt x="174" y="594"/>
                  </a:lnTo>
                  <a:lnTo>
                    <a:pt x="179" y="551"/>
                  </a:lnTo>
                  <a:lnTo>
                    <a:pt x="183" y="508"/>
                  </a:lnTo>
                  <a:lnTo>
                    <a:pt x="189" y="464"/>
                  </a:lnTo>
                  <a:lnTo>
                    <a:pt x="195" y="422"/>
                  </a:lnTo>
                  <a:lnTo>
                    <a:pt x="204" y="380"/>
                  </a:lnTo>
                  <a:lnTo>
                    <a:pt x="212" y="339"/>
                  </a:lnTo>
                  <a:lnTo>
                    <a:pt x="222" y="299"/>
                  </a:lnTo>
                  <a:lnTo>
                    <a:pt x="235" y="261"/>
                  </a:lnTo>
                  <a:lnTo>
                    <a:pt x="247" y="223"/>
                  </a:lnTo>
                  <a:lnTo>
                    <a:pt x="262" y="189"/>
                  </a:lnTo>
                  <a:lnTo>
                    <a:pt x="278" y="156"/>
                  </a:lnTo>
                  <a:lnTo>
                    <a:pt x="296" y="125"/>
                  </a:lnTo>
                  <a:lnTo>
                    <a:pt x="316" y="98"/>
                  </a:lnTo>
                  <a:lnTo>
                    <a:pt x="337" y="73"/>
                  </a:lnTo>
                  <a:lnTo>
                    <a:pt x="359" y="51"/>
                  </a:lnTo>
                  <a:lnTo>
                    <a:pt x="335" y="42"/>
                  </a:lnTo>
                  <a:lnTo>
                    <a:pt x="281" y="22"/>
                  </a:lnTo>
                  <a:lnTo>
                    <a:pt x="250" y="12"/>
                  </a:lnTo>
                  <a:lnTo>
                    <a:pt x="220" y="5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5" y="0"/>
                  </a:lnTo>
                  <a:lnTo>
                    <a:pt x="176" y="1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6980400" y="5106960"/>
              <a:ext cx="183960" cy="450720"/>
            </a:xfrm>
            <a:custGeom>
              <a:avLst/>
              <a:gdLst/>
              <a:ahLst/>
              <a:rect l="l" t="t" r="r" b="b"/>
              <a:pathLst>
                <a:path w="463" h="1133">
                  <a:moveTo>
                    <a:pt x="204" y="2"/>
                  </a:moveTo>
                  <a:lnTo>
                    <a:pt x="188" y="7"/>
                  </a:lnTo>
                  <a:lnTo>
                    <a:pt x="180" y="21"/>
                  </a:lnTo>
                  <a:lnTo>
                    <a:pt x="175" y="33"/>
                  </a:lnTo>
                  <a:lnTo>
                    <a:pt x="167" y="55"/>
                  </a:lnTo>
                  <a:lnTo>
                    <a:pt x="153" y="88"/>
                  </a:lnTo>
                  <a:lnTo>
                    <a:pt x="137" y="132"/>
                  </a:lnTo>
                  <a:lnTo>
                    <a:pt x="118" y="184"/>
                  </a:lnTo>
                  <a:lnTo>
                    <a:pt x="98" y="244"/>
                  </a:lnTo>
                  <a:lnTo>
                    <a:pt x="78" y="309"/>
                  </a:lnTo>
                  <a:lnTo>
                    <a:pt x="60" y="380"/>
                  </a:lnTo>
                  <a:lnTo>
                    <a:pt x="50" y="417"/>
                  </a:lnTo>
                  <a:lnTo>
                    <a:pt x="41" y="456"/>
                  </a:lnTo>
                  <a:lnTo>
                    <a:pt x="32" y="495"/>
                  </a:lnTo>
                  <a:lnTo>
                    <a:pt x="25" y="535"/>
                  </a:lnTo>
                  <a:lnTo>
                    <a:pt x="19" y="575"/>
                  </a:lnTo>
                  <a:lnTo>
                    <a:pt x="13" y="616"/>
                  </a:lnTo>
                  <a:lnTo>
                    <a:pt x="8" y="657"/>
                  </a:lnTo>
                  <a:lnTo>
                    <a:pt x="4" y="698"/>
                  </a:lnTo>
                  <a:lnTo>
                    <a:pt x="1" y="739"/>
                  </a:lnTo>
                  <a:lnTo>
                    <a:pt x="0" y="779"/>
                  </a:lnTo>
                  <a:lnTo>
                    <a:pt x="0" y="820"/>
                  </a:lnTo>
                  <a:lnTo>
                    <a:pt x="3" y="861"/>
                  </a:lnTo>
                  <a:lnTo>
                    <a:pt x="5" y="901"/>
                  </a:lnTo>
                  <a:lnTo>
                    <a:pt x="10" y="940"/>
                  </a:lnTo>
                  <a:lnTo>
                    <a:pt x="18" y="978"/>
                  </a:lnTo>
                  <a:lnTo>
                    <a:pt x="26" y="1015"/>
                  </a:lnTo>
                  <a:lnTo>
                    <a:pt x="93" y="1117"/>
                  </a:lnTo>
                  <a:lnTo>
                    <a:pt x="104" y="1133"/>
                  </a:lnTo>
                  <a:lnTo>
                    <a:pt x="250" y="1133"/>
                  </a:lnTo>
                  <a:lnTo>
                    <a:pt x="246" y="1095"/>
                  </a:lnTo>
                  <a:lnTo>
                    <a:pt x="246" y="1085"/>
                  </a:lnTo>
                  <a:lnTo>
                    <a:pt x="244" y="1059"/>
                  </a:lnTo>
                  <a:lnTo>
                    <a:pt x="241" y="1018"/>
                  </a:lnTo>
                  <a:lnTo>
                    <a:pt x="240" y="966"/>
                  </a:lnTo>
                  <a:lnTo>
                    <a:pt x="239" y="904"/>
                  </a:lnTo>
                  <a:lnTo>
                    <a:pt x="237" y="833"/>
                  </a:lnTo>
                  <a:lnTo>
                    <a:pt x="240" y="756"/>
                  </a:lnTo>
                  <a:lnTo>
                    <a:pt x="244" y="675"/>
                  </a:lnTo>
                  <a:lnTo>
                    <a:pt x="246" y="634"/>
                  </a:lnTo>
                  <a:lnTo>
                    <a:pt x="250" y="592"/>
                  </a:lnTo>
                  <a:lnTo>
                    <a:pt x="253" y="550"/>
                  </a:lnTo>
                  <a:lnTo>
                    <a:pt x="260" y="509"/>
                  </a:lnTo>
                  <a:lnTo>
                    <a:pt x="266" y="468"/>
                  </a:lnTo>
                  <a:lnTo>
                    <a:pt x="273" y="427"/>
                  </a:lnTo>
                  <a:lnTo>
                    <a:pt x="281" y="387"/>
                  </a:lnTo>
                  <a:lnTo>
                    <a:pt x="291" y="349"/>
                  </a:lnTo>
                  <a:lnTo>
                    <a:pt x="302" y="313"/>
                  </a:lnTo>
                  <a:lnTo>
                    <a:pt x="314" y="277"/>
                  </a:lnTo>
                  <a:lnTo>
                    <a:pt x="328" y="244"/>
                  </a:lnTo>
                  <a:lnTo>
                    <a:pt x="343" y="212"/>
                  </a:lnTo>
                  <a:lnTo>
                    <a:pt x="359" y="184"/>
                  </a:lnTo>
                  <a:lnTo>
                    <a:pt x="376" y="158"/>
                  </a:lnTo>
                  <a:lnTo>
                    <a:pt x="396" y="134"/>
                  </a:lnTo>
                  <a:lnTo>
                    <a:pt x="419" y="113"/>
                  </a:lnTo>
                  <a:lnTo>
                    <a:pt x="463" y="76"/>
                  </a:lnTo>
                  <a:lnTo>
                    <a:pt x="409" y="54"/>
                  </a:lnTo>
                  <a:lnTo>
                    <a:pt x="384" y="44"/>
                  </a:lnTo>
                  <a:lnTo>
                    <a:pt x="358" y="34"/>
                  </a:lnTo>
                  <a:lnTo>
                    <a:pt x="328" y="24"/>
                  </a:lnTo>
                  <a:lnTo>
                    <a:pt x="299" y="14"/>
                  </a:lnTo>
                  <a:lnTo>
                    <a:pt x="271" y="7"/>
                  </a:lnTo>
                  <a:lnTo>
                    <a:pt x="245" y="2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11" y="0"/>
                  </a:lnTo>
                  <a:lnTo>
                    <a:pt x="204" y="2"/>
                  </a:lnTo>
                  <a:close/>
                  <a:moveTo>
                    <a:pt x="91" y="985"/>
                  </a:moveTo>
                  <a:lnTo>
                    <a:pt x="86" y="964"/>
                  </a:lnTo>
                  <a:lnTo>
                    <a:pt x="81" y="942"/>
                  </a:lnTo>
                  <a:lnTo>
                    <a:pt x="77" y="918"/>
                  </a:lnTo>
                  <a:lnTo>
                    <a:pt x="73" y="895"/>
                  </a:lnTo>
                  <a:lnTo>
                    <a:pt x="72" y="871"/>
                  </a:lnTo>
                  <a:lnTo>
                    <a:pt x="70" y="848"/>
                  </a:lnTo>
                  <a:lnTo>
                    <a:pt x="70" y="824"/>
                  </a:lnTo>
                  <a:lnTo>
                    <a:pt x="68" y="799"/>
                  </a:lnTo>
                  <a:lnTo>
                    <a:pt x="70" y="771"/>
                  </a:lnTo>
                  <a:lnTo>
                    <a:pt x="70" y="744"/>
                  </a:lnTo>
                  <a:lnTo>
                    <a:pt x="72" y="715"/>
                  </a:lnTo>
                  <a:lnTo>
                    <a:pt x="75" y="686"/>
                  </a:lnTo>
                  <a:lnTo>
                    <a:pt x="81" y="631"/>
                  </a:lnTo>
                  <a:lnTo>
                    <a:pt x="90" y="574"/>
                  </a:lnTo>
                  <a:lnTo>
                    <a:pt x="101" y="518"/>
                  </a:lnTo>
                  <a:lnTo>
                    <a:pt x="112" y="463"/>
                  </a:lnTo>
                  <a:lnTo>
                    <a:pt x="126" y="410"/>
                  </a:lnTo>
                  <a:lnTo>
                    <a:pt x="139" y="359"/>
                  </a:lnTo>
                  <a:lnTo>
                    <a:pt x="153" y="311"/>
                  </a:lnTo>
                  <a:lnTo>
                    <a:pt x="167" y="265"/>
                  </a:lnTo>
                  <a:lnTo>
                    <a:pt x="181" y="222"/>
                  </a:lnTo>
                  <a:lnTo>
                    <a:pt x="195" y="183"/>
                  </a:lnTo>
                  <a:lnTo>
                    <a:pt x="219" y="118"/>
                  </a:lnTo>
                  <a:lnTo>
                    <a:pt x="236" y="74"/>
                  </a:lnTo>
                  <a:lnTo>
                    <a:pt x="255" y="77"/>
                  </a:lnTo>
                  <a:lnTo>
                    <a:pt x="280" y="83"/>
                  </a:lnTo>
                  <a:lnTo>
                    <a:pt x="308" y="93"/>
                  </a:lnTo>
                  <a:lnTo>
                    <a:pt x="340" y="105"/>
                  </a:lnTo>
                  <a:lnTo>
                    <a:pt x="327" y="121"/>
                  </a:lnTo>
                  <a:lnTo>
                    <a:pt x="314" y="138"/>
                  </a:lnTo>
                  <a:lnTo>
                    <a:pt x="303" y="157"/>
                  </a:lnTo>
                  <a:lnTo>
                    <a:pt x="292" y="175"/>
                  </a:lnTo>
                  <a:lnTo>
                    <a:pt x="281" y="195"/>
                  </a:lnTo>
                  <a:lnTo>
                    <a:pt x="271" y="215"/>
                  </a:lnTo>
                  <a:lnTo>
                    <a:pt x="262" y="237"/>
                  </a:lnTo>
                  <a:lnTo>
                    <a:pt x="252" y="258"/>
                  </a:lnTo>
                  <a:lnTo>
                    <a:pt x="245" y="282"/>
                  </a:lnTo>
                  <a:lnTo>
                    <a:pt x="236" y="304"/>
                  </a:lnTo>
                  <a:lnTo>
                    <a:pt x="229" y="329"/>
                  </a:lnTo>
                  <a:lnTo>
                    <a:pt x="222" y="353"/>
                  </a:lnTo>
                  <a:lnTo>
                    <a:pt x="210" y="402"/>
                  </a:lnTo>
                  <a:lnTo>
                    <a:pt x="200" y="453"/>
                  </a:lnTo>
                  <a:lnTo>
                    <a:pt x="190" y="505"/>
                  </a:lnTo>
                  <a:lnTo>
                    <a:pt x="184" y="557"/>
                  </a:lnTo>
                  <a:lnTo>
                    <a:pt x="178" y="610"/>
                  </a:lnTo>
                  <a:lnTo>
                    <a:pt x="173" y="662"/>
                  </a:lnTo>
                  <a:lnTo>
                    <a:pt x="170" y="712"/>
                  </a:lnTo>
                  <a:lnTo>
                    <a:pt x="168" y="762"/>
                  </a:lnTo>
                  <a:lnTo>
                    <a:pt x="167" y="811"/>
                  </a:lnTo>
                  <a:lnTo>
                    <a:pt x="167" y="856"/>
                  </a:lnTo>
                  <a:lnTo>
                    <a:pt x="167" y="892"/>
                  </a:lnTo>
                  <a:lnTo>
                    <a:pt x="167" y="925"/>
                  </a:lnTo>
                  <a:lnTo>
                    <a:pt x="168" y="954"/>
                  </a:lnTo>
                  <a:lnTo>
                    <a:pt x="168" y="982"/>
                  </a:lnTo>
                  <a:lnTo>
                    <a:pt x="169" y="1007"/>
                  </a:lnTo>
                  <a:lnTo>
                    <a:pt x="170" y="1028"/>
                  </a:lnTo>
                  <a:lnTo>
                    <a:pt x="172" y="1046"/>
                  </a:lnTo>
                  <a:lnTo>
                    <a:pt x="173" y="1062"/>
                  </a:lnTo>
                  <a:lnTo>
                    <a:pt x="155" y="1062"/>
                  </a:lnTo>
                  <a:lnTo>
                    <a:pt x="142" y="1062"/>
                  </a:lnTo>
                  <a:lnTo>
                    <a:pt x="128" y="1041"/>
                  </a:lnTo>
                  <a:lnTo>
                    <a:pt x="111" y="1015"/>
                  </a:lnTo>
                  <a:lnTo>
                    <a:pt x="97" y="995"/>
                  </a:lnTo>
                  <a:lnTo>
                    <a:pt x="91" y="9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7050240" y="5137200"/>
              <a:ext cx="145800" cy="415800"/>
            </a:xfrm>
            <a:custGeom>
              <a:avLst/>
              <a:gdLst/>
              <a:ahLst/>
              <a:rect l="l" t="t" r="r" b="b"/>
              <a:pathLst>
                <a:path w="366" h="1048">
                  <a:moveTo>
                    <a:pt x="165" y="1"/>
                  </a:moveTo>
                  <a:lnTo>
                    <a:pt x="161" y="7"/>
                  </a:lnTo>
                  <a:lnTo>
                    <a:pt x="154" y="26"/>
                  </a:lnTo>
                  <a:lnTo>
                    <a:pt x="143" y="56"/>
                  </a:lnTo>
                  <a:lnTo>
                    <a:pt x="128" y="96"/>
                  </a:lnTo>
                  <a:lnTo>
                    <a:pt x="111" y="144"/>
                  </a:lnTo>
                  <a:lnTo>
                    <a:pt x="93" y="201"/>
                  </a:lnTo>
                  <a:lnTo>
                    <a:pt x="74" y="264"/>
                  </a:lnTo>
                  <a:lnTo>
                    <a:pt x="56" y="333"/>
                  </a:lnTo>
                  <a:lnTo>
                    <a:pt x="47" y="369"/>
                  </a:lnTo>
                  <a:lnTo>
                    <a:pt x="38" y="406"/>
                  </a:lnTo>
                  <a:lnTo>
                    <a:pt x="31" y="444"/>
                  </a:lnTo>
                  <a:lnTo>
                    <a:pt x="23" y="483"/>
                  </a:lnTo>
                  <a:lnTo>
                    <a:pt x="17" y="522"/>
                  </a:lnTo>
                  <a:lnTo>
                    <a:pt x="12" y="562"/>
                  </a:lnTo>
                  <a:lnTo>
                    <a:pt x="7" y="602"/>
                  </a:lnTo>
                  <a:lnTo>
                    <a:pt x="3" y="643"/>
                  </a:lnTo>
                  <a:lnTo>
                    <a:pt x="1" y="682"/>
                  </a:lnTo>
                  <a:lnTo>
                    <a:pt x="0" y="723"/>
                  </a:lnTo>
                  <a:lnTo>
                    <a:pt x="0" y="763"/>
                  </a:lnTo>
                  <a:lnTo>
                    <a:pt x="2" y="803"/>
                  </a:lnTo>
                  <a:lnTo>
                    <a:pt x="5" y="841"/>
                  </a:lnTo>
                  <a:lnTo>
                    <a:pt x="11" y="880"/>
                  </a:lnTo>
                  <a:lnTo>
                    <a:pt x="17" y="917"/>
                  </a:lnTo>
                  <a:lnTo>
                    <a:pt x="26" y="954"/>
                  </a:lnTo>
                  <a:lnTo>
                    <a:pt x="26" y="1048"/>
                  </a:lnTo>
                  <a:lnTo>
                    <a:pt x="174" y="1041"/>
                  </a:lnTo>
                  <a:lnTo>
                    <a:pt x="172" y="1032"/>
                  </a:lnTo>
                  <a:lnTo>
                    <a:pt x="171" y="1009"/>
                  </a:lnTo>
                  <a:lnTo>
                    <a:pt x="169" y="971"/>
                  </a:lnTo>
                  <a:lnTo>
                    <a:pt x="167" y="922"/>
                  </a:lnTo>
                  <a:lnTo>
                    <a:pt x="166" y="862"/>
                  </a:lnTo>
                  <a:lnTo>
                    <a:pt x="167" y="795"/>
                  </a:lnTo>
                  <a:lnTo>
                    <a:pt x="170" y="721"/>
                  </a:lnTo>
                  <a:lnTo>
                    <a:pt x="175" y="644"/>
                  </a:lnTo>
                  <a:lnTo>
                    <a:pt x="177" y="604"/>
                  </a:lnTo>
                  <a:lnTo>
                    <a:pt x="182" y="563"/>
                  </a:lnTo>
                  <a:lnTo>
                    <a:pt x="187" y="522"/>
                  </a:lnTo>
                  <a:lnTo>
                    <a:pt x="193" y="483"/>
                  </a:lnTo>
                  <a:lnTo>
                    <a:pt x="201" y="442"/>
                  </a:lnTo>
                  <a:lnTo>
                    <a:pt x="208" y="402"/>
                  </a:lnTo>
                  <a:lnTo>
                    <a:pt x="218" y="364"/>
                  </a:lnTo>
                  <a:lnTo>
                    <a:pt x="228" y="326"/>
                  </a:lnTo>
                  <a:lnTo>
                    <a:pt x="241" y="289"/>
                  </a:lnTo>
                  <a:lnTo>
                    <a:pt x="254" y="254"/>
                  </a:lnTo>
                  <a:lnTo>
                    <a:pt x="268" y="221"/>
                  </a:lnTo>
                  <a:lnTo>
                    <a:pt x="285" y="190"/>
                  </a:lnTo>
                  <a:lnTo>
                    <a:pt x="303" y="160"/>
                  </a:lnTo>
                  <a:lnTo>
                    <a:pt x="323" y="133"/>
                  </a:lnTo>
                  <a:lnTo>
                    <a:pt x="344" y="109"/>
                  </a:lnTo>
                  <a:lnTo>
                    <a:pt x="366" y="88"/>
                  </a:lnTo>
                  <a:lnTo>
                    <a:pt x="359" y="83"/>
                  </a:lnTo>
                  <a:lnTo>
                    <a:pt x="340" y="73"/>
                  </a:lnTo>
                  <a:lnTo>
                    <a:pt x="311" y="57"/>
                  </a:lnTo>
                  <a:lnTo>
                    <a:pt x="278" y="41"/>
                  </a:lnTo>
                  <a:lnTo>
                    <a:pt x="243" y="24"/>
                  </a:lnTo>
                  <a:lnTo>
                    <a:pt x="211" y="10"/>
                  </a:lnTo>
                  <a:lnTo>
                    <a:pt x="196" y="5"/>
                  </a:lnTo>
                  <a:lnTo>
                    <a:pt x="183" y="2"/>
                  </a:lnTo>
                  <a:lnTo>
                    <a:pt x="172" y="0"/>
                  </a:lnTo>
                  <a:lnTo>
                    <a:pt x="165" y="1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7035840" y="5124600"/>
              <a:ext cx="185760" cy="444240"/>
            </a:xfrm>
            <a:custGeom>
              <a:avLst/>
              <a:gdLst/>
              <a:ahLst/>
              <a:rect l="l" t="t" r="r" b="b"/>
              <a:pathLst>
                <a:path w="464" h="1121">
                  <a:moveTo>
                    <a:pt x="191" y="2"/>
                  </a:moveTo>
                  <a:lnTo>
                    <a:pt x="175" y="6"/>
                  </a:lnTo>
                  <a:lnTo>
                    <a:pt x="167" y="21"/>
                  </a:lnTo>
                  <a:lnTo>
                    <a:pt x="164" y="33"/>
                  </a:lnTo>
                  <a:lnTo>
                    <a:pt x="154" y="55"/>
                  </a:lnTo>
                  <a:lnTo>
                    <a:pt x="141" y="87"/>
                  </a:lnTo>
                  <a:lnTo>
                    <a:pt x="126" y="129"/>
                  </a:lnTo>
                  <a:lnTo>
                    <a:pt x="109" y="180"/>
                  </a:lnTo>
                  <a:lnTo>
                    <a:pt x="90" y="237"/>
                  </a:lnTo>
                  <a:lnTo>
                    <a:pt x="72" y="302"/>
                  </a:lnTo>
                  <a:lnTo>
                    <a:pt x="53" y="371"/>
                  </a:lnTo>
                  <a:lnTo>
                    <a:pt x="44" y="408"/>
                  </a:lnTo>
                  <a:lnTo>
                    <a:pt x="37" y="446"/>
                  </a:lnTo>
                  <a:lnTo>
                    <a:pt x="30" y="484"/>
                  </a:lnTo>
                  <a:lnTo>
                    <a:pt x="22" y="523"/>
                  </a:lnTo>
                  <a:lnTo>
                    <a:pt x="16" y="562"/>
                  </a:lnTo>
                  <a:lnTo>
                    <a:pt x="11" y="602"/>
                  </a:lnTo>
                  <a:lnTo>
                    <a:pt x="6" y="643"/>
                  </a:lnTo>
                  <a:lnTo>
                    <a:pt x="3" y="683"/>
                  </a:lnTo>
                  <a:lnTo>
                    <a:pt x="1" y="724"/>
                  </a:lnTo>
                  <a:lnTo>
                    <a:pt x="0" y="765"/>
                  </a:lnTo>
                  <a:lnTo>
                    <a:pt x="1" y="804"/>
                  </a:lnTo>
                  <a:lnTo>
                    <a:pt x="2" y="844"/>
                  </a:lnTo>
                  <a:lnTo>
                    <a:pt x="6" y="884"/>
                  </a:lnTo>
                  <a:lnTo>
                    <a:pt x="11" y="922"/>
                  </a:lnTo>
                  <a:lnTo>
                    <a:pt x="18" y="961"/>
                  </a:lnTo>
                  <a:lnTo>
                    <a:pt x="28" y="998"/>
                  </a:lnTo>
                  <a:lnTo>
                    <a:pt x="27" y="1083"/>
                  </a:lnTo>
                  <a:lnTo>
                    <a:pt x="27" y="1121"/>
                  </a:lnTo>
                  <a:lnTo>
                    <a:pt x="248" y="1109"/>
                  </a:lnTo>
                  <a:lnTo>
                    <a:pt x="244" y="1072"/>
                  </a:lnTo>
                  <a:lnTo>
                    <a:pt x="244" y="1064"/>
                  </a:lnTo>
                  <a:lnTo>
                    <a:pt x="243" y="1039"/>
                  </a:lnTo>
                  <a:lnTo>
                    <a:pt x="241" y="1002"/>
                  </a:lnTo>
                  <a:lnTo>
                    <a:pt x="239" y="953"/>
                  </a:lnTo>
                  <a:lnTo>
                    <a:pt x="238" y="895"/>
                  </a:lnTo>
                  <a:lnTo>
                    <a:pt x="239" y="830"/>
                  </a:lnTo>
                  <a:lnTo>
                    <a:pt x="241" y="758"/>
                  </a:lnTo>
                  <a:lnTo>
                    <a:pt x="246" y="683"/>
                  </a:lnTo>
                  <a:lnTo>
                    <a:pt x="249" y="644"/>
                  </a:lnTo>
                  <a:lnTo>
                    <a:pt x="253" y="604"/>
                  </a:lnTo>
                  <a:lnTo>
                    <a:pt x="258" y="566"/>
                  </a:lnTo>
                  <a:lnTo>
                    <a:pt x="264" y="526"/>
                  </a:lnTo>
                  <a:lnTo>
                    <a:pt x="270" y="488"/>
                  </a:lnTo>
                  <a:lnTo>
                    <a:pt x="278" y="451"/>
                  </a:lnTo>
                  <a:lnTo>
                    <a:pt x="287" y="413"/>
                  </a:lnTo>
                  <a:lnTo>
                    <a:pt x="296" y="376"/>
                  </a:lnTo>
                  <a:lnTo>
                    <a:pt x="308" y="341"/>
                  </a:lnTo>
                  <a:lnTo>
                    <a:pt x="320" y="308"/>
                  </a:lnTo>
                  <a:lnTo>
                    <a:pt x="334" y="276"/>
                  </a:lnTo>
                  <a:lnTo>
                    <a:pt x="349" y="246"/>
                  </a:lnTo>
                  <a:lnTo>
                    <a:pt x="366" y="219"/>
                  </a:lnTo>
                  <a:lnTo>
                    <a:pt x="383" y="193"/>
                  </a:lnTo>
                  <a:lnTo>
                    <a:pt x="403" y="170"/>
                  </a:lnTo>
                  <a:lnTo>
                    <a:pt x="426" y="150"/>
                  </a:lnTo>
                  <a:lnTo>
                    <a:pt x="464" y="117"/>
                  </a:lnTo>
                  <a:lnTo>
                    <a:pt x="421" y="92"/>
                  </a:lnTo>
                  <a:lnTo>
                    <a:pt x="377" y="67"/>
                  </a:lnTo>
                  <a:lnTo>
                    <a:pt x="339" y="47"/>
                  </a:lnTo>
                  <a:lnTo>
                    <a:pt x="304" y="30"/>
                  </a:lnTo>
                  <a:lnTo>
                    <a:pt x="273" y="18"/>
                  </a:lnTo>
                  <a:lnTo>
                    <a:pt x="247" y="8"/>
                  </a:lnTo>
                  <a:lnTo>
                    <a:pt x="224" y="3"/>
                  </a:lnTo>
                  <a:lnTo>
                    <a:pt x="215" y="0"/>
                  </a:lnTo>
                  <a:lnTo>
                    <a:pt x="206" y="0"/>
                  </a:lnTo>
                  <a:lnTo>
                    <a:pt x="197" y="0"/>
                  </a:lnTo>
                  <a:lnTo>
                    <a:pt x="191" y="2"/>
                  </a:lnTo>
                  <a:close/>
                  <a:moveTo>
                    <a:pt x="98" y="989"/>
                  </a:moveTo>
                  <a:lnTo>
                    <a:pt x="92" y="963"/>
                  </a:lnTo>
                  <a:lnTo>
                    <a:pt x="87" y="937"/>
                  </a:lnTo>
                  <a:lnTo>
                    <a:pt x="82" y="911"/>
                  </a:lnTo>
                  <a:lnTo>
                    <a:pt x="78" y="884"/>
                  </a:lnTo>
                  <a:lnTo>
                    <a:pt x="75" y="856"/>
                  </a:lnTo>
                  <a:lnTo>
                    <a:pt x="74" y="829"/>
                  </a:lnTo>
                  <a:lnTo>
                    <a:pt x="73" y="802"/>
                  </a:lnTo>
                  <a:lnTo>
                    <a:pt x="72" y="773"/>
                  </a:lnTo>
                  <a:lnTo>
                    <a:pt x="73" y="719"/>
                  </a:lnTo>
                  <a:lnTo>
                    <a:pt x="77" y="664"/>
                  </a:lnTo>
                  <a:lnTo>
                    <a:pt x="83" y="608"/>
                  </a:lnTo>
                  <a:lnTo>
                    <a:pt x="90" y="554"/>
                  </a:lnTo>
                  <a:lnTo>
                    <a:pt x="100" y="500"/>
                  </a:lnTo>
                  <a:lnTo>
                    <a:pt x="110" y="448"/>
                  </a:lnTo>
                  <a:lnTo>
                    <a:pt x="121" y="397"/>
                  </a:lnTo>
                  <a:lnTo>
                    <a:pt x="134" y="349"/>
                  </a:lnTo>
                  <a:lnTo>
                    <a:pt x="146" y="303"/>
                  </a:lnTo>
                  <a:lnTo>
                    <a:pt x="160" y="260"/>
                  </a:lnTo>
                  <a:lnTo>
                    <a:pt x="172" y="220"/>
                  </a:lnTo>
                  <a:lnTo>
                    <a:pt x="183" y="183"/>
                  </a:lnTo>
                  <a:lnTo>
                    <a:pt x="206" y="121"/>
                  </a:lnTo>
                  <a:lnTo>
                    <a:pt x="222" y="77"/>
                  </a:lnTo>
                  <a:lnTo>
                    <a:pt x="246" y="85"/>
                  </a:lnTo>
                  <a:lnTo>
                    <a:pt x="277" y="98"/>
                  </a:lnTo>
                  <a:lnTo>
                    <a:pt x="311" y="116"/>
                  </a:lnTo>
                  <a:lnTo>
                    <a:pt x="350" y="136"/>
                  </a:lnTo>
                  <a:lnTo>
                    <a:pt x="336" y="152"/>
                  </a:lnTo>
                  <a:lnTo>
                    <a:pt x="323" y="170"/>
                  </a:lnTo>
                  <a:lnTo>
                    <a:pt x="310" y="188"/>
                  </a:lnTo>
                  <a:lnTo>
                    <a:pt x="299" y="207"/>
                  </a:lnTo>
                  <a:lnTo>
                    <a:pt x="288" y="227"/>
                  </a:lnTo>
                  <a:lnTo>
                    <a:pt x="277" y="248"/>
                  </a:lnTo>
                  <a:lnTo>
                    <a:pt x="267" y="271"/>
                  </a:lnTo>
                  <a:lnTo>
                    <a:pt x="257" y="293"/>
                  </a:lnTo>
                  <a:lnTo>
                    <a:pt x="248" y="315"/>
                  </a:lnTo>
                  <a:lnTo>
                    <a:pt x="241" y="339"/>
                  </a:lnTo>
                  <a:lnTo>
                    <a:pt x="232" y="363"/>
                  </a:lnTo>
                  <a:lnTo>
                    <a:pt x="226" y="387"/>
                  </a:lnTo>
                  <a:lnTo>
                    <a:pt x="212" y="437"/>
                  </a:lnTo>
                  <a:lnTo>
                    <a:pt x="201" y="488"/>
                  </a:lnTo>
                  <a:lnTo>
                    <a:pt x="192" y="540"/>
                  </a:lnTo>
                  <a:lnTo>
                    <a:pt x="185" y="592"/>
                  </a:lnTo>
                  <a:lnTo>
                    <a:pt x="179" y="644"/>
                  </a:lnTo>
                  <a:lnTo>
                    <a:pt x="174" y="695"/>
                  </a:lnTo>
                  <a:lnTo>
                    <a:pt x="171" y="745"/>
                  </a:lnTo>
                  <a:lnTo>
                    <a:pt x="169" y="793"/>
                  </a:lnTo>
                  <a:lnTo>
                    <a:pt x="167" y="839"/>
                  </a:lnTo>
                  <a:lnTo>
                    <a:pt x="167" y="882"/>
                  </a:lnTo>
                  <a:lnTo>
                    <a:pt x="167" y="935"/>
                  </a:lnTo>
                  <a:lnTo>
                    <a:pt x="169" y="978"/>
                  </a:lnTo>
                  <a:lnTo>
                    <a:pt x="170" y="1014"/>
                  </a:lnTo>
                  <a:lnTo>
                    <a:pt x="171" y="1042"/>
                  </a:lnTo>
                  <a:lnTo>
                    <a:pt x="152" y="1044"/>
                  </a:lnTo>
                  <a:lnTo>
                    <a:pt x="135" y="1044"/>
                  </a:lnTo>
                  <a:lnTo>
                    <a:pt x="118" y="1045"/>
                  </a:lnTo>
                  <a:lnTo>
                    <a:pt x="98" y="1046"/>
                  </a:lnTo>
                  <a:lnTo>
                    <a:pt x="98" y="1025"/>
                  </a:lnTo>
                  <a:lnTo>
                    <a:pt x="98" y="1008"/>
                  </a:lnTo>
                  <a:lnTo>
                    <a:pt x="98" y="994"/>
                  </a:lnTo>
                  <a:lnTo>
                    <a:pt x="98" y="9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7104240" y="5156280"/>
              <a:ext cx="129960" cy="414360"/>
            </a:xfrm>
            <a:custGeom>
              <a:avLst/>
              <a:gdLst/>
              <a:ahLst/>
              <a:rect l="l" t="t" r="r" b="b"/>
              <a:pathLst>
                <a:path w="328" h="1041">
                  <a:moveTo>
                    <a:pt x="135" y="2"/>
                  </a:moveTo>
                  <a:lnTo>
                    <a:pt x="133" y="8"/>
                  </a:lnTo>
                  <a:lnTo>
                    <a:pt x="125" y="26"/>
                  </a:lnTo>
                  <a:lnTo>
                    <a:pt x="116" y="55"/>
                  </a:lnTo>
                  <a:lnTo>
                    <a:pt x="103" y="95"/>
                  </a:lnTo>
                  <a:lnTo>
                    <a:pt x="89" y="142"/>
                  </a:lnTo>
                  <a:lnTo>
                    <a:pt x="73" y="198"/>
                  </a:lnTo>
                  <a:lnTo>
                    <a:pt x="58" y="261"/>
                  </a:lnTo>
                  <a:lnTo>
                    <a:pt x="42" y="328"/>
                  </a:lnTo>
                  <a:lnTo>
                    <a:pt x="35" y="364"/>
                  </a:lnTo>
                  <a:lnTo>
                    <a:pt x="29" y="401"/>
                  </a:lnTo>
                  <a:lnTo>
                    <a:pt x="22" y="438"/>
                  </a:lnTo>
                  <a:lnTo>
                    <a:pt x="16" y="477"/>
                  </a:lnTo>
                  <a:lnTo>
                    <a:pt x="11" y="515"/>
                  </a:lnTo>
                  <a:lnTo>
                    <a:pt x="8" y="555"/>
                  </a:lnTo>
                  <a:lnTo>
                    <a:pt x="4" y="595"/>
                  </a:lnTo>
                  <a:lnTo>
                    <a:pt x="1" y="634"/>
                  </a:lnTo>
                  <a:lnTo>
                    <a:pt x="0" y="674"/>
                  </a:lnTo>
                  <a:lnTo>
                    <a:pt x="0" y="714"/>
                  </a:lnTo>
                  <a:lnTo>
                    <a:pt x="1" y="754"/>
                  </a:lnTo>
                  <a:lnTo>
                    <a:pt x="4" y="793"/>
                  </a:lnTo>
                  <a:lnTo>
                    <a:pt x="8" y="832"/>
                  </a:lnTo>
                  <a:lnTo>
                    <a:pt x="12" y="870"/>
                  </a:lnTo>
                  <a:lnTo>
                    <a:pt x="20" y="907"/>
                  </a:lnTo>
                  <a:lnTo>
                    <a:pt x="30" y="945"/>
                  </a:lnTo>
                  <a:lnTo>
                    <a:pt x="56" y="1041"/>
                  </a:lnTo>
                  <a:lnTo>
                    <a:pt x="144" y="1041"/>
                  </a:lnTo>
                  <a:lnTo>
                    <a:pt x="143" y="1033"/>
                  </a:lnTo>
                  <a:lnTo>
                    <a:pt x="140" y="1008"/>
                  </a:lnTo>
                  <a:lnTo>
                    <a:pt x="139" y="971"/>
                  </a:lnTo>
                  <a:lnTo>
                    <a:pt x="137" y="920"/>
                  </a:lnTo>
                  <a:lnTo>
                    <a:pt x="135" y="860"/>
                  </a:lnTo>
                  <a:lnTo>
                    <a:pt x="134" y="792"/>
                  </a:lnTo>
                  <a:lnTo>
                    <a:pt x="137" y="718"/>
                  </a:lnTo>
                  <a:lnTo>
                    <a:pt x="140" y="639"/>
                  </a:lnTo>
                  <a:lnTo>
                    <a:pt x="143" y="598"/>
                  </a:lnTo>
                  <a:lnTo>
                    <a:pt x="147" y="557"/>
                  </a:lnTo>
                  <a:lnTo>
                    <a:pt x="152" y="517"/>
                  </a:lnTo>
                  <a:lnTo>
                    <a:pt x="158" y="476"/>
                  </a:lnTo>
                  <a:lnTo>
                    <a:pt x="164" y="436"/>
                  </a:lnTo>
                  <a:lnTo>
                    <a:pt x="173" y="395"/>
                  </a:lnTo>
                  <a:lnTo>
                    <a:pt x="181" y="356"/>
                  </a:lnTo>
                  <a:lnTo>
                    <a:pt x="191" y="318"/>
                  </a:lnTo>
                  <a:lnTo>
                    <a:pt x="204" y="281"/>
                  </a:lnTo>
                  <a:lnTo>
                    <a:pt x="216" y="246"/>
                  </a:lnTo>
                  <a:lnTo>
                    <a:pt x="231" y="211"/>
                  </a:lnTo>
                  <a:lnTo>
                    <a:pt x="247" y="180"/>
                  </a:lnTo>
                  <a:lnTo>
                    <a:pt x="265" y="151"/>
                  </a:lnTo>
                  <a:lnTo>
                    <a:pt x="283" y="123"/>
                  </a:lnTo>
                  <a:lnTo>
                    <a:pt x="304" y="100"/>
                  </a:lnTo>
                  <a:lnTo>
                    <a:pt x="328" y="79"/>
                  </a:lnTo>
                  <a:lnTo>
                    <a:pt x="320" y="75"/>
                  </a:lnTo>
                  <a:lnTo>
                    <a:pt x="303" y="65"/>
                  </a:lnTo>
                  <a:lnTo>
                    <a:pt x="276" y="51"/>
                  </a:lnTo>
                  <a:lnTo>
                    <a:pt x="245" y="36"/>
                  </a:lnTo>
                  <a:lnTo>
                    <a:pt x="211" y="21"/>
                  </a:lnTo>
                  <a:lnTo>
                    <a:pt x="180" y="9"/>
                  </a:lnTo>
                  <a:lnTo>
                    <a:pt x="165" y="4"/>
                  </a:lnTo>
                  <a:lnTo>
                    <a:pt x="153" y="2"/>
                  </a:lnTo>
                  <a:lnTo>
                    <a:pt x="143" y="0"/>
                  </a:lnTo>
                  <a:lnTo>
                    <a:pt x="135" y="2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7089840" y="5143320"/>
              <a:ext cx="169920" cy="439920"/>
            </a:xfrm>
            <a:custGeom>
              <a:avLst/>
              <a:gdLst/>
              <a:ahLst/>
              <a:rect l="l" t="t" r="r" b="b"/>
              <a:pathLst>
                <a:path w="427" h="1110">
                  <a:moveTo>
                    <a:pt x="161" y="1"/>
                  </a:moveTo>
                  <a:lnTo>
                    <a:pt x="144" y="6"/>
                  </a:lnTo>
                  <a:lnTo>
                    <a:pt x="138" y="22"/>
                  </a:lnTo>
                  <a:lnTo>
                    <a:pt x="134" y="33"/>
                  </a:lnTo>
                  <a:lnTo>
                    <a:pt x="125" y="54"/>
                  </a:lnTo>
                  <a:lnTo>
                    <a:pt x="116" y="87"/>
                  </a:lnTo>
                  <a:lnTo>
                    <a:pt x="102" y="127"/>
                  </a:lnTo>
                  <a:lnTo>
                    <a:pt x="87" y="178"/>
                  </a:lnTo>
                  <a:lnTo>
                    <a:pt x="72" y="235"/>
                  </a:lnTo>
                  <a:lnTo>
                    <a:pt x="56" y="299"/>
                  </a:lnTo>
                  <a:lnTo>
                    <a:pt x="41" y="367"/>
                  </a:lnTo>
                  <a:lnTo>
                    <a:pt x="34" y="403"/>
                  </a:lnTo>
                  <a:lnTo>
                    <a:pt x="27" y="440"/>
                  </a:lnTo>
                  <a:lnTo>
                    <a:pt x="21" y="477"/>
                  </a:lnTo>
                  <a:lnTo>
                    <a:pt x="15" y="516"/>
                  </a:lnTo>
                  <a:lnTo>
                    <a:pt x="10" y="555"/>
                  </a:lnTo>
                  <a:lnTo>
                    <a:pt x="6" y="595"/>
                  </a:lnTo>
                  <a:lnTo>
                    <a:pt x="4" y="635"/>
                  </a:lnTo>
                  <a:lnTo>
                    <a:pt x="1" y="675"/>
                  </a:lnTo>
                  <a:lnTo>
                    <a:pt x="0" y="716"/>
                  </a:lnTo>
                  <a:lnTo>
                    <a:pt x="0" y="755"/>
                  </a:lnTo>
                  <a:lnTo>
                    <a:pt x="1" y="795"/>
                  </a:lnTo>
                  <a:lnTo>
                    <a:pt x="4" y="835"/>
                  </a:lnTo>
                  <a:lnTo>
                    <a:pt x="9" y="874"/>
                  </a:lnTo>
                  <a:lnTo>
                    <a:pt x="14" y="913"/>
                  </a:lnTo>
                  <a:lnTo>
                    <a:pt x="21" y="951"/>
                  </a:lnTo>
                  <a:lnTo>
                    <a:pt x="31" y="987"/>
                  </a:lnTo>
                  <a:lnTo>
                    <a:pt x="65" y="1110"/>
                  </a:lnTo>
                  <a:lnTo>
                    <a:pt x="219" y="1110"/>
                  </a:lnTo>
                  <a:lnTo>
                    <a:pt x="215" y="1072"/>
                  </a:lnTo>
                  <a:lnTo>
                    <a:pt x="214" y="1062"/>
                  </a:lnTo>
                  <a:lnTo>
                    <a:pt x="212" y="1037"/>
                  </a:lnTo>
                  <a:lnTo>
                    <a:pt x="210" y="1000"/>
                  </a:lnTo>
                  <a:lnTo>
                    <a:pt x="209" y="950"/>
                  </a:lnTo>
                  <a:lnTo>
                    <a:pt x="206" y="892"/>
                  </a:lnTo>
                  <a:lnTo>
                    <a:pt x="206" y="826"/>
                  </a:lnTo>
                  <a:lnTo>
                    <a:pt x="207" y="753"/>
                  </a:lnTo>
                  <a:lnTo>
                    <a:pt x="211" y="677"/>
                  </a:lnTo>
                  <a:lnTo>
                    <a:pt x="215" y="637"/>
                  </a:lnTo>
                  <a:lnTo>
                    <a:pt x="219" y="598"/>
                  </a:lnTo>
                  <a:lnTo>
                    <a:pt x="222" y="559"/>
                  </a:lnTo>
                  <a:lnTo>
                    <a:pt x="227" y="520"/>
                  </a:lnTo>
                  <a:lnTo>
                    <a:pt x="235" y="480"/>
                  </a:lnTo>
                  <a:lnTo>
                    <a:pt x="241" y="441"/>
                  </a:lnTo>
                  <a:lnTo>
                    <a:pt x="250" y="404"/>
                  </a:lnTo>
                  <a:lnTo>
                    <a:pt x="260" y="367"/>
                  </a:lnTo>
                  <a:lnTo>
                    <a:pt x="271" y="332"/>
                  </a:lnTo>
                  <a:lnTo>
                    <a:pt x="283" y="299"/>
                  </a:lnTo>
                  <a:lnTo>
                    <a:pt x="296" y="266"/>
                  </a:lnTo>
                  <a:lnTo>
                    <a:pt x="310" y="235"/>
                  </a:lnTo>
                  <a:lnTo>
                    <a:pt x="328" y="208"/>
                  </a:lnTo>
                  <a:lnTo>
                    <a:pt x="345" y="182"/>
                  </a:lnTo>
                  <a:lnTo>
                    <a:pt x="365" y="160"/>
                  </a:lnTo>
                  <a:lnTo>
                    <a:pt x="386" y="140"/>
                  </a:lnTo>
                  <a:lnTo>
                    <a:pt x="427" y="106"/>
                  </a:lnTo>
                  <a:lnTo>
                    <a:pt x="381" y="80"/>
                  </a:lnTo>
                  <a:lnTo>
                    <a:pt x="340" y="59"/>
                  </a:lnTo>
                  <a:lnTo>
                    <a:pt x="303" y="41"/>
                  </a:lnTo>
                  <a:lnTo>
                    <a:pt x="271" y="26"/>
                  </a:lnTo>
                  <a:lnTo>
                    <a:pt x="241" y="15"/>
                  </a:lnTo>
                  <a:lnTo>
                    <a:pt x="215" y="6"/>
                  </a:lnTo>
                  <a:lnTo>
                    <a:pt x="194" y="1"/>
                  </a:lnTo>
                  <a:lnTo>
                    <a:pt x="184" y="0"/>
                  </a:lnTo>
                  <a:lnTo>
                    <a:pt x="175" y="0"/>
                  </a:lnTo>
                  <a:lnTo>
                    <a:pt x="168" y="0"/>
                  </a:lnTo>
                  <a:lnTo>
                    <a:pt x="161" y="1"/>
                  </a:lnTo>
                  <a:close/>
                  <a:moveTo>
                    <a:pt x="99" y="969"/>
                  </a:moveTo>
                  <a:lnTo>
                    <a:pt x="93" y="941"/>
                  </a:lnTo>
                  <a:lnTo>
                    <a:pt x="87" y="913"/>
                  </a:lnTo>
                  <a:lnTo>
                    <a:pt x="82" y="884"/>
                  </a:lnTo>
                  <a:lnTo>
                    <a:pt x="78" y="855"/>
                  </a:lnTo>
                  <a:lnTo>
                    <a:pt x="76" y="825"/>
                  </a:lnTo>
                  <a:lnTo>
                    <a:pt x="73" y="795"/>
                  </a:lnTo>
                  <a:lnTo>
                    <a:pt x="72" y="764"/>
                  </a:lnTo>
                  <a:lnTo>
                    <a:pt x="72" y="734"/>
                  </a:lnTo>
                  <a:lnTo>
                    <a:pt x="73" y="678"/>
                  </a:lnTo>
                  <a:lnTo>
                    <a:pt x="76" y="624"/>
                  </a:lnTo>
                  <a:lnTo>
                    <a:pt x="81" y="570"/>
                  </a:lnTo>
                  <a:lnTo>
                    <a:pt x="87" y="517"/>
                  </a:lnTo>
                  <a:lnTo>
                    <a:pt x="96" y="465"/>
                  </a:lnTo>
                  <a:lnTo>
                    <a:pt x="104" y="415"/>
                  </a:lnTo>
                  <a:lnTo>
                    <a:pt x="114" y="367"/>
                  </a:lnTo>
                  <a:lnTo>
                    <a:pt x="124" y="321"/>
                  </a:lnTo>
                  <a:lnTo>
                    <a:pt x="134" y="278"/>
                  </a:lnTo>
                  <a:lnTo>
                    <a:pt x="145" y="237"/>
                  </a:lnTo>
                  <a:lnTo>
                    <a:pt x="155" y="201"/>
                  </a:lnTo>
                  <a:lnTo>
                    <a:pt x="165" y="167"/>
                  </a:lnTo>
                  <a:lnTo>
                    <a:pt x="183" y="111"/>
                  </a:lnTo>
                  <a:lnTo>
                    <a:pt x="195" y="75"/>
                  </a:lnTo>
                  <a:lnTo>
                    <a:pt x="216" y="83"/>
                  </a:lnTo>
                  <a:lnTo>
                    <a:pt x="245" y="94"/>
                  </a:lnTo>
                  <a:lnTo>
                    <a:pt x="276" y="109"/>
                  </a:lnTo>
                  <a:lnTo>
                    <a:pt x="310" y="125"/>
                  </a:lnTo>
                  <a:lnTo>
                    <a:pt x="298" y="141"/>
                  </a:lnTo>
                  <a:lnTo>
                    <a:pt x="286" y="158"/>
                  </a:lnTo>
                  <a:lnTo>
                    <a:pt x="273" y="176"/>
                  </a:lnTo>
                  <a:lnTo>
                    <a:pt x="262" y="194"/>
                  </a:lnTo>
                  <a:lnTo>
                    <a:pt x="251" y="213"/>
                  </a:lnTo>
                  <a:lnTo>
                    <a:pt x="241" y="233"/>
                  </a:lnTo>
                  <a:lnTo>
                    <a:pt x="231" y="254"/>
                  </a:lnTo>
                  <a:lnTo>
                    <a:pt x="222" y="275"/>
                  </a:lnTo>
                  <a:lnTo>
                    <a:pt x="214" y="297"/>
                  </a:lnTo>
                  <a:lnTo>
                    <a:pt x="206" y="320"/>
                  </a:lnTo>
                  <a:lnTo>
                    <a:pt x="199" y="342"/>
                  </a:lnTo>
                  <a:lnTo>
                    <a:pt x="191" y="366"/>
                  </a:lnTo>
                  <a:lnTo>
                    <a:pt x="179" y="413"/>
                  </a:lnTo>
                  <a:lnTo>
                    <a:pt x="169" y="462"/>
                  </a:lnTo>
                  <a:lnTo>
                    <a:pt x="159" y="512"/>
                  </a:lnTo>
                  <a:lnTo>
                    <a:pt x="153" y="562"/>
                  </a:lnTo>
                  <a:lnTo>
                    <a:pt x="147" y="611"/>
                  </a:lnTo>
                  <a:lnTo>
                    <a:pt x="142" y="661"/>
                  </a:lnTo>
                  <a:lnTo>
                    <a:pt x="138" y="709"/>
                  </a:lnTo>
                  <a:lnTo>
                    <a:pt x="137" y="758"/>
                  </a:lnTo>
                  <a:lnTo>
                    <a:pt x="135" y="804"/>
                  </a:lnTo>
                  <a:lnTo>
                    <a:pt x="134" y="847"/>
                  </a:lnTo>
                  <a:lnTo>
                    <a:pt x="134" y="881"/>
                  </a:lnTo>
                  <a:lnTo>
                    <a:pt x="135" y="910"/>
                  </a:lnTo>
                  <a:lnTo>
                    <a:pt x="135" y="939"/>
                  </a:lnTo>
                  <a:lnTo>
                    <a:pt x="137" y="964"/>
                  </a:lnTo>
                  <a:lnTo>
                    <a:pt x="138" y="986"/>
                  </a:lnTo>
                  <a:lnTo>
                    <a:pt x="139" y="1006"/>
                  </a:lnTo>
                  <a:lnTo>
                    <a:pt x="140" y="1023"/>
                  </a:lnTo>
                  <a:lnTo>
                    <a:pt x="142" y="1039"/>
                  </a:lnTo>
                  <a:lnTo>
                    <a:pt x="129" y="1039"/>
                  </a:lnTo>
                  <a:lnTo>
                    <a:pt x="119" y="1039"/>
                  </a:lnTo>
                  <a:lnTo>
                    <a:pt x="113" y="1017"/>
                  </a:lnTo>
                  <a:lnTo>
                    <a:pt x="107" y="993"/>
                  </a:lnTo>
                  <a:lnTo>
                    <a:pt x="102" y="976"/>
                  </a:lnTo>
                  <a:lnTo>
                    <a:pt x="99" y="9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7143840" y="5183280"/>
              <a:ext cx="163440" cy="414360"/>
            </a:xfrm>
            <a:custGeom>
              <a:avLst/>
              <a:gdLst/>
              <a:ahLst/>
              <a:rect l="l" t="t" r="r" b="b"/>
              <a:pathLst>
                <a:path w="409" h="1043">
                  <a:moveTo>
                    <a:pt x="176" y="0"/>
                  </a:moveTo>
                  <a:lnTo>
                    <a:pt x="173" y="6"/>
                  </a:lnTo>
                  <a:lnTo>
                    <a:pt x="166" y="24"/>
                  </a:lnTo>
                  <a:lnTo>
                    <a:pt x="155" y="53"/>
                  </a:lnTo>
                  <a:lnTo>
                    <a:pt x="140" y="90"/>
                  </a:lnTo>
                  <a:lnTo>
                    <a:pt x="124" y="137"/>
                  </a:lnTo>
                  <a:lnTo>
                    <a:pt x="106" y="192"/>
                  </a:lnTo>
                  <a:lnTo>
                    <a:pt x="87" y="253"/>
                  </a:lnTo>
                  <a:lnTo>
                    <a:pt x="68" y="320"/>
                  </a:lnTo>
                  <a:lnTo>
                    <a:pt x="59" y="354"/>
                  </a:lnTo>
                  <a:lnTo>
                    <a:pt x="51" y="390"/>
                  </a:lnTo>
                  <a:lnTo>
                    <a:pt x="42" y="428"/>
                  </a:lnTo>
                  <a:lnTo>
                    <a:pt x="33" y="465"/>
                  </a:lnTo>
                  <a:lnTo>
                    <a:pt x="26" y="503"/>
                  </a:lnTo>
                  <a:lnTo>
                    <a:pt x="20" y="543"/>
                  </a:lnTo>
                  <a:lnTo>
                    <a:pt x="13" y="583"/>
                  </a:lnTo>
                  <a:lnTo>
                    <a:pt x="8" y="622"/>
                  </a:lnTo>
                  <a:lnTo>
                    <a:pt x="5" y="662"/>
                  </a:lnTo>
                  <a:lnTo>
                    <a:pt x="1" y="702"/>
                  </a:lnTo>
                  <a:lnTo>
                    <a:pt x="0" y="742"/>
                  </a:lnTo>
                  <a:lnTo>
                    <a:pt x="0" y="781"/>
                  </a:lnTo>
                  <a:lnTo>
                    <a:pt x="0" y="821"/>
                  </a:lnTo>
                  <a:lnTo>
                    <a:pt x="2" y="859"/>
                  </a:lnTo>
                  <a:lnTo>
                    <a:pt x="6" y="898"/>
                  </a:lnTo>
                  <a:lnTo>
                    <a:pt x="12" y="935"/>
                  </a:lnTo>
                  <a:lnTo>
                    <a:pt x="28" y="1033"/>
                  </a:lnTo>
                  <a:lnTo>
                    <a:pt x="116" y="1043"/>
                  </a:lnTo>
                  <a:lnTo>
                    <a:pt x="116" y="1036"/>
                  </a:lnTo>
                  <a:lnTo>
                    <a:pt x="118" y="1012"/>
                  </a:lnTo>
                  <a:lnTo>
                    <a:pt x="120" y="976"/>
                  </a:lnTo>
                  <a:lnTo>
                    <a:pt x="124" y="928"/>
                  </a:lnTo>
                  <a:lnTo>
                    <a:pt x="129" y="871"/>
                  </a:lnTo>
                  <a:lnTo>
                    <a:pt x="136" y="806"/>
                  </a:lnTo>
                  <a:lnTo>
                    <a:pt x="147" y="735"/>
                  </a:lnTo>
                  <a:lnTo>
                    <a:pt x="160" y="661"/>
                  </a:lnTo>
                  <a:lnTo>
                    <a:pt x="169" y="622"/>
                  </a:lnTo>
                  <a:lnTo>
                    <a:pt x="177" y="584"/>
                  </a:lnTo>
                  <a:lnTo>
                    <a:pt x="186" y="546"/>
                  </a:lnTo>
                  <a:lnTo>
                    <a:pt x="197" y="507"/>
                  </a:lnTo>
                  <a:lnTo>
                    <a:pt x="208" y="470"/>
                  </a:lnTo>
                  <a:lnTo>
                    <a:pt x="221" y="433"/>
                  </a:lnTo>
                  <a:lnTo>
                    <a:pt x="234" y="395"/>
                  </a:lnTo>
                  <a:lnTo>
                    <a:pt x="248" y="361"/>
                  </a:lnTo>
                  <a:lnTo>
                    <a:pt x="264" y="326"/>
                  </a:lnTo>
                  <a:lnTo>
                    <a:pt x="282" y="294"/>
                  </a:lnTo>
                  <a:lnTo>
                    <a:pt x="299" y="263"/>
                  </a:lnTo>
                  <a:lnTo>
                    <a:pt x="319" y="234"/>
                  </a:lnTo>
                  <a:lnTo>
                    <a:pt x="339" y="207"/>
                  </a:lnTo>
                  <a:lnTo>
                    <a:pt x="361" y="183"/>
                  </a:lnTo>
                  <a:lnTo>
                    <a:pt x="385" y="161"/>
                  </a:lnTo>
                  <a:lnTo>
                    <a:pt x="409" y="142"/>
                  </a:lnTo>
                  <a:lnTo>
                    <a:pt x="401" y="136"/>
                  </a:lnTo>
                  <a:lnTo>
                    <a:pt x="378" y="120"/>
                  </a:lnTo>
                  <a:lnTo>
                    <a:pt x="345" y="96"/>
                  </a:lnTo>
                  <a:lnTo>
                    <a:pt x="306" y="69"/>
                  </a:lnTo>
                  <a:lnTo>
                    <a:pt x="265" y="43"/>
                  </a:lnTo>
                  <a:lnTo>
                    <a:pt x="227" y="19"/>
                  </a:lnTo>
                  <a:lnTo>
                    <a:pt x="211" y="11"/>
                  </a:lnTo>
                  <a:lnTo>
                    <a:pt x="196" y="5"/>
                  </a:lnTo>
                  <a:lnTo>
                    <a:pt x="185" y="1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7129440" y="5170320"/>
              <a:ext cx="201600" cy="443160"/>
            </a:xfrm>
            <a:custGeom>
              <a:avLst/>
              <a:gdLst/>
              <a:ahLst/>
              <a:rect l="l" t="t" r="r" b="b"/>
              <a:pathLst>
                <a:path w="508" h="1118">
                  <a:moveTo>
                    <a:pt x="206" y="0"/>
                  </a:moveTo>
                  <a:lnTo>
                    <a:pt x="187" y="4"/>
                  </a:lnTo>
                  <a:lnTo>
                    <a:pt x="178" y="21"/>
                  </a:lnTo>
                  <a:lnTo>
                    <a:pt x="175" y="31"/>
                  </a:lnTo>
                  <a:lnTo>
                    <a:pt x="166" y="52"/>
                  </a:lnTo>
                  <a:lnTo>
                    <a:pt x="154" y="83"/>
                  </a:lnTo>
                  <a:lnTo>
                    <a:pt x="139" y="124"/>
                  </a:lnTo>
                  <a:lnTo>
                    <a:pt x="123" y="172"/>
                  </a:lnTo>
                  <a:lnTo>
                    <a:pt x="104" y="227"/>
                  </a:lnTo>
                  <a:lnTo>
                    <a:pt x="85" y="289"/>
                  </a:lnTo>
                  <a:lnTo>
                    <a:pt x="67" y="356"/>
                  </a:lnTo>
                  <a:lnTo>
                    <a:pt x="48" y="428"/>
                  </a:lnTo>
                  <a:lnTo>
                    <a:pt x="32" y="504"/>
                  </a:lnTo>
                  <a:lnTo>
                    <a:pt x="24" y="542"/>
                  </a:lnTo>
                  <a:lnTo>
                    <a:pt x="18" y="582"/>
                  </a:lnTo>
                  <a:lnTo>
                    <a:pt x="13" y="620"/>
                  </a:lnTo>
                  <a:lnTo>
                    <a:pt x="8" y="661"/>
                  </a:lnTo>
                  <a:lnTo>
                    <a:pt x="5" y="701"/>
                  </a:lnTo>
                  <a:lnTo>
                    <a:pt x="1" y="741"/>
                  </a:lnTo>
                  <a:lnTo>
                    <a:pt x="0" y="780"/>
                  </a:lnTo>
                  <a:lnTo>
                    <a:pt x="0" y="820"/>
                  </a:lnTo>
                  <a:lnTo>
                    <a:pt x="1" y="860"/>
                  </a:lnTo>
                  <a:lnTo>
                    <a:pt x="3" y="899"/>
                  </a:lnTo>
                  <a:lnTo>
                    <a:pt x="7" y="938"/>
                  </a:lnTo>
                  <a:lnTo>
                    <a:pt x="12" y="976"/>
                  </a:lnTo>
                  <a:lnTo>
                    <a:pt x="34" y="1100"/>
                  </a:lnTo>
                  <a:lnTo>
                    <a:pt x="187" y="1118"/>
                  </a:lnTo>
                  <a:lnTo>
                    <a:pt x="187" y="1079"/>
                  </a:lnTo>
                  <a:lnTo>
                    <a:pt x="188" y="1071"/>
                  </a:lnTo>
                  <a:lnTo>
                    <a:pt x="190" y="1047"/>
                  </a:lnTo>
                  <a:lnTo>
                    <a:pt x="191" y="1011"/>
                  </a:lnTo>
                  <a:lnTo>
                    <a:pt x="196" y="964"/>
                  </a:lnTo>
                  <a:lnTo>
                    <a:pt x="201" y="908"/>
                  </a:lnTo>
                  <a:lnTo>
                    <a:pt x="208" y="845"/>
                  </a:lnTo>
                  <a:lnTo>
                    <a:pt x="218" y="777"/>
                  </a:lnTo>
                  <a:lnTo>
                    <a:pt x="231" y="705"/>
                  </a:lnTo>
                  <a:lnTo>
                    <a:pt x="238" y="667"/>
                  </a:lnTo>
                  <a:lnTo>
                    <a:pt x="247" y="630"/>
                  </a:lnTo>
                  <a:lnTo>
                    <a:pt x="255" y="593"/>
                  </a:lnTo>
                  <a:lnTo>
                    <a:pt x="265" y="556"/>
                  </a:lnTo>
                  <a:lnTo>
                    <a:pt x="277" y="520"/>
                  </a:lnTo>
                  <a:lnTo>
                    <a:pt x="288" y="484"/>
                  </a:lnTo>
                  <a:lnTo>
                    <a:pt x="300" y="448"/>
                  </a:lnTo>
                  <a:lnTo>
                    <a:pt x="315" y="414"/>
                  </a:lnTo>
                  <a:lnTo>
                    <a:pt x="329" y="381"/>
                  </a:lnTo>
                  <a:lnTo>
                    <a:pt x="345" y="350"/>
                  </a:lnTo>
                  <a:lnTo>
                    <a:pt x="362" y="321"/>
                  </a:lnTo>
                  <a:lnTo>
                    <a:pt x="381" y="293"/>
                  </a:lnTo>
                  <a:lnTo>
                    <a:pt x="399" y="268"/>
                  </a:lnTo>
                  <a:lnTo>
                    <a:pt x="421" y="246"/>
                  </a:lnTo>
                  <a:lnTo>
                    <a:pt x="442" y="224"/>
                  </a:lnTo>
                  <a:lnTo>
                    <a:pt x="465" y="207"/>
                  </a:lnTo>
                  <a:lnTo>
                    <a:pt x="508" y="180"/>
                  </a:lnTo>
                  <a:lnTo>
                    <a:pt x="467" y="149"/>
                  </a:lnTo>
                  <a:lnTo>
                    <a:pt x="429" y="121"/>
                  </a:lnTo>
                  <a:lnTo>
                    <a:pt x="396" y="98"/>
                  </a:lnTo>
                  <a:lnTo>
                    <a:pt x="366" y="77"/>
                  </a:lnTo>
                  <a:lnTo>
                    <a:pt x="340" y="59"/>
                  </a:lnTo>
                  <a:lnTo>
                    <a:pt x="316" y="45"/>
                  </a:lnTo>
                  <a:lnTo>
                    <a:pt x="295" y="32"/>
                  </a:lnTo>
                  <a:lnTo>
                    <a:pt x="278" y="22"/>
                  </a:lnTo>
                  <a:lnTo>
                    <a:pt x="263" y="15"/>
                  </a:lnTo>
                  <a:lnTo>
                    <a:pt x="249" y="9"/>
                  </a:lnTo>
                  <a:lnTo>
                    <a:pt x="239" y="5"/>
                  </a:lnTo>
                  <a:lnTo>
                    <a:pt x="229" y="2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6" y="0"/>
                  </a:lnTo>
                  <a:close/>
                  <a:moveTo>
                    <a:pt x="83" y="964"/>
                  </a:moveTo>
                  <a:lnTo>
                    <a:pt x="78" y="927"/>
                  </a:lnTo>
                  <a:lnTo>
                    <a:pt x="74" y="889"/>
                  </a:lnTo>
                  <a:lnTo>
                    <a:pt x="72" y="852"/>
                  </a:lnTo>
                  <a:lnTo>
                    <a:pt x="70" y="813"/>
                  </a:lnTo>
                  <a:lnTo>
                    <a:pt x="72" y="785"/>
                  </a:lnTo>
                  <a:lnTo>
                    <a:pt x="73" y="757"/>
                  </a:lnTo>
                  <a:lnTo>
                    <a:pt x="74" y="728"/>
                  </a:lnTo>
                  <a:lnTo>
                    <a:pt x="77" y="700"/>
                  </a:lnTo>
                  <a:lnTo>
                    <a:pt x="83" y="641"/>
                  </a:lnTo>
                  <a:lnTo>
                    <a:pt x="90" y="586"/>
                  </a:lnTo>
                  <a:lnTo>
                    <a:pt x="100" y="530"/>
                  </a:lnTo>
                  <a:lnTo>
                    <a:pt x="111" y="474"/>
                  </a:lnTo>
                  <a:lnTo>
                    <a:pt x="124" y="422"/>
                  </a:lnTo>
                  <a:lnTo>
                    <a:pt x="137" y="370"/>
                  </a:lnTo>
                  <a:lnTo>
                    <a:pt x="151" y="321"/>
                  </a:lnTo>
                  <a:lnTo>
                    <a:pt x="165" y="275"/>
                  </a:lnTo>
                  <a:lnTo>
                    <a:pt x="177" y="232"/>
                  </a:lnTo>
                  <a:lnTo>
                    <a:pt x="191" y="193"/>
                  </a:lnTo>
                  <a:lnTo>
                    <a:pt x="214" y="126"/>
                  </a:lnTo>
                  <a:lnTo>
                    <a:pt x="232" y="79"/>
                  </a:lnTo>
                  <a:lnTo>
                    <a:pt x="263" y="97"/>
                  </a:lnTo>
                  <a:lnTo>
                    <a:pt x="301" y="120"/>
                  </a:lnTo>
                  <a:lnTo>
                    <a:pt x="345" y="150"/>
                  </a:lnTo>
                  <a:lnTo>
                    <a:pt x="391" y="182"/>
                  </a:lnTo>
                  <a:lnTo>
                    <a:pt x="371" y="202"/>
                  </a:lnTo>
                  <a:lnTo>
                    <a:pt x="352" y="223"/>
                  </a:lnTo>
                  <a:lnTo>
                    <a:pt x="334" y="246"/>
                  </a:lnTo>
                  <a:lnTo>
                    <a:pt x="316" y="269"/>
                  </a:lnTo>
                  <a:lnTo>
                    <a:pt x="300" y="295"/>
                  </a:lnTo>
                  <a:lnTo>
                    <a:pt x="285" y="321"/>
                  </a:lnTo>
                  <a:lnTo>
                    <a:pt x="270" y="350"/>
                  </a:lnTo>
                  <a:lnTo>
                    <a:pt x="257" y="378"/>
                  </a:lnTo>
                  <a:lnTo>
                    <a:pt x="244" y="408"/>
                  </a:lnTo>
                  <a:lnTo>
                    <a:pt x="232" y="438"/>
                  </a:lnTo>
                  <a:lnTo>
                    <a:pt x="221" y="470"/>
                  </a:lnTo>
                  <a:lnTo>
                    <a:pt x="211" y="501"/>
                  </a:lnTo>
                  <a:lnTo>
                    <a:pt x="201" y="533"/>
                  </a:lnTo>
                  <a:lnTo>
                    <a:pt x="192" y="564"/>
                  </a:lnTo>
                  <a:lnTo>
                    <a:pt x="183" y="597"/>
                  </a:lnTo>
                  <a:lnTo>
                    <a:pt x="176" y="629"/>
                  </a:lnTo>
                  <a:lnTo>
                    <a:pt x="161" y="693"/>
                  </a:lnTo>
                  <a:lnTo>
                    <a:pt x="150" y="755"/>
                  </a:lnTo>
                  <a:lnTo>
                    <a:pt x="141" y="815"/>
                  </a:lnTo>
                  <a:lnTo>
                    <a:pt x="134" y="871"/>
                  </a:lnTo>
                  <a:lnTo>
                    <a:pt x="128" y="922"/>
                  </a:lnTo>
                  <a:lnTo>
                    <a:pt x="123" y="968"/>
                  </a:lnTo>
                  <a:lnTo>
                    <a:pt x="120" y="1007"/>
                  </a:lnTo>
                  <a:lnTo>
                    <a:pt x="118" y="1038"/>
                  </a:lnTo>
                  <a:lnTo>
                    <a:pt x="106" y="1037"/>
                  </a:lnTo>
                  <a:lnTo>
                    <a:pt x="95" y="1036"/>
                  </a:lnTo>
                  <a:lnTo>
                    <a:pt x="92" y="1012"/>
                  </a:lnTo>
                  <a:lnTo>
                    <a:pt x="88" y="989"/>
                  </a:lnTo>
                  <a:lnTo>
                    <a:pt x="84" y="971"/>
                  </a:lnTo>
                  <a:lnTo>
                    <a:pt x="83" y="9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7178760" y="5230800"/>
              <a:ext cx="180720" cy="405000"/>
            </a:xfrm>
            <a:custGeom>
              <a:avLst/>
              <a:gdLst/>
              <a:ahLst/>
              <a:rect l="l" t="t" r="r" b="b"/>
              <a:pathLst>
                <a:path w="457" h="1020">
                  <a:moveTo>
                    <a:pt x="281" y="0"/>
                  </a:moveTo>
                  <a:lnTo>
                    <a:pt x="278" y="6"/>
                  </a:lnTo>
                  <a:lnTo>
                    <a:pt x="268" y="22"/>
                  </a:lnTo>
                  <a:lnTo>
                    <a:pt x="253" y="49"/>
                  </a:lnTo>
                  <a:lnTo>
                    <a:pt x="233" y="84"/>
                  </a:lnTo>
                  <a:lnTo>
                    <a:pt x="211" y="129"/>
                  </a:lnTo>
                  <a:lnTo>
                    <a:pt x="185" y="180"/>
                  </a:lnTo>
                  <a:lnTo>
                    <a:pt x="157" y="237"/>
                  </a:lnTo>
                  <a:lnTo>
                    <a:pt x="130" y="300"/>
                  </a:lnTo>
                  <a:lnTo>
                    <a:pt x="116" y="333"/>
                  </a:lnTo>
                  <a:lnTo>
                    <a:pt x="103" y="368"/>
                  </a:lnTo>
                  <a:lnTo>
                    <a:pt x="89" y="403"/>
                  </a:lnTo>
                  <a:lnTo>
                    <a:pt x="77" y="439"/>
                  </a:lnTo>
                  <a:lnTo>
                    <a:pt x="64" y="476"/>
                  </a:lnTo>
                  <a:lnTo>
                    <a:pt x="53" y="515"/>
                  </a:lnTo>
                  <a:lnTo>
                    <a:pt x="42" y="552"/>
                  </a:lnTo>
                  <a:lnTo>
                    <a:pt x="33" y="590"/>
                  </a:lnTo>
                  <a:lnTo>
                    <a:pt x="24" y="630"/>
                  </a:lnTo>
                  <a:lnTo>
                    <a:pt x="16" y="668"/>
                  </a:lnTo>
                  <a:lnTo>
                    <a:pt x="10" y="707"/>
                  </a:lnTo>
                  <a:lnTo>
                    <a:pt x="6" y="747"/>
                  </a:lnTo>
                  <a:lnTo>
                    <a:pt x="2" y="785"/>
                  </a:lnTo>
                  <a:lnTo>
                    <a:pt x="0" y="824"/>
                  </a:lnTo>
                  <a:lnTo>
                    <a:pt x="1" y="862"/>
                  </a:lnTo>
                  <a:lnTo>
                    <a:pt x="2" y="900"/>
                  </a:lnTo>
                  <a:lnTo>
                    <a:pt x="10" y="1000"/>
                  </a:lnTo>
                  <a:lnTo>
                    <a:pt x="96" y="1020"/>
                  </a:lnTo>
                  <a:lnTo>
                    <a:pt x="96" y="1011"/>
                  </a:lnTo>
                  <a:lnTo>
                    <a:pt x="100" y="987"/>
                  </a:lnTo>
                  <a:lnTo>
                    <a:pt x="104" y="950"/>
                  </a:lnTo>
                  <a:lnTo>
                    <a:pt x="111" y="900"/>
                  </a:lnTo>
                  <a:lnTo>
                    <a:pt x="121" y="841"/>
                  </a:lnTo>
                  <a:lnTo>
                    <a:pt x="134" y="774"/>
                  </a:lnTo>
                  <a:lnTo>
                    <a:pt x="149" y="702"/>
                  </a:lnTo>
                  <a:lnTo>
                    <a:pt x="167" y="626"/>
                  </a:lnTo>
                  <a:lnTo>
                    <a:pt x="178" y="587"/>
                  </a:lnTo>
                  <a:lnTo>
                    <a:pt x="190" y="548"/>
                  </a:lnTo>
                  <a:lnTo>
                    <a:pt x="202" y="508"/>
                  </a:lnTo>
                  <a:lnTo>
                    <a:pt x="216" y="470"/>
                  </a:lnTo>
                  <a:lnTo>
                    <a:pt x="229" y="432"/>
                  </a:lnTo>
                  <a:lnTo>
                    <a:pt x="244" y="394"/>
                  </a:lnTo>
                  <a:lnTo>
                    <a:pt x="260" y="358"/>
                  </a:lnTo>
                  <a:lnTo>
                    <a:pt x="278" y="324"/>
                  </a:lnTo>
                  <a:lnTo>
                    <a:pt x="296" y="290"/>
                  </a:lnTo>
                  <a:lnTo>
                    <a:pt x="315" y="258"/>
                  </a:lnTo>
                  <a:lnTo>
                    <a:pt x="336" y="228"/>
                  </a:lnTo>
                  <a:lnTo>
                    <a:pt x="357" y="201"/>
                  </a:lnTo>
                  <a:lnTo>
                    <a:pt x="381" y="176"/>
                  </a:lnTo>
                  <a:lnTo>
                    <a:pt x="404" y="154"/>
                  </a:lnTo>
                  <a:lnTo>
                    <a:pt x="429" y="135"/>
                  </a:lnTo>
                  <a:lnTo>
                    <a:pt x="457" y="119"/>
                  </a:lnTo>
                  <a:lnTo>
                    <a:pt x="434" y="100"/>
                  </a:lnTo>
                  <a:lnTo>
                    <a:pt x="382" y="59"/>
                  </a:lnTo>
                  <a:lnTo>
                    <a:pt x="352" y="37"/>
                  </a:lnTo>
                  <a:lnTo>
                    <a:pt x="324" y="18"/>
                  </a:lnTo>
                  <a:lnTo>
                    <a:pt x="311" y="11"/>
                  </a:lnTo>
                  <a:lnTo>
                    <a:pt x="299" y="5"/>
                  </a:lnTo>
                  <a:lnTo>
                    <a:pt x="289" y="1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7164360" y="5218200"/>
              <a:ext cx="220680" cy="434880"/>
            </a:xfrm>
            <a:custGeom>
              <a:avLst/>
              <a:gdLst/>
              <a:ahLst/>
              <a:rect l="l" t="t" r="r" b="b"/>
              <a:pathLst>
                <a:path w="554" h="1098">
                  <a:moveTo>
                    <a:pt x="315" y="0"/>
                  </a:moveTo>
                  <a:lnTo>
                    <a:pt x="295" y="0"/>
                  </a:lnTo>
                  <a:lnTo>
                    <a:pt x="285" y="16"/>
                  </a:lnTo>
                  <a:lnTo>
                    <a:pt x="280" y="26"/>
                  </a:lnTo>
                  <a:lnTo>
                    <a:pt x="269" y="46"/>
                  </a:lnTo>
                  <a:lnTo>
                    <a:pt x="252" y="74"/>
                  </a:lnTo>
                  <a:lnTo>
                    <a:pt x="232" y="112"/>
                  </a:lnTo>
                  <a:lnTo>
                    <a:pt x="208" y="158"/>
                  </a:lnTo>
                  <a:lnTo>
                    <a:pt x="182" y="210"/>
                  </a:lnTo>
                  <a:lnTo>
                    <a:pt x="155" y="268"/>
                  </a:lnTo>
                  <a:lnTo>
                    <a:pt x="126" y="333"/>
                  </a:lnTo>
                  <a:lnTo>
                    <a:pt x="113" y="366"/>
                  </a:lnTo>
                  <a:lnTo>
                    <a:pt x="100" y="401"/>
                  </a:lnTo>
                  <a:lnTo>
                    <a:pt x="87" y="437"/>
                  </a:lnTo>
                  <a:lnTo>
                    <a:pt x="74" y="473"/>
                  </a:lnTo>
                  <a:lnTo>
                    <a:pt x="62" y="510"/>
                  </a:lnTo>
                  <a:lnTo>
                    <a:pt x="51" y="548"/>
                  </a:lnTo>
                  <a:lnTo>
                    <a:pt x="41" y="587"/>
                  </a:lnTo>
                  <a:lnTo>
                    <a:pt x="31" y="625"/>
                  </a:lnTo>
                  <a:lnTo>
                    <a:pt x="22" y="664"/>
                  </a:lnTo>
                  <a:lnTo>
                    <a:pt x="15" y="703"/>
                  </a:lnTo>
                  <a:lnTo>
                    <a:pt x="8" y="743"/>
                  </a:lnTo>
                  <a:lnTo>
                    <a:pt x="5" y="783"/>
                  </a:lnTo>
                  <a:lnTo>
                    <a:pt x="1" y="821"/>
                  </a:lnTo>
                  <a:lnTo>
                    <a:pt x="0" y="861"/>
                  </a:lnTo>
                  <a:lnTo>
                    <a:pt x="0" y="900"/>
                  </a:lnTo>
                  <a:lnTo>
                    <a:pt x="1" y="938"/>
                  </a:lnTo>
                  <a:lnTo>
                    <a:pt x="11" y="1065"/>
                  </a:lnTo>
                  <a:lnTo>
                    <a:pt x="162" y="1098"/>
                  </a:lnTo>
                  <a:lnTo>
                    <a:pt x="166" y="1058"/>
                  </a:lnTo>
                  <a:lnTo>
                    <a:pt x="167" y="1048"/>
                  </a:lnTo>
                  <a:lnTo>
                    <a:pt x="170" y="1025"/>
                  </a:lnTo>
                  <a:lnTo>
                    <a:pt x="175" y="986"/>
                  </a:lnTo>
                  <a:lnTo>
                    <a:pt x="182" y="938"/>
                  </a:lnTo>
                  <a:lnTo>
                    <a:pt x="192" y="881"/>
                  </a:lnTo>
                  <a:lnTo>
                    <a:pt x="203" y="815"/>
                  </a:lnTo>
                  <a:lnTo>
                    <a:pt x="218" y="746"/>
                  </a:lnTo>
                  <a:lnTo>
                    <a:pt x="237" y="671"/>
                  </a:lnTo>
                  <a:lnTo>
                    <a:pt x="247" y="634"/>
                  </a:lnTo>
                  <a:lnTo>
                    <a:pt x="258" y="597"/>
                  </a:lnTo>
                  <a:lnTo>
                    <a:pt x="269" y="558"/>
                  </a:lnTo>
                  <a:lnTo>
                    <a:pt x="282" y="521"/>
                  </a:lnTo>
                  <a:lnTo>
                    <a:pt x="295" y="484"/>
                  </a:lnTo>
                  <a:lnTo>
                    <a:pt x="310" y="448"/>
                  </a:lnTo>
                  <a:lnTo>
                    <a:pt x="325" y="413"/>
                  </a:lnTo>
                  <a:lnTo>
                    <a:pt x="341" y="380"/>
                  </a:lnTo>
                  <a:lnTo>
                    <a:pt x="359" y="347"/>
                  </a:lnTo>
                  <a:lnTo>
                    <a:pt x="376" y="318"/>
                  </a:lnTo>
                  <a:lnTo>
                    <a:pt x="396" y="289"/>
                  </a:lnTo>
                  <a:lnTo>
                    <a:pt x="416" y="263"/>
                  </a:lnTo>
                  <a:lnTo>
                    <a:pt x="437" y="239"/>
                  </a:lnTo>
                  <a:lnTo>
                    <a:pt x="459" y="218"/>
                  </a:lnTo>
                  <a:lnTo>
                    <a:pt x="483" y="200"/>
                  </a:lnTo>
                  <a:lnTo>
                    <a:pt x="508" y="186"/>
                  </a:lnTo>
                  <a:lnTo>
                    <a:pt x="554" y="161"/>
                  </a:lnTo>
                  <a:lnTo>
                    <a:pt x="514" y="127"/>
                  </a:lnTo>
                  <a:lnTo>
                    <a:pt x="479" y="97"/>
                  </a:lnTo>
                  <a:lnTo>
                    <a:pt x="446" y="71"/>
                  </a:lnTo>
                  <a:lnTo>
                    <a:pt x="416" y="48"/>
                  </a:lnTo>
                  <a:lnTo>
                    <a:pt x="390" y="31"/>
                  </a:lnTo>
                  <a:lnTo>
                    <a:pt x="366" y="17"/>
                  </a:lnTo>
                  <a:lnTo>
                    <a:pt x="346" y="7"/>
                  </a:lnTo>
                  <a:lnTo>
                    <a:pt x="338" y="4"/>
                  </a:lnTo>
                  <a:lnTo>
                    <a:pt x="329" y="1"/>
                  </a:lnTo>
                  <a:lnTo>
                    <a:pt x="321" y="0"/>
                  </a:lnTo>
                  <a:lnTo>
                    <a:pt x="315" y="0"/>
                  </a:lnTo>
                  <a:close/>
                  <a:moveTo>
                    <a:pt x="73" y="933"/>
                  </a:moveTo>
                  <a:lnTo>
                    <a:pt x="72" y="919"/>
                  </a:lnTo>
                  <a:lnTo>
                    <a:pt x="71" y="906"/>
                  </a:lnTo>
                  <a:lnTo>
                    <a:pt x="71" y="891"/>
                  </a:lnTo>
                  <a:lnTo>
                    <a:pt x="71" y="877"/>
                  </a:lnTo>
                  <a:lnTo>
                    <a:pt x="72" y="847"/>
                  </a:lnTo>
                  <a:lnTo>
                    <a:pt x="73" y="816"/>
                  </a:lnTo>
                  <a:lnTo>
                    <a:pt x="76" y="785"/>
                  </a:lnTo>
                  <a:lnTo>
                    <a:pt x="79" y="754"/>
                  </a:lnTo>
                  <a:lnTo>
                    <a:pt x="84" y="723"/>
                  </a:lnTo>
                  <a:lnTo>
                    <a:pt x="89" y="692"/>
                  </a:lnTo>
                  <a:lnTo>
                    <a:pt x="97" y="661"/>
                  </a:lnTo>
                  <a:lnTo>
                    <a:pt x="103" y="630"/>
                  </a:lnTo>
                  <a:lnTo>
                    <a:pt x="119" y="569"/>
                  </a:lnTo>
                  <a:lnTo>
                    <a:pt x="138" y="510"/>
                  </a:lnTo>
                  <a:lnTo>
                    <a:pt x="158" y="452"/>
                  </a:lnTo>
                  <a:lnTo>
                    <a:pt x="180" y="395"/>
                  </a:lnTo>
                  <a:lnTo>
                    <a:pt x="201" y="341"/>
                  </a:lnTo>
                  <a:lnTo>
                    <a:pt x="223" y="292"/>
                  </a:lnTo>
                  <a:lnTo>
                    <a:pt x="246" y="244"/>
                  </a:lnTo>
                  <a:lnTo>
                    <a:pt x="266" y="202"/>
                  </a:lnTo>
                  <a:lnTo>
                    <a:pt x="303" y="130"/>
                  </a:lnTo>
                  <a:lnTo>
                    <a:pt x="331" y="81"/>
                  </a:lnTo>
                  <a:lnTo>
                    <a:pt x="351" y="92"/>
                  </a:lnTo>
                  <a:lnTo>
                    <a:pt x="376" y="109"/>
                  </a:lnTo>
                  <a:lnTo>
                    <a:pt x="403" y="130"/>
                  </a:lnTo>
                  <a:lnTo>
                    <a:pt x="434" y="155"/>
                  </a:lnTo>
                  <a:lnTo>
                    <a:pt x="413" y="172"/>
                  </a:lnTo>
                  <a:lnTo>
                    <a:pt x="392" y="191"/>
                  </a:lnTo>
                  <a:lnTo>
                    <a:pt x="372" y="213"/>
                  </a:lnTo>
                  <a:lnTo>
                    <a:pt x="354" y="236"/>
                  </a:lnTo>
                  <a:lnTo>
                    <a:pt x="336" y="261"/>
                  </a:lnTo>
                  <a:lnTo>
                    <a:pt x="319" y="287"/>
                  </a:lnTo>
                  <a:lnTo>
                    <a:pt x="302" y="313"/>
                  </a:lnTo>
                  <a:lnTo>
                    <a:pt x="287" y="341"/>
                  </a:lnTo>
                  <a:lnTo>
                    <a:pt x="272" y="371"/>
                  </a:lnTo>
                  <a:lnTo>
                    <a:pt x="257" y="401"/>
                  </a:lnTo>
                  <a:lnTo>
                    <a:pt x="243" y="432"/>
                  </a:lnTo>
                  <a:lnTo>
                    <a:pt x="231" y="463"/>
                  </a:lnTo>
                  <a:lnTo>
                    <a:pt x="218" y="495"/>
                  </a:lnTo>
                  <a:lnTo>
                    <a:pt x="207" y="527"/>
                  </a:lnTo>
                  <a:lnTo>
                    <a:pt x="196" y="560"/>
                  </a:lnTo>
                  <a:lnTo>
                    <a:pt x="186" y="592"/>
                  </a:lnTo>
                  <a:lnTo>
                    <a:pt x="169" y="656"/>
                  </a:lnTo>
                  <a:lnTo>
                    <a:pt x="153" y="721"/>
                  </a:lnTo>
                  <a:lnTo>
                    <a:pt x="139" y="782"/>
                  </a:lnTo>
                  <a:lnTo>
                    <a:pt x="126" y="839"/>
                  </a:lnTo>
                  <a:lnTo>
                    <a:pt x="118" y="891"/>
                  </a:lnTo>
                  <a:lnTo>
                    <a:pt x="110" y="938"/>
                  </a:lnTo>
                  <a:lnTo>
                    <a:pt x="104" y="979"/>
                  </a:lnTo>
                  <a:lnTo>
                    <a:pt x="100" y="1011"/>
                  </a:lnTo>
                  <a:lnTo>
                    <a:pt x="89" y="1009"/>
                  </a:lnTo>
                  <a:lnTo>
                    <a:pt x="78" y="1006"/>
                  </a:lnTo>
                  <a:lnTo>
                    <a:pt x="77" y="983"/>
                  </a:lnTo>
                  <a:lnTo>
                    <a:pt x="74" y="959"/>
                  </a:lnTo>
                  <a:lnTo>
                    <a:pt x="73" y="940"/>
                  </a:lnTo>
                  <a:lnTo>
                    <a:pt x="73" y="9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7194600" y="5267160"/>
              <a:ext cx="218880" cy="390600"/>
            </a:xfrm>
            <a:custGeom>
              <a:avLst/>
              <a:gdLst/>
              <a:ahLst/>
              <a:rect l="l" t="t" r="r" b="b"/>
              <a:pathLst>
                <a:path w="550" h="983">
                  <a:moveTo>
                    <a:pt x="391" y="0"/>
                  </a:moveTo>
                  <a:lnTo>
                    <a:pt x="375" y="21"/>
                  </a:lnTo>
                  <a:lnTo>
                    <a:pt x="332" y="76"/>
                  </a:lnTo>
                  <a:lnTo>
                    <a:pt x="305" y="116"/>
                  </a:lnTo>
                  <a:lnTo>
                    <a:pt x="273" y="163"/>
                  </a:lnTo>
                  <a:lnTo>
                    <a:pt x="239" y="217"/>
                  </a:lnTo>
                  <a:lnTo>
                    <a:pt x="204" y="275"/>
                  </a:lnTo>
                  <a:lnTo>
                    <a:pt x="186" y="306"/>
                  </a:lnTo>
                  <a:lnTo>
                    <a:pt x="168" y="338"/>
                  </a:lnTo>
                  <a:lnTo>
                    <a:pt x="151" y="371"/>
                  </a:lnTo>
                  <a:lnTo>
                    <a:pt x="134" y="405"/>
                  </a:lnTo>
                  <a:lnTo>
                    <a:pt x="118" y="440"/>
                  </a:lnTo>
                  <a:lnTo>
                    <a:pt x="101" y="475"/>
                  </a:lnTo>
                  <a:lnTo>
                    <a:pt x="86" y="511"/>
                  </a:lnTo>
                  <a:lnTo>
                    <a:pt x="72" y="548"/>
                  </a:lnTo>
                  <a:lnTo>
                    <a:pt x="58" y="585"/>
                  </a:lnTo>
                  <a:lnTo>
                    <a:pt x="45" y="622"/>
                  </a:lnTo>
                  <a:lnTo>
                    <a:pt x="36" y="661"/>
                  </a:lnTo>
                  <a:lnTo>
                    <a:pt x="26" y="698"/>
                  </a:lnTo>
                  <a:lnTo>
                    <a:pt x="17" y="737"/>
                  </a:lnTo>
                  <a:lnTo>
                    <a:pt x="11" y="775"/>
                  </a:lnTo>
                  <a:lnTo>
                    <a:pt x="6" y="812"/>
                  </a:lnTo>
                  <a:lnTo>
                    <a:pt x="3" y="851"/>
                  </a:lnTo>
                  <a:lnTo>
                    <a:pt x="0" y="951"/>
                  </a:lnTo>
                  <a:lnTo>
                    <a:pt x="82" y="983"/>
                  </a:lnTo>
                  <a:lnTo>
                    <a:pt x="89" y="951"/>
                  </a:lnTo>
                  <a:lnTo>
                    <a:pt x="111" y="867"/>
                  </a:lnTo>
                  <a:lnTo>
                    <a:pt x="129" y="810"/>
                  </a:lnTo>
                  <a:lnTo>
                    <a:pt x="150" y="745"/>
                  </a:lnTo>
                  <a:lnTo>
                    <a:pt x="173" y="676"/>
                  </a:lnTo>
                  <a:lnTo>
                    <a:pt x="201" y="603"/>
                  </a:lnTo>
                  <a:lnTo>
                    <a:pt x="217" y="567"/>
                  </a:lnTo>
                  <a:lnTo>
                    <a:pt x="233" y="529"/>
                  </a:lnTo>
                  <a:lnTo>
                    <a:pt x="249" y="492"/>
                  </a:lnTo>
                  <a:lnTo>
                    <a:pt x="268" y="456"/>
                  </a:lnTo>
                  <a:lnTo>
                    <a:pt x="286" y="420"/>
                  </a:lnTo>
                  <a:lnTo>
                    <a:pt x="306" y="385"/>
                  </a:lnTo>
                  <a:lnTo>
                    <a:pt x="326" y="352"/>
                  </a:lnTo>
                  <a:lnTo>
                    <a:pt x="347" y="320"/>
                  </a:lnTo>
                  <a:lnTo>
                    <a:pt x="370" y="289"/>
                  </a:lnTo>
                  <a:lnTo>
                    <a:pt x="393" y="260"/>
                  </a:lnTo>
                  <a:lnTo>
                    <a:pt x="417" y="234"/>
                  </a:lnTo>
                  <a:lnTo>
                    <a:pt x="442" y="210"/>
                  </a:lnTo>
                  <a:lnTo>
                    <a:pt x="468" y="189"/>
                  </a:lnTo>
                  <a:lnTo>
                    <a:pt x="494" y="171"/>
                  </a:lnTo>
                  <a:lnTo>
                    <a:pt x="521" y="156"/>
                  </a:lnTo>
                  <a:lnTo>
                    <a:pt x="550" y="143"/>
                  </a:lnTo>
                  <a:lnTo>
                    <a:pt x="530" y="121"/>
                  </a:lnTo>
                  <a:lnTo>
                    <a:pt x="484" y="73"/>
                  </a:lnTo>
                  <a:lnTo>
                    <a:pt x="457" y="47"/>
                  </a:lnTo>
                  <a:lnTo>
                    <a:pt x="430" y="24"/>
                  </a:lnTo>
                  <a:lnTo>
                    <a:pt x="419" y="14"/>
                  </a:lnTo>
                  <a:lnTo>
                    <a:pt x="408" y="7"/>
                  </a:lnTo>
                  <a:lnTo>
                    <a:pt x="398" y="2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7180200" y="5253120"/>
              <a:ext cx="257400" cy="423720"/>
            </a:xfrm>
            <a:custGeom>
              <a:avLst/>
              <a:gdLst/>
              <a:ahLst/>
              <a:rect l="l" t="t" r="r" b="b"/>
              <a:pathLst>
                <a:path w="648" h="1070">
                  <a:moveTo>
                    <a:pt x="401" y="15"/>
                  </a:moveTo>
                  <a:lnTo>
                    <a:pt x="380" y="41"/>
                  </a:lnTo>
                  <a:lnTo>
                    <a:pt x="336" y="102"/>
                  </a:lnTo>
                  <a:lnTo>
                    <a:pt x="307" y="143"/>
                  </a:lnTo>
                  <a:lnTo>
                    <a:pt x="275" y="191"/>
                  </a:lnTo>
                  <a:lnTo>
                    <a:pt x="240" y="246"/>
                  </a:lnTo>
                  <a:lnTo>
                    <a:pt x="205" y="304"/>
                  </a:lnTo>
                  <a:lnTo>
                    <a:pt x="187" y="337"/>
                  </a:lnTo>
                  <a:lnTo>
                    <a:pt x="169" y="369"/>
                  </a:lnTo>
                  <a:lnTo>
                    <a:pt x="152" y="402"/>
                  </a:lnTo>
                  <a:lnTo>
                    <a:pt x="136" y="436"/>
                  </a:lnTo>
                  <a:lnTo>
                    <a:pt x="118" y="472"/>
                  </a:lnTo>
                  <a:lnTo>
                    <a:pt x="102" y="508"/>
                  </a:lnTo>
                  <a:lnTo>
                    <a:pt x="87" y="544"/>
                  </a:lnTo>
                  <a:lnTo>
                    <a:pt x="74" y="581"/>
                  </a:lnTo>
                  <a:lnTo>
                    <a:pt x="60" y="618"/>
                  </a:lnTo>
                  <a:lnTo>
                    <a:pt x="47" y="657"/>
                  </a:lnTo>
                  <a:lnTo>
                    <a:pt x="38" y="694"/>
                  </a:lnTo>
                  <a:lnTo>
                    <a:pt x="28" y="732"/>
                  </a:lnTo>
                  <a:lnTo>
                    <a:pt x="20" y="771"/>
                  </a:lnTo>
                  <a:lnTo>
                    <a:pt x="13" y="809"/>
                  </a:lnTo>
                  <a:lnTo>
                    <a:pt x="9" y="848"/>
                  </a:lnTo>
                  <a:lnTo>
                    <a:pt x="7" y="886"/>
                  </a:lnTo>
                  <a:lnTo>
                    <a:pt x="0" y="1013"/>
                  </a:lnTo>
                  <a:lnTo>
                    <a:pt x="146" y="1070"/>
                  </a:lnTo>
                  <a:lnTo>
                    <a:pt x="154" y="1029"/>
                  </a:lnTo>
                  <a:lnTo>
                    <a:pt x="163" y="995"/>
                  </a:lnTo>
                  <a:lnTo>
                    <a:pt x="185" y="912"/>
                  </a:lnTo>
                  <a:lnTo>
                    <a:pt x="201" y="856"/>
                  </a:lnTo>
                  <a:lnTo>
                    <a:pt x="221" y="794"/>
                  </a:lnTo>
                  <a:lnTo>
                    <a:pt x="245" y="726"/>
                  </a:lnTo>
                  <a:lnTo>
                    <a:pt x="271" y="657"/>
                  </a:lnTo>
                  <a:lnTo>
                    <a:pt x="286" y="621"/>
                  </a:lnTo>
                  <a:lnTo>
                    <a:pt x="302" y="585"/>
                  </a:lnTo>
                  <a:lnTo>
                    <a:pt x="318" y="549"/>
                  </a:lnTo>
                  <a:lnTo>
                    <a:pt x="334" y="514"/>
                  </a:lnTo>
                  <a:lnTo>
                    <a:pt x="353" y="479"/>
                  </a:lnTo>
                  <a:lnTo>
                    <a:pt x="372" y="446"/>
                  </a:lnTo>
                  <a:lnTo>
                    <a:pt x="390" y="413"/>
                  </a:lnTo>
                  <a:lnTo>
                    <a:pt x="410" y="382"/>
                  </a:lnTo>
                  <a:lnTo>
                    <a:pt x="431" y="354"/>
                  </a:lnTo>
                  <a:lnTo>
                    <a:pt x="454" y="327"/>
                  </a:lnTo>
                  <a:lnTo>
                    <a:pt x="476" y="301"/>
                  </a:lnTo>
                  <a:lnTo>
                    <a:pt x="498" y="278"/>
                  </a:lnTo>
                  <a:lnTo>
                    <a:pt x="523" y="258"/>
                  </a:lnTo>
                  <a:lnTo>
                    <a:pt x="548" y="241"/>
                  </a:lnTo>
                  <a:lnTo>
                    <a:pt x="573" y="226"/>
                  </a:lnTo>
                  <a:lnTo>
                    <a:pt x="599" y="215"/>
                  </a:lnTo>
                  <a:lnTo>
                    <a:pt x="648" y="198"/>
                  </a:lnTo>
                  <a:lnTo>
                    <a:pt x="614" y="158"/>
                  </a:lnTo>
                  <a:lnTo>
                    <a:pt x="583" y="123"/>
                  </a:lnTo>
                  <a:lnTo>
                    <a:pt x="554" y="92"/>
                  </a:lnTo>
                  <a:lnTo>
                    <a:pt x="527" y="66"/>
                  </a:lnTo>
                  <a:lnTo>
                    <a:pt x="503" y="45"/>
                  </a:lnTo>
                  <a:lnTo>
                    <a:pt x="482" y="28"/>
                  </a:lnTo>
                  <a:lnTo>
                    <a:pt x="462" y="14"/>
                  </a:lnTo>
                  <a:lnTo>
                    <a:pt x="455" y="10"/>
                  </a:lnTo>
                  <a:lnTo>
                    <a:pt x="446" y="7"/>
                  </a:lnTo>
                  <a:lnTo>
                    <a:pt x="440" y="4"/>
                  </a:lnTo>
                  <a:lnTo>
                    <a:pt x="432" y="3"/>
                  </a:lnTo>
                  <a:lnTo>
                    <a:pt x="414" y="0"/>
                  </a:lnTo>
                  <a:lnTo>
                    <a:pt x="401" y="15"/>
                  </a:lnTo>
                  <a:close/>
                  <a:moveTo>
                    <a:pt x="77" y="890"/>
                  </a:moveTo>
                  <a:lnTo>
                    <a:pt x="80" y="859"/>
                  </a:lnTo>
                  <a:lnTo>
                    <a:pt x="82" y="827"/>
                  </a:lnTo>
                  <a:lnTo>
                    <a:pt x="87" y="796"/>
                  </a:lnTo>
                  <a:lnTo>
                    <a:pt x="93" y="763"/>
                  </a:lnTo>
                  <a:lnTo>
                    <a:pt x="101" y="732"/>
                  </a:lnTo>
                  <a:lnTo>
                    <a:pt x="110" y="700"/>
                  </a:lnTo>
                  <a:lnTo>
                    <a:pt x="120" y="668"/>
                  </a:lnTo>
                  <a:lnTo>
                    <a:pt x="129" y="637"/>
                  </a:lnTo>
                  <a:lnTo>
                    <a:pt x="141" y="606"/>
                  </a:lnTo>
                  <a:lnTo>
                    <a:pt x="153" y="575"/>
                  </a:lnTo>
                  <a:lnTo>
                    <a:pt x="165" y="544"/>
                  </a:lnTo>
                  <a:lnTo>
                    <a:pt x="178" y="514"/>
                  </a:lnTo>
                  <a:lnTo>
                    <a:pt x="206" y="456"/>
                  </a:lnTo>
                  <a:lnTo>
                    <a:pt x="235" y="399"/>
                  </a:lnTo>
                  <a:lnTo>
                    <a:pt x="265" y="345"/>
                  </a:lnTo>
                  <a:lnTo>
                    <a:pt x="295" y="294"/>
                  </a:lnTo>
                  <a:lnTo>
                    <a:pt x="324" y="247"/>
                  </a:lnTo>
                  <a:lnTo>
                    <a:pt x="352" y="205"/>
                  </a:lnTo>
                  <a:lnTo>
                    <a:pt x="401" y="134"/>
                  </a:lnTo>
                  <a:lnTo>
                    <a:pt x="437" y="85"/>
                  </a:lnTo>
                  <a:lnTo>
                    <a:pt x="456" y="100"/>
                  </a:lnTo>
                  <a:lnTo>
                    <a:pt x="478" y="121"/>
                  </a:lnTo>
                  <a:lnTo>
                    <a:pt x="503" y="146"/>
                  </a:lnTo>
                  <a:lnTo>
                    <a:pt x="532" y="174"/>
                  </a:lnTo>
                  <a:lnTo>
                    <a:pt x="508" y="189"/>
                  </a:lnTo>
                  <a:lnTo>
                    <a:pt x="486" y="205"/>
                  </a:lnTo>
                  <a:lnTo>
                    <a:pt x="463" y="222"/>
                  </a:lnTo>
                  <a:lnTo>
                    <a:pt x="441" y="242"/>
                  </a:lnTo>
                  <a:lnTo>
                    <a:pt x="421" y="265"/>
                  </a:lnTo>
                  <a:lnTo>
                    <a:pt x="400" y="287"/>
                  </a:lnTo>
                  <a:lnTo>
                    <a:pt x="380" y="312"/>
                  </a:lnTo>
                  <a:lnTo>
                    <a:pt x="362" y="337"/>
                  </a:lnTo>
                  <a:lnTo>
                    <a:pt x="343" y="364"/>
                  </a:lnTo>
                  <a:lnTo>
                    <a:pt x="326" y="391"/>
                  </a:lnTo>
                  <a:lnTo>
                    <a:pt x="308" y="420"/>
                  </a:lnTo>
                  <a:lnTo>
                    <a:pt x="292" y="449"/>
                  </a:lnTo>
                  <a:lnTo>
                    <a:pt x="276" y="479"/>
                  </a:lnTo>
                  <a:lnTo>
                    <a:pt x="261" y="509"/>
                  </a:lnTo>
                  <a:lnTo>
                    <a:pt x="246" y="540"/>
                  </a:lnTo>
                  <a:lnTo>
                    <a:pt x="233" y="570"/>
                  </a:lnTo>
                  <a:lnTo>
                    <a:pt x="206" y="632"/>
                  </a:lnTo>
                  <a:lnTo>
                    <a:pt x="183" y="691"/>
                  </a:lnTo>
                  <a:lnTo>
                    <a:pt x="162" y="750"/>
                  </a:lnTo>
                  <a:lnTo>
                    <a:pt x="143" y="804"/>
                  </a:lnTo>
                  <a:lnTo>
                    <a:pt x="127" y="855"/>
                  </a:lnTo>
                  <a:lnTo>
                    <a:pt x="113" y="901"/>
                  </a:lnTo>
                  <a:lnTo>
                    <a:pt x="102" y="941"/>
                  </a:lnTo>
                  <a:lnTo>
                    <a:pt x="95" y="973"/>
                  </a:lnTo>
                  <a:lnTo>
                    <a:pt x="83" y="968"/>
                  </a:lnTo>
                  <a:lnTo>
                    <a:pt x="74" y="964"/>
                  </a:lnTo>
                  <a:lnTo>
                    <a:pt x="75" y="941"/>
                  </a:lnTo>
                  <a:lnTo>
                    <a:pt x="76" y="916"/>
                  </a:lnTo>
                  <a:lnTo>
                    <a:pt x="77" y="897"/>
                  </a:lnTo>
                  <a:lnTo>
                    <a:pt x="77" y="8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7192800" y="5316480"/>
              <a:ext cx="282600" cy="355680"/>
            </a:xfrm>
            <a:custGeom>
              <a:avLst/>
              <a:gdLst/>
              <a:ahLst/>
              <a:rect l="l" t="t" r="r" b="b"/>
              <a:pathLst>
                <a:path w="713" h="893">
                  <a:moveTo>
                    <a:pt x="560" y="0"/>
                  </a:moveTo>
                  <a:lnTo>
                    <a:pt x="536" y="16"/>
                  </a:lnTo>
                  <a:lnTo>
                    <a:pt x="485" y="48"/>
                  </a:lnTo>
                  <a:lnTo>
                    <a:pt x="451" y="73"/>
                  </a:lnTo>
                  <a:lnTo>
                    <a:pt x="414" y="102"/>
                  </a:lnTo>
                  <a:lnTo>
                    <a:pt x="394" y="119"/>
                  </a:lnTo>
                  <a:lnTo>
                    <a:pt x="374" y="136"/>
                  </a:lnTo>
                  <a:lnTo>
                    <a:pt x="353" y="156"/>
                  </a:lnTo>
                  <a:lnTo>
                    <a:pt x="331" y="177"/>
                  </a:lnTo>
                  <a:lnTo>
                    <a:pt x="310" y="200"/>
                  </a:lnTo>
                  <a:lnTo>
                    <a:pt x="287" y="224"/>
                  </a:lnTo>
                  <a:lnTo>
                    <a:pt x="265" y="250"/>
                  </a:lnTo>
                  <a:lnTo>
                    <a:pt x="244" y="278"/>
                  </a:lnTo>
                  <a:lnTo>
                    <a:pt x="221" y="306"/>
                  </a:lnTo>
                  <a:lnTo>
                    <a:pt x="200" y="337"/>
                  </a:lnTo>
                  <a:lnTo>
                    <a:pt x="179" y="370"/>
                  </a:lnTo>
                  <a:lnTo>
                    <a:pt x="158" y="404"/>
                  </a:lnTo>
                  <a:lnTo>
                    <a:pt x="138" y="440"/>
                  </a:lnTo>
                  <a:lnTo>
                    <a:pt x="118" y="479"/>
                  </a:lnTo>
                  <a:lnTo>
                    <a:pt x="100" y="518"/>
                  </a:lnTo>
                  <a:lnTo>
                    <a:pt x="82" y="559"/>
                  </a:lnTo>
                  <a:lnTo>
                    <a:pt x="66" y="604"/>
                  </a:lnTo>
                  <a:lnTo>
                    <a:pt x="50" y="649"/>
                  </a:lnTo>
                  <a:lnTo>
                    <a:pt x="36" y="697"/>
                  </a:lnTo>
                  <a:lnTo>
                    <a:pt x="23" y="747"/>
                  </a:lnTo>
                  <a:lnTo>
                    <a:pt x="0" y="844"/>
                  </a:lnTo>
                  <a:lnTo>
                    <a:pt x="75" y="893"/>
                  </a:lnTo>
                  <a:lnTo>
                    <a:pt x="90" y="863"/>
                  </a:lnTo>
                  <a:lnTo>
                    <a:pt x="131" y="785"/>
                  </a:lnTo>
                  <a:lnTo>
                    <a:pt x="159" y="732"/>
                  </a:lnTo>
                  <a:lnTo>
                    <a:pt x="193" y="672"/>
                  </a:lnTo>
                  <a:lnTo>
                    <a:pt x="233" y="608"/>
                  </a:lnTo>
                  <a:lnTo>
                    <a:pt x="275" y="542"/>
                  </a:lnTo>
                  <a:lnTo>
                    <a:pt x="298" y="509"/>
                  </a:lnTo>
                  <a:lnTo>
                    <a:pt x="322" y="475"/>
                  </a:lnTo>
                  <a:lnTo>
                    <a:pt x="347" y="443"/>
                  </a:lnTo>
                  <a:lnTo>
                    <a:pt x="372" y="411"/>
                  </a:lnTo>
                  <a:lnTo>
                    <a:pt x="398" y="378"/>
                  </a:lnTo>
                  <a:lnTo>
                    <a:pt x="424" y="349"/>
                  </a:lnTo>
                  <a:lnTo>
                    <a:pt x="451" y="320"/>
                  </a:lnTo>
                  <a:lnTo>
                    <a:pt x="480" y="293"/>
                  </a:lnTo>
                  <a:lnTo>
                    <a:pt x="508" y="267"/>
                  </a:lnTo>
                  <a:lnTo>
                    <a:pt x="537" y="244"/>
                  </a:lnTo>
                  <a:lnTo>
                    <a:pt x="565" y="223"/>
                  </a:lnTo>
                  <a:lnTo>
                    <a:pt x="595" y="205"/>
                  </a:lnTo>
                  <a:lnTo>
                    <a:pt x="624" y="190"/>
                  </a:lnTo>
                  <a:lnTo>
                    <a:pt x="654" y="177"/>
                  </a:lnTo>
                  <a:lnTo>
                    <a:pt x="683" y="169"/>
                  </a:lnTo>
                  <a:lnTo>
                    <a:pt x="713" y="164"/>
                  </a:lnTo>
                  <a:lnTo>
                    <a:pt x="694" y="139"/>
                  </a:lnTo>
                  <a:lnTo>
                    <a:pt x="650" y="87"/>
                  </a:lnTo>
                  <a:lnTo>
                    <a:pt x="624" y="57"/>
                  </a:lnTo>
                  <a:lnTo>
                    <a:pt x="599" y="31"/>
                  </a:lnTo>
                  <a:lnTo>
                    <a:pt x="588" y="20"/>
                  </a:lnTo>
                  <a:lnTo>
                    <a:pt x="577" y="11"/>
                  </a:lnTo>
                  <a:lnTo>
                    <a:pt x="568" y="5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7232760" y="5362560"/>
              <a:ext cx="282600" cy="353880"/>
            </a:xfrm>
            <a:custGeom>
              <a:avLst/>
              <a:gdLst/>
              <a:ahLst/>
              <a:rect l="l" t="t" r="r" b="b"/>
              <a:pathLst>
                <a:path w="712" h="893">
                  <a:moveTo>
                    <a:pt x="560" y="0"/>
                  </a:moveTo>
                  <a:lnTo>
                    <a:pt x="540" y="16"/>
                  </a:lnTo>
                  <a:lnTo>
                    <a:pt x="489" y="61"/>
                  </a:lnTo>
                  <a:lnTo>
                    <a:pt x="453" y="94"/>
                  </a:lnTo>
                  <a:lnTo>
                    <a:pt x="415" y="133"/>
                  </a:lnTo>
                  <a:lnTo>
                    <a:pt x="371" y="177"/>
                  </a:lnTo>
                  <a:lnTo>
                    <a:pt x="327" y="227"/>
                  </a:lnTo>
                  <a:lnTo>
                    <a:pt x="303" y="253"/>
                  </a:lnTo>
                  <a:lnTo>
                    <a:pt x="280" y="280"/>
                  </a:lnTo>
                  <a:lnTo>
                    <a:pt x="256" y="309"/>
                  </a:lnTo>
                  <a:lnTo>
                    <a:pt x="234" y="339"/>
                  </a:lnTo>
                  <a:lnTo>
                    <a:pt x="211" y="369"/>
                  </a:lnTo>
                  <a:lnTo>
                    <a:pt x="189" y="400"/>
                  </a:lnTo>
                  <a:lnTo>
                    <a:pt x="167" y="432"/>
                  </a:lnTo>
                  <a:lnTo>
                    <a:pt x="145" y="465"/>
                  </a:lnTo>
                  <a:lnTo>
                    <a:pt x="126" y="499"/>
                  </a:lnTo>
                  <a:lnTo>
                    <a:pt x="107" y="532"/>
                  </a:lnTo>
                  <a:lnTo>
                    <a:pt x="90" y="567"/>
                  </a:lnTo>
                  <a:lnTo>
                    <a:pt x="72" y="602"/>
                  </a:lnTo>
                  <a:lnTo>
                    <a:pt x="57" y="638"/>
                  </a:lnTo>
                  <a:lnTo>
                    <a:pt x="44" y="672"/>
                  </a:lnTo>
                  <a:lnTo>
                    <a:pt x="32" y="710"/>
                  </a:lnTo>
                  <a:lnTo>
                    <a:pt x="23" y="746"/>
                  </a:lnTo>
                  <a:lnTo>
                    <a:pt x="0" y="842"/>
                  </a:lnTo>
                  <a:lnTo>
                    <a:pt x="75" y="893"/>
                  </a:lnTo>
                  <a:lnTo>
                    <a:pt x="90" y="861"/>
                  </a:lnTo>
                  <a:lnTo>
                    <a:pt x="129" y="779"/>
                  </a:lnTo>
                  <a:lnTo>
                    <a:pt x="159" y="725"/>
                  </a:lnTo>
                  <a:lnTo>
                    <a:pt x="193" y="663"/>
                  </a:lnTo>
                  <a:lnTo>
                    <a:pt x="231" y="596"/>
                  </a:lnTo>
                  <a:lnTo>
                    <a:pt x="273" y="527"/>
                  </a:lnTo>
                  <a:lnTo>
                    <a:pt x="297" y="493"/>
                  </a:lnTo>
                  <a:lnTo>
                    <a:pt x="321" y="458"/>
                  </a:lnTo>
                  <a:lnTo>
                    <a:pt x="345" y="423"/>
                  </a:lnTo>
                  <a:lnTo>
                    <a:pt x="370" y="390"/>
                  </a:lnTo>
                  <a:lnTo>
                    <a:pt x="396" y="357"/>
                  </a:lnTo>
                  <a:lnTo>
                    <a:pt x="422" y="326"/>
                  </a:lnTo>
                  <a:lnTo>
                    <a:pt x="450" y="297"/>
                  </a:lnTo>
                  <a:lnTo>
                    <a:pt x="478" y="268"/>
                  </a:lnTo>
                  <a:lnTo>
                    <a:pt x="506" y="242"/>
                  </a:lnTo>
                  <a:lnTo>
                    <a:pt x="534" y="217"/>
                  </a:lnTo>
                  <a:lnTo>
                    <a:pt x="564" y="196"/>
                  </a:lnTo>
                  <a:lnTo>
                    <a:pt x="592" y="177"/>
                  </a:lnTo>
                  <a:lnTo>
                    <a:pt x="622" y="161"/>
                  </a:lnTo>
                  <a:lnTo>
                    <a:pt x="652" y="149"/>
                  </a:lnTo>
                  <a:lnTo>
                    <a:pt x="682" y="139"/>
                  </a:lnTo>
                  <a:lnTo>
                    <a:pt x="712" y="134"/>
                  </a:lnTo>
                  <a:lnTo>
                    <a:pt x="692" y="115"/>
                  </a:lnTo>
                  <a:lnTo>
                    <a:pt x="648" y="71"/>
                  </a:lnTo>
                  <a:lnTo>
                    <a:pt x="622" y="47"/>
                  </a:lnTo>
                  <a:lnTo>
                    <a:pt x="599" y="26"/>
                  </a:lnTo>
                  <a:lnTo>
                    <a:pt x="586" y="16"/>
                  </a:lnTo>
                  <a:lnTo>
                    <a:pt x="576" y="9"/>
                  </a:lnTo>
                  <a:lnTo>
                    <a:pt x="568" y="2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7273800" y="5400720"/>
              <a:ext cx="277920" cy="353880"/>
            </a:xfrm>
            <a:custGeom>
              <a:avLst/>
              <a:gdLst/>
              <a:ahLst/>
              <a:rect l="l" t="t" r="r" b="b"/>
              <a:pathLst>
                <a:path w="698" h="893">
                  <a:moveTo>
                    <a:pt x="567" y="0"/>
                  </a:moveTo>
                  <a:lnTo>
                    <a:pt x="546" y="14"/>
                  </a:lnTo>
                  <a:lnTo>
                    <a:pt x="491" y="58"/>
                  </a:lnTo>
                  <a:lnTo>
                    <a:pt x="454" y="89"/>
                  </a:lnTo>
                  <a:lnTo>
                    <a:pt x="411" y="126"/>
                  </a:lnTo>
                  <a:lnTo>
                    <a:pt x="367" y="168"/>
                  </a:lnTo>
                  <a:lnTo>
                    <a:pt x="318" y="215"/>
                  </a:lnTo>
                  <a:lnTo>
                    <a:pt x="294" y="241"/>
                  </a:lnTo>
                  <a:lnTo>
                    <a:pt x="269" y="268"/>
                  </a:lnTo>
                  <a:lnTo>
                    <a:pt x="245" y="295"/>
                  </a:lnTo>
                  <a:lnTo>
                    <a:pt x="220" y="323"/>
                  </a:lnTo>
                  <a:lnTo>
                    <a:pt x="197" y="353"/>
                  </a:lnTo>
                  <a:lnTo>
                    <a:pt x="173" y="383"/>
                  </a:lnTo>
                  <a:lnTo>
                    <a:pt x="149" y="414"/>
                  </a:lnTo>
                  <a:lnTo>
                    <a:pt x="128" y="446"/>
                  </a:lnTo>
                  <a:lnTo>
                    <a:pt x="107" y="478"/>
                  </a:lnTo>
                  <a:lnTo>
                    <a:pt x="87" y="512"/>
                  </a:lnTo>
                  <a:lnTo>
                    <a:pt x="69" y="545"/>
                  </a:lnTo>
                  <a:lnTo>
                    <a:pt x="51" y="580"/>
                  </a:lnTo>
                  <a:lnTo>
                    <a:pt x="35" y="615"/>
                  </a:lnTo>
                  <a:lnTo>
                    <a:pt x="22" y="651"/>
                  </a:lnTo>
                  <a:lnTo>
                    <a:pt x="10" y="687"/>
                  </a:lnTo>
                  <a:lnTo>
                    <a:pt x="0" y="723"/>
                  </a:lnTo>
                  <a:lnTo>
                    <a:pt x="7" y="843"/>
                  </a:lnTo>
                  <a:lnTo>
                    <a:pt x="82" y="893"/>
                  </a:lnTo>
                  <a:lnTo>
                    <a:pt x="95" y="864"/>
                  </a:lnTo>
                  <a:lnTo>
                    <a:pt x="133" y="789"/>
                  </a:lnTo>
                  <a:lnTo>
                    <a:pt x="161" y="738"/>
                  </a:lnTo>
                  <a:lnTo>
                    <a:pt x="193" y="679"/>
                  </a:lnTo>
                  <a:lnTo>
                    <a:pt x="230" y="619"/>
                  </a:lnTo>
                  <a:lnTo>
                    <a:pt x="271" y="554"/>
                  </a:lnTo>
                  <a:lnTo>
                    <a:pt x="292" y="522"/>
                  </a:lnTo>
                  <a:lnTo>
                    <a:pt x="316" y="491"/>
                  </a:lnTo>
                  <a:lnTo>
                    <a:pt x="339" y="459"/>
                  </a:lnTo>
                  <a:lnTo>
                    <a:pt x="363" y="428"/>
                  </a:lnTo>
                  <a:lnTo>
                    <a:pt x="389" y="398"/>
                  </a:lnTo>
                  <a:lnTo>
                    <a:pt x="414" y="368"/>
                  </a:lnTo>
                  <a:lnTo>
                    <a:pt x="441" y="341"/>
                  </a:lnTo>
                  <a:lnTo>
                    <a:pt x="467" y="315"/>
                  </a:lnTo>
                  <a:lnTo>
                    <a:pt x="495" y="290"/>
                  </a:lnTo>
                  <a:lnTo>
                    <a:pt x="523" y="268"/>
                  </a:lnTo>
                  <a:lnTo>
                    <a:pt x="552" y="248"/>
                  </a:lnTo>
                  <a:lnTo>
                    <a:pt x="580" y="229"/>
                  </a:lnTo>
                  <a:lnTo>
                    <a:pt x="609" y="214"/>
                  </a:lnTo>
                  <a:lnTo>
                    <a:pt x="639" y="203"/>
                  </a:lnTo>
                  <a:lnTo>
                    <a:pt x="669" y="194"/>
                  </a:lnTo>
                  <a:lnTo>
                    <a:pt x="698" y="189"/>
                  </a:lnTo>
                  <a:lnTo>
                    <a:pt x="693" y="182"/>
                  </a:lnTo>
                  <a:lnTo>
                    <a:pt x="682" y="161"/>
                  </a:lnTo>
                  <a:lnTo>
                    <a:pt x="666" y="132"/>
                  </a:lnTo>
                  <a:lnTo>
                    <a:pt x="645" y="99"/>
                  </a:lnTo>
                  <a:lnTo>
                    <a:pt x="624" y="65"/>
                  </a:lnTo>
                  <a:lnTo>
                    <a:pt x="601" y="34"/>
                  </a:lnTo>
                  <a:lnTo>
                    <a:pt x="592" y="22"/>
                  </a:lnTo>
                  <a:lnTo>
                    <a:pt x="583" y="12"/>
                  </a:lnTo>
                  <a:lnTo>
                    <a:pt x="574" y="5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7304040" y="5440320"/>
              <a:ext cx="279360" cy="355680"/>
            </a:xfrm>
            <a:custGeom>
              <a:avLst/>
              <a:gdLst/>
              <a:ahLst/>
              <a:rect l="l" t="t" r="r" b="b"/>
              <a:pathLst>
                <a:path w="706" h="894">
                  <a:moveTo>
                    <a:pt x="560" y="0"/>
                  </a:moveTo>
                  <a:lnTo>
                    <a:pt x="540" y="16"/>
                  </a:lnTo>
                  <a:lnTo>
                    <a:pt x="489" y="62"/>
                  </a:lnTo>
                  <a:lnTo>
                    <a:pt x="454" y="95"/>
                  </a:lnTo>
                  <a:lnTo>
                    <a:pt x="414" y="133"/>
                  </a:lnTo>
                  <a:lnTo>
                    <a:pt x="371" y="178"/>
                  </a:lnTo>
                  <a:lnTo>
                    <a:pt x="326" y="227"/>
                  </a:lnTo>
                  <a:lnTo>
                    <a:pt x="303" y="253"/>
                  </a:lnTo>
                  <a:lnTo>
                    <a:pt x="279" y="281"/>
                  </a:lnTo>
                  <a:lnTo>
                    <a:pt x="257" y="309"/>
                  </a:lnTo>
                  <a:lnTo>
                    <a:pt x="233" y="339"/>
                  </a:lnTo>
                  <a:lnTo>
                    <a:pt x="211" y="370"/>
                  </a:lnTo>
                  <a:lnTo>
                    <a:pt x="188" y="401"/>
                  </a:lnTo>
                  <a:lnTo>
                    <a:pt x="167" y="433"/>
                  </a:lnTo>
                  <a:lnTo>
                    <a:pt x="146" y="466"/>
                  </a:lnTo>
                  <a:lnTo>
                    <a:pt x="126" y="499"/>
                  </a:lnTo>
                  <a:lnTo>
                    <a:pt x="107" y="533"/>
                  </a:lnTo>
                  <a:lnTo>
                    <a:pt x="89" y="567"/>
                  </a:lnTo>
                  <a:lnTo>
                    <a:pt x="73" y="602"/>
                  </a:lnTo>
                  <a:lnTo>
                    <a:pt x="58" y="638"/>
                  </a:lnTo>
                  <a:lnTo>
                    <a:pt x="44" y="674"/>
                  </a:lnTo>
                  <a:lnTo>
                    <a:pt x="33" y="710"/>
                  </a:lnTo>
                  <a:lnTo>
                    <a:pt x="23" y="746"/>
                  </a:lnTo>
                  <a:lnTo>
                    <a:pt x="0" y="843"/>
                  </a:lnTo>
                  <a:lnTo>
                    <a:pt x="75" y="894"/>
                  </a:lnTo>
                  <a:lnTo>
                    <a:pt x="89" y="865"/>
                  </a:lnTo>
                  <a:lnTo>
                    <a:pt x="129" y="792"/>
                  </a:lnTo>
                  <a:lnTo>
                    <a:pt x="157" y="742"/>
                  </a:lnTo>
                  <a:lnTo>
                    <a:pt x="191" y="686"/>
                  </a:lnTo>
                  <a:lnTo>
                    <a:pt x="229" y="627"/>
                  </a:lnTo>
                  <a:lnTo>
                    <a:pt x="272" y="565"/>
                  </a:lnTo>
                  <a:lnTo>
                    <a:pt x="294" y="534"/>
                  </a:lnTo>
                  <a:lnTo>
                    <a:pt x="318" y="502"/>
                  </a:lnTo>
                  <a:lnTo>
                    <a:pt x="341" y="472"/>
                  </a:lnTo>
                  <a:lnTo>
                    <a:pt x="367" y="441"/>
                  </a:lnTo>
                  <a:lnTo>
                    <a:pt x="392" y="412"/>
                  </a:lnTo>
                  <a:lnTo>
                    <a:pt x="419" y="384"/>
                  </a:lnTo>
                  <a:lnTo>
                    <a:pt x="446" y="356"/>
                  </a:lnTo>
                  <a:lnTo>
                    <a:pt x="473" y="330"/>
                  </a:lnTo>
                  <a:lnTo>
                    <a:pt x="501" y="307"/>
                  </a:lnTo>
                  <a:lnTo>
                    <a:pt x="530" y="286"/>
                  </a:lnTo>
                  <a:lnTo>
                    <a:pt x="559" y="266"/>
                  </a:lnTo>
                  <a:lnTo>
                    <a:pt x="588" y="248"/>
                  </a:lnTo>
                  <a:lnTo>
                    <a:pt x="617" y="234"/>
                  </a:lnTo>
                  <a:lnTo>
                    <a:pt x="647" y="222"/>
                  </a:lnTo>
                  <a:lnTo>
                    <a:pt x="676" y="214"/>
                  </a:lnTo>
                  <a:lnTo>
                    <a:pt x="706" y="209"/>
                  </a:lnTo>
                  <a:lnTo>
                    <a:pt x="701" y="200"/>
                  </a:lnTo>
                  <a:lnTo>
                    <a:pt x="688" y="178"/>
                  </a:lnTo>
                  <a:lnTo>
                    <a:pt x="669" y="145"/>
                  </a:lnTo>
                  <a:lnTo>
                    <a:pt x="645" y="108"/>
                  </a:lnTo>
                  <a:lnTo>
                    <a:pt x="622" y="71"/>
                  </a:lnTo>
                  <a:lnTo>
                    <a:pt x="597" y="38"/>
                  </a:lnTo>
                  <a:lnTo>
                    <a:pt x="586" y="24"/>
                  </a:lnTo>
                  <a:lnTo>
                    <a:pt x="576" y="13"/>
                  </a:lnTo>
                  <a:lnTo>
                    <a:pt x="567" y="4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7316640" y="5505480"/>
              <a:ext cx="297000" cy="330120"/>
            </a:xfrm>
            <a:custGeom>
              <a:avLst/>
              <a:gdLst/>
              <a:ahLst/>
              <a:rect l="l" t="t" r="r" b="b"/>
              <a:pathLst>
                <a:path w="747" h="833">
                  <a:moveTo>
                    <a:pt x="637" y="0"/>
                  </a:moveTo>
                  <a:lnTo>
                    <a:pt x="615" y="14"/>
                  </a:lnTo>
                  <a:lnTo>
                    <a:pt x="560" y="53"/>
                  </a:lnTo>
                  <a:lnTo>
                    <a:pt x="521" y="82"/>
                  </a:lnTo>
                  <a:lnTo>
                    <a:pt x="479" y="115"/>
                  </a:lnTo>
                  <a:lnTo>
                    <a:pt x="432" y="155"/>
                  </a:lnTo>
                  <a:lnTo>
                    <a:pt x="382" y="199"/>
                  </a:lnTo>
                  <a:lnTo>
                    <a:pt x="356" y="222"/>
                  </a:lnTo>
                  <a:lnTo>
                    <a:pt x="331" y="247"/>
                  </a:lnTo>
                  <a:lnTo>
                    <a:pt x="305" y="273"/>
                  </a:lnTo>
                  <a:lnTo>
                    <a:pt x="279" y="299"/>
                  </a:lnTo>
                  <a:lnTo>
                    <a:pt x="254" y="328"/>
                  </a:lnTo>
                  <a:lnTo>
                    <a:pt x="228" y="355"/>
                  </a:lnTo>
                  <a:lnTo>
                    <a:pt x="204" y="385"/>
                  </a:lnTo>
                  <a:lnTo>
                    <a:pt x="180" y="414"/>
                  </a:lnTo>
                  <a:lnTo>
                    <a:pt x="157" y="445"/>
                  </a:lnTo>
                  <a:lnTo>
                    <a:pt x="135" y="478"/>
                  </a:lnTo>
                  <a:lnTo>
                    <a:pt x="114" y="510"/>
                  </a:lnTo>
                  <a:lnTo>
                    <a:pt x="94" y="542"/>
                  </a:lnTo>
                  <a:lnTo>
                    <a:pt x="76" y="577"/>
                  </a:lnTo>
                  <a:lnTo>
                    <a:pt x="59" y="610"/>
                  </a:lnTo>
                  <a:lnTo>
                    <a:pt x="44" y="645"/>
                  </a:lnTo>
                  <a:lnTo>
                    <a:pt x="32" y="680"/>
                  </a:lnTo>
                  <a:lnTo>
                    <a:pt x="0" y="774"/>
                  </a:lnTo>
                  <a:lnTo>
                    <a:pt x="69" y="833"/>
                  </a:lnTo>
                  <a:lnTo>
                    <a:pt x="85" y="805"/>
                  </a:lnTo>
                  <a:lnTo>
                    <a:pt x="130" y="732"/>
                  </a:lnTo>
                  <a:lnTo>
                    <a:pt x="162" y="684"/>
                  </a:lnTo>
                  <a:lnTo>
                    <a:pt x="199" y="629"/>
                  </a:lnTo>
                  <a:lnTo>
                    <a:pt x="242" y="571"/>
                  </a:lnTo>
                  <a:lnTo>
                    <a:pt x="288" y="510"/>
                  </a:lnTo>
                  <a:lnTo>
                    <a:pt x="312" y="480"/>
                  </a:lnTo>
                  <a:lnTo>
                    <a:pt x="339" y="450"/>
                  </a:lnTo>
                  <a:lnTo>
                    <a:pt x="365" y="421"/>
                  </a:lnTo>
                  <a:lnTo>
                    <a:pt x="392" y="392"/>
                  </a:lnTo>
                  <a:lnTo>
                    <a:pt x="419" y="365"/>
                  </a:lnTo>
                  <a:lnTo>
                    <a:pt x="448" y="339"/>
                  </a:lnTo>
                  <a:lnTo>
                    <a:pt x="478" y="313"/>
                  </a:lnTo>
                  <a:lnTo>
                    <a:pt x="506" y="289"/>
                  </a:lnTo>
                  <a:lnTo>
                    <a:pt x="536" y="268"/>
                  </a:lnTo>
                  <a:lnTo>
                    <a:pt x="566" y="248"/>
                  </a:lnTo>
                  <a:lnTo>
                    <a:pt x="596" y="231"/>
                  </a:lnTo>
                  <a:lnTo>
                    <a:pt x="627" y="217"/>
                  </a:lnTo>
                  <a:lnTo>
                    <a:pt x="656" y="205"/>
                  </a:lnTo>
                  <a:lnTo>
                    <a:pt x="686" y="196"/>
                  </a:lnTo>
                  <a:lnTo>
                    <a:pt x="717" y="191"/>
                  </a:lnTo>
                  <a:lnTo>
                    <a:pt x="747" y="190"/>
                  </a:lnTo>
                  <a:lnTo>
                    <a:pt x="743" y="182"/>
                  </a:lnTo>
                  <a:lnTo>
                    <a:pt x="735" y="161"/>
                  </a:lnTo>
                  <a:lnTo>
                    <a:pt x="721" y="134"/>
                  </a:lnTo>
                  <a:lnTo>
                    <a:pt x="704" y="101"/>
                  </a:lnTo>
                  <a:lnTo>
                    <a:pt x="686" y="67"/>
                  </a:lnTo>
                  <a:lnTo>
                    <a:pt x="668" y="36"/>
                  </a:lnTo>
                  <a:lnTo>
                    <a:pt x="659" y="24"/>
                  </a:lnTo>
                  <a:lnTo>
                    <a:pt x="650" y="12"/>
                  </a:lnTo>
                  <a:lnTo>
                    <a:pt x="643" y="5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61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7313760" y="5557680"/>
              <a:ext cx="323640" cy="325440"/>
            </a:xfrm>
            <a:custGeom>
              <a:avLst/>
              <a:gdLst/>
              <a:ahLst/>
              <a:rect l="l" t="t" r="r" b="b"/>
              <a:pathLst>
                <a:path w="816" h="822">
                  <a:moveTo>
                    <a:pt x="715" y="0"/>
                  </a:moveTo>
                  <a:lnTo>
                    <a:pt x="694" y="14"/>
                  </a:lnTo>
                  <a:lnTo>
                    <a:pt x="637" y="54"/>
                  </a:lnTo>
                  <a:lnTo>
                    <a:pt x="597" y="82"/>
                  </a:lnTo>
                  <a:lnTo>
                    <a:pt x="552" y="116"/>
                  </a:lnTo>
                  <a:lnTo>
                    <a:pt x="504" y="155"/>
                  </a:lnTo>
                  <a:lnTo>
                    <a:pt x="452" y="199"/>
                  </a:lnTo>
                  <a:lnTo>
                    <a:pt x="398" y="246"/>
                  </a:lnTo>
                  <a:lnTo>
                    <a:pt x="344" y="298"/>
                  </a:lnTo>
                  <a:lnTo>
                    <a:pt x="316" y="324"/>
                  </a:lnTo>
                  <a:lnTo>
                    <a:pt x="289" y="353"/>
                  </a:lnTo>
                  <a:lnTo>
                    <a:pt x="263" y="381"/>
                  </a:lnTo>
                  <a:lnTo>
                    <a:pt x="237" y="411"/>
                  </a:lnTo>
                  <a:lnTo>
                    <a:pt x="211" y="441"/>
                  </a:lnTo>
                  <a:lnTo>
                    <a:pt x="187" y="472"/>
                  </a:lnTo>
                  <a:lnTo>
                    <a:pt x="164" y="503"/>
                  </a:lnTo>
                  <a:lnTo>
                    <a:pt x="141" y="535"/>
                  </a:lnTo>
                  <a:lnTo>
                    <a:pt x="120" y="567"/>
                  </a:lnTo>
                  <a:lnTo>
                    <a:pt x="100" y="600"/>
                  </a:lnTo>
                  <a:lnTo>
                    <a:pt x="83" y="633"/>
                  </a:lnTo>
                  <a:lnTo>
                    <a:pt x="67" y="667"/>
                  </a:lnTo>
                  <a:lnTo>
                    <a:pt x="0" y="741"/>
                  </a:lnTo>
                  <a:lnTo>
                    <a:pt x="89" y="822"/>
                  </a:lnTo>
                  <a:lnTo>
                    <a:pt x="108" y="794"/>
                  </a:lnTo>
                  <a:lnTo>
                    <a:pt x="159" y="720"/>
                  </a:lnTo>
                  <a:lnTo>
                    <a:pt x="194" y="670"/>
                  </a:lnTo>
                  <a:lnTo>
                    <a:pt x="236" y="614"/>
                  </a:lnTo>
                  <a:lnTo>
                    <a:pt x="283" y="556"/>
                  </a:lnTo>
                  <a:lnTo>
                    <a:pt x="334" y="497"/>
                  </a:lnTo>
                  <a:lnTo>
                    <a:pt x="361" y="466"/>
                  </a:lnTo>
                  <a:lnTo>
                    <a:pt x="388" y="436"/>
                  </a:lnTo>
                  <a:lnTo>
                    <a:pt x="417" y="407"/>
                  </a:lnTo>
                  <a:lnTo>
                    <a:pt x="447" y="379"/>
                  </a:lnTo>
                  <a:lnTo>
                    <a:pt x="477" y="351"/>
                  </a:lnTo>
                  <a:lnTo>
                    <a:pt x="506" y="325"/>
                  </a:lnTo>
                  <a:lnTo>
                    <a:pt x="537" y="302"/>
                  </a:lnTo>
                  <a:lnTo>
                    <a:pt x="569" y="279"/>
                  </a:lnTo>
                  <a:lnTo>
                    <a:pt x="600" y="260"/>
                  </a:lnTo>
                  <a:lnTo>
                    <a:pt x="631" y="241"/>
                  </a:lnTo>
                  <a:lnTo>
                    <a:pt x="662" y="226"/>
                  </a:lnTo>
                  <a:lnTo>
                    <a:pt x="694" y="214"/>
                  </a:lnTo>
                  <a:lnTo>
                    <a:pt x="725" y="204"/>
                  </a:lnTo>
                  <a:lnTo>
                    <a:pt x="756" y="198"/>
                  </a:lnTo>
                  <a:lnTo>
                    <a:pt x="786" y="195"/>
                  </a:lnTo>
                  <a:lnTo>
                    <a:pt x="816" y="196"/>
                  </a:lnTo>
                  <a:lnTo>
                    <a:pt x="813" y="189"/>
                  </a:lnTo>
                  <a:lnTo>
                    <a:pt x="804" y="169"/>
                  </a:lnTo>
                  <a:lnTo>
                    <a:pt x="792" y="139"/>
                  </a:lnTo>
                  <a:lnTo>
                    <a:pt x="777" y="106"/>
                  </a:lnTo>
                  <a:lnTo>
                    <a:pt x="761" y="71"/>
                  </a:lnTo>
                  <a:lnTo>
                    <a:pt x="744" y="39"/>
                  </a:lnTo>
                  <a:lnTo>
                    <a:pt x="736" y="25"/>
                  </a:lnTo>
                  <a:lnTo>
                    <a:pt x="729" y="14"/>
                  </a:lnTo>
                  <a:lnTo>
                    <a:pt x="721" y="5"/>
                  </a:lnTo>
                  <a:lnTo>
                    <a:pt x="715" y="0"/>
                  </a:lnTo>
                  <a:close/>
                </a:path>
              </a:pathLst>
            </a:custGeom>
            <a:solidFill>
              <a:srgbClr val="734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7211880" y="5199120"/>
              <a:ext cx="88920" cy="100080"/>
            </a:xfrm>
            <a:custGeom>
              <a:avLst/>
              <a:gdLst/>
              <a:ahLst/>
              <a:rect l="l" t="t" r="r" b="b"/>
              <a:pathLst>
                <a:path w="225" h="250">
                  <a:moveTo>
                    <a:pt x="225" y="124"/>
                  </a:moveTo>
                  <a:lnTo>
                    <a:pt x="225" y="138"/>
                  </a:lnTo>
                  <a:lnTo>
                    <a:pt x="222" y="150"/>
                  </a:lnTo>
                  <a:lnTo>
                    <a:pt x="220" y="162"/>
                  </a:lnTo>
                  <a:lnTo>
                    <a:pt x="216" y="173"/>
                  </a:lnTo>
                  <a:lnTo>
                    <a:pt x="211" y="184"/>
                  </a:lnTo>
                  <a:lnTo>
                    <a:pt x="206" y="195"/>
                  </a:lnTo>
                  <a:lnTo>
                    <a:pt x="199" y="204"/>
                  </a:lnTo>
                  <a:lnTo>
                    <a:pt x="192" y="213"/>
                  </a:lnTo>
                  <a:lnTo>
                    <a:pt x="184" y="221"/>
                  </a:lnTo>
                  <a:lnTo>
                    <a:pt x="175" y="229"/>
                  </a:lnTo>
                  <a:lnTo>
                    <a:pt x="166" y="235"/>
                  </a:lnTo>
                  <a:lnTo>
                    <a:pt x="156" y="240"/>
                  </a:lnTo>
                  <a:lnTo>
                    <a:pt x="145" y="244"/>
                  </a:lnTo>
                  <a:lnTo>
                    <a:pt x="135" y="247"/>
                  </a:lnTo>
                  <a:lnTo>
                    <a:pt x="124" y="248"/>
                  </a:lnTo>
                  <a:lnTo>
                    <a:pt x="113" y="250"/>
                  </a:lnTo>
                  <a:lnTo>
                    <a:pt x="101" y="248"/>
                  </a:lnTo>
                  <a:lnTo>
                    <a:pt x="89" y="247"/>
                  </a:lnTo>
                  <a:lnTo>
                    <a:pt x="79" y="244"/>
                  </a:lnTo>
                  <a:lnTo>
                    <a:pt x="68" y="240"/>
                  </a:lnTo>
                  <a:lnTo>
                    <a:pt x="60" y="235"/>
                  </a:lnTo>
                  <a:lnTo>
                    <a:pt x="50" y="229"/>
                  </a:lnTo>
                  <a:lnTo>
                    <a:pt x="41" y="221"/>
                  </a:lnTo>
                  <a:lnTo>
                    <a:pt x="34" y="213"/>
                  </a:lnTo>
                  <a:lnTo>
                    <a:pt x="26" y="204"/>
                  </a:lnTo>
                  <a:lnTo>
                    <a:pt x="20" y="195"/>
                  </a:lnTo>
                  <a:lnTo>
                    <a:pt x="14" y="184"/>
                  </a:lnTo>
                  <a:lnTo>
                    <a:pt x="9" y="173"/>
                  </a:lnTo>
                  <a:lnTo>
                    <a:pt x="5" y="162"/>
                  </a:lnTo>
                  <a:lnTo>
                    <a:pt x="2" y="150"/>
                  </a:lnTo>
                  <a:lnTo>
                    <a:pt x="1" y="138"/>
                  </a:lnTo>
                  <a:lnTo>
                    <a:pt x="0" y="124"/>
                  </a:lnTo>
                  <a:lnTo>
                    <a:pt x="1" y="112"/>
                  </a:lnTo>
                  <a:lnTo>
                    <a:pt x="2" y="100"/>
                  </a:lnTo>
                  <a:lnTo>
                    <a:pt x="5" y="88"/>
                  </a:lnTo>
                  <a:lnTo>
                    <a:pt x="9" y="76"/>
                  </a:lnTo>
                  <a:lnTo>
                    <a:pt x="14" y="66"/>
                  </a:lnTo>
                  <a:lnTo>
                    <a:pt x="20" y="55"/>
                  </a:lnTo>
                  <a:lnTo>
                    <a:pt x="26" y="46"/>
                  </a:lnTo>
                  <a:lnTo>
                    <a:pt x="34" y="36"/>
                  </a:lnTo>
                  <a:lnTo>
                    <a:pt x="41" y="29"/>
                  </a:lnTo>
                  <a:lnTo>
                    <a:pt x="50" y="21"/>
                  </a:lnTo>
                  <a:lnTo>
                    <a:pt x="60" y="15"/>
                  </a:lnTo>
                  <a:lnTo>
                    <a:pt x="68" y="10"/>
                  </a:lnTo>
                  <a:lnTo>
                    <a:pt x="79" y="7"/>
                  </a:lnTo>
                  <a:lnTo>
                    <a:pt x="89" y="3"/>
                  </a:lnTo>
                  <a:lnTo>
                    <a:pt x="101" y="2"/>
                  </a:lnTo>
                  <a:lnTo>
                    <a:pt x="113" y="0"/>
                  </a:lnTo>
                  <a:lnTo>
                    <a:pt x="124" y="2"/>
                  </a:lnTo>
                  <a:lnTo>
                    <a:pt x="135" y="3"/>
                  </a:lnTo>
                  <a:lnTo>
                    <a:pt x="145" y="7"/>
                  </a:lnTo>
                  <a:lnTo>
                    <a:pt x="156" y="10"/>
                  </a:lnTo>
                  <a:lnTo>
                    <a:pt x="166" y="15"/>
                  </a:lnTo>
                  <a:lnTo>
                    <a:pt x="175" y="21"/>
                  </a:lnTo>
                  <a:lnTo>
                    <a:pt x="184" y="29"/>
                  </a:lnTo>
                  <a:lnTo>
                    <a:pt x="192" y="36"/>
                  </a:lnTo>
                  <a:lnTo>
                    <a:pt x="199" y="46"/>
                  </a:lnTo>
                  <a:lnTo>
                    <a:pt x="206" y="55"/>
                  </a:lnTo>
                  <a:lnTo>
                    <a:pt x="211" y="66"/>
                  </a:lnTo>
                  <a:lnTo>
                    <a:pt x="216" y="76"/>
                  </a:lnTo>
                  <a:lnTo>
                    <a:pt x="220" y="88"/>
                  </a:lnTo>
                  <a:lnTo>
                    <a:pt x="222" y="100"/>
                  </a:lnTo>
                  <a:lnTo>
                    <a:pt x="225" y="112"/>
                  </a:lnTo>
                  <a:lnTo>
                    <a:pt x="225" y="124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7227720" y="5203800"/>
              <a:ext cx="52560" cy="44640"/>
            </a:xfrm>
            <a:custGeom>
              <a:avLst/>
              <a:gdLst/>
              <a:ahLst/>
              <a:rect l="l" t="t" r="r" b="b"/>
              <a:pathLst>
                <a:path w="131" h="113">
                  <a:moveTo>
                    <a:pt x="131" y="57"/>
                  </a:moveTo>
                  <a:lnTo>
                    <a:pt x="130" y="62"/>
                  </a:lnTo>
                  <a:lnTo>
                    <a:pt x="129" y="68"/>
                  </a:lnTo>
                  <a:lnTo>
                    <a:pt x="128" y="73"/>
                  </a:lnTo>
                  <a:lnTo>
                    <a:pt x="125" y="78"/>
                  </a:lnTo>
                  <a:lnTo>
                    <a:pt x="119" y="88"/>
                  </a:lnTo>
                  <a:lnTo>
                    <a:pt x="112" y="97"/>
                  </a:lnTo>
                  <a:lnTo>
                    <a:pt x="102" y="103"/>
                  </a:lnTo>
                  <a:lnTo>
                    <a:pt x="90" y="108"/>
                  </a:lnTo>
                  <a:lnTo>
                    <a:pt x="79" y="112"/>
                  </a:lnTo>
                  <a:lnTo>
                    <a:pt x="66" y="113"/>
                  </a:lnTo>
                  <a:lnTo>
                    <a:pt x="52" y="112"/>
                  </a:lnTo>
                  <a:lnTo>
                    <a:pt x="39" y="108"/>
                  </a:lnTo>
                  <a:lnTo>
                    <a:pt x="28" y="103"/>
                  </a:lnTo>
                  <a:lnTo>
                    <a:pt x="20" y="97"/>
                  </a:lnTo>
                  <a:lnTo>
                    <a:pt x="11" y="88"/>
                  </a:lnTo>
                  <a:lnTo>
                    <a:pt x="5" y="78"/>
                  </a:lnTo>
                  <a:lnTo>
                    <a:pt x="3" y="73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0" y="57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3" y="40"/>
                  </a:lnTo>
                  <a:lnTo>
                    <a:pt x="5" y="35"/>
                  </a:lnTo>
                  <a:lnTo>
                    <a:pt x="11" y="25"/>
                  </a:lnTo>
                  <a:lnTo>
                    <a:pt x="20" y="17"/>
                  </a:lnTo>
                  <a:lnTo>
                    <a:pt x="28" y="10"/>
                  </a:lnTo>
                  <a:lnTo>
                    <a:pt x="39" y="5"/>
                  </a:lnTo>
                  <a:lnTo>
                    <a:pt x="52" y="1"/>
                  </a:lnTo>
                  <a:lnTo>
                    <a:pt x="66" y="0"/>
                  </a:lnTo>
                  <a:lnTo>
                    <a:pt x="79" y="1"/>
                  </a:lnTo>
                  <a:lnTo>
                    <a:pt x="90" y="5"/>
                  </a:lnTo>
                  <a:lnTo>
                    <a:pt x="102" y="10"/>
                  </a:lnTo>
                  <a:lnTo>
                    <a:pt x="112" y="17"/>
                  </a:lnTo>
                  <a:lnTo>
                    <a:pt x="119" y="25"/>
                  </a:lnTo>
                  <a:lnTo>
                    <a:pt x="125" y="35"/>
                  </a:lnTo>
                  <a:lnTo>
                    <a:pt x="128" y="40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1" y="57"/>
                  </a:lnTo>
                  <a:close/>
                </a:path>
              </a:pathLst>
            </a:custGeom>
            <a:solidFill>
              <a:srgbClr val="c3d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7064280" y="5349960"/>
              <a:ext cx="88920" cy="98280"/>
            </a:xfrm>
            <a:custGeom>
              <a:avLst/>
              <a:gdLst/>
              <a:ahLst/>
              <a:rect l="l" t="t" r="r" b="b"/>
              <a:pathLst>
                <a:path w="225" h="249">
                  <a:moveTo>
                    <a:pt x="225" y="125"/>
                  </a:moveTo>
                  <a:lnTo>
                    <a:pt x="224" y="137"/>
                  </a:lnTo>
                  <a:lnTo>
                    <a:pt x="223" y="150"/>
                  </a:lnTo>
                  <a:lnTo>
                    <a:pt x="219" y="162"/>
                  </a:lnTo>
                  <a:lnTo>
                    <a:pt x="215" y="173"/>
                  </a:lnTo>
                  <a:lnTo>
                    <a:pt x="212" y="185"/>
                  </a:lnTo>
                  <a:lnTo>
                    <a:pt x="205" y="195"/>
                  </a:lnTo>
                  <a:lnTo>
                    <a:pt x="199" y="204"/>
                  </a:lnTo>
                  <a:lnTo>
                    <a:pt x="192" y="213"/>
                  </a:lnTo>
                  <a:lnTo>
                    <a:pt x="184" y="221"/>
                  </a:lnTo>
                  <a:lnTo>
                    <a:pt x="176" y="228"/>
                  </a:lnTo>
                  <a:lnTo>
                    <a:pt x="166" y="234"/>
                  </a:lnTo>
                  <a:lnTo>
                    <a:pt x="156" y="239"/>
                  </a:lnTo>
                  <a:lnTo>
                    <a:pt x="146" y="244"/>
                  </a:lnTo>
                  <a:lnTo>
                    <a:pt x="135" y="247"/>
                  </a:lnTo>
                  <a:lnTo>
                    <a:pt x="123" y="249"/>
                  </a:lnTo>
                  <a:lnTo>
                    <a:pt x="112" y="249"/>
                  </a:lnTo>
                  <a:lnTo>
                    <a:pt x="101" y="249"/>
                  </a:lnTo>
                  <a:lnTo>
                    <a:pt x="90" y="247"/>
                  </a:lnTo>
                  <a:lnTo>
                    <a:pt x="79" y="244"/>
                  </a:lnTo>
                  <a:lnTo>
                    <a:pt x="69" y="239"/>
                  </a:lnTo>
                  <a:lnTo>
                    <a:pt x="59" y="234"/>
                  </a:lnTo>
                  <a:lnTo>
                    <a:pt x="50" y="228"/>
                  </a:lnTo>
                  <a:lnTo>
                    <a:pt x="41" y="221"/>
                  </a:lnTo>
                  <a:lnTo>
                    <a:pt x="33" y="213"/>
                  </a:lnTo>
                  <a:lnTo>
                    <a:pt x="25" y="204"/>
                  </a:lnTo>
                  <a:lnTo>
                    <a:pt x="19" y="195"/>
                  </a:lnTo>
                  <a:lnTo>
                    <a:pt x="14" y="185"/>
                  </a:lnTo>
                  <a:lnTo>
                    <a:pt x="9" y="173"/>
                  </a:lnTo>
                  <a:lnTo>
                    <a:pt x="5" y="162"/>
                  </a:lnTo>
                  <a:lnTo>
                    <a:pt x="3" y="150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3"/>
                  </a:lnTo>
                  <a:lnTo>
                    <a:pt x="3" y="100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4" y="66"/>
                  </a:lnTo>
                  <a:lnTo>
                    <a:pt x="19" y="56"/>
                  </a:lnTo>
                  <a:lnTo>
                    <a:pt x="25" y="46"/>
                  </a:lnTo>
                  <a:lnTo>
                    <a:pt x="33" y="37"/>
                  </a:lnTo>
                  <a:lnTo>
                    <a:pt x="41" y="28"/>
                  </a:lnTo>
                  <a:lnTo>
                    <a:pt x="50" y="22"/>
                  </a:lnTo>
                  <a:lnTo>
                    <a:pt x="59" y="16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90" y="3"/>
                  </a:lnTo>
                  <a:lnTo>
                    <a:pt x="101" y="1"/>
                  </a:lnTo>
                  <a:lnTo>
                    <a:pt x="112" y="0"/>
                  </a:lnTo>
                  <a:lnTo>
                    <a:pt x="123" y="1"/>
                  </a:lnTo>
                  <a:lnTo>
                    <a:pt x="135" y="3"/>
                  </a:lnTo>
                  <a:lnTo>
                    <a:pt x="146" y="6"/>
                  </a:lnTo>
                  <a:lnTo>
                    <a:pt x="156" y="10"/>
                  </a:lnTo>
                  <a:lnTo>
                    <a:pt x="166" y="16"/>
                  </a:lnTo>
                  <a:lnTo>
                    <a:pt x="176" y="22"/>
                  </a:lnTo>
                  <a:lnTo>
                    <a:pt x="184" y="28"/>
                  </a:lnTo>
                  <a:lnTo>
                    <a:pt x="192" y="37"/>
                  </a:lnTo>
                  <a:lnTo>
                    <a:pt x="199" y="46"/>
                  </a:lnTo>
                  <a:lnTo>
                    <a:pt x="205" y="56"/>
                  </a:lnTo>
                  <a:lnTo>
                    <a:pt x="212" y="66"/>
                  </a:lnTo>
                  <a:lnTo>
                    <a:pt x="215" y="77"/>
                  </a:lnTo>
                  <a:lnTo>
                    <a:pt x="219" y="88"/>
                  </a:lnTo>
                  <a:lnTo>
                    <a:pt x="223" y="100"/>
                  </a:lnTo>
                  <a:lnTo>
                    <a:pt x="224" y="113"/>
                  </a:lnTo>
                  <a:lnTo>
                    <a:pt x="225" y="125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7080120" y="5353200"/>
              <a:ext cx="52560" cy="44280"/>
            </a:xfrm>
            <a:custGeom>
              <a:avLst/>
              <a:gdLst/>
              <a:ahLst/>
              <a:rect l="l" t="t" r="r" b="b"/>
              <a:pathLst>
                <a:path w="131" h="111">
                  <a:moveTo>
                    <a:pt x="131" y="56"/>
                  </a:moveTo>
                  <a:lnTo>
                    <a:pt x="131" y="62"/>
                  </a:lnTo>
                  <a:lnTo>
                    <a:pt x="129" y="67"/>
                  </a:lnTo>
                  <a:lnTo>
                    <a:pt x="128" y="73"/>
                  </a:lnTo>
                  <a:lnTo>
                    <a:pt x="126" y="78"/>
                  </a:lnTo>
                  <a:lnTo>
                    <a:pt x="119" y="87"/>
                  </a:lnTo>
                  <a:lnTo>
                    <a:pt x="112" y="95"/>
                  </a:lnTo>
                  <a:lnTo>
                    <a:pt x="102" y="103"/>
                  </a:lnTo>
                  <a:lnTo>
                    <a:pt x="91" y="108"/>
                  </a:lnTo>
                  <a:lnTo>
                    <a:pt x="78" y="110"/>
                  </a:lnTo>
                  <a:lnTo>
                    <a:pt x="66" y="111"/>
                  </a:lnTo>
                  <a:lnTo>
                    <a:pt x="52" y="110"/>
                  </a:lnTo>
                  <a:lnTo>
                    <a:pt x="40" y="108"/>
                  </a:lnTo>
                  <a:lnTo>
                    <a:pt x="29" y="103"/>
                  </a:lnTo>
                  <a:lnTo>
                    <a:pt x="19" y="95"/>
                  </a:lnTo>
                  <a:lnTo>
                    <a:pt x="11" y="87"/>
                  </a:lnTo>
                  <a:lnTo>
                    <a:pt x="5" y="78"/>
                  </a:lnTo>
                  <a:lnTo>
                    <a:pt x="3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3" y="39"/>
                  </a:lnTo>
                  <a:lnTo>
                    <a:pt x="5" y="34"/>
                  </a:lnTo>
                  <a:lnTo>
                    <a:pt x="11" y="24"/>
                  </a:lnTo>
                  <a:lnTo>
                    <a:pt x="19" y="16"/>
                  </a:lnTo>
                  <a:lnTo>
                    <a:pt x="29" y="10"/>
                  </a:lnTo>
                  <a:lnTo>
                    <a:pt x="40" y="3"/>
                  </a:lnTo>
                  <a:lnTo>
                    <a:pt x="52" y="1"/>
                  </a:lnTo>
                  <a:lnTo>
                    <a:pt x="66" y="0"/>
                  </a:lnTo>
                  <a:lnTo>
                    <a:pt x="78" y="1"/>
                  </a:lnTo>
                  <a:lnTo>
                    <a:pt x="91" y="3"/>
                  </a:lnTo>
                  <a:lnTo>
                    <a:pt x="102" y="10"/>
                  </a:lnTo>
                  <a:lnTo>
                    <a:pt x="112" y="16"/>
                  </a:lnTo>
                  <a:lnTo>
                    <a:pt x="119" y="24"/>
                  </a:lnTo>
                  <a:lnTo>
                    <a:pt x="126" y="34"/>
                  </a:lnTo>
                  <a:lnTo>
                    <a:pt x="128" y="39"/>
                  </a:lnTo>
                  <a:lnTo>
                    <a:pt x="129" y="44"/>
                  </a:lnTo>
                  <a:lnTo>
                    <a:pt x="131" y="49"/>
                  </a:lnTo>
                  <a:lnTo>
                    <a:pt x="131" y="56"/>
                  </a:lnTo>
                  <a:close/>
                </a:path>
              </a:pathLst>
            </a:custGeom>
            <a:solidFill>
              <a:srgbClr val="c3d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7053120" y="5199120"/>
              <a:ext cx="66960" cy="74520"/>
            </a:xfrm>
            <a:custGeom>
              <a:avLst/>
              <a:gdLst/>
              <a:ahLst/>
              <a:rect l="l" t="t" r="r" b="b"/>
              <a:pathLst>
                <a:path w="167" h="185">
                  <a:moveTo>
                    <a:pt x="167" y="92"/>
                  </a:moveTo>
                  <a:lnTo>
                    <a:pt x="165" y="102"/>
                  </a:lnTo>
                  <a:lnTo>
                    <a:pt x="164" y="111"/>
                  </a:lnTo>
                  <a:lnTo>
                    <a:pt x="163" y="121"/>
                  </a:lnTo>
                  <a:lnTo>
                    <a:pt x="159" y="128"/>
                  </a:lnTo>
                  <a:lnTo>
                    <a:pt x="155" y="137"/>
                  </a:lnTo>
                  <a:lnTo>
                    <a:pt x="152" y="144"/>
                  </a:lnTo>
                  <a:lnTo>
                    <a:pt x="147" y="152"/>
                  </a:lnTo>
                  <a:lnTo>
                    <a:pt x="142" y="158"/>
                  </a:lnTo>
                  <a:lnTo>
                    <a:pt x="136" y="164"/>
                  </a:lnTo>
                  <a:lnTo>
                    <a:pt x="129" y="169"/>
                  </a:lnTo>
                  <a:lnTo>
                    <a:pt x="123" y="174"/>
                  </a:lnTo>
                  <a:lnTo>
                    <a:pt x="116" y="178"/>
                  </a:lnTo>
                  <a:lnTo>
                    <a:pt x="108" y="181"/>
                  </a:lnTo>
                  <a:lnTo>
                    <a:pt x="100" y="183"/>
                  </a:lnTo>
                  <a:lnTo>
                    <a:pt x="91" y="184"/>
                  </a:lnTo>
                  <a:lnTo>
                    <a:pt x="83" y="185"/>
                  </a:lnTo>
                  <a:lnTo>
                    <a:pt x="75" y="184"/>
                  </a:lnTo>
                  <a:lnTo>
                    <a:pt x="66" y="183"/>
                  </a:lnTo>
                  <a:lnTo>
                    <a:pt x="59" y="181"/>
                  </a:lnTo>
                  <a:lnTo>
                    <a:pt x="51" y="178"/>
                  </a:lnTo>
                  <a:lnTo>
                    <a:pt x="44" y="174"/>
                  </a:lnTo>
                  <a:lnTo>
                    <a:pt x="36" y="169"/>
                  </a:lnTo>
                  <a:lnTo>
                    <a:pt x="30" y="164"/>
                  </a:lnTo>
                  <a:lnTo>
                    <a:pt x="24" y="158"/>
                  </a:lnTo>
                  <a:lnTo>
                    <a:pt x="19" y="152"/>
                  </a:lnTo>
                  <a:lnTo>
                    <a:pt x="14" y="144"/>
                  </a:lnTo>
                  <a:lnTo>
                    <a:pt x="10" y="137"/>
                  </a:lnTo>
                  <a:lnTo>
                    <a:pt x="6" y="128"/>
                  </a:lnTo>
                  <a:lnTo>
                    <a:pt x="4" y="121"/>
                  </a:lnTo>
                  <a:lnTo>
                    <a:pt x="1" y="111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1" y="74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49"/>
                  </a:lnTo>
                  <a:lnTo>
                    <a:pt x="14" y="41"/>
                  </a:lnTo>
                  <a:lnTo>
                    <a:pt x="19" y="34"/>
                  </a:lnTo>
                  <a:lnTo>
                    <a:pt x="24" y="28"/>
                  </a:lnTo>
                  <a:lnTo>
                    <a:pt x="30" y="21"/>
                  </a:lnTo>
                  <a:lnTo>
                    <a:pt x="36" y="16"/>
                  </a:lnTo>
                  <a:lnTo>
                    <a:pt x="44" y="12"/>
                  </a:lnTo>
                  <a:lnTo>
                    <a:pt x="51" y="8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100" y="3"/>
                  </a:lnTo>
                  <a:lnTo>
                    <a:pt x="108" y="4"/>
                  </a:lnTo>
                  <a:lnTo>
                    <a:pt x="116" y="8"/>
                  </a:lnTo>
                  <a:lnTo>
                    <a:pt x="123" y="12"/>
                  </a:lnTo>
                  <a:lnTo>
                    <a:pt x="129" y="16"/>
                  </a:lnTo>
                  <a:lnTo>
                    <a:pt x="136" y="21"/>
                  </a:lnTo>
                  <a:lnTo>
                    <a:pt x="142" y="28"/>
                  </a:lnTo>
                  <a:lnTo>
                    <a:pt x="147" y="34"/>
                  </a:lnTo>
                  <a:lnTo>
                    <a:pt x="152" y="41"/>
                  </a:lnTo>
                  <a:lnTo>
                    <a:pt x="155" y="49"/>
                  </a:lnTo>
                  <a:lnTo>
                    <a:pt x="159" y="57"/>
                  </a:lnTo>
                  <a:lnTo>
                    <a:pt x="163" y="65"/>
                  </a:lnTo>
                  <a:lnTo>
                    <a:pt x="164" y="74"/>
                  </a:lnTo>
                  <a:lnTo>
                    <a:pt x="165" y="83"/>
                  </a:lnTo>
                  <a:lnTo>
                    <a:pt x="167" y="92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7064280" y="5202360"/>
              <a:ext cx="39960" cy="3312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97" y="42"/>
                  </a:moveTo>
                  <a:lnTo>
                    <a:pt x="95" y="50"/>
                  </a:lnTo>
                  <a:lnTo>
                    <a:pt x="93" y="58"/>
                  </a:lnTo>
                  <a:lnTo>
                    <a:pt x="89" y="65"/>
                  </a:lnTo>
                  <a:lnTo>
                    <a:pt x="83" y="72"/>
                  </a:lnTo>
                  <a:lnTo>
                    <a:pt x="75" y="76"/>
                  </a:lnTo>
                  <a:lnTo>
                    <a:pt x="68" y="80"/>
                  </a:lnTo>
                  <a:lnTo>
                    <a:pt x="58" y="83"/>
                  </a:lnTo>
                  <a:lnTo>
                    <a:pt x="48" y="84"/>
                  </a:lnTo>
                  <a:lnTo>
                    <a:pt x="39" y="83"/>
                  </a:lnTo>
                  <a:lnTo>
                    <a:pt x="30" y="80"/>
                  </a:lnTo>
                  <a:lnTo>
                    <a:pt x="22" y="76"/>
                  </a:lnTo>
                  <a:lnTo>
                    <a:pt x="15" y="72"/>
                  </a:lnTo>
                  <a:lnTo>
                    <a:pt x="8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6"/>
                  </a:lnTo>
                  <a:lnTo>
                    <a:pt x="8" y="18"/>
                  </a:lnTo>
                  <a:lnTo>
                    <a:pt x="15" y="12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8" y="3"/>
                  </a:lnTo>
                  <a:lnTo>
                    <a:pt x="75" y="7"/>
                  </a:lnTo>
                  <a:lnTo>
                    <a:pt x="83" y="12"/>
                  </a:lnTo>
                  <a:lnTo>
                    <a:pt x="89" y="18"/>
                  </a:lnTo>
                  <a:lnTo>
                    <a:pt x="93" y="26"/>
                  </a:lnTo>
                  <a:lnTo>
                    <a:pt x="95" y="33"/>
                  </a:lnTo>
                  <a:lnTo>
                    <a:pt x="97" y="42"/>
                  </a:lnTo>
                  <a:close/>
                </a:path>
              </a:pathLst>
            </a:custGeom>
            <a:solidFill>
              <a:srgbClr val="c3d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7142040" y="5276880"/>
              <a:ext cx="66960" cy="73080"/>
            </a:xfrm>
            <a:custGeom>
              <a:avLst/>
              <a:gdLst/>
              <a:ahLst/>
              <a:rect l="l" t="t" r="r" b="b"/>
              <a:pathLst>
                <a:path w="166" h="185">
                  <a:moveTo>
                    <a:pt x="166" y="93"/>
                  </a:moveTo>
                  <a:lnTo>
                    <a:pt x="165" y="102"/>
                  </a:lnTo>
                  <a:lnTo>
                    <a:pt x="164" y="112"/>
                  </a:lnTo>
                  <a:lnTo>
                    <a:pt x="162" y="120"/>
                  </a:lnTo>
                  <a:lnTo>
                    <a:pt x="160" y="129"/>
                  </a:lnTo>
                  <a:lnTo>
                    <a:pt x="156" y="136"/>
                  </a:lnTo>
                  <a:lnTo>
                    <a:pt x="151" y="144"/>
                  </a:lnTo>
                  <a:lnTo>
                    <a:pt x="146" y="151"/>
                  </a:lnTo>
                  <a:lnTo>
                    <a:pt x="141" y="157"/>
                  </a:lnTo>
                  <a:lnTo>
                    <a:pt x="135" y="164"/>
                  </a:lnTo>
                  <a:lnTo>
                    <a:pt x="129" y="169"/>
                  </a:lnTo>
                  <a:lnTo>
                    <a:pt x="123" y="174"/>
                  </a:lnTo>
                  <a:lnTo>
                    <a:pt x="115" y="177"/>
                  </a:lnTo>
                  <a:lnTo>
                    <a:pt x="108" y="181"/>
                  </a:lnTo>
                  <a:lnTo>
                    <a:pt x="99" y="184"/>
                  </a:lnTo>
                  <a:lnTo>
                    <a:pt x="92" y="185"/>
                  </a:lnTo>
                  <a:lnTo>
                    <a:pt x="83" y="185"/>
                  </a:lnTo>
                  <a:lnTo>
                    <a:pt x="74" y="185"/>
                  </a:lnTo>
                  <a:lnTo>
                    <a:pt x="65" y="184"/>
                  </a:lnTo>
                  <a:lnTo>
                    <a:pt x="58" y="181"/>
                  </a:lnTo>
                  <a:lnTo>
                    <a:pt x="51" y="177"/>
                  </a:lnTo>
                  <a:lnTo>
                    <a:pt x="43" y="174"/>
                  </a:lnTo>
                  <a:lnTo>
                    <a:pt x="36" y="169"/>
                  </a:lnTo>
                  <a:lnTo>
                    <a:pt x="29" y="164"/>
                  </a:lnTo>
                  <a:lnTo>
                    <a:pt x="25" y="157"/>
                  </a:lnTo>
                  <a:lnTo>
                    <a:pt x="18" y="151"/>
                  </a:lnTo>
                  <a:lnTo>
                    <a:pt x="13" y="144"/>
                  </a:lnTo>
                  <a:lnTo>
                    <a:pt x="10" y="136"/>
                  </a:lnTo>
                  <a:lnTo>
                    <a:pt x="6" y="129"/>
                  </a:lnTo>
                  <a:lnTo>
                    <a:pt x="3" y="120"/>
                  </a:lnTo>
                  <a:lnTo>
                    <a:pt x="1" y="112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3"/>
                  </a:lnTo>
                  <a:lnTo>
                    <a:pt x="1" y="74"/>
                  </a:lnTo>
                  <a:lnTo>
                    <a:pt x="3" y="66"/>
                  </a:lnTo>
                  <a:lnTo>
                    <a:pt x="6" y="57"/>
                  </a:lnTo>
                  <a:lnTo>
                    <a:pt x="10" y="48"/>
                  </a:lnTo>
                  <a:lnTo>
                    <a:pt x="13" y="41"/>
                  </a:lnTo>
                  <a:lnTo>
                    <a:pt x="18" y="33"/>
                  </a:lnTo>
                  <a:lnTo>
                    <a:pt x="25" y="27"/>
                  </a:lnTo>
                  <a:lnTo>
                    <a:pt x="29" y="21"/>
                  </a:lnTo>
                  <a:lnTo>
                    <a:pt x="36" y="16"/>
                  </a:lnTo>
                  <a:lnTo>
                    <a:pt x="43" y="11"/>
                  </a:lnTo>
                  <a:lnTo>
                    <a:pt x="51" y="7"/>
                  </a:lnTo>
                  <a:lnTo>
                    <a:pt x="58" y="5"/>
                  </a:lnTo>
                  <a:lnTo>
                    <a:pt x="65" y="2"/>
                  </a:lnTo>
                  <a:lnTo>
                    <a:pt x="74" y="1"/>
                  </a:lnTo>
                  <a:lnTo>
                    <a:pt x="83" y="0"/>
                  </a:lnTo>
                  <a:lnTo>
                    <a:pt x="92" y="1"/>
                  </a:lnTo>
                  <a:lnTo>
                    <a:pt x="99" y="2"/>
                  </a:lnTo>
                  <a:lnTo>
                    <a:pt x="108" y="5"/>
                  </a:lnTo>
                  <a:lnTo>
                    <a:pt x="115" y="7"/>
                  </a:lnTo>
                  <a:lnTo>
                    <a:pt x="123" y="11"/>
                  </a:lnTo>
                  <a:lnTo>
                    <a:pt x="129" y="16"/>
                  </a:lnTo>
                  <a:lnTo>
                    <a:pt x="135" y="21"/>
                  </a:lnTo>
                  <a:lnTo>
                    <a:pt x="141" y="27"/>
                  </a:lnTo>
                  <a:lnTo>
                    <a:pt x="146" y="33"/>
                  </a:lnTo>
                  <a:lnTo>
                    <a:pt x="151" y="41"/>
                  </a:lnTo>
                  <a:lnTo>
                    <a:pt x="156" y="48"/>
                  </a:lnTo>
                  <a:lnTo>
                    <a:pt x="160" y="57"/>
                  </a:lnTo>
                  <a:lnTo>
                    <a:pt x="162" y="66"/>
                  </a:lnTo>
                  <a:lnTo>
                    <a:pt x="164" y="74"/>
                  </a:lnTo>
                  <a:lnTo>
                    <a:pt x="165" y="83"/>
                  </a:lnTo>
                  <a:lnTo>
                    <a:pt x="166" y="93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7155000" y="5280120"/>
              <a:ext cx="37800" cy="3168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97" y="41"/>
                  </a:moveTo>
                  <a:lnTo>
                    <a:pt x="96" y="50"/>
                  </a:lnTo>
                  <a:lnTo>
                    <a:pt x="92" y="57"/>
                  </a:lnTo>
                  <a:lnTo>
                    <a:pt x="89" y="65"/>
                  </a:lnTo>
                  <a:lnTo>
                    <a:pt x="82" y="71"/>
                  </a:lnTo>
                  <a:lnTo>
                    <a:pt x="75" y="76"/>
                  </a:lnTo>
                  <a:lnTo>
                    <a:pt x="68" y="80"/>
                  </a:lnTo>
                  <a:lnTo>
                    <a:pt x="58" y="82"/>
                  </a:lnTo>
                  <a:lnTo>
                    <a:pt x="49" y="83"/>
                  </a:lnTo>
                  <a:lnTo>
                    <a:pt x="39" y="82"/>
                  </a:lnTo>
                  <a:lnTo>
                    <a:pt x="29" y="80"/>
                  </a:lnTo>
                  <a:lnTo>
                    <a:pt x="22" y="76"/>
                  </a:lnTo>
                  <a:lnTo>
                    <a:pt x="14" y="71"/>
                  </a:lnTo>
                  <a:lnTo>
                    <a:pt x="8" y="65"/>
                  </a:lnTo>
                  <a:lnTo>
                    <a:pt x="4" y="57"/>
                  </a:lnTo>
                  <a:lnTo>
                    <a:pt x="2" y="50"/>
                  </a:lnTo>
                  <a:lnTo>
                    <a:pt x="0" y="41"/>
                  </a:lnTo>
                  <a:lnTo>
                    <a:pt x="2" y="34"/>
                  </a:lnTo>
                  <a:lnTo>
                    <a:pt x="4" y="25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2" y="8"/>
                  </a:lnTo>
                  <a:lnTo>
                    <a:pt x="29" y="4"/>
                  </a:lnTo>
                  <a:lnTo>
                    <a:pt x="39" y="2"/>
                  </a:lnTo>
                  <a:lnTo>
                    <a:pt x="49" y="0"/>
                  </a:lnTo>
                  <a:lnTo>
                    <a:pt x="58" y="2"/>
                  </a:lnTo>
                  <a:lnTo>
                    <a:pt x="68" y="4"/>
                  </a:lnTo>
                  <a:lnTo>
                    <a:pt x="75" y="8"/>
                  </a:lnTo>
                  <a:lnTo>
                    <a:pt x="82" y="13"/>
                  </a:lnTo>
                  <a:lnTo>
                    <a:pt x="89" y="19"/>
                  </a:lnTo>
                  <a:lnTo>
                    <a:pt x="92" y="25"/>
                  </a:lnTo>
                  <a:lnTo>
                    <a:pt x="96" y="34"/>
                  </a:lnTo>
                  <a:lnTo>
                    <a:pt x="97" y="41"/>
                  </a:lnTo>
                  <a:close/>
                </a:path>
              </a:pathLst>
            </a:custGeom>
            <a:solidFill>
              <a:srgbClr val="c3d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7269120" y="5311800"/>
              <a:ext cx="65160" cy="74520"/>
            </a:xfrm>
            <a:custGeom>
              <a:avLst/>
              <a:gdLst/>
              <a:ahLst/>
              <a:rect l="l" t="t" r="r" b="b"/>
              <a:pathLst>
                <a:path w="166" h="185">
                  <a:moveTo>
                    <a:pt x="166" y="94"/>
                  </a:moveTo>
                  <a:lnTo>
                    <a:pt x="166" y="102"/>
                  </a:lnTo>
                  <a:lnTo>
                    <a:pt x="165" y="112"/>
                  </a:lnTo>
                  <a:lnTo>
                    <a:pt x="162" y="121"/>
                  </a:lnTo>
                  <a:lnTo>
                    <a:pt x="160" y="129"/>
                  </a:lnTo>
                  <a:lnTo>
                    <a:pt x="156" y="137"/>
                  </a:lnTo>
                  <a:lnTo>
                    <a:pt x="151" y="144"/>
                  </a:lnTo>
                  <a:lnTo>
                    <a:pt x="147" y="152"/>
                  </a:lnTo>
                  <a:lnTo>
                    <a:pt x="141" y="158"/>
                  </a:lnTo>
                  <a:lnTo>
                    <a:pt x="136" y="164"/>
                  </a:lnTo>
                  <a:lnTo>
                    <a:pt x="129" y="169"/>
                  </a:lnTo>
                  <a:lnTo>
                    <a:pt x="123" y="174"/>
                  </a:lnTo>
                  <a:lnTo>
                    <a:pt x="115" y="178"/>
                  </a:lnTo>
                  <a:lnTo>
                    <a:pt x="108" y="182"/>
                  </a:lnTo>
                  <a:lnTo>
                    <a:pt x="100" y="184"/>
                  </a:lnTo>
                  <a:lnTo>
                    <a:pt x="91" y="185"/>
                  </a:lnTo>
                  <a:lnTo>
                    <a:pt x="83" y="185"/>
                  </a:lnTo>
                  <a:lnTo>
                    <a:pt x="74" y="185"/>
                  </a:lnTo>
                  <a:lnTo>
                    <a:pt x="67" y="184"/>
                  </a:lnTo>
                  <a:lnTo>
                    <a:pt x="58" y="182"/>
                  </a:lnTo>
                  <a:lnTo>
                    <a:pt x="50" y="178"/>
                  </a:lnTo>
                  <a:lnTo>
                    <a:pt x="43" y="174"/>
                  </a:lnTo>
                  <a:lnTo>
                    <a:pt x="37" y="169"/>
                  </a:lnTo>
                  <a:lnTo>
                    <a:pt x="29" y="164"/>
                  </a:lnTo>
                  <a:lnTo>
                    <a:pt x="24" y="158"/>
                  </a:lnTo>
                  <a:lnTo>
                    <a:pt x="18" y="152"/>
                  </a:lnTo>
                  <a:lnTo>
                    <a:pt x="14" y="144"/>
                  </a:lnTo>
                  <a:lnTo>
                    <a:pt x="10" y="137"/>
                  </a:lnTo>
                  <a:lnTo>
                    <a:pt x="6" y="129"/>
                  </a:lnTo>
                  <a:lnTo>
                    <a:pt x="3" y="121"/>
                  </a:lnTo>
                  <a:lnTo>
                    <a:pt x="2" y="112"/>
                  </a:lnTo>
                  <a:lnTo>
                    <a:pt x="1" y="102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2" y="75"/>
                  </a:lnTo>
                  <a:lnTo>
                    <a:pt x="3" y="66"/>
                  </a:lnTo>
                  <a:lnTo>
                    <a:pt x="6" y="58"/>
                  </a:lnTo>
                  <a:lnTo>
                    <a:pt x="10" y="49"/>
                  </a:lnTo>
                  <a:lnTo>
                    <a:pt x="14" y="41"/>
                  </a:lnTo>
                  <a:lnTo>
                    <a:pt x="18" y="34"/>
                  </a:lnTo>
                  <a:lnTo>
                    <a:pt x="24" y="28"/>
                  </a:lnTo>
                  <a:lnTo>
                    <a:pt x="29" y="22"/>
                  </a:lnTo>
                  <a:lnTo>
                    <a:pt x="37" y="17"/>
                  </a:lnTo>
                  <a:lnTo>
                    <a:pt x="43" y="12"/>
                  </a:lnTo>
                  <a:lnTo>
                    <a:pt x="50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3" y="0"/>
                  </a:lnTo>
                  <a:lnTo>
                    <a:pt x="91" y="2"/>
                  </a:lnTo>
                  <a:lnTo>
                    <a:pt x="100" y="3"/>
                  </a:lnTo>
                  <a:lnTo>
                    <a:pt x="108" y="5"/>
                  </a:lnTo>
                  <a:lnTo>
                    <a:pt x="115" y="8"/>
                  </a:lnTo>
                  <a:lnTo>
                    <a:pt x="123" y="12"/>
                  </a:lnTo>
                  <a:lnTo>
                    <a:pt x="129" y="17"/>
                  </a:lnTo>
                  <a:lnTo>
                    <a:pt x="136" y="22"/>
                  </a:lnTo>
                  <a:lnTo>
                    <a:pt x="141" y="28"/>
                  </a:lnTo>
                  <a:lnTo>
                    <a:pt x="147" y="34"/>
                  </a:lnTo>
                  <a:lnTo>
                    <a:pt x="151" y="41"/>
                  </a:lnTo>
                  <a:lnTo>
                    <a:pt x="156" y="49"/>
                  </a:lnTo>
                  <a:lnTo>
                    <a:pt x="160" y="58"/>
                  </a:lnTo>
                  <a:lnTo>
                    <a:pt x="162" y="66"/>
                  </a:lnTo>
                  <a:lnTo>
                    <a:pt x="165" y="75"/>
                  </a:lnTo>
                  <a:lnTo>
                    <a:pt x="166" y="84"/>
                  </a:lnTo>
                  <a:lnTo>
                    <a:pt x="166" y="94"/>
                  </a:lnTo>
                  <a:close/>
                </a:path>
              </a:pathLst>
            </a:custGeom>
            <a:solidFill>
              <a:srgbClr val="61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未知"/>
          <p:cNvSpPr/>
          <p:nvPr/>
        </p:nvSpPr>
        <p:spPr>
          <a:xfrm>
            <a:off x="7280280" y="5315040"/>
            <a:ext cx="38160" cy="33120"/>
          </a:xfrm>
          <a:custGeom>
            <a:avLst/>
            <a:gdLst/>
            <a:ahLst/>
            <a:rect l="l" t="t" r="r" b="b"/>
            <a:pathLst>
              <a:path w="97" h="83">
                <a:moveTo>
                  <a:pt x="97" y="41"/>
                </a:moveTo>
                <a:lnTo>
                  <a:pt x="96" y="50"/>
                </a:lnTo>
                <a:lnTo>
                  <a:pt x="94" y="57"/>
                </a:lnTo>
                <a:lnTo>
                  <a:pt x="89" y="64"/>
                </a:lnTo>
                <a:lnTo>
                  <a:pt x="82" y="71"/>
                </a:lnTo>
                <a:lnTo>
                  <a:pt x="76" y="76"/>
                </a:lnTo>
                <a:lnTo>
                  <a:pt x="67" y="79"/>
                </a:lnTo>
                <a:lnTo>
                  <a:pt x="59" y="82"/>
                </a:lnTo>
                <a:lnTo>
                  <a:pt x="49" y="83"/>
                </a:lnTo>
                <a:lnTo>
                  <a:pt x="39" y="82"/>
                </a:lnTo>
                <a:lnTo>
                  <a:pt x="30" y="79"/>
                </a:lnTo>
                <a:lnTo>
                  <a:pt x="21" y="76"/>
                </a:lnTo>
                <a:lnTo>
                  <a:pt x="14" y="71"/>
                </a:lnTo>
                <a:lnTo>
                  <a:pt x="9" y="64"/>
                </a:lnTo>
                <a:lnTo>
                  <a:pt x="4" y="57"/>
                </a:lnTo>
                <a:lnTo>
                  <a:pt x="2" y="50"/>
                </a:lnTo>
                <a:lnTo>
                  <a:pt x="0" y="41"/>
                </a:lnTo>
                <a:lnTo>
                  <a:pt x="2" y="33"/>
                </a:lnTo>
                <a:lnTo>
                  <a:pt x="4" y="25"/>
                </a:lnTo>
                <a:lnTo>
                  <a:pt x="9" y="19"/>
                </a:lnTo>
                <a:lnTo>
                  <a:pt x="14" y="12"/>
                </a:lnTo>
                <a:lnTo>
                  <a:pt x="21" y="7"/>
                </a:lnTo>
                <a:lnTo>
                  <a:pt x="30" y="2"/>
                </a:lnTo>
                <a:lnTo>
                  <a:pt x="39" y="1"/>
                </a:lnTo>
                <a:lnTo>
                  <a:pt x="49" y="0"/>
                </a:lnTo>
                <a:lnTo>
                  <a:pt x="59" y="1"/>
                </a:lnTo>
                <a:lnTo>
                  <a:pt x="67" y="2"/>
                </a:lnTo>
                <a:lnTo>
                  <a:pt x="76" y="7"/>
                </a:lnTo>
                <a:lnTo>
                  <a:pt x="82" y="12"/>
                </a:lnTo>
                <a:lnTo>
                  <a:pt x="89" y="19"/>
                </a:lnTo>
                <a:lnTo>
                  <a:pt x="94" y="25"/>
                </a:lnTo>
                <a:lnTo>
                  <a:pt x="96" y="33"/>
                </a:lnTo>
                <a:lnTo>
                  <a:pt x="97" y="41"/>
                </a:lnTo>
                <a:close/>
              </a:path>
            </a:pathLst>
          </a:custGeom>
          <a:solidFill>
            <a:srgbClr val="c3d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未知"/>
          <p:cNvSpPr/>
          <p:nvPr/>
        </p:nvSpPr>
        <p:spPr>
          <a:xfrm>
            <a:off x="7128000" y="5106960"/>
            <a:ext cx="77760" cy="87480"/>
          </a:xfrm>
          <a:custGeom>
            <a:avLst/>
            <a:gdLst/>
            <a:ahLst/>
            <a:rect l="l" t="t" r="r" b="b"/>
            <a:pathLst>
              <a:path w="198" h="219">
                <a:moveTo>
                  <a:pt x="198" y="110"/>
                </a:moveTo>
                <a:lnTo>
                  <a:pt x="198" y="121"/>
                </a:lnTo>
                <a:lnTo>
                  <a:pt x="197" y="133"/>
                </a:lnTo>
                <a:lnTo>
                  <a:pt x="194" y="143"/>
                </a:lnTo>
                <a:lnTo>
                  <a:pt x="190" y="152"/>
                </a:lnTo>
                <a:lnTo>
                  <a:pt x="187" y="162"/>
                </a:lnTo>
                <a:lnTo>
                  <a:pt x="182" y="171"/>
                </a:lnTo>
                <a:lnTo>
                  <a:pt x="176" y="180"/>
                </a:lnTo>
                <a:lnTo>
                  <a:pt x="169" y="187"/>
                </a:lnTo>
                <a:lnTo>
                  <a:pt x="162" y="195"/>
                </a:lnTo>
                <a:lnTo>
                  <a:pt x="154" y="201"/>
                </a:lnTo>
                <a:lnTo>
                  <a:pt x="147" y="207"/>
                </a:lnTo>
                <a:lnTo>
                  <a:pt x="138" y="211"/>
                </a:lnTo>
                <a:lnTo>
                  <a:pt x="128" y="214"/>
                </a:lnTo>
                <a:lnTo>
                  <a:pt x="120" y="217"/>
                </a:lnTo>
                <a:lnTo>
                  <a:pt x="110" y="219"/>
                </a:lnTo>
                <a:lnTo>
                  <a:pt x="100" y="219"/>
                </a:lnTo>
                <a:lnTo>
                  <a:pt x="90" y="219"/>
                </a:lnTo>
                <a:lnTo>
                  <a:pt x="80" y="217"/>
                </a:lnTo>
                <a:lnTo>
                  <a:pt x="70" y="214"/>
                </a:lnTo>
                <a:lnTo>
                  <a:pt x="61" y="211"/>
                </a:lnTo>
                <a:lnTo>
                  <a:pt x="53" y="207"/>
                </a:lnTo>
                <a:lnTo>
                  <a:pt x="44" y="201"/>
                </a:lnTo>
                <a:lnTo>
                  <a:pt x="36" y="195"/>
                </a:lnTo>
                <a:lnTo>
                  <a:pt x="30" y="187"/>
                </a:lnTo>
                <a:lnTo>
                  <a:pt x="23" y="180"/>
                </a:lnTo>
                <a:lnTo>
                  <a:pt x="18" y="171"/>
                </a:lnTo>
                <a:lnTo>
                  <a:pt x="13" y="162"/>
                </a:lnTo>
                <a:lnTo>
                  <a:pt x="9" y="152"/>
                </a:lnTo>
                <a:lnTo>
                  <a:pt x="5" y="143"/>
                </a:lnTo>
                <a:lnTo>
                  <a:pt x="3" y="133"/>
                </a:lnTo>
                <a:lnTo>
                  <a:pt x="2" y="121"/>
                </a:lnTo>
                <a:lnTo>
                  <a:pt x="0" y="110"/>
                </a:lnTo>
                <a:lnTo>
                  <a:pt x="2" y="99"/>
                </a:lnTo>
                <a:lnTo>
                  <a:pt x="3" y="88"/>
                </a:lnTo>
                <a:lnTo>
                  <a:pt x="5" y="78"/>
                </a:lnTo>
                <a:lnTo>
                  <a:pt x="9" y="67"/>
                </a:lnTo>
                <a:lnTo>
                  <a:pt x="13" y="58"/>
                </a:lnTo>
                <a:lnTo>
                  <a:pt x="18" y="48"/>
                </a:lnTo>
                <a:lnTo>
                  <a:pt x="23" y="41"/>
                </a:lnTo>
                <a:lnTo>
                  <a:pt x="30" y="32"/>
                </a:lnTo>
                <a:lnTo>
                  <a:pt x="36" y="26"/>
                </a:lnTo>
                <a:lnTo>
                  <a:pt x="44" y="20"/>
                </a:lnTo>
                <a:lnTo>
                  <a:pt x="53" y="14"/>
                </a:lnTo>
                <a:lnTo>
                  <a:pt x="61" y="9"/>
                </a:lnTo>
                <a:lnTo>
                  <a:pt x="70" y="6"/>
                </a:lnTo>
                <a:lnTo>
                  <a:pt x="80" y="2"/>
                </a:lnTo>
                <a:lnTo>
                  <a:pt x="90" y="1"/>
                </a:lnTo>
                <a:lnTo>
                  <a:pt x="100" y="0"/>
                </a:lnTo>
                <a:lnTo>
                  <a:pt x="110" y="1"/>
                </a:lnTo>
                <a:lnTo>
                  <a:pt x="120" y="2"/>
                </a:lnTo>
                <a:lnTo>
                  <a:pt x="128" y="6"/>
                </a:lnTo>
                <a:lnTo>
                  <a:pt x="138" y="9"/>
                </a:lnTo>
                <a:lnTo>
                  <a:pt x="147" y="14"/>
                </a:lnTo>
                <a:lnTo>
                  <a:pt x="154" y="20"/>
                </a:lnTo>
                <a:lnTo>
                  <a:pt x="162" y="26"/>
                </a:lnTo>
                <a:lnTo>
                  <a:pt x="169" y="32"/>
                </a:lnTo>
                <a:lnTo>
                  <a:pt x="176" y="41"/>
                </a:lnTo>
                <a:lnTo>
                  <a:pt x="182" y="48"/>
                </a:lnTo>
                <a:lnTo>
                  <a:pt x="187" y="58"/>
                </a:lnTo>
                <a:lnTo>
                  <a:pt x="190" y="67"/>
                </a:lnTo>
                <a:lnTo>
                  <a:pt x="194" y="78"/>
                </a:lnTo>
                <a:lnTo>
                  <a:pt x="197" y="88"/>
                </a:lnTo>
                <a:lnTo>
                  <a:pt x="198" y="99"/>
                </a:lnTo>
                <a:lnTo>
                  <a:pt x="198" y="110"/>
                </a:lnTo>
                <a:close/>
              </a:path>
            </a:pathLst>
          </a:custGeom>
          <a:solidFill>
            <a:srgbClr val="61a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未知"/>
          <p:cNvSpPr/>
          <p:nvPr/>
        </p:nvSpPr>
        <p:spPr>
          <a:xfrm>
            <a:off x="7142040" y="5110200"/>
            <a:ext cx="44640" cy="39600"/>
          </a:xfrm>
          <a:custGeom>
            <a:avLst/>
            <a:gdLst/>
            <a:ahLst/>
            <a:rect l="l" t="t" r="r" b="b"/>
            <a:pathLst>
              <a:path w="115" h="99">
                <a:moveTo>
                  <a:pt x="115" y="49"/>
                </a:moveTo>
                <a:lnTo>
                  <a:pt x="113" y="59"/>
                </a:lnTo>
                <a:lnTo>
                  <a:pt x="110" y="68"/>
                </a:lnTo>
                <a:lnTo>
                  <a:pt x="105" y="76"/>
                </a:lnTo>
                <a:lnTo>
                  <a:pt x="99" y="84"/>
                </a:lnTo>
                <a:lnTo>
                  <a:pt x="90" y="90"/>
                </a:lnTo>
                <a:lnTo>
                  <a:pt x="80" y="94"/>
                </a:lnTo>
                <a:lnTo>
                  <a:pt x="69" y="98"/>
                </a:lnTo>
                <a:lnTo>
                  <a:pt x="58" y="99"/>
                </a:lnTo>
                <a:lnTo>
                  <a:pt x="46" y="98"/>
                </a:lnTo>
                <a:lnTo>
                  <a:pt x="35" y="94"/>
                </a:lnTo>
                <a:lnTo>
                  <a:pt x="25" y="90"/>
                </a:lnTo>
                <a:lnTo>
                  <a:pt x="17" y="84"/>
                </a:lnTo>
                <a:lnTo>
                  <a:pt x="10" y="76"/>
                </a:lnTo>
                <a:lnTo>
                  <a:pt x="4" y="68"/>
                </a:lnTo>
                <a:lnTo>
                  <a:pt x="2" y="59"/>
                </a:lnTo>
                <a:lnTo>
                  <a:pt x="0" y="49"/>
                </a:lnTo>
                <a:lnTo>
                  <a:pt x="2" y="39"/>
                </a:lnTo>
                <a:lnTo>
                  <a:pt x="4" y="29"/>
                </a:lnTo>
                <a:lnTo>
                  <a:pt x="10" y="22"/>
                </a:lnTo>
                <a:lnTo>
                  <a:pt x="17" y="14"/>
                </a:lnTo>
                <a:lnTo>
                  <a:pt x="25" y="8"/>
                </a:lnTo>
                <a:lnTo>
                  <a:pt x="35" y="3"/>
                </a:lnTo>
                <a:lnTo>
                  <a:pt x="46" y="1"/>
                </a:lnTo>
                <a:lnTo>
                  <a:pt x="58" y="0"/>
                </a:lnTo>
                <a:lnTo>
                  <a:pt x="69" y="1"/>
                </a:lnTo>
                <a:lnTo>
                  <a:pt x="80" y="3"/>
                </a:lnTo>
                <a:lnTo>
                  <a:pt x="90" y="8"/>
                </a:lnTo>
                <a:lnTo>
                  <a:pt x="99" y="14"/>
                </a:lnTo>
                <a:lnTo>
                  <a:pt x="105" y="22"/>
                </a:lnTo>
                <a:lnTo>
                  <a:pt x="110" y="29"/>
                </a:lnTo>
                <a:lnTo>
                  <a:pt x="113" y="39"/>
                </a:lnTo>
                <a:lnTo>
                  <a:pt x="115" y="49"/>
                </a:lnTo>
                <a:close/>
              </a:path>
            </a:pathLst>
          </a:custGeom>
          <a:solidFill>
            <a:srgbClr val="c3d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未知"/>
          <p:cNvSpPr/>
          <p:nvPr/>
        </p:nvSpPr>
        <p:spPr>
          <a:xfrm>
            <a:off x="7075440" y="5342040"/>
            <a:ext cx="385920" cy="299880"/>
          </a:xfrm>
          <a:custGeom>
            <a:avLst/>
            <a:gdLst/>
            <a:ahLst/>
            <a:rect l="l" t="t" r="r" b="b"/>
            <a:pathLst>
              <a:path w="971" h="759">
                <a:moveTo>
                  <a:pt x="969" y="0"/>
                </a:moveTo>
                <a:lnTo>
                  <a:pt x="970" y="17"/>
                </a:lnTo>
                <a:lnTo>
                  <a:pt x="971" y="64"/>
                </a:lnTo>
                <a:lnTo>
                  <a:pt x="971" y="98"/>
                </a:lnTo>
                <a:lnTo>
                  <a:pt x="970" y="136"/>
                </a:lnTo>
                <a:lnTo>
                  <a:pt x="967" y="177"/>
                </a:lnTo>
                <a:lnTo>
                  <a:pt x="964" y="223"/>
                </a:lnTo>
                <a:lnTo>
                  <a:pt x="959" y="270"/>
                </a:lnTo>
                <a:lnTo>
                  <a:pt x="950" y="320"/>
                </a:lnTo>
                <a:lnTo>
                  <a:pt x="945" y="345"/>
                </a:lnTo>
                <a:lnTo>
                  <a:pt x="940" y="369"/>
                </a:lnTo>
                <a:lnTo>
                  <a:pt x="934" y="394"/>
                </a:lnTo>
                <a:lnTo>
                  <a:pt x="928" y="419"/>
                </a:lnTo>
                <a:lnTo>
                  <a:pt x="919" y="444"/>
                </a:lnTo>
                <a:lnTo>
                  <a:pt x="911" y="467"/>
                </a:lnTo>
                <a:lnTo>
                  <a:pt x="902" y="491"/>
                </a:lnTo>
                <a:lnTo>
                  <a:pt x="892" y="513"/>
                </a:lnTo>
                <a:lnTo>
                  <a:pt x="880" y="536"/>
                </a:lnTo>
                <a:lnTo>
                  <a:pt x="868" y="557"/>
                </a:lnTo>
                <a:lnTo>
                  <a:pt x="856" y="578"/>
                </a:lnTo>
                <a:lnTo>
                  <a:pt x="842" y="598"/>
                </a:lnTo>
                <a:lnTo>
                  <a:pt x="837" y="603"/>
                </a:lnTo>
                <a:lnTo>
                  <a:pt x="825" y="616"/>
                </a:lnTo>
                <a:lnTo>
                  <a:pt x="805" y="635"/>
                </a:lnTo>
                <a:lnTo>
                  <a:pt x="776" y="658"/>
                </a:lnTo>
                <a:lnTo>
                  <a:pt x="760" y="672"/>
                </a:lnTo>
                <a:lnTo>
                  <a:pt x="741" y="685"/>
                </a:lnTo>
                <a:lnTo>
                  <a:pt x="722" y="697"/>
                </a:lnTo>
                <a:lnTo>
                  <a:pt x="700" y="709"/>
                </a:lnTo>
                <a:lnTo>
                  <a:pt x="677" y="721"/>
                </a:lnTo>
                <a:lnTo>
                  <a:pt x="653" y="732"/>
                </a:lnTo>
                <a:lnTo>
                  <a:pt x="626" y="740"/>
                </a:lnTo>
                <a:lnTo>
                  <a:pt x="599" y="748"/>
                </a:lnTo>
                <a:lnTo>
                  <a:pt x="570" y="754"/>
                </a:lnTo>
                <a:lnTo>
                  <a:pt x="540" y="758"/>
                </a:lnTo>
                <a:lnTo>
                  <a:pt x="508" y="759"/>
                </a:lnTo>
                <a:lnTo>
                  <a:pt x="476" y="758"/>
                </a:lnTo>
                <a:lnTo>
                  <a:pt x="441" y="753"/>
                </a:lnTo>
                <a:lnTo>
                  <a:pt x="406" y="745"/>
                </a:lnTo>
                <a:lnTo>
                  <a:pt x="370" y="734"/>
                </a:lnTo>
                <a:lnTo>
                  <a:pt x="332" y="719"/>
                </a:lnTo>
                <a:lnTo>
                  <a:pt x="293" y="701"/>
                </a:lnTo>
                <a:lnTo>
                  <a:pt x="255" y="677"/>
                </a:lnTo>
                <a:lnTo>
                  <a:pt x="214" y="650"/>
                </a:lnTo>
                <a:lnTo>
                  <a:pt x="173" y="616"/>
                </a:lnTo>
                <a:lnTo>
                  <a:pt x="130" y="578"/>
                </a:lnTo>
                <a:lnTo>
                  <a:pt x="88" y="534"/>
                </a:lnTo>
                <a:lnTo>
                  <a:pt x="45" y="485"/>
                </a:lnTo>
                <a:lnTo>
                  <a:pt x="0" y="429"/>
                </a:lnTo>
                <a:lnTo>
                  <a:pt x="9" y="429"/>
                </a:lnTo>
                <a:lnTo>
                  <a:pt x="32" y="426"/>
                </a:lnTo>
                <a:lnTo>
                  <a:pt x="70" y="423"/>
                </a:lnTo>
                <a:lnTo>
                  <a:pt x="118" y="417"/>
                </a:lnTo>
                <a:lnTo>
                  <a:pt x="176" y="408"/>
                </a:lnTo>
                <a:lnTo>
                  <a:pt x="243" y="395"/>
                </a:lnTo>
                <a:lnTo>
                  <a:pt x="279" y="389"/>
                </a:lnTo>
                <a:lnTo>
                  <a:pt x="317" y="381"/>
                </a:lnTo>
                <a:lnTo>
                  <a:pt x="355" y="371"/>
                </a:lnTo>
                <a:lnTo>
                  <a:pt x="395" y="361"/>
                </a:lnTo>
                <a:lnTo>
                  <a:pt x="435" y="350"/>
                </a:lnTo>
                <a:lnTo>
                  <a:pt x="476" y="336"/>
                </a:lnTo>
                <a:lnTo>
                  <a:pt x="517" y="322"/>
                </a:lnTo>
                <a:lnTo>
                  <a:pt x="558" y="307"/>
                </a:lnTo>
                <a:lnTo>
                  <a:pt x="599" y="290"/>
                </a:lnTo>
                <a:lnTo>
                  <a:pt x="638" y="271"/>
                </a:lnTo>
                <a:lnTo>
                  <a:pt x="678" y="253"/>
                </a:lnTo>
                <a:lnTo>
                  <a:pt x="717" y="232"/>
                </a:lnTo>
                <a:lnTo>
                  <a:pt x="755" y="208"/>
                </a:lnTo>
                <a:lnTo>
                  <a:pt x="791" y="185"/>
                </a:lnTo>
                <a:lnTo>
                  <a:pt x="826" y="158"/>
                </a:lnTo>
                <a:lnTo>
                  <a:pt x="859" y="130"/>
                </a:lnTo>
                <a:lnTo>
                  <a:pt x="890" y="100"/>
                </a:lnTo>
                <a:lnTo>
                  <a:pt x="919" y="69"/>
                </a:lnTo>
                <a:lnTo>
                  <a:pt x="945" y="36"/>
                </a:lnTo>
                <a:lnTo>
                  <a:pt x="9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未知"/>
          <p:cNvSpPr/>
          <p:nvPr/>
        </p:nvSpPr>
        <p:spPr>
          <a:xfrm>
            <a:off x="7061040" y="5327640"/>
            <a:ext cx="414360" cy="328680"/>
          </a:xfrm>
          <a:custGeom>
            <a:avLst/>
            <a:gdLst/>
            <a:ahLst/>
            <a:rect l="l" t="t" r="r" b="b"/>
            <a:pathLst>
              <a:path w="1043" h="831">
                <a:moveTo>
                  <a:pt x="975" y="17"/>
                </a:moveTo>
                <a:lnTo>
                  <a:pt x="952" y="51"/>
                </a:lnTo>
                <a:lnTo>
                  <a:pt x="926" y="83"/>
                </a:lnTo>
                <a:lnTo>
                  <a:pt x="899" y="113"/>
                </a:lnTo>
                <a:lnTo>
                  <a:pt x="869" y="141"/>
                </a:lnTo>
                <a:lnTo>
                  <a:pt x="838" y="167"/>
                </a:lnTo>
                <a:lnTo>
                  <a:pt x="805" y="192"/>
                </a:lnTo>
                <a:lnTo>
                  <a:pt x="770" y="216"/>
                </a:lnTo>
                <a:lnTo>
                  <a:pt x="734" y="237"/>
                </a:lnTo>
                <a:lnTo>
                  <a:pt x="695" y="258"/>
                </a:lnTo>
                <a:lnTo>
                  <a:pt x="658" y="276"/>
                </a:lnTo>
                <a:lnTo>
                  <a:pt x="618" y="294"/>
                </a:lnTo>
                <a:lnTo>
                  <a:pt x="580" y="310"/>
                </a:lnTo>
                <a:lnTo>
                  <a:pt x="540" y="325"/>
                </a:lnTo>
                <a:lnTo>
                  <a:pt x="500" y="338"/>
                </a:lnTo>
                <a:lnTo>
                  <a:pt x="461" y="351"/>
                </a:lnTo>
                <a:lnTo>
                  <a:pt x="422" y="362"/>
                </a:lnTo>
                <a:lnTo>
                  <a:pt x="384" y="372"/>
                </a:lnTo>
                <a:lnTo>
                  <a:pt x="346" y="381"/>
                </a:lnTo>
                <a:lnTo>
                  <a:pt x="310" y="389"/>
                </a:lnTo>
                <a:lnTo>
                  <a:pt x="276" y="397"/>
                </a:lnTo>
                <a:lnTo>
                  <a:pt x="210" y="408"/>
                </a:lnTo>
                <a:lnTo>
                  <a:pt x="153" y="417"/>
                </a:lnTo>
                <a:lnTo>
                  <a:pt x="104" y="423"/>
                </a:lnTo>
                <a:lnTo>
                  <a:pt x="67" y="426"/>
                </a:lnTo>
                <a:lnTo>
                  <a:pt x="43" y="429"/>
                </a:lnTo>
                <a:lnTo>
                  <a:pt x="35" y="429"/>
                </a:lnTo>
                <a:lnTo>
                  <a:pt x="30" y="430"/>
                </a:lnTo>
                <a:lnTo>
                  <a:pt x="25" y="431"/>
                </a:lnTo>
                <a:lnTo>
                  <a:pt x="20" y="433"/>
                </a:lnTo>
                <a:lnTo>
                  <a:pt x="16" y="435"/>
                </a:lnTo>
                <a:lnTo>
                  <a:pt x="12" y="439"/>
                </a:lnTo>
                <a:lnTo>
                  <a:pt x="9" y="441"/>
                </a:lnTo>
                <a:lnTo>
                  <a:pt x="6" y="446"/>
                </a:lnTo>
                <a:lnTo>
                  <a:pt x="4" y="450"/>
                </a:lnTo>
                <a:lnTo>
                  <a:pt x="3" y="455"/>
                </a:lnTo>
                <a:lnTo>
                  <a:pt x="1" y="460"/>
                </a:lnTo>
                <a:lnTo>
                  <a:pt x="0" y="464"/>
                </a:lnTo>
                <a:lnTo>
                  <a:pt x="0" y="469"/>
                </a:lnTo>
                <a:lnTo>
                  <a:pt x="1" y="474"/>
                </a:lnTo>
                <a:lnTo>
                  <a:pt x="3" y="479"/>
                </a:lnTo>
                <a:lnTo>
                  <a:pt x="5" y="482"/>
                </a:lnTo>
                <a:lnTo>
                  <a:pt x="7" y="486"/>
                </a:lnTo>
                <a:lnTo>
                  <a:pt x="40" y="528"/>
                </a:lnTo>
                <a:lnTo>
                  <a:pt x="72" y="567"/>
                </a:lnTo>
                <a:lnTo>
                  <a:pt x="104" y="603"/>
                </a:lnTo>
                <a:lnTo>
                  <a:pt x="138" y="635"/>
                </a:lnTo>
                <a:lnTo>
                  <a:pt x="170" y="666"/>
                </a:lnTo>
                <a:lnTo>
                  <a:pt x="204" y="694"/>
                </a:lnTo>
                <a:lnTo>
                  <a:pt x="236" y="719"/>
                </a:lnTo>
                <a:lnTo>
                  <a:pt x="269" y="743"/>
                </a:lnTo>
                <a:lnTo>
                  <a:pt x="303" y="763"/>
                </a:lnTo>
                <a:lnTo>
                  <a:pt x="337" y="780"/>
                </a:lnTo>
                <a:lnTo>
                  <a:pt x="353" y="789"/>
                </a:lnTo>
                <a:lnTo>
                  <a:pt x="370" y="795"/>
                </a:lnTo>
                <a:lnTo>
                  <a:pt x="386" y="802"/>
                </a:lnTo>
                <a:lnTo>
                  <a:pt x="404" y="807"/>
                </a:lnTo>
                <a:lnTo>
                  <a:pt x="420" y="812"/>
                </a:lnTo>
                <a:lnTo>
                  <a:pt x="437" y="817"/>
                </a:lnTo>
                <a:lnTo>
                  <a:pt x="455" y="821"/>
                </a:lnTo>
                <a:lnTo>
                  <a:pt x="471" y="825"/>
                </a:lnTo>
                <a:lnTo>
                  <a:pt x="488" y="827"/>
                </a:lnTo>
                <a:lnTo>
                  <a:pt x="505" y="828"/>
                </a:lnTo>
                <a:lnTo>
                  <a:pt x="522" y="830"/>
                </a:lnTo>
                <a:lnTo>
                  <a:pt x="539" y="831"/>
                </a:lnTo>
                <a:lnTo>
                  <a:pt x="559" y="830"/>
                </a:lnTo>
                <a:lnTo>
                  <a:pt x="579" y="828"/>
                </a:lnTo>
                <a:lnTo>
                  <a:pt x="599" y="827"/>
                </a:lnTo>
                <a:lnTo>
                  <a:pt x="618" y="824"/>
                </a:lnTo>
                <a:lnTo>
                  <a:pt x="636" y="821"/>
                </a:lnTo>
                <a:lnTo>
                  <a:pt x="654" y="816"/>
                </a:lnTo>
                <a:lnTo>
                  <a:pt x="672" y="811"/>
                </a:lnTo>
                <a:lnTo>
                  <a:pt x="689" y="805"/>
                </a:lnTo>
                <a:lnTo>
                  <a:pt x="721" y="792"/>
                </a:lnTo>
                <a:lnTo>
                  <a:pt x="751" y="779"/>
                </a:lnTo>
                <a:lnTo>
                  <a:pt x="779" y="763"/>
                </a:lnTo>
                <a:lnTo>
                  <a:pt x="803" y="747"/>
                </a:lnTo>
                <a:lnTo>
                  <a:pt x="826" y="730"/>
                </a:lnTo>
                <a:lnTo>
                  <a:pt x="846" y="714"/>
                </a:lnTo>
                <a:lnTo>
                  <a:pt x="862" y="699"/>
                </a:lnTo>
                <a:lnTo>
                  <a:pt x="877" y="686"/>
                </a:lnTo>
                <a:lnTo>
                  <a:pt x="897" y="665"/>
                </a:lnTo>
                <a:lnTo>
                  <a:pt x="905" y="655"/>
                </a:lnTo>
                <a:lnTo>
                  <a:pt x="920" y="635"/>
                </a:lnTo>
                <a:lnTo>
                  <a:pt x="934" y="614"/>
                </a:lnTo>
                <a:lnTo>
                  <a:pt x="946" y="591"/>
                </a:lnTo>
                <a:lnTo>
                  <a:pt x="957" y="569"/>
                </a:lnTo>
                <a:lnTo>
                  <a:pt x="969" y="546"/>
                </a:lnTo>
                <a:lnTo>
                  <a:pt x="979" y="521"/>
                </a:lnTo>
                <a:lnTo>
                  <a:pt x="987" y="497"/>
                </a:lnTo>
                <a:lnTo>
                  <a:pt x="995" y="472"/>
                </a:lnTo>
                <a:lnTo>
                  <a:pt x="1002" y="446"/>
                </a:lnTo>
                <a:lnTo>
                  <a:pt x="1010" y="422"/>
                </a:lnTo>
                <a:lnTo>
                  <a:pt x="1015" y="395"/>
                </a:lnTo>
                <a:lnTo>
                  <a:pt x="1020" y="371"/>
                </a:lnTo>
                <a:lnTo>
                  <a:pt x="1028" y="321"/>
                </a:lnTo>
                <a:lnTo>
                  <a:pt x="1034" y="271"/>
                </a:lnTo>
                <a:lnTo>
                  <a:pt x="1038" y="225"/>
                </a:lnTo>
                <a:lnTo>
                  <a:pt x="1042" y="182"/>
                </a:lnTo>
                <a:lnTo>
                  <a:pt x="1043" y="142"/>
                </a:lnTo>
                <a:lnTo>
                  <a:pt x="1043" y="108"/>
                </a:lnTo>
                <a:lnTo>
                  <a:pt x="1042" y="56"/>
                </a:lnTo>
                <a:lnTo>
                  <a:pt x="1041" y="33"/>
                </a:lnTo>
                <a:lnTo>
                  <a:pt x="1039" y="27"/>
                </a:lnTo>
                <a:lnTo>
                  <a:pt x="1038" y="22"/>
                </a:lnTo>
                <a:lnTo>
                  <a:pt x="1036" y="17"/>
                </a:lnTo>
                <a:lnTo>
                  <a:pt x="1032" y="12"/>
                </a:lnTo>
                <a:lnTo>
                  <a:pt x="1028" y="8"/>
                </a:lnTo>
                <a:lnTo>
                  <a:pt x="1024" y="6"/>
                </a:lnTo>
                <a:lnTo>
                  <a:pt x="1020" y="3"/>
                </a:lnTo>
                <a:lnTo>
                  <a:pt x="1013" y="1"/>
                </a:lnTo>
                <a:lnTo>
                  <a:pt x="1008" y="0"/>
                </a:lnTo>
                <a:lnTo>
                  <a:pt x="1002" y="0"/>
                </a:lnTo>
                <a:lnTo>
                  <a:pt x="997" y="1"/>
                </a:lnTo>
                <a:lnTo>
                  <a:pt x="991" y="2"/>
                </a:lnTo>
                <a:lnTo>
                  <a:pt x="986" y="5"/>
                </a:lnTo>
                <a:lnTo>
                  <a:pt x="982" y="8"/>
                </a:lnTo>
                <a:lnTo>
                  <a:pt x="979" y="12"/>
                </a:lnTo>
                <a:lnTo>
                  <a:pt x="975" y="17"/>
                </a:lnTo>
                <a:close/>
                <a:moveTo>
                  <a:pt x="971" y="132"/>
                </a:moveTo>
                <a:lnTo>
                  <a:pt x="969" y="183"/>
                </a:lnTo>
                <a:lnTo>
                  <a:pt x="965" y="242"/>
                </a:lnTo>
                <a:lnTo>
                  <a:pt x="962" y="273"/>
                </a:lnTo>
                <a:lnTo>
                  <a:pt x="959" y="305"/>
                </a:lnTo>
                <a:lnTo>
                  <a:pt x="954" y="337"/>
                </a:lnTo>
                <a:lnTo>
                  <a:pt x="947" y="369"/>
                </a:lnTo>
                <a:lnTo>
                  <a:pt x="940" y="403"/>
                </a:lnTo>
                <a:lnTo>
                  <a:pt x="931" y="435"/>
                </a:lnTo>
                <a:lnTo>
                  <a:pt x="921" y="467"/>
                </a:lnTo>
                <a:lnTo>
                  <a:pt x="910" y="498"/>
                </a:lnTo>
                <a:lnTo>
                  <a:pt x="898" y="529"/>
                </a:lnTo>
                <a:lnTo>
                  <a:pt x="883" y="558"/>
                </a:lnTo>
                <a:lnTo>
                  <a:pt x="875" y="573"/>
                </a:lnTo>
                <a:lnTo>
                  <a:pt x="867" y="585"/>
                </a:lnTo>
                <a:lnTo>
                  <a:pt x="858" y="599"/>
                </a:lnTo>
                <a:lnTo>
                  <a:pt x="849" y="611"/>
                </a:lnTo>
                <a:lnTo>
                  <a:pt x="843" y="618"/>
                </a:lnTo>
                <a:lnTo>
                  <a:pt x="827" y="635"/>
                </a:lnTo>
                <a:lnTo>
                  <a:pt x="815" y="647"/>
                </a:lnTo>
                <a:lnTo>
                  <a:pt x="800" y="660"/>
                </a:lnTo>
                <a:lnTo>
                  <a:pt x="782" y="673"/>
                </a:lnTo>
                <a:lnTo>
                  <a:pt x="764" y="687"/>
                </a:lnTo>
                <a:lnTo>
                  <a:pt x="743" y="701"/>
                </a:lnTo>
                <a:lnTo>
                  <a:pt x="719" y="714"/>
                </a:lnTo>
                <a:lnTo>
                  <a:pt x="693" y="727"/>
                </a:lnTo>
                <a:lnTo>
                  <a:pt x="666" y="738"/>
                </a:lnTo>
                <a:lnTo>
                  <a:pt x="652" y="743"/>
                </a:lnTo>
                <a:lnTo>
                  <a:pt x="637" y="747"/>
                </a:lnTo>
                <a:lnTo>
                  <a:pt x="621" y="750"/>
                </a:lnTo>
                <a:lnTo>
                  <a:pt x="606" y="754"/>
                </a:lnTo>
                <a:lnTo>
                  <a:pt x="590" y="757"/>
                </a:lnTo>
                <a:lnTo>
                  <a:pt x="572" y="758"/>
                </a:lnTo>
                <a:lnTo>
                  <a:pt x="556" y="759"/>
                </a:lnTo>
                <a:lnTo>
                  <a:pt x="539" y="759"/>
                </a:lnTo>
                <a:lnTo>
                  <a:pt x="512" y="758"/>
                </a:lnTo>
                <a:lnTo>
                  <a:pt x="486" y="754"/>
                </a:lnTo>
                <a:lnTo>
                  <a:pt x="458" y="749"/>
                </a:lnTo>
                <a:lnTo>
                  <a:pt x="431" y="740"/>
                </a:lnTo>
                <a:lnTo>
                  <a:pt x="405" y="732"/>
                </a:lnTo>
                <a:lnTo>
                  <a:pt x="378" y="719"/>
                </a:lnTo>
                <a:lnTo>
                  <a:pt x="350" y="706"/>
                </a:lnTo>
                <a:lnTo>
                  <a:pt x="324" y="690"/>
                </a:lnTo>
                <a:lnTo>
                  <a:pt x="297" y="672"/>
                </a:lnTo>
                <a:lnTo>
                  <a:pt x="269" y="652"/>
                </a:lnTo>
                <a:lnTo>
                  <a:pt x="242" y="631"/>
                </a:lnTo>
                <a:lnTo>
                  <a:pt x="216" y="608"/>
                </a:lnTo>
                <a:lnTo>
                  <a:pt x="189" y="582"/>
                </a:lnTo>
                <a:lnTo>
                  <a:pt x="161" y="554"/>
                </a:lnTo>
                <a:lnTo>
                  <a:pt x="135" y="526"/>
                </a:lnTo>
                <a:lnTo>
                  <a:pt x="108" y="493"/>
                </a:lnTo>
                <a:lnTo>
                  <a:pt x="144" y="490"/>
                </a:lnTo>
                <a:lnTo>
                  <a:pt x="185" y="485"/>
                </a:lnTo>
                <a:lnTo>
                  <a:pt x="232" y="477"/>
                </a:lnTo>
                <a:lnTo>
                  <a:pt x="283" y="467"/>
                </a:lnTo>
                <a:lnTo>
                  <a:pt x="338" y="456"/>
                </a:lnTo>
                <a:lnTo>
                  <a:pt x="395" y="443"/>
                </a:lnTo>
                <a:lnTo>
                  <a:pt x="455" y="426"/>
                </a:lnTo>
                <a:lnTo>
                  <a:pt x="515" y="407"/>
                </a:lnTo>
                <a:lnTo>
                  <a:pt x="546" y="397"/>
                </a:lnTo>
                <a:lnTo>
                  <a:pt x="577" y="384"/>
                </a:lnTo>
                <a:lnTo>
                  <a:pt x="608" y="373"/>
                </a:lnTo>
                <a:lnTo>
                  <a:pt x="640" y="359"/>
                </a:lnTo>
                <a:lnTo>
                  <a:pt x="671" y="346"/>
                </a:lnTo>
                <a:lnTo>
                  <a:pt x="700" y="331"/>
                </a:lnTo>
                <a:lnTo>
                  <a:pt x="731" y="316"/>
                </a:lnTo>
                <a:lnTo>
                  <a:pt x="760" y="299"/>
                </a:lnTo>
                <a:lnTo>
                  <a:pt x="790" y="281"/>
                </a:lnTo>
                <a:lnTo>
                  <a:pt x="818" y="264"/>
                </a:lnTo>
                <a:lnTo>
                  <a:pt x="846" y="244"/>
                </a:lnTo>
                <a:lnTo>
                  <a:pt x="873" y="224"/>
                </a:lnTo>
                <a:lnTo>
                  <a:pt x="899" y="203"/>
                </a:lnTo>
                <a:lnTo>
                  <a:pt x="924" y="180"/>
                </a:lnTo>
                <a:lnTo>
                  <a:pt x="947" y="157"/>
                </a:lnTo>
                <a:lnTo>
                  <a:pt x="971" y="13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未知"/>
          <p:cNvSpPr/>
          <p:nvPr/>
        </p:nvSpPr>
        <p:spPr>
          <a:xfrm>
            <a:off x="7066080" y="5378400"/>
            <a:ext cx="385560" cy="271440"/>
          </a:xfrm>
          <a:custGeom>
            <a:avLst/>
            <a:gdLst/>
            <a:ahLst/>
            <a:rect l="l" t="t" r="r" b="b"/>
            <a:pathLst>
              <a:path w="973" h="687">
                <a:moveTo>
                  <a:pt x="973" y="0"/>
                </a:moveTo>
                <a:lnTo>
                  <a:pt x="959" y="19"/>
                </a:lnTo>
                <a:lnTo>
                  <a:pt x="923" y="66"/>
                </a:lnTo>
                <a:lnTo>
                  <a:pt x="872" y="134"/>
                </a:lnTo>
                <a:lnTo>
                  <a:pt x="814" y="215"/>
                </a:lnTo>
                <a:lnTo>
                  <a:pt x="785" y="259"/>
                </a:lnTo>
                <a:lnTo>
                  <a:pt x="757" y="301"/>
                </a:lnTo>
                <a:lnTo>
                  <a:pt x="732" y="342"/>
                </a:lnTo>
                <a:lnTo>
                  <a:pt x="709" y="380"/>
                </a:lnTo>
                <a:lnTo>
                  <a:pt x="700" y="399"/>
                </a:lnTo>
                <a:lnTo>
                  <a:pt x="692" y="416"/>
                </a:lnTo>
                <a:lnTo>
                  <a:pt x="685" y="432"/>
                </a:lnTo>
                <a:lnTo>
                  <a:pt x="678" y="448"/>
                </a:lnTo>
                <a:lnTo>
                  <a:pt x="675" y="462"/>
                </a:lnTo>
                <a:lnTo>
                  <a:pt x="672" y="473"/>
                </a:lnTo>
                <a:lnTo>
                  <a:pt x="671" y="484"/>
                </a:lnTo>
                <a:lnTo>
                  <a:pt x="672" y="493"/>
                </a:lnTo>
                <a:lnTo>
                  <a:pt x="673" y="498"/>
                </a:lnTo>
                <a:lnTo>
                  <a:pt x="680" y="512"/>
                </a:lnTo>
                <a:lnTo>
                  <a:pt x="685" y="519"/>
                </a:lnTo>
                <a:lnTo>
                  <a:pt x="691" y="527"/>
                </a:lnTo>
                <a:lnTo>
                  <a:pt x="700" y="534"/>
                </a:lnTo>
                <a:lnTo>
                  <a:pt x="709" y="540"/>
                </a:lnTo>
                <a:lnTo>
                  <a:pt x="716" y="544"/>
                </a:lnTo>
                <a:lnTo>
                  <a:pt x="722" y="545"/>
                </a:lnTo>
                <a:lnTo>
                  <a:pt x="729" y="546"/>
                </a:lnTo>
                <a:lnTo>
                  <a:pt x="737" y="548"/>
                </a:lnTo>
                <a:lnTo>
                  <a:pt x="746" y="548"/>
                </a:lnTo>
                <a:lnTo>
                  <a:pt x="754" y="546"/>
                </a:lnTo>
                <a:lnTo>
                  <a:pt x="764" y="545"/>
                </a:lnTo>
                <a:lnTo>
                  <a:pt x="774" y="543"/>
                </a:lnTo>
                <a:lnTo>
                  <a:pt x="785" y="539"/>
                </a:lnTo>
                <a:lnTo>
                  <a:pt x="796" y="534"/>
                </a:lnTo>
                <a:lnTo>
                  <a:pt x="809" y="529"/>
                </a:lnTo>
                <a:lnTo>
                  <a:pt x="822" y="522"/>
                </a:lnTo>
                <a:lnTo>
                  <a:pt x="836" y="513"/>
                </a:lnTo>
                <a:lnTo>
                  <a:pt x="851" y="503"/>
                </a:lnTo>
                <a:lnTo>
                  <a:pt x="867" y="492"/>
                </a:lnTo>
                <a:lnTo>
                  <a:pt x="883" y="478"/>
                </a:lnTo>
                <a:lnTo>
                  <a:pt x="878" y="484"/>
                </a:lnTo>
                <a:lnTo>
                  <a:pt x="865" y="500"/>
                </a:lnTo>
                <a:lnTo>
                  <a:pt x="841" y="525"/>
                </a:lnTo>
                <a:lnTo>
                  <a:pt x="810" y="554"/>
                </a:lnTo>
                <a:lnTo>
                  <a:pt x="791" y="570"/>
                </a:lnTo>
                <a:lnTo>
                  <a:pt x="772" y="585"/>
                </a:lnTo>
                <a:lnTo>
                  <a:pt x="749" y="601"/>
                </a:lnTo>
                <a:lnTo>
                  <a:pt x="726" y="616"/>
                </a:lnTo>
                <a:lnTo>
                  <a:pt x="701" y="631"/>
                </a:lnTo>
                <a:lnTo>
                  <a:pt x="673" y="644"/>
                </a:lnTo>
                <a:lnTo>
                  <a:pt x="645" y="657"/>
                </a:lnTo>
                <a:lnTo>
                  <a:pt x="615" y="668"/>
                </a:lnTo>
                <a:lnTo>
                  <a:pt x="584" y="677"/>
                </a:lnTo>
                <a:lnTo>
                  <a:pt x="552" y="683"/>
                </a:lnTo>
                <a:lnTo>
                  <a:pt x="518" y="687"/>
                </a:lnTo>
                <a:lnTo>
                  <a:pt x="483" y="687"/>
                </a:lnTo>
                <a:lnTo>
                  <a:pt x="447" y="684"/>
                </a:lnTo>
                <a:lnTo>
                  <a:pt x="410" y="677"/>
                </a:lnTo>
                <a:lnTo>
                  <a:pt x="372" y="667"/>
                </a:lnTo>
                <a:lnTo>
                  <a:pt x="333" y="652"/>
                </a:lnTo>
                <a:lnTo>
                  <a:pt x="294" y="632"/>
                </a:lnTo>
                <a:lnTo>
                  <a:pt x="254" y="608"/>
                </a:lnTo>
                <a:lnTo>
                  <a:pt x="213" y="579"/>
                </a:lnTo>
                <a:lnTo>
                  <a:pt x="171" y="543"/>
                </a:lnTo>
                <a:lnTo>
                  <a:pt x="128" y="502"/>
                </a:lnTo>
                <a:lnTo>
                  <a:pt x="86" y="453"/>
                </a:lnTo>
                <a:lnTo>
                  <a:pt x="44" y="400"/>
                </a:lnTo>
                <a:lnTo>
                  <a:pt x="0" y="338"/>
                </a:lnTo>
                <a:lnTo>
                  <a:pt x="7" y="340"/>
                </a:lnTo>
                <a:lnTo>
                  <a:pt x="27" y="344"/>
                </a:lnTo>
                <a:lnTo>
                  <a:pt x="58" y="350"/>
                </a:lnTo>
                <a:lnTo>
                  <a:pt x="100" y="355"/>
                </a:lnTo>
                <a:lnTo>
                  <a:pt x="125" y="358"/>
                </a:lnTo>
                <a:lnTo>
                  <a:pt x="151" y="360"/>
                </a:lnTo>
                <a:lnTo>
                  <a:pt x="179" y="363"/>
                </a:lnTo>
                <a:lnTo>
                  <a:pt x="209" y="363"/>
                </a:lnTo>
                <a:lnTo>
                  <a:pt x="241" y="363"/>
                </a:lnTo>
                <a:lnTo>
                  <a:pt x="275" y="363"/>
                </a:lnTo>
                <a:lnTo>
                  <a:pt x="310" y="360"/>
                </a:lnTo>
                <a:lnTo>
                  <a:pt x="347" y="357"/>
                </a:lnTo>
                <a:lnTo>
                  <a:pt x="384" y="352"/>
                </a:lnTo>
                <a:lnTo>
                  <a:pt x="423" y="345"/>
                </a:lnTo>
                <a:lnTo>
                  <a:pt x="461" y="337"/>
                </a:lnTo>
                <a:lnTo>
                  <a:pt x="501" y="327"/>
                </a:lnTo>
                <a:lnTo>
                  <a:pt x="541" y="314"/>
                </a:lnTo>
                <a:lnTo>
                  <a:pt x="582" y="301"/>
                </a:lnTo>
                <a:lnTo>
                  <a:pt x="623" y="283"/>
                </a:lnTo>
                <a:lnTo>
                  <a:pt x="664" y="264"/>
                </a:lnTo>
                <a:lnTo>
                  <a:pt x="705" y="242"/>
                </a:lnTo>
                <a:lnTo>
                  <a:pt x="744" y="218"/>
                </a:lnTo>
                <a:lnTo>
                  <a:pt x="784" y="189"/>
                </a:lnTo>
                <a:lnTo>
                  <a:pt x="824" y="158"/>
                </a:lnTo>
                <a:lnTo>
                  <a:pt x="862" y="125"/>
                </a:lnTo>
                <a:lnTo>
                  <a:pt x="901" y="87"/>
                </a:lnTo>
                <a:lnTo>
                  <a:pt x="937" y="46"/>
                </a:lnTo>
                <a:lnTo>
                  <a:pt x="973" y="0"/>
                </a:lnTo>
                <a:close/>
              </a:path>
            </a:pathLst>
          </a:custGeom>
          <a:solidFill>
            <a:srgbClr val="dee2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未知"/>
          <p:cNvSpPr/>
          <p:nvPr/>
        </p:nvSpPr>
        <p:spPr>
          <a:xfrm>
            <a:off x="7062840" y="5284800"/>
            <a:ext cx="398520" cy="258840"/>
          </a:xfrm>
          <a:custGeom>
            <a:avLst/>
            <a:gdLst/>
            <a:ahLst/>
            <a:rect l="l" t="t" r="r" b="b"/>
            <a:pathLst>
              <a:path w="1006" h="653">
                <a:moveTo>
                  <a:pt x="997" y="101"/>
                </a:moveTo>
                <a:lnTo>
                  <a:pt x="992" y="90"/>
                </a:lnTo>
                <a:lnTo>
                  <a:pt x="986" y="78"/>
                </a:lnTo>
                <a:lnTo>
                  <a:pt x="979" y="68"/>
                </a:lnTo>
                <a:lnTo>
                  <a:pt x="970" y="59"/>
                </a:lnTo>
                <a:lnTo>
                  <a:pt x="960" y="50"/>
                </a:lnTo>
                <a:lnTo>
                  <a:pt x="949" y="41"/>
                </a:lnTo>
                <a:lnTo>
                  <a:pt x="937" y="34"/>
                </a:lnTo>
                <a:lnTo>
                  <a:pt x="924" y="28"/>
                </a:lnTo>
                <a:lnTo>
                  <a:pt x="910" y="21"/>
                </a:lnTo>
                <a:lnTo>
                  <a:pt x="896" y="16"/>
                </a:lnTo>
                <a:lnTo>
                  <a:pt x="879" y="11"/>
                </a:lnTo>
                <a:lnTo>
                  <a:pt x="863" y="8"/>
                </a:lnTo>
                <a:lnTo>
                  <a:pt x="846" y="5"/>
                </a:lnTo>
                <a:lnTo>
                  <a:pt x="827" y="3"/>
                </a:lnTo>
                <a:lnTo>
                  <a:pt x="809" y="1"/>
                </a:lnTo>
                <a:lnTo>
                  <a:pt x="790" y="0"/>
                </a:lnTo>
                <a:lnTo>
                  <a:pt x="769" y="0"/>
                </a:lnTo>
                <a:lnTo>
                  <a:pt x="749" y="1"/>
                </a:lnTo>
                <a:lnTo>
                  <a:pt x="728" y="3"/>
                </a:lnTo>
                <a:lnTo>
                  <a:pt x="706" y="5"/>
                </a:lnTo>
                <a:lnTo>
                  <a:pt x="683" y="8"/>
                </a:lnTo>
                <a:lnTo>
                  <a:pt x="660" y="11"/>
                </a:lnTo>
                <a:lnTo>
                  <a:pt x="637" y="16"/>
                </a:lnTo>
                <a:lnTo>
                  <a:pt x="614" y="21"/>
                </a:lnTo>
                <a:lnTo>
                  <a:pt x="589" y="28"/>
                </a:lnTo>
                <a:lnTo>
                  <a:pt x="565" y="35"/>
                </a:lnTo>
                <a:lnTo>
                  <a:pt x="540" y="42"/>
                </a:lnTo>
                <a:lnTo>
                  <a:pt x="516" y="50"/>
                </a:lnTo>
                <a:lnTo>
                  <a:pt x="490" y="60"/>
                </a:lnTo>
                <a:lnTo>
                  <a:pt x="465" y="68"/>
                </a:lnTo>
                <a:lnTo>
                  <a:pt x="439" y="80"/>
                </a:lnTo>
                <a:lnTo>
                  <a:pt x="414" y="91"/>
                </a:lnTo>
                <a:lnTo>
                  <a:pt x="388" y="103"/>
                </a:lnTo>
                <a:lnTo>
                  <a:pt x="363" y="116"/>
                </a:lnTo>
                <a:lnTo>
                  <a:pt x="339" y="128"/>
                </a:lnTo>
                <a:lnTo>
                  <a:pt x="316" y="140"/>
                </a:lnTo>
                <a:lnTo>
                  <a:pt x="271" y="169"/>
                </a:lnTo>
                <a:lnTo>
                  <a:pt x="228" y="197"/>
                </a:lnTo>
                <a:lnTo>
                  <a:pt x="208" y="212"/>
                </a:lnTo>
                <a:lnTo>
                  <a:pt x="189" y="227"/>
                </a:lnTo>
                <a:lnTo>
                  <a:pt x="170" y="242"/>
                </a:lnTo>
                <a:lnTo>
                  <a:pt x="152" y="257"/>
                </a:lnTo>
                <a:lnTo>
                  <a:pt x="136" y="273"/>
                </a:lnTo>
                <a:lnTo>
                  <a:pt x="119" y="288"/>
                </a:lnTo>
                <a:lnTo>
                  <a:pt x="105" y="304"/>
                </a:lnTo>
                <a:lnTo>
                  <a:pt x="90" y="319"/>
                </a:lnTo>
                <a:lnTo>
                  <a:pt x="76" y="335"/>
                </a:lnTo>
                <a:lnTo>
                  <a:pt x="65" y="350"/>
                </a:lnTo>
                <a:lnTo>
                  <a:pt x="52" y="366"/>
                </a:lnTo>
                <a:lnTo>
                  <a:pt x="42" y="382"/>
                </a:lnTo>
                <a:lnTo>
                  <a:pt x="34" y="397"/>
                </a:lnTo>
                <a:lnTo>
                  <a:pt x="25" y="412"/>
                </a:lnTo>
                <a:lnTo>
                  <a:pt x="18" y="428"/>
                </a:lnTo>
                <a:lnTo>
                  <a:pt x="13" y="443"/>
                </a:lnTo>
                <a:lnTo>
                  <a:pt x="8" y="457"/>
                </a:lnTo>
                <a:lnTo>
                  <a:pt x="4" y="472"/>
                </a:lnTo>
                <a:lnTo>
                  <a:pt x="2" y="487"/>
                </a:lnTo>
                <a:lnTo>
                  <a:pt x="0" y="500"/>
                </a:lnTo>
                <a:lnTo>
                  <a:pt x="0" y="514"/>
                </a:lnTo>
                <a:lnTo>
                  <a:pt x="2" y="528"/>
                </a:lnTo>
                <a:lnTo>
                  <a:pt x="4" y="540"/>
                </a:lnTo>
                <a:lnTo>
                  <a:pt x="8" y="552"/>
                </a:lnTo>
                <a:lnTo>
                  <a:pt x="13" y="564"/>
                </a:lnTo>
                <a:lnTo>
                  <a:pt x="20" y="575"/>
                </a:lnTo>
                <a:lnTo>
                  <a:pt x="28" y="586"/>
                </a:lnTo>
                <a:lnTo>
                  <a:pt x="36" y="595"/>
                </a:lnTo>
                <a:lnTo>
                  <a:pt x="46" y="604"/>
                </a:lnTo>
                <a:lnTo>
                  <a:pt x="57" y="612"/>
                </a:lnTo>
                <a:lnTo>
                  <a:pt x="69" y="619"/>
                </a:lnTo>
                <a:lnTo>
                  <a:pt x="82" y="627"/>
                </a:lnTo>
                <a:lnTo>
                  <a:pt x="96" y="632"/>
                </a:lnTo>
                <a:lnTo>
                  <a:pt x="111" y="638"/>
                </a:lnTo>
                <a:lnTo>
                  <a:pt x="126" y="642"/>
                </a:lnTo>
                <a:lnTo>
                  <a:pt x="142" y="645"/>
                </a:lnTo>
                <a:lnTo>
                  <a:pt x="159" y="649"/>
                </a:lnTo>
                <a:lnTo>
                  <a:pt x="178" y="650"/>
                </a:lnTo>
                <a:lnTo>
                  <a:pt x="196" y="652"/>
                </a:lnTo>
                <a:lnTo>
                  <a:pt x="216" y="653"/>
                </a:lnTo>
                <a:lnTo>
                  <a:pt x="236" y="653"/>
                </a:lnTo>
                <a:lnTo>
                  <a:pt x="257" y="652"/>
                </a:lnTo>
                <a:lnTo>
                  <a:pt x="278" y="650"/>
                </a:lnTo>
                <a:lnTo>
                  <a:pt x="301" y="648"/>
                </a:lnTo>
                <a:lnTo>
                  <a:pt x="322" y="645"/>
                </a:lnTo>
                <a:lnTo>
                  <a:pt x="345" y="642"/>
                </a:lnTo>
                <a:lnTo>
                  <a:pt x="369" y="637"/>
                </a:lnTo>
                <a:lnTo>
                  <a:pt x="393" y="632"/>
                </a:lnTo>
                <a:lnTo>
                  <a:pt x="416" y="626"/>
                </a:lnTo>
                <a:lnTo>
                  <a:pt x="441" y="619"/>
                </a:lnTo>
                <a:lnTo>
                  <a:pt x="466" y="612"/>
                </a:lnTo>
                <a:lnTo>
                  <a:pt x="491" y="603"/>
                </a:lnTo>
                <a:lnTo>
                  <a:pt x="516" y="595"/>
                </a:lnTo>
                <a:lnTo>
                  <a:pt x="542" y="585"/>
                </a:lnTo>
                <a:lnTo>
                  <a:pt x="567" y="573"/>
                </a:lnTo>
                <a:lnTo>
                  <a:pt x="593" y="562"/>
                </a:lnTo>
                <a:lnTo>
                  <a:pt x="617" y="551"/>
                </a:lnTo>
                <a:lnTo>
                  <a:pt x="642" y="539"/>
                </a:lnTo>
                <a:lnTo>
                  <a:pt x="666" y="525"/>
                </a:lnTo>
                <a:lnTo>
                  <a:pt x="689" y="513"/>
                </a:lnTo>
                <a:lnTo>
                  <a:pt x="713" y="499"/>
                </a:lnTo>
                <a:lnTo>
                  <a:pt x="735" y="485"/>
                </a:lnTo>
                <a:lnTo>
                  <a:pt x="757" y="470"/>
                </a:lnTo>
                <a:lnTo>
                  <a:pt x="778" y="456"/>
                </a:lnTo>
                <a:lnTo>
                  <a:pt x="797" y="442"/>
                </a:lnTo>
                <a:lnTo>
                  <a:pt x="817" y="427"/>
                </a:lnTo>
                <a:lnTo>
                  <a:pt x="836" y="411"/>
                </a:lnTo>
                <a:lnTo>
                  <a:pt x="853" y="396"/>
                </a:lnTo>
                <a:lnTo>
                  <a:pt x="871" y="381"/>
                </a:lnTo>
                <a:lnTo>
                  <a:pt x="887" y="365"/>
                </a:lnTo>
                <a:lnTo>
                  <a:pt x="902" y="350"/>
                </a:lnTo>
                <a:lnTo>
                  <a:pt x="915" y="334"/>
                </a:lnTo>
                <a:lnTo>
                  <a:pt x="929" y="318"/>
                </a:lnTo>
                <a:lnTo>
                  <a:pt x="942" y="303"/>
                </a:lnTo>
                <a:lnTo>
                  <a:pt x="953" y="287"/>
                </a:lnTo>
                <a:lnTo>
                  <a:pt x="963" y="272"/>
                </a:lnTo>
                <a:lnTo>
                  <a:pt x="973" y="256"/>
                </a:lnTo>
                <a:lnTo>
                  <a:pt x="980" y="241"/>
                </a:lnTo>
                <a:lnTo>
                  <a:pt x="987" y="226"/>
                </a:lnTo>
                <a:lnTo>
                  <a:pt x="994" y="211"/>
                </a:lnTo>
                <a:lnTo>
                  <a:pt x="999" y="196"/>
                </a:lnTo>
                <a:lnTo>
                  <a:pt x="1002" y="181"/>
                </a:lnTo>
                <a:lnTo>
                  <a:pt x="1005" y="168"/>
                </a:lnTo>
                <a:lnTo>
                  <a:pt x="1006" y="153"/>
                </a:lnTo>
                <a:lnTo>
                  <a:pt x="1006" y="139"/>
                </a:lnTo>
                <a:lnTo>
                  <a:pt x="1004" y="127"/>
                </a:lnTo>
                <a:lnTo>
                  <a:pt x="1001" y="113"/>
                </a:lnTo>
                <a:lnTo>
                  <a:pt x="997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未知"/>
          <p:cNvSpPr/>
          <p:nvPr/>
        </p:nvSpPr>
        <p:spPr>
          <a:xfrm>
            <a:off x="7048440" y="5270400"/>
            <a:ext cx="426960" cy="287280"/>
          </a:xfrm>
          <a:custGeom>
            <a:avLst/>
            <a:gdLst/>
            <a:ahLst/>
            <a:rect l="l" t="t" r="r" b="b"/>
            <a:pathLst>
              <a:path w="1077" h="725">
                <a:moveTo>
                  <a:pt x="435" y="95"/>
                </a:moveTo>
                <a:lnTo>
                  <a:pt x="408" y="107"/>
                </a:lnTo>
                <a:lnTo>
                  <a:pt x="381" y="121"/>
                </a:lnTo>
                <a:lnTo>
                  <a:pt x="355" y="134"/>
                </a:lnTo>
                <a:lnTo>
                  <a:pt x="329" y="148"/>
                </a:lnTo>
                <a:lnTo>
                  <a:pt x="306" y="163"/>
                </a:lnTo>
                <a:lnTo>
                  <a:pt x="281" y="178"/>
                </a:lnTo>
                <a:lnTo>
                  <a:pt x="259" y="194"/>
                </a:lnTo>
                <a:lnTo>
                  <a:pt x="236" y="209"/>
                </a:lnTo>
                <a:lnTo>
                  <a:pt x="215" y="225"/>
                </a:lnTo>
                <a:lnTo>
                  <a:pt x="195" y="241"/>
                </a:lnTo>
                <a:lnTo>
                  <a:pt x="175" y="257"/>
                </a:lnTo>
                <a:lnTo>
                  <a:pt x="157" y="274"/>
                </a:lnTo>
                <a:lnTo>
                  <a:pt x="138" y="291"/>
                </a:lnTo>
                <a:lnTo>
                  <a:pt x="122" y="308"/>
                </a:lnTo>
                <a:lnTo>
                  <a:pt x="106" y="324"/>
                </a:lnTo>
                <a:lnTo>
                  <a:pt x="91" y="341"/>
                </a:lnTo>
                <a:lnTo>
                  <a:pt x="77" y="359"/>
                </a:lnTo>
                <a:lnTo>
                  <a:pt x="65" y="376"/>
                </a:lnTo>
                <a:lnTo>
                  <a:pt x="52" y="394"/>
                </a:lnTo>
                <a:lnTo>
                  <a:pt x="42" y="410"/>
                </a:lnTo>
                <a:lnTo>
                  <a:pt x="33" y="427"/>
                </a:lnTo>
                <a:lnTo>
                  <a:pt x="25" y="444"/>
                </a:lnTo>
                <a:lnTo>
                  <a:pt x="18" y="461"/>
                </a:lnTo>
                <a:lnTo>
                  <a:pt x="11" y="477"/>
                </a:lnTo>
                <a:lnTo>
                  <a:pt x="6" y="494"/>
                </a:lnTo>
                <a:lnTo>
                  <a:pt x="4" y="510"/>
                </a:lnTo>
                <a:lnTo>
                  <a:pt x="2" y="526"/>
                </a:lnTo>
                <a:lnTo>
                  <a:pt x="0" y="541"/>
                </a:lnTo>
                <a:lnTo>
                  <a:pt x="2" y="557"/>
                </a:lnTo>
                <a:lnTo>
                  <a:pt x="3" y="572"/>
                </a:lnTo>
                <a:lnTo>
                  <a:pt x="6" y="587"/>
                </a:lnTo>
                <a:lnTo>
                  <a:pt x="10" y="601"/>
                </a:lnTo>
                <a:lnTo>
                  <a:pt x="18" y="617"/>
                </a:lnTo>
                <a:lnTo>
                  <a:pt x="26" y="632"/>
                </a:lnTo>
                <a:lnTo>
                  <a:pt x="38" y="645"/>
                </a:lnTo>
                <a:lnTo>
                  <a:pt x="50" y="659"/>
                </a:lnTo>
                <a:lnTo>
                  <a:pt x="64" y="670"/>
                </a:lnTo>
                <a:lnTo>
                  <a:pt x="78" y="681"/>
                </a:lnTo>
                <a:lnTo>
                  <a:pt x="96" y="691"/>
                </a:lnTo>
                <a:lnTo>
                  <a:pt x="113" y="700"/>
                </a:lnTo>
                <a:lnTo>
                  <a:pt x="138" y="707"/>
                </a:lnTo>
                <a:lnTo>
                  <a:pt x="163" y="715"/>
                </a:lnTo>
                <a:lnTo>
                  <a:pt x="191" y="720"/>
                </a:lnTo>
                <a:lnTo>
                  <a:pt x="220" y="724"/>
                </a:lnTo>
                <a:lnTo>
                  <a:pt x="250" y="725"/>
                </a:lnTo>
                <a:lnTo>
                  <a:pt x="282" y="725"/>
                </a:lnTo>
                <a:lnTo>
                  <a:pt x="314" y="722"/>
                </a:lnTo>
                <a:lnTo>
                  <a:pt x="348" y="719"/>
                </a:lnTo>
                <a:lnTo>
                  <a:pt x="383" y="714"/>
                </a:lnTo>
                <a:lnTo>
                  <a:pt x="419" y="706"/>
                </a:lnTo>
                <a:lnTo>
                  <a:pt x="455" y="699"/>
                </a:lnTo>
                <a:lnTo>
                  <a:pt x="492" y="688"/>
                </a:lnTo>
                <a:lnTo>
                  <a:pt x="529" y="676"/>
                </a:lnTo>
                <a:lnTo>
                  <a:pt x="567" y="663"/>
                </a:lnTo>
                <a:lnTo>
                  <a:pt x="605" y="648"/>
                </a:lnTo>
                <a:lnTo>
                  <a:pt x="643" y="631"/>
                </a:lnTo>
                <a:lnTo>
                  <a:pt x="691" y="608"/>
                </a:lnTo>
                <a:lnTo>
                  <a:pt x="735" y="583"/>
                </a:lnTo>
                <a:lnTo>
                  <a:pt x="779" y="559"/>
                </a:lnTo>
                <a:lnTo>
                  <a:pt x="820" y="531"/>
                </a:lnTo>
                <a:lnTo>
                  <a:pt x="858" y="504"/>
                </a:lnTo>
                <a:lnTo>
                  <a:pt x="894" y="475"/>
                </a:lnTo>
                <a:lnTo>
                  <a:pt x="927" y="446"/>
                </a:lnTo>
                <a:lnTo>
                  <a:pt x="958" y="416"/>
                </a:lnTo>
                <a:lnTo>
                  <a:pt x="971" y="401"/>
                </a:lnTo>
                <a:lnTo>
                  <a:pt x="984" y="386"/>
                </a:lnTo>
                <a:lnTo>
                  <a:pt x="996" y="371"/>
                </a:lnTo>
                <a:lnTo>
                  <a:pt x="1007" y="356"/>
                </a:lnTo>
                <a:lnTo>
                  <a:pt x="1019" y="341"/>
                </a:lnTo>
                <a:lnTo>
                  <a:pt x="1028" y="327"/>
                </a:lnTo>
                <a:lnTo>
                  <a:pt x="1037" y="312"/>
                </a:lnTo>
                <a:lnTo>
                  <a:pt x="1046" y="297"/>
                </a:lnTo>
                <a:lnTo>
                  <a:pt x="1053" y="282"/>
                </a:lnTo>
                <a:lnTo>
                  <a:pt x="1059" y="267"/>
                </a:lnTo>
                <a:lnTo>
                  <a:pt x="1064" y="252"/>
                </a:lnTo>
                <a:lnTo>
                  <a:pt x="1069" y="237"/>
                </a:lnTo>
                <a:lnTo>
                  <a:pt x="1073" y="224"/>
                </a:lnTo>
                <a:lnTo>
                  <a:pt x="1076" y="209"/>
                </a:lnTo>
                <a:lnTo>
                  <a:pt x="1077" y="195"/>
                </a:lnTo>
                <a:lnTo>
                  <a:pt x="1077" y="181"/>
                </a:lnTo>
                <a:lnTo>
                  <a:pt x="1077" y="166"/>
                </a:lnTo>
                <a:lnTo>
                  <a:pt x="1074" y="153"/>
                </a:lnTo>
                <a:lnTo>
                  <a:pt x="1072" y="138"/>
                </a:lnTo>
                <a:lnTo>
                  <a:pt x="1067" y="124"/>
                </a:lnTo>
                <a:lnTo>
                  <a:pt x="1059" y="108"/>
                </a:lnTo>
                <a:lnTo>
                  <a:pt x="1051" y="93"/>
                </a:lnTo>
                <a:lnTo>
                  <a:pt x="1041" y="80"/>
                </a:lnTo>
                <a:lnTo>
                  <a:pt x="1028" y="67"/>
                </a:lnTo>
                <a:lnTo>
                  <a:pt x="1015" y="55"/>
                </a:lnTo>
                <a:lnTo>
                  <a:pt x="999" y="44"/>
                </a:lnTo>
                <a:lnTo>
                  <a:pt x="982" y="35"/>
                </a:lnTo>
                <a:lnTo>
                  <a:pt x="964" y="26"/>
                </a:lnTo>
                <a:lnTo>
                  <a:pt x="940" y="18"/>
                </a:lnTo>
                <a:lnTo>
                  <a:pt x="914" y="10"/>
                </a:lnTo>
                <a:lnTo>
                  <a:pt x="887" y="5"/>
                </a:lnTo>
                <a:lnTo>
                  <a:pt x="858" y="3"/>
                </a:lnTo>
                <a:lnTo>
                  <a:pt x="827" y="0"/>
                </a:lnTo>
                <a:lnTo>
                  <a:pt x="796" y="1"/>
                </a:lnTo>
                <a:lnTo>
                  <a:pt x="764" y="3"/>
                </a:lnTo>
                <a:lnTo>
                  <a:pt x="729" y="6"/>
                </a:lnTo>
                <a:lnTo>
                  <a:pt x="694" y="11"/>
                </a:lnTo>
                <a:lnTo>
                  <a:pt x="660" y="19"/>
                </a:lnTo>
                <a:lnTo>
                  <a:pt x="622" y="28"/>
                </a:lnTo>
                <a:lnTo>
                  <a:pt x="586" y="37"/>
                </a:lnTo>
                <a:lnTo>
                  <a:pt x="549" y="50"/>
                </a:lnTo>
                <a:lnTo>
                  <a:pt x="511" y="62"/>
                </a:lnTo>
                <a:lnTo>
                  <a:pt x="473" y="77"/>
                </a:lnTo>
                <a:lnTo>
                  <a:pt x="435" y="95"/>
                </a:lnTo>
                <a:close/>
                <a:moveTo>
                  <a:pt x="141" y="633"/>
                </a:moveTo>
                <a:lnTo>
                  <a:pt x="129" y="628"/>
                </a:lnTo>
                <a:lnTo>
                  <a:pt x="118" y="622"/>
                </a:lnTo>
                <a:lnTo>
                  <a:pt x="110" y="616"/>
                </a:lnTo>
                <a:lnTo>
                  <a:pt x="101" y="609"/>
                </a:lnTo>
                <a:lnTo>
                  <a:pt x="93" y="601"/>
                </a:lnTo>
                <a:lnTo>
                  <a:pt x="87" y="593"/>
                </a:lnTo>
                <a:lnTo>
                  <a:pt x="81" y="585"/>
                </a:lnTo>
                <a:lnTo>
                  <a:pt x="77" y="576"/>
                </a:lnTo>
                <a:lnTo>
                  <a:pt x="75" y="566"/>
                </a:lnTo>
                <a:lnTo>
                  <a:pt x="72" y="556"/>
                </a:lnTo>
                <a:lnTo>
                  <a:pt x="72" y="545"/>
                </a:lnTo>
                <a:lnTo>
                  <a:pt x="72" y="535"/>
                </a:lnTo>
                <a:lnTo>
                  <a:pt x="74" y="523"/>
                </a:lnTo>
                <a:lnTo>
                  <a:pt x="76" y="511"/>
                </a:lnTo>
                <a:lnTo>
                  <a:pt x="78" y="499"/>
                </a:lnTo>
                <a:lnTo>
                  <a:pt x="83" y="487"/>
                </a:lnTo>
                <a:lnTo>
                  <a:pt x="88" y="474"/>
                </a:lnTo>
                <a:lnTo>
                  <a:pt x="95" y="461"/>
                </a:lnTo>
                <a:lnTo>
                  <a:pt x="102" y="447"/>
                </a:lnTo>
                <a:lnTo>
                  <a:pt x="111" y="433"/>
                </a:lnTo>
                <a:lnTo>
                  <a:pt x="119" y="420"/>
                </a:lnTo>
                <a:lnTo>
                  <a:pt x="129" y="406"/>
                </a:lnTo>
                <a:lnTo>
                  <a:pt x="141" y="392"/>
                </a:lnTo>
                <a:lnTo>
                  <a:pt x="153" y="377"/>
                </a:lnTo>
                <a:lnTo>
                  <a:pt x="179" y="349"/>
                </a:lnTo>
                <a:lnTo>
                  <a:pt x="210" y="320"/>
                </a:lnTo>
                <a:lnTo>
                  <a:pt x="244" y="292"/>
                </a:lnTo>
                <a:lnTo>
                  <a:pt x="282" y="263"/>
                </a:lnTo>
                <a:lnTo>
                  <a:pt x="322" y="236"/>
                </a:lnTo>
                <a:lnTo>
                  <a:pt x="367" y="210"/>
                </a:lnTo>
                <a:lnTo>
                  <a:pt x="390" y="196"/>
                </a:lnTo>
                <a:lnTo>
                  <a:pt x="414" y="184"/>
                </a:lnTo>
                <a:lnTo>
                  <a:pt x="439" y="171"/>
                </a:lnTo>
                <a:lnTo>
                  <a:pt x="465" y="159"/>
                </a:lnTo>
                <a:lnTo>
                  <a:pt x="498" y="144"/>
                </a:lnTo>
                <a:lnTo>
                  <a:pt x="533" y="131"/>
                </a:lnTo>
                <a:lnTo>
                  <a:pt x="568" y="118"/>
                </a:lnTo>
                <a:lnTo>
                  <a:pt x="601" y="107"/>
                </a:lnTo>
                <a:lnTo>
                  <a:pt x="635" y="98"/>
                </a:lnTo>
                <a:lnTo>
                  <a:pt x="667" y="90"/>
                </a:lnTo>
                <a:lnTo>
                  <a:pt x="699" y="83"/>
                </a:lnTo>
                <a:lnTo>
                  <a:pt x="730" y="78"/>
                </a:lnTo>
                <a:lnTo>
                  <a:pt x="761" y="75"/>
                </a:lnTo>
                <a:lnTo>
                  <a:pt x="790" y="72"/>
                </a:lnTo>
                <a:lnTo>
                  <a:pt x="819" y="72"/>
                </a:lnTo>
                <a:lnTo>
                  <a:pt x="845" y="72"/>
                </a:lnTo>
                <a:lnTo>
                  <a:pt x="871" y="75"/>
                </a:lnTo>
                <a:lnTo>
                  <a:pt x="894" y="80"/>
                </a:lnTo>
                <a:lnTo>
                  <a:pt x="917" y="85"/>
                </a:lnTo>
                <a:lnTo>
                  <a:pt x="937" y="92"/>
                </a:lnTo>
                <a:lnTo>
                  <a:pt x="949" y="97"/>
                </a:lnTo>
                <a:lnTo>
                  <a:pt x="959" y="103"/>
                </a:lnTo>
                <a:lnTo>
                  <a:pt x="969" y="109"/>
                </a:lnTo>
                <a:lnTo>
                  <a:pt x="978" y="117"/>
                </a:lnTo>
                <a:lnTo>
                  <a:pt x="985" y="124"/>
                </a:lnTo>
                <a:lnTo>
                  <a:pt x="991" y="132"/>
                </a:lnTo>
                <a:lnTo>
                  <a:pt x="996" y="140"/>
                </a:lnTo>
                <a:lnTo>
                  <a:pt x="1000" y="150"/>
                </a:lnTo>
                <a:lnTo>
                  <a:pt x="1004" y="159"/>
                </a:lnTo>
                <a:lnTo>
                  <a:pt x="1005" y="169"/>
                </a:lnTo>
                <a:lnTo>
                  <a:pt x="1006" y="180"/>
                </a:lnTo>
                <a:lnTo>
                  <a:pt x="1006" y="191"/>
                </a:lnTo>
                <a:lnTo>
                  <a:pt x="1005" y="202"/>
                </a:lnTo>
                <a:lnTo>
                  <a:pt x="1002" y="214"/>
                </a:lnTo>
                <a:lnTo>
                  <a:pt x="999" y="226"/>
                </a:lnTo>
                <a:lnTo>
                  <a:pt x="995" y="238"/>
                </a:lnTo>
                <a:lnTo>
                  <a:pt x="989" y="252"/>
                </a:lnTo>
                <a:lnTo>
                  <a:pt x="982" y="265"/>
                </a:lnTo>
                <a:lnTo>
                  <a:pt x="975" y="278"/>
                </a:lnTo>
                <a:lnTo>
                  <a:pt x="968" y="292"/>
                </a:lnTo>
                <a:lnTo>
                  <a:pt x="958" y="305"/>
                </a:lnTo>
                <a:lnTo>
                  <a:pt x="948" y="319"/>
                </a:lnTo>
                <a:lnTo>
                  <a:pt x="937" y="333"/>
                </a:lnTo>
                <a:lnTo>
                  <a:pt x="925" y="348"/>
                </a:lnTo>
                <a:lnTo>
                  <a:pt x="898" y="376"/>
                </a:lnTo>
                <a:lnTo>
                  <a:pt x="867" y="405"/>
                </a:lnTo>
                <a:lnTo>
                  <a:pt x="833" y="433"/>
                </a:lnTo>
                <a:lnTo>
                  <a:pt x="796" y="462"/>
                </a:lnTo>
                <a:lnTo>
                  <a:pt x="755" y="489"/>
                </a:lnTo>
                <a:lnTo>
                  <a:pt x="711" y="516"/>
                </a:lnTo>
                <a:lnTo>
                  <a:pt x="688" y="529"/>
                </a:lnTo>
                <a:lnTo>
                  <a:pt x="663" y="541"/>
                </a:lnTo>
                <a:lnTo>
                  <a:pt x="639" y="554"/>
                </a:lnTo>
                <a:lnTo>
                  <a:pt x="614" y="566"/>
                </a:lnTo>
                <a:lnTo>
                  <a:pt x="579" y="581"/>
                </a:lnTo>
                <a:lnTo>
                  <a:pt x="544" y="595"/>
                </a:lnTo>
                <a:lnTo>
                  <a:pt x="511" y="607"/>
                </a:lnTo>
                <a:lnTo>
                  <a:pt x="477" y="618"/>
                </a:lnTo>
                <a:lnTo>
                  <a:pt x="444" y="627"/>
                </a:lnTo>
                <a:lnTo>
                  <a:pt x="410" y="635"/>
                </a:lnTo>
                <a:lnTo>
                  <a:pt x="379" y="642"/>
                </a:lnTo>
                <a:lnTo>
                  <a:pt x="347" y="647"/>
                </a:lnTo>
                <a:lnTo>
                  <a:pt x="317" y="650"/>
                </a:lnTo>
                <a:lnTo>
                  <a:pt x="287" y="653"/>
                </a:lnTo>
                <a:lnTo>
                  <a:pt x="260" y="654"/>
                </a:lnTo>
                <a:lnTo>
                  <a:pt x="232" y="653"/>
                </a:lnTo>
                <a:lnTo>
                  <a:pt x="208" y="650"/>
                </a:lnTo>
                <a:lnTo>
                  <a:pt x="184" y="647"/>
                </a:lnTo>
                <a:lnTo>
                  <a:pt x="162" y="640"/>
                </a:lnTo>
                <a:lnTo>
                  <a:pt x="141" y="633"/>
                </a:lnTo>
                <a:lnTo>
                  <a:pt x="1067" y="124"/>
                </a:lnTo>
                <a:lnTo>
                  <a:pt x="141" y="63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未知"/>
          <p:cNvSpPr/>
          <p:nvPr/>
        </p:nvSpPr>
        <p:spPr>
          <a:xfrm>
            <a:off x="7145280" y="5327640"/>
            <a:ext cx="246240" cy="160200"/>
          </a:xfrm>
          <a:custGeom>
            <a:avLst/>
            <a:gdLst/>
            <a:ahLst/>
            <a:rect l="l" t="t" r="r" b="b"/>
            <a:pathLst>
              <a:path w="618" h="404">
                <a:moveTo>
                  <a:pt x="613" y="63"/>
                </a:moveTo>
                <a:lnTo>
                  <a:pt x="609" y="56"/>
                </a:lnTo>
                <a:lnTo>
                  <a:pt x="605" y="50"/>
                </a:lnTo>
                <a:lnTo>
                  <a:pt x="600" y="43"/>
                </a:lnTo>
                <a:lnTo>
                  <a:pt x="595" y="37"/>
                </a:lnTo>
                <a:lnTo>
                  <a:pt x="589" y="31"/>
                </a:lnTo>
                <a:lnTo>
                  <a:pt x="582" y="26"/>
                </a:lnTo>
                <a:lnTo>
                  <a:pt x="574" y="21"/>
                </a:lnTo>
                <a:lnTo>
                  <a:pt x="567" y="17"/>
                </a:lnTo>
                <a:lnTo>
                  <a:pt x="549" y="10"/>
                </a:lnTo>
                <a:lnTo>
                  <a:pt x="529" y="5"/>
                </a:lnTo>
                <a:lnTo>
                  <a:pt x="507" y="1"/>
                </a:lnTo>
                <a:lnTo>
                  <a:pt x="483" y="0"/>
                </a:lnTo>
                <a:lnTo>
                  <a:pt x="459" y="0"/>
                </a:lnTo>
                <a:lnTo>
                  <a:pt x="433" y="2"/>
                </a:lnTo>
                <a:lnTo>
                  <a:pt x="404" y="6"/>
                </a:lnTo>
                <a:lnTo>
                  <a:pt x="375" y="12"/>
                </a:lnTo>
                <a:lnTo>
                  <a:pt x="346" y="20"/>
                </a:lnTo>
                <a:lnTo>
                  <a:pt x="316" y="30"/>
                </a:lnTo>
                <a:lnTo>
                  <a:pt x="285" y="41"/>
                </a:lnTo>
                <a:lnTo>
                  <a:pt x="254" y="55"/>
                </a:lnTo>
                <a:lnTo>
                  <a:pt x="223" y="69"/>
                </a:lnTo>
                <a:lnTo>
                  <a:pt x="193" y="86"/>
                </a:lnTo>
                <a:lnTo>
                  <a:pt x="166" y="103"/>
                </a:lnTo>
                <a:lnTo>
                  <a:pt x="139" y="120"/>
                </a:lnTo>
                <a:lnTo>
                  <a:pt x="115" y="139"/>
                </a:lnTo>
                <a:lnTo>
                  <a:pt x="94" y="157"/>
                </a:lnTo>
                <a:lnTo>
                  <a:pt x="72" y="176"/>
                </a:lnTo>
                <a:lnTo>
                  <a:pt x="55" y="196"/>
                </a:lnTo>
                <a:lnTo>
                  <a:pt x="39" y="215"/>
                </a:lnTo>
                <a:lnTo>
                  <a:pt x="26" y="234"/>
                </a:lnTo>
                <a:lnTo>
                  <a:pt x="15" y="253"/>
                </a:lnTo>
                <a:lnTo>
                  <a:pt x="8" y="272"/>
                </a:lnTo>
                <a:lnTo>
                  <a:pt x="4" y="282"/>
                </a:lnTo>
                <a:lnTo>
                  <a:pt x="3" y="290"/>
                </a:lnTo>
                <a:lnTo>
                  <a:pt x="0" y="299"/>
                </a:lnTo>
                <a:lnTo>
                  <a:pt x="0" y="308"/>
                </a:lnTo>
                <a:lnTo>
                  <a:pt x="0" y="316"/>
                </a:lnTo>
                <a:lnTo>
                  <a:pt x="2" y="324"/>
                </a:lnTo>
                <a:lnTo>
                  <a:pt x="3" y="332"/>
                </a:lnTo>
                <a:lnTo>
                  <a:pt x="5" y="340"/>
                </a:lnTo>
                <a:lnTo>
                  <a:pt x="9" y="347"/>
                </a:lnTo>
                <a:lnTo>
                  <a:pt x="13" y="355"/>
                </a:lnTo>
                <a:lnTo>
                  <a:pt x="18" y="361"/>
                </a:lnTo>
                <a:lnTo>
                  <a:pt x="23" y="367"/>
                </a:lnTo>
                <a:lnTo>
                  <a:pt x="29" y="372"/>
                </a:lnTo>
                <a:lnTo>
                  <a:pt x="35" y="378"/>
                </a:lnTo>
                <a:lnTo>
                  <a:pt x="43" y="382"/>
                </a:lnTo>
                <a:lnTo>
                  <a:pt x="51" y="387"/>
                </a:lnTo>
                <a:lnTo>
                  <a:pt x="60" y="391"/>
                </a:lnTo>
                <a:lnTo>
                  <a:pt x="69" y="393"/>
                </a:lnTo>
                <a:lnTo>
                  <a:pt x="79" y="397"/>
                </a:lnTo>
                <a:lnTo>
                  <a:pt x="89" y="399"/>
                </a:lnTo>
                <a:lnTo>
                  <a:pt x="110" y="402"/>
                </a:lnTo>
                <a:lnTo>
                  <a:pt x="133" y="404"/>
                </a:lnTo>
                <a:lnTo>
                  <a:pt x="159" y="403"/>
                </a:lnTo>
                <a:lnTo>
                  <a:pt x="185" y="402"/>
                </a:lnTo>
                <a:lnTo>
                  <a:pt x="213" y="397"/>
                </a:lnTo>
                <a:lnTo>
                  <a:pt x="243" y="392"/>
                </a:lnTo>
                <a:lnTo>
                  <a:pt x="272" y="383"/>
                </a:lnTo>
                <a:lnTo>
                  <a:pt x="302" y="375"/>
                </a:lnTo>
                <a:lnTo>
                  <a:pt x="333" y="362"/>
                </a:lnTo>
                <a:lnTo>
                  <a:pt x="364" y="349"/>
                </a:lnTo>
                <a:lnTo>
                  <a:pt x="395" y="335"/>
                </a:lnTo>
                <a:lnTo>
                  <a:pt x="425" y="319"/>
                </a:lnTo>
                <a:lnTo>
                  <a:pt x="452" y="301"/>
                </a:lnTo>
                <a:lnTo>
                  <a:pt x="478" y="284"/>
                </a:lnTo>
                <a:lnTo>
                  <a:pt x="502" y="265"/>
                </a:lnTo>
                <a:lnTo>
                  <a:pt x="524" y="247"/>
                </a:lnTo>
                <a:lnTo>
                  <a:pt x="544" y="228"/>
                </a:lnTo>
                <a:lnTo>
                  <a:pt x="563" y="208"/>
                </a:lnTo>
                <a:lnTo>
                  <a:pt x="578" y="189"/>
                </a:lnTo>
                <a:lnTo>
                  <a:pt x="591" y="170"/>
                </a:lnTo>
                <a:lnTo>
                  <a:pt x="601" y="150"/>
                </a:lnTo>
                <a:lnTo>
                  <a:pt x="610" y="131"/>
                </a:lnTo>
                <a:lnTo>
                  <a:pt x="613" y="123"/>
                </a:lnTo>
                <a:lnTo>
                  <a:pt x="615" y="114"/>
                </a:lnTo>
                <a:lnTo>
                  <a:pt x="616" y="105"/>
                </a:lnTo>
                <a:lnTo>
                  <a:pt x="618" y="97"/>
                </a:lnTo>
                <a:lnTo>
                  <a:pt x="618" y="88"/>
                </a:lnTo>
                <a:lnTo>
                  <a:pt x="616" y="79"/>
                </a:lnTo>
                <a:lnTo>
                  <a:pt x="615" y="72"/>
                </a:lnTo>
                <a:lnTo>
                  <a:pt x="613" y="63"/>
                </a:lnTo>
                <a:close/>
              </a:path>
            </a:pathLst>
          </a:custGeom>
          <a:solidFill>
            <a:srgbClr val="f7c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未知"/>
          <p:cNvSpPr/>
          <p:nvPr/>
        </p:nvSpPr>
        <p:spPr>
          <a:xfrm>
            <a:off x="6035760" y="5535720"/>
            <a:ext cx="1712880" cy="345960"/>
          </a:xfrm>
          <a:custGeom>
            <a:avLst/>
            <a:gdLst/>
            <a:ahLst/>
            <a:rect l="l" t="t" r="r" b="b"/>
            <a:pathLst>
              <a:path w="4314" h="871">
                <a:moveTo>
                  <a:pt x="0" y="38"/>
                </a:moveTo>
                <a:lnTo>
                  <a:pt x="42" y="37"/>
                </a:lnTo>
                <a:lnTo>
                  <a:pt x="164" y="34"/>
                </a:lnTo>
                <a:lnTo>
                  <a:pt x="353" y="31"/>
                </a:lnTo>
                <a:lnTo>
                  <a:pt x="598" y="26"/>
                </a:lnTo>
                <a:lnTo>
                  <a:pt x="893" y="21"/>
                </a:lnTo>
                <a:lnTo>
                  <a:pt x="1224" y="16"/>
                </a:lnTo>
                <a:lnTo>
                  <a:pt x="1582" y="11"/>
                </a:lnTo>
                <a:lnTo>
                  <a:pt x="1957" y="6"/>
                </a:lnTo>
                <a:lnTo>
                  <a:pt x="2338" y="2"/>
                </a:lnTo>
                <a:lnTo>
                  <a:pt x="2714" y="0"/>
                </a:lnTo>
                <a:lnTo>
                  <a:pt x="3077" y="0"/>
                </a:lnTo>
                <a:lnTo>
                  <a:pt x="3415" y="2"/>
                </a:lnTo>
                <a:lnTo>
                  <a:pt x="3571" y="3"/>
                </a:lnTo>
                <a:lnTo>
                  <a:pt x="3718" y="6"/>
                </a:lnTo>
                <a:lnTo>
                  <a:pt x="3853" y="10"/>
                </a:lnTo>
                <a:lnTo>
                  <a:pt x="3976" y="13"/>
                </a:lnTo>
                <a:lnTo>
                  <a:pt x="4084" y="18"/>
                </a:lnTo>
                <a:lnTo>
                  <a:pt x="4177" y="25"/>
                </a:lnTo>
                <a:lnTo>
                  <a:pt x="4254" y="31"/>
                </a:lnTo>
                <a:lnTo>
                  <a:pt x="4314" y="38"/>
                </a:lnTo>
                <a:lnTo>
                  <a:pt x="4296" y="68"/>
                </a:lnTo>
                <a:lnTo>
                  <a:pt x="4248" y="149"/>
                </a:lnTo>
                <a:lnTo>
                  <a:pt x="4212" y="203"/>
                </a:lnTo>
                <a:lnTo>
                  <a:pt x="4170" y="264"/>
                </a:lnTo>
                <a:lnTo>
                  <a:pt x="4146" y="296"/>
                </a:lnTo>
                <a:lnTo>
                  <a:pt x="4121" y="330"/>
                </a:lnTo>
                <a:lnTo>
                  <a:pt x="4095" y="365"/>
                </a:lnTo>
                <a:lnTo>
                  <a:pt x="4067" y="400"/>
                </a:lnTo>
                <a:lnTo>
                  <a:pt x="4038" y="435"/>
                </a:lnTo>
                <a:lnTo>
                  <a:pt x="4007" y="471"/>
                </a:lnTo>
                <a:lnTo>
                  <a:pt x="3975" y="507"/>
                </a:lnTo>
                <a:lnTo>
                  <a:pt x="3943" y="543"/>
                </a:lnTo>
                <a:lnTo>
                  <a:pt x="3908" y="578"/>
                </a:lnTo>
                <a:lnTo>
                  <a:pt x="3872" y="611"/>
                </a:lnTo>
                <a:lnTo>
                  <a:pt x="3836" y="645"/>
                </a:lnTo>
                <a:lnTo>
                  <a:pt x="3798" y="676"/>
                </a:lnTo>
                <a:lnTo>
                  <a:pt x="3760" y="707"/>
                </a:lnTo>
                <a:lnTo>
                  <a:pt x="3720" y="735"/>
                </a:lnTo>
                <a:lnTo>
                  <a:pt x="3679" y="763"/>
                </a:lnTo>
                <a:lnTo>
                  <a:pt x="3638" y="786"/>
                </a:lnTo>
                <a:lnTo>
                  <a:pt x="3596" y="809"/>
                </a:lnTo>
                <a:lnTo>
                  <a:pt x="3554" y="829"/>
                </a:lnTo>
                <a:lnTo>
                  <a:pt x="3510" y="846"/>
                </a:lnTo>
                <a:lnTo>
                  <a:pt x="3467" y="860"/>
                </a:lnTo>
                <a:lnTo>
                  <a:pt x="3442" y="860"/>
                </a:lnTo>
                <a:lnTo>
                  <a:pt x="3373" y="861"/>
                </a:lnTo>
                <a:lnTo>
                  <a:pt x="3265" y="863"/>
                </a:lnTo>
                <a:lnTo>
                  <a:pt x="3123" y="865"/>
                </a:lnTo>
                <a:lnTo>
                  <a:pt x="2954" y="867"/>
                </a:lnTo>
                <a:lnTo>
                  <a:pt x="2764" y="868"/>
                </a:lnTo>
                <a:lnTo>
                  <a:pt x="2559" y="869"/>
                </a:lnTo>
                <a:lnTo>
                  <a:pt x="2343" y="871"/>
                </a:lnTo>
                <a:lnTo>
                  <a:pt x="2125" y="869"/>
                </a:lnTo>
                <a:lnTo>
                  <a:pt x="1909" y="868"/>
                </a:lnTo>
                <a:lnTo>
                  <a:pt x="1700" y="865"/>
                </a:lnTo>
                <a:lnTo>
                  <a:pt x="1505" y="860"/>
                </a:lnTo>
                <a:lnTo>
                  <a:pt x="1416" y="856"/>
                </a:lnTo>
                <a:lnTo>
                  <a:pt x="1331" y="852"/>
                </a:lnTo>
                <a:lnTo>
                  <a:pt x="1253" y="848"/>
                </a:lnTo>
                <a:lnTo>
                  <a:pt x="1182" y="843"/>
                </a:lnTo>
                <a:lnTo>
                  <a:pt x="1119" y="837"/>
                </a:lnTo>
                <a:lnTo>
                  <a:pt x="1064" y="831"/>
                </a:lnTo>
                <a:lnTo>
                  <a:pt x="1019" y="824"/>
                </a:lnTo>
                <a:lnTo>
                  <a:pt x="985" y="816"/>
                </a:lnTo>
                <a:lnTo>
                  <a:pt x="976" y="812"/>
                </a:lnTo>
                <a:lnTo>
                  <a:pt x="951" y="802"/>
                </a:lnTo>
                <a:lnTo>
                  <a:pt x="913" y="785"/>
                </a:lnTo>
                <a:lnTo>
                  <a:pt x="862" y="762"/>
                </a:lnTo>
                <a:lnTo>
                  <a:pt x="800" y="732"/>
                </a:lnTo>
                <a:lnTo>
                  <a:pt x="730" y="696"/>
                </a:lnTo>
                <a:lnTo>
                  <a:pt x="693" y="675"/>
                </a:lnTo>
                <a:lnTo>
                  <a:pt x="654" y="654"/>
                </a:lnTo>
                <a:lnTo>
                  <a:pt x="615" y="630"/>
                </a:lnTo>
                <a:lnTo>
                  <a:pt x="574" y="605"/>
                </a:lnTo>
                <a:lnTo>
                  <a:pt x="531" y="579"/>
                </a:lnTo>
                <a:lnTo>
                  <a:pt x="490" y="552"/>
                </a:lnTo>
                <a:lnTo>
                  <a:pt x="448" y="523"/>
                </a:lnTo>
                <a:lnTo>
                  <a:pt x="406" y="494"/>
                </a:lnTo>
                <a:lnTo>
                  <a:pt x="365" y="463"/>
                </a:lnTo>
                <a:lnTo>
                  <a:pt x="324" y="429"/>
                </a:lnTo>
                <a:lnTo>
                  <a:pt x="284" y="396"/>
                </a:lnTo>
                <a:lnTo>
                  <a:pt x="245" y="361"/>
                </a:lnTo>
                <a:lnTo>
                  <a:pt x="207" y="324"/>
                </a:lnTo>
                <a:lnTo>
                  <a:pt x="171" y="286"/>
                </a:lnTo>
                <a:lnTo>
                  <a:pt x="137" y="248"/>
                </a:lnTo>
                <a:lnTo>
                  <a:pt x="104" y="208"/>
                </a:lnTo>
                <a:lnTo>
                  <a:pt x="74" y="167"/>
                </a:lnTo>
                <a:lnTo>
                  <a:pt x="46" y="125"/>
                </a:lnTo>
                <a:lnTo>
                  <a:pt x="21" y="83"/>
                </a:lnTo>
                <a:lnTo>
                  <a:pt x="0" y="38"/>
                </a:lnTo>
                <a:close/>
              </a:path>
            </a:pathLst>
          </a:custGeom>
          <a:solidFill>
            <a:srgbClr val="f2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未知"/>
          <p:cNvSpPr/>
          <p:nvPr/>
        </p:nvSpPr>
        <p:spPr>
          <a:xfrm>
            <a:off x="6014880" y="5521320"/>
            <a:ext cx="1754280" cy="374760"/>
          </a:xfrm>
          <a:custGeom>
            <a:avLst/>
            <a:gdLst/>
            <a:ahLst/>
            <a:rect l="l" t="t" r="r" b="b"/>
            <a:pathLst>
              <a:path w="4423" h="941">
                <a:moveTo>
                  <a:pt x="54" y="38"/>
                </a:moveTo>
                <a:lnTo>
                  <a:pt x="0" y="39"/>
                </a:lnTo>
                <a:lnTo>
                  <a:pt x="23" y="89"/>
                </a:lnTo>
                <a:lnTo>
                  <a:pt x="44" y="134"/>
                </a:lnTo>
                <a:lnTo>
                  <a:pt x="70" y="177"/>
                </a:lnTo>
                <a:lnTo>
                  <a:pt x="97" y="219"/>
                </a:lnTo>
                <a:lnTo>
                  <a:pt x="127" y="262"/>
                </a:lnTo>
                <a:lnTo>
                  <a:pt x="159" y="301"/>
                </a:lnTo>
                <a:lnTo>
                  <a:pt x="194" y="341"/>
                </a:lnTo>
                <a:lnTo>
                  <a:pt x="230" y="378"/>
                </a:lnTo>
                <a:lnTo>
                  <a:pt x="267" y="415"/>
                </a:lnTo>
                <a:lnTo>
                  <a:pt x="306" y="451"/>
                </a:lnTo>
                <a:lnTo>
                  <a:pt x="346" y="485"/>
                </a:lnTo>
                <a:lnTo>
                  <a:pt x="387" y="518"/>
                </a:lnTo>
                <a:lnTo>
                  <a:pt x="429" y="549"/>
                </a:lnTo>
                <a:lnTo>
                  <a:pt x="470" y="580"/>
                </a:lnTo>
                <a:lnTo>
                  <a:pt x="512" y="609"/>
                </a:lnTo>
                <a:lnTo>
                  <a:pt x="553" y="637"/>
                </a:lnTo>
                <a:lnTo>
                  <a:pt x="595" y="664"/>
                </a:lnTo>
                <a:lnTo>
                  <a:pt x="636" y="688"/>
                </a:lnTo>
                <a:lnTo>
                  <a:pt x="676" y="712"/>
                </a:lnTo>
                <a:lnTo>
                  <a:pt x="714" y="734"/>
                </a:lnTo>
                <a:lnTo>
                  <a:pt x="753" y="755"/>
                </a:lnTo>
                <a:lnTo>
                  <a:pt x="824" y="793"/>
                </a:lnTo>
                <a:lnTo>
                  <a:pt x="887" y="824"/>
                </a:lnTo>
                <a:lnTo>
                  <a:pt x="940" y="848"/>
                </a:lnTo>
                <a:lnTo>
                  <a:pt x="984" y="867"/>
                </a:lnTo>
                <a:lnTo>
                  <a:pt x="1012" y="879"/>
                </a:lnTo>
                <a:lnTo>
                  <a:pt x="1026" y="886"/>
                </a:lnTo>
                <a:lnTo>
                  <a:pt x="1062" y="893"/>
                </a:lnTo>
                <a:lnTo>
                  <a:pt x="1107" y="901"/>
                </a:lnTo>
                <a:lnTo>
                  <a:pt x="1160" y="907"/>
                </a:lnTo>
                <a:lnTo>
                  <a:pt x="1222" y="913"/>
                </a:lnTo>
                <a:lnTo>
                  <a:pt x="1292" y="918"/>
                </a:lnTo>
                <a:lnTo>
                  <a:pt x="1367" y="923"/>
                </a:lnTo>
                <a:lnTo>
                  <a:pt x="1451" y="927"/>
                </a:lnTo>
                <a:lnTo>
                  <a:pt x="1539" y="930"/>
                </a:lnTo>
                <a:lnTo>
                  <a:pt x="1729" y="935"/>
                </a:lnTo>
                <a:lnTo>
                  <a:pt x="1934" y="939"/>
                </a:lnTo>
                <a:lnTo>
                  <a:pt x="2146" y="941"/>
                </a:lnTo>
                <a:lnTo>
                  <a:pt x="2361" y="941"/>
                </a:lnTo>
                <a:lnTo>
                  <a:pt x="2573" y="941"/>
                </a:lnTo>
                <a:lnTo>
                  <a:pt x="2778" y="940"/>
                </a:lnTo>
                <a:lnTo>
                  <a:pt x="2968" y="939"/>
                </a:lnTo>
                <a:lnTo>
                  <a:pt x="3139" y="936"/>
                </a:lnTo>
                <a:lnTo>
                  <a:pt x="3286" y="935"/>
                </a:lnTo>
                <a:lnTo>
                  <a:pt x="3403" y="933"/>
                </a:lnTo>
                <a:lnTo>
                  <a:pt x="3483" y="932"/>
                </a:lnTo>
                <a:lnTo>
                  <a:pt x="3522" y="932"/>
                </a:lnTo>
                <a:lnTo>
                  <a:pt x="3568" y="917"/>
                </a:lnTo>
                <a:lnTo>
                  <a:pt x="3613" y="901"/>
                </a:lnTo>
                <a:lnTo>
                  <a:pt x="3657" y="881"/>
                </a:lnTo>
                <a:lnTo>
                  <a:pt x="3701" y="858"/>
                </a:lnTo>
                <a:lnTo>
                  <a:pt x="3743" y="834"/>
                </a:lnTo>
                <a:lnTo>
                  <a:pt x="3784" y="806"/>
                </a:lnTo>
                <a:lnTo>
                  <a:pt x="3825" y="778"/>
                </a:lnTo>
                <a:lnTo>
                  <a:pt x="3865" y="748"/>
                </a:lnTo>
                <a:lnTo>
                  <a:pt x="3903" y="716"/>
                </a:lnTo>
                <a:lnTo>
                  <a:pt x="3940" y="683"/>
                </a:lnTo>
                <a:lnTo>
                  <a:pt x="3976" y="649"/>
                </a:lnTo>
                <a:lnTo>
                  <a:pt x="4011" y="614"/>
                </a:lnTo>
                <a:lnTo>
                  <a:pt x="4045" y="579"/>
                </a:lnTo>
                <a:lnTo>
                  <a:pt x="4078" y="543"/>
                </a:lnTo>
                <a:lnTo>
                  <a:pt x="4109" y="507"/>
                </a:lnTo>
                <a:lnTo>
                  <a:pt x="4139" y="472"/>
                </a:lnTo>
                <a:lnTo>
                  <a:pt x="4168" y="436"/>
                </a:lnTo>
                <a:lnTo>
                  <a:pt x="4195" y="402"/>
                </a:lnTo>
                <a:lnTo>
                  <a:pt x="4221" y="367"/>
                </a:lnTo>
                <a:lnTo>
                  <a:pt x="4245" y="335"/>
                </a:lnTo>
                <a:lnTo>
                  <a:pt x="4288" y="271"/>
                </a:lnTo>
                <a:lnTo>
                  <a:pt x="4325" y="216"/>
                </a:lnTo>
                <a:lnTo>
                  <a:pt x="4355" y="168"/>
                </a:lnTo>
                <a:lnTo>
                  <a:pt x="4377" y="130"/>
                </a:lnTo>
                <a:lnTo>
                  <a:pt x="4392" y="104"/>
                </a:lnTo>
                <a:lnTo>
                  <a:pt x="4400" y="92"/>
                </a:lnTo>
                <a:lnTo>
                  <a:pt x="4423" y="47"/>
                </a:lnTo>
                <a:lnTo>
                  <a:pt x="4374" y="39"/>
                </a:lnTo>
                <a:lnTo>
                  <a:pt x="4315" y="32"/>
                </a:lnTo>
                <a:lnTo>
                  <a:pt x="4241" y="25"/>
                </a:lnTo>
                <a:lnTo>
                  <a:pt x="4149" y="20"/>
                </a:lnTo>
                <a:lnTo>
                  <a:pt x="4043" y="15"/>
                </a:lnTo>
                <a:lnTo>
                  <a:pt x="3924" y="10"/>
                </a:lnTo>
                <a:lnTo>
                  <a:pt x="3793" y="7"/>
                </a:lnTo>
                <a:lnTo>
                  <a:pt x="3650" y="5"/>
                </a:lnTo>
                <a:lnTo>
                  <a:pt x="3498" y="2"/>
                </a:lnTo>
                <a:lnTo>
                  <a:pt x="3169" y="0"/>
                </a:lnTo>
                <a:lnTo>
                  <a:pt x="2815" y="0"/>
                </a:lnTo>
                <a:lnTo>
                  <a:pt x="2447" y="2"/>
                </a:lnTo>
                <a:lnTo>
                  <a:pt x="2074" y="5"/>
                </a:lnTo>
                <a:lnTo>
                  <a:pt x="1704" y="10"/>
                </a:lnTo>
                <a:lnTo>
                  <a:pt x="1349" y="15"/>
                </a:lnTo>
                <a:lnTo>
                  <a:pt x="1017" y="20"/>
                </a:lnTo>
                <a:lnTo>
                  <a:pt x="719" y="25"/>
                </a:lnTo>
                <a:lnTo>
                  <a:pt x="465" y="30"/>
                </a:lnTo>
                <a:lnTo>
                  <a:pt x="262" y="34"/>
                </a:lnTo>
                <a:lnTo>
                  <a:pt x="122" y="37"/>
                </a:lnTo>
                <a:lnTo>
                  <a:pt x="54" y="38"/>
                </a:lnTo>
                <a:close/>
                <a:moveTo>
                  <a:pt x="4309" y="104"/>
                </a:moveTo>
                <a:lnTo>
                  <a:pt x="4289" y="137"/>
                </a:lnTo>
                <a:lnTo>
                  <a:pt x="4264" y="176"/>
                </a:lnTo>
                <a:lnTo>
                  <a:pt x="4235" y="222"/>
                </a:lnTo>
                <a:lnTo>
                  <a:pt x="4201" y="273"/>
                </a:lnTo>
                <a:lnTo>
                  <a:pt x="4161" y="326"/>
                </a:lnTo>
                <a:lnTo>
                  <a:pt x="4118" y="383"/>
                </a:lnTo>
                <a:lnTo>
                  <a:pt x="4096" y="412"/>
                </a:lnTo>
                <a:lnTo>
                  <a:pt x="4072" y="441"/>
                </a:lnTo>
                <a:lnTo>
                  <a:pt x="4047" y="471"/>
                </a:lnTo>
                <a:lnTo>
                  <a:pt x="4021" y="500"/>
                </a:lnTo>
                <a:lnTo>
                  <a:pt x="3994" y="530"/>
                </a:lnTo>
                <a:lnTo>
                  <a:pt x="3966" y="558"/>
                </a:lnTo>
                <a:lnTo>
                  <a:pt x="3938" y="588"/>
                </a:lnTo>
                <a:lnTo>
                  <a:pt x="3909" y="615"/>
                </a:lnTo>
                <a:lnTo>
                  <a:pt x="3880" y="642"/>
                </a:lnTo>
                <a:lnTo>
                  <a:pt x="3849" y="670"/>
                </a:lnTo>
                <a:lnTo>
                  <a:pt x="3817" y="696"/>
                </a:lnTo>
                <a:lnTo>
                  <a:pt x="3786" y="719"/>
                </a:lnTo>
                <a:lnTo>
                  <a:pt x="3754" y="743"/>
                </a:lnTo>
                <a:lnTo>
                  <a:pt x="3721" y="765"/>
                </a:lnTo>
                <a:lnTo>
                  <a:pt x="3687" y="785"/>
                </a:lnTo>
                <a:lnTo>
                  <a:pt x="3654" y="805"/>
                </a:lnTo>
                <a:lnTo>
                  <a:pt x="3619" y="821"/>
                </a:lnTo>
                <a:lnTo>
                  <a:pt x="3583" y="837"/>
                </a:lnTo>
                <a:lnTo>
                  <a:pt x="3548" y="850"/>
                </a:lnTo>
                <a:lnTo>
                  <a:pt x="3512" y="861"/>
                </a:lnTo>
                <a:lnTo>
                  <a:pt x="3486" y="861"/>
                </a:lnTo>
                <a:lnTo>
                  <a:pt x="3415" y="862"/>
                </a:lnTo>
                <a:lnTo>
                  <a:pt x="3306" y="865"/>
                </a:lnTo>
                <a:lnTo>
                  <a:pt x="3164" y="866"/>
                </a:lnTo>
                <a:lnTo>
                  <a:pt x="2997" y="867"/>
                </a:lnTo>
                <a:lnTo>
                  <a:pt x="2808" y="869"/>
                </a:lnTo>
                <a:lnTo>
                  <a:pt x="2604" y="871"/>
                </a:lnTo>
                <a:lnTo>
                  <a:pt x="2391" y="871"/>
                </a:lnTo>
                <a:lnTo>
                  <a:pt x="2173" y="869"/>
                </a:lnTo>
                <a:lnTo>
                  <a:pt x="1960" y="868"/>
                </a:lnTo>
                <a:lnTo>
                  <a:pt x="1754" y="865"/>
                </a:lnTo>
                <a:lnTo>
                  <a:pt x="1561" y="860"/>
                </a:lnTo>
                <a:lnTo>
                  <a:pt x="1472" y="857"/>
                </a:lnTo>
                <a:lnTo>
                  <a:pt x="1389" y="853"/>
                </a:lnTo>
                <a:lnTo>
                  <a:pt x="1312" y="848"/>
                </a:lnTo>
                <a:lnTo>
                  <a:pt x="1242" y="843"/>
                </a:lnTo>
                <a:lnTo>
                  <a:pt x="1180" y="838"/>
                </a:lnTo>
                <a:lnTo>
                  <a:pt x="1127" y="832"/>
                </a:lnTo>
                <a:lnTo>
                  <a:pt x="1083" y="825"/>
                </a:lnTo>
                <a:lnTo>
                  <a:pt x="1050" y="817"/>
                </a:lnTo>
                <a:lnTo>
                  <a:pt x="1041" y="815"/>
                </a:lnTo>
                <a:lnTo>
                  <a:pt x="1017" y="805"/>
                </a:lnTo>
                <a:lnTo>
                  <a:pt x="983" y="789"/>
                </a:lnTo>
                <a:lnTo>
                  <a:pt x="935" y="767"/>
                </a:lnTo>
                <a:lnTo>
                  <a:pt x="879" y="739"/>
                </a:lnTo>
                <a:lnTo>
                  <a:pt x="815" y="706"/>
                </a:lnTo>
                <a:lnTo>
                  <a:pt x="745" y="667"/>
                </a:lnTo>
                <a:lnTo>
                  <a:pt x="671" y="623"/>
                </a:lnTo>
                <a:lnTo>
                  <a:pt x="632" y="599"/>
                </a:lnTo>
                <a:lnTo>
                  <a:pt x="594" y="574"/>
                </a:lnTo>
                <a:lnTo>
                  <a:pt x="554" y="548"/>
                </a:lnTo>
                <a:lnTo>
                  <a:pt x="516" y="521"/>
                </a:lnTo>
                <a:lnTo>
                  <a:pt x="477" y="492"/>
                </a:lnTo>
                <a:lnTo>
                  <a:pt x="437" y="463"/>
                </a:lnTo>
                <a:lnTo>
                  <a:pt x="400" y="432"/>
                </a:lnTo>
                <a:lnTo>
                  <a:pt x="363" y="399"/>
                </a:lnTo>
                <a:lnTo>
                  <a:pt x="327" y="367"/>
                </a:lnTo>
                <a:lnTo>
                  <a:pt x="291" y="332"/>
                </a:lnTo>
                <a:lnTo>
                  <a:pt x="257" y="298"/>
                </a:lnTo>
                <a:lnTo>
                  <a:pt x="225" y="262"/>
                </a:lnTo>
                <a:lnTo>
                  <a:pt x="195" y="224"/>
                </a:lnTo>
                <a:lnTo>
                  <a:pt x="167" y="187"/>
                </a:lnTo>
                <a:lnTo>
                  <a:pt x="141" y="149"/>
                </a:lnTo>
                <a:lnTo>
                  <a:pt x="117" y="109"/>
                </a:lnTo>
                <a:lnTo>
                  <a:pt x="235" y="106"/>
                </a:lnTo>
                <a:lnTo>
                  <a:pt x="406" y="103"/>
                </a:lnTo>
                <a:lnTo>
                  <a:pt x="626" y="99"/>
                </a:lnTo>
                <a:lnTo>
                  <a:pt x="884" y="94"/>
                </a:lnTo>
                <a:lnTo>
                  <a:pt x="1175" y="89"/>
                </a:lnTo>
                <a:lnTo>
                  <a:pt x="1489" y="84"/>
                </a:lnTo>
                <a:lnTo>
                  <a:pt x="1821" y="80"/>
                </a:lnTo>
                <a:lnTo>
                  <a:pt x="2162" y="77"/>
                </a:lnTo>
                <a:lnTo>
                  <a:pt x="2504" y="74"/>
                </a:lnTo>
                <a:lnTo>
                  <a:pt x="2840" y="72"/>
                </a:lnTo>
                <a:lnTo>
                  <a:pt x="3163" y="73"/>
                </a:lnTo>
                <a:lnTo>
                  <a:pt x="3465" y="74"/>
                </a:lnTo>
                <a:lnTo>
                  <a:pt x="3605" y="75"/>
                </a:lnTo>
                <a:lnTo>
                  <a:pt x="3738" y="78"/>
                </a:lnTo>
                <a:lnTo>
                  <a:pt x="3861" y="80"/>
                </a:lnTo>
                <a:lnTo>
                  <a:pt x="3975" y="84"/>
                </a:lnTo>
                <a:lnTo>
                  <a:pt x="4077" y="88"/>
                </a:lnTo>
                <a:lnTo>
                  <a:pt x="4168" y="93"/>
                </a:lnTo>
                <a:lnTo>
                  <a:pt x="4246" y="98"/>
                </a:lnTo>
                <a:lnTo>
                  <a:pt x="4309" y="10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26360" y="5859360"/>
            <a:ext cx="985680" cy="120600"/>
          </a:xfrm>
          <a:prstGeom prst="rect">
            <a:avLst/>
          </a:prstGeom>
          <a:solidFill>
            <a:srgbClr val="f2f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未知"/>
          <p:cNvSpPr/>
          <p:nvPr/>
        </p:nvSpPr>
        <p:spPr>
          <a:xfrm>
            <a:off x="6411960" y="5845320"/>
            <a:ext cx="1014480" cy="149040"/>
          </a:xfrm>
          <a:custGeom>
            <a:avLst/>
            <a:gdLst/>
            <a:ahLst/>
            <a:rect l="l" t="t" r="r" b="b"/>
            <a:pathLst>
              <a:path w="2553" h="375">
                <a:moveTo>
                  <a:pt x="2518" y="0"/>
                </a:moveTo>
                <a:lnTo>
                  <a:pt x="0" y="0"/>
                </a:lnTo>
                <a:lnTo>
                  <a:pt x="0" y="375"/>
                </a:lnTo>
                <a:lnTo>
                  <a:pt x="2553" y="375"/>
                </a:lnTo>
                <a:lnTo>
                  <a:pt x="2553" y="0"/>
                </a:lnTo>
                <a:lnTo>
                  <a:pt x="2518" y="0"/>
                </a:lnTo>
                <a:close/>
                <a:moveTo>
                  <a:pt x="2482" y="72"/>
                </a:moveTo>
                <a:lnTo>
                  <a:pt x="2482" y="93"/>
                </a:lnTo>
                <a:lnTo>
                  <a:pt x="2482" y="122"/>
                </a:lnTo>
                <a:lnTo>
                  <a:pt x="2482" y="154"/>
                </a:lnTo>
                <a:lnTo>
                  <a:pt x="2482" y="187"/>
                </a:lnTo>
                <a:lnTo>
                  <a:pt x="2482" y="221"/>
                </a:lnTo>
                <a:lnTo>
                  <a:pt x="2482" y="253"/>
                </a:lnTo>
                <a:lnTo>
                  <a:pt x="2482" y="282"/>
                </a:lnTo>
                <a:lnTo>
                  <a:pt x="2482" y="303"/>
                </a:lnTo>
                <a:lnTo>
                  <a:pt x="2445" y="303"/>
                </a:lnTo>
                <a:lnTo>
                  <a:pt x="2361" y="303"/>
                </a:lnTo>
                <a:lnTo>
                  <a:pt x="2240" y="303"/>
                </a:lnTo>
                <a:lnTo>
                  <a:pt x="2086" y="303"/>
                </a:lnTo>
                <a:lnTo>
                  <a:pt x="1906" y="303"/>
                </a:lnTo>
                <a:lnTo>
                  <a:pt x="1707" y="303"/>
                </a:lnTo>
                <a:lnTo>
                  <a:pt x="1495" y="303"/>
                </a:lnTo>
                <a:lnTo>
                  <a:pt x="1276" y="303"/>
                </a:lnTo>
                <a:lnTo>
                  <a:pt x="1058" y="303"/>
                </a:lnTo>
                <a:lnTo>
                  <a:pt x="847" y="303"/>
                </a:lnTo>
                <a:lnTo>
                  <a:pt x="647" y="303"/>
                </a:lnTo>
                <a:lnTo>
                  <a:pt x="468" y="303"/>
                </a:lnTo>
                <a:lnTo>
                  <a:pt x="314" y="303"/>
                </a:lnTo>
                <a:lnTo>
                  <a:pt x="192" y="303"/>
                </a:lnTo>
                <a:lnTo>
                  <a:pt x="109" y="303"/>
                </a:lnTo>
                <a:lnTo>
                  <a:pt x="72" y="303"/>
                </a:lnTo>
                <a:lnTo>
                  <a:pt x="72" y="282"/>
                </a:lnTo>
                <a:lnTo>
                  <a:pt x="72" y="253"/>
                </a:lnTo>
                <a:lnTo>
                  <a:pt x="72" y="221"/>
                </a:lnTo>
                <a:lnTo>
                  <a:pt x="72" y="187"/>
                </a:lnTo>
                <a:lnTo>
                  <a:pt x="72" y="154"/>
                </a:lnTo>
                <a:lnTo>
                  <a:pt x="72" y="122"/>
                </a:lnTo>
                <a:lnTo>
                  <a:pt x="72" y="93"/>
                </a:lnTo>
                <a:lnTo>
                  <a:pt x="72" y="72"/>
                </a:lnTo>
                <a:lnTo>
                  <a:pt x="109" y="72"/>
                </a:lnTo>
                <a:lnTo>
                  <a:pt x="192" y="72"/>
                </a:lnTo>
                <a:lnTo>
                  <a:pt x="314" y="72"/>
                </a:lnTo>
                <a:lnTo>
                  <a:pt x="468" y="72"/>
                </a:lnTo>
                <a:lnTo>
                  <a:pt x="647" y="72"/>
                </a:lnTo>
                <a:lnTo>
                  <a:pt x="847" y="72"/>
                </a:lnTo>
                <a:lnTo>
                  <a:pt x="1058" y="72"/>
                </a:lnTo>
                <a:lnTo>
                  <a:pt x="1276" y="72"/>
                </a:lnTo>
                <a:lnTo>
                  <a:pt x="1495" y="72"/>
                </a:lnTo>
                <a:lnTo>
                  <a:pt x="1707" y="72"/>
                </a:lnTo>
                <a:lnTo>
                  <a:pt x="1906" y="72"/>
                </a:lnTo>
                <a:lnTo>
                  <a:pt x="2086" y="72"/>
                </a:lnTo>
                <a:lnTo>
                  <a:pt x="2240" y="72"/>
                </a:lnTo>
                <a:lnTo>
                  <a:pt x="2361" y="72"/>
                </a:lnTo>
                <a:lnTo>
                  <a:pt x="2445" y="72"/>
                </a:lnTo>
                <a:lnTo>
                  <a:pt x="2482" y="7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未知"/>
          <p:cNvSpPr/>
          <p:nvPr/>
        </p:nvSpPr>
        <p:spPr>
          <a:xfrm>
            <a:off x="6059520" y="5557680"/>
            <a:ext cx="1663560" cy="281160"/>
          </a:xfrm>
          <a:custGeom>
            <a:avLst/>
            <a:gdLst/>
            <a:ahLst/>
            <a:rect l="l" t="t" r="r" b="b"/>
            <a:pathLst>
              <a:path w="4192" h="705">
                <a:moveTo>
                  <a:pt x="0" y="0"/>
                </a:moveTo>
                <a:lnTo>
                  <a:pt x="1400" y="40"/>
                </a:lnTo>
                <a:lnTo>
                  <a:pt x="1435" y="61"/>
                </a:lnTo>
                <a:lnTo>
                  <a:pt x="1525" y="116"/>
                </a:lnTo>
                <a:lnTo>
                  <a:pt x="1586" y="155"/>
                </a:lnTo>
                <a:lnTo>
                  <a:pt x="1654" y="198"/>
                </a:lnTo>
                <a:lnTo>
                  <a:pt x="1726" y="245"/>
                </a:lnTo>
                <a:lnTo>
                  <a:pt x="1801" y="296"/>
                </a:lnTo>
                <a:lnTo>
                  <a:pt x="1875" y="348"/>
                </a:lnTo>
                <a:lnTo>
                  <a:pt x="1946" y="401"/>
                </a:lnTo>
                <a:lnTo>
                  <a:pt x="1981" y="427"/>
                </a:lnTo>
                <a:lnTo>
                  <a:pt x="2013" y="453"/>
                </a:lnTo>
                <a:lnTo>
                  <a:pt x="2044" y="477"/>
                </a:lnTo>
                <a:lnTo>
                  <a:pt x="2073" y="501"/>
                </a:lnTo>
                <a:lnTo>
                  <a:pt x="2099" y="526"/>
                </a:lnTo>
                <a:lnTo>
                  <a:pt x="2121" y="548"/>
                </a:lnTo>
                <a:lnTo>
                  <a:pt x="2142" y="569"/>
                </a:lnTo>
                <a:lnTo>
                  <a:pt x="2158" y="590"/>
                </a:lnTo>
                <a:lnTo>
                  <a:pt x="2172" y="609"/>
                </a:lnTo>
                <a:lnTo>
                  <a:pt x="2182" y="626"/>
                </a:lnTo>
                <a:lnTo>
                  <a:pt x="2187" y="642"/>
                </a:lnTo>
                <a:lnTo>
                  <a:pt x="2187" y="656"/>
                </a:lnTo>
                <a:lnTo>
                  <a:pt x="2186" y="705"/>
                </a:lnTo>
                <a:lnTo>
                  <a:pt x="3424" y="705"/>
                </a:lnTo>
                <a:lnTo>
                  <a:pt x="3447" y="693"/>
                </a:lnTo>
                <a:lnTo>
                  <a:pt x="3513" y="660"/>
                </a:lnTo>
                <a:lnTo>
                  <a:pt x="3558" y="635"/>
                </a:lnTo>
                <a:lnTo>
                  <a:pt x="3610" y="605"/>
                </a:lnTo>
                <a:lnTo>
                  <a:pt x="3666" y="571"/>
                </a:lnTo>
                <a:lnTo>
                  <a:pt x="3727" y="530"/>
                </a:lnTo>
                <a:lnTo>
                  <a:pt x="3758" y="507"/>
                </a:lnTo>
                <a:lnTo>
                  <a:pt x="3790" y="484"/>
                </a:lnTo>
                <a:lnTo>
                  <a:pt x="3822" y="459"/>
                </a:lnTo>
                <a:lnTo>
                  <a:pt x="3855" y="432"/>
                </a:lnTo>
                <a:lnTo>
                  <a:pt x="3886" y="404"/>
                </a:lnTo>
                <a:lnTo>
                  <a:pt x="3918" y="376"/>
                </a:lnTo>
                <a:lnTo>
                  <a:pt x="3950" y="345"/>
                </a:lnTo>
                <a:lnTo>
                  <a:pt x="3981" y="314"/>
                </a:lnTo>
                <a:lnTo>
                  <a:pt x="4011" y="280"/>
                </a:lnTo>
                <a:lnTo>
                  <a:pt x="4041" y="245"/>
                </a:lnTo>
                <a:lnTo>
                  <a:pt x="4070" y="209"/>
                </a:lnTo>
                <a:lnTo>
                  <a:pt x="4098" y="174"/>
                </a:lnTo>
                <a:lnTo>
                  <a:pt x="4124" y="135"/>
                </a:lnTo>
                <a:lnTo>
                  <a:pt x="4149" y="95"/>
                </a:lnTo>
                <a:lnTo>
                  <a:pt x="4171" y="54"/>
                </a:lnTo>
                <a:lnTo>
                  <a:pt x="419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0e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未知"/>
          <p:cNvSpPr/>
          <p:nvPr/>
        </p:nvSpPr>
        <p:spPr>
          <a:xfrm>
            <a:off x="6453360" y="5865840"/>
            <a:ext cx="954000" cy="108000"/>
          </a:xfrm>
          <a:custGeom>
            <a:avLst/>
            <a:gdLst/>
            <a:ahLst/>
            <a:rect l="l" t="t" r="r" b="b"/>
            <a:pathLst>
              <a:path w="2406" h="273">
                <a:moveTo>
                  <a:pt x="1190" y="37"/>
                </a:moveTo>
                <a:lnTo>
                  <a:pt x="1180" y="40"/>
                </a:lnTo>
                <a:lnTo>
                  <a:pt x="1153" y="47"/>
                </a:lnTo>
                <a:lnTo>
                  <a:pt x="1109" y="60"/>
                </a:lnTo>
                <a:lnTo>
                  <a:pt x="1052" y="74"/>
                </a:lnTo>
                <a:lnTo>
                  <a:pt x="984" y="92"/>
                </a:lnTo>
                <a:lnTo>
                  <a:pt x="907" y="112"/>
                </a:lnTo>
                <a:lnTo>
                  <a:pt x="824" y="132"/>
                </a:lnTo>
                <a:lnTo>
                  <a:pt x="734" y="153"/>
                </a:lnTo>
                <a:lnTo>
                  <a:pt x="644" y="174"/>
                </a:lnTo>
                <a:lnTo>
                  <a:pt x="553" y="192"/>
                </a:lnTo>
                <a:lnTo>
                  <a:pt x="464" y="210"/>
                </a:lnTo>
                <a:lnTo>
                  <a:pt x="379" y="223"/>
                </a:lnTo>
                <a:lnTo>
                  <a:pt x="339" y="230"/>
                </a:lnTo>
                <a:lnTo>
                  <a:pt x="301" y="234"/>
                </a:lnTo>
                <a:lnTo>
                  <a:pt x="265" y="238"/>
                </a:lnTo>
                <a:lnTo>
                  <a:pt x="231" y="241"/>
                </a:lnTo>
                <a:lnTo>
                  <a:pt x="202" y="242"/>
                </a:lnTo>
                <a:lnTo>
                  <a:pt x="173" y="242"/>
                </a:lnTo>
                <a:lnTo>
                  <a:pt x="149" y="241"/>
                </a:lnTo>
                <a:lnTo>
                  <a:pt x="128" y="237"/>
                </a:lnTo>
                <a:lnTo>
                  <a:pt x="0" y="263"/>
                </a:lnTo>
                <a:lnTo>
                  <a:pt x="2397" y="273"/>
                </a:lnTo>
                <a:lnTo>
                  <a:pt x="2406" y="0"/>
                </a:lnTo>
                <a:lnTo>
                  <a:pt x="1190" y="37"/>
                </a:lnTo>
                <a:close/>
              </a:path>
            </a:pathLst>
          </a:custGeom>
          <a:solidFill>
            <a:srgbClr val="f0e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未知"/>
          <p:cNvSpPr/>
          <p:nvPr/>
        </p:nvSpPr>
        <p:spPr>
          <a:xfrm>
            <a:off x="330120" y="4853160"/>
            <a:ext cx="671760" cy="799920"/>
          </a:xfrm>
          <a:custGeom>
            <a:avLst/>
            <a:gdLst/>
            <a:ahLst/>
            <a:rect l="l" t="t" r="r" b="b"/>
            <a:pathLst>
              <a:path w="1692" h="2017">
                <a:moveTo>
                  <a:pt x="1423" y="455"/>
                </a:moveTo>
                <a:lnTo>
                  <a:pt x="1420" y="449"/>
                </a:lnTo>
                <a:lnTo>
                  <a:pt x="1415" y="443"/>
                </a:lnTo>
                <a:lnTo>
                  <a:pt x="1409" y="436"/>
                </a:lnTo>
                <a:lnTo>
                  <a:pt x="1402" y="431"/>
                </a:lnTo>
                <a:lnTo>
                  <a:pt x="1393" y="426"/>
                </a:lnTo>
                <a:lnTo>
                  <a:pt x="1384" y="421"/>
                </a:lnTo>
                <a:lnTo>
                  <a:pt x="1373" y="418"/>
                </a:lnTo>
                <a:lnTo>
                  <a:pt x="1362" y="414"/>
                </a:lnTo>
                <a:lnTo>
                  <a:pt x="1338" y="408"/>
                </a:lnTo>
                <a:lnTo>
                  <a:pt x="1312" y="404"/>
                </a:lnTo>
                <a:lnTo>
                  <a:pt x="1284" y="400"/>
                </a:lnTo>
                <a:lnTo>
                  <a:pt x="1256" y="398"/>
                </a:lnTo>
                <a:lnTo>
                  <a:pt x="1201" y="397"/>
                </a:lnTo>
                <a:lnTo>
                  <a:pt x="1155" y="397"/>
                </a:lnTo>
                <a:lnTo>
                  <a:pt x="1121" y="398"/>
                </a:lnTo>
                <a:lnTo>
                  <a:pt x="1109" y="398"/>
                </a:lnTo>
                <a:lnTo>
                  <a:pt x="1095" y="398"/>
                </a:lnTo>
                <a:lnTo>
                  <a:pt x="1081" y="397"/>
                </a:lnTo>
                <a:lnTo>
                  <a:pt x="1070" y="394"/>
                </a:lnTo>
                <a:lnTo>
                  <a:pt x="1059" y="392"/>
                </a:lnTo>
                <a:lnTo>
                  <a:pt x="1049" y="388"/>
                </a:lnTo>
                <a:lnTo>
                  <a:pt x="1040" y="383"/>
                </a:lnTo>
                <a:lnTo>
                  <a:pt x="1033" y="378"/>
                </a:lnTo>
                <a:lnTo>
                  <a:pt x="1025" y="373"/>
                </a:lnTo>
                <a:lnTo>
                  <a:pt x="1020" y="367"/>
                </a:lnTo>
                <a:lnTo>
                  <a:pt x="1014" y="361"/>
                </a:lnTo>
                <a:lnTo>
                  <a:pt x="1011" y="353"/>
                </a:lnTo>
                <a:lnTo>
                  <a:pt x="1007" y="346"/>
                </a:lnTo>
                <a:lnTo>
                  <a:pt x="1001" y="331"/>
                </a:lnTo>
                <a:lnTo>
                  <a:pt x="998" y="316"/>
                </a:lnTo>
                <a:lnTo>
                  <a:pt x="997" y="300"/>
                </a:lnTo>
                <a:lnTo>
                  <a:pt x="997" y="285"/>
                </a:lnTo>
                <a:lnTo>
                  <a:pt x="998" y="270"/>
                </a:lnTo>
                <a:lnTo>
                  <a:pt x="999" y="258"/>
                </a:lnTo>
                <a:lnTo>
                  <a:pt x="1004" y="238"/>
                </a:lnTo>
                <a:lnTo>
                  <a:pt x="1006" y="232"/>
                </a:lnTo>
                <a:lnTo>
                  <a:pt x="1038" y="1"/>
                </a:lnTo>
                <a:lnTo>
                  <a:pt x="982" y="0"/>
                </a:lnTo>
                <a:lnTo>
                  <a:pt x="921" y="1"/>
                </a:lnTo>
                <a:lnTo>
                  <a:pt x="859" y="3"/>
                </a:lnTo>
                <a:lnTo>
                  <a:pt x="794" y="7"/>
                </a:lnTo>
                <a:lnTo>
                  <a:pt x="730" y="13"/>
                </a:lnTo>
                <a:lnTo>
                  <a:pt x="667" y="21"/>
                </a:lnTo>
                <a:lnTo>
                  <a:pt x="604" y="28"/>
                </a:lnTo>
                <a:lnTo>
                  <a:pt x="544" y="36"/>
                </a:lnTo>
                <a:lnTo>
                  <a:pt x="434" y="53"/>
                </a:lnTo>
                <a:lnTo>
                  <a:pt x="347" y="67"/>
                </a:lnTo>
                <a:lnTo>
                  <a:pt x="289" y="78"/>
                </a:lnTo>
                <a:lnTo>
                  <a:pt x="268" y="82"/>
                </a:lnTo>
                <a:lnTo>
                  <a:pt x="239" y="103"/>
                </a:lnTo>
                <a:lnTo>
                  <a:pt x="215" y="124"/>
                </a:lnTo>
                <a:lnTo>
                  <a:pt x="193" y="146"/>
                </a:lnTo>
                <a:lnTo>
                  <a:pt x="175" y="167"/>
                </a:lnTo>
                <a:lnTo>
                  <a:pt x="159" y="189"/>
                </a:lnTo>
                <a:lnTo>
                  <a:pt x="145" y="212"/>
                </a:lnTo>
                <a:lnTo>
                  <a:pt x="135" y="234"/>
                </a:lnTo>
                <a:lnTo>
                  <a:pt x="126" y="256"/>
                </a:lnTo>
                <a:lnTo>
                  <a:pt x="121" y="278"/>
                </a:lnTo>
                <a:lnTo>
                  <a:pt x="116" y="300"/>
                </a:lnTo>
                <a:lnTo>
                  <a:pt x="115" y="321"/>
                </a:lnTo>
                <a:lnTo>
                  <a:pt x="115" y="342"/>
                </a:lnTo>
                <a:lnTo>
                  <a:pt x="116" y="363"/>
                </a:lnTo>
                <a:lnTo>
                  <a:pt x="119" y="384"/>
                </a:lnTo>
                <a:lnTo>
                  <a:pt x="123" y="404"/>
                </a:lnTo>
                <a:lnTo>
                  <a:pt x="129" y="423"/>
                </a:lnTo>
                <a:lnTo>
                  <a:pt x="134" y="443"/>
                </a:lnTo>
                <a:lnTo>
                  <a:pt x="141" y="460"/>
                </a:lnTo>
                <a:lnTo>
                  <a:pt x="149" y="477"/>
                </a:lnTo>
                <a:lnTo>
                  <a:pt x="156" y="493"/>
                </a:lnTo>
                <a:lnTo>
                  <a:pt x="174" y="523"/>
                </a:lnTo>
                <a:lnTo>
                  <a:pt x="190" y="549"/>
                </a:lnTo>
                <a:lnTo>
                  <a:pt x="217" y="585"/>
                </a:lnTo>
                <a:lnTo>
                  <a:pt x="229" y="599"/>
                </a:lnTo>
                <a:lnTo>
                  <a:pt x="227" y="601"/>
                </a:lnTo>
                <a:lnTo>
                  <a:pt x="226" y="603"/>
                </a:lnTo>
                <a:lnTo>
                  <a:pt x="215" y="601"/>
                </a:lnTo>
                <a:lnTo>
                  <a:pt x="184" y="646"/>
                </a:lnTo>
                <a:lnTo>
                  <a:pt x="155" y="691"/>
                </a:lnTo>
                <a:lnTo>
                  <a:pt x="130" y="738"/>
                </a:lnTo>
                <a:lnTo>
                  <a:pt x="107" y="786"/>
                </a:lnTo>
                <a:lnTo>
                  <a:pt x="87" y="835"/>
                </a:lnTo>
                <a:lnTo>
                  <a:pt x="69" y="884"/>
                </a:lnTo>
                <a:lnTo>
                  <a:pt x="54" y="935"/>
                </a:lnTo>
                <a:lnTo>
                  <a:pt x="41" y="986"/>
                </a:lnTo>
                <a:lnTo>
                  <a:pt x="30" y="1036"/>
                </a:lnTo>
                <a:lnTo>
                  <a:pt x="21" y="1087"/>
                </a:lnTo>
                <a:lnTo>
                  <a:pt x="13" y="1137"/>
                </a:lnTo>
                <a:lnTo>
                  <a:pt x="7" y="1187"/>
                </a:lnTo>
                <a:lnTo>
                  <a:pt x="3" y="1237"/>
                </a:lnTo>
                <a:lnTo>
                  <a:pt x="1" y="1285"/>
                </a:lnTo>
                <a:lnTo>
                  <a:pt x="0" y="1333"/>
                </a:lnTo>
                <a:lnTo>
                  <a:pt x="0" y="1379"/>
                </a:lnTo>
                <a:lnTo>
                  <a:pt x="0" y="1425"/>
                </a:lnTo>
                <a:lnTo>
                  <a:pt x="2" y="1469"/>
                </a:lnTo>
                <a:lnTo>
                  <a:pt x="5" y="1511"/>
                </a:lnTo>
                <a:lnTo>
                  <a:pt x="7" y="1551"/>
                </a:lnTo>
                <a:lnTo>
                  <a:pt x="15" y="1624"/>
                </a:lnTo>
                <a:lnTo>
                  <a:pt x="23" y="1687"/>
                </a:lnTo>
                <a:lnTo>
                  <a:pt x="32" y="1739"/>
                </a:lnTo>
                <a:lnTo>
                  <a:pt x="39" y="1779"/>
                </a:lnTo>
                <a:lnTo>
                  <a:pt x="44" y="1804"/>
                </a:lnTo>
                <a:lnTo>
                  <a:pt x="47" y="1812"/>
                </a:lnTo>
                <a:lnTo>
                  <a:pt x="52" y="1828"/>
                </a:lnTo>
                <a:lnTo>
                  <a:pt x="59" y="1842"/>
                </a:lnTo>
                <a:lnTo>
                  <a:pt x="66" y="1856"/>
                </a:lnTo>
                <a:lnTo>
                  <a:pt x="73" y="1868"/>
                </a:lnTo>
                <a:lnTo>
                  <a:pt x="82" y="1878"/>
                </a:lnTo>
                <a:lnTo>
                  <a:pt x="90" y="1887"/>
                </a:lnTo>
                <a:lnTo>
                  <a:pt x="99" y="1895"/>
                </a:lnTo>
                <a:lnTo>
                  <a:pt x="109" y="1902"/>
                </a:lnTo>
                <a:lnTo>
                  <a:pt x="119" y="1908"/>
                </a:lnTo>
                <a:lnTo>
                  <a:pt x="129" y="1912"/>
                </a:lnTo>
                <a:lnTo>
                  <a:pt x="139" y="1915"/>
                </a:lnTo>
                <a:lnTo>
                  <a:pt x="149" y="1918"/>
                </a:lnTo>
                <a:lnTo>
                  <a:pt x="159" y="1920"/>
                </a:lnTo>
                <a:lnTo>
                  <a:pt x="170" y="1921"/>
                </a:lnTo>
                <a:lnTo>
                  <a:pt x="180" y="1921"/>
                </a:lnTo>
                <a:lnTo>
                  <a:pt x="190" y="1921"/>
                </a:lnTo>
                <a:lnTo>
                  <a:pt x="210" y="1920"/>
                </a:lnTo>
                <a:lnTo>
                  <a:pt x="229" y="1918"/>
                </a:lnTo>
                <a:lnTo>
                  <a:pt x="247" y="1913"/>
                </a:lnTo>
                <a:lnTo>
                  <a:pt x="262" y="1908"/>
                </a:lnTo>
                <a:lnTo>
                  <a:pt x="284" y="1899"/>
                </a:lnTo>
                <a:lnTo>
                  <a:pt x="292" y="1895"/>
                </a:lnTo>
                <a:lnTo>
                  <a:pt x="311" y="1914"/>
                </a:lnTo>
                <a:lnTo>
                  <a:pt x="331" y="1931"/>
                </a:lnTo>
                <a:lnTo>
                  <a:pt x="350" y="1946"/>
                </a:lnTo>
                <a:lnTo>
                  <a:pt x="369" y="1960"/>
                </a:lnTo>
                <a:lnTo>
                  <a:pt x="386" y="1971"/>
                </a:lnTo>
                <a:lnTo>
                  <a:pt x="402" y="1981"/>
                </a:lnTo>
                <a:lnTo>
                  <a:pt x="418" y="1990"/>
                </a:lnTo>
                <a:lnTo>
                  <a:pt x="433" y="1997"/>
                </a:lnTo>
                <a:lnTo>
                  <a:pt x="448" y="2003"/>
                </a:lnTo>
                <a:lnTo>
                  <a:pt x="463" y="2008"/>
                </a:lnTo>
                <a:lnTo>
                  <a:pt x="477" y="2012"/>
                </a:lnTo>
                <a:lnTo>
                  <a:pt x="489" y="2015"/>
                </a:lnTo>
                <a:lnTo>
                  <a:pt x="501" y="2016"/>
                </a:lnTo>
                <a:lnTo>
                  <a:pt x="513" y="2017"/>
                </a:lnTo>
                <a:lnTo>
                  <a:pt x="524" y="2017"/>
                </a:lnTo>
                <a:lnTo>
                  <a:pt x="534" y="2017"/>
                </a:lnTo>
                <a:lnTo>
                  <a:pt x="554" y="2013"/>
                </a:lnTo>
                <a:lnTo>
                  <a:pt x="570" y="2008"/>
                </a:lnTo>
                <a:lnTo>
                  <a:pt x="583" y="2002"/>
                </a:lnTo>
                <a:lnTo>
                  <a:pt x="595" y="1996"/>
                </a:lnTo>
                <a:lnTo>
                  <a:pt x="609" y="1985"/>
                </a:lnTo>
                <a:lnTo>
                  <a:pt x="614" y="1980"/>
                </a:lnTo>
                <a:lnTo>
                  <a:pt x="638" y="1988"/>
                </a:lnTo>
                <a:lnTo>
                  <a:pt x="662" y="1996"/>
                </a:lnTo>
                <a:lnTo>
                  <a:pt x="683" y="2001"/>
                </a:lnTo>
                <a:lnTo>
                  <a:pt x="704" y="2003"/>
                </a:lnTo>
                <a:lnTo>
                  <a:pt x="722" y="2006"/>
                </a:lnTo>
                <a:lnTo>
                  <a:pt x="741" y="2006"/>
                </a:lnTo>
                <a:lnTo>
                  <a:pt x="758" y="2005"/>
                </a:lnTo>
                <a:lnTo>
                  <a:pt x="775" y="2002"/>
                </a:lnTo>
                <a:lnTo>
                  <a:pt x="789" y="1998"/>
                </a:lnTo>
                <a:lnTo>
                  <a:pt x="803" y="1993"/>
                </a:lnTo>
                <a:lnTo>
                  <a:pt x="817" y="1988"/>
                </a:lnTo>
                <a:lnTo>
                  <a:pt x="828" y="1981"/>
                </a:lnTo>
                <a:lnTo>
                  <a:pt x="839" y="1975"/>
                </a:lnTo>
                <a:lnTo>
                  <a:pt x="850" y="1966"/>
                </a:lnTo>
                <a:lnTo>
                  <a:pt x="859" y="1957"/>
                </a:lnTo>
                <a:lnTo>
                  <a:pt x="868" y="1949"/>
                </a:lnTo>
                <a:lnTo>
                  <a:pt x="875" y="1940"/>
                </a:lnTo>
                <a:lnTo>
                  <a:pt x="883" y="1930"/>
                </a:lnTo>
                <a:lnTo>
                  <a:pt x="889" y="1921"/>
                </a:lnTo>
                <a:lnTo>
                  <a:pt x="895" y="1912"/>
                </a:lnTo>
                <a:lnTo>
                  <a:pt x="904" y="1893"/>
                </a:lnTo>
                <a:lnTo>
                  <a:pt x="911" y="1877"/>
                </a:lnTo>
                <a:lnTo>
                  <a:pt x="920" y="1850"/>
                </a:lnTo>
                <a:lnTo>
                  <a:pt x="922" y="1840"/>
                </a:lnTo>
                <a:lnTo>
                  <a:pt x="965" y="1850"/>
                </a:lnTo>
                <a:lnTo>
                  <a:pt x="1004" y="1857"/>
                </a:lnTo>
                <a:lnTo>
                  <a:pt x="1040" y="1862"/>
                </a:lnTo>
                <a:lnTo>
                  <a:pt x="1074" y="1864"/>
                </a:lnTo>
                <a:lnTo>
                  <a:pt x="1105" y="1866"/>
                </a:lnTo>
                <a:lnTo>
                  <a:pt x="1133" y="1864"/>
                </a:lnTo>
                <a:lnTo>
                  <a:pt x="1160" y="1862"/>
                </a:lnTo>
                <a:lnTo>
                  <a:pt x="1183" y="1857"/>
                </a:lnTo>
                <a:lnTo>
                  <a:pt x="1204" y="1851"/>
                </a:lnTo>
                <a:lnTo>
                  <a:pt x="1224" y="1843"/>
                </a:lnTo>
                <a:lnTo>
                  <a:pt x="1241" y="1836"/>
                </a:lnTo>
                <a:lnTo>
                  <a:pt x="1256" y="1826"/>
                </a:lnTo>
                <a:lnTo>
                  <a:pt x="1270" y="1815"/>
                </a:lnTo>
                <a:lnTo>
                  <a:pt x="1282" y="1804"/>
                </a:lnTo>
                <a:lnTo>
                  <a:pt x="1292" y="1792"/>
                </a:lnTo>
                <a:lnTo>
                  <a:pt x="1301" y="1780"/>
                </a:lnTo>
                <a:lnTo>
                  <a:pt x="1309" y="1766"/>
                </a:lnTo>
                <a:lnTo>
                  <a:pt x="1315" y="1754"/>
                </a:lnTo>
                <a:lnTo>
                  <a:pt x="1320" y="1740"/>
                </a:lnTo>
                <a:lnTo>
                  <a:pt x="1323" y="1728"/>
                </a:lnTo>
                <a:lnTo>
                  <a:pt x="1328" y="1703"/>
                </a:lnTo>
                <a:lnTo>
                  <a:pt x="1331" y="1680"/>
                </a:lnTo>
                <a:lnTo>
                  <a:pt x="1330" y="1644"/>
                </a:lnTo>
                <a:lnTo>
                  <a:pt x="1328" y="1630"/>
                </a:lnTo>
                <a:lnTo>
                  <a:pt x="1153" y="1563"/>
                </a:lnTo>
                <a:lnTo>
                  <a:pt x="1133" y="1548"/>
                </a:lnTo>
                <a:lnTo>
                  <a:pt x="1114" y="1531"/>
                </a:lnTo>
                <a:lnTo>
                  <a:pt x="1095" y="1512"/>
                </a:lnTo>
                <a:lnTo>
                  <a:pt x="1075" y="1493"/>
                </a:lnTo>
                <a:lnTo>
                  <a:pt x="1055" y="1472"/>
                </a:lnTo>
                <a:lnTo>
                  <a:pt x="1035" y="1451"/>
                </a:lnTo>
                <a:lnTo>
                  <a:pt x="1015" y="1429"/>
                </a:lnTo>
                <a:lnTo>
                  <a:pt x="994" y="1405"/>
                </a:lnTo>
                <a:lnTo>
                  <a:pt x="987" y="1377"/>
                </a:lnTo>
                <a:lnTo>
                  <a:pt x="982" y="1348"/>
                </a:lnTo>
                <a:lnTo>
                  <a:pt x="977" y="1320"/>
                </a:lnTo>
                <a:lnTo>
                  <a:pt x="976" y="1291"/>
                </a:lnTo>
                <a:lnTo>
                  <a:pt x="975" y="1263"/>
                </a:lnTo>
                <a:lnTo>
                  <a:pt x="975" y="1234"/>
                </a:lnTo>
                <a:lnTo>
                  <a:pt x="975" y="1208"/>
                </a:lnTo>
                <a:lnTo>
                  <a:pt x="977" y="1183"/>
                </a:lnTo>
                <a:lnTo>
                  <a:pt x="981" y="1137"/>
                </a:lnTo>
                <a:lnTo>
                  <a:pt x="987" y="1103"/>
                </a:lnTo>
                <a:lnTo>
                  <a:pt x="991" y="1079"/>
                </a:lnTo>
                <a:lnTo>
                  <a:pt x="993" y="1070"/>
                </a:lnTo>
                <a:lnTo>
                  <a:pt x="992" y="1053"/>
                </a:lnTo>
                <a:lnTo>
                  <a:pt x="993" y="1034"/>
                </a:lnTo>
                <a:lnTo>
                  <a:pt x="996" y="1017"/>
                </a:lnTo>
                <a:lnTo>
                  <a:pt x="1001" y="1001"/>
                </a:lnTo>
                <a:lnTo>
                  <a:pt x="1007" y="984"/>
                </a:lnTo>
                <a:lnTo>
                  <a:pt x="1015" y="967"/>
                </a:lnTo>
                <a:lnTo>
                  <a:pt x="1024" y="951"/>
                </a:lnTo>
                <a:lnTo>
                  <a:pt x="1034" y="936"/>
                </a:lnTo>
                <a:lnTo>
                  <a:pt x="1045" y="921"/>
                </a:lnTo>
                <a:lnTo>
                  <a:pt x="1058" y="907"/>
                </a:lnTo>
                <a:lnTo>
                  <a:pt x="1071" y="893"/>
                </a:lnTo>
                <a:lnTo>
                  <a:pt x="1085" y="879"/>
                </a:lnTo>
                <a:lnTo>
                  <a:pt x="1114" y="854"/>
                </a:lnTo>
                <a:lnTo>
                  <a:pt x="1145" y="831"/>
                </a:lnTo>
                <a:lnTo>
                  <a:pt x="1176" y="810"/>
                </a:lnTo>
                <a:lnTo>
                  <a:pt x="1205" y="791"/>
                </a:lnTo>
                <a:lnTo>
                  <a:pt x="1233" y="775"/>
                </a:lnTo>
                <a:lnTo>
                  <a:pt x="1258" y="761"/>
                </a:lnTo>
                <a:lnTo>
                  <a:pt x="1296" y="743"/>
                </a:lnTo>
                <a:lnTo>
                  <a:pt x="1310" y="737"/>
                </a:lnTo>
                <a:lnTo>
                  <a:pt x="1328" y="760"/>
                </a:lnTo>
                <a:lnTo>
                  <a:pt x="1347" y="780"/>
                </a:lnTo>
                <a:lnTo>
                  <a:pt x="1364" y="799"/>
                </a:lnTo>
                <a:lnTo>
                  <a:pt x="1383" y="816"/>
                </a:lnTo>
                <a:lnTo>
                  <a:pt x="1400" y="830"/>
                </a:lnTo>
                <a:lnTo>
                  <a:pt x="1418" y="842"/>
                </a:lnTo>
                <a:lnTo>
                  <a:pt x="1435" y="853"/>
                </a:lnTo>
                <a:lnTo>
                  <a:pt x="1453" y="862"/>
                </a:lnTo>
                <a:lnTo>
                  <a:pt x="1469" y="869"/>
                </a:lnTo>
                <a:lnTo>
                  <a:pt x="1485" y="874"/>
                </a:lnTo>
                <a:lnTo>
                  <a:pt x="1501" y="879"/>
                </a:lnTo>
                <a:lnTo>
                  <a:pt x="1517" y="882"/>
                </a:lnTo>
                <a:lnTo>
                  <a:pt x="1532" y="884"/>
                </a:lnTo>
                <a:lnTo>
                  <a:pt x="1547" y="884"/>
                </a:lnTo>
                <a:lnTo>
                  <a:pt x="1561" y="884"/>
                </a:lnTo>
                <a:lnTo>
                  <a:pt x="1574" y="883"/>
                </a:lnTo>
                <a:lnTo>
                  <a:pt x="1588" y="882"/>
                </a:lnTo>
                <a:lnTo>
                  <a:pt x="1600" y="879"/>
                </a:lnTo>
                <a:lnTo>
                  <a:pt x="1612" y="876"/>
                </a:lnTo>
                <a:lnTo>
                  <a:pt x="1623" y="872"/>
                </a:lnTo>
                <a:lnTo>
                  <a:pt x="1643" y="864"/>
                </a:lnTo>
                <a:lnTo>
                  <a:pt x="1660" y="856"/>
                </a:lnTo>
                <a:lnTo>
                  <a:pt x="1684" y="841"/>
                </a:lnTo>
                <a:lnTo>
                  <a:pt x="1692" y="835"/>
                </a:lnTo>
                <a:lnTo>
                  <a:pt x="1682" y="821"/>
                </a:lnTo>
                <a:lnTo>
                  <a:pt x="1654" y="785"/>
                </a:lnTo>
                <a:lnTo>
                  <a:pt x="1614" y="734"/>
                </a:lnTo>
                <a:lnTo>
                  <a:pt x="1568" y="673"/>
                </a:lnTo>
                <a:lnTo>
                  <a:pt x="1521" y="609"/>
                </a:lnTo>
                <a:lnTo>
                  <a:pt x="1477" y="547"/>
                </a:lnTo>
                <a:lnTo>
                  <a:pt x="1459" y="518"/>
                </a:lnTo>
                <a:lnTo>
                  <a:pt x="1443" y="493"/>
                </a:lnTo>
                <a:lnTo>
                  <a:pt x="1430" y="472"/>
                </a:lnTo>
                <a:lnTo>
                  <a:pt x="1423" y="455"/>
                </a:lnTo>
                <a:close/>
              </a:path>
            </a:pathLst>
          </a:custGeom>
          <a:solidFill>
            <a:srgbClr val="efc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未知"/>
          <p:cNvSpPr/>
          <p:nvPr/>
        </p:nvSpPr>
        <p:spPr>
          <a:xfrm>
            <a:off x="312840" y="4835520"/>
            <a:ext cx="704880" cy="835200"/>
          </a:xfrm>
          <a:custGeom>
            <a:avLst/>
            <a:gdLst/>
            <a:ahLst/>
            <a:rect l="l" t="t" r="r" b="b"/>
            <a:pathLst>
              <a:path w="1778" h="2104">
                <a:moveTo>
                  <a:pt x="304" y="83"/>
                </a:moveTo>
                <a:lnTo>
                  <a:pt x="296" y="86"/>
                </a:lnTo>
                <a:lnTo>
                  <a:pt x="288" y="91"/>
                </a:lnTo>
                <a:lnTo>
                  <a:pt x="268" y="103"/>
                </a:lnTo>
                <a:lnTo>
                  <a:pt x="251" y="118"/>
                </a:lnTo>
                <a:lnTo>
                  <a:pt x="235" y="132"/>
                </a:lnTo>
                <a:lnTo>
                  <a:pt x="219" y="147"/>
                </a:lnTo>
                <a:lnTo>
                  <a:pt x="205" y="162"/>
                </a:lnTo>
                <a:lnTo>
                  <a:pt x="191" y="176"/>
                </a:lnTo>
                <a:lnTo>
                  <a:pt x="179" y="193"/>
                </a:lnTo>
                <a:lnTo>
                  <a:pt x="168" y="209"/>
                </a:lnTo>
                <a:lnTo>
                  <a:pt x="158" y="225"/>
                </a:lnTo>
                <a:lnTo>
                  <a:pt x="149" y="241"/>
                </a:lnTo>
                <a:lnTo>
                  <a:pt x="141" y="258"/>
                </a:lnTo>
                <a:lnTo>
                  <a:pt x="134" y="274"/>
                </a:lnTo>
                <a:lnTo>
                  <a:pt x="128" y="293"/>
                </a:lnTo>
                <a:lnTo>
                  <a:pt x="123" y="310"/>
                </a:lnTo>
                <a:lnTo>
                  <a:pt x="119" y="328"/>
                </a:lnTo>
                <a:lnTo>
                  <a:pt x="117" y="346"/>
                </a:lnTo>
                <a:lnTo>
                  <a:pt x="116" y="363"/>
                </a:lnTo>
                <a:lnTo>
                  <a:pt x="116" y="379"/>
                </a:lnTo>
                <a:lnTo>
                  <a:pt x="117" y="400"/>
                </a:lnTo>
                <a:lnTo>
                  <a:pt x="118" y="421"/>
                </a:lnTo>
                <a:lnTo>
                  <a:pt x="122" y="441"/>
                </a:lnTo>
                <a:lnTo>
                  <a:pt x="126" y="461"/>
                </a:lnTo>
                <a:lnTo>
                  <a:pt x="131" y="479"/>
                </a:lnTo>
                <a:lnTo>
                  <a:pt x="137" y="498"/>
                </a:lnTo>
                <a:lnTo>
                  <a:pt x="144" y="515"/>
                </a:lnTo>
                <a:lnTo>
                  <a:pt x="151" y="532"/>
                </a:lnTo>
                <a:lnTo>
                  <a:pt x="167" y="565"/>
                </a:lnTo>
                <a:lnTo>
                  <a:pt x="183" y="593"/>
                </a:lnTo>
                <a:lnTo>
                  <a:pt x="199" y="617"/>
                </a:lnTo>
                <a:lnTo>
                  <a:pt x="214" y="638"/>
                </a:lnTo>
                <a:lnTo>
                  <a:pt x="199" y="660"/>
                </a:lnTo>
                <a:lnTo>
                  <a:pt x="184" y="683"/>
                </a:lnTo>
                <a:lnTo>
                  <a:pt x="169" y="705"/>
                </a:lnTo>
                <a:lnTo>
                  <a:pt x="157" y="729"/>
                </a:lnTo>
                <a:lnTo>
                  <a:pt x="143" y="751"/>
                </a:lnTo>
                <a:lnTo>
                  <a:pt x="132" y="774"/>
                </a:lnTo>
                <a:lnTo>
                  <a:pt x="119" y="799"/>
                </a:lnTo>
                <a:lnTo>
                  <a:pt x="110" y="823"/>
                </a:lnTo>
                <a:lnTo>
                  <a:pt x="90" y="871"/>
                </a:lnTo>
                <a:lnTo>
                  <a:pt x="72" y="921"/>
                </a:lnTo>
                <a:lnTo>
                  <a:pt x="56" y="970"/>
                </a:lnTo>
                <a:lnTo>
                  <a:pt x="44" y="1020"/>
                </a:lnTo>
                <a:lnTo>
                  <a:pt x="33" y="1070"/>
                </a:lnTo>
                <a:lnTo>
                  <a:pt x="23" y="1119"/>
                </a:lnTo>
                <a:lnTo>
                  <a:pt x="15" y="1169"/>
                </a:lnTo>
                <a:lnTo>
                  <a:pt x="9" y="1219"/>
                </a:lnTo>
                <a:lnTo>
                  <a:pt x="5" y="1267"/>
                </a:lnTo>
                <a:lnTo>
                  <a:pt x="2" y="1315"/>
                </a:lnTo>
                <a:lnTo>
                  <a:pt x="0" y="1363"/>
                </a:lnTo>
                <a:lnTo>
                  <a:pt x="0" y="1408"/>
                </a:lnTo>
                <a:lnTo>
                  <a:pt x="0" y="1454"/>
                </a:lnTo>
                <a:lnTo>
                  <a:pt x="2" y="1499"/>
                </a:lnTo>
                <a:lnTo>
                  <a:pt x="4" y="1541"/>
                </a:lnTo>
                <a:lnTo>
                  <a:pt x="6" y="1582"/>
                </a:lnTo>
                <a:lnTo>
                  <a:pt x="14" y="1658"/>
                </a:lnTo>
                <a:lnTo>
                  <a:pt x="23" y="1725"/>
                </a:lnTo>
                <a:lnTo>
                  <a:pt x="31" y="1779"/>
                </a:lnTo>
                <a:lnTo>
                  <a:pt x="40" y="1823"/>
                </a:lnTo>
                <a:lnTo>
                  <a:pt x="46" y="1851"/>
                </a:lnTo>
                <a:lnTo>
                  <a:pt x="49" y="1866"/>
                </a:lnTo>
                <a:lnTo>
                  <a:pt x="57" y="1890"/>
                </a:lnTo>
                <a:lnTo>
                  <a:pt x="67" y="1911"/>
                </a:lnTo>
                <a:lnTo>
                  <a:pt x="78" y="1930"/>
                </a:lnTo>
                <a:lnTo>
                  <a:pt x="91" y="1947"/>
                </a:lnTo>
                <a:lnTo>
                  <a:pt x="97" y="1954"/>
                </a:lnTo>
                <a:lnTo>
                  <a:pt x="105" y="1962"/>
                </a:lnTo>
                <a:lnTo>
                  <a:pt x="112" y="1969"/>
                </a:lnTo>
                <a:lnTo>
                  <a:pt x="119" y="1975"/>
                </a:lnTo>
                <a:lnTo>
                  <a:pt x="128" y="1980"/>
                </a:lnTo>
                <a:lnTo>
                  <a:pt x="137" y="1987"/>
                </a:lnTo>
                <a:lnTo>
                  <a:pt x="146" y="1990"/>
                </a:lnTo>
                <a:lnTo>
                  <a:pt x="154" y="1995"/>
                </a:lnTo>
                <a:lnTo>
                  <a:pt x="168" y="2000"/>
                </a:lnTo>
                <a:lnTo>
                  <a:pt x="180" y="2004"/>
                </a:lnTo>
                <a:lnTo>
                  <a:pt x="194" y="2006"/>
                </a:lnTo>
                <a:lnTo>
                  <a:pt x="206" y="2008"/>
                </a:lnTo>
                <a:lnTo>
                  <a:pt x="219" y="2009"/>
                </a:lnTo>
                <a:lnTo>
                  <a:pt x="231" y="2009"/>
                </a:lnTo>
                <a:lnTo>
                  <a:pt x="244" y="2009"/>
                </a:lnTo>
                <a:lnTo>
                  <a:pt x="255" y="2008"/>
                </a:lnTo>
                <a:lnTo>
                  <a:pt x="277" y="2004"/>
                </a:lnTo>
                <a:lnTo>
                  <a:pt x="297" y="1999"/>
                </a:lnTo>
                <a:lnTo>
                  <a:pt x="314" y="1994"/>
                </a:lnTo>
                <a:lnTo>
                  <a:pt x="329" y="1988"/>
                </a:lnTo>
                <a:lnTo>
                  <a:pt x="345" y="2003"/>
                </a:lnTo>
                <a:lnTo>
                  <a:pt x="362" y="2015"/>
                </a:lnTo>
                <a:lnTo>
                  <a:pt x="378" y="2028"/>
                </a:lnTo>
                <a:lnTo>
                  <a:pt x="394" y="2040"/>
                </a:lnTo>
                <a:lnTo>
                  <a:pt x="410" y="2050"/>
                </a:lnTo>
                <a:lnTo>
                  <a:pt x="425" y="2060"/>
                </a:lnTo>
                <a:lnTo>
                  <a:pt x="441" y="2068"/>
                </a:lnTo>
                <a:lnTo>
                  <a:pt x="456" y="2076"/>
                </a:lnTo>
                <a:lnTo>
                  <a:pt x="471" y="2083"/>
                </a:lnTo>
                <a:lnTo>
                  <a:pt x="487" y="2090"/>
                </a:lnTo>
                <a:lnTo>
                  <a:pt x="502" y="2095"/>
                </a:lnTo>
                <a:lnTo>
                  <a:pt x="517" y="2098"/>
                </a:lnTo>
                <a:lnTo>
                  <a:pt x="530" y="2101"/>
                </a:lnTo>
                <a:lnTo>
                  <a:pt x="545" y="2103"/>
                </a:lnTo>
                <a:lnTo>
                  <a:pt x="559" y="2104"/>
                </a:lnTo>
                <a:lnTo>
                  <a:pt x="574" y="2103"/>
                </a:lnTo>
                <a:lnTo>
                  <a:pt x="591" y="2102"/>
                </a:lnTo>
                <a:lnTo>
                  <a:pt x="606" y="2099"/>
                </a:lnTo>
                <a:lnTo>
                  <a:pt x="621" y="2096"/>
                </a:lnTo>
                <a:lnTo>
                  <a:pt x="632" y="2091"/>
                </a:lnTo>
                <a:lnTo>
                  <a:pt x="643" y="2086"/>
                </a:lnTo>
                <a:lnTo>
                  <a:pt x="653" y="2081"/>
                </a:lnTo>
                <a:lnTo>
                  <a:pt x="662" y="2075"/>
                </a:lnTo>
                <a:lnTo>
                  <a:pt x="670" y="2070"/>
                </a:lnTo>
                <a:lnTo>
                  <a:pt x="701" y="2078"/>
                </a:lnTo>
                <a:lnTo>
                  <a:pt x="730" y="2085"/>
                </a:lnTo>
                <a:lnTo>
                  <a:pt x="745" y="2087"/>
                </a:lnTo>
                <a:lnTo>
                  <a:pt x="760" y="2090"/>
                </a:lnTo>
                <a:lnTo>
                  <a:pt x="775" y="2090"/>
                </a:lnTo>
                <a:lnTo>
                  <a:pt x="789" y="2090"/>
                </a:lnTo>
                <a:lnTo>
                  <a:pt x="802" y="2090"/>
                </a:lnTo>
                <a:lnTo>
                  <a:pt x="816" y="2088"/>
                </a:lnTo>
                <a:lnTo>
                  <a:pt x="829" y="2087"/>
                </a:lnTo>
                <a:lnTo>
                  <a:pt x="842" y="2083"/>
                </a:lnTo>
                <a:lnTo>
                  <a:pt x="855" y="2081"/>
                </a:lnTo>
                <a:lnTo>
                  <a:pt x="867" y="2076"/>
                </a:lnTo>
                <a:lnTo>
                  <a:pt x="878" y="2071"/>
                </a:lnTo>
                <a:lnTo>
                  <a:pt x="889" y="2065"/>
                </a:lnTo>
                <a:lnTo>
                  <a:pt x="901" y="2059"/>
                </a:lnTo>
                <a:lnTo>
                  <a:pt x="912" y="2051"/>
                </a:lnTo>
                <a:lnTo>
                  <a:pt x="922" y="2042"/>
                </a:lnTo>
                <a:lnTo>
                  <a:pt x="930" y="2035"/>
                </a:lnTo>
                <a:lnTo>
                  <a:pt x="948" y="2018"/>
                </a:lnTo>
                <a:lnTo>
                  <a:pt x="961" y="1999"/>
                </a:lnTo>
                <a:lnTo>
                  <a:pt x="973" y="1982"/>
                </a:lnTo>
                <a:lnTo>
                  <a:pt x="982" y="1964"/>
                </a:lnTo>
                <a:lnTo>
                  <a:pt x="990" y="1947"/>
                </a:lnTo>
                <a:lnTo>
                  <a:pt x="996" y="1931"/>
                </a:lnTo>
                <a:lnTo>
                  <a:pt x="1026" y="1937"/>
                </a:lnTo>
                <a:lnTo>
                  <a:pt x="1055" y="1942"/>
                </a:lnTo>
                <a:lnTo>
                  <a:pt x="1082" y="1946"/>
                </a:lnTo>
                <a:lnTo>
                  <a:pt x="1109" y="1948"/>
                </a:lnTo>
                <a:lnTo>
                  <a:pt x="1134" y="1949"/>
                </a:lnTo>
                <a:lnTo>
                  <a:pt x="1159" y="1949"/>
                </a:lnTo>
                <a:lnTo>
                  <a:pt x="1184" y="1948"/>
                </a:lnTo>
                <a:lnTo>
                  <a:pt x="1206" y="1946"/>
                </a:lnTo>
                <a:lnTo>
                  <a:pt x="1227" y="1943"/>
                </a:lnTo>
                <a:lnTo>
                  <a:pt x="1248" y="1938"/>
                </a:lnTo>
                <a:lnTo>
                  <a:pt x="1268" y="1933"/>
                </a:lnTo>
                <a:lnTo>
                  <a:pt x="1287" y="1926"/>
                </a:lnTo>
                <a:lnTo>
                  <a:pt x="1303" y="1917"/>
                </a:lnTo>
                <a:lnTo>
                  <a:pt x="1320" y="1908"/>
                </a:lnTo>
                <a:lnTo>
                  <a:pt x="1335" y="1897"/>
                </a:lnTo>
                <a:lnTo>
                  <a:pt x="1349" y="1886"/>
                </a:lnTo>
                <a:lnTo>
                  <a:pt x="1359" y="1875"/>
                </a:lnTo>
                <a:lnTo>
                  <a:pt x="1369" y="1864"/>
                </a:lnTo>
                <a:lnTo>
                  <a:pt x="1376" y="1853"/>
                </a:lnTo>
                <a:lnTo>
                  <a:pt x="1384" y="1841"/>
                </a:lnTo>
                <a:lnTo>
                  <a:pt x="1391" y="1830"/>
                </a:lnTo>
                <a:lnTo>
                  <a:pt x="1396" y="1818"/>
                </a:lnTo>
                <a:lnTo>
                  <a:pt x="1401" y="1807"/>
                </a:lnTo>
                <a:lnTo>
                  <a:pt x="1405" y="1794"/>
                </a:lnTo>
                <a:lnTo>
                  <a:pt x="1411" y="1772"/>
                </a:lnTo>
                <a:lnTo>
                  <a:pt x="1415" y="1750"/>
                </a:lnTo>
                <a:lnTo>
                  <a:pt x="1417" y="1730"/>
                </a:lnTo>
                <a:lnTo>
                  <a:pt x="1417" y="1710"/>
                </a:lnTo>
                <a:lnTo>
                  <a:pt x="1417" y="1693"/>
                </a:lnTo>
                <a:lnTo>
                  <a:pt x="1416" y="1679"/>
                </a:lnTo>
                <a:lnTo>
                  <a:pt x="1415" y="1670"/>
                </a:lnTo>
                <a:lnTo>
                  <a:pt x="1415" y="1665"/>
                </a:lnTo>
                <a:lnTo>
                  <a:pt x="1412" y="1660"/>
                </a:lnTo>
                <a:lnTo>
                  <a:pt x="1411" y="1655"/>
                </a:lnTo>
                <a:lnTo>
                  <a:pt x="1408" y="1650"/>
                </a:lnTo>
                <a:lnTo>
                  <a:pt x="1405" y="1647"/>
                </a:lnTo>
                <a:lnTo>
                  <a:pt x="1401" y="1643"/>
                </a:lnTo>
                <a:lnTo>
                  <a:pt x="1397" y="1639"/>
                </a:lnTo>
                <a:lnTo>
                  <a:pt x="1392" y="1637"/>
                </a:lnTo>
                <a:lnTo>
                  <a:pt x="1387" y="1634"/>
                </a:lnTo>
                <a:lnTo>
                  <a:pt x="1360" y="1623"/>
                </a:lnTo>
                <a:lnTo>
                  <a:pt x="1300" y="1601"/>
                </a:lnTo>
                <a:lnTo>
                  <a:pt x="1241" y="1578"/>
                </a:lnTo>
                <a:lnTo>
                  <a:pt x="1212" y="1567"/>
                </a:lnTo>
                <a:lnTo>
                  <a:pt x="1212" y="1567"/>
                </a:lnTo>
                <a:lnTo>
                  <a:pt x="1213" y="1567"/>
                </a:lnTo>
                <a:lnTo>
                  <a:pt x="1195" y="1546"/>
                </a:lnTo>
                <a:lnTo>
                  <a:pt x="1153" y="1504"/>
                </a:lnTo>
                <a:lnTo>
                  <a:pt x="1108" y="1458"/>
                </a:lnTo>
                <a:lnTo>
                  <a:pt x="1079" y="1428"/>
                </a:lnTo>
                <a:lnTo>
                  <a:pt x="1074" y="1412"/>
                </a:lnTo>
                <a:lnTo>
                  <a:pt x="1071" y="1395"/>
                </a:lnTo>
                <a:lnTo>
                  <a:pt x="1067" y="1379"/>
                </a:lnTo>
                <a:lnTo>
                  <a:pt x="1064" y="1361"/>
                </a:lnTo>
                <a:lnTo>
                  <a:pt x="1062" y="1327"/>
                </a:lnTo>
                <a:lnTo>
                  <a:pt x="1061" y="1292"/>
                </a:lnTo>
                <a:lnTo>
                  <a:pt x="1062" y="1260"/>
                </a:lnTo>
                <a:lnTo>
                  <a:pt x="1063" y="1229"/>
                </a:lnTo>
                <a:lnTo>
                  <a:pt x="1066" y="1200"/>
                </a:lnTo>
                <a:lnTo>
                  <a:pt x="1069" y="1175"/>
                </a:lnTo>
                <a:lnTo>
                  <a:pt x="1076" y="1138"/>
                </a:lnTo>
                <a:lnTo>
                  <a:pt x="1078" y="1124"/>
                </a:lnTo>
                <a:lnTo>
                  <a:pt x="1078" y="1118"/>
                </a:lnTo>
                <a:lnTo>
                  <a:pt x="1078" y="1113"/>
                </a:lnTo>
                <a:lnTo>
                  <a:pt x="1078" y="1101"/>
                </a:lnTo>
                <a:lnTo>
                  <a:pt x="1079" y="1088"/>
                </a:lnTo>
                <a:lnTo>
                  <a:pt x="1082" y="1077"/>
                </a:lnTo>
                <a:lnTo>
                  <a:pt x="1086" y="1065"/>
                </a:lnTo>
                <a:lnTo>
                  <a:pt x="1089" y="1054"/>
                </a:lnTo>
                <a:lnTo>
                  <a:pt x="1094" y="1042"/>
                </a:lnTo>
                <a:lnTo>
                  <a:pt x="1100" y="1031"/>
                </a:lnTo>
                <a:lnTo>
                  <a:pt x="1107" y="1020"/>
                </a:lnTo>
                <a:lnTo>
                  <a:pt x="1122" y="998"/>
                </a:lnTo>
                <a:lnTo>
                  <a:pt x="1139" y="978"/>
                </a:lnTo>
                <a:lnTo>
                  <a:pt x="1158" y="958"/>
                </a:lnTo>
                <a:lnTo>
                  <a:pt x="1177" y="939"/>
                </a:lnTo>
                <a:lnTo>
                  <a:pt x="1199" y="922"/>
                </a:lnTo>
                <a:lnTo>
                  <a:pt x="1221" y="905"/>
                </a:lnTo>
                <a:lnTo>
                  <a:pt x="1243" y="890"/>
                </a:lnTo>
                <a:lnTo>
                  <a:pt x="1266" y="876"/>
                </a:lnTo>
                <a:lnTo>
                  <a:pt x="1287" y="863"/>
                </a:lnTo>
                <a:lnTo>
                  <a:pt x="1308" y="851"/>
                </a:lnTo>
                <a:lnTo>
                  <a:pt x="1328" y="841"/>
                </a:lnTo>
                <a:lnTo>
                  <a:pt x="1346" y="831"/>
                </a:lnTo>
                <a:lnTo>
                  <a:pt x="1372" y="860"/>
                </a:lnTo>
                <a:lnTo>
                  <a:pt x="1398" y="886"/>
                </a:lnTo>
                <a:lnTo>
                  <a:pt x="1412" y="897"/>
                </a:lnTo>
                <a:lnTo>
                  <a:pt x="1425" y="908"/>
                </a:lnTo>
                <a:lnTo>
                  <a:pt x="1438" y="918"/>
                </a:lnTo>
                <a:lnTo>
                  <a:pt x="1452" y="927"/>
                </a:lnTo>
                <a:lnTo>
                  <a:pt x="1466" y="936"/>
                </a:lnTo>
                <a:lnTo>
                  <a:pt x="1480" y="943"/>
                </a:lnTo>
                <a:lnTo>
                  <a:pt x="1494" y="951"/>
                </a:lnTo>
                <a:lnTo>
                  <a:pt x="1508" y="956"/>
                </a:lnTo>
                <a:lnTo>
                  <a:pt x="1523" y="961"/>
                </a:lnTo>
                <a:lnTo>
                  <a:pt x="1538" y="965"/>
                </a:lnTo>
                <a:lnTo>
                  <a:pt x="1552" y="968"/>
                </a:lnTo>
                <a:lnTo>
                  <a:pt x="1567" y="970"/>
                </a:lnTo>
                <a:lnTo>
                  <a:pt x="1587" y="972"/>
                </a:lnTo>
                <a:lnTo>
                  <a:pt x="1608" y="970"/>
                </a:lnTo>
                <a:lnTo>
                  <a:pt x="1627" y="969"/>
                </a:lnTo>
                <a:lnTo>
                  <a:pt x="1646" y="967"/>
                </a:lnTo>
                <a:lnTo>
                  <a:pt x="1663" y="962"/>
                </a:lnTo>
                <a:lnTo>
                  <a:pt x="1679" y="957"/>
                </a:lnTo>
                <a:lnTo>
                  <a:pt x="1694" y="952"/>
                </a:lnTo>
                <a:lnTo>
                  <a:pt x="1708" y="946"/>
                </a:lnTo>
                <a:lnTo>
                  <a:pt x="1730" y="933"/>
                </a:lnTo>
                <a:lnTo>
                  <a:pt x="1749" y="922"/>
                </a:lnTo>
                <a:lnTo>
                  <a:pt x="1760" y="915"/>
                </a:lnTo>
                <a:lnTo>
                  <a:pt x="1765" y="910"/>
                </a:lnTo>
                <a:lnTo>
                  <a:pt x="1770" y="905"/>
                </a:lnTo>
                <a:lnTo>
                  <a:pt x="1775" y="897"/>
                </a:lnTo>
                <a:lnTo>
                  <a:pt x="1777" y="890"/>
                </a:lnTo>
                <a:lnTo>
                  <a:pt x="1778" y="882"/>
                </a:lnTo>
                <a:lnTo>
                  <a:pt x="1778" y="874"/>
                </a:lnTo>
                <a:lnTo>
                  <a:pt x="1777" y="866"/>
                </a:lnTo>
                <a:lnTo>
                  <a:pt x="1775" y="859"/>
                </a:lnTo>
                <a:lnTo>
                  <a:pt x="1770" y="851"/>
                </a:lnTo>
                <a:lnTo>
                  <a:pt x="1733" y="804"/>
                </a:lnTo>
                <a:lnTo>
                  <a:pt x="1693" y="753"/>
                </a:lnTo>
                <a:lnTo>
                  <a:pt x="1652" y="699"/>
                </a:lnTo>
                <a:lnTo>
                  <a:pt x="1611" y="644"/>
                </a:lnTo>
                <a:lnTo>
                  <a:pt x="1575" y="593"/>
                </a:lnTo>
                <a:lnTo>
                  <a:pt x="1544" y="547"/>
                </a:lnTo>
                <a:lnTo>
                  <a:pt x="1530" y="528"/>
                </a:lnTo>
                <a:lnTo>
                  <a:pt x="1520" y="510"/>
                </a:lnTo>
                <a:lnTo>
                  <a:pt x="1513" y="495"/>
                </a:lnTo>
                <a:lnTo>
                  <a:pt x="1508" y="484"/>
                </a:lnTo>
                <a:lnTo>
                  <a:pt x="1504" y="477"/>
                </a:lnTo>
                <a:lnTo>
                  <a:pt x="1499" y="468"/>
                </a:lnTo>
                <a:lnTo>
                  <a:pt x="1494" y="462"/>
                </a:lnTo>
                <a:lnTo>
                  <a:pt x="1488" y="454"/>
                </a:lnTo>
                <a:lnTo>
                  <a:pt x="1480" y="448"/>
                </a:lnTo>
                <a:lnTo>
                  <a:pt x="1472" y="442"/>
                </a:lnTo>
                <a:lnTo>
                  <a:pt x="1463" y="437"/>
                </a:lnTo>
                <a:lnTo>
                  <a:pt x="1454" y="432"/>
                </a:lnTo>
                <a:lnTo>
                  <a:pt x="1433" y="422"/>
                </a:lnTo>
                <a:lnTo>
                  <a:pt x="1411" y="415"/>
                </a:lnTo>
                <a:lnTo>
                  <a:pt x="1387" y="410"/>
                </a:lnTo>
                <a:lnTo>
                  <a:pt x="1361" y="405"/>
                </a:lnTo>
                <a:lnTo>
                  <a:pt x="1334" y="401"/>
                </a:lnTo>
                <a:lnTo>
                  <a:pt x="1307" y="398"/>
                </a:lnTo>
                <a:lnTo>
                  <a:pt x="1279" y="397"/>
                </a:lnTo>
                <a:lnTo>
                  <a:pt x="1252" y="396"/>
                </a:lnTo>
                <a:lnTo>
                  <a:pt x="1199" y="397"/>
                </a:lnTo>
                <a:lnTo>
                  <a:pt x="1150" y="400"/>
                </a:lnTo>
                <a:lnTo>
                  <a:pt x="1140" y="400"/>
                </a:lnTo>
                <a:lnTo>
                  <a:pt x="1132" y="398"/>
                </a:lnTo>
                <a:lnTo>
                  <a:pt x="1123" y="397"/>
                </a:lnTo>
                <a:lnTo>
                  <a:pt x="1115" y="395"/>
                </a:lnTo>
                <a:lnTo>
                  <a:pt x="1109" y="392"/>
                </a:lnTo>
                <a:lnTo>
                  <a:pt x="1103" y="389"/>
                </a:lnTo>
                <a:lnTo>
                  <a:pt x="1098" y="385"/>
                </a:lnTo>
                <a:lnTo>
                  <a:pt x="1094" y="380"/>
                </a:lnTo>
                <a:lnTo>
                  <a:pt x="1091" y="375"/>
                </a:lnTo>
                <a:lnTo>
                  <a:pt x="1088" y="370"/>
                </a:lnTo>
                <a:lnTo>
                  <a:pt x="1087" y="364"/>
                </a:lnTo>
                <a:lnTo>
                  <a:pt x="1084" y="358"/>
                </a:lnTo>
                <a:lnTo>
                  <a:pt x="1083" y="344"/>
                </a:lnTo>
                <a:lnTo>
                  <a:pt x="1083" y="330"/>
                </a:lnTo>
                <a:lnTo>
                  <a:pt x="1084" y="318"/>
                </a:lnTo>
                <a:lnTo>
                  <a:pt x="1087" y="305"/>
                </a:lnTo>
                <a:lnTo>
                  <a:pt x="1088" y="296"/>
                </a:lnTo>
                <a:lnTo>
                  <a:pt x="1091" y="288"/>
                </a:lnTo>
                <a:lnTo>
                  <a:pt x="1124" y="51"/>
                </a:lnTo>
                <a:lnTo>
                  <a:pt x="1125" y="42"/>
                </a:lnTo>
                <a:lnTo>
                  <a:pt x="1123" y="34"/>
                </a:lnTo>
                <a:lnTo>
                  <a:pt x="1120" y="25"/>
                </a:lnTo>
                <a:lnTo>
                  <a:pt x="1115" y="18"/>
                </a:lnTo>
                <a:lnTo>
                  <a:pt x="1109" y="11"/>
                </a:lnTo>
                <a:lnTo>
                  <a:pt x="1102" y="6"/>
                </a:lnTo>
                <a:lnTo>
                  <a:pt x="1093" y="4"/>
                </a:lnTo>
                <a:lnTo>
                  <a:pt x="1084" y="1"/>
                </a:lnTo>
                <a:lnTo>
                  <a:pt x="1027" y="0"/>
                </a:lnTo>
                <a:lnTo>
                  <a:pt x="968" y="1"/>
                </a:lnTo>
                <a:lnTo>
                  <a:pt x="904" y="4"/>
                </a:lnTo>
                <a:lnTo>
                  <a:pt x="841" y="9"/>
                </a:lnTo>
                <a:lnTo>
                  <a:pt x="778" y="14"/>
                </a:lnTo>
                <a:lnTo>
                  <a:pt x="713" y="21"/>
                </a:lnTo>
                <a:lnTo>
                  <a:pt x="651" y="29"/>
                </a:lnTo>
                <a:lnTo>
                  <a:pt x="591" y="36"/>
                </a:lnTo>
                <a:lnTo>
                  <a:pt x="482" y="52"/>
                </a:lnTo>
                <a:lnTo>
                  <a:pt x="393" y="67"/>
                </a:lnTo>
                <a:lnTo>
                  <a:pt x="331" y="78"/>
                </a:lnTo>
                <a:lnTo>
                  <a:pt x="304" y="83"/>
                </a:lnTo>
                <a:close/>
                <a:moveTo>
                  <a:pt x="1033" y="87"/>
                </a:moveTo>
                <a:lnTo>
                  <a:pt x="1026" y="140"/>
                </a:lnTo>
                <a:lnTo>
                  <a:pt x="1017" y="200"/>
                </a:lnTo>
                <a:lnTo>
                  <a:pt x="1010" y="250"/>
                </a:lnTo>
                <a:lnTo>
                  <a:pt x="1007" y="269"/>
                </a:lnTo>
                <a:lnTo>
                  <a:pt x="1005" y="276"/>
                </a:lnTo>
                <a:lnTo>
                  <a:pt x="1002" y="289"/>
                </a:lnTo>
                <a:lnTo>
                  <a:pt x="999" y="310"/>
                </a:lnTo>
                <a:lnTo>
                  <a:pt x="997" y="336"/>
                </a:lnTo>
                <a:lnTo>
                  <a:pt x="997" y="348"/>
                </a:lnTo>
                <a:lnTo>
                  <a:pt x="999" y="360"/>
                </a:lnTo>
                <a:lnTo>
                  <a:pt x="1000" y="372"/>
                </a:lnTo>
                <a:lnTo>
                  <a:pt x="1004" y="384"/>
                </a:lnTo>
                <a:lnTo>
                  <a:pt x="1006" y="396"/>
                </a:lnTo>
                <a:lnTo>
                  <a:pt x="1011" y="408"/>
                </a:lnTo>
                <a:lnTo>
                  <a:pt x="1017" y="420"/>
                </a:lnTo>
                <a:lnTo>
                  <a:pt x="1025" y="431"/>
                </a:lnTo>
                <a:lnTo>
                  <a:pt x="1032" y="441"/>
                </a:lnTo>
                <a:lnTo>
                  <a:pt x="1042" y="449"/>
                </a:lnTo>
                <a:lnTo>
                  <a:pt x="1055" y="459"/>
                </a:lnTo>
                <a:lnTo>
                  <a:pt x="1069" y="468"/>
                </a:lnTo>
                <a:lnTo>
                  <a:pt x="1077" y="472"/>
                </a:lnTo>
                <a:lnTo>
                  <a:pt x="1086" y="475"/>
                </a:lnTo>
                <a:lnTo>
                  <a:pt x="1095" y="478"/>
                </a:lnTo>
                <a:lnTo>
                  <a:pt x="1105" y="480"/>
                </a:lnTo>
                <a:lnTo>
                  <a:pt x="1117" y="483"/>
                </a:lnTo>
                <a:lnTo>
                  <a:pt x="1128" y="484"/>
                </a:lnTo>
                <a:lnTo>
                  <a:pt x="1140" y="484"/>
                </a:lnTo>
                <a:lnTo>
                  <a:pt x="1154" y="485"/>
                </a:lnTo>
                <a:lnTo>
                  <a:pt x="1201" y="483"/>
                </a:lnTo>
                <a:lnTo>
                  <a:pt x="1247" y="483"/>
                </a:lnTo>
                <a:lnTo>
                  <a:pt x="1292" y="484"/>
                </a:lnTo>
                <a:lnTo>
                  <a:pt x="1331" y="488"/>
                </a:lnTo>
                <a:lnTo>
                  <a:pt x="1366" y="493"/>
                </a:lnTo>
                <a:lnTo>
                  <a:pt x="1395" y="499"/>
                </a:lnTo>
                <a:lnTo>
                  <a:pt x="1406" y="503"/>
                </a:lnTo>
                <a:lnTo>
                  <a:pt x="1416" y="506"/>
                </a:lnTo>
                <a:lnTo>
                  <a:pt x="1422" y="510"/>
                </a:lnTo>
                <a:lnTo>
                  <a:pt x="1427" y="515"/>
                </a:lnTo>
                <a:lnTo>
                  <a:pt x="1427" y="515"/>
                </a:lnTo>
                <a:lnTo>
                  <a:pt x="1427" y="515"/>
                </a:lnTo>
                <a:lnTo>
                  <a:pt x="1427" y="515"/>
                </a:lnTo>
                <a:lnTo>
                  <a:pt x="1427" y="514"/>
                </a:lnTo>
                <a:lnTo>
                  <a:pt x="1433" y="529"/>
                </a:lnTo>
                <a:lnTo>
                  <a:pt x="1442" y="545"/>
                </a:lnTo>
                <a:lnTo>
                  <a:pt x="1453" y="565"/>
                </a:lnTo>
                <a:lnTo>
                  <a:pt x="1467" y="586"/>
                </a:lnTo>
                <a:lnTo>
                  <a:pt x="1499" y="634"/>
                </a:lnTo>
                <a:lnTo>
                  <a:pt x="1535" y="685"/>
                </a:lnTo>
                <a:lnTo>
                  <a:pt x="1574" y="737"/>
                </a:lnTo>
                <a:lnTo>
                  <a:pt x="1611" y="787"/>
                </a:lnTo>
                <a:lnTo>
                  <a:pt x="1644" y="831"/>
                </a:lnTo>
                <a:lnTo>
                  <a:pt x="1673" y="866"/>
                </a:lnTo>
                <a:lnTo>
                  <a:pt x="1663" y="871"/>
                </a:lnTo>
                <a:lnTo>
                  <a:pt x="1653" y="875"/>
                </a:lnTo>
                <a:lnTo>
                  <a:pt x="1642" y="879"/>
                </a:lnTo>
                <a:lnTo>
                  <a:pt x="1629" y="881"/>
                </a:lnTo>
                <a:lnTo>
                  <a:pt x="1617" y="884"/>
                </a:lnTo>
                <a:lnTo>
                  <a:pt x="1603" y="886"/>
                </a:lnTo>
                <a:lnTo>
                  <a:pt x="1590" y="886"/>
                </a:lnTo>
                <a:lnTo>
                  <a:pt x="1575" y="885"/>
                </a:lnTo>
                <a:lnTo>
                  <a:pt x="1562" y="884"/>
                </a:lnTo>
                <a:lnTo>
                  <a:pt x="1551" y="880"/>
                </a:lnTo>
                <a:lnTo>
                  <a:pt x="1539" y="877"/>
                </a:lnTo>
                <a:lnTo>
                  <a:pt x="1526" y="872"/>
                </a:lnTo>
                <a:lnTo>
                  <a:pt x="1515" y="867"/>
                </a:lnTo>
                <a:lnTo>
                  <a:pt x="1503" y="861"/>
                </a:lnTo>
                <a:lnTo>
                  <a:pt x="1492" y="854"/>
                </a:lnTo>
                <a:lnTo>
                  <a:pt x="1479" y="846"/>
                </a:lnTo>
                <a:lnTo>
                  <a:pt x="1468" y="838"/>
                </a:lnTo>
                <a:lnTo>
                  <a:pt x="1457" y="829"/>
                </a:lnTo>
                <a:lnTo>
                  <a:pt x="1444" y="819"/>
                </a:lnTo>
                <a:lnTo>
                  <a:pt x="1433" y="808"/>
                </a:lnTo>
                <a:lnTo>
                  <a:pt x="1411" y="783"/>
                </a:lnTo>
                <a:lnTo>
                  <a:pt x="1389" y="755"/>
                </a:lnTo>
                <a:lnTo>
                  <a:pt x="1384" y="750"/>
                </a:lnTo>
                <a:lnTo>
                  <a:pt x="1379" y="745"/>
                </a:lnTo>
                <a:lnTo>
                  <a:pt x="1372" y="741"/>
                </a:lnTo>
                <a:lnTo>
                  <a:pt x="1366" y="740"/>
                </a:lnTo>
                <a:lnTo>
                  <a:pt x="1359" y="738"/>
                </a:lnTo>
                <a:lnTo>
                  <a:pt x="1351" y="737"/>
                </a:lnTo>
                <a:lnTo>
                  <a:pt x="1345" y="738"/>
                </a:lnTo>
                <a:lnTo>
                  <a:pt x="1338" y="741"/>
                </a:lnTo>
                <a:lnTo>
                  <a:pt x="1318" y="750"/>
                </a:lnTo>
                <a:lnTo>
                  <a:pt x="1274" y="771"/>
                </a:lnTo>
                <a:lnTo>
                  <a:pt x="1247" y="787"/>
                </a:lnTo>
                <a:lnTo>
                  <a:pt x="1217" y="804"/>
                </a:lnTo>
                <a:lnTo>
                  <a:pt x="1185" y="825"/>
                </a:lnTo>
                <a:lnTo>
                  <a:pt x="1153" y="849"/>
                </a:lnTo>
                <a:lnTo>
                  <a:pt x="1136" y="861"/>
                </a:lnTo>
                <a:lnTo>
                  <a:pt x="1120" y="874"/>
                </a:lnTo>
                <a:lnTo>
                  <a:pt x="1104" y="889"/>
                </a:lnTo>
                <a:lnTo>
                  <a:pt x="1089" y="902"/>
                </a:lnTo>
                <a:lnTo>
                  <a:pt x="1076" y="918"/>
                </a:lnTo>
                <a:lnTo>
                  <a:pt x="1061" y="933"/>
                </a:lnTo>
                <a:lnTo>
                  <a:pt x="1048" y="949"/>
                </a:lnTo>
                <a:lnTo>
                  <a:pt x="1037" y="967"/>
                </a:lnTo>
                <a:lnTo>
                  <a:pt x="1026" y="984"/>
                </a:lnTo>
                <a:lnTo>
                  <a:pt x="1016" y="1001"/>
                </a:lnTo>
                <a:lnTo>
                  <a:pt x="1009" y="1020"/>
                </a:lnTo>
                <a:lnTo>
                  <a:pt x="1002" y="1039"/>
                </a:lnTo>
                <a:lnTo>
                  <a:pt x="997" y="1057"/>
                </a:lnTo>
                <a:lnTo>
                  <a:pt x="994" y="1077"/>
                </a:lnTo>
                <a:lnTo>
                  <a:pt x="992" y="1098"/>
                </a:lnTo>
                <a:lnTo>
                  <a:pt x="994" y="1118"/>
                </a:lnTo>
                <a:lnTo>
                  <a:pt x="991" y="1131"/>
                </a:lnTo>
                <a:lnTo>
                  <a:pt x="984" y="1166"/>
                </a:lnTo>
                <a:lnTo>
                  <a:pt x="981" y="1193"/>
                </a:lnTo>
                <a:lnTo>
                  <a:pt x="978" y="1222"/>
                </a:lnTo>
                <a:lnTo>
                  <a:pt x="976" y="1256"/>
                </a:lnTo>
                <a:lnTo>
                  <a:pt x="975" y="1292"/>
                </a:lnTo>
                <a:lnTo>
                  <a:pt x="975" y="1312"/>
                </a:lnTo>
                <a:lnTo>
                  <a:pt x="976" y="1333"/>
                </a:lnTo>
                <a:lnTo>
                  <a:pt x="978" y="1355"/>
                </a:lnTo>
                <a:lnTo>
                  <a:pt x="980" y="1376"/>
                </a:lnTo>
                <a:lnTo>
                  <a:pt x="982" y="1397"/>
                </a:lnTo>
                <a:lnTo>
                  <a:pt x="987" y="1420"/>
                </a:lnTo>
                <a:lnTo>
                  <a:pt x="992" y="1441"/>
                </a:lnTo>
                <a:lnTo>
                  <a:pt x="999" y="1462"/>
                </a:lnTo>
                <a:lnTo>
                  <a:pt x="1000" y="1467"/>
                </a:lnTo>
                <a:lnTo>
                  <a:pt x="1001" y="1469"/>
                </a:lnTo>
                <a:lnTo>
                  <a:pt x="1004" y="1473"/>
                </a:lnTo>
                <a:lnTo>
                  <a:pt x="1006" y="1477"/>
                </a:lnTo>
                <a:lnTo>
                  <a:pt x="1171" y="1642"/>
                </a:lnTo>
                <a:lnTo>
                  <a:pt x="1191" y="1649"/>
                </a:lnTo>
                <a:lnTo>
                  <a:pt x="1237" y="1666"/>
                </a:lnTo>
                <a:lnTo>
                  <a:pt x="1290" y="1688"/>
                </a:lnTo>
                <a:lnTo>
                  <a:pt x="1331" y="1704"/>
                </a:lnTo>
                <a:lnTo>
                  <a:pt x="1331" y="1707"/>
                </a:lnTo>
                <a:lnTo>
                  <a:pt x="1333" y="1711"/>
                </a:lnTo>
                <a:lnTo>
                  <a:pt x="1331" y="1722"/>
                </a:lnTo>
                <a:lnTo>
                  <a:pt x="1330" y="1736"/>
                </a:lnTo>
                <a:lnTo>
                  <a:pt x="1328" y="1751"/>
                </a:lnTo>
                <a:lnTo>
                  <a:pt x="1324" y="1766"/>
                </a:lnTo>
                <a:lnTo>
                  <a:pt x="1319" y="1782"/>
                </a:lnTo>
                <a:lnTo>
                  <a:pt x="1312" y="1797"/>
                </a:lnTo>
                <a:lnTo>
                  <a:pt x="1307" y="1803"/>
                </a:lnTo>
                <a:lnTo>
                  <a:pt x="1302" y="1810"/>
                </a:lnTo>
                <a:lnTo>
                  <a:pt x="1295" y="1818"/>
                </a:lnTo>
                <a:lnTo>
                  <a:pt x="1289" y="1824"/>
                </a:lnTo>
                <a:lnTo>
                  <a:pt x="1279" y="1833"/>
                </a:lnTo>
                <a:lnTo>
                  <a:pt x="1267" y="1840"/>
                </a:lnTo>
                <a:lnTo>
                  <a:pt x="1253" y="1848"/>
                </a:lnTo>
                <a:lnTo>
                  <a:pt x="1240" y="1854"/>
                </a:lnTo>
                <a:lnTo>
                  <a:pt x="1223" y="1858"/>
                </a:lnTo>
                <a:lnTo>
                  <a:pt x="1206" y="1861"/>
                </a:lnTo>
                <a:lnTo>
                  <a:pt x="1189" y="1865"/>
                </a:lnTo>
                <a:lnTo>
                  <a:pt x="1169" y="1866"/>
                </a:lnTo>
                <a:lnTo>
                  <a:pt x="1149" y="1867"/>
                </a:lnTo>
                <a:lnTo>
                  <a:pt x="1128" y="1866"/>
                </a:lnTo>
                <a:lnTo>
                  <a:pt x="1105" y="1865"/>
                </a:lnTo>
                <a:lnTo>
                  <a:pt x="1082" y="1863"/>
                </a:lnTo>
                <a:lnTo>
                  <a:pt x="1057" y="1859"/>
                </a:lnTo>
                <a:lnTo>
                  <a:pt x="1031" y="1855"/>
                </a:lnTo>
                <a:lnTo>
                  <a:pt x="1005" y="1849"/>
                </a:lnTo>
                <a:lnTo>
                  <a:pt x="976" y="1843"/>
                </a:lnTo>
                <a:lnTo>
                  <a:pt x="968" y="1841"/>
                </a:lnTo>
                <a:lnTo>
                  <a:pt x="959" y="1841"/>
                </a:lnTo>
                <a:lnTo>
                  <a:pt x="950" y="1844"/>
                </a:lnTo>
                <a:lnTo>
                  <a:pt x="943" y="1848"/>
                </a:lnTo>
                <a:lnTo>
                  <a:pt x="937" y="1854"/>
                </a:lnTo>
                <a:lnTo>
                  <a:pt x="930" y="1860"/>
                </a:lnTo>
                <a:lnTo>
                  <a:pt x="927" y="1867"/>
                </a:lnTo>
                <a:lnTo>
                  <a:pt x="924" y="1876"/>
                </a:lnTo>
                <a:lnTo>
                  <a:pt x="920" y="1890"/>
                </a:lnTo>
                <a:lnTo>
                  <a:pt x="908" y="1921"/>
                </a:lnTo>
                <a:lnTo>
                  <a:pt x="904" y="1931"/>
                </a:lnTo>
                <a:lnTo>
                  <a:pt x="898" y="1939"/>
                </a:lnTo>
                <a:lnTo>
                  <a:pt x="892" y="1949"/>
                </a:lnTo>
                <a:lnTo>
                  <a:pt x="886" y="1958"/>
                </a:lnTo>
                <a:lnTo>
                  <a:pt x="877" y="1968"/>
                </a:lnTo>
                <a:lnTo>
                  <a:pt x="868" y="1975"/>
                </a:lnTo>
                <a:lnTo>
                  <a:pt x="858" y="1984"/>
                </a:lnTo>
                <a:lnTo>
                  <a:pt x="847" y="1990"/>
                </a:lnTo>
                <a:lnTo>
                  <a:pt x="838" y="1995"/>
                </a:lnTo>
                <a:lnTo>
                  <a:pt x="830" y="1999"/>
                </a:lnTo>
                <a:lnTo>
                  <a:pt x="821" y="2001"/>
                </a:lnTo>
                <a:lnTo>
                  <a:pt x="812" y="2004"/>
                </a:lnTo>
                <a:lnTo>
                  <a:pt x="802" y="2005"/>
                </a:lnTo>
                <a:lnTo>
                  <a:pt x="793" y="2006"/>
                </a:lnTo>
                <a:lnTo>
                  <a:pt x="781" y="2008"/>
                </a:lnTo>
                <a:lnTo>
                  <a:pt x="771" y="2006"/>
                </a:lnTo>
                <a:lnTo>
                  <a:pt x="749" y="2005"/>
                </a:lnTo>
                <a:lnTo>
                  <a:pt x="725" y="2000"/>
                </a:lnTo>
                <a:lnTo>
                  <a:pt x="701" y="1993"/>
                </a:lnTo>
                <a:lnTo>
                  <a:pt x="673" y="1984"/>
                </a:lnTo>
                <a:lnTo>
                  <a:pt x="667" y="1982"/>
                </a:lnTo>
                <a:lnTo>
                  <a:pt x="661" y="1982"/>
                </a:lnTo>
                <a:lnTo>
                  <a:pt x="655" y="1982"/>
                </a:lnTo>
                <a:lnTo>
                  <a:pt x="648" y="1983"/>
                </a:lnTo>
                <a:lnTo>
                  <a:pt x="642" y="1984"/>
                </a:lnTo>
                <a:lnTo>
                  <a:pt x="636" y="1988"/>
                </a:lnTo>
                <a:lnTo>
                  <a:pt x="630" y="1992"/>
                </a:lnTo>
                <a:lnTo>
                  <a:pt x="626" y="1995"/>
                </a:lnTo>
                <a:lnTo>
                  <a:pt x="621" y="1999"/>
                </a:lnTo>
                <a:lnTo>
                  <a:pt x="610" y="2006"/>
                </a:lnTo>
                <a:lnTo>
                  <a:pt x="603" y="2011"/>
                </a:lnTo>
                <a:lnTo>
                  <a:pt x="593" y="2014"/>
                </a:lnTo>
                <a:lnTo>
                  <a:pt x="580" y="2018"/>
                </a:lnTo>
                <a:lnTo>
                  <a:pt x="567" y="2019"/>
                </a:lnTo>
                <a:lnTo>
                  <a:pt x="550" y="2018"/>
                </a:lnTo>
                <a:lnTo>
                  <a:pt x="532" y="2015"/>
                </a:lnTo>
                <a:lnTo>
                  <a:pt x="522" y="2013"/>
                </a:lnTo>
                <a:lnTo>
                  <a:pt x="511" y="2009"/>
                </a:lnTo>
                <a:lnTo>
                  <a:pt x="499" y="2004"/>
                </a:lnTo>
                <a:lnTo>
                  <a:pt x="487" y="1999"/>
                </a:lnTo>
                <a:lnTo>
                  <a:pt x="475" y="1993"/>
                </a:lnTo>
                <a:lnTo>
                  <a:pt x="461" y="1984"/>
                </a:lnTo>
                <a:lnTo>
                  <a:pt x="447" y="1975"/>
                </a:lnTo>
                <a:lnTo>
                  <a:pt x="432" y="1965"/>
                </a:lnTo>
                <a:lnTo>
                  <a:pt x="416" y="1953"/>
                </a:lnTo>
                <a:lnTo>
                  <a:pt x="400" y="1941"/>
                </a:lnTo>
                <a:lnTo>
                  <a:pt x="383" y="1926"/>
                </a:lnTo>
                <a:lnTo>
                  <a:pt x="365" y="1908"/>
                </a:lnTo>
                <a:lnTo>
                  <a:pt x="360" y="1905"/>
                </a:lnTo>
                <a:lnTo>
                  <a:pt x="354" y="1901"/>
                </a:lnTo>
                <a:lnTo>
                  <a:pt x="348" y="1898"/>
                </a:lnTo>
                <a:lnTo>
                  <a:pt x="342" y="1897"/>
                </a:lnTo>
                <a:lnTo>
                  <a:pt x="336" y="1897"/>
                </a:lnTo>
                <a:lnTo>
                  <a:pt x="329" y="1897"/>
                </a:lnTo>
                <a:lnTo>
                  <a:pt x="322" y="1900"/>
                </a:lnTo>
                <a:lnTo>
                  <a:pt x="316" y="1902"/>
                </a:lnTo>
                <a:lnTo>
                  <a:pt x="307" y="1906"/>
                </a:lnTo>
                <a:lnTo>
                  <a:pt x="293" y="1911"/>
                </a:lnTo>
                <a:lnTo>
                  <a:pt x="278" y="1916"/>
                </a:lnTo>
                <a:lnTo>
                  <a:pt x="261" y="1920"/>
                </a:lnTo>
                <a:lnTo>
                  <a:pt x="242" y="1922"/>
                </a:lnTo>
                <a:lnTo>
                  <a:pt x="224" y="1923"/>
                </a:lnTo>
                <a:lnTo>
                  <a:pt x="214" y="1922"/>
                </a:lnTo>
                <a:lnTo>
                  <a:pt x="205" y="1921"/>
                </a:lnTo>
                <a:lnTo>
                  <a:pt x="196" y="1918"/>
                </a:lnTo>
                <a:lnTo>
                  <a:pt x="188" y="1916"/>
                </a:lnTo>
                <a:lnTo>
                  <a:pt x="178" y="1911"/>
                </a:lnTo>
                <a:lnTo>
                  <a:pt x="169" y="1905"/>
                </a:lnTo>
                <a:lnTo>
                  <a:pt x="162" y="1898"/>
                </a:lnTo>
                <a:lnTo>
                  <a:pt x="154" y="1890"/>
                </a:lnTo>
                <a:lnTo>
                  <a:pt x="148" y="1880"/>
                </a:lnTo>
                <a:lnTo>
                  <a:pt x="142" y="1869"/>
                </a:lnTo>
                <a:lnTo>
                  <a:pt x="137" y="1856"/>
                </a:lnTo>
                <a:lnTo>
                  <a:pt x="132" y="1843"/>
                </a:lnTo>
                <a:lnTo>
                  <a:pt x="129" y="1834"/>
                </a:lnTo>
                <a:lnTo>
                  <a:pt x="124" y="1809"/>
                </a:lnTo>
                <a:lnTo>
                  <a:pt x="117" y="1769"/>
                </a:lnTo>
                <a:lnTo>
                  <a:pt x="110" y="1716"/>
                </a:lnTo>
                <a:lnTo>
                  <a:pt x="101" y="1653"/>
                </a:lnTo>
                <a:lnTo>
                  <a:pt x="93" y="1580"/>
                </a:lnTo>
                <a:lnTo>
                  <a:pt x="91" y="1540"/>
                </a:lnTo>
                <a:lnTo>
                  <a:pt x="88" y="1498"/>
                </a:lnTo>
                <a:lnTo>
                  <a:pt x="87" y="1454"/>
                </a:lnTo>
                <a:lnTo>
                  <a:pt x="87" y="1410"/>
                </a:lnTo>
                <a:lnTo>
                  <a:pt x="87" y="1365"/>
                </a:lnTo>
                <a:lnTo>
                  <a:pt x="88" y="1319"/>
                </a:lnTo>
                <a:lnTo>
                  <a:pt x="92" y="1273"/>
                </a:lnTo>
                <a:lnTo>
                  <a:pt x="96" y="1226"/>
                </a:lnTo>
                <a:lnTo>
                  <a:pt x="101" y="1178"/>
                </a:lnTo>
                <a:lnTo>
                  <a:pt x="108" y="1131"/>
                </a:lnTo>
                <a:lnTo>
                  <a:pt x="117" y="1082"/>
                </a:lnTo>
                <a:lnTo>
                  <a:pt x="128" y="1034"/>
                </a:lnTo>
                <a:lnTo>
                  <a:pt x="141" y="985"/>
                </a:lnTo>
                <a:lnTo>
                  <a:pt x="155" y="938"/>
                </a:lnTo>
                <a:lnTo>
                  <a:pt x="172" y="891"/>
                </a:lnTo>
                <a:lnTo>
                  <a:pt x="191" y="845"/>
                </a:lnTo>
                <a:lnTo>
                  <a:pt x="201" y="823"/>
                </a:lnTo>
                <a:lnTo>
                  <a:pt x="213" y="800"/>
                </a:lnTo>
                <a:lnTo>
                  <a:pt x="225" y="778"/>
                </a:lnTo>
                <a:lnTo>
                  <a:pt x="237" y="756"/>
                </a:lnTo>
                <a:lnTo>
                  <a:pt x="250" y="733"/>
                </a:lnTo>
                <a:lnTo>
                  <a:pt x="264" y="712"/>
                </a:lnTo>
                <a:lnTo>
                  <a:pt x="278" y="691"/>
                </a:lnTo>
                <a:lnTo>
                  <a:pt x="293" y="671"/>
                </a:lnTo>
                <a:lnTo>
                  <a:pt x="300" y="662"/>
                </a:lnTo>
                <a:lnTo>
                  <a:pt x="304" y="652"/>
                </a:lnTo>
                <a:lnTo>
                  <a:pt x="308" y="640"/>
                </a:lnTo>
                <a:lnTo>
                  <a:pt x="311" y="631"/>
                </a:lnTo>
                <a:lnTo>
                  <a:pt x="309" y="626"/>
                </a:lnTo>
                <a:lnTo>
                  <a:pt x="308" y="622"/>
                </a:lnTo>
                <a:lnTo>
                  <a:pt x="307" y="617"/>
                </a:lnTo>
                <a:lnTo>
                  <a:pt x="304" y="613"/>
                </a:lnTo>
                <a:lnTo>
                  <a:pt x="300" y="608"/>
                </a:lnTo>
                <a:lnTo>
                  <a:pt x="287" y="593"/>
                </a:lnTo>
                <a:lnTo>
                  <a:pt x="271" y="571"/>
                </a:lnTo>
                <a:lnTo>
                  <a:pt x="252" y="542"/>
                </a:lnTo>
                <a:lnTo>
                  <a:pt x="242" y="525"/>
                </a:lnTo>
                <a:lnTo>
                  <a:pt x="234" y="508"/>
                </a:lnTo>
                <a:lnTo>
                  <a:pt x="225" y="488"/>
                </a:lnTo>
                <a:lnTo>
                  <a:pt x="218" y="468"/>
                </a:lnTo>
                <a:lnTo>
                  <a:pt x="211" y="447"/>
                </a:lnTo>
                <a:lnTo>
                  <a:pt x="206" y="425"/>
                </a:lnTo>
                <a:lnTo>
                  <a:pt x="203" y="402"/>
                </a:lnTo>
                <a:lnTo>
                  <a:pt x="201" y="379"/>
                </a:lnTo>
                <a:lnTo>
                  <a:pt x="201" y="366"/>
                </a:lnTo>
                <a:lnTo>
                  <a:pt x="203" y="355"/>
                </a:lnTo>
                <a:lnTo>
                  <a:pt x="205" y="341"/>
                </a:lnTo>
                <a:lnTo>
                  <a:pt x="208" y="329"/>
                </a:lnTo>
                <a:lnTo>
                  <a:pt x="211" y="315"/>
                </a:lnTo>
                <a:lnTo>
                  <a:pt x="215" y="303"/>
                </a:lnTo>
                <a:lnTo>
                  <a:pt x="220" y="291"/>
                </a:lnTo>
                <a:lnTo>
                  <a:pt x="226" y="278"/>
                </a:lnTo>
                <a:lnTo>
                  <a:pt x="234" y="266"/>
                </a:lnTo>
                <a:lnTo>
                  <a:pt x="241" y="255"/>
                </a:lnTo>
                <a:lnTo>
                  <a:pt x="250" y="242"/>
                </a:lnTo>
                <a:lnTo>
                  <a:pt x="259" y="231"/>
                </a:lnTo>
                <a:lnTo>
                  <a:pt x="268" y="220"/>
                </a:lnTo>
                <a:lnTo>
                  <a:pt x="280" y="209"/>
                </a:lnTo>
                <a:lnTo>
                  <a:pt x="292" y="198"/>
                </a:lnTo>
                <a:lnTo>
                  <a:pt x="304" y="186"/>
                </a:lnTo>
                <a:lnTo>
                  <a:pt x="318" y="175"/>
                </a:lnTo>
                <a:lnTo>
                  <a:pt x="332" y="165"/>
                </a:lnTo>
                <a:lnTo>
                  <a:pt x="368" y="159"/>
                </a:lnTo>
                <a:lnTo>
                  <a:pt x="427" y="148"/>
                </a:lnTo>
                <a:lnTo>
                  <a:pt x="508" y="135"/>
                </a:lnTo>
                <a:lnTo>
                  <a:pt x="604" y="121"/>
                </a:lnTo>
                <a:lnTo>
                  <a:pt x="656" y="114"/>
                </a:lnTo>
                <a:lnTo>
                  <a:pt x="709" y="108"/>
                </a:lnTo>
                <a:lnTo>
                  <a:pt x="764" y="102"/>
                </a:lnTo>
                <a:lnTo>
                  <a:pt x="820" y="97"/>
                </a:lnTo>
                <a:lnTo>
                  <a:pt x="874" y="92"/>
                </a:lnTo>
                <a:lnTo>
                  <a:pt x="929" y="88"/>
                </a:lnTo>
                <a:lnTo>
                  <a:pt x="982" y="87"/>
                </a:lnTo>
                <a:lnTo>
                  <a:pt x="1033" y="8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未知"/>
          <p:cNvSpPr/>
          <p:nvPr/>
        </p:nvSpPr>
        <p:spPr>
          <a:xfrm>
            <a:off x="1876320" y="4805280"/>
            <a:ext cx="671760" cy="825480"/>
          </a:xfrm>
          <a:custGeom>
            <a:avLst/>
            <a:gdLst/>
            <a:ahLst/>
            <a:rect l="l" t="t" r="r" b="b"/>
            <a:pathLst>
              <a:path w="1693" h="2081">
                <a:moveTo>
                  <a:pt x="534" y="228"/>
                </a:moveTo>
                <a:lnTo>
                  <a:pt x="541" y="223"/>
                </a:lnTo>
                <a:lnTo>
                  <a:pt x="548" y="219"/>
                </a:lnTo>
                <a:lnTo>
                  <a:pt x="555" y="217"/>
                </a:lnTo>
                <a:lnTo>
                  <a:pt x="564" y="215"/>
                </a:lnTo>
                <a:lnTo>
                  <a:pt x="573" y="215"/>
                </a:lnTo>
                <a:lnTo>
                  <a:pt x="583" y="215"/>
                </a:lnTo>
                <a:lnTo>
                  <a:pt x="593" y="217"/>
                </a:lnTo>
                <a:lnTo>
                  <a:pt x="604" y="219"/>
                </a:lnTo>
                <a:lnTo>
                  <a:pt x="626" y="224"/>
                </a:lnTo>
                <a:lnTo>
                  <a:pt x="650" y="232"/>
                </a:lnTo>
                <a:lnTo>
                  <a:pt x="675" y="241"/>
                </a:lnTo>
                <a:lnTo>
                  <a:pt x="698" y="251"/>
                </a:lnTo>
                <a:lnTo>
                  <a:pt x="744" y="274"/>
                </a:lnTo>
                <a:lnTo>
                  <a:pt x="783" y="295"/>
                </a:lnTo>
                <a:lnTo>
                  <a:pt x="809" y="311"/>
                </a:lnTo>
                <a:lnTo>
                  <a:pt x="819" y="317"/>
                </a:lnTo>
                <a:lnTo>
                  <a:pt x="830" y="323"/>
                </a:lnTo>
                <a:lnTo>
                  <a:pt x="841" y="327"/>
                </a:lnTo>
                <a:lnTo>
                  <a:pt x="852" y="331"/>
                </a:lnTo>
                <a:lnTo>
                  <a:pt x="862" y="333"/>
                </a:lnTo>
                <a:lnTo>
                  <a:pt x="872" y="335"/>
                </a:lnTo>
                <a:lnTo>
                  <a:pt x="881" y="335"/>
                </a:lnTo>
                <a:lnTo>
                  <a:pt x="889" y="333"/>
                </a:lnTo>
                <a:lnTo>
                  <a:pt x="898" y="332"/>
                </a:lnTo>
                <a:lnTo>
                  <a:pt x="906" y="330"/>
                </a:lnTo>
                <a:lnTo>
                  <a:pt x="913" y="326"/>
                </a:lnTo>
                <a:lnTo>
                  <a:pt x="920" y="322"/>
                </a:lnTo>
                <a:lnTo>
                  <a:pt x="927" y="317"/>
                </a:lnTo>
                <a:lnTo>
                  <a:pt x="938" y="306"/>
                </a:lnTo>
                <a:lnTo>
                  <a:pt x="949" y="294"/>
                </a:lnTo>
                <a:lnTo>
                  <a:pt x="956" y="280"/>
                </a:lnTo>
                <a:lnTo>
                  <a:pt x="964" y="268"/>
                </a:lnTo>
                <a:lnTo>
                  <a:pt x="970" y="254"/>
                </a:lnTo>
                <a:lnTo>
                  <a:pt x="975" y="241"/>
                </a:lnTo>
                <a:lnTo>
                  <a:pt x="980" y="223"/>
                </a:lnTo>
                <a:lnTo>
                  <a:pt x="983" y="217"/>
                </a:lnTo>
                <a:lnTo>
                  <a:pt x="1066" y="0"/>
                </a:lnTo>
                <a:lnTo>
                  <a:pt x="1113" y="23"/>
                </a:lnTo>
                <a:lnTo>
                  <a:pt x="1161" y="50"/>
                </a:lnTo>
                <a:lnTo>
                  <a:pt x="1211" y="81"/>
                </a:lnTo>
                <a:lnTo>
                  <a:pt x="1262" y="114"/>
                </a:lnTo>
                <a:lnTo>
                  <a:pt x="1312" y="147"/>
                </a:lnTo>
                <a:lnTo>
                  <a:pt x="1360" y="182"/>
                </a:lnTo>
                <a:lnTo>
                  <a:pt x="1407" y="217"/>
                </a:lnTo>
                <a:lnTo>
                  <a:pt x="1452" y="250"/>
                </a:lnTo>
                <a:lnTo>
                  <a:pt x="1534" y="312"/>
                </a:lnTo>
                <a:lnTo>
                  <a:pt x="1597" y="364"/>
                </a:lnTo>
                <a:lnTo>
                  <a:pt x="1641" y="399"/>
                </a:lnTo>
                <a:lnTo>
                  <a:pt x="1656" y="411"/>
                </a:lnTo>
                <a:lnTo>
                  <a:pt x="1668" y="444"/>
                </a:lnTo>
                <a:lnTo>
                  <a:pt x="1678" y="473"/>
                </a:lnTo>
                <a:lnTo>
                  <a:pt x="1685" y="502"/>
                </a:lnTo>
                <a:lnTo>
                  <a:pt x="1690" y="529"/>
                </a:lnTo>
                <a:lnTo>
                  <a:pt x="1693" y="555"/>
                </a:lnTo>
                <a:lnTo>
                  <a:pt x="1693" y="581"/>
                </a:lnTo>
                <a:lnTo>
                  <a:pt x="1692" y="605"/>
                </a:lnTo>
                <a:lnTo>
                  <a:pt x="1687" y="629"/>
                </a:lnTo>
                <a:lnTo>
                  <a:pt x="1682" y="650"/>
                </a:lnTo>
                <a:lnTo>
                  <a:pt x="1674" y="671"/>
                </a:lnTo>
                <a:lnTo>
                  <a:pt x="1666" y="691"/>
                </a:lnTo>
                <a:lnTo>
                  <a:pt x="1656" y="709"/>
                </a:lnTo>
                <a:lnTo>
                  <a:pt x="1644" y="728"/>
                </a:lnTo>
                <a:lnTo>
                  <a:pt x="1632" y="744"/>
                </a:lnTo>
                <a:lnTo>
                  <a:pt x="1620" y="760"/>
                </a:lnTo>
                <a:lnTo>
                  <a:pt x="1606" y="774"/>
                </a:lnTo>
                <a:lnTo>
                  <a:pt x="1592" y="789"/>
                </a:lnTo>
                <a:lnTo>
                  <a:pt x="1577" y="801"/>
                </a:lnTo>
                <a:lnTo>
                  <a:pt x="1564" y="812"/>
                </a:lnTo>
                <a:lnTo>
                  <a:pt x="1549" y="823"/>
                </a:lnTo>
                <a:lnTo>
                  <a:pt x="1521" y="842"/>
                </a:lnTo>
                <a:lnTo>
                  <a:pt x="1495" y="857"/>
                </a:lnTo>
                <a:lnTo>
                  <a:pt x="1456" y="877"/>
                </a:lnTo>
                <a:lnTo>
                  <a:pt x="1440" y="884"/>
                </a:lnTo>
                <a:lnTo>
                  <a:pt x="1440" y="887"/>
                </a:lnTo>
                <a:lnTo>
                  <a:pt x="1441" y="889"/>
                </a:lnTo>
                <a:lnTo>
                  <a:pt x="1449" y="893"/>
                </a:lnTo>
                <a:lnTo>
                  <a:pt x="1454" y="945"/>
                </a:lnTo>
                <a:lnTo>
                  <a:pt x="1456" y="998"/>
                </a:lnTo>
                <a:lnTo>
                  <a:pt x="1454" y="1050"/>
                </a:lnTo>
                <a:lnTo>
                  <a:pt x="1449" y="1103"/>
                </a:lnTo>
                <a:lnTo>
                  <a:pt x="1442" y="1155"/>
                </a:lnTo>
                <a:lnTo>
                  <a:pt x="1433" y="1206"/>
                </a:lnTo>
                <a:lnTo>
                  <a:pt x="1421" y="1256"/>
                </a:lnTo>
                <a:lnTo>
                  <a:pt x="1408" y="1307"/>
                </a:lnTo>
                <a:lnTo>
                  <a:pt x="1392" y="1357"/>
                </a:lnTo>
                <a:lnTo>
                  <a:pt x="1376" y="1405"/>
                </a:lnTo>
                <a:lnTo>
                  <a:pt x="1358" y="1452"/>
                </a:lnTo>
                <a:lnTo>
                  <a:pt x="1338" y="1498"/>
                </a:lnTo>
                <a:lnTo>
                  <a:pt x="1318" y="1544"/>
                </a:lnTo>
                <a:lnTo>
                  <a:pt x="1297" y="1588"/>
                </a:lnTo>
                <a:lnTo>
                  <a:pt x="1274" y="1631"/>
                </a:lnTo>
                <a:lnTo>
                  <a:pt x="1253" y="1672"/>
                </a:lnTo>
                <a:lnTo>
                  <a:pt x="1231" y="1710"/>
                </a:lnTo>
                <a:lnTo>
                  <a:pt x="1209" y="1749"/>
                </a:lnTo>
                <a:lnTo>
                  <a:pt x="1186" y="1784"/>
                </a:lnTo>
                <a:lnTo>
                  <a:pt x="1164" y="1818"/>
                </a:lnTo>
                <a:lnTo>
                  <a:pt x="1123" y="1879"/>
                </a:lnTo>
                <a:lnTo>
                  <a:pt x="1086" y="1931"/>
                </a:lnTo>
                <a:lnTo>
                  <a:pt x="1053" y="1973"/>
                </a:lnTo>
                <a:lnTo>
                  <a:pt x="1030" y="2005"/>
                </a:lnTo>
                <a:lnTo>
                  <a:pt x="1014" y="2023"/>
                </a:lnTo>
                <a:lnTo>
                  <a:pt x="1007" y="2029"/>
                </a:lnTo>
                <a:lnTo>
                  <a:pt x="995" y="2042"/>
                </a:lnTo>
                <a:lnTo>
                  <a:pt x="983" y="2052"/>
                </a:lnTo>
                <a:lnTo>
                  <a:pt x="970" y="2060"/>
                </a:lnTo>
                <a:lnTo>
                  <a:pt x="959" y="2067"/>
                </a:lnTo>
                <a:lnTo>
                  <a:pt x="948" y="2073"/>
                </a:lnTo>
                <a:lnTo>
                  <a:pt x="935" y="2076"/>
                </a:lnTo>
                <a:lnTo>
                  <a:pt x="924" y="2080"/>
                </a:lnTo>
                <a:lnTo>
                  <a:pt x="914" y="2081"/>
                </a:lnTo>
                <a:lnTo>
                  <a:pt x="903" y="2081"/>
                </a:lnTo>
                <a:lnTo>
                  <a:pt x="893" y="2081"/>
                </a:lnTo>
                <a:lnTo>
                  <a:pt x="883" y="2080"/>
                </a:lnTo>
                <a:lnTo>
                  <a:pt x="873" y="2078"/>
                </a:lnTo>
                <a:lnTo>
                  <a:pt x="863" y="2075"/>
                </a:lnTo>
                <a:lnTo>
                  <a:pt x="855" y="2072"/>
                </a:lnTo>
                <a:lnTo>
                  <a:pt x="846" y="2068"/>
                </a:lnTo>
                <a:lnTo>
                  <a:pt x="837" y="2063"/>
                </a:lnTo>
                <a:lnTo>
                  <a:pt x="822" y="2053"/>
                </a:lnTo>
                <a:lnTo>
                  <a:pt x="809" y="2042"/>
                </a:lnTo>
                <a:lnTo>
                  <a:pt x="796" y="2031"/>
                </a:lnTo>
                <a:lnTo>
                  <a:pt x="786" y="2019"/>
                </a:lnTo>
                <a:lnTo>
                  <a:pt x="773" y="2002"/>
                </a:lnTo>
                <a:lnTo>
                  <a:pt x="768" y="1995"/>
                </a:lnTo>
                <a:lnTo>
                  <a:pt x="742" y="2002"/>
                </a:lnTo>
                <a:lnTo>
                  <a:pt x="718" y="2008"/>
                </a:lnTo>
                <a:lnTo>
                  <a:pt x="696" y="2013"/>
                </a:lnTo>
                <a:lnTo>
                  <a:pt x="675" y="2017"/>
                </a:lnTo>
                <a:lnTo>
                  <a:pt x="655" y="2019"/>
                </a:lnTo>
                <a:lnTo>
                  <a:pt x="636" y="2021"/>
                </a:lnTo>
                <a:lnTo>
                  <a:pt x="619" y="2022"/>
                </a:lnTo>
                <a:lnTo>
                  <a:pt x="603" y="2021"/>
                </a:lnTo>
                <a:lnTo>
                  <a:pt x="588" y="2019"/>
                </a:lnTo>
                <a:lnTo>
                  <a:pt x="574" y="2018"/>
                </a:lnTo>
                <a:lnTo>
                  <a:pt x="562" y="2014"/>
                </a:lnTo>
                <a:lnTo>
                  <a:pt x="549" y="2012"/>
                </a:lnTo>
                <a:lnTo>
                  <a:pt x="539" y="2008"/>
                </a:lnTo>
                <a:lnTo>
                  <a:pt x="529" y="2003"/>
                </a:lnTo>
                <a:lnTo>
                  <a:pt x="519" y="1998"/>
                </a:lnTo>
                <a:lnTo>
                  <a:pt x="512" y="1993"/>
                </a:lnTo>
                <a:lnTo>
                  <a:pt x="498" y="1982"/>
                </a:lnTo>
                <a:lnTo>
                  <a:pt x="487" y="1971"/>
                </a:lnTo>
                <a:lnTo>
                  <a:pt x="478" y="1960"/>
                </a:lnTo>
                <a:lnTo>
                  <a:pt x="472" y="1949"/>
                </a:lnTo>
                <a:lnTo>
                  <a:pt x="466" y="1933"/>
                </a:lnTo>
                <a:lnTo>
                  <a:pt x="465" y="1925"/>
                </a:lnTo>
                <a:lnTo>
                  <a:pt x="440" y="1923"/>
                </a:lnTo>
                <a:lnTo>
                  <a:pt x="419" y="1918"/>
                </a:lnTo>
                <a:lnTo>
                  <a:pt x="398" y="1913"/>
                </a:lnTo>
                <a:lnTo>
                  <a:pt x="380" y="1906"/>
                </a:lnTo>
                <a:lnTo>
                  <a:pt x="363" y="1900"/>
                </a:lnTo>
                <a:lnTo>
                  <a:pt x="348" y="1892"/>
                </a:lnTo>
                <a:lnTo>
                  <a:pt x="334" y="1883"/>
                </a:lnTo>
                <a:lnTo>
                  <a:pt x="323" y="1874"/>
                </a:lnTo>
                <a:lnTo>
                  <a:pt x="312" y="1864"/>
                </a:lnTo>
                <a:lnTo>
                  <a:pt x="303" y="1854"/>
                </a:lnTo>
                <a:lnTo>
                  <a:pt x="296" y="1843"/>
                </a:lnTo>
                <a:lnTo>
                  <a:pt x="288" y="1832"/>
                </a:lnTo>
                <a:lnTo>
                  <a:pt x="283" y="1821"/>
                </a:lnTo>
                <a:lnTo>
                  <a:pt x="278" y="1810"/>
                </a:lnTo>
                <a:lnTo>
                  <a:pt x="275" y="1797"/>
                </a:lnTo>
                <a:lnTo>
                  <a:pt x="272" y="1786"/>
                </a:lnTo>
                <a:lnTo>
                  <a:pt x="269" y="1763"/>
                </a:lnTo>
                <a:lnTo>
                  <a:pt x="269" y="1741"/>
                </a:lnTo>
                <a:lnTo>
                  <a:pt x="270" y="1720"/>
                </a:lnTo>
                <a:lnTo>
                  <a:pt x="271" y="1703"/>
                </a:lnTo>
                <a:lnTo>
                  <a:pt x="277" y="1676"/>
                </a:lnTo>
                <a:lnTo>
                  <a:pt x="281" y="1666"/>
                </a:lnTo>
                <a:lnTo>
                  <a:pt x="241" y="1656"/>
                </a:lnTo>
                <a:lnTo>
                  <a:pt x="205" y="1645"/>
                </a:lnTo>
                <a:lnTo>
                  <a:pt x="173" y="1634"/>
                </a:lnTo>
                <a:lnTo>
                  <a:pt x="144" y="1620"/>
                </a:lnTo>
                <a:lnTo>
                  <a:pt x="118" y="1607"/>
                </a:lnTo>
                <a:lnTo>
                  <a:pt x="96" y="1594"/>
                </a:lnTo>
                <a:lnTo>
                  <a:pt x="76" y="1580"/>
                </a:lnTo>
                <a:lnTo>
                  <a:pt x="59" y="1565"/>
                </a:lnTo>
                <a:lnTo>
                  <a:pt x="44" y="1550"/>
                </a:lnTo>
                <a:lnTo>
                  <a:pt x="33" y="1536"/>
                </a:lnTo>
                <a:lnTo>
                  <a:pt x="21" y="1521"/>
                </a:lnTo>
                <a:lnTo>
                  <a:pt x="14" y="1505"/>
                </a:lnTo>
                <a:lnTo>
                  <a:pt x="8" y="1490"/>
                </a:lnTo>
                <a:lnTo>
                  <a:pt x="4" y="1475"/>
                </a:lnTo>
                <a:lnTo>
                  <a:pt x="2" y="1460"/>
                </a:lnTo>
                <a:lnTo>
                  <a:pt x="0" y="1445"/>
                </a:lnTo>
                <a:lnTo>
                  <a:pt x="0" y="1430"/>
                </a:lnTo>
                <a:lnTo>
                  <a:pt x="2" y="1416"/>
                </a:lnTo>
                <a:lnTo>
                  <a:pt x="4" y="1403"/>
                </a:lnTo>
                <a:lnTo>
                  <a:pt x="7" y="1389"/>
                </a:lnTo>
                <a:lnTo>
                  <a:pt x="15" y="1366"/>
                </a:lnTo>
                <a:lnTo>
                  <a:pt x="24" y="1343"/>
                </a:lnTo>
                <a:lnTo>
                  <a:pt x="41" y="1312"/>
                </a:lnTo>
                <a:lnTo>
                  <a:pt x="50" y="1301"/>
                </a:lnTo>
                <a:lnTo>
                  <a:pt x="224" y="1321"/>
                </a:lnTo>
                <a:lnTo>
                  <a:pt x="247" y="1316"/>
                </a:lnTo>
                <a:lnTo>
                  <a:pt x="272" y="1310"/>
                </a:lnTo>
                <a:lnTo>
                  <a:pt x="296" y="1302"/>
                </a:lnTo>
                <a:lnTo>
                  <a:pt x="322" y="1294"/>
                </a:lnTo>
                <a:lnTo>
                  <a:pt x="348" y="1285"/>
                </a:lnTo>
                <a:lnTo>
                  <a:pt x="374" y="1274"/>
                </a:lnTo>
                <a:lnTo>
                  <a:pt x="401" y="1264"/>
                </a:lnTo>
                <a:lnTo>
                  <a:pt x="429" y="1251"/>
                </a:lnTo>
                <a:lnTo>
                  <a:pt x="449" y="1230"/>
                </a:lnTo>
                <a:lnTo>
                  <a:pt x="467" y="1208"/>
                </a:lnTo>
                <a:lnTo>
                  <a:pt x="483" y="1184"/>
                </a:lnTo>
                <a:lnTo>
                  <a:pt x="500" y="1161"/>
                </a:lnTo>
                <a:lnTo>
                  <a:pt x="514" y="1136"/>
                </a:lnTo>
                <a:lnTo>
                  <a:pt x="528" y="1111"/>
                </a:lnTo>
                <a:lnTo>
                  <a:pt x="539" y="1088"/>
                </a:lnTo>
                <a:lnTo>
                  <a:pt x="550" y="1065"/>
                </a:lnTo>
                <a:lnTo>
                  <a:pt x="568" y="1023"/>
                </a:lnTo>
                <a:lnTo>
                  <a:pt x="581" y="990"/>
                </a:lnTo>
                <a:lnTo>
                  <a:pt x="589" y="967"/>
                </a:lnTo>
                <a:lnTo>
                  <a:pt x="591" y="959"/>
                </a:lnTo>
                <a:lnTo>
                  <a:pt x="600" y="944"/>
                </a:lnTo>
                <a:lnTo>
                  <a:pt x="608" y="928"/>
                </a:lnTo>
                <a:lnTo>
                  <a:pt x="614" y="910"/>
                </a:lnTo>
                <a:lnTo>
                  <a:pt x="617" y="894"/>
                </a:lnTo>
                <a:lnTo>
                  <a:pt x="621" y="877"/>
                </a:lnTo>
                <a:lnTo>
                  <a:pt x="622" y="858"/>
                </a:lnTo>
                <a:lnTo>
                  <a:pt x="622" y="841"/>
                </a:lnTo>
                <a:lnTo>
                  <a:pt x="621" y="822"/>
                </a:lnTo>
                <a:lnTo>
                  <a:pt x="619" y="805"/>
                </a:lnTo>
                <a:lnTo>
                  <a:pt x="616" y="786"/>
                </a:lnTo>
                <a:lnTo>
                  <a:pt x="613" y="769"/>
                </a:lnTo>
                <a:lnTo>
                  <a:pt x="608" y="750"/>
                </a:lnTo>
                <a:lnTo>
                  <a:pt x="596" y="715"/>
                </a:lnTo>
                <a:lnTo>
                  <a:pt x="583" y="681"/>
                </a:lnTo>
                <a:lnTo>
                  <a:pt x="568" y="648"/>
                </a:lnTo>
                <a:lnTo>
                  <a:pt x="552" y="619"/>
                </a:lnTo>
                <a:lnTo>
                  <a:pt x="537" y="593"/>
                </a:lnTo>
                <a:lnTo>
                  <a:pt x="523" y="569"/>
                </a:lnTo>
                <a:lnTo>
                  <a:pt x="501" y="537"/>
                </a:lnTo>
                <a:lnTo>
                  <a:pt x="492" y="524"/>
                </a:lnTo>
                <a:lnTo>
                  <a:pt x="466" y="537"/>
                </a:lnTo>
                <a:lnTo>
                  <a:pt x="441" y="547"/>
                </a:lnTo>
                <a:lnTo>
                  <a:pt x="418" y="555"/>
                </a:lnTo>
                <a:lnTo>
                  <a:pt x="395" y="562"/>
                </a:lnTo>
                <a:lnTo>
                  <a:pt x="374" y="567"/>
                </a:lnTo>
                <a:lnTo>
                  <a:pt x="353" y="570"/>
                </a:lnTo>
                <a:lnTo>
                  <a:pt x="334" y="572"/>
                </a:lnTo>
                <a:lnTo>
                  <a:pt x="316" y="572"/>
                </a:lnTo>
                <a:lnTo>
                  <a:pt x="300" y="570"/>
                </a:lnTo>
                <a:lnTo>
                  <a:pt x="283" y="568"/>
                </a:lnTo>
                <a:lnTo>
                  <a:pt x="267" y="565"/>
                </a:lnTo>
                <a:lnTo>
                  <a:pt x="254" y="560"/>
                </a:lnTo>
                <a:lnTo>
                  <a:pt x="240" y="555"/>
                </a:lnTo>
                <a:lnTo>
                  <a:pt x="229" y="550"/>
                </a:lnTo>
                <a:lnTo>
                  <a:pt x="216" y="543"/>
                </a:lnTo>
                <a:lnTo>
                  <a:pt x="206" y="537"/>
                </a:lnTo>
                <a:lnTo>
                  <a:pt x="197" y="529"/>
                </a:lnTo>
                <a:lnTo>
                  <a:pt x="188" y="521"/>
                </a:lnTo>
                <a:lnTo>
                  <a:pt x="179" y="513"/>
                </a:lnTo>
                <a:lnTo>
                  <a:pt x="172" y="505"/>
                </a:lnTo>
                <a:lnTo>
                  <a:pt x="159" y="490"/>
                </a:lnTo>
                <a:lnTo>
                  <a:pt x="149" y="473"/>
                </a:lnTo>
                <a:lnTo>
                  <a:pt x="137" y="450"/>
                </a:lnTo>
                <a:lnTo>
                  <a:pt x="133" y="441"/>
                </a:lnTo>
                <a:lnTo>
                  <a:pt x="148" y="434"/>
                </a:lnTo>
                <a:lnTo>
                  <a:pt x="188" y="415"/>
                </a:lnTo>
                <a:lnTo>
                  <a:pt x="245" y="388"/>
                </a:lnTo>
                <a:lnTo>
                  <a:pt x="312" y="354"/>
                </a:lnTo>
                <a:lnTo>
                  <a:pt x="382" y="320"/>
                </a:lnTo>
                <a:lnTo>
                  <a:pt x="447" y="284"/>
                </a:lnTo>
                <a:lnTo>
                  <a:pt x="476" y="268"/>
                </a:lnTo>
                <a:lnTo>
                  <a:pt x="501" y="253"/>
                </a:lnTo>
                <a:lnTo>
                  <a:pt x="521" y="239"/>
                </a:lnTo>
                <a:lnTo>
                  <a:pt x="534" y="228"/>
                </a:lnTo>
                <a:close/>
              </a:path>
            </a:pathLst>
          </a:custGeom>
          <a:solidFill>
            <a:srgbClr val="efc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未知"/>
          <p:cNvSpPr/>
          <p:nvPr/>
        </p:nvSpPr>
        <p:spPr>
          <a:xfrm>
            <a:off x="1859040" y="4788000"/>
            <a:ext cx="706320" cy="860400"/>
          </a:xfrm>
          <a:custGeom>
            <a:avLst/>
            <a:gdLst/>
            <a:ahLst/>
            <a:rect l="l" t="t" r="r" b="b"/>
            <a:pathLst>
              <a:path w="1779" h="2168">
                <a:moveTo>
                  <a:pt x="1094" y="3"/>
                </a:moveTo>
                <a:lnTo>
                  <a:pt x="1085" y="7"/>
                </a:lnTo>
                <a:lnTo>
                  <a:pt x="1079" y="13"/>
                </a:lnTo>
                <a:lnTo>
                  <a:pt x="1074" y="19"/>
                </a:lnTo>
                <a:lnTo>
                  <a:pt x="1069" y="26"/>
                </a:lnTo>
                <a:lnTo>
                  <a:pt x="986" y="244"/>
                </a:lnTo>
                <a:lnTo>
                  <a:pt x="982" y="253"/>
                </a:lnTo>
                <a:lnTo>
                  <a:pt x="980" y="266"/>
                </a:lnTo>
                <a:lnTo>
                  <a:pt x="975" y="278"/>
                </a:lnTo>
                <a:lnTo>
                  <a:pt x="968" y="292"/>
                </a:lnTo>
                <a:lnTo>
                  <a:pt x="961" y="304"/>
                </a:lnTo>
                <a:lnTo>
                  <a:pt x="954" y="316"/>
                </a:lnTo>
                <a:lnTo>
                  <a:pt x="949" y="320"/>
                </a:lnTo>
                <a:lnTo>
                  <a:pt x="945" y="325"/>
                </a:lnTo>
                <a:lnTo>
                  <a:pt x="940" y="329"/>
                </a:lnTo>
                <a:lnTo>
                  <a:pt x="934" y="332"/>
                </a:lnTo>
                <a:lnTo>
                  <a:pt x="929" y="334"/>
                </a:lnTo>
                <a:lnTo>
                  <a:pt x="919" y="335"/>
                </a:lnTo>
                <a:lnTo>
                  <a:pt x="911" y="334"/>
                </a:lnTo>
                <a:lnTo>
                  <a:pt x="904" y="332"/>
                </a:lnTo>
                <a:lnTo>
                  <a:pt x="894" y="328"/>
                </a:lnTo>
                <a:lnTo>
                  <a:pt x="883" y="323"/>
                </a:lnTo>
                <a:lnTo>
                  <a:pt x="850" y="303"/>
                </a:lnTo>
                <a:lnTo>
                  <a:pt x="810" y="280"/>
                </a:lnTo>
                <a:lnTo>
                  <a:pt x="787" y="268"/>
                </a:lnTo>
                <a:lnTo>
                  <a:pt x="764" y="257"/>
                </a:lnTo>
                <a:lnTo>
                  <a:pt x="740" y="246"/>
                </a:lnTo>
                <a:lnTo>
                  <a:pt x="716" y="237"/>
                </a:lnTo>
                <a:lnTo>
                  <a:pt x="692" y="229"/>
                </a:lnTo>
                <a:lnTo>
                  <a:pt x="668" y="222"/>
                </a:lnTo>
                <a:lnTo>
                  <a:pt x="644" y="219"/>
                </a:lnTo>
                <a:lnTo>
                  <a:pt x="622" y="216"/>
                </a:lnTo>
                <a:lnTo>
                  <a:pt x="611" y="216"/>
                </a:lnTo>
                <a:lnTo>
                  <a:pt x="601" y="217"/>
                </a:lnTo>
                <a:lnTo>
                  <a:pt x="591" y="219"/>
                </a:lnTo>
                <a:lnTo>
                  <a:pt x="581" y="221"/>
                </a:lnTo>
                <a:lnTo>
                  <a:pt x="572" y="224"/>
                </a:lnTo>
                <a:lnTo>
                  <a:pt x="564" y="229"/>
                </a:lnTo>
                <a:lnTo>
                  <a:pt x="556" y="234"/>
                </a:lnTo>
                <a:lnTo>
                  <a:pt x="549" y="239"/>
                </a:lnTo>
                <a:lnTo>
                  <a:pt x="549" y="239"/>
                </a:lnTo>
                <a:lnTo>
                  <a:pt x="539" y="247"/>
                </a:lnTo>
                <a:lnTo>
                  <a:pt x="525" y="256"/>
                </a:lnTo>
                <a:lnTo>
                  <a:pt x="509" y="267"/>
                </a:lnTo>
                <a:lnTo>
                  <a:pt x="489" y="278"/>
                </a:lnTo>
                <a:lnTo>
                  <a:pt x="442" y="304"/>
                </a:lnTo>
                <a:lnTo>
                  <a:pt x="387" y="333"/>
                </a:lnTo>
                <a:lnTo>
                  <a:pt x="329" y="363"/>
                </a:lnTo>
                <a:lnTo>
                  <a:pt x="269" y="392"/>
                </a:lnTo>
                <a:lnTo>
                  <a:pt x="211" y="421"/>
                </a:lnTo>
                <a:lnTo>
                  <a:pt x="159" y="445"/>
                </a:lnTo>
                <a:lnTo>
                  <a:pt x="151" y="449"/>
                </a:lnTo>
                <a:lnTo>
                  <a:pt x="146" y="454"/>
                </a:lnTo>
                <a:lnTo>
                  <a:pt x="141" y="461"/>
                </a:lnTo>
                <a:lnTo>
                  <a:pt x="138" y="467"/>
                </a:lnTo>
                <a:lnTo>
                  <a:pt x="135" y="474"/>
                </a:lnTo>
                <a:lnTo>
                  <a:pt x="134" y="482"/>
                </a:lnTo>
                <a:lnTo>
                  <a:pt x="134" y="489"/>
                </a:lnTo>
                <a:lnTo>
                  <a:pt x="136" y="497"/>
                </a:lnTo>
                <a:lnTo>
                  <a:pt x="138" y="503"/>
                </a:lnTo>
                <a:lnTo>
                  <a:pt x="144" y="515"/>
                </a:lnTo>
                <a:lnTo>
                  <a:pt x="153" y="533"/>
                </a:lnTo>
                <a:lnTo>
                  <a:pt x="166" y="554"/>
                </a:lnTo>
                <a:lnTo>
                  <a:pt x="174" y="566"/>
                </a:lnTo>
                <a:lnTo>
                  <a:pt x="184" y="577"/>
                </a:lnTo>
                <a:lnTo>
                  <a:pt x="195" y="588"/>
                </a:lnTo>
                <a:lnTo>
                  <a:pt x="207" y="600"/>
                </a:lnTo>
                <a:lnTo>
                  <a:pt x="221" y="611"/>
                </a:lnTo>
                <a:lnTo>
                  <a:pt x="236" y="622"/>
                </a:lnTo>
                <a:lnTo>
                  <a:pt x="252" y="631"/>
                </a:lnTo>
                <a:lnTo>
                  <a:pt x="269" y="639"/>
                </a:lnTo>
                <a:lnTo>
                  <a:pt x="283" y="644"/>
                </a:lnTo>
                <a:lnTo>
                  <a:pt x="297" y="648"/>
                </a:lnTo>
                <a:lnTo>
                  <a:pt x="310" y="650"/>
                </a:lnTo>
                <a:lnTo>
                  <a:pt x="324" y="653"/>
                </a:lnTo>
                <a:lnTo>
                  <a:pt x="339" y="654"/>
                </a:lnTo>
                <a:lnTo>
                  <a:pt x="354" y="654"/>
                </a:lnTo>
                <a:lnTo>
                  <a:pt x="369" y="654"/>
                </a:lnTo>
                <a:lnTo>
                  <a:pt x="384" y="653"/>
                </a:lnTo>
                <a:lnTo>
                  <a:pt x="398" y="650"/>
                </a:lnTo>
                <a:lnTo>
                  <a:pt x="415" y="648"/>
                </a:lnTo>
                <a:lnTo>
                  <a:pt x="431" y="644"/>
                </a:lnTo>
                <a:lnTo>
                  <a:pt x="447" y="641"/>
                </a:lnTo>
                <a:lnTo>
                  <a:pt x="480" y="629"/>
                </a:lnTo>
                <a:lnTo>
                  <a:pt x="515" y="617"/>
                </a:lnTo>
                <a:lnTo>
                  <a:pt x="531" y="642"/>
                </a:lnTo>
                <a:lnTo>
                  <a:pt x="550" y="672"/>
                </a:lnTo>
                <a:lnTo>
                  <a:pt x="567" y="704"/>
                </a:lnTo>
                <a:lnTo>
                  <a:pt x="585" y="739"/>
                </a:lnTo>
                <a:lnTo>
                  <a:pt x="592" y="757"/>
                </a:lnTo>
                <a:lnTo>
                  <a:pt x="600" y="776"/>
                </a:lnTo>
                <a:lnTo>
                  <a:pt x="606" y="796"/>
                </a:lnTo>
                <a:lnTo>
                  <a:pt x="612" y="814"/>
                </a:lnTo>
                <a:lnTo>
                  <a:pt x="616" y="834"/>
                </a:lnTo>
                <a:lnTo>
                  <a:pt x="620" y="853"/>
                </a:lnTo>
                <a:lnTo>
                  <a:pt x="622" y="871"/>
                </a:lnTo>
                <a:lnTo>
                  <a:pt x="622" y="891"/>
                </a:lnTo>
                <a:lnTo>
                  <a:pt x="622" y="902"/>
                </a:lnTo>
                <a:lnTo>
                  <a:pt x="621" y="915"/>
                </a:lnTo>
                <a:lnTo>
                  <a:pt x="620" y="926"/>
                </a:lnTo>
                <a:lnTo>
                  <a:pt x="617" y="937"/>
                </a:lnTo>
                <a:lnTo>
                  <a:pt x="613" y="948"/>
                </a:lnTo>
                <a:lnTo>
                  <a:pt x="610" y="958"/>
                </a:lnTo>
                <a:lnTo>
                  <a:pt x="605" y="968"/>
                </a:lnTo>
                <a:lnTo>
                  <a:pt x="598" y="978"/>
                </a:lnTo>
                <a:lnTo>
                  <a:pt x="595" y="990"/>
                </a:lnTo>
                <a:lnTo>
                  <a:pt x="586" y="1014"/>
                </a:lnTo>
                <a:lnTo>
                  <a:pt x="572" y="1049"/>
                </a:lnTo>
                <a:lnTo>
                  <a:pt x="555" y="1088"/>
                </a:lnTo>
                <a:lnTo>
                  <a:pt x="545" y="1111"/>
                </a:lnTo>
                <a:lnTo>
                  <a:pt x="534" y="1133"/>
                </a:lnTo>
                <a:lnTo>
                  <a:pt x="520" y="1157"/>
                </a:lnTo>
                <a:lnTo>
                  <a:pt x="508" y="1179"/>
                </a:lnTo>
                <a:lnTo>
                  <a:pt x="493" y="1201"/>
                </a:lnTo>
                <a:lnTo>
                  <a:pt x="477" y="1224"/>
                </a:lnTo>
                <a:lnTo>
                  <a:pt x="461" y="1245"/>
                </a:lnTo>
                <a:lnTo>
                  <a:pt x="442" y="1263"/>
                </a:lnTo>
                <a:lnTo>
                  <a:pt x="412" y="1272"/>
                </a:lnTo>
                <a:lnTo>
                  <a:pt x="350" y="1292"/>
                </a:lnTo>
                <a:lnTo>
                  <a:pt x="288" y="1312"/>
                </a:lnTo>
                <a:lnTo>
                  <a:pt x="259" y="1322"/>
                </a:lnTo>
                <a:lnTo>
                  <a:pt x="98" y="1302"/>
                </a:lnTo>
                <a:lnTo>
                  <a:pt x="92" y="1302"/>
                </a:lnTo>
                <a:lnTo>
                  <a:pt x="87" y="1302"/>
                </a:lnTo>
                <a:lnTo>
                  <a:pt x="82" y="1303"/>
                </a:lnTo>
                <a:lnTo>
                  <a:pt x="77" y="1304"/>
                </a:lnTo>
                <a:lnTo>
                  <a:pt x="72" y="1307"/>
                </a:lnTo>
                <a:lnTo>
                  <a:pt x="67" y="1311"/>
                </a:lnTo>
                <a:lnTo>
                  <a:pt x="63" y="1313"/>
                </a:lnTo>
                <a:lnTo>
                  <a:pt x="59" y="1318"/>
                </a:lnTo>
                <a:lnTo>
                  <a:pt x="56" y="1322"/>
                </a:lnTo>
                <a:lnTo>
                  <a:pt x="48" y="1332"/>
                </a:lnTo>
                <a:lnTo>
                  <a:pt x="40" y="1348"/>
                </a:lnTo>
                <a:lnTo>
                  <a:pt x="28" y="1368"/>
                </a:lnTo>
                <a:lnTo>
                  <a:pt x="23" y="1379"/>
                </a:lnTo>
                <a:lnTo>
                  <a:pt x="19" y="1391"/>
                </a:lnTo>
                <a:lnTo>
                  <a:pt x="14" y="1405"/>
                </a:lnTo>
                <a:lnTo>
                  <a:pt x="9" y="1418"/>
                </a:lnTo>
                <a:lnTo>
                  <a:pt x="5" y="1433"/>
                </a:lnTo>
                <a:lnTo>
                  <a:pt x="2" y="1449"/>
                </a:lnTo>
                <a:lnTo>
                  <a:pt x="1" y="1466"/>
                </a:lnTo>
                <a:lnTo>
                  <a:pt x="0" y="1482"/>
                </a:lnTo>
                <a:lnTo>
                  <a:pt x="1" y="1498"/>
                </a:lnTo>
                <a:lnTo>
                  <a:pt x="2" y="1514"/>
                </a:lnTo>
                <a:lnTo>
                  <a:pt x="6" y="1531"/>
                </a:lnTo>
                <a:lnTo>
                  <a:pt x="11" y="1548"/>
                </a:lnTo>
                <a:lnTo>
                  <a:pt x="17" y="1564"/>
                </a:lnTo>
                <a:lnTo>
                  <a:pt x="25" y="1579"/>
                </a:lnTo>
                <a:lnTo>
                  <a:pt x="35" y="1593"/>
                </a:lnTo>
                <a:lnTo>
                  <a:pt x="45" y="1607"/>
                </a:lnTo>
                <a:lnTo>
                  <a:pt x="57" y="1621"/>
                </a:lnTo>
                <a:lnTo>
                  <a:pt x="71" y="1634"/>
                </a:lnTo>
                <a:lnTo>
                  <a:pt x="86" y="1647"/>
                </a:lnTo>
                <a:lnTo>
                  <a:pt x="102" y="1658"/>
                </a:lnTo>
                <a:lnTo>
                  <a:pt x="119" y="1669"/>
                </a:lnTo>
                <a:lnTo>
                  <a:pt x="138" y="1680"/>
                </a:lnTo>
                <a:lnTo>
                  <a:pt x="158" y="1690"/>
                </a:lnTo>
                <a:lnTo>
                  <a:pt x="179" y="1700"/>
                </a:lnTo>
                <a:lnTo>
                  <a:pt x="200" y="1710"/>
                </a:lnTo>
                <a:lnTo>
                  <a:pt x="223" y="1719"/>
                </a:lnTo>
                <a:lnTo>
                  <a:pt x="248" y="1727"/>
                </a:lnTo>
                <a:lnTo>
                  <a:pt x="274" y="1735"/>
                </a:lnTo>
                <a:lnTo>
                  <a:pt x="272" y="1746"/>
                </a:lnTo>
                <a:lnTo>
                  <a:pt x="271" y="1758"/>
                </a:lnTo>
                <a:lnTo>
                  <a:pt x="269" y="1772"/>
                </a:lnTo>
                <a:lnTo>
                  <a:pt x="268" y="1787"/>
                </a:lnTo>
                <a:lnTo>
                  <a:pt x="269" y="1801"/>
                </a:lnTo>
                <a:lnTo>
                  <a:pt x="271" y="1816"/>
                </a:lnTo>
                <a:lnTo>
                  <a:pt x="272" y="1830"/>
                </a:lnTo>
                <a:lnTo>
                  <a:pt x="276" y="1845"/>
                </a:lnTo>
                <a:lnTo>
                  <a:pt x="279" y="1861"/>
                </a:lnTo>
                <a:lnTo>
                  <a:pt x="285" y="1876"/>
                </a:lnTo>
                <a:lnTo>
                  <a:pt x="292" y="1891"/>
                </a:lnTo>
                <a:lnTo>
                  <a:pt x="300" y="1906"/>
                </a:lnTo>
                <a:lnTo>
                  <a:pt x="308" y="1916"/>
                </a:lnTo>
                <a:lnTo>
                  <a:pt x="315" y="1925"/>
                </a:lnTo>
                <a:lnTo>
                  <a:pt x="323" y="1933"/>
                </a:lnTo>
                <a:lnTo>
                  <a:pt x="331" y="1942"/>
                </a:lnTo>
                <a:lnTo>
                  <a:pt x="340" y="1949"/>
                </a:lnTo>
                <a:lnTo>
                  <a:pt x="350" y="1957"/>
                </a:lnTo>
                <a:lnTo>
                  <a:pt x="360" y="1963"/>
                </a:lnTo>
                <a:lnTo>
                  <a:pt x="371" y="1969"/>
                </a:lnTo>
                <a:lnTo>
                  <a:pt x="382" y="1976"/>
                </a:lnTo>
                <a:lnTo>
                  <a:pt x="394" y="1981"/>
                </a:lnTo>
                <a:lnTo>
                  <a:pt x="406" y="1985"/>
                </a:lnTo>
                <a:lnTo>
                  <a:pt x="420" y="1990"/>
                </a:lnTo>
                <a:lnTo>
                  <a:pt x="447" y="1998"/>
                </a:lnTo>
                <a:lnTo>
                  <a:pt x="475" y="2003"/>
                </a:lnTo>
                <a:lnTo>
                  <a:pt x="479" y="2012"/>
                </a:lnTo>
                <a:lnTo>
                  <a:pt x="483" y="2020"/>
                </a:lnTo>
                <a:lnTo>
                  <a:pt x="489" y="2030"/>
                </a:lnTo>
                <a:lnTo>
                  <a:pt x="495" y="2039"/>
                </a:lnTo>
                <a:lnTo>
                  <a:pt x="504" y="2049"/>
                </a:lnTo>
                <a:lnTo>
                  <a:pt x="513" y="2057"/>
                </a:lnTo>
                <a:lnTo>
                  <a:pt x="525" y="2067"/>
                </a:lnTo>
                <a:lnTo>
                  <a:pt x="539" y="2076"/>
                </a:lnTo>
                <a:lnTo>
                  <a:pt x="550" y="2082"/>
                </a:lnTo>
                <a:lnTo>
                  <a:pt x="562" y="2088"/>
                </a:lnTo>
                <a:lnTo>
                  <a:pt x="575" y="2093"/>
                </a:lnTo>
                <a:lnTo>
                  <a:pt x="588" y="2097"/>
                </a:lnTo>
                <a:lnTo>
                  <a:pt x="602" y="2101"/>
                </a:lnTo>
                <a:lnTo>
                  <a:pt x="617" y="2102"/>
                </a:lnTo>
                <a:lnTo>
                  <a:pt x="632" y="2105"/>
                </a:lnTo>
                <a:lnTo>
                  <a:pt x="648" y="2105"/>
                </a:lnTo>
                <a:lnTo>
                  <a:pt x="664" y="2105"/>
                </a:lnTo>
                <a:lnTo>
                  <a:pt x="682" y="2105"/>
                </a:lnTo>
                <a:lnTo>
                  <a:pt x="699" y="2102"/>
                </a:lnTo>
                <a:lnTo>
                  <a:pt x="718" y="2100"/>
                </a:lnTo>
                <a:lnTo>
                  <a:pt x="755" y="2093"/>
                </a:lnTo>
                <a:lnTo>
                  <a:pt x="795" y="2083"/>
                </a:lnTo>
                <a:lnTo>
                  <a:pt x="803" y="2095"/>
                </a:lnTo>
                <a:lnTo>
                  <a:pt x="814" y="2107"/>
                </a:lnTo>
                <a:lnTo>
                  <a:pt x="827" y="2121"/>
                </a:lnTo>
                <a:lnTo>
                  <a:pt x="843" y="2133"/>
                </a:lnTo>
                <a:lnTo>
                  <a:pt x="852" y="2139"/>
                </a:lnTo>
                <a:lnTo>
                  <a:pt x="860" y="2144"/>
                </a:lnTo>
                <a:lnTo>
                  <a:pt x="870" y="2149"/>
                </a:lnTo>
                <a:lnTo>
                  <a:pt x="880" y="2154"/>
                </a:lnTo>
                <a:lnTo>
                  <a:pt x="891" y="2159"/>
                </a:lnTo>
                <a:lnTo>
                  <a:pt x="904" y="2162"/>
                </a:lnTo>
                <a:lnTo>
                  <a:pt x="916" y="2165"/>
                </a:lnTo>
                <a:lnTo>
                  <a:pt x="929" y="2167"/>
                </a:lnTo>
                <a:lnTo>
                  <a:pt x="939" y="2168"/>
                </a:lnTo>
                <a:lnTo>
                  <a:pt x="949" y="2168"/>
                </a:lnTo>
                <a:lnTo>
                  <a:pt x="959" y="2167"/>
                </a:lnTo>
                <a:lnTo>
                  <a:pt x="968" y="2165"/>
                </a:lnTo>
                <a:lnTo>
                  <a:pt x="978" y="2164"/>
                </a:lnTo>
                <a:lnTo>
                  <a:pt x="988" y="2162"/>
                </a:lnTo>
                <a:lnTo>
                  <a:pt x="997" y="2159"/>
                </a:lnTo>
                <a:lnTo>
                  <a:pt x="1007" y="2155"/>
                </a:lnTo>
                <a:lnTo>
                  <a:pt x="1026" y="2146"/>
                </a:lnTo>
                <a:lnTo>
                  <a:pt x="1044" y="2134"/>
                </a:lnTo>
                <a:lnTo>
                  <a:pt x="1063" y="2119"/>
                </a:lnTo>
                <a:lnTo>
                  <a:pt x="1081" y="2103"/>
                </a:lnTo>
                <a:lnTo>
                  <a:pt x="1090" y="2092"/>
                </a:lnTo>
                <a:lnTo>
                  <a:pt x="1106" y="2072"/>
                </a:lnTo>
                <a:lnTo>
                  <a:pt x="1131" y="2041"/>
                </a:lnTo>
                <a:lnTo>
                  <a:pt x="1162" y="2002"/>
                </a:lnTo>
                <a:lnTo>
                  <a:pt x="1197" y="1953"/>
                </a:lnTo>
                <a:lnTo>
                  <a:pt x="1237" y="1896"/>
                </a:lnTo>
                <a:lnTo>
                  <a:pt x="1257" y="1865"/>
                </a:lnTo>
                <a:lnTo>
                  <a:pt x="1278" y="1833"/>
                </a:lnTo>
                <a:lnTo>
                  <a:pt x="1299" y="1798"/>
                </a:lnTo>
                <a:lnTo>
                  <a:pt x="1320" y="1762"/>
                </a:lnTo>
                <a:lnTo>
                  <a:pt x="1340" y="1724"/>
                </a:lnTo>
                <a:lnTo>
                  <a:pt x="1361" y="1685"/>
                </a:lnTo>
                <a:lnTo>
                  <a:pt x="1382" y="1646"/>
                </a:lnTo>
                <a:lnTo>
                  <a:pt x="1402" y="1603"/>
                </a:lnTo>
                <a:lnTo>
                  <a:pt x="1420" y="1561"/>
                </a:lnTo>
                <a:lnTo>
                  <a:pt x="1439" y="1516"/>
                </a:lnTo>
                <a:lnTo>
                  <a:pt x="1456" y="1472"/>
                </a:lnTo>
                <a:lnTo>
                  <a:pt x="1473" y="1426"/>
                </a:lnTo>
                <a:lnTo>
                  <a:pt x="1487" y="1380"/>
                </a:lnTo>
                <a:lnTo>
                  <a:pt x="1501" y="1333"/>
                </a:lnTo>
                <a:lnTo>
                  <a:pt x="1512" y="1284"/>
                </a:lnTo>
                <a:lnTo>
                  <a:pt x="1522" y="1236"/>
                </a:lnTo>
                <a:lnTo>
                  <a:pt x="1531" y="1186"/>
                </a:lnTo>
                <a:lnTo>
                  <a:pt x="1537" y="1137"/>
                </a:lnTo>
                <a:lnTo>
                  <a:pt x="1540" y="1087"/>
                </a:lnTo>
                <a:lnTo>
                  <a:pt x="1542" y="1038"/>
                </a:lnTo>
                <a:lnTo>
                  <a:pt x="1541" y="1015"/>
                </a:lnTo>
                <a:lnTo>
                  <a:pt x="1540" y="993"/>
                </a:lnTo>
                <a:lnTo>
                  <a:pt x="1538" y="972"/>
                </a:lnTo>
                <a:lnTo>
                  <a:pt x="1537" y="949"/>
                </a:lnTo>
                <a:lnTo>
                  <a:pt x="1561" y="937"/>
                </a:lnTo>
                <a:lnTo>
                  <a:pt x="1588" y="920"/>
                </a:lnTo>
                <a:lnTo>
                  <a:pt x="1603" y="911"/>
                </a:lnTo>
                <a:lnTo>
                  <a:pt x="1619" y="900"/>
                </a:lnTo>
                <a:lnTo>
                  <a:pt x="1634" y="889"/>
                </a:lnTo>
                <a:lnTo>
                  <a:pt x="1649" y="875"/>
                </a:lnTo>
                <a:lnTo>
                  <a:pt x="1665" y="863"/>
                </a:lnTo>
                <a:lnTo>
                  <a:pt x="1680" y="848"/>
                </a:lnTo>
                <a:lnTo>
                  <a:pt x="1694" y="832"/>
                </a:lnTo>
                <a:lnTo>
                  <a:pt x="1709" y="814"/>
                </a:lnTo>
                <a:lnTo>
                  <a:pt x="1721" y="797"/>
                </a:lnTo>
                <a:lnTo>
                  <a:pt x="1733" y="777"/>
                </a:lnTo>
                <a:lnTo>
                  <a:pt x="1745" y="757"/>
                </a:lnTo>
                <a:lnTo>
                  <a:pt x="1754" y="735"/>
                </a:lnTo>
                <a:lnTo>
                  <a:pt x="1761" y="720"/>
                </a:lnTo>
                <a:lnTo>
                  <a:pt x="1766" y="705"/>
                </a:lnTo>
                <a:lnTo>
                  <a:pt x="1769" y="690"/>
                </a:lnTo>
                <a:lnTo>
                  <a:pt x="1773" y="675"/>
                </a:lnTo>
                <a:lnTo>
                  <a:pt x="1776" y="659"/>
                </a:lnTo>
                <a:lnTo>
                  <a:pt x="1778" y="644"/>
                </a:lnTo>
                <a:lnTo>
                  <a:pt x="1779" y="628"/>
                </a:lnTo>
                <a:lnTo>
                  <a:pt x="1779" y="612"/>
                </a:lnTo>
                <a:lnTo>
                  <a:pt x="1779" y="591"/>
                </a:lnTo>
                <a:lnTo>
                  <a:pt x="1777" y="570"/>
                </a:lnTo>
                <a:lnTo>
                  <a:pt x="1773" y="549"/>
                </a:lnTo>
                <a:lnTo>
                  <a:pt x="1769" y="526"/>
                </a:lnTo>
                <a:lnTo>
                  <a:pt x="1763" y="504"/>
                </a:lnTo>
                <a:lnTo>
                  <a:pt x="1756" y="483"/>
                </a:lnTo>
                <a:lnTo>
                  <a:pt x="1747" y="459"/>
                </a:lnTo>
                <a:lnTo>
                  <a:pt x="1737" y="437"/>
                </a:lnTo>
                <a:lnTo>
                  <a:pt x="1732" y="430"/>
                </a:lnTo>
                <a:lnTo>
                  <a:pt x="1726" y="422"/>
                </a:lnTo>
                <a:lnTo>
                  <a:pt x="1706" y="406"/>
                </a:lnTo>
                <a:lnTo>
                  <a:pt x="1661" y="369"/>
                </a:lnTo>
                <a:lnTo>
                  <a:pt x="1596" y="316"/>
                </a:lnTo>
                <a:lnTo>
                  <a:pt x="1514" y="253"/>
                </a:lnTo>
                <a:lnTo>
                  <a:pt x="1469" y="220"/>
                </a:lnTo>
                <a:lnTo>
                  <a:pt x="1422" y="185"/>
                </a:lnTo>
                <a:lnTo>
                  <a:pt x="1373" y="152"/>
                </a:lnTo>
                <a:lnTo>
                  <a:pt x="1324" y="118"/>
                </a:lnTo>
                <a:lnTo>
                  <a:pt x="1274" y="86"/>
                </a:lnTo>
                <a:lnTo>
                  <a:pt x="1224" y="55"/>
                </a:lnTo>
                <a:lnTo>
                  <a:pt x="1175" y="28"/>
                </a:lnTo>
                <a:lnTo>
                  <a:pt x="1127" y="4"/>
                </a:lnTo>
                <a:lnTo>
                  <a:pt x="1120" y="0"/>
                </a:lnTo>
                <a:lnTo>
                  <a:pt x="1111" y="0"/>
                </a:lnTo>
                <a:lnTo>
                  <a:pt x="1103" y="0"/>
                </a:lnTo>
                <a:lnTo>
                  <a:pt x="1094" y="3"/>
                </a:lnTo>
                <a:close/>
                <a:moveTo>
                  <a:pt x="970" y="410"/>
                </a:moveTo>
                <a:lnTo>
                  <a:pt x="983" y="402"/>
                </a:lnTo>
                <a:lnTo>
                  <a:pt x="995" y="395"/>
                </a:lnTo>
                <a:lnTo>
                  <a:pt x="1006" y="385"/>
                </a:lnTo>
                <a:lnTo>
                  <a:pt x="1016" y="375"/>
                </a:lnTo>
                <a:lnTo>
                  <a:pt x="1024" y="364"/>
                </a:lnTo>
                <a:lnTo>
                  <a:pt x="1032" y="353"/>
                </a:lnTo>
                <a:lnTo>
                  <a:pt x="1039" y="342"/>
                </a:lnTo>
                <a:lnTo>
                  <a:pt x="1045" y="330"/>
                </a:lnTo>
                <a:lnTo>
                  <a:pt x="1054" y="309"/>
                </a:lnTo>
                <a:lnTo>
                  <a:pt x="1062" y="289"/>
                </a:lnTo>
                <a:lnTo>
                  <a:pt x="1065" y="276"/>
                </a:lnTo>
                <a:lnTo>
                  <a:pt x="1068" y="268"/>
                </a:lnTo>
                <a:lnTo>
                  <a:pt x="1074" y="250"/>
                </a:lnTo>
                <a:lnTo>
                  <a:pt x="1091" y="206"/>
                </a:lnTo>
                <a:lnTo>
                  <a:pt x="1112" y="152"/>
                </a:lnTo>
                <a:lnTo>
                  <a:pt x="1131" y="103"/>
                </a:lnTo>
                <a:lnTo>
                  <a:pt x="1172" y="126"/>
                </a:lnTo>
                <a:lnTo>
                  <a:pt x="1214" y="150"/>
                </a:lnTo>
                <a:lnTo>
                  <a:pt x="1257" y="178"/>
                </a:lnTo>
                <a:lnTo>
                  <a:pt x="1299" y="205"/>
                </a:lnTo>
                <a:lnTo>
                  <a:pt x="1382" y="263"/>
                </a:lnTo>
                <a:lnTo>
                  <a:pt x="1460" y="320"/>
                </a:lnTo>
                <a:lnTo>
                  <a:pt x="1531" y="375"/>
                </a:lnTo>
                <a:lnTo>
                  <a:pt x="1591" y="421"/>
                </a:lnTo>
                <a:lnTo>
                  <a:pt x="1634" y="458"/>
                </a:lnTo>
                <a:lnTo>
                  <a:pt x="1661" y="479"/>
                </a:lnTo>
                <a:lnTo>
                  <a:pt x="1669" y="497"/>
                </a:lnTo>
                <a:lnTo>
                  <a:pt x="1675" y="514"/>
                </a:lnTo>
                <a:lnTo>
                  <a:pt x="1680" y="531"/>
                </a:lnTo>
                <a:lnTo>
                  <a:pt x="1685" y="548"/>
                </a:lnTo>
                <a:lnTo>
                  <a:pt x="1689" y="565"/>
                </a:lnTo>
                <a:lnTo>
                  <a:pt x="1691" y="581"/>
                </a:lnTo>
                <a:lnTo>
                  <a:pt x="1692" y="597"/>
                </a:lnTo>
                <a:lnTo>
                  <a:pt x="1694" y="612"/>
                </a:lnTo>
                <a:lnTo>
                  <a:pt x="1692" y="636"/>
                </a:lnTo>
                <a:lnTo>
                  <a:pt x="1689" y="658"/>
                </a:lnTo>
                <a:lnTo>
                  <a:pt x="1684" y="680"/>
                </a:lnTo>
                <a:lnTo>
                  <a:pt x="1676" y="701"/>
                </a:lnTo>
                <a:lnTo>
                  <a:pt x="1665" y="725"/>
                </a:lnTo>
                <a:lnTo>
                  <a:pt x="1651" y="746"/>
                </a:lnTo>
                <a:lnTo>
                  <a:pt x="1638" y="766"/>
                </a:lnTo>
                <a:lnTo>
                  <a:pt x="1622" y="784"/>
                </a:lnTo>
                <a:lnTo>
                  <a:pt x="1604" y="801"/>
                </a:lnTo>
                <a:lnTo>
                  <a:pt x="1588" y="816"/>
                </a:lnTo>
                <a:lnTo>
                  <a:pt x="1571" y="829"/>
                </a:lnTo>
                <a:lnTo>
                  <a:pt x="1553" y="842"/>
                </a:lnTo>
                <a:lnTo>
                  <a:pt x="1521" y="861"/>
                </a:lnTo>
                <a:lnTo>
                  <a:pt x="1494" y="875"/>
                </a:lnTo>
                <a:lnTo>
                  <a:pt x="1475" y="884"/>
                </a:lnTo>
                <a:lnTo>
                  <a:pt x="1468" y="886"/>
                </a:lnTo>
                <a:lnTo>
                  <a:pt x="1463" y="889"/>
                </a:lnTo>
                <a:lnTo>
                  <a:pt x="1459" y="892"/>
                </a:lnTo>
                <a:lnTo>
                  <a:pt x="1456" y="897"/>
                </a:lnTo>
                <a:lnTo>
                  <a:pt x="1454" y="902"/>
                </a:lnTo>
                <a:lnTo>
                  <a:pt x="1450" y="914"/>
                </a:lnTo>
                <a:lnTo>
                  <a:pt x="1450" y="927"/>
                </a:lnTo>
                <a:lnTo>
                  <a:pt x="1450" y="933"/>
                </a:lnTo>
                <a:lnTo>
                  <a:pt x="1450" y="941"/>
                </a:lnTo>
                <a:lnTo>
                  <a:pt x="1453" y="964"/>
                </a:lnTo>
                <a:lnTo>
                  <a:pt x="1454" y="988"/>
                </a:lnTo>
                <a:lnTo>
                  <a:pt x="1455" y="1012"/>
                </a:lnTo>
                <a:lnTo>
                  <a:pt x="1455" y="1035"/>
                </a:lnTo>
                <a:lnTo>
                  <a:pt x="1454" y="1082"/>
                </a:lnTo>
                <a:lnTo>
                  <a:pt x="1450" y="1129"/>
                </a:lnTo>
                <a:lnTo>
                  <a:pt x="1445" y="1177"/>
                </a:lnTo>
                <a:lnTo>
                  <a:pt x="1437" y="1224"/>
                </a:lnTo>
                <a:lnTo>
                  <a:pt x="1428" y="1270"/>
                </a:lnTo>
                <a:lnTo>
                  <a:pt x="1415" y="1316"/>
                </a:lnTo>
                <a:lnTo>
                  <a:pt x="1403" y="1361"/>
                </a:lnTo>
                <a:lnTo>
                  <a:pt x="1388" y="1405"/>
                </a:lnTo>
                <a:lnTo>
                  <a:pt x="1372" y="1449"/>
                </a:lnTo>
                <a:lnTo>
                  <a:pt x="1355" y="1492"/>
                </a:lnTo>
                <a:lnTo>
                  <a:pt x="1337" y="1534"/>
                </a:lnTo>
                <a:lnTo>
                  <a:pt x="1319" y="1575"/>
                </a:lnTo>
                <a:lnTo>
                  <a:pt x="1299" y="1616"/>
                </a:lnTo>
                <a:lnTo>
                  <a:pt x="1279" y="1654"/>
                </a:lnTo>
                <a:lnTo>
                  <a:pt x="1259" y="1691"/>
                </a:lnTo>
                <a:lnTo>
                  <a:pt x="1239" y="1727"/>
                </a:lnTo>
                <a:lnTo>
                  <a:pt x="1198" y="1796"/>
                </a:lnTo>
                <a:lnTo>
                  <a:pt x="1158" y="1856"/>
                </a:lnTo>
                <a:lnTo>
                  <a:pt x="1121" y="1910"/>
                </a:lnTo>
                <a:lnTo>
                  <a:pt x="1089" y="1956"/>
                </a:lnTo>
                <a:lnTo>
                  <a:pt x="1060" y="1993"/>
                </a:lnTo>
                <a:lnTo>
                  <a:pt x="1038" y="2020"/>
                </a:lnTo>
                <a:lnTo>
                  <a:pt x="1024" y="2038"/>
                </a:lnTo>
                <a:lnTo>
                  <a:pt x="1018" y="2045"/>
                </a:lnTo>
                <a:lnTo>
                  <a:pt x="1008" y="2054"/>
                </a:lnTo>
                <a:lnTo>
                  <a:pt x="998" y="2062"/>
                </a:lnTo>
                <a:lnTo>
                  <a:pt x="988" y="2069"/>
                </a:lnTo>
                <a:lnTo>
                  <a:pt x="978" y="2074"/>
                </a:lnTo>
                <a:lnTo>
                  <a:pt x="968" y="2079"/>
                </a:lnTo>
                <a:lnTo>
                  <a:pt x="959" y="2081"/>
                </a:lnTo>
                <a:lnTo>
                  <a:pt x="949" y="2082"/>
                </a:lnTo>
                <a:lnTo>
                  <a:pt x="939" y="2081"/>
                </a:lnTo>
                <a:lnTo>
                  <a:pt x="930" y="2080"/>
                </a:lnTo>
                <a:lnTo>
                  <a:pt x="923" y="2079"/>
                </a:lnTo>
                <a:lnTo>
                  <a:pt x="915" y="2075"/>
                </a:lnTo>
                <a:lnTo>
                  <a:pt x="908" y="2072"/>
                </a:lnTo>
                <a:lnTo>
                  <a:pt x="893" y="2064"/>
                </a:lnTo>
                <a:lnTo>
                  <a:pt x="880" y="2052"/>
                </a:lnTo>
                <a:lnTo>
                  <a:pt x="869" y="2043"/>
                </a:lnTo>
                <a:lnTo>
                  <a:pt x="859" y="2031"/>
                </a:lnTo>
                <a:lnTo>
                  <a:pt x="852" y="2023"/>
                </a:lnTo>
                <a:lnTo>
                  <a:pt x="847" y="2015"/>
                </a:lnTo>
                <a:lnTo>
                  <a:pt x="842" y="2009"/>
                </a:lnTo>
                <a:lnTo>
                  <a:pt x="837" y="2004"/>
                </a:lnTo>
                <a:lnTo>
                  <a:pt x="831" y="2000"/>
                </a:lnTo>
                <a:lnTo>
                  <a:pt x="824" y="1998"/>
                </a:lnTo>
                <a:lnTo>
                  <a:pt x="818" y="1995"/>
                </a:lnTo>
                <a:lnTo>
                  <a:pt x="812" y="1995"/>
                </a:lnTo>
                <a:lnTo>
                  <a:pt x="805" y="1995"/>
                </a:lnTo>
                <a:lnTo>
                  <a:pt x="797" y="1997"/>
                </a:lnTo>
                <a:lnTo>
                  <a:pt x="776" y="2004"/>
                </a:lnTo>
                <a:lnTo>
                  <a:pt x="755" y="2009"/>
                </a:lnTo>
                <a:lnTo>
                  <a:pt x="735" y="2014"/>
                </a:lnTo>
                <a:lnTo>
                  <a:pt x="718" y="2016"/>
                </a:lnTo>
                <a:lnTo>
                  <a:pt x="700" y="2019"/>
                </a:lnTo>
                <a:lnTo>
                  <a:pt x="685" y="2021"/>
                </a:lnTo>
                <a:lnTo>
                  <a:pt x="670" y="2021"/>
                </a:lnTo>
                <a:lnTo>
                  <a:pt x="657" y="2021"/>
                </a:lnTo>
                <a:lnTo>
                  <a:pt x="644" y="2021"/>
                </a:lnTo>
                <a:lnTo>
                  <a:pt x="633" y="2020"/>
                </a:lnTo>
                <a:lnTo>
                  <a:pt x="623" y="2019"/>
                </a:lnTo>
                <a:lnTo>
                  <a:pt x="615" y="2016"/>
                </a:lnTo>
                <a:lnTo>
                  <a:pt x="598" y="2012"/>
                </a:lnTo>
                <a:lnTo>
                  <a:pt x="585" y="2004"/>
                </a:lnTo>
                <a:lnTo>
                  <a:pt x="575" y="1998"/>
                </a:lnTo>
                <a:lnTo>
                  <a:pt x="567" y="1990"/>
                </a:lnTo>
                <a:lnTo>
                  <a:pt x="561" y="1983"/>
                </a:lnTo>
                <a:lnTo>
                  <a:pt x="556" y="1977"/>
                </a:lnTo>
                <a:lnTo>
                  <a:pt x="551" y="1966"/>
                </a:lnTo>
                <a:lnTo>
                  <a:pt x="550" y="1961"/>
                </a:lnTo>
                <a:lnTo>
                  <a:pt x="547" y="1954"/>
                </a:lnTo>
                <a:lnTo>
                  <a:pt x="545" y="1948"/>
                </a:lnTo>
                <a:lnTo>
                  <a:pt x="541" y="1942"/>
                </a:lnTo>
                <a:lnTo>
                  <a:pt x="536" y="1937"/>
                </a:lnTo>
                <a:lnTo>
                  <a:pt x="531" y="1933"/>
                </a:lnTo>
                <a:lnTo>
                  <a:pt x="525" y="1930"/>
                </a:lnTo>
                <a:lnTo>
                  <a:pt x="519" y="1927"/>
                </a:lnTo>
                <a:lnTo>
                  <a:pt x="511" y="1926"/>
                </a:lnTo>
                <a:lnTo>
                  <a:pt x="487" y="1922"/>
                </a:lnTo>
                <a:lnTo>
                  <a:pt x="464" y="1918"/>
                </a:lnTo>
                <a:lnTo>
                  <a:pt x="444" y="1912"/>
                </a:lnTo>
                <a:lnTo>
                  <a:pt x="426" y="1905"/>
                </a:lnTo>
                <a:lnTo>
                  <a:pt x="410" y="1896"/>
                </a:lnTo>
                <a:lnTo>
                  <a:pt x="395" y="1885"/>
                </a:lnTo>
                <a:lnTo>
                  <a:pt x="389" y="1880"/>
                </a:lnTo>
                <a:lnTo>
                  <a:pt x="384" y="1874"/>
                </a:lnTo>
                <a:lnTo>
                  <a:pt x="377" y="1868"/>
                </a:lnTo>
                <a:lnTo>
                  <a:pt x="374" y="1861"/>
                </a:lnTo>
                <a:lnTo>
                  <a:pt x="369" y="1851"/>
                </a:lnTo>
                <a:lnTo>
                  <a:pt x="364" y="1843"/>
                </a:lnTo>
                <a:lnTo>
                  <a:pt x="360" y="1834"/>
                </a:lnTo>
                <a:lnTo>
                  <a:pt x="358" y="1824"/>
                </a:lnTo>
                <a:lnTo>
                  <a:pt x="355" y="1806"/>
                </a:lnTo>
                <a:lnTo>
                  <a:pt x="354" y="1787"/>
                </a:lnTo>
                <a:lnTo>
                  <a:pt x="355" y="1762"/>
                </a:lnTo>
                <a:lnTo>
                  <a:pt x="359" y="1742"/>
                </a:lnTo>
                <a:lnTo>
                  <a:pt x="362" y="1729"/>
                </a:lnTo>
                <a:lnTo>
                  <a:pt x="364" y="1722"/>
                </a:lnTo>
                <a:lnTo>
                  <a:pt x="365" y="1716"/>
                </a:lnTo>
                <a:lnTo>
                  <a:pt x="366" y="1709"/>
                </a:lnTo>
                <a:lnTo>
                  <a:pt x="366" y="1704"/>
                </a:lnTo>
                <a:lnTo>
                  <a:pt x="365" y="1699"/>
                </a:lnTo>
                <a:lnTo>
                  <a:pt x="364" y="1693"/>
                </a:lnTo>
                <a:lnTo>
                  <a:pt x="361" y="1688"/>
                </a:lnTo>
                <a:lnTo>
                  <a:pt x="356" y="1682"/>
                </a:lnTo>
                <a:lnTo>
                  <a:pt x="349" y="1675"/>
                </a:lnTo>
                <a:lnTo>
                  <a:pt x="341" y="1670"/>
                </a:lnTo>
                <a:lnTo>
                  <a:pt x="333" y="1667"/>
                </a:lnTo>
                <a:lnTo>
                  <a:pt x="309" y="1662"/>
                </a:lnTo>
                <a:lnTo>
                  <a:pt x="285" y="1654"/>
                </a:lnTo>
                <a:lnTo>
                  <a:pt x="263" y="1648"/>
                </a:lnTo>
                <a:lnTo>
                  <a:pt x="242" y="1639"/>
                </a:lnTo>
                <a:lnTo>
                  <a:pt x="222" y="1632"/>
                </a:lnTo>
                <a:lnTo>
                  <a:pt x="204" y="1623"/>
                </a:lnTo>
                <a:lnTo>
                  <a:pt x="186" y="1615"/>
                </a:lnTo>
                <a:lnTo>
                  <a:pt x="170" y="1606"/>
                </a:lnTo>
                <a:lnTo>
                  <a:pt x="156" y="1597"/>
                </a:lnTo>
                <a:lnTo>
                  <a:pt x="143" y="1587"/>
                </a:lnTo>
                <a:lnTo>
                  <a:pt x="130" y="1576"/>
                </a:lnTo>
                <a:lnTo>
                  <a:pt x="120" y="1566"/>
                </a:lnTo>
                <a:lnTo>
                  <a:pt x="112" y="1555"/>
                </a:lnTo>
                <a:lnTo>
                  <a:pt x="104" y="1544"/>
                </a:lnTo>
                <a:lnTo>
                  <a:pt x="97" y="1533"/>
                </a:lnTo>
                <a:lnTo>
                  <a:pt x="93" y="1520"/>
                </a:lnTo>
                <a:lnTo>
                  <a:pt x="89" y="1510"/>
                </a:lnTo>
                <a:lnTo>
                  <a:pt x="88" y="1502"/>
                </a:lnTo>
                <a:lnTo>
                  <a:pt x="87" y="1492"/>
                </a:lnTo>
                <a:lnTo>
                  <a:pt x="86" y="1482"/>
                </a:lnTo>
                <a:lnTo>
                  <a:pt x="87" y="1467"/>
                </a:lnTo>
                <a:lnTo>
                  <a:pt x="89" y="1452"/>
                </a:lnTo>
                <a:lnTo>
                  <a:pt x="92" y="1438"/>
                </a:lnTo>
                <a:lnTo>
                  <a:pt x="95" y="1427"/>
                </a:lnTo>
                <a:lnTo>
                  <a:pt x="105" y="1406"/>
                </a:lnTo>
                <a:lnTo>
                  <a:pt x="115" y="1390"/>
                </a:lnTo>
                <a:lnTo>
                  <a:pt x="154" y="1394"/>
                </a:lnTo>
                <a:lnTo>
                  <a:pt x="204" y="1400"/>
                </a:lnTo>
                <a:lnTo>
                  <a:pt x="245" y="1404"/>
                </a:lnTo>
                <a:lnTo>
                  <a:pt x="263" y="1406"/>
                </a:lnTo>
                <a:lnTo>
                  <a:pt x="277" y="1402"/>
                </a:lnTo>
                <a:lnTo>
                  <a:pt x="304" y="1395"/>
                </a:lnTo>
                <a:lnTo>
                  <a:pt x="340" y="1382"/>
                </a:lnTo>
                <a:lnTo>
                  <a:pt x="381" y="1370"/>
                </a:lnTo>
                <a:lnTo>
                  <a:pt x="421" y="1356"/>
                </a:lnTo>
                <a:lnTo>
                  <a:pt x="456" y="1345"/>
                </a:lnTo>
                <a:lnTo>
                  <a:pt x="480" y="1337"/>
                </a:lnTo>
                <a:lnTo>
                  <a:pt x="489" y="1334"/>
                </a:lnTo>
                <a:lnTo>
                  <a:pt x="513" y="1311"/>
                </a:lnTo>
                <a:lnTo>
                  <a:pt x="534" y="1284"/>
                </a:lnTo>
                <a:lnTo>
                  <a:pt x="554" y="1260"/>
                </a:lnTo>
                <a:lnTo>
                  <a:pt x="571" y="1232"/>
                </a:lnTo>
                <a:lnTo>
                  <a:pt x="588" y="1206"/>
                </a:lnTo>
                <a:lnTo>
                  <a:pt x="603" y="1180"/>
                </a:lnTo>
                <a:lnTo>
                  <a:pt x="617" y="1155"/>
                </a:lnTo>
                <a:lnTo>
                  <a:pt x="629" y="1131"/>
                </a:lnTo>
                <a:lnTo>
                  <a:pt x="649" y="1086"/>
                </a:lnTo>
                <a:lnTo>
                  <a:pt x="663" y="1050"/>
                </a:lnTo>
                <a:lnTo>
                  <a:pt x="672" y="1025"/>
                </a:lnTo>
                <a:lnTo>
                  <a:pt x="675" y="1014"/>
                </a:lnTo>
                <a:lnTo>
                  <a:pt x="685" y="998"/>
                </a:lnTo>
                <a:lnTo>
                  <a:pt x="694" y="981"/>
                </a:lnTo>
                <a:lnTo>
                  <a:pt x="700" y="963"/>
                </a:lnTo>
                <a:lnTo>
                  <a:pt x="705" y="945"/>
                </a:lnTo>
                <a:lnTo>
                  <a:pt x="708" y="926"/>
                </a:lnTo>
                <a:lnTo>
                  <a:pt x="710" y="907"/>
                </a:lnTo>
                <a:lnTo>
                  <a:pt x="710" y="887"/>
                </a:lnTo>
                <a:lnTo>
                  <a:pt x="710" y="869"/>
                </a:lnTo>
                <a:lnTo>
                  <a:pt x="708" y="849"/>
                </a:lnTo>
                <a:lnTo>
                  <a:pt x="705" y="830"/>
                </a:lnTo>
                <a:lnTo>
                  <a:pt x="700" y="811"/>
                </a:lnTo>
                <a:lnTo>
                  <a:pt x="697" y="792"/>
                </a:lnTo>
                <a:lnTo>
                  <a:pt x="684" y="753"/>
                </a:lnTo>
                <a:lnTo>
                  <a:pt x="670" y="717"/>
                </a:lnTo>
                <a:lnTo>
                  <a:pt x="654" y="683"/>
                </a:lnTo>
                <a:lnTo>
                  <a:pt x="638" y="650"/>
                </a:lnTo>
                <a:lnTo>
                  <a:pt x="622" y="622"/>
                </a:lnTo>
                <a:lnTo>
                  <a:pt x="606" y="596"/>
                </a:lnTo>
                <a:lnTo>
                  <a:pt x="581" y="559"/>
                </a:lnTo>
                <a:lnTo>
                  <a:pt x="570" y="541"/>
                </a:lnTo>
                <a:lnTo>
                  <a:pt x="564" y="536"/>
                </a:lnTo>
                <a:lnTo>
                  <a:pt x="559" y="531"/>
                </a:lnTo>
                <a:lnTo>
                  <a:pt x="551" y="528"/>
                </a:lnTo>
                <a:lnTo>
                  <a:pt x="545" y="526"/>
                </a:lnTo>
                <a:lnTo>
                  <a:pt x="538" y="525"/>
                </a:lnTo>
                <a:lnTo>
                  <a:pt x="530" y="525"/>
                </a:lnTo>
                <a:lnTo>
                  <a:pt x="523" y="526"/>
                </a:lnTo>
                <a:lnTo>
                  <a:pt x="516" y="529"/>
                </a:lnTo>
                <a:lnTo>
                  <a:pt x="484" y="544"/>
                </a:lnTo>
                <a:lnTo>
                  <a:pt x="454" y="556"/>
                </a:lnTo>
                <a:lnTo>
                  <a:pt x="439" y="560"/>
                </a:lnTo>
                <a:lnTo>
                  <a:pt x="426" y="564"/>
                </a:lnTo>
                <a:lnTo>
                  <a:pt x="412" y="567"/>
                </a:lnTo>
                <a:lnTo>
                  <a:pt x="398" y="570"/>
                </a:lnTo>
                <a:lnTo>
                  <a:pt x="385" y="571"/>
                </a:lnTo>
                <a:lnTo>
                  <a:pt x="372" y="572"/>
                </a:lnTo>
                <a:lnTo>
                  <a:pt x="360" y="572"/>
                </a:lnTo>
                <a:lnTo>
                  <a:pt x="348" y="571"/>
                </a:lnTo>
                <a:lnTo>
                  <a:pt x="336" y="570"/>
                </a:lnTo>
                <a:lnTo>
                  <a:pt x="325" y="567"/>
                </a:lnTo>
                <a:lnTo>
                  <a:pt x="314" y="565"/>
                </a:lnTo>
                <a:lnTo>
                  <a:pt x="304" y="560"/>
                </a:lnTo>
                <a:lnTo>
                  <a:pt x="292" y="555"/>
                </a:lnTo>
                <a:lnTo>
                  <a:pt x="281" y="549"/>
                </a:lnTo>
                <a:lnTo>
                  <a:pt x="271" y="541"/>
                </a:lnTo>
                <a:lnTo>
                  <a:pt x="262" y="534"/>
                </a:lnTo>
                <a:lnTo>
                  <a:pt x="253" y="526"/>
                </a:lnTo>
                <a:lnTo>
                  <a:pt x="247" y="519"/>
                </a:lnTo>
                <a:lnTo>
                  <a:pt x="241" y="512"/>
                </a:lnTo>
                <a:lnTo>
                  <a:pt x="236" y="503"/>
                </a:lnTo>
                <a:lnTo>
                  <a:pt x="274" y="484"/>
                </a:lnTo>
                <a:lnTo>
                  <a:pt x="324" y="461"/>
                </a:lnTo>
                <a:lnTo>
                  <a:pt x="379" y="435"/>
                </a:lnTo>
                <a:lnTo>
                  <a:pt x="434" y="405"/>
                </a:lnTo>
                <a:lnTo>
                  <a:pt x="489" y="376"/>
                </a:lnTo>
                <a:lnTo>
                  <a:pt x="539" y="348"/>
                </a:lnTo>
                <a:lnTo>
                  <a:pt x="560" y="335"/>
                </a:lnTo>
                <a:lnTo>
                  <a:pt x="580" y="323"/>
                </a:lnTo>
                <a:lnTo>
                  <a:pt x="595" y="312"/>
                </a:lnTo>
                <a:lnTo>
                  <a:pt x="607" y="302"/>
                </a:lnTo>
                <a:lnTo>
                  <a:pt x="606" y="302"/>
                </a:lnTo>
                <a:lnTo>
                  <a:pt x="606" y="302"/>
                </a:lnTo>
                <a:lnTo>
                  <a:pt x="606" y="302"/>
                </a:lnTo>
                <a:lnTo>
                  <a:pt x="606" y="302"/>
                </a:lnTo>
                <a:lnTo>
                  <a:pt x="606" y="303"/>
                </a:lnTo>
                <a:lnTo>
                  <a:pt x="606" y="303"/>
                </a:lnTo>
                <a:lnTo>
                  <a:pt x="606" y="303"/>
                </a:lnTo>
                <a:lnTo>
                  <a:pt x="607" y="302"/>
                </a:lnTo>
                <a:lnTo>
                  <a:pt x="612" y="301"/>
                </a:lnTo>
                <a:lnTo>
                  <a:pt x="620" y="301"/>
                </a:lnTo>
                <a:lnTo>
                  <a:pt x="629" y="302"/>
                </a:lnTo>
                <a:lnTo>
                  <a:pt x="639" y="303"/>
                </a:lnTo>
                <a:lnTo>
                  <a:pt x="665" y="311"/>
                </a:lnTo>
                <a:lnTo>
                  <a:pt x="697" y="322"/>
                </a:lnTo>
                <a:lnTo>
                  <a:pt x="730" y="337"/>
                </a:lnTo>
                <a:lnTo>
                  <a:pt x="766" y="354"/>
                </a:lnTo>
                <a:lnTo>
                  <a:pt x="802" y="374"/>
                </a:lnTo>
                <a:lnTo>
                  <a:pt x="838" y="396"/>
                </a:lnTo>
                <a:lnTo>
                  <a:pt x="849" y="402"/>
                </a:lnTo>
                <a:lnTo>
                  <a:pt x="860" y="407"/>
                </a:lnTo>
                <a:lnTo>
                  <a:pt x="870" y="411"/>
                </a:lnTo>
                <a:lnTo>
                  <a:pt x="880" y="415"/>
                </a:lnTo>
                <a:lnTo>
                  <a:pt x="899" y="418"/>
                </a:lnTo>
                <a:lnTo>
                  <a:pt x="916" y="420"/>
                </a:lnTo>
                <a:lnTo>
                  <a:pt x="932" y="420"/>
                </a:lnTo>
                <a:lnTo>
                  <a:pt x="946" y="417"/>
                </a:lnTo>
                <a:lnTo>
                  <a:pt x="959" y="414"/>
                </a:lnTo>
                <a:lnTo>
                  <a:pt x="970" y="410"/>
                </a:lnTo>
                <a:close/>
                <a:moveTo>
                  <a:pt x="1536" y="931"/>
                </a:moveTo>
                <a:lnTo>
                  <a:pt x="1536" y="932"/>
                </a:lnTo>
                <a:lnTo>
                  <a:pt x="1536" y="933"/>
                </a:lnTo>
                <a:lnTo>
                  <a:pt x="1536" y="932"/>
                </a:lnTo>
                <a:lnTo>
                  <a:pt x="1536" y="93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未知"/>
          <p:cNvSpPr/>
          <p:nvPr/>
        </p:nvSpPr>
        <p:spPr>
          <a:xfrm>
            <a:off x="1781280" y="3747960"/>
            <a:ext cx="1216080" cy="1371600"/>
          </a:xfrm>
          <a:custGeom>
            <a:avLst/>
            <a:gdLst/>
            <a:ahLst/>
            <a:rect l="l" t="t" r="r" b="b"/>
            <a:pathLst>
              <a:path w="3066" h="3458">
                <a:moveTo>
                  <a:pt x="520" y="4"/>
                </a:moveTo>
                <a:lnTo>
                  <a:pt x="513" y="8"/>
                </a:lnTo>
                <a:lnTo>
                  <a:pt x="489" y="25"/>
                </a:lnTo>
                <a:lnTo>
                  <a:pt x="453" y="49"/>
                </a:lnTo>
                <a:lnTo>
                  <a:pt x="408" y="83"/>
                </a:lnTo>
                <a:lnTo>
                  <a:pt x="356" y="123"/>
                </a:lnTo>
                <a:lnTo>
                  <a:pt x="299" y="171"/>
                </a:lnTo>
                <a:lnTo>
                  <a:pt x="269" y="197"/>
                </a:lnTo>
                <a:lnTo>
                  <a:pt x="241" y="224"/>
                </a:lnTo>
                <a:lnTo>
                  <a:pt x="211" y="253"/>
                </a:lnTo>
                <a:lnTo>
                  <a:pt x="183" y="283"/>
                </a:lnTo>
                <a:lnTo>
                  <a:pt x="155" y="312"/>
                </a:lnTo>
                <a:lnTo>
                  <a:pt x="129" y="345"/>
                </a:lnTo>
                <a:lnTo>
                  <a:pt x="104" y="377"/>
                </a:lnTo>
                <a:lnTo>
                  <a:pt x="80" y="410"/>
                </a:lnTo>
                <a:lnTo>
                  <a:pt x="59" y="444"/>
                </a:lnTo>
                <a:lnTo>
                  <a:pt x="42" y="479"/>
                </a:lnTo>
                <a:lnTo>
                  <a:pt x="26" y="513"/>
                </a:lnTo>
                <a:lnTo>
                  <a:pt x="13" y="548"/>
                </a:lnTo>
                <a:lnTo>
                  <a:pt x="5" y="583"/>
                </a:lnTo>
                <a:lnTo>
                  <a:pt x="0" y="619"/>
                </a:lnTo>
                <a:lnTo>
                  <a:pt x="0" y="654"/>
                </a:lnTo>
                <a:lnTo>
                  <a:pt x="3" y="688"/>
                </a:lnTo>
                <a:lnTo>
                  <a:pt x="12" y="723"/>
                </a:lnTo>
                <a:lnTo>
                  <a:pt x="26" y="758"/>
                </a:lnTo>
                <a:lnTo>
                  <a:pt x="44" y="791"/>
                </a:lnTo>
                <a:lnTo>
                  <a:pt x="69" y="825"/>
                </a:lnTo>
                <a:lnTo>
                  <a:pt x="82" y="837"/>
                </a:lnTo>
                <a:lnTo>
                  <a:pt x="118" y="873"/>
                </a:lnTo>
                <a:lnTo>
                  <a:pt x="174" y="930"/>
                </a:lnTo>
                <a:lnTo>
                  <a:pt x="247" y="1004"/>
                </a:lnTo>
                <a:lnTo>
                  <a:pt x="334" y="1089"/>
                </a:lnTo>
                <a:lnTo>
                  <a:pt x="432" y="1186"/>
                </a:lnTo>
                <a:lnTo>
                  <a:pt x="537" y="1290"/>
                </a:lnTo>
                <a:lnTo>
                  <a:pt x="649" y="1397"/>
                </a:lnTo>
                <a:lnTo>
                  <a:pt x="762" y="1504"/>
                </a:lnTo>
                <a:lnTo>
                  <a:pt x="874" y="1608"/>
                </a:lnTo>
                <a:lnTo>
                  <a:pt x="929" y="1657"/>
                </a:lnTo>
                <a:lnTo>
                  <a:pt x="982" y="1704"/>
                </a:lnTo>
                <a:lnTo>
                  <a:pt x="1034" y="1749"/>
                </a:lnTo>
                <a:lnTo>
                  <a:pt x="1084" y="1791"/>
                </a:lnTo>
                <a:lnTo>
                  <a:pt x="1131" y="1831"/>
                </a:lnTo>
                <a:lnTo>
                  <a:pt x="1174" y="1866"/>
                </a:lnTo>
                <a:lnTo>
                  <a:pt x="1215" y="1897"/>
                </a:lnTo>
                <a:lnTo>
                  <a:pt x="1253" y="1923"/>
                </a:lnTo>
                <a:lnTo>
                  <a:pt x="1286" y="1945"/>
                </a:lnTo>
                <a:lnTo>
                  <a:pt x="1315" y="1961"/>
                </a:lnTo>
                <a:lnTo>
                  <a:pt x="1340" y="1971"/>
                </a:lnTo>
                <a:lnTo>
                  <a:pt x="1358" y="1975"/>
                </a:lnTo>
                <a:lnTo>
                  <a:pt x="1367" y="1968"/>
                </a:lnTo>
                <a:lnTo>
                  <a:pt x="1389" y="1946"/>
                </a:lnTo>
                <a:lnTo>
                  <a:pt x="1423" y="1918"/>
                </a:lnTo>
                <a:lnTo>
                  <a:pt x="1465" y="1886"/>
                </a:lnTo>
                <a:lnTo>
                  <a:pt x="1487" y="1868"/>
                </a:lnTo>
                <a:lnTo>
                  <a:pt x="1511" y="1852"/>
                </a:lnTo>
                <a:lnTo>
                  <a:pt x="1536" y="1837"/>
                </a:lnTo>
                <a:lnTo>
                  <a:pt x="1561" y="1824"/>
                </a:lnTo>
                <a:lnTo>
                  <a:pt x="1584" y="1812"/>
                </a:lnTo>
                <a:lnTo>
                  <a:pt x="1608" y="1804"/>
                </a:lnTo>
                <a:lnTo>
                  <a:pt x="1619" y="1801"/>
                </a:lnTo>
                <a:lnTo>
                  <a:pt x="1629" y="1799"/>
                </a:lnTo>
                <a:lnTo>
                  <a:pt x="1640" y="1798"/>
                </a:lnTo>
                <a:lnTo>
                  <a:pt x="1650" y="1796"/>
                </a:lnTo>
                <a:lnTo>
                  <a:pt x="1371" y="1966"/>
                </a:lnTo>
                <a:lnTo>
                  <a:pt x="1354" y="1974"/>
                </a:lnTo>
                <a:lnTo>
                  <a:pt x="1343" y="1979"/>
                </a:lnTo>
                <a:lnTo>
                  <a:pt x="1337" y="1981"/>
                </a:lnTo>
                <a:lnTo>
                  <a:pt x="1336" y="1984"/>
                </a:lnTo>
                <a:lnTo>
                  <a:pt x="1340" y="1984"/>
                </a:lnTo>
                <a:lnTo>
                  <a:pt x="1348" y="1984"/>
                </a:lnTo>
                <a:lnTo>
                  <a:pt x="1361" y="1981"/>
                </a:lnTo>
                <a:lnTo>
                  <a:pt x="1377" y="1979"/>
                </a:lnTo>
                <a:lnTo>
                  <a:pt x="1419" y="1972"/>
                </a:lnTo>
                <a:lnTo>
                  <a:pt x="1471" y="1963"/>
                </a:lnTo>
                <a:lnTo>
                  <a:pt x="1533" y="1951"/>
                </a:lnTo>
                <a:lnTo>
                  <a:pt x="1600" y="1939"/>
                </a:lnTo>
                <a:lnTo>
                  <a:pt x="1672" y="1928"/>
                </a:lnTo>
                <a:lnTo>
                  <a:pt x="1744" y="1918"/>
                </a:lnTo>
                <a:lnTo>
                  <a:pt x="1779" y="1914"/>
                </a:lnTo>
                <a:lnTo>
                  <a:pt x="1814" y="1910"/>
                </a:lnTo>
                <a:lnTo>
                  <a:pt x="1847" y="1908"/>
                </a:lnTo>
                <a:lnTo>
                  <a:pt x="1881" y="1905"/>
                </a:lnTo>
                <a:lnTo>
                  <a:pt x="1911" y="1905"/>
                </a:lnTo>
                <a:lnTo>
                  <a:pt x="1939" y="1905"/>
                </a:lnTo>
                <a:lnTo>
                  <a:pt x="1967" y="1907"/>
                </a:lnTo>
                <a:lnTo>
                  <a:pt x="1990" y="1909"/>
                </a:lnTo>
                <a:lnTo>
                  <a:pt x="2011" y="1914"/>
                </a:lnTo>
                <a:lnTo>
                  <a:pt x="2029" y="1919"/>
                </a:lnTo>
                <a:lnTo>
                  <a:pt x="2042" y="1927"/>
                </a:lnTo>
                <a:lnTo>
                  <a:pt x="2052" y="1937"/>
                </a:lnTo>
                <a:lnTo>
                  <a:pt x="2045" y="1937"/>
                </a:lnTo>
                <a:lnTo>
                  <a:pt x="2024" y="1935"/>
                </a:lnTo>
                <a:lnTo>
                  <a:pt x="1990" y="1935"/>
                </a:lnTo>
                <a:lnTo>
                  <a:pt x="1947" y="1935"/>
                </a:lnTo>
                <a:lnTo>
                  <a:pt x="1893" y="1937"/>
                </a:lnTo>
                <a:lnTo>
                  <a:pt x="1833" y="1939"/>
                </a:lnTo>
                <a:lnTo>
                  <a:pt x="1767" y="1941"/>
                </a:lnTo>
                <a:lnTo>
                  <a:pt x="1696" y="1946"/>
                </a:lnTo>
                <a:lnTo>
                  <a:pt x="1621" y="1954"/>
                </a:lnTo>
                <a:lnTo>
                  <a:pt x="1547" y="1964"/>
                </a:lnTo>
                <a:lnTo>
                  <a:pt x="1510" y="1970"/>
                </a:lnTo>
                <a:lnTo>
                  <a:pt x="1472" y="1976"/>
                </a:lnTo>
                <a:lnTo>
                  <a:pt x="1435" y="1984"/>
                </a:lnTo>
                <a:lnTo>
                  <a:pt x="1399" y="1992"/>
                </a:lnTo>
                <a:lnTo>
                  <a:pt x="1364" y="2001"/>
                </a:lnTo>
                <a:lnTo>
                  <a:pt x="1330" y="2011"/>
                </a:lnTo>
                <a:lnTo>
                  <a:pt x="1297" y="2022"/>
                </a:lnTo>
                <a:lnTo>
                  <a:pt x="1266" y="2033"/>
                </a:lnTo>
                <a:lnTo>
                  <a:pt x="1236" y="2047"/>
                </a:lnTo>
                <a:lnTo>
                  <a:pt x="1208" y="2061"/>
                </a:lnTo>
                <a:lnTo>
                  <a:pt x="1183" y="2075"/>
                </a:lnTo>
                <a:lnTo>
                  <a:pt x="1159" y="2092"/>
                </a:lnTo>
                <a:lnTo>
                  <a:pt x="1181" y="2093"/>
                </a:lnTo>
                <a:lnTo>
                  <a:pt x="1240" y="2099"/>
                </a:lnTo>
                <a:lnTo>
                  <a:pt x="1281" y="2103"/>
                </a:lnTo>
                <a:lnTo>
                  <a:pt x="1327" y="2109"/>
                </a:lnTo>
                <a:lnTo>
                  <a:pt x="1377" y="2118"/>
                </a:lnTo>
                <a:lnTo>
                  <a:pt x="1429" y="2128"/>
                </a:lnTo>
                <a:lnTo>
                  <a:pt x="1482" y="2140"/>
                </a:lnTo>
                <a:lnTo>
                  <a:pt x="1536" y="2155"/>
                </a:lnTo>
                <a:lnTo>
                  <a:pt x="1562" y="2164"/>
                </a:lnTo>
                <a:lnTo>
                  <a:pt x="1588" y="2172"/>
                </a:lnTo>
                <a:lnTo>
                  <a:pt x="1613" y="2182"/>
                </a:lnTo>
                <a:lnTo>
                  <a:pt x="1638" y="2193"/>
                </a:lnTo>
                <a:lnTo>
                  <a:pt x="1660" y="2204"/>
                </a:lnTo>
                <a:lnTo>
                  <a:pt x="1682" y="2217"/>
                </a:lnTo>
                <a:lnTo>
                  <a:pt x="1703" y="2231"/>
                </a:lnTo>
                <a:lnTo>
                  <a:pt x="1722" y="2244"/>
                </a:lnTo>
                <a:lnTo>
                  <a:pt x="1739" y="2259"/>
                </a:lnTo>
                <a:lnTo>
                  <a:pt x="1754" y="2275"/>
                </a:lnTo>
                <a:lnTo>
                  <a:pt x="1768" y="2293"/>
                </a:lnTo>
                <a:lnTo>
                  <a:pt x="1779" y="2310"/>
                </a:lnTo>
                <a:lnTo>
                  <a:pt x="1762" y="2299"/>
                </a:lnTo>
                <a:lnTo>
                  <a:pt x="1716" y="2270"/>
                </a:lnTo>
                <a:lnTo>
                  <a:pt x="1683" y="2252"/>
                </a:lnTo>
                <a:lnTo>
                  <a:pt x="1646" y="2232"/>
                </a:lnTo>
                <a:lnTo>
                  <a:pt x="1605" y="2211"/>
                </a:lnTo>
                <a:lnTo>
                  <a:pt x="1563" y="2190"/>
                </a:lnTo>
                <a:lnTo>
                  <a:pt x="1517" y="2170"/>
                </a:lnTo>
                <a:lnTo>
                  <a:pt x="1472" y="2152"/>
                </a:lnTo>
                <a:lnTo>
                  <a:pt x="1449" y="2145"/>
                </a:lnTo>
                <a:lnTo>
                  <a:pt x="1426" y="2137"/>
                </a:lnTo>
                <a:lnTo>
                  <a:pt x="1403" y="2131"/>
                </a:lnTo>
                <a:lnTo>
                  <a:pt x="1382" y="2126"/>
                </a:lnTo>
                <a:lnTo>
                  <a:pt x="1359" y="2121"/>
                </a:lnTo>
                <a:lnTo>
                  <a:pt x="1338" y="2119"/>
                </a:lnTo>
                <a:lnTo>
                  <a:pt x="1318" y="2118"/>
                </a:lnTo>
                <a:lnTo>
                  <a:pt x="1299" y="2118"/>
                </a:lnTo>
                <a:lnTo>
                  <a:pt x="1280" y="2119"/>
                </a:lnTo>
                <a:lnTo>
                  <a:pt x="1263" y="2123"/>
                </a:lnTo>
                <a:lnTo>
                  <a:pt x="1246" y="2128"/>
                </a:lnTo>
                <a:lnTo>
                  <a:pt x="1230" y="2135"/>
                </a:lnTo>
                <a:lnTo>
                  <a:pt x="783" y="2687"/>
                </a:lnTo>
                <a:lnTo>
                  <a:pt x="751" y="2690"/>
                </a:lnTo>
                <a:lnTo>
                  <a:pt x="731" y="2691"/>
                </a:lnTo>
                <a:lnTo>
                  <a:pt x="722" y="2692"/>
                </a:lnTo>
                <a:lnTo>
                  <a:pt x="722" y="2693"/>
                </a:lnTo>
                <a:lnTo>
                  <a:pt x="751" y="2696"/>
                </a:lnTo>
                <a:lnTo>
                  <a:pt x="811" y="2700"/>
                </a:lnTo>
                <a:lnTo>
                  <a:pt x="895" y="2707"/>
                </a:lnTo>
                <a:lnTo>
                  <a:pt x="1001" y="2718"/>
                </a:lnTo>
                <a:lnTo>
                  <a:pt x="1058" y="2726"/>
                </a:lnTo>
                <a:lnTo>
                  <a:pt x="1119" y="2734"/>
                </a:lnTo>
                <a:lnTo>
                  <a:pt x="1182" y="2745"/>
                </a:lnTo>
                <a:lnTo>
                  <a:pt x="1246" y="2758"/>
                </a:lnTo>
                <a:lnTo>
                  <a:pt x="1311" y="2773"/>
                </a:lnTo>
                <a:lnTo>
                  <a:pt x="1376" y="2790"/>
                </a:lnTo>
                <a:lnTo>
                  <a:pt x="1439" y="2811"/>
                </a:lnTo>
                <a:lnTo>
                  <a:pt x="1501" y="2834"/>
                </a:lnTo>
                <a:lnTo>
                  <a:pt x="1562" y="2858"/>
                </a:lnTo>
                <a:lnTo>
                  <a:pt x="1618" y="2888"/>
                </a:lnTo>
                <a:lnTo>
                  <a:pt x="1671" y="2919"/>
                </a:lnTo>
                <a:lnTo>
                  <a:pt x="1721" y="2955"/>
                </a:lnTo>
                <a:lnTo>
                  <a:pt x="1764" y="2994"/>
                </a:lnTo>
                <a:lnTo>
                  <a:pt x="1803" y="3037"/>
                </a:lnTo>
                <a:lnTo>
                  <a:pt x="1834" y="3083"/>
                </a:lnTo>
                <a:lnTo>
                  <a:pt x="1857" y="3134"/>
                </a:lnTo>
                <a:lnTo>
                  <a:pt x="1873" y="3190"/>
                </a:lnTo>
                <a:lnTo>
                  <a:pt x="1881" y="3249"/>
                </a:lnTo>
                <a:lnTo>
                  <a:pt x="1878" y="3314"/>
                </a:lnTo>
                <a:lnTo>
                  <a:pt x="1866" y="3383"/>
                </a:lnTo>
                <a:lnTo>
                  <a:pt x="1876" y="3393"/>
                </a:lnTo>
                <a:lnTo>
                  <a:pt x="1903" y="3415"/>
                </a:lnTo>
                <a:lnTo>
                  <a:pt x="1913" y="3422"/>
                </a:lnTo>
                <a:lnTo>
                  <a:pt x="1923" y="3428"/>
                </a:lnTo>
                <a:lnTo>
                  <a:pt x="1936" y="3434"/>
                </a:lnTo>
                <a:lnTo>
                  <a:pt x="1948" y="3440"/>
                </a:lnTo>
                <a:lnTo>
                  <a:pt x="1960" y="3445"/>
                </a:lnTo>
                <a:lnTo>
                  <a:pt x="1975" y="3450"/>
                </a:lnTo>
                <a:lnTo>
                  <a:pt x="1990" y="3454"/>
                </a:lnTo>
                <a:lnTo>
                  <a:pt x="2006" y="3456"/>
                </a:lnTo>
                <a:lnTo>
                  <a:pt x="2022" y="3458"/>
                </a:lnTo>
                <a:lnTo>
                  <a:pt x="2040" y="3458"/>
                </a:lnTo>
                <a:lnTo>
                  <a:pt x="2059" y="3455"/>
                </a:lnTo>
                <a:lnTo>
                  <a:pt x="2077" y="3453"/>
                </a:lnTo>
                <a:lnTo>
                  <a:pt x="2097" y="3446"/>
                </a:lnTo>
                <a:lnTo>
                  <a:pt x="2117" y="3439"/>
                </a:lnTo>
                <a:lnTo>
                  <a:pt x="2138" y="3430"/>
                </a:lnTo>
                <a:lnTo>
                  <a:pt x="2159" y="3418"/>
                </a:lnTo>
                <a:lnTo>
                  <a:pt x="2181" y="3404"/>
                </a:lnTo>
                <a:lnTo>
                  <a:pt x="2204" y="3387"/>
                </a:lnTo>
                <a:lnTo>
                  <a:pt x="2227" y="3366"/>
                </a:lnTo>
                <a:lnTo>
                  <a:pt x="2251" y="3343"/>
                </a:lnTo>
                <a:lnTo>
                  <a:pt x="2275" y="3316"/>
                </a:lnTo>
                <a:lnTo>
                  <a:pt x="2299" y="3286"/>
                </a:lnTo>
                <a:lnTo>
                  <a:pt x="2324" y="3253"/>
                </a:lnTo>
                <a:lnTo>
                  <a:pt x="2349" y="3216"/>
                </a:lnTo>
                <a:lnTo>
                  <a:pt x="2385" y="2965"/>
                </a:lnTo>
                <a:lnTo>
                  <a:pt x="2374" y="3192"/>
                </a:lnTo>
                <a:lnTo>
                  <a:pt x="2386" y="3195"/>
                </a:lnTo>
                <a:lnTo>
                  <a:pt x="2421" y="3201"/>
                </a:lnTo>
                <a:lnTo>
                  <a:pt x="2443" y="3203"/>
                </a:lnTo>
                <a:lnTo>
                  <a:pt x="2471" y="3206"/>
                </a:lnTo>
                <a:lnTo>
                  <a:pt x="2499" y="3206"/>
                </a:lnTo>
                <a:lnTo>
                  <a:pt x="2530" y="3206"/>
                </a:lnTo>
                <a:lnTo>
                  <a:pt x="2561" y="3203"/>
                </a:lnTo>
                <a:lnTo>
                  <a:pt x="2592" y="3198"/>
                </a:lnTo>
                <a:lnTo>
                  <a:pt x="2609" y="3195"/>
                </a:lnTo>
                <a:lnTo>
                  <a:pt x="2624" y="3191"/>
                </a:lnTo>
                <a:lnTo>
                  <a:pt x="2638" y="3186"/>
                </a:lnTo>
                <a:lnTo>
                  <a:pt x="2653" y="3180"/>
                </a:lnTo>
                <a:lnTo>
                  <a:pt x="2667" y="3172"/>
                </a:lnTo>
                <a:lnTo>
                  <a:pt x="2681" y="3165"/>
                </a:lnTo>
                <a:lnTo>
                  <a:pt x="2693" y="3156"/>
                </a:lnTo>
                <a:lnTo>
                  <a:pt x="2705" y="3146"/>
                </a:lnTo>
                <a:lnTo>
                  <a:pt x="2717" y="3135"/>
                </a:lnTo>
                <a:lnTo>
                  <a:pt x="2727" y="3123"/>
                </a:lnTo>
                <a:lnTo>
                  <a:pt x="2735" y="3109"/>
                </a:lnTo>
                <a:lnTo>
                  <a:pt x="2743" y="3094"/>
                </a:lnTo>
                <a:lnTo>
                  <a:pt x="2753" y="3079"/>
                </a:lnTo>
                <a:lnTo>
                  <a:pt x="2780" y="3036"/>
                </a:lnTo>
                <a:lnTo>
                  <a:pt x="2799" y="3004"/>
                </a:lnTo>
                <a:lnTo>
                  <a:pt x="2820" y="2966"/>
                </a:lnTo>
                <a:lnTo>
                  <a:pt x="2843" y="2923"/>
                </a:lnTo>
                <a:lnTo>
                  <a:pt x="2867" y="2874"/>
                </a:lnTo>
                <a:lnTo>
                  <a:pt x="2893" y="2821"/>
                </a:lnTo>
                <a:lnTo>
                  <a:pt x="2918" y="2763"/>
                </a:lnTo>
                <a:lnTo>
                  <a:pt x="2944" y="2701"/>
                </a:lnTo>
                <a:lnTo>
                  <a:pt x="2967" y="2634"/>
                </a:lnTo>
                <a:lnTo>
                  <a:pt x="2991" y="2564"/>
                </a:lnTo>
                <a:lnTo>
                  <a:pt x="3012" y="2491"/>
                </a:lnTo>
                <a:lnTo>
                  <a:pt x="3030" y="2414"/>
                </a:lnTo>
                <a:lnTo>
                  <a:pt x="3046" y="2335"/>
                </a:lnTo>
                <a:lnTo>
                  <a:pt x="3057" y="2254"/>
                </a:lnTo>
                <a:lnTo>
                  <a:pt x="3063" y="2171"/>
                </a:lnTo>
                <a:lnTo>
                  <a:pt x="3066" y="2087"/>
                </a:lnTo>
                <a:lnTo>
                  <a:pt x="3062" y="2001"/>
                </a:lnTo>
                <a:lnTo>
                  <a:pt x="3053" y="1914"/>
                </a:lnTo>
                <a:lnTo>
                  <a:pt x="3037" y="1827"/>
                </a:lnTo>
                <a:lnTo>
                  <a:pt x="3013" y="1739"/>
                </a:lnTo>
                <a:lnTo>
                  <a:pt x="2984" y="1652"/>
                </a:lnTo>
                <a:lnTo>
                  <a:pt x="2944" y="1566"/>
                </a:lnTo>
                <a:lnTo>
                  <a:pt x="2895" y="1480"/>
                </a:lnTo>
                <a:lnTo>
                  <a:pt x="2838" y="1396"/>
                </a:lnTo>
                <a:lnTo>
                  <a:pt x="2770" y="1312"/>
                </a:lnTo>
                <a:lnTo>
                  <a:pt x="2692" y="1231"/>
                </a:lnTo>
                <a:lnTo>
                  <a:pt x="2602" y="1152"/>
                </a:lnTo>
                <a:lnTo>
                  <a:pt x="2501" y="1075"/>
                </a:lnTo>
                <a:lnTo>
                  <a:pt x="2388" y="1002"/>
                </a:lnTo>
                <a:lnTo>
                  <a:pt x="2373" y="991"/>
                </a:lnTo>
                <a:lnTo>
                  <a:pt x="2332" y="956"/>
                </a:lnTo>
                <a:lnTo>
                  <a:pt x="2267" y="904"/>
                </a:lnTo>
                <a:lnTo>
                  <a:pt x="2181" y="836"/>
                </a:lnTo>
                <a:lnTo>
                  <a:pt x="2077" y="755"/>
                </a:lnTo>
                <a:lnTo>
                  <a:pt x="1957" y="666"/>
                </a:lnTo>
                <a:lnTo>
                  <a:pt x="1892" y="619"/>
                </a:lnTo>
                <a:lnTo>
                  <a:pt x="1825" y="572"/>
                </a:lnTo>
                <a:lnTo>
                  <a:pt x="1754" y="523"/>
                </a:lnTo>
                <a:lnTo>
                  <a:pt x="1682" y="474"/>
                </a:lnTo>
                <a:lnTo>
                  <a:pt x="1608" y="425"/>
                </a:lnTo>
                <a:lnTo>
                  <a:pt x="1532" y="378"/>
                </a:lnTo>
                <a:lnTo>
                  <a:pt x="1456" y="331"/>
                </a:lnTo>
                <a:lnTo>
                  <a:pt x="1378" y="286"/>
                </a:lnTo>
                <a:lnTo>
                  <a:pt x="1301" y="243"/>
                </a:lnTo>
                <a:lnTo>
                  <a:pt x="1223" y="201"/>
                </a:lnTo>
                <a:lnTo>
                  <a:pt x="1146" y="162"/>
                </a:lnTo>
                <a:lnTo>
                  <a:pt x="1069" y="128"/>
                </a:lnTo>
                <a:lnTo>
                  <a:pt x="993" y="95"/>
                </a:lnTo>
                <a:lnTo>
                  <a:pt x="919" y="67"/>
                </a:lnTo>
                <a:lnTo>
                  <a:pt x="845" y="43"/>
                </a:lnTo>
                <a:lnTo>
                  <a:pt x="776" y="25"/>
                </a:lnTo>
                <a:lnTo>
                  <a:pt x="707" y="11"/>
                </a:lnTo>
                <a:lnTo>
                  <a:pt x="642" y="2"/>
                </a:lnTo>
                <a:lnTo>
                  <a:pt x="580" y="0"/>
                </a:lnTo>
                <a:lnTo>
                  <a:pt x="52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未知"/>
          <p:cNvSpPr/>
          <p:nvPr/>
        </p:nvSpPr>
        <p:spPr>
          <a:xfrm>
            <a:off x="1763640" y="3730680"/>
            <a:ext cx="1251000" cy="1406520"/>
          </a:xfrm>
          <a:custGeom>
            <a:avLst/>
            <a:gdLst/>
            <a:ahLst/>
            <a:rect l="l" t="t" r="r" b="b"/>
            <a:pathLst>
              <a:path w="3153" h="3544">
                <a:moveTo>
                  <a:pt x="559" y="5"/>
                </a:moveTo>
                <a:lnTo>
                  <a:pt x="550" y="8"/>
                </a:lnTo>
                <a:lnTo>
                  <a:pt x="542" y="12"/>
                </a:lnTo>
                <a:lnTo>
                  <a:pt x="514" y="29"/>
                </a:lnTo>
                <a:lnTo>
                  <a:pt x="456" y="70"/>
                </a:lnTo>
                <a:lnTo>
                  <a:pt x="417" y="98"/>
                </a:lnTo>
                <a:lnTo>
                  <a:pt x="375" y="132"/>
                </a:lnTo>
                <a:lnTo>
                  <a:pt x="331" y="169"/>
                </a:lnTo>
                <a:lnTo>
                  <a:pt x="283" y="210"/>
                </a:lnTo>
                <a:lnTo>
                  <a:pt x="260" y="232"/>
                </a:lnTo>
                <a:lnTo>
                  <a:pt x="236" y="255"/>
                </a:lnTo>
                <a:lnTo>
                  <a:pt x="214" y="278"/>
                </a:lnTo>
                <a:lnTo>
                  <a:pt x="190" y="303"/>
                </a:lnTo>
                <a:lnTo>
                  <a:pt x="168" y="328"/>
                </a:lnTo>
                <a:lnTo>
                  <a:pt x="147" y="354"/>
                </a:lnTo>
                <a:lnTo>
                  <a:pt x="126" y="380"/>
                </a:lnTo>
                <a:lnTo>
                  <a:pt x="106" y="406"/>
                </a:lnTo>
                <a:lnTo>
                  <a:pt x="87" y="433"/>
                </a:lnTo>
                <a:lnTo>
                  <a:pt x="70" y="462"/>
                </a:lnTo>
                <a:lnTo>
                  <a:pt x="55" y="489"/>
                </a:lnTo>
                <a:lnTo>
                  <a:pt x="41" y="518"/>
                </a:lnTo>
                <a:lnTo>
                  <a:pt x="29" y="546"/>
                </a:lnTo>
                <a:lnTo>
                  <a:pt x="19" y="576"/>
                </a:lnTo>
                <a:lnTo>
                  <a:pt x="10" y="605"/>
                </a:lnTo>
                <a:lnTo>
                  <a:pt x="4" y="634"/>
                </a:lnTo>
                <a:lnTo>
                  <a:pt x="3" y="648"/>
                </a:lnTo>
                <a:lnTo>
                  <a:pt x="1" y="660"/>
                </a:lnTo>
                <a:lnTo>
                  <a:pt x="0" y="674"/>
                </a:lnTo>
                <a:lnTo>
                  <a:pt x="0" y="686"/>
                </a:lnTo>
                <a:lnTo>
                  <a:pt x="0" y="700"/>
                </a:lnTo>
                <a:lnTo>
                  <a:pt x="1" y="715"/>
                </a:lnTo>
                <a:lnTo>
                  <a:pt x="3" y="729"/>
                </a:lnTo>
                <a:lnTo>
                  <a:pt x="5" y="742"/>
                </a:lnTo>
                <a:lnTo>
                  <a:pt x="8" y="756"/>
                </a:lnTo>
                <a:lnTo>
                  <a:pt x="11" y="770"/>
                </a:lnTo>
                <a:lnTo>
                  <a:pt x="16" y="783"/>
                </a:lnTo>
                <a:lnTo>
                  <a:pt x="20" y="796"/>
                </a:lnTo>
                <a:lnTo>
                  <a:pt x="26" y="809"/>
                </a:lnTo>
                <a:lnTo>
                  <a:pt x="31" y="822"/>
                </a:lnTo>
                <a:lnTo>
                  <a:pt x="39" y="835"/>
                </a:lnTo>
                <a:lnTo>
                  <a:pt x="46" y="848"/>
                </a:lnTo>
                <a:lnTo>
                  <a:pt x="62" y="873"/>
                </a:lnTo>
                <a:lnTo>
                  <a:pt x="81" y="896"/>
                </a:lnTo>
                <a:lnTo>
                  <a:pt x="121" y="936"/>
                </a:lnTo>
                <a:lnTo>
                  <a:pt x="173" y="989"/>
                </a:lnTo>
                <a:lnTo>
                  <a:pt x="236" y="1054"/>
                </a:lnTo>
                <a:lnTo>
                  <a:pt x="311" y="1127"/>
                </a:lnTo>
                <a:lnTo>
                  <a:pt x="391" y="1208"/>
                </a:lnTo>
                <a:lnTo>
                  <a:pt x="478" y="1293"/>
                </a:lnTo>
                <a:lnTo>
                  <a:pt x="571" y="1382"/>
                </a:lnTo>
                <a:lnTo>
                  <a:pt x="666" y="1474"/>
                </a:lnTo>
                <a:lnTo>
                  <a:pt x="761" y="1565"/>
                </a:lnTo>
                <a:lnTo>
                  <a:pt x="858" y="1653"/>
                </a:lnTo>
                <a:lnTo>
                  <a:pt x="951" y="1737"/>
                </a:lnTo>
                <a:lnTo>
                  <a:pt x="1041" y="1815"/>
                </a:lnTo>
                <a:lnTo>
                  <a:pt x="1084" y="1851"/>
                </a:lnTo>
                <a:lnTo>
                  <a:pt x="1125" y="1885"/>
                </a:lnTo>
                <a:lnTo>
                  <a:pt x="1165" y="1917"/>
                </a:lnTo>
                <a:lnTo>
                  <a:pt x="1202" y="1946"/>
                </a:lnTo>
                <a:lnTo>
                  <a:pt x="1238" y="1972"/>
                </a:lnTo>
                <a:lnTo>
                  <a:pt x="1271" y="1995"/>
                </a:lnTo>
                <a:lnTo>
                  <a:pt x="1302" y="2014"/>
                </a:lnTo>
                <a:lnTo>
                  <a:pt x="1329" y="2030"/>
                </a:lnTo>
                <a:lnTo>
                  <a:pt x="1287" y="2046"/>
                </a:lnTo>
                <a:lnTo>
                  <a:pt x="1247" y="2062"/>
                </a:lnTo>
                <a:lnTo>
                  <a:pt x="1228" y="2071"/>
                </a:lnTo>
                <a:lnTo>
                  <a:pt x="1210" y="2081"/>
                </a:lnTo>
                <a:lnTo>
                  <a:pt x="1192" y="2091"/>
                </a:lnTo>
                <a:lnTo>
                  <a:pt x="1177" y="2102"/>
                </a:lnTo>
                <a:lnTo>
                  <a:pt x="1170" y="2108"/>
                </a:lnTo>
                <a:lnTo>
                  <a:pt x="1165" y="2117"/>
                </a:lnTo>
                <a:lnTo>
                  <a:pt x="1161" y="2126"/>
                </a:lnTo>
                <a:lnTo>
                  <a:pt x="1160" y="2136"/>
                </a:lnTo>
                <a:lnTo>
                  <a:pt x="1160" y="2142"/>
                </a:lnTo>
                <a:lnTo>
                  <a:pt x="1163" y="2148"/>
                </a:lnTo>
                <a:lnTo>
                  <a:pt x="1165" y="2155"/>
                </a:lnTo>
                <a:lnTo>
                  <a:pt x="1167" y="2160"/>
                </a:lnTo>
                <a:lnTo>
                  <a:pt x="1172" y="2165"/>
                </a:lnTo>
                <a:lnTo>
                  <a:pt x="1176" y="2170"/>
                </a:lnTo>
                <a:lnTo>
                  <a:pt x="1182" y="2173"/>
                </a:lnTo>
                <a:lnTo>
                  <a:pt x="1189" y="2177"/>
                </a:lnTo>
                <a:lnTo>
                  <a:pt x="1195" y="2178"/>
                </a:lnTo>
                <a:lnTo>
                  <a:pt x="1201" y="2179"/>
                </a:lnTo>
                <a:lnTo>
                  <a:pt x="1211" y="2180"/>
                </a:lnTo>
                <a:lnTo>
                  <a:pt x="1222" y="2180"/>
                </a:lnTo>
                <a:lnTo>
                  <a:pt x="1190" y="2220"/>
                </a:lnTo>
                <a:lnTo>
                  <a:pt x="1136" y="2284"/>
                </a:lnTo>
                <a:lnTo>
                  <a:pt x="1071" y="2365"/>
                </a:lnTo>
                <a:lnTo>
                  <a:pt x="1000" y="2452"/>
                </a:lnTo>
                <a:lnTo>
                  <a:pt x="930" y="2536"/>
                </a:lnTo>
                <a:lnTo>
                  <a:pt x="869" y="2611"/>
                </a:lnTo>
                <a:lnTo>
                  <a:pt x="826" y="2665"/>
                </a:lnTo>
                <a:lnTo>
                  <a:pt x="805" y="2691"/>
                </a:lnTo>
                <a:lnTo>
                  <a:pt x="785" y="2693"/>
                </a:lnTo>
                <a:lnTo>
                  <a:pt x="769" y="2695"/>
                </a:lnTo>
                <a:lnTo>
                  <a:pt x="754" y="2698"/>
                </a:lnTo>
                <a:lnTo>
                  <a:pt x="743" y="2703"/>
                </a:lnTo>
                <a:lnTo>
                  <a:pt x="738" y="2705"/>
                </a:lnTo>
                <a:lnTo>
                  <a:pt x="734" y="2708"/>
                </a:lnTo>
                <a:lnTo>
                  <a:pt x="730" y="2711"/>
                </a:lnTo>
                <a:lnTo>
                  <a:pt x="728" y="2715"/>
                </a:lnTo>
                <a:lnTo>
                  <a:pt x="725" y="2720"/>
                </a:lnTo>
                <a:lnTo>
                  <a:pt x="724" y="2725"/>
                </a:lnTo>
                <a:lnTo>
                  <a:pt x="723" y="2730"/>
                </a:lnTo>
                <a:lnTo>
                  <a:pt x="723" y="2737"/>
                </a:lnTo>
                <a:lnTo>
                  <a:pt x="723" y="2737"/>
                </a:lnTo>
                <a:lnTo>
                  <a:pt x="723" y="2737"/>
                </a:lnTo>
                <a:lnTo>
                  <a:pt x="723" y="2745"/>
                </a:lnTo>
                <a:lnTo>
                  <a:pt x="724" y="2751"/>
                </a:lnTo>
                <a:lnTo>
                  <a:pt x="725" y="2757"/>
                </a:lnTo>
                <a:lnTo>
                  <a:pt x="728" y="2761"/>
                </a:lnTo>
                <a:lnTo>
                  <a:pt x="732" y="2766"/>
                </a:lnTo>
                <a:lnTo>
                  <a:pt x="735" y="2770"/>
                </a:lnTo>
                <a:lnTo>
                  <a:pt x="740" y="2772"/>
                </a:lnTo>
                <a:lnTo>
                  <a:pt x="745" y="2775"/>
                </a:lnTo>
                <a:lnTo>
                  <a:pt x="758" y="2778"/>
                </a:lnTo>
                <a:lnTo>
                  <a:pt x="771" y="2781"/>
                </a:lnTo>
                <a:lnTo>
                  <a:pt x="789" y="2782"/>
                </a:lnTo>
                <a:lnTo>
                  <a:pt x="807" y="2783"/>
                </a:lnTo>
                <a:lnTo>
                  <a:pt x="868" y="2788"/>
                </a:lnTo>
                <a:lnTo>
                  <a:pt x="928" y="2793"/>
                </a:lnTo>
                <a:lnTo>
                  <a:pt x="984" y="2798"/>
                </a:lnTo>
                <a:lnTo>
                  <a:pt x="1038" y="2804"/>
                </a:lnTo>
                <a:lnTo>
                  <a:pt x="1089" y="2812"/>
                </a:lnTo>
                <a:lnTo>
                  <a:pt x="1140" y="2819"/>
                </a:lnTo>
                <a:lnTo>
                  <a:pt x="1187" y="2827"/>
                </a:lnTo>
                <a:lnTo>
                  <a:pt x="1233" y="2835"/>
                </a:lnTo>
                <a:lnTo>
                  <a:pt x="1276" y="2844"/>
                </a:lnTo>
                <a:lnTo>
                  <a:pt x="1318" y="2853"/>
                </a:lnTo>
                <a:lnTo>
                  <a:pt x="1357" y="2863"/>
                </a:lnTo>
                <a:lnTo>
                  <a:pt x="1395" y="2873"/>
                </a:lnTo>
                <a:lnTo>
                  <a:pt x="1431" y="2884"/>
                </a:lnTo>
                <a:lnTo>
                  <a:pt x="1464" y="2894"/>
                </a:lnTo>
                <a:lnTo>
                  <a:pt x="1497" y="2905"/>
                </a:lnTo>
                <a:lnTo>
                  <a:pt x="1526" y="2917"/>
                </a:lnTo>
                <a:lnTo>
                  <a:pt x="1556" y="2928"/>
                </a:lnTo>
                <a:lnTo>
                  <a:pt x="1582" y="2940"/>
                </a:lnTo>
                <a:lnTo>
                  <a:pt x="1608" y="2952"/>
                </a:lnTo>
                <a:lnTo>
                  <a:pt x="1632" y="2964"/>
                </a:lnTo>
                <a:lnTo>
                  <a:pt x="1655" y="2977"/>
                </a:lnTo>
                <a:lnTo>
                  <a:pt x="1677" y="2989"/>
                </a:lnTo>
                <a:lnTo>
                  <a:pt x="1695" y="3002"/>
                </a:lnTo>
                <a:lnTo>
                  <a:pt x="1714" y="3015"/>
                </a:lnTo>
                <a:lnTo>
                  <a:pt x="1731" y="3028"/>
                </a:lnTo>
                <a:lnTo>
                  <a:pt x="1747" y="3040"/>
                </a:lnTo>
                <a:lnTo>
                  <a:pt x="1762" y="3052"/>
                </a:lnTo>
                <a:lnTo>
                  <a:pt x="1775" y="3065"/>
                </a:lnTo>
                <a:lnTo>
                  <a:pt x="1787" y="3077"/>
                </a:lnTo>
                <a:lnTo>
                  <a:pt x="1798" y="3090"/>
                </a:lnTo>
                <a:lnTo>
                  <a:pt x="1809" y="3102"/>
                </a:lnTo>
                <a:lnTo>
                  <a:pt x="1818" y="3114"/>
                </a:lnTo>
                <a:lnTo>
                  <a:pt x="1833" y="3137"/>
                </a:lnTo>
                <a:lnTo>
                  <a:pt x="1847" y="3159"/>
                </a:lnTo>
                <a:lnTo>
                  <a:pt x="1858" y="3183"/>
                </a:lnTo>
                <a:lnTo>
                  <a:pt x="1867" y="3208"/>
                </a:lnTo>
                <a:lnTo>
                  <a:pt x="1874" y="3231"/>
                </a:lnTo>
                <a:lnTo>
                  <a:pt x="1879" y="3257"/>
                </a:lnTo>
                <a:lnTo>
                  <a:pt x="1881" y="3283"/>
                </a:lnTo>
                <a:lnTo>
                  <a:pt x="1883" y="3311"/>
                </a:lnTo>
                <a:lnTo>
                  <a:pt x="1881" y="3335"/>
                </a:lnTo>
                <a:lnTo>
                  <a:pt x="1879" y="3363"/>
                </a:lnTo>
                <a:lnTo>
                  <a:pt x="1875" y="3389"/>
                </a:lnTo>
                <a:lnTo>
                  <a:pt x="1869" y="3417"/>
                </a:lnTo>
                <a:lnTo>
                  <a:pt x="1868" y="3422"/>
                </a:lnTo>
                <a:lnTo>
                  <a:pt x="1868" y="3427"/>
                </a:lnTo>
                <a:lnTo>
                  <a:pt x="1868" y="3435"/>
                </a:lnTo>
                <a:lnTo>
                  <a:pt x="1870" y="3442"/>
                </a:lnTo>
                <a:lnTo>
                  <a:pt x="1873" y="3448"/>
                </a:lnTo>
                <a:lnTo>
                  <a:pt x="1878" y="3454"/>
                </a:lnTo>
                <a:lnTo>
                  <a:pt x="1883" y="3459"/>
                </a:lnTo>
                <a:lnTo>
                  <a:pt x="1894" y="3472"/>
                </a:lnTo>
                <a:lnTo>
                  <a:pt x="1913" y="3487"/>
                </a:lnTo>
                <a:lnTo>
                  <a:pt x="1937" y="3504"/>
                </a:lnTo>
                <a:lnTo>
                  <a:pt x="1951" y="3512"/>
                </a:lnTo>
                <a:lnTo>
                  <a:pt x="1967" y="3520"/>
                </a:lnTo>
                <a:lnTo>
                  <a:pt x="1985" y="3528"/>
                </a:lnTo>
                <a:lnTo>
                  <a:pt x="2003" y="3534"/>
                </a:lnTo>
                <a:lnTo>
                  <a:pt x="2023" y="3539"/>
                </a:lnTo>
                <a:lnTo>
                  <a:pt x="2044" y="3543"/>
                </a:lnTo>
                <a:lnTo>
                  <a:pt x="2066" y="3544"/>
                </a:lnTo>
                <a:lnTo>
                  <a:pt x="2090" y="3544"/>
                </a:lnTo>
                <a:lnTo>
                  <a:pt x="2112" y="3541"/>
                </a:lnTo>
                <a:lnTo>
                  <a:pt x="2134" y="3538"/>
                </a:lnTo>
                <a:lnTo>
                  <a:pt x="2156" y="3531"/>
                </a:lnTo>
                <a:lnTo>
                  <a:pt x="2177" y="3523"/>
                </a:lnTo>
                <a:lnTo>
                  <a:pt x="2199" y="3514"/>
                </a:lnTo>
                <a:lnTo>
                  <a:pt x="2220" y="3502"/>
                </a:lnTo>
                <a:lnTo>
                  <a:pt x="2242" y="3488"/>
                </a:lnTo>
                <a:lnTo>
                  <a:pt x="2264" y="3473"/>
                </a:lnTo>
                <a:lnTo>
                  <a:pt x="2285" y="3456"/>
                </a:lnTo>
                <a:lnTo>
                  <a:pt x="2306" y="3437"/>
                </a:lnTo>
                <a:lnTo>
                  <a:pt x="2326" y="3416"/>
                </a:lnTo>
                <a:lnTo>
                  <a:pt x="2347" y="3392"/>
                </a:lnTo>
                <a:lnTo>
                  <a:pt x="2368" y="3369"/>
                </a:lnTo>
                <a:lnTo>
                  <a:pt x="2388" y="3342"/>
                </a:lnTo>
                <a:lnTo>
                  <a:pt x="2409" y="3314"/>
                </a:lnTo>
                <a:lnTo>
                  <a:pt x="2429" y="3283"/>
                </a:lnTo>
                <a:lnTo>
                  <a:pt x="2429" y="3283"/>
                </a:lnTo>
                <a:lnTo>
                  <a:pt x="2430" y="3282"/>
                </a:lnTo>
                <a:lnTo>
                  <a:pt x="2461" y="3287"/>
                </a:lnTo>
                <a:lnTo>
                  <a:pt x="2507" y="3292"/>
                </a:lnTo>
                <a:lnTo>
                  <a:pt x="2533" y="3293"/>
                </a:lnTo>
                <a:lnTo>
                  <a:pt x="2562" y="3293"/>
                </a:lnTo>
                <a:lnTo>
                  <a:pt x="2592" y="3292"/>
                </a:lnTo>
                <a:lnTo>
                  <a:pt x="2622" y="3289"/>
                </a:lnTo>
                <a:lnTo>
                  <a:pt x="2636" y="3287"/>
                </a:lnTo>
                <a:lnTo>
                  <a:pt x="2651" y="3284"/>
                </a:lnTo>
                <a:lnTo>
                  <a:pt x="2668" y="3281"/>
                </a:lnTo>
                <a:lnTo>
                  <a:pt x="2682" y="3276"/>
                </a:lnTo>
                <a:lnTo>
                  <a:pt x="2696" y="3271"/>
                </a:lnTo>
                <a:lnTo>
                  <a:pt x="2711" y="3266"/>
                </a:lnTo>
                <a:lnTo>
                  <a:pt x="2726" y="3258"/>
                </a:lnTo>
                <a:lnTo>
                  <a:pt x="2740" y="3251"/>
                </a:lnTo>
                <a:lnTo>
                  <a:pt x="2752" y="3242"/>
                </a:lnTo>
                <a:lnTo>
                  <a:pt x="2764" y="3234"/>
                </a:lnTo>
                <a:lnTo>
                  <a:pt x="2777" y="3224"/>
                </a:lnTo>
                <a:lnTo>
                  <a:pt x="2788" y="3213"/>
                </a:lnTo>
                <a:lnTo>
                  <a:pt x="2799" y="3200"/>
                </a:lnTo>
                <a:lnTo>
                  <a:pt x="2809" y="3186"/>
                </a:lnTo>
                <a:lnTo>
                  <a:pt x="2818" y="3172"/>
                </a:lnTo>
                <a:lnTo>
                  <a:pt x="2826" y="3155"/>
                </a:lnTo>
                <a:lnTo>
                  <a:pt x="2833" y="3146"/>
                </a:lnTo>
                <a:lnTo>
                  <a:pt x="2849" y="3122"/>
                </a:lnTo>
                <a:lnTo>
                  <a:pt x="2871" y="3086"/>
                </a:lnTo>
                <a:lnTo>
                  <a:pt x="2898" y="3038"/>
                </a:lnTo>
                <a:lnTo>
                  <a:pt x="2930" y="2979"/>
                </a:lnTo>
                <a:lnTo>
                  <a:pt x="2963" y="2911"/>
                </a:lnTo>
                <a:lnTo>
                  <a:pt x="2980" y="2874"/>
                </a:lnTo>
                <a:lnTo>
                  <a:pt x="2998" y="2834"/>
                </a:lnTo>
                <a:lnTo>
                  <a:pt x="3016" y="2793"/>
                </a:lnTo>
                <a:lnTo>
                  <a:pt x="3033" y="2748"/>
                </a:lnTo>
                <a:lnTo>
                  <a:pt x="3050" y="2704"/>
                </a:lnTo>
                <a:lnTo>
                  <a:pt x="3066" y="2657"/>
                </a:lnTo>
                <a:lnTo>
                  <a:pt x="3081" y="2607"/>
                </a:lnTo>
                <a:lnTo>
                  <a:pt x="3095" y="2557"/>
                </a:lnTo>
                <a:lnTo>
                  <a:pt x="3108" y="2505"/>
                </a:lnTo>
                <a:lnTo>
                  <a:pt x="3119" y="2452"/>
                </a:lnTo>
                <a:lnTo>
                  <a:pt x="3131" y="2397"/>
                </a:lnTo>
                <a:lnTo>
                  <a:pt x="3139" y="2343"/>
                </a:lnTo>
                <a:lnTo>
                  <a:pt x="3146" y="2286"/>
                </a:lnTo>
                <a:lnTo>
                  <a:pt x="3151" y="2229"/>
                </a:lnTo>
                <a:lnTo>
                  <a:pt x="3153" y="2170"/>
                </a:lnTo>
                <a:lnTo>
                  <a:pt x="3153" y="2111"/>
                </a:lnTo>
                <a:lnTo>
                  <a:pt x="3151" y="2051"/>
                </a:lnTo>
                <a:lnTo>
                  <a:pt x="3144" y="1992"/>
                </a:lnTo>
                <a:lnTo>
                  <a:pt x="3137" y="1931"/>
                </a:lnTo>
                <a:lnTo>
                  <a:pt x="3124" y="1870"/>
                </a:lnTo>
                <a:lnTo>
                  <a:pt x="3117" y="1838"/>
                </a:lnTo>
                <a:lnTo>
                  <a:pt x="3110" y="1806"/>
                </a:lnTo>
                <a:lnTo>
                  <a:pt x="3100" y="1775"/>
                </a:lnTo>
                <a:lnTo>
                  <a:pt x="3090" y="1742"/>
                </a:lnTo>
                <a:lnTo>
                  <a:pt x="3079" y="1711"/>
                </a:lnTo>
                <a:lnTo>
                  <a:pt x="3067" y="1680"/>
                </a:lnTo>
                <a:lnTo>
                  <a:pt x="3054" y="1650"/>
                </a:lnTo>
                <a:lnTo>
                  <a:pt x="3040" y="1619"/>
                </a:lnTo>
                <a:lnTo>
                  <a:pt x="3026" y="1590"/>
                </a:lnTo>
                <a:lnTo>
                  <a:pt x="3010" y="1561"/>
                </a:lnTo>
                <a:lnTo>
                  <a:pt x="2994" y="1531"/>
                </a:lnTo>
                <a:lnTo>
                  <a:pt x="2977" y="1503"/>
                </a:lnTo>
                <a:lnTo>
                  <a:pt x="2959" y="1476"/>
                </a:lnTo>
                <a:lnTo>
                  <a:pt x="2941" y="1447"/>
                </a:lnTo>
                <a:lnTo>
                  <a:pt x="2921" y="1420"/>
                </a:lnTo>
                <a:lnTo>
                  <a:pt x="2900" y="1392"/>
                </a:lnTo>
                <a:lnTo>
                  <a:pt x="2879" y="1365"/>
                </a:lnTo>
                <a:lnTo>
                  <a:pt x="2856" y="1339"/>
                </a:lnTo>
                <a:lnTo>
                  <a:pt x="2833" y="1313"/>
                </a:lnTo>
                <a:lnTo>
                  <a:pt x="2809" y="1287"/>
                </a:lnTo>
                <a:lnTo>
                  <a:pt x="2784" y="1262"/>
                </a:lnTo>
                <a:lnTo>
                  <a:pt x="2758" y="1237"/>
                </a:lnTo>
                <a:lnTo>
                  <a:pt x="2731" y="1213"/>
                </a:lnTo>
                <a:lnTo>
                  <a:pt x="2704" y="1189"/>
                </a:lnTo>
                <a:lnTo>
                  <a:pt x="2675" y="1165"/>
                </a:lnTo>
                <a:lnTo>
                  <a:pt x="2646" y="1142"/>
                </a:lnTo>
                <a:lnTo>
                  <a:pt x="2617" y="1118"/>
                </a:lnTo>
                <a:lnTo>
                  <a:pt x="2586" y="1096"/>
                </a:lnTo>
                <a:lnTo>
                  <a:pt x="2553" y="1074"/>
                </a:lnTo>
                <a:lnTo>
                  <a:pt x="2521" y="1052"/>
                </a:lnTo>
                <a:lnTo>
                  <a:pt x="2487" y="1031"/>
                </a:lnTo>
                <a:lnTo>
                  <a:pt x="2454" y="1010"/>
                </a:lnTo>
                <a:lnTo>
                  <a:pt x="2432" y="992"/>
                </a:lnTo>
                <a:lnTo>
                  <a:pt x="2384" y="952"/>
                </a:lnTo>
                <a:lnTo>
                  <a:pt x="2315" y="895"/>
                </a:lnTo>
                <a:lnTo>
                  <a:pt x="2225" y="825"/>
                </a:lnTo>
                <a:lnTo>
                  <a:pt x="2119" y="744"/>
                </a:lnTo>
                <a:lnTo>
                  <a:pt x="1997" y="654"/>
                </a:lnTo>
                <a:lnTo>
                  <a:pt x="1932" y="607"/>
                </a:lnTo>
                <a:lnTo>
                  <a:pt x="1864" y="559"/>
                </a:lnTo>
                <a:lnTo>
                  <a:pt x="1793" y="512"/>
                </a:lnTo>
                <a:lnTo>
                  <a:pt x="1721" y="463"/>
                </a:lnTo>
                <a:lnTo>
                  <a:pt x="1648" y="416"/>
                </a:lnTo>
                <a:lnTo>
                  <a:pt x="1572" y="369"/>
                </a:lnTo>
                <a:lnTo>
                  <a:pt x="1495" y="323"/>
                </a:lnTo>
                <a:lnTo>
                  <a:pt x="1418" y="278"/>
                </a:lnTo>
                <a:lnTo>
                  <a:pt x="1341" y="236"/>
                </a:lnTo>
                <a:lnTo>
                  <a:pt x="1264" y="195"/>
                </a:lnTo>
                <a:lnTo>
                  <a:pt x="1187" y="158"/>
                </a:lnTo>
                <a:lnTo>
                  <a:pt x="1110" y="123"/>
                </a:lnTo>
                <a:lnTo>
                  <a:pt x="1035" y="92"/>
                </a:lnTo>
                <a:lnTo>
                  <a:pt x="960" y="65"/>
                </a:lnTo>
                <a:lnTo>
                  <a:pt x="887" y="43"/>
                </a:lnTo>
                <a:lnTo>
                  <a:pt x="816" y="24"/>
                </a:lnTo>
                <a:lnTo>
                  <a:pt x="748" y="10"/>
                </a:lnTo>
                <a:lnTo>
                  <a:pt x="682" y="3"/>
                </a:lnTo>
                <a:lnTo>
                  <a:pt x="619" y="0"/>
                </a:lnTo>
                <a:lnTo>
                  <a:pt x="559" y="5"/>
                </a:lnTo>
                <a:close/>
                <a:moveTo>
                  <a:pt x="2403" y="1079"/>
                </a:moveTo>
                <a:lnTo>
                  <a:pt x="2437" y="1100"/>
                </a:lnTo>
                <a:lnTo>
                  <a:pt x="2469" y="1119"/>
                </a:lnTo>
                <a:lnTo>
                  <a:pt x="2500" y="1141"/>
                </a:lnTo>
                <a:lnTo>
                  <a:pt x="2530" y="1162"/>
                </a:lnTo>
                <a:lnTo>
                  <a:pt x="2559" y="1183"/>
                </a:lnTo>
                <a:lnTo>
                  <a:pt x="2588" y="1205"/>
                </a:lnTo>
                <a:lnTo>
                  <a:pt x="2615" y="1227"/>
                </a:lnTo>
                <a:lnTo>
                  <a:pt x="2643" y="1250"/>
                </a:lnTo>
                <a:lnTo>
                  <a:pt x="2669" y="1272"/>
                </a:lnTo>
                <a:lnTo>
                  <a:pt x="2695" y="1296"/>
                </a:lnTo>
                <a:lnTo>
                  <a:pt x="2718" y="1319"/>
                </a:lnTo>
                <a:lnTo>
                  <a:pt x="2743" y="1343"/>
                </a:lnTo>
                <a:lnTo>
                  <a:pt x="2766" y="1368"/>
                </a:lnTo>
                <a:lnTo>
                  <a:pt x="2788" y="1391"/>
                </a:lnTo>
                <a:lnTo>
                  <a:pt x="2809" y="1416"/>
                </a:lnTo>
                <a:lnTo>
                  <a:pt x="2829" y="1442"/>
                </a:lnTo>
                <a:lnTo>
                  <a:pt x="2849" y="1467"/>
                </a:lnTo>
                <a:lnTo>
                  <a:pt x="2867" y="1493"/>
                </a:lnTo>
                <a:lnTo>
                  <a:pt x="2885" y="1519"/>
                </a:lnTo>
                <a:lnTo>
                  <a:pt x="2902" y="1545"/>
                </a:lnTo>
                <a:lnTo>
                  <a:pt x="2918" y="1572"/>
                </a:lnTo>
                <a:lnTo>
                  <a:pt x="2933" y="1600"/>
                </a:lnTo>
                <a:lnTo>
                  <a:pt x="2948" y="1627"/>
                </a:lnTo>
                <a:lnTo>
                  <a:pt x="2962" y="1654"/>
                </a:lnTo>
                <a:lnTo>
                  <a:pt x="2974" y="1683"/>
                </a:lnTo>
                <a:lnTo>
                  <a:pt x="2987" y="1711"/>
                </a:lnTo>
                <a:lnTo>
                  <a:pt x="2998" y="1740"/>
                </a:lnTo>
                <a:lnTo>
                  <a:pt x="3008" y="1768"/>
                </a:lnTo>
                <a:lnTo>
                  <a:pt x="3018" y="1798"/>
                </a:lnTo>
                <a:lnTo>
                  <a:pt x="3026" y="1828"/>
                </a:lnTo>
                <a:lnTo>
                  <a:pt x="3034" y="1858"/>
                </a:lnTo>
                <a:lnTo>
                  <a:pt x="3041" y="1889"/>
                </a:lnTo>
                <a:lnTo>
                  <a:pt x="3051" y="1946"/>
                </a:lnTo>
                <a:lnTo>
                  <a:pt x="3060" y="2003"/>
                </a:lnTo>
                <a:lnTo>
                  <a:pt x="3065" y="2060"/>
                </a:lnTo>
                <a:lnTo>
                  <a:pt x="3066" y="2116"/>
                </a:lnTo>
                <a:lnTo>
                  <a:pt x="3066" y="2173"/>
                </a:lnTo>
                <a:lnTo>
                  <a:pt x="3064" y="2227"/>
                </a:lnTo>
                <a:lnTo>
                  <a:pt x="3059" y="2283"/>
                </a:lnTo>
                <a:lnTo>
                  <a:pt x="3052" y="2337"/>
                </a:lnTo>
                <a:lnTo>
                  <a:pt x="3044" y="2390"/>
                </a:lnTo>
                <a:lnTo>
                  <a:pt x="3033" y="2442"/>
                </a:lnTo>
                <a:lnTo>
                  <a:pt x="3021" y="2493"/>
                </a:lnTo>
                <a:lnTo>
                  <a:pt x="3009" y="2543"/>
                </a:lnTo>
                <a:lnTo>
                  <a:pt x="2994" y="2591"/>
                </a:lnTo>
                <a:lnTo>
                  <a:pt x="2979" y="2638"/>
                </a:lnTo>
                <a:lnTo>
                  <a:pt x="2963" y="2684"/>
                </a:lnTo>
                <a:lnTo>
                  <a:pt x="2947" y="2727"/>
                </a:lnTo>
                <a:lnTo>
                  <a:pt x="2931" y="2770"/>
                </a:lnTo>
                <a:lnTo>
                  <a:pt x="2913" y="2811"/>
                </a:lnTo>
                <a:lnTo>
                  <a:pt x="2897" y="2848"/>
                </a:lnTo>
                <a:lnTo>
                  <a:pt x="2880" y="2884"/>
                </a:lnTo>
                <a:lnTo>
                  <a:pt x="2848" y="2949"/>
                </a:lnTo>
                <a:lnTo>
                  <a:pt x="2818" y="3005"/>
                </a:lnTo>
                <a:lnTo>
                  <a:pt x="2792" y="3050"/>
                </a:lnTo>
                <a:lnTo>
                  <a:pt x="2771" y="3085"/>
                </a:lnTo>
                <a:lnTo>
                  <a:pt x="2757" y="3106"/>
                </a:lnTo>
                <a:lnTo>
                  <a:pt x="2752" y="3113"/>
                </a:lnTo>
                <a:lnTo>
                  <a:pt x="2747" y="3123"/>
                </a:lnTo>
                <a:lnTo>
                  <a:pt x="2741" y="3132"/>
                </a:lnTo>
                <a:lnTo>
                  <a:pt x="2735" y="3141"/>
                </a:lnTo>
                <a:lnTo>
                  <a:pt x="2728" y="3148"/>
                </a:lnTo>
                <a:lnTo>
                  <a:pt x="2721" y="3155"/>
                </a:lnTo>
                <a:lnTo>
                  <a:pt x="2713" y="3162"/>
                </a:lnTo>
                <a:lnTo>
                  <a:pt x="2705" y="3168"/>
                </a:lnTo>
                <a:lnTo>
                  <a:pt x="2696" y="3174"/>
                </a:lnTo>
                <a:lnTo>
                  <a:pt x="2677" y="3183"/>
                </a:lnTo>
                <a:lnTo>
                  <a:pt x="2658" y="3190"/>
                </a:lnTo>
                <a:lnTo>
                  <a:pt x="2638" y="3196"/>
                </a:lnTo>
                <a:lnTo>
                  <a:pt x="2617" y="3200"/>
                </a:lnTo>
                <a:lnTo>
                  <a:pt x="2594" y="3204"/>
                </a:lnTo>
                <a:lnTo>
                  <a:pt x="2573" y="3205"/>
                </a:lnTo>
                <a:lnTo>
                  <a:pt x="2552" y="3206"/>
                </a:lnTo>
                <a:lnTo>
                  <a:pt x="2532" y="3206"/>
                </a:lnTo>
                <a:lnTo>
                  <a:pt x="2494" y="3204"/>
                </a:lnTo>
                <a:lnTo>
                  <a:pt x="2463" y="3200"/>
                </a:lnTo>
                <a:lnTo>
                  <a:pt x="2464" y="3178"/>
                </a:lnTo>
                <a:lnTo>
                  <a:pt x="2465" y="3149"/>
                </a:lnTo>
                <a:lnTo>
                  <a:pt x="2466" y="3117"/>
                </a:lnTo>
                <a:lnTo>
                  <a:pt x="2468" y="3086"/>
                </a:lnTo>
                <a:lnTo>
                  <a:pt x="2469" y="3056"/>
                </a:lnTo>
                <a:lnTo>
                  <a:pt x="2470" y="3033"/>
                </a:lnTo>
                <a:lnTo>
                  <a:pt x="2471" y="3015"/>
                </a:lnTo>
                <a:lnTo>
                  <a:pt x="2471" y="3009"/>
                </a:lnTo>
                <a:lnTo>
                  <a:pt x="2471" y="3002"/>
                </a:lnTo>
                <a:lnTo>
                  <a:pt x="2469" y="2994"/>
                </a:lnTo>
                <a:lnTo>
                  <a:pt x="2465" y="2987"/>
                </a:lnTo>
                <a:lnTo>
                  <a:pt x="2460" y="2981"/>
                </a:lnTo>
                <a:lnTo>
                  <a:pt x="2455" y="2976"/>
                </a:lnTo>
                <a:lnTo>
                  <a:pt x="2448" y="2971"/>
                </a:lnTo>
                <a:lnTo>
                  <a:pt x="2442" y="2968"/>
                </a:lnTo>
                <a:lnTo>
                  <a:pt x="2433" y="2967"/>
                </a:lnTo>
                <a:lnTo>
                  <a:pt x="2424" y="2967"/>
                </a:lnTo>
                <a:lnTo>
                  <a:pt x="2417" y="2968"/>
                </a:lnTo>
                <a:lnTo>
                  <a:pt x="2409" y="2972"/>
                </a:lnTo>
                <a:lnTo>
                  <a:pt x="2403" y="2976"/>
                </a:lnTo>
                <a:lnTo>
                  <a:pt x="2397" y="2982"/>
                </a:lnTo>
                <a:lnTo>
                  <a:pt x="2392" y="2988"/>
                </a:lnTo>
                <a:lnTo>
                  <a:pt x="2388" y="2995"/>
                </a:lnTo>
                <a:lnTo>
                  <a:pt x="2387" y="3003"/>
                </a:lnTo>
                <a:lnTo>
                  <a:pt x="2386" y="3013"/>
                </a:lnTo>
                <a:lnTo>
                  <a:pt x="2382" y="3038"/>
                </a:lnTo>
                <a:lnTo>
                  <a:pt x="2377" y="3074"/>
                </a:lnTo>
                <a:lnTo>
                  <a:pt x="2371" y="3114"/>
                </a:lnTo>
                <a:lnTo>
                  <a:pt x="2365" y="3158"/>
                </a:lnTo>
                <a:lnTo>
                  <a:pt x="2360" y="3196"/>
                </a:lnTo>
                <a:lnTo>
                  <a:pt x="2355" y="3226"/>
                </a:lnTo>
                <a:lnTo>
                  <a:pt x="2352" y="3242"/>
                </a:lnTo>
                <a:lnTo>
                  <a:pt x="2336" y="3267"/>
                </a:lnTo>
                <a:lnTo>
                  <a:pt x="2320" y="3291"/>
                </a:lnTo>
                <a:lnTo>
                  <a:pt x="2302" y="3312"/>
                </a:lnTo>
                <a:lnTo>
                  <a:pt x="2285" y="3332"/>
                </a:lnTo>
                <a:lnTo>
                  <a:pt x="2269" y="3351"/>
                </a:lnTo>
                <a:lnTo>
                  <a:pt x="2252" y="3368"/>
                </a:lnTo>
                <a:lnTo>
                  <a:pt x="2235" y="3384"/>
                </a:lnTo>
                <a:lnTo>
                  <a:pt x="2218" y="3399"/>
                </a:lnTo>
                <a:lnTo>
                  <a:pt x="2202" y="3411"/>
                </a:lnTo>
                <a:lnTo>
                  <a:pt x="2184" y="3422"/>
                </a:lnTo>
                <a:lnTo>
                  <a:pt x="2168" y="3432"/>
                </a:lnTo>
                <a:lnTo>
                  <a:pt x="2151" y="3441"/>
                </a:lnTo>
                <a:lnTo>
                  <a:pt x="2135" y="3447"/>
                </a:lnTo>
                <a:lnTo>
                  <a:pt x="2119" y="3453"/>
                </a:lnTo>
                <a:lnTo>
                  <a:pt x="2103" y="3456"/>
                </a:lnTo>
                <a:lnTo>
                  <a:pt x="2086" y="3458"/>
                </a:lnTo>
                <a:lnTo>
                  <a:pt x="2073" y="3458"/>
                </a:lnTo>
                <a:lnTo>
                  <a:pt x="2060" y="3458"/>
                </a:lnTo>
                <a:lnTo>
                  <a:pt x="2049" y="3457"/>
                </a:lnTo>
                <a:lnTo>
                  <a:pt x="2038" y="3454"/>
                </a:lnTo>
                <a:lnTo>
                  <a:pt x="2027" y="3452"/>
                </a:lnTo>
                <a:lnTo>
                  <a:pt x="2017" y="3449"/>
                </a:lnTo>
                <a:lnTo>
                  <a:pt x="2008" y="3446"/>
                </a:lnTo>
                <a:lnTo>
                  <a:pt x="1999" y="3442"/>
                </a:lnTo>
                <a:lnTo>
                  <a:pt x="1985" y="3433"/>
                </a:lnTo>
                <a:lnTo>
                  <a:pt x="1972" y="3425"/>
                </a:lnTo>
                <a:lnTo>
                  <a:pt x="1962" y="3416"/>
                </a:lnTo>
                <a:lnTo>
                  <a:pt x="1956" y="3410"/>
                </a:lnTo>
                <a:lnTo>
                  <a:pt x="1960" y="3385"/>
                </a:lnTo>
                <a:lnTo>
                  <a:pt x="1965" y="3359"/>
                </a:lnTo>
                <a:lnTo>
                  <a:pt x="1967" y="3334"/>
                </a:lnTo>
                <a:lnTo>
                  <a:pt x="1968" y="3311"/>
                </a:lnTo>
                <a:lnTo>
                  <a:pt x="1968" y="3293"/>
                </a:lnTo>
                <a:lnTo>
                  <a:pt x="1967" y="3277"/>
                </a:lnTo>
                <a:lnTo>
                  <a:pt x="1966" y="3261"/>
                </a:lnTo>
                <a:lnTo>
                  <a:pt x="1963" y="3244"/>
                </a:lnTo>
                <a:lnTo>
                  <a:pt x="1960" y="3227"/>
                </a:lnTo>
                <a:lnTo>
                  <a:pt x="1957" y="3211"/>
                </a:lnTo>
                <a:lnTo>
                  <a:pt x="1952" y="3196"/>
                </a:lnTo>
                <a:lnTo>
                  <a:pt x="1949" y="3180"/>
                </a:lnTo>
                <a:lnTo>
                  <a:pt x="1942" y="3165"/>
                </a:lnTo>
                <a:lnTo>
                  <a:pt x="1936" y="3150"/>
                </a:lnTo>
                <a:lnTo>
                  <a:pt x="1930" y="3136"/>
                </a:lnTo>
                <a:lnTo>
                  <a:pt x="1922" y="3121"/>
                </a:lnTo>
                <a:lnTo>
                  <a:pt x="1906" y="3092"/>
                </a:lnTo>
                <a:lnTo>
                  <a:pt x="1888" y="3064"/>
                </a:lnTo>
                <a:lnTo>
                  <a:pt x="1873" y="3045"/>
                </a:lnTo>
                <a:lnTo>
                  <a:pt x="1858" y="3028"/>
                </a:lnTo>
                <a:lnTo>
                  <a:pt x="1842" y="3010"/>
                </a:lnTo>
                <a:lnTo>
                  <a:pt x="1824" y="2994"/>
                </a:lnTo>
                <a:lnTo>
                  <a:pt x="1806" y="2978"/>
                </a:lnTo>
                <a:lnTo>
                  <a:pt x="1786" y="2962"/>
                </a:lnTo>
                <a:lnTo>
                  <a:pt x="1766" y="2947"/>
                </a:lnTo>
                <a:lnTo>
                  <a:pt x="1744" y="2932"/>
                </a:lnTo>
                <a:lnTo>
                  <a:pt x="1721" y="2917"/>
                </a:lnTo>
                <a:lnTo>
                  <a:pt x="1696" y="2904"/>
                </a:lnTo>
                <a:lnTo>
                  <a:pt x="1672" y="2890"/>
                </a:lnTo>
                <a:lnTo>
                  <a:pt x="1646" y="2876"/>
                </a:lnTo>
                <a:lnTo>
                  <a:pt x="1618" y="2864"/>
                </a:lnTo>
                <a:lnTo>
                  <a:pt x="1590" y="2851"/>
                </a:lnTo>
                <a:lnTo>
                  <a:pt x="1560" y="2840"/>
                </a:lnTo>
                <a:lnTo>
                  <a:pt x="1530" y="2828"/>
                </a:lnTo>
                <a:lnTo>
                  <a:pt x="1499" y="2818"/>
                </a:lnTo>
                <a:lnTo>
                  <a:pt x="1465" y="2807"/>
                </a:lnTo>
                <a:lnTo>
                  <a:pt x="1432" y="2797"/>
                </a:lnTo>
                <a:lnTo>
                  <a:pt x="1397" y="2788"/>
                </a:lnTo>
                <a:lnTo>
                  <a:pt x="1361" y="2778"/>
                </a:lnTo>
                <a:lnTo>
                  <a:pt x="1325" y="2770"/>
                </a:lnTo>
                <a:lnTo>
                  <a:pt x="1287" y="2762"/>
                </a:lnTo>
                <a:lnTo>
                  <a:pt x="1248" y="2753"/>
                </a:lnTo>
                <a:lnTo>
                  <a:pt x="1167" y="2740"/>
                </a:lnTo>
                <a:lnTo>
                  <a:pt x="1083" y="2727"/>
                </a:lnTo>
                <a:lnTo>
                  <a:pt x="994" y="2717"/>
                </a:lnTo>
                <a:lnTo>
                  <a:pt x="900" y="2708"/>
                </a:lnTo>
                <a:lnTo>
                  <a:pt x="938" y="2663"/>
                </a:lnTo>
                <a:lnTo>
                  <a:pt x="992" y="2595"/>
                </a:lnTo>
                <a:lnTo>
                  <a:pt x="1059" y="2513"/>
                </a:lnTo>
                <a:lnTo>
                  <a:pt x="1129" y="2426"/>
                </a:lnTo>
                <a:lnTo>
                  <a:pt x="1197" y="2343"/>
                </a:lnTo>
                <a:lnTo>
                  <a:pt x="1254" y="2273"/>
                </a:lnTo>
                <a:lnTo>
                  <a:pt x="1293" y="2224"/>
                </a:lnTo>
                <a:lnTo>
                  <a:pt x="1308" y="2206"/>
                </a:lnTo>
                <a:lnTo>
                  <a:pt x="1316" y="2203"/>
                </a:lnTo>
                <a:lnTo>
                  <a:pt x="1325" y="2200"/>
                </a:lnTo>
                <a:lnTo>
                  <a:pt x="1336" y="2199"/>
                </a:lnTo>
                <a:lnTo>
                  <a:pt x="1348" y="2198"/>
                </a:lnTo>
                <a:lnTo>
                  <a:pt x="1359" y="2198"/>
                </a:lnTo>
                <a:lnTo>
                  <a:pt x="1372" y="2199"/>
                </a:lnTo>
                <a:lnTo>
                  <a:pt x="1385" y="2200"/>
                </a:lnTo>
                <a:lnTo>
                  <a:pt x="1400" y="2203"/>
                </a:lnTo>
                <a:lnTo>
                  <a:pt x="1429" y="2210"/>
                </a:lnTo>
                <a:lnTo>
                  <a:pt x="1462" y="2220"/>
                </a:lnTo>
                <a:lnTo>
                  <a:pt x="1495" y="2232"/>
                </a:lnTo>
                <a:lnTo>
                  <a:pt x="1531" y="2246"/>
                </a:lnTo>
                <a:lnTo>
                  <a:pt x="1566" y="2261"/>
                </a:lnTo>
                <a:lnTo>
                  <a:pt x="1602" y="2278"/>
                </a:lnTo>
                <a:lnTo>
                  <a:pt x="1638" y="2296"/>
                </a:lnTo>
                <a:lnTo>
                  <a:pt x="1674" y="2314"/>
                </a:lnTo>
                <a:lnTo>
                  <a:pt x="1708" y="2334"/>
                </a:lnTo>
                <a:lnTo>
                  <a:pt x="1740" y="2353"/>
                </a:lnTo>
                <a:lnTo>
                  <a:pt x="1771" y="2371"/>
                </a:lnTo>
                <a:lnTo>
                  <a:pt x="1800" y="2390"/>
                </a:lnTo>
                <a:lnTo>
                  <a:pt x="1806" y="2394"/>
                </a:lnTo>
                <a:lnTo>
                  <a:pt x="1813" y="2395"/>
                </a:lnTo>
                <a:lnTo>
                  <a:pt x="1819" y="2396"/>
                </a:lnTo>
                <a:lnTo>
                  <a:pt x="1827" y="2396"/>
                </a:lnTo>
                <a:lnTo>
                  <a:pt x="1833" y="2396"/>
                </a:lnTo>
                <a:lnTo>
                  <a:pt x="1840" y="2394"/>
                </a:lnTo>
                <a:lnTo>
                  <a:pt x="1847" y="2390"/>
                </a:lnTo>
                <a:lnTo>
                  <a:pt x="1853" y="2385"/>
                </a:lnTo>
                <a:lnTo>
                  <a:pt x="1858" y="2379"/>
                </a:lnTo>
                <a:lnTo>
                  <a:pt x="1863" y="2371"/>
                </a:lnTo>
                <a:lnTo>
                  <a:pt x="1865" y="2363"/>
                </a:lnTo>
                <a:lnTo>
                  <a:pt x="1867" y="2354"/>
                </a:lnTo>
                <a:lnTo>
                  <a:pt x="1865" y="2349"/>
                </a:lnTo>
                <a:lnTo>
                  <a:pt x="1865" y="2344"/>
                </a:lnTo>
                <a:lnTo>
                  <a:pt x="1863" y="2339"/>
                </a:lnTo>
                <a:lnTo>
                  <a:pt x="1860" y="2334"/>
                </a:lnTo>
                <a:lnTo>
                  <a:pt x="1853" y="2320"/>
                </a:lnTo>
                <a:lnTo>
                  <a:pt x="1844" y="2308"/>
                </a:lnTo>
                <a:lnTo>
                  <a:pt x="1834" y="2296"/>
                </a:lnTo>
                <a:lnTo>
                  <a:pt x="1824" y="2283"/>
                </a:lnTo>
                <a:lnTo>
                  <a:pt x="1812" y="2272"/>
                </a:lnTo>
                <a:lnTo>
                  <a:pt x="1800" y="2261"/>
                </a:lnTo>
                <a:lnTo>
                  <a:pt x="1787" y="2251"/>
                </a:lnTo>
                <a:lnTo>
                  <a:pt x="1773" y="2241"/>
                </a:lnTo>
                <a:lnTo>
                  <a:pt x="1745" y="2222"/>
                </a:lnTo>
                <a:lnTo>
                  <a:pt x="1714" y="2205"/>
                </a:lnTo>
                <a:lnTo>
                  <a:pt x="1680" y="2190"/>
                </a:lnTo>
                <a:lnTo>
                  <a:pt x="1646" y="2175"/>
                </a:lnTo>
                <a:lnTo>
                  <a:pt x="1611" y="2163"/>
                </a:lnTo>
                <a:lnTo>
                  <a:pt x="1575" y="2152"/>
                </a:lnTo>
                <a:lnTo>
                  <a:pt x="1538" y="2142"/>
                </a:lnTo>
                <a:lnTo>
                  <a:pt x="1501" y="2133"/>
                </a:lnTo>
                <a:lnTo>
                  <a:pt x="1465" y="2126"/>
                </a:lnTo>
                <a:lnTo>
                  <a:pt x="1429" y="2119"/>
                </a:lnTo>
                <a:lnTo>
                  <a:pt x="1396" y="2113"/>
                </a:lnTo>
                <a:lnTo>
                  <a:pt x="1364" y="2108"/>
                </a:lnTo>
                <a:lnTo>
                  <a:pt x="1390" y="2100"/>
                </a:lnTo>
                <a:lnTo>
                  <a:pt x="1417" y="2092"/>
                </a:lnTo>
                <a:lnTo>
                  <a:pt x="1444" y="2085"/>
                </a:lnTo>
                <a:lnTo>
                  <a:pt x="1474" y="2077"/>
                </a:lnTo>
                <a:lnTo>
                  <a:pt x="1533" y="2065"/>
                </a:lnTo>
                <a:lnTo>
                  <a:pt x="1593" y="2054"/>
                </a:lnTo>
                <a:lnTo>
                  <a:pt x="1654" y="2046"/>
                </a:lnTo>
                <a:lnTo>
                  <a:pt x="1715" y="2039"/>
                </a:lnTo>
                <a:lnTo>
                  <a:pt x="1773" y="2034"/>
                </a:lnTo>
                <a:lnTo>
                  <a:pt x="1831" y="2029"/>
                </a:lnTo>
                <a:lnTo>
                  <a:pt x="1934" y="2024"/>
                </a:lnTo>
                <a:lnTo>
                  <a:pt x="2017" y="2023"/>
                </a:lnTo>
                <a:lnTo>
                  <a:pt x="2074" y="2023"/>
                </a:lnTo>
                <a:lnTo>
                  <a:pt x="2095" y="2023"/>
                </a:lnTo>
                <a:lnTo>
                  <a:pt x="2101" y="2023"/>
                </a:lnTo>
                <a:lnTo>
                  <a:pt x="2107" y="2021"/>
                </a:lnTo>
                <a:lnTo>
                  <a:pt x="2112" y="2020"/>
                </a:lnTo>
                <a:lnTo>
                  <a:pt x="2119" y="2018"/>
                </a:lnTo>
                <a:lnTo>
                  <a:pt x="2124" y="2014"/>
                </a:lnTo>
                <a:lnTo>
                  <a:pt x="2127" y="2010"/>
                </a:lnTo>
                <a:lnTo>
                  <a:pt x="2131" y="2005"/>
                </a:lnTo>
                <a:lnTo>
                  <a:pt x="2135" y="2000"/>
                </a:lnTo>
                <a:lnTo>
                  <a:pt x="2137" y="1994"/>
                </a:lnTo>
                <a:lnTo>
                  <a:pt x="2139" y="1988"/>
                </a:lnTo>
                <a:lnTo>
                  <a:pt x="2140" y="1982"/>
                </a:lnTo>
                <a:lnTo>
                  <a:pt x="2140" y="1977"/>
                </a:lnTo>
                <a:lnTo>
                  <a:pt x="2139" y="1971"/>
                </a:lnTo>
                <a:lnTo>
                  <a:pt x="2136" y="1964"/>
                </a:lnTo>
                <a:lnTo>
                  <a:pt x="2134" y="1959"/>
                </a:lnTo>
                <a:lnTo>
                  <a:pt x="2130" y="1954"/>
                </a:lnTo>
                <a:lnTo>
                  <a:pt x="2125" y="1948"/>
                </a:lnTo>
                <a:lnTo>
                  <a:pt x="2119" y="1942"/>
                </a:lnTo>
                <a:lnTo>
                  <a:pt x="2112" y="1937"/>
                </a:lnTo>
                <a:lnTo>
                  <a:pt x="2104" y="1932"/>
                </a:lnTo>
                <a:lnTo>
                  <a:pt x="2096" y="1928"/>
                </a:lnTo>
                <a:lnTo>
                  <a:pt x="2086" y="1925"/>
                </a:lnTo>
                <a:lnTo>
                  <a:pt x="2076" y="1921"/>
                </a:lnTo>
                <a:lnTo>
                  <a:pt x="2066" y="1917"/>
                </a:lnTo>
                <a:lnTo>
                  <a:pt x="2043" y="1912"/>
                </a:lnTo>
                <a:lnTo>
                  <a:pt x="2017" y="1910"/>
                </a:lnTo>
                <a:lnTo>
                  <a:pt x="1987" y="1907"/>
                </a:lnTo>
                <a:lnTo>
                  <a:pt x="1955" y="1907"/>
                </a:lnTo>
                <a:lnTo>
                  <a:pt x="1920" y="1909"/>
                </a:lnTo>
                <a:lnTo>
                  <a:pt x="1883" y="1911"/>
                </a:lnTo>
                <a:lnTo>
                  <a:pt x="1842" y="1915"/>
                </a:lnTo>
                <a:lnTo>
                  <a:pt x="1798" y="1920"/>
                </a:lnTo>
                <a:lnTo>
                  <a:pt x="1703" y="1933"/>
                </a:lnTo>
                <a:lnTo>
                  <a:pt x="1596" y="1949"/>
                </a:lnTo>
                <a:lnTo>
                  <a:pt x="1639" y="1923"/>
                </a:lnTo>
                <a:lnTo>
                  <a:pt x="1678" y="1900"/>
                </a:lnTo>
                <a:lnTo>
                  <a:pt x="1705" y="1884"/>
                </a:lnTo>
                <a:lnTo>
                  <a:pt x="1716" y="1878"/>
                </a:lnTo>
                <a:lnTo>
                  <a:pt x="1721" y="1874"/>
                </a:lnTo>
                <a:lnTo>
                  <a:pt x="1725" y="1870"/>
                </a:lnTo>
                <a:lnTo>
                  <a:pt x="1729" y="1866"/>
                </a:lnTo>
                <a:lnTo>
                  <a:pt x="1731" y="1861"/>
                </a:lnTo>
                <a:lnTo>
                  <a:pt x="1734" y="1856"/>
                </a:lnTo>
                <a:lnTo>
                  <a:pt x="1735" y="1851"/>
                </a:lnTo>
                <a:lnTo>
                  <a:pt x="1736" y="1847"/>
                </a:lnTo>
                <a:lnTo>
                  <a:pt x="1736" y="1840"/>
                </a:lnTo>
                <a:lnTo>
                  <a:pt x="1736" y="1835"/>
                </a:lnTo>
                <a:lnTo>
                  <a:pt x="1735" y="1829"/>
                </a:lnTo>
                <a:lnTo>
                  <a:pt x="1732" y="1823"/>
                </a:lnTo>
                <a:lnTo>
                  <a:pt x="1730" y="1817"/>
                </a:lnTo>
                <a:lnTo>
                  <a:pt x="1725" y="1812"/>
                </a:lnTo>
                <a:lnTo>
                  <a:pt x="1720" y="1807"/>
                </a:lnTo>
                <a:lnTo>
                  <a:pt x="1715" y="1803"/>
                </a:lnTo>
                <a:lnTo>
                  <a:pt x="1709" y="1801"/>
                </a:lnTo>
                <a:lnTo>
                  <a:pt x="1701" y="1799"/>
                </a:lnTo>
                <a:lnTo>
                  <a:pt x="1695" y="1798"/>
                </a:lnTo>
                <a:lnTo>
                  <a:pt x="1684" y="1798"/>
                </a:lnTo>
                <a:lnTo>
                  <a:pt x="1674" y="1799"/>
                </a:lnTo>
                <a:lnTo>
                  <a:pt x="1664" y="1801"/>
                </a:lnTo>
                <a:lnTo>
                  <a:pt x="1653" y="1803"/>
                </a:lnTo>
                <a:lnTo>
                  <a:pt x="1632" y="1809"/>
                </a:lnTo>
                <a:lnTo>
                  <a:pt x="1610" y="1818"/>
                </a:lnTo>
                <a:lnTo>
                  <a:pt x="1587" y="1828"/>
                </a:lnTo>
                <a:lnTo>
                  <a:pt x="1565" y="1840"/>
                </a:lnTo>
                <a:lnTo>
                  <a:pt x="1544" y="1853"/>
                </a:lnTo>
                <a:lnTo>
                  <a:pt x="1521" y="1866"/>
                </a:lnTo>
                <a:lnTo>
                  <a:pt x="1482" y="1896"/>
                </a:lnTo>
                <a:lnTo>
                  <a:pt x="1444" y="1925"/>
                </a:lnTo>
                <a:lnTo>
                  <a:pt x="1415" y="1951"/>
                </a:lnTo>
                <a:lnTo>
                  <a:pt x="1392" y="1971"/>
                </a:lnTo>
                <a:lnTo>
                  <a:pt x="1379" y="1966"/>
                </a:lnTo>
                <a:lnTo>
                  <a:pt x="1364" y="1958"/>
                </a:lnTo>
                <a:lnTo>
                  <a:pt x="1345" y="1948"/>
                </a:lnTo>
                <a:lnTo>
                  <a:pt x="1325" y="1935"/>
                </a:lnTo>
                <a:lnTo>
                  <a:pt x="1302" y="1918"/>
                </a:lnTo>
                <a:lnTo>
                  <a:pt x="1277" y="1900"/>
                </a:lnTo>
                <a:lnTo>
                  <a:pt x="1249" y="1879"/>
                </a:lnTo>
                <a:lnTo>
                  <a:pt x="1220" y="1855"/>
                </a:lnTo>
                <a:lnTo>
                  <a:pt x="1155" y="1802"/>
                </a:lnTo>
                <a:lnTo>
                  <a:pt x="1083" y="1740"/>
                </a:lnTo>
                <a:lnTo>
                  <a:pt x="1004" y="1670"/>
                </a:lnTo>
                <a:lnTo>
                  <a:pt x="920" y="1595"/>
                </a:lnTo>
                <a:lnTo>
                  <a:pt x="831" y="1513"/>
                </a:lnTo>
                <a:lnTo>
                  <a:pt x="739" y="1426"/>
                </a:lnTo>
                <a:lnTo>
                  <a:pt x="643" y="1334"/>
                </a:lnTo>
                <a:lnTo>
                  <a:pt x="544" y="1239"/>
                </a:lnTo>
                <a:lnTo>
                  <a:pt x="445" y="1141"/>
                </a:lnTo>
                <a:lnTo>
                  <a:pt x="344" y="1041"/>
                </a:lnTo>
                <a:lnTo>
                  <a:pt x="244" y="940"/>
                </a:lnTo>
                <a:lnTo>
                  <a:pt x="144" y="838"/>
                </a:lnTo>
                <a:lnTo>
                  <a:pt x="131" y="822"/>
                </a:lnTo>
                <a:lnTo>
                  <a:pt x="119" y="803"/>
                </a:lnTo>
                <a:lnTo>
                  <a:pt x="108" y="786"/>
                </a:lnTo>
                <a:lnTo>
                  <a:pt x="101" y="766"/>
                </a:lnTo>
                <a:lnTo>
                  <a:pt x="95" y="747"/>
                </a:lnTo>
                <a:lnTo>
                  <a:pt x="90" y="727"/>
                </a:lnTo>
                <a:lnTo>
                  <a:pt x="87" y="708"/>
                </a:lnTo>
                <a:lnTo>
                  <a:pt x="86" y="686"/>
                </a:lnTo>
                <a:lnTo>
                  <a:pt x="86" y="677"/>
                </a:lnTo>
                <a:lnTo>
                  <a:pt x="87" y="667"/>
                </a:lnTo>
                <a:lnTo>
                  <a:pt x="87" y="657"/>
                </a:lnTo>
                <a:lnTo>
                  <a:pt x="90" y="647"/>
                </a:lnTo>
                <a:lnTo>
                  <a:pt x="93" y="623"/>
                </a:lnTo>
                <a:lnTo>
                  <a:pt x="101" y="598"/>
                </a:lnTo>
                <a:lnTo>
                  <a:pt x="109" y="574"/>
                </a:lnTo>
                <a:lnTo>
                  <a:pt x="119" y="550"/>
                </a:lnTo>
                <a:lnTo>
                  <a:pt x="132" y="525"/>
                </a:lnTo>
                <a:lnTo>
                  <a:pt x="146" y="502"/>
                </a:lnTo>
                <a:lnTo>
                  <a:pt x="160" y="478"/>
                </a:lnTo>
                <a:lnTo>
                  <a:pt x="177" y="454"/>
                </a:lnTo>
                <a:lnTo>
                  <a:pt x="193" y="431"/>
                </a:lnTo>
                <a:lnTo>
                  <a:pt x="211" y="409"/>
                </a:lnTo>
                <a:lnTo>
                  <a:pt x="230" y="386"/>
                </a:lnTo>
                <a:lnTo>
                  <a:pt x="250" y="364"/>
                </a:lnTo>
                <a:lnTo>
                  <a:pt x="290" y="322"/>
                </a:lnTo>
                <a:lnTo>
                  <a:pt x="332" y="282"/>
                </a:lnTo>
                <a:lnTo>
                  <a:pt x="373" y="245"/>
                </a:lnTo>
                <a:lnTo>
                  <a:pt x="414" y="210"/>
                </a:lnTo>
                <a:lnTo>
                  <a:pt x="452" y="179"/>
                </a:lnTo>
                <a:lnTo>
                  <a:pt x="488" y="153"/>
                </a:lnTo>
                <a:lnTo>
                  <a:pt x="547" y="111"/>
                </a:lnTo>
                <a:lnTo>
                  <a:pt x="579" y="90"/>
                </a:lnTo>
                <a:lnTo>
                  <a:pt x="635" y="87"/>
                </a:lnTo>
                <a:lnTo>
                  <a:pt x="696" y="90"/>
                </a:lnTo>
                <a:lnTo>
                  <a:pt x="759" y="100"/>
                </a:lnTo>
                <a:lnTo>
                  <a:pt x="825" y="113"/>
                </a:lnTo>
                <a:lnTo>
                  <a:pt x="893" y="133"/>
                </a:lnTo>
                <a:lnTo>
                  <a:pt x="964" y="157"/>
                </a:lnTo>
                <a:lnTo>
                  <a:pt x="1036" y="185"/>
                </a:lnTo>
                <a:lnTo>
                  <a:pt x="1109" y="216"/>
                </a:lnTo>
                <a:lnTo>
                  <a:pt x="1184" y="251"/>
                </a:lnTo>
                <a:lnTo>
                  <a:pt x="1259" y="289"/>
                </a:lnTo>
                <a:lnTo>
                  <a:pt x="1335" y="329"/>
                </a:lnTo>
                <a:lnTo>
                  <a:pt x="1411" y="373"/>
                </a:lnTo>
                <a:lnTo>
                  <a:pt x="1485" y="417"/>
                </a:lnTo>
                <a:lnTo>
                  <a:pt x="1560" y="463"/>
                </a:lnTo>
                <a:lnTo>
                  <a:pt x="1634" y="509"/>
                </a:lnTo>
                <a:lnTo>
                  <a:pt x="1706" y="557"/>
                </a:lnTo>
                <a:lnTo>
                  <a:pt x="1777" y="605"/>
                </a:lnTo>
                <a:lnTo>
                  <a:pt x="1845" y="652"/>
                </a:lnTo>
                <a:lnTo>
                  <a:pt x="1911" y="699"/>
                </a:lnTo>
                <a:lnTo>
                  <a:pt x="1975" y="745"/>
                </a:lnTo>
                <a:lnTo>
                  <a:pt x="2093" y="833"/>
                </a:lnTo>
                <a:lnTo>
                  <a:pt x="2196" y="911"/>
                </a:lnTo>
                <a:lnTo>
                  <a:pt x="2281" y="978"/>
                </a:lnTo>
                <a:lnTo>
                  <a:pt x="2346" y="1031"/>
                </a:lnTo>
                <a:lnTo>
                  <a:pt x="2387" y="1066"/>
                </a:lnTo>
                <a:lnTo>
                  <a:pt x="2403" y="107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1087560" y="3716280"/>
            <a:ext cx="981000" cy="1432080"/>
          </a:xfrm>
          <a:custGeom>
            <a:avLst/>
            <a:gdLst/>
            <a:ahLst/>
            <a:rect l="l" t="t" r="r" b="b"/>
            <a:pathLst>
              <a:path w="2468" h="3607">
                <a:moveTo>
                  <a:pt x="2132" y="136"/>
                </a:moveTo>
                <a:lnTo>
                  <a:pt x="2136" y="139"/>
                </a:lnTo>
                <a:lnTo>
                  <a:pt x="2143" y="154"/>
                </a:lnTo>
                <a:lnTo>
                  <a:pt x="2148" y="163"/>
                </a:lnTo>
                <a:lnTo>
                  <a:pt x="2154" y="175"/>
                </a:lnTo>
                <a:lnTo>
                  <a:pt x="2159" y="189"/>
                </a:lnTo>
                <a:lnTo>
                  <a:pt x="2164" y="204"/>
                </a:lnTo>
                <a:lnTo>
                  <a:pt x="2168" y="220"/>
                </a:lnTo>
                <a:lnTo>
                  <a:pt x="2172" y="237"/>
                </a:lnTo>
                <a:lnTo>
                  <a:pt x="2173" y="256"/>
                </a:lnTo>
                <a:lnTo>
                  <a:pt x="2173" y="276"/>
                </a:lnTo>
                <a:lnTo>
                  <a:pt x="2170" y="297"/>
                </a:lnTo>
                <a:lnTo>
                  <a:pt x="2167" y="318"/>
                </a:lnTo>
                <a:lnTo>
                  <a:pt x="2159" y="340"/>
                </a:lnTo>
                <a:lnTo>
                  <a:pt x="2149" y="363"/>
                </a:lnTo>
                <a:lnTo>
                  <a:pt x="2136" y="386"/>
                </a:lnTo>
                <a:lnTo>
                  <a:pt x="2119" y="410"/>
                </a:lnTo>
                <a:lnTo>
                  <a:pt x="2098" y="433"/>
                </a:lnTo>
                <a:lnTo>
                  <a:pt x="2072" y="456"/>
                </a:lnTo>
                <a:lnTo>
                  <a:pt x="2042" y="479"/>
                </a:lnTo>
                <a:lnTo>
                  <a:pt x="2008" y="502"/>
                </a:lnTo>
                <a:lnTo>
                  <a:pt x="1968" y="524"/>
                </a:lnTo>
                <a:lnTo>
                  <a:pt x="1922" y="546"/>
                </a:lnTo>
                <a:lnTo>
                  <a:pt x="1871" y="567"/>
                </a:lnTo>
                <a:lnTo>
                  <a:pt x="1813" y="587"/>
                </a:lnTo>
                <a:lnTo>
                  <a:pt x="1748" y="607"/>
                </a:lnTo>
                <a:lnTo>
                  <a:pt x="1677" y="626"/>
                </a:lnTo>
                <a:lnTo>
                  <a:pt x="1598" y="642"/>
                </a:lnTo>
                <a:lnTo>
                  <a:pt x="1512" y="658"/>
                </a:lnTo>
                <a:lnTo>
                  <a:pt x="1418" y="672"/>
                </a:lnTo>
                <a:lnTo>
                  <a:pt x="1316" y="684"/>
                </a:lnTo>
                <a:lnTo>
                  <a:pt x="1340" y="684"/>
                </a:lnTo>
                <a:lnTo>
                  <a:pt x="1404" y="682"/>
                </a:lnTo>
                <a:lnTo>
                  <a:pt x="1449" y="678"/>
                </a:lnTo>
                <a:lnTo>
                  <a:pt x="1500" y="673"/>
                </a:lnTo>
                <a:lnTo>
                  <a:pt x="1557" y="665"/>
                </a:lnTo>
                <a:lnTo>
                  <a:pt x="1619" y="657"/>
                </a:lnTo>
                <a:lnTo>
                  <a:pt x="1650" y="651"/>
                </a:lnTo>
                <a:lnTo>
                  <a:pt x="1684" y="644"/>
                </a:lnTo>
                <a:lnTo>
                  <a:pt x="1716" y="637"/>
                </a:lnTo>
                <a:lnTo>
                  <a:pt x="1749" y="629"/>
                </a:lnTo>
                <a:lnTo>
                  <a:pt x="1784" y="621"/>
                </a:lnTo>
                <a:lnTo>
                  <a:pt x="1818" y="611"/>
                </a:lnTo>
                <a:lnTo>
                  <a:pt x="1851" y="601"/>
                </a:lnTo>
                <a:lnTo>
                  <a:pt x="1885" y="590"/>
                </a:lnTo>
                <a:lnTo>
                  <a:pt x="1918" y="577"/>
                </a:lnTo>
                <a:lnTo>
                  <a:pt x="1951" y="564"/>
                </a:lnTo>
                <a:lnTo>
                  <a:pt x="1983" y="550"/>
                </a:lnTo>
                <a:lnTo>
                  <a:pt x="2015" y="534"/>
                </a:lnTo>
                <a:lnTo>
                  <a:pt x="2045" y="518"/>
                </a:lnTo>
                <a:lnTo>
                  <a:pt x="2075" y="499"/>
                </a:lnTo>
                <a:lnTo>
                  <a:pt x="2102" y="481"/>
                </a:lnTo>
                <a:lnTo>
                  <a:pt x="2129" y="459"/>
                </a:lnTo>
                <a:lnTo>
                  <a:pt x="2138" y="469"/>
                </a:lnTo>
                <a:lnTo>
                  <a:pt x="2159" y="493"/>
                </a:lnTo>
                <a:lnTo>
                  <a:pt x="2173" y="510"/>
                </a:lnTo>
                <a:lnTo>
                  <a:pt x="2188" y="529"/>
                </a:lnTo>
                <a:lnTo>
                  <a:pt x="2203" y="550"/>
                </a:lnTo>
                <a:lnTo>
                  <a:pt x="2218" y="574"/>
                </a:lnTo>
                <a:lnTo>
                  <a:pt x="2230" y="597"/>
                </a:lnTo>
                <a:lnTo>
                  <a:pt x="2242" y="622"/>
                </a:lnTo>
                <a:lnTo>
                  <a:pt x="2246" y="634"/>
                </a:lnTo>
                <a:lnTo>
                  <a:pt x="2250" y="647"/>
                </a:lnTo>
                <a:lnTo>
                  <a:pt x="2254" y="659"/>
                </a:lnTo>
                <a:lnTo>
                  <a:pt x="2255" y="672"/>
                </a:lnTo>
                <a:lnTo>
                  <a:pt x="2256" y="684"/>
                </a:lnTo>
                <a:lnTo>
                  <a:pt x="2256" y="695"/>
                </a:lnTo>
                <a:lnTo>
                  <a:pt x="2255" y="708"/>
                </a:lnTo>
                <a:lnTo>
                  <a:pt x="2252" y="719"/>
                </a:lnTo>
                <a:lnTo>
                  <a:pt x="2247" y="729"/>
                </a:lnTo>
                <a:lnTo>
                  <a:pt x="2242" y="740"/>
                </a:lnTo>
                <a:lnTo>
                  <a:pt x="2235" y="750"/>
                </a:lnTo>
                <a:lnTo>
                  <a:pt x="2225" y="758"/>
                </a:lnTo>
                <a:lnTo>
                  <a:pt x="2209" y="770"/>
                </a:lnTo>
                <a:lnTo>
                  <a:pt x="2163" y="799"/>
                </a:lnTo>
                <a:lnTo>
                  <a:pt x="2129" y="819"/>
                </a:lnTo>
                <a:lnTo>
                  <a:pt x="2090" y="842"/>
                </a:lnTo>
                <a:lnTo>
                  <a:pt x="2045" y="865"/>
                </a:lnTo>
                <a:lnTo>
                  <a:pt x="1995" y="891"/>
                </a:lnTo>
                <a:lnTo>
                  <a:pt x="1942" y="916"/>
                </a:lnTo>
                <a:lnTo>
                  <a:pt x="1884" y="942"/>
                </a:lnTo>
                <a:lnTo>
                  <a:pt x="1852" y="954"/>
                </a:lnTo>
                <a:lnTo>
                  <a:pt x="1821" y="966"/>
                </a:lnTo>
                <a:lnTo>
                  <a:pt x="1789" y="977"/>
                </a:lnTo>
                <a:lnTo>
                  <a:pt x="1757" y="988"/>
                </a:lnTo>
                <a:lnTo>
                  <a:pt x="1723" y="999"/>
                </a:lnTo>
                <a:lnTo>
                  <a:pt x="1690" y="1008"/>
                </a:lnTo>
                <a:lnTo>
                  <a:pt x="1655" y="1018"/>
                </a:lnTo>
                <a:lnTo>
                  <a:pt x="1620" y="1025"/>
                </a:lnTo>
                <a:lnTo>
                  <a:pt x="1585" y="1033"/>
                </a:lnTo>
                <a:lnTo>
                  <a:pt x="1549" y="1039"/>
                </a:lnTo>
                <a:lnTo>
                  <a:pt x="1513" y="1044"/>
                </a:lnTo>
                <a:lnTo>
                  <a:pt x="1477" y="1046"/>
                </a:lnTo>
                <a:lnTo>
                  <a:pt x="1500" y="1046"/>
                </a:lnTo>
                <a:lnTo>
                  <a:pt x="1561" y="1040"/>
                </a:lnTo>
                <a:lnTo>
                  <a:pt x="1602" y="1035"/>
                </a:lnTo>
                <a:lnTo>
                  <a:pt x="1650" y="1028"/>
                </a:lnTo>
                <a:lnTo>
                  <a:pt x="1703" y="1018"/>
                </a:lnTo>
                <a:lnTo>
                  <a:pt x="1762" y="1005"/>
                </a:lnTo>
                <a:lnTo>
                  <a:pt x="1792" y="998"/>
                </a:lnTo>
                <a:lnTo>
                  <a:pt x="1823" y="989"/>
                </a:lnTo>
                <a:lnTo>
                  <a:pt x="1854" y="979"/>
                </a:lnTo>
                <a:lnTo>
                  <a:pt x="1885" y="968"/>
                </a:lnTo>
                <a:lnTo>
                  <a:pt x="1917" y="957"/>
                </a:lnTo>
                <a:lnTo>
                  <a:pt x="1949" y="945"/>
                </a:lnTo>
                <a:lnTo>
                  <a:pt x="1980" y="931"/>
                </a:lnTo>
                <a:lnTo>
                  <a:pt x="2013" y="916"/>
                </a:lnTo>
                <a:lnTo>
                  <a:pt x="2044" y="900"/>
                </a:lnTo>
                <a:lnTo>
                  <a:pt x="2075" y="881"/>
                </a:lnTo>
                <a:lnTo>
                  <a:pt x="2106" y="863"/>
                </a:lnTo>
                <a:lnTo>
                  <a:pt x="2136" y="843"/>
                </a:lnTo>
                <a:lnTo>
                  <a:pt x="2164" y="820"/>
                </a:lnTo>
                <a:lnTo>
                  <a:pt x="2193" y="798"/>
                </a:lnTo>
                <a:lnTo>
                  <a:pt x="2220" y="773"/>
                </a:lnTo>
                <a:lnTo>
                  <a:pt x="2245" y="747"/>
                </a:lnTo>
                <a:lnTo>
                  <a:pt x="2251" y="756"/>
                </a:lnTo>
                <a:lnTo>
                  <a:pt x="2268" y="781"/>
                </a:lnTo>
                <a:lnTo>
                  <a:pt x="2293" y="820"/>
                </a:lnTo>
                <a:lnTo>
                  <a:pt x="2323" y="874"/>
                </a:lnTo>
                <a:lnTo>
                  <a:pt x="2339" y="905"/>
                </a:lnTo>
                <a:lnTo>
                  <a:pt x="2357" y="940"/>
                </a:lnTo>
                <a:lnTo>
                  <a:pt x="2373" y="976"/>
                </a:lnTo>
                <a:lnTo>
                  <a:pt x="2389" y="1015"/>
                </a:lnTo>
                <a:lnTo>
                  <a:pt x="2405" y="1056"/>
                </a:lnTo>
                <a:lnTo>
                  <a:pt x="2420" y="1101"/>
                </a:lnTo>
                <a:lnTo>
                  <a:pt x="2434" y="1146"/>
                </a:lnTo>
                <a:lnTo>
                  <a:pt x="2445" y="1193"/>
                </a:lnTo>
                <a:lnTo>
                  <a:pt x="2455" y="1242"/>
                </a:lnTo>
                <a:lnTo>
                  <a:pt x="2462" y="1292"/>
                </a:lnTo>
                <a:lnTo>
                  <a:pt x="2467" y="1344"/>
                </a:lnTo>
                <a:lnTo>
                  <a:pt x="2468" y="1396"/>
                </a:lnTo>
                <a:lnTo>
                  <a:pt x="2467" y="1450"/>
                </a:lnTo>
                <a:lnTo>
                  <a:pt x="2462" y="1503"/>
                </a:lnTo>
                <a:lnTo>
                  <a:pt x="2453" y="1557"/>
                </a:lnTo>
                <a:lnTo>
                  <a:pt x="2440" y="1612"/>
                </a:lnTo>
                <a:lnTo>
                  <a:pt x="2422" y="1667"/>
                </a:lnTo>
                <a:lnTo>
                  <a:pt x="2399" y="1722"/>
                </a:lnTo>
                <a:lnTo>
                  <a:pt x="2372" y="1777"/>
                </a:lnTo>
                <a:lnTo>
                  <a:pt x="2338" y="1830"/>
                </a:lnTo>
                <a:lnTo>
                  <a:pt x="2298" y="1884"/>
                </a:lnTo>
                <a:lnTo>
                  <a:pt x="2252" y="1937"/>
                </a:lnTo>
                <a:lnTo>
                  <a:pt x="2199" y="1989"/>
                </a:lnTo>
                <a:lnTo>
                  <a:pt x="2139" y="2039"/>
                </a:lnTo>
                <a:lnTo>
                  <a:pt x="2396" y="1825"/>
                </a:lnTo>
                <a:lnTo>
                  <a:pt x="2399" y="1833"/>
                </a:lnTo>
                <a:lnTo>
                  <a:pt x="2404" y="1851"/>
                </a:lnTo>
                <a:lnTo>
                  <a:pt x="2411" y="1883"/>
                </a:lnTo>
                <a:lnTo>
                  <a:pt x="2419" y="1923"/>
                </a:lnTo>
                <a:lnTo>
                  <a:pt x="2422" y="1948"/>
                </a:lnTo>
                <a:lnTo>
                  <a:pt x="2425" y="1976"/>
                </a:lnTo>
                <a:lnTo>
                  <a:pt x="2426" y="2004"/>
                </a:lnTo>
                <a:lnTo>
                  <a:pt x="2427" y="2035"/>
                </a:lnTo>
                <a:lnTo>
                  <a:pt x="2427" y="2069"/>
                </a:lnTo>
                <a:lnTo>
                  <a:pt x="2426" y="2103"/>
                </a:lnTo>
                <a:lnTo>
                  <a:pt x="2422" y="2139"/>
                </a:lnTo>
                <a:lnTo>
                  <a:pt x="2417" y="2178"/>
                </a:lnTo>
                <a:lnTo>
                  <a:pt x="2410" y="2217"/>
                </a:lnTo>
                <a:lnTo>
                  <a:pt x="2401" y="2258"/>
                </a:lnTo>
                <a:lnTo>
                  <a:pt x="2390" y="2301"/>
                </a:lnTo>
                <a:lnTo>
                  <a:pt x="2375" y="2344"/>
                </a:lnTo>
                <a:lnTo>
                  <a:pt x="2358" y="2389"/>
                </a:lnTo>
                <a:lnTo>
                  <a:pt x="2338" y="2435"/>
                </a:lnTo>
                <a:lnTo>
                  <a:pt x="2314" y="2481"/>
                </a:lnTo>
                <a:lnTo>
                  <a:pt x="2288" y="2528"/>
                </a:lnTo>
                <a:lnTo>
                  <a:pt x="2257" y="2576"/>
                </a:lnTo>
                <a:lnTo>
                  <a:pt x="2224" y="2623"/>
                </a:lnTo>
                <a:lnTo>
                  <a:pt x="2185" y="2672"/>
                </a:lnTo>
                <a:lnTo>
                  <a:pt x="2143" y="2720"/>
                </a:lnTo>
                <a:lnTo>
                  <a:pt x="2096" y="2768"/>
                </a:lnTo>
                <a:lnTo>
                  <a:pt x="2044" y="2818"/>
                </a:lnTo>
                <a:lnTo>
                  <a:pt x="1988" y="2866"/>
                </a:lnTo>
                <a:lnTo>
                  <a:pt x="1927" y="2914"/>
                </a:lnTo>
                <a:lnTo>
                  <a:pt x="1908" y="2932"/>
                </a:lnTo>
                <a:lnTo>
                  <a:pt x="1862" y="2982"/>
                </a:lnTo>
                <a:lnTo>
                  <a:pt x="1833" y="3017"/>
                </a:lnTo>
                <a:lnTo>
                  <a:pt x="1799" y="3057"/>
                </a:lnTo>
                <a:lnTo>
                  <a:pt x="1766" y="3103"/>
                </a:lnTo>
                <a:lnTo>
                  <a:pt x="1731" y="3153"/>
                </a:lnTo>
                <a:lnTo>
                  <a:pt x="1713" y="3179"/>
                </a:lnTo>
                <a:lnTo>
                  <a:pt x="1696" y="3206"/>
                </a:lnTo>
                <a:lnTo>
                  <a:pt x="1680" y="3234"/>
                </a:lnTo>
                <a:lnTo>
                  <a:pt x="1665" y="3262"/>
                </a:lnTo>
                <a:lnTo>
                  <a:pt x="1651" y="3291"/>
                </a:lnTo>
                <a:lnTo>
                  <a:pt x="1638" y="3319"/>
                </a:lnTo>
                <a:lnTo>
                  <a:pt x="1625" y="3349"/>
                </a:lnTo>
                <a:lnTo>
                  <a:pt x="1615" y="3378"/>
                </a:lnTo>
                <a:lnTo>
                  <a:pt x="1607" y="3407"/>
                </a:lnTo>
                <a:lnTo>
                  <a:pt x="1600" y="3437"/>
                </a:lnTo>
                <a:lnTo>
                  <a:pt x="1595" y="3466"/>
                </a:lnTo>
                <a:lnTo>
                  <a:pt x="1592" y="3495"/>
                </a:lnTo>
                <a:lnTo>
                  <a:pt x="1592" y="3524"/>
                </a:lnTo>
                <a:lnTo>
                  <a:pt x="1594" y="3552"/>
                </a:lnTo>
                <a:lnTo>
                  <a:pt x="1598" y="3580"/>
                </a:lnTo>
                <a:lnTo>
                  <a:pt x="1607" y="3607"/>
                </a:lnTo>
                <a:lnTo>
                  <a:pt x="1597" y="3597"/>
                </a:lnTo>
                <a:lnTo>
                  <a:pt x="1571" y="3565"/>
                </a:lnTo>
                <a:lnTo>
                  <a:pt x="1530" y="3514"/>
                </a:lnTo>
                <a:lnTo>
                  <a:pt x="1477" y="3445"/>
                </a:lnTo>
                <a:lnTo>
                  <a:pt x="1448" y="3405"/>
                </a:lnTo>
                <a:lnTo>
                  <a:pt x="1415" y="3361"/>
                </a:lnTo>
                <a:lnTo>
                  <a:pt x="1382" y="3314"/>
                </a:lnTo>
                <a:lnTo>
                  <a:pt x="1347" y="3263"/>
                </a:lnTo>
                <a:lnTo>
                  <a:pt x="1311" y="3210"/>
                </a:lnTo>
                <a:lnTo>
                  <a:pt x="1275" y="3154"/>
                </a:lnTo>
                <a:lnTo>
                  <a:pt x="1238" y="3095"/>
                </a:lnTo>
                <a:lnTo>
                  <a:pt x="1202" y="3034"/>
                </a:lnTo>
                <a:lnTo>
                  <a:pt x="1165" y="2971"/>
                </a:lnTo>
                <a:lnTo>
                  <a:pt x="1129" y="2906"/>
                </a:lnTo>
                <a:lnTo>
                  <a:pt x="1094" y="2840"/>
                </a:lnTo>
                <a:lnTo>
                  <a:pt x="1060" y="2772"/>
                </a:lnTo>
                <a:lnTo>
                  <a:pt x="1028" y="2703"/>
                </a:lnTo>
                <a:lnTo>
                  <a:pt x="997" y="2633"/>
                </a:lnTo>
                <a:lnTo>
                  <a:pt x="970" y="2562"/>
                </a:lnTo>
                <a:lnTo>
                  <a:pt x="944" y="2492"/>
                </a:lnTo>
                <a:lnTo>
                  <a:pt x="921" y="2420"/>
                </a:lnTo>
                <a:lnTo>
                  <a:pt x="901" y="2349"/>
                </a:lnTo>
                <a:lnTo>
                  <a:pt x="885" y="2277"/>
                </a:lnTo>
                <a:lnTo>
                  <a:pt x="873" y="2206"/>
                </a:lnTo>
                <a:lnTo>
                  <a:pt x="865" y="2137"/>
                </a:lnTo>
                <a:lnTo>
                  <a:pt x="862" y="2067"/>
                </a:lnTo>
                <a:lnTo>
                  <a:pt x="863" y="1999"/>
                </a:lnTo>
                <a:lnTo>
                  <a:pt x="869" y="1932"/>
                </a:lnTo>
                <a:lnTo>
                  <a:pt x="859" y="1928"/>
                </a:lnTo>
                <a:lnTo>
                  <a:pt x="831" y="1918"/>
                </a:lnTo>
                <a:lnTo>
                  <a:pt x="787" y="1901"/>
                </a:lnTo>
                <a:lnTo>
                  <a:pt x="731" y="1878"/>
                </a:lnTo>
                <a:lnTo>
                  <a:pt x="699" y="1863"/>
                </a:lnTo>
                <a:lnTo>
                  <a:pt x="664" y="1845"/>
                </a:lnTo>
                <a:lnTo>
                  <a:pt x="628" y="1828"/>
                </a:lnTo>
                <a:lnTo>
                  <a:pt x="590" y="1807"/>
                </a:lnTo>
                <a:lnTo>
                  <a:pt x="550" y="1784"/>
                </a:lnTo>
                <a:lnTo>
                  <a:pt x="510" y="1761"/>
                </a:lnTo>
                <a:lnTo>
                  <a:pt x="469" y="1735"/>
                </a:lnTo>
                <a:lnTo>
                  <a:pt x="428" y="1708"/>
                </a:lnTo>
                <a:lnTo>
                  <a:pt x="387" y="1678"/>
                </a:lnTo>
                <a:lnTo>
                  <a:pt x="347" y="1646"/>
                </a:lnTo>
                <a:lnTo>
                  <a:pt x="306" y="1612"/>
                </a:lnTo>
                <a:lnTo>
                  <a:pt x="268" y="1577"/>
                </a:lnTo>
                <a:lnTo>
                  <a:pt x="231" y="1539"/>
                </a:lnTo>
                <a:lnTo>
                  <a:pt x="195" y="1500"/>
                </a:lnTo>
                <a:lnTo>
                  <a:pt x="161" y="1458"/>
                </a:lnTo>
                <a:lnTo>
                  <a:pt x="130" y="1415"/>
                </a:lnTo>
                <a:lnTo>
                  <a:pt x="102" y="1369"/>
                </a:lnTo>
                <a:lnTo>
                  <a:pt x="76" y="1322"/>
                </a:lnTo>
                <a:lnTo>
                  <a:pt x="53" y="1272"/>
                </a:lnTo>
                <a:lnTo>
                  <a:pt x="35" y="1221"/>
                </a:lnTo>
                <a:lnTo>
                  <a:pt x="21" y="1167"/>
                </a:lnTo>
                <a:lnTo>
                  <a:pt x="10" y="1111"/>
                </a:lnTo>
                <a:lnTo>
                  <a:pt x="5" y="1054"/>
                </a:lnTo>
                <a:lnTo>
                  <a:pt x="4" y="993"/>
                </a:lnTo>
                <a:lnTo>
                  <a:pt x="4" y="987"/>
                </a:lnTo>
                <a:lnTo>
                  <a:pt x="2" y="969"/>
                </a:lnTo>
                <a:lnTo>
                  <a:pt x="1" y="943"/>
                </a:lnTo>
                <a:lnTo>
                  <a:pt x="0" y="911"/>
                </a:lnTo>
                <a:lnTo>
                  <a:pt x="1" y="874"/>
                </a:lnTo>
                <a:lnTo>
                  <a:pt x="4" y="834"/>
                </a:lnTo>
                <a:lnTo>
                  <a:pt x="6" y="814"/>
                </a:lnTo>
                <a:lnTo>
                  <a:pt x="10" y="794"/>
                </a:lnTo>
                <a:lnTo>
                  <a:pt x="13" y="776"/>
                </a:lnTo>
                <a:lnTo>
                  <a:pt x="18" y="757"/>
                </a:lnTo>
                <a:lnTo>
                  <a:pt x="25" y="740"/>
                </a:lnTo>
                <a:lnTo>
                  <a:pt x="32" y="725"/>
                </a:lnTo>
                <a:lnTo>
                  <a:pt x="41" y="710"/>
                </a:lnTo>
                <a:lnTo>
                  <a:pt x="52" y="698"/>
                </a:lnTo>
                <a:lnTo>
                  <a:pt x="63" y="688"/>
                </a:lnTo>
                <a:lnTo>
                  <a:pt x="77" y="680"/>
                </a:lnTo>
                <a:lnTo>
                  <a:pt x="92" y="675"/>
                </a:lnTo>
                <a:lnTo>
                  <a:pt x="108" y="674"/>
                </a:lnTo>
                <a:lnTo>
                  <a:pt x="126" y="675"/>
                </a:lnTo>
                <a:lnTo>
                  <a:pt x="146" y="680"/>
                </a:lnTo>
                <a:lnTo>
                  <a:pt x="169" y="689"/>
                </a:lnTo>
                <a:lnTo>
                  <a:pt x="193" y="703"/>
                </a:lnTo>
                <a:lnTo>
                  <a:pt x="220" y="720"/>
                </a:lnTo>
                <a:lnTo>
                  <a:pt x="248" y="742"/>
                </a:lnTo>
                <a:lnTo>
                  <a:pt x="280" y="770"/>
                </a:lnTo>
                <a:lnTo>
                  <a:pt x="314" y="802"/>
                </a:lnTo>
                <a:lnTo>
                  <a:pt x="308" y="796"/>
                </a:lnTo>
                <a:lnTo>
                  <a:pt x="293" y="778"/>
                </a:lnTo>
                <a:lnTo>
                  <a:pt x="272" y="753"/>
                </a:lnTo>
                <a:lnTo>
                  <a:pt x="244" y="721"/>
                </a:lnTo>
                <a:lnTo>
                  <a:pt x="216" y="683"/>
                </a:lnTo>
                <a:lnTo>
                  <a:pt x="187" y="642"/>
                </a:lnTo>
                <a:lnTo>
                  <a:pt x="174" y="621"/>
                </a:lnTo>
                <a:lnTo>
                  <a:pt x="160" y="600"/>
                </a:lnTo>
                <a:lnTo>
                  <a:pt x="149" y="579"/>
                </a:lnTo>
                <a:lnTo>
                  <a:pt x="139" y="557"/>
                </a:lnTo>
                <a:lnTo>
                  <a:pt x="130" y="536"/>
                </a:lnTo>
                <a:lnTo>
                  <a:pt x="124" y="518"/>
                </a:lnTo>
                <a:lnTo>
                  <a:pt x="120" y="499"/>
                </a:lnTo>
                <a:lnTo>
                  <a:pt x="119" y="481"/>
                </a:lnTo>
                <a:lnTo>
                  <a:pt x="121" y="466"/>
                </a:lnTo>
                <a:lnTo>
                  <a:pt x="126" y="451"/>
                </a:lnTo>
                <a:lnTo>
                  <a:pt x="134" y="438"/>
                </a:lnTo>
                <a:lnTo>
                  <a:pt x="148" y="428"/>
                </a:lnTo>
                <a:lnTo>
                  <a:pt x="164" y="420"/>
                </a:lnTo>
                <a:lnTo>
                  <a:pt x="185" y="415"/>
                </a:lnTo>
                <a:lnTo>
                  <a:pt x="210" y="412"/>
                </a:lnTo>
                <a:lnTo>
                  <a:pt x="241" y="412"/>
                </a:lnTo>
                <a:lnTo>
                  <a:pt x="277" y="416"/>
                </a:lnTo>
                <a:lnTo>
                  <a:pt x="319" y="423"/>
                </a:lnTo>
                <a:lnTo>
                  <a:pt x="366" y="435"/>
                </a:lnTo>
                <a:lnTo>
                  <a:pt x="421" y="450"/>
                </a:lnTo>
                <a:lnTo>
                  <a:pt x="406" y="446"/>
                </a:lnTo>
                <a:lnTo>
                  <a:pt x="367" y="433"/>
                </a:lnTo>
                <a:lnTo>
                  <a:pt x="343" y="425"/>
                </a:lnTo>
                <a:lnTo>
                  <a:pt x="315" y="414"/>
                </a:lnTo>
                <a:lnTo>
                  <a:pt x="287" y="399"/>
                </a:lnTo>
                <a:lnTo>
                  <a:pt x="258" y="383"/>
                </a:lnTo>
                <a:lnTo>
                  <a:pt x="244" y="374"/>
                </a:lnTo>
                <a:lnTo>
                  <a:pt x="231" y="363"/>
                </a:lnTo>
                <a:lnTo>
                  <a:pt x="217" y="353"/>
                </a:lnTo>
                <a:lnTo>
                  <a:pt x="206" y="340"/>
                </a:lnTo>
                <a:lnTo>
                  <a:pt x="195" y="329"/>
                </a:lnTo>
                <a:lnTo>
                  <a:pt x="185" y="316"/>
                </a:lnTo>
                <a:lnTo>
                  <a:pt x="176" y="302"/>
                </a:lnTo>
                <a:lnTo>
                  <a:pt x="169" y="287"/>
                </a:lnTo>
                <a:lnTo>
                  <a:pt x="162" y="272"/>
                </a:lnTo>
                <a:lnTo>
                  <a:pt x="157" y="256"/>
                </a:lnTo>
                <a:lnTo>
                  <a:pt x="155" y="239"/>
                </a:lnTo>
                <a:lnTo>
                  <a:pt x="155" y="220"/>
                </a:lnTo>
                <a:lnTo>
                  <a:pt x="156" y="201"/>
                </a:lnTo>
                <a:lnTo>
                  <a:pt x="160" y="182"/>
                </a:lnTo>
                <a:lnTo>
                  <a:pt x="166" y="162"/>
                </a:lnTo>
                <a:lnTo>
                  <a:pt x="175" y="139"/>
                </a:lnTo>
                <a:lnTo>
                  <a:pt x="218" y="0"/>
                </a:lnTo>
                <a:lnTo>
                  <a:pt x="223" y="9"/>
                </a:lnTo>
                <a:lnTo>
                  <a:pt x="243" y="33"/>
                </a:lnTo>
                <a:lnTo>
                  <a:pt x="257" y="49"/>
                </a:lnTo>
                <a:lnTo>
                  <a:pt x="274" y="67"/>
                </a:lnTo>
                <a:lnTo>
                  <a:pt x="295" y="87"/>
                </a:lnTo>
                <a:lnTo>
                  <a:pt x="320" y="110"/>
                </a:lnTo>
                <a:lnTo>
                  <a:pt x="349" y="133"/>
                </a:lnTo>
                <a:lnTo>
                  <a:pt x="381" y="158"/>
                </a:lnTo>
                <a:lnTo>
                  <a:pt x="416" y="183"/>
                </a:lnTo>
                <a:lnTo>
                  <a:pt x="456" y="209"/>
                </a:lnTo>
                <a:lnTo>
                  <a:pt x="498" y="234"/>
                </a:lnTo>
                <a:lnTo>
                  <a:pt x="545" y="257"/>
                </a:lnTo>
                <a:lnTo>
                  <a:pt x="596" y="281"/>
                </a:lnTo>
                <a:lnTo>
                  <a:pt x="652" y="302"/>
                </a:lnTo>
                <a:lnTo>
                  <a:pt x="710" y="322"/>
                </a:lnTo>
                <a:lnTo>
                  <a:pt x="773" y="340"/>
                </a:lnTo>
                <a:lnTo>
                  <a:pt x="840" y="355"/>
                </a:lnTo>
                <a:lnTo>
                  <a:pt x="912" y="368"/>
                </a:lnTo>
                <a:lnTo>
                  <a:pt x="988" y="376"/>
                </a:lnTo>
                <a:lnTo>
                  <a:pt x="1069" y="381"/>
                </a:lnTo>
                <a:lnTo>
                  <a:pt x="1155" y="381"/>
                </a:lnTo>
                <a:lnTo>
                  <a:pt x="1244" y="378"/>
                </a:lnTo>
                <a:lnTo>
                  <a:pt x="1338" y="369"/>
                </a:lnTo>
                <a:lnTo>
                  <a:pt x="1436" y="355"/>
                </a:lnTo>
                <a:lnTo>
                  <a:pt x="1541" y="335"/>
                </a:lnTo>
                <a:lnTo>
                  <a:pt x="1649" y="309"/>
                </a:lnTo>
                <a:lnTo>
                  <a:pt x="1762" y="276"/>
                </a:lnTo>
                <a:lnTo>
                  <a:pt x="1880" y="236"/>
                </a:lnTo>
                <a:lnTo>
                  <a:pt x="2004" y="190"/>
                </a:lnTo>
                <a:lnTo>
                  <a:pt x="2132" y="136"/>
                </a:lnTo>
                <a:close/>
              </a:path>
            </a:pathLst>
          </a:custGeom>
          <a:solidFill>
            <a:srgbClr val="00a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未知"/>
          <p:cNvSpPr/>
          <p:nvPr/>
        </p:nvSpPr>
        <p:spPr>
          <a:xfrm>
            <a:off x="1073160" y="3701880"/>
            <a:ext cx="1008000" cy="1460520"/>
          </a:xfrm>
          <a:custGeom>
            <a:avLst/>
            <a:gdLst/>
            <a:ahLst/>
            <a:rect l="l" t="t" r="r" b="b"/>
            <a:pathLst>
              <a:path w="2539" h="3677">
                <a:moveTo>
                  <a:pt x="248" y="0"/>
                </a:moveTo>
                <a:lnTo>
                  <a:pt x="243" y="1"/>
                </a:lnTo>
                <a:lnTo>
                  <a:pt x="238" y="2"/>
                </a:lnTo>
                <a:lnTo>
                  <a:pt x="234" y="5"/>
                </a:lnTo>
                <a:lnTo>
                  <a:pt x="231" y="8"/>
                </a:lnTo>
                <a:lnTo>
                  <a:pt x="227" y="12"/>
                </a:lnTo>
                <a:lnTo>
                  <a:pt x="225" y="16"/>
                </a:lnTo>
                <a:lnTo>
                  <a:pt x="222" y="19"/>
                </a:lnTo>
                <a:lnTo>
                  <a:pt x="220" y="24"/>
                </a:lnTo>
                <a:lnTo>
                  <a:pt x="177" y="163"/>
                </a:lnTo>
                <a:lnTo>
                  <a:pt x="171" y="175"/>
                </a:lnTo>
                <a:lnTo>
                  <a:pt x="167" y="187"/>
                </a:lnTo>
                <a:lnTo>
                  <a:pt x="164" y="199"/>
                </a:lnTo>
                <a:lnTo>
                  <a:pt x="160" y="211"/>
                </a:lnTo>
                <a:lnTo>
                  <a:pt x="157" y="223"/>
                </a:lnTo>
                <a:lnTo>
                  <a:pt x="156" y="234"/>
                </a:lnTo>
                <a:lnTo>
                  <a:pt x="155" y="247"/>
                </a:lnTo>
                <a:lnTo>
                  <a:pt x="155" y="258"/>
                </a:lnTo>
                <a:lnTo>
                  <a:pt x="155" y="269"/>
                </a:lnTo>
                <a:lnTo>
                  <a:pt x="156" y="280"/>
                </a:lnTo>
                <a:lnTo>
                  <a:pt x="157" y="291"/>
                </a:lnTo>
                <a:lnTo>
                  <a:pt x="160" y="301"/>
                </a:lnTo>
                <a:lnTo>
                  <a:pt x="162" y="312"/>
                </a:lnTo>
                <a:lnTo>
                  <a:pt x="166" y="323"/>
                </a:lnTo>
                <a:lnTo>
                  <a:pt x="171" y="333"/>
                </a:lnTo>
                <a:lnTo>
                  <a:pt x="176" y="343"/>
                </a:lnTo>
                <a:lnTo>
                  <a:pt x="181" y="354"/>
                </a:lnTo>
                <a:lnTo>
                  <a:pt x="187" y="363"/>
                </a:lnTo>
                <a:lnTo>
                  <a:pt x="195" y="373"/>
                </a:lnTo>
                <a:lnTo>
                  <a:pt x="202" y="382"/>
                </a:lnTo>
                <a:lnTo>
                  <a:pt x="218" y="398"/>
                </a:lnTo>
                <a:lnTo>
                  <a:pt x="234" y="414"/>
                </a:lnTo>
                <a:lnTo>
                  <a:pt x="218" y="415"/>
                </a:lnTo>
                <a:lnTo>
                  <a:pt x="202" y="419"/>
                </a:lnTo>
                <a:lnTo>
                  <a:pt x="187" y="423"/>
                </a:lnTo>
                <a:lnTo>
                  <a:pt x="174" y="428"/>
                </a:lnTo>
                <a:lnTo>
                  <a:pt x="161" y="435"/>
                </a:lnTo>
                <a:lnTo>
                  <a:pt x="151" y="443"/>
                </a:lnTo>
                <a:lnTo>
                  <a:pt x="141" y="451"/>
                </a:lnTo>
                <a:lnTo>
                  <a:pt x="134" y="461"/>
                </a:lnTo>
                <a:lnTo>
                  <a:pt x="128" y="474"/>
                </a:lnTo>
                <a:lnTo>
                  <a:pt x="123" y="487"/>
                </a:lnTo>
                <a:lnTo>
                  <a:pt x="120" y="501"/>
                </a:lnTo>
                <a:lnTo>
                  <a:pt x="120" y="516"/>
                </a:lnTo>
                <a:lnTo>
                  <a:pt x="120" y="526"/>
                </a:lnTo>
                <a:lnTo>
                  <a:pt x="121" y="536"/>
                </a:lnTo>
                <a:lnTo>
                  <a:pt x="123" y="546"/>
                </a:lnTo>
                <a:lnTo>
                  <a:pt x="125" y="555"/>
                </a:lnTo>
                <a:lnTo>
                  <a:pt x="131" y="577"/>
                </a:lnTo>
                <a:lnTo>
                  <a:pt x="140" y="599"/>
                </a:lnTo>
                <a:lnTo>
                  <a:pt x="150" y="620"/>
                </a:lnTo>
                <a:lnTo>
                  <a:pt x="161" y="642"/>
                </a:lnTo>
                <a:lnTo>
                  <a:pt x="175" y="665"/>
                </a:lnTo>
                <a:lnTo>
                  <a:pt x="189" y="687"/>
                </a:lnTo>
                <a:lnTo>
                  <a:pt x="162" y="681"/>
                </a:lnTo>
                <a:lnTo>
                  <a:pt x="139" y="677"/>
                </a:lnTo>
                <a:lnTo>
                  <a:pt x="128" y="676"/>
                </a:lnTo>
                <a:lnTo>
                  <a:pt x="116" y="677"/>
                </a:lnTo>
                <a:lnTo>
                  <a:pt x="105" y="680"/>
                </a:lnTo>
                <a:lnTo>
                  <a:pt x="95" y="683"/>
                </a:lnTo>
                <a:lnTo>
                  <a:pt x="80" y="692"/>
                </a:lnTo>
                <a:lnTo>
                  <a:pt x="68" y="702"/>
                </a:lnTo>
                <a:lnTo>
                  <a:pt x="57" y="713"/>
                </a:lnTo>
                <a:lnTo>
                  <a:pt x="46" y="727"/>
                </a:lnTo>
                <a:lnTo>
                  <a:pt x="37" y="742"/>
                </a:lnTo>
                <a:lnTo>
                  <a:pt x="30" y="756"/>
                </a:lnTo>
                <a:lnTo>
                  <a:pt x="23" y="774"/>
                </a:lnTo>
                <a:lnTo>
                  <a:pt x="17" y="791"/>
                </a:lnTo>
                <a:lnTo>
                  <a:pt x="12" y="810"/>
                </a:lnTo>
                <a:lnTo>
                  <a:pt x="8" y="828"/>
                </a:lnTo>
                <a:lnTo>
                  <a:pt x="6" y="847"/>
                </a:lnTo>
                <a:lnTo>
                  <a:pt x="3" y="866"/>
                </a:lnTo>
                <a:lnTo>
                  <a:pt x="0" y="903"/>
                </a:lnTo>
                <a:lnTo>
                  <a:pt x="0" y="939"/>
                </a:lnTo>
                <a:lnTo>
                  <a:pt x="0" y="969"/>
                </a:lnTo>
                <a:lnTo>
                  <a:pt x="1" y="995"/>
                </a:lnTo>
                <a:lnTo>
                  <a:pt x="3" y="1017"/>
                </a:lnTo>
                <a:lnTo>
                  <a:pt x="5" y="1032"/>
                </a:lnTo>
                <a:lnTo>
                  <a:pt x="5" y="1044"/>
                </a:lnTo>
                <a:lnTo>
                  <a:pt x="5" y="1057"/>
                </a:lnTo>
                <a:lnTo>
                  <a:pt x="6" y="1113"/>
                </a:lnTo>
                <a:lnTo>
                  <a:pt x="12" y="1166"/>
                </a:lnTo>
                <a:lnTo>
                  <a:pt x="22" y="1218"/>
                </a:lnTo>
                <a:lnTo>
                  <a:pt x="36" y="1268"/>
                </a:lnTo>
                <a:lnTo>
                  <a:pt x="53" y="1316"/>
                </a:lnTo>
                <a:lnTo>
                  <a:pt x="73" y="1363"/>
                </a:lnTo>
                <a:lnTo>
                  <a:pt x="95" y="1408"/>
                </a:lnTo>
                <a:lnTo>
                  <a:pt x="120" y="1450"/>
                </a:lnTo>
                <a:lnTo>
                  <a:pt x="149" y="1492"/>
                </a:lnTo>
                <a:lnTo>
                  <a:pt x="179" y="1532"/>
                </a:lnTo>
                <a:lnTo>
                  <a:pt x="210" y="1569"/>
                </a:lnTo>
                <a:lnTo>
                  <a:pt x="243" y="1605"/>
                </a:lnTo>
                <a:lnTo>
                  <a:pt x="278" y="1640"/>
                </a:lnTo>
                <a:lnTo>
                  <a:pt x="314" y="1672"/>
                </a:lnTo>
                <a:lnTo>
                  <a:pt x="350" y="1703"/>
                </a:lnTo>
                <a:lnTo>
                  <a:pt x="387" y="1733"/>
                </a:lnTo>
                <a:lnTo>
                  <a:pt x="424" y="1760"/>
                </a:lnTo>
                <a:lnTo>
                  <a:pt x="463" y="1786"/>
                </a:lnTo>
                <a:lnTo>
                  <a:pt x="500" y="1811"/>
                </a:lnTo>
                <a:lnTo>
                  <a:pt x="537" y="1835"/>
                </a:lnTo>
                <a:lnTo>
                  <a:pt x="573" y="1856"/>
                </a:lnTo>
                <a:lnTo>
                  <a:pt x="609" y="1876"/>
                </a:lnTo>
                <a:lnTo>
                  <a:pt x="644" y="1894"/>
                </a:lnTo>
                <a:lnTo>
                  <a:pt x="678" y="1910"/>
                </a:lnTo>
                <a:lnTo>
                  <a:pt x="740" y="1939"/>
                </a:lnTo>
                <a:lnTo>
                  <a:pt x="793" y="1962"/>
                </a:lnTo>
                <a:lnTo>
                  <a:pt x="837" y="1980"/>
                </a:lnTo>
                <a:lnTo>
                  <a:pt x="868" y="1991"/>
                </a:lnTo>
                <a:lnTo>
                  <a:pt x="865" y="2015"/>
                </a:lnTo>
                <a:lnTo>
                  <a:pt x="864" y="2037"/>
                </a:lnTo>
                <a:lnTo>
                  <a:pt x="862" y="2060"/>
                </a:lnTo>
                <a:lnTo>
                  <a:pt x="862" y="2084"/>
                </a:lnTo>
                <a:lnTo>
                  <a:pt x="864" y="2150"/>
                </a:lnTo>
                <a:lnTo>
                  <a:pt x="870" y="2217"/>
                </a:lnTo>
                <a:lnTo>
                  <a:pt x="879" y="2283"/>
                </a:lnTo>
                <a:lnTo>
                  <a:pt x="893" y="2350"/>
                </a:lnTo>
                <a:lnTo>
                  <a:pt x="909" y="2418"/>
                </a:lnTo>
                <a:lnTo>
                  <a:pt x="929" y="2485"/>
                </a:lnTo>
                <a:lnTo>
                  <a:pt x="950" y="2552"/>
                </a:lnTo>
                <a:lnTo>
                  <a:pt x="975" y="2619"/>
                </a:lnTo>
                <a:lnTo>
                  <a:pt x="1001" y="2686"/>
                </a:lnTo>
                <a:lnTo>
                  <a:pt x="1029" y="2751"/>
                </a:lnTo>
                <a:lnTo>
                  <a:pt x="1060" y="2816"/>
                </a:lnTo>
                <a:lnTo>
                  <a:pt x="1091" y="2879"/>
                </a:lnTo>
                <a:lnTo>
                  <a:pt x="1124" y="2943"/>
                </a:lnTo>
                <a:lnTo>
                  <a:pt x="1157" y="3003"/>
                </a:lnTo>
                <a:lnTo>
                  <a:pt x="1192" y="3063"/>
                </a:lnTo>
                <a:lnTo>
                  <a:pt x="1227" y="3121"/>
                </a:lnTo>
                <a:lnTo>
                  <a:pt x="1260" y="3177"/>
                </a:lnTo>
                <a:lnTo>
                  <a:pt x="1295" y="3230"/>
                </a:lnTo>
                <a:lnTo>
                  <a:pt x="1328" y="3283"/>
                </a:lnTo>
                <a:lnTo>
                  <a:pt x="1362" y="3331"/>
                </a:lnTo>
                <a:lnTo>
                  <a:pt x="1425" y="3421"/>
                </a:lnTo>
                <a:lnTo>
                  <a:pt x="1484" y="3500"/>
                </a:lnTo>
                <a:lnTo>
                  <a:pt x="1533" y="3564"/>
                </a:lnTo>
                <a:lnTo>
                  <a:pt x="1573" y="3615"/>
                </a:lnTo>
                <a:lnTo>
                  <a:pt x="1602" y="3649"/>
                </a:lnTo>
                <a:lnTo>
                  <a:pt x="1615" y="3665"/>
                </a:lnTo>
                <a:lnTo>
                  <a:pt x="1619" y="3670"/>
                </a:lnTo>
                <a:lnTo>
                  <a:pt x="1624" y="3673"/>
                </a:lnTo>
                <a:lnTo>
                  <a:pt x="1630" y="3676"/>
                </a:lnTo>
                <a:lnTo>
                  <a:pt x="1636" y="3677"/>
                </a:lnTo>
                <a:lnTo>
                  <a:pt x="1641" y="3677"/>
                </a:lnTo>
                <a:lnTo>
                  <a:pt x="1648" y="3677"/>
                </a:lnTo>
                <a:lnTo>
                  <a:pt x="1654" y="3676"/>
                </a:lnTo>
                <a:lnTo>
                  <a:pt x="1660" y="3673"/>
                </a:lnTo>
                <a:lnTo>
                  <a:pt x="1664" y="3670"/>
                </a:lnTo>
                <a:lnTo>
                  <a:pt x="1667" y="3667"/>
                </a:lnTo>
                <a:lnTo>
                  <a:pt x="1670" y="3663"/>
                </a:lnTo>
                <a:lnTo>
                  <a:pt x="1672" y="3660"/>
                </a:lnTo>
                <a:lnTo>
                  <a:pt x="1676" y="3651"/>
                </a:lnTo>
                <a:lnTo>
                  <a:pt x="1677" y="3641"/>
                </a:lnTo>
                <a:lnTo>
                  <a:pt x="1677" y="3636"/>
                </a:lnTo>
                <a:lnTo>
                  <a:pt x="1676" y="3630"/>
                </a:lnTo>
                <a:lnTo>
                  <a:pt x="1670" y="3610"/>
                </a:lnTo>
                <a:lnTo>
                  <a:pt x="1666" y="3590"/>
                </a:lnTo>
                <a:lnTo>
                  <a:pt x="1664" y="3569"/>
                </a:lnTo>
                <a:lnTo>
                  <a:pt x="1664" y="3548"/>
                </a:lnTo>
                <a:lnTo>
                  <a:pt x="1664" y="3524"/>
                </a:lnTo>
                <a:lnTo>
                  <a:pt x="1666" y="3500"/>
                </a:lnTo>
                <a:lnTo>
                  <a:pt x="1671" y="3475"/>
                </a:lnTo>
                <a:lnTo>
                  <a:pt x="1677" y="3450"/>
                </a:lnTo>
                <a:lnTo>
                  <a:pt x="1684" y="3425"/>
                </a:lnTo>
                <a:lnTo>
                  <a:pt x="1692" y="3400"/>
                </a:lnTo>
                <a:lnTo>
                  <a:pt x="1702" y="3376"/>
                </a:lnTo>
                <a:lnTo>
                  <a:pt x="1713" y="3351"/>
                </a:lnTo>
                <a:lnTo>
                  <a:pt x="1725" y="3327"/>
                </a:lnTo>
                <a:lnTo>
                  <a:pt x="1737" y="3302"/>
                </a:lnTo>
                <a:lnTo>
                  <a:pt x="1751" y="3279"/>
                </a:lnTo>
                <a:lnTo>
                  <a:pt x="1764" y="3255"/>
                </a:lnTo>
                <a:lnTo>
                  <a:pt x="1794" y="3209"/>
                </a:lnTo>
                <a:lnTo>
                  <a:pt x="1824" y="3166"/>
                </a:lnTo>
                <a:lnTo>
                  <a:pt x="1854" y="3126"/>
                </a:lnTo>
                <a:lnTo>
                  <a:pt x="1884" y="3089"/>
                </a:lnTo>
                <a:lnTo>
                  <a:pt x="1911" y="3057"/>
                </a:lnTo>
                <a:lnTo>
                  <a:pt x="1936" y="3029"/>
                </a:lnTo>
                <a:lnTo>
                  <a:pt x="1973" y="2988"/>
                </a:lnTo>
                <a:lnTo>
                  <a:pt x="1988" y="2974"/>
                </a:lnTo>
                <a:lnTo>
                  <a:pt x="2026" y="2944"/>
                </a:lnTo>
                <a:lnTo>
                  <a:pt x="2064" y="2913"/>
                </a:lnTo>
                <a:lnTo>
                  <a:pt x="2098" y="2883"/>
                </a:lnTo>
                <a:lnTo>
                  <a:pt x="2132" y="2852"/>
                </a:lnTo>
                <a:lnTo>
                  <a:pt x="2164" y="2822"/>
                </a:lnTo>
                <a:lnTo>
                  <a:pt x="2194" y="2791"/>
                </a:lnTo>
                <a:lnTo>
                  <a:pt x="2221" y="2760"/>
                </a:lnTo>
                <a:lnTo>
                  <a:pt x="2247" y="2729"/>
                </a:lnTo>
                <a:lnTo>
                  <a:pt x="2272" y="2699"/>
                </a:lnTo>
                <a:lnTo>
                  <a:pt x="2296" y="2668"/>
                </a:lnTo>
                <a:lnTo>
                  <a:pt x="2317" y="2639"/>
                </a:lnTo>
                <a:lnTo>
                  <a:pt x="2337" y="2608"/>
                </a:lnTo>
                <a:lnTo>
                  <a:pt x="2355" y="2578"/>
                </a:lnTo>
                <a:lnTo>
                  <a:pt x="2373" y="2548"/>
                </a:lnTo>
                <a:lnTo>
                  <a:pt x="2389" y="2518"/>
                </a:lnTo>
                <a:lnTo>
                  <a:pt x="2404" y="2488"/>
                </a:lnTo>
                <a:lnTo>
                  <a:pt x="2416" y="2460"/>
                </a:lnTo>
                <a:lnTo>
                  <a:pt x="2429" y="2431"/>
                </a:lnTo>
                <a:lnTo>
                  <a:pt x="2440" y="2403"/>
                </a:lnTo>
                <a:lnTo>
                  <a:pt x="2450" y="2374"/>
                </a:lnTo>
                <a:lnTo>
                  <a:pt x="2458" y="2347"/>
                </a:lnTo>
                <a:lnTo>
                  <a:pt x="2466" y="2320"/>
                </a:lnTo>
                <a:lnTo>
                  <a:pt x="2472" y="2292"/>
                </a:lnTo>
                <a:lnTo>
                  <a:pt x="2478" y="2266"/>
                </a:lnTo>
                <a:lnTo>
                  <a:pt x="2483" y="2240"/>
                </a:lnTo>
                <a:lnTo>
                  <a:pt x="2487" y="2216"/>
                </a:lnTo>
                <a:lnTo>
                  <a:pt x="2491" y="2191"/>
                </a:lnTo>
                <a:lnTo>
                  <a:pt x="2493" y="2167"/>
                </a:lnTo>
                <a:lnTo>
                  <a:pt x="2497" y="2121"/>
                </a:lnTo>
                <a:lnTo>
                  <a:pt x="2498" y="2077"/>
                </a:lnTo>
                <a:lnTo>
                  <a:pt x="2497" y="2028"/>
                </a:lnTo>
                <a:lnTo>
                  <a:pt x="2493" y="1984"/>
                </a:lnTo>
                <a:lnTo>
                  <a:pt x="2488" y="1944"/>
                </a:lnTo>
                <a:lnTo>
                  <a:pt x="2482" y="1912"/>
                </a:lnTo>
                <a:lnTo>
                  <a:pt x="2476" y="1884"/>
                </a:lnTo>
                <a:lnTo>
                  <a:pt x="2471" y="1864"/>
                </a:lnTo>
                <a:lnTo>
                  <a:pt x="2467" y="1852"/>
                </a:lnTo>
                <a:lnTo>
                  <a:pt x="2466" y="1847"/>
                </a:lnTo>
                <a:lnTo>
                  <a:pt x="2462" y="1840"/>
                </a:lnTo>
                <a:lnTo>
                  <a:pt x="2456" y="1833"/>
                </a:lnTo>
                <a:lnTo>
                  <a:pt x="2450" y="1828"/>
                </a:lnTo>
                <a:lnTo>
                  <a:pt x="2441" y="1826"/>
                </a:lnTo>
                <a:lnTo>
                  <a:pt x="2437" y="1825"/>
                </a:lnTo>
                <a:lnTo>
                  <a:pt x="2435" y="1825"/>
                </a:lnTo>
                <a:lnTo>
                  <a:pt x="2447" y="1800"/>
                </a:lnTo>
                <a:lnTo>
                  <a:pt x="2460" y="1776"/>
                </a:lnTo>
                <a:lnTo>
                  <a:pt x="2471" y="1751"/>
                </a:lnTo>
                <a:lnTo>
                  <a:pt x="2481" y="1727"/>
                </a:lnTo>
                <a:lnTo>
                  <a:pt x="2491" y="1703"/>
                </a:lnTo>
                <a:lnTo>
                  <a:pt x="2499" y="1678"/>
                </a:lnTo>
                <a:lnTo>
                  <a:pt x="2507" y="1653"/>
                </a:lnTo>
                <a:lnTo>
                  <a:pt x="2513" y="1630"/>
                </a:lnTo>
                <a:lnTo>
                  <a:pt x="2519" y="1605"/>
                </a:lnTo>
                <a:lnTo>
                  <a:pt x="2524" y="1582"/>
                </a:lnTo>
                <a:lnTo>
                  <a:pt x="2529" y="1557"/>
                </a:lnTo>
                <a:lnTo>
                  <a:pt x="2533" y="1533"/>
                </a:lnTo>
                <a:lnTo>
                  <a:pt x="2535" y="1508"/>
                </a:lnTo>
                <a:lnTo>
                  <a:pt x="2538" y="1485"/>
                </a:lnTo>
                <a:lnTo>
                  <a:pt x="2539" y="1461"/>
                </a:lnTo>
                <a:lnTo>
                  <a:pt x="2539" y="1438"/>
                </a:lnTo>
                <a:lnTo>
                  <a:pt x="2538" y="1404"/>
                </a:lnTo>
                <a:lnTo>
                  <a:pt x="2537" y="1371"/>
                </a:lnTo>
                <a:lnTo>
                  <a:pt x="2533" y="1337"/>
                </a:lnTo>
                <a:lnTo>
                  <a:pt x="2529" y="1305"/>
                </a:lnTo>
                <a:lnTo>
                  <a:pt x="2524" y="1274"/>
                </a:lnTo>
                <a:lnTo>
                  <a:pt x="2518" y="1242"/>
                </a:lnTo>
                <a:lnTo>
                  <a:pt x="2512" y="1212"/>
                </a:lnTo>
                <a:lnTo>
                  <a:pt x="2504" y="1181"/>
                </a:lnTo>
                <a:lnTo>
                  <a:pt x="2497" y="1152"/>
                </a:lnTo>
                <a:lnTo>
                  <a:pt x="2488" y="1122"/>
                </a:lnTo>
                <a:lnTo>
                  <a:pt x="2478" y="1095"/>
                </a:lnTo>
                <a:lnTo>
                  <a:pt x="2468" y="1068"/>
                </a:lnTo>
                <a:lnTo>
                  <a:pt x="2449" y="1016"/>
                </a:lnTo>
                <a:lnTo>
                  <a:pt x="2429" y="969"/>
                </a:lnTo>
                <a:lnTo>
                  <a:pt x="2408" y="924"/>
                </a:lnTo>
                <a:lnTo>
                  <a:pt x="2386" y="885"/>
                </a:lnTo>
                <a:lnTo>
                  <a:pt x="2368" y="851"/>
                </a:lnTo>
                <a:lnTo>
                  <a:pt x="2350" y="821"/>
                </a:lnTo>
                <a:lnTo>
                  <a:pt x="2323" y="779"/>
                </a:lnTo>
                <a:lnTo>
                  <a:pt x="2312" y="761"/>
                </a:lnTo>
                <a:lnTo>
                  <a:pt x="2323" y="737"/>
                </a:lnTo>
                <a:lnTo>
                  <a:pt x="2328" y="725"/>
                </a:lnTo>
                <a:lnTo>
                  <a:pt x="2328" y="724"/>
                </a:lnTo>
                <a:lnTo>
                  <a:pt x="2328" y="722"/>
                </a:lnTo>
                <a:lnTo>
                  <a:pt x="2327" y="701"/>
                </a:lnTo>
                <a:lnTo>
                  <a:pt x="2323" y="680"/>
                </a:lnTo>
                <a:lnTo>
                  <a:pt x="2317" y="658"/>
                </a:lnTo>
                <a:lnTo>
                  <a:pt x="2308" y="637"/>
                </a:lnTo>
                <a:lnTo>
                  <a:pt x="2299" y="616"/>
                </a:lnTo>
                <a:lnTo>
                  <a:pt x="2288" y="596"/>
                </a:lnTo>
                <a:lnTo>
                  <a:pt x="2277" y="577"/>
                </a:lnTo>
                <a:lnTo>
                  <a:pt x="2265" y="558"/>
                </a:lnTo>
                <a:lnTo>
                  <a:pt x="2240" y="526"/>
                </a:lnTo>
                <a:lnTo>
                  <a:pt x="2218" y="498"/>
                </a:lnTo>
                <a:lnTo>
                  <a:pt x="2200" y="479"/>
                </a:lnTo>
                <a:lnTo>
                  <a:pt x="2190" y="469"/>
                </a:lnTo>
                <a:lnTo>
                  <a:pt x="2183" y="464"/>
                </a:lnTo>
                <a:lnTo>
                  <a:pt x="2174" y="462"/>
                </a:lnTo>
                <a:lnTo>
                  <a:pt x="2188" y="446"/>
                </a:lnTo>
                <a:lnTo>
                  <a:pt x="2201" y="431"/>
                </a:lnTo>
                <a:lnTo>
                  <a:pt x="2209" y="423"/>
                </a:lnTo>
                <a:lnTo>
                  <a:pt x="2215" y="415"/>
                </a:lnTo>
                <a:lnTo>
                  <a:pt x="2220" y="407"/>
                </a:lnTo>
                <a:lnTo>
                  <a:pt x="2225" y="398"/>
                </a:lnTo>
                <a:lnTo>
                  <a:pt x="2230" y="385"/>
                </a:lnTo>
                <a:lnTo>
                  <a:pt x="2234" y="373"/>
                </a:lnTo>
                <a:lnTo>
                  <a:pt x="2237" y="361"/>
                </a:lnTo>
                <a:lnTo>
                  <a:pt x="2240" y="348"/>
                </a:lnTo>
                <a:lnTo>
                  <a:pt x="2244" y="323"/>
                </a:lnTo>
                <a:lnTo>
                  <a:pt x="2245" y="300"/>
                </a:lnTo>
                <a:lnTo>
                  <a:pt x="2245" y="285"/>
                </a:lnTo>
                <a:lnTo>
                  <a:pt x="2244" y="269"/>
                </a:lnTo>
                <a:lnTo>
                  <a:pt x="2241" y="254"/>
                </a:lnTo>
                <a:lnTo>
                  <a:pt x="2237" y="240"/>
                </a:lnTo>
                <a:lnTo>
                  <a:pt x="2230" y="216"/>
                </a:lnTo>
                <a:lnTo>
                  <a:pt x="2221" y="193"/>
                </a:lnTo>
                <a:lnTo>
                  <a:pt x="2205" y="161"/>
                </a:lnTo>
                <a:lnTo>
                  <a:pt x="2196" y="147"/>
                </a:lnTo>
                <a:lnTo>
                  <a:pt x="2193" y="144"/>
                </a:lnTo>
                <a:lnTo>
                  <a:pt x="2188" y="140"/>
                </a:lnTo>
                <a:lnTo>
                  <a:pt x="2183" y="136"/>
                </a:lnTo>
                <a:lnTo>
                  <a:pt x="2177" y="135"/>
                </a:lnTo>
                <a:lnTo>
                  <a:pt x="2170" y="134"/>
                </a:lnTo>
                <a:lnTo>
                  <a:pt x="2165" y="134"/>
                </a:lnTo>
                <a:lnTo>
                  <a:pt x="2159" y="135"/>
                </a:lnTo>
                <a:lnTo>
                  <a:pt x="2153" y="136"/>
                </a:lnTo>
                <a:lnTo>
                  <a:pt x="2029" y="189"/>
                </a:lnTo>
                <a:lnTo>
                  <a:pt x="1910" y="235"/>
                </a:lnTo>
                <a:lnTo>
                  <a:pt x="1795" y="274"/>
                </a:lnTo>
                <a:lnTo>
                  <a:pt x="1686" y="305"/>
                </a:lnTo>
                <a:lnTo>
                  <a:pt x="1581" y="331"/>
                </a:lnTo>
                <a:lnTo>
                  <a:pt x="1480" y="351"/>
                </a:lnTo>
                <a:lnTo>
                  <a:pt x="1384" y="364"/>
                </a:lnTo>
                <a:lnTo>
                  <a:pt x="1292" y="373"/>
                </a:lnTo>
                <a:lnTo>
                  <a:pt x="1206" y="378"/>
                </a:lnTo>
                <a:lnTo>
                  <a:pt x="1122" y="378"/>
                </a:lnTo>
                <a:lnTo>
                  <a:pt x="1044" y="373"/>
                </a:lnTo>
                <a:lnTo>
                  <a:pt x="970" y="366"/>
                </a:lnTo>
                <a:lnTo>
                  <a:pt x="900" y="354"/>
                </a:lnTo>
                <a:lnTo>
                  <a:pt x="834" y="341"/>
                </a:lnTo>
                <a:lnTo>
                  <a:pt x="772" y="323"/>
                </a:lnTo>
                <a:lnTo>
                  <a:pt x="714" y="305"/>
                </a:lnTo>
                <a:lnTo>
                  <a:pt x="660" y="285"/>
                </a:lnTo>
                <a:lnTo>
                  <a:pt x="609" y="263"/>
                </a:lnTo>
                <a:lnTo>
                  <a:pt x="564" y="239"/>
                </a:lnTo>
                <a:lnTo>
                  <a:pt x="521" y="216"/>
                </a:lnTo>
                <a:lnTo>
                  <a:pt x="483" y="192"/>
                </a:lnTo>
                <a:lnTo>
                  <a:pt x="447" y="168"/>
                </a:lnTo>
                <a:lnTo>
                  <a:pt x="416" y="145"/>
                </a:lnTo>
                <a:lnTo>
                  <a:pt x="387" y="122"/>
                </a:lnTo>
                <a:lnTo>
                  <a:pt x="364" y="100"/>
                </a:lnTo>
                <a:lnTo>
                  <a:pt x="342" y="80"/>
                </a:lnTo>
                <a:lnTo>
                  <a:pt x="324" y="63"/>
                </a:lnTo>
                <a:lnTo>
                  <a:pt x="310" y="47"/>
                </a:lnTo>
                <a:lnTo>
                  <a:pt x="290" y="24"/>
                </a:lnTo>
                <a:lnTo>
                  <a:pt x="283" y="15"/>
                </a:lnTo>
                <a:lnTo>
                  <a:pt x="280" y="11"/>
                </a:lnTo>
                <a:lnTo>
                  <a:pt x="277" y="7"/>
                </a:lnTo>
                <a:lnTo>
                  <a:pt x="272" y="5"/>
                </a:lnTo>
                <a:lnTo>
                  <a:pt x="268" y="2"/>
                </a:lnTo>
                <a:lnTo>
                  <a:pt x="263" y="1"/>
                </a:lnTo>
                <a:lnTo>
                  <a:pt x="258" y="0"/>
                </a:lnTo>
                <a:lnTo>
                  <a:pt x="253" y="0"/>
                </a:lnTo>
                <a:lnTo>
                  <a:pt x="248" y="0"/>
                </a:lnTo>
                <a:close/>
                <a:moveTo>
                  <a:pt x="869" y="1966"/>
                </a:moveTo>
                <a:lnTo>
                  <a:pt x="869" y="1964"/>
                </a:lnTo>
                <a:lnTo>
                  <a:pt x="870" y="1961"/>
                </a:lnTo>
                <a:lnTo>
                  <a:pt x="869" y="1964"/>
                </a:lnTo>
                <a:lnTo>
                  <a:pt x="869" y="1966"/>
                </a:lnTo>
                <a:lnTo>
                  <a:pt x="869" y="1966"/>
                </a:lnTo>
                <a:close/>
                <a:moveTo>
                  <a:pt x="239" y="311"/>
                </a:moveTo>
                <a:lnTo>
                  <a:pt x="233" y="299"/>
                </a:lnTo>
                <a:lnTo>
                  <a:pt x="229" y="285"/>
                </a:lnTo>
                <a:lnTo>
                  <a:pt x="227" y="273"/>
                </a:lnTo>
                <a:lnTo>
                  <a:pt x="227" y="258"/>
                </a:lnTo>
                <a:lnTo>
                  <a:pt x="227" y="242"/>
                </a:lnTo>
                <a:lnTo>
                  <a:pt x="231" y="224"/>
                </a:lnTo>
                <a:lnTo>
                  <a:pt x="236" y="207"/>
                </a:lnTo>
                <a:lnTo>
                  <a:pt x="243" y="188"/>
                </a:lnTo>
                <a:lnTo>
                  <a:pt x="246" y="181"/>
                </a:lnTo>
                <a:lnTo>
                  <a:pt x="252" y="162"/>
                </a:lnTo>
                <a:lnTo>
                  <a:pt x="259" y="136"/>
                </a:lnTo>
                <a:lnTo>
                  <a:pt x="269" y="106"/>
                </a:lnTo>
                <a:lnTo>
                  <a:pt x="284" y="122"/>
                </a:lnTo>
                <a:lnTo>
                  <a:pt x="302" y="140"/>
                </a:lnTo>
                <a:lnTo>
                  <a:pt x="321" y="158"/>
                </a:lnTo>
                <a:lnTo>
                  <a:pt x="345" y="178"/>
                </a:lnTo>
                <a:lnTo>
                  <a:pt x="370" y="198"/>
                </a:lnTo>
                <a:lnTo>
                  <a:pt x="398" y="219"/>
                </a:lnTo>
                <a:lnTo>
                  <a:pt x="428" y="242"/>
                </a:lnTo>
                <a:lnTo>
                  <a:pt x="462" y="263"/>
                </a:lnTo>
                <a:lnTo>
                  <a:pt x="498" y="284"/>
                </a:lnTo>
                <a:lnTo>
                  <a:pt x="536" y="305"/>
                </a:lnTo>
                <a:lnTo>
                  <a:pt x="577" y="326"/>
                </a:lnTo>
                <a:lnTo>
                  <a:pt x="622" y="346"/>
                </a:lnTo>
                <a:lnTo>
                  <a:pt x="669" y="364"/>
                </a:lnTo>
                <a:lnTo>
                  <a:pt x="719" y="382"/>
                </a:lnTo>
                <a:lnTo>
                  <a:pt x="772" y="398"/>
                </a:lnTo>
                <a:lnTo>
                  <a:pt x="828" y="412"/>
                </a:lnTo>
                <a:lnTo>
                  <a:pt x="886" y="424"/>
                </a:lnTo>
                <a:lnTo>
                  <a:pt x="948" y="434"/>
                </a:lnTo>
                <a:lnTo>
                  <a:pt x="1013" y="441"/>
                </a:lnTo>
                <a:lnTo>
                  <a:pt x="1081" y="446"/>
                </a:lnTo>
                <a:lnTo>
                  <a:pt x="1152" y="449"/>
                </a:lnTo>
                <a:lnTo>
                  <a:pt x="1227" y="448"/>
                </a:lnTo>
                <a:lnTo>
                  <a:pt x="1305" y="443"/>
                </a:lnTo>
                <a:lnTo>
                  <a:pt x="1386" y="435"/>
                </a:lnTo>
                <a:lnTo>
                  <a:pt x="1469" y="423"/>
                </a:lnTo>
                <a:lnTo>
                  <a:pt x="1557" y="407"/>
                </a:lnTo>
                <a:lnTo>
                  <a:pt x="1648" y="387"/>
                </a:lnTo>
                <a:lnTo>
                  <a:pt x="1742" y="362"/>
                </a:lnTo>
                <a:lnTo>
                  <a:pt x="1839" y="333"/>
                </a:lnTo>
                <a:lnTo>
                  <a:pt x="1939" y="299"/>
                </a:lnTo>
                <a:lnTo>
                  <a:pt x="2044" y="259"/>
                </a:lnTo>
                <a:lnTo>
                  <a:pt x="2152" y="214"/>
                </a:lnTo>
                <a:lnTo>
                  <a:pt x="2159" y="229"/>
                </a:lnTo>
                <a:lnTo>
                  <a:pt x="2167" y="249"/>
                </a:lnTo>
                <a:lnTo>
                  <a:pt x="2169" y="260"/>
                </a:lnTo>
                <a:lnTo>
                  <a:pt x="2172" y="273"/>
                </a:lnTo>
                <a:lnTo>
                  <a:pt x="2173" y="286"/>
                </a:lnTo>
                <a:lnTo>
                  <a:pt x="2174" y="300"/>
                </a:lnTo>
                <a:lnTo>
                  <a:pt x="2173" y="317"/>
                </a:lnTo>
                <a:lnTo>
                  <a:pt x="2170" y="335"/>
                </a:lnTo>
                <a:lnTo>
                  <a:pt x="2165" y="352"/>
                </a:lnTo>
                <a:lnTo>
                  <a:pt x="2159" y="371"/>
                </a:lnTo>
                <a:lnTo>
                  <a:pt x="2154" y="382"/>
                </a:lnTo>
                <a:lnTo>
                  <a:pt x="2148" y="392"/>
                </a:lnTo>
                <a:lnTo>
                  <a:pt x="2142" y="402"/>
                </a:lnTo>
                <a:lnTo>
                  <a:pt x="2134" y="413"/>
                </a:lnTo>
                <a:lnTo>
                  <a:pt x="2126" y="424"/>
                </a:lnTo>
                <a:lnTo>
                  <a:pt x="2116" y="434"/>
                </a:lnTo>
                <a:lnTo>
                  <a:pt x="2106" y="445"/>
                </a:lnTo>
                <a:lnTo>
                  <a:pt x="2095" y="456"/>
                </a:lnTo>
                <a:lnTo>
                  <a:pt x="2081" y="467"/>
                </a:lnTo>
                <a:lnTo>
                  <a:pt x="2067" y="479"/>
                </a:lnTo>
                <a:lnTo>
                  <a:pt x="2052" y="488"/>
                </a:lnTo>
                <a:lnTo>
                  <a:pt x="2035" y="500"/>
                </a:lnTo>
                <a:lnTo>
                  <a:pt x="2018" y="511"/>
                </a:lnTo>
                <a:lnTo>
                  <a:pt x="1998" y="522"/>
                </a:lnTo>
                <a:lnTo>
                  <a:pt x="1977" y="533"/>
                </a:lnTo>
                <a:lnTo>
                  <a:pt x="1954" y="543"/>
                </a:lnTo>
                <a:lnTo>
                  <a:pt x="1931" y="554"/>
                </a:lnTo>
                <a:lnTo>
                  <a:pt x="1905" y="564"/>
                </a:lnTo>
                <a:lnTo>
                  <a:pt x="1877" y="574"/>
                </a:lnTo>
                <a:lnTo>
                  <a:pt x="1849" y="584"/>
                </a:lnTo>
                <a:lnTo>
                  <a:pt x="1818" y="594"/>
                </a:lnTo>
                <a:lnTo>
                  <a:pt x="1785" y="604"/>
                </a:lnTo>
                <a:lnTo>
                  <a:pt x="1751" y="614"/>
                </a:lnTo>
                <a:lnTo>
                  <a:pt x="1715" y="622"/>
                </a:lnTo>
                <a:lnTo>
                  <a:pt x="1676" y="631"/>
                </a:lnTo>
                <a:lnTo>
                  <a:pt x="1636" y="640"/>
                </a:lnTo>
                <a:lnTo>
                  <a:pt x="1593" y="649"/>
                </a:lnTo>
                <a:lnTo>
                  <a:pt x="1548" y="656"/>
                </a:lnTo>
                <a:lnTo>
                  <a:pt x="1502" y="663"/>
                </a:lnTo>
                <a:lnTo>
                  <a:pt x="1453" y="670"/>
                </a:lnTo>
                <a:lnTo>
                  <a:pt x="1402" y="677"/>
                </a:lnTo>
                <a:lnTo>
                  <a:pt x="1348" y="683"/>
                </a:lnTo>
                <a:lnTo>
                  <a:pt x="1341" y="685"/>
                </a:lnTo>
                <a:lnTo>
                  <a:pt x="1336" y="687"/>
                </a:lnTo>
                <a:lnTo>
                  <a:pt x="1330" y="691"/>
                </a:lnTo>
                <a:lnTo>
                  <a:pt x="1325" y="694"/>
                </a:lnTo>
                <a:lnTo>
                  <a:pt x="1321" y="699"/>
                </a:lnTo>
                <a:lnTo>
                  <a:pt x="1319" y="706"/>
                </a:lnTo>
                <a:lnTo>
                  <a:pt x="1317" y="712"/>
                </a:lnTo>
                <a:lnTo>
                  <a:pt x="1316" y="718"/>
                </a:lnTo>
                <a:lnTo>
                  <a:pt x="1316" y="719"/>
                </a:lnTo>
                <a:lnTo>
                  <a:pt x="1316" y="720"/>
                </a:lnTo>
                <a:lnTo>
                  <a:pt x="1317" y="728"/>
                </a:lnTo>
                <a:lnTo>
                  <a:pt x="1320" y="734"/>
                </a:lnTo>
                <a:lnTo>
                  <a:pt x="1323" y="739"/>
                </a:lnTo>
                <a:lnTo>
                  <a:pt x="1327" y="744"/>
                </a:lnTo>
                <a:lnTo>
                  <a:pt x="1332" y="749"/>
                </a:lnTo>
                <a:lnTo>
                  <a:pt x="1338" y="751"/>
                </a:lnTo>
                <a:lnTo>
                  <a:pt x="1345" y="754"/>
                </a:lnTo>
                <a:lnTo>
                  <a:pt x="1352" y="754"/>
                </a:lnTo>
                <a:lnTo>
                  <a:pt x="1381" y="754"/>
                </a:lnTo>
                <a:lnTo>
                  <a:pt x="1446" y="750"/>
                </a:lnTo>
                <a:lnTo>
                  <a:pt x="1490" y="747"/>
                </a:lnTo>
                <a:lnTo>
                  <a:pt x="1540" y="742"/>
                </a:lnTo>
                <a:lnTo>
                  <a:pt x="1595" y="735"/>
                </a:lnTo>
                <a:lnTo>
                  <a:pt x="1654" y="725"/>
                </a:lnTo>
                <a:lnTo>
                  <a:pt x="1717" y="714"/>
                </a:lnTo>
                <a:lnTo>
                  <a:pt x="1782" y="701"/>
                </a:lnTo>
                <a:lnTo>
                  <a:pt x="1814" y="692"/>
                </a:lnTo>
                <a:lnTo>
                  <a:pt x="1846" y="683"/>
                </a:lnTo>
                <a:lnTo>
                  <a:pt x="1880" y="673"/>
                </a:lnTo>
                <a:lnTo>
                  <a:pt x="1913" y="662"/>
                </a:lnTo>
                <a:lnTo>
                  <a:pt x="1946" y="651"/>
                </a:lnTo>
                <a:lnTo>
                  <a:pt x="1978" y="639"/>
                </a:lnTo>
                <a:lnTo>
                  <a:pt x="2009" y="625"/>
                </a:lnTo>
                <a:lnTo>
                  <a:pt x="2041" y="610"/>
                </a:lnTo>
                <a:lnTo>
                  <a:pt x="2071" y="594"/>
                </a:lnTo>
                <a:lnTo>
                  <a:pt x="2101" y="578"/>
                </a:lnTo>
                <a:lnTo>
                  <a:pt x="2131" y="560"/>
                </a:lnTo>
                <a:lnTo>
                  <a:pt x="2158" y="541"/>
                </a:lnTo>
                <a:lnTo>
                  <a:pt x="2173" y="558"/>
                </a:lnTo>
                <a:lnTo>
                  <a:pt x="2189" y="578"/>
                </a:lnTo>
                <a:lnTo>
                  <a:pt x="2206" y="600"/>
                </a:lnTo>
                <a:lnTo>
                  <a:pt x="2221" y="624"/>
                </a:lnTo>
                <a:lnTo>
                  <a:pt x="2229" y="636"/>
                </a:lnTo>
                <a:lnTo>
                  <a:pt x="2235" y="649"/>
                </a:lnTo>
                <a:lnTo>
                  <a:pt x="2241" y="661"/>
                </a:lnTo>
                <a:lnTo>
                  <a:pt x="2246" y="673"/>
                </a:lnTo>
                <a:lnTo>
                  <a:pt x="2251" y="686"/>
                </a:lnTo>
                <a:lnTo>
                  <a:pt x="2254" y="698"/>
                </a:lnTo>
                <a:lnTo>
                  <a:pt x="2256" y="709"/>
                </a:lnTo>
                <a:lnTo>
                  <a:pt x="2257" y="722"/>
                </a:lnTo>
                <a:lnTo>
                  <a:pt x="2257" y="723"/>
                </a:lnTo>
                <a:lnTo>
                  <a:pt x="2257" y="724"/>
                </a:lnTo>
                <a:lnTo>
                  <a:pt x="2237" y="766"/>
                </a:lnTo>
                <a:lnTo>
                  <a:pt x="2221" y="778"/>
                </a:lnTo>
                <a:lnTo>
                  <a:pt x="2175" y="806"/>
                </a:lnTo>
                <a:lnTo>
                  <a:pt x="2143" y="825"/>
                </a:lnTo>
                <a:lnTo>
                  <a:pt x="2105" y="847"/>
                </a:lnTo>
                <a:lnTo>
                  <a:pt x="2061" y="869"/>
                </a:lnTo>
                <a:lnTo>
                  <a:pt x="2013" y="894"/>
                </a:lnTo>
                <a:lnTo>
                  <a:pt x="1959" y="919"/>
                </a:lnTo>
                <a:lnTo>
                  <a:pt x="1903" y="944"/>
                </a:lnTo>
                <a:lnTo>
                  <a:pt x="1874" y="955"/>
                </a:lnTo>
                <a:lnTo>
                  <a:pt x="1843" y="967"/>
                </a:lnTo>
                <a:lnTo>
                  <a:pt x="1811" y="979"/>
                </a:lnTo>
                <a:lnTo>
                  <a:pt x="1780" y="988"/>
                </a:lnTo>
                <a:lnTo>
                  <a:pt x="1748" y="998"/>
                </a:lnTo>
                <a:lnTo>
                  <a:pt x="1715" y="1008"/>
                </a:lnTo>
                <a:lnTo>
                  <a:pt x="1682" y="1017"/>
                </a:lnTo>
                <a:lnTo>
                  <a:pt x="1649" y="1024"/>
                </a:lnTo>
                <a:lnTo>
                  <a:pt x="1614" y="1032"/>
                </a:lnTo>
                <a:lnTo>
                  <a:pt x="1581" y="1037"/>
                </a:lnTo>
                <a:lnTo>
                  <a:pt x="1546" y="1042"/>
                </a:lnTo>
                <a:lnTo>
                  <a:pt x="1511" y="1046"/>
                </a:lnTo>
                <a:lnTo>
                  <a:pt x="1504" y="1047"/>
                </a:lnTo>
                <a:lnTo>
                  <a:pt x="1497" y="1049"/>
                </a:lnTo>
                <a:lnTo>
                  <a:pt x="1492" y="1052"/>
                </a:lnTo>
                <a:lnTo>
                  <a:pt x="1487" y="1057"/>
                </a:lnTo>
                <a:lnTo>
                  <a:pt x="1484" y="1062"/>
                </a:lnTo>
                <a:lnTo>
                  <a:pt x="1481" y="1068"/>
                </a:lnTo>
                <a:lnTo>
                  <a:pt x="1479" y="1074"/>
                </a:lnTo>
                <a:lnTo>
                  <a:pt x="1479" y="1080"/>
                </a:lnTo>
                <a:lnTo>
                  <a:pt x="1479" y="1082"/>
                </a:lnTo>
                <a:lnTo>
                  <a:pt x="1479" y="1083"/>
                </a:lnTo>
                <a:lnTo>
                  <a:pt x="1479" y="1090"/>
                </a:lnTo>
                <a:lnTo>
                  <a:pt x="1481" y="1096"/>
                </a:lnTo>
                <a:lnTo>
                  <a:pt x="1485" y="1101"/>
                </a:lnTo>
                <a:lnTo>
                  <a:pt x="1490" y="1106"/>
                </a:lnTo>
                <a:lnTo>
                  <a:pt x="1495" y="1111"/>
                </a:lnTo>
                <a:lnTo>
                  <a:pt x="1501" y="1114"/>
                </a:lnTo>
                <a:lnTo>
                  <a:pt x="1507" y="1116"/>
                </a:lnTo>
                <a:lnTo>
                  <a:pt x="1515" y="1116"/>
                </a:lnTo>
                <a:lnTo>
                  <a:pt x="1542" y="1115"/>
                </a:lnTo>
                <a:lnTo>
                  <a:pt x="1603" y="1110"/>
                </a:lnTo>
                <a:lnTo>
                  <a:pt x="1644" y="1104"/>
                </a:lnTo>
                <a:lnTo>
                  <a:pt x="1690" y="1096"/>
                </a:lnTo>
                <a:lnTo>
                  <a:pt x="1742" y="1088"/>
                </a:lnTo>
                <a:lnTo>
                  <a:pt x="1798" y="1074"/>
                </a:lnTo>
                <a:lnTo>
                  <a:pt x="1826" y="1068"/>
                </a:lnTo>
                <a:lnTo>
                  <a:pt x="1856" y="1059"/>
                </a:lnTo>
                <a:lnTo>
                  <a:pt x="1886" y="1051"/>
                </a:lnTo>
                <a:lnTo>
                  <a:pt x="1917" y="1041"/>
                </a:lnTo>
                <a:lnTo>
                  <a:pt x="1947" y="1029"/>
                </a:lnTo>
                <a:lnTo>
                  <a:pt x="1978" y="1017"/>
                </a:lnTo>
                <a:lnTo>
                  <a:pt x="2009" y="1005"/>
                </a:lnTo>
                <a:lnTo>
                  <a:pt x="2041" y="991"/>
                </a:lnTo>
                <a:lnTo>
                  <a:pt x="2071" y="975"/>
                </a:lnTo>
                <a:lnTo>
                  <a:pt x="2102" y="959"/>
                </a:lnTo>
                <a:lnTo>
                  <a:pt x="2132" y="941"/>
                </a:lnTo>
                <a:lnTo>
                  <a:pt x="2162" y="923"/>
                </a:lnTo>
                <a:lnTo>
                  <a:pt x="2191" y="903"/>
                </a:lnTo>
                <a:lnTo>
                  <a:pt x="2220" y="882"/>
                </a:lnTo>
                <a:lnTo>
                  <a:pt x="2247" y="858"/>
                </a:lnTo>
                <a:lnTo>
                  <a:pt x="2275" y="835"/>
                </a:lnTo>
                <a:lnTo>
                  <a:pt x="2297" y="869"/>
                </a:lnTo>
                <a:lnTo>
                  <a:pt x="2326" y="919"/>
                </a:lnTo>
                <a:lnTo>
                  <a:pt x="2342" y="949"/>
                </a:lnTo>
                <a:lnTo>
                  <a:pt x="2358" y="981"/>
                </a:lnTo>
                <a:lnTo>
                  <a:pt x="2375" y="1016"/>
                </a:lnTo>
                <a:lnTo>
                  <a:pt x="2391" y="1053"/>
                </a:lnTo>
                <a:lnTo>
                  <a:pt x="2408" y="1094"/>
                </a:lnTo>
                <a:lnTo>
                  <a:pt x="2422" y="1136"/>
                </a:lnTo>
                <a:lnTo>
                  <a:pt x="2435" y="1181"/>
                </a:lnTo>
                <a:lnTo>
                  <a:pt x="2447" y="1228"/>
                </a:lnTo>
                <a:lnTo>
                  <a:pt x="2452" y="1253"/>
                </a:lnTo>
                <a:lnTo>
                  <a:pt x="2457" y="1276"/>
                </a:lnTo>
                <a:lnTo>
                  <a:pt x="2461" y="1302"/>
                </a:lnTo>
                <a:lnTo>
                  <a:pt x="2465" y="1327"/>
                </a:lnTo>
                <a:lnTo>
                  <a:pt x="2467" y="1353"/>
                </a:lnTo>
                <a:lnTo>
                  <a:pt x="2470" y="1379"/>
                </a:lnTo>
                <a:lnTo>
                  <a:pt x="2471" y="1405"/>
                </a:lnTo>
                <a:lnTo>
                  <a:pt x="2471" y="1431"/>
                </a:lnTo>
                <a:lnTo>
                  <a:pt x="2470" y="1470"/>
                </a:lnTo>
                <a:lnTo>
                  <a:pt x="2467" y="1508"/>
                </a:lnTo>
                <a:lnTo>
                  <a:pt x="2462" y="1547"/>
                </a:lnTo>
                <a:lnTo>
                  <a:pt x="2456" y="1586"/>
                </a:lnTo>
                <a:lnTo>
                  <a:pt x="2446" y="1625"/>
                </a:lnTo>
                <a:lnTo>
                  <a:pt x="2434" y="1665"/>
                </a:lnTo>
                <a:lnTo>
                  <a:pt x="2427" y="1683"/>
                </a:lnTo>
                <a:lnTo>
                  <a:pt x="2420" y="1703"/>
                </a:lnTo>
                <a:lnTo>
                  <a:pt x="2411" y="1723"/>
                </a:lnTo>
                <a:lnTo>
                  <a:pt x="2403" y="1743"/>
                </a:lnTo>
                <a:lnTo>
                  <a:pt x="2393" y="1761"/>
                </a:lnTo>
                <a:lnTo>
                  <a:pt x="2383" y="1781"/>
                </a:lnTo>
                <a:lnTo>
                  <a:pt x="2372" y="1801"/>
                </a:lnTo>
                <a:lnTo>
                  <a:pt x="2360" y="1820"/>
                </a:lnTo>
                <a:lnTo>
                  <a:pt x="2348" y="1840"/>
                </a:lnTo>
                <a:lnTo>
                  <a:pt x="2334" y="1858"/>
                </a:lnTo>
                <a:lnTo>
                  <a:pt x="2321" y="1878"/>
                </a:lnTo>
                <a:lnTo>
                  <a:pt x="2306" y="1897"/>
                </a:lnTo>
                <a:lnTo>
                  <a:pt x="2290" y="1917"/>
                </a:lnTo>
                <a:lnTo>
                  <a:pt x="2272" y="1935"/>
                </a:lnTo>
                <a:lnTo>
                  <a:pt x="2255" y="1954"/>
                </a:lnTo>
                <a:lnTo>
                  <a:pt x="2236" y="1972"/>
                </a:lnTo>
                <a:lnTo>
                  <a:pt x="2218" y="1991"/>
                </a:lnTo>
                <a:lnTo>
                  <a:pt x="2198" y="2010"/>
                </a:lnTo>
                <a:lnTo>
                  <a:pt x="2175" y="2027"/>
                </a:lnTo>
                <a:lnTo>
                  <a:pt x="2154" y="2046"/>
                </a:lnTo>
                <a:lnTo>
                  <a:pt x="2153" y="2046"/>
                </a:lnTo>
                <a:lnTo>
                  <a:pt x="2148" y="2052"/>
                </a:lnTo>
                <a:lnTo>
                  <a:pt x="2143" y="2058"/>
                </a:lnTo>
                <a:lnTo>
                  <a:pt x="2141" y="2065"/>
                </a:lnTo>
                <a:lnTo>
                  <a:pt x="2141" y="2073"/>
                </a:lnTo>
                <a:lnTo>
                  <a:pt x="2141" y="2079"/>
                </a:lnTo>
                <a:lnTo>
                  <a:pt x="2142" y="2085"/>
                </a:lnTo>
                <a:lnTo>
                  <a:pt x="2144" y="2090"/>
                </a:lnTo>
                <a:lnTo>
                  <a:pt x="2148" y="2095"/>
                </a:lnTo>
                <a:lnTo>
                  <a:pt x="2153" y="2101"/>
                </a:lnTo>
                <a:lnTo>
                  <a:pt x="2159" y="2105"/>
                </a:lnTo>
                <a:lnTo>
                  <a:pt x="2165" y="2108"/>
                </a:lnTo>
                <a:lnTo>
                  <a:pt x="2172" y="2109"/>
                </a:lnTo>
                <a:lnTo>
                  <a:pt x="2179" y="2109"/>
                </a:lnTo>
                <a:lnTo>
                  <a:pt x="2185" y="2108"/>
                </a:lnTo>
                <a:lnTo>
                  <a:pt x="2191" y="2105"/>
                </a:lnTo>
                <a:lnTo>
                  <a:pt x="2198" y="2101"/>
                </a:lnTo>
                <a:lnTo>
                  <a:pt x="2199" y="2101"/>
                </a:lnTo>
                <a:lnTo>
                  <a:pt x="2199" y="2100"/>
                </a:lnTo>
                <a:lnTo>
                  <a:pt x="2199" y="2100"/>
                </a:lnTo>
                <a:lnTo>
                  <a:pt x="2205" y="2095"/>
                </a:lnTo>
                <a:lnTo>
                  <a:pt x="2224" y="2080"/>
                </a:lnTo>
                <a:lnTo>
                  <a:pt x="2251" y="2058"/>
                </a:lnTo>
                <a:lnTo>
                  <a:pt x="2283" y="2031"/>
                </a:lnTo>
                <a:lnTo>
                  <a:pt x="2318" y="2001"/>
                </a:lnTo>
                <a:lnTo>
                  <a:pt x="2354" y="1971"/>
                </a:lnTo>
                <a:lnTo>
                  <a:pt x="2386" y="1945"/>
                </a:lnTo>
                <a:lnTo>
                  <a:pt x="2412" y="1923"/>
                </a:lnTo>
                <a:lnTo>
                  <a:pt x="2419" y="1952"/>
                </a:lnTo>
                <a:lnTo>
                  <a:pt x="2424" y="1988"/>
                </a:lnTo>
                <a:lnTo>
                  <a:pt x="2426" y="2010"/>
                </a:lnTo>
                <a:lnTo>
                  <a:pt x="2429" y="2032"/>
                </a:lnTo>
                <a:lnTo>
                  <a:pt x="2429" y="2055"/>
                </a:lnTo>
                <a:lnTo>
                  <a:pt x="2430" y="2082"/>
                </a:lnTo>
                <a:lnTo>
                  <a:pt x="2429" y="2121"/>
                </a:lnTo>
                <a:lnTo>
                  <a:pt x="2425" y="2165"/>
                </a:lnTo>
                <a:lnTo>
                  <a:pt x="2422" y="2187"/>
                </a:lnTo>
                <a:lnTo>
                  <a:pt x="2420" y="2209"/>
                </a:lnTo>
                <a:lnTo>
                  <a:pt x="2415" y="2233"/>
                </a:lnTo>
                <a:lnTo>
                  <a:pt x="2411" y="2256"/>
                </a:lnTo>
                <a:lnTo>
                  <a:pt x="2405" y="2280"/>
                </a:lnTo>
                <a:lnTo>
                  <a:pt x="2399" y="2305"/>
                </a:lnTo>
                <a:lnTo>
                  <a:pt x="2391" y="2331"/>
                </a:lnTo>
                <a:lnTo>
                  <a:pt x="2383" y="2356"/>
                </a:lnTo>
                <a:lnTo>
                  <a:pt x="2374" y="2382"/>
                </a:lnTo>
                <a:lnTo>
                  <a:pt x="2363" y="2409"/>
                </a:lnTo>
                <a:lnTo>
                  <a:pt x="2352" y="2435"/>
                </a:lnTo>
                <a:lnTo>
                  <a:pt x="2339" y="2462"/>
                </a:lnTo>
                <a:lnTo>
                  <a:pt x="2324" y="2490"/>
                </a:lnTo>
                <a:lnTo>
                  <a:pt x="2309" y="2518"/>
                </a:lnTo>
                <a:lnTo>
                  <a:pt x="2293" y="2546"/>
                </a:lnTo>
                <a:lnTo>
                  <a:pt x="2276" y="2574"/>
                </a:lnTo>
                <a:lnTo>
                  <a:pt x="2256" y="2603"/>
                </a:lnTo>
                <a:lnTo>
                  <a:pt x="2236" y="2631"/>
                </a:lnTo>
                <a:lnTo>
                  <a:pt x="2214" y="2660"/>
                </a:lnTo>
                <a:lnTo>
                  <a:pt x="2190" y="2688"/>
                </a:lnTo>
                <a:lnTo>
                  <a:pt x="2165" y="2717"/>
                </a:lnTo>
                <a:lnTo>
                  <a:pt x="2138" y="2745"/>
                </a:lnTo>
                <a:lnTo>
                  <a:pt x="2110" y="2775"/>
                </a:lnTo>
                <a:lnTo>
                  <a:pt x="2080" y="2804"/>
                </a:lnTo>
                <a:lnTo>
                  <a:pt x="2047" y="2833"/>
                </a:lnTo>
                <a:lnTo>
                  <a:pt x="2014" y="2862"/>
                </a:lnTo>
                <a:lnTo>
                  <a:pt x="1978" y="2890"/>
                </a:lnTo>
                <a:lnTo>
                  <a:pt x="1941" y="2919"/>
                </a:lnTo>
                <a:lnTo>
                  <a:pt x="1922" y="2939"/>
                </a:lnTo>
                <a:lnTo>
                  <a:pt x="1881" y="2982"/>
                </a:lnTo>
                <a:lnTo>
                  <a:pt x="1856" y="3011"/>
                </a:lnTo>
                <a:lnTo>
                  <a:pt x="1828" y="3046"/>
                </a:lnTo>
                <a:lnTo>
                  <a:pt x="1798" y="3083"/>
                </a:lnTo>
                <a:lnTo>
                  <a:pt x="1768" y="3124"/>
                </a:lnTo>
                <a:lnTo>
                  <a:pt x="1737" y="3168"/>
                </a:lnTo>
                <a:lnTo>
                  <a:pt x="1707" y="3216"/>
                </a:lnTo>
                <a:lnTo>
                  <a:pt x="1692" y="3239"/>
                </a:lnTo>
                <a:lnTo>
                  <a:pt x="1679" y="3264"/>
                </a:lnTo>
                <a:lnTo>
                  <a:pt x="1666" y="3290"/>
                </a:lnTo>
                <a:lnTo>
                  <a:pt x="1654" y="3315"/>
                </a:lnTo>
                <a:lnTo>
                  <a:pt x="1643" y="3341"/>
                </a:lnTo>
                <a:lnTo>
                  <a:pt x="1631" y="3367"/>
                </a:lnTo>
                <a:lnTo>
                  <a:pt x="1623" y="3393"/>
                </a:lnTo>
                <a:lnTo>
                  <a:pt x="1614" y="3420"/>
                </a:lnTo>
                <a:lnTo>
                  <a:pt x="1607" y="3446"/>
                </a:lnTo>
                <a:lnTo>
                  <a:pt x="1602" y="3472"/>
                </a:lnTo>
                <a:lnTo>
                  <a:pt x="1598" y="3500"/>
                </a:lnTo>
                <a:lnTo>
                  <a:pt x="1595" y="3526"/>
                </a:lnTo>
                <a:lnTo>
                  <a:pt x="1557" y="3477"/>
                </a:lnTo>
                <a:lnTo>
                  <a:pt x="1515" y="3419"/>
                </a:lnTo>
                <a:lnTo>
                  <a:pt x="1466" y="3352"/>
                </a:lnTo>
                <a:lnTo>
                  <a:pt x="1414" y="3279"/>
                </a:lnTo>
                <a:lnTo>
                  <a:pt x="1361" y="3197"/>
                </a:lnTo>
                <a:lnTo>
                  <a:pt x="1305" y="3110"/>
                </a:lnTo>
                <a:lnTo>
                  <a:pt x="1278" y="3065"/>
                </a:lnTo>
                <a:lnTo>
                  <a:pt x="1250" y="3018"/>
                </a:lnTo>
                <a:lnTo>
                  <a:pt x="1223" y="2970"/>
                </a:lnTo>
                <a:lnTo>
                  <a:pt x="1196" y="2921"/>
                </a:lnTo>
                <a:lnTo>
                  <a:pt x="1170" y="2872"/>
                </a:lnTo>
                <a:lnTo>
                  <a:pt x="1143" y="2821"/>
                </a:lnTo>
                <a:lnTo>
                  <a:pt x="1119" y="2770"/>
                </a:lnTo>
                <a:lnTo>
                  <a:pt x="1094" y="2718"/>
                </a:lnTo>
                <a:lnTo>
                  <a:pt x="1071" y="2666"/>
                </a:lnTo>
                <a:lnTo>
                  <a:pt x="1050" y="2613"/>
                </a:lnTo>
                <a:lnTo>
                  <a:pt x="1029" y="2559"/>
                </a:lnTo>
                <a:lnTo>
                  <a:pt x="1011" y="2506"/>
                </a:lnTo>
                <a:lnTo>
                  <a:pt x="993" y="2452"/>
                </a:lnTo>
                <a:lnTo>
                  <a:pt x="978" y="2399"/>
                </a:lnTo>
                <a:lnTo>
                  <a:pt x="965" y="2346"/>
                </a:lnTo>
                <a:lnTo>
                  <a:pt x="953" y="2292"/>
                </a:lnTo>
                <a:lnTo>
                  <a:pt x="945" y="2239"/>
                </a:lnTo>
                <a:lnTo>
                  <a:pt x="939" y="2187"/>
                </a:lnTo>
                <a:lnTo>
                  <a:pt x="935" y="2135"/>
                </a:lnTo>
                <a:lnTo>
                  <a:pt x="934" y="2084"/>
                </a:lnTo>
                <a:lnTo>
                  <a:pt x="934" y="2055"/>
                </a:lnTo>
                <a:lnTo>
                  <a:pt x="935" y="2027"/>
                </a:lnTo>
                <a:lnTo>
                  <a:pt x="937" y="1998"/>
                </a:lnTo>
                <a:lnTo>
                  <a:pt x="940" y="1971"/>
                </a:lnTo>
                <a:lnTo>
                  <a:pt x="941" y="1969"/>
                </a:lnTo>
                <a:lnTo>
                  <a:pt x="941" y="1966"/>
                </a:lnTo>
                <a:lnTo>
                  <a:pt x="940" y="1961"/>
                </a:lnTo>
                <a:lnTo>
                  <a:pt x="939" y="1955"/>
                </a:lnTo>
                <a:lnTo>
                  <a:pt x="937" y="1950"/>
                </a:lnTo>
                <a:lnTo>
                  <a:pt x="934" y="1945"/>
                </a:lnTo>
                <a:lnTo>
                  <a:pt x="930" y="1941"/>
                </a:lnTo>
                <a:lnTo>
                  <a:pt x="926" y="1938"/>
                </a:lnTo>
                <a:lnTo>
                  <a:pt x="921" y="1935"/>
                </a:lnTo>
                <a:lnTo>
                  <a:pt x="916" y="1933"/>
                </a:lnTo>
                <a:lnTo>
                  <a:pt x="905" y="1929"/>
                </a:lnTo>
                <a:lnTo>
                  <a:pt x="878" y="1919"/>
                </a:lnTo>
                <a:lnTo>
                  <a:pt x="835" y="1902"/>
                </a:lnTo>
                <a:lnTo>
                  <a:pt x="781" y="1878"/>
                </a:lnTo>
                <a:lnTo>
                  <a:pt x="750" y="1864"/>
                </a:lnTo>
                <a:lnTo>
                  <a:pt x="718" y="1848"/>
                </a:lnTo>
                <a:lnTo>
                  <a:pt x="683" y="1830"/>
                </a:lnTo>
                <a:lnTo>
                  <a:pt x="647" y="1811"/>
                </a:lnTo>
                <a:lnTo>
                  <a:pt x="608" y="1790"/>
                </a:lnTo>
                <a:lnTo>
                  <a:pt x="571" y="1766"/>
                </a:lnTo>
                <a:lnTo>
                  <a:pt x="531" y="1743"/>
                </a:lnTo>
                <a:lnTo>
                  <a:pt x="493" y="1716"/>
                </a:lnTo>
                <a:lnTo>
                  <a:pt x="453" y="1688"/>
                </a:lnTo>
                <a:lnTo>
                  <a:pt x="415" y="1658"/>
                </a:lnTo>
                <a:lnTo>
                  <a:pt x="376" y="1626"/>
                </a:lnTo>
                <a:lnTo>
                  <a:pt x="339" y="1593"/>
                </a:lnTo>
                <a:lnTo>
                  <a:pt x="303" y="1558"/>
                </a:lnTo>
                <a:lnTo>
                  <a:pt x="268" y="1521"/>
                </a:lnTo>
                <a:lnTo>
                  <a:pt x="236" y="1482"/>
                </a:lnTo>
                <a:lnTo>
                  <a:pt x="206" y="1441"/>
                </a:lnTo>
                <a:lnTo>
                  <a:pt x="177" y="1399"/>
                </a:lnTo>
                <a:lnTo>
                  <a:pt x="153" y="1354"/>
                </a:lnTo>
                <a:lnTo>
                  <a:pt x="130" y="1309"/>
                </a:lnTo>
                <a:lnTo>
                  <a:pt x="112" y="1260"/>
                </a:lnTo>
                <a:lnTo>
                  <a:pt x="95" y="1211"/>
                </a:lnTo>
                <a:lnTo>
                  <a:pt x="84" y="1160"/>
                </a:lnTo>
                <a:lnTo>
                  <a:pt x="78" y="1105"/>
                </a:lnTo>
                <a:lnTo>
                  <a:pt x="76" y="1051"/>
                </a:lnTo>
                <a:lnTo>
                  <a:pt x="76" y="1039"/>
                </a:lnTo>
                <a:lnTo>
                  <a:pt x="76" y="1028"/>
                </a:lnTo>
                <a:lnTo>
                  <a:pt x="74" y="1008"/>
                </a:lnTo>
                <a:lnTo>
                  <a:pt x="73" y="988"/>
                </a:lnTo>
                <a:lnTo>
                  <a:pt x="72" y="966"/>
                </a:lnTo>
                <a:lnTo>
                  <a:pt x="72" y="945"/>
                </a:lnTo>
                <a:lnTo>
                  <a:pt x="72" y="912"/>
                </a:lnTo>
                <a:lnTo>
                  <a:pt x="74" y="879"/>
                </a:lnTo>
                <a:lnTo>
                  <a:pt x="78" y="848"/>
                </a:lnTo>
                <a:lnTo>
                  <a:pt x="83" y="821"/>
                </a:lnTo>
                <a:lnTo>
                  <a:pt x="87" y="807"/>
                </a:lnTo>
                <a:lnTo>
                  <a:pt x="90" y="795"/>
                </a:lnTo>
                <a:lnTo>
                  <a:pt x="95" y="784"/>
                </a:lnTo>
                <a:lnTo>
                  <a:pt x="100" y="774"/>
                </a:lnTo>
                <a:lnTo>
                  <a:pt x="105" y="765"/>
                </a:lnTo>
                <a:lnTo>
                  <a:pt x="112" y="758"/>
                </a:lnTo>
                <a:lnTo>
                  <a:pt x="119" y="751"/>
                </a:lnTo>
                <a:lnTo>
                  <a:pt x="126" y="748"/>
                </a:lnTo>
                <a:lnTo>
                  <a:pt x="134" y="745"/>
                </a:lnTo>
                <a:lnTo>
                  <a:pt x="146" y="744"/>
                </a:lnTo>
                <a:lnTo>
                  <a:pt x="154" y="744"/>
                </a:lnTo>
                <a:lnTo>
                  <a:pt x="162" y="747"/>
                </a:lnTo>
                <a:lnTo>
                  <a:pt x="172" y="749"/>
                </a:lnTo>
                <a:lnTo>
                  <a:pt x="184" y="753"/>
                </a:lnTo>
                <a:lnTo>
                  <a:pt x="196" y="759"/>
                </a:lnTo>
                <a:lnTo>
                  <a:pt x="211" y="766"/>
                </a:lnTo>
                <a:lnTo>
                  <a:pt x="226" y="776"/>
                </a:lnTo>
                <a:lnTo>
                  <a:pt x="242" y="787"/>
                </a:lnTo>
                <a:lnTo>
                  <a:pt x="261" y="802"/>
                </a:lnTo>
                <a:lnTo>
                  <a:pt x="280" y="818"/>
                </a:lnTo>
                <a:lnTo>
                  <a:pt x="302" y="838"/>
                </a:lnTo>
                <a:lnTo>
                  <a:pt x="325" y="861"/>
                </a:lnTo>
                <a:lnTo>
                  <a:pt x="330" y="866"/>
                </a:lnTo>
                <a:lnTo>
                  <a:pt x="336" y="868"/>
                </a:lnTo>
                <a:lnTo>
                  <a:pt x="342" y="871"/>
                </a:lnTo>
                <a:lnTo>
                  <a:pt x="350" y="871"/>
                </a:lnTo>
                <a:lnTo>
                  <a:pt x="356" y="871"/>
                </a:lnTo>
                <a:lnTo>
                  <a:pt x="362" y="868"/>
                </a:lnTo>
                <a:lnTo>
                  <a:pt x="369" y="866"/>
                </a:lnTo>
                <a:lnTo>
                  <a:pt x="375" y="861"/>
                </a:lnTo>
                <a:lnTo>
                  <a:pt x="380" y="856"/>
                </a:lnTo>
                <a:lnTo>
                  <a:pt x="382" y="850"/>
                </a:lnTo>
                <a:lnTo>
                  <a:pt x="385" y="843"/>
                </a:lnTo>
                <a:lnTo>
                  <a:pt x="386" y="836"/>
                </a:lnTo>
                <a:lnTo>
                  <a:pt x="385" y="830"/>
                </a:lnTo>
                <a:lnTo>
                  <a:pt x="383" y="823"/>
                </a:lnTo>
                <a:lnTo>
                  <a:pt x="380" y="816"/>
                </a:lnTo>
                <a:lnTo>
                  <a:pt x="376" y="811"/>
                </a:lnTo>
                <a:lnTo>
                  <a:pt x="355" y="789"/>
                </a:lnTo>
                <a:lnTo>
                  <a:pt x="335" y="766"/>
                </a:lnTo>
                <a:lnTo>
                  <a:pt x="316" y="743"/>
                </a:lnTo>
                <a:lnTo>
                  <a:pt x="298" y="719"/>
                </a:lnTo>
                <a:lnTo>
                  <a:pt x="280" y="696"/>
                </a:lnTo>
                <a:lnTo>
                  <a:pt x="263" y="673"/>
                </a:lnTo>
                <a:lnTo>
                  <a:pt x="248" y="650"/>
                </a:lnTo>
                <a:lnTo>
                  <a:pt x="234" y="627"/>
                </a:lnTo>
                <a:lnTo>
                  <a:pt x="222" y="606"/>
                </a:lnTo>
                <a:lnTo>
                  <a:pt x="212" y="586"/>
                </a:lnTo>
                <a:lnTo>
                  <a:pt x="203" y="567"/>
                </a:lnTo>
                <a:lnTo>
                  <a:pt x="196" y="549"/>
                </a:lnTo>
                <a:lnTo>
                  <a:pt x="192" y="534"/>
                </a:lnTo>
                <a:lnTo>
                  <a:pt x="190" y="519"/>
                </a:lnTo>
                <a:lnTo>
                  <a:pt x="190" y="515"/>
                </a:lnTo>
                <a:lnTo>
                  <a:pt x="191" y="508"/>
                </a:lnTo>
                <a:lnTo>
                  <a:pt x="192" y="503"/>
                </a:lnTo>
                <a:lnTo>
                  <a:pt x="195" y="500"/>
                </a:lnTo>
                <a:lnTo>
                  <a:pt x="198" y="495"/>
                </a:lnTo>
                <a:lnTo>
                  <a:pt x="206" y="490"/>
                </a:lnTo>
                <a:lnTo>
                  <a:pt x="212" y="487"/>
                </a:lnTo>
                <a:lnTo>
                  <a:pt x="221" y="485"/>
                </a:lnTo>
                <a:lnTo>
                  <a:pt x="231" y="484"/>
                </a:lnTo>
                <a:lnTo>
                  <a:pt x="243" y="482"/>
                </a:lnTo>
                <a:lnTo>
                  <a:pt x="258" y="481"/>
                </a:lnTo>
                <a:lnTo>
                  <a:pt x="275" y="482"/>
                </a:lnTo>
                <a:lnTo>
                  <a:pt x="295" y="484"/>
                </a:lnTo>
                <a:lnTo>
                  <a:pt x="319" y="487"/>
                </a:lnTo>
                <a:lnTo>
                  <a:pt x="345" y="492"/>
                </a:lnTo>
                <a:lnTo>
                  <a:pt x="375" y="498"/>
                </a:lnTo>
                <a:lnTo>
                  <a:pt x="408" y="507"/>
                </a:lnTo>
                <a:lnTo>
                  <a:pt x="447" y="517"/>
                </a:lnTo>
                <a:lnTo>
                  <a:pt x="447" y="517"/>
                </a:lnTo>
                <a:lnTo>
                  <a:pt x="448" y="518"/>
                </a:lnTo>
                <a:lnTo>
                  <a:pt x="449" y="518"/>
                </a:lnTo>
                <a:lnTo>
                  <a:pt x="455" y="519"/>
                </a:lnTo>
                <a:lnTo>
                  <a:pt x="463" y="518"/>
                </a:lnTo>
                <a:lnTo>
                  <a:pt x="469" y="517"/>
                </a:lnTo>
                <a:lnTo>
                  <a:pt x="475" y="513"/>
                </a:lnTo>
                <a:lnTo>
                  <a:pt x="480" y="510"/>
                </a:lnTo>
                <a:lnTo>
                  <a:pt x="485" y="505"/>
                </a:lnTo>
                <a:lnTo>
                  <a:pt x="489" y="498"/>
                </a:lnTo>
                <a:lnTo>
                  <a:pt x="492" y="492"/>
                </a:lnTo>
                <a:lnTo>
                  <a:pt x="492" y="487"/>
                </a:lnTo>
                <a:lnTo>
                  <a:pt x="493" y="484"/>
                </a:lnTo>
                <a:lnTo>
                  <a:pt x="492" y="477"/>
                </a:lnTo>
                <a:lnTo>
                  <a:pt x="490" y="472"/>
                </a:lnTo>
                <a:lnTo>
                  <a:pt x="488" y="467"/>
                </a:lnTo>
                <a:lnTo>
                  <a:pt x="485" y="462"/>
                </a:lnTo>
                <a:lnTo>
                  <a:pt x="482" y="457"/>
                </a:lnTo>
                <a:lnTo>
                  <a:pt x="477" y="454"/>
                </a:lnTo>
                <a:lnTo>
                  <a:pt x="472" y="451"/>
                </a:lnTo>
                <a:lnTo>
                  <a:pt x="467" y="449"/>
                </a:lnTo>
                <a:lnTo>
                  <a:pt x="464" y="449"/>
                </a:lnTo>
                <a:lnTo>
                  <a:pt x="462" y="449"/>
                </a:lnTo>
                <a:lnTo>
                  <a:pt x="463" y="449"/>
                </a:lnTo>
                <a:lnTo>
                  <a:pt x="464" y="449"/>
                </a:lnTo>
                <a:lnTo>
                  <a:pt x="455" y="446"/>
                </a:lnTo>
                <a:lnTo>
                  <a:pt x="434" y="440"/>
                </a:lnTo>
                <a:lnTo>
                  <a:pt x="405" y="431"/>
                </a:lnTo>
                <a:lnTo>
                  <a:pt x="370" y="417"/>
                </a:lnTo>
                <a:lnTo>
                  <a:pt x="350" y="408"/>
                </a:lnTo>
                <a:lnTo>
                  <a:pt x="331" y="398"/>
                </a:lnTo>
                <a:lnTo>
                  <a:pt x="313" y="387"/>
                </a:lnTo>
                <a:lnTo>
                  <a:pt x="295" y="374"/>
                </a:lnTo>
                <a:lnTo>
                  <a:pt x="278" y="361"/>
                </a:lnTo>
                <a:lnTo>
                  <a:pt x="263" y="346"/>
                </a:lnTo>
                <a:lnTo>
                  <a:pt x="256" y="337"/>
                </a:lnTo>
                <a:lnTo>
                  <a:pt x="249" y="330"/>
                </a:lnTo>
                <a:lnTo>
                  <a:pt x="244" y="321"/>
                </a:lnTo>
                <a:lnTo>
                  <a:pt x="239" y="311"/>
                </a:lnTo>
                <a:close/>
                <a:moveTo>
                  <a:pt x="1607" y="3641"/>
                </a:moveTo>
                <a:lnTo>
                  <a:pt x="1607" y="3641"/>
                </a:lnTo>
                <a:lnTo>
                  <a:pt x="1608" y="3647"/>
                </a:lnTo>
                <a:lnTo>
                  <a:pt x="1608" y="3653"/>
                </a:lnTo>
                <a:lnTo>
                  <a:pt x="1607" y="3647"/>
                </a:lnTo>
                <a:lnTo>
                  <a:pt x="1607" y="364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-573120" y="0"/>
            <a:ext cx="1093644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547640" y="1701720"/>
            <a:ext cx="6112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Xiaoling and Ben are at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hey see some people at the clinic(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医务室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). Who are these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"/>
          <p:cNvGrpSpPr/>
          <p:nvPr/>
        </p:nvGrpSpPr>
        <p:grpSpPr>
          <a:xfrm>
            <a:off x="0" y="1700280"/>
            <a:ext cx="4771440" cy="4249440"/>
            <a:chOff x="0" y="1700280"/>
            <a:chExt cx="4771440" cy="4249440"/>
          </a:xfrm>
        </p:grpSpPr>
        <p:pic>
          <p:nvPicPr>
            <p:cNvPr id="645" name="" descr=""/>
            <p:cNvPicPr/>
            <p:nvPr/>
          </p:nvPicPr>
          <p:blipFill>
            <a:blip r:embed="rId1"/>
            <a:srcRect l="0" t="17585" r="0" b="0"/>
            <a:stretch/>
          </p:blipFill>
          <p:spPr>
            <a:xfrm>
              <a:off x="3074040" y="1700280"/>
              <a:ext cx="1697400" cy="41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2"/>
            <a:srcRect l="0" t="22400" r="0" b="0"/>
            <a:stretch/>
          </p:blipFill>
          <p:spPr>
            <a:xfrm>
              <a:off x="0" y="1775880"/>
              <a:ext cx="3091320" cy="417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"/>
          <p:cNvSpPr/>
          <p:nvPr/>
        </p:nvSpPr>
        <p:spPr>
          <a:xfrm>
            <a:off x="0" y="0"/>
            <a:ext cx="4068720" cy="1270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Comic Sans MS"/>
              </a:rPr>
              <a:t>Look and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716360" y="1341360"/>
            <a:ext cx="43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ow many people are there in the pi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788000" y="3860640"/>
            <a:ext cx="417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 Look at the lady with glasses. What's her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88000" y="299736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 are s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788000" y="537372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e is a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4500720" y="981000"/>
            <a:ext cx="47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 Look at the man with glasses. Do you know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72000" y="3789360"/>
            <a:ext cx="42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 Look at the man in a white hat. What is his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0" y="263700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es , I do. He is a do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45080" y="55180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 looks like a c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-36360" y="1341360"/>
            <a:ext cx="4688640" cy="4178160"/>
            <a:chOff x="-36360" y="1341360"/>
            <a:chExt cx="4688640" cy="4178160"/>
          </a:xfrm>
        </p:grpSpPr>
        <p:pic>
          <p:nvPicPr>
            <p:cNvPr id="657" name="" descr=""/>
            <p:cNvPicPr/>
            <p:nvPr/>
          </p:nvPicPr>
          <p:blipFill>
            <a:blip r:embed="rId1"/>
            <a:srcRect l="0" t="17585" r="0" b="0"/>
            <a:stretch/>
          </p:blipFill>
          <p:spPr>
            <a:xfrm>
              <a:off x="2984400" y="1341360"/>
              <a:ext cx="1667880" cy="412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2"/>
            <a:srcRect l="0" t="22400" r="0" b="0"/>
            <a:stretch/>
          </p:blipFill>
          <p:spPr>
            <a:xfrm>
              <a:off x="-36360" y="1415520"/>
              <a:ext cx="3037680" cy="410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"/>
          <p:cNvSpPr/>
          <p:nvPr/>
        </p:nvSpPr>
        <p:spPr>
          <a:xfrm>
            <a:off x="0" y="0"/>
            <a:ext cx="3924360" cy="11970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66ff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Comic Sans MS"/>
              </a:rPr>
              <a:t>Look and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476360" y="1917720"/>
            <a:ext cx="6264360" cy="3384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66ff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Comic Sans MS"/>
              </a:rPr>
              <a:t>Let’s practic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27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T or F</a:t>
            </a:r>
            <a:endParaRPr b="1" lang="en-US" sz="48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80720" y="98100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5440" indent="0" algn="just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幼圆"/>
                <a:ea typeface="Arial"/>
              </a:rPr>
              <a:t>(   ) 1 The man with glasses is a cook.</a:t>
            </a:r>
            <a:endParaRPr b="0" lang="en-US" sz="2800" spc="-1" strike="noStrike">
              <a:solidFill>
                <a:srgbClr val="01b288"/>
              </a:solidFill>
              <a:latin typeface="幼圆"/>
            </a:endParaRPr>
          </a:p>
          <a:p>
            <a:pPr marL="325440" indent="0" algn="just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marL="325440" indent="0" algn="just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幼圆"/>
                <a:ea typeface="Arial"/>
              </a:rPr>
              <a:t>(   ) 2 The lady with glasses is a teacher.</a:t>
            </a:r>
            <a:endParaRPr b="0" lang="en-US" sz="2800" spc="-1" strike="noStrike">
              <a:solidFill>
                <a:srgbClr val="01b288"/>
              </a:solidFill>
              <a:latin typeface="幼圆"/>
            </a:endParaRPr>
          </a:p>
          <a:p>
            <a:pPr marL="325440" indent="0" algn="just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marL="325440" indent="0" algn="just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幼圆"/>
                <a:ea typeface="Arial"/>
              </a:rPr>
              <a:t>(  ) 3 The lady in a white dress has a bag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幼圆"/>
                <a:ea typeface="Arial"/>
              </a:rPr>
              <a:t>beside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幼圆"/>
                <a:ea typeface="Arial"/>
              </a:rPr>
              <a:t>her.</a:t>
            </a:r>
            <a:endParaRPr b="0" lang="en-US" sz="2800" spc="-1" strike="noStrike">
              <a:solidFill>
                <a:srgbClr val="01b288"/>
              </a:solidFill>
              <a:latin typeface="幼圆"/>
            </a:endParaRPr>
          </a:p>
          <a:p>
            <a:pPr marL="325440" indent="0" algn="just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marL="325440" indent="0" algn="just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幼圆"/>
                <a:ea typeface="Arial"/>
              </a:rPr>
              <a:t>(   ) 4 The lady in purple is Janet’s teacher.</a:t>
            </a:r>
            <a:endParaRPr b="0" lang="en-US" sz="2800" spc="-1" strike="noStrike">
              <a:solidFill>
                <a:srgbClr val="01b288"/>
              </a:solidFill>
              <a:latin typeface="幼圆"/>
            </a:endParaRPr>
          </a:p>
          <a:p>
            <a:pPr marL="325440" indent="0" algn="just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marL="325440" indent="0" algn="just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幼圆"/>
                <a:ea typeface="Arial"/>
              </a:rPr>
              <a:t>(  ) 5 The man in a white hat looks like a cook.</a:t>
            </a:r>
            <a:endParaRPr b="0" lang="en-US" sz="2800" spc="-1" strike="noStrike">
              <a:solidFill>
                <a:srgbClr val="01b288"/>
              </a:solidFill>
              <a:latin typeface="幼圆"/>
            </a:endParaRPr>
          </a:p>
          <a:p>
            <a:pPr marL="325440"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63" name=""/>
          <p:cNvSpPr/>
          <p:nvPr/>
        </p:nvSpPr>
        <p:spPr>
          <a:xfrm>
            <a:off x="611280" y="10526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39640" y="2060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1280" y="2997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39640" y="44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53737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64000" y="765000"/>
            <a:ext cx="1818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6986"/>
              <a:gd name="adj5" fmla="val 129074"/>
              <a:gd name="adj6" fmla="val -54935"/>
            </a:avLst>
          </a:prstGeom>
          <a:solidFill>
            <a:srgbClr val="ffff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 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076720" y="2637000"/>
            <a:ext cx="1873440" cy="358560"/>
          </a:xfrm>
          <a:prstGeom prst="borderCallout2">
            <a:avLst>
              <a:gd name="adj1" fmla="val 18750"/>
              <a:gd name="adj2" fmla="val -8333"/>
              <a:gd name="adj3" fmla="val 31856"/>
              <a:gd name="adj4" fmla="val -33476"/>
              <a:gd name="adj5" fmla="val 134513"/>
              <a:gd name="adj6" fmla="val -63726"/>
            </a:avLst>
          </a:prstGeom>
          <a:solidFill>
            <a:srgbClr val="ffff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th g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-36360" y="188640"/>
            <a:ext cx="525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Fill in  the blanks:</a:t>
            </a:r>
            <a:endParaRPr b="1" lang="en-US" sz="40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-36360" y="83628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7040" indent="0" algn="just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Comic Sans MS"/>
              </a:rPr>
              <a:t>Who’s that woman?</a:t>
            </a:r>
            <a:endParaRPr b="0" lang="en-US" sz="2800" spc="-1" strike="noStrike">
              <a:solidFill>
                <a:srgbClr val="01b288"/>
              </a:solidFill>
              <a:latin typeface="幼圆"/>
            </a:endParaRPr>
          </a:p>
          <a:p>
            <a:pPr marL="347040" indent="0" algn="just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Comic Sans MS"/>
              </a:rPr>
              <a:t>________ (What, Which) woman?</a:t>
            </a:r>
            <a:endParaRPr b="0" lang="en-US" sz="2800" spc="-1" strike="noStrike">
              <a:solidFill>
                <a:srgbClr val="01b288"/>
              </a:solidFill>
              <a:latin typeface="幼圆"/>
            </a:endParaRPr>
          </a:p>
          <a:p>
            <a:pPr marL="347040" indent="0" algn="just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Comic Sans MS"/>
              </a:rPr>
              <a:t>The one _______(with, has) glasses. She_______(has, have) a bag beside her.</a:t>
            </a:r>
            <a:endParaRPr b="0" lang="en-US" sz="2800" spc="-1" strike="noStrike">
              <a:solidFill>
                <a:srgbClr val="01b288"/>
              </a:solidFill>
              <a:latin typeface="幼圆"/>
            </a:endParaRPr>
          </a:p>
          <a:p>
            <a:pPr marL="347040" indent="0" algn="just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Comic Sans MS"/>
              </a:rPr>
              <a:t>She’s Miss Liu, our  teacher.</a:t>
            </a:r>
            <a:endParaRPr b="0" lang="en-US" sz="2800" spc="-1" strike="noStrike">
              <a:solidFill>
                <a:srgbClr val="01b288"/>
              </a:solidFill>
              <a:latin typeface="幼圆"/>
            </a:endParaRPr>
          </a:p>
          <a:p>
            <a:pPr marL="347040" indent="0" algn="just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Comic Sans MS"/>
              </a:rPr>
              <a:t>And that man _______(on, in) a white hat? Can you see ______(he, him)?</a:t>
            </a:r>
            <a:endParaRPr b="0" lang="en-US" sz="2800" spc="-1" strike="noStrike">
              <a:solidFill>
                <a:srgbClr val="01b288"/>
              </a:solidFill>
              <a:latin typeface="幼圆"/>
            </a:endParaRPr>
          </a:p>
          <a:p>
            <a:pPr marL="347040" indent="0" algn="just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Comic Sans MS"/>
              </a:rPr>
              <a:t>Yes. But I don’t know him. He ____(look, looks) like a cook.</a:t>
            </a:r>
            <a:endParaRPr b="0" lang="en-US" sz="28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72" name=""/>
          <p:cNvSpPr/>
          <p:nvPr/>
        </p:nvSpPr>
        <p:spPr>
          <a:xfrm>
            <a:off x="3276720" y="1628640"/>
            <a:ext cx="1282680" cy="561960"/>
          </a:xfrm>
          <a:prstGeom prst="donut">
            <a:avLst>
              <a:gd name="adj" fmla="val 3898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284720" y="2276640"/>
            <a:ext cx="936720" cy="515880"/>
          </a:xfrm>
          <a:prstGeom prst="donut">
            <a:avLst>
              <a:gd name="adj" fmla="val 3898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411280" y="2997360"/>
            <a:ext cx="1152720" cy="563400"/>
          </a:xfrm>
          <a:prstGeom prst="donut">
            <a:avLst>
              <a:gd name="adj" fmla="val 3898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788000" y="4221000"/>
            <a:ext cx="753840" cy="561960"/>
          </a:xfrm>
          <a:prstGeom prst="donut">
            <a:avLst>
              <a:gd name="adj" fmla="val 3898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59280" y="4869000"/>
            <a:ext cx="942840" cy="420480"/>
          </a:xfrm>
          <a:prstGeom prst="donut">
            <a:avLst>
              <a:gd name="adj" fmla="val 3898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524720" y="5445000"/>
            <a:ext cx="1079640" cy="561960"/>
          </a:xfrm>
          <a:prstGeom prst="donut">
            <a:avLst>
              <a:gd name="adj" fmla="val 3898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2"/>
          <p:cNvSpPr/>
          <p:nvPr/>
        </p:nvSpPr>
        <p:spPr>
          <a:xfrm>
            <a:off x="1044720" y="1270080"/>
            <a:ext cx="73152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Unit 1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He looks like a coo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课件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0" y="981000"/>
            <a:ext cx="9072360" cy="5877000"/>
            <a:chOff x="0" y="981000"/>
            <a:chExt cx="9072360" cy="5877000"/>
          </a:xfrm>
        </p:grpSpPr>
        <p:pic>
          <p:nvPicPr>
            <p:cNvPr id="680" name="" descr=""/>
            <p:cNvPicPr/>
            <p:nvPr/>
          </p:nvPicPr>
          <p:blipFill>
            <a:blip r:embed="rId1"/>
            <a:stretch/>
          </p:blipFill>
          <p:spPr>
            <a:xfrm>
              <a:off x="5843880" y="981000"/>
              <a:ext cx="3228480" cy="572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0" y="981000"/>
              <a:ext cx="5866200" cy="5877000"/>
              <a:chOff x="0" y="981000"/>
              <a:chExt cx="5866200" cy="5877000"/>
            </a:xfrm>
          </p:grpSpPr>
          <p:pic>
            <p:nvPicPr>
              <p:cNvPr id="6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81000"/>
                <a:ext cx="5866200" cy="5877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83" name=""/>
          <p:cNvSpPr/>
          <p:nvPr/>
        </p:nvSpPr>
        <p:spPr>
          <a:xfrm>
            <a:off x="0" y="0"/>
            <a:ext cx="3564000" cy="1052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Let’s rec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1300320"/>
            <a:ext cx="3432240" cy="609480"/>
          </a:xfrm>
          <a:prstGeom prst="wedgeRoundRectCallout">
            <a:avLst>
              <a:gd name="adj1" fmla="val -28259"/>
              <a:gd name="adj2" fmla="val 369532"/>
              <a:gd name="adj3" fmla="val 16667"/>
            </a:avLst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ho’s the wo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197320" y="2840040"/>
            <a:ext cx="1797120" cy="1846440"/>
          </a:xfrm>
          <a:prstGeom prst="donut">
            <a:avLst>
              <a:gd name="adj" fmla="val 389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637160" y="4830840"/>
            <a:ext cx="2693880" cy="560160"/>
          </a:xfrm>
          <a:prstGeom prst="wedgeRoundRectCallout">
            <a:avLst>
              <a:gd name="adj1" fmla="val -72157"/>
              <a:gd name="adj2" fmla="val -80027"/>
              <a:gd name="adj3" fmla="val 16667"/>
            </a:avLst>
          </a:prstGeom>
          <a:solidFill>
            <a:srgbClr val="ffffff"/>
          </a:solidFill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hich wom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43120" y="2128680"/>
            <a:ext cx="4906800" cy="979560"/>
          </a:xfrm>
          <a:prstGeom prst="wedgeRoundRectCallout">
            <a:avLst>
              <a:gd name="adj1" fmla="val -33791"/>
              <a:gd name="adj2" fmla="val 117745"/>
              <a:gd name="adj3" fmla="val 16667"/>
            </a:avLst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 one with glasses. She has a bag beside 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951360" y="5559480"/>
            <a:ext cx="4968720" cy="639720"/>
          </a:xfrm>
          <a:prstGeom prst="wedgeRoundRectCallout">
            <a:avLst>
              <a:gd name="adj1" fmla="val -56518"/>
              <a:gd name="adj2" fmla="val -51490"/>
              <a:gd name="adj3" fmla="val 16667"/>
            </a:avLst>
          </a:prstGeom>
          <a:solidFill>
            <a:srgbClr val="ffffff"/>
          </a:solidFill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he is Miss Liu, our teac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5683320" y="1596960"/>
            <a:ext cx="9302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4798E-006 C -0.01511 -0.15908 -0.03004 -0.31815 0.01215 -0.36925 C 0.05434 -0.42035 0.22222 -0.38312 0.2526 -0.30613 C 0.28298 -0.22913 0.19462 0.01272 0.19462 0.09341 C 0.19462 0.1741 0.24062 0.18451 0.2526 0.17757 C 0.26458 0.17064 0.27725 0.07977 0.26666 0.05133 C 0.25607 0.02289 0.18906 0.02289 0.18941 0.00694 C 0.18975 -0.00902 0.26753 -0.08879 0.2684 -0.04439 C 0.26927 -2.94798000000096E-006 0.19045 0.22775 0.19462 0.27329 C 0.19878 0.31884 0.32066 0.26012 0.29288 0.2289 C 0.2651 0.19769 0.07969 0.09503 0.02795 0.08647 C -0.02379 0.07792 -0.01545 0.19399 -0.01771 0.17757 C -0.01997 0.16116 -0.00313 0.07468 0.01389 -0.01179 E">
                                      <p:cBhvr>
                                        <p:cTn id="219" dur="3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0" y="981000"/>
            <a:ext cx="9072360" cy="5877000"/>
            <a:chOff x="0" y="981000"/>
            <a:chExt cx="9072360" cy="5877000"/>
          </a:xfrm>
        </p:grpSpPr>
        <p:pic>
          <p:nvPicPr>
            <p:cNvPr id="692" name="" descr=""/>
            <p:cNvPicPr/>
            <p:nvPr/>
          </p:nvPicPr>
          <p:blipFill>
            <a:blip r:embed="rId1"/>
            <a:stretch/>
          </p:blipFill>
          <p:spPr>
            <a:xfrm>
              <a:off x="5843880" y="981000"/>
              <a:ext cx="3228480" cy="572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3" name=""/>
            <p:cNvGrpSpPr/>
            <p:nvPr/>
          </p:nvGrpSpPr>
          <p:grpSpPr>
            <a:xfrm>
              <a:off x="0" y="981000"/>
              <a:ext cx="5866200" cy="5877000"/>
              <a:chOff x="0" y="981000"/>
              <a:chExt cx="5866200" cy="5877000"/>
            </a:xfrm>
          </p:grpSpPr>
          <p:pic>
            <p:nvPicPr>
              <p:cNvPr id="69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81000"/>
                <a:ext cx="5866200" cy="5877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5" name=""/>
          <p:cNvSpPr/>
          <p:nvPr/>
        </p:nvSpPr>
        <p:spPr>
          <a:xfrm>
            <a:off x="0" y="0"/>
            <a:ext cx="3564000" cy="1052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Let’s rec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04920" y="1523880"/>
            <a:ext cx="4795560" cy="1043280"/>
          </a:xfrm>
          <a:prstGeom prst="wedgeRoundRectCallout">
            <a:avLst>
              <a:gd name="adj1" fmla="val -34111"/>
              <a:gd name="adj2" fmla="val 170546"/>
              <a:gd name="adj3" fmla="val 16667"/>
            </a:avLst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nd that man in a white hat? Can you see h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668840" y="2278080"/>
            <a:ext cx="1460520" cy="1365120"/>
          </a:xfrm>
          <a:prstGeom prst="donut">
            <a:avLst>
              <a:gd name="adj" fmla="val 389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3"/>
          <a:stretch/>
        </p:blipFill>
        <p:spPr>
          <a:xfrm>
            <a:off x="5057640" y="1531800"/>
            <a:ext cx="930240" cy="12398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4094280" y="5479920"/>
            <a:ext cx="4857480" cy="1073160"/>
          </a:xfrm>
          <a:prstGeom prst="wedgeRoundRectCallout">
            <a:avLst>
              <a:gd name="adj1" fmla="val -54018"/>
              <a:gd name="adj2" fmla="val -73375"/>
              <a:gd name="adj3" fmla="val 16667"/>
            </a:avLst>
          </a:prstGeom>
          <a:solidFill>
            <a:srgbClr val="ffffff"/>
          </a:solidFill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Yes. But I don’t know him. He looks like a coo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0" y="981000"/>
            <a:ext cx="9072360" cy="5877000"/>
            <a:chOff x="0" y="981000"/>
            <a:chExt cx="9072360" cy="5877000"/>
          </a:xfrm>
        </p:grpSpPr>
        <p:pic>
          <p:nvPicPr>
            <p:cNvPr id="702" name="" descr=""/>
            <p:cNvPicPr/>
            <p:nvPr/>
          </p:nvPicPr>
          <p:blipFill>
            <a:blip r:embed="rId1"/>
            <a:stretch/>
          </p:blipFill>
          <p:spPr>
            <a:xfrm>
              <a:off x="5843880" y="981000"/>
              <a:ext cx="3228480" cy="572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3" name=""/>
            <p:cNvGrpSpPr/>
            <p:nvPr/>
          </p:nvGrpSpPr>
          <p:grpSpPr>
            <a:xfrm>
              <a:off x="0" y="981000"/>
              <a:ext cx="5866200" cy="5877000"/>
              <a:chOff x="0" y="981000"/>
              <a:chExt cx="5866200" cy="5877000"/>
            </a:xfrm>
          </p:grpSpPr>
          <p:pic>
            <p:nvPicPr>
              <p:cNvPr id="7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81000"/>
                <a:ext cx="5866200" cy="5877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05" name=""/>
          <p:cNvSpPr/>
          <p:nvPr/>
        </p:nvSpPr>
        <p:spPr>
          <a:xfrm>
            <a:off x="0" y="0"/>
            <a:ext cx="3564000" cy="1052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Let’s t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1989000"/>
            <a:ext cx="5977080" cy="505080"/>
          </a:xfrm>
          <a:prstGeom prst="wedgeRoundRectCallout">
            <a:avLst>
              <a:gd name="adj1" fmla="val 45564"/>
              <a:gd name="adj2" fmla="val 389310"/>
              <a:gd name="adj3" fmla="val 16667"/>
            </a:avLst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9c9f"/>
                </a:solidFill>
                <a:latin typeface="Comic Sans MS"/>
              </a:rPr>
              <a:t>The lady ______ is a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403280" y="836640"/>
            <a:ext cx="5977080" cy="504720"/>
          </a:xfrm>
          <a:prstGeom prst="wedgeRoundRectCallout">
            <a:avLst>
              <a:gd name="adj1" fmla="val 37939"/>
              <a:gd name="adj2" fmla="val 405032"/>
              <a:gd name="adj3" fmla="val 16667"/>
            </a:avLst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9c9f"/>
                </a:solidFill>
                <a:latin typeface="Comic Sans MS"/>
              </a:rPr>
              <a:t>The man ______ is a do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851280" y="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84360" y="2708280"/>
            <a:ext cx="5976720" cy="504720"/>
          </a:xfrm>
          <a:prstGeom prst="wedgeRoundRectCallout">
            <a:avLst>
              <a:gd name="adj1" fmla="val -19347"/>
              <a:gd name="adj2" fmla="val 399370"/>
              <a:gd name="adj3" fmla="val 16667"/>
            </a:avLst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9c9f"/>
                </a:solidFill>
                <a:latin typeface="Comic Sans MS"/>
              </a:rPr>
              <a:t>The boy ______ is 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476360" y="2708280"/>
            <a:ext cx="5977080" cy="504720"/>
          </a:xfrm>
          <a:prstGeom prst="wedgeRoundRectCallout">
            <a:avLst>
              <a:gd name="adj1" fmla="val 51087"/>
              <a:gd name="adj2" fmla="val 261949"/>
              <a:gd name="adj3" fmla="val 16667"/>
            </a:avLst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9c9f"/>
                </a:solidFill>
                <a:latin typeface="Comic Sans MS"/>
              </a:rPr>
              <a:t>The lady ______ is a nu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1197000"/>
            <a:ext cx="7596360" cy="504720"/>
          </a:xfrm>
          <a:prstGeom prst="wedgeRoundRectCallout">
            <a:avLst>
              <a:gd name="adj1" fmla="val 16708"/>
              <a:gd name="adj2" fmla="val 484277"/>
              <a:gd name="adj3" fmla="val 16667"/>
            </a:avLst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9c9f"/>
                </a:solidFill>
                <a:latin typeface="Comic Sans MS"/>
              </a:rPr>
              <a:t>The man ______ looks like a c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79280" y="1268280"/>
            <a:ext cx="54212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zh-CN" sz="7200" spc="-1" strike="noStrike">
                <a:solidFill>
                  <a:srgbClr val="018666"/>
                </a:solidFill>
                <a:latin typeface="微软雅黑"/>
                <a:ea typeface="微软雅黑"/>
              </a:rPr>
              <a:t>Thank you!</a:t>
            </a:r>
            <a:endParaRPr b="1" lang="en-US" sz="7200" spc="-1" strike="noStrike">
              <a:solidFill>
                <a:srgbClr val="018666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765000"/>
            <a:ext cx="8316720" cy="100836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9c9f"/>
                </a:solidFill>
                <a:latin typeface="Comic Sans MS"/>
              </a:rPr>
              <a:t>She looks like a farm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 rot="21300000">
            <a:off x="2268000" y="2364840"/>
            <a:ext cx="503100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620640"/>
            <a:ext cx="8317080" cy="1008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9c9f"/>
                </a:solidFill>
                <a:latin typeface="Comic Sans MS"/>
              </a:rPr>
              <a:t>She looks like a farmer.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But</a:t>
            </a:r>
            <a:r>
              <a:rPr b="1" lang="en-US" sz="2800" spc="-1" strike="noStrike">
                <a:solidFill>
                  <a:srgbClr val="2d9c9f"/>
                </a:solidFill>
                <a:latin typeface="Comic Sans MS"/>
              </a:rPr>
              <a:t> she is a pai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 rot="21300000">
            <a:off x="971640" y="2636640"/>
            <a:ext cx="3541680" cy="2914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 rot="360000">
            <a:off x="4571640" y="2781000"/>
            <a:ext cx="360036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03280" y="1486080"/>
            <a:ext cx="6553440" cy="35272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38160">
            <a:solidFill>
              <a:srgbClr val="66ff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cc00"/>
                </a:solidFill>
                <a:latin typeface="Comic Sans MS"/>
              </a:rPr>
              <a:t>Let’s gues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4720" y="1701720"/>
            <a:ext cx="6765840" cy="252108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9c9f"/>
                </a:solidFill>
                <a:latin typeface="Comic Sans MS"/>
              </a:rPr>
              <a:t>He looks like a 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9c9f"/>
                </a:solidFill>
                <a:latin typeface="Comic Sans MS"/>
              </a:rPr>
              <a:t>She looks like a 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4797360"/>
            <a:ext cx="2016360" cy="69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9c9f"/>
                </a:solidFill>
                <a:latin typeface="Comic Sans MS"/>
              </a:rPr>
              <a:t>pa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5950080"/>
            <a:ext cx="2016000" cy="69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9c9f"/>
                </a:solidFill>
                <a:latin typeface="Comic Sans MS"/>
              </a:rPr>
              <a:t>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797360"/>
            <a:ext cx="2016000" cy="69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9c9f"/>
                </a:solidFill>
                <a:latin typeface="Comic Sans MS"/>
              </a:rPr>
              <a:t>police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941720"/>
            <a:ext cx="2016360" cy="69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9c9f"/>
                </a:solidFill>
                <a:latin typeface="Comic Sans MS"/>
              </a:rPr>
              <a:t>wr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4508640"/>
            <a:ext cx="2016360" cy="69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9c9f"/>
                </a:solidFill>
                <a:latin typeface="Comic Sans MS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32720" y="5950080"/>
            <a:ext cx="2016000" cy="69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9c9f"/>
                </a:solidFill>
                <a:latin typeface="Comic Sans MS"/>
              </a:rPr>
              <a:t>n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6159600"/>
            <a:ext cx="2016360" cy="69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9c9f"/>
                </a:solidFill>
                <a:latin typeface="Comic Sans MS"/>
              </a:rPr>
              <a:t>c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64000" y="5589720"/>
            <a:ext cx="2016360" cy="69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9c9f"/>
                </a:solidFill>
                <a:latin typeface="Comic Sans MS"/>
              </a:rPr>
              <a:t>PE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5589720"/>
            <a:ext cx="2016360" cy="69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9c9f"/>
                </a:solidFill>
                <a:latin typeface="Comic Sans MS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37810" r="0" b="213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39760" y="1233360"/>
            <a:ext cx="5019840" cy="1589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2520" y="3247920"/>
            <a:ext cx="3641760" cy="3129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05000" y="136368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ook at the m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ook at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im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ooks like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a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527280" y="3630600"/>
            <a:ext cx="1587600" cy="2212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rcRect l="0" t="7089" r="0" b="6141"/>
          <a:stretch/>
        </p:blipFill>
        <p:spPr>
          <a:xfrm>
            <a:off x="3736800" y="3610080"/>
            <a:ext cx="3192480" cy="225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067280" y="2060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37810" r="0" b="213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39760" y="1233360"/>
            <a:ext cx="5019840" cy="1589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2520" y="3247920"/>
            <a:ext cx="3641760" cy="3129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05000" y="1363680"/>
            <a:ext cx="516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ook at the m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ook at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im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ooks like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a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0" t="3528" r="0" b="4365"/>
          <a:stretch/>
        </p:blipFill>
        <p:spPr>
          <a:xfrm>
            <a:off x="4429080" y="3463920"/>
            <a:ext cx="1558800" cy="2803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651640" y="3429000"/>
            <a:ext cx="62388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7280" y="22050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lice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0" t="37810" r="0" b="213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39760" y="1233360"/>
            <a:ext cx="5019840" cy="1589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2520" y="3247920"/>
            <a:ext cx="3641760" cy="3129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05000" y="1363680"/>
            <a:ext cx="540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ook at the m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ook at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im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ooks like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a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475160" y="3409920"/>
            <a:ext cx="2062080" cy="2673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427640" y="3284640"/>
            <a:ext cx="614160" cy="16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67280" y="21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r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6:08:54Z</dcterms:created>
  <dc:creator>LLH</dc:creator>
  <dc:description/>
  <cp:keywords/>
  <dc:language>en-US</dc:language>
  <cp:lastModifiedBy>Windows 用户</cp:lastModifiedBy>
  <dcterms:modified xsi:type="dcterms:W3CDTF">2015-05-31T05:30:01Z</dcterms:modified>
  <cp:revision>5</cp:revision>
  <dc:subject/>
  <dc:title>U1第2课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