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74C-CE47-4043-8237-34683460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70596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50960" y="4082760"/>
            <a:ext cx="70596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09B-E58A-42AE-B387-4BED5FB6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5096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60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533-FEE7-47FF-8AC5-4E116CEA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8120" y="147312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280" y="147312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50960" y="408276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8120" y="408276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280" y="408276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976-02FE-4BB0-9AA8-0FABBBFA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1849-3F1E-46AF-9E5F-EBB47A37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50960" y="1473120"/>
            <a:ext cx="7059600" cy="499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CF7B-865E-4880-83D3-9FB82BE1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70596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720E-D0E0-4F5C-ABB0-FA46F1C2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1254-19CB-4513-97FC-CF570346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040E-482F-4F6B-B9D5-AE604282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36560" y="200160"/>
            <a:ext cx="79740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8C55-DC7B-4FAC-A9DC-4F569EB6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5096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84C8-D6D2-4886-B4F2-7806FA97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50960" y="1473120"/>
            <a:ext cx="7059600" cy="499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7BE-D460-490A-8F19-C765F373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6860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C3E7-AE09-443B-B86D-7F25EBE2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50960" y="4082760"/>
            <a:ext cx="70596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2788-7720-4E22-AC4B-467204CE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70596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50960" y="4082760"/>
            <a:ext cx="70596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300F-32A7-4AF5-8EAD-CF52F9EC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5096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6860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BEDA-F051-4E44-AC0B-E6DA21A7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38120" y="147312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25280" y="147312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50960" y="408276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38120" y="408276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25280" y="408276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5A12-1B7C-450F-8E88-DC2D77A1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7D83A-95F0-43D4-BF1A-35AAE4EB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50960" y="1473120"/>
            <a:ext cx="7059600" cy="499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6FD8-C43E-4FF5-B35C-25B644FF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70596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EDE6-90F7-441D-8AD0-493FA005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B0D4-5D46-403E-AC82-55303DF0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81B1-7419-47AF-9DEC-AA0341BB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70596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3BE-C58F-4C1C-B681-BE5B9730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36560" y="200160"/>
            <a:ext cx="79740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10B5-16DB-45B8-BE5F-D13B28D2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65096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728B-169E-4FB2-96D9-54C4B1B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6860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600F-B703-405E-A4AA-198D66A1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650960" y="4082760"/>
            <a:ext cx="70596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F6C6B-F466-448E-960A-E71A4286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70596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650960" y="4082760"/>
            <a:ext cx="70596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B6D5-7FC4-4E28-A23C-8DF4B57F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65096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6860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8AE6-1623-480D-9C88-A489A8AA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38120" y="147312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5280" y="147312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650960" y="408276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38120" y="408276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5280" y="4082760"/>
            <a:ext cx="22730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DB9D-E12D-4826-AEA1-B1BE7E15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5D7-E745-4E40-988C-39E3E2AB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C6F-E1CE-4567-8879-8C407DC2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6560" y="200160"/>
            <a:ext cx="79740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3D8-A950-4844-8090-C7EE7C61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5096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882-F684-4A61-8CB7-ED454840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600" y="408276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275-8A8A-44AD-9852-54DB2489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5096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600" y="1473120"/>
            <a:ext cx="344484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50960" y="4082760"/>
            <a:ext cx="70596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79C-C35C-4302-9BBA-A77DF91A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9B9D-FB26-41BB-8B46-910550BE47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6AAF-2863-4669-9A57-D84DDFF51A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"/>
          <p:cNvPicPr/>
          <p:nvPr/>
        </p:nvPicPr>
        <p:blipFill>
          <a:blip r:embed="rId3"/>
          <a:srcRect l="0" t="0" r="2350" b="23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E8B8-4F25-4D06-96CC-A0ED32E9A9DE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4080-1AAD-48C8-B344-3BACD3271B4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93c8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1650960" y="1473120"/>
            <a:ext cx="70596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47b6e7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a1bbe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3"/>
          <a:srcRect l="0" t="0" r="2835" b="28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6560" y="200160"/>
            <a:ext cx="79740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93c8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1a93c8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650960" y="1473120"/>
            <a:ext cx="70596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47b6e7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a1bbe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b6e7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47b6e7"/>
              </a:solidFill>
              <a:latin typeface="幼圆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1E14-0FA1-4706-93E7-E6188F7AEF18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831C-9E1E-41E9-9C6E-7E4845B396F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28720" y="1630440"/>
            <a:ext cx="7559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微软雅黑"/>
              </a:rPr>
              <a:t>Module 2 </a:t>
            </a:r>
            <a:br>
              <a:rPr sz="6000"/>
            </a:b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微软雅黑"/>
              </a:rPr>
              <a:t>Daily rout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260360" y="692280"/>
            <a:ext cx="61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i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累的、疲倦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260360" y="5229360"/>
            <a:ext cx="61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 am so t</a:t>
            </a: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i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981080" y="1790640"/>
            <a:ext cx="40309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79280" y="26028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t’s time </a:t>
            </a: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是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…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的时候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24000" y="4535640"/>
            <a:ext cx="680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t’s time to </a:t>
            </a:r>
            <a:r>
              <a:rPr b="0" lang="zh-CN" sz="4000" spc="-1" strike="noStrike" u="sng">
                <a:solidFill>
                  <a:srgbClr val="ff33cc"/>
                </a:solidFill>
                <a:uFillTx/>
                <a:latin typeface="Comic Sans MS"/>
              </a:rPr>
              <a:t>（动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24000" y="3141720"/>
            <a:ext cx="74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It’s time </a:t>
            </a: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zh-CN" sz="4000" spc="-1" strike="noStrike" u="sng">
                <a:solidFill>
                  <a:srgbClr val="ff0066"/>
                </a:solidFill>
                <a:uFillTx/>
                <a:latin typeface="Comic Sans MS"/>
              </a:rPr>
              <a:t>（名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68360" y="4941720"/>
            <a:ext cx="539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’s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 eight o’clock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5765760"/>
            <a:ext cx="56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time for clas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5148360" y="457200"/>
            <a:ext cx="3465360" cy="3598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468360" y="367524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1260360" y="457200"/>
            <a:ext cx="3025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24000" y="481824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’s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 a quarter to twelve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68360" y="5589720"/>
            <a:ext cx="86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time for </a:t>
            </a: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lunch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（午餐）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rcRect l="0" t="0" r="0" b="7306"/>
          <a:stretch/>
        </p:blipFill>
        <p:spPr>
          <a:xfrm>
            <a:off x="6411960" y="407880"/>
            <a:ext cx="2628720" cy="2068560"/>
          </a:xfrm>
          <a:prstGeom prst="rect">
            <a:avLst/>
          </a:prstGeom>
          <a:ln w="0">
            <a:noFill/>
          </a:ln>
        </p:spPr>
      </p:pic>
      <p:sp>
        <p:nvSpPr>
          <p:cNvPr id="188" name="箭头 105"/>
          <p:cNvSpPr/>
          <p:nvPr/>
        </p:nvSpPr>
        <p:spPr>
          <a:xfrm flipH="1">
            <a:off x="6948000" y="1557360"/>
            <a:ext cx="863640" cy="1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箭头 106"/>
          <p:cNvSpPr/>
          <p:nvPr/>
        </p:nvSpPr>
        <p:spPr>
          <a:xfrm flipH="1" flipV="1">
            <a:off x="7667280" y="909360"/>
            <a:ext cx="144360" cy="64764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468360" y="40788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lunch"/>
          <p:cNvPicPr/>
          <p:nvPr/>
        </p:nvPicPr>
        <p:blipFill>
          <a:blip r:embed="rId2"/>
          <a:stretch/>
        </p:blipFill>
        <p:spPr>
          <a:xfrm>
            <a:off x="684360" y="155736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24000" y="454032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’s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 four o’clock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24000" y="5302080"/>
            <a:ext cx="8675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time to go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back 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hom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（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rcRect l="0" t="0" r="0" b="11850"/>
          <a:stretch/>
        </p:blipFill>
        <p:spPr>
          <a:xfrm>
            <a:off x="611280" y="231840"/>
            <a:ext cx="5040360" cy="3225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324000" y="37782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6372360" y="1362240"/>
            <a:ext cx="20952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468360" y="476712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’s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 half past six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68360" y="5589720"/>
            <a:ext cx="86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time for </a:t>
            </a: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dinner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（晚餐）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箭头 147"/>
          <p:cNvSpPr/>
          <p:nvPr/>
        </p:nvSpPr>
        <p:spPr>
          <a:xfrm>
            <a:off x="7524720" y="1773360"/>
            <a:ext cx="0" cy="12240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箭头 148"/>
          <p:cNvSpPr/>
          <p:nvPr/>
        </p:nvSpPr>
        <p:spPr>
          <a:xfrm flipH="1">
            <a:off x="7236000" y="1773360"/>
            <a:ext cx="28872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76360" y="405612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dinner"/>
          <p:cNvPicPr/>
          <p:nvPr/>
        </p:nvPicPr>
        <p:blipFill>
          <a:blip r:embed="rId2"/>
          <a:stretch/>
        </p:blipFill>
        <p:spPr>
          <a:xfrm>
            <a:off x="576360" y="260280"/>
            <a:ext cx="46749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24000" y="4767120"/>
            <a:ext cx="63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’s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 seven o’clock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24000" y="558972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time to do my homewor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936720" y="431640"/>
            <a:ext cx="4174920" cy="2880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324000" y="3943440"/>
            <a:ext cx="54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t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/>
          <a:stretch/>
        </p:blipFill>
        <p:spPr>
          <a:xfrm>
            <a:off x="6156360" y="765000"/>
            <a:ext cx="2095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835280" y="1197000"/>
            <a:ext cx="504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66"/>
                </a:solidFill>
                <a:latin typeface="Verdana"/>
              </a:rPr>
              <a:t>Let</a:t>
            </a:r>
            <a:r>
              <a:rPr b="1" i="1" lang="zh-CN" sz="66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1" i="1" lang="zh-CN" sz="6600" spc="-1" strike="noStrike">
                <a:solidFill>
                  <a:srgbClr val="ff0066"/>
                </a:solidFill>
                <a:latin typeface="Verdana"/>
              </a:rPr>
              <a:t>s s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00000" y="335772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CN" sz="5400" spc="-1" strike="noStrike">
                <a:solidFill>
                  <a:srgbClr val="000000"/>
                </a:solidFill>
                <a:latin typeface="Verdana"/>
              </a:rPr>
              <a:t>This is the way</a:t>
            </a:r>
            <a:r>
              <a:rPr b="0" lang="zh-CN" sz="5400" spc="-1" strike="noStrike">
                <a:solidFill>
                  <a:srgbClr val="000000"/>
                </a:solidFill>
                <a:latin typeface="Verdana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9640" y="57240"/>
            <a:ext cx="34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This is the w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I brush my teet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Brush my teet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Brush my tee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This is the w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I brush my teet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So early in the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638680" y="2781360"/>
            <a:ext cx="3384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This is the w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I wash my fa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Wash my fa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Wash my 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This is the wa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I wash my fa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So early in the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wash face"/>
          <p:cNvPicPr/>
          <p:nvPr/>
        </p:nvPicPr>
        <p:blipFill>
          <a:blip r:embed="rId1"/>
          <a:stretch/>
        </p:blipFill>
        <p:spPr>
          <a:xfrm>
            <a:off x="4932360" y="189000"/>
            <a:ext cx="3454560" cy="259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brush our teeth"/>
          <p:cNvPicPr/>
          <p:nvPr/>
        </p:nvPicPr>
        <p:blipFill>
          <a:blip r:embed="rId2"/>
          <a:stretch/>
        </p:blipFill>
        <p:spPr>
          <a:xfrm>
            <a:off x="539640" y="4029120"/>
            <a:ext cx="33372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1908000" y="1917720"/>
            <a:ext cx="5545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2844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以致用</a:t>
            </a:r>
            <a:endParaRPr b="1" lang="en-US" sz="4400" spc="1" strike="noStrike">
              <a:ln w="2844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06436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微软雅黑"/>
              </a:rPr>
              <a:t>Unit 3 </a:t>
            </a:r>
            <a:br>
              <a:rPr sz="6000"/>
            </a:br>
            <a:r>
              <a:rPr b="1" lang="zh-CN" sz="6000" spc="-1" strike="noStrike">
                <a:solidFill>
                  <a:srgbClr val="ff33cc"/>
                </a:solidFill>
                <a:latin typeface="微软雅黑"/>
              </a:rPr>
              <a:t>It's time to get up</a:t>
            </a:r>
            <a:br>
              <a:rPr sz="6000"/>
            </a:br>
            <a:r>
              <a:rPr b="1" lang="zh-CN" sz="4000" spc="-1" strike="noStrike">
                <a:solidFill>
                  <a:srgbClr val="ff33cc"/>
                </a:solidFill>
                <a:latin typeface="微软雅黑"/>
              </a:rPr>
              <a:t>课件 </a:t>
            </a:r>
            <a:r>
              <a:rPr b="1" lang="zh-CN" sz="4000" spc="-1" strike="noStrike">
                <a:solidFill>
                  <a:srgbClr val="ff33cc"/>
                </a:solidFill>
                <a:latin typeface="微软雅黑"/>
              </a:rPr>
              <a:t>1</a:t>
            </a:r>
            <a:endParaRPr b="0" lang="en-US" sz="4000" spc="-1" strike="noStrike">
              <a:solidFill>
                <a:srgbClr val="1a93c8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431640" y="620640"/>
            <a:ext cx="856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  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你想知道现在几点了，应如何询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. What time it is?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. W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 the time, pl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  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你想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t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一起吃早点，应怎样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. L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 have lunch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. L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 have breakf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  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你想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t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刷牙、洗脸时，应怎样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. Wash your teeth and brus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r 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. Brush your teeth and wash your 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4360" y="6224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84360" y="2349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20720" y="4005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79280" y="1341360"/>
            <a:ext cx="882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想叫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让他起床时，应怎样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Wake up, Peter. It’s time to ge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Hurry up, Peter. You’re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想说该洗脸了，应怎样表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It’s time to wash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It’s time to wash your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12720" y="1341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12720" y="3357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86920" y="1486080"/>
            <a:ext cx="6861240" cy="29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微软雅黑"/>
              </a:rPr>
              <a:t>Goodbye!</a:t>
            </a:r>
            <a:endParaRPr b="0" lang="en-US" sz="8000" spc="-1" strike="noStrike">
              <a:solidFill>
                <a:srgbClr val="1a93c8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84360" y="1341360"/>
            <a:ext cx="47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daily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日常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4360" y="270972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</a:rPr>
              <a:t>routin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固定的程序、常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4000" y="3366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24000" y="1251000"/>
            <a:ext cx="64101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at t</a:t>
            </a: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…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什么时间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…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24000" y="3419640"/>
            <a:ext cx="77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t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it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现在几点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0" y="3157560"/>
            <a:ext cx="914400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780000" y="333360"/>
            <a:ext cx="518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o’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cl</a:t>
            </a:r>
            <a:r>
              <a:rPr b="0" lang="en-US" sz="5400" spc="-1" strike="noStrike">
                <a:solidFill>
                  <a:srgbClr val="ff33cc"/>
                </a:solidFill>
                <a:latin typeface="Comic Sans MS"/>
              </a:rPr>
              <a:t>o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ck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…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点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5157720"/>
            <a:ext cx="592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It’s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  <a:ea typeface="宋体"/>
              </a:rPr>
              <a:t> seven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o’clock.</a:t>
            </a:r>
            <a:r>
              <a:rPr b="0" lang="zh-CN" sz="4800" spc="-1" strike="noStrike">
                <a:solidFill>
                  <a:srgbClr val="ffffff"/>
                </a:solidFill>
                <a:latin typeface="Comic Sans MS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  <a:ea typeface="宋体"/>
              </a:rPr>
              <a:t>7</a:t>
            </a:r>
            <a:r>
              <a:rPr b="1" i="1" lang="zh-CN" sz="4000" spc="-1" strike="noStrike">
                <a:solidFill>
                  <a:srgbClr val="0000ff"/>
                </a:solidFill>
                <a:latin typeface="Comic Sans MS"/>
                <a:ea typeface="宋体"/>
              </a:rPr>
              <a:t>点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rcRect l="0" t="11241" r="0" b="8927"/>
          <a:stretch/>
        </p:blipFill>
        <p:spPr>
          <a:xfrm>
            <a:off x="5867280" y="2266920"/>
            <a:ext cx="32767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755640" y="33336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lf  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一半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076720" y="33336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st  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过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55640" y="184644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half past 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…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点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1280" y="49417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It’s half past </a:t>
            </a:r>
            <a:r>
              <a:rPr b="0" lang="zh-CN" sz="4800" spc="-1" strike="noStrike">
                <a:solidFill>
                  <a:srgbClr val="ff33cc"/>
                </a:solidFill>
                <a:latin typeface="Comic Sans MS"/>
              </a:rPr>
              <a:t>four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四点半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11280" y="38098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hat t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rcRect l="0" t="0" r="0" b="9061"/>
          <a:stretch/>
        </p:blipFill>
        <p:spPr>
          <a:xfrm>
            <a:off x="6985080" y="1846440"/>
            <a:ext cx="215892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611280" y="18900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uar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5400" spc="-1" strike="noStrike">
                <a:solidFill>
                  <a:srgbClr val="ff33cc"/>
                </a:solidFill>
                <a:latin typeface="Comic Sans MS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一刻、十五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11280" y="2166840"/>
            <a:ext cx="576108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quarter </a:t>
            </a: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to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差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15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分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…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点（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…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点四十五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11280" y="1244520"/>
            <a:ext cx="4321080" cy="91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o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差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分到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24000" y="5149800"/>
            <a:ext cx="8280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’s a quarter 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to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ten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差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5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分到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0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点（九点四十五分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24000" y="4332240"/>
            <a:ext cx="77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t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0" y="4332240"/>
            <a:ext cx="91440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0" t="0" r="0" b="6754"/>
          <a:stretch/>
        </p:blipFill>
        <p:spPr>
          <a:xfrm>
            <a:off x="6311880" y="1244520"/>
            <a:ext cx="2857680" cy="2664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9"/>
          <p:cNvSpPr/>
          <p:nvPr/>
        </p:nvSpPr>
        <p:spPr>
          <a:xfrm flipV="1">
            <a:off x="6948360" y="2633040"/>
            <a:ext cx="792360" cy="75960"/>
          </a:xfrm>
          <a:prstGeom prst="leftArrow">
            <a:avLst>
              <a:gd name="adj1" fmla="val 50000"/>
              <a:gd name="adj2" fmla="val 260782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箭头 121"/>
          <p:cNvSpPr/>
          <p:nvPr/>
        </p:nvSpPr>
        <p:spPr>
          <a:xfrm flipH="1" flipV="1">
            <a:off x="7164000" y="2395440"/>
            <a:ext cx="576360" cy="238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87280" y="34776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u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向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324000" y="3477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09640" y="155736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 u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  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起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328608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t’s time </a:t>
            </a: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to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…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是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…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</a:rPr>
              <a:t>的时候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24000" y="508464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t’s time to </a:t>
            </a:r>
            <a:r>
              <a:rPr b="0" lang="en-US" sz="6000" spc="-1" strike="noStrike">
                <a:solidFill>
                  <a:srgbClr val="ff33cc"/>
                </a:solidFill>
                <a:latin typeface="Comic Sans MS"/>
              </a:rPr>
              <a:t>get up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108000" y="4724280"/>
            <a:ext cx="914400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5219640" y="347760"/>
            <a:ext cx="3600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50920" y="308916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go to bed </a:t>
            </a:r>
            <a:r>
              <a:rPr b="0" lang="zh-CN" sz="4000" spc="-1" strike="noStrike">
                <a:solidFill>
                  <a:srgbClr val="ff0066"/>
                </a:solidFill>
                <a:latin typeface="Comic Sans MS"/>
              </a:rPr>
              <a:t>去睡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429080" y="30891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go to school</a:t>
            </a:r>
            <a:r>
              <a:rPr b="0" lang="zh-CN" sz="4000" spc="-1" strike="noStrike">
                <a:solidFill>
                  <a:srgbClr val="ff0066"/>
                </a:solidFill>
                <a:latin typeface="Comic Sans MS"/>
              </a:rPr>
              <a:t>去上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436572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t’s time to </a:t>
            </a:r>
            <a:r>
              <a:rPr b="0" lang="en-US" sz="6000" spc="-1" strike="noStrike">
                <a:solidFill>
                  <a:srgbClr val="ff33cc"/>
                </a:solidFill>
                <a:latin typeface="Comic Sans MS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539640" y="901800"/>
            <a:ext cx="3219480" cy="200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rcRect l="0" t="7630" r="0" b="6193"/>
          <a:stretch/>
        </p:blipFill>
        <p:spPr>
          <a:xfrm>
            <a:off x="4429080" y="428760"/>
            <a:ext cx="421956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96720" y="285840"/>
            <a:ext cx="44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sl</a:t>
            </a: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e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睡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6720" y="490068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’s a quarter 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te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720" y="429408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95280" y="578628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’s time to </a:t>
            </a:r>
            <a:r>
              <a:rPr b="0" lang="en-US" sz="4000" spc="-1" strike="noStrike">
                <a:solidFill>
                  <a:srgbClr val="ff33cc"/>
                </a:solidFill>
                <a:latin typeface="Comic Sans MS"/>
              </a:rPr>
              <a:t>slee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rcRect l="0" t="0" r="0" b="1651"/>
          <a:stretch/>
        </p:blipFill>
        <p:spPr>
          <a:xfrm>
            <a:off x="5651640" y="549360"/>
            <a:ext cx="3382920" cy="3328920"/>
          </a:xfrm>
          <a:prstGeom prst="rect">
            <a:avLst/>
          </a:prstGeom>
          <a:ln w="0">
            <a:noFill/>
          </a:ln>
        </p:spPr>
      </p:pic>
      <p:sp>
        <p:nvSpPr>
          <p:cNvPr id="170" name="箭头 137"/>
          <p:cNvSpPr/>
          <p:nvPr/>
        </p:nvSpPr>
        <p:spPr>
          <a:xfrm flipH="1">
            <a:off x="6372360" y="1714680"/>
            <a:ext cx="100800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箭头 138"/>
          <p:cNvSpPr/>
          <p:nvPr/>
        </p:nvSpPr>
        <p:spPr>
          <a:xfrm flipH="1" flipV="1">
            <a:off x="6732360" y="1431720"/>
            <a:ext cx="647640" cy="2826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2"/>
          <a:stretch/>
        </p:blipFill>
        <p:spPr>
          <a:xfrm>
            <a:off x="538200" y="1414440"/>
            <a:ext cx="4322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1338</dc:creator>
  <dc:description/>
  <dc:language>en-US</dc:language>
  <cp:lastModifiedBy>PC</cp:lastModifiedBy>
  <dcterms:modified xsi:type="dcterms:W3CDTF">2018-01-08T14:48:10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