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自定义放映1" id="0">
      <p:sldLst>
        <p:sld r:id="rId7"/>
        <p:sld r:id="rId10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DC3-4CCC-47E9-ADCA-4439A9BB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1EC-E017-4528-9659-C1D46C21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ECE-9160-414C-BC0F-AF0F90BA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160-3DCF-4391-BB0C-0DA87D90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726-7F19-4AF2-9D8F-CF19B07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6A0-82B6-40BA-A528-51C6CA48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38D-167B-485C-8E04-6E3EA1C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325-4BE7-495D-9E5D-9219246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614-E64E-403E-9097-A8A63B9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16A-6FF3-4D5F-A31A-788A37E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3C-3616-4EAB-967F-413DF8A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311-F42C-41C8-AFA7-18352EE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80D9-FD37-44EA-BB15-14C6044DE8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960" y="1773360"/>
            <a:ext cx="4638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Modul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Daily rout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DSCF4985"/>
          <p:cNvPicPr/>
          <p:nvPr/>
        </p:nvPicPr>
        <p:blipFill>
          <a:blip r:embed="rId1"/>
          <a:stretch/>
        </p:blipFill>
        <p:spPr>
          <a:xfrm>
            <a:off x="971640" y="693720"/>
            <a:ext cx="6238800" cy="46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6"/>
          <p:cNvGraphicFramePr/>
          <p:nvPr/>
        </p:nvGraphicFramePr>
        <p:xfrm>
          <a:off x="7543800" y="152280"/>
          <a:ext cx="136692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52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7"/>
          <p:cNvSpPr/>
          <p:nvPr/>
        </p:nvSpPr>
        <p:spPr>
          <a:xfrm flipH="1">
            <a:off x="7884720" y="762120"/>
            <a:ext cx="42084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8229600" y="685800"/>
            <a:ext cx="15840" cy="58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34920" y="44280"/>
          <a:ext cx="1368360" cy="136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44280"/>
                    <a:ext cx="13683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8"/>
          <p:cNvSpPr/>
          <p:nvPr/>
        </p:nvSpPr>
        <p:spPr>
          <a:xfrm flipV="1">
            <a:off x="682560" y="190440"/>
            <a:ext cx="18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539280" y="766800"/>
            <a:ext cx="1429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70160" y="117360"/>
            <a:ext cx="4167360" cy="825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do 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2000" y="1557360"/>
            <a:ext cx="104796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062080"/>
            <a:ext cx="277164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half past 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8080" y="5589720"/>
            <a:ext cx="796068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do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9760" y="6237360"/>
            <a:ext cx="730656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senen o'clock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6800" y="141300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840" y="1989000"/>
            <a:ext cx="26982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seven o'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SCF4987"/>
          <p:cNvPicPr/>
          <p:nvPr/>
        </p:nvPicPr>
        <p:blipFill>
          <a:blip r:embed="rId1"/>
          <a:stretch/>
        </p:blipFill>
        <p:spPr>
          <a:xfrm>
            <a:off x="539640" y="765000"/>
            <a:ext cx="7199280" cy="539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2"/>
          <p:cNvGraphicFramePr/>
          <p:nvPr/>
        </p:nvGraphicFramePr>
        <p:xfrm>
          <a:off x="7543800" y="152280"/>
          <a:ext cx="136692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52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3"/>
          <p:cNvSpPr/>
          <p:nvPr/>
        </p:nvSpPr>
        <p:spPr>
          <a:xfrm>
            <a:off x="7885080" y="765000"/>
            <a:ext cx="3445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8229600" y="685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7"/>
          <p:cNvGraphicFramePr/>
          <p:nvPr/>
        </p:nvGraphicFramePr>
        <p:xfrm>
          <a:off x="108000" y="44280"/>
          <a:ext cx="1366920" cy="136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44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Line 8"/>
          <p:cNvSpPr/>
          <p:nvPr/>
        </p:nvSpPr>
        <p:spPr>
          <a:xfrm>
            <a:off x="755640" y="693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394920" y="766800"/>
            <a:ext cx="36036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25280" y="44280"/>
            <a:ext cx="2751840" cy="825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watch 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9520" y="148608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9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7680" y="2060640"/>
            <a:ext cx="27745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9840" y="5661000"/>
            <a:ext cx="70128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watch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640" y="6237360"/>
            <a:ext cx="733896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eight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8080" y="141300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960" y="1989000"/>
            <a:ext cx="291924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DSCF4983"/>
          <p:cNvPicPr/>
          <p:nvPr/>
        </p:nvPicPr>
        <p:blipFill>
          <a:blip r:embed="rId1"/>
          <a:stretch/>
        </p:blipFill>
        <p:spPr>
          <a:xfrm>
            <a:off x="1044720" y="1413000"/>
            <a:ext cx="5759280" cy="43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5"/>
          <p:cNvGraphicFramePr/>
          <p:nvPr/>
        </p:nvGraphicFramePr>
        <p:xfrm>
          <a:off x="7543800" y="152280"/>
          <a:ext cx="136692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52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6"/>
          <p:cNvSpPr/>
          <p:nvPr/>
        </p:nvSpPr>
        <p:spPr>
          <a:xfrm>
            <a:off x="7848720" y="83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8229600" y="380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360" y="580536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go to b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3520" y="16286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9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63000" y="220500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nine o'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3160" y="117360"/>
            <a:ext cx="71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go to 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22120" y="693720"/>
            <a:ext cx="33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t nine o'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Calibri"/>
              </a:rPr>
              <a:t>Gramma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74000" y="2514600"/>
            <a:ext cx="765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ime do you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______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7"/>
          <p:cNvSpPr/>
          <p:nvPr/>
        </p:nvSpPr>
        <p:spPr>
          <a:xfrm>
            <a:off x="755640" y="544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ime do you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do your homewo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0" t="0" r="0" b="5567"/>
          <a:stretch/>
        </p:blipFill>
        <p:spPr>
          <a:xfrm>
            <a:off x="2268360" y="981000"/>
            <a:ext cx="49676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5148360" y="2492280"/>
            <a:ext cx="39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ime do you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go to b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510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4"/>
          <p:cNvSpPr/>
          <p:nvPr/>
        </p:nvSpPr>
        <p:spPr>
          <a:xfrm>
            <a:off x="900000" y="4941720"/>
            <a:ext cx="74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ime do you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me hom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4794"/>
          <a:stretch/>
        </p:blipFill>
        <p:spPr>
          <a:xfrm>
            <a:off x="1979640" y="476280"/>
            <a:ext cx="43099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1310040" y="5410080"/>
            <a:ext cx="51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time do you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atch T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909720"/>
            <a:ext cx="48261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96000" y="909720"/>
            <a:ext cx="41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2349360"/>
            <a:ext cx="61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用几句简单的话向家人或朋友介绍一下你一天的生活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2700360" y="60930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8800" y="1773360"/>
            <a:ext cx="86374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Unit 4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When do you have clas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课件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1692360" y="587700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3756"/>
                </a:moveTo>
                <a:lnTo>
                  <a:pt x="39390" y="10800"/>
                </a:lnTo>
                <a:lnTo>
                  <a:pt x="2530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1128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ce1"/>
                </a:solidFill>
                <a:latin typeface="Calibri"/>
              </a:rPr>
              <a:t>几点钟了？该怎么问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What time is it ?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几点了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What’s the time ,please?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请问，是什么时候了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时间的读法：先读小时，再读分钟，碰上整点得加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o’clock,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如是半小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还可以用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half past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加小时！！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---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What time is it now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---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t’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798_P_1260055976432[1]"/>
          <p:cNvPicPr/>
          <p:nvPr/>
        </p:nvPicPr>
        <p:blipFill>
          <a:blip r:embed="rId1"/>
          <a:stretch/>
        </p:blipFill>
        <p:spPr>
          <a:xfrm>
            <a:off x="0" y="0"/>
            <a:ext cx="4175280" cy="417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009811733292349[1]"/>
          <p:cNvPicPr/>
          <p:nvPr/>
        </p:nvPicPr>
        <p:blipFill>
          <a:blip r:embed="rId2"/>
          <a:stretch/>
        </p:blipFill>
        <p:spPr>
          <a:xfrm>
            <a:off x="4643280" y="0"/>
            <a:ext cx="4175280" cy="417528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250920" y="4437000"/>
            <a:ext cx="4416480" cy="787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It's twelve o'clock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5292720" y="4292640"/>
            <a:ext cx="315288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It's ten ten </a:t>
            </a:r>
            <a:endParaRPr b="0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F4982"/>
          <p:cNvPicPr/>
          <p:nvPr/>
        </p:nvPicPr>
        <p:blipFill>
          <a:blip r:embed="rId1"/>
          <a:stretch/>
        </p:blipFill>
        <p:spPr>
          <a:xfrm>
            <a:off x="539640" y="1270080"/>
            <a:ext cx="5759640" cy="431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16"/>
          <p:cNvGraphicFramePr/>
          <p:nvPr/>
        </p:nvGraphicFramePr>
        <p:xfrm>
          <a:off x="7524720" y="117360"/>
          <a:ext cx="136692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11736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Line 17"/>
          <p:cNvSpPr/>
          <p:nvPr/>
        </p:nvSpPr>
        <p:spPr>
          <a:xfrm flipH="1">
            <a:off x="8100720" y="765000"/>
            <a:ext cx="142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 flipH="1">
            <a:off x="8245080" y="765000"/>
            <a:ext cx="6476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5120" y="5589720"/>
            <a:ext cx="20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get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0760" y="162864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omic Sans MS"/>
              </a:rPr>
              <a:t>6: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77120" y="5734080"/>
            <a:ext cx="297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omic Sans MS"/>
              </a:rPr>
              <a:t>six fift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640" y="117360"/>
            <a:ext cx="65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get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9480" y="69372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t six fift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7"/>
          <p:cNvGraphicFramePr/>
          <p:nvPr/>
        </p:nvGraphicFramePr>
        <p:xfrm>
          <a:off x="7543800" y="152280"/>
          <a:ext cx="136692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52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8"/>
          <p:cNvSpPr/>
          <p:nvPr/>
        </p:nvSpPr>
        <p:spPr>
          <a:xfrm flipH="1">
            <a:off x="8051760" y="762120"/>
            <a:ext cx="2541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8229600" y="45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rcRect l="0" t="10727" r="0" b="0"/>
          <a:stretch/>
        </p:blipFill>
        <p:spPr>
          <a:xfrm>
            <a:off x="4788000" y="2565360"/>
            <a:ext cx="3313080" cy="416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7760" y="4221000"/>
            <a:ext cx="44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have break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69000" y="162864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omic Sans MS"/>
              </a:rPr>
              <a:t>7: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8560" y="170172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seven o'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1736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have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5120" y="1125360"/>
            <a:ext cx="37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At seven o'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270080"/>
            <a:ext cx="7199280" cy="53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7"/>
          <p:cNvGraphicFramePr/>
          <p:nvPr/>
        </p:nvGraphicFramePr>
        <p:xfrm>
          <a:off x="684360" y="1341360"/>
          <a:ext cx="136656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341360"/>
                    <a:ext cx="1366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Line 8"/>
          <p:cNvSpPr/>
          <p:nvPr/>
        </p:nvSpPr>
        <p:spPr>
          <a:xfrm>
            <a:off x="1332000" y="199080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H="1">
            <a:off x="971280" y="2062080"/>
            <a:ext cx="3603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7"/>
          <p:cNvGraphicFramePr/>
          <p:nvPr/>
        </p:nvGraphicFramePr>
        <p:xfrm>
          <a:off x="6445080" y="1270080"/>
          <a:ext cx="1366920" cy="13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5080" y="1270080"/>
                    <a:ext cx="13669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Line 8"/>
          <p:cNvSpPr/>
          <p:nvPr/>
        </p:nvSpPr>
        <p:spPr>
          <a:xfrm>
            <a:off x="7093080" y="1917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 flipH="1" flipV="1">
            <a:off x="6732720" y="1846080"/>
            <a:ext cx="3585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5880" y="5950080"/>
            <a:ext cx="3724200" cy="825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have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12440" y="198900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9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0760" y="2637000"/>
            <a:ext cx="27745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9280" y="44280"/>
            <a:ext cx="76633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have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620640"/>
            <a:ext cx="733896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eight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360" y="270972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" y="3573360"/>
            <a:ext cx="291924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6"/>
          <p:cNvGraphicFramePr/>
          <p:nvPr/>
        </p:nvGraphicFramePr>
        <p:xfrm>
          <a:off x="7543800" y="152280"/>
          <a:ext cx="136692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52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Line 8"/>
          <p:cNvSpPr/>
          <p:nvPr/>
        </p:nvSpPr>
        <p:spPr>
          <a:xfrm>
            <a:off x="8229600" y="685800"/>
            <a:ext cx="15840" cy="65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8229600" y="620640"/>
            <a:ext cx="23184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:\Users\Miss\Desktop\资源\图片\lunch.jpglunch" descr=""/>
          <p:cNvPicPr/>
          <p:nvPr/>
        </p:nvPicPr>
        <p:blipFill>
          <a:blip r:embed="rId3"/>
          <a:stretch/>
        </p:blipFill>
        <p:spPr>
          <a:xfrm>
            <a:off x="2195640" y="1628640"/>
            <a:ext cx="4465440" cy="33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7"/>
          <p:cNvGraphicFramePr/>
          <p:nvPr/>
        </p:nvGraphicFramePr>
        <p:xfrm>
          <a:off x="0" y="44280"/>
          <a:ext cx="1366920" cy="136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8"/>
          <p:cNvSpPr/>
          <p:nvPr/>
        </p:nvSpPr>
        <p:spPr>
          <a:xfrm flipV="1">
            <a:off x="684360" y="1890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 flipV="1">
            <a:off x="646200" y="475920"/>
            <a:ext cx="3636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0440" y="44280"/>
            <a:ext cx="3289680" cy="825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have lu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92760" y="155736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37880" y="2133720"/>
            <a:ext cx="26647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89720"/>
            <a:ext cx="758016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have lun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6165720"/>
            <a:ext cx="777708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twelve o'clock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0" y="1486080"/>
            <a:ext cx="122328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0" y="2133720"/>
            <a:ext cx="282348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welve o'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594"/>
          <a:stretch/>
        </p:blipFill>
        <p:spPr>
          <a:xfrm>
            <a:off x="971640" y="476280"/>
            <a:ext cx="7143840" cy="521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108000" y="44280"/>
          <a:ext cx="136692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44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8"/>
          <p:cNvSpPr/>
          <p:nvPr/>
        </p:nvSpPr>
        <p:spPr>
          <a:xfrm>
            <a:off x="755640" y="693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754200" y="766800"/>
            <a:ext cx="2887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7740720" y="44280"/>
          <a:ext cx="1366920" cy="136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40720" y="44280"/>
                    <a:ext cx="136692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8"/>
          <p:cNvSpPr/>
          <p:nvPr/>
        </p:nvSpPr>
        <p:spPr>
          <a:xfrm>
            <a:off x="8388360" y="693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8386920" y="76680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8200" y="260280"/>
            <a:ext cx="3920760" cy="825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take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85520" y="141300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5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35000" y="1989000"/>
            <a:ext cx="2619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6640" y="5589720"/>
            <a:ext cx="77929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hat time do you usually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take exer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1920" y="6165720"/>
            <a:ext cx="700632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four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half past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9720" y="1413000"/>
            <a:ext cx="99000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4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920" y="1989000"/>
            <a:ext cx="2742480" cy="581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half past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0:11:54Z</dcterms:created>
  <dc:creator>a</dc:creator>
  <dc:description/>
  <cp:keywords/>
  <dc:language>en-US</dc:language>
  <cp:lastModifiedBy>Windows 用户</cp:lastModifiedBy>
  <dcterms:modified xsi:type="dcterms:W3CDTF">2015-05-31T05:48:16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