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4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10.png" ContentType="image/png"/>
  <Override PartName="/ppt/media/image27.jpeg" ContentType="image/jpeg"/>
  <Override PartName="/ppt/media/image33.jpeg" ContentType="image/jpeg"/>
  <Override PartName="/ppt/media/image6.png" ContentType="image/png"/>
  <Override PartName="/ppt/media/image7.png" ContentType="image/png"/>
  <Override PartName="/ppt/media/wt002a101.wav" ContentType="audio/x-wav"/>
  <Override PartName="/ppt/media/image28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wt002a102.wav" ContentType="audio/x-wav"/>
  <Override PartName="/ppt/media/image31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wt002a103.wav" ContentType="audio/x-wav"/>
  <Override PartName="/ppt/media/image1.png" ContentType="image/png"/>
  <Override PartName="/ppt/media/image24.jpeg" ContentType="image/jpeg"/>
  <Override PartName="/ppt/media/wt002a104.wav" ContentType="audio/x-wav"/>
  <Override PartName="/ppt/media/image11.png" ContentType="image/png"/>
  <Override PartName="/ppt/media/image25.png" ContentType="image/png"/>
  <Override PartName="/ppt/media/image19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6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92B-9624-404C-B788-B7016E1C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2AE-449E-400C-AC94-9EC98E5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D1D-5846-4E55-A145-8B04B1D0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344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3C-11D1-4D1A-A489-46F924E3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40EE-C8A3-4811-9200-6861E9D9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01B-69E0-4BE0-A154-8CD71A7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B23F-06B0-4378-8166-640F9A23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2CA4-4474-4D74-8DA9-BC240B89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F9C-A305-4AAD-A294-3CA01E9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3440" y="1060560"/>
            <a:ext cx="830088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CA3B-2FF2-4AAD-8322-8A96A69E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070-1F90-4CED-8191-60411DB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8CB-9AC0-426A-B185-5B361D4F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DE6-2B68-475D-BA7D-05004E9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D704-74C3-4D06-A51A-DDA78A0F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AFB-F607-4888-AB5E-B4A90A4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0201-036D-4D56-98D9-E4FCF2A4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00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692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44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00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692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B6F8-8C82-4859-8C9C-8A222814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449D-45AA-4A48-ADE5-FD403BBC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B82A-84D7-41A7-B95F-EAEC597F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BCA2-B807-4365-B098-F19F72B6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64FF-EC6E-4837-9AF9-666477E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CD0B-A500-47FB-AAE4-DB26889A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8F9-167D-47E8-B48B-6A57E60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33440" y="1060560"/>
            <a:ext cx="830088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5105-B250-4A4B-80D6-873288B4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F078-DD01-4DE5-8CA7-D45581F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7787-DA7F-4084-AEE9-3721353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B669-408C-4A22-BA0D-11DD9DA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59A7-9A81-4D40-82AB-7528BBF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0870-3437-4486-92D1-EAC92E7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00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7143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344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000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4182120"/>
            <a:ext cx="2672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DB81-DC57-4EA8-B39E-7656DFC3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D05-9A6A-4F9C-9CA5-45A75D1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2AA-801F-4175-A7B1-60080480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3440" y="1060560"/>
            <a:ext cx="830088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2C1-BF11-48BB-99B7-1045D2D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F11-9BEF-4114-BB51-42BBC9B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200" y="41821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D20-8564-4A32-A0C0-B4A57006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344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200" y="1714320"/>
            <a:ext cx="405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3440" y="4182120"/>
            <a:ext cx="8300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3D2-9222-429F-80DC-FDCEC48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AC3-B3A6-4B2F-9147-41FB85E17F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6" descr=""/>
          <p:cNvPicPr/>
          <p:nvPr/>
        </p:nvPicPr>
        <p:blipFill>
          <a:blip r:embed="rId2"/>
          <a:srcRect l="0" t="0" r="0" b="80965"/>
          <a:stretch/>
        </p:blipFill>
        <p:spPr>
          <a:xfrm>
            <a:off x="1440" y="-3240"/>
            <a:ext cx="899640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7" descr=""/>
          <p:cNvPicPr/>
          <p:nvPr/>
        </p:nvPicPr>
        <p:blipFill>
          <a:blip r:embed="rId3"/>
          <a:srcRect l="580" t="21182" r="580" b="74370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375-7415-4934-B242-6B1D6DCA84D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3b40d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b40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rcRect l="244" t="2479" r="912" b="28915"/>
          <a:stretch/>
        </p:blipFill>
        <p:spPr>
          <a:xfrm>
            <a:off x="0" y="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33440" y="1714320"/>
            <a:ext cx="8300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3b40d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b40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B9A-8BE2-4D38-A57D-4030935E2B6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wt002a101.wav"/><Relationship Id="rId7" Type="http://schemas.openxmlformats.org/officeDocument/2006/relationships/audio" Target="../media/wt002a102.wav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audio" Target="../media/wt002a103.wav"/><Relationship Id="rId7" Type="http://schemas.openxmlformats.org/officeDocument/2006/relationships/audio" Target="../media/wt002a104.wav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380988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Module 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Days of the 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685800" y="44197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533520" y="1600200"/>
            <a:ext cx="2438280" cy="26668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95280" y="1523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B-3"/>
          <p:cNvPicPr/>
          <p:nvPr/>
        </p:nvPicPr>
        <p:blipFill>
          <a:blip r:embed="rId1"/>
          <a:stretch/>
        </p:blipFill>
        <p:spPr>
          <a:xfrm>
            <a:off x="685800" y="2209680"/>
            <a:ext cx="2019240" cy="1962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48120" y="2133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Fr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971800" y="2895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you do on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124080" y="3581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 base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28600" y="4267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143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80880" y="1066680"/>
            <a:ext cx="2438640" cy="29718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B-1"/>
          <p:cNvPicPr/>
          <p:nvPr/>
        </p:nvPicPr>
        <p:blipFill>
          <a:blip r:embed="rId1"/>
          <a:stretch/>
        </p:blipFill>
        <p:spPr>
          <a:xfrm>
            <a:off x="762120" y="1752480"/>
            <a:ext cx="186516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048120" y="2133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Satu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819520" y="2895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you do 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124080" y="3581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 badmin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124080" y="5410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42007"/>
          <p:cNvPicPr/>
          <p:nvPr/>
        </p:nvPicPr>
        <p:blipFill>
          <a:blip r:embed="rId1"/>
          <a:stretch/>
        </p:blipFill>
        <p:spPr>
          <a:xfrm>
            <a:off x="1447920" y="19051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447920" y="1219320"/>
            <a:ext cx="10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200400" y="129528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0200170010"/>
          <p:cNvPicPr/>
          <p:nvPr/>
        </p:nvPicPr>
        <p:blipFill>
          <a:blip r:embed="rId2"/>
          <a:stretch/>
        </p:blipFill>
        <p:spPr>
          <a:xfrm>
            <a:off x="3200400" y="1752480"/>
            <a:ext cx="1120680" cy="1735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F2007102609541445010491"/>
          <p:cNvPicPr/>
          <p:nvPr/>
        </p:nvPicPr>
        <p:blipFill>
          <a:blip r:embed="rId3"/>
          <a:stretch/>
        </p:blipFill>
        <p:spPr>
          <a:xfrm>
            <a:off x="4726080" y="1905120"/>
            <a:ext cx="1217520" cy="1130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4876920" y="1219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qiu1_001"/>
          <p:cNvPicPr/>
          <p:nvPr/>
        </p:nvPicPr>
        <p:blipFill>
          <a:blip r:embed="rId4"/>
          <a:srcRect l="17500" t="14477" r="15610" b="16279"/>
          <a:stretch/>
        </p:blipFill>
        <p:spPr>
          <a:xfrm>
            <a:off x="6248520" y="1905120"/>
            <a:ext cx="1341360" cy="1388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6400800" y="1371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20085281692277557"/>
          <p:cNvPicPr/>
          <p:nvPr/>
        </p:nvPicPr>
        <p:blipFill>
          <a:blip r:embed="rId5"/>
          <a:stretch/>
        </p:blipFill>
        <p:spPr>
          <a:xfrm>
            <a:off x="1143000" y="3505320"/>
            <a:ext cx="134604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2286000" y="4800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3" descr="2008514125746"/>
          <p:cNvPicPr/>
          <p:nvPr/>
        </p:nvPicPr>
        <p:blipFill>
          <a:blip r:embed="rId6"/>
          <a:srcRect l="0" t="4414" r="0" b="0"/>
          <a:stretch/>
        </p:blipFill>
        <p:spPr>
          <a:xfrm>
            <a:off x="3657600" y="4038480"/>
            <a:ext cx="1044720" cy="10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4"/>
          <p:cNvSpPr/>
          <p:nvPr/>
        </p:nvSpPr>
        <p:spPr>
          <a:xfrm>
            <a:off x="4648320" y="380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2008630160213"/>
          <p:cNvPicPr/>
          <p:nvPr/>
        </p:nvPicPr>
        <p:blipFill>
          <a:blip r:embed="rId7"/>
          <a:stretch/>
        </p:blipFill>
        <p:spPr>
          <a:xfrm>
            <a:off x="5867280" y="3962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6"/>
          <p:cNvSpPr/>
          <p:nvPr/>
        </p:nvSpPr>
        <p:spPr>
          <a:xfrm>
            <a:off x="6553080" y="380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990720" y="1066680"/>
            <a:ext cx="6933960" cy="44197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3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5d12f"/>
                </a:solidFill>
                <a:latin typeface="Arial"/>
              </a:rPr>
              <a:t>     </a:t>
            </a:r>
            <a:r>
              <a:rPr b="1" i="1" lang="zh-CN" sz="4800" spc="-1" strike="noStrike">
                <a:solidFill>
                  <a:srgbClr val="c5d12f"/>
                </a:solidFill>
                <a:latin typeface="Arial"/>
              </a:rPr>
              <a:t> 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Let's ch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1981080"/>
            <a:ext cx="5867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day, 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onday,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t’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day, 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t’s my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352680" y="533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a1"/>
          <p:cNvPicPr/>
          <p:nvPr/>
        </p:nvPicPr>
        <p:blipFill>
          <a:blip r:embed="rId1"/>
          <a:stretch/>
        </p:blipFill>
        <p:spPr>
          <a:xfrm>
            <a:off x="533520" y="3200400"/>
            <a:ext cx="180972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a3"/>
          <p:cNvPicPr/>
          <p:nvPr/>
        </p:nvPicPr>
        <p:blipFill>
          <a:blip r:embed="rId2"/>
          <a:stretch/>
        </p:blipFill>
        <p:spPr>
          <a:xfrm>
            <a:off x="4572000" y="358128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5105520" y="1676520"/>
            <a:ext cx="2514600" cy="1676160"/>
          </a:xfrm>
          <a:prstGeom prst="wedgeRoundRectCallout">
            <a:avLst>
              <a:gd name="adj1" fmla="val -35731"/>
              <a:gd name="adj2" fmla="val 74527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81080" y="16765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752480" y="1676520"/>
            <a:ext cx="2590920" cy="16002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410080" y="16765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ol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352680" y="533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a3"/>
          <p:cNvPicPr/>
          <p:nvPr/>
        </p:nvPicPr>
        <p:blipFill>
          <a:blip r:embed="rId1"/>
          <a:stretch/>
        </p:blipFill>
        <p:spPr>
          <a:xfrm>
            <a:off x="5029200" y="403848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752480" y="1828800"/>
            <a:ext cx="4800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, Monday, Tuesday…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表示星期几的单词前要加介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1752480" y="1676520"/>
            <a:ext cx="4724640" cy="2209680"/>
          </a:xfrm>
          <a:prstGeom prst="wedgeRoundRectCallout">
            <a:avLst>
              <a:gd name="adj1" fmla="val 39550"/>
              <a:gd name="adj2" fmla="val 65731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35268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识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a1"/>
          <p:cNvPicPr/>
          <p:nvPr/>
        </p:nvPicPr>
        <p:blipFill>
          <a:blip r:embed="rId1"/>
          <a:stretch/>
        </p:blipFill>
        <p:spPr>
          <a:xfrm>
            <a:off x="152280" y="3581280"/>
            <a:ext cx="1675080" cy="297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a3"/>
          <p:cNvPicPr/>
          <p:nvPr/>
        </p:nvPicPr>
        <p:blipFill>
          <a:blip r:embed="rId2"/>
          <a:stretch/>
        </p:blipFill>
        <p:spPr>
          <a:xfrm>
            <a:off x="6400800" y="388620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4724280" y="2286000"/>
            <a:ext cx="4343400" cy="1676520"/>
          </a:xfrm>
          <a:prstGeom prst="wedgeRoundRectCallout">
            <a:avLst>
              <a:gd name="adj1" fmla="val -7712"/>
              <a:gd name="adj2" fmla="val 77652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33520" y="17524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球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ay soccer, 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609480" y="1676520"/>
            <a:ext cx="4038840" cy="2057400"/>
          </a:xfrm>
          <a:prstGeom prst="wedgeRoundRectCallout">
            <a:avLst>
              <a:gd name="adj1" fmla="val -38916"/>
              <a:gd name="adj2" fmla="val 63041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4800600" y="23623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器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play the piano, play the vio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4419720" y="1828800"/>
            <a:ext cx="2590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a1"/>
          <p:cNvPicPr/>
          <p:nvPr/>
        </p:nvPicPr>
        <p:blipFill>
          <a:blip r:embed="rId1"/>
          <a:stretch/>
        </p:blipFill>
        <p:spPr>
          <a:xfrm>
            <a:off x="2514600" y="2362320"/>
            <a:ext cx="180972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4"/>
          <p:cNvSpPr/>
          <p:nvPr/>
        </p:nvSpPr>
        <p:spPr>
          <a:xfrm>
            <a:off x="4114800" y="1600200"/>
            <a:ext cx="3124080" cy="1752480"/>
          </a:xfrm>
          <a:prstGeom prst="wedgeRoundRectCallout">
            <a:avLst>
              <a:gd name="adj1" fmla="val -58384"/>
              <a:gd name="adj2" fmla="val 70018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85800" y="1295280"/>
            <a:ext cx="1981080" cy="1600200"/>
          </a:xfrm>
          <a:prstGeom prst="cloudCallout">
            <a:avLst>
              <a:gd name="adj1" fmla="val 58495"/>
              <a:gd name="adj2" fmla="val 74800"/>
            </a:avLst>
          </a:prstGeom>
          <a:solidFill>
            <a:srgbClr val="ff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219320" y="1523880"/>
            <a:ext cx="914400" cy="1143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295280" y="1523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295280" y="1905120"/>
            <a:ext cx="7621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371600" y="19051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4191120" y="18288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lay 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a1"/>
          <p:cNvPicPr/>
          <p:nvPr/>
        </p:nvPicPr>
        <p:blipFill>
          <a:blip r:embed="rId1"/>
          <a:stretch/>
        </p:blipFill>
        <p:spPr>
          <a:xfrm>
            <a:off x="2514600" y="2362320"/>
            <a:ext cx="1809720" cy="3200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"/>
          <p:cNvSpPr/>
          <p:nvPr/>
        </p:nvSpPr>
        <p:spPr>
          <a:xfrm>
            <a:off x="4114800" y="1600200"/>
            <a:ext cx="4038480" cy="1752480"/>
          </a:xfrm>
          <a:prstGeom prst="wedgeRoundRectCallout">
            <a:avLst>
              <a:gd name="adj1" fmla="val -56486"/>
              <a:gd name="adj2" fmla="val 70018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685800" y="1295280"/>
            <a:ext cx="1981080" cy="1600200"/>
          </a:xfrm>
          <a:prstGeom prst="cloudCallout">
            <a:avLst>
              <a:gd name="adj1" fmla="val 58495"/>
              <a:gd name="adj2" fmla="val 74800"/>
            </a:avLst>
          </a:prstGeom>
          <a:solidFill>
            <a:srgbClr val="ff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219320" y="1523880"/>
            <a:ext cx="914400" cy="1143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295280" y="1523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1295280" y="1905120"/>
            <a:ext cx="7621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B-3"/>
          <p:cNvPicPr/>
          <p:nvPr/>
        </p:nvPicPr>
        <p:blipFill>
          <a:blip r:embed="rId2"/>
          <a:stretch/>
        </p:blipFill>
        <p:spPr>
          <a:xfrm>
            <a:off x="1219320" y="1828800"/>
            <a:ext cx="876240" cy="851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4495680" y="41148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right"/>
          <p:cNvPicPr/>
          <p:nvPr/>
        </p:nvPicPr>
        <p:blipFill>
          <a:blip r:embed="rId3"/>
          <a:stretch/>
        </p:blipFill>
        <p:spPr>
          <a:xfrm>
            <a:off x="7162920" y="4038480"/>
            <a:ext cx="635040" cy="55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wrong"/>
          <p:cNvPicPr/>
          <p:nvPr/>
        </p:nvPicPr>
        <p:blipFill>
          <a:blip r:embed="rId4"/>
          <a:stretch/>
        </p:blipFill>
        <p:spPr>
          <a:xfrm>
            <a:off x="7162920" y="4800600"/>
            <a:ext cx="6350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37160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447920" y="1676520"/>
            <a:ext cx="6553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y ____   ____ 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What do you do  ___  Tues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lay _____  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530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2008514125746"/>
          <p:cNvPicPr/>
          <p:nvPr/>
        </p:nvPicPr>
        <p:blipFill>
          <a:blip r:embed="rId1"/>
          <a:stretch/>
        </p:blipFill>
        <p:spPr>
          <a:xfrm>
            <a:off x="6400800" y="1905120"/>
            <a:ext cx="968400" cy="9144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324480" y="1600200"/>
            <a:ext cx="1067040" cy="12193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20085281692277557"/>
          <p:cNvPicPr/>
          <p:nvPr/>
        </p:nvPicPr>
        <p:blipFill>
          <a:blip r:embed="rId2"/>
          <a:stretch/>
        </p:blipFill>
        <p:spPr>
          <a:xfrm>
            <a:off x="6629400" y="3962520"/>
            <a:ext cx="958680" cy="1143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"/>
          <p:cNvSpPr/>
          <p:nvPr/>
        </p:nvSpPr>
        <p:spPr>
          <a:xfrm>
            <a:off x="32767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42670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5909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1148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51460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58128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3440" y="1060560"/>
            <a:ext cx="83008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b40d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83b40d"/>
              </a:solidFill>
              <a:latin typeface="微软雅黑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600200"/>
            <a:ext cx="7619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What day is it to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课件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9240"/>
          <p:cNvPicPr/>
          <p:nvPr/>
        </p:nvPicPr>
        <p:blipFill>
          <a:blip r:embed="rId1"/>
          <a:stretch/>
        </p:blipFill>
        <p:spPr>
          <a:xfrm>
            <a:off x="2743200" y="1219320"/>
            <a:ext cx="2057400" cy="961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97509-0l"/>
          <p:cNvPicPr/>
          <p:nvPr/>
        </p:nvPicPr>
        <p:blipFill>
          <a:blip r:embed="rId2"/>
          <a:stretch/>
        </p:blipFill>
        <p:spPr>
          <a:xfrm>
            <a:off x="762120" y="838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1177580337_large"/>
          <p:cNvPicPr/>
          <p:nvPr/>
        </p:nvPicPr>
        <p:blipFill>
          <a:blip r:embed="rId3"/>
          <a:stretch/>
        </p:blipFill>
        <p:spPr>
          <a:xfrm>
            <a:off x="6858000" y="990720"/>
            <a:ext cx="1819440" cy="127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untitled"/>
          <p:cNvPicPr/>
          <p:nvPr/>
        </p:nvPicPr>
        <p:blipFill>
          <a:blip r:embed="rId4"/>
          <a:srcRect l="0" t="0" r="3075" b="17426"/>
          <a:stretch/>
        </p:blipFill>
        <p:spPr>
          <a:xfrm>
            <a:off x="230040" y="3659040"/>
            <a:ext cx="2436840" cy="1384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ma2_013"/>
          <p:cNvPicPr/>
          <p:nvPr/>
        </p:nvPicPr>
        <p:blipFill>
          <a:blip r:embed="rId5"/>
          <a:srcRect l="0" t="0" r="366" b="3434"/>
          <a:stretch/>
        </p:blipFill>
        <p:spPr>
          <a:xfrm>
            <a:off x="3505320" y="3581280"/>
            <a:ext cx="2147760" cy="1629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xiuxianyule1_0366"/>
          <p:cNvPicPr/>
          <p:nvPr/>
        </p:nvPicPr>
        <p:blipFill>
          <a:blip r:embed="rId6"/>
          <a:stretch/>
        </p:blipFill>
        <p:spPr>
          <a:xfrm>
            <a:off x="6781680" y="3657600"/>
            <a:ext cx="1752840" cy="1254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990720" y="2362320"/>
            <a:ext cx="12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971800" y="2362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334120" y="2438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85800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de a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2578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(a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5053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de a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65530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 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5" descr="xin_0720905080731296969151"/>
          <p:cNvPicPr/>
          <p:nvPr/>
        </p:nvPicPr>
        <p:blipFill>
          <a:blip r:embed="rId7"/>
          <a:srcRect l="0" t="0" r="0" b="15116"/>
          <a:stretch/>
        </p:blipFill>
        <p:spPr>
          <a:xfrm>
            <a:off x="4800600" y="1219320"/>
            <a:ext cx="1828800" cy="1042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685800" y="2895480"/>
          <a:ext cx="7848720" cy="2455920"/>
        </p:xfrm>
        <a:graphic>
          <a:graphicData uri="http://schemas.openxmlformats.org/drawingml/2006/table">
            <a:tbl>
              <a:tblPr/>
              <a:tblGrid>
                <a:gridCol w="927000"/>
                <a:gridCol w="978120"/>
                <a:gridCol w="1066680"/>
                <a:gridCol w="1066680"/>
                <a:gridCol w="1600200"/>
                <a:gridCol w="1143000"/>
                <a:gridCol w="106704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My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36" descr="a1"/>
          <p:cNvPicPr/>
          <p:nvPr/>
        </p:nvPicPr>
        <p:blipFill>
          <a:blip r:embed="rId1"/>
          <a:srcRect l="0" t="0" r="0" b="54772"/>
          <a:stretch/>
        </p:blipFill>
        <p:spPr>
          <a:xfrm>
            <a:off x="3124080" y="1600200"/>
            <a:ext cx="1809720" cy="144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7" descr="a3"/>
          <p:cNvPicPr/>
          <p:nvPr/>
        </p:nvPicPr>
        <p:blipFill>
          <a:blip r:embed="rId2"/>
          <a:srcRect l="0" t="8111" r="0" b="54056"/>
          <a:stretch/>
        </p:blipFill>
        <p:spPr>
          <a:xfrm>
            <a:off x="4952880" y="1828800"/>
            <a:ext cx="217512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38"/>
          <p:cNvSpPr/>
          <p:nvPr/>
        </p:nvSpPr>
        <p:spPr>
          <a:xfrm>
            <a:off x="1066680" y="990720"/>
            <a:ext cx="2210040" cy="1143000"/>
          </a:xfrm>
          <a:prstGeom prst="wedgeRoundRectCallout">
            <a:avLst>
              <a:gd name="adj1" fmla="val 59125"/>
              <a:gd name="adj2" fmla="val 75555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9"/>
          <p:cNvSpPr/>
          <p:nvPr/>
        </p:nvSpPr>
        <p:spPr>
          <a:xfrm>
            <a:off x="1143000" y="114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do on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0"/>
          <p:cNvSpPr/>
          <p:nvPr/>
        </p:nvSpPr>
        <p:spPr>
          <a:xfrm>
            <a:off x="6934320" y="1143000"/>
            <a:ext cx="175248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1"/>
          <p:cNvSpPr/>
          <p:nvPr/>
        </p:nvSpPr>
        <p:spPr>
          <a:xfrm>
            <a:off x="731520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2"/>
          <p:cNvSpPr/>
          <p:nvPr/>
        </p:nvSpPr>
        <p:spPr>
          <a:xfrm>
            <a:off x="16765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3"/>
          <p:cNvSpPr/>
          <p:nvPr/>
        </p:nvSpPr>
        <p:spPr>
          <a:xfrm>
            <a:off x="2666880" y="3733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e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4"/>
          <p:cNvSpPr/>
          <p:nvPr/>
        </p:nvSpPr>
        <p:spPr>
          <a:xfrm>
            <a:off x="38098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5"/>
          <p:cNvSpPr/>
          <p:nvPr/>
        </p:nvSpPr>
        <p:spPr>
          <a:xfrm>
            <a:off x="50292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6"/>
          <p:cNvSpPr/>
          <p:nvPr/>
        </p:nvSpPr>
        <p:spPr>
          <a:xfrm>
            <a:off x="6400800" y="3733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e 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467480" y="37339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19240"/>
          <p:cNvPicPr/>
          <p:nvPr/>
        </p:nvPicPr>
        <p:blipFill>
          <a:blip r:embed="rId1"/>
          <a:stretch/>
        </p:blipFill>
        <p:spPr>
          <a:xfrm>
            <a:off x="2438280" y="4267080"/>
            <a:ext cx="1546200" cy="722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97509-0l"/>
          <p:cNvPicPr/>
          <p:nvPr/>
        </p:nvPicPr>
        <p:blipFill>
          <a:blip r:embed="rId2"/>
          <a:stretch/>
        </p:blipFill>
        <p:spPr>
          <a:xfrm>
            <a:off x="611280" y="4038480"/>
            <a:ext cx="990360" cy="992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1177580337_large"/>
          <p:cNvPicPr/>
          <p:nvPr/>
        </p:nvPicPr>
        <p:blipFill>
          <a:blip r:embed="rId3"/>
          <a:stretch/>
        </p:blipFill>
        <p:spPr>
          <a:xfrm>
            <a:off x="7238880" y="4038480"/>
            <a:ext cx="1382760" cy="966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untitled"/>
          <p:cNvPicPr/>
          <p:nvPr/>
        </p:nvPicPr>
        <p:blipFill>
          <a:blip r:embed="rId4"/>
          <a:srcRect l="0" t="0" r="3927" b="21262"/>
          <a:stretch/>
        </p:blipFill>
        <p:spPr>
          <a:xfrm>
            <a:off x="457200" y="5486400"/>
            <a:ext cx="1255680" cy="685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ma2_013"/>
          <p:cNvPicPr/>
          <p:nvPr/>
        </p:nvPicPr>
        <p:blipFill>
          <a:blip r:embed="rId5"/>
          <a:stretch/>
        </p:blipFill>
        <p:spPr>
          <a:xfrm>
            <a:off x="3352680" y="5334120"/>
            <a:ext cx="1155960" cy="903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xiuxianyule1_0366"/>
          <p:cNvPicPr/>
          <p:nvPr/>
        </p:nvPicPr>
        <p:blipFill>
          <a:blip r:embed="rId6"/>
          <a:stretch/>
        </p:blipFill>
        <p:spPr>
          <a:xfrm>
            <a:off x="5791320" y="5486400"/>
            <a:ext cx="1143000" cy="819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6094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23623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0292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7162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457200" y="6172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(a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297180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a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6781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t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5800" y="1371600"/>
          <a:ext cx="7848720" cy="2455920"/>
        </p:xfrm>
        <a:graphic>
          <a:graphicData uri="http://schemas.openxmlformats.org/drawingml/2006/table">
            <a:tbl>
              <a:tblPr/>
              <a:tblGrid>
                <a:gridCol w="927000"/>
                <a:gridCol w="978120"/>
                <a:gridCol w="1066680"/>
                <a:gridCol w="1066680"/>
                <a:gridCol w="1600200"/>
                <a:gridCol w="1143000"/>
                <a:gridCol w="106704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幼圆"/>
                          <a:ea typeface="幼圆"/>
                        </a:rPr>
                        <a:t>My fri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Picture 49" descr="xin_0720905080731296969151"/>
          <p:cNvPicPr/>
          <p:nvPr/>
        </p:nvPicPr>
        <p:blipFill>
          <a:blip r:embed="rId7"/>
          <a:srcRect l="0" t="0" r="0" b="12267"/>
          <a:stretch/>
        </p:blipFill>
        <p:spPr>
          <a:xfrm>
            <a:off x="4724280" y="4114800"/>
            <a:ext cx="1648080" cy="995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0" descr="a1"/>
          <p:cNvPicPr/>
          <p:nvPr/>
        </p:nvPicPr>
        <p:blipFill>
          <a:blip r:embed="rId8"/>
          <a:srcRect l="0" t="0" r="0" b="54772"/>
          <a:stretch/>
        </p:blipFill>
        <p:spPr>
          <a:xfrm>
            <a:off x="228600" y="0"/>
            <a:ext cx="838080" cy="669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1" descr="a3"/>
          <p:cNvPicPr/>
          <p:nvPr/>
        </p:nvPicPr>
        <p:blipFill>
          <a:blip r:embed="rId9"/>
          <a:srcRect l="0" t="8111" r="0" b="54056"/>
          <a:stretch/>
        </p:blipFill>
        <p:spPr>
          <a:xfrm>
            <a:off x="228600" y="762120"/>
            <a:ext cx="914400" cy="4492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2"/>
          <p:cNvSpPr/>
          <p:nvPr/>
        </p:nvSpPr>
        <p:spPr>
          <a:xfrm>
            <a:off x="1371600" y="228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do on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3"/>
          <p:cNvSpPr/>
          <p:nvPr/>
        </p:nvSpPr>
        <p:spPr>
          <a:xfrm>
            <a:off x="1447920" y="685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4"/>
          <p:cNvSpPr/>
          <p:nvPr/>
        </p:nvSpPr>
        <p:spPr>
          <a:xfrm>
            <a:off x="1600200" y="2286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5"/>
          <p:cNvSpPr/>
          <p:nvPr/>
        </p:nvSpPr>
        <p:spPr>
          <a:xfrm>
            <a:off x="2590920" y="2286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e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6"/>
          <p:cNvSpPr/>
          <p:nvPr/>
        </p:nvSpPr>
        <p:spPr>
          <a:xfrm>
            <a:off x="373392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7"/>
          <p:cNvSpPr/>
          <p:nvPr/>
        </p:nvSpPr>
        <p:spPr>
          <a:xfrm>
            <a:off x="495288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400800" y="2209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he 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9"/>
          <p:cNvSpPr/>
          <p:nvPr/>
        </p:nvSpPr>
        <p:spPr>
          <a:xfrm>
            <a:off x="7467480" y="220968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1143000" y="990720"/>
            <a:ext cx="4876920" cy="495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371600" y="1143000"/>
            <a:ext cx="50292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Let’s 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: He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: 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: What day is it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: It’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: What do you do on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: I … What about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: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990720" y="1905120"/>
            <a:ext cx="624816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Comic Sans MS"/>
              </a:rPr>
              <a:t>Goodbye!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云形标注2 311"/>
          <p:cNvSpPr/>
          <p:nvPr/>
        </p:nvSpPr>
        <p:spPr>
          <a:xfrm>
            <a:off x="5029200" y="3048120"/>
            <a:ext cx="3657600" cy="838080"/>
          </a:xfrm>
          <a:custGeom>
            <a:avLst/>
            <a:gdLst/>
            <a:ahLst/>
            <a:rect l="l" t="t" r="r" b="b"/>
            <a:pathLst>
              <a:path w="2590131" h="1711271">
                <a:moveTo>
                  <a:pt x="1308079" y="1"/>
                </a:moveTo>
                <a:cubicBezTo>
                  <a:pt x="1566396" y="-107"/>
                  <a:pt x="1752248" y="158703"/>
                  <a:pt x="1824329" y="234217"/>
                </a:cubicBezTo>
                <a:cubicBezTo>
                  <a:pt x="2958405" y="74951"/>
                  <a:pt x="2675572" y="1414975"/>
                  <a:pt x="1989086" y="1263947"/>
                </a:cubicBezTo>
                <a:lnTo>
                  <a:pt x="1981650" y="1265904"/>
                </a:lnTo>
                <a:cubicBezTo>
                  <a:pt x="1981624" y="1266183"/>
                  <a:pt x="1981599" y="1266461"/>
                  <a:pt x="1981573" y="1266740"/>
                </a:cubicBezTo>
                <a:cubicBezTo>
                  <a:pt x="1969032" y="1345227"/>
                  <a:pt x="1945334" y="1429962"/>
                  <a:pt x="1912938" y="1496165"/>
                </a:cubicBezTo>
                <a:cubicBezTo>
                  <a:pt x="1870183" y="1579875"/>
                  <a:pt x="1838329" y="1707330"/>
                  <a:pt x="1517453" y="1711271"/>
                </a:cubicBezTo>
                <a:cubicBezTo>
                  <a:pt x="1626176" y="1677603"/>
                  <a:pt x="1749492" y="1546894"/>
                  <a:pt x="1696726" y="1363880"/>
                </a:cubicBezTo>
                <a:lnTo>
                  <a:pt x="1687689" y="1343262"/>
                </a:lnTo>
                <a:lnTo>
                  <a:pt x="1676048" y="1346325"/>
                </a:lnTo>
                <a:cubicBezTo>
                  <a:pt x="1501091" y="1409580"/>
                  <a:pt x="1382653" y="1608349"/>
                  <a:pt x="854235" y="1318790"/>
                </a:cubicBezTo>
                <a:lnTo>
                  <a:pt x="765530" y="1259338"/>
                </a:lnTo>
                <a:lnTo>
                  <a:pt x="762632" y="1260911"/>
                </a:lnTo>
                <a:cubicBezTo>
                  <a:pt x="700440" y="1287215"/>
                  <a:pt x="632064" y="1301761"/>
                  <a:pt x="560291" y="1301761"/>
                </a:cubicBezTo>
                <a:lnTo>
                  <a:pt x="519829" y="1301761"/>
                </a:lnTo>
                <a:cubicBezTo>
                  <a:pt x="232735" y="1301761"/>
                  <a:pt x="0" y="1069026"/>
                  <a:pt x="0" y="781932"/>
                </a:cubicBezTo>
                <a:lnTo>
                  <a:pt x="0" y="741470"/>
                </a:lnTo>
                <a:cubicBezTo>
                  <a:pt x="0" y="454376"/>
                  <a:pt x="232735" y="221641"/>
                  <a:pt x="519829" y="221641"/>
                </a:cubicBezTo>
                <a:lnTo>
                  <a:pt x="560291" y="221641"/>
                </a:lnTo>
                <a:cubicBezTo>
                  <a:pt x="596178" y="221641"/>
                  <a:pt x="631215" y="225278"/>
                  <a:pt x="665055" y="232202"/>
                </a:cubicBezTo>
                <a:lnTo>
                  <a:pt x="760997" y="261984"/>
                </a:lnTo>
                <a:cubicBezTo>
                  <a:pt x="873847" y="209808"/>
                  <a:pt x="1049762" y="109"/>
                  <a:pt x="1308079" y="1"/>
                </a:cubicBezTo>
                <a:close/>
              </a:path>
            </a:pathLst>
          </a:custGeom>
          <a:solidFill>
            <a:srgbClr val="83b40d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1219320" y="1371600"/>
            <a:ext cx="411480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83b40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on11-1"/>
          <p:cNvPicPr/>
          <p:nvPr/>
        </p:nvPicPr>
        <p:blipFill>
          <a:blip r:embed="rId1"/>
          <a:stretch/>
        </p:blipFill>
        <p:spPr>
          <a:xfrm>
            <a:off x="1447920" y="1523880"/>
            <a:ext cx="3746520" cy="50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on11-2h"/>
          <p:cNvPicPr/>
          <p:nvPr/>
        </p:nvPicPr>
        <p:blipFill>
          <a:blip r:embed="rId2"/>
          <a:stretch/>
        </p:blipFill>
        <p:spPr>
          <a:xfrm>
            <a:off x="5867280" y="3124080"/>
            <a:ext cx="2210040" cy="495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1"/>
          <p:cNvPicPr/>
          <p:nvPr/>
        </p:nvPicPr>
        <p:blipFill>
          <a:blip r:embed="rId3"/>
          <a:stretch/>
        </p:blipFill>
        <p:spPr>
          <a:xfrm>
            <a:off x="152280" y="1905120"/>
            <a:ext cx="180972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3"/>
          <p:cNvPicPr/>
          <p:nvPr/>
        </p:nvPicPr>
        <p:blipFill>
          <a:blip r:embed="rId4"/>
          <a:stretch/>
        </p:blipFill>
        <p:spPr>
          <a:xfrm>
            <a:off x="5715000" y="3657600"/>
            <a:ext cx="217476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1676520" y="373392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t002a1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t002a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标注3 314"/>
          <p:cNvSpPr/>
          <p:nvPr/>
        </p:nvSpPr>
        <p:spPr>
          <a:xfrm>
            <a:off x="5029200" y="838080"/>
            <a:ext cx="3962520" cy="1371600"/>
          </a:xfrm>
          <a:custGeom>
            <a:avLst/>
            <a:gdLst/>
            <a:ahLst/>
            <a:rect l="l" t="t" r="r" b="b"/>
            <a:pathLst>
              <a:path w="935330" h="460000">
                <a:moveTo>
                  <a:pt x="153754" y="0"/>
                </a:moveTo>
                <a:lnTo>
                  <a:pt x="781576" y="0"/>
                </a:lnTo>
                <a:cubicBezTo>
                  <a:pt x="866492" y="0"/>
                  <a:pt x="935330" y="68838"/>
                  <a:pt x="935330" y="153754"/>
                </a:cubicBezTo>
                <a:cubicBezTo>
                  <a:pt x="935330" y="238670"/>
                  <a:pt x="866492" y="307508"/>
                  <a:pt x="781576" y="307508"/>
                </a:cubicBezTo>
                <a:lnTo>
                  <a:pt x="295997" y="307508"/>
                </a:lnTo>
                <a:lnTo>
                  <a:pt x="99282" y="460000"/>
                </a:lnTo>
                <a:lnTo>
                  <a:pt x="209707" y="307508"/>
                </a:lnTo>
                <a:lnTo>
                  <a:pt x="153754" y="307508"/>
                </a:lnTo>
                <a:cubicBezTo>
                  <a:pt x="68838" y="307508"/>
                  <a:pt x="0" y="238670"/>
                  <a:pt x="0" y="153754"/>
                </a:cubicBezTo>
                <a:cubicBezTo>
                  <a:pt x="0" y="68838"/>
                  <a:pt x="68838" y="0"/>
                  <a:pt x="153754" y="0"/>
                </a:cubicBezTo>
                <a:close/>
              </a:path>
            </a:pathLst>
          </a:custGeom>
          <a:solidFill>
            <a:srgbClr val="83b40d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540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标注2 313"/>
          <p:cNvSpPr/>
          <p:nvPr/>
        </p:nvSpPr>
        <p:spPr>
          <a:xfrm>
            <a:off x="228600" y="1600200"/>
            <a:ext cx="3352680" cy="1447920"/>
          </a:xfrm>
          <a:custGeom>
            <a:avLst/>
            <a:gdLst/>
            <a:ahLst/>
            <a:rect l="l" t="t" r="r" b="b"/>
            <a:pathLst>
              <a:path w="648072" h="571214">
                <a:moveTo>
                  <a:pt x="0" y="0"/>
                </a:moveTo>
                <a:lnTo>
                  <a:pt x="648072" y="0"/>
                </a:lnTo>
                <a:lnTo>
                  <a:pt x="648072" y="432048"/>
                </a:lnTo>
                <a:lnTo>
                  <a:pt x="404753" y="432048"/>
                </a:lnTo>
                <a:lnTo>
                  <a:pt x="324037" y="571214"/>
                </a:lnTo>
                <a:lnTo>
                  <a:pt x="243321" y="432048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on2-1"/>
          <p:cNvPicPr/>
          <p:nvPr/>
        </p:nvPicPr>
        <p:blipFill>
          <a:blip r:embed="rId1"/>
          <a:stretch/>
        </p:blipFill>
        <p:spPr>
          <a:xfrm>
            <a:off x="533520" y="1676520"/>
            <a:ext cx="269244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on2-2h"/>
          <p:cNvPicPr/>
          <p:nvPr/>
        </p:nvPicPr>
        <p:blipFill>
          <a:blip r:embed="rId2"/>
          <a:stretch/>
        </p:blipFill>
        <p:spPr>
          <a:xfrm>
            <a:off x="5486400" y="838080"/>
            <a:ext cx="2755800" cy="97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a1"/>
          <p:cNvPicPr/>
          <p:nvPr/>
        </p:nvPicPr>
        <p:blipFill>
          <a:blip r:embed="rId3"/>
          <a:stretch/>
        </p:blipFill>
        <p:spPr>
          <a:xfrm>
            <a:off x="380880" y="2743200"/>
            <a:ext cx="180972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3"/>
          <p:cNvPicPr/>
          <p:nvPr/>
        </p:nvPicPr>
        <p:blipFill>
          <a:blip r:embed="rId4"/>
          <a:stretch/>
        </p:blipFill>
        <p:spPr>
          <a:xfrm>
            <a:off x="3733920" y="1981080"/>
            <a:ext cx="2292120" cy="297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office6\wpsassist\cache\A000220150318I76PPIC"/>
          <p:cNvPicPr/>
          <p:nvPr/>
        </p:nvPicPr>
        <p:blipFill>
          <a:blip r:embed="rId5"/>
          <a:stretch/>
        </p:blipFill>
        <p:spPr>
          <a:xfrm>
            <a:off x="6248520" y="2362320"/>
            <a:ext cx="22161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t002a1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t002a1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23880" y="1295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4114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295280" y="114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838080" y="1219320"/>
            <a:ext cx="2133720" cy="25905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-7"/>
          <p:cNvPicPr/>
          <p:nvPr/>
        </p:nvPicPr>
        <p:blipFill>
          <a:blip r:embed="rId1"/>
          <a:stretch/>
        </p:blipFill>
        <p:spPr>
          <a:xfrm>
            <a:off x="762120" y="1752480"/>
            <a:ext cx="2076480" cy="1873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048120" y="2133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Su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971800" y="2895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you do on 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124080" y="35812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socc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533520" y="1295280"/>
            <a:ext cx="2361600" cy="2743200"/>
            <a:chOff x="533520" y="1295280"/>
            <a:chExt cx="2361600" cy="2743200"/>
          </a:xfrm>
        </p:grpSpPr>
        <p:sp>
          <p:nvSpPr>
            <p:cNvPr id="154" name="Text Box 4"/>
            <p:cNvSpPr/>
            <p:nvPr/>
          </p:nvSpPr>
          <p:spPr>
            <a:xfrm>
              <a:off x="990360" y="129528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09480" y="1295280"/>
              <a:ext cx="1828440" cy="274320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6" descr="B-4"/>
            <p:cNvPicPr/>
            <p:nvPr/>
          </p:nvPicPr>
          <p:blipFill>
            <a:blip r:embed="rId1"/>
            <a:stretch/>
          </p:blipFill>
          <p:spPr>
            <a:xfrm>
              <a:off x="533520" y="2057400"/>
              <a:ext cx="2076120" cy="19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7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048120" y="2133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971800" y="2895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you do on Mo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124080" y="3581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the vio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80880" y="4724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533520" y="1371600"/>
            <a:ext cx="2286000" cy="2895480"/>
            <a:chOff x="533520" y="1371600"/>
            <a:chExt cx="2286000" cy="2895480"/>
          </a:xfrm>
        </p:grpSpPr>
        <p:sp>
          <p:nvSpPr>
            <p:cNvPr id="163" name="Text Box 4"/>
            <p:cNvSpPr/>
            <p:nvPr/>
          </p:nvSpPr>
          <p:spPr>
            <a:xfrm>
              <a:off x="954720" y="1371600"/>
              <a:ext cx="186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533520" y="1371600"/>
              <a:ext cx="2225880" cy="289548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6" descr="B-6"/>
            <p:cNvPicPr/>
            <p:nvPr/>
          </p:nvPicPr>
          <p:blipFill>
            <a:blip r:embed="rId1"/>
            <a:stretch/>
          </p:blipFill>
          <p:spPr>
            <a:xfrm>
              <a:off x="593640" y="2362320"/>
              <a:ext cx="2052720" cy="18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7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048120" y="2133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Tu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048120" y="28954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you do on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124080" y="3581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 ping-p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04920" y="47242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457200" y="1295280"/>
            <a:ext cx="2514600" cy="2590920"/>
            <a:chOff x="457200" y="1295280"/>
            <a:chExt cx="2514600" cy="2590920"/>
          </a:xfrm>
        </p:grpSpPr>
        <p:sp>
          <p:nvSpPr>
            <p:cNvPr id="172" name="Text Box 4"/>
            <p:cNvSpPr/>
            <p:nvPr/>
          </p:nvSpPr>
          <p:spPr>
            <a:xfrm>
              <a:off x="1143000" y="12952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W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457200" y="1295280"/>
              <a:ext cx="2514600" cy="25909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6" descr="B-5"/>
            <p:cNvPicPr/>
            <p:nvPr/>
          </p:nvPicPr>
          <p:blipFill>
            <a:blip r:embed="rId1"/>
            <a:stretch/>
          </p:blipFill>
          <p:spPr>
            <a:xfrm>
              <a:off x="685800" y="1904760"/>
              <a:ext cx="19162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7"/>
          <p:cNvSpPr/>
          <p:nvPr/>
        </p:nvSpPr>
        <p:spPr>
          <a:xfrm>
            <a:off x="3048120" y="1219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048120" y="2133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Wedn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048120" y="28954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you do on Wedn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048120" y="3657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baske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80880" y="47242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219320" y="1295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3520" y="1295280"/>
            <a:ext cx="2590560" cy="32767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B-2"/>
          <p:cNvPicPr/>
          <p:nvPr/>
        </p:nvPicPr>
        <p:blipFill>
          <a:blip r:embed="rId1"/>
          <a:stretch/>
        </p:blipFill>
        <p:spPr>
          <a:xfrm>
            <a:off x="685800" y="20574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3429000" y="1339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29000" y="2254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t’s Thur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429000" y="31240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you do on Thur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505320" y="3930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 play  the pi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47,-5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0:11:42Z</dcterms:created>
  <dc:creator/>
  <dc:description/>
  <cp:keywords/>
  <dc:language>en-US</dc:language>
  <cp:lastModifiedBy>陶沙</cp:lastModifiedBy>
  <dcterms:modified xsi:type="dcterms:W3CDTF">2015-06-04T07:42:14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NXTAG2">
    <vt:lpwstr>000800fce2000000000001024120</vt:lpwstr>
  </property>
  <property fmtid="{D5CDD505-2E9C-101B-9397-08002B2CF9AE}" pid="4" name="Version">
    <vt:r8>1</vt:r8>
  </property>
</Properties>
</file>