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D%E8%83%8C%E6%99%AF.wav" ContentType="audio/x-wav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dt" idx="25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7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D7A5-E74A-48B7-B332-A8BDA5A002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页面中单击鼠标出算式。单击返回键回到主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页面中单击鼠标出算式。单击返回键回到主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3976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1160" y="4340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页面中单击鼠标出算式。单击返回键回到主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E09-F57A-4245-8A34-A8FD8F04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241-C0B8-479D-AD3D-649BAF2F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673-00AB-425A-AC80-A98501C9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20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20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816-AB5D-4213-818B-1B3C8A51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5E0E-9ACE-452F-8D7E-859891E0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7EE5-B948-4F1D-A0B8-690AA9E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09F4-4DD3-43EC-9AD4-171A5108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1749-478D-41B2-A8EE-D5CCAD37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6D69-10C6-4957-BA10-480E205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640" y="255240"/>
            <a:ext cx="80899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7A64-03F9-4400-815B-7D3C3B4E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2654-0E28-46DA-A382-DE03D84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B34-90EB-4F79-9E72-E301A1AF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BD23-A566-4AE7-8080-43B35AA2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75A-891A-4B35-B883-1FE69625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38F3-8827-4328-BB16-5A80F8B0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2C76-71BF-4B22-9321-33A3087D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092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20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64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092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20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C0DB-A763-4B61-829E-EE5B7AD4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ED6A-B2B2-405B-964D-A3628A81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28D4-0D0A-4ABE-916A-82D2CB8E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FC32-C6A7-4869-AE1D-AD2CED4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B086-F98B-4F59-829A-DCCB8D31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316F-EE47-4625-BCE9-3069BCFA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3D7-EB97-4D03-A2B9-0DCD6732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85640" y="255240"/>
            <a:ext cx="80899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7493-3591-49AF-B7B4-77A34E5B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41A5-6C6E-4981-98B5-32D4382B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DA55-F21F-485D-A84B-83DF0393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D50B-BFFF-41C6-ABEA-25907BE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79BDE-07AE-4D5A-B977-89C5AFDA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D76A-6A7B-4F62-9D10-082C253C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092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5620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564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092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5620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CFBD-AB0C-4409-81EE-3B47DF2E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C977-820F-48F2-862B-4AD57121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4603-CE8E-4BD1-8DDB-45B0AE4D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414ED-0BA0-4942-9DA2-B6D7E405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E17-48B7-49F0-9EFA-682F0647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30E5-551F-4086-B319-18A02F58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B166-7A78-45DE-94B9-6F535CAA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85640" y="255240"/>
            <a:ext cx="80899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3249-FE82-4318-9251-C3A6DADF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D161-7353-45B2-8542-271F3D86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A7C7F-0671-40B9-85A5-E7E3EA9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3DAF-DF36-4B1D-BF6C-E6787E6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3E3FA-181C-4137-BA59-150257FE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F96B-AF0C-473C-83C1-244EA46A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092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5620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564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092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5620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800A-A487-4741-8B39-1E409D4B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D96AB-02D1-44B5-8814-4DCD6DB0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6B3-E272-47B0-B8B1-F60B604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885A-0418-49EB-8FC5-94CD317A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0B313-AA3D-4745-B961-A8B6826B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4355E-54D7-4CDF-95ED-ECB25E1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B669C-457E-47A4-A411-A3A4D3DE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85640" y="255240"/>
            <a:ext cx="80899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97D06-ACCF-43B9-892E-182D84D5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2FC36-8221-4736-9ABC-C0640D8A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739F-EC86-4B9B-9B51-CE25F70E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5DF65-2849-4764-9B91-E6E49FC7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8563-E7D6-4903-A286-9163B83E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A582-199D-4A1B-B272-B9B38C0D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5240"/>
            <a:ext cx="80899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34E-BB1E-48C1-B494-A7DFA321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2092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5620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564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2092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5620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C2AC-671E-4567-BB0A-33668E19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10B1-D061-4DB2-9612-2F17CB13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3BE83-F099-437D-8F6D-F4B6DBEE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A0805-4377-42B7-A7BB-35E049D9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4FC6A-1F38-4449-BF4C-D63699E6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DE8D7-031D-4E11-A332-63D744D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85640" y="255240"/>
            <a:ext cx="80899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5A119-3805-41DC-A0A6-A209D68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1AECA-E233-4137-A0F5-50CE8C4F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D03B-A914-46C7-89AC-C53B03B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D8A5C-EC5F-454F-AA68-DAB3149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08E-FAC0-4A8D-9A51-5348D0EA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266BE-DDCC-4113-8AD4-362E71D9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5646-F085-4569-9AC4-3648BECC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092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5620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564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092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5620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4ADE-2737-418E-9553-1B59F2F3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72C4-D61D-469E-BC08-A518DBF2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61A40-5414-491E-92FF-2A100FB7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896DE-DB9A-4C69-BF7A-D889CB35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D0A9F-CE5F-40D9-9D12-230B3AD2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BE2C2-0137-4632-B686-B74B8491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85640" y="255240"/>
            <a:ext cx="80899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DD57E-D8EF-4A25-8D52-8B797F79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4AE45-1623-4DB3-85A1-B038A78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012-06B3-4C48-BED1-75B516BB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622B1-3746-44DA-BAD8-2E7E21B7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704B4-CE6F-462D-BE0E-B7AF480E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DEE18-6B49-48E5-ADE9-D20C3D6A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92E9-4201-4F4D-963B-659BA2E7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2092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5620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8564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2092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5620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98D6B-AECE-421F-B3DA-7F377745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86839-3290-4312-9A01-038D4E76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68C28-386E-4A05-9374-D59BBDAF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76BDA-3D8D-4270-80C9-3847F442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623A8-B75B-45E0-995E-21C429BD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3ECD4-549A-4C41-8A15-5271953D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448-E6F7-43E0-9C78-D79FE96A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85640" y="255240"/>
            <a:ext cx="80899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37D53-BAF0-4413-A034-D72005FA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3C7CF-13F3-4282-B7D5-AD3DFAB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A613B-526F-4A45-864F-A212A37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B5FCA-BAE0-4DF9-B633-F2578356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5640" y="3908160"/>
            <a:ext cx="80899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C54EC-D424-4679-895A-1F9CD21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31040" y="111600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856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31040" y="3908160"/>
            <a:ext cx="39477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A2B72-C97C-4D55-BCEA-588C5B4E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8564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2092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56200" y="111600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564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2092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56200" y="3908160"/>
            <a:ext cx="2604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AF0F6-4D06-45B9-B499-E3088F8B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617C-A472-4AC5-BEF5-1F34BB021D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24DF-8C27-4A4D-9CBB-7048796E6B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513D-9EC2-4CDD-BAA6-F95D9A3FB7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9C80-0561-4D8B-B263-BDE7BEDA6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1218-B1BA-40E9-8A89-59F427E8A3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3DDC-46A7-468E-A1FD-7FB9E5FDD5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矩形 11"/>
          <p:cNvGrpSpPr/>
          <p:nvPr/>
        </p:nvGrpSpPr>
        <p:grpSpPr>
          <a:xfrm>
            <a:off x="0" y="0"/>
            <a:ext cx="9150480" cy="6888240"/>
            <a:chOff x="0" y="0"/>
            <a:chExt cx="9150480" cy="6888240"/>
          </a:xfrm>
        </p:grpSpPr>
        <p:pic>
          <p:nvPicPr>
            <p:cNvPr id="245" name="矩形 1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0480" cy="68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0" y="0"/>
              <a:ext cx="9147240" cy="68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85640" y="1116000"/>
            <a:ext cx="808992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47b6e7"/>
              </a:buClr>
              <a:buSzPct val="60000"/>
              <a:buFont typeface="Wingdings 2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5f5f5f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f5f5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f5f5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a93c8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0DF6-2EB4-4042-8B92-D5BA561B3F3A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title"/>
          </p:nvPr>
        </p:nvSpPr>
        <p:spPr>
          <a:xfrm>
            <a:off x="485640" y="255240"/>
            <a:ext cx="8089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1a93c8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252" name="直接连接符 8"/>
          <p:cNvSpPr/>
          <p:nvPr/>
        </p:nvSpPr>
        <p:spPr>
          <a:xfrm flipH="1">
            <a:off x="57240" y="6480000"/>
            <a:ext cx="8980560" cy="0"/>
          </a:xfrm>
          <a:prstGeom prst="line">
            <a:avLst/>
          </a:prstGeom>
          <a:ln w="15840">
            <a:solidFill>
              <a:srgbClr val="28a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Freeform 5"/>
          <p:cNvGrpSpPr/>
          <p:nvPr/>
        </p:nvGrpSpPr>
        <p:grpSpPr>
          <a:xfrm>
            <a:off x="5595840" y="5657760"/>
            <a:ext cx="3193920" cy="822240"/>
            <a:chOff x="5595840" y="5657760"/>
            <a:chExt cx="3193920" cy="822240"/>
          </a:xfrm>
        </p:grpSpPr>
        <p:pic>
          <p:nvPicPr>
            <p:cNvPr id="254" name="Freeform 5" descr=""/>
            <p:cNvPicPr/>
            <p:nvPr/>
          </p:nvPicPr>
          <p:blipFill>
            <a:blip r:embed="rId3"/>
            <a:stretch/>
          </p:blipFill>
          <p:spPr>
            <a:xfrm>
              <a:off x="5596920" y="5657760"/>
              <a:ext cx="31928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595840" y="5659200"/>
              <a:ext cx="31881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任意多边形 10"/>
          <p:cNvSpPr/>
          <p:nvPr/>
        </p:nvSpPr>
        <p:spPr>
          <a:xfrm flipV="1">
            <a:off x="244440" y="423360"/>
            <a:ext cx="8977320" cy="432000"/>
          </a:xfrm>
          <a:custGeom>
            <a:avLst/>
            <a:gdLst/>
            <a:ahLst/>
            <a:rect l="l" t="t" r="r" b="b"/>
            <a:pathLst>
              <a:path w="11969073" h="524933">
                <a:moveTo>
                  <a:pt x="167822" y="524933"/>
                </a:moveTo>
                <a:lnTo>
                  <a:pt x="168846" y="524933"/>
                </a:lnTo>
                <a:lnTo>
                  <a:pt x="168846" y="14598"/>
                </a:lnTo>
                <a:lnTo>
                  <a:pt x="1386790" y="14598"/>
                </a:lnTo>
                <a:lnTo>
                  <a:pt x="11969073" y="0"/>
                </a:lnTo>
                <a:lnTo>
                  <a:pt x="167822" y="0"/>
                </a:lnTo>
                <a:lnTo>
                  <a:pt x="152999" y="0"/>
                </a:lnTo>
                <a:lnTo>
                  <a:pt x="152999" y="507260"/>
                </a:lnTo>
                <a:lnTo>
                  <a:pt x="107280" y="507260"/>
                </a:lnTo>
                <a:lnTo>
                  <a:pt x="107280" y="0"/>
                </a:lnTo>
                <a:lnTo>
                  <a:pt x="0" y="0"/>
                </a:lnTo>
                <a:lnTo>
                  <a:pt x="0" y="524932"/>
                </a:lnTo>
                <a:lnTo>
                  <a:pt x="33834" y="524932"/>
                </a:lnTo>
                <a:lnTo>
                  <a:pt x="33834" y="23810"/>
                </a:lnTo>
                <a:lnTo>
                  <a:pt x="79553" y="23810"/>
                </a:lnTo>
                <a:lnTo>
                  <a:pt x="79553" y="524932"/>
                </a:lnTo>
                <a:lnTo>
                  <a:pt x="167822" y="524932"/>
                </a:lnTo>
                <a:lnTo>
                  <a:pt x="167822" y="524933"/>
                </a:lnTo>
                <a:close/>
              </a:path>
            </a:pathLst>
          </a:custGeom>
          <a:solidFill>
            <a:srgbClr val="28a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矩形 12"/>
          <p:cNvGrpSpPr/>
          <p:nvPr/>
        </p:nvGrpSpPr>
        <p:grpSpPr>
          <a:xfrm>
            <a:off x="0" y="0"/>
            <a:ext cx="9150480" cy="6888240"/>
            <a:chOff x="0" y="0"/>
            <a:chExt cx="9150480" cy="6888240"/>
          </a:xfrm>
        </p:grpSpPr>
        <p:pic>
          <p:nvPicPr>
            <p:cNvPr id="294" name="矩形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0480" cy="68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0" y="0"/>
              <a:ext cx="9147240" cy="68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组合 13"/>
          <p:cNvGrpSpPr/>
          <p:nvPr/>
        </p:nvGrpSpPr>
        <p:grpSpPr>
          <a:xfrm>
            <a:off x="0" y="263520"/>
            <a:ext cx="9144000" cy="4676760"/>
            <a:chOff x="0" y="263520"/>
            <a:chExt cx="9144000" cy="4676760"/>
          </a:xfrm>
        </p:grpSpPr>
        <p:grpSp>
          <p:nvGrpSpPr>
            <p:cNvPr id="297" name="Freeform 5"/>
            <p:cNvGrpSpPr/>
            <p:nvPr/>
          </p:nvGrpSpPr>
          <p:grpSpPr>
            <a:xfrm>
              <a:off x="0" y="263520"/>
              <a:ext cx="9144000" cy="2352240"/>
              <a:chOff x="0" y="263520"/>
              <a:chExt cx="9144000" cy="2352240"/>
            </a:xfrm>
          </p:grpSpPr>
          <p:pic>
            <p:nvPicPr>
              <p:cNvPr id="298" name="Freeform 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63520"/>
                <a:ext cx="9144000" cy="23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0" y="264240"/>
                <a:ext cx="9138240" cy="23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矩形 15"/>
            <p:cNvSpPr/>
            <p:nvPr/>
          </p:nvSpPr>
          <p:spPr>
            <a:xfrm>
              <a:off x="0" y="2626920"/>
              <a:ext cx="9138240" cy="1713960"/>
            </a:xfrm>
            <a:prstGeom prst="rect">
              <a:avLst/>
            </a:prstGeom>
            <a:solidFill>
              <a:srgbClr val="28a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直接连接符 16"/>
            <p:cNvSpPr/>
            <p:nvPr/>
          </p:nvSpPr>
          <p:spPr>
            <a:xfrm>
              <a:off x="0" y="4373640"/>
              <a:ext cx="9138240" cy="0"/>
            </a:xfrm>
            <a:prstGeom prst="line">
              <a:avLst/>
            </a:prstGeom>
            <a:ln w="19080">
              <a:solidFill>
                <a:srgbClr val="28a9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直接连接符 17"/>
            <p:cNvSpPr/>
            <p:nvPr/>
          </p:nvSpPr>
          <p:spPr>
            <a:xfrm>
              <a:off x="0" y="4795200"/>
              <a:ext cx="3237840" cy="12600"/>
            </a:xfrm>
            <a:prstGeom prst="line">
              <a:avLst/>
            </a:prstGeom>
            <a:ln w="3240">
              <a:solidFill>
                <a:srgbClr val="28a9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直接连接符 18"/>
            <p:cNvSpPr/>
            <p:nvPr/>
          </p:nvSpPr>
          <p:spPr>
            <a:xfrm>
              <a:off x="0" y="4861440"/>
              <a:ext cx="3237840" cy="12600"/>
            </a:xfrm>
            <a:prstGeom prst="line">
              <a:avLst/>
            </a:prstGeom>
            <a:ln w="3240">
              <a:solidFill>
                <a:srgbClr val="28a9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直接连接符 19"/>
            <p:cNvSpPr/>
            <p:nvPr/>
          </p:nvSpPr>
          <p:spPr>
            <a:xfrm>
              <a:off x="0" y="4927680"/>
              <a:ext cx="3237840" cy="12600"/>
            </a:xfrm>
            <a:prstGeom prst="line">
              <a:avLst/>
            </a:prstGeom>
            <a:ln w="3240">
              <a:solidFill>
                <a:srgbClr val="28a9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直接连接符 20"/>
            <p:cNvSpPr/>
            <p:nvPr/>
          </p:nvSpPr>
          <p:spPr>
            <a:xfrm>
              <a:off x="5900040" y="4795200"/>
              <a:ext cx="3237840" cy="12600"/>
            </a:xfrm>
            <a:prstGeom prst="line">
              <a:avLst/>
            </a:prstGeom>
            <a:ln w="3240">
              <a:solidFill>
                <a:srgbClr val="28a9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直接连接符 21"/>
            <p:cNvSpPr/>
            <p:nvPr/>
          </p:nvSpPr>
          <p:spPr>
            <a:xfrm>
              <a:off x="5900040" y="4861440"/>
              <a:ext cx="3237840" cy="12600"/>
            </a:xfrm>
            <a:prstGeom prst="line">
              <a:avLst/>
            </a:prstGeom>
            <a:ln w="3240">
              <a:solidFill>
                <a:srgbClr val="28a9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直接连接符 22"/>
            <p:cNvSpPr/>
            <p:nvPr/>
          </p:nvSpPr>
          <p:spPr>
            <a:xfrm>
              <a:off x="5900040" y="4927680"/>
              <a:ext cx="3237840" cy="12600"/>
            </a:xfrm>
            <a:prstGeom prst="line">
              <a:avLst/>
            </a:prstGeom>
            <a:ln w="3240">
              <a:solidFill>
                <a:srgbClr val="28a9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EEEF-DB3B-46EB-8F72-CF21705E19E8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title"/>
          </p:nvPr>
        </p:nvSpPr>
        <p:spPr>
          <a:xfrm>
            <a:off x="714240" y="313992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1a93c8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1a93c8"/>
              </a:solidFill>
              <a:latin typeface="Times New Roman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7f7f7f"/>
              </a:solidFill>
              <a:latin typeface="Times New Roman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7f7f7f"/>
              </a:solidFill>
              <a:latin typeface="Times New Roman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7f7f7f"/>
              </a:solidFill>
              <a:latin typeface="Times New Roman"/>
            </a:endParaRPr>
          </a:p>
          <a:p>
            <a:pPr lvl="5" marL="1371600">
              <a:spcBef>
                <a:spcPts val="326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7f7f7f"/>
              </a:solidFill>
              <a:latin typeface="Times New Roman"/>
            </a:endParaRPr>
          </a:p>
          <a:p>
            <a:pPr lvl="6" marL="1371600">
              <a:spcBef>
                <a:spcPts val="326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image" Target="../media/image10.jpeg"/><Relationship Id="rId7" Type="http://schemas.openxmlformats.org/officeDocument/2006/relationships/image" Target="../media/image13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&#32972;&#26223;.wav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00000" y="1413000"/>
            <a:ext cx="762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Module 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Days of the wee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04920" y="2286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What day is it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9144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It’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6002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What do you do on 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22096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I  play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638680" y="0"/>
            <a:ext cx="3505320" cy="3888720"/>
            <a:chOff x="5638680" y="0"/>
            <a:chExt cx="3505320" cy="38887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5638680" y="0"/>
              <a:ext cx="35053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790960" y="297180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f5f5f"/>
                  </a:solidFill>
                  <a:latin typeface="Times New Roman"/>
                </a:rPr>
                <a:t>Thurs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562720" y="0"/>
            <a:ext cx="3581280" cy="3796920"/>
            <a:chOff x="5562720" y="0"/>
            <a:chExt cx="3581280" cy="3796920"/>
          </a:xfrm>
        </p:grpSpPr>
        <p:pic>
          <p:nvPicPr>
            <p:cNvPr id="422" name="" descr=""/>
            <p:cNvPicPr/>
            <p:nvPr/>
          </p:nvPicPr>
          <p:blipFill>
            <a:blip r:embed="rId2"/>
            <a:stretch/>
          </p:blipFill>
          <p:spPr>
            <a:xfrm>
              <a:off x="5562720" y="0"/>
              <a:ext cx="35812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5562720" y="2971800"/>
              <a:ext cx="358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f5f5f"/>
                  </a:solidFill>
                  <a:latin typeface="Times New Roman"/>
                </a:rPr>
                <a:t>Wednesda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28600" y="3124080"/>
            <a:ext cx="3429000" cy="3441960"/>
            <a:chOff x="228600" y="3124080"/>
            <a:chExt cx="3429000" cy="3441960"/>
          </a:xfrm>
        </p:grpSpPr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>
              <a:off x="228600" y="3124080"/>
              <a:ext cx="3429000" cy="25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28600" y="5740920"/>
              <a:ext cx="3429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Wednesda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029200" y="3124080"/>
            <a:ext cx="3790440" cy="3570840"/>
            <a:chOff x="5029200" y="3124080"/>
            <a:chExt cx="3790440" cy="3570840"/>
          </a:xfrm>
        </p:grpSpPr>
        <p:pic>
          <p:nvPicPr>
            <p:cNvPr id="428" name="" descr=""/>
            <p:cNvPicPr/>
            <p:nvPr/>
          </p:nvPicPr>
          <p:blipFill>
            <a:blip r:embed="rId4"/>
            <a:stretch/>
          </p:blipFill>
          <p:spPr>
            <a:xfrm>
              <a:off x="5029200" y="3124080"/>
              <a:ext cx="3790440" cy="27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193720" y="5778000"/>
              <a:ext cx="3048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Thurs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mb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04920" y="2286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What day is it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9144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It’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6002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What do you do on 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22096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I play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791320" y="0"/>
            <a:ext cx="3352680" cy="3279240"/>
            <a:chOff x="5791320" y="0"/>
            <a:chExt cx="3352680" cy="327924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5791320" y="0"/>
              <a:ext cx="33526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172200" y="2362320"/>
              <a:ext cx="243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f5f5f"/>
                  </a:solidFill>
                  <a:latin typeface="Times New Roman"/>
                </a:rPr>
                <a:t>Fri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791320" y="0"/>
            <a:ext cx="3352680" cy="3507840"/>
            <a:chOff x="5791320" y="0"/>
            <a:chExt cx="3352680" cy="3507840"/>
          </a:xfrm>
        </p:grpSpPr>
        <p:pic>
          <p:nvPicPr>
            <p:cNvPr id="438" name="" descr=""/>
            <p:cNvPicPr/>
            <p:nvPr/>
          </p:nvPicPr>
          <p:blipFill>
            <a:blip r:embed="rId2"/>
            <a:stretch/>
          </p:blipFill>
          <p:spPr>
            <a:xfrm>
              <a:off x="5791320" y="0"/>
              <a:ext cx="3352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5943600" y="259092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f5f5f"/>
                  </a:solidFill>
                  <a:latin typeface="Times New Roman"/>
                </a:rPr>
                <a:t>Satur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181480" y="3048120"/>
            <a:ext cx="3581280" cy="3507480"/>
            <a:chOff x="5181480" y="3048120"/>
            <a:chExt cx="3581280" cy="3507480"/>
          </a:xfrm>
        </p:grpSpPr>
        <p:pic>
          <p:nvPicPr>
            <p:cNvPr id="441" name="" descr=""/>
            <p:cNvPicPr/>
            <p:nvPr/>
          </p:nvPicPr>
          <p:blipFill>
            <a:blip r:embed="rId3"/>
            <a:stretch/>
          </p:blipFill>
          <p:spPr>
            <a:xfrm>
              <a:off x="5181480" y="3048120"/>
              <a:ext cx="358128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5343840" y="5638680"/>
              <a:ext cx="293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Satur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79280" y="3286080"/>
            <a:ext cx="4190760" cy="3389040"/>
            <a:chOff x="179280" y="3286080"/>
            <a:chExt cx="4190760" cy="3389040"/>
          </a:xfrm>
        </p:grpSpPr>
        <p:pic>
          <p:nvPicPr>
            <p:cNvPr id="444" name="" descr=""/>
            <p:cNvPicPr/>
            <p:nvPr/>
          </p:nvPicPr>
          <p:blipFill>
            <a:blip r:embed="rId4"/>
            <a:stretch/>
          </p:blipFill>
          <p:spPr>
            <a:xfrm>
              <a:off x="179280" y="3286080"/>
              <a:ext cx="4190760" cy="26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55200" y="5758200"/>
              <a:ext cx="304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Fri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3048120" cy="2206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33920" y="4572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wee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0" y="0"/>
            <a:ext cx="2209680" cy="2014560"/>
            <a:chOff x="0" y="0"/>
            <a:chExt cx="2209680" cy="201456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209680" cy="14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237240" y="1311120"/>
              <a:ext cx="185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28ee3"/>
                  </a:solidFill>
                  <a:latin typeface="Times New Roman"/>
                </a:rPr>
                <a:t>Sun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492360" y="44280"/>
            <a:ext cx="2209680" cy="2334600"/>
            <a:chOff x="3492360" y="44280"/>
            <a:chExt cx="2209680" cy="2334600"/>
          </a:xfrm>
        </p:grpSpPr>
        <p:pic>
          <p:nvPicPr>
            <p:cNvPr id="452" name="" descr=""/>
            <p:cNvPicPr/>
            <p:nvPr/>
          </p:nvPicPr>
          <p:blipFill>
            <a:blip r:embed="rId3"/>
            <a:stretch/>
          </p:blipFill>
          <p:spPr>
            <a:xfrm>
              <a:off x="3492360" y="44280"/>
              <a:ext cx="203544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667680" y="1675440"/>
              <a:ext cx="203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28ee3"/>
                  </a:solidFill>
                  <a:latin typeface="Times New Roman"/>
                </a:rPr>
                <a:t>Mon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588000" y="117360"/>
            <a:ext cx="2057040" cy="2149920"/>
            <a:chOff x="6588000" y="117360"/>
            <a:chExt cx="2057040" cy="2149920"/>
          </a:xfrm>
        </p:grpSpPr>
        <p:pic>
          <p:nvPicPr>
            <p:cNvPr id="455" name="" descr=""/>
            <p:cNvPicPr/>
            <p:nvPr/>
          </p:nvPicPr>
          <p:blipFill>
            <a:blip r:embed="rId4"/>
            <a:stretch/>
          </p:blipFill>
          <p:spPr>
            <a:xfrm>
              <a:off x="6588000" y="117360"/>
              <a:ext cx="1841040" cy="14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6642000" y="1563840"/>
              <a:ext cx="200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28ee3"/>
                  </a:solidFill>
                  <a:latin typeface="Times New Roman"/>
                </a:rPr>
                <a:t>Tues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79280" y="2060640"/>
            <a:ext cx="2819520" cy="2474640"/>
            <a:chOff x="179280" y="2060640"/>
            <a:chExt cx="2819520" cy="2474640"/>
          </a:xfrm>
        </p:grpSpPr>
        <p:pic>
          <p:nvPicPr>
            <p:cNvPr id="458" name="" descr=""/>
            <p:cNvPicPr/>
            <p:nvPr/>
          </p:nvPicPr>
          <p:blipFill>
            <a:blip r:embed="rId5"/>
            <a:stretch/>
          </p:blipFill>
          <p:spPr>
            <a:xfrm>
              <a:off x="179280" y="2060640"/>
              <a:ext cx="281952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179280" y="3831840"/>
              <a:ext cx="281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28ee3"/>
                  </a:solidFill>
                  <a:latin typeface="Times New Roman"/>
                </a:rPr>
                <a:t>Wednes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324480" y="2209680"/>
            <a:ext cx="2819520" cy="2519280"/>
            <a:chOff x="6324480" y="2209680"/>
            <a:chExt cx="2819520" cy="2519280"/>
          </a:xfrm>
        </p:grpSpPr>
        <p:pic>
          <p:nvPicPr>
            <p:cNvPr id="461" name="" descr=""/>
            <p:cNvPicPr/>
            <p:nvPr/>
          </p:nvPicPr>
          <p:blipFill>
            <a:blip r:embed="rId6"/>
            <a:stretch/>
          </p:blipFill>
          <p:spPr>
            <a:xfrm>
              <a:off x="6324480" y="2209680"/>
              <a:ext cx="2819520" cy="186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449400" y="4025520"/>
              <a:ext cx="22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28ee3"/>
                  </a:solidFill>
                  <a:latin typeface="Times New Roman"/>
                </a:rPr>
                <a:t>Thurs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372360" y="4653000"/>
            <a:ext cx="2514600" cy="2190240"/>
            <a:chOff x="6372360" y="4653000"/>
            <a:chExt cx="2514600" cy="2190240"/>
          </a:xfrm>
        </p:grpSpPr>
        <p:pic>
          <p:nvPicPr>
            <p:cNvPr id="464" name="" descr=""/>
            <p:cNvPicPr/>
            <p:nvPr/>
          </p:nvPicPr>
          <p:blipFill>
            <a:blip r:embed="rId7"/>
            <a:stretch/>
          </p:blipFill>
          <p:spPr>
            <a:xfrm>
              <a:off x="6372360" y="4653000"/>
              <a:ext cx="2514600" cy="15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6485400" y="6139800"/>
              <a:ext cx="205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28ee3"/>
                  </a:solidFill>
                  <a:latin typeface="Times New Roman"/>
                </a:rPr>
                <a:t>Satur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24000" y="4581360"/>
            <a:ext cx="2590560" cy="2147040"/>
            <a:chOff x="324000" y="4581360"/>
            <a:chExt cx="2590560" cy="2147040"/>
          </a:xfrm>
        </p:grpSpPr>
        <p:pic>
          <p:nvPicPr>
            <p:cNvPr id="467" name="" descr=""/>
            <p:cNvPicPr/>
            <p:nvPr/>
          </p:nvPicPr>
          <p:blipFill>
            <a:blip r:embed="rId8"/>
            <a:stretch/>
          </p:blipFill>
          <p:spPr>
            <a:xfrm>
              <a:off x="324000" y="4581360"/>
              <a:ext cx="2590560" cy="15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617040" y="6024960"/>
              <a:ext cx="18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28ee3"/>
                  </a:solidFill>
                  <a:latin typeface="Times New Roman"/>
                </a:rPr>
                <a:t>Frida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25440" y="189000"/>
            <a:ext cx="88185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a93c8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1a93c8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nswer the questions</a:t>
            </a:r>
            <a:endParaRPr b="0" lang="en-US" sz="48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How many days in a week?</a:t>
            </a:r>
            <a:r>
              <a:rPr b="0" lang="zh-CN" sz="3600" spc="-1" strike="noStrike">
                <a:solidFill>
                  <a:srgbClr val="1a93c8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1a93c8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.</a:t>
            </a:r>
            <a:endParaRPr b="0" lang="en-US" sz="36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What are they? Chinese will be OK.</a:t>
            </a:r>
            <a:r>
              <a:rPr b="0" lang="zh-CN" sz="3600" spc="-1" strike="noStrike">
                <a:solidFill>
                  <a:srgbClr val="1a93c8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1a93c8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day, Tuesday, Wednesday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ursday,  Friday, Saturday and Sun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1a93c8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828720" y="2060640"/>
            <a:ext cx="676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Group work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( in a line each group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332000" y="1773360"/>
            <a:ext cx="7245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1:What day is it today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28ee3"/>
                </a:solidFill>
                <a:latin typeface="Times New Roman"/>
              </a:rPr>
              <a:t>S2:It’s  </a:t>
            </a:r>
            <a:r>
              <a:rPr b="1" i="1" lang="en-US" sz="4800" spc="-1" strike="noStrike" u="sng">
                <a:solidFill>
                  <a:srgbClr val="47b6e7"/>
                </a:solidFill>
                <a:uFillTx/>
                <a:latin typeface="Times New Roman"/>
              </a:rPr>
              <a:t>Monday</a:t>
            </a:r>
            <a:r>
              <a:rPr b="1" i="1" lang="en-US" sz="4800" spc="-1" strike="noStrike" u="sng">
                <a:solidFill>
                  <a:srgbClr val="628ee3"/>
                </a:solidFill>
                <a:uFillTx/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28ee3"/>
                </a:solidFill>
                <a:latin typeface="Times New Roman"/>
              </a:rPr>
              <a:t>S3:It’s </a:t>
            </a:r>
            <a:r>
              <a:rPr b="1" i="1" lang="en-US" sz="4800" spc="-1" strike="noStrike" u="sng">
                <a:solidFill>
                  <a:srgbClr val="47b6e7"/>
                </a:solidFill>
                <a:uFillTx/>
                <a:latin typeface="Times New Roman"/>
              </a:rPr>
              <a:t>Tuesday</a:t>
            </a:r>
            <a:r>
              <a:rPr b="1" i="1" lang="en-US" sz="4800" spc="-1" strike="noStrike" u="sng">
                <a:solidFill>
                  <a:srgbClr val="628ee3"/>
                </a:solidFill>
                <a:uFillTx/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28ee3"/>
                </a:solidFill>
                <a:latin typeface="Times New Roman"/>
              </a:rPr>
              <a:t>S4:It’s </a:t>
            </a:r>
            <a:r>
              <a:rPr b="1" i="1" lang="en-US" sz="4800" spc="-1" strike="noStrike" u="sng">
                <a:solidFill>
                  <a:srgbClr val="47b6e7"/>
                </a:solidFill>
                <a:uFillTx/>
                <a:latin typeface="Times New Roman"/>
              </a:rPr>
              <a:t>Wednesday</a:t>
            </a:r>
            <a:r>
              <a:rPr b="1" i="1" lang="en-US" sz="4800" spc="-1" strike="noStrike" u="sng">
                <a:solidFill>
                  <a:srgbClr val="628ee3"/>
                </a:solidFill>
                <a:uFillTx/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28ee3"/>
                </a:solidFill>
                <a:latin typeface="Times New Roman"/>
              </a:rPr>
              <a:t>S5:It’s </a:t>
            </a:r>
            <a:r>
              <a:rPr b="1" i="1" lang="en-US" sz="4800" spc="-1" strike="noStrike" u="sng">
                <a:solidFill>
                  <a:srgbClr val="47b6e7"/>
                </a:solidFill>
                <a:uFillTx/>
                <a:latin typeface="Times New Roman"/>
              </a:rPr>
              <a:t>Thursday</a:t>
            </a:r>
            <a:r>
              <a:rPr b="1" i="1" lang="en-US" sz="4800" spc="-1" strike="noStrike" u="sng">
                <a:solidFill>
                  <a:srgbClr val="628ee3"/>
                </a:solidFill>
                <a:uFillTx/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28ee3"/>
                </a:solidFill>
                <a:latin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1619280" y="2349360"/>
            <a:ext cx="5761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Arial"/>
              </a:rPr>
              <a:t>Let's guess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828720" y="1341360"/>
            <a:ext cx="748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The first day of the week is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The last day of the week is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We go to school from 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to 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4.We don’t have to go to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on _________ and 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012000" y="1486080"/>
            <a:ext cx="11523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Sunda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294160" y="2854440"/>
            <a:ext cx="1150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Monda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763640" y="3645000"/>
            <a:ext cx="12240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Frida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692360" y="5086440"/>
            <a:ext cx="151128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Saturda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3440" y="5086440"/>
            <a:ext cx="144000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Sunda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940360" y="2205000"/>
            <a:ext cx="129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Saturda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4230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Times New Roman"/>
              </a:rPr>
              <a:t>Let’s talk!</a:t>
            </a:r>
            <a:endParaRPr b="0" lang="en-US" sz="5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38836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1a93c8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’s have you learn in this class?</a:t>
            </a:r>
            <a:endParaRPr b="0" lang="en-US" sz="4400" spc="-1" strike="noStrike">
              <a:solidFill>
                <a:srgbClr val="1a93c8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50920" y="765000"/>
            <a:ext cx="878508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</a:rPr>
              <a:t>New word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Sunday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 Monday, Tuesday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 Wednesday, Thursday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 Friday, Satur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4240" y="313992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4360" y="1486080"/>
            <a:ext cx="7619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Unit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What day is it toda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课件 </a:t>
            </a: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</a:rPr>
              <a:t>重点句型</a:t>
            </a:r>
            <a:endParaRPr b="0" lang="en-US" sz="5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96680" y="2045880"/>
            <a:ext cx="809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What day is it today?</a:t>
            </a:r>
            <a:endParaRPr b="0" lang="en-US" sz="40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It’s...</a:t>
            </a:r>
            <a:endParaRPr b="0" lang="en-US" sz="40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What do you do on …?</a:t>
            </a:r>
            <a:endParaRPr b="0" lang="en-US" sz="40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I  play…</a:t>
            </a:r>
            <a:endParaRPr b="0" lang="en-US" sz="40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a93c8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cc66ff"/>
                </a:solidFill>
                <a:latin typeface="Times New Roman"/>
              </a:rPr>
              <a:t>Homework</a:t>
            </a:r>
            <a:endParaRPr b="0" lang="en-US" sz="5400" spc="-1" strike="noStrike">
              <a:solidFill>
                <a:srgbClr val="1a93c8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4360" y="1917360"/>
            <a:ext cx="79200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下课后用本节课所学的句型编写一段对话。</a:t>
            </a:r>
            <a:endParaRPr b="0" lang="en-US" sz="4000" spc="-1" strike="noStrike">
              <a:solidFill>
                <a:srgbClr val="1a93c8"/>
              </a:solidFill>
              <a:latin typeface="Times New Roman"/>
            </a:endParaRPr>
          </a:p>
          <a:p>
            <a:pPr marL="266760"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预习下一课。</a:t>
            </a:r>
            <a:endParaRPr b="0" lang="en-US" sz="4000" spc="-1" strike="noStrike">
              <a:solidFill>
                <a:srgbClr val="1a93c8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4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763640" y="2205000"/>
            <a:ext cx="59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!</a:t>
            </a:r>
            <a:endParaRPr b="0" lang="en-US" sz="2400" spc="1" strike="noStrike">
              <a:ln w="2232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%E8%83%8C%E6%99%AF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47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2" repeatCount="6000">
                                  <p:stCondLst>
                                    <p:cond delay="16000"/>
                                  </p:stCondLst>
                                  <p:childTnLst>
                                    <p:animClr clrSpc="rgb">
                                      <p:cBhvr>
                                        <p:cTn id="483" dur="1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485" dur="1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160">
                                      <p:cBhvr>
                                        <p:cTn id="4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160">
                                      <p:cBhvr>
                                        <p:cTn id="4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 repeatCount="2000">
                                  <p:stCondLst>
                                    <p:cond delay="3000"/>
                                  </p:stCondLst>
                                  <p:childTnLst>
                                    <p:animRot by="-21599159">
                                      <p:cBhvr>
                                        <p:cTn id="492" dur="3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8" repeatCount="3000">
                                  <p:stCondLst>
                                    <p:cond delay="19000"/>
                                  </p:stCondLst>
                                  <p:childTnLst>
                                    <p:animRot by="21600000">
                                      <p:cBhvr>
                                        <p:cTn id="49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846000" y="1701720"/>
            <a:ext cx="109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星期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星期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星期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星期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星期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6520" y="1773360"/>
            <a:ext cx="2692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Mond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Wedne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Thur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Times New Roman"/>
              </a:rPr>
              <a:t>Frid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34880" y="1773360"/>
            <a:ext cx="1322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11736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Times New Roman"/>
              </a:rPr>
              <a:t>Weekday </a:t>
            </a:r>
            <a:r>
              <a:rPr b="1" lang="zh-CN" sz="44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5f5f5f"/>
                </a:solidFill>
                <a:latin typeface="Times New Roman"/>
              </a:rPr>
              <a:t>工作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45280" y="1270080"/>
            <a:ext cx="109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星期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星期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89080" y="1341360"/>
            <a:ext cx="218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Times New Roman"/>
              </a:rPr>
              <a:t>Satur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Times New Roman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42520" y="1341360"/>
            <a:ext cx="115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S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Su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1520" y="189000"/>
            <a:ext cx="33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Times New Roman"/>
              </a:rPr>
              <a:t>Weekend </a:t>
            </a:r>
            <a:r>
              <a:rPr b="1" lang="zh-CN" sz="4400" spc="-1" strike="noStrike">
                <a:solidFill>
                  <a:srgbClr val="5f5f5f"/>
                </a:solidFill>
                <a:latin typeface="Times New Roman"/>
              </a:rPr>
              <a:t>周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619280" y="2285280"/>
            <a:ext cx="6048360" cy="1750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Let’s d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-314280"/>
            <a:ext cx="9131040" cy="6846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2787480" cy="4952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268360" y="1557360"/>
            <a:ext cx="5472360" cy="1760400"/>
          </a:xfrm>
          <a:custGeom>
            <a:avLst/>
            <a:gdLst>
              <a:gd name="textAreaLeft" fmla="*/ 0 w 5472360"/>
              <a:gd name="textAreaRight" fmla="*/ 5472360 w 5472360"/>
              <a:gd name="textAreaTop" fmla="*/ 228240 h 1760400"/>
              <a:gd name="textAreaBottom" fmla="*/ 1532160 h 1760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68360" y="1628640"/>
            <a:ext cx="534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5f5f5f"/>
                </a:solidFill>
                <a:latin typeface="Times New Roman"/>
              </a:rPr>
              <a:t>Friday+2=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7093080" y="3429000"/>
            <a:ext cx="2149200" cy="316224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1547640" y="4653000"/>
            <a:ext cx="5941440" cy="1439640"/>
            <a:chOff x="1547640" y="4653000"/>
            <a:chExt cx="5941440" cy="1439640"/>
          </a:xfrm>
        </p:grpSpPr>
        <p:sp>
          <p:nvSpPr>
            <p:cNvPr id="374" name=""/>
            <p:cNvSpPr/>
            <p:nvPr/>
          </p:nvSpPr>
          <p:spPr>
            <a:xfrm>
              <a:off x="1547640" y="4653000"/>
              <a:ext cx="5941440" cy="1439640"/>
            </a:xfrm>
            <a:prstGeom prst="cloudCallout">
              <a:avLst>
                <a:gd name="adj1" fmla="val 34319"/>
                <a:gd name="adj2" fmla="val -2375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26480" y="4940640"/>
              <a:ext cx="549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Friday+2=</a:t>
              </a: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Sun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2787480" cy="49532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95640" y="1413000"/>
            <a:ext cx="6553080" cy="1508040"/>
          </a:xfrm>
          <a:custGeom>
            <a:avLst/>
            <a:gdLst>
              <a:gd name="textAreaLeft" fmla="*/ 0 w 6553080"/>
              <a:gd name="textAreaRight" fmla="*/ 6553440 w 6553080"/>
              <a:gd name="textAreaTop" fmla="*/ 195480 h 1508040"/>
              <a:gd name="textAreaBottom" fmla="*/ 1312560 h 1508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11280" y="141300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5f5f5f"/>
                </a:solidFill>
                <a:latin typeface="Times New Roman"/>
              </a:rPr>
              <a:t>Saturday+3=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7164360" y="3213000"/>
            <a:ext cx="2147760" cy="316224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276720" y="4005360"/>
            <a:ext cx="3887280" cy="2015640"/>
            <a:chOff x="3276720" y="4005360"/>
            <a:chExt cx="3887280" cy="2015640"/>
          </a:xfrm>
        </p:grpSpPr>
        <p:sp>
          <p:nvSpPr>
            <p:cNvPr id="382" name=""/>
            <p:cNvSpPr/>
            <p:nvPr/>
          </p:nvSpPr>
          <p:spPr>
            <a:xfrm>
              <a:off x="3276720" y="4005360"/>
              <a:ext cx="3887280" cy="2015640"/>
            </a:xfrm>
            <a:prstGeom prst="cloudCallout">
              <a:avLst>
                <a:gd name="adj1" fmla="val 34319"/>
                <a:gd name="adj2" fmla="val -2375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97280" y="4408200"/>
              <a:ext cx="265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Tues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2787480" cy="49532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195640" y="1413000"/>
            <a:ext cx="6553080" cy="1508040"/>
          </a:xfrm>
          <a:custGeom>
            <a:avLst/>
            <a:gdLst>
              <a:gd name="textAreaLeft" fmla="*/ 0 w 6553080"/>
              <a:gd name="textAreaRight" fmla="*/ 6553440 w 6553080"/>
              <a:gd name="textAreaTop" fmla="*/ 195480 h 1508040"/>
              <a:gd name="textAreaBottom" fmla="*/ 1312560 h 1508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11280" y="141300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5f5f5f"/>
                </a:solidFill>
                <a:latin typeface="Times New Roman"/>
              </a:rPr>
              <a:t>Tuesday+1=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6877080" y="3070080"/>
            <a:ext cx="2146320" cy="31626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3203640" y="4221000"/>
            <a:ext cx="4104720" cy="1728720"/>
            <a:chOff x="3203640" y="4221000"/>
            <a:chExt cx="4104720" cy="1728720"/>
          </a:xfrm>
        </p:grpSpPr>
        <p:sp>
          <p:nvSpPr>
            <p:cNvPr id="390" name=""/>
            <p:cNvSpPr/>
            <p:nvPr/>
          </p:nvSpPr>
          <p:spPr>
            <a:xfrm>
              <a:off x="3203640" y="4221000"/>
              <a:ext cx="4104720" cy="1728720"/>
            </a:xfrm>
            <a:prstGeom prst="cloudCallout">
              <a:avLst>
                <a:gd name="adj1" fmla="val 34319"/>
                <a:gd name="adj2" fmla="val -2375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70320" y="4566600"/>
              <a:ext cx="357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Wednes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95280" y="189000"/>
            <a:ext cx="629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What day is it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981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It’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172200" y="152280"/>
            <a:ext cx="2819520" cy="3660120"/>
            <a:chOff x="6172200" y="152280"/>
            <a:chExt cx="2819520" cy="366012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6172200" y="152280"/>
              <a:ext cx="28195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6477120" y="2895480"/>
              <a:ext cx="236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3300"/>
                  </a:solidFill>
                  <a:latin typeface="Times New Roman"/>
                </a:rPr>
                <a:t>Sun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28600" y="3733920"/>
            <a:ext cx="2590920" cy="2821320"/>
            <a:chOff x="228600" y="3733920"/>
            <a:chExt cx="2590920" cy="2821320"/>
          </a:xfrm>
        </p:grpSpPr>
        <p:pic>
          <p:nvPicPr>
            <p:cNvPr id="398" name="" descr=""/>
            <p:cNvPicPr/>
            <p:nvPr/>
          </p:nvPicPr>
          <p:blipFill>
            <a:blip r:embed="rId2"/>
            <a:stretch/>
          </p:blipFill>
          <p:spPr>
            <a:xfrm>
              <a:off x="228600" y="3733920"/>
              <a:ext cx="25909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06880" y="5790960"/>
              <a:ext cx="217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unda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248520" y="0"/>
            <a:ext cx="2895480" cy="3812400"/>
            <a:chOff x="6248520" y="0"/>
            <a:chExt cx="2895480" cy="3812400"/>
          </a:xfrm>
        </p:grpSpPr>
        <p:pic>
          <p:nvPicPr>
            <p:cNvPr id="401" name="" descr=""/>
            <p:cNvPicPr/>
            <p:nvPr/>
          </p:nvPicPr>
          <p:blipFill>
            <a:blip r:embed="rId3"/>
            <a:stretch/>
          </p:blipFill>
          <p:spPr>
            <a:xfrm>
              <a:off x="6248520" y="0"/>
              <a:ext cx="26668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6477120" y="2895480"/>
              <a:ext cx="2666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3300"/>
                  </a:solidFill>
                  <a:latin typeface="Times New Roman"/>
                </a:rPr>
                <a:t>Mon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124080" y="3657600"/>
            <a:ext cx="2819160" cy="2963880"/>
            <a:chOff x="3124080" y="3657600"/>
            <a:chExt cx="2819160" cy="2963880"/>
          </a:xfrm>
        </p:grpSpPr>
        <p:pic>
          <p:nvPicPr>
            <p:cNvPr id="404" name="" descr=""/>
            <p:cNvPicPr/>
            <p:nvPr/>
          </p:nvPicPr>
          <p:blipFill>
            <a:blip r:embed="rId4"/>
            <a:stretch/>
          </p:blipFill>
          <p:spPr>
            <a:xfrm>
              <a:off x="3124080" y="3657600"/>
              <a:ext cx="2596680" cy="22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3348000" y="5857200"/>
              <a:ext cx="2595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Monda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156360" y="-27000"/>
            <a:ext cx="2895480" cy="3965040"/>
            <a:chOff x="6156360" y="-27000"/>
            <a:chExt cx="2895480" cy="3965040"/>
          </a:xfrm>
        </p:grpSpPr>
        <p:pic>
          <p:nvPicPr>
            <p:cNvPr id="407" name="" descr=""/>
            <p:cNvPicPr/>
            <p:nvPr/>
          </p:nvPicPr>
          <p:blipFill>
            <a:blip r:embed="rId5"/>
            <a:stretch/>
          </p:blipFill>
          <p:spPr>
            <a:xfrm>
              <a:off x="6156360" y="-27000"/>
              <a:ext cx="2590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232680" y="3021120"/>
              <a:ext cx="281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3300"/>
                  </a:solidFill>
                  <a:latin typeface="Times New Roman"/>
                </a:rPr>
                <a:t>Tuesda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300720" y="3429000"/>
            <a:ext cx="2514600" cy="3144960"/>
            <a:chOff x="6300720" y="3429000"/>
            <a:chExt cx="2514600" cy="3144960"/>
          </a:xfrm>
        </p:grpSpPr>
        <p:pic>
          <p:nvPicPr>
            <p:cNvPr id="410" name="" descr=""/>
            <p:cNvPicPr/>
            <p:nvPr/>
          </p:nvPicPr>
          <p:blipFill>
            <a:blip r:embed="rId6"/>
            <a:stretch/>
          </p:blipFill>
          <p:spPr>
            <a:xfrm>
              <a:off x="6300720" y="3429000"/>
              <a:ext cx="2250000" cy="23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6366960" y="5809680"/>
              <a:ext cx="24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Tuesda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720" y="1844640"/>
            <a:ext cx="621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What do you do on …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81952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I  play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1:06:36Z</dcterms:created>
  <dc:creator>zj</dc:creator>
  <dc:description/>
  <cp:keywords/>
  <dc:language>en-US</dc:language>
  <cp:lastModifiedBy>Windows 用户</cp:lastModifiedBy>
  <dcterms:modified xsi:type="dcterms:W3CDTF">2015-05-31T05:54:28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