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100-F376-47B1-A1E0-963BD23C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821-B074-4224-8CB7-F1A0DFE2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F50-2045-4F93-A3BB-A19196CF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1DD-4DB3-4FB8-88FD-83F2AA2D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CAF-5A9F-4C4E-AF34-802AAF2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2BF-1A02-454B-89DC-CEA388DF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1BB-FFF0-4229-8C60-A1BAF839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54E-CC0B-421C-BD59-EBE3E3C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CD-753D-41B3-A4C1-CBB92D20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E07-A26C-4085-96C6-AB111FF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54A-73EA-4F8D-B015-DE65E4C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06F-EFB2-4C5D-8563-9F7CF3E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9513-CF30-4AF2-9D3C-C55A037C3C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2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2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2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" y="1052640"/>
            <a:ext cx="71294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Comic Sans MS"/>
              </a:rPr>
              <a:t>Module 3 </a:t>
            </a:r>
            <a:br>
              <a:rPr sz="4800"/>
            </a:br>
            <a:r>
              <a:rPr b="1" lang="zh-CN" sz="4800" spc="-1" strike="noStrike">
                <a:solidFill>
                  <a:srgbClr val="cc00cc"/>
                </a:solidFill>
                <a:latin typeface="Comic Sans MS"/>
              </a:rPr>
              <a:t>Days of the wee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684360" y="1413000"/>
            <a:ext cx="684036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89000"/>
            <a:ext cx="65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a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way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Saturday morn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way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o to the p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Satur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56000" y="3429000"/>
            <a:ext cx="3305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21069" t="16219" r="21086" b="16167"/>
          <a:stretch/>
        </p:blipFill>
        <p:spPr>
          <a:xfrm>
            <a:off x="4788000" y="4365720"/>
            <a:ext cx="1825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45080" y="14860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681280" y="1486080"/>
            <a:ext cx="187956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2014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4360" y="14842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7"/>
          <a:srcRect l="40334" t="57207" r="37085" b="21893"/>
          <a:stretch/>
        </p:blipFill>
        <p:spPr>
          <a:xfrm>
            <a:off x="6732720" y="2852640"/>
            <a:ext cx="201600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80" name="TextBox 6"/>
          <p:cNvSpPr/>
          <p:nvPr/>
        </p:nvSpPr>
        <p:spPr>
          <a:xfrm>
            <a:off x="4718160" y="3213000"/>
            <a:ext cx="17874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771640" y="3213000"/>
            <a:ext cx="17892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reak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755640" y="3213000"/>
            <a:ext cx="171756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805440" y="4510080"/>
            <a:ext cx="2519640" cy="67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parents do hous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788000" y="5877000"/>
            <a:ext cx="30240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2700360" y="5950080"/>
            <a:ext cx="208908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t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95280" y="5950080"/>
            <a:ext cx="223380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-531720"/>
            <a:ext cx="106567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usually/often/always/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sually/often/always/never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357336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57336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57336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-4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5157720"/>
            <a:ext cx="21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6310440"/>
            <a:ext cx="244800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6310440"/>
            <a:ext cx="180000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ay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6310440"/>
            <a:ext cx="23763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rcRect l="67107" t="25195" r="14000" b="52142"/>
          <a:stretch/>
        </p:blipFill>
        <p:spPr>
          <a:xfrm>
            <a:off x="684360" y="4365720"/>
            <a:ext cx="1871640" cy="155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rcRect l="44419" t="45363" r="0" b="5972"/>
          <a:stretch/>
        </p:blipFill>
        <p:spPr>
          <a:xfrm>
            <a:off x="2771640" y="429264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4788000" y="436572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6732720" y="2852640"/>
            <a:ext cx="2016000" cy="1568520"/>
          </a:xfrm>
          <a:prstGeom prst="rect">
            <a:avLst/>
          </a:prstGeom>
          <a:ln w="0">
            <a:noFill/>
          </a:ln>
        </p:spPr>
      </p:pic>
      <p:sp>
        <p:nvSpPr>
          <p:cNvPr id="99" name="椭圆 12"/>
          <p:cNvSpPr/>
          <p:nvPr/>
        </p:nvSpPr>
        <p:spPr>
          <a:xfrm>
            <a:off x="2771640" y="4005360"/>
            <a:ext cx="1908360" cy="1915920"/>
          </a:xfrm>
          <a:prstGeom prst="ellipse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209 -0.014259 L -0.117292 -0.004815 L -0.124445 0.004722 L -0.132709 0.015741 L -0.139792 0.023611 L -0.148126 0.033148 L -0.155209 0.039445 L -0.162362 0.041019 L -0.170626 0.042593 L -0.17889 0.045741 L -0.186042 0.045741 L -0.194306 0.047315 L -0.20264 0.047315 L -0.215626 0.047315 L -0.222778 0.044167 L -0.232223 0.037871 L -0.240556 0.034722 L -0.250001 0.023611 L -0.254723 0.014167 L -0.259515 0.003056 L -0.260695 -0.007963 L -0.260695 -0.018981 L -0.260695 -0.028518 L -0.255903 -0.037963 L -0.24882 -0.044259 L -0.241737 -0.049074 L -0.234584 -0.049074 L -0.22632 -0.049074 L -0.216806 -0.049074 L -0.208542 -0.047407 L -0.201459 -0.042685 L -0.201459 -0.03324 L -0.20382 -0.023796 L -0.210903 -0.018981 L -0.219237 -0.02537 L -0.231042 -0.031666 L -0.238126 -0.042685 L -0.239376 -0.05537 L -0.241737 -0.067963 L -0.242917 -0.079074 L -0.242917 -0.088518 L -0.242917 -0.102778 L -0.242917 -0.120092 L -0.242917 -0.135926 L -0.242917 -0.14537 L -0.242917 -0.164352 L -0.242917 -0.17537 L -0.242917 -0.184907 L -0.242917 -0.194352 L -0.242917 -0.203889 L -0.245278 -0.213333 L -0.245278 -0.227592 L -0.245278 -0.246481 L -0.245278 -0.259166 L -0.245278 -0.28287 L -0.245278 -0.297037 L -0.245278 -0.308148 L -0.244098 -0.323889 L -0.242917 -0.336574 L -0.242917 -0.347592 L -0.242917 -0.357129 L -0.242917 -0.374444 L -0.240556 -0.387129 L -0.240556 -0.398148 L -0.240556 -0.410833 L -0.240556 -0.420278 L -0.239376 -0.431296 L -0.239376 -0.443981 L -0.239376 -0.456574 L -0.238126 -0.466111 L -0.236945 -0.475555 L -0.235765 -0.485092 L -0.229862 -0.494537 L -0.222778 -0.496111 L -0.215626 -0.489815 L -0.208542 -0.480278 L -0.206181 -0.470833 L -0.201459 -0.456574 L -0.195487 -0.443981 L -0.193126 -0.434537 L -0.190765 -0.425 L -0.183681 -0.413981 L -0.177709 -0.404444 L -0.163542 -0.399722 L -0.152848 -0.398148 L -0.139792 -0.395 L -0.131528 -0.395 L -0.117292 -0.395 L -0.100695 -0.395 L -0.085348 -0.395 L -0.068751 -0.396574 L -0.056876 -0.401296 L -0.04382 -0.410833 L -0.030834 -0.417129 L -0.011876 -0.428148 L 0.008263 -0.437685 L 0.02368 -0.447129 L 0.034374 -0.455 L 0.043819 -0.461389 L 0.053333 -0.470833 L 0.058055 -0.483426 L 0.059235 -0.492963 L 0.059235 -0.503981 L 0.055694 -0.51824 L 0.049722 -0.527685 L 0.042638 -0.535648 L 0.034374 -0.535648 L 0.027222 -0.535648 L 0.020138 -0.526111 L 0.014235 -0.515092 L 0.010624 -0.505555 L 0.007083 -0.494537 L 0.00236 -0.481852 L 0.00118 -0.472407 L -0.001181 -0.455 L -0.003542 -0.443981 L -0.005903 -0.428148 L -0.007084 -0.410833 L -0.010695 -0.401296 L -0.013056 -0.379166 L -0.015417 -0.369722 L -0.017778 -0.358703 L -0.02132 -0.344444 L -0.023681 -0.328611 L -0.029653 -0.301759 L -0.034376 -0.286018 L -0.035556 -0.271759 L -0.037917 -0.257592 L -0.041459 -0.238611 L -0.046251 -0.222778 L -0.050973 -0.203889 L -0.053334 -0.191203 L -0.055695 -0.178611 L -0.058056 -0.159629 L -0.059237 -0.146944 L -0.059237 -0.135926 L -0.059237 -0.126481 L -0.059237 -0.11537 L -0.059237 -0.105926 L -0.059237 -0.091666 L -0.059237 -0.071111 L -0.059237 -0.060092 L -0.059237 -0.049074 L -0.059237 -0.039537 L -0.058056 -0.026944 L -0.054515 -0.006389 L -0.052153 0.004722 L -0.050973 0.014167 L -0.046251 0.03 L -0.041459 0.044167 L -0.034376 0.052037 L -0.018959 0.055278 L -0.009515 0.06 L -0.001181 0.06 L 0.005902 0.06 L 0.014235 0.055278 L 0.022499 0.053611 L 0.029583 0.056852 L 0.039097 0.056852 L 0.048541 0.06 L 0.06993 0.06 L 0.090069 0.06 L 0.100694 0.058426 L 0.107777 0.053611 L 0.11611 0.052037 L 0.125555 0.047315 L 0.136249 0.039445 L 0.143333 0.034722 L 0.151666 0.031574 L 0.15993 0.03 L 0.167083 0.037871 L 0.187222 0.052037 L 0.194305 0.053611 L 0.201388 0.053611 L 0.210902 0.047315 L 0.217985 0.037871 L 0.225138 0.028334 L 0.234583 0.018889 L 0.241666 0.007871 L 0.249999 -0.006389 L 0.254722 -0.015833 L 0.258263 -0.028518 L 0.260624 -0.041111 L 0.263055 -0.052222 L 0.266597 -0.067963 L 0.268958 -0.080648 L 0.271319 -0.090092 L 0.27368 -0.1075 L 0.276041 -0.121666 L 0.278402 -0.135926 L 0.278402 -0.14537 L 0.280763 -0.156481 L 0.282013 -0.1675 L 0.282013 -0.184907 L 0.282013 -0.203889 L 0.282013 -0.216481 L 0.282013 -0.227592 L 0.282013 -0.237037 L 0.282013 -0.249629 L 0.282013 -0.26074 L 0.282013 -0.270185 L 0.282013 -0.279722 L 0.279583 -0.29074 L 0.276041 -0.306574 L 0.271319 -0.322315 L 0.268958 -0.335 L 0.267777 -0.344444 L 0.264235 -0.357129 L 0.260624 -0.37287 L 0.257083 -0.383981 L 0.25236 -0.393426 L 0.245277 -0.406018 L 0.238124 -0.415555 L 0.22868 -0.420278 L 0.216805 -0.425 L 0.208541 -0.425 L 0.201388 -0.423426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21069" t="16219" r="21086" b="16167"/>
          <a:stretch/>
        </p:blipFill>
        <p:spPr>
          <a:xfrm>
            <a:off x="4788000" y="4365720"/>
            <a:ext cx="1825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5080" y="14860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81280" y="1486080"/>
            <a:ext cx="187956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2014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84360" y="14842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7"/>
          <a:srcRect l="40334" t="57207" r="37085" b="21893"/>
          <a:stretch/>
        </p:blipFill>
        <p:spPr>
          <a:xfrm>
            <a:off x="6732720" y="2852640"/>
            <a:ext cx="201600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106" name="TextBox 6"/>
          <p:cNvSpPr/>
          <p:nvPr/>
        </p:nvSpPr>
        <p:spPr>
          <a:xfrm>
            <a:off x="4718160" y="3213000"/>
            <a:ext cx="17874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2771640" y="3213000"/>
            <a:ext cx="17892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reak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55640" y="3213000"/>
            <a:ext cx="171756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805440" y="4510080"/>
            <a:ext cx="2519640" cy="67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parents do hous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88000" y="5877000"/>
            <a:ext cx="30240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700360" y="5950080"/>
            <a:ext cx="208908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t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95280" y="5950080"/>
            <a:ext cx="223380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357336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57336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357336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-4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20000" y="5157720"/>
            <a:ext cx="21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6310440"/>
            <a:ext cx="244800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6310440"/>
            <a:ext cx="180000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ay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6310440"/>
            <a:ext cx="23763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8"/>
          <a:srcRect l="67107" t="25195" r="14000" b="52142"/>
          <a:stretch/>
        </p:blipFill>
        <p:spPr>
          <a:xfrm>
            <a:off x="755640" y="4365720"/>
            <a:ext cx="1871640" cy="155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rcRect l="44419" t="45363" r="0" b="5972"/>
          <a:stretch/>
        </p:blipFill>
        <p:spPr>
          <a:xfrm>
            <a:off x="2844720" y="4221000"/>
            <a:ext cx="1871640" cy="165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788000" y="436572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6732720" y="2852640"/>
            <a:ext cx="201600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椭圆 12"/>
          <p:cNvSpPr/>
          <p:nvPr/>
        </p:nvSpPr>
        <p:spPr>
          <a:xfrm>
            <a:off x="2771640" y="4005360"/>
            <a:ext cx="1800360" cy="1915920"/>
          </a:xfrm>
          <a:prstGeom prst="ellipse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0" y="0"/>
            <a:ext cx="10656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usually/often/always/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sually/often/always/never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52 -0.00231 C 0.12379 -0.02014 0.15052 -0.01528 0.17257 -0.01643 C 0.18177 -0.01574 0.19097 -0.01643 0.19983 -0.01458 C 0.20139 -0.01435 0.20174 -0.01134 0.20295 -0.01042 C 0.21025 -0.00555 0.21893 -0.00741 0.22709 -0.00648 C 0.24827 -0.00162 0.2507 -0.00278 0.26511 0.00972 C 0.28594 0.00718 0.30521 -0.00046 0.3257 -0.0044 C 0.32917 -0.00787 0.33229 -0.01227 0.33629 -0.01458 C 0.33959 -0.01643 0.34341 -0.01528 0.34688 -0.01643 C 0.35191 -0.01829 0.36111 -0.02477 0.36511 -0.0287 C 0.37379 -0.03727 0.36597 -0.03171 0.37275 -0.04074 C 0.38108 -0.05185 0.39028 -0.06412 0.4 -0.07315 C 0.404 -0.08657 0.40573 -0.08842 0.41216 -0.0993 C 0.41806 -0.10949 0.4217 -0.12014 0.43021 -0.12755 C 0.43854 -0.14259 0.44896 -0.15509 0.45747 -0.17014 C 0.45886 -0.17755 0.46077 -0.18495 0.46216 -0.19236 C 0.46163 -0.19907 0.46181 -0.23449 0.45452 -0.24676 C 0.45209 -0.25092 0.44827 -0.25324 0.44549 -0.25694 C 0.44219 -0.26921 0.4342 -0.275 0.42726 -0.2831 C 0.42205 -0.28935 0.41893 -0.29722 0.41354 -0.30347 C 0.40573 -0.3125 0.39636 -0.32338 0.38785 -0.33171 C 0.37726 -0.35579 0.39045 -0.33055 0.3757 -0.34583 C 0.37309 -0.34838 0.37188 -0.35278 0.36962 -0.35602 C 0.36354 -0.36481 0.35191 -0.37986 0.34393 -0.38634 C 0.33907 -0.39028 0.33282 -0.38912 0.32726 -0.39028 C 0.29271 -0.40625 0.31233 -0.39792 0.22552 -0.38819 C 0.22101 -0.38773 0.21337 -0.38009 0.21337 -0.38009 C 0.20782 -0.35625 0.21146 -0.37361 0.21337 -0.31759 C 0.21424 -0.29722 0.21459 -0.26481 0.23177 -0.25694 C 0.23663 -0.25833 0.24219 -0.25764 0.2467 -0.26088 C 0.25313 -0.26528 0.25625 -0.27083 0.26354 -0.27315 C 0.26441 -0.27454 0.26563 -0.27569 0.26667 -0.27708 C 0.26788 -0.27893 0.26823 -0.28148 0.26945 -0.2831 C 0.27188 -0.28611 0.27466 -0.28819 0.27709 -0.2912 C 0.27986 -0.30579 0.28073 -0.32477 0.28924 -0.33565 C 0.29167 -0.37477 0.29966 -0.43449 0.27865 -0.46713 C 0.26111 -0.49491 0.2849 -0.44861 0.26667 -0.48125 C 0.25747 -0.49745 0.24861 -0.5125 0.23316 -0.51967 C 0.19375 -0.51898 0.15452 -0.51898 0.11511 -0.51759 C 0.09757 -0.51713 0.08334 -0.50255 0.06667 -0.49745 C 0.05278 -0.48542 0.04636 -0.47847 0.03334 -0.46505 C 0.02813 -0.45949 0.02431 -0.45116 0.01962 -0.44491 C 0.01788 -0.43796 0.01528 -0.43148 0.01354 -0.42454 C 0.00955 -0.3794 0.01111 -0.40417 0.01511 -0.31551 C 0.01545 -0.30602 0.0158 -0.30787 0.02118 -0.30532 C 0.02413 -0.30023 0.02709 -0.29236 0.03334 -0.29329 C 0.03542 -0.29352 0.03629 -0.29722 0.03785 -0.2993 C 0.03889 -0.30278 0.03907 -0.30671 0.0408 -0.30949 C 0.04271 -0.3125 0.04618 -0.31296 0.04844 -0.31551 C 0.06146 -0.33079 0.05122 -0.34236 0.07726 -0.35602 C 0.08629 -0.36088 0.09462 -0.36667 0.10139 -0.37616 C 0.10434 -0.38588 0.10747 -0.39213 0.10903 -0.40231 C 0.10851 -0.41111 0.1092 -0.42014 0.10747 -0.4287 C 0.10625 -0.43518 0.09393 -0.4368 0.09393 -0.4368 C 0.08854 -0.44352 0.08455 -0.44282 0.07726 -0.44491 C 0.05834 -0.45046 0.04063 -0.45417 0.02118 -0.45694 C -0.05208 -0.45625 -0.12534 -0.45671 -0.19861 -0.45486 C -0.20434 -0.45463 -0.20486 -0.44329 -0.21059 -0.44074 C -0.21528 -0.43171 -0.21562 -0.42268 -0.21823 -0.4125 C -0.21909 -0.40116 -0.21788 -0.38889 -0.22118 -0.37824 C -0.22205 -0.375 -0.22552 -0.37361 -0.22587 -0.37014 C -0.22725 -0.35532 -0.22587 -0.34051 -0.22587 -0.32569 E">
                                      <p:cBhvr>
                                        <p:cTn id="187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21069" t="16219" r="21086" b="16167"/>
          <a:stretch/>
        </p:blipFill>
        <p:spPr>
          <a:xfrm>
            <a:off x="4788000" y="4365720"/>
            <a:ext cx="1825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5080" y="14860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681280" y="1486080"/>
            <a:ext cx="187956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84360" y="4221000"/>
            <a:ext cx="2014560" cy="1511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84360" y="14842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7"/>
          <a:srcRect l="40334" t="57207" r="37085" b="21893"/>
          <a:stretch/>
        </p:blipFill>
        <p:spPr>
          <a:xfrm>
            <a:off x="6732720" y="2852640"/>
            <a:ext cx="201600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132" name="TextBox 6"/>
          <p:cNvSpPr/>
          <p:nvPr/>
        </p:nvSpPr>
        <p:spPr>
          <a:xfrm>
            <a:off x="4718160" y="3213000"/>
            <a:ext cx="17874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771640" y="3213000"/>
            <a:ext cx="17892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reak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55640" y="3213000"/>
            <a:ext cx="171756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805440" y="4510080"/>
            <a:ext cx="2519640" cy="67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parents do hous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788000" y="5877000"/>
            <a:ext cx="30240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700360" y="5950080"/>
            <a:ext cx="208908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t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95280" y="5950080"/>
            <a:ext cx="223380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79280" y="-717480"/>
            <a:ext cx="806472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......do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…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357336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57336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357336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-4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20000" y="5157720"/>
            <a:ext cx="21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6310440"/>
            <a:ext cx="244800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6310440"/>
            <a:ext cx="180000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ay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310440"/>
            <a:ext cx="23763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rcRect l="67107" t="25195" r="14000" b="52142"/>
          <a:stretch/>
        </p:blipFill>
        <p:spPr>
          <a:xfrm>
            <a:off x="755640" y="4221000"/>
            <a:ext cx="1871640" cy="1555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rcRect l="44419" t="45363" r="0" b="5972"/>
          <a:stretch/>
        </p:blipFill>
        <p:spPr>
          <a:xfrm>
            <a:off x="2700360" y="4149720"/>
            <a:ext cx="1871640" cy="1654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4788000" y="436572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6732720" y="2852640"/>
            <a:ext cx="2016000" cy="1568520"/>
          </a:xfrm>
          <a:prstGeom prst="rect">
            <a:avLst/>
          </a:prstGeom>
          <a:ln w="0">
            <a:noFill/>
          </a:ln>
        </p:spPr>
      </p:pic>
      <p:sp>
        <p:nvSpPr>
          <p:cNvPr id="151" name="椭圆 12"/>
          <p:cNvSpPr/>
          <p:nvPr/>
        </p:nvSpPr>
        <p:spPr>
          <a:xfrm>
            <a:off x="2484360" y="3716280"/>
            <a:ext cx="1908360" cy="1916280"/>
          </a:xfrm>
          <a:prstGeom prst="ellipse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29 0.00347 C 0.10556 0.00695 0.10295 0.00972 0.10122 0.01343 C 0.09827 0.01968 0.09931 0.02431 0.09514 0.02963 C 0.09306 0.03773 0.09271 0.04468 0.08906 0.05185 C 0.08715 0.05996 0.08663 0.0669 0.08299 0.07408 C 0.07899 0.09699 0.0882 0.10903 0.09965 0.12454 C 0.10764 0.13542 0.10052 0.13079 0.10886 0.13472 C 0.11337 0.14398 0.11979 0.14815 0.12691 0.15278 C 0.16268 0.15093 0.17847 0.14884 0.21024 0.13472 C 0.21893 0.12315 0.21667 0.12917 0.21945 0.11852 C 0.21858 0.08796 0.2257 0.04815 0.19827 0.03982 C 0.19115 0.04144 0.18386 0.04121 0.17691 0.04375 C 0.17552 0.04421 0.17518 0.04699 0.17396 0.04792 C 0.17205 0.04908 0.16997 0.04908 0.16788 0.04977 C 0.16129 0.05903 0.1559 0.07014 0.15278 0.08218 C 0.15382 0.09097 0.15452 0.09977 0.15573 0.10833 C 0.15799 0.12454 0.16424 0.13102 0.1724 0.14074 C 0.17882 0.14838 0.18038 0.15301 0.18768 0.15903 C 0.19288 0.1632 0.19965 0.16204 0.20573 0.16296 C 0.23837 0.17408 0.26511 0.16366 0.30278 0.16088 C 0.3099 0.15949 0.31702 0.15926 0.32396 0.15695 C 0.32535 0.15648 0.3257 0.15371 0.32691 0.15278 C 0.33177 0.14908 0.33715 0.14607 0.34219 0.14283 C 0.35452 0.13472 0.36702 0.12847 0.38004 0.12246 C 0.38386 0.11736 0.38889 0.11389 0.39219 0.10833 C 0.39948 0.0963 0.40573 0.0875 0.41337 0.07616 C 0.42344 0.06134 0.43455 0.04746 0.43906 0.02755 C 0.44254 0.01227 0.43837 0.02222 0.44358 0.00533 C 0.4474 -0.00694 0.45573 -0.03102 0.45573 -0.03102 C 0.45781 -0.04699 0.45938 -0.06111 0.46024 -0.07754 C 0.45972 -0.0956 0.46007 -0.11389 0.45886 -0.13194 C 0.45834 -0.14028 0.44965 -0.15417 0.44965 -0.15417 C 0.44809 -0.16366 0.44688 -0.16898 0.44063 -0.1743 C 0.42726 -0.19745 0.41181 -0.22592 0.38906 -0.23102 C 0.38247 -0.23518 0.37656 -0.23704 0.36945 -0.23912 C 0.35972 -0.24537 0.34983 -0.2493 0.33906 -0.25116 C 0.3158 -0.2618 0.29219 -0.26481 0.26788 -0.27129 C 0.25573 -0.27454 0.24236 -0.27754 0.23004 -0.28148 C 0.22448 -0.28333 0.2191 -0.28727 0.21337 -0.2875 C 0.19063 -0.28819 0.16788 -0.28889 0.14514 -0.28958 C 0.13403 -0.2919 0.125 -0.29421 0.11337 -0.2956 C 0.09827 -0.29491 0.08177 -0.30185 0.06788 -0.29352 C 0.06233 -0.29028 0.06875 -0.27754 0.06945 -0.26944 C 0.07153 -0.24722 0.07031 -0.25278 0.07552 -0.23912 C 0.07813 -0.22361 0.0842 -0.21157 0.09063 -0.19861 C 0.09288 -0.19398 0.09427 -0.18866 0.0967 -0.18449 C 0.11094 -0.16042 0.13247 -0.14792 0.15278 -0.13611 C 0.16024 -0.13171 0.16615 -0.12338 0.17396 -0.11991 C 0.1842 -0.11528 0.19514 -0.11481 0.20573 -0.1118 C 0.22031 -0.1125 0.23524 -0.11042 0.24965 -0.11389 C 0.25799 -0.11597 0.26632 -0.1287 0.27552 -0.13194 C 0.28594 -0.14329 0.29097 -0.15879 0.29965 -0.17245 C 0.30295 -0.19329 0.29844 -0.17315 0.30573 -0.18866 C 0.30712 -0.19167 0.30764 -0.19537 0.30886 -0.19861 C 0.30972 -0.20069 0.31077 -0.20254 0.31181 -0.20463 C 0.31129 -0.23842 0.31163 -0.27222 0.31024 -0.30579 C 0.3099 -0.31227 0.3059 -0.31759 0.30434 -0.32384 C 0.29549 -0.35926 0.28229 -0.37754 0.25886 -0.39653 C 0.25035 -0.40324 0.24097 -0.40926 0.23299 -0.4169 C 0.23038 -0.41944 0.22847 -0.42338 0.22552 -0.425 C 0.19323 -0.44329 0.15521 -0.44676 0.12101 -0.45116 C -0.10833 -0.44884 -0.01892 -0.45555 -0.11094 -0.44514 C -0.11198 -0.44491 -0.12587 -0.4419 -0.1276 -0.44097 C -0.13333 -0.43819 -0.1375 -0.43102 -0.14271 -0.42685 C -0.14774 -0.42292 -0.15364 -0.42037 -0.15781 -0.41481 C -0.16545 -0.40463 -0.16128 -0.40833 -0.16996 -0.40278 C -0.175 -0.39282 -0.17604 -0.3875 -0.18507 -0.38449 C -0.19288 -0.37662 -0.19357 -0.36944 -0.2033 -0.36643 C -0.20746 -0.3581 -0.21198 -0.35162 -0.21701 -0.34421 C -0.22101 -0.33819 -0.22326 -0.33148 -0.2276 -0.32592 C -0.23194 -0.31412 -0.23281 -0.30231 -0.23507 -0.28958 C -0.23802 -0.225 -0.24357 -0.16088 -0.23507 -0.0956 C -0.2342 -0.06991 -0.23264 -0.03842 -0.23055 -0.01273 C -0.22986 -0.00463 -0.22726 0.03449 -0.21996 0.04375 C -0.21944 0.04653 -0.21927 0.04931 -0.2184 0.05185 C -0.21771 0.05417 -0.21545 0.05787 -0.21545 0.05787 E">
                                      <p:cBhvr>
                                        <p:cTn id="19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rcRect l="21069" t="16219" r="21086" b="16167"/>
          <a:stretch/>
        </p:blipFill>
        <p:spPr>
          <a:xfrm>
            <a:off x="4788000" y="4365720"/>
            <a:ext cx="1825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5080" y="14860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681280" y="1486080"/>
            <a:ext cx="187956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84360" y="4365720"/>
            <a:ext cx="201456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84360" y="1484280"/>
            <a:ext cx="1942920" cy="16556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7"/>
          <a:srcRect l="40334" t="57207" r="37085" b="21893"/>
          <a:stretch/>
        </p:blipFill>
        <p:spPr>
          <a:xfrm>
            <a:off x="6732720" y="2852640"/>
            <a:ext cx="2016000" cy="15112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  <p:sp>
        <p:nvSpPr>
          <p:cNvPr id="158" name="TextBox 6"/>
          <p:cNvSpPr/>
          <p:nvPr/>
        </p:nvSpPr>
        <p:spPr>
          <a:xfrm>
            <a:off x="4718160" y="3213000"/>
            <a:ext cx="17874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771640" y="3213000"/>
            <a:ext cx="17892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break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755640" y="3213000"/>
            <a:ext cx="171756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805440" y="4510080"/>
            <a:ext cx="2519640" cy="67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parents do hous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788000" y="5877000"/>
            <a:ext cx="3024000" cy="38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700360" y="5950080"/>
            <a:ext cx="208908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sit my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95280" y="5950080"/>
            <a:ext cx="2233800" cy="33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my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3573360"/>
            <a:ext cx="865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357336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357336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:00-4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157720"/>
            <a:ext cx="21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6310440"/>
            <a:ext cx="244800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6310440"/>
            <a:ext cx="180000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day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310440"/>
            <a:ext cx="2376360" cy="5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day e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rcRect l="67107" t="25195" r="14000" b="52142"/>
          <a:stretch/>
        </p:blipFill>
        <p:spPr>
          <a:xfrm>
            <a:off x="684360" y="4365720"/>
            <a:ext cx="1871640" cy="1555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rcRect l="44419" t="45363" r="0" b="5972"/>
          <a:stretch/>
        </p:blipFill>
        <p:spPr>
          <a:xfrm>
            <a:off x="2771640" y="429264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6732720" y="2852640"/>
            <a:ext cx="2016000" cy="1568520"/>
          </a:xfrm>
          <a:prstGeom prst="rect">
            <a:avLst/>
          </a:prstGeom>
          <a:ln w="0">
            <a:noFill/>
          </a:ln>
        </p:spPr>
      </p:pic>
      <p:sp>
        <p:nvSpPr>
          <p:cNvPr id="175" name="椭圆 12"/>
          <p:cNvSpPr/>
          <p:nvPr/>
        </p:nvSpPr>
        <p:spPr>
          <a:xfrm>
            <a:off x="2771640" y="4005360"/>
            <a:ext cx="1908360" cy="1915920"/>
          </a:xfrm>
          <a:prstGeom prst="ellipse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0" y="0"/>
            <a:ext cx="106567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usually/often/always/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sually/often/always/never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63 -0.04491 C 0.10625 -0.07454 0.10416 -0.07199 0.11215 -0.09329 C 0.11562 -0.12384 0.10937 -0.1162 0.11979 -0.12569 C 0.125 -0.14537 0.11892 -0.13333 0.13038 -0.13981 C 0.13402 -0.1419 0.13611 -0.14745 0.13958 -0.14977 C 0.15798 -0.16204 0.18506 -0.15903 0.20312 -0.15995 C 0.21371 -0.15926 0.2243 -0.15972 0.23489 -0.15787 C 0.23628 -0.15764 0.23697 -0.15532 0.23802 -0.15393 C 0.25017 -0.13796 0.24305 -0.14537 0.25625 -0.1338 C 0.26371 -0.12037 0.27187 -0.10741 0.28194 -0.09745 C 0.2835 -0.09305 0.28802 -0.09005 0.28802 -0.08518 C 0.28888 -0.03796 0.28697 -0.00995 0.28489 0.03195 C 0.28611 0.04259 0.28368 0.05949 0.29253 0.0662 C 0.30295 0.07408 0.32743 0.07639 0.32743 0.07639 C 0.3427 0.07408 0.35885 0.0713 0.37291 0.06227 C 0.38142 0.04491 0.38888 0.0287 0.40017 0.01366 C 0.40295 0.00417 0.40364 -1.11111000000025E-006 0.4092 -0.00856 C 0.41909 -0.02384 0.40902 -0.00278 0.41684 -0.01643 C 0.41909 -0.02037 0.42291 -0.0287 0.42291 -0.0287 C 0.42517 -0.03819 0.42708 -0.04722 0.42881 -0.05694 C 0.43038 -0.07454 0.43125 -0.09491 0.43489 -0.11157 C 0.43559 -0.12268 0.43628 -0.16204 0.44409 -0.17199 C 0.44548 -0.18704 0.44548 -0.18148 0.44548 -0.18819 E">
                                      <p:cBhvr>
                                        <p:cTn id="19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9520" y="619200"/>
            <a:ext cx="845028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does Jiamin usually do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usually do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is homework and go shopping with his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parent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Does Jiamin do housework on 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, he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neve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 housework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oes Janet usually do on Sunday, like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elps her parents do hous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times she cleans her room and sometimes clean the kit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5092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verbs of frequency(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频率副词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440" y="472428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2440" y="558972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ne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8440" y="40734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32080" y="5589720"/>
            <a:ext cx="230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hardly e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8440" y="34290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92440" y="558972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some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8440" y="28195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6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464080" y="55897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of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8440" y="2168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8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6400800" y="558972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usu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8440" y="16002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504d"/>
                </a:solidFill>
                <a:latin typeface="Times New Roman"/>
              </a:rPr>
              <a:t>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696080" y="55897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Times New Roman"/>
              </a:rPr>
              <a:t>al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6" descr="12"/>
          <p:cNvPicPr/>
          <p:nvPr/>
        </p:nvPicPr>
        <p:blipFill>
          <a:blip r:embed="rId2"/>
          <a:srcRect l="68572" t="0" r="13603" b="61659"/>
          <a:stretch/>
        </p:blipFill>
        <p:spPr>
          <a:xfrm>
            <a:off x="6184800" y="1557360"/>
            <a:ext cx="1511280" cy="172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12"/>
          <p:cNvPicPr/>
          <p:nvPr/>
        </p:nvPicPr>
        <p:blipFill>
          <a:blip r:embed="rId3"/>
          <a:srcRect l="51580" t="15971" r="30594" b="39271"/>
          <a:stretch/>
        </p:blipFill>
        <p:spPr>
          <a:xfrm>
            <a:off x="5032440" y="2276640"/>
            <a:ext cx="1511280" cy="201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12"/>
          <p:cNvPicPr/>
          <p:nvPr/>
        </p:nvPicPr>
        <p:blipFill>
          <a:blip r:embed="rId4"/>
          <a:srcRect l="34588" t="25554" r="47581" b="24854"/>
          <a:stretch/>
        </p:blipFill>
        <p:spPr>
          <a:xfrm>
            <a:off x="3376440" y="2781360"/>
            <a:ext cx="1511640" cy="2233440"/>
          </a:xfrm>
          <a:prstGeom prst="rect">
            <a:avLst/>
          </a:prstGeom>
          <a:ln w="0">
            <a:noFill/>
          </a:ln>
        </p:spPr>
      </p:pic>
      <p:sp>
        <p:nvSpPr>
          <p:cNvPr id="194" name="Line 21"/>
          <p:cNvSpPr/>
          <p:nvPr/>
        </p:nvSpPr>
        <p:spPr>
          <a:xfrm>
            <a:off x="1216080" y="191628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 flipV="1">
            <a:off x="8272440" y="2923920"/>
            <a:ext cx="0" cy="280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1000080" y="2492280"/>
            <a:ext cx="54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6977160" y="299700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928800" y="306864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5896080" y="393372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1000080" y="37162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4313160" y="4797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928800" y="436572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2511360" y="5300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1" descr="basketball"/>
          <p:cNvPicPr/>
          <p:nvPr/>
        </p:nvPicPr>
        <p:blipFill>
          <a:blip r:embed="rId5"/>
          <a:stretch/>
        </p:blipFill>
        <p:spPr>
          <a:xfrm>
            <a:off x="7723080" y="1413000"/>
            <a:ext cx="952560" cy="1162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2" descr="l,ik"/>
          <p:cNvPicPr/>
          <p:nvPr/>
        </p:nvPicPr>
        <p:blipFill>
          <a:blip r:embed="rId6"/>
          <a:stretch/>
        </p:blipFill>
        <p:spPr>
          <a:xfrm>
            <a:off x="2124000" y="4076640"/>
            <a:ext cx="1224000" cy="1081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0" descr="fad2230ef150ba91de2a7b908abb62f1.jpg"/>
          <p:cNvPicPr/>
          <p:nvPr/>
        </p:nvPicPr>
        <p:blipFill>
          <a:blip r:embed="rId7"/>
          <a:stretch/>
        </p:blipFill>
        <p:spPr>
          <a:xfrm>
            <a:off x="826920" y="4508640"/>
            <a:ext cx="865440" cy="122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How oft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How often do you argue with your par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Hardly 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Every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44280"/>
          <a:ext cx="9144000" cy="3247920"/>
        </p:xfrm>
        <a:graphic>
          <a:graphicData uri="http://schemas.openxmlformats.org/drawingml/2006/table">
            <a:tbl>
              <a:tblPr/>
              <a:tblGrid>
                <a:gridCol w="2195640"/>
                <a:gridCol w="1008000"/>
                <a:gridCol w="1008000"/>
                <a:gridCol w="1111320"/>
                <a:gridCol w="1182600"/>
                <a:gridCol w="728640"/>
                <a:gridCol w="909720"/>
                <a:gridCol w="1000080"/>
              </a:tblGrid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ook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rc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169"/>
          <p:cNvSpPr/>
          <p:nvPr/>
        </p:nvSpPr>
        <p:spPr>
          <a:xfrm>
            <a:off x="179280" y="4219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swim </a:t>
            </a:r>
            <a:r>
              <a:rPr b="1" lang="en-US" sz="3600" spc="-1" strike="noStrike">
                <a:solidFill>
                  <a:srgbClr val="ff9900"/>
                </a:solidFill>
                <a:latin typeface="Calibri"/>
              </a:rPr>
              <a:t>once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2"/>
          <p:cNvSpPr/>
          <p:nvPr/>
        </p:nvSpPr>
        <p:spPr>
          <a:xfrm>
            <a:off x="194040" y="5011920"/>
            <a:ext cx="488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watch TV </a:t>
            </a:r>
            <a:r>
              <a:rPr b="1" lang="en-US" sz="3600" spc="-1" strike="noStrike">
                <a:solidFill>
                  <a:srgbClr val="ff9900"/>
                </a:solidFill>
                <a:latin typeface="Calibri"/>
              </a:rPr>
              <a:t>twice a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5"/>
          <p:cNvSpPr/>
          <p:nvPr/>
        </p:nvSpPr>
        <p:spPr>
          <a:xfrm>
            <a:off x="255960" y="3427200"/>
            <a:ext cx="559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Calibri"/>
              </a:rPr>
              <a:t>How ofte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yo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wim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0"/>
          <p:cNvSpPr/>
          <p:nvPr/>
        </p:nvSpPr>
        <p:spPr>
          <a:xfrm>
            <a:off x="6238080" y="36446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alibri"/>
              </a:rPr>
              <a:t>on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1"/>
          <p:cNvSpPr/>
          <p:nvPr/>
        </p:nvSpPr>
        <p:spPr>
          <a:xfrm>
            <a:off x="6311880" y="42192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alibri"/>
              </a:rPr>
              <a:t>twi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2"/>
          <p:cNvSpPr/>
          <p:nvPr/>
        </p:nvSpPr>
        <p:spPr>
          <a:xfrm>
            <a:off x="6313680" y="4795560"/>
            <a:ext cx="27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alibri"/>
              </a:rPr>
              <a:t>three time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3"/>
          <p:cNvSpPr/>
          <p:nvPr/>
        </p:nvSpPr>
        <p:spPr>
          <a:xfrm>
            <a:off x="6347520" y="544464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alibri"/>
              </a:rPr>
              <a:t>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How oft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How often do you argue with your par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Once a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Three times a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Four time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Five time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</a:rPr>
              <a:t>One hundred time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720" y="1341360"/>
            <a:ext cx="8315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Unit 6 </a:t>
            </a:r>
            <a:br>
              <a:rPr sz="3600"/>
            </a:br>
            <a:r>
              <a:rPr b="1" lang="en-US" sz="3600" spc="-1" strike="noStrike">
                <a:solidFill>
                  <a:srgbClr val="cc00cc"/>
                </a:solidFill>
                <a:latin typeface="Comic Sans MS"/>
              </a:rPr>
              <a:t>What do you usually do on Sunday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920" y="1197000"/>
            <a:ext cx="80755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ff"/>
                </a:solidFill>
                <a:latin typeface="Comic Sans MS"/>
              </a:rPr>
              <a:t>Let's cha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5" descr="92922bd769f2c9f2a044dfc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0" y="10000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fly me to the mo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let me play among the st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let me see what spring is lik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on Jupiter and Ma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in other words hold my h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in other words darling kiss 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fill my heart with so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let me sing for ever m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you are all i long f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all i worship and ado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in other words please be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微软雅黑"/>
              </a:rPr>
              <a:t>in other words i love yo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2"/>
          <p:cNvSpPr/>
          <p:nvPr/>
        </p:nvSpPr>
        <p:spPr>
          <a:xfrm>
            <a:off x="324000" y="206064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Calibri"/>
              </a:rPr>
              <a:t>Thank you</a:t>
            </a:r>
            <a:r>
              <a:rPr b="1" lang="zh-CN" sz="8800" spc="-1" strike="noStrike">
                <a:solidFill>
                  <a:srgbClr val="ff9900"/>
                </a:solidFill>
                <a:latin typeface="Calibri"/>
              </a:rPr>
              <a:t>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55280" y="1123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d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03640" y="1196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ch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15" descr="016(1).jpg"/>
          <p:cNvPicPr/>
          <p:nvPr/>
        </p:nvPicPr>
        <p:blipFill>
          <a:blip r:embed="rId2"/>
          <a:srcRect l="0" t="0" r="3352" b="3142"/>
          <a:stretch/>
        </p:blipFill>
        <p:spPr>
          <a:xfrm>
            <a:off x="4716360" y="2565360"/>
            <a:ext cx="377352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8" descr="reading"/>
          <p:cNvPicPr/>
          <p:nvPr/>
        </p:nvPicPr>
        <p:blipFill>
          <a:blip r:embed="rId3"/>
          <a:stretch/>
        </p:blipFill>
        <p:spPr>
          <a:xfrm>
            <a:off x="612720" y="2133720"/>
            <a:ext cx="4032360" cy="2950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1"/>
          <p:cNvSpPr/>
          <p:nvPr/>
        </p:nvSpPr>
        <p:spPr>
          <a:xfrm>
            <a:off x="468360" y="6156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usually _________ after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4720" y="980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0360" y="907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sten to mu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7" descr="BQ2009510185526.gif"/>
          <p:cNvPicPr/>
          <p:nvPr/>
        </p:nvPicPr>
        <p:blipFill>
          <a:blip r:embed="rId2"/>
          <a:stretch/>
        </p:blipFill>
        <p:spPr>
          <a:xfrm>
            <a:off x="828720" y="2421000"/>
            <a:ext cx="259380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内容占位符 11" descr="122017477315.gif"/>
          <p:cNvPicPr/>
          <p:nvPr/>
        </p:nvPicPr>
        <p:blipFill>
          <a:blip r:embed="rId3"/>
          <a:stretch/>
        </p:blipFill>
        <p:spPr>
          <a:xfrm>
            <a:off x="4932360" y="2060640"/>
            <a:ext cx="2521080" cy="336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69000"/>
              </a:srgbClr>
            </a:outerShdw>
          </a:effectLst>
        </p:spPr>
      </p:pic>
      <p:sp>
        <p:nvSpPr>
          <p:cNvPr id="52" name="TextBox 10"/>
          <p:cNvSpPr/>
          <p:nvPr/>
        </p:nvSpPr>
        <p:spPr>
          <a:xfrm>
            <a:off x="468360" y="6156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usually _________ on week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 skateboar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360" y="1123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rf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468360" y="6156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 usually _________ after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内容占位符 13" descr="9897d82450942f3f4c088d90.jpg"/>
          <p:cNvPicPr/>
          <p:nvPr/>
        </p:nvPicPr>
        <p:blipFill>
          <a:blip r:embed="rId2"/>
          <a:srcRect l="0" t="0" r="432" b="13417"/>
          <a:stretch/>
        </p:blipFill>
        <p:spPr>
          <a:xfrm>
            <a:off x="179280" y="1557360"/>
            <a:ext cx="3935520" cy="3421080"/>
          </a:xfrm>
          <a:prstGeom prst="rect">
            <a:avLst/>
          </a:prstGeom>
          <a:ln w="0">
            <a:noFill/>
          </a:ln>
        </p:spPr>
      </p:pic>
      <p:pic>
        <p:nvPicPr>
          <p:cNvPr id="57" name="内容占位符 15" descr="20071214-dwsw3.jpg"/>
          <p:cNvPicPr/>
          <p:nvPr/>
        </p:nvPicPr>
        <p:blipFill>
          <a:blip r:embed="rId3"/>
          <a:stretch/>
        </p:blipFill>
        <p:spPr>
          <a:xfrm>
            <a:off x="4500720" y="2276640"/>
            <a:ext cx="3338280" cy="231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内容占位符 14" descr="2876757_821301.jpg"/>
          <p:cNvPicPr/>
          <p:nvPr/>
        </p:nvPicPr>
        <p:blipFill>
          <a:blip r:embed="rId2"/>
          <a:stretch/>
        </p:blipFill>
        <p:spPr>
          <a:xfrm>
            <a:off x="457200" y="2625840"/>
            <a:ext cx="4040280" cy="3049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 sho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68360" y="6156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e often _________ on week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内容占位符 8" descr="ng28_1.jpg"/>
          <p:cNvPicPr/>
          <p:nvPr/>
        </p:nvPicPr>
        <p:blipFill>
          <a:blip r:embed="rId3"/>
          <a:stretch/>
        </p:blipFill>
        <p:spPr>
          <a:xfrm>
            <a:off x="4761000" y="2722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5"/>
          <p:cNvSpPr/>
          <p:nvPr/>
        </p:nvSpPr>
        <p:spPr>
          <a:xfrm>
            <a:off x="684360" y="2060640"/>
            <a:ext cx="594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ff"/>
                </a:solidFill>
                <a:latin typeface="Arial"/>
                <a:ea typeface="Arial"/>
              </a:rPr>
              <a:t>Let’s Tal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684360" y="1413000"/>
            <a:ext cx="684036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484280"/>
            <a:ext cx="67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suall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on Sund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suall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 exercis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Sunday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1069" t="16219" r="21086" b="16167"/>
          <a:stretch/>
        </p:blipFill>
        <p:spPr>
          <a:xfrm>
            <a:off x="5003640" y="3860640"/>
            <a:ext cx="3441960" cy="230508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84360" y="1413000"/>
            <a:ext cx="684036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557360"/>
            <a:ext cx="64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: What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way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Sund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help my p</a:t>
            </a: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e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ts do </a:t>
            </a:r>
            <a:r>
              <a:rPr b="0" lang="zh-CN" sz="28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house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work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n Sunday</a:t>
            </a:r>
            <a:r>
              <a:rPr b="0" lang="zh-CN" sz="28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I clean my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ometimes I clean the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171960" cy="2303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 rot="10800000">
            <a:off x="3779640" y="198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21:08:37Z</dcterms:created>
  <dc:creator>Asura</dc:creator>
  <dc:description/>
  <dc:language>en-US</dc:language>
  <cp:lastModifiedBy>未知用户</cp:lastModifiedBy>
  <dcterms:modified xsi:type="dcterms:W3CDTF">2015-05-31T09:05:51Z</dcterms:modified>
  <cp:revision>390</cp:revision>
  <dc:subject/>
  <dc:title>暑假初二预备单元串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