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D265-5A1E-4764-BAC7-6A5B00A7B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66280" y="36792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173240"/>
            <a:ext cx="800892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880440"/>
            <a:ext cx="800892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F2F5-8B02-4D4C-9B37-650AD5022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66280" y="36792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173240"/>
            <a:ext cx="390816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0280" y="1173240"/>
            <a:ext cx="390816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880440"/>
            <a:ext cx="390816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0280" y="3880440"/>
            <a:ext cx="390816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B4C4-C265-4523-8AD3-DD1F85349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66280" y="36792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173240"/>
            <a:ext cx="25786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4200" y="1173240"/>
            <a:ext cx="25786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82120" y="1173240"/>
            <a:ext cx="25786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880440"/>
            <a:ext cx="25786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4200" y="3880440"/>
            <a:ext cx="25786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82120" y="3880440"/>
            <a:ext cx="25786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2DCC-B8F8-4010-99CA-A481201ED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DE8CC-8EC8-4972-8202-99FC76E66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66280" y="36792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173240"/>
            <a:ext cx="800892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23579-E8A9-464A-A39C-522A1C9A7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6280" y="36792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173240"/>
            <a:ext cx="80089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3A6BA-2F4B-47D1-994C-5CB7D06A4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66280" y="36792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173240"/>
            <a:ext cx="39081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1173240"/>
            <a:ext cx="39081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30ABC-01BD-4594-8AA4-C10141A2A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66280" y="36792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6B7B1-DDC8-4AFB-A107-16A89392A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66280" y="367920"/>
            <a:ext cx="800892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0BE0A-E039-4050-B038-920DBABF1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66280" y="36792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173240"/>
            <a:ext cx="390816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173240"/>
            <a:ext cx="39081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880440"/>
            <a:ext cx="390816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8532B-1332-4885-AE68-C0E955F9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6280" y="36792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173240"/>
            <a:ext cx="800892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46F0-F788-4175-AADD-664FDCA09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6280" y="36792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173240"/>
            <a:ext cx="39081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173240"/>
            <a:ext cx="390816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280" y="3880440"/>
            <a:ext cx="390816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80139-6A35-4DC7-99FB-64D68164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66280" y="36792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173240"/>
            <a:ext cx="390816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173240"/>
            <a:ext cx="390816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880440"/>
            <a:ext cx="800892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2FBBB-A9A8-4B63-A494-0BA247BF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66280" y="36792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173240"/>
            <a:ext cx="800892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880440"/>
            <a:ext cx="800892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AF3A5-0AE5-4D95-9D53-ED74B8EA8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66280" y="36792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173240"/>
            <a:ext cx="390816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1173240"/>
            <a:ext cx="390816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880440"/>
            <a:ext cx="390816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280" y="3880440"/>
            <a:ext cx="390816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B6E69-066C-41BE-BEBC-920068B1D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66280" y="36792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173240"/>
            <a:ext cx="25786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4200" y="1173240"/>
            <a:ext cx="25786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82120" y="1173240"/>
            <a:ext cx="25786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880440"/>
            <a:ext cx="25786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4200" y="3880440"/>
            <a:ext cx="25786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82120" y="3880440"/>
            <a:ext cx="25786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7EB7C-25C3-40F5-93C1-9BC80F404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19731-3BBA-4F9A-8E9A-A216CFC0B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66280" y="36792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66280" y="1173240"/>
            <a:ext cx="800892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553D9-F2C9-4293-85F4-261280375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66280" y="36792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173240"/>
            <a:ext cx="80089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C78C4-490B-4474-A6A8-4B7A7D3E3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66280" y="36792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173240"/>
            <a:ext cx="39081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0280" y="1173240"/>
            <a:ext cx="39081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58F63-7F46-43A5-8EFE-285CC80F8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66280" y="36792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F16A8-A1B5-4A26-A3E1-A7A7CC44E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6280" y="36792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173240"/>
            <a:ext cx="80089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FCB5-6C88-43B4-B15F-18DD74F86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566280" y="367920"/>
            <a:ext cx="800892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91392-5AE5-427B-9CBE-3F623CA0F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66280" y="36792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173240"/>
            <a:ext cx="390816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173240"/>
            <a:ext cx="39081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66280" y="3880440"/>
            <a:ext cx="390816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2804F-9B95-4808-B605-2D72F5D4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66280" y="36792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173240"/>
            <a:ext cx="39081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173240"/>
            <a:ext cx="390816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0280" y="3880440"/>
            <a:ext cx="390816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A1AD4-3955-4D04-AC8E-4A243C40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66280" y="36792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173240"/>
            <a:ext cx="390816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173240"/>
            <a:ext cx="390816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66280" y="3880440"/>
            <a:ext cx="800892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95AAF-7253-455D-A232-1B18CE77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66280" y="36792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173240"/>
            <a:ext cx="800892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66280" y="3880440"/>
            <a:ext cx="800892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5AFD8-C646-4D57-8061-3EFED5C94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66280" y="36792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173240"/>
            <a:ext cx="390816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0280" y="1173240"/>
            <a:ext cx="390816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6280" y="3880440"/>
            <a:ext cx="390816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0280" y="3880440"/>
            <a:ext cx="390816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9C347-547D-472C-86FE-EBE36C85E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66280" y="36792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173240"/>
            <a:ext cx="25786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74200" y="1173240"/>
            <a:ext cx="25786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82120" y="1173240"/>
            <a:ext cx="25786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66280" y="3880440"/>
            <a:ext cx="25786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74200" y="3880440"/>
            <a:ext cx="25786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82120" y="3880440"/>
            <a:ext cx="25786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39A51-A771-48BD-88D2-129B7E91C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66280" y="36792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173240"/>
            <a:ext cx="39081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0280" y="1173240"/>
            <a:ext cx="39081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1985-FFBD-4F0E-9EF4-8F112D9DB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66280" y="36792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2C82-4D94-4A27-8721-976FA088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66280" y="367920"/>
            <a:ext cx="800892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9773-3E75-4EE9-8A6E-7AC23C3B5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6280" y="36792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173240"/>
            <a:ext cx="390816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0280" y="1173240"/>
            <a:ext cx="39081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880440"/>
            <a:ext cx="390816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5ACE-C757-4DE3-92C2-19083CDC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6280" y="36792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173240"/>
            <a:ext cx="39081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1173240"/>
            <a:ext cx="390816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0280" y="3880440"/>
            <a:ext cx="390816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35E3-05A4-4E0E-B123-9F8B0CB7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6280" y="36792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173240"/>
            <a:ext cx="390816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0280" y="1173240"/>
            <a:ext cx="390816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880440"/>
            <a:ext cx="800892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2702-E269-478F-A5C1-563A1A3C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317B4-416C-45B5-8D36-9EE7725E695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5" descr="D:\ppt图片\481960.jpg"/>
          <p:cNvPicPr/>
          <p:nvPr/>
        </p:nvPicPr>
        <p:blipFill>
          <a:blip r:embed="rId2"/>
          <a:srcRect l="0" t="28583" r="51851" b="719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标题 1"/>
          <p:cNvSpPr/>
          <p:nvPr/>
        </p:nvSpPr>
        <p:spPr>
          <a:xfrm>
            <a:off x="250920" y="189000"/>
            <a:ext cx="4537080" cy="512640"/>
          </a:xfrm>
          <a:prstGeom prst="rect">
            <a:avLst/>
          </a:prstGeom>
          <a:solidFill>
            <a:srgbClr val="fffff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man"/>
              </a:rPr>
              <a:t>Unit8 What are you do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566280" y="1173240"/>
            <a:ext cx="80089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363600">
              <a:lnSpc>
                <a:spcPct val="90000"/>
              </a:lnSpc>
              <a:spcBef>
                <a:spcPts val="180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49280" indent="-4492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30303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800"/>
              </a:spcBef>
              <a:buClr>
                <a:srgbClr val="30303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800"/>
              </a:spcBef>
              <a:buClr>
                <a:srgbClr val="30303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C5F39-D9C3-4833-8C3C-EF9EE63AB529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title"/>
          </p:nvPr>
        </p:nvSpPr>
        <p:spPr>
          <a:xfrm>
            <a:off x="566280" y="36792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4654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93DA3-172D-4311-AF00-47C8548F0A05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title"/>
          </p:nvPr>
        </p:nvSpPr>
        <p:spPr>
          <a:xfrm>
            <a:off x="685800" y="2757240"/>
            <a:ext cx="702936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a4654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85680" indent="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indent="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499"/>
              </a:spcBef>
              <a:buClr>
                <a:srgbClr val="303030"/>
              </a:buClr>
              <a:buFont typeface="Calibri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0303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303030"/>
              </a:buClr>
              <a:buFont typeface="Calibri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303030"/>
              </a:buClr>
              <a:buFont typeface="Calibri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4"/>
          <p:cNvSpPr/>
          <p:nvPr/>
        </p:nvSpPr>
        <p:spPr>
          <a:xfrm>
            <a:off x="1332000" y="1341360"/>
            <a:ext cx="6119640" cy="31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Roman"/>
              </a:rPr>
              <a:t>Mod</a:t>
            </a:r>
            <a:r>
              <a:rPr b="1" lang="zh-CN" sz="6600" spc="-1" strike="noStrike">
                <a:solidFill>
                  <a:srgbClr val="ffffff"/>
                </a:solidFill>
                <a:latin typeface="Roman"/>
              </a:rPr>
              <a:t>u</a:t>
            </a:r>
            <a:r>
              <a:rPr b="1" lang="en-US" sz="6600" spc="-1" strike="noStrike">
                <a:solidFill>
                  <a:srgbClr val="ffffff"/>
                </a:solidFill>
                <a:latin typeface="Roman"/>
              </a:rPr>
              <a:t>l</a:t>
            </a:r>
            <a:r>
              <a:rPr b="1" lang="zh-CN" sz="6600" spc="-1" strike="noStrike">
                <a:solidFill>
                  <a:srgbClr val="ffffff"/>
                </a:solidFill>
                <a:latin typeface="Roman"/>
              </a:rPr>
              <a:t>e </a:t>
            </a:r>
            <a:r>
              <a:rPr b="1" lang="en-US" sz="6600" spc="-1" strike="noStrike">
                <a:solidFill>
                  <a:srgbClr val="ffffff"/>
                </a:solidFill>
                <a:latin typeface="Roman"/>
              </a:rPr>
              <a:t>4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Roman"/>
              </a:rPr>
              <a:t>Activiti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图片占位符 4" descr="m_1292055226379.png"/>
          <p:cNvPicPr/>
          <p:nvPr/>
        </p:nvPicPr>
        <p:blipFill>
          <a:blip r:embed="rId1"/>
          <a:stretch/>
        </p:blipFill>
        <p:spPr>
          <a:xfrm>
            <a:off x="1547640" y="404640"/>
            <a:ext cx="5943600" cy="457848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08000" y="5229360"/>
            <a:ext cx="5832720" cy="782640"/>
          </a:xfrm>
          <a:prstGeom prst="rect">
            <a:avLst/>
          </a:prstGeom>
          <a:solidFill>
            <a:srgbClr val="5f5f5f">
              <a:alpha val="57000"/>
            </a:srgbClr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Roman"/>
              </a:rPr>
              <a:t>swimming in the pool</a:t>
            </a:r>
            <a:endParaRPr b="0" lang="en-US" sz="40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155" name="矩形 3"/>
          <p:cNvSpPr/>
          <p:nvPr/>
        </p:nvSpPr>
        <p:spPr>
          <a:xfrm>
            <a:off x="1979640" y="5373720"/>
            <a:ext cx="2449440" cy="7207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6"/>
          <p:cNvSpPr/>
          <p:nvPr/>
        </p:nvSpPr>
        <p:spPr>
          <a:xfrm>
            <a:off x="2340000" y="5950080"/>
            <a:ext cx="50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Roman"/>
              </a:rPr>
              <a:t>正在游泳池里游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074400" y="836640"/>
            <a:ext cx="244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9b26"/>
                </a:solidFill>
                <a:latin typeface="Arial Black"/>
                <a:ea typeface="Gungsuh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26080" y="2492280"/>
            <a:ext cx="285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在客厅看卡通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003120" y="1125360"/>
            <a:ext cx="244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9b26"/>
                </a:solidFill>
                <a:latin typeface="Arial Black"/>
                <a:ea typeface="Gungsuh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841120" y="2514600"/>
            <a:ext cx="255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在操场放风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218760" y="1268280"/>
            <a:ext cx="244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9b26"/>
                </a:solidFill>
                <a:latin typeface="Arial Black"/>
                <a:ea typeface="Gungsuh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45960" y="2514600"/>
            <a:ext cx="316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3.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在客厅唱歌和跳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858400" y="1197000"/>
            <a:ext cx="244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9b26"/>
                </a:solidFill>
                <a:latin typeface="Arial Black"/>
                <a:ea typeface="Gungsuh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1120" y="2514600"/>
            <a:ext cx="255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4.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在游泳池游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858400" y="1197000"/>
            <a:ext cx="244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9b26"/>
                </a:solidFill>
                <a:latin typeface="Arial Black"/>
                <a:ea typeface="Gungsuh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41120" y="2514600"/>
            <a:ext cx="255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5.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在操场放风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218760" y="1197000"/>
            <a:ext cx="244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9b26"/>
                </a:solidFill>
                <a:latin typeface="Arial Black"/>
                <a:ea typeface="Gungsuh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6160" y="2565360"/>
            <a:ext cx="511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1. fishing in the pa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290400" y="1268280"/>
            <a:ext cx="244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9b26"/>
                </a:solidFill>
                <a:latin typeface="Arial Black"/>
                <a:ea typeface="Gungsuh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64640" y="2590920"/>
            <a:ext cx="807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2. flying a kite in the playgrou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218760" y="907920"/>
            <a:ext cx="244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9b26"/>
                </a:solidFill>
                <a:latin typeface="Arial Black"/>
                <a:ea typeface="Gungsuh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87280" y="2565360"/>
            <a:ext cx="684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3. singing and dancing in the living ro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074400" y="1125360"/>
            <a:ext cx="244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9b26"/>
                </a:solidFill>
                <a:latin typeface="Arial Black"/>
                <a:ea typeface="Gungsuh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63960" y="2421000"/>
            <a:ext cx="686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4. watching cartoons in th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living ro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22080" y="1268280"/>
            <a:ext cx="800784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Roman"/>
              </a:rPr>
              <a:t>Unit</a:t>
            </a:r>
            <a:r>
              <a:rPr b="1" lang="zh-CN" sz="6000" spc="-1" strike="noStrike">
                <a:solidFill>
                  <a:srgbClr val="ffffff"/>
                </a:solidFill>
                <a:latin typeface="Roman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Roman"/>
              </a:rPr>
              <a:t>8 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Roman"/>
              </a:rPr>
              <a:t>What are you doing?</a:t>
            </a:r>
            <a:br>
              <a:rPr sz="6000"/>
            </a:br>
            <a:r>
              <a:rPr b="1" lang="zh-CN" sz="4400" spc="-1" strike="noStrike">
                <a:solidFill>
                  <a:srgbClr val="ffffff"/>
                </a:solidFill>
                <a:latin typeface="Roman"/>
              </a:rPr>
              <a:t>课件 </a:t>
            </a:r>
            <a:r>
              <a:rPr b="1" lang="zh-CN" sz="4400" spc="-1" strike="noStrike">
                <a:solidFill>
                  <a:srgbClr val="ffffff"/>
                </a:solidFill>
                <a:latin typeface="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290400" y="981000"/>
            <a:ext cx="244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9b26"/>
                </a:solidFill>
                <a:latin typeface="Arial Black"/>
                <a:ea typeface="Gungsuh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603080" y="2514600"/>
            <a:ext cx="599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5. Swimming in the p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标题 1" descr=""/>
          <p:cNvPicPr/>
          <p:nvPr/>
        </p:nvPicPr>
        <p:blipFill>
          <a:blip r:embed="rId1"/>
          <a:stretch/>
        </p:blipFill>
        <p:spPr>
          <a:xfrm>
            <a:off x="1243080" y="2335320"/>
            <a:ext cx="680400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"/>
          <p:cNvGrpSpPr/>
          <p:nvPr/>
        </p:nvGrpSpPr>
        <p:grpSpPr>
          <a:xfrm>
            <a:off x="395280" y="404640"/>
            <a:ext cx="8242200" cy="1159200"/>
            <a:chOff x="395280" y="404640"/>
            <a:chExt cx="8242200" cy="1159200"/>
          </a:xfrm>
        </p:grpSpPr>
        <p:pic>
          <p:nvPicPr>
            <p:cNvPr id="179" name="标题 1" descr=""/>
            <p:cNvPicPr/>
            <p:nvPr/>
          </p:nvPicPr>
          <p:blipFill>
            <a:blip r:embed="rId1"/>
            <a:stretch/>
          </p:blipFill>
          <p:spPr>
            <a:xfrm>
              <a:off x="395280" y="404640"/>
              <a:ext cx="8242200" cy="11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 txBox="1"/>
            <p:nvPr/>
          </p:nvSpPr>
          <p:spPr>
            <a:xfrm>
              <a:off x="395280" y="404640"/>
              <a:ext cx="8242200" cy="1159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a4654"/>
                </a:solidFill>
                <a:latin typeface="Arial"/>
              </a:endParaRPr>
            </a:p>
          </p:txBody>
        </p:sp>
      </p:grp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ffcc00"/>
                </a:solidFill>
                <a:latin typeface="Arial"/>
              </a:rPr>
              <a:t>1. </a:t>
            </a:r>
            <a:r>
              <a:rPr b="0" lang="en-US" sz="3900" spc="-1" strike="noStrike">
                <a:solidFill>
                  <a:srgbClr val="ffcc00"/>
                </a:solidFill>
                <a:latin typeface="Arial"/>
              </a:rPr>
              <a:t>Remember the new words</a:t>
            </a:r>
            <a:r>
              <a:rPr b="0" lang="zh-CN" sz="3900" spc="-1" strike="noStrike">
                <a:solidFill>
                  <a:srgbClr val="ffcc00"/>
                </a:solidFill>
                <a:latin typeface="Arial"/>
              </a:rPr>
              <a:t>: </a:t>
            </a:r>
            <a:r>
              <a:rPr b="1" lang="en-US" sz="3900" spc="-1" strike="noStrike">
                <a:solidFill>
                  <a:srgbClr val="ffcc00"/>
                </a:solidFill>
                <a:latin typeface="Roman"/>
              </a:rPr>
              <a:t>have a look, fish, fly </a:t>
            </a:r>
            <a:r>
              <a:rPr b="0" lang="en-US" sz="3900" spc="-1" strike="noStrike">
                <a:solidFill>
                  <a:srgbClr val="ffcc00"/>
                </a:solidFill>
                <a:latin typeface="Arial"/>
              </a:rPr>
              <a:t>and</a:t>
            </a:r>
            <a:r>
              <a:rPr b="1" lang="en-US" sz="3900" spc="-1" strike="noStrike">
                <a:solidFill>
                  <a:srgbClr val="ffcc00"/>
                </a:solidFill>
                <a:latin typeface="Roman"/>
              </a:rPr>
              <a:t> dance</a:t>
            </a:r>
            <a:r>
              <a:rPr b="0" lang="en-US" sz="3900" spc="-1" strike="noStrike">
                <a:solidFill>
                  <a:srgbClr val="ffcc00"/>
                </a:solidFill>
                <a:latin typeface="Arial"/>
              </a:rPr>
              <a:t> after class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marL="820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ffcc00"/>
                </a:solidFill>
                <a:latin typeface="Arial"/>
              </a:rPr>
              <a:t>2. </a:t>
            </a:r>
            <a:r>
              <a:rPr b="0" lang="en-US" sz="3900" spc="-1" strike="noStrike">
                <a:solidFill>
                  <a:srgbClr val="ffcc00"/>
                </a:solidFill>
                <a:latin typeface="Arial"/>
              </a:rPr>
              <a:t>Practise</a:t>
            </a:r>
            <a:r>
              <a:rPr b="0" lang="zh-CN" sz="39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3900" spc="-1" strike="noStrike">
                <a:solidFill>
                  <a:srgbClr val="ffcc00"/>
                </a:solidFill>
                <a:latin typeface="Arial"/>
              </a:rPr>
              <a:t>with your partner: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marL="820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zh-CN" sz="3900" spc="-1" strike="noStrike">
                <a:solidFill>
                  <a:srgbClr val="ffcc00"/>
                </a:solidFill>
                <a:latin typeface="Arial"/>
              </a:rPr>
              <a:t>---</a:t>
            </a:r>
            <a:r>
              <a:rPr b="1" lang="en-US" sz="3900" spc="-1" strike="noStrike">
                <a:solidFill>
                  <a:srgbClr val="ffcc00"/>
                </a:solidFill>
                <a:latin typeface="Roman"/>
              </a:rPr>
              <a:t>What are you doing?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marL="431280" indent="-34884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cc00"/>
                </a:solidFill>
                <a:latin typeface="Roman"/>
              </a:rPr>
              <a:t>     </a:t>
            </a:r>
            <a:r>
              <a:rPr b="1" lang="zh-CN" sz="3900" spc="-1" strike="noStrike">
                <a:solidFill>
                  <a:srgbClr val="ffcc00"/>
                </a:solidFill>
                <a:latin typeface="Roman"/>
              </a:rPr>
              <a:t>---</a:t>
            </a:r>
            <a:r>
              <a:rPr b="1" lang="en-US" sz="3900" spc="-1" strike="noStrike">
                <a:solidFill>
                  <a:srgbClr val="ffcc00"/>
                </a:solidFill>
                <a:latin typeface="Roman"/>
              </a:rPr>
              <a:t>I am…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marL="431280" indent="-34884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cc00"/>
                </a:solidFill>
                <a:latin typeface="Roman"/>
              </a:rPr>
              <a:t>   </a:t>
            </a:r>
            <a:r>
              <a:rPr b="0" lang="zh-CN" sz="3900" spc="-1" strike="noStrike">
                <a:solidFill>
                  <a:srgbClr val="ffcc00"/>
                </a:solidFill>
                <a:latin typeface="Roman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marL="431280" indent="-348840">
              <a:lnSpc>
                <a:spcPct val="90000"/>
              </a:lnSpc>
              <a:spcBef>
                <a:spcPts val="1800"/>
              </a:spcBef>
              <a:buSzPct val="10288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标题 1" descr=""/>
          <p:cNvPicPr/>
          <p:nvPr/>
        </p:nvPicPr>
        <p:blipFill>
          <a:blip r:embed="rId1"/>
          <a:stretch/>
        </p:blipFill>
        <p:spPr>
          <a:xfrm>
            <a:off x="1619280" y="2205000"/>
            <a:ext cx="60102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矩形 3" descr=""/>
          <p:cNvPicPr/>
          <p:nvPr/>
        </p:nvPicPr>
        <p:blipFill>
          <a:blip r:embed="rId1"/>
          <a:stretch/>
        </p:blipFill>
        <p:spPr>
          <a:xfrm>
            <a:off x="2556000" y="2349360"/>
            <a:ext cx="3925800" cy="11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6"/>
          <p:cNvSpPr/>
          <p:nvPr/>
        </p:nvSpPr>
        <p:spPr>
          <a:xfrm>
            <a:off x="1187280" y="1125360"/>
            <a:ext cx="54738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man"/>
              </a:rPr>
              <a:t>have a loo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man"/>
              </a:rPr>
              <a:t>fis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man"/>
              </a:rPr>
              <a:t>fl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Roman"/>
              </a:rPr>
              <a:t>s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man"/>
              </a:rPr>
              <a:t>da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Roman"/>
              </a:rPr>
              <a:t>wat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Roman"/>
              </a:rPr>
              <a:t>swi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标题 1" descr=""/>
          <p:cNvPicPr/>
          <p:nvPr/>
        </p:nvPicPr>
        <p:blipFill>
          <a:blip r:embed="rId1"/>
          <a:stretch/>
        </p:blipFill>
        <p:spPr>
          <a:xfrm>
            <a:off x="1554120" y="2114640"/>
            <a:ext cx="6095880" cy="15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图片占位符 4" descr="sy_20100616205648014043.jpg"/>
          <p:cNvPicPr/>
          <p:nvPr/>
        </p:nvPicPr>
        <p:blipFill>
          <a:blip r:embed="rId1"/>
          <a:stretch/>
        </p:blipFill>
        <p:spPr>
          <a:xfrm>
            <a:off x="828720" y="765000"/>
            <a:ext cx="6302160" cy="4621320"/>
          </a:xfrm>
          <a:prstGeom prst="rect">
            <a:avLst/>
          </a:prstGeom>
          <a:ln w="0">
            <a:noFill/>
          </a:ln>
        </p:spPr>
      </p:pic>
      <p:sp>
        <p:nvSpPr>
          <p:cNvPr id="133" name="TextBox 3"/>
          <p:cNvSpPr/>
          <p:nvPr/>
        </p:nvSpPr>
        <p:spPr>
          <a:xfrm>
            <a:off x="1763640" y="5373720"/>
            <a:ext cx="15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Roman"/>
              </a:rPr>
              <a:t>fi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63640" y="5373360"/>
            <a:ext cx="6121440" cy="709560"/>
          </a:xfrm>
          <a:prstGeom prst="rect">
            <a:avLst/>
          </a:prstGeom>
          <a:solidFill>
            <a:srgbClr val="5f5f5f">
              <a:alpha val="57000"/>
            </a:srgbClr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Roman"/>
              </a:rPr>
              <a:t>fishing in the park</a:t>
            </a:r>
            <a:endParaRPr b="0" lang="en-US" sz="4000" spc="-1" strike="noStrike">
              <a:solidFill>
                <a:srgbClr val="da4654"/>
              </a:solidFill>
              <a:latin typeface="Arial"/>
            </a:endParaRPr>
          </a:p>
        </p:txBody>
      </p:sp>
      <p:pic>
        <p:nvPicPr>
          <p:cNvPr id="135" name="矩形 6" descr=""/>
          <p:cNvPicPr/>
          <p:nvPr/>
        </p:nvPicPr>
        <p:blipFill>
          <a:blip r:embed="rId2"/>
          <a:stretch/>
        </p:blipFill>
        <p:spPr>
          <a:xfrm>
            <a:off x="5126040" y="79200"/>
            <a:ext cx="3786120" cy="1121040"/>
          </a:xfrm>
          <a:prstGeom prst="rect">
            <a:avLst/>
          </a:prstGeom>
          <a:ln w="0">
            <a:noFill/>
          </a:ln>
        </p:spPr>
      </p:pic>
      <p:sp>
        <p:nvSpPr>
          <p:cNvPr id="136" name="矩形 7"/>
          <p:cNvSpPr/>
          <p:nvPr/>
        </p:nvSpPr>
        <p:spPr>
          <a:xfrm>
            <a:off x="1692360" y="5445000"/>
            <a:ext cx="1871640" cy="7192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8"/>
          <p:cNvSpPr/>
          <p:nvPr/>
        </p:nvSpPr>
        <p:spPr>
          <a:xfrm>
            <a:off x="1908000" y="6149880"/>
            <a:ext cx="47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Roman"/>
              </a:rPr>
              <a:t>正在公园里钓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c281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占位符 4" descr="5749079_120618061342_2.jpg"/>
          <p:cNvPicPr/>
          <p:nvPr/>
        </p:nvPicPr>
        <p:blipFill>
          <a:blip r:embed="rId1"/>
          <a:srcRect l="4429" t="6033" r="3835" b="7394"/>
          <a:stretch/>
        </p:blipFill>
        <p:spPr>
          <a:xfrm>
            <a:off x="1692360" y="620640"/>
            <a:ext cx="5965920" cy="4335480"/>
          </a:xfrm>
          <a:prstGeom prst="rect">
            <a:avLst/>
          </a:prstGeom>
          <a:ln w="0">
            <a:noFill/>
          </a:ln>
        </p:spPr>
      </p:pic>
      <p:sp>
        <p:nvSpPr>
          <p:cNvPr id="139" name="TextBox 3"/>
          <p:cNvSpPr/>
          <p:nvPr/>
        </p:nvSpPr>
        <p:spPr>
          <a:xfrm>
            <a:off x="468360" y="530064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Roman"/>
              </a:rPr>
              <a:t>f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5229360"/>
            <a:ext cx="7704000" cy="782640"/>
          </a:xfrm>
          <a:prstGeom prst="rect">
            <a:avLst/>
          </a:prstGeom>
          <a:solidFill>
            <a:srgbClr val="5f5f5f">
              <a:alpha val="57000"/>
            </a:srgbClr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Roman"/>
              </a:rPr>
              <a:t>flying a kite in the playground</a:t>
            </a:r>
            <a:endParaRPr b="0" lang="en-US" sz="40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141" name="矩形 5"/>
          <p:cNvSpPr/>
          <p:nvPr/>
        </p:nvSpPr>
        <p:spPr>
          <a:xfrm>
            <a:off x="179280" y="5300640"/>
            <a:ext cx="1871640" cy="7207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1908000" y="5950080"/>
            <a:ext cx="50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Roman"/>
              </a:rPr>
              <a:t>正在操场放风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c281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C:\Users\Administrator\Desktop\上课\huge4d7f12bfcd339.jpg"/>
          <p:cNvPicPr/>
          <p:nvPr/>
        </p:nvPicPr>
        <p:blipFill>
          <a:blip r:embed="rId1"/>
          <a:stretch/>
        </p:blipFill>
        <p:spPr>
          <a:xfrm>
            <a:off x="2268360" y="404640"/>
            <a:ext cx="3767400" cy="44388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4941360"/>
            <a:ext cx="8569440" cy="1071720"/>
          </a:xfrm>
          <a:prstGeom prst="rect">
            <a:avLst/>
          </a:prstGeom>
          <a:solidFill>
            <a:srgbClr val="5f5f5f">
              <a:alpha val="57000"/>
            </a:srgbClr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Roman"/>
              </a:rPr>
              <a:t>singing and dancing in the living room</a:t>
            </a:r>
            <a:endParaRPr b="0" lang="en-US" sz="40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145" name="TextBox 3"/>
          <p:cNvSpPr/>
          <p:nvPr/>
        </p:nvSpPr>
        <p:spPr>
          <a:xfrm>
            <a:off x="3419640" y="4869000"/>
            <a:ext cx="1800000" cy="703440"/>
          </a:xfrm>
          <a:prstGeom prst="rect">
            <a:avLst/>
          </a:prstGeom>
          <a:solidFill>
            <a:srgbClr val="5f5f5f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Roman"/>
              </a:rPr>
              <a:t>d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4"/>
          <p:cNvSpPr/>
          <p:nvPr/>
        </p:nvSpPr>
        <p:spPr>
          <a:xfrm>
            <a:off x="468360" y="4797360"/>
            <a:ext cx="1944720" cy="6476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6"/>
          <p:cNvSpPr/>
          <p:nvPr/>
        </p:nvSpPr>
        <p:spPr>
          <a:xfrm>
            <a:off x="3564000" y="4797360"/>
            <a:ext cx="1944720" cy="6476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8"/>
          <p:cNvSpPr/>
          <p:nvPr/>
        </p:nvSpPr>
        <p:spPr>
          <a:xfrm>
            <a:off x="1908000" y="5950080"/>
            <a:ext cx="50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Roman"/>
              </a:rPr>
              <a:t>正在客厅里唱歌跳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c281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4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280" y="4797360"/>
            <a:ext cx="8604360" cy="1214640"/>
          </a:xfrm>
          <a:prstGeom prst="rect">
            <a:avLst/>
          </a:prstGeom>
          <a:solidFill>
            <a:srgbClr val="5f5f5f">
              <a:alpha val="57000"/>
            </a:srgbClr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Roman"/>
              </a:rPr>
              <a:t>watching cartoons in the living room</a:t>
            </a:r>
            <a:endParaRPr b="0" lang="en-US" sz="4000" spc="-1" strike="noStrike">
              <a:solidFill>
                <a:srgbClr val="da4654"/>
              </a:solidFill>
              <a:latin typeface="Arial"/>
            </a:endParaRPr>
          </a:p>
        </p:txBody>
      </p:sp>
      <p:pic>
        <p:nvPicPr>
          <p:cNvPr id="150" name="图片占位符 4" descr="4499633_160651023000_2.jpg"/>
          <p:cNvPicPr/>
          <p:nvPr/>
        </p:nvPicPr>
        <p:blipFill>
          <a:blip r:embed="rId1"/>
          <a:stretch/>
        </p:blipFill>
        <p:spPr>
          <a:xfrm>
            <a:off x="1908000" y="692280"/>
            <a:ext cx="5443560" cy="3994200"/>
          </a:xfrm>
          <a:prstGeom prst="rect">
            <a:avLst/>
          </a:prstGeom>
          <a:ln w="0">
            <a:noFill/>
          </a:ln>
        </p:spPr>
      </p:pic>
      <p:sp>
        <p:nvSpPr>
          <p:cNvPr id="151" name="矩形 3"/>
          <p:cNvSpPr/>
          <p:nvPr/>
        </p:nvSpPr>
        <p:spPr>
          <a:xfrm>
            <a:off x="611280" y="4797360"/>
            <a:ext cx="2232000" cy="6476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5"/>
          <p:cNvSpPr/>
          <p:nvPr/>
        </p:nvSpPr>
        <p:spPr>
          <a:xfrm>
            <a:off x="1908000" y="5950080"/>
            <a:ext cx="50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Roman"/>
              </a:rPr>
              <a:t>正在客厅里看卡通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31T01:42:09Z</dcterms:created>
  <dc:creator>Administrator</dc:creator>
  <dc:description/>
  <cp:keywords/>
  <dc:language>en-US</dc:language>
  <cp:lastModifiedBy>Windows 用户</cp:lastModifiedBy>
  <dcterms:modified xsi:type="dcterms:W3CDTF">2015-05-31T05:56:35Z</dcterms:modified>
  <cp:revision>49</cp:revision>
  <dc:subject/>
  <dc:title>Unit8 What are you doing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41</vt:lpwstr>
  </property>
</Properties>
</file>