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media/image2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BA2-A0F3-400A-8084-BF6FF6AF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4F1-BCB6-45AA-A198-6C8EFB29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474-25EE-4963-AB93-185AE520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72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40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904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72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40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3F9-0D1B-475B-AC94-323C8E93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A354-1138-49A4-BE7C-625A0218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7D16-DA1A-46B1-9562-81EF861C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AF77-7A24-42DA-A60A-34B78B1F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E3D4-ABD7-4F99-AB98-A6EE5AD1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23C7-BFF5-4435-9FE9-BA535290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5520" y="339840"/>
            <a:ext cx="82929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E491-7C26-4424-8B10-54B94531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80DA-2AC6-4750-9FEB-18C655F6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7AA-7514-4A6E-8957-A22F99D2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6613-68B7-422B-B84B-A4BC2C47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69D0-8D0D-41B8-BDB2-EC99C358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5B75-AFDE-4138-9408-4A06CDC5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DC8C-F409-4363-A399-82C9AD42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72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40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904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72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40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AC9A-0545-485B-BAC4-900376FD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E31EC-199C-4141-BFF9-54D193338E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6C3EB-03DE-4437-B513-79D1F03C3D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A4AA7-95C5-4A15-AD9A-6AF631CE1A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8ECD1-ACEF-4DBE-A151-1DC8C755CF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43DD9-4DBF-45D9-B34F-53FB95E3B4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77DE-C8EA-4A28-9AA8-B8700CD2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25520" y="339840"/>
            <a:ext cx="82929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B7309-5561-4E5D-8FD1-1F85F99B4D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B06F3-F691-4031-B707-86B706DF88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B3FC8-008F-4A3E-A197-262E57A3D4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D4AD3-A6A9-4267-B8FE-EA26991B1C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5876F-78A8-463A-ACE1-524DCFEE4A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CD2E3-5F83-4EB8-BF62-12515671C7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272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640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1904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272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640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A37DB-A8F2-45D2-877B-2C940C1B5F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2F5EA-01CD-4C0A-B6E4-48EC8870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AEAA02-99EF-457C-8B8E-A79A51DF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5C4C27-5722-4617-9B59-918512E5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C10-9BBC-4954-829C-E3692ECF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7D386C-7CF8-4B4E-B0C8-252FE13B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DED5A-3B66-4376-BDDB-78C72A96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25520" y="339840"/>
            <a:ext cx="82929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83EFF0-4B86-483D-AB2F-E8B33DA6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B3308-3E7A-4999-AFA6-E23A8408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ECC22F-6F2C-4BBB-A0CB-61C242E6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791BEB-F44C-4C99-A043-AB46F1BB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AA3DB-26D1-4B0E-A1FB-AEED0D78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7D51F-7443-4763-9914-4CD4E20F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2272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640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1904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2272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640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55AB0B-4F19-49B3-B66C-9A818FDA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CAD04-36D7-4031-AB0E-05D7A75F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8755-3101-42F9-B589-DEC8FC94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42DBF-7E51-4D03-9B6E-F0BD8A56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40F8F-F2E4-4F38-A367-F79D9B7E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259A2-2C30-4609-B5F7-BC2D0229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724C91-CA68-4F1B-9DDD-251246D0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25520" y="339840"/>
            <a:ext cx="82929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B7747-F5F7-4F4C-AE12-075DAD79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69A24-D481-436F-A6F6-05847D6D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82E50-41CE-46E0-9C65-A5AB0F93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D200B-7CF4-466E-83FE-369B915A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4D1C6-E741-4157-AC68-D4E97218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58392-C1BF-4ABE-9793-F0541B20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5520" y="339840"/>
            <a:ext cx="82929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338-78D6-428D-98CB-30A90B57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272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640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904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272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640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AF6D0-0EE2-4CEF-93AF-7836CC7D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2F8-6E1E-412A-B865-CF61BD46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324-25FC-41B1-B617-3453FF5E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BA2-CB27-454E-B0C4-42907520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4C3E-D6D2-4D31-8819-B80A549F274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6E49-A7C6-4B0C-B11B-F2F899EF59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9360" y="6308640"/>
            <a:ext cx="9172440" cy="54936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1"/>
          <p:cNvPicPr/>
          <p:nvPr/>
        </p:nvPicPr>
        <p:blipFill>
          <a:blip r:embed="rId2"/>
          <a:stretch/>
        </p:blipFill>
        <p:spPr>
          <a:xfrm>
            <a:off x="5508720" y="5740560"/>
            <a:ext cx="3587760" cy="97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1C42-DDD4-4832-84C5-3312951B054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4AFF-16AA-4247-B850-DCDE493D4D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3124080" y="624636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6360"/>
            <a:ext cx="21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04F1-F235-4A82-BFA0-51F04B45E5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f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0"/>
          <p:cNvSpPr/>
          <p:nvPr/>
        </p:nvSpPr>
        <p:spPr>
          <a:xfrm>
            <a:off x="0" y="6445080"/>
            <a:ext cx="9144000" cy="419400"/>
          </a:xfrm>
          <a:prstGeom prst="rect">
            <a:avLst/>
          </a:prstGeom>
          <a:solidFill>
            <a:srgbClr val="e74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1"/>
          <p:cNvSpPr/>
          <p:nvPr/>
        </p:nvSpPr>
        <p:spPr>
          <a:xfrm>
            <a:off x="0" y="6445080"/>
            <a:ext cx="797040" cy="419400"/>
          </a:xfrm>
          <a:prstGeom prst="rect">
            <a:avLst/>
          </a:prstGeom>
          <a:solidFill>
            <a:srgbClr val="131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BAC3-A2F5-4233-B3FA-799E711D3A1B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3634-E6A4-42FA-A774-62DC9BB6E73C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c5c3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c3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f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3"/>
          <p:cNvSpPr/>
          <p:nvPr/>
        </p:nvSpPr>
        <p:spPr>
          <a:xfrm>
            <a:off x="0" y="6445080"/>
            <a:ext cx="9144000" cy="419400"/>
          </a:xfrm>
          <a:prstGeom prst="rect">
            <a:avLst/>
          </a:prstGeom>
          <a:solidFill>
            <a:srgbClr val="e74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4"/>
          <p:cNvSpPr/>
          <p:nvPr/>
        </p:nvSpPr>
        <p:spPr>
          <a:xfrm>
            <a:off x="0" y="6445080"/>
            <a:ext cx="797040" cy="419400"/>
          </a:xfrm>
          <a:prstGeom prst="rect">
            <a:avLst/>
          </a:prstGeom>
          <a:solidFill>
            <a:srgbClr val="131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15"/>
          <p:cNvSpPr/>
          <p:nvPr/>
        </p:nvSpPr>
        <p:spPr>
          <a:xfrm>
            <a:off x="0" y="-4680"/>
            <a:ext cx="9144000" cy="2827080"/>
          </a:xfrm>
          <a:custGeom>
            <a:avLst/>
            <a:gdLst/>
            <a:ahLst/>
            <a:rect l="l" t="t" r="r" b="b"/>
            <a:pathLst>
              <a:path w="9144000" h="2827321">
                <a:moveTo>
                  <a:pt x="0" y="0"/>
                </a:moveTo>
                <a:lnTo>
                  <a:pt x="9144000" y="0"/>
                </a:lnTo>
                <a:lnTo>
                  <a:pt x="9144000" y="2827321"/>
                </a:lnTo>
                <a:lnTo>
                  <a:pt x="3784788" y="2827321"/>
                </a:lnTo>
                <a:lnTo>
                  <a:pt x="3765124" y="2632222"/>
                </a:lnTo>
                <a:cubicBezTo>
                  <a:pt x="3656220" y="2099953"/>
                  <a:pt x="3185333" y="1699560"/>
                  <a:pt x="2620941" y="1699560"/>
                </a:cubicBezTo>
                <a:cubicBezTo>
                  <a:pt x="2056549" y="1699560"/>
                  <a:pt x="1585662" y="2099953"/>
                  <a:pt x="1476759" y="2632222"/>
                </a:cubicBezTo>
                <a:lnTo>
                  <a:pt x="1457094" y="2827321"/>
                </a:lnTo>
                <a:lnTo>
                  <a:pt x="0" y="2827321"/>
                </a:lnTo>
                <a:lnTo>
                  <a:pt x="0" y="0"/>
                </a:lnTo>
                <a:close/>
              </a:path>
            </a:pathLst>
          </a:custGeom>
          <a:solidFill>
            <a:srgbClr val="131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16"/>
          <p:cNvSpPr/>
          <p:nvPr/>
        </p:nvSpPr>
        <p:spPr>
          <a:xfrm>
            <a:off x="1778040" y="2068560"/>
            <a:ext cx="1689120" cy="1689120"/>
          </a:xfrm>
          <a:prstGeom prst="ellipse">
            <a:avLst/>
          </a:prstGeom>
          <a:solidFill>
            <a:srgbClr val="e74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17" descr=""/>
          <p:cNvPicPr/>
          <p:nvPr/>
        </p:nvPicPr>
        <p:blipFill>
          <a:blip r:embed="rId2"/>
          <a:stretch/>
        </p:blipFill>
        <p:spPr>
          <a:xfrm>
            <a:off x="1741320" y="2576520"/>
            <a:ext cx="1787760" cy="8780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2AF6-F90D-4A36-9D70-D94D6EC62260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BC2E-B8A0-4981-9203-A51B6DA45769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title"/>
          </p:nvPr>
        </p:nvSpPr>
        <p:spPr>
          <a:xfrm>
            <a:off x="3657600" y="3222720"/>
            <a:ext cx="52322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6f72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560" y="3429000"/>
            <a:ext cx="7775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00"/>
                </a:solidFill>
                <a:latin typeface="Times New Roman"/>
              </a:rPr>
              <a:t>Module 5 Sports</a:t>
            </a:r>
            <a:endParaRPr b="1" lang="en-US" sz="66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4"/>
          <p:cNvSpPr/>
          <p:nvPr/>
        </p:nvSpPr>
        <p:spPr>
          <a:xfrm>
            <a:off x="539640" y="1362240"/>
            <a:ext cx="8147160" cy="2880"/>
          </a:xfrm>
          <a:prstGeom prst="line">
            <a:avLst/>
          </a:prstGeom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468000" y="755640"/>
            <a:ext cx="53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are the children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2057400"/>
          <a:ext cx="8893080" cy="2903400"/>
        </p:xfrm>
        <a:graphic>
          <a:graphicData uri="http://schemas.openxmlformats.org/drawingml/2006/table">
            <a:tbl>
              <a:tblPr/>
              <a:tblGrid>
                <a:gridCol w="1482840"/>
                <a:gridCol w="1481040"/>
                <a:gridCol w="1482840"/>
                <a:gridCol w="1481040"/>
                <a:gridCol w="1482840"/>
                <a:gridCol w="1482480"/>
              </a:tblGrid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5c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c5c31"/>
                          </a:solidFill>
                          <a:latin typeface="幼圆"/>
                          <a:ea typeface="微软雅黑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5c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c5c31"/>
                          </a:solidFill>
                          <a:latin typeface="幼圆"/>
                          <a:ea typeface="微软雅黑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5c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c5c31"/>
                          </a:solidFill>
                          <a:latin typeface="幼圆"/>
                          <a:ea typeface="微软雅黑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5c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c5c31"/>
                          </a:solidFill>
                          <a:latin typeface="幼圆"/>
                          <a:ea typeface="微软雅黑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5c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c5c31"/>
                          </a:solidFill>
                          <a:latin typeface="幼圆"/>
                          <a:ea typeface="微软雅黑"/>
                        </a:rPr>
                        <a:t>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5c31"/>
                    </a:solidFill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8:40-9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Chin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M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Chin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M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9:40-10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M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Chin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Chin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10:30-11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Chin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M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11:20-12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Chin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14:35-15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幼圆"/>
                          <a:ea typeface="微软雅黑"/>
                        </a:rPr>
                        <a:t>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15:30-16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微软雅黑"/>
                        </a:rPr>
                        <a:t>Chin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4"/>
          <p:cNvSpPr/>
          <p:nvPr/>
        </p:nvSpPr>
        <p:spPr>
          <a:xfrm>
            <a:off x="539640" y="1362240"/>
            <a:ext cx="8147160" cy="2880"/>
          </a:xfrm>
          <a:prstGeom prst="line">
            <a:avLst/>
          </a:prstGeom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468000" y="281160"/>
            <a:ext cx="403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ing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…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踢足球的小孩图片"/>
          <p:cNvPicPr/>
          <p:nvPr/>
        </p:nvPicPr>
        <p:blipFill>
          <a:blip r:embed="rId1"/>
          <a:srcRect l="0" t="0" r="34645" b="0"/>
          <a:stretch/>
        </p:blipFill>
        <p:spPr>
          <a:xfrm>
            <a:off x="1525680" y="1488960"/>
            <a:ext cx="3046320" cy="3473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6" descr="A1JQ2X$U1B2Q2GW1YU92EP5"/>
          <p:cNvPicPr/>
          <p:nvPr/>
        </p:nvPicPr>
        <p:blipFill>
          <a:blip r:embed="rId2"/>
          <a:stretch/>
        </p:blipFill>
        <p:spPr>
          <a:xfrm>
            <a:off x="4971960" y="1009800"/>
            <a:ext cx="3888000" cy="2984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练空手道的男孩图片"/>
          <p:cNvPicPr/>
          <p:nvPr/>
        </p:nvPicPr>
        <p:blipFill>
          <a:blip r:embed="rId3"/>
          <a:stretch/>
        </p:blipFill>
        <p:spPr>
          <a:xfrm>
            <a:off x="4971960" y="3994200"/>
            <a:ext cx="1835280" cy="3092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运动健身的青年男性高清图片图片"/>
          <p:cNvPicPr/>
          <p:nvPr/>
        </p:nvPicPr>
        <p:blipFill>
          <a:blip r:embed="rId4"/>
          <a:stretch/>
        </p:blipFill>
        <p:spPr>
          <a:xfrm>
            <a:off x="6742080" y="3994200"/>
            <a:ext cx="1944720" cy="2543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滑冰的父女图片"/>
          <p:cNvPicPr/>
          <p:nvPr/>
        </p:nvPicPr>
        <p:blipFill>
          <a:blip r:embed="rId5"/>
          <a:stretch/>
        </p:blipFill>
        <p:spPr>
          <a:xfrm>
            <a:off x="0" y="2935440"/>
            <a:ext cx="2341440" cy="3922560"/>
          </a:xfrm>
          <a:prstGeom prst="rect">
            <a:avLst/>
          </a:prstGeom>
          <a:ln w="0">
            <a:noFill/>
          </a:ln>
        </p:spPr>
      </p:pic>
      <p:sp>
        <p:nvSpPr>
          <p:cNvPr id="255" name="椭圆 8"/>
          <p:cNvSpPr/>
          <p:nvPr/>
        </p:nvSpPr>
        <p:spPr>
          <a:xfrm>
            <a:off x="2700360" y="3268800"/>
            <a:ext cx="1295280" cy="1290600"/>
          </a:xfrm>
          <a:prstGeom prst="ellipse">
            <a:avLst/>
          </a:prstGeom>
          <a:solidFill>
            <a:srgbClr val="dc5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9"/>
          <p:cNvSpPr/>
          <p:nvPr/>
        </p:nvSpPr>
        <p:spPr>
          <a:xfrm>
            <a:off x="5668920" y="2701800"/>
            <a:ext cx="833400" cy="887400"/>
          </a:xfrm>
          <a:prstGeom prst="ellipse">
            <a:avLst/>
          </a:prstGeom>
          <a:solidFill>
            <a:srgbClr val="dc5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10"/>
          <p:cNvSpPr/>
          <p:nvPr/>
        </p:nvSpPr>
        <p:spPr>
          <a:xfrm>
            <a:off x="230040" y="5203800"/>
            <a:ext cx="2470320" cy="1654200"/>
          </a:xfrm>
          <a:prstGeom prst="ellipse">
            <a:avLst/>
          </a:prstGeom>
          <a:solidFill>
            <a:srgbClr val="dc5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4"/>
          <p:cNvSpPr/>
          <p:nvPr/>
        </p:nvSpPr>
        <p:spPr>
          <a:xfrm>
            <a:off x="539640" y="1362240"/>
            <a:ext cx="8147160" cy="2880"/>
          </a:xfrm>
          <a:prstGeom prst="line">
            <a:avLst/>
          </a:prstGeom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468000" y="281160"/>
            <a:ext cx="40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ing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上箭头 11"/>
          <p:cNvSpPr/>
          <p:nvPr/>
        </p:nvSpPr>
        <p:spPr>
          <a:xfrm>
            <a:off x="2886120" y="1488960"/>
            <a:ext cx="173160" cy="246240"/>
          </a:xfrm>
          <a:prstGeom prst="upArrow">
            <a:avLst>
              <a:gd name="adj1" fmla="val 50000"/>
              <a:gd name="adj2" fmla="val 56177"/>
            </a:avLst>
          </a:prstGeom>
          <a:solidFill>
            <a:srgbClr val="dc5c31"/>
          </a:solidFill>
          <a:ln w="9360">
            <a:solidFill>
              <a:srgbClr val="5f5f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内容占位符 13" descr="QQ图片20150407154451.jpg"/>
          <p:cNvPicPr/>
          <p:nvPr/>
        </p:nvPicPr>
        <p:blipFill>
          <a:blip r:embed="rId1"/>
          <a:stretch/>
        </p:blipFill>
        <p:spPr>
          <a:xfrm>
            <a:off x="887400" y="2060640"/>
            <a:ext cx="4159440" cy="30542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4" descr="QQ图片20150407154442.jpg"/>
          <p:cNvPicPr/>
          <p:nvPr/>
        </p:nvPicPr>
        <p:blipFill>
          <a:blip r:embed="rId2"/>
          <a:stretch/>
        </p:blipFill>
        <p:spPr>
          <a:xfrm>
            <a:off x="4211640" y="4365720"/>
            <a:ext cx="3260880" cy="20876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4"/>
          <p:cNvSpPr/>
          <p:nvPr/>
        </p:nvSpPr>
        <p:spPr>
          <a:xfrm>
            <a:off x="2135880" y="8380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la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5"/>
          <p:cNvSpPr/>
          <p:nvPr/>
        </p:nvSpPr>
        <p:spPr>
          <a:xfrm>
            <a:off x="1452960" y="847800"/>
            <a:ext cx="35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la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463680" y="847800"/>
            <a:ext cx="50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                              .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Line 4"/>
          <p:cNvSpPr/>
          <p:nvPr/>
        </p:nvSpPr>
        <p:spPr>
          <a:xfrm>
            <a:off x="539640" y="1362240"/>
            <a:ext cx="8147160" cy="2880"/>
          </a:xfrm>
          <a:prstGeom prst="line">
            <a:avLst/>
          </a:prstGeom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467640" y="281160"/>
            <a:ext cx="47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the </a:t>
            </a: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ing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3911040" y="4549680"/>
            <a:ext cx="2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5"/>
          <p:cNvSpPr/>
          <p:nvPr/>
        </p:nvSpPr>
        <p:spPr>
          <a:xfrm>
            <a:off x="2187360" y="84780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lay     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6"/>
          <p:cNvSpPr/>
          <p:nvPr/>
        </p:nvSpPr>
        <p:spPr>
          <a:xfrm>
            <a:off x="1504440" y="847800"/>
            <a:ext cx="41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pla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7"/>
          <p:cNvSpPr/>
          <p:nvPr/>
        </p:nvSpPr>
        <p:spPr>
          <a:xfrm>
            <a:off x="467280" y="84780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      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09960" y="1917720"/>
            <a:ext cx="298296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4"/>
          <p:cNvSpPr/>
          <p:nvPr/>
        </p:nvSpPr>
        <p:spPr>
          <a:xfrm>
            <a:off x="539640" y="1362240"/>
            <a:ext cx="8147160" cy="2880"/>
          </a:xfrm>
          <a:prstGeom prst="line">
            <a:avLst/>
          </a:prstGeom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468000" y="281160"/>
            <a:ext cx="53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are the children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4" descr="2687388_001023806971_2.jpg"/>
          <p:cNvPicPr/>
          <p:nvPr/>
        </p:nvPicPr>
        <p:blipFill>
          <a:blip r:embed="rId1"/>
          <a:srcRect l="0" t="3141" r="0" b="5415"/>
          <a:stretch/>
        </p:blipFill>
        <p:spPr>
          <a:xfrm>
            <a:off x="3649680" y="1628640"/>
            <a:ext cx="5043600" cy="38768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4"/>
          <p:cNvSpPr/>
          <p:nvPr/>
        </p:nvSpPr>
        <p:spPr>
          <a:xfrm>
            <a:off x="2195280" y="8478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k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5"/>
          <p:cNvSpPr/>
          <p:nvPr/>
        </p:nvSpPr>
        <p:spPr>
          <a:xfrm>
            <a:off x="1518480" y="838080"/>
            <a:ext cx="21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s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467640" y="847800"/>
            <a:ext cx="33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Line 4"/>
          <p:cNvSpPr/>
          <p:nvPr/>
        </p:nvSpPr>
        <p:spPr>
          <a:xfrm>
            <a:off x="539640" y="1362240"/>
            <a:ext cx="8147160" cy="2880"/>
          </a:xfrm>
          <a:prstGeom prst="line">
            <a:avLst/>
          </a:prstGeom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"/>
          <p:cNvSpPr/>
          <p:nvPr/>
        </p:nvSpPr>
        <p:spPr>
          <a:xfrm>
            <a:off x="468000" y="281160"/>
            <a:ext cx="40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</a:t>
            </a: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are they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上箭头 4"/>
          <p:cNvSpPr/>
          <p:nvPr/>
        </p:nvSpPr>
        <p:spPr>
          <a:xfrm>
            <a:off x="2771640" y="1488960"/>
            <a:ext cx="216000" cy="246240"/>
          </a:xfrm>
          <a:prstGeom prst="upArrow">
            <a:avLst>
              <a:gd name="adj1" fmla="val 50000"/>
              <a:gd name="adj2" fmla="val 56224"/>
            </a:avLst>
          </a:prstGeom>
          <a:solidFill>
            <a:srgbClr val="dc5c31"/>
          </a:solidFill>
          <a:ln w="9360">
            <a:solidFill>
              <a:srgbClr val="5f5f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2193840" y="83808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o      kung f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0"/>
          <p:cNvSpPr/>
          <p:nvPr/>
        </p:nvSpPr>
        <p:spPr>
          <a:xfrm>
            <a:off x="1510920" y="847800"/>
            <a:ext cx="33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kung f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1"/>
          <p:cNvSpPr/>
          <p:nvPr/>
        </p:nvSpPr>
        <p:spPr>
          <a:xfrm>
            <a:off x="451440" y="838080"/>
            <a:ext cx="44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31920" y="2565360"/>
            <a:ext cx="3724200" cy="27781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506840" y="1735200"/>
            <a:ext cx="2330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4"/>
          <p:cNvSpPr/>
          <p:nvPr/>
        </p:nvSpPr>
        <p:spPr>
          <a:xfrm>
            <a:off x="539640" y="1362240"/>
            <a:ext cx="8147160" cy="2880"/>
          </a:xfrm>
          <a:prstGeom prst="line">
            <a:avLst/>
          </a:prstGeom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467280" y="281160"/>
            <a:ext cx="620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ing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in picture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6" descr="踢足球的小孩图片"/>
          <p:cNvPicPr/>
          <p:nvPr/>
        </p:nvPicPr>
        <p:blipFill>
          <a:blip r:embed="rId1"/>
          <a:srcRect l="0" t="0" r="34645" b="0"/>
          <a:stretch/>
        </p:blipFill>
        <p:spPr>
          <a:xfrm>
            <a:off x="1525680" y="1488960"/>
            <a:ext cx="3046320" cy="3473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A1JQ2X$U1B2Q2GW1YU92EP5"/>
          <p:cNvPicPr/>
          <p:nvPr/>
        </p:nvPicPr>
        <p:blipFill>
          <a:blip r:embed="rId2"/>
          <a:stretch/>
        </p:blipFill>
        <p:spPr>
          <a:xfrm>
            <a:off x="4572000" y="1009800"/>
            <a:ext cx="3887640" cy="2984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练空手道的男孩图片"/>
          <p:cNvPicPr/>
          <p:nvPr/>
        </p:nvPicPr>
        <p:blipFill>
          <a:blip r:embed="rId3"/>
          <a:stretch/>
        </p:blipFill>
        <p:spPr>
          <a:xfrm>
            <a:off x="4971960" y="3994200"/>
            <a:ext cx="1835280" cy="3092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运动健身的青年男性高清图片图片"/>
          <p:cNvPicPr/>
          <p:nvPr/>
        </p:nvPicPr>
        <p:blipFill>
          <a:blip r:embed="rId4"/>
          <a:stretch/>
        </p:blipFill>
        <p:spPr>
          <a:xfrm>
            <a:off x="6742080" y="3994200"/>
            <a:ext cx="1944720" cy="2543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滑冰的父女图片"/>
          <p:cNvPicPr/>
          <p:nvPr/>
        </p:nvPicPr>
        <p:blipFill>
          <a:blip r:embed="rId5"/>
          <a:stretch/>
        </p:blipFill>
        <p:spPr>
          <a:xfrm>
            <a:off x="0" y="2935440"/>
            <a:ext cx="2341440" cy="3922560"/>
          </a:xfrm>
          <a:prstGeom prst="rect">
            <a:avLst/>
          </a:prstGeom>
          <a:ln w="0">
            <a:noFill/>
          </a:ln>
        </p:spPr>
      </p:pic>
      <p:sp>
        <p:nvSpPr>
          <p:cNvPr id="294" name="矩形 8"/>
          <p:cNvSpPr/>
          <p:nvPr/>
        </p:nvSpPr>
        <p:spPr>
          <a:xfrm>
            <a:off x="-4680" y="55278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73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9"/>
          <p:cNvSpPr/>
          <p:nvPr/>
        </p:nvSpPr>
        <p:spPr>
          <a:xfrm>
            <a:off x="4081320" y="1413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73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0"/>
          <p:cNvSpPr/>
          <p:nvPr/>
        </p:nvSpPr>
        <p:spPr>
          <a:xfrm>
            <a:off x="7969320" y="927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73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1"/>
          <p:cNvSpPr/>
          <p:nvPr/>
        </p:nvSpPr>
        <p:spPr>
          <a:xfrm>
            <a:off x="4944960" y="39132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73"/>
                </a:solidFill>
                <a:latin typeface="Arial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8"/>
          <p:cNvSpPr/>
          <p:nvPr/>
        </p:nvSpPr>
        <p:spPr>
          <a:xfrm>
            <a:off x="1547640" y="3024360"/>
            <a:ext cx="6480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b0f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 rot="21240000">
            <a:off x="2700360" y="836640"/>
            <a:ext cx="611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000"/>
                </a:solidFill>
                <a:latin typeface="Arial"/>
              </a:rPr>
              <a:t>Let’s talk mo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Kids (3)"/>
          <p:cNvPicPr/>
          <p:nvPr/>
        </p:nvPicPr>
        <p:blipFill>
          <a:blip r:embed="rId3"/>
          <a:stretch/>
        </p:blipFill>
        <p:spPr>
          <a:xfrm>
            <a:off x="250920" y="2060640"/>
            <a:ext cx="42703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2"/>
          <p:cNvSpPr/>
          <p:nvPr/>
        </p:nvSpPr>
        <p:spPr>
          <a:xfrm>
            <a:off x="3203640" y="47304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alk mor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横卷形 6"/>
          <p:cNvSpPr/>
          <p:nvPr/>
        </p:nvSpPr>
        <p:spPr>
          <a:xfrm>
            <a:off x="1044720" y="1052640"/>
            <a:ext cx="6251400" cy="3960720"/>
          </a:xfrm>
          <a:prstGeom prst="horizontalScrol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are they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pla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foo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 look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un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 want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o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y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it wit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5" descr="QQ图片20150407154429.jpg"/>
          <p:cNvPicPr/>
          <p:nvPr/>
        </p:nvPicPr>
        <p:blipFill>
          <a:blip r:embed="rId1"/>
          <a:stretch/>
        </p:blipFill>
        <p:spPr>
          <a:xfrm>
            <a:off x="4716360" y="4076640"/>
            <a:ext cx="4254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2"/>
          <p:cNvSpPr/>
          <p:nvPr/>
        </p:nvSpPr>
        <p:spPr>
          <a:xfrm>
            <a:off x="3355560" y="48888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alk more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横卷形 6"/>
          <p:cNvSpPr/>
          <p:nvPr/>
        </p:nvSpPr>
        <p:spPr>
          <a:xfrm>
            <a:off x="2467080" y="777960"/>
            <a:ext cx="6588000" cy="4579920"/>
          </a:xfrm>
          <a:prstGeom prst="horizontalScrol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are they_____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 looks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 want to ___and ___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 wit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7"/>
          <p:cNvSpPr/>
          <p:nvPr/>
        </p:nvSpPr>
        <p:spPr>
          <a:xfrm>
            <a:off x="5793480" y="1758960"/>
            <a:ext cx="117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8"/>
          <p:cNvSpPr/>
          <p:nvPr/>
        </p:nvSpPr>
        <p:spPr>
          <a:xfrm>
            <a:off x="4869000" y="22734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la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9"/>
          <p:cNvSpPr/>
          <p:nvPr/>
        </p:nvSpPr>
        <p:spPr>
          <a:xfrm>
            <a:off x="4496400" y="2816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0"/>
          <p:cNvSpPr/>
          <p:nvPr/>
        </p:nvSpPr>
        <p:spPr>
          <a:xfrm>
            <a:off x="4869720" y="31780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1"/>
          <p:cNvSpPr/>
          <p:nvPr/>
        </p:nvSpPr>
        <p:spPr>
          <a:xfrm>
            <a:off x="6380280" y="317808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2852640"/>
            <a:ext cx="241308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2565360"/>
            <a:ext cx="768528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nit 9 </a:t>
            </a:r>
            <a:br>
              <a:rPr sz="6000"/>
            </a:br>
            <a:r>
              <a:rPr b="1" lang="en-US" sz="6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t looks fun</a:t>
            </a:r>
            <a:br>
              <a:rPr sz="4800"/>
            </a:b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课件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endParaRPr b="1" lang="en-US" sz="36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2"/>
          <p:cNvSpPr/>
          <p:nvPr/>
        </p:nvSpPr>
        <p:spPr>
          <a:xfrm>
            <a:off x="3515760" y="69228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alk more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横卷形 6"/>
          <p:cNvSpPr/>
          <p:nvPr/>
        </p:nvSpPr>
        <p:spPr>
          <a:xfrm>
            <a:off x="689040" y="1855800"/>
            <a:ext cx="6912000" cy="4578480"/>
          </a:xfrm>
          <a:prstGeom prst="horizontalScrol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 looks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 want to ___and ___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 wit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2252520" y="2844720"/>
            <a:ext cx="286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re they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398320" y="3467160"/>
            <a:ext cx="33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kung f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9"/>
          <p:cNvSpPr/>
          <p:nvPr/>
        </p:nvSpPr>
        <p:spPr>
          <a:xfrm>
            <a:off x="2770920" y="37558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0"/>
          <p:cNvSpPr/>
          <p:nvPr/>
        </p:nvSpPr>
        <p:spPr>
          <a:xfrm>
            <a:off x="2770920" y="43354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1"/>
          <p:cNvSpPr/>
          <p:nvPr/>
        </p:nvSpPr>
        <p:spPr>
          <a:xfrm>
            <a:off x="4552920" y="433548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81080" y="287280"/>
            <a:ext cx="2448000" cy="1827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601040" y="287280"/>
            <a:ext cx="170316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2"/>
          <p:cNvSpPr/>
          <p:nvPr/>
        </p:nvSpPr>
        <p:spPr>
          <a:xfrm>
            <a:off x="4284360" y="20016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alk more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横卷形 6"/>
          <p:cNvSpPr/>
          <p:nvPr/>
        </p:nvSpPr>
        <p:spPr>
          <a:xfrm>
            <a:off x="1260360" y="598320"/>
            <a:ext cx="7056720" cy="3857760"/>
          </a:xfrm>
          <a:prstGeom prst="horizontalScrol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 looks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 want to 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7"/>
          <p:cNvSpPr/>
          <p:nvPr/>
        </p:nvSpPr>
        <p:spPr>
          <a:xfrm>
            <a:off x="2908080" y="1368360"/>
            <a:ext cx="27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re they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8"/>
          <p:cNvSpPr/>
          <p:nvPr/>
        </p:nvSpPr>
        <p:spPr>
          <a:xfrm>
            <a:off x="2908440" y="1947960"/>
            <a:ext cx="21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9"/>
          <p:cNvSpPr/>
          <p:nvPr/>
        </p:nvSpPr>
        <p:spPr>
          <a:xfrm>
            <a:off x="3178440" y="252720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0"/>
          <p:cNvSpPr/>
          <p:nvPr/>
        </p:nvSpPr>
        <p:spPr>
          <a:xfrm>
            <a:off x="3585960" y="3106800"/>
            <a:ext cx="415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o and try it with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图片 10" descr="2687388_001023806971_2.jpg"/>
          <p:cNvPicPr/>
          <p:nvPr/>
        </p:nvPicPr>
        <p:blipFill>
          <a:blip r:embed="rId1"/>
          <a:srcRect l="0" t="7496" r="0" b="2178"/>
          <a:stretch/>
        </p:blipFill>
        <p:spPr>
          <a:xfrm>
            <a:off x="2843280" y="4149720"/>
            <a:ext cx="28177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2"/>
          <p:cNvSpPr/>
          <p:nvPr/>
        </p:nvSpPr>
        <p:spPr>
          <a:xfrm>
            <a:off x="2009880" y="2892600"/>
            <a:ext cx="936360" cy="968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fb2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"/>
          <p:cNvSpPr/>
          <p:nvPr/>
        </p:nvSpPr>
        <p:spPr>
          <a:xfrm>
            <a:off x="1541520" y="1781280"/>
            <a:ext cx="936720" cy="9684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66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2484360" y="23004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  <a:ea typeface="微软雅黑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"/>
          <p:cNvSpPr/>
          <p:nvPr/>
        </p:nvSpPr>
        <p:spPr>
          <a:xfrm>
            <a:off x="6480" y="992160"/>
            <a:ext cx="9156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9" descr="1"/>
          <p:cNvPicPr/>
          <p:nvPr/>
        </p:nvPicPr>
        <p:blipFill>
          <a:blip r:embed="rId1"/>
          <a:stretch/>
        </p:blipFill>
        <p:spPr>
          <a:xfrm>
            <a:off x="1679400" y="1868400"/>
            <a:ext cx="676440" cy="798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2"/>
          <p:cNvPicPr/>
          <p:nvPr/>
        </p:nvPicPr>
        <p:blipFill>
          <a:blip r:embed="rId2"/>
          <a:stretch/>
        </p:blipFill>
        <p:spPr>
          <a:xfrm>
            <a:off x="2133720" y="3054240"/>
            <a:ext cx="717480" cy="61272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11"/>
          <p:cNvSpPr/>
          <p:nvPr/>
        </p:nvSpPr>
        <p:spPr>
          <a:xfrm>
            <a:off x="2484360" y="4002120"/>
            <a:ext cx="936720" cy="9684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399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2" descr="3"/>
          <p:cNvPicPr/>
          <p:nvPr/>
        </p:nvPicPr>
        <p:blipFill>
          <a:blip r:embed="rId3"/>
          <a:stretch/>
        </p:blipFill>
        <p:spPr>
          <a:xfrm>
            <a:off x="2749680" y="4100400"/>
            <a:ext cx="444240" cy="836640"/>
          </a:xfrm>
          <a:prstGeom prst="rect">
            <a:avLst/>
          </a:prstGeom>
          <a:ln w="0">
            <a:noFill/>
          </a:ln>
        </p:spPr>
      </p:pic>
      <p:sp>
        <p:nvSpPr>
          <p:cNvPr id="336" name="Line 13"/>
          <p:cNvSpPr/>
          <p:nvPr/>
        </p:nvSpPr>
        <p:spPr>
          <a:xfrm>
            <a:off x="2484360" y="2276640"/>
            <a:ext cx="709560" cy="0"/>
          </a:xfrm>
          <a:prstGeom prst="line">
            <a:avLst/>
          </a:prstGeom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4"/>
          <p:cNvSpPr/>
          <p:nvPr/>
        </p:nvSpPr>
        <p:spPr>
          <a:xfrm>
            <a:off x="3193920" y="2122560"/>
            <a:ext cx="3467160" cy="32364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方正稚艺简体"/>
              </a:rPr>
              <a:t>Copy the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5"/>
          <p:cNvSpPr/>
          <p:nvPr/>
        </p:nvSpPr>
        <p:spPr>
          <a:xfrm>
            <a:off x="2952720" y="3379680"/>
            <a:ext cx="708120" cy="0"/>
          </a:xfrm>
          <a:prstGeom prst="line">
            <a:avLst/>
          </a:prstGeom>
          <a:ln cap="rnd" w="9360">
            <a:solidFill>
              <a:srgbClr val="afb2b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6"/>
          <p:cNvSpPr/>
          <p:nvPr/>
        </p:nvSpPr>
        <p:spPr>
          <a:xfrm>
            <a:off x="4129200" y="4314960"/>
            <a:ext cx="3467160" cy="32364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方正稚艺简体"/>
              </a:rPr>
              <a:t>Act out the dialogue in 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400560" y="4494240"/>
            <a:ext cx="709560" cy="1440"/>
          </a:xfrm>
          <a:prstGeom prst="line">
            <a:avLst/>
          </a:prstGeom>
          <a:ln cap="rnd" w="9360">
            <a:solidFill>
              <a:srgbClr val="33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6"/>
          <p:cNvSpPr/>
          <p:nvPr/>
        </p:nvSpPr>
        <p:spPr>
          <a:xfrm>
            <a:off x="3635280" y="3187800"/>
            <a:ext cx="3467160" cy="32220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方正稚艺简体"/>
              </a:rPr>
              <a:t>Finish the work 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1"/>
          <p:cNvPicPr/>
          <p:nvPr/>
        </p:nvPicPr>
        <p:blipFill>
          <a:blip r:embed="rId1"/>
          <a:stretch/>
        </p:blipFill>
        <p:spPr>
          <a:xfrm rot="420000">
            <a:off x="1044360" y="931680"/>
            <a:ext cx="1457280" cy="2412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2"/>
          <p:cNvPicPr/>
          <p:nvPr/>
        </p:nvPicPr>
        <p:blipFill>
          <a:blip r:embed="rId2"/>
          <a:stretch/>
        </p:blipFill>
        <p:spPr>
          <a:xfrm>
            <a:off x="6458040" y="3557520"/>
            <a:ext cx="981000" cy="20811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4"/>
          <p:cNvSpPr/>
          <p:nvPr/>
        </p:nvSpPr>
        <p:spPr>
          <a:xfrm>
            <a:off x="2502000" y="2116080"/>
            <a:ext cx="4446360" cy="1441440"/>
          </a:xfrm>
          <a:prstGeom prst="rect">
            <a:avLst/>
          </a:prstGeom>
          <a:solidFill>
            <a:srgbClr val="333333">
              <a:alpha val="80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urlz MT"/>
                <a:ea typeface="方正稚艺简体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4"/>
          <p:cNvSpPr/>
          <p:nvPr/>
        </p:nvSpPr>
        <p:spPr>
          <a:xfrm>
            <a:off x="539640" y="1362240"/>
            <a:ext cx="8147160" cy="2880"/>
          </a:xfrm>
          <a:prstGeom prst="line">
            <a:avLst/>
          </a:prstGeom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469080" y="281160"/>
            <a:ext cx="29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tim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’s 11:30 p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内容占位符 3" descr="00219b00bebc0ef3f83f15.jpg"/>
          <p:cNvPicPr/>
          <p:nvPr/>
        </p:nvPicPr>
        <p:blipFill>
          <a:blip r:embed="rId1"/>
          <a:stretch/>
        </p:blipFill>
        <p:spPr>
          <a:xfrm>
            <a:off x="3067200" y="1488960"/>
            <a:ext cx="5619600" cy="4199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4"/>
          <p:cNvSpPr/>
          <p:nvPr/>
        </p:nvSpPr>
        <p:spPr>
          <a:xfrm>
            <a:off x="539640" y="1362240"/>
            <a:ext cx="8147160" cy="2880"/>
          </a:xfrm>
          <a:prstGeom prst="line">
            <a:avLst/>
          </a:prstGeom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469080" y="281160"/>
            <a:ext cx="29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tim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’s 12:45 </a:t>
            </a: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" descr="0023545cb5850bd3b74f05.jpg"/>
          <p:cNvPicPr/>
          <p:nvPr/>
        </p:nvPicPr>
        <p:blipFill>
          <a:blip r:embed="rId1"/>
          <a:stretch/>
        </p:blipFill>
        <p:spPr>
          <a:xfrm>
            <a:off x="733320" y="1488960"/>
            <a:ext cx="2721240" cy="45990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5" descr="xin_073050827175923458585.jpg"/>
          <p:cNvPicPr/>
          <p:nvPr/>
        </p:nvPicPr>
        <p:blipFill>
          <a:blip r:embed="rId2"/>
          <a:stretch/>
        </p:blipFill>
        <p:spPr>
          <a:xfrm>
            <a:off x="3564000" y="3571920"/>
            <a:ext cx="3376440" cy="25160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4" descr="IMG_3686.jpg"/>
          <p:cNvPicPr/>
          <p:nvPr/>
        </p:nvPicPr>
        <p:blipFill>
          <a:blip r:embed="rId3"/>
          <a:stretch/>
        </p:blipFill>
        <p:spPr>
          <a:xfrm>
            <a:off x="5396040" y="1488960"/>
            <a:ext cx="3244680" cy="2424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Line 4"/>
          <p:cNvSpPr/>
          <p:nvPr/>
        </p:nvSpPr>
        <p:spPr>
          <a:xfrm>
            <a:off x="539640" y="1362240"/>
            <a:ext cx="8147160" cy="2880"/>
          </a:xfrm>
          <a:prstGeom prst="line">
            <a:avLst/>
          </a:prstGeom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469080" y="281160"/>
            <a:ext cx="29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tim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’s 3:00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3" descr="u=776687775,2885494149&amp;fm=21&amp;gp=0.jpg"/>
          <p:cNvPicPr/>
          <p:nvPr/>
        </p:nvPicPr>
        <p:blipFill>
          <a:blip r:embed="rId1"/>
          <a:stretch/>
        </p:blipFill>
        <p:spPr>
          <a:xfrm>
            <a:off x="3060720" y="1917720"/>
            <a:ext cx="4751280" cy="3560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Line 4"/>
          <p:cNvSpPr/>
          <p:nvPr/>
        </p:nvSpPr>
        <p:spPr>
          <a:xfrm>
            <a:off x="539640" y="1362240"/>
            <a:ext cx="8147160" cy="2880"/>
          </a:xfrm>
          <a:prstGeom prst="line">
            <a:avLst/>
          </a:prstGeom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469080" y="281160"/>
            <a:ext cx="29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tim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’s 7:00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3" descr="20090930092001-2106856307.jpg"/>
          <p:cNvPicPr/>
          <p:nvPr/>
        </p:nvPicPr>
        <p:blipFill>
          <a:blip r:embed="rId1"/>
          <a:stretch/>
        </p:blipFill>
        <p:spPr>
          <a:xfrm>
            <a:off x="3328920" y="1488960"/>
            <a:ext cx="5472360" cy="42814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622440" y="4145040"/>
            <a:ext cx="27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ooks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Line 4"/>
          <p:cNvSpPr/>
          <p:nvPr/>
        </p:nvSpPr>
        <p:spPr>
          <a:xfrm>
            <a:off x="539640" y="1362240"/>
            <a:ext cx="8147160" cy="2880"/>
          </a:xfrm>
          <a:prstGeom prst="line">
            <a:avLst/>
          </a:prstGeom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469080" y="281160"/>
            <a:ext cx="29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tim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’s 7:30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3" descr="9127-1109230P41981.jpg"/>
          <p:cNvPicPr/>
          <p:nvPr/>
        </p:nvPicPr>
        <p:blipFill>
          <a:blip r:embed="rId1"/>
          <a:stretch/>
        </p:blipFill>
        <p:spPr>
          <a:xfrm>
            <a:off x="3425760" y="1917720"/>
            <a:ext cx="4886280" cy="36511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178560" y="415620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ooks delic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Line 4"/>
          <p:cNvSpPr/>
          <p:nvPr/>
        </p:nvSpPr>
        <p:spPr>
          <a:xfrm>
            <a:off x="539640" y="1362240"/>
            <a:ext cx="8147160" cy="2880"/>
          </a:xfrm>
          <a:prstGeom prst="line">
            <a:avLst/>
          </a:prstGeom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469080" y="281160"/>
            <a:ext cx="29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tim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’s 8:00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4" descr="380df0e567068ae34ef.jpg"/>
          <p:cNvPicPr/>
          <p:nvPr/>
        </p:nvPicPr>
        <p:blipFill>
          <a:blip r:embed="rId1"/>
          <a:stretch/>
        </p:blipFill>
        <p:spPr>
          <a:xfrm>
            <a:off x="3276720" y="1488960"/>
            <a:ext cx="5410080" cy="42307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403560" y="40734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ooks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4"/>
          <p:cNvSpPr/>
          <p:nvPr/>
        </p:nvSpPr>
        <p:spPr>
          <a:xfrm>
            <a:off x="539640" y="1362240"/>
            <a:ext cx="8147160" cy="2880"/>
          </a:xfrm>
          <a:prstGeom prst="line">
            <a:avLst/>
          </a:prstGeom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468360" y="28116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the </a:t>
            </a: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animals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ing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879720" y="2759040"/>
            <a:ext cx="4807080" cy="35812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468000" y="454968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 looks f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466560" y="1365120"/>
            <a:ext cx="548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are doing sp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are having a PE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Windows 用户</cp:lastModifiedBy>
  <dcterms:modified xsi:type="dcterms:W3CDTF">2015-05-31T06:05:45Z</dcterms:modified>
  <cp:revision>1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