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A4C-AE15-4349-A55F-CAB7854C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4C4-B319-437C-A7F4-A73CDF4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357-0B99-4C83-8B57-41D635F4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86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76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18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86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76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C70-7ACA-4B7E-B8D7-4092535F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6EC3-7903-4049-96B5-AE05848B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bf8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8858-CE7B-40DE-A513-EB02D0D2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7D7B-24E1-4A43-A8F7-CA36470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39F5-706A-4BF5-AB23-48442E62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2EB2-B2CB-4788-88E5-C290FBFA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1800" y="299880"/>
            <a:ext cx="839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bf8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A2FB-0FFA-4F47-9FEB-D28CB233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8A73-C9B9-402C-9484-C96EE0D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bf8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ED0-6BFF-4594-AC09-34FAB1A6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8035-EA77-4B6F-9D09-080A740C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9D8A-4B8C-47CB-A501-C6E41EC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EC8A-4B52-4479-BFC0-1EF1AE16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72FC-7169-43A3-85B5-D7CF5D23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86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576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18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86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576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A465-87D5-43A4-B2FE-428AFD3A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3667-EEC7-4E92-828C-A6077976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bf8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DAF7-1976-43AC-BE88-7355A3E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63DA-7A6C-45A6-940C-5AD7C7BC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71F6-F647-49B5-97C6-ED1989B0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1794-469B-4092-9601-0B147DFB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AAD-EC37-4CD8-A820-5813BBF2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61800" y="299880"/>
            <a:ext cx="839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bf8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48D45-0A77-46DA-9B83-F671170A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8CDF-02DB-45B8-A549-F268425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441C-69BA-41B5-A82D-59615BF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531A-B18E-403D-8350-5B837D9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CAEC-72AD-4713-83AA-B4EE0000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A6D2-8484-4218-9EE7-B894CD4A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86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3576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18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86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3576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1C890-F08C-4D60-90ED-29F37EE5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1E3-5696-4761-9C21-FFA80CE0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A9D-A0B7-42EF-9B56-3A63E8E0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800" y="299880"/>
            <a:ext cx="839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bf8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AEE-4323-47A5-8F5A-4C05DC47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A07-29E1-47E9-AF83-A3958E0B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ED8-4A29-498C-A396-D0C7E08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DE6-BCD7-4E28-8EB3-116A19C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D15C-9696-4B65-9839-52CF390775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D:\ppt图片\481960.jpg"/>
          <p:cNvPicPr/>
          <p:nvPr/>
        </p:nvPicPr>
        <p:blipFill>
          <a:blip r:embed="rId2"/>
          <a:srcRect l="0" t="28583" r="51851" b="71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标题 1"/>
          <p:cNvSpPr/>
          <p:nvPr/>
        </p:nvSpPr>
        <p:spPr>
          <a:xfrm>
            <a:off x="338040" y="333360"/>
            <a:ext cx="4248360" cy="51264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Unit11 I was born in 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5" descr=""/>
          <p:cNvPicPr/>
          <p:nvPr/>
        </p:nvPicPr>
        <p:blipFill>
          <a:blip r:embed="rId2"/>
          <a:srcRect l="73431" t="0" r="0" b="0"/>
          <a:stretch/>
        </p:blipFill>
        <p:spPr>
          <a:xfrm>
            <a:off x="6713640" y="0"/>
            <a:ext cx="243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238989"/>
              </a:buClr>
              <a:buSzPct val="80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898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898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898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898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898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898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898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23898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0A0-BAEA-4ADF-804B-96ED8445DC13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8989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D8CC-6420-4999-98E9-96BBBADA99D1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4483080" y="1847520"/>
            <a:ext cx="4361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8989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bf84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2fbf84"/>
              </a:solidFill>
              <a:latin typeface="Calibri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63640" y="2491920"/>
            <a:ext cx="50418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f5f5f"/>
                </a:solidFill>
                <a:latin typeface="Times New Roman"/>
              </a:rPr>
              <a:t>Module 6</a:t>
            </a:r>
            <a:br>
              <a:rPr sz="6000"/>
            </a:br>
            <a:r>
              <a:rPr b="1" lang="zh-CN" sz="6000" spc="-1" strike="noStrike">
                <a:solidFill>
                  <a:srgbClr val="5f5f5f"/>
                </a:solidFill>
                <a:latin typeface="Times New Roman"/>
              </a:rPr>
              <a:t>Celebrations</a:t>
            </a:r>
            <a:endParaRPr b="0" lang="en-US" sz="6000" spc="-1" strike="noStrike">
              <a:solidFill>
                <a:srgbClr val="23898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8989"/>
                </a:solidFill>
                <a:latin typeface="Times New Roman"/>
                <a:ea typeface="Times New Roman"/>
              </a:rPr>
              <a:t>birthday is in— was born in</a:t>
            </a: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My birthday is in …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I was born in…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Her/His birthday is in…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She was born in…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Mary/… ’s birthday is in…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Mary/… was born in…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8989"/>
                </a:solidFill>
                <a:latin typeface="Times New Roman"/>
                <a:ea typeface="Times New Roman"/>
              </a:rPr>
              <a:t>It’s party time!</a:t>
            </a: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pic>
        <p:nvPicPr>
          <p:cNvPr id="148" name="内容占位符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5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1128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Comic Sans MS"/>
                <a:ea typeface="宋体"/>
              </a:rPr>
              <a:t>Important word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one—ten    1—10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注意：从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开始，后面所有的名词都要加上复数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e.g. two books    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两本书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Ex 1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：我有三枝红色的铅笔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I have three red pencils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Ex 2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：他有六把漂亮的尺子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He has six nice rulers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for      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为；给；对于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后面一般跟人或名词，且后面跟人时一般用宾格形式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e.g. I give a gift for him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我给他一个礼物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Ex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：这是给你的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This is for you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注意：当作为“对于”用时，有同义短语“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as for”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。一般放在句首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Happy Birthday     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生日快乐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happy   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高兴的；快乐的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e.g.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我今天很高兴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I’m very happy today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birthday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：生日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xx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节日快乐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Happy  xx ’s Day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e.g. Happy Teachers’ Day!   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教师节快乐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how old        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多大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e.g. How old are you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？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你多大了？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Ex 1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：他多大了？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How old is he?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Ex 2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：她多大了？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How old is she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  <a:ea typeface="宋体"/>
              </a:rPr>
              <a:t>？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Ex 3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：他们多大了？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How old are they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回答用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I’m….  He is….  She is….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e.g. I’m 9.   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我九岁。    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He is 12.  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他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岁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为使句子全面，有时需在年龄后面加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years old.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其形式有以下两种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I’m 9 years old.                    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I’m 9- year-old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注意：如果用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year old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，则需要在年龄后面和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year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的后面加上连字符。即：年龄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-year-old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，如果用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years old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则不需要加连字符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the  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（特指）这（那）；这些（那些）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the </a:t>
            </a: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一般用在特指的名词前面，单数或复数均可，动词的后面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e.g. the pen     the pencils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Open the pencil-box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打开铅笔盒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8989"/>
                </a:solidFill>
                <a:latin typeface="Times New Roman"/>
              </a:rPr>
              <a:t>Close the door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8989"/>
                </a:solidFill>
                <a:latin typeface="Times New Roman"/>
              </a:rPr>
              <a:t>关上门。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1800" y="299880"/>
            <a:ext cx="8390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self-assessment</a:t>
            </a: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1773360"/>
          <a:ext cx="8229600" cy="4530600"/>
        </p:xfrm>
        <a:graphic>
          <a:graphicData uri="http://schemas.openxmlformats.org/drawingml/2006/table">
            <a:tbl>
              <a:tblPr/>
              <a:tblGrid>
                <a:gridCol w="4943520"/>
                <a:gridCol w="1784160"/>
                <a:gridCol w="1501920"/>
              </a:tblGrid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Knowledge ac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Standard 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Your 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You can mast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 the new words: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party, present, card, cake, can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You can talk with others about your birthda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: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birthday party, which month is your birthday, when was you born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Have a good cooperation with your partners in the pair work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You want to remember your parents' birthday and have birthday parties for th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方正稚艺简体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590560" y="2781360"/>
            <a:ext cx="6553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Unit11 </a:t>
            </a:r>
            <a:endParaRPr b="0" lang="en-US" sz="4800" spc="-1" strike="noStrike">
              <a:solidFill>
                <a:srgbClr val="2fbf84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I was born in January</a:t>
            </a:r>
            <a:endParaRPr b="0" lang="en-US" sz="4800" spc="-1" strike="noStrike">
              <a:solidFill>
                <a:srgbClr val="2fbf84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课件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2fbf8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fbf84"/>
                </a:solidFill>
                <a:latin typeface="Times New Roman"/>
                <a:ea typeface="Times New Roman"/>
              </a:rPr>
              <a:t>Homework</a:t>
            </a:r>
            <a:endParaRPr b="0" lang="en-US" sz="5400" spc="-1" strike="noStrike">
              <a:solidFill>
                <a:srgbClr val="238989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844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Calibri"/>
              </a:rPr>
              <a:t>1. </a:t>
            </a:r>
            <a:r>
              <a:rPr b="1" lang="en-US" sz="2800" spc="-1" strike="noStrike">
                <a:solidFill>
                  <a:srgbClr val="9900cc"/>
                </a:solidFill>
                <a:latin typeface="Calibri"/>
              </a:rPr>
              <a:t>Remember the new words and I will check it next class.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Calibri"/>
              </a:rPr>
              <a:t>2. </a:t>
            </a:r>
            <a:r>
              <a:rPr b="1" lang="en-US" sz="2800" spc="-1" strike="noStrike">
                <a:solidFill>
                  <a:srgbClr val="9900cc"/>
                </a:solidFill>
                <a:latin typeface="Calibri"/>
              </a:rPr>
              <a:t>Ask your parents what’s their birthday and write them down in the sentence pattern: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9900cc"/>
                </a:solidFill>
                <a:latin typeface="Calibri"/>
              </a:rPr>
              <a:t>Mother’s/Father’s birthday is in…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9900cc"/>
                </a:solidFill>
                <a:latin typeface="Calibri"/>
              </a:rPr>
              <a:t>Mother/Father was born in…</a:t>
            </a: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238989"/>
              </a:buClr>
              <a:buSzPct val="80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629080" y="2492280"/>
            <a:ext cx="3771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 you!</a:t>
            </a:r>
            <a:endParaRPr b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4720" y="549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8989"/>
                </a:solidFill>
                <a:latin typeface="Times New Roman"/>
                <a:ea typeface="Times New Roman"/>
              </a:rPr>
              <a:t>Prepare for the Birthday </a:t>
            </a:r>
            <a:r>
              <a:rPr b="0" lang="en-US" sz="3600" spc="-1" strike="noStrike">
                <a:solidFill>
                  <a:srgbClr val="2336bf"/>
                </a:solidFill>
                <a:latin typeface="Times New Roman"/>
                <a:ea typeface="Times New Roman"/>
              </a:rPr>
              <a:t>Party</a:t>
            </a: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pic>
        <p:nvPicPr>
          <p:cNvPr id="131" name="图片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28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present</a:t>
            </a:r>
            <a:endParaRPr b="0" lang="en-US" sz="4400" spc="-1" strike="noStrike">
              <a:solidFill>
                <a:srgbClr val="238989"/>
              </a:solidFill>
              <a:latin typeface="Comic Sans MS"/>
            </a:endParaRPr>
          </a:p>
        </p:txBody>
      </p:sp>
      <p:pic>
        <p:nvPicPr>
          <p:cNvPr id="133" name="内容占位符 7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card</a:t>
            </a:r>
            <a:endParaRPr b="0" lang="en-US" sz="4400" spc="-1" strike="noStrike">
              <a:solidFill>
                <a:srgbClr val="238989"/>
              </a:solidFill>
              <a:latin typeface="Comic Sans MS"/>
            </a:endParaRPr>
          </a:p>
        </p:txBody>
      </p:sp>
      <p:pic>
        <p:nvPicPr>
          <p:cNvPr id="135" name="内容占位符 3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cake</a:t>
            </a:r>
            <a:endParaRPr b="0" lang="en-US" sz="4400" spc="-1" strike="noStrike">
              <a:solidFill>
                <a:srgbClr val="238989"/>
              </a:solidFill>
              <a:latin typeface="Comic Sans MS"/>
            </a:endParaRPr>
          </a:p>
        </p:txBody>
      </p:sp>
      <p:pic>
        <p:nvPicPr>
          <p:cNvPr id="137" name="内容占位符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candle</a:t>
            </a:r>
            <a:endParaRPr b="0" lang="en-US" sz="4400" spc="-1" strike="noStrike">
              <a:solidFill>
                <a:srgbClr val="238989"/>
              </a:solidFill>
              <a:latin typeface="Comic Sans MS"/>
            </a:endParaRPr>
          </a:p>
        </p:txBody>
      </p:sp>
      <p:pic>
        <p:nvPicPr>
          <p:cNvPr id="139" name="内容占位符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8989"/>
                </a:solidFill>
                <a:latin typeface="Times New Roman"/>
                <a:ea typeface="Times New Roman"/>
              </a:rPr>
              <a:t>Let’s play game!</a:t>
            </a: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pic>
        <p:nvPicPr>
          <p:cNvPr id="141" name="内容占位符 3" descr=""/>
          <p:cNvPicPr/>
          <p:nvPr/>
        </p:nvPicPr>
        <p:blipFill>
          <a:blip r:embed="rId1"/>
          <a:srcRect l="0" t="0" r="0" b="4789"/>
          <a:stretch/>
        </p:blipFill>
        <p:spPr>
          <a:xfrm>
            <a:off x="2411280" y="1844640"/>
            <a:ext cx="432144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8989"/>
                </a:solidFill>
                <a:latin typeface="Times New Roman"/>
                <a:ea typeface="Times New Roman"/>
              </a:rPr>
              <a:t>Shh~My mother is coming!</a:t>
            </a:r>
            <a:endParaRPr b="0" lang="en-US" sz="3600" spc="-1" strike="noStrike">
              <a:solidFill>
                <a:srgbClr val="238989"/>
              </a:solidFill>
              <a:latin typeface="Comic Sans MS"/>
            </a:endParaRPr>
          </a:p>
        </p:txBody>
      </p:sp>
      <p:pic>
        <p:nvPicPr>
          <p:cNvPr id="143" name="内容占位符 3" descr=""/>
          <p:cNvPicPr/>
          <p:nvPr/>
        </p:nvPicPr>
        <p:blipFill>
          <a:blip r:embed="rId1"/>
          <a:srcRect l="0" t="0" r="10120" b="21832"/>
          <a:stretch/>
        </p:blipFill>
        <p:spPr>
          <a:xfrm>
            <a:off x="1476360" y="1628640"/>
            <a:ext cx="3095640" cy="47847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" descr=""/>
          <p:cNvPicPr/>
          <p:nvPr/>
        </p:nvPicPr>
        <p:blipFill>
          <a:blip r:embed="rId2"/>
          <a:srcRect l="40954" t="20888" r="36666" b="3260"/>
          <a:stretch/>
        </p:blipFill>
        <p:spPr>
          <a:xfrm>
            <a:off x="5219640" y="1628640"/>
            <a:ext cx="250020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2T23:03:57Z</dcterms:created>
  <dc:creator>Administrator</dc:creator>
  <dc:description/>
  <cp:keywords/>
  <dc:language>en-US</dc:language>
  <cp:lastModifiedBy>Windows 用户</cp:lastModifiedBy>
  <dcterms:modified xsi:type="dcterms:W3CDTF">2015-05-31T06:19:27Z</dcterms:modified>
  <cp:revision>58</cp:revision>
  <dc:subject/>
  <dc:title>Unit8 What are you doing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