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ADA-22A5-4C21-A463-90C63AC5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EC2-5197-400B-952D-84E2329F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88D-BA4C-427E-9902-EC319D35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69A-5978-4A4A-B324-648F248F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16A5-5862-4716-84B3-6AF79065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F0E4-11A0-4990-8914-151CE07E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6052-A16B-45BB-B2EE-62128640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AD1E-CD6C-43B7-8D3C-C7AE9F7B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462A-472E-4583-8418-C6BE7F41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1BCB-73CF-4485-B621-77FABBF5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A951-8438-4792-AF9D-CB27BC06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D83F-BCAF-492F-BAAB-659F43F5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1CCD-38D4-4223-B957-0B1BB7E4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2582-01E6-4B19-9ECB-69C84DE0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003A-FEE9-4C33-9C5A-67B5B55D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A102-8FE3-465D-A154-6D1AC46D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9FEA-2A69-4079-9D45-448C5825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6C61-6AC4-4942-AD77-8C9E48B4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B24-8FCE-4031-9528-E68D7F79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CFE7-3B92-44FF-BAE6-429B2D1A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63D5-47C7-486E-B47C-9B834E1F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DFD-51B5-4A02-831F-7FC980A5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7CE-C935-4AF3-A42C-CD380986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5481-14C9-494C-877E-AD6F8B9F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C027-CC4F-46C0-BF20-A1A30E0D91EB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BA33-9F27-4ACF-90C4-8EA8B3727359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50920" y="1197000"/>
            <a:ext cx="504180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Times New Roman"/>
              </a:rPr>
              <a:t>Module 6</a:t>
            </a:r>
            <a:br>
              <a:rPr sz="5400"/>
            </a:br>
            <a:r>
              <a:rPr b="1" lang="zh-CN" sz="5400" spc="-1" strike="noStrike">
                <a:solidFill>
                  <a:srgbClr val="ff5050"/>
                </a:solidFill>
                <a:latin typeface="Times New Roman"/>
              </a:rPr>
              <a:t>Celebrations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08000" y="692280"/>
            <a:ext cx="56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Step 2 Can you answer some questions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2852640"/>
            <a:ext cx="82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My birthday is December 10th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When’s your birthday?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My birthday is 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994040" cy="2950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4" descr="tony"/>
          <p:cNvPicPr/>
          <p:nvPr/>
        </p:nvPicPr>
        <p:blipFill>
          <a:blip r:embed="rId3"/>
          <a:srcRect l="32135" t="6915" r="33343" b="4974"/>
          <a:stretch/>
        </p:blipFill>
        <p:spPr>
          <a:xfrm>
            <a:off x="3635280" y="2781360"/>
            <a:ext cx="244800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5" descr="Jenny"/>
          <p:cNvPicPr/>
          <p:nvPr/>
        </p:nvPicPr>
        <p:blipFill>
          <a:blip r:embed="rId4"/>
          <a:srcRect l="30578" t="1814" r="36592" b="3217"/>
          <a:stretch/>
        </p:blipFill>
        <p:spPr>
          <a:xfrm>
            <a:off x="539640" y="2852640"/>
            <a:ext cx="2516400" cy="3194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828720" y="1917720"/>
            <a:ext cx="27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uess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"/>
          <p:cNvSpPr/>
          <p:nvPr/>
        </p:nvSpPr>
        <p:spPr>
          <a:xfrm>
            <a:off x="3995640" y="1989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猜一猜他们的生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98100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Step 3 Can you guess their birthdays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24360" y="1125360"/>
            <a:ext cx="2160360" cy="1729080"/>
          </a:xfrm>
          <a:custGeom>
            <a:avLst/>
            <a:gdLst>
              <a:gd name="textAreaLeft" fmla="*/ 495720 w 2160360"/>
              <a:gd name="textAreaRight" fmla="*/ 1664640 w 2160360"/>
              <a:gd name="textAreaTop" fmla="*/ 396720 h 1729080"/>
              <a:gd name="textAreaBottom" fmla="*/ 133236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Jun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7th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Picture 24" descr="tony"/>
          <p:cNvPicPr/>
          <p:nvPr/>
        </p:nvPicPr>
        <p:blipFill>
          <a:blip r:embed="rId2"/>
          <a:srcRect l="32135" t="6915" r="33343" b="4974"/>
          <a:stretch/>
        </p:blipFill>
        <p:spPr>
          <a:xfrm>
            <a:off x="3635280" y="2492280"/>
            <a:ext cx="2098800" cy="2592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12000" y="2781360"/>
            <a:ext cx="2592360" cy="1728720"/>
          </a:xfrm>
          <a:custGeom>
            <a:avLst/>
            <a:gdLst>
              <a:gd name="textAreaLeft" fmla="*/ 595080 w 2592360"/>
              <a:gd name="textAreaRight" fmla="*/ 1997280 w 2592360"/>
              <a:gd name="textAreaTop" fmla="*/ 396720 h 1728720"/>
              <a:gd name="textAreaBottom" fmla="*/ 133200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January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21s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4913280"/>
            <a:ext cx="2378160" cy="1944720"/>
          </a:xfrm>
          <a:custGeom>
            <a:avLst/>
            <a:gdLst>
              <a:gd name="textAreaLeft" fmla="*/ 545760 w 2378160"/>
              <a:gd name="textAreaRight" fmla="*/ 1832400 w 2378160"/>
              <a:gd name="textAreaTop" fmla="*/ 446400 h 1944720"/>
              <a:gd name="textAreaBottom" fmla="*/ 1498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rch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6th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476280"/>
            <a:ext cx="597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When’s Tony’s birthday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It’s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2565360"/>
            <a:ext cx="2446560" cy="2160720"/>
          </a:xfrm>
          <a:custGeom>
            <a:avLst/>
            <a:gdLst>
              <a:gd name="textAreaLeft" fmla="*/ 561600 w 2446560"/>
              <a:gd name="textAreaRight" fmla="*/ 1884960 w 2446560"/>
              <a:gd name="textAreaTop" fmla="*/ 495720 h 2160720"/>
              <a:gd name="textAreaBottom" fmla="*/ 166500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October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20th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21 -0.10509 L 0.079 -0.3044 E">
                                      <p:cBhvr>
                                        <p:cTn id="25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404640"/>
            <a:ext cx="597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When’s Jenny’s birthday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It’s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16000" y="2565360"/>
            <a:ext cx="2446200" cy="2160720"/>
          </a:xfrm>
          <a:custGeom>
            <a:avLst/>
            <a:gdLst>
              <a:gd name="textAreaLeft" fmla="*/ 561240 w 2446200"/>
              <a:gd name="textAreaRight" fmla="*/ 1884960 w 2446200"/>
              <a:gd name="textAreaTop" fmla="*/ 495720 h 2160720"/>
              <a:gd name="textAreaBottom" fmla="*/ 166500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ff33"/>
              </a:gs>
              <a:gs pos="50000">
                <a:srgbClr val="ffff66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December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9th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907920"/>
            <a:ext cx="2160720" cy="1729080"/>
          </a:xfrm>
          <a:custGeom>
            <a:avLst/>
            <a:gdLst>
              <a:gd name="textAreaLeft" fmla="*/ 495720 w 2160720"/>
              <a:gd name="textAreaRight" fmla="*/ 1665000 w 2160720"/>
              <a:gd name="textAreaTop" fmla="*/ 396720 h 1729080"/>
              <a:gd name="textAreaBottom" fmla="*/ 133236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ff33"/>
              </a:gs>
              <a:gs pos="50000">
                <a:srgbClr val="66ffff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January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28th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5013360"/>
            <a:ext cx="2162160" cy="1655640"/>
          </a:xfrm>
          <a:custGeom>
            <a:avLst/>
            <a:gdLst>
              <a:gd name="textAreaLeft" fmla="*/ 496080 w 2162160"/>
              <a:gd name="textAreaRight" fmla="*/ 1666080 w 2162160"/>
              <a:gd name="textAreaTop" fmla="*/ 379800 h 1655640"/>
              <a:gd name="textAreaBottom" fmla="*/ 127584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50000">
                <a:srgbClr val="66ffff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April 15th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" name="Picture 25" descr="Jenny"/>
          <p:cNvPicPr/>
          <p:nvPr/>
        </p:nvPicPr>
        <p:blipFill>
          <a:blip r:embed="rId2"/>
          <a:srcRect l="30578" t="1814" r="36592" b="3217"/>
          <a:stretch/>
        </p:blipFill>
        <p:spPr>
          <a:xfrm>
            <a:off x="3780000" y="2565360"/>
            <a:ext cx="2133360" cy="2708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227640" y="2492280"/>
            <a:ext cx="2446560" cy="2160720"/>
          </a:xfrm>
          <a:custGeom>
            <a:avLst/>
            <a:gdLst>
              <a:gd name="textAreaLeft" fmla="*/ 561600 w 2446560"/>
              <a:gd name="textAreaRight" fmla="*/ 1884960 w 2446560"/>
              <a:gd name="textAreaTop" fmla="*/ 495720 h 2160720"/>
              <a:gd name="textAreaBottom" fmla="*/ 166500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50000">
                <a:srgbClr val="cc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August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7th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5 3.33333E-006 L -0.44861 -0.3044 E">
                                      <p:cBhvr>
                                        <p:cTn id="3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476280"/>
            <a:ext cx="712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When’s grandma’s birthday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It’s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35280" y="981000"/>
            <a:ext cx="2089080" cy="1611360"/>
          </a:xfrm>
          <a:custGeom>
            <a:avLst/>
            <a:gdLst>
              <a:gd name="textAreaLeft" fmla="*/ 479520 w 2089080"/>
              <a:gd name="textAreaRight" fmla="*/ 1609560 w 2089080"/>
              <a:gd name="textAreaTop" fmla="*/ 369720 h 1611360"/>
              <a:gd name="textAreaBottom" fmla="*/ 1241640 h 1611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50000">
                <a:srgbClr val="ccecff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rch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th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2781360"/>
            <a:ext cx="2446200" cy="2160360"/>
          </a:xfrm>
          <a:custGeom>
            <a:avLst/>
            <a:gdLst>
              <a:gd name="textAreaLeft" fmla="*/ 561240 w 2446200"/>
              <a:gd name="textAreaRight" fmla="*/ 1884960 w 2446200"/>
              <a:gd name="textAreaTop" fmla="*/ 495720 h 2160360"/>
              <a:gd name="textAreaBottom" fmla="*/ 166464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ebruary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8th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2852640"/>
            <a:ext cx="2446200" cy="2160720"/>
          </a:xfrm>
          <a:custGeom>
            <a:avLst/>
            <a:gdLst>
              <a:gd name="textAreaLeft" fmla="*/ 561240 w 2446200"/>
              <a:gd name="textAreaRight" fmla="*/ 1884960 w 2446200"/>
              <a:gd name="textAreaTop" fmla="*/ 495720 h 2160720"/>
              <a:gd name="textAreaBottom" fmla="*/ 166500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ff33"/>
              </a:gs>
              <a:gs pos="50000">
                <a:srgbClr val="ffff66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ctober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th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4984920"/>
            <a:ext cx="2376720" cy="1873080"/>
          </a:xfrm>
          <a:custGeom>
            <a:avLst/>
            <a:gdLst>
              <a:gd name="textAreaLeft" fmla="*/ 545400 w 2376720"/>
              <a:gd name="textAreaRight" fmla="*/ 1831320 w 2376720"/>
              <a:gd name="textAreaTop" fmla="*/ 429840 h 1873080"/>
              <a:gd name="textAreaBottom" fmla="*/ 144324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ugus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4th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780000" y="2709720"/>
            <a:ext cx="15778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7.40741E-007 L -0.1967 -0.00718 E">
                                      <p:cBhvr>
                                        <p:cTn id="3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3605400" cy="4465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335960" y="476280"/>
            <a:ext cx="632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When’s Gogo’s birthday?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628640"/>
            <a:ext cx="2952720" cy="2303640"/>
          </a:xfrm>
          <a:prstGeom prst="cloudCallout">
            <a:avLst>
              <a:gd name="adj1" fmla="val 94032"/>
              <a:gd name="adj2" fmla="val 42351"/>
            </a:avLst>
          </a:prstGeom>
          <a:solidFill>
            <a:srgbClr val="ff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  <a:ea typeface="Arial"/>
              </a:rPr>
              <a:t>It’s today!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2"/>
          <a:srcRect l="25634" t="26367" r="13817" b="22439"/>
          <a:stretch/>
        </p:blipFill>
        <p:spPr>
          <a:xfrm>
            <a:off x="1116000" y="1844640"/>
            <a:ext cx="6337440" cy="4754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91920" y="333360"/>
            <a:ext cx="5642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方正硬笔行书简体"/>
              </a:rPr>
              <a:t>Is it Gogo’s birthday party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这是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ogo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生日派对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2"/>
          <a:srcRect l="25634" t="26367" r="13817" b="22439"/>
          <a:stretch/>
        </p:blipFill>
        <p:spPr>
          <a:xfrm>
            <a:off x="1332000" y="1268280"/>
            <a:ext cx="5473440" cy="4106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020000" y="1125360"/>
            <a:ext cx="720720" cy="721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84720" y="260280"/>
            <a:ext cx="2592720" cy="2305080"/>
          </a:xfrm>
          <a:prstGeom prst="cloudCallout">
            <a:avLst>
              <a:gd name="adj1" fmla="val -77435"/>
              <a:gd name="adj2" fmla="val 31129"/>
            </a:avLst>
          </a:prstGeom>
          <a:solidFill>
            <a:srgbClr val="ff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Monotype Corsiva"/>
                <a:ea typeface="汉仪娃娃篆简"/>
              </a:rPr>
              <a:t>Oh, Gogo!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993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 rot="1732800">
            <a:off x="4066920" y="476280"/>
            <a:ext cx="3671640" cy="340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63400" y="5084640"/>
            <a:ext cx="75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t’s not Gogo’s birthday party. But today is also Gogo’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irthday, he goes to join it.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这不是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ogo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的生日派队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但今天也是他的生日，所以他跑去参加了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26383" t="23419" r="13086" b="21465"/>
          <a:stretch/>
        </p:blipFill>
        <p:spPr>
          <a:xfrm>
            <a:off x="1476360" y="549360"/>
            <a:ext cx="6264360" cy="44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4608720" cy="4786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132000" y="404640"/>
            <a:ext cx="5689800" cy="2089440"/>
          </a:xfrm>
          <a:prstGeom prst="cloudCallout">
            <a:avLst>
              <a:gd name="adj1" fmla="val -42578"/>
              <a:gd name="adj2" fmla="val 85106"/>
            </a:avLst>
          </a:prstGeom>
          <a:solidFill>
            <a:srgbClr val="ffff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ome on! Boys and girls. Join my party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2360" y="2565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孩子们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快来参加我的派对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348000" y="1412640"/>
            <a:ext cx="5688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Unit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11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I was born in January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课件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300720" y="2133720"/>
            <a:ext cx="3192480" cy="4786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0920" y="1268280"/>
            <a:ext cx="6913440" cy="460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557360"/>
            <a:ext cx="633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ello, I’m Gogo. I’m 6. I like fall. My birthday is October 28th. Today is my birthday.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 have a party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My friends come to my party. I get some presents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礼物）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 sing and dance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 eat some cake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and some fruit. I eat some pizza too. I am very happy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47640" y="2492280"/>
            <a:ext cx="56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6600ff"/>
                </a:solidFill>
                <a:latin typeface="Arial"/>
                <a:ea typeface="楷体_GB2312"/>
              </a:rPr>
              <a:t>Goodbye!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333000"/>
            <a:ext cx="6553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Numbers</a:t>
            </a:r>
            <a:br>
              <a:rPr sz="36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32000" y="1125360"/>
            <a:ext cx="24480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on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wo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re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fou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five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ix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eve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igh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in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e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92720" y="1125000"/>
            <a:ext cx="2232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firs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econ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ir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fourt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fift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ix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event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ight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int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ent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Say these numbers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3500" spc="-1" strike="noStrike">
                <a:solidFill>
                  <a:srgbClr val="0033cc"/>
                </a:solidFill>
                <a:latin typeface="Arial"/>
              </a:rPr>
              <a:t>1st     2nd    3rd     4th     5th      6th  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3500" spc="-1" strike="noStrike">
                <a:solidFill>
                  <a:srgbClr val="0033cc"/>
                </a:solidFill>
                <a:latin typeface="Arial"/>
              </a:rPr>
              <a:t>7th     8th     9th    10th   11th   12th  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3500" spc="-1" strike="noStrike">
                <a:solidFill>
                  <a:srgbClr val="0033cc"/>
                </a:solidFill>
                <a:latin typeface="Arial"/>
              </a:rPr>
              <a:t>13th   14th   15th  16th   17th   18th  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33cc"/>
                </a:solidFill>
                <a:latin typeface="Arial"/>
              </a:rPr>
              <a:t>19th   20th   21st   22nd  23rd   24th  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3500" spc="-1" strike="noStrike">
                <a:solidFill>
                  <a:srgbClr val="0033cc"/>
                </a:solidFill>
                <a:latin typeface="Arial"/>
              </a:rPr>
              <a:t>25th   26th   27th  28th   29th   30th 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3500" spc="-1" strike="noStrike">
                <a:solidFill>
                  <a:srgbClr val="0033cc"/>
                </a:solidFill>
                <a:latin typeface="Arial"/>
              </a:rPr>
              <a:t>31st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48448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Say the months</a:t>
            </a:r>
            <a:br>
              <a:rPr sz="36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5640" y="1485720"/>
            <a:ext cx="633564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January  </a:t>
            </a:r>
            <a:r>
              <a:rPr b="0" lang="en-US" sz="43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['dʒænjuəri] </a:t>
            </a:r>
            <a:r>
              <a:rPr b="0" lang="en-US" sz="43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February</a:t>
            </a:r>
            <a:r>
              <a:rPr b="1" lang="en-US" sz="43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43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['februəri]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March </a:t>
            </a:r>
            <a:r>
              <a:rPr b="0" lang="en-US" sz="43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[mɑ:tʃ]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pril </a:t>
            </a:r>
            <a:r>
              <a:rPr b="0" lang="en-US" sz="43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['eiprəl]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May</a:t>
            </a:r>
            <a:r>
              <a:rPr b="0" lang="en-US" sz="43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[mei]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June  </a:t>
            </a:r>
            <a:r>
              <a:rPr b="0" lang="en-US" sz="43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[dʒu:n]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34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July </a:t>
            </a:r>
            <a:r>
              <a:rPr b="0" lang="en-US" sz="50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[dʒu:'lai]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ugust  </a:t>
            </a:r>
            <a:r>
              <a:rPr b="0" lang="en-US" sz="50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['ɔ:gəst]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September </a:t>
            </a:r>
            <a:r>
              <a:rPr b="0" lang="en-US" sz="5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[sep'tembə]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October </a:t>
            </a:r>
            <a:r>
              <a:rPr b="0" lang="en-US" sz="50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[ɔk'təubə]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November</a:t>
            </a:r>
            <a:r>
              <a:rPr b="0" lang="en-US" sz="50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[nəu'vembə]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December </a:t>
            </a:r>
            <a:r>
              <a:rPr b="0" lang="en-US" sz="5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[di'sembə]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What is your favorite month?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My favorite month is July. It’s my birthday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I like February .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It’s Chinese new year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rcRect l="25634" t="26367" r="13817" b="22439"/>
          <a:stretch/>
        </p:blipFill>
        <p:spPr>
          <a:xfrm>
            <a:off x="682560" y="2060640"/>
            <a:ext cx="6505560" cy="3908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40464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It’s a birthday party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这是一个生日派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6560" y="62064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ut you should pass three steps. Can you?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但要闯过三关，你们能做到吗？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38000" y="542880"/>
            <a:ext cx="44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Let’s go party.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我们一起去参加聚会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1080" y="1557360"/>
            <a:ext cx="8856720" cy="31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Step 1 Listen and say out the following month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如：老师说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March, 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你们必须说出后面的那个月份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April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2:36:11Z</dcterms:created>
  <dc:creator>微软用户</dc:creator>
  <dc:description/>
  <dc:language>en-US</dc:language>
  <cp:lastModifiedBy>微软用户</cp:lastModifiedBy>
  <dcterms:modified xsi:type="dcterms:W3CDTF">2015-05-30T08:04:53Z</dcterms:modified>
  <cp:revision>4</cp:revision>
  <dc:subject/>
  <dc:title>Date  [deit]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</Properties>
</file>